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C066-FAE4-40FF-9F81-3BBCB802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2875-3376-4CAE-AFD8-9A2CF97B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71C3-4AF5-4E7A-A6BD-2A86349B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189F-D758-4FF9-9CA0-320ED1A0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BC73-5AFC-4E66-A3EC-6E884F9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AEC9-F982-4F74-8089-660A0B8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B42D-01A0-4EC6-B673-4039D2A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53C6-B2D7-4593-B383-742344BC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67DE-9786-4DB8-83DE-C54590F3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D3E3-A98F-4256-87FE-61273E99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7BD2-CB5C-4505-9A0C-5F4EBB6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4BA1-A44F-41C5-90B8-48D22BE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A040-184C-46B1-B9CD-498643C05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17995.htm" TargetMode="External"/><Relationship Id="rId2" Type="http://schemas.openxmlformats.org/officeDocument/2006/relationships/hyperlink" Target="http://baike.baidu.com/view/2523867.ht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hyperlink" Target="http://www.eeppt.com/moban/shangwu/" TargetMode="External"/><Relationship Id="rId5" Type="http://schemas.openxmlformats.org/officeDocument/2006/relationships/hyperlink" Target="http://www.eeppt.com/moban/shangwu/" TargetMode="External"/><Relationship Id="rId6" Type="http://schemas.openxmlformats.org/officeDocument/2006/relationships/hyperlink" Target="http://www.eeppt.com/moban/shangwu/" TargetMode="External"/><Relationship Id="rId7" Type="http://schemas.openxmlformats.org/officeDocument/2006/relationships/hyperlink" Target="http://www.eeppt.com/moban/kejian/" TargetMode="External"/><Relationship Id="rId8" Type="http://schemas.openxmlformats.org/officeDocument/2006/relationships/hyperlink" Target="http://www.eeppt.com/moban/kejian/" TargetMode="External"/><Relationship Id="rId9" Type="http://schemas.openxmlformats.org/officeDocument/2006/relationships/hyperlink" Target="http://www.eeppt.com/moban/kejian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页脚占位符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" name="Picture 4" descr="2008-3-12-11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39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aramond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aramond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1311840" y="62064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514"/>
                </a:solidFill>
                <a:latin typeface="Garamond"/>
              </a:rPr>
              <a:t>微笑</a:t>
            </a: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ppt</a:t>
            </a:r>
            <a:r>
              <a:rPr b="0" lang="zh-CN" sz="3600" spc="-1" strike="noStrike">
                <a:solidFill>
                  <a:srgbClr val="000514"/>
                </a:solidFill>
                <a:latin typeface="Garamond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9640" y="76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1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ch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ú</a:t>
            </a: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692360" y="836640"/>
            <a:ext cx="3095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淳朴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淳厚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9640" y="15890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回报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247032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温馨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333360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失意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01480" y="41702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淳厚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484360" y="16779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报答、酬报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411280" y="254160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温和芳香；温暖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340000" y="347832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不得志，不如意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340000" y="43419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Garamond"/>
                <a:ea typeface="隶书"/>
              </a:rPr>
              <a:t>淳朴，诚实善良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11280" y="540540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Garamond"/>
              </a:rPr>
              <a:t>累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1332000" y="5334120"/>
            <a:ext cx="215640" cy="1268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2760 h 1268280"/>
              <a:gd name="textAreaBottom" fmla="*/ 1235520 h 12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574640" y="49737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lěi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574640" y="56116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Garamond"/>
              </a:rPr>
              <a:t>l</a:t>
            </a: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è</a:t>
            </a:r>
            <a:r>
              <a:rPr b="1" lang="en-US" sz="4400" spc="-1" strike="noStrike">
                <a:solidFill>
                  <a:srgbClr val="cc3399"/>
                </a:solidFill>
                <a:latin typeface="Garamond"/>
              </a:rPr>
              <a:t>i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1547640" y="618660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411280" y="50022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Garamond"/>
              </a:rPr>
              <a:t>累计  日积月累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411280" y="57006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Garamond"/>
              </a:rPr>
              <a:t>劳累  累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411280" y="62866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累赘  果实累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2602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使用规范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aramond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3AB0-B49E-4C0D-A051-593A135210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3333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文中几次提到微笑？本文为什么以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微笑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为主题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57320" y="206064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课文中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7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次提到微笑，因为作者在这首诗中从不同方面谈了对微笑的看法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微笑是珍贵的、美好的、平等的、作用巨大的、重要的、相互的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47628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结合实际生活，谈谈微笑带给我们的好处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11280" y="22766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笑一笑，十年少，对身体有好处；使人际关系更融洽；交到更多朋友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r>
              <a:rPr b="1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95280" y="40464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诗人把微笑比喻成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最好的身份证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，你怎样理解</a:t>
            </a:r>
            <a:r>
              <a:rPr b="0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7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微笑代表着善良、友好，作者把微笑比作身份证，就是说在人生的旅途上，无论走到哪里，如果你总是面带微笑，别人就会感受到你的友善，你就会受到欢迎和帮助，人与人之间就会更加和谐地相处。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5040" y="304920"/>
            <a:ext cx="29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动态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模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642960" y="1181160"/>
            <a:ext cx="5586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动态幻灯片模板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动态ppt模板下载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601560" y="226368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商务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模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768240" y="26956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商务ppt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141720"/>
            <a:ext cx="5548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商务礼仪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ppt </a:t>
            </a: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57336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商务ppt模板下载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712800" y="415116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课件模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941720"/>
            <a:ext cx="562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说课ppt模板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865080" y="5318280"/>
            <a:ext cx="694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课件下载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7187-493A-4D14-B456-A45657C3F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诗人把微笑比喻成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最好的身份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，你想把微笑比喻成什么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1337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微笑是一面镜子，它能照出心灵的善恶美丑；微笑是一束鲜花，它能带给人们温馨和祝福；微笑是一缕阳光，它能驱散心灵的阴霾和迷雾；微笑是春天的雨露，滋润着心田和世间万物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1268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你经常把微笑送给别人吗？别人有什么样的反应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（指名说）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你曾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感激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地接受过别人的微笑吗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学生联系实际谈经历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学生把谈到的实际生活中的感受写下来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（从时间、地点  、人物，为什么送微笑或为什么接受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的心理活动以及别人的表现，如动作、神态、语言等各方面来谈。）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0:03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11:31:1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4</vt:r8>
  </property>
</Properties>
</file>