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95CD8-A4FC-4979-8509-16942C3F4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BCE4C-E7CB-4C86-A4E1-8F6893DC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CC6C6-28C7-4E79-9A54-BF5C37CC1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A6457-1B00-4071-A0A4-38A6ED739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3AAAB-FE83-45D6-9457-182918B5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40934-2764-4C23-B902-123C753F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E8CC3-2A18-489B-A74D-29C68CC8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C699B-8F1F-4361-8C17-4C3F119A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C0F0B-0DCA-4FB9-8BA2-2E33C357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AC635-DFE2-4C85-A0B5-AC72DDB0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5D71B-2F28-4364-860E-74EEF548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97543-D585-4940-9540-7495E513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67B7-D70A-4326-B02C-A3684EE6D7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19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18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5"/>
              <p:cNvSpPr/>
              <p:nvPr/>
            </p:nvSpPr>
            <p:spPr>
              <a:xfrm>
                <a:off x="2743200" y="4197600"/>
                <a:ext cx="4575240" cy="265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6620040" y="4240440"/>
                <a:ext cx="1998360" cy="12873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7145280" y="3678480"/>
                <a:ext cx="1981080" cy="85536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0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3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aike.baidu.com/view/17995.htm" TargetMode="External"/><Relationship Id="rId2" Type="http://schemas.openxmlformats.org/officeDocument/2006/relationships/hyperlink" Target="http://baike.baidu.com/view/2523867.htm" TargetMode="External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hyperlink" Target="http://www.eeppt.com/dongtai/" TargetMode="External"/><Relationship Id="rId3" Type="http://schemas.openxmlformats.org/officeDocument/2006/relationships/hyperlink" Target="http://www.eeppt.com/dongtai/" TargetMode="External"/><Relationship Id="rId4" Type="http://schemas.openxmlformats.org/officeDocument/2006/relationships/hyperlink" Target="http://www.eeppt.com/moban/shangwu/" TargetMode="External"/><Relationship Id="rId5" Type="http://schemas.openxmlformats.org/officeDocument/2006/relationships/hyperlink" Target="http://www.eeppt.com/moban/shangwu/" TargetMode="External"/><Relationship Id="rId6" Type="http://schemas.openxmlformats.org/officeDocument/2006/relationships/hyperlink" Target="http://www.eeppt.com/moban/shangwu/" TargetMode="External"/><Relationship Id="rId7" Type="http://schemas.openxmlformats.org/officeDocument/2006/relationships/hyperlink" Target="http://www.eeppt.com/moban/kejian/" TargetMode="External"/><Relationship Id="rId8" Type="http://schemas.openxmlformats.org/officeDocument/2006/relationships/hyperlink" Target="http://www.eeppt.com/moban/kejian/" TargetMode="External"/><Relationship Id="rId9" Type="http://schemas.openxmlformats.org/officeDocument/2006/relationships/hyperlink" Target="http://www.eeppt.com/moban/kejian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7"/>
          <p:cNvSpPr/>
          <p:nvPr/>
        </p:nvSpPr>
        <p:spPr>
          <a:xfrm>
            <a:off x="2050920" y="544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页脚占位符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2" name="Picture 4" descr="2008-3-12-11-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00000" y="3933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Garamond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Garamond"/>
              </a:rPr>
              <a:t>http://www.eeppt.com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"/>
          <p:cNvSpPr/>
          <p:nvPr/>
        </p:nvSpPr>
        <p:spPr>
          <a:xfrm>
            <a:off x="1311840" y="620640"/>
            <a:ext cx="221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514"/>
                </a:solidFill>
                <a:latin typeface="Garamond"/>
              </a:rPr>
              <a:t>微笑</a:t>
            </a: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ppt</a:t>
            </a:r>
            <a:r>
              <a:rPr b="0" lang="zh-CN" sz="3600" spc="-1" strike="noStrike">
                <a:solidFill>
                  <a:srgbClr val="000514"/>
                </a:solidFill>
                <a:latin typeface="Garamond"/>
              </a:rPr>
              <a:t>课件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539640" y="76500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Garamond"/>
              </a:rPr>
              <a:t>淳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24000" y="1890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Garamond"/>
              </a:rPr>
              <a:t>ch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ú</a:t>
            </a:r>
            <a:r>
              <a:rPr b="1" lang="en-US" sz="3600" spc="-1" strike="noStrike">
                <a:solidFill>
                  <a:srgbClr val="ff3300"/>
                </a:solidFill>
                <a:latin typeface="Garamond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692360" y="836640"/>
            <a:ext cx="3095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淳朴</a:t>
            </a:r>
            <a:r>
              <a:rPr b="1" lang="zh-CN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zh-CN" sz="40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淳厚</a:t>
            </a:r>
            <a:r>
              <a:rPr b="1" lang="zh-CN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539640" y="1589040"/>
            <a:ext cx="23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Garamond"/>
              </a:rPr>
              <a:t>回报：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468360" y="2470320"/>
            <a:ext cx="23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Garamond"/>
              </a:rPr>
              <a:t>温馨：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8360" y="3333600"/>
            <a:ext cx="23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Garamond"/>
              </a:rPr>
              <a:t>失意：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501480" y="4170240"/>
            <a:ext cx="23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Garamond"/>
              </a:rPr>
              <a:t>淳厚：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2484360" y="1677960"/>
            <a:ext cx="58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Garamond"/>
                <a:ea typeface="隶书"/>
              </a:rPr>
              <a:t>报答、酬报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2411280" y="2541600"/>
            <a:ext cx="58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Garamond"/>
                <a:ea typeface="隶书"/>
              </a:rPr>
              <a:t>温和芳香；温暖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2340000" y="347832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Garamond"/>
                <a:ea typeface="隶书"/>
              </a:rPr>
              <a:t>不得志，不如意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2340000" y="434196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Garamond"/>
                <a:ea typeface="隶书"/>
              </a:rPr>
              <a:t>淳朴，诚实善良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611280" y="5405400"/>
            <a:ext cx="71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Garamond"/>
              </a:rPr>
              <a:t>累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AutoShape 18"/>
          <p:cNvSpPr/>
          <p:nvPr/>
        </p:nvSpPr>
        <p:spPr>
          <a:xfrm>
            <a:off x="1332000" y="5334120"/>
            <a:ext cx="215640" cy="1268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32760 h 1268280"/>
              <a:gd name="textAreaBottom" fmla="*/ 1235520 h 126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1574640" y="49737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Garamond"/>
              </a:rPr>
              <a:t>lěi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1574640" y="561168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Garamond"/>
              </a:rPr>
              <a:t>l</a:t>
            </a:r>
            <a:r>
              <a:rPr b="1" lang="en-US" sz="4400" spc="-1" strike="noStrike">
                <a:solidFill>
                  <a:srgbClr val="cc3399"/>
                </a:solidFill>
                <a:latin typeface="Arial"/>
              </a:rPr>
              <a:t>è</a:t>
            </a:r>
            <a:r>
              <a:rPr b="1" lang="en-US" sz="4400" spc="-1" strike="noStrike">
                <a:solidFill>
                  <a:srgbClr val="cc3399"/>
                </a:solidFill>
                <a:latin typeface="Garamond"/>
              </a:rPr>
              <a:t>i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Text Box 21"/>
          <p:cNvSpPr/>
          <p:nvPr/>
        </p:nvSpPr>
        <p:spPr>
          <a:xfrm>
            <a:off x="1547640" y="618660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l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i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Text Box 22"/>
          <p:cNvSpPr/>
          <p:nvPr/>
        </p:nvSpPr>
        <p:spPr>
          <a:xfrm>
            <a:off x="2411280" y="500220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Garamond"/>
              </a:rPr>
              <a:t>累计  日积月累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2411280" y="570060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Garamond"/>
              </a:rPr>
              <a:t>劳累  累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2411280" y="628668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Garamond"/>
              </a:rPr>
              <a:t>累赘  果实累累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26028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ttp://www.eeppt.com/moban/kejian/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使用规范说明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Garamond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14FE8-EFA7-49A9-B753-841149FD04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24000" y="333360"/>
            <a:ext cx="88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文中几次提到微笑？本文为什么以</a:t>
            </a: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《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微笑</a:t>
            </a: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》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为主题</a:t>
            </a: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57320" y="2060640"/>
            <a:ext cx="90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隶书"/>
                <a:ea typeface="隶书"/>
              </a:rPr>
              <a:t>    </a:t>
            </a:r>
            <a:r>
              <a:rPr b="1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课文中</a:t>
            </a:r>
            <a:r>
              <a:rPr b="1" lang="en-US" sz="4800" spc="-1" strike="noStrike">
                <a:solidFill>
                  <a:srgbClr val="ff3300"/>
                </a:solidFill>
                <a:latin typeface="隶书"/>
                <a:ea typeface="隶书"/>
              </a:rPr>
              <a:t>7</a:t>
            </a:r>
            <a:r>
              <a:rPr b="1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次提到微笑，因为作者在这首诗中从不同方面谈了对微笑的看法</a:t>
            </a:r>
            <a:r>
              <a:rPr b="1" lang="en-US" sz="4800" spc="-1" strike="noStrike">
                <a:solidFill>
                  <a:srgbClr val="ff3300"/>
                </a:solidFill>
                <a:latin typeface="隶书"/>
                <a:ea typeface="隶书"/>
              </a:rPr>
              <a:t>:</a:t>
            </a:r>
            <a:r>
              <a:rPr b="1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微笑是珍贵的、美好的、平等的、作用巨大的、重要的、相互的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250920" y="476280"/>
            <a:ext cx="87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结合实际生活，谈谈微笑带给我们的好处。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611280" y="2276640"/>
            <a:ext cx="82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隶书"/>
                <a:ea typeface="隶书"/>
              </a:rPr>
              <a:t>笑一笑，十年少，对身体有好处；使人际关系更融洽；交到更多朋友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  <a:ea typeface="隶书"/>
              </a:rPr>
              <a:t>……</a:t>
            </a:r>
            <a:r>
              <a:rPr b="1" lang="en-US" sz="5400" spc="-1" strike="noStrike">
                <a:solidFill>
                  <a:srgbClr val="ff3300"/>
                </a:solidFill>
                <a:latin typeface="隶书"/>
                <a:ea typeface="隶书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395280" y="404640"/>
            <a:ext cx="856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诗人把微笑比喻成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隶书"/>
              </a:rPr>
              <a:t>“</a:t>
            </a:r>
            <a:r>
              <a:rPr b="0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最好的身份证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隶书"/>
              </a:rPr>
              <a:t>”</a:t>
            </a:r>
            <a:r>
              <a:rPr b="0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，你怎样理解</a:t>
            </a:r>
            <a:r>
              <a:rPr b="0" lang="en-US" sz="4800" spc="-1" strike="noStrike">
                <a:solidFill>
                  <a:srgbClr val="ffffff"/>
                </a:solidFill>
                <a:latin typeface="隶书"/>
                <a:ea typeface="隶书"/>
              </a:rPr>
              <a:t>?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0" y="2276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隶书"/>
                <a:ea typeface="隶书"/>
              </a:rPr>
              <a:t>    </a:t>
            </a: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微笑代表着善良、友好，作者把微笑比作身份证，就是说在人生的旅途上，无论走到哪里，如果你总是面带微笑，别人就会感受到你的友善，你就会受到欢迎和帮助，人与人之间就会更加和谐地相处。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65040" y="304920"/>
            <a:ext cx="29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Garamond"/>
              </a:rPr>
              <a:t>动态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Garamond"/>
              </a:rPr>
              <a:t>模板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77796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动态ppt模板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http://www.eeppt.com/dongtai/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"/>
          <p:cNvSpPr/>
          <p:nvPr/>
        </p:nvSpPr>
        <p:spPr>
          <a:xfrm>
            <a:off x="642960" y="1181160"/>
            <a:ext cx="5586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动态幻灯片模板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://www.eeppt.com/dongtai/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"/>
          <p:cNvSpPr/>
          <p:nvPr/>
        </p:nvSpPr>
        <p:spPr>
          <a:xfrm>
            <a:off x="657360" y="1568520"/>
            <a:ext cx="528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动态ppt模板下载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http://www.eeppt.com/dongtai/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"/>
          <p:cNvSpPr/>
          <p:nvPr/>
        </p:nvSpPr>
        <p:spPr>
          <a:xfrm>
            <a:off x="601560" y="2263680"/>
            <a:ext cx="181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Garamond"/>
              </a:rPr>
              <a:t>商务</a:t>
            </a:r>
            <a:r>
              <a:rPr b="1" lang="zh-CN" sz="1800" spc="-1" strike="noStrike">
                <a:solidFill>
                  <a:srgbClr val="ffffff"/>
                </a:solidFill>
                <a:latin typeface="Garamond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Garamond"/>
              </a:rPr>
              <a:t>模板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"/>
          <p:cNvSpPr/>
          <p:nvPr/>
        </p:nvSpPr>
        <p:spPr>
          <a:xfrm>
            <a:off x="768240" y="2695680"/>
            <a:ext cx="6251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商务ppt模板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ttp://www.eeppt.com/moban/shangwu/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3141720"/>
            <a:ext cx="55483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商务礼仪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ppt </a:t>
            </a:r>
            <a:r>
              <a:rPr b="0" lang="zh-CN" sz="1800" spc="-1" strike="noStrike" u="sng">
                <a:solidFill>
                  <a:srgbClr val="ffcc00"/>
                </a:solidFill>
                <a:uFillTx/>
                <a:latin typeface="Garamond"/>
                <a:hlinkClick r:id="rId5"/>
              </a:rPr>
              <a:t>http://www.eeppt.com/moban/shangwu/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3573360"/>
            <a:ext cx="651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cc00"/>
                </a:solidFill>
                <a:uFillTx/>
                <a:latin typeface="Garamond"/>
                <a:hlinkClick r:id="rId6"/>
              </a:rPr>
              <a:t>商务ppt模板下载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ttp://www.eeppt.com/moban/shangwu/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"/>
          <p:cNvSpPr/>
          <p:nvPr/>
        </p:nvSpPr>
        <p:spPr>
          <a:xfrm>
            <a:off x="712800" y="4151160"/>
            <a:ext cx="21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Garamond"/>
              </a:rPr>
              <a:t>PP</a:t>
            </a:r>
            <a:r>
              <a:rPr b="1" lang="zh-CN" sz="1800" spc="-1" strike="noStrike">
                <a:solidFill>
                  <a:srgbClr val="ffffff"/>
                </a:solidFill>
                <a:latin typeface="Garamond"/>
              </a:rPr>
              <a:t>课件模板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Garamond"/>
                <a:hlinkClick r:id="rId7"/>
              </a:rPr>
              <a:t>ppt课件模板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ttp://www.eeppt.com/moban/kejian/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4941720"/>
            <a:ext cx="562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cc00"/>
                </a:solidFill>
                <a:uFillTx/>
                <a:latin typeface="Garamond"/>
                <a:hlinkClick r:id="rId8"/>
              </a:rPr>
              <a:t>说课ppt模板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ttp://www.eeppt.com/moban/kejian/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"/>
          <p:cNvSpPr/>
          <p:nvPr/>
        </p:nvSpPr>
        <p:spPr>
          <a:xfrm>
            <a:off x="865080" y="5318280"/>
            <a:ext cx="6946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课件下载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Garamond"/>
                <a:hlinkClick r:id="rId9"/>
              </a:rPr>
              <a:t>http://www.eeppt.com/moban/kejian/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F26AD-90B0-4702-AFF7-3753B05D7C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0" y="33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诗人把微笑比喻成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隶书"/>
              </a:rPr>
              <a:t>“</a:t>
            </a:r>
            <a:r>
              <a:rPr b="1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最好的身份证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隶书"/>
              </a:rPr>
              <a:t>”</a:t>
            </a:r>
            <a:r>
              <a:rPr b="1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，你想把微笑比喻成什么</a:t>
            </a:r>
            <a:r>
              <a:rPr b="1" lang="en-US" sz="4800" spc="-1" strike="noStrike">
                <a:solidFill>
                  <a:srgbClr val="ffffff"/>
                </a:solidFill>
                <a:latin typeface="隶书"/>
                <a:ea typeface="隶书"/>
              </a:rPr>
              <a:t>?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0" y="213372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隶书"/>
                <a:ea typeface="隶书"/>
              </a:rPr>
              <a:t>    </a:t>
            </a:r>
            <a:r>
              <a:rPr b="1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微笑是一面镜子，它能照出心灵的善恶美丑；微笑是一束鲜花，它能带给人们温馨和祝福；微笑是一缕阳光，它能驱散心灵的阴霾和迷雾；微笑是春天的雨露，滋润着心田和世间万物。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0" y="1268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、你经常把微笑送给别人吗？别人有什么样的反应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?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（指名说）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、你曾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感激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地接受过别人的微笑吗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?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学生联系实际谈经历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、学生把谈到的实际生活中的感受写下来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（从时间、地点  、人物，为什么送微笑或为什么接受，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我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的心理活动以及别人的表现，如动作、神态、语言等各方面来谈。）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00:03:3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11:31:18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4</vt:r8>
  </property>
</Properties>
</file>