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892-FC57-4A98-BD02-7F3E6C2D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BA7-B882-4818-987E-D7D231BF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971-DE4A-4CF5-A867-56AA515D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F08-2F8A-4C67-A067-3D7769BD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BB81-2250-4A21-9EA1-63ED2149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ED2D-7886-4A0A-8E7E-8AE9CE22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823A-91D7-4085-BF69-835C81E0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8831-AB23-4279-99AC-10757B51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864-F78F-4838-9561-9761FCC1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371-6F89-4B43-853F-A2C330CB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7739-D9BD-40ED-8E36-3ED2FCB7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C8F-3C22-435C-9E49-A3FEB69C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2BBC-5B96-4468-8130-7D1389515B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7.jpeg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1.jpe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Picture 3" descr="20071116232229169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WordArt 4"/>
            <p:cNvSpPr txBox="1"/>
            <p:nvPr/>
          </p:nvSpPr>
          <p:spPr>
            <a:xfrm>
              <a:off x="8317080" y="4508640"/>
              <a:ext cx="637920" cy="20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4140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行楷"/>
                </a:rPr>
                <a:t>治</a:t>
              </a:r>
              <a:endParaRPr b="1" lang="en-US" sz="4000" spc="1" strike="noStrike">
                <a:ln w="414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  <a:ea typeface="华文行楷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4140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行楷"/>
                </a:rPr>
                <a:t>邺</a:t>
              </a:r>
              <a:endParaRPr b="1" lang="en-US" sz="4000" spc="1" strike="noStrike">
                <a:ln w="414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  <a:ea typeface="华文行楷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79280" y="63104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pic_254390"/>
          <p:cNvPicPr/>
          <p:nvPr/>
        </p:nvPicPr>
        <p:blipFill>
          <a:blip r:embed="rId2"/>
          <a:stretch/>
        </p:blipFill>
        <p:spPr>
          <a:xfrm>
            <a:off x="5940360" y="1197000"/>
            <a:ext cx="2855880" cy="4392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109440" y="325440"/>
            <a:ext cx="525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黑体"/>
              </a:rPr>
              <a:t>不行，这个姑娘不漂亮，河伯不会满意的。麻烦巫婆去跟河伯说一声，说我要选个漂亮的，过几天就送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0" y="4437000"/>
            <a:ext cx="56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西门豹以（  ）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借口，目的是（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5805360"/>
            <a:ext cx="6111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322200" y="33336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仿宋_GB2312"/>
                <a:ea typeface="仿宋_GB2312"/>
              </a:rPr>
              <a:t>    </a:t>
            </a:r>
            <a:r>
              <a:rPr b="1" lang="zh-CN" sz="5400" spc="-1" strike="noStrike">
                <a:solidFill>
                  <a:srgbClr val="800000"/>
                </a:solidFill>
                <a:latin typeface="黑体"/>
                <a:ea typeface="黑体"/>
              </a:rPr>
              <a:t>巫婆怎么还不回来，麻烦你去催一催吧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95280" y="3716280"/>
            <a:ext cx="49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800000"/>
                </a:solidFill>
                <a:latin typeface="Arial"/>
                <a:ea typeface="黑体"/>
              </a:rPr>
              <a:t>巫婆怎么还不回来，你去催催吧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ic_254390"/>
          <p:cNvPicPr/>
          <p:nvPr/>
        </p:nvPicPr>
        <p:blipFill>
          <a:blip r:embed="rId2"/>
          <a:stretch/>
        </p:blipFill>
        <p:spPr>
          <a:xfrm>
            <a:off x="5364000" y="1197000"/>
            <a:ext cx="33703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22200" y="333360"/>
            <a:ext cx="48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仿宋_GB2312"/>
                <a:ea typeface="仿宋_GB2312"/>
              </a:rPr>
              <a:t>    </a:t>
            </a:r>
            <a:r>
              <a:rPr b="1" lang="zh-CN" sz="5400" spc="-1" strike="noStrike">
                <a:solidFill>
                  <a:srgbClr val="800000"/>
                </a:solidFill>
                <a:latin typeface="黑体"/>
                <a:ea typeface="黑体"/>
              </a:rPr>
              <a:t>巫婆怎么还不回来，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麻烦</a:t>
            </a:r>
            <a:r>
              <a:rPr b="1" lang="zh-CN" sz="5400" spc="-1" strike="noStrike">
                <a:solidFill>
                  <a:srgbClr val="800000"/>
                </a:solidFill>
                <a:latin typeface="黑体"/>
                <a:ea typeface="黑体"/>
              </a:rPr>
              <a:t>你去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催一催</a:t>
            </a:r>
            <a:r>
              <a:rPr b="1" lang="zh-CN" sz="5400" spc="-1" strike="noStrike">
                <a:solidFill>
                  <a:srgbClr val="800000"/>
                </a:solidFill>
                <a:latin typeface="黑体"/>
                <a:ea typeface="黑体"/>
              </a:rPr>
              <a:t>吧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95280" y="3716280"/>
            <a:ext cx="49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800000"/>
                </a:solidFill>
                <a:latin typeface="Arial"/>
                <a:ea typeface="黑体"/>
              </a:rPr>
              <a:t>巫婆怎么还不回来，你去催催吧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pic_254390"/>
          <p:cNvPicPr/>
          <p:nvPr/>
        </p:nvPicPr>
        <p:blipFill>
          <a:blip r:embed="rId2"/>
          <a:stretch/>
        </p:blipFill>
        <p:spPr>
          <a:xfrm>
            <a:off x="5364000" y="1197000"/>
            <a:ext cx="33703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0" y="1268280"/>
            <a:ext cx="57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   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怎么还不回来，请你们去催催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pic_254390"/>
          <p:cNvPicPr/>
          <p:nvPr/>
        </p:nvPicPr>
        <p:blipFill>
          <a:blip r:embed="rId2"/>
          <a:stretch/>
        </p:blipFill>
        <p:spPr>
          <a:xfrm>
            <a:off x="5435640" y="1197000"/>
            <a:ext cx="3322440" cy="5111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0" y="2924280"/>
            <a:ext cx="532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好吧，再等一会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起来吧。看样子是河伯把他们留下了。你们都回去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0" y="1125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不行，这个姑娘不漂亮，河伯不会满意的。麻烦巫婆去跟河伯说一声，说我要选个漂亮的，过几天就送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0" y="292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巫婆怎么还不回来，麻烦你去催一催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1280" y="386064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仿宋_GB2312"/>
              </a:rPr>
              <a:t> 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怎么还不回来，请你们去催催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42920" y="4653000"/>
            <a:ext cx="8893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好吧，再等一会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起来吧。看样子是河伯把他们留下了。你们都回去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541440" y="1268280"/>
            <a:ext cx="79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800000"/>
                </a:solidFill>
                <a:latin typeface="黑体"/>
                <a:ea typeface="黑体"/>
              </a:rPr>
              <a:t>西门豹发动老百姓开凿了十二条渠道，把漳河的水引到田里。庄稼得到灌溉，每年的收成都很好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EBE1-8E18-44DC-9CC1-20D61E2D3C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背景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2006111294014111"/>
          <p:cNvPicPr/>
          <p:nvPr/>
        </p:nvPicPr>
        <p:blipFill>
          <a:blip r:embed="rId2"/>
          <a:stretch/>
        </p:blipFill>
        <p:spPr>
          <a:xfrm>
            <a:off x="6300720" y="1628640"/>
            <a:ext cx="2554200" cy="3357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0" y="1073160"/>
            <a:ext cx="597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  <a:ea typeface="隶书"/>
              </a:rPr>
              <a:t>     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西门豹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,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战国时期魏国人。历史上著名的政治家、军事家，曾立下赫赫战功，同时，他又是一个无神论者。在他为官期间，为老百姓做了许多好事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,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深受老百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782040" y="504360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的爱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6" name="Picture 3" descr="图片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4" descr="Xing2"/>
            <p:cNvPicPr/>
            <p:nvPr/>
          </p:nvPicPr>
          <p:blipFill>
            <a:blip r:embed="rId2"/>
            <a:stretch/>
          </p:blipFill>
          <p:spPr>
            <a:xfrm>
              <a:off x="7696080" y="27432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5" descr="Xing2"/>
            <p:cNvPicPr/>
            <p:nvPr/>
          </p:nvPicPr>
          <p:blipFill>
            <a:blip r:embed="rId3"/>
            <a:stretch/>
          </p:blipFill>
          <p:spPr>
            <a:xfrm>
              <a:off x="533520" y="8380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6" descr="Xing2"/>
            <p:cNvPicPr/>
            <p:nvPr/>
          </p:nvPicPr>
          <p:blipFill>
            <a:blip r:embed="rId4"/>
            <a:stretch/>
          </p:blipFill>
          <p:spPr>
            <a:xfrm>
              <a:off x="2971800" y="53352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7" descr="Xing2"/>
            <p:cNvPicPr/>
            <p:nvPr/>
          </p:nvPicPr>
          <p:blipFill>
            <a:blip r:embed="rId5"/>
            <a:stretch/>
          </p:blipFill>
          <p:spPr>
            <a:xfrm>
              <a:off x="5486400" y="40384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8" descr="Xing2"/>
            <p:cNvPicPr/>
            <p:nvPr/>
          </p:nvPicPr>
          <p:blipFill>
            <a:blip r:embed="rId6"/>
            <a:stretch/>
          </p:blipFill>
          <p:spPr>
            <a:xfrm>
              <a:off x="1066680" y="30862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9" descr="Xing2"/>
            <p:cNvPicPr/>
            <p:nvPr/>
          </p:nvPicPr>
          <p:blipFill>
            <a:blip r:embed="rId7"/>
            <a:stretch/>
          </p:blipFill>
          <p:spPr>
            <a:xfrm>
              <a:off x="3505320" y="30862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0" descr="Xing2"/>
            <p:cNvPicPr/>
            <p:nvPr/>
          </p:nvPicPr>
          <p:blipFill>
            <a:blip r:embed="rId8"/>
            <a:stretch/>
          </p:blipFill>
          <p:spPr>
            <a:xfrm>
              <a:off x="6324480" y="4572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1" descr="图片1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2" descr="Xing2"/>
            <p:cNvPicPr/>
            <p:nvPr/>
          </p:nvPicPr>
          <p:blipFill>
            <a:blip r:embed="rId10"/>
            <a:stretch/>
          </p:blipFill>
          <p:spPr>
            <a:xfrm>
              <a:off x="7696080" y="27432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3" descr="Xing2"/>
            <p:cNvPicPr/>
            <p:nvPr/>
          </p:nvPicPr>
          <p:blipFill>
            <a:blip r:embed="rId11"/>
            <a:stretch/>
          </p:blipFill>
          <p:spPr>
            <a:xfrm>
              <a:off x="533520" y="8380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4" descr="Xing2"/>
            <p:cNvPicPr/>
            <p:nvPr/>
          </p:nvPicPr>
          <p:blipFill>
            <a:blip r:embed="rId12"/>
            <a:stretch/>
          </p:blipFill>
          <p:spPr>
            <a:xfrm>
              <a:off x="2971800" y="53352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5" descr="Xing2"/>
            <p:cNvPicPr/>
            <p:nvPr/>
          </p:nvPicPr>
          <p:blipFill>
            <a:blip r:embed="rId13"/>
            <a:stretch/>
          </p:blipFill>
          <p:spPr>
            <a:xfrm>
              <a:off x="5486400" y="40384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6" descr="Xing2"/>
            <p:cNvPicPr/>
            <p:nvPr/>
          </p:nvPicPr>
          <p:blipFill>
            <a:blip r:embed="rId14"/>
            <a:stretch/>
          </p:blipFill>
          <p:spPr>
            <a:xfrm>
              <a:off x="1066680" y="30862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17" descr="Xing2"/>
            <p:cNvPicPr/>
            <p:nvPr/>
          </p:nvPicPr>
          <p:blipFill>
            <a:blip r:embed="rId15"/>
            <a:stretch/>
          </p:blipFill>
          <p:spPr>
            <a:xfrm>
              <a:off x="3505320" y="30862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8" descr="Xing2"/>
            <p:cNvPicPr/>
            <p:nvPr/>
          </p:nvPicPr>
          <p:blipFill>
            <a:blip r:embed="rId16"/>
            <a:stretch/>
          </p:blipFill>
          <p:spPr>
            <a:xfrm>
              <a:off x="6324480" y="45720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Picture 19" descr="20071116232229169"/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20"/>
          <p:cNvSpPr txBox="1"/>
          <p:nvPr/>
        </p:nvSpPr>
        <p:spPr>
          <a:xfrm>
            <a:off x="8317080" y="4508640"/>
            <a:ext cx="637920" cy="20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414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治</a:t>
            </a:r>
            <a:endParaRPr b="1" lang="en-US" sz="4000" spc="1" strike="noStrike">
              <a:ln w="414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414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邺</a:t>
            </a:r>
            <a:endParaRPr b="1" lang="en-US" sz="4000" spc="1" strike="noStrike">
              <a:ln w="414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背景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684360" y="134136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00000"/>
                </a:solidFill>
                <a:latin typeface="Arial"/>
                <a:ea typeface="黑体"/>
              </a:rPr>
              <a:t>媳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780000" y="1341360"/>
            <a:ext cx="24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00000"/>
                </a:solidFill>
                <a:latin typeface="Arial"/>
                <a:ea typeface="黑体"/>
              </a:rPr>
              <a:t>淹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780000" y="2852640"/>
            <a:ext cx="230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00000"/>
                </a:solidFill>
                <a:latin typeface="Arial"/>
                <a:ea typeface="黑体"/>
              </a:rPr>
              <a:t>绸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372360" y="2852640"/>
            <a:ext cx="24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00000"/>
                </a:solidFill>
                <a:latin typeface="Arial"/>
                <a:ea typeface="黑体"/>
              </a:rPr>
              <a:t>渠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6372360" y="134136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00000"/>
                </a:solidFill>
                <a:latin typeface="Arial"/>
                <a:ea typeface="黑体"/>
              </a:rPr>
              <a:t>开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627280" y="43657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00000"/>
                </a:solidFill>
                <a:latin typeface="Arial"/>
                <a:ea typeface="黑体"/>
              </a:rPr>
              <a:t>磕头求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84360" y="29242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00000"/>
                </a:solidFill>
                <a:latin typeface="Arial"/>
                <a:ea typeface="黑体"/>
              </a:rPr>
              <a:t>灌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背景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3471120" y="98100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800000"/>
                </a:solidFill>
                <a:latin typeface="Arial"/>
                <a:ea typeface="黑体"/>
              </a:rPr>
              <a:t>凿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" name="Picture 3" descr="20071116232229169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WordArt 4"/>
            <p:cNvSpPr txBox="1"/>
            <p:nvPr/>
          </p:nvSpPr>
          <p:spPr>
            <a:xfrm>
              <a:off x="8317080" y="4508640"/>
              <a:ext cx="637920" cy="20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4140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行楷"/>
                </a:rPr>
                <a:t>治</a:t>
              </a:r>
              <a:endParaRPr b="1" lang="en-US" sz="4000" spc="1" strike="noStrike">
                <a:ln w="414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  <a:ea typeface="华文行楷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4140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行楷"/>
                </a:rPr>
                <a:t>邺</a:t>
              </a:r>
              <a:endParaRPr b="1" lang="en-US" sz="4000" spc="1" strike="noStrike">
                <a:ln w="414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  <a:ea typeface="华文行楷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08000" y="1484280"/>
            <a:ext cx="903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仿宋_GB2312"/>
              </a:rPr>
              <a:t>             </a:t>
            </a:r>
            <a:r>
              <a:rPr b="1" lang="zh-CN" sz="6000" spc="-1" strike="noStrike">
                <a:solidFill>
                  <a:srgbClr val="800000"/>
                </a:solidFill>
                <a:latin typeface="Arial"/>
                <a:ea typeface="黑体"/>
              </a:rPr>
              <a:t>这样说来，河伯还真灵啊。下一回他娶媳妇，告诉我一声，我也去送送新娘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084720" y="5950080"/>
            <a:ext cx="64800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真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948360" y="5950080"/>
            <a:ext cx="64800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送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8604360" y="5950080"/>
            <a:ext cx="36036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108000" y="1484280"/>
            <a:ext cx="90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仿宋_GB2312"/>
              </a:rPr>
              <a:t>             </a:t>
            </a:r>
            <a:r>
              <a:rPr b="1" lang="zh-CN" sz="6000" spc="-1" strike="noStrike">
                <a:solidFill>
                  <a:srgbClr val="800000"/>
                </a:solidFill>
                <a:latin typeface="Arial"/>
                <a:ea typeface="黑体"/>
              </a:rPr>
              <a:t>这样说来，河伯还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真灵</a:t>
            </a:r>
            <a:r>
              <a:rPr b="1" lang="zh-CN" sz="6000" spc="-1" strike="noStrike">
                <a:solidFill>
                  <a:srgbClr val="800000"/>
                </a:solidFill>
                <a:latin typeface="Arial"/>
                <a:ea typeface="黑体"/>
              </a:rPr>
              <a:t>啊。下一回他娶媳妇，告诉我一声，我也去送送新娘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604360" y="5950080"/>
            <a:ext cx="36036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08000" y="1484280"/>
            <a:ext cx="903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仿宋_GB2312"/>
              </a:rPr>
              <a:t>             </a:t>
            </a:r>
            <a:r>
              <a:rPr b="1" lang="zh-CN" sz="6000" spc="-1" strike="noStrike">
                <a:solidFill>
                  <a:srgbClr val="800000"/>
                </a:solidFill>
                <a:latin typeface="Arial"/>
                <a:ea typeface="黑体"/>
              </a:rPr>
              <a:t>这样说来，河伯还真灵啊。下一回他娶媳妇，告诉我一声，我也去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送送</a:t>
            </a:r>
            <a:r>
              <a:rPr b="1" lang="zh-CN" sz="6000" spc="-1" strike="noStrike">
                <a:solidFill>
                  <a:srgbClr val="800000"/>
                </a:solidFill>
                <a:latin typeface="Arial"/>
                <a:ea typeface="黑体"/>
              </a:rPr>
              <a:t>新娘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8604360" y="5950080"/>
            <a:ext cx="36036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08000" y="1484280"/>
            <a:ext cx="90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仿宋_GB2312"/>
              </a:rPr>
              <a:t>             </a:t>
            </a:r>
            <a:r>
              <a:rPr b="1" lang="zh-CN" sz="6000" spc="-1" strike="noStrike">
                <a:solidFill>
                  <a:srgbClr val="800000"/>
                </a:solidFill>
                <a:latin typeface="Arial"/>
                <a:ea typeface="黑体"/>
              </a:rPr>
              <a:t>这样说来，河伯还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真灵</a:t>
            </a:r>
            <a:r>
              <a:rPr b="1" lang="zh-CN" sz="6000" spc="-1" strike="noStrike">
                <a:solidFill>
                  <a:srgbClr val="800000"/>
                </a:solidFill>
                <a:latin typeface="Arial"/>
                <a:ea typeface="黑体"/>
              </a:rPr>
              <a:t>啊。下一回他娶媳妇，告诉我一声，我也去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送送</a:t>
            </a:r>
            <a:r>
              <a:rPr b="1" lang="zh-CN" sz="6000" spc="-1" strike="noStrike">
                <a:solidFill>
                  <a:srgbClr val="800000"/>
                </a:solidFill>
                <a:latin typeface="Arial"/>
                <a:ea typeface="黑体"/>
              </a:rPr>
              <a:t>新娘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2" name="Picture 3" descr="20071116232229169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WordArt 4"/>
            <p:cNvSpPr txBox="1"/>
            <p:nvPr/>
          </p:nvSpPr>
          <p:spPr>
            <a:xfrm>
              <a:off x="8317080" y="4508640"/>
              <a:ext cx="637920" cy="20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4140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行楷"/>
                </a:rPr>
                <a:t>治</a:t>
              </a:r>
              <a:endParaRPr b="1" lang="en-US" sz="4000" spc="1" strike="noStrike">
                <a:ln w="414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  <a:ea typeface="华文行楷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4140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行楷"/>
                </a:rPr>
                <a:t>邺</a:t>
              </a:r>
              <a:endParaRPr b="1" lang="en-US" sz="4000" spc="1" strike="noStrike">
                <a:ln w="414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  <a:ea typeface="华文行楷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9:08:2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46:51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