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4b6e1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b6e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ea01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f3977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rcRect l="0" t="621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9" name=""/>
          <p:cNvGrpSpPr/>
          <p:nvPr/>
        </p:nvGrpSpPr>
        <p:grpSpPr>
          <a:xfrm>
            <a:off x="4445640" y="494280"/>
            <a:ext cx="397440" cy="397440"/>
            <a:chOff x="4445640" y="494280"/>
            <a:chExt cx="397440" cy="397440"/>
          </a:xfrm>
        </p:grpSpPr>
        <p:sp>
          <p:nvSpPr>
            <p:cNvPr id="40" name=""/>
            <p:cNvSpPr/>
            <p:nvPr/>
          </p:nvSpPr>
          <p:spPr>
            <a:xfrm rot="3419400">
              <a:off x="4500360" y="549000"/>
              <a:ext cx="287280" cy="287280"/>
            </a:xfrm>
            <a:custGeom>
              <a:avLst/>
              <a:gdLst>
                <a:gd name="textAreaLeft" fmla="*/ 108000 w 287280"/>
                <a:gd name="textAreaRight" fmla="*/ 179280 w 287280"/>
                <a:gd name="textAreaTop" fmla="*/ 108000 h 287280"/>
                <a:gd name="textAreaBottom" fmla="*/ 17928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 rot="900000">
              <a:off x="4500720" y="549360"/>
              <a:ext cx="280080" cy="280080"/>
            </a:xfrm>
            <a:custGeom>
              <a:avLst/>
              <a:gdLst>
                <a:gd name="textAreaLeft" fmla="*/ 111600 w 280080"/>
                <a:gd name="textAreaRight" fmla="*/ 168480 w 280080"/>
                <a:gd name="textAreaTop" fmla="*/ 111600 h 280080"/>
                <a:gd name="textAreaBottom" fmla="*/ 168480 h 28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ffff">
                    <a:alpha val="80000"/>
                  </a:srgbClr>
                </a:gs>
                <a:gs pos="100000">
                  <a:srgbClr val="66cc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"/>
          <p:cNvGrpSpPr/>
          <p:nvPr/>
        </p:nvGrpSpPr>
        <p:grpSpPr>
          <a:xfrm>
            <a:off x="2311920" y="1313640"/>
            <a:ext cx="199800" cy="200160"/>
            <a:chOff x="2311920" y="1313640"/>
            <a:chExt cx="199800" cy="200160"/>
          </a:xfrm>
        </p:grpSpPr>
        <p:sp>
          <p:nvSpPr>
            <p:cNvPr id="43" name=""/>
            <p:cNvSpPr/>
            <p:nvPr/>
          </p:nvSpPr>
          <p:spPr>
            <a:xfrm rot="3419400">
              <a:off x="2339280" y="1341360"/>
              <a:ext cx="144720" cy="144360"/>
            </a:xfrm>
            <a:custGeom>
              <a:avLst/>
              <a:gdLst>
                <a:gd name="textAreaLeft" fmla="*/ 54360 w 144720"/>
                <a:gd name="textAreaRight" fmla="*/ 90360 w 14472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00000">
              <a:off x="2339640" y="1341000"/>
              <a:ext cx="140760" cy="14112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1120"/>
                <a:gd name="textAreaBottom" fmla="*/ 849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465000" y="1888560"/>
            <a:ext cx="199800" cy="199800"/>
            <a:chOff x="3465000" y="1888560"/>
            <a:chExt cx="199800" cy="199800"/>
          </a:xfrm>
        </p:grpSpPr>
        <p:sp>
          <p:nvSpPr>
            <p:cNvPr id="46" name=""/>
            <p:cNvSpPr/>
            <p:nvPr/>
          </p:nvSpPr>
          <p:spPr>
            <a:xfrm rot="3419400">
              <a:off x="3492720" y="1915920"/>
              <a:ext cx="144360" cy="14472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720"/>
                <a:gd name="textAreaBottom" fmla="*/ 9036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900000">
              <a:off x="3492000" y="1916280"/>
              <a:ext cx="141120" cy="140760"/>
            </a:xfrm>
            <a:custGeom>
              <a:avLst/>
              <a:gdLst>
                <a:gd name="textAreaLeft" fmla="*/ 56160 w 141120"/>
                <a:gd name="textAreaRight" fmla="*/ 84960 w 14112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940920" y="1968840"/>
            <a:ext cx="100800" cy="100800"/>
            <a:chOff x="3940920" y="1968840"/>
            <a:chExt cx="100800" cy="100800"/>
          </a:xfrm>
        </p:grpSpPr>
        <p:sp>
          <p:nvSpPr>
            <p:cNvPr id="49" name=""/>
            <p:cNvSpPr/>
            <p:nvPr/>
          </p:nvSpPr>
          <p:spPr>
            <a:xfrm rot="3419400">
              <a:off x="3954600" y="1982880"/>
              <a:ext cx="73080" cy="72720"/>
            </a:xfrm>
            <a:custGeom>
              <a:avLst/>
              <a:gdLst>
                <a:gd name="textAreaLeft" fmla="*/ 27360 w 73080"/>
                <a:gd name="textAreaRight" fmla="*/ 45720 w 73080"/>
                <a:gd name="textAreaTop" fmla="*/ 27360 h 72720"/>
                <a:gd name="textAreaBottom" fmla="*/ 4536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900000">
              <a:off x="3954600" y="1982880"/>
              <a:ext cx="70920" cy="71280"/>
            </a:xfrm>
            <a:custGeom>
              <a:avLst/>
              <a:gdLst>
                <a:gd name="textAreaLeft" fmla="*/ 28080 w 70920"/>
                <a:gd name="textAreaRight" fmla="*/ 42840 w 70920"/>
                <a:gd name="textAreaTop" fmla="*/ 28440 h 71280"/>
                <a:gd name="textAreaBottom" fmla="*/ 428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153880" y="292320"/>
            <a:ext cx="298440" cy="298440"/>
            <a:chOff x="2153880" y="292320"/>
            <a:chExt cx="298440" cy="298440"/>
          </a:xfrm>
        </p:grpSpPr>
        <p:sp>
          <p:nvSpPr>
            <p:cNvPr id="52" name=""/>
            <p:cNvSpPr/>
            <p:nvPr/>
          </p:nvSpPr>
          <p:spPr>
            <a:xfrm rot="3419400">
              <a:off x="2194920" y="333720"/>
              <a:ext cx="216000" cy="215640"/>
            </a:xfrm>
            <a:custGeom>
              <a:avLst/>
              <a:gdLst>
                <a:gd name="textAreaLeft" fmla="*/ 81360 w 216000"/>
                <a:gd name="textAreaRight" fmla="*/ 134640 w 216000"/>
                <a:gd name="textAreaTop" fmla="*/ 81000 h 215640"/>
                <a:gd name="textAreaBottom" fmla="*/ 1346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900000">
              <a:off x="2195640" y="333000"/>
              <a:ext cx="210240" cy="210600"/>
            </a:xfrm>
            <a:custGeom>
              <a:avLst/>
              <a:gdLst>
                <a:gd name="textAreaLeft" fmla="*/ 83880 w 210240"/>
                <a:gd name="textAreaRight" fmla="*/ 126360 w 210240"/>
                <a:gd name="textAreaTop" fmla="*/ 83880 h 210600"/>
                <a:gd name="textAreaBottom" fmla="*/ 126720 h 21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251680" y="147600"/>
            <a:ext cx="298440" cy="298440"/>
            <a:chOff x="5251680" y="147600"/>
            <a:chExt cx="298440" cy="298440"/>
          </a:xfrm>
        </p:grpSpPr>
        <p:sp>
          <p:nvSpPr>
            <p:cNvPr id="55" name=""/>
            <p:cNvSpPr/>
            <p:nvPr/>
          </p:nvSpPr>
          <p:spPr>
            <a:xfrm rot="3419400">
              <a:off x="5293080" y="188640"/>
              <a:ext cx="215640" cy="216000"/>
            </a:xfrm>
            <a:custGeom>
              <a:avLst/>
              <a:gdLst>
                <a:gd name="textAreaLeft" fmla="*/ 81000 w 215640"/>
                <a:gd name="textAreaRight" fmla="*/ 134640 w 215640"/>
                <a:gd name="textAreaTop" fmla="*/ 81360 h 216000"/>
                <a:gd name="textAreaBottom" fmla="*/ 13464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900000">
              <a:off x="5292720" y="188640"/>
              <a:ext cx="210600" cy="210240"/>
            </a:xfrm>
            <a:custGeom>
              <a:avLst/>
              <a:gdLst>
                <a:gd name="textAreaLeft" fmla="*/ 83880 w 210600"/>
                <a:gd name="textAreaRight" fmla="*/ 126720 w 210600"/>
                <a:gd name="textAreaTop" fmla="*/ 83880 h 210240"/>
                <a:gd name="textAreaBottom" fmla="*/ 126360 h 21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177360" y="1314000"/>
            <a:ext cx="197640" cy="197640"/>
            <a:chOff x="3177360" y="1314000"/>
            <a:chExt cx="197640" cy="197640"/>
          </a:xfrm>
        </p:grpSpPr>
        <p:sp>
          <p:nvSpPr>
            <p:cNvPr id="58" name=""/>
            <p:cNvSpPr/>
            <p:nvPr/>
          </p:nvSpPr>
          <p:spPr>
            <a:xfrm rot="3419400">
              <a:off x="3204720" y="1341360"/>
              <a:ext cx="142920" cy="142920"/>
            </a:xfrm>
            <a:custGeom>
              <a:avLst/>
              <a:gdLst>
                <a:gd name="textAreaLeft" fmla="*/ 53640 w 142920"/>
                <a:gd name="textAreaRight" fmla="*/ 89280 w 142920"/>
                <a:gd name="textAreaTop" fmla="*/ 53640 h 142920"/>
                <a:gd name="textAreaBottom" fmla="*/ 89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900000">
              <a:off x="3205080" y="1341360"/>
              <a:ext cx="139320" cy="139320"/>
            </a:xfrm>
            <a:custGeom>
              <a:avLst/>
              <a:gdLst>
                <a:gd name="textAreaLeft" fmla="*/ 55440 w 139320"/>
                <a:gd name="textAreaRight" fmla="*/ 83880 w 139320"/>
                <a:gd name="textAreaTop" fmla="*/ 55440 h 139320"/>
                <a:gd name="textAreaBottom" fmla="*/ 83880 h 13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407920" y="1529640"/>
            <a:ext cx="199440" cy="199800"/>
            <a:chOff x="5407920" y="1529640"/>
            <a:chExt cx="199440" cy="199800"/>
          </a:xfrm>
        </p:grpSpPr>
        <p:sp>
          <p:nvSpPr>
            <p:cNvPr id="61" name=""/>
            <p:cNvSpPr/>
            <p:nvPr/>
          </p:nvSpPr>
          <p:spPr>
            <a:xfrm rot="3419400">
              <a:off x="5435280" y="1557000"/>
              <a:ext cx="144360" cy="14436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900000">
              <a:off x="5435280" y="1557000"/>
              <a:ext cx="140760" cy="14076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734880" y="912240"/>
            <a:ext cx="496440" cy="496440"/>
            <a:chOff x="6734880" y="912240"/>
            <a:chExt cx="496440" cy="496440"/>
          </a:xfrm>
        </p:grpSpPr>
        <p:sp>
          <p:nvSpPr>
            <p:cNvPr id="64" name=""/>
            <p:cNvSpPr/>
            <p:nvPr/>
          </p:nvSpPr>
          <p:spPr>
            <a:xfrm rot="3419400">
              <a:off x="6803640" y="981000"/>
              <a:ext cx="358920" cy="358920"/>
            </a:xfrm>
            <a:custGeom>
              <a:avLst/>
              <a:gdLst>
                <a:gd name="textAreaLeft" fmla="*/ 135000 w 358920"/>
                <a:gd name="textAreaRight" fmla="*/ 223920 w 358920"/>
                <a:gd name="textAreaTop" fmla="*/ 135000 h 358920"/>
                <a:gd name="textAreaBottom" fmla="*/ 223920 h 3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dea5d">
                    <a:alpha val="52156"/>
                  </a:srgbClr>
                </a:gs>
                <a:gs pos="100000">
                  <a:srgbClr val="eff33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900000">
              <a:off x="6803640" y="981000"/>
              <a:ext cx="349920" cy="349920"/>
            </a:xfrm>
            <a:custGeom>
              <a:avLst/>
              <a:gdLst>
                <a:gd name="textAreaLeft" fmla="*/ 139680 w 349920"/>
                <a:gd name="textAreaRight" fmla="*/ 210240 w 349920"/>
                <a:gd name="textAreaTop" fmla="*/ 139680 h 349920"/>
                <a:gd name="textAreaBottom" fmla="*/ 210240 h 34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dea5d">
                    <a:alpha val="80000"/>
                  </a:srgbClr>
                </a:gs>
                <a:gs pos="100000">
                  <a:srgbClr val="eff339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852560" y="1789560"/>
            <a:ext cx="397800" cy="397440"/>
            <a:chOff x="1852560" y="1789560"/>
            <a:chExt cx="397800" cy="397440"/>
          </a:xfrm>
        </p:grpSpPr>
        <p:sp>
          <p:nvSpPr>
            <p:cNvPr id="67" name=""/>
            <p:cNvSpPr/>
            <p:nvPr/>
          </p:nvSpPr>
          <p:spPr>
            <a:xfrm rot="3419400">
              <a:off x="1907640" y="1844280"/>
              <a:ext cx="287280" cy="287640"/>
            </a:xfrm>
            <a:custGeom>
              <a:avLst/>
              <a:gdLst>
                <a:gd name="textAreaLeft" fmla="*/ 108000 w 287280"/>
                <a:gd name="textAreaRight" fmla="*/ 179280 w 287280"/>
                <a:gd name="textAreaTop" fmla="*/ 108000 h 287640"/>
                <a:gd name="textAreaBottom" fmla="*/ 17964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900000">
              <a:off x="1908000" y="1844640"/>
              <a:ext cx="280440" cy="280080"/>
            </a:xfrm>
            <a:custGeom>
              <a:avLst/>
              <a:gdLst>
                <a:gd name="textAreaLeft" fmla="*/ 111960 w 280440"/>
                <a:gd name="textAreaRight" fmla="*/ 168480 w 280440"/>
                <a:gd name="textAreaTop" fmla="*/ 111600 h 280080"/>
                <a:gd name="textAreaBottom" fmla="*/ 168480 h 28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599560" y="2536200"/>
            <a:ext cx="199440" cy="199800"/>
            <a:chOff x="2599560" y="2536200"/>
            <a:chExt cx="199440" cy="199800"/>
          </a:xfrm>
        </p:grpSpPr>
        <p:sp>
          <p:nvSpPr>
            <p:cNvPr id="70" name=""/>
            <p:cNvSpPr/>
            <p:nvPr/>
          </p:nvSpPr>
          <p:spPr>
            <a:xfrm rot="3419400">
              <a:off x="2626920" y="2563560"/>
              <a:ext cx="144360" cy="14436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900000">
              <a:off x="2626920" y="2563560"/>
              <a:ext cx="140760" cy="14076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200280" y="2680560"/>
            <a:ext cx="199800" cy="199800"/>
            <a:chOff x="6200280" y="2680560"/>
            <a:chExt cx="199800" cy="199800"/>
          </a:xfrm>
        </p:grpSpPr>
        <p:sp>
          <p:nvSpPr>
            <p:cNvPr id="73" name=""/>
            <p:cNvSpPr/>
            <p:nvPr/>
          </p:nvSpPr>
          <p:spPr>
            <a:xfrm rot="3419400">
              <a:off x="6228000" y="2707920"/>
              <a:ext cx="144360" cy="14472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720"/>
                <a:gd name="textAreaBottom" fmla="*/ 9036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900000">
              <a:off x="6227280" y="2708280"/>
              <a:ext cx="141120" cy="140760"/>
            </a:xfrm>
            <a:custGeom>
              <a:avLst/>
              <a:gdLst>
                <a:gd name="textAreaLeft" fmla="*/ 56160 w 141120"/>
                <a:gd name="textAreaRight" fmla="*/ 84960 w 14112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615920" y="2393280"/>
            <a:ext cx="199800" cy="199800"/>
            <a:chOff x="4615920" y="2393280"/>
            <a:chExt cx="199800" cy="199800"/>
          </a:xfrm>
        </p:grpSpPr>
        <p:sp>
          <p:nvSpPr>
            <p:cNvPr id="76" name=""/>
            <p:cNvSpPr/>
            <p:nvPr/>
          </p:nvSpPr>
          <p:spPr>
            <a:xfrm rot="3419400">
              <a:off x="4643640" y="2420640"/>
              <a:ext cx="144360" cy="14472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720"/>
                <a:gd name="textAreaBottom" fmla="*/ 9036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900000">
              <a:off x="4642920" y="2421000"/>
              <a:ext cx="141120" cy="140760"/>
            </a:xfrm>
            <a:custGeom>
              <a:avLst/>
              <a:gdLst>
                <a:gd name="textAreaLeft" fmla="*/ 56160 w 141120"/>
                <a:gd name="textAreaRight" fmla="*/ 84960 w 14112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872280" y="1961280"/>
            <a:ext cx="200160" cy="200160"/>
            <a:chOff x="872280" y="1961280"/>
            <a:chExt cx="200160" cy="200160"/>
          </a:xfrm>
        </p:grpSpPr>
        <p:sp>
          <p:nvSpPr>
            <p:cNvPr id="79" name=""/>
            <p:cNvSpPr/>
            <p:nvPr/>
          </p:nvSpPr>
          <p:spPr>
            <a:xfrm rot="3419400">
              <a:off x="899640" y="1989000"/>
              <a:ext cx="144720" cy="144720"/>
            </a:xfrm>
            <a:custGeom>
              <a:avLst/>
              <a:gdLst>
                <a:gd name="textAreaLeft" fmla="*/ 54360 w 144720"/>
                <a:gd name="textAreaRight" fmla="*/ 90360 w 144720"/>
                <a:gd name="textAreaTop" fmla="*/ 54360 h 144720"/>
                <a:gd name="textAreaBottom" fmla="*/ 9036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900000">
              <a:off x="899640" y="1989000"/>
              <a:ext cx="141120" cy="141120"/>
            </a:xfrm>
            <a:custGeom>
              <a:avLst/>
              <a:gdLst>
                <a:gd name="textAreaLeft" fmla="*/ 56160 w 141120"/>
                <a:gd name="textAreaRight" fmla="*/ 84960 w 141120"/>
                <a:gd name="textAreaTop" fmla="*/ 56160 h 141120"/>
                <a:gd name="textAreaBottom" fmla="*/ 849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14240" y="1658880"/>
            <a:ext cx="298800" cy="298800"/>
            <a:chOff x="714240" y="1658880"/>
            <a:chExt cx="298800" cy="298800"/>
          </a:xfrm>
        </p:grpSpPr>
        <p:sp>
          <p:nvSpPr>
            <p:cNvPr id="82" name=""/>
            <p:cNvSpPr/>
            <p:nvPr/>
          </p:nvSpPr>
          <p:spPr>
            <a:xfrm rot="3419400">
              <a:off x="755280" y="1700280"/>
              <a:ext cx="216000" cy="216000"/>
            </a:xfrm>
            <a:custGeom>
              <a:avLst/>
              <a:gdLst>
                <a:gd name="textAreaLeft" fmla="*/ 81360 w 216000"/>
                <a:gd name="textAreaRight" fmla="*/ 134640 w 216000"/>
                <a:gd name="textAreaTop" fmla="*/ 81360 h 216000"/>
                <a:gd name="textAreaBottom" fmla="*/ 13464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900000">
              <a:off x="755640" y="1699920"/>
              <a:ext cx="210600" cy="210600"/>
            </a:xfrm>
            <a:custGeom>
              <a:avLst/>
              <a:gdLst>
                <a:gd name="textAreaLeft" fmla="*/ 83880 w 210600"/>
                <a:gd name="textAreaRight" fmla="*/ 126720 w 210600"/>
                <a:gd name="textAreaTop" fmla="*/ 83880 h 210600"/>
                <a:gd name="textAreaBottom" fmla="*/ 126720 h 21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738080" y="2680920"/>
            <a:ext cx="197280" cy="197640"/>
            <a:chOff x="1738080" y="2680920"/>
            <a:chExt cx="197280" cy="197640"/>
          </a:xfrm>
        </p:grpSpPr>
        <p:sp>
          <p:nvSpPr>
            <p:cNvPr id="85" name=""/>
            <p:cNvSpPr/>
            <p:nvPr/>
          </p:nvSpPr>
          <p:spPr>
            <a:xfrm rot="3419400">
              <a:off x="1765080" y="2708280"/>
              <a:ext cx="142920" cy="142560"/>
            </a:xfrm>
            <a:custGeom>
              <a:avLst/>
              <a:gdLst>
                <a:gd name="textAreaLeft" fmla="*/ 53640 w 142920"/>
                <a:gd name="textAreaRight" fmla="*/ 89280 w 142920"/>
                <a:gd name="textAreaTop" fmla="*/ 53640 h 142560"/>
                <a:gd name="textAreaBottom" fmla="*/ 88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900000">
              <a:off x="1765440" y="2708280"/>
              <a:ext cx="138960" cy="139320"/>
            </a:xfrm>
            <a:custGeom>
              <a:avLst/>
              <a:gdLst>
                <a:gd name="textAreaLeft" fmla="*/ 55440 w 138960"/>
                <a:gd name="textAreaRight" fmla="*/ 83520 w 138960"/>
                <a:gd name="textAreaTop" fmla="*/ 55440 h 139320"/>
                <a:gd name="textAreaBottom" fmla="*/ 83880 h 13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489000" y="448560"/>
            <a:ext cx="199440" cy="199800"/>
            <a:chOff x="6489000" y="448560"/>
            <a:chExt cx="199440" cy="199800"/>
          </a:xfrm>
        </p:grpSpPr>
        <p:sp>
          <p:nvSpPr>
            <p:cNvPr id="88" name=""/>
            <p:cNvSpPr/>
            <p:nvPr/>
          </p:nvSpPr>
          <p:spPr>
            <a:xfrm rot="3419400">
              <a:off x="6516360" y="475920"/>
              <a:ext cx="144360" cy="14436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900000">
              <a:off x="6516360" y="475920"/>
              <a:ext cx="140760" cy="14076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7869600" y="744840"/>
            <a:ext cx="101160" cy="101160"/>
            <a:chOff x="7869600" y="744840"/>
            <a:chExt cx="101160" cy="101160"/>
          </a:xfrm>
        </p:grpSpPr>
        <p:sp>
          <p:nvSpPr>
            <p:cNvPr id="91" name=""/>
            <p:cNvSpPr/>
            <p:nvPr/>
          </p:nvSpPr>
          <p:spPr>
            <a:xfrm rot="3419400">
              <a:off x="7883280" y="758520"/>
              <a:ext cx="73080" cy="73080"/>
            </a:xfrm>
            <a:custGeom>
              <a:avLst/>
              <a:gdLst>
                <a:gd name="textAreaLeft" fmla="*/ 27360 w 73080"/>
                <a:gd name="textAreaRight" fmla="*/ 45720 w 73080"/>
                <a:gd name="textAreaTop" fmla="*/ 27360 h 73080"/>
                <a:gd name="textAreaBottom" fmla="*/ 4572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900000">
              <a:off x="7883640" y="758880"/>
              <a:ext cx="71280" cy="71280"/>
            </a:xfrm>
            <a:custGeom>
              <a:avLst/>
              <a:gdLst>
                <a:gd name="textAreaLeft" fmla="*/ 28440 w 71280"/>
                <a:gd name="textAreaRight" fmla="*/ 42840 w 71280"/>
                <a:gd name="textAreaTop" fmla="*/ 28440 h 71280"/>
                <a:gd name="textAreaBottom" fmla="*/ 428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8360640" y="1888560"/>
            <a:ext cx="199440" cy="199800"/>
            <a:chOff x="8360640" y="1888560"/>
            <a:chExt cx="199440" cy="199800"/>
          </a:xfrm>
        </p:grpSpPr>
        <p:sp>
          <p:nvSpPr>
            <p:cNvPr id="94" name=""/>
            <p:cNvSpPr/>
            <p:nvPr/>
          </p:nvSpPr>
          <p:spPr>
            <a:xfrm rot="3419400">
              <a:off x="8388000" y="1915920"/>
              <a:ext cx="144360" cy="14436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900000">
              <a:off x="8388000" y="1915920"/>
              <a:ext cx="140760" cy="14076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7639560" y="1600920"/>
            <a:ext cx="199800" cy="200160"/>
            <a:chOff x="7639560" y="1600920"/>
            <a:chExt cx="199800" cy="200160"/>
          </a:xfrm>
        </p:grpSpPr>
        <p:sp>
          <p:nvSpPr>
            <p:cNvPr id="97" name=""/>
            <p:cNvSpPr/>
            <p:nvPr/>
          </p:nvSpPr>
          <p:spPr>
            <a:xfrm rot="3419400">
              <a:off x="7666920" y="1628640"/>
              <a:ext cx="144720" cy="144360"/>
            </a:xfrm>
            <a:custGeom>
              <a:avLst/>
              <a:gdLst>
                <a:gd name="textAreaLeft" fmla="*/ 54360 w 144720"/>
                <a:gd name="textAreaRight" fmla="*/ 90360 w 14472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900000">
              <a:off x="7667280" y="1628280"/>
              <a:ext cx="140760" cy="14112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1120"/>
                <a:gd name="textAreaBottom" fmla="*/ 849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481000" y="1024920"/>
            <a:ext cx="199440" cy="199800"/>
            <a:chOff x="5481000" y="1024920"/>
            <a:chExt cx="199440" cy="199800"/>
          </a:xfrm>
        </p:grpSpPr>
        <p:sp>
          <p:nvSpPr>
            <p:cNvPr id="100" name=""/>
            <p:cNvSpPr/>
            <p:nvPr/>
          </p:nvSpPr>
          <p:spPr>
            <a:xfrm rot="3419400">
              <a:off x="5508360" y="1052280"/>
              <a:ext cx="144360" cy="14436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900000">
              <a:off x="5508360" y="1052280"/>
              <a:ext cx="140760" cy="14076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528280" y="664560"/>
            <a:ext cx="199440" cy="199800"/>
            <a:chOff x="2528280" y="664560"/>
            <a:chExt cx="199440" cy="199800"/>
          </a:xfrm>
        </p:grpSpPr>
        <p:sp>
          <p:nvSpPr>
            <p:cNvPr id="103" name=""/>
            <p:cNvSpPr/>
            <p:nvPr/>
          </p:nvSpPr>
          <p:spPr>
            <a:xfrm rot="3419400">
              <a:off x="2555640" y="691920"/>
              <a:ext cx="144360" cy="14436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900000">
              <a:off x="2555640" y="691920"/>
              <a:ext cx="140760" cy="14076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393360" y="664920"/>
            <a:ext cx="197640" cy="197640"/>
            <a:chOff x="3393360" y="664920"/>
            <a:chExt cx="197640" cy="197640"/>
          </a:xfrm>
        </p:grpSpPr>
        <p:sp>
          <p:nvSpPr>
            <p:cNvPr id="106" name=""/>
            <p:cNvSpPr/>
            <p:nvPr/>
          </p:nvSpPr>
          <p:spPr>
            <a:xfrm rot="3419400">
              <a:off x="3420720" y="692280"/>
              <a:ext cx="142920" cy="142920"/>
            </a:xfrm>
            <a:custGeom>
              <a:avLst/>
              <a:gdLst>
                <a:gd name="textAreaLeft" fmla="*/ 53640 w 142920"/>
                <a:gd name="textAreaRight" fmla="*/ 89280 w 142920"/>
                <a:gd name="textAreaTop" fmla="*/ 53640 h 142920"/>
                <a:gd name="textAreaBottom" fmla="*/ 89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900000">
              <a:off x="3421080" y="692280"/>
              <a:ext cx="139320" cy="139320"/>
            </a:xfrm>
            <a:custGeom>
              <a:avLst/>
              <a:gdLst>
                <a:gd name="textAreaLeft" fmla="*/ 55440 w 139320"/>
                <a:gd name="textAreaRight" fmla="*/ 83880 w 139320"/>
                <a:gd name="textAreaTop" fmla="*/ 55440 h 139320"/>
                <a:gd name="textAreaBottom" fmla="*/ 83880 h 13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159920" y="521640"/>
            <a:ext cx="199800" cy="199800"/>
            <a:chOff x="1159920" y="521640"/>
            <a:chExt cx="199800" cy="199800"/>
          </a:xfrm>
        </p:grpSpPr>
        <p:sp>
          <p:nvSpPr>
            <p:cNvPr id="109" name=""/>
            <p:cNvSpPr/>
            <p:nvPr/>
          </p:nvSpPr>
          <p:spPr>
            <a:xfrm rot="3419400">
              <a:off x="1187640" y="549000"/>
              <a:ext cx="144360" cy="14472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720"/>
                <a:gd name="textAreaBottom" fmla="*/ 9036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900000">
              <a:off x="1186920" y="549360"/>
              <a:ext cx="141120" cy="140760"/>
            </a:xfrm>
            <a:custGeom>
              <a:avLst/>
              <a:gdLst>
                <a:gd name="textAreaLeft" fmla="*/ 56160 w 141120"/>
                <a:gd name="textAreaRight" fmla="*/ 84960 w 14112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664280" y="880200"/>
            <a:ext cx="199800" cy="200160"/>
            <a:chOff x="1664280" y="880200"/>
            <a:chExt cx="199800" cy="200160"/>
          </a:xfrm>
        </p:grpSpPr>
        <p:sp>
          <p:nvSpPr>
            <p:cNvPr id="112" name=""/>
            <p:cNvSpPr/>
            <p:nvPr/>
          </p:nvSpPr>
          <p:spPr>
            <a:xfrm rot="3419400">
              <a:off x="1691640" y="907920"/>
              <a:ext cx="144720" cy="144360"/>
            </a:xfrm>
            <a:custGeom>
              <a:avLst/>
              <a:gdLst>
                <a:gd name="textAreaLeft" fmla="*/ 54360 w 144720"/>
                <a:gd name="textAreaRight" fmla="*/ 90360 w 14472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900000">
              <a:off x="1692000" y="907560"/>
              <a:ext cx="140760" cy="14112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1120"/>
                <a:gd name="textAreaBottom" fmla="*/ 849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615920" y="1456560"/>
            <a:ext cx="199800" cy="199800"/>
            <a:chOff x="4615920" y="1456560"/>
            <a:chExt cx="199800" cy="199800"/>
          </a:xfrm>
        </p:grpSpPr>
        <p:sp>
          <p:nvSpPr>
            <p:cNvPr id="115" name=""/>
            <p:cNvSpPr/>
            <p:nvPr/>
          </p:nvSpPr>
          <p:spPr>
            <a:xfrm rot="3419400">
              <a:off x="4643640" y="1483920"/>
              <a:ext cx="144360" cy="14472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720"/>
                <a:gd name="textAreaBottom" fmla="*/ 9036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900000">
              <a:off x="4642920" y="1484280"/>
              <a:ext cx="141120" cy="140760"/>
            </a:xfrm>
            <a:custGeom>
              <a:avLst/>
              <a:gdLst>
                <a:gd name="textAreaLeft" fmla="*/ 56160 w 141120"/>
                <a:gd name="textAreaRight" fmla="*/ 84960 w 14112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677640" y="2005560"/>
            <a:ext cx="397440" cy="397440"/>
            <a:chOff x="6677640" y="2005560"/>
            <a:chExt cx="397440" cy="397440"/>
          </a:xfrm>
        </p:grpSpPr>
        <p:sp>
          <p:nvSpPr>
            <p:cNvPr id="118" name=""/>
            <p:cNvSpPr/>
            <p:nvPr/>
          </p:nvSpPr>
          <p:spPr>
            <a:xfrm rot="3419400">
              <a:off x="6732360" y="2060280"/>
              <a:ext cx="287280" cy="287280"/>
            </a:xfrm>
            <a:custGeom>
              <a:avLst/>
              <a:gdLst>
                <a:gd name="textAreaLeft" fmla="*/ 108000 w 287280"/>
                <a:gd name="textAreaRight" fmla="*/ 179280 w 287280"/>
                <a:gd name="textAreaTop" fmla="*/ 108000 h 287280"/>
                <a:gd name="textAreaBottom" fmla="*/ 17928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900000">
              <a:off x="6732720" y="2060640"/>
              <a:ext cx="280080" cy="280080"/>
            </a:xfrm>
            <a:custGeom>
              <a:avLst/>
              <a:gdLst>
                <a:gd name="textAreaLeft" fmla="*/ 111600 w 280080"/>
                <a:gd name="textAreaRight" fmla="*/ 168480 w 280080"/>
                <a:gd name="textAreaTop" fmla="*/ 111600 h 280080"/>
                <a:gd name="textAreaBottom" fmla="*/ 168480 h 28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887200" y="3688560"/>
            <a:ext cx="199800" cy="199800"/>
            <a:chOff x="2887200" y="3688560"/>
            <a:chExt cx="199800" cy="199800"/>
          </a:xfrm>
        </p:grpSpPr>
        <p:sp>
          <p:nvSpPr>
            <p:cNvPr id="121" name=""/>
            <p:cNvSpPr/>
            <p:nvPr/>
          </p:nvSpPr>
          <p:spPr>
            <a:xfrm rot="3419400">
              <a:off x="2914920" y="3715920"/>
              <a:ext cx="144360" cy="14472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720"/>
                <a:gd name="textAreaBottom" fmla="*/ 9036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00000">
              <a:off x="2914200" y="3716280"/>
              <a:ext cx="141120" cy="140760"/>
            </a:xfrm>
            <a:custGeom>
              <a:avLst/>
              <a:gdLst>
                <a:gd name="textAreaLeft" fmla="*/ 56160 w 141120"/>
                <a:gd name="textAreaRight" fmla="*/ 84960 w 14112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872280" y="3257280"/>
            <a:ext cx="197640" cy="197640"/>
            <a:chOff x="872280" y="3257280"/>
            <a:chExt cx="197640" cy="197640"/>
          </a:xfrm>
        </p:grpSpPr>
        <p:sp>
          <p:nvSpPr>
            <p:cNvPr id="124" name=""/>
            <p:cNvSpPr/>
            <p:nvPr/>
          </p:nvSpPr>
          <p:spPr>
            <a:xfrm rot="3419400">
              <a:off x="899640" y="3284640"/>
              <a:ext cx="142920" cy="142920"/>
            </a:xfrm>
            <a:custGeom>
              <a:avLst/>
              <a:gdLst>
                <a:gd name="textAreaLeft" fmla="*/ 53640 w 142920"/>
                <a:gd name="textAreaRight" fmla="*/ 89280 w 142920"/>
                <a:gd name="textAreaTop" fmla="*/ 53640 h 142920"/>
                <a:gd name="textAreaBottom" fmla="*/ 89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900000">
              <a:off x="900000" y="3284640"/>
              <a:ext cx="139320" cy="139320"/>
            </a:xfrm>
            <a:custGeom>
              <a:avLst/>
              <a:gdLst>
                <a:gd name="textAreaLeft" fmla="*/ 55440 w 139320"/>
                <a:gd name="textAreaRight" fmla="*/ 83880 w 139320"/>
                <a:gd name="textAreaTop" fmla="*/ 55440 h 139320"/>
                <a:gd name="textAreaBottom" fmla="*/ 83880 h 13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465000" y="2969640"/>
            <a:ext cx="199800" cy="199800"/>
            <a:chOff x="3465000" y="2969640"/>
            <a:chExt cx="199800" cy="199800"/>
          </a:xfrm>
        </p:grpSpPr>
        <p:sp>
          <p:nvSpPr>
            <p:cNvPr id="127" name=""/>
            <p:cNvSpPr/>
            <p:nvPr/>
          </p:nvSpPr>
          <p:spPr>
            <a:xfrm rot="3419400">
              <a:off x="3492720" y="2997000"/>
              <a:ext cx="144360" cy="14472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720"/>
                <a:gd name="textAreaBottom" fmla="*/ 9036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900000">
              <a:off x="3492000" y="2997360"/>
              <a:ext cx="141120" cy="140760"/>
            </a:xfrm>
            <a:custGeom>
              <a:avLst/>
              <a:gdLst>
                <a:gd name="textAreaLeft" fmla="*/ 56160 w 141120"/>
                <a:gd name="textAreaRight" fmla="*/ 84960 w 14112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510880" y="3359880"/>
            <a:ext cx="498240" cy="498600"/>
            <a:chOff x="5510880" y="3359880"/>
            <a:chExt cx="498240" cy="498600"/>
          </a:xfrm>
        </p:grpSpPr>
        <p:sp>
          <p:nvSpPr>
            <p:cNvPr id="130" name=""/>
            <p:cNvSpPr/>
            <p:nvPr/>
          </p:nvSpPr>
          <p:spPr>
            <a:xfrm rot="3419400">
              <a:off x="5579640" y="3428640"/>
              <a:ext cx="360360" cy="360360"/>
            </a:xfrm>
            <a:custGeom>
              <a:avLst/>
              <a:gdLst>
                <a:gd name="textAreaLeft" fmla="*/ 135360 w 360360"/>
                <a:gd name="textAreaRight" fmla="*/ 225000 w 360360"/>
                <a:gd name="textAreaTop" fmla="*/ 135360 h 360360"/>
                <a:gd name="textAreaBottom" fmla="*/ 225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900000">
              <a:off x="5580000" y="3428640"/>
              <a:ext cx="351360" cy="351360"/>
            </a:xfrm>
            <a:custGeom>
              <a:avLst/>
              <a:gdLst>
                <a:gd name="textAreaLeft" fmla="*/ 140040 w 351360"/>
                <a:gd name="textAreaRight" fmla="*/ 211320 w 351360"/>
                <a:gd name="textAreaTop" fmla="*/ 140040 h 351360"/>
                <a:gd name="textAreaBottom" fmla="*/ 211320 h 35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e7c7c">
                    <a:alpha val="80000"/>
                  </a:srgbClr>
                </a:gs>
                <a:gs pos="100000">
                  <a:srgbClr val="cfb4b1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409920" y="2193840"/>
            <a:ext cx="597240" cy="597240"/>
            <a:chOff x="3409920" y="2193840"/>
            <a:chExt cx="597240" cy="597240"/>
          </a:xfrm>
        </p:grpSpPr>
        <p:sp>
          <p:nvSpPr>
            <p:cNvPr id="133" name=""/>
            <p:cNvSpPr/>
            <p:nvPr/>
          </p:nvSpPr>
          <p:spPr>
            <a:xfrm rot="3419400">
              <a:off x="3492360" y="2276280"/>
              <a:ext cx="431640" cy="432000"/>
            </a:xfrm>
            <a:custGeom>
              <a:avLst/>
              <a:gdLst>
                <a:gd name="textAreaLeft" fmla="*/ 162360 w 431640"/>
                <a:gd name="textAreaRight" fmla="*/ 269280 w 431640"/>
                <a:gd name="textAreaTop" fmla="*/ 162360 h 432000"/>
                <a:gd name="textAreaBottom" fmla="*/ 2696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900000">
              <a:off x="3492000" y="2276640"/>
              <a:ext cx="420840" cy="420480"/>
            </a:xfrm>
            <a:custGeom>
              <a:avLst/>
              <a:gdLst>
                <a:gd name="textAreaLeft" fmla="*/ 167760 w 420840"/>
                <a:gd name="textAreaRight" fmla="*/ 253080 w 420840"/>
                <a:gd name="textAreaTop" fmla="*/ 167760 h 420480"/>
                <a:gd name="textAreaBottom" fmla="*/ 25272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49360" y="2680560"/>
            <a:ext cx="199440" cy="199800"/>
            <a:chOff x="6849360" y="2680560"/>
            <a:chExt cx="199440" cy="199800"/>
          </a:xfrm>
        </p:grpSpPr>
        <p:sp>
          <p:nvSpPr>
            <p:cNvPr id="136" name=""/>
            <p:cNvSpPr/>
            <p:nvPr/>
          </p:nvSpPr>
          <p:spPr>
            <a:xfrm rot="3419400">
              <a:off x="6876720" y="2707920"/>
              <a:ext cx="144360" cy="14436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900000">
              <a:off x="6876720" y="2707920"/>
              <a:ext cx="140760" cy="14076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324920" y="2760840"/>
            <a:ext cx="101160" cy="101160"/>
            <a:chOff x="7324920" y="2760840"/>
            <a:chExt cx="101160" cy="101160"/>
          </a:xfrm>
        </p:grpSpPr>
        <p:sp>
          <p:nvSpPr>
            <p:cNvPr id="139" name=""/>
            <p:cNvSpPr/>
            <p:nvPr/>
          </p:nvSpPr>
          <p:spPr>
            <a:xfrm rot="3419400">
              <a:off x="7338600" y="2774520"/>
              <a:ext cx="73080" cy="73080"/>
            </a:xfrm>
            <a:custGeom>
              <a:avLst/>
              <a:gdLst>
                <a:gd name="textAreaLeft" fmla="*/ 27360 w 73080"/>
                <a:gd name="textAreaRight" fmla="*/ 45720 w 73080"/>
                <a:gd name="textAreaTop" fmla="*/ 27360 h 73080"/>
                <a:gd name="textAreaBottom" fmla="*/ 4572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900000">
              <a:off x="7338960" y="2774880"/>
              <a:ext cx="71280" cy="71280"/>
            </a:xfrm>
            <a:custGeom>
              <a:avLst/>
              <a:gdLst>
                <a:gd name="textAreaLeft" fmla="*/ 28440 w 71280"/>
                <a:gd name="textAreaRight" fmla="*/ 42840 w 71280"/>
                <a:gd name="textAreaTop" fmla="*/ 28440 h 71280"/>
                <a:gd name="textAreaBottom" fmla="*/ 428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999920" y="3185280"/>
            <a:ext cx="199800" cy="200160"/>
            <a:chOff x="7999920" y="3185280"/>
            <a:chExt cx="199800" cy="200160"/>
          </a:xfrm>
        </p:grpSpPr>
        <p:sp>
          <p:nvSpPr>
            <p:cNvPr id="142" name=""/>
            <p:cNvSpPr/>
            <p:nvPr/>
          </p:nvSpPr>
          <p:spPr>
            <a:xfrm rot="3419400">
              <a:off x="8027280" y="3213000"/>
              <a:ext cx="144720" cy="144360"/>
            </a:xfrm>
            <a:custGeom>
              <a:avLst/>
              <a:gdLst>
                <a:gd name="textAreaLeft" fmla="*/ 54360 w 144720"/>
                <a:gd name="textAreaRight" fmla="*/ 90360 w 14472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900000">
              <a:off x="8027640" y="3212640"/>
              <a:ext cx="140760" cy="14112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1120"/>
                <a:gd name="textAreaBottom" fmla="*/ 849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065000" y="3472560"/>
            <a:ext cx="199800" cy="200160"/>
            <a:chOff x="7065000" y="3472560"/>
            <a:chExt cx="199800" cy="200160"/>
          </a:xfrm>
        </p:grpSpPr>
        <p:sp>
          <p:nvSpPr>
            <p:cNvPr id="145" name=""/>
            <p:cNvSpPr/>
            <p:nvPr/>
          </p:nvSpPr>
          <p:spPr>
            <a:xfrm rot="3419400">
              <a:off x="7092360" y="3500280"/>
              <a:ext cx="144720" cy="144360"/>
            </a:xfrm>
            <a:custGeom>
              <a:avLst/>
              <a:gdLst>
                <a:gd name="textAreaLeft" fmla="*/ 54360 w 144720"/>
                <a:gd name="textAreaRight" fmla="*/ 90360 w 14472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900000">
              <a:off x="7092720" y="3499920"/>
              <a:ext cx="140760" cy="14112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1120"/>
                <a:gd name="textAreaBottom" fmla="*/ 849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777720" y="1456920"/>
            <a:ext cx="197640" cy="197640"/>
            <a:chOff x="6777720" y="1456920"/>
            <a:chExt cx="197640" cy="197640"/>
          </a:xfrm>
        </p:grpSpPr>
        <p:sp>
          <p:nvSpPr>
            <p:cNvPr id="148" name=""/>
            <p:cNvSpPr/>
            <p:nvPr/>
          </p:nvSpPr>
          <p:spPr>
            <a:xfrm rot="3419400">
              <a:off x="6805080" y="1484280"/>
              <a:ext cx="142920" cy="142920"/>
            </a:xfrm>
            <a:custGeom>
              <a:avLst/>
              <a:gdLst>
                <a:gd name="textAreaLeft" fmla="*/ 53640 w 142920"/>
                <a:gd name="textAreaRight" fmla="*/ 89280 w 142920"/>
                <a:gd name="textAreaTop" fmla="*/ 53640 h 142920"/>
                <a:gd name="textAreaBottom" fmla="*/ 89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900000">
              <a:off x="6805440" y="1484280"/>
              <a:ext cx="139320" cy="139320"/>
            </a:xfrm>
            <a:custGeom>
              <a:avLst/>
              <a:gdLst>
                <a:gd name="textAreaLeft" fmla="*/ 55440 w 139320"/>
                <a:gd name="textAreaRight" fmla="*/ 83880 w 139320"/>
                <a:gd name="textAreaTop" fmla="*/ 55440 h 139320"/>
                <a:gd name="textAreaBottom" fmla="*/ 83880 h 13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986600" y="2450880"/>
            <a:ext cx="298800" cy="298800"/>
            <a:chOff x="7986600" y="2450880"/>
            <a:chExt cx="298800" cy="298800"/>
          </a:xfrm>
        </p:grpSpPr>
        <p:sp>
          <p:nvSpPr>
            <p:cNvPr id="151" name=""/>
            <p:cNvSpPr/>
            <p:nvPr/>
          </p:nvSpPr>
          <p:spPr>
            <a:xfrm rot="3419400">
              <a:off x="8027640" y="2492280"/>
              <a:ext cx="216000" cy="216000"/>
            </a:xfrm>
            <a:custGeom>
              <a:avLst/>
              <a:gdLst>
                <a:gd name="textAreaLeft" fmla="*/ 81360 w 216000"/>
                <a:gd name="textAreaRight" fmla="*/ 134640 w 216000"/>
                <a:gd name="textAreaTop" fmla="*/ 81360 h 216000"/>
                <a:gd name="textAreaBottom" fmla="*/ 13464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900000">
              <a:off x="8028000" y="2491920"/>
              <a:ext cx="210600" cy="210600"/>
            </a:xfrm>
            <a:custGeom>
              <a:avLst/>
              <a:gdLst>
                <a:gd name="textAreaLeft" fmla="*/ 83880 w 210600"/>
                <a:gd name="textAreaRight" fmla="*/ 126720 w 210600"/>
                <a:gd name="textAreaTop" fmla="*/ 83880 h 210600"/>
                <a:gd name="textAreaBottom" fmla="*/ 126720 h 21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145000" y="4338000"/>
            <a:ext cx="199800" cy="199800"/>
            <a:chOff x="8145000" y="4338000"/>
            <a:chExt cx="199800" cy="199800"/>
          </a:xfrm>
        </p:grpSpPr>
        <p:sp>
          <p:nvSpPr>
            <p:cNvPr id="154" name=""/>
            <p:cNvSpPr/>
            <p:nvPr/>
          </p:nvSpPr>
          <p:spPr>
            <a:xfrm rot="3419400">
              <a:off x="8172720" y="4365360"/>
              <a:ext cx="144360" cy="14472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720"/>
                <a:gd name="textAreaBottom" fmla="*/ 9036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900000">
              <a:off x="8172000" y="4365720"/>
              <a:ext cx="141120" cy="140760"/>
            </a:xfrm>
            <a:custGeom>
              <a:avLst/>
              <a:gdLst>
                <a:gd name="textAreaLeft" fmla="*/ 56160 w 141120"/>
                <a:gd name="textAreaRight" fmla="*/ 84960 w 14112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8634240" y="723600"/>
            <a:ext cx="298800" cy="298800"/>
            <a:chOff x="8634240" y="723600"/>
            <a:chExt cx="298800" cy="298800"/>
          </a:xfrm>
        </p:grpSpPr>
        <p:sp>
          <p:nvSpPr>
            <p:cNvPr id="157" name=""/>
            <p:cNvSpPr/>
            <p:nvPr/>
          </p:nvSpPr>
          <p:spPr>
            <a:xfrm rot="3419400">
              <a:off x="8675280" y="765000"/>
              <a:ext cx="216000" cy="216000"/>
            </a:xfrm>
            <a:custGeom>
              <a:avLst/>
              <a:gdLst>
                <a:gd name="textAreaLeft" fmla="*/ 81360 w 216000"/>
                <a:gd name="textAreaRight" fmla="*/ 134640 w 216000"/>
                <a:gd name="textAreaTop" fmla="*/ 81360 h 216000"/>
                <a:gd name="textAreaBottom" fmla="*/ 13464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900000">
              <a:off x="8675640" y="764640"/>
              <a:ext cx="210600" cy="210600"/>
            </a:xfrm>
            <a:custGeom>
              <a:avLst/>
              <a:gdLst>
                <a:gd name="textAreaLeft" fmla="*/ 83880 w 210600"/>
                <a:gd name="textAreaRight" fmla="*/ 126720 w 210600"/>
                <a:gd name="textAreaTop" fmla="*/ 83880 h 210600"/>
                <a:gd name="textAreaBottom" fmla="*/ 126720 h 21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8863920" y="3401280"/>
            <a:ext cx="199440" cy="199800"/>
            <a:chOff x="8863920" y="3401280"/>
            <a:chExt cx="199440" cy="199800"/>
          </a:xfrm>
        </p:grpSpPr>
        <p:sp>
          <p:nvSpPr>
            <p:cNvPr id="160" name=""/>
            <p:cNvSpPr/>
            <p:nvPr/>
          </p:nvSpPr>
          <p:spPr>
            <a:xfrm rot="3419400">
              <a:off x="8891280" y="3428640"/>
              <a:ext cx="144360" cy="14436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900000">
              <a:off x="8891280" y="3428640"/>
              <a:ext cx="140760" cy="14076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56840" y="537840"/>
            <a:ext cx="597600" cy="597600"/>
            <a:chOff x="456840" y="537840"/>
            <a:chExt cx="597600" cy="597600"/>
          </a:xfrm>
        </p:grpSpPr>
        <p:sp>
          <p:nvSpPr>
            <p:cNvPr id="163" name=""/>
            <p:cNvSpPr/>
            <p:nvPr/>
          </p:nvSpPr>
          <p:spPr>
            <a:xfrm rot="3419400">
              <a:off x="539280" y="620640"/>
              <a:ext cx="432000" cy="432000"/>
            </a:xfrm>
            <a:custGeom>
              <a:avLst/>
              <a:gdLst>
                <a:gd name="textAreaLeft" fmla="*/ 162360 w 432000"/>
                <a:gd name="textAreaRight" fmla="*/ 269640 w 432000"/>
                <a:gd name="textAreaTop" fmla="*/ 162360 h 432000"/>
                <a:gd name="textAreaBottom" fmla="*/ 2696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900000">
              <a:off x="539280" y="620640"/>
              <a:ext cx="420840" cy="420840"/>
            </a:xfrm>
            <a:custGeom>
              <a:avLst/>
              <a:gdLst>
                <a:gd name="textAreaLeft" fmla="*/ 167760 w 420840"/>
                <a:gd name="textAreaRight" fmla="*/ 253080 w 420840"/>
                <a:gd name="textAreaTop" fmla="*/ 167760 h 420840"/>
                <a:gd name="textAreaBottom" fmla="*/ 253080 h 42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cc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158120" y="2248920"/>
            <a:ext cx="199440" cy="199800"/>
            <a:chOff x="1158120" y="2248920"/>
            <a:chExt cx="199440" cy="199800"/>
          </a:xfrm>
        </p:grpSpPr>
        <p:sp>
          <p:nvSpPr>
            <p:cNvPr id="166" name=""/>
            <p:cNvSpPr/>
            <p:nvPr/>
          </p:nvSpPr>
          <p:spPr>
            <a:xfrm rot="3419400">
              <a:off x="1185480" y="2276280"/>
              <a:ext cx="144360" cy="14436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>
                    <a:alpha val="52156"/>
                  </a:srgbClr>
                </a:gs>
                <a:gs pos="100000">
                  <a:srgbClr val="ff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900000">
              <a:off x="1185480" y="2276280"/>
              <a:ext cx="140760" cy="14076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>
                    <a:alpha val="80000"/>
                  </a:srgbClr>
                </a:gs>
                <a:gs pos="100000">
                  <a:srgbClr val="ff3300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96640" y="2393640"/>
            <a:ext cx="197280" cy="197640"/>
            <a:chOff x="296640" y="2393640"/>
            <a:chExt cx="197280" cy="197640"/>
          </a:xfrm>
        </p:grpSpPr>
        <p:sp>
          <p:nvSpPr>
            <p:cNvPr id="169" name=""/>
            <p:cNvSpPr/>
            <p:nvPr/>
          </p:nvSpPr>
          <p:spPr>
            <a:xfrm rot="3419400">
              <a:off x="323640" y="2421000"/>
              <a:ext cx="142920" cy="142560"/>
            </a:xfrm>
            <a:custGeom>
              <a:avLst/>
              <a:gdLst>
                <a:gd name="textAreaLeft" fmla="*/ 53640 w 142920"/>
                <a:gd name="textAreaRight" fmla="*/ 89280 w 142920"/>
                <a:gd name="textAreaTop" fmla="*/ 53640 h 142560"/>
                <a:gd name="textAreaBottom" fmla="*/ 88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900000">
              <a:off x="324000" y="2421000"/>
              <a:ext cx="138960" cy="139320"/>
            </a:xfrm>
            <a:custGeom>
              <a:avLst/>
              <a:gdLst>
                <a:gd name="textAreaLeft" fmla="*/ 55440 w 138960"/>
                <a:gd name="textAreaRight" fmla="*/ 83520 w 138960"/>
                <a:gd name="textAreaTop" fmla="*/ 55440 h 139320"/>
                <a:gd name="textAreaBottom" fmla="*/ 83880 h 13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 rot="3518400">
            <a:off x="7218360" y="-202212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3518400">
            <a:off x="7291080" y="-1734840"/>
            <a:ext cx="36360" cy="1008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3518400">
            <a:off x="3617640" y="-1663560"/>
            <a:ext cx="36360" cy="1008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3518400">
            <a:off x="9234360" y="-195084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3518400">
            <a:off x="10421640" y="-1734840"/>
            <a:ext cx="36360" cy="1008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3247800">
            <a:off x="10296360" y="367920"/>
            <a:ext cx="7128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21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3518400">
            <a:off x="10926720" y="-65232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60930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0f3977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7720" y="105264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星星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模板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7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7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7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4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44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17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17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17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6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6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2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2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32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7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7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7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9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4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36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3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2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42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2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4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4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4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7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7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7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7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7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7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42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2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42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9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32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6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7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7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7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3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34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2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2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2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34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7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7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7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3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3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7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390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69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34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4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25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3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15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33333E-006 L -0.79132 0.66922 E">
                                      <p:cBhvr>
                                        <p:cTn id="238" dur="17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7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6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48148E-006 L -0.88212 0.76366 E">
                                      <p:cBhvr>
                                        <p:cTn id="243" dur="16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49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.55556E-007 1.85185E-006 L -0.62205 0.51088 E">
                                      <p:cBhvr>
                                        <p:cTn id="248" dur="14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14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38778E-017 L -1.01181 0.98426 E">
                                      <p:cBhvr>
                                        <p:cTn id="253" dur="13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1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8148E-006 L -0.73229 0.64746 E">
                                      <p:cBhvr>
                                        <p:cTn id="258" dur="18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1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3333E-006 L -0.56684 0.56181 E">
                                      <p:cBhvr>
                                        <p:cTn id="263" dur="9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9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7 L -0.7323 0.64745 E">
                                      <p:cBhvr>
                                        <p:cTn id="268" dur="13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f397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f397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1:15:00Z</dcterms:modified>
  <cp:revision>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