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F65E-BF05-4747-833A-EE97630B7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DE95-A436-4E25-9796-38853D855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21FC-417A-474F-A3A3-20B930FEC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2CA1-D851-4530-B537-3CF4F9B47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8A90-5E46-4754-8C0D-7A55AA6E6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1A77-031F-4A13-ADB6-65408B206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57EF-1903-41B0-B02B-83DD8F557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F6E2-176A-48A2-BBCC-8C741AB21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E58E-65D6-42C4-AA27-53B27CD53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C36C-B10D-45B8-8737-D90A512A6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56F4-0FB4-4829-B738-50493734A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DE1E-7D0C-47E5-8514-380ADE407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6969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三级管理人员竞聘稿</a:t>
            </a:r>
            <a:endParaRPr b="0" lang="en-US" sz="12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88000" y="6548040"/>
            <a:ext cx="2438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P </a:t>
            </a:r>
            <a:fld id="{D57D7E74-B081-4DE4-9376-CFCEF848954D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53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2453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1749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b174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4d9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b174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b174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b1749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74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b17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53b2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2453b2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b174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b174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b1749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74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b1749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b1749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174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qiy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655308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205000"/>
            <a:ext cx="669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3862440"/>
            <a:ext cx="42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59120" y="2349360"/>
            <a:ext cx="3382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  <a:ea typeface="宋体"/>
              </a:rPr>
              <a:t>移动公司</a:t>
            </a:r>
            <a:r>
              <a:rPr b="0" lang="zh-CN" sz="45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en-US" sz="45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5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48360" y="7761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 Black"/>
                <a:ea typeface="宋体"/>
              </a:rPr>
              <a:t>A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18464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  <a:ea typeface="宋体"/>
              </a:rPr>
              <a:t>B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29275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  <a:ea typeface="宋体"/>
              </a:rPr>
              <a:t>C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7080" y="8841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个人情况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46920" y="11923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3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765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 Black"/>
                <a:ea typeface="宋体"/>
              </a:rPr>
              <a:t>A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60480"/>
            <a:ext cx="4033800" cy="658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48360" y="38955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  <a:ea typeface="宋体"/>
              </a:rPr>
              <a:t>D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490392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b1749"/>
                </a:solidFill>
                <a:latin typeface="Arial Black"/>
                <a:ea typeface="宋体"/>
              </a:rPr>
              <a:t>E</a:t>
            </a:r>
            <a:endParaRPr b="0" lang="en-US" sz="5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77080" y="2001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经历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6920" y="230976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4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77080" y="31161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业绩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6920" y="34243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05</a:t>
            </a:r>
            <a:r>
              <a:rPr b="0" lang="zh-CN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～</a:t>
            </a: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4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77080" y="4017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竞聘优势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46920" y="432576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5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77080" y="502596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黑体"/>
                <a:ea typeface="黑体"/>
              </a:rPr>
              <a:t>工作思路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46920" y="53341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6</a:t>
            </a:r>
            <a:r>
              <a:rPr b="0" lang="zh-CN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～</a:t>
            </a:r>
            <a:r>
              <a:rPr b="0" lang="en-US" sz="1400" spc="-1" strike="noStrike">
                <a:solidFill>
                  <a:srgbClr val="808080"/>
                </a:solidFill>
                <a:latin typeface="MS PGothic"/>
                <a:ea typeface="MS PGothic"/>
              </a:rPr>
              <a:t>P17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C22D-72CF-4447-8954-7992EC000C52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1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2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2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3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3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4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82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3,121,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4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155736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Black"/>
                <a:ea typeface="宋体"/>
              </a:rPr>
              <a:t>B</a:t>
            </a:r>
            <a:endParaRPr b="0" lang="en-US" sz="72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61080" y="2036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细黑"/>
                <a:ea typeface="华文细黑"/>
              </a:rPr>
              <a:t>工作经历</a:t>
            </a:r>
            <a:endParaRPr b="0" lang="en-US" sz="2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9080" y="24764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1749"/>
                </a:solidFill>
                <a:latin typeface="MS PGothic"/>
                <a:ea typeface="MS PGothic"/>
              </a:rPr>
              <a:t>P05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492280"/>
            <a:ext cx="4427640" cy="0"/>
          </a:xfrm>
          <a:prstGeom prst="line">
            <a:avLst/>
          </a:prstGeom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8720" y="62064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d798f"/>
                </a:solidFill>
                <a:uFillTx/>
                <a:latin typeface="Arial"/>
                <a:hlinkClick r:id="rId1"/>
              </a:rPr>
              <a:t>企业ppt模板</a:t>
            </a:r>
            <a:r>
              <a:rPr b="0" lang="en-US" sz="1800" spc="-1" strike="noStrike">
                <a:solidFill>
                  <a:srgbClr val="0b1749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235D-2533-4D24-AB71-64809492BEE1}" type="slidenum">
              <a:t>3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453b2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2453b2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4d798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b174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b1749"/>
              </a:solidFill>
              <a:latin typeface="Verdan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b17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3F2D-018E-4520-8E71-1BF74B726D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4200" y="23508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工作思路－－我对管理者角色认知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836640"/>
            <a:ext cx="8604000" cy="0"/>
          </a:xfrm>
          <a:prstGeom prst="line">
            <a:avLst/>
          </a:prstGeom>
          <a:ln w="127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60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宋体"/>
              </a:rPr>
              <a:t>E1</a:t>
            </a:r>
            <a:endParaRPr b="0" lang="en-US" sz="2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252360"/>
            <a:ext cx="0" cy="43992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83520" y="39600"/>
            <a:ext cx="1536480" cy="652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451640" y="7300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宋体"/>
              </a:rPr>
              <a:t>Zhougang‘s works</a:t>
            </a:r>
            <a:endParaRPr b="0" lang="en-US" sz="800" spc="-1" strike="noStrike">
              <a:solidFill>
                <a:srgbClr val="0b174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2200" y="2590920"/>
            <a:ext cx="2736720" cy="2206080"/>
            <a:chOff x="322200" y="2590920"/>
            <a:chExt cx="2736720" cy="2206080"/>
          </a:xfrm>
        </p:grpSpPr>
        <p:sp>
          <p:nvSpPr>
            <p:cNvPr id="116" name="Freeform 75"/>
            <p:cNvSpPr/>
            <p:nvPr/>
          </p:nvSpPr>
          <p:spPr>
            <a:xfrm>
              <a:off x="322200" y="4439880"/>
              <a:ext cx="2736720" cy="357120"/>
            </a:xfrm>
            <a:prstGeom prst="pi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7" name="Freeform 77"/>
            <p:cNvSpPr/>
            <p:nvPr/>
          </p:nvSpPr>
          <p:spPr>
            <a:xfrm>
              <a:off x="2371680" y="3868560"/>
              <a:ext cx="606240" cy="883800"/>
            </a:xfrm>
            <a:prstGeom prst="pi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4865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8" name="Freeform 78"/>
            <p:cNvSpPr/>
            <p:nvPr/>
          </p:nvSpPr>
          <p:spPr>
            <a:xfrm>
              <a:off x="723960" y="3862080"/>
              <a:ext cx="1828800" cy="239400"/>
            </a:xfrm>
            <a:prstGeom prst="pie">
              <a:avLst/>
            </a:prstGeom>
            <a:gradFill rotWithShape="0">
              <a:gsLst>
                <a:gs pos="0">
                  <a:srgbClr val="304355"/>
                </a:gs>
                <a:gs pos="100000">
                  <a:srgbClr val="6a93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19" name="Freeform 79"/>
            <p:cNvSpPr/>
            <p:nvPr/>
          </p:nvSpPr>
          <p:spPr>
            <a:xfrm>
              <a:off x="371520" y="4084560"/>
              <a:ext cx="2365200" cy="644040"/>
            </a:xfrm>
            <a:prstGeom prst="pi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bcce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0" name="Freeform 80"/>
            <p:cNvSpPr/>
            <p:nvPr/>
          </p:nvSpPr>
          <p:spPr>
            <a:xfrm>
              <a:off x="1965240" y="3225600"/>
              <a:ext cx="520560" cy="767880"/>
            </a:xfrm>
            <a:prstGeom prst="pi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4e72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1" name="Freeform 81"/>
            <p:cNvSpPr/>
            <p:nvPr/>
          </p:nvSpPr>
          <p:spPr>
            <a:xfrm>
              <a:off x="1143000" y="3225600"/>
              <a:ext cx="911160" cy="115560"/>
            </a:xfrm>
            <a:prstGeom prst="pie">
              <a:avLst/>
            </a:prstGeom>
            <a:gradFill rotWithShape="0">
              <a:gsLst>
                <a:gs pos="0">
                  <a:srgbClr val="365011"/>
                </a:gs>
                <a:gs pos="100000">
                  <a:srgbClr val="77ae2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784080" y="3339720"/>
              <a:ext cx="1540080" cy="653760"/>
            </a:xfrm>
            <a:prstGeom prst="pi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a7ca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3" name="Freeform 83"/>
            <p:cNvSpPr/>
            <p:nvPr/>
          </p:nvSpPr>
          <p:spPr>
            <a:xfrm>
              <a:off x="1550880" y="2590920"/>
              <a:ext cx="439920" cy="649080"/>
            </a:xfrm>
            <a:prstGeom prst="pi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4561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4" name="Freeform 84"/>
            <p:cNvSpPr/>
            <p:nvPr/>
          </p:nvSpPr>
          <p:spPr>
            <a:xfrm>
              <a:off x="1192320" y="2590920"/>
              <a:ext cx="715680" cy="649080"/>
            </a:xfrm>
            <a:prstGeom prst="pie">
              <a:avLst/>
            </a:prstGeom>
            <a:gradFill rotWithShape="0">
              <a:gsLst>
                <a:gs pos="0">
                  <a:srgbClr val="6a93bc"/>
                </a:gs>
                <a:gs pos="100000">
                  <a:srgbClr val="b7cad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5" name="Text Box 85"/>
            <p:cNvSpPr/>
            <p:nvPr/>
          </p:nvSpPr>
          <p:spPr>
            <a:xfrm>
              <a:off x="1212840" y="293040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61616"/>
                  </a:solidFill>
                  <a:latin typeface="Arial"/>
                  <a:ea typeface="黑体"/>
                </a:rPr>
                <a:t>决策层</a:t>
              </a:r>
              <a:endParaRPr b="0" lang="en-US" sz="12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6" name="Text Box 86"/>
            <p:cNvSpPr/>
            <p:nvPr/>
          </p:nvSpPr>
          <p:spPr>
            <a:xfrm>
              <a:off x="917640" y="3498480"/>
              <a:ext cx="11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61616"/>
                  </a:solidFill>
                  <a:latin typeface="Arial"/>
                  <a:ea typeface="黑体"/>
                </a:rPr>
                <a:t>管理层</a:t>
              </a:r>
              <a:endParaRPr b="0" lang="en-US" sz="20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27" name="Text Box 87"/>
            <p:cNvSpPr/>
            <p:nvPr/>
          </p:nvSpPr>
          <p:spPr>
            <a:xfrm>
              <a:off x="907920" y="4103280"/>
              <a:ext cx="146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61616"/>
                  </a:solidFill>
                  <a:latin typeface="Arial"/>
                  <a:ea typeface="黑体"/>
                </a:rPr>
                <a:t>执行层</a:t>
              </a:r>
              <a:endParaRPr b="0" lang="en-US" sz="32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068560" y="3213000"/>
            <a:ext cx="1855800" cy="576360"/>
            <a:chOff x="2068560" y="3213000"/>
            <a:chExt cx="1855800" cy="576360"/>
          </a:xfrm>
        </p:grpSpPr>
        <p:sp>
          <p:nvSpPr>
            <p:cNvPr id="129" name=""/>
            <p:cNvSpPr/>
            <p:nvPr/>
          </p:nvSpPr>
          <p:spPr>
            <a:xfrm>
              <a:off x="2068560" y="3213000"/>
              <a:ext cx="185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84360" y="378936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43280" y="3355920"/>
              <a:ext cx="719280" cy="360360"/>
            </a:xfrm>
            <a:custGeom>
              <a:avLst/>
              <a:gdLst>
                <a:gd name="textAreaLeft" fmla="*/ 112320 w 719280"/>
                <a:gd name="textAreaRight" fmla="*/ 629640 w 7192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924360" y="5877000"/>
            <a:ext cx="467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1197000"/>
            <a:ext cx="4678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1197000"/>
            <a:ext cx="0" cy="467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04360" y="1197000"/>
            <a:ext cx="0" cy="467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3213000"/>
            <a:ext cx="14436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b174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572000" y="1773360"/>
            <a:ext cx="3311640" cy="3487320"/>
            <a:chOff x="4572000" y="1773360"/>
            <a:chExt cx="3311640" cy="3487320"/>
          </a:xfrm>
        </p:grpSpPr>
        <p:grpSp>
          <p:nvGrpSpPr>
            <p:cNvPr id="138" name=""/>
            <p:cNvGrpSpPr/>
            <p:nvPr/>
          </p:nvGrpSpPr>
          <p:grpSpPr>
            <a:xfrm>
              <a:off x="4591080" y="1806480"/>
              <a:ext cx="485640" cy="485280"/>
              <a:chOff x="4591080" y="1806480"/>
              <a:chExt cx="485640" cy="485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591080" y="180648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50840" y="188676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91080" y="204912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219640" y="177336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组织角色转变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572000" y="2525400"/>
              <a:ext cx="485640" cy="485280"/>
              <a:chOff x="4572000" y="2525400"/>
              <a:chExt cx="485640" cy="485280"/>
            </a:xfrm>
          </p:grpSpPr>
          <p:sp>
            <p:nvSpPr>
              <p:cNvPr id="144" name=""/>
              <p:cNvSpPr/>
              <p:nvPr/>
            </p:nvSpPr>
            <p:spPr>
              <a:xfrm>
                <a:off x="4572000" y="2525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31760" y="2605680"/>
                <a:ext cx="182520" cy="32436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572000" y="276804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572000" y="3317760"/>
              <a:ext cx="485640" cy="485280"/>
              <a:chOff x="4572000" y="3317760"/>
              <a:chExt cx="485640" cy="48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4572000" y="331776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31760" y="339804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72000" y="3560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572000" y="4038480"/>
              <a:ext cx="485640" cy="485280"/>
              <a:chOff x="4572000" y="4038480"/>
              <a:chExt cx="485640" cy="485280"/>
            </a:xfrm>
          </p:grpSpPr>
          <p:sp>
            <p:nvSpPr>
              <p:cNvPr id="152" name=""/>
              <p:cNvSpPr/>
              <p:nvPr/>
            </p:nvSpPr>
            <p:spPr>
              <a:xfrm>
                <a:off x="4572000" y="403848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31760" y="4118760"/>
                <a:ext cx="182520" cy="32400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72000" y="428112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572000" y="4757400"/>
              <a:ext cx="485640" cy="485280"/>
              <a:chOff x="4572000" y="4757400"/>
              <a:chExt cx="485640" cy="485280"/>
            </a:xfrm>
          </p:grpSpPr>
          <p:sp>
            <p:nvSpPr>
              <p:cNvPr id="156" name=""/>
              <p:cNvSpPr/>
              <p:nvPr/>
            </p:nvSpPr>
            <p:spPr>
              <a:xfrm>
                <a:off x="4572000" y="475740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0"/>
                    </a:moveTo>
                    <a:lnTo>
                      <a:pt x="246" y="5"/>
                    </a:lnTo>
                    <a:lnTo>
                      <a:pt x="285" y="17"/>
                    </a:lnTo>
                    <a:lnTo>
                      <a:pt x="319" y="36"/>
                    </a:lnTo>
                    <a:lnTo>
                      <a:pt x="349" y="60"/>
                    </a:lnTo>
                    <a:lnTo>
                      <a:pt x="375" y="92"/>
                    </a:lnTo>
                    <a:lnTo>
                      <a:pt x="393" y="126"/>
                    </a:lnTo>
                    <a:lnTo>
                      <a:pt x="405" y="164"/>
                    </a:lnTo>
                    <a:lnTo>
                      <a:pt x="409" y="206"/>
                    </a:lnTo>
                    <a:lnTo>
                      <a:pt x="409" y="207"/>
                    </a:lnTo>
                    <a:lnTo>
                      <a:pt x="409" y="207"/>
                    </a:lnTo>
                    <a:lnTo>
                      <a:pt x="358" y="207"/>
                    </a:lnTo>
                    <a:lnTo>
                      <a:pt x="270" y="69"/>
                    </a:lnTo>
                    <a:lnTo>
                      <a:pt x="270" y="108"/>
                    </a:lnTo>
                    <a:lnTo>
                      <a:pt x="204" y="108"/>
                    </a:lnTo>
                    <a:lnTo>
                      <a:pt x="204" y="42"/>
                    </a:lnTo>
                    <a:lnTo>
                      <a:pt x="168" y="47"/>
                    </a:lnTo>
                    <a:lnTo>
                      <a:pt x="133" y="59"/>
                    </a:lnTo>
                    <a:lnTo>
                      <a:pt x="102" y="78"/>
                    </a:lnTo>
                    <a:lnTo>
                      <a:pt x="78" y="104"/>
                    </a:lnTo>
                    <a:lnTo>
                      <a:pt x="58" y="134"/>
                    </a:lnTo>
                    <a:lnTo>
                      <a:pt x="46" y="168"/>
                    </a:lnTo>
                    <a:lnTo>
                      <a:pt x="42" y="206"/>
                    </a:lnTo>
                    <a:lnTo>
                      <a:pt x="42" y="207"/>
                    </a:lnTo>
                    <a:lnTo>
                      <a:pt x="42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6"/>
                    </a:lnTo>
                    <a:lnTo>
                      <a:pt x="3" y="164"/>
                    </a:lnTo>
                    <a:lnTo>
                      <a:pt x="15" y="126"/>
                    </a:lnTo>
                    <a:lnTo>
                      <a:pt x="34" y="92"/>
                    </a:lnTo>
                    <a:lnTo>
                      <a:pt x="60" y="60"/>
                    </a:lnTo>
                    <a:lnTo>
                      <a:pt x="90" y="36"/>
                    </a:lnTo>
                    <a:lnTo>
                      <a:pt x="124" y="17"/>
                    </a:lnTo>
                    <a:lnTo>
                      <a:pt x="163" y="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31760" y="4837680"/>
                <a:ext cx="182520" cy="324360"/>
              </a:xfrm>
              <a:custGeom>
                <a:avLst/>
                <a:gdLst/>
                <a:ahLst/>
                <a:rect l="l" t="t" r="r" b="b"/>
                <a:pathLst>
                  <a:path w="153" h="276">
                    <a:moveTo>
                      <a:pt x="88" y="276"/>
                    </a:moveTo>
                    <a:lnTo>
                      <a:pt x="88" y="237"/>
                    </a:lnTo>
                    <a:lnTo>
                      <a:pt x="153" y="237"/>
                    </a:lnTo>
                    <a:lnTo>
                      <a:pt x="153" y="39"/>
                    </a:lnTo>
                    <a:lnTo>
                      <a:pt x="88" y="39"/>
                    </a:lnTo>
                    <a:lnTo>
                      <a:pt x="88" y="0"/>
                    </a:lnTo>
                    <a:lnTo>
                      <a:pt x="0" y="138"/>
                    </a:lnTo>
                    <a:lnTo>
                      <a:pt x="88" y="27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5000040"/>
                <a:ext cx="485640" cy="242640"/>
              </a:xfrm>
              <a:custGeom>
                <a:avLst/>
                <a:gdLst/>
                <a:ahLst/>
                <a:rect l="l" t="t" r="r" b="b"/>
                <a:pathLst>
                  <a:path w="409" h="207">
                    <a:moveTo>
                      <a:pt x="204" y="207"/>
                    </a:moveTo>
                    <a:lnTo>
                      <a:pt x="246" y="203"/>
                    </a:lnTo>
                    <a:lnTo>
                      <a:pt x="285" y="191"/>
                    </a:lnTo>
                    <a:lnTo>
                      <a:pt x="319" y="173"/>
                    </a:lnTo>
                    <a:lnTo>
                      <a:pt x="349" y="147"/>
                    </a:lnTo>
                    <a:lnTo>
                      <a:pt x="375" y="117"/>
                    </a:lnTo>
                    <a:lnTo>
                      <a:pt x="393" y="83"/>
                    </a:lnTo>
                    <a:lnTo>
                      <a:pt x="405" y="44"/>
                    </a:lnTo>
                    <a:lnTo>
                      <a:pt x="409" y="2"/>
                    </a:lnTo>
                    <a:lnTo>
                      <a:pt x="409" y="2"/>
                    </a:lnTo>
                    <a:lnTo>
                      <a:pt x="409" y="0"/>
                    </a:lnTo>
                    <a:lnTo>
                      <a:pt x="358" y="0"/>
                    </a:lnTo>
                    <a:lnTo>
                      <a:pt x="270" y="138"/>
                    </a:lnTo>
                    <a:lnTo>
                      <a:pt x="270" y="99"/>
                    </a:lnTo>
                    <a:lnTo>
                      <a:pt x="204" y="99"/>
                    </a:lnTo>
                    <a:lnTo>
                      <a:pt x="204" y="165"/>
                    </a:lnTo>
                    <a:lnTo>
                      <a:pt x="168" y="161"/>
                    </a:lnTo>
                    <a:lnTo>
                      <a:pt x="133" y="149"/>
                    </a:lnTo>
                    <a:lnTo>
                      <a:pt x="102" y="129"/>
                    </a:lnTo>
                    <a:lnTo>
                      <a:pt x="78" y="104"/>
                    </a:lnTo>
                    <a:lnTo>
                      <a:pt x="58" y="74"/>
                    </a:lnTo>
                    <a:lnTo>
                      <a:pt x="46" y="39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4"/>
                    </a:lnTo>
                    <a:lnTo>
                      <a:pt x="15" y="83"/>
                    </a:lnTo>
                    <a:lnTo>
                      <a:pt x="34" y="117"/>
                    </a:lnTo>
                    <a:lnTo>
                      <a:pt x="60" y="147"/>
                    </a:lnTo>
                    <a:lnTo>
                      <a:pt x="90" y="173"/>
                    </a:lnTo>
                    <a:lnTo>
                      <a:pt x="124" y="191"/>
                    </a:lnTo>
                    <a:lnTo>
                      <a:pt x="163" y="203"/>
                    </a:lnTo>
                    <a:lnTo>
                      <a:pt x="204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f8f8f8"/>
                </a:solidFill>
              </a:ln>
              <a:effectLst>
                <a:outerShdw dist="17819" dir="2700000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5219640" y="249228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职能职责转变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19640" y="328428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工作技能转变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19640" y="401940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评价标准转变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9640" y="4740120"/>
              <a:ext cx="266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自我实现转变</a:t>
              </a:r>
              <a:endParaRPr b="0" lang="en-US" sz="28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1916280"/>
            <a:ext cx="3455640" cy="3209400"/>
            <a:chOff x="4572000" y="1916280"/>
            <a:chExt cx="3455640" cy="3209400"/>
          </a:xfrm>
        </p:grpSpPr>
        <p:grpSp>
          <p:nvGrpSpPr>
            <p:cNvPr id="164" name=""/>
            <p:cNvGrpSpPr/>
            <p:nvPr/>
          </p:nvGrpSpPr>
          <p:grpSpPr>
            <a:xfrm>
              <a:off x="4572000" y="1946520"/>
              <a:ext cx="456840" cy="477360"/>
              <a:chOff x="4572000" y="1946520"/>
              <a:chExt cx="456840" cy="477360"/>
            </a:xfrm>
          </p:grpSpPr>
          <p:sp>
            <p:nvSpPr>
              <p:cNvPr id="165" name=""/>
              <p:cNvSpPr/>
              <p:nvPr/>
            </p:nvSpPr>
            <p:spPr>
              <a:xfrm>
                <a:off x="4572000" y="194652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88280" y="209700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572000" y="2757240"/>
              <a:ext cx="456840" cy="477360"/>
              <a:chOff x="4572000" y="2757240"/>
              <a:chExt cx="456840" cy="477360"/>
            </a:xfrm>
          </p:grpSpPr>
          <p:sp>
            <p:nvSpPr>
              <p:cNvPr id="168" name=""/>
              <p:cNvSpPr/>
              <p:nvPr/>
            </p:nvSpPr>
            <p:spPr>
              <a:xfrm>
                <a:off x="4572000" y="275724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88280" y="290772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08000" y="3790080"/>
              <a:ext cx="456840" cy="477360"/>
              <a:chOff x="4608000" y="3790080"/>
              <a:chExt cx="456840" cy="477360"/>
            </a:xfrm>
          </p:grpSpPr>
          <p:sp>
            <p:nvSpPr>
              <p:cNvPr id="171" name=""/>
              <p:cNvSpPr/>
              <p:nvPr/>
            </p:nvSpPr>
            <p:spPr>
              <a:xfrm>
                <a:off x="4608000" y="379008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724280" y="394056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655160" y="4648320"/>
              <a:ext cx="456840" cy="477360"/>
              <a:chOff x="4655160" y="4648320"/>
              <a:chExt cx="456840" cy="477360"/>
            </a:xfrm>
          </p:grpSpPr>
          <p:sp>
            <p:nvSpPr>
              <p:cNvPr id="174" name=""/>
              <p:cNvSpPr/>
              <p:nvPr/>
            </p:nvSpPr>
            <p:spPr>
              <a:xfrm>
                <a:off x="4655160" y="4648320"/>
                <a:ext cx="456840" cy="477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170" y="0"/>
                    </a:moveTo>
                    <a:lnTo>
                      <a:pt x="131" y="5"/>
                    </a:lnTo>
                    <a:lnTo>
                      <a:pt x="95" y="17"/>
                    </a:lnTo>
                    <a:lnTo>
                      <a:pt x="63" y="38"/>
                    </a:lnTo>
                    <a:lnTo>
                      <a:pt x="38" y="63"/>
                    </a:lnTo>
                    <a:lnTo>
                      <a:pt x="18" y="95"/>
                    </a:lnTo>
                    <a:lnTo>
                      <a:pt x="5" y="131"/>
                    </a:lnTo>
                    <a:lnTo>
                      <a:pt x="0" y="170"/>
                    </a:lnTo>
                    <a:lnTo>
                      <a:pt x="5" y="209"/>
                    </a:lnTo>
                    <a:lnTo>
                      <a:pt x="18" y="245"/>
                    </a:lnTo>
                    <a:lnTo>
                      <a:pt x="38" y="276"/>
                    </a:lnTo>
                    <a:lnTo>
                      <a:pt x="63" y="302"/>
                    </a:lnTo>
                    <a:lnTo>
                      <a:pt x="95" y="323"/>
                    </a:lnTo>
                    <a:lnTo>
                      <a:pt x="131" y="335"/>
                    </a:lnTo>
                    <a:lnTo>
                      <a:pt x="170" y="339"/>
                    </a:lnTo>
                    <a:lnTo>
                      <a:pt x="209" y="335"/>
                    </a:lnTo>
                    <a:lnTo>
                      <a:pt x="245" y="323"/>
                    </a:lnTo>
                    <a:lnTo>
                      <a:pt x="276" y="302"/>
                    </a:lnTo>
                    <a:lnTo>
                      <a:pt x="303" y="276"/>
                    </a:lnTo>
                    <a:lnTo>
                      <a:pt x="323" y="245"/>
                    </a:lnTo>
                    <a:lnTo>
                      <a:pt x="335" y="209"/>
                    </a:lnTo>
                    <a:lnTo>
                      <a:pt x="339" y="170"/>
                    </a:lnTo>
                    <a:lnTo>
                      <a:pt x="335" y="131"/>
                    </a:lnTo>
                    <a:lnTo>
                      <a:pt x="323" y="95"/>
                    </a:lnTo>
                    <a:lnTo>
                      <a:pt x="303" y="63"/>
                    </a:lnTo>
                    <a:lnTo>
                      <a:pt x="276" y="38"/>
                    </a:lnTo>
                    <a:lnTo>
                      <a:pt x="245" y="17"/>
                    </a:lnTo>
                    <a:lnTo>
                      <a:pt x="209" y="5"/>
                    </a:lnTo>
                    <a:lnTo>
                      <a:pt x="170" y="0"/>
                    </a:lnTo>
                    <a:close/>
                    <a:moveTo>
                      <a:pt x="170" y="294"/>
                    </a:moveTo>
                    <a:lnTo>
                      <a:pt x="137" y="291"/>
                    </a:lnTo>
                    <a:lnTo>
                      <a:pt x="107" y="278"/>
                    </a:lnTo>
                    <a:lnTo>
                      <a:pt x="81" y="258"/>
                    </a:lnTo>
                    <a:lnTo>
                      <a:pt x="62" y="233"/>
                    </a:lnTo>
                    <a:lnTo>
                      <a:pt x="50" y="203"/>
                    </a:lnTo>
                    <a:lnTo>
                      <a:pt x="45" y="170"/>
                    </a:lnTo>
                    <a:lnTo>
                      <a:pt x="50" y="137"/>
                    </a:lnTo>
                    <a:lnTo>
                      <a:pt x="62" y="107"/>
                    </a:lnTo>
                    <a:lnTo>
                      <a:pt x="81" y="81"/>
                    </a:lnTo>
                    <a:lnTo>
                      <a:pt x="107" y="62"/>
                    </a:lnTo>
                    <a:lnTo>
                      <a:pt x="137" y="48"/>
                    </a:lnTo>
                    <a:lnTo>
                      <a:pt x="170" y="44"/>
                    </a:lnTo>
                    <a:lnTo>
                      <a:pt x="203" y="48"/>
                    </a:lnTo>
                    <a:lnTo>
                      <a:pt x="233" y="62"/>
                    </a:lnTo>
                    <a:lnTo>
                      <a:pt x="258" y="81"/>
                    </a:lnTo>
                    <a:lnTo>
                      <a:pt x="278" y="107"/>
                    </a:lnTo>
                    <a:lnTo>
                      <a:pt x="291" y="137"/>
                    </a:lnTo>
                    <a:lnTo>
                      <a:pt x="296" y="170"/>
                    </a:lnTo>
                    <a:lnTo>
                      <a:pt x="291" y="203"/>
                    </a:lnTo>
                    <a:lnTo>
                      <a:pt x="278" y="233"/>
                    </a:lnTo>
                    <a:lnTo>
                      <a:pt x="258" y="258"/>
                    </a:lnTo>
                    <a:lnTo>
                      <a:pt x="233" y="278"/>
                    </a:lnTo>
                    <a:lnTo>
                      <a:pt x="203" y="291"/>
                    </a:lnTo>
                    <a:lnTo>
                      <a:pt x="170" y="2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71440" y="4798800"/>
                <a:ext cx="225000" cy="221400"/>
              </a:xfrm>
              <a:custGeom>
                <a:avLst/>
                <a:gdLst/>
                <a:ahLst/>
                <a:rect l="l" t="t" r="r" b="b"/>
                <a:pathLst>
                  <a:path w="168" h="157">
                    <a:moveTo>
                      <a:pt x="0" y="76"/>
                    </a:moveTo>
                    <a:lnTo>
                      <a:pt x="12" y="76"/>
                    </a:lnTo>
                    <a:lnTo>
                      <a:pt x="18" y="97"/>
                    </a:lnTo>
                    <a:lnTo>
                      <a:pt x="30" y="114"/>
                    </a:lnTo>
                    <a:lnTo>
                      <a:pt x="43" y="126"/>
                    </a:lnTo>
                    <a:lnTo>
                      <a:pt x="63" y="132"/>
                    </a:lnTo>
                    <a:lnTo>
                      <a:pt x="84" y="135"/>
                    </a:lnTo>
                    <a:lnTo>
                      <a:pt x="106" y="132"/>
                    </a:lnTo>
                    <a:lnTo>
                      <a:pt x="124" y="126"/>
                    </a:lnTo>
                    <a:lnTo>
                      <a:pt x="139" y="114"/>
                    </a:lnTo>
                    <a:lnTo>
                      <a:pt x="150" y="97"/>
                    </a:lnTo>
                    <a:lnTo>
                      <a:pt x="157" y="76"/>
                    </a:lnTo>
                    <a:lnTo>
                      <a:pt x="168" y="76"/>
                    </a:lnTo>
                    <a:lnTo>
                      <a:pt x="163" y="100"/>
                    </a:lnTo>
                    <a:lnTo>
                      <a:pt x="154" y="120"/>
                    </a:lnTo>
                    <a:lnTo>
                      <a:pt x="142" y="136"/>
                    </a:lnTo>
                    <a:lnTo>
                      <a:pt x="126" y="148"/>
                    </a:lnTo>
                    <a:lnTo>
                      <a:pt x="106" y="156"/>
                    </a:lnTo>
                    <a:lnTo>
                      <a:pt x="84" y="157"/>
                    </a:lnTo>
                    <a:lnTo>
                      <a:pt x="61" y="156"/>
                    </a:lnTo>
                    <a:lnTo>
                      <a:pt x="43" y="148"/>
                    </a:lnTo>
                    <a:lnTo>
                      <a:pt x="27" y="136"/>
                    </a:lnTo>
                    <a:lnTo>
                      <a:pt x="13" y="120"/>
                    </a:lnTo>
                    <a:lnTo>
                      <a:pt x="4" y="100"/>
                    </a:lnTo>
                    <a:lnTo>
                      <a:pt x="0" y="76"/>
                    </a:lnTo>
                    <a:close/>
                    <a:moveTo>
                      <a:pt x="39" y="45"/>
                    </a:moveTo>
                    <a:lnTo>
                      <a:pt x="33" y="45"/>
                    </a:lnTo>
                    <a:lnTo>
                      <a:pt x="27" y="42"/>
                    </a:lnTo>
                    <a:lnTo>
                      <a:pt x="22" y="39"/>
                    </a:lnTo>
                    <a:lnTo>
                      <a:pt x="19" y="34"/>
                    </a:lnTo>
                    <a:lnTo>
                      <a:pt x="16" y="28"/>
                    </a:lnTo>
                    <a:lnTo>
                      <a:pt x="16" y="22"/>
                    </a:lnTo>
                    <a:lnTo>
                      <a:pt x="16" y="16"/>
                    </a:lnTo>
                    <a:lnTo>
                      <a:pt x="19" y="12"/>
                    </a:lnTo>
                    <a:lnTo>
                      <a:pt x="22" y="6"/>
                    </a:lnTo>
                    <a:lnTo>
                      <a:pt x="27" y="3"/>
                    </a:lnTo>
                    <a:lnTo>
                      <a:pt x="33" y="1"/>
                    </a:lnTo>
                    <a:lnTo>
                      <a:pt x="39" y="0"/>
                    </a:lnTo>
                    <a:lnTo>
                      <a:pt x="45" y="1"/>
                    </a:lnTo>
                    <a:lnTo>
                      <a:pt x="49" y="3"/>
                    </a:lnTo>
                    <a:lnTo>
                      <a:pt x="55" y="6"/>
                    </a:lnTo>
                    <a:lnTo>
                      <a:pt x="58" y="12"/>
                    </a:lnTo>
                    <a:lnTo>
                      <a:pt x="61" y="16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8" y="34"/>
                    </a:lnTo>
                    <a:lnTo>
                      <a:pt x="55" y="39"/>
                    </a:lnTo>
                    <a:lnTo>
                      <a:pt x="49" y="42"/>
                    </a:lnTo>
                    <a:lnTo>
                      <a:pt x="45" y="45"/>
                    </a:lnTo>
                    <a:lnTo>
                      <a:pt x="39" y="45"/>
                    </a:lnTo>
                    <a:close/>
                    <a:moveTo>
                      <a:pt x="130" y="45"/>
                    </a:moveTo>
                    <a:lnTo>
                      <a:pt x="124" y="45"/>
                    </a:lnTo>
                    <a:lnTo>
                      <a:pt x="118" y="42"/>
                    </a:lnTo>
                    <a:lnTo>
                      <a:pt x="114" y="39"/>
                    </a:lnTo>
                    <a:lnTo>
                      <a:pt x="109" y="34"/>
                    </a:lnTo>
                    <a:lnTo>
                      <a:pt x="108" y="28"/>
                    </a:lnTo>
                    <a:lnTo>
                      <a:pt x="106" y="22"/>
                    </a:lnTo>
                    <a:lnTo>
                      <a:pt x="108" y="16"/>
                    </a:lnTo>
                    <a:lnTo>
                      <a:pt x="109" y="12"/>
                    </a:lnTo>
                    <a:lnTo>
                      <a:pt x="114" y="6"/>
                    </a:lnTo>
                    <a:lnTo>
                      <a:pt x="118" y="3"/>
                    </a:lnTo>
                    <a:lnTo>
                      <a:pt x="124" y="1"/>
                    </a:lnTo>
                    <a:lnTo>
                      <a:pt x="130" y="0"/>
                    </a:lnTo>
                    <a:lnTo>
                      <a:pt x="136" y="1"/>
                    </a:lnTo>
                    <a:lnTo>
                      <a:pt x="141" y="3"/>
                    </a:lnTo>
                    <a:lnTo>
                      <a:pt x="145" y="6"/>
                    </a:lnTo>
                    <a:lnTo>
                      <a:pt x="150" y="12"/>
                    </a:lnTo>
                    <a:lnTo>
                      <a:pt x="151" y="16"/>
                    </a:lnTo>
                    <a:lnTo>
                      <a:pt x="153" y="22"/>
                    </a:lnTo>
                    <a:lnTo>
                      <a:pt x="151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1" y="42"/>
                    </a:lnTo>
                    <a:lnTo>
                      <a:pt x="136" y="45"/>
                    </a:lnTo>
                    <a:lnTo>
                      <a:pt x="130" y="4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b1749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5395320" y="1916280"/>
              <a:ext cx="263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助手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5320" y="2719440"/>
              <a:ext cx="164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参谋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5320" y="3752280"/>
              <a:ext cx="255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联络官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95320" y="4610520"/>
              <a:ext cx="255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服务者</a:t>
              </a:r>
              <a:endParaRPr b="0" lang="en-US" sz="2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632480" y="1413000"/>
            <a:ext cx="3252240" cy="4247280"/>
            <a:chOff x="4632480" y="1413000"/>
            <a:chExt cx="3252240" cy="4247280"/>
          </a:xfrm>
        </p:grpSpPr>
        <p:sp>
          <p:nvSpPr>
            <p:cNvPr id="181" name=""/>
            <p:cNvSpPr/>
            <p:nvPr/>
          </p:nvSpPr>
          <p:spPr>
            <a:xfrm>
              <a:off x="4632480" y="1945080"/>
              <a:ext cx="3252240" cy="3218400"/>
            </a:xfrm>
            <a:prstGeom prst="ellipse">
              <a:avLst/>
            </a:prstGeom>
            <a:noFill/>
            <a:ln cap="rnd" w="28440">
              <a:solidFill>
                <a:srgbClr val="2453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b1749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733640" y="2070000"/>
              <a:ext cx="2992680" cy="2991600"/>
              <a:chOff x="4733640" y="2070000"/>
              <a:chExt cx="2992680" cy="29916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5620680" y="2070000"/>
                <a:ext cx="1218240" cy="995760"/>
                <a:chOff x="5620680" y="2070000"/>
                <a:chExt cx="1218240" cy="9957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5620680" y="2070000"/>
                  <a:ext cx="1218240" cy="995760"/>
                  <a:chOff x="5620680" y="2070000"/>
                  <a:chExt cx="1218240" cy="9957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630760" y="208656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620680" y="207000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691240" y="212868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2614aa"/>
                      </a:gs>
                      <a:gs pos="100000">
                        <a:srgbClr val="7262ec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" name=""/>
                <p:cNvSpPr/>
                <p:nvPr/>
              </p:nvSpPr>
              <p:spPr>
                <a:xfrm>
                  <a:off x="6031800" y="23868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沉稳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733640" y="2566440"/>
                <a:ext cx="1219320" cy="995760"/>
                <a:chOff x="4733640" y="2566440"/>
                <a:chExt cx="1219320" cy="9957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4733640" y="2566440"/>
                  <a:ext cx="1219320" cy="995760"/>
                  <a:chOff x="4733640" y="2566440"/>
                  <a:chExt cx="1219320" cy="9957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4743720" y="258300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733640" y="256644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804200" y="262512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115d16"/>
                      </a:gs>
                      <a:gs pos="100000">
                        <a:srgbClr val="24b443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5153760" y="28789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细心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5620680" y="3066120"/>
                <a:ext cx="1218240" cy="995760"/>
                <a:chOff x="5620680" y="3066120"/>
                <a:chExt cx="1218240" cy="99576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5620680" y="3066120"/>
                  <a:ext cx="1218240" cy="995760"/>
                  <a:chOff x="5620680" y="3066120"/>
                  <a:chExt cx="1218240" cy="99576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5630760" y="308268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620680" y="306612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5691240" y="312480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44820"/>
                      </a:gs>
                      <a:gs pos="100000">
                        <a:srgbClr val="cc7032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>
                  <a:off x="6010920" y="33901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担当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507000" y="2566440"/>
                <a:ext cx="1219320" cy="995760"/>
                <a:chOff x="6507000" y="2566440"/>
                <a:chExt cx="1219320" cy="9957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6507000" y="2566440"/>
                  <a:ext cx="1219320" cy="995760"/>
                  <a:chOff x="6507000" y="2566440"/>
                  <a:chExt cx="1219320" cy="9957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6517080" y="258300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507000" y="256644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77560" y="262512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5b9c3"/>
                      </a:gs>
                      <a:gs pos="100000">
                        <a:srgbClr val="3d5559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" name=""/>
                <p:cNvSpPr/>
                <p:nvPr/>
              </p:nvSpPr>
              <p:spPr>
                <a:xfrm>
                  <a:off x="6927120" y="28915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大度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507000" y="3566160"/>
                <a:ext cx="1219320" cy="995760"/>
                <a:chOff x="6507000" y="3566160"/>
                <a:chExt cx="1219320" cy="995760"/>
              </a:xfrm>
            </p:grpSpPr>
            <p:grpSp>
              <p:nvGrpSpPr>
                <p:cNvPr id="208" name=""/>
                <p:cNvGrpSpPr/>
                <p:nvPr/>
              </p:nvGrpSpPr>
              <p:grpSpPr>
                <a:xfrm>
                  <a:off x="6507000" y="3566160"/>
                  <a:ext cx="1219320" cy="995760"/>
                  <a:chOff x="6507000" y="3566160"/>
                  <a:chExt cx="1219320" cy="9957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6517080" y="358272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507000" y="356616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577560" y="362484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4dc9b1"/>
                      </a:gs>
                      <a:gs pos="100000">
                        <a:srgbClr val="235c51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"/>
                <p:cNvSpPr/>
                <p:nvPr/>
              </p:nvSpPr>
              <p:spPr>
                <a:xfrm>
                  <a:off x="6942960" y="392544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诚信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733640" y="3566160"/>
                <a:ext cx="1219320" cy="995760"/>
                <a:chOff x="4733640" y="3566160"/>
                <a:chExt cx="1219320" cy="99576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4733640" y="3566160"/>
                  <a:ext cx="1219320" cy="995760"/>
                  <a:chOff x="4733640" y="3566160"/>
                  <a:chExt cx="1219320" cy="9957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4743720" y="3582720"/>
                    <a:ext cx="1209240" cy="979200"/>
                  </a:xfrm>
                  <a:prstGeom prst="hexagon">
                    <a:avLst>
                      <a:gd name="adj" fmla="val 30873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733640" y="3566160"/>
                    <a:ext cx="1208880" cy="979200"/>
                  </a:xfrm>
                  <a:prstGeom prst="hexagon">
                    <a:avLst>
                      <a:gd name="adj" fmla="val 3086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804200" y="3624840"/>
                    <a:ext cx="1062720" cy="861120"/>
                  </a:xfrm>
                  <a:prstGeom prst="hexagon">
                    <a:avLst>
                      <a:gd name="adj" fmla="val 3085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>
                  <a:off x="5153760" y="38754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胆识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620680" y="4065840"/>
                <a:ext cx="1218240" cy="995760"/>
                <a:chOff x="5620680" y="4065840"/>
                <a:chExt cx="1218240" cy="99576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5620680" y="4065840"/>
                  <a:ext cx="1218240" cy="995760"/>
                  <a:chOff x="5620680" y="4065840"/>
                  <a:chExt cx="1218240" cy="99576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5630760" y="4082400"/>
                    <a:ext cx="1208160" cy="979200"/>
                  </a:xfrm>
                  <a:prstGeom prst="hexagon">
                    <a:avLst>
                      <a:gd name="adj" fmla="val 30846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5620680" y="4065840"/>
                    <a:ext cx="1207800" cy="979200"/>
                  </a:xfrm>
                  <a:prstGeom prst="hexagon">
                    <a:avLst>
                      <a:gd name="adj" fmla="val 30836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5691240" y="4124520"/>
                    <a:ext cx="1061640" cy="861120"/>
                  </a:xfrm>
                  <a:prstGeom prst="hexagon">
                    <a:avLst>
                      <a:gd name="adj" fmla="val 30821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bfaa4f"/>
                      </a:gs>
                      <a:gs pos="100000">
                        <a:srgbClr val="584e24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b174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6035040" y="439092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积极</a:t>
                  </a:r>
                  <a:endParaRPr b="0" lang="en-US" sz="1400" spc="-1" strike="noStrike">
                    <a:solidFill>
                      <a:srgbClr val="0b174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" name=""/>
            <p:cNvSpPr/>
            <p:nvPr/>
          </p:nvSpPr>
          <p:spPr>
            <a:xfrm>
              <a:off x="5043600" y="1413000"/>
              <a:ext cx="2333520" cy="40392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4d798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4d798f"/>
                  </a:solidFill>
                  <a:latin typeface="Arial"/>
                  <a:ea typeface="宋体"/>
                </a:rPr>
                <a:t>塑造管理者的性格魅力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43600" y="5256360"/>
              <a:ext cx="2333520" cy="40392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4d798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4d798f"/>
                  </a:solidFill>
                  <a:latin typeface="Arial"/>
                  <a:ea typeface="宋体"/>
                </a:rPr>
                <a:t>在工作中实现自我提升</a:t>
              </a:r>
              <a:endParaRPr b="0" lang="en-US" sz="1400" spc="-1" strike="noStrike">
                <a:solidFill>
                  <a:srgbClr val="0b174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9CF0-5C1B-4B0C-B466-B1F3AE424854}" type="slidenum">
              <a:t>5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280" y="6553080"/>
            <a:ext cx="2438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2494080"/>
            <a:ext cx="6697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谢 谢</a:t>
            </a:r>
            <a:endParaRPr b="0" lang="en-US" sz="44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00720" y="656892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E-mail</a:t>
            </a:r>
            <a:r>
              <a:rPr b="0" lang="zh-CN" sz="10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zhougang@hl.chinamobile.com</a:t>
            </a:r>
            <a:endParaRPr b="0" lang="en-US" sz="1000" spc="-1" strike="noStrike">
              <a:solidFill>
                <a:srgbClr val="0b174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3862440"/>
            <a:ext cx="42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月日</a:t>
            </a:r>
            <a:endParaRPr b="0" lang="en-US" sz="2400" spc="-1" strike="noStrike">
              <a:solidFill>
                <a:srgbClr val="0b174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1:14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3:00Z</dcterms:modified>
  <cp:revision>14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