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829A-6108-4E60-9BFC-589B18B2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B9D4-D042-4D66-B399-6D3A055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C74E-D186-4141-99F7-2118F7C0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C3BC-F733-4581-BD80-73E1E27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FFE2-BC86-49EF-9510-A1EDACE5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0560" y="289080"/>
            <a:ext cx="80866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C2A2-E45D-4CB9-A853-78BD7420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954B-7C62-4BC0-A87B-31D34A85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B36B-FD1E-4273-8AA4-C41089DF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C8B6-5435-4904-A9AE-21450B32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E2E1-2F1C-4E33-8874-F03ADC7B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B894-978A-4F86-9BFD-81699241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AA15-FB91-4387-ADDB-5F5CA2E7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560" y="289080"/>
            <a:ext cx="80866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世博会0204-1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2" descr="世博会0204-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5"/>
          <p:cNvSpPr/>
          <p:nvPr/>
        </p:nvSpPr>
        <p:spPr>
          <a:xfrm>
            <a:off x="71280" y="5300640"/>
            <a:ext cx="176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1" name="Picture 17" descr="7"/>
          <p:cNvPicPr/>
          <p:nvPr/>
        </p:nvPicPr>
        <p:blipFill>
          <a:blip r:embed="rId3"/>
          <a:stretch/>
        </p:blipFill>
        <p:spPr>
          <a:xfrm>
            <a:off x="0" y="5734080"/>
            <a:ext cx="1187280" cy="1123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09D1-F109-4FFE-B115-67E9B5249360}" type="slidenum">
              <a:rPr b="0" lang="en-US" sz="14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qiye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1704960"/>
            <a:ext cx="7774200" cy="20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66840" y="4797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YYY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85" name="Picture 5" descr="7"/>
          <p:cNvPicPr/>
          <p:nvPr/>
        </p:nvPicPr>
        <p:blipFill>
          <a:blip r:embed="rId1"/>
          <a:stretch/>
        </p:blipFill>
        <p:spPr>
          <a:xfrm>
            <a:off x="3708360" y="18900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206064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黑体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黑体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"/>
          <p:cNvSpPr/>
          <p:nvPr/>
        </p:nvSpPr>
        <p:spPr>
          <a:xfrm>
            <a:off x="573480" y="836640"/>
            <a:ext cx="2822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移动公司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素材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149720"/>
            <a:ext cx="561672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黑体"/>
                <a:hlinkClick r:id="rId1"/>
              </a:rPr>
              <a:t>企业ppt模板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http://www.eeppt.com/moban/qiye/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3FC6-11D0-4922-9029-A522146D69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8:46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12:39:48Z</dcterms:modified>
  <cp:revision>10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