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E73-D8CB-42FA-B787-89020C62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B04D-41D2-4410-819F-2B6E7529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AD85-E5B9-48A7-A57D-76F9FDCF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835C-80A4-4010-B705-6D1B999F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8DB4-C4A3-46E6-BBD6-357BDB43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AE40-3EF3-4571-BDFE-288BF674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C9D4-6EA2-4327-8013-EA7BA7C1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CFB0-C9F6-4268-AEAD-21CF87CF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5B03-93A4-4275-8E5D-FB543071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A847-1FB5-4EB5-A0A9-35B1F9B0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8979-3AE8-4D3A-9FE1-FDB1F240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13C8-C39A-4ECC-9AE0-49E7DB1F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F4B0-3F47-4E50-8D7A-38AF6B2221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71720" y="549360"/>
            <a:ext cx="31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渔夫的故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26"/>
          <p:cNvSpPr/>
          <p:nvPr/>
        </p:nvSpPr>
        <p:spPr>
          <a:xfrm>
            <a:off x="228600" y="1500120"/>
            <a:ext cx="8915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魔鬼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渔夫说道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罗门已经死了一千八百年了，你是怎么钻到这个瓶子里的呢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时候渔夫想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是个魔鬼，我是个堂堂的人。我的智慧一定能压制他的妖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我非常生气，我说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今以后，谁要是来解救我，我一定要杀死他，不过准许他选择怎样死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时候，魔鬼摇身一变，变成一团青烟，逐渐缩成一缕，慢慢地钻进胆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27"/>
          <p:cNvSpPr/>
          <p:nvPr/>
        </p:nvSpPr>
        <p:spPr>
          <a:xfrm>
            <a:off x="5562720" y="18748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ff"/>
                </a:solidFill>
                <a:latin typeface="Times New Roman"/>
              </a:rPr>
              <a:t>语言描写   诚实善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28"/>
          <p:cNvSpPr/>
          <p:nvPr/>
        </p:nvSpPr>
        <p:spPr>
          <a:xfrm>
            <a:off x="5486400" y="30178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ff"/>
                </a:solidFill>
                <a:latin typeface="Times New Roman"/>
              </a:rPr>
              <a:t>心理描写      勇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30"/>
          <p:cNvSpPr/>
          <p:nvPr/>
        </p:nvSpPr>
        <p:spPr>
          <a:xfrm>
            <a:off x="5495760" y="4724280"/>
            <a:ext cx="37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ff"/>
                </a:solidFill>
                <a:latin typeface="Times New Roman"/>
              </a:rPr>
              <a:t>语言描写      凶残虚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31"/>
          <p:cNvSpPr/>
          <p:nvPr/>
        </p:nvSpPr>
        <p:spPr>
          <a:xfrm>
            <a:off x="5562720" y="61419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ff"/>
                </a:solidFill>
                <a:latin typeface="Times New Roman"/>
              </a:rPr>
              <a:t>动作描写      愚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32"/>
          <p:cNvSpPr/>
          <p:nvPr/>
        </p:nvSpPr>
        <p:spPr>
          <a:xfrm>
            <a:off x="304920" y="304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析下列各句所使用的描写方法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塑造了什么样的人物形象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rrr"/>
          <p:cNvPicPr/>
          <p:nvPr/>
        </p:nvPicPr>
        <p:blipFill>
          <a:blip r:embed="rId1"/>
          <a:stretch/>
        </p:blipFill>
        <p:spPr>
          <a:xfrm>
            <a:off x="4419720" y="1447920"/>
            <a:ext cx="4724280" cy="5410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533520" y="228600"/>
            <a:ext cx="70866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主题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 个 故 事 说 明 了 什 么 道 理 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33520" y="1752480"/>
            <a:ext cx="3429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正义力量一定能战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邪恶势力，对付魔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那样的凶恶敌人，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能抱有幻想、施加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慈，而要敢于斗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依靠自己的智慧和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量去战胜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80880" y="4952880"/>
            <a:ext cx="7391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3" descr="未标题-2"/>
          <p:cNvPicPr/>
          <p:nvPr/>
        </p:nvPicPr>
        <p:blipFill>
          <a:blip r:embed="rId1"/>
          <a:stretch/>
        </p:blipFill>
        <p:spPr>
          <a:xfrm>
            <a:off x="0" y="0"/>
            <a:ext cx="464832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未标题-3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2438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未标题-5"/>
          <p:cNvPicPr/>
          <p:nvPr/>
        </p:nvPicPr>
        <p:blipFill>
          <a:blip r:embed="rId3"/>
          <a:stretch/>
        </p:blipFill>
        <p:spPr>
          <a:xfrm>
            <a:off x="0" y="2438280"/>
            <a:ext cx="4648320" cy="1981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未标题-4"/>
          <p:cNvPicPr/>
          <p:nvPr/>
        </p:nvPicPr>
        <p:blipFill>
          <a:blip r:embed="rId4"/>
          <a:stretch/>
        </p:blipFill>
        <p:spPr>
          <a:xfrm>
            <a:off x="4648320" y="2438280"/>
            <a:ext cx="4495680" cy="1981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304920" y="4292640"/>
            <a:ext cx="88390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情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渔夫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瓶→渔夫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瓶→魔鬼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现身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→渔夫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→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魔鬼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逞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→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魔鬼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入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676520" y="4267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完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C116-5DC2-4289-8030-9BAD61347B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914400" y="2286000"/>
            <a:ext cx="5791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未标题-1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625320" y="380880"/>
            <a:ext cx="82296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物形象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【                                                            】的渔夫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【                                                            】的魔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注意：渔夫和魔鬼前后心理各发生了怎样的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082520" y="22860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463760" y="114300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诚实、善良、机智、勇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0" y="31104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463760" y="18288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凶残、愚蠢、狡猾、虚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2971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鲜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8720" y="4581360"/>
            <a:ext cx="10656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1447920" y="2583000"/>
            <a:ext cx="2438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" descr="rrr"/>
          <p:cNvPicPr/>
          <p:nvPr/>
        </p:nvPicPr>
        <p:blipFill>
          <a:blip r:embed="rId1"/>
          <a:stretch/>
        </p:blipFill>
        <p:spPr>
          <a:xfrm>
            <a:off x="4419720" y="1447920"/>
            <a:ext cx="4724280" cy="5410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533520" y="228600"/>
            <a:ext cx="70866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主题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 个 故 事 说 明 了 什 么 道 理 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3520" y="1752480"/>
            <a:ext cx="3429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正义力量一定能战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邪恶势力，对付魔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那样的凶恶敌人，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能抱有幻想、施加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慈，而要敢于斗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依靠自己的智慧和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量去战胜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057400" y="228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突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6"/>
          <p:cNvSpPr/>
          <p:nvPr/>
        </p:nvSpPr>
        <p:spPr>
          <a:xfrm>
            <a:off x="5292720" y="11415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未标题-2"/>
          <p:cNvPicPr/>
          <p:nvPr/>
        </p:nvPicPr>
        <p:blipFill>
          <a:blip r:embed="rId1"/>
          <a:stretch/>
        </p:blipFill>
        <p:spPr>
          <a:xfrm>
            <a:off x="3495600" y="0"/>
            <a:ext cx="56390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429120" y="1371600"/>
            <a:ext cx="2009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渔 夫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捞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未标题-3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597600" y="1447920"/>
            <a:ext cx="2009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渔夫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开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瓶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-485280" y="1447920"/>
            <a:ext cx="20091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魔鬼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现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身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未标题-5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581760" y="1371600"/>
            <a:ext cx="20091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魔鬼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逞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未标题-4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756440" y="1066680"/>
            <a:ext cx="2009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魔鬼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入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00520" y="1066680"/>
            <a:ext cx="20091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渔夫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投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未标题-2"/>
          <p:cNvPicPr/>
          <p:nvPr/>
        </p:nvPicPr>
        <p:blipFill>
          <a:blip r:embed="rId1"/>
          <a:stretch/>
        </p:blipFill>
        <p:spPr>
          <a:xfrm>
            <a:off x="0" y="0"/>
            <a:ext cx="4648320" cy="2895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未标题-3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2895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未标题-5"/>
          <p:cNvPicPr/>
          <p:nvPr/>
        </p:nvPicPr>
        <p:blipFill>
          <a:blip r:embed="rId3"/>
          <a:stretch/>
        </p:blipFill>
        <p:spPr>
          <a:xfrm>
            <a:off x="0" y="2895480"/>
            <a:ext cx="4648320" cy="274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未标题-4"/>
          <p:cNvPicPr/>
          <p:nvPr/>
        </p:nvPicPr>
        <p:blipFill>
          <a:blip r:embed="rId4"/>
          <a:stretch/>
        </p:blipFill>
        <p:spPr>
          <a:xfrm>
            <a:off x="4648320" y="2895480"/>
            <a:ext cx="4495680" cy="2667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5"/>
          <p:cNvSpPr/>
          <p:nvPr/>
        </p:nvSpPr>
        <p:spPr>
          <a:xfrm>
            <a:off x="0" y="502128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299880" y="4284720"/>
            <a:ext cx="883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609480" y="5699160"/>
            <a:ext cx="746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渔夫的故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8" descr="rrr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85800" y="4572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33520" y="19051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本小节用了什么修辞方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33520" y="13716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本小节采用了什么描写方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09480" y="33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3520" y="24382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本小节表现了魔鬼的什么特征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未标题-5"/>
          <p:cNvPicPr/>
          <p:nvPr/>
        </p:nvPicPr>
        <p:blipFill>
          <a:blip r:embed="rId1"/>
          <a:stretch/>
        </p:blipFill>
        <p:spPr>
          <a:xfrm>
            <a:off x="42670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533520" y="533520"/>
            <a:ext cx="37335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魔鬼头像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灯笼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腿像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铁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手像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桅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口像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堡垒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眼睛像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山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牙齿像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白石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鼻孔像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喇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样子非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凶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未标题-1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533520" y="380880"/>
            <a:ext cx="82296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物形象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【                                                            】的渔夫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【                                                            】的魔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注意：渔夫和魔鬼前后心理各发生了怎样的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990720" y="22860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9907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诚实、善良、机智、勇敢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-92160" y="31104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990720" y="18288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凶残、愚蠢、狡猾、虚伪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1T11:38:21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5-07-15T07:50:43Z</dcterms:modified>
  <cp:revision>2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