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787-DBED-4B44-AB48-61FBBDC9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EF2-1825-4607-B246-C7E8570F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0B3-6D95-40FB-81CF-CF6A3F63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A8C-A85E-4EBA-905D-A2A18A8F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3A1-A9F6-45BE-A867-F17334D8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BD6-DF5A-4C8E-B1EA-1DA1464E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CA0-84E3-44BB-A647-79BEFAD1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9EB-DDEF-41B6-A0C9-9CEBB469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3E8-1E5C-43AA-9F35-3C99DDAA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C84-8B4E-4367-8653-023C1B7A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5EE-3126-40DB-A861-B1CDC4FF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135-7DA8-461C-BF2F-23618A41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9.png"/><Relationship Id="rId16" Type="http://schemas.openxmlformats.org/officeDocument/2006/relationships/image" Target="../media/image14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1D16-B11D-4576-BFCA-CC68FEC23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1170000" cy="695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image5"/>
          <p:cNvPicPr/>
          <p:nvPr/>
        </p:nvPicPr>
        <p:blipFill>
          <a:blip r:embed="rId4"/>
          <a:stretch/>
        </p:blipFill>
        <p:spPr>
          <a:xfrm>
            <a:off x="9640800" y="0"/>
            <a:ext cx="1203480" cy="743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10801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image6"/>
          <p:cNvPicPr/>
          <p:nvPr/>
        </p:nvPicPr>
        <p:blipFill>
          <a:blip r:embed="rId6"/>
          <a:stretch/>
        </p:blipFill>
        <p:spPr>
          <a:xfrm>
            <a:off x="5465880" y="5284800"/>
            <a:ext cx="5378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12"/>
          <p:cNvGrpSpPr/>
          <p:nvPr/>
        </p:nvGrpSpPr>
        <p:grpSpPr>
          <a:xfrm>
            <a:off x="-95400" y="5958000"/>
            <a:ext cx="1326960" cy="1143000"/>
            <a:chOff x="-95400" y="5958000"/>
            <a:chExt cx="1326960" cy="1143000"/>
          </a:xfrm>
        </p:grpSpPr>
        <p:pic>
          <p:nvPicPr>
            <p:cNvPr id="10" name="Picture 13" descr="image7"/>
            <p:cNvPicPr/>
            <p:nvPr/>
          </p:nvPicPr>
          <p:blipFill>
            <a:blip r:embed="rId7"/>
            <a:stretch/>
          </p:blipFill>
          <p:spPr>
            <a:xfrm>
              <a:off x="-95400" y="5958000"/>
              <a:ext cx="13269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4" descr="image8"/>
            <p:cNvPicPr/>
            <p:nvPr/>
          </p:nvPicPr>
          <p:blipFill>
            <a:blip r:embed="rId8"/>
            <a:stretch/>
          </p:blipFill>
          <p:spPr>
            <a:xfrm>
              <a:off x="286920" y="6218280"/>
              <a:ext cx="59580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" name="Picture 15" descr="image9"/>
          <p:cNvPicPr/>
          <p:nvPr/>
        </p:nvPicPr>
        <p:blipFill>
          <a:blip r:embed="rId9"/>
          <a:stretch/>
        </p:blipFill>
        <p:spPr>
          <a:xfrm>
            <a:off x="1063800" y="6170760"/>
            <a:ext cx="2958840" cy="666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6" descr="image10"/>
          <p:cNvPicPr/>
          <p:nvPr/>
        </p:nvPicPr>
        <p:blipFill>
          <a:blip r:embed="rId10"/>
          <a:stretch/>
        </p:blipFill>
        <p:spPr>
          <a:xfrm>
            <a:off x="7101000" y="6375240"/>
            <a:ext cx="530280" cy="4384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7" descr="image11"/>
          <p:cNvPicPr/>
          <p:nvPr/>
        </p:nvPicPr>
        <p:blipFill>
          <a:blip r:embed="rId11"/>
          <a:stretch/>
        </p:blipFill>
        <p:spPr>
          <a:xfrm>
            <a:off x="6335640" y="6308640"/>
            <a:ext cx="789120" cy="47628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8" descr="image12"/>
          <p:cNvPicPr/>
          <p:nvPr/>
        </p:nvPicPr>
        <p:blipFill>
          <a:blip r:embed="rId12"/>
          <a:stretch/>
        </p:blipFill>
        <p:spPr>
          <a:xfrm>
            <a:off x="7612200" y="6165720"/>
            <a:ext cx="865080" cy="6098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9" descr="image13"/>
          <p:cNvPicPr/>
          <p:nvPr/>
        </p:nvPicPr>
        <p:blipFill>
          <a:blip r:embed="rId13"/>
          <a:stretch/>
        </p:blipFill>
        <p:spPr>
          <a:xfrm>
            <a:off x="9228240" y="5877000"/>
            <a:ext cx="225360" cy="1904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20" descr="image14"/>
          <p:cNvPicPr/>
          <p:nvPr/>
        </p:nvPicPr>
        <p:blipFill>
          <a:blip r:embed="rId14"/>
          <a:stretch/>
        </p:blipFill>
        <p:spPr>
          <a:xfrm>
            <a:off x="3700440" y="5357880"/>
            <a:ext cx="1270080" cy="10954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1" descr="image10"/>
          <p:cNvPicPr/>
          <p:nvPr/>
        </p:nvPicPr>
        <p:blipFill>
          <a:blip r:embed="rId15"/>
          <a:stretch/>
        </p:blipFill>
        <p:spPr>
          <a:xfrm>
            <a:off x="8379000" y="6308640"/>
            <a:ext cx="528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19" name="Group 24"/>
          <p:cNvGrpSpPr/>
          <p:nvPr/>
        </p:nvGrpSpPr>
        <p:grpSpPr>
          <a:xfrm>
            <a:off x="8983800" y="6157800"/>
            <a:ext cx="1282320" cy="511200"/>
            <a:chOff x="8983800" y="6157800"/>
            <a:chExt cx="1282320" cy="511200"/>
          </a:xfrm>
        </p:grpSpPr>
        <p:pic>
          <p:nvPicPr>
            <p:cNvPr id="20" name="Picture 22" descr="image2"/>
            <p:cNvPicPr/>
            <p:nvPr/>
          </p:nvPicPr>
          <p:blipFill>
            <a:blip r:embed="rId16"/>
            <a:stretch/>
          </p:blipFill>
          <p:spPr>
            <a:xfrm>
              <a:off x="8983800" y="6157800"/>
              <a:ext cx="7538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3" descr="image1"/>
            <p:cNvPicPr/>
            <p:nvPr/>
          </p:nvPicPr>
          <p:blipFill>
            <a:blip r:embed="rId17"/>
            <a:stretch/>
          </p:blipFill>
          <p:spPr>
            <a:xfrm>
              <a:off x="9737640" y="6230880"/>
              <a:ext cx="5284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30800" y="90972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4040" y="189000"/>
            <a:ext cx="9694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80" y="1269720"/>
            <a:ext cx="10547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8607600" y="333360"/>
            <a:ext cx="1641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E60-03C7-46B3-823C-54BD70F5FF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0:12:06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