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5D4-BFC1-48BE-A106-CCCACE75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C30-D63D-4369-8332-E315FD2F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681-6C41-4502-839A-A1C0B0A7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FE3-6701-438E-9996-76229B09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ED06-8729-4CBC-94BC-D78AF1E7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C58C-4842-42FD-B143-48515226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CEC3-D275-493E-AFD0-6096F209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0CA4-B9B3-4FFE-BDE1-EA50614C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AA35-C9E2-4E7B-AF23-56300A82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D103-78E8-4E9D-80AC-895FBB9F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FD6C-2D36-47ED-84E2-EF03F6AA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124-0F71-4770-95A5-C1F4A50B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E96B-DEDC-462E-AB06-58A7CAC9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0299-DAF2-4F91-97E0-19A5349A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885D-5AE2-496B-9184-9A896A8A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48BA-7BD0-491E-9F18-891F6D33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610D-74BB-4AE8-9000-E0FDE478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E267-5DED-41EC-A607-3CBB30BE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A074-C88D-41FF-A0F2-64E9B2F0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6803-1972-4E1E-B750-17DBAD2B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4E01-6644-4544-BE61-6268381A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5466-9E5D-41FA-BCB0-FB858563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86F-10BF-4F42-9025-DEFEDAF9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F0111-01EF-4426-B3A7-90E96B0D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164A-BA0A-4256-B405-395AD90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4A43-688B-4D3C-B4A4-08B45F37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84706-4295-495E-89C2-0C7D3B22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A0D4-6339-4F17-BBB8-37150BE1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700C-1CA4-498B-9142-433BBB4E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4AF8-5FED-45BD-A6D7-2965F97B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205-C4FF-4E65-AEFB-DE1C3C23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BC8-5AEE-49A8-8FF4-AD70ADA7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1BB-E052-4054-839E-251122BE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273-92E9-4C0C-9697-156DFC82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2C5-43A2-45C8-B7C3-B4FA520B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F0F-8001-466C-AEEC-E729677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C1CE-18F7-4139-BF06-2CD89C2A5D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268D-CBB1-4653-B65F-1EE7BFBBDE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3A88-7636-4589-9479-E11229891D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hyperlink" Target="http://www.eeppt.com/moban/zhongguofeng/" TargetMode="External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PPT 任务\水晶图片\抠图PNG\墨痕.png"/>
          <p:cNvPicPr/>
          <p:nvPr/>
        </p:nvPicPr>
        <p:blipFill>
          <a:blip r:embed="rId2"/>
          <a:stretch/>
        </p:blipFill>
        <p:spPr>
          <a:xfrm>
            <a:off x="539640" y="3068640"/>
            <a:ext cx="7859880" cy="1562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Soloman\Desktop\荷叶.png"/>
          <p:cNvPicPr/>
          <p:nvPr/>
        </p:nvPicPr>
        <p:blipFill>
          <a:blip r:embed="rId3"/>
          <a:srcRect l="83336" t="36378" r="2292" b="40012"/>
          <a:stretch/>
        </p:blipFill>
        <p:spPr>
          <a:xfrm>
            <a:off x="7273800" y="4630680"/>
            <a:ext cx="1906560" cy="234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tretch/>
        </p:blipFill>
        <p:spPr>
          <a:xfrm>
            <a:off x="1692360" y="1917720"/>
            <a:ext cx="5295960" cy="213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6165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24080" y="765000"/>
            <a:ext cx="30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中国风国画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:\Users\Soloman\Desktop\未标题-3.png"/>
          <p:cNvPicPr/>
          <p:nvPr/>
        </p:nvPicPr>
        <p:blipFill>
          <a:blip r:embed="rId2"/>
          <a:stretch/>
        </p:blipFill>
        <p:spPr>
          <a:xfrm rot="9305400">
            <a:off x="171000" y="1879560"/>
            <a:ext cx="3100320" cy="309888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1"/>
          <p:cNvGrpSpPr/>
          <p:nvPr/>
        </p:nvGrpSpPr>
        <p:grpSpPr>
          <a:xfrm>
            <a:off x="3276720" y="1125360"/>
            <a:ext cx="790560" cy="790920"/>
            <a:chOff x="3276720" y="1125360"/>
            <a:chExt cx="790560" cy="790920"/>
          </a:xfrm>
        </p:grpSpPr>
        <p:pic>
          <p:nvPicPr>
            <p:cNvPr id="130" name="Picture 4" descr="C:\Users\Soloman\Desktop\墨斑2.png"/>
            <p:cNvPicPr/>
            <p:nvPr/>
          </p:nvPicPr>
          <p:blipFill>
            <a:blip r:embed="rId3"/>
            <a:stretch/>
          </p:blipFill>
          <p:spPr>
            <a:xfrm>
              <a:off x="3276720" y="112536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4"/>
            <p:cNvSpPr/>
            <p:nvPr/>
          </p:nvSpPr>
          <p:spPr>
            <a:xfrm>
              <a:off x="3475440" y="125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繁赵楷"/>
                  <a:ea typeface="迷你繁赵楷"/>
                </a:rPr>
                <a:t>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2"/>
          <p:cNvGrpSpPr/>
          <p:nvPr/>
        </p:nvGrpSpPr>
        <p:grpSpPr>
          <a:xfrm>
            <a:off x="3276720" y="2060640"/>
            <a:ext cx="790560" cy="792000"/>
            <a:chOff x="3276720" y="2060640"/>
            <a:chExt cx="790560" cy="792000"/>
          </a:xfrm>
        </p:grpSpPr>
        <p:pic>
          <p:nvPicPr>
            <p:cNvPr id="133" name="Picture 4" descr="C:\Users\Soloman\Desktop\墨斑2.png"/>
            <p:cNvPicPr/>
            <p:nvPr/>
          </p:nvPicPr>
          <p:blipFill>
            <a:blip r:embed="rId4"/>
            <a:stretch/>
          </p:blipFill>
          <p:spPr>
            <a:xfrm>
              <a:off x="3276720" y="206064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12"/>
            <p:cNvSpPr/>
            <p:nvPr/>
          </p:nvSpPr>
          <p:spPr>
            <a:xfrm>
              <a:off x="3474720" y="2194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合 10"/>
          <p:cNvGrpSpPr/>
          <p:nvPr/>
        </p:nvGrpSpPr>
        <p:grpSpPr>
          <a:xfrm>
            <a:off x="3276720" y="2997360"/>
            <a:ext cx="790560" cy="792000"/>
            <a:chOff x="3276720" y="2997360"/>
            <a:chExt cx="790560" cy="792000"/>
          </a:xfrm>
        </p:grpSpPr>
        <p:pic>
          <p:nvPicPr>
            <p:cNvPr id="136" name="Picture 4" descr="C:\Users\Soloman\Desktop\墨斑2.png"/>
            <p:cNvPicPr/>
            <p:nvPr/>
          </p:nvPicPr>
          <p:blipFill>
            <a:blip r:embed="rId5"/>
            <a:stretch/>
          </p:blipFill>
          <p:spPr>
            <a:xfrm>
              <a:off x="3276720" y="299736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3"/>
            <p:cNvSpPr/>
            <p:nvPr/>
          </p:nvSpPr>
          <p:spPr>
            <a:xfrm>
              <a:off x="3474720" y="313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组合 11"/>
          <p:cNvGrpSpPr/>
          <p:nvPr/>
        </p:nvGrpSpPr>
        <p:grpSpPr>
          <a:xfrm>
            <a:off x="3276720" y="3933720"/>
            <a:ext cx="790560" cy="790560"/>
            <a:chOff x="3276720" y="3933720"/>
            <a:chExt cx="790560" cy="790560"/>
          </a:xfrm>
        </p:grpSpPr>
        <p:pic>
          <p:nvPicPr>
            <p:cNvPr id="139" name="Picture 4" descr="C:\Users\Soloman\Desktop\墨斑2.png"/>
            <p:cNvPicPr/>
            <p:nvPr/>
          </p:nvPicPr>
          <p:blipFill>
            <a:blip r:embed="rId6"/>
            <a:stretch/>
          </p:blipFill>
          <p:spPr>
            <a:xfrm>
              <a:off x="3276720" y="3933720"/>
              <a:ext cx="790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14"/>
            <p:cNvSpPr/>
            <p:nvPr/>
          </p:nvSpPr>
          <p:spPr>
            <a:xfrm>
              <a:off x="3474720" y="406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组合 16"/>
          <p:cNvGrpSpPr/>
          <p:nvPr/>
        </p:nvGrpSpPr>
        <p:grpSpPr>
          <a:xfrm>
            <a:off x="3276720" y="4869000"/>
            <a:ext cx="790560" cy="792000"/>
            <a:chOff x="3276720" y="4869000"/>
            <a:chExt cx="790560" cy="792000"/>
          </a:xfrm>
        </p:grpSpPr>
        <p:pic>
          <p:nvPicPr>
            <p:cNvPr id="142" name="Picture 4" descr="C:\Users\Soloman\Desktop\墨斑2.png"/>
            <p:cNvPicPr/>
            <p:nvPr/>
          </p:nvPicPr>
          <p:blipFill>
            <a:blip r:embed="rId7"/>
            <a:stretch/>
          </p:blipFill>
          <p:spPr>
            <a:xfrm>
              <a:off x="3276720" y="486900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15"/>
            <p:cNvSpPr/>
            <p:nvPr/>
          </p:nvSpPr>
          <p:spPr>
            <a:xfrm>
              <a:off x="3474720" y="5003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Picture 2" descr="C:\Users\Soloman\Desktop\荷叶.png"/>
          <p:cNvPicPr/>
          <p:nvPr/>
        </p:nvPicPr>
        <p:blipFill>
          <a:blip r:embed="rId8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9"/>
          <a:stretch/>
        </p:blipFill>
        <p:spPr>
          <a:xfrm>
            <a:off x="465120" y="2801880"/>
            <a:ext cx="2511360" cy="1663920"/>
          </a:xfrm>
          <a:prstGeom prst="rect">
            <a:avLst/>
          </a:prstGeom>
          <a:ln w="0">
            <a:noFill/>
          </a:ln>
        </p:spPr>
      </p:pic>
      <p:sp>
        <p:nvSpPr>
          <p:cNvPr id="146" name="页脚占位符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5877000"/>
            <a:ext cx="7689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8B04-7CDA-4D12-BC5B-F711E8C97D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oloman\Desktop\荷叶.png"/>
          <p:cNvPicPr/>
          <p:nvPr/>
        </p:nvPicPr>
        <p:blipFill>
          <a:blip r:embed="rId2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sp>
        <p:nvSpPr>
          <p:cNvPr id="152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6:35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6:00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