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EE1-B92A-4E23-86F7-19628820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960-346C-487D-8234-B489A9F2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080-EA6C-4884-A6A5-9EA59E94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47F-6670-4679-AB5E-94FE7303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119-3402-406C-BA5E-8A55A8F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FDC-4485-4A6D-935E-9A472AA7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A91-2BE3-4526-9E95-253E8A60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D98-54CC-4DB0-9303-BC8FAC59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57F-60EB-4742-ABB5-1CBC6903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48D-9FF6-488B-8039-76D3A64A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389-1736-4738-AA8A-CDA27996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589-3267-4192-837E-4E9D2BC9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BA60-DDFE-4DE5-9751-109E39DD75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F604-FCE9-4A13-9E32-CBC62DC33E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70760" y="201456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7c6e5"/>
                </a:solidFill>
                <a:latin typeface="Arial"/>
              </a:rPr>
              <a:t>总结</a:t>
            </a:r>
            <a:r>
              <a:rPr b="0" lang="en-US" sz="3200" spc="-1" strike="noStrike">
                <a:solidFill>
                  <a:srgbClr val="a7c6e5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a7c6e5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E4B-29C8-457C-AF02-9A45D2D070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10:02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