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AD82-3E03-4910-8C68-10071532D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FF4F-5C1B-4C07-B7F9-A8735253C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45B1-0121-4CE9-8982-0098CB669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41C4-EB11-45D8-9096-E44E064CC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2227-22A5-4717-9DF0-1116524DA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D47F-FD0B-4505-9F15-7189DFFE4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7E1C-8C97-4A6B-9A23-5A401075A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B7DB-A780-4700-8B04-A2BEE994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F6A6-24C3-4E20-9137-751E4EC68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162C-53DE-465C-BBA1-3FCEC623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DD3A-9E4A-42C4-A6EA-CCEF4F35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AC26-DD2C-44F9-947A-EFC93AA2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54D07-BD2C-4357-AC45-DD2838D6B0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838080" y="1386000"/>
            <a:ext cx="5943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2627280" y="3733920"/>
            <a:ext cx="354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《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晏子春秋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3817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16000" y="1052640"/>
            <a:ext cx="54738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ffffff"/>
                </a:solidFill>
                <a:latin typeface="Times New Roman"/>
              </a:rPr>
              <a:t>晏子使楚</a:t>
            </a:r>
            <a:r>
              <a:rPr b="0" lang="zh-CN" sz="45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4500" spc="-1" strike="noStrike">
                <a:solidFill>
                  <a:srgbClr val="ffffff"/>
                </a:solidFill>
                <a:latin typeface="Times New Roman"/>
              </a:rPr>
              <a:t>课件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609480" y="533520"/>
            <a:ext cx="47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333399"/>
                </a:solidFill>
                <a:uFillTx/>
                <a:latin typeface="Times New Roman"/>
                <a:ea typeface="楷体_GB2312"/>
              </a:rPr>
              <a:t>试一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533520" y="144792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、魏晋时期文学家孔融小时候很聪明。有个傲慢的大官很瞧不起他，说：“小时候聪明，大了就未必。”你知道孔融是怎么回答的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6" descr="蚱蜢"/>
          <p:cNvPicPr/>
          <p:nvPr/>
        </p:nvPicPr>
        <p:blipFill>
          <a:blip r:embed="rId1"/>
          <a:stretch/>
        </p:blipFill>
        <p:spPr>
          <a:xfrm>
            <a:off x="0" y="48006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7"/>
          <p:cNvSpPr/>
          <p:nvPr/>
        </p:nvSpPr>
        <p:spPr>
          <a:xfrm>
            <a:off x="1828800" y="44197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看来你小时侯一定很聪明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5640" y="5445000"/>
            <a:ext cx="6111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2"/>
          <p:cNvSpPr/>
          <p:nvPr/>
        </p:nvSpPr>
        <p:spPr>
          <a:xfrm>
            <a:off x="762120" y="9144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、美国记者采访周总理时问：“我们美国人走路抬头挺胸，为什么你们中国人走路老低着头？”你能替周总理回答这个问题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1447920" y="373392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因为我们走的是上坡路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4" descr="荷花"/>
          <p:cNvPicPr/>
          <p:nvPr/>
        </p:nvPicPr>
        <p:blipFill>
          <a:blip r:embed="rId1"/>
          <a:stretch/>
        </p:blipFill>
        <p:spPr>
          <a:xfrm>
            <a:off x="5715000" y="4267080"/>
            <a:ext cx="3429000" cy="25718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26"/>
          <p:cNvSpPr/>
          <p:nvPr/>
        </p:nvSpPr>
        <p:spPr>
          <a:xfrm>
            <a:off x="7400880" y="55990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3" descr="荷花"/>
          <p:cNvPicPr/>
          <p:nvPr/>
        </p:nvPicPr>
        <p:blipFill>
          <a:blip r:embed="rId1"/>
          <a:stretch/>
        </p:blipFill>
        <p:spPr>
          <a:xfrm>
            <a:off x="5715000" y="4267080"/>
            <a:ext cx="3429000" cy="25718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4"/>
          <p:cNvSpPr/>
          <p:nvPr/>
        </p:nvSpPr>
        <p:spPr>
          <a:xfrm>
            <a:off x="0" y="228600"/>
            <a:ext cx="91440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晏  子  将  使  楚。 楚王     闻        之，         谓  左右  曰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晏婴，齐  之    习     辞     者     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今    方   来，吾  欲  辱  之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何      以      也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     左右对曰：“为 其 来也，臣请        缚  一人过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而行。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王曰，何  为  者  也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  曰：齐人也。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王  曰，何           坐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曰，  坐   盗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1143000" y="6858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出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3124080" y="6858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听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4038480" y="685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代这个消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5867280" y="6858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对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…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0" y="1905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判断句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1371600" y="1905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2057400" y="1905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熟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6"/>
          <p:cNvSpPr/>
          <p:nvPr/>
        </p:nvSpPr>
        <p:spPr>
          <a:xfrm>
            <a:off x="3200400" y="19051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…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的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7"/>
          <p:cNvSpPr/>
          <p:nvPr/>
        </p:nvSpPr>
        <p:spPr>
          <a:xfrm>
            <a:off x="5181480" y="1905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将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8"/>
          <p:cNvSpPr/>
          <p:nvPr/>
        </p:nvSpPr>
        <p:spPr>
          <a:xfrm>
            <a:off x="7620120" y="1905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代晏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9"/>
          <p:cNvSpPr/>
          <p:nvPr/>
        </p:nvSpPr>
        <p:spPr>
          <a:xfrm>
            <a:off x="0" y="2895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宾语前置句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以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0"/>
          <p:cNvSpPr/>
          <p:nvPr/>
        </p:nvSpPr>
        <p:spPr>
          <a:xfrm>
            <a:off x="2514600" y="2895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回答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1"/>
          <p:cNvSpPr/>
          <p:nvPr/>
        </p:nvSpPr>
        <p:spPr>
          <a:xfrm>
            <a:off x="3809880" y="28195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è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在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2"/>
          <p:cNvSpPr/>
          <p:nvPr/>
        </p:nvSpPr>
        <p:spPr>
          <a:xfrm>
            <a:off x="5029200" y="29718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请允许干某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3"/>
          <p:cNvSpPr/>
          <p:nvPr/>
        </p:nvSpPr>
        <p:spPr>
          <a:xfrm>
            <a:off x="7467480" y="29718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4"/>
          <p:cNvSpPr/>
          <p:nvPr/>
        </p:nvSpPr>
        <p:spPr>
          <a:xfrm>
            <a:off x="0" y="39625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宾语前置句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为何  为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é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: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5"/>
          <p:cNvSpPr/>
          <p:nvPr/>
        </p:nvSpPr>
        <p:spPr>
          <a:xfrm>
            <a:off x="5181480" y="403848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宾语前置句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坐何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0"/>
          <p:cNvSpPr/>
          <p:nvPr/>
        </p:nvSpPr>
        <p:spPr>
          <a:xfrm>
            <a:off x="777240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犯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1"/>
          <p:cNvSpPr/>
          <p:nvPr/>
        </p:nvSpPr>
        <p:spPr>
          <a:xfrm>
            <a:off x="533520" y="5105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犯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2"/>
          <p:cNvSpPr/>
          <p:nvPr/>
        </p:nvSpPr>
        <p:spPr>
          <a:xfrm>
            <a:off x="0" y="571500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一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楚国君臣事前的密谋策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838080" y="38088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0" y="685800"/>
            <a:ext cx="91440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晏子至，楚王    赐    晏子酒。  酒             酣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吏二缚 一人 诣 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王曰：“缚者     曷     为  者也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对曰：“齐人也，坐   盗。”王    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晏子曰“齐人   固     善    盗乎？”晏子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避  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对曰：“婴  闻         之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橘 生   淮南  则  为  橘，生 于 淮北则为枳，叶徒相似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实味不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      以          然    者    何？   水土   异    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1828800" y="1143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cc00cc"/>
                </a:solidFill>
                <a:latin typeface="Times New Roman"/>
              </a:rPr>
              <a:t>赏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4343400" y="11430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cc00cc"/>
                </a:solidFill>
                <a:latin typeface="Times New Roman"/>
              </a:rPr>
              <a:t>喝酒喝得正高兴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693432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Times New Roman"/>
              </a:rPr>
              <a:t>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8077320" y="1143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cc00cc"/>
                </a:solidFill>
                <a:latin typeface="Times New Roman"/>
              </a:rPr>
              <a:t>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0" y="22096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Times New Roman"/>
              </a:rPr>
              <a:t>宾语前置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1828800" y="22096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Times New Roman"/>
              </a:rPr>
              <a:t>通假字</a:t>
            </a: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曷”通“何”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什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1371600" y="33526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Times New Roman"/>
              </a:rPr>
              <a:t>本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2286000" y="3352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Times New Roman"/>
              </a:rPr>
              <a:t>善于擅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4"/>
          <p:cNvSpPr/>
          <p:nvPr/>
        </p:nvSpPr>
        <p:spPr>
          <a:xfrm>
            <a:off x="4648320" y="3352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cc00cc"/>
                </a:solidFill>
                <a:latin typeface="Times New Roman"/>
              </a:rPr>
              <a:t>离开座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5"/>
          <p:cNvSpPr/>
          <p:nvPr/>
        </p:nvSpPr>
        <p:spPr>
          <a:xfrm>
            <a:off x="7543800" y="3276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Times New Roman"/>
              </a:rPr>
              <a:t>代这样的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8"/>
          <p:cNvSpPr/>
          <p:nvPr/>
        </p:nvSpPr>
        <p:spPr>
          <a:xfrm>
            <a:off x="1619280" y="4365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Times New Roman"/>
              </a:rPr>
              <a:t>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9"/>
          <p:cNvSpPr/>
          <p:nvPr/>
        </p:nvSpPr>
        <p:spPr>
          <a:xfrm>
            <a:off x="2050920" y="4437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Times New Roman"/>
              </a:rPr>
              <a:t>变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20"/>
          <p:cNvSpPr/>
          <p:nvPr/>
        </p:nvSpPr>
        <p:spPr>
          <a:xfrm>
            <a:off x="6095880" y="4343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Times New Roman"/>
              </a:rPr>
              <a:t>只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21"/>
          <p:cNvSpPr/>
          <p:nvPr/>
        </p:nvSpPr>
        <p:spPr>
          <a:xfrm>
            <a:off x="6948360" y="443700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Times New Roman"/>
              </a:rPr>
              <a:t>它们的果    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22"/>
          <p:cNvSpPr/>
          <p:nvPr/>
        </p:nvSpPr>
        <p:spPr>
          <a:xfrm>
            <a:off x="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……</a:t>
            </a:r>
            <a:r>
              <a:rPr b="1" lang="zh-CN" sz="2400" spc="-1" strike="noStrike">
                <a:solidFill>
                  <a:srgbClr val="cc00cc"/>
                </a:solidFill>
                <a:latin typeface="Times New Roman"/>
              </a:rPr>
              <a:t>的原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23"/>
          <p:cNvSpPr/>
          <p:nvPr/>
        </p:nvSpPr>
        <p:spPr>
          <a:xfrm>
            <a:off x="2057400" y="5486400"/>
            <a:ext cx="106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Times New Roman"/>
              </a:rPr>
              <a:t>代词</a:t>
            </a: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,    </a:t>
            </a:r>
            <a:r>
              <a:rPr b="1" lang="zh-CN" sz="2400" spc="-1" strike="noStrike">
                <a:solidFill>
                  <a:srgbClr val="cc00cc"/>
                </a:solidFill>
                <a:latin typeface="Times New Roman"/>
              </a:rPr>
              <a:t>这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24"/>
          <p:cNvSpPr/>
          <p:nvPr/>
        </p:nvSpPr>
        <p:spPr>
          <a:xfrm>
            <a:off x="4952880" y="5562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Times New Roman"/>
              </a:rPr>
              <a:t>不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2"/>
          <p:cNvSpPr/>
          <p:nvPr/>
        </p:nvSpPr>
        <p:spPr>
          <a:xfrm>
            <a:off x="228600" y="1447920"/>
            <a:ext cx="8915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今民生长于齐不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入楚则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得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楚 之 水土 使民   善  盗 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王笑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“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圣   人  非  所  与         熙          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寡人  反 取  病  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4495680" y="19810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莫非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……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吗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?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难道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……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吗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2514600" y="2971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不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3581280" y="28954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熙”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通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“嬉”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：开玩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7620120" y="289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2819520" y="5181480"/>
            <a:ext cx="66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第二段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写晏子机智地挫败了楚国君臣的阴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8" descr="蚱蜢"/>
          <p:cNvPicPr/>
          <p:nvPr/>
        </p:nvPicPr>
        <p:blipFill>
          <a:blip r:embed="rId1"/>
          <a:stretch/>
        </p:blipFill>
        <p:spPr>
          <a:xfrm>
            <a:off x="0" y="480060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" descr="xiaoniao"/>
          <p:cNvPicPr/>
          <p:nvPr/>
        </p:nvPicPr>
        <p:blipFill>
          <a:blip r:embed="rId1"/>
          <a:stretch/>
        </p:blipFill>
        <p:spPr>
          <a:xfrm>
            <a:off x="6858000" y="4805280"/>
            <a:ext cx="2286000" cy="20527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304920" y="304920"/>
            <a:ext cx="167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总结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304920" y="10666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古今异义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  坐、其实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304920" y="1676520"/>
            <a:ext cx="67881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通假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王曰：“缚者曷为者也？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王笑曰：“圣人非所与熙也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…”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5867280" y="1676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5715000" y="1600200"/>
            <a:ext cx="3200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曷”通“何”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什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6705720" y="236232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5029200" y="2743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5638680" y="2666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5410080" y="2590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熙”通“嬉”：开玩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228600" y="32004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词类活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善：形容词用作动词：善于、擅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304920" y="3962520"/>
            <a:ext cx="83055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常见文言句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固定格式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得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…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   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莫非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……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吗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?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难道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……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吗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判断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宾语前置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15">
            <a:hlinkClick r:id="" action="ppaction://hlinkshowjump?jump=nextslide"/>
            <a:hlinkClick r:id="rId2"/>
          </p:cNvPr>
          <p:cNvSpPr/>
          <p:nvPr/>
        </p:nvSpPr>
        <p:spPr>
          <a:xfrm>
            <a:off x="2590920" y="5638680"/>
            <a:ext cx="533160" cy="304920"/>
          </a:xfrm>
          <a:custGeom>
            <a:avLst/>
            <a:gdLst>
              <a:gd name="textAreaLeft" fmla="*/ 19080 w 533160"/>
              <a:gd name="textAreaRight" fmla="*/ 514440 w 533160"/>
              <a:gd name="textAreaTop" fmla="*/ 19080 h 304920"/>
              <a:gd name="textAreaBottom" fmla="*/ 28620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99" y="1350"/>
                </a:lnTo>
                <a:lnTo>
                  <a:pt x="1350" y="135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99" y="20250"/>
                </a:lnTo>
                <a:lnTo>
                  <a:pt x="36399" y="135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6399" y="2025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7749" h="21600">
                <a:moveTo>
                  <a:pt x="18875" y="14825"/>
                </a:moveTo>
                <a:arcTo wR="1479" hR="1479" stAng="16200000" swAng="-5400000"/>
                <a:arcTo wR="1479" hR="1479" stAng="10800000" swAng="-5400000"/>
                <a:arcTo wR="1479" hR="1479" stAng="5400000" swAng="-5400000"/>
                <a:arcTo wR="1479" hR="1479" stAng="0" swAng="-5400000"/>
                <a:close/>
              </a:path>
              <a:path fill="darken" w="37749" h="21600">
                <a:moveTo>
                  <a:pt x="19986" y="14300"/>
                </a:moveTo>
                <a:lnTo>
                  <a:pt x="19986" y="12331"/>
                </a:lnTo>
                <a:cubicBezTo>
                  <a:pt x="19986" y="11500"/>
                  <a:pt x="20318" y="10800"/>
                  <a:pt x="20922" y="10800"/>
                </a:cubicBezTo>
                <a:cubicBezTo>
                  <a:pt x="22060" y="10800"/>
                  <a:pt x="22961" y="9426"/>
                  <a:pt x="22961" y="7834"/>
                </a:cubicBezTo>
                <a:cubicBezTo>
                  <a:pt x="22961" y="5506"/>
                  <a:pt x="21097" y="3756"/>
                  <a:pt x="18875" y="3756"/>
                </a:cubicBezTo>
                <a:cubicBezTo>
                  <a:pt x="16652" y="3756"/>
                  <a:pt x="14972" y="5506"/>
                  <a:pt x="14972" y="7834"/>
                </a:cubicBezTo>
                <a:lnTo>
                  <a:pt x="16836" y="7834"/>
                </a:lnTo>
                <a:cubicBezTo>
                  <a:pt x="16836" y="6688"/>
                  <a:pt x="17763" y="5795"/>
                  <a:pt x="18875" y="5795"/>
                </a:cubicBezTo>
                <a:cubicBezTo>
                  <a:pt x="19986" y="5795"/>
                  <a:pt x="20922" y="6688"/>
                  <a:pt x="20922" y="7834"/>
                </a:cubicBezTo>
                <a:cubicBezTo>
                  <a:pt x="20922" y="8578"/>
                  <a:pt x="20450" y="9313"/>
                  <a:pt x="19986" y="9313"/>
                </a:cubicBezTo>
                <a:cubicBezTo>
                  <a:pt x="18875" y="9313"/>
                  <a:pt x="17763" y="10800"/>
                  <a:pt x="17763" y="12331"/>
                </a:cubicBezTo>
                <a:lnTo>
                  <a:pt x="17763" y="143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16">
            <a:hlinkClick r:id="" action="ppaction://hlinkshowjump?jump=nextslide"/>
            <a:hlinkClick r:id="rId3"/>
          </p:cNvPr>
          <p:cNvSpPr/>
          <p:nvPr/>
        </p:nvSpPr>
        <p:spPr>
          <a:xfrm>
            <a:off x="1828800" y="4952880"/>
            <a:ext cx="457200" cy="381240"/>
          </a:xfrm>
          <a:custGeom>
            <a:avLst/>
            <a:gdLst>
              <a:gd name="textAreaLeft" fmla="*/ 23760 w 457200"/>
              <a:gd name="textAreaRight" fmla="*/ 433440 w 457200"/>
              <a:gd name="textAreaTop" fmla="*/ 23760 h 381240"/>
              <a:gd name="textAreaBottom" fmla="*/ 35748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50" y="1350"/>
                </a:lnTo>
                <a:lnTo>
                  <a:pt x="1350" y="135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50" y="20250"/>
                </a:lnTo>
                <a:lnTo>
                  <a:pt x="24550" y="135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4550" y="2025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5900" h="21600">
                <a:moveTo>
                  <a:pt x="5906" y="3756"/>
                </a:moveTo>
                <a:lnTo>
                  <a:pt x="19994" y="10800"/>
                </a:lnTo>
                <a:lnTo>
                  <a:pt x="5906" y="1784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380880" y="685800"/>
            <a:ext cx="87631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判断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 晏婴，齐 之 习  辞 者 也。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圣人 非 所与 熙 也。 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宾语前置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何 以 也？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以何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什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何  为  者  也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何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干什么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王  曰，何 坐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坐何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犯了什么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2" descr="YW00089"/>
          <p:cNvPicPr/>
          <p:nvPr/>
        </p:nvPicPr>
        <p:blipFill>
          <a:blip r:embed="rId1"/>
          <a:stretch/>
        </p:blipFill>
        <p:spPr>
          <a:xfrm>
            <a:off x="5303880" y="0"/>
            <a:ext cx="384012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6"/>
          <p:cNvSpPr/>
          <p:nvPr/>
        </p:nvSpPr>
        <p:spPr>
          <a:xfrm>
            <a:off x="304920" y="380880"/>
            <a:ext cx="48765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晏子使楚。楚人以晏子短，为小门于大门之侧而延晏子。晏子不入，曰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04920" y="2743200"/>
            <a:ext cx="5181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使狗国者，从狗门入。今臣使楚，不当从此门入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1752480" y="403848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304920" y="4572000"/>
            <a:ext cx="464796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傧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ī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者更道，从大门入。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3" descr="YW00089"/>
          <p:cNvPicPr/>
          <p:nvPr/>
        </p:nvPicPr>
        <p:blipFill>
          <a:blip r:embed="rId1"/>
          <a:stretch/>
        </p:blipFill>
        <p:spPr>
          <a:xfrm>
            <a:off x="0" y="0"/>
            <a:ext cx="384012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4"/>
          <p:cNvSpPr/>
          <p:nvPr/>
        </p:nvSpPr>
        <p:spPr>
          <a:xfrm>
            <a:off x="3886200" y="0"/>
            <a:ext cx="525780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见楚王。王曰：“齐无人耶，使子为使？”晏子对曰：“齐之临淄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z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三百闾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ǘ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，张袂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è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成阴，挥汗成雨，比肩继踵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hǒ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而在，何为无人！”王曰：“然则何为使子？”晏子对曰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4191120" y="4094280"/>
            <a:ext cx="495288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齐命使，各有所主。其贤者使使贤主，不肖者使使不肖主。婴最不肖，故宜使楚矣！”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A132-2F99-4531-9094-DE8DC485A2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9T06:54:45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4:41:22Z</dcterms:modified>
  <cp:revision>4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