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6BA-54FC-4290-8198-38E2AA64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3B3-3163-493E-B4F6-624B0D00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39B-4A75-4B25-8103-ECB1FF07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A6B-126D-448F-806F-B9A47F20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6E90-1033-4E4D-84AD-EF3AA38B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FFB5-387E-433E-BE29-4DF1366B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0C7D-7A38-4C65-B6DA-9982C2B6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6DBB-F1BE-4EE5-AC15-160A6DBE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9150-B0C4-4968-8729-08186592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E87F-0838-4585-8A9E-AB9BF2BA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B3BE-4389-47EC-B69D-8DE45EAA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284-4B2B-41E9-9BDD-FF4D3E47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7224-4604-4137-8E5B-D8E90E14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7DBF-1507-4C51-8913-FFEFAC9D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C706-E3F5-4A5A-80B3-EA4E803A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865B-89A7-468B-A01D-124D18C9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588C-0FA8-404F-AD2E-2F6869A4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5A5A-B93C-4533-B9A0-EE445C69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275-0AA9-48A2-B7EB-58B129C2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734-47F7-4C9E-8E85-1AF0D09C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6E3-BF41-4962-84D5-863EDD3F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198-68E1-40E3-BE8C-586B6768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639-D8FF-4EE7-95E2-D7D99317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B26-8A83-42E7-A627-ED63D2BE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656F-2AC2-437E-87A7-5B79CC34E9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33CD-3EC1-4C6E-B35D-257E2937C2C8}" type="slidenum"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09480"/>
            <a:ext cx="853416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8.jpeg"/><Relationship Id="rId7" Type="http://schemas.openxmlformats.org/officeDocument/2006/relationships/image" Target="../media/image3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Spotl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ubtitl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760" y="-34920"/>
            <a:ext cx="31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颁奖典礼动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608040" y="609480"/>
            <a:ext cx="937116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Spotl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553080" y="6172200"/>
            <a:ext cx="2438280" cy="523800"/>
            <a:chOff x="6553080" y="6172200"/>
            <a:chExt cx="2438280" cy="523800"/>
          </a:xfrm>
        </p:grpSpPr>
        <p:sp>
          <p:nvSpPr>
            <p:cNvPr id="90" name=""/>
            <p:cNvSpPr/>
            <p:nvPr/>
          </p:nvSpPr>
          <p:spPr>
            <a:xfrm>
              <a:off x="6553080" y="6172200"/>
              <a:ext cx="2438280" cy="52380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Leadership" descr=""/>
            <p:cNvPicPr/>
            <p:nvPr/>
          </p:nvPicPr>
          <p:blipFill>
            <a:blip r:embed="rId2"/>
            <a:stretch/>
          </p:blipFill>
          <p:spPr>
            <a:xfrm>
              <a:off x="6553080" y="6172200"/>
              <a:ext cx="243828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971640" y="4510080"/>
            <a:ext cx="564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动态ppt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dongta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able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608040" y="609480"/>
            <a:ext cx="9371160" cy="114300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92E-EC71-4931-946B-AD6D6449C6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609480"/>
            <a:ext cx="868680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08040" y="76320"/>
            <a:ext cx="937116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ments 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man1_in_spotlight_cert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981080" cy="1585800"/>
          </a:xfrm>
          <a:prstGeom prst="rect">
            <a:avLst/>
          </a:prstGeom>
          <a:ln w="0">
            <a:noFill/>
          </a:ln>
        </p:spPr>
      </p:pic>
      <p:pic>
        <p:nvPicPr>
          <p:cNvPr id="104" name="woman1_in_spotlight_cert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198144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spotlight_trans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1981080" cy="1585800"/>
          </a:xfrm>
          <a:prstGeom prst="rect">
            <a:avLst/>
          </a:prstGeom>
          <a:ln w="0">
            <a:noFill/>
          </a:ln>
        </p:spPr>
      </p:pic>
      <p:pic>
        <p:nvPicPr>
          <p:cNvPr id="106" name="spotlight_title1" descr=""/>
          <p:cNvPicPr/>
          <p:nvPr/>
        </p:nvPicPr>
        <p:blipFill>
          <a:blip r:embed="rId4"/>
          <a:stretch/>
        </p:blipFill>
        <p:spPr>
          <a:xfrm>
            <a:off x="380880" y="1828800"/>
            <a:ext cx="1981440" cy="1584360"/>
          </a:xfrm>
          <a:prstGeom prst="rect">
            <a:avLst/>
          </a:prstGeom>
          <a:ln w="0">
            <a:noFill/>
          </a:ln>
        </p:spPr>
      </p:pic>
      <p:pic>
        <p:nvPicPr>
          <p:cNvPr id="107" name="man1_in_spotlight_cert_print" descr=""/>
          <p:cNvPicPr/>
          <p:nvPr/>
        </p:nvPicPr>
        <p:blipFill>
          <a:blip r:embed="rId5"/>
          <a:stretch/>
        </p:blipFill>
        <p:spPr>
          <a:xfrm>
            <a:off x="380880" y="5181480"/>
            <a:ext cx="1981440" cy="1586160"/>
          </a:xfrm>
          <a:prstGeom prst="rect">
            <a:avLst/>
          </a:prstGeom>
          <a:ln w="0">
            <a:noFill/>
          </a:ln>
        </p:spPr>
      </p:pic>
      <p:pic>
        <p:nvPicPr>
          <p:cNvPr id="108" name="woman1_in_spotlight_cert_print" descr=""/>
          <p:cNvPicPr/>
          <p:nvPr/>
        </p:nvPicPr>
        <p:blipFill>
          <a:blip r:embed="rId6"/>
          <a:stretch/>
        </p:blipFill>
        <p:spPr>
          <a:xfrm>
            <a:off x="2514600" y="5181480"/>
            <a:ext cx="1981080" cy="1586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1295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 this page when finished with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562720" y="2511360"/>
            <a:ext cx="2438280" cy="523800"/>
            <a:chOff x="5562720" y="2511360"/>
            <a:chExt cx="2438280" cy="523800"/>
          </a:xfrm>
        </p:grpSpPr>
        <p:sp>
          <p:nvSpPr>
            <p:cNvPr id="111" name=""/>
            <p:cNvSpPr/>
            <p:nvPr/>
          </p:nvSpPr>
          <p:spPr>
            <a:xfrm>
              <a:off x="5562720" y="2511360"/>
              <a:ext cx="2438280" cy="52380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Leadership" descr=""/>
            <p:cNvPicPr/>
            <p:nvPr/>
          </p:nvPicPr>
          <p:blipFill>
            <a:blip r:embed="rId7"/>
            <a:stretch/>
          </p:blipFill>
          <p:spPr>
            <a:xfrm>
              <a:off x="5562720" y="2511360"/>
              <a:ext cx="2438280" cy="52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5738760" y="3273480"/>
            <a:ext cx="2109960" cy="515880"/>
            <a:chOff x="5738760" y="3273480"/>
            <a:chExt cx="2109960" cy="515880"/>
          </a:xfrm>
        </p:grpSpPr>
        <p:sp>
          <p:nvSpPr>
            <p:cNvPr id="114" name=""/>
            <p:cNvSpPr/>
            <p:nvPr/>
          </p:nvSpPr>
          <p:spPr>
            <a:xfrm>
              <a:off x="5738760" y="3273480"/>
              <a:ext cx="2109960" cy="51444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Creativity" descr=""/>
            <p:cNvPicPr/>
            <p:nvPr/>
          </p:nvPicPr>
          <p:blipFill>
            <a:blip r:embed="rId8"/>
            <a:stretch/>
          </p:blipFill>
          <p:spPr>
            <a:xfrm>
              <a:off x="5738760" y="3273480"/>
              <a:ext cx="2106720" cy="5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6172200" y="3959280"/>
            <a:ext cx="1219320" cy="523800"/>
            <a:chOff x="6172200" y="3959280"/>
            <a:chExt cx="1219320" cy="523800"/>
          </a:xfrm>
        </p:grpSpPr>
        <p:sp>
          <p:nvSpPr>
            <p:cNvPr id="117" name=""/>
            <p:cNvSpPr/>
            <p:nvPr/>
          </p:nvSpPr>
          <p:spPr>
            <a:xfrm>
              <a:off x="6172200" y="3959280"/>
              <a:ext cx="1219320" cy="52380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Effort" descr=""/>
            <p:cNvPicPr/>
            <p:nvPr/>
          </p:nvPicPr>
          <p:blipFill>
            <a:blip r:embed="rId9"/>
            <a:stretch/>
          </p:blipFill>
          <p:spPr>
            <a:xfrm>
              <a:off x="6172200" y="3959280"/>
              <a:ext cx="121140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5372280" y="4645080"/>
            <a:ext cx="2933640" cy="528480"/>
            <a:chOff x="5372280" y="4645080"/>
            <a:chExt cx="2933640" cy="528480"/>
          </a:xfrm>
        </p:grpSpPr>
        <p:sp>
          <p:nvSpPr>
            <p:cNvPr id="120" name=""/>
            <p:cNvSpPr/>
            <p:nvPr/>
          </p:nvSpPr>
          <p:spPr>
            <a:xfrm>
              <a:off x="5372280" y="4645080"/>
              <a:ext cx="2933640" cy="52380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Improvement" descr=""/>
            <p:cNvPicPr/>
            <p:nvPr/>
          </p:nvPicPr>
          <p:blipFill>
            <a:blip r:embed="rId10"/>
            <a:stretch/>
          </p:blipFill>
          <p:spPr>
            <a:xfrm>
              <a:off x="5372280" y="4645080"/>
              <a:ext cx="2933640" cy="5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5853240" y="5407200"/>
            <a:ext cx="1995480" cy="536400"/>
            <a:chOff x="5853240" y="5407200"/>
            <a:chExt cx="1995480" cy="536400"/>
          </a:xfrm>
        </p:grpSpPr>
        <p:sp>
          <p:nvSpPr>
            <p:cNvPr id="123" name=""/>
            <p:cNvSpPr/>
            <p:nvPr/>
          </p:nvSpPr>
          <p:spPr>
            <a:xfrm>
              <a:off x="5853240" y="5407200"/>
              <a:ext cx="199548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Initiative" descr=""/>
            <p:cNvPicPr/>
            <p:nvPr/>
          </p:nvPicPr>
          <p:blipFill>
            <a:blip r:embed="rId11"/>
            <a:stretch/>
          </p:blipFill>
          <p:spPr>
            <a:xfrm>
              <a:off x="5853240" y="5407200"/>
              <a:ext cx="198900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5:53:19Z</dcterms:created>
  <dc:creator/>
  <dc:description/>
  <cp:keywords>幻灯片之家 http:/www.eeppt.com</cp:keywords>
  <dc:language>en-US</dc:language>
  <cp:lastModifiedBy/>
  <dcterms:modified xsi:type="dcterms:W3CDTF">2015-07-13T13:29:5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