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196-9D68-426D-98A9-C52B6A93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4C9-E294-4AF3-A8BB-C0AB811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B2C-E9A1-4D01-BDC9-21B0BC0B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FED-7B6B-49AD-9553-B429931E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873-D37F-4CBC-9CD9-E11C7E75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60D-E1F3-44F0-B501-A4EF3E17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0137-ED6F-4E8F-A9F8-6A0C2D8C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6E3-72CC-43DA-B4DD-DD4AEDD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5B1B-E23A-4410-ADA7-A31A06F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87C3-FAC6-4E11-AF8D-C7E96CF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71C7-1959-4A17-9437-B7AB99A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D67-E8D3-4EA8-9B2F-16123851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5C2F-524C-495A-81DA-8B78699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D474-6AB3-4DBB-8A59-ADE2B7C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0AC-AF45-419F-8862-2935E2D4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4F3A-8512-4AAC-9413-43920F3F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998E-B178-4B17-AB3A-E93A3311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8FE-059F-4D93-AF18-A89F3A3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89A-32AC-4445-9662-DC1AAD9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329-F9F6-4C63-B199-4E63CA71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DB5-CA62-450B-AC03-4B13E500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7AD-AAF1-4628-9C10-4175225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2E7-3064-47B7-B1FC-4865CB6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583-FE53-492D-AF38-CABF2F7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7597-6DC4-4DDA-BF03-9F668D34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A42-3723-4DF5-A75E-BAD4EDAF7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360" y="11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6640" y="2070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993-F7A4-4974-8FEA-0852B04D3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7:58:27Z</dcterms:created>
  <dc:creator/>
  <dc:description/>
  <cp:keywords>幻灯片之家 http:/www.eeppt.com</cp:keywords>
  <dc:language>en-US</dc:language>
  <cp:lastModifiedBy/>
  <dcterms:modified xsi:type="dcterms:W3CDTF">2015-07-09T01:41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