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982-2532-46E7-AC29-E13D6072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DC0-7108-4565-83A5-0EA3EBD8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7B1-F6E7-4AF3-81E3-838F0890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A96-CA1E-4A99-BF39-A5B08F00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A39-BB2C-48C3-B4CF-B215F87E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627-3FBD-4E07-A7F7-9AB17115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AEC-4F05-4B92-8924-BF1F2BFF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1A3-2952-470D-908B-DCC46F12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071-6DBD-4F6B-A3FC-9E7B1081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335-4E72-4599-873C-25D4F7AA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430-E095-4F53-AD05-0EBE717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273-1311-4086-9BA6-5094F8A8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35C7-0478-4B82-9F80-65B95523F3E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0AD4-F9CE-4A24-8727-2B147C386B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875320" y="1225440"/>
            <a:ext cx="3393360" cy="2636640"/>
            <a:chOff x="2875320" y="1225440"/>
            <a:chExt cx="3393360" cy="2636640"/>
          </a:xfrm>
        </p:grpSpPr>
        <p:sp>
          <p:nvSpPr>
            <p:cNvPr id="43" name="矩形 9"/>
            <p:cNvSpPr/>
            <p:nvPr/>
          </p:nvSpPr>
          <p:spPr>
            <a:xfrm>
              <a:off x="2948400" y="1225440"/>
              <a:ext cx="3246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 PROFIL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0"/>
            <p:cNvSpPr/>
            <p:nvPr/>
          </p:nvSpPr>
          <p:spPr>
            <a:xfrm>
              <a:off x="2875320" y="1722960"/>
              <a:ext cx="3393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INSERT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1"/>
            <p:cNvSpPr/>
            <p:nvPr/>
          </p:nvSpPr>
          <p:spPr>
            <a:xfrm>
              <a:off x="2877480" y="2626560"/>
              <a:ext cx="338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36c09"/>
                  </a:solidFill>
                  <a:latin typeface="Calibri"/>
                  <a:ea typeface="Calibri"/>
                </a:rPr>
                <a:t>YOUR NAM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2"/>
            <p:cNvSpPr/>
            <p:nvPr/>
          </p:nvSpPr>
          <p:spPr>
            <a:xfrm>
              <a:off x="2897280" y="3097800"/>
              <a:ext cx="334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OR EXEMP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84040" y="4761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58720" y="4222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超炫动画商务演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5" dur="2200" fill="hold"/>
                                        <p:tgtEl>
                                          <p:spTgt spid="4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340000" y="482760"/>
            <a:ext cx="144360" cy="3384360"/>
            <a:chOff x="2340000" y="482760"/>
            <a:chExt cx="144360" cy="3384360"/>
          </a:xfrm>
        </p:grpSpPr>
        <p:sp>
          <p:nvSpPr>
            <p:cNvPr id="226" name="矩形 3"/>
            <p:cNvSpPr/>
            <p:nvPr/>
          </p:nvSpPr>
          <p:spPr>
            <a:xfrm>
              <a:off x="2340000" y="482760"/>
              <a:ext cx="46440" cy="338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2340720" y="48276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5"/>
            <p:cNvSpPr/>
            <p:nvPr/>
          </p:nvSpPr>
          <p:spPr>
            <a:xfrm>
              <a:off x="2340720" y="214128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6"/>
            <p:cNvSpPr/>
            <p:nvPr/>
          </p:nvSpPr>
          <p:spPr>
            <a:xfrm>
              <a:off x="2340720" y="379512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8"/>
          <p:cNvSpPr/>
          <p:nvPr/>
        </p:nvSpPr>
        <p:spPr>
          <a:xfrm>
            <a:off x="2581560" y="3795840"/>
            <a:ext cx="40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CREASE YOUR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0"/>
          <p:cNvSpPr/>
          <p:nvPr/>
        </p:nvSpPr>
        <p:spPr>
          <a:xfrm>
            <a:off x="2728800" y="-738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"/>
          <p:cNvSpPr/>
          <p:nvPr/>
        </p:nvSpPr>
        <p:spPr>
          <a:xfrm>
            <a:off x="3351240" y="-12463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30"/>
          <p:cNvSpPr/>
          <p:nvPr/>
        </p:nvSpPr>
        <p:spPr>
          <a:xfrm>
            <a:off x="4007880" y="-1530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40"/>
          <p:cNvSpPr/>
          <p:nvPr/>
        </p:nvSpPr>
        <p:spPr>
          <a:xfrm>
            <a:off x="4647600" y="-18874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50"/>
          <p:cNvSpPr/>
          <p:nvPr/>
        </p:nvSpPr>
        <p:spPr>
          <a:xfrm>
            <a:off x="5295960" y="-2349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60"/>
          <p:cNvSpPr/>
          <p:nvPr/>
        </p:nvSpPr>
        <p:spPr>
          <a:xfrm>
            <a:off x="5933520" y="-2682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"/>
          <p:cNvSpPr/>
          <p:nvPr/>
        </p:nvSpPr>
        <p:spPr>
          <a:xfrm>
            <a:off x="2725560" y="3363840"/>
            <a:ext cx="503280" cy="46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"/>
          <p:cNvSpPr/>
          <p:nvPr/>
        </p:nvSpPr>
        <p:spPr>
          <a:xfrm>
            <a:off x="3348000" y="2860560"/>
            <a:ext cx="503280" cy="97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3"/>
          <p:cNvSpPr/>
          <p:nvPr/>
        </p:nvSpPr>
        <p:spPr>
          <a:xfrm>
            <a:off x="3995640" y="2571840"/>
            <a:ext cx="505080" cy="12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4"/>
          <p:cNvSpPr/>
          <p:nvPr/>
        </p:nvSpPr>
        <p:spPr>
          <a:xfrm>
            <a:off x="4643280" y="2214720"/>
            <a:ext cx="505080" cy="1617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5"/>
          <p:cNvSpPr/>
          <p:nvPr/>
        </p:nvSpPr>
        <p:spPr>
          <a:xfrm>
            <a:off x="5292720" y="1779480"/>
            <a:ext cx="503280" cy="20527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6"/>
          <p:cNvSpPr/>
          <p:nvPr/>
        </p:nvSpPr>
        <p:spPr>
          <a:xfrm>
            <a:off x="5940360" y="1419120"/>
            <a:ext cx="504720" cy="2413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0.70802 L 0.00052 0.79506 E">
                                      <p:cBhvr>
                                        <p:cTn id="937" dur="1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39" dur="2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41" dur="100" fill="hold"/>
                                        <p:tgtEl>
                                          <p:spTgt spid="23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8.33333E-007 0.70802 L 0.00052 0.79506 E">
                                      <p:cBhvr>
                                        <p:cTn id="943" dur="1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45" dur="2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47" dur="100" fill="hold"/>
                                        <p:tgtEl>
                                          <p:spTgt spid="23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5.55556E-007 0.70803 L 0.00052 0.79507 E">
                                      <p:cBhvr>
                                        <p:cTn id="949" dur="1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51" dur="2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53" dur="100" fill="hold"/>
                                        <p:tgtEl>
                                          <p:spTgt spid="23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0.70802 L 0.00052 0.79506 E">
                                      <p:cBhvr>
                                        <p:cTn id="955" dur="1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57" dur="2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59" dur="100" fill="hold"/>
                                        <p:tgtEl>
                                          <p:spTgt spid="23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0.70803 L 0.00052 0.79507 E">
                                      <p:cBhvr>
                                        <p:cTn id="961" dur="1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63" dur="2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965" dur="100" fill="hold"/>
                                        <p:tgtEl>
                                          <p:spTgt spid="23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8.33333E-007 0.70802 L 0.00052 0.79506 E">
                                      <p:cBhvr>
                                        <p:cTn id="967" dur="1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69" dur="2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71" dur="100" fill="hold"/>
                                        <p:tgtEl>
                                          <p:spTgt spid="23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6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78" dur="3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80" dur="200" fill="hold"/>
                                        <p:tgtEl>
                                          <p:spTgt spid="23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82" dur="2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84" dur="100" fill="hold"/>
                                        <p:tgtEl>
                                          <p:spTgt spid="2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1"/>
          <p:cNvSpPr/>
          <p:nvPr/>
        </p:nvSpPr>
        <p:spPr>
          <a:xfrm>
            <a:off x="495360" y="1509840"/>
            <a:ext cx="814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Calibri"/>
              </a:rPr>
              <a:t>NEED TO KNOW MO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Calibri"/>
              </a:rPr>
              <a:t>ABOUT M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6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98" dur="200" fill="hold"/>
                                        <p:tgtEl>
                                          <p:spTgt spid="24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00" dur="1200" fill="hold"/>
                                        <p:tgtEl>
                                          <p:spTgt spid="24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"/>
          <p:cNvSpPr/>
          <p:nvPr/>
        </p:nvSpPr>
        <p:spPr>
          <a:xfrm>
            <a:off x="1752840" y="2017800"/>
            <a:ext cx="563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Calibri"/>
              </a:rPr>
              <a:t>CONTACT ME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765000"/>
            <a:ext cx="6337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120" y="928800"/>
            <a:ext cx="6251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9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11" dur="200" fill="hold"/>
                                        <p:tgtEl>
                                          <p:spTgt spid="24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13" dur="1200" fill="hold"/>
                                        <p:tgtEl>
                                          <p:spTgt spid="24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1A3-7D2F-4F84-A3BF-8B189300AF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同心圆 3"/>
          <p:cNvSpPr/>
          <p:nvPr/>
        </p:nvSpPr>
        <p:spPr>
          <a:xfrm>
            <a:off x="5435640" y="1060560"/>
            <a:ext cx="1103400" cy="110160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同心圆 4"/>
          <p:cNvSpPr/>
          <p:nvPr/>
        </p:nvSpPr>
        <p:spPr>
          <a:xfrm>
            <a:off x="3635280" y="1611360"/>
            <a:ext cx="1513080" cy="151128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同心圆 5"/>
          <p:cNvSpPr/>
          <p:nvPr/>
        </p:nvSpPr>
        <p:spPr>
          <a:xfrm>
            <a:off x="1581120" y="2109960"/>
            <a:ext cx="1109520" cy="110952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同心圆 6"/>
          <p:cNvSpPr/>
          <p:nvPr/>
        </p:nvSpPr>
        <p:spPr>
          <a:xfrm>
            <a:off x="990720" y="2874960"/>
            <a:ext cx="1512720" cy="151272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同心圆 7"/>
          <p:cNvSpPr/>
          <p:nvPr/>
        </p:nvSpPr>
        <p:spPr>
          <a:xfrm>
            <a:off x="2411280" y="2181240"/>
            <a:ext cx="1908360" cy="190800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同心圆 8"/>
          <p:cNvSpPr/>
          <p:nvPr/>
        </p:nvSpPr>
        <p:spPr>
          <a:xfrm>
            <a:off x="6108840" y="1060560"/>
            <a:ext cx="1325520" cy="132372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同心圆 9"/>
          <p:cNvSpPr/>
          <p:nvPr/>
        </p:nvSpPr>
        <p:spPr>
          <a:xfrm>
            <a:off x="4861080" y="1541520"/>
            <a:ext cx="1677960" cy="167796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同心圆 10"/>
          <p:cNvSpPr/>
          <p:nvPr/>
        </p:nvSpPr>
        <p:spPr>
          <a:xfrm>
            <a:off x="623880" y="1251000"/>
            <a:ext cx="1511280" cy="151272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同心圆 11"/>
          <p:cNvSpPr/>
          <p:nvPr/>
        </p:nvSpPr>
        <p:spPr>
          <a:xfrm>
            <a:off x="6099120" y="2006640"/>
            <a:ext cx="1511280" cy="151272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4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2" dur="2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0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8" dur="2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6" dur="2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4" dur="2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2" dur="2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0" dur="2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8" dur="2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008880" y="1758960"/>
            <a:ext cx="3126600" cy="1641240"/>
            <a:chOff x="3008880" y="1758960"/>
            <a:chExt cx="3126600" cy="1641240"/>
          </a:xfrm>
        </p:grpSpPr>
        <p:sp>
          <p:nvSpPr>
            <p:cNvPr id="50" name="矩形 4"/>
            <p:cNvSpPr/>
            <p:nvPr/>
          </p:nvSpPr>
          <p:spPr>
            <a:xfrm>
              <a:off x="3008880" y="1758960"/>
              <a:ext cx="3126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HAT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6"/>
            <p:cNvSpPr/>
            <p:nvPr/>
          </p:nvSpPr>
          <p:spPr>
            <a:xfrm>
              <a:off x="3274200" y="2757600"/>
              <a:ext cx="259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36c09"/>
                  </a:solidFill>
                  <a:latin typeface="Calibri"/>
                  <a:ea typeface="Calibri"/>
                </a:rPr>
                <a:t>ABOUT ME 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同心圆 5"/>
          <p:cNvSpPr/>
          <p:nvPr/>
        </p:nvSpPr>
        <p:spPr>
          <a:xfrm>
            <a:off x="3713040" y="1722600"/>
            <a:ext cx="1702080" cy="1701720"/>
          </a:xfrm>
          <a:prstGeom prst="donut">
            <a:avLst>
              <a:gd name="adj" fmla="val 84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9"/>
          <p:cNvSpPr/>
          <p:nvPr/>
        </p:nvSpPr>
        <p:spPr>
          <a:xfrm>
            <a:off x="3635280" y="1644480"/>
            <a:ext cx="1855800" cy="1854360"/>
          </a:xfrm>
          <a:prstGeom prst="donut">
            <a:avLst>
              <a:gd name="adj" fmla="val 37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1" descr=""/>
          <p:cNvPicPr/>
          <p:nvPr/>
        </p:nvPicPr>
        <p:blipFill>
          <a:blip r:embed="rId1"/>
          <a:stretch/>
        </p:blipFill>
        <p:spPr>
          <a:xfrm>
            <a:off x="3708360" y="1652760"/>
            <a:ext cx="1806480" cy="22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6" dur="200" fill="hold"/>
                                        <p:tgtEl>
                                          <p:spTgt spid="4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8" dur="1300" fill="hold"/>
                                        <p:tgtEl>
                                          <p:spTgt spid="4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45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45" dur="200" fill="hold"/>
                                        <p:tgtEl>
                                          <p:spTgt spid="5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47" dur="100" fill="hold"/>
                                        <p:tgtEl>
                                          <p:spTgt spid="5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930200" y="-1284120"/>
            <a:ext cx="1659600" cy="1163520"/>
            <a:chOff x="4930200" y="-1284120"/>
            <a:chExt cx="1659600" cy="1163520"/>
          </a:xfrm>
        </p:grpSpPr>
        <p:grpSp>
          <p:nvGrpSpPr>
            <p:cNvPr id="56" name=""/>
            <p:cNvGrpSpPr/>
            <p:nvPr/>
          </p:nvGrpSpPr>
          <p:grpSpPr>
            <a:xfrm>
              <a:off x="5068080" y="-1284120"/>
              <a:ext cx="1338480" cy="1163520"/>
              <a:chOff x="5068080" y="-1284120"/>
              <a:chExt cx="1338480" cy="1163520"/>
            </a:xfrm>
          </p:grpSpPr>
          <p:sp>
            <p:nvSpPr>
              <p:cNvPr id="57" name="等腰三角形 4"/>
              <p:cNvSpPr/>
              <p:nvPr/>
            </p:nvSpPr>
            <p:spPr>
              <a:xfrm rot="14711400">
                <a:off x="5458320" y="-79668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圆角矩形 3"/>
              <p:cNvSpPr/>
              <p:nvPr/>
            </p:nvSpPr>
            <p:spPr>
              <a:xfrm rot="1297800">
                <a:off x="5159880" y="-109656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矩形 21"/>
            <p:cNvSpPr/>
            <p:nvPr/>
          </p:nvSpPr>
          <p:spPr>
            <a:xfrm rot="1297800">
              <a:off x="4946040" y="-936360"/>
              <a:ext cx="16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226480" y="-1386000"/>
            <a:ext cx="1180800" cy="1298160"/>
            <a:chOff x="5226480" y="-1386000"/>
            <a:chExt cx="1180800" cy="1298160"/>
          </a:xfrm>
        </p:grpSpPr>
        <p:grpSp>
          <p:nvGrpSpPr>
            <p:cNvPr id="61" name=""/>
            <p:cNvGrpSpPr/>
            <p:nvPr/>
          </p:nvGrpSpPr>
          <p:grpSpPr>
            <a:xfrm>
              <a:off x="5226480" y="-1386000"/>
              <a:ext cx="1180800" cy="1281240"/>
              <a:chOff x="5226480" y="-1386000"/>
              <a:chExt cx="1180800" cy="1281240"/>
            </a:xfrm>
          </p:grpSpPr>
          <p:sp>
            <p:nvSpPr>
              <p:cNvPr id="62" name="等腰三角形 7"/>
              <p:cNvSpPr/>
              <p:nvPr/>
            </p:nvSpPr>
            <p:spPr>
              <a:xfrm rot="18075600">
                <a:off x="5447160" y="-101916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圆角矩形 8"/>
              <p:cNvSpPr/>
              <p:nvPr/>
            </p:nvSpPr>
            <p:spPr>
              <a:xfrm rot="4662000">
                <a:off x="5354640" y="-110556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矩形 22"/>
            <p:cNvSpPr/>
            <p:nvPr/>
          </p:nvSpPr>
          <p:spPr>
            <a:xfrm rot="4662000">
              <a:off x="5220360" y="-1064520"/>
              <a:ext cx="112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Tw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004640" y="6329160"/>
            <a:ext cx="1422720" cy="1189080"/>
            <a:chOff x="4004640" y="6329160"/>
            <a:chExt cx="1422720" cy="1189080"/>
          </a:xfrm>
        </p:grpSpPr>
        <p:grpSp>
          <p:nvGrpSpPr>
            <p:cNvPr id="66" name=""/>
            <p:cNvGrpSpPr/>
            <p:nvPr/>
          </p:nvGrpSpPr>
          <p:grpSpPr>
            <a:xfrm>
              <a:off x="4123800" y="6329160"/>
              <a:ext cx="1292400" cy="1189080"/>
              <a:chOff x="4123800" y="6329160"/>
              <a:chExt cx="1292400" cy="1189080"/>
            </a:xfrm>
          </p:grpSpPr>
          <p:sp>
            <p:nvSpPr>
              <p:cNvPr id="67" name="等腰三角形 10"/>
              <p:cNvSpPr/>
              <p:nvPr/>
            </p:nvSpPr>
            <p:spPr>
              <a:xfrm rot="1785600">
                <a:off x="4494960" y="6371640"/>
                <a:ext cx="362520" cy="720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圆角矩形 11"/>
              <p:cNvSpPr/>
              <p:nvPr/>
            </p:nvSpPr>
            <p:spPr>
              <a:xfrm rot="9972000">
                <a:off x="4192920" y="6671160"/>
                <a:ext cx="1153800" cy="720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矩形 23"/>
            <p:cNvSpPr/>
            <p:nvPr/>
          </p:nvSpPr>
          <p:spPr>
            <a:xfrm rot="9972000">
              <a:off x="4069800" y="6545160"/>
              <a:ext cx="129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Th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734920" y="5931360"/>
            <a:ext cx="1411560" cy="1321200"/>
            <a:chOff x="2734920" y="5931360"/>
            <a:chExt cx="1411560" cy="1321200"/>
          </a:xfrm>
        </p:grpSpPr>
        <p:grpSp>
          <p:nvGrpSpPr>
            <p:cNvPr id="71" name=""/>
            <p:cNvGrpSpPr/>
            <p:nvPr/>
          </p:nvGrpSpPr>
          <p:grpSpPr>
            <a:xfrm>
              <a:off x="2734920" y="6068880"/>
              <a:ext cx="1357920" cy="1183680"/>
              <a:chOff x="2734920" y="6068880"/>
              <a:chExt cx="1357920" cy="1183680"/>
            </a:xfrm>
          </p:grpSpPr>
          <p:sp>
            <p:nvSpPr>
              <p:cNvPr id="72" name="等腰三角形 13"/>
              <p:cNvSpPr/>
              <p:nvPr/>
            </p:nvSpPr>
            <p:spPr>
              <a:xfrm rot="4326600">
                <a:off x="3364560" y="6015960"/>
                <a:ext cx="362520" cy="719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圆角矩形 14"/>
              <p:cNvSpPr/>
              <p:nvPr/>
            </p:nvSpPr>
            <p:spPr>
              <a:xfrm rot="12512400">
                <a:off x="2836440" y="6300720"/>
                <a:ext cx="1154520" cy="719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矩形 24"/>
            <p:cNvSpPr/>
            <p:nvPr/>
          </p:nvSpPr>
          <p:spPr>
            <a:xfrm rot="12512400">
              <a:off x="2887560" y="6165720"/>
              <a:ext cx="116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F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714760" y="-1458000"/>
            <a:ext cx="1344960" cy="1403280"/>
            <a:chOff x="2714760" y="-1458000"/>
            <a:chExt cx="1344960" cy="1403280"/>
          </a:xfrm>
        </p:grpSpPr>
        <p:grpSp>
          <p:nvGrpSpPr>
            <p:cNvPr id="76" name=""/>
            <p:cNvGrpSpPr/>
            <p:nvPr/>
          </p:nvGrpSpPr>
          <p:grpSpPr>
            <a:xfrm>
              <a:off x="2714760" y="-1458000"/>
              <a:ext cx="1216080" cy="1360440"/>
              <a:chOff x="2714760" y="-1458000"/>
              <a:chExt cx="1216080" cy="1360440"/>
            </a:xfrm>
          </p:grpSpPr>
          <p:sp>
            <p:nvSpPr>
              <p:cNvPr id="77" name="等腰三角形 16"/>
              <p:cNvSpPr/>
              <p:nvPr/>
            </p:nvSpPr>
            <p:spPr>
              <a:xfrm rot="9899400">
                <a:off x="3419640" y="-991080"/>
                <a:ext cx="362520" cy="720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圆角矩形 17"/>
              <p:cNvSpPr/>
              <p:nvPr/>
            </p:nvSpPr>
            <p:spPr>
              <a:xfrm rot="18085800">
                <a:off x="2745720" y="-1137600"/>
                <a:ext cx="1154160" cy="720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矩形 25"/>
            <p:cNvSpPr/>
            <p:nvPr/>
          </p:nvSpPr>
          <p:spPr>
            <a:xfrm rot="18085800">
              <a:off x="2916000" y="-1062720"/>
              <a:ext cx="110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F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716280" y="-1171440"/>
            <a:ext cx="1279440" cy="1179000"/>
            <a:chOff x="3716280" y="-1171440"/>
            <a:chExt cx="1279440" cy="1179000"/>
          </a:xfrm>
        </p:grpSpPr>
        <p:grpSp>
          <p:nvGrpSpPr>
            <p:cNvPr id="81" name=""/>
            <p:cNvGrpSpPr/>
            <p:nvPr/>
          </p:nvGrpSpPr>
          <p:grpSpPr>
            <a:xfrm>
              <a:off x="3716280" y="-1171440"/>
              <a:ext cx="1279440" cy="1179000"/>
              <a:chOff x="3716280" y="-1171440"/>
              <a:chExt cx="1279440" cy="1179000"/>
            </a:xfrm>
          </p:grpSpPr>
          <p:sp>
            <p:nvSpPr>
              <p:cNvPr id="82" name="等腰三角形 19"/>
              <p:cNvSpPr/>
              <p:nvPr/>
            </p:nvSpPr>
            <p:spPr>
              <a:xfrm rot="12688800">
                <a:off x="4259880" y="-75492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圆角矩形 20"/>
              <p:cNvSpPr/>
              <p:nvPr/>
            </p:nvSpPr>
            <p:spPr>
              <a:xfrm rot="20875200">
                <a:off x="3778920" y="-105840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矩形 26"/>
            <p:cNvSpPr/>
            <p:nvPr/>
          </p:nvSpPr>
          <p:spPr>
            <a:xfrm rot="20875200">
              <a:off x="3896280" y="-901080"/>
              <a:ext cx="982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S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椭圆 33"/>
          <p:cNvSpPr/>
          <p:nvPr/>
        </p:nvSpPr>
        <p:spPr>
          <a:xfrm>
            <a:off x="3780000" y="1781280"/>
            <a:ext cx="158400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2" descr=""/>
          <p:cNvPicPr/>
          <p:nvPr/>
        </p:nvPicPr>
        <p:blipFill>
          <a:blip r:embed="rId1"/>
          <a:srcRect l="12510" t="12150" r="17060" b="32196"/>
          <a:stretch/>
        </p:blipFill>
        <p:spPr>
          <a:xfrm>
            <a:off x="3933720" y="1930320"/>
            <a:ext cx="127332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" fill="hold"/>
                                        <p:tgtEl>
                                          <p:spTgt spid="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path" presetID="1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2.71605E-006 L -0.02326 -0.01729 L 0.00903 -0.04013 L -2.5E-006 2.71605E-006 Z">
                                      <p:cBhvr>
                                        <p:cTn id="71" dur="4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017 0.73673 L -0.13211 0.63889 E">
                                      <p:cBhvr>
                                        <p:cTn id="73" dur="2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-0.58943 L -0.01545 -0.83905 E">
                                      <p:cBhvr>
                                        <p:cTn id="75" dur="2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0.47778 L -0.12326 0.61358 E">
                                      <p:cBhvr>
                                        <p:cTn id="77" dur="2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35 -0.62284 L 0.11945 -0.76698 E">
                                      <p:cBhvr>
                                        <p:cTn id="79" dur="2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35 0.55895 L 0.12188 0.6358 E">
                                      <p:cBhvr>
                                        <p:cTn id="81" dur="2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35 0.36049 L 0.01997 0.60617 E">
                                      <p:cBhvr>
                                        <p:cTn id="83" dur="2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"/>
          <p:cNvSpPr/>
          <p:nvPr/>
        </p:nvSpPr>
        <p:spPr>
          <a:xfrm rot="20626800">
            <a:off x="4187880" y="-1204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Y"/>
          <p:cNvSpPr/>
          <p:nvPr/>
        </p:nvSpPr>
        <p:spPr>
          <a:xfrm rot="18677400">
            <a:off x="3781080" y="-93492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N"/>
          <p:cNvSpPr/>
          <p:nvPr/>
        </p:nvSpPr>
        <p:spPr>
          <a:xfrm rot="1252800">
            <a:off x="4694400" y="-119016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"/>
          <p:cNvSpPr/>
          <p:nvPr/>
        </p:nvSpPr>
        <p:spPr>
          <a:xfrm rot="1890000">
            <a:off x="4860360" y="-10998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"/>
          <p:cNvSpPr/>
          <p:nvPr/>
        </p:nvSpPr>
        <p:spPr>
          <a:xfrm rot="2767200">
            <a:off x="4983120" y="-96552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"/>
          <p:cNvSpPr/>
          <p:nvPr/>
        </p:nvSpPr>
        <p:spPr>
          <a:xfrm rot="3528000">
            <a:off x="5142600" y="-8337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"/>
          <p:cNvSpPr/>
          <p:nvPr/>
        </p:nvSpPr>
        <p:spPr>
          <a:xfrm rot="19320600">
            <a:off x="3867480" y="-104724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U"/>
          <p:cNvSpPr/>
          <p:nvPr/>
        </p:nvSpPr>
        <p:spPr>
          <a:xfrm rot="19938600">
            <a:off x="4019040" y="-114444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2544840" y="558720"/>
            <a:ext cx="4054320" cy="4025880"/>
          </a:xfrm>
          <a:prstGeom prst="rect">
            <a:avLst/>
          </a:prstGeom>
          <a:ln w="0">
            <a:noFill/>
          </a:ln>
        </p:spPr>
      </p:pic>
      <p:pic>
        <p:nvPicPr>
          <p:cNvPr id="96" name="遮挡" descr=""/>
          <p:cNvPicPr/>
          <p:nvPr/>
        </p:nvPicPr>
        <p:blipFill>
          <a:blip r:embed="rId2"/>
          <a:srcRect l="46921" t="39035" r="47011" b="39349"/>
          <a:stretch/>
        </p:blipFill>
        <p:spPr>
          <a:xfrm>
            <a:off x="4311720" y="2009880"/>
            <a:ext cx="557280" cy="11127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" descr=""/>
          <p:cNvPicPr/>
          <p:nvPr/>
        </p:nvPicPr>
        <p:blipFill>
          <a:blip r:embed="rId3"/>
          <a:srcRect l="12510" t="12150" r="17060" b="32196"/>
          <a:stretch/>
        </p:blipFill>
        <p:spPr>
          <a:xfrm>
            <a:off x="3755880" y="1774800"/>
            <a:ext cx="159408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ren" descr=""/>
          <p:cNvPicPr/>
          <p:nvPr/>
        </p:nvPicPr>
        <p:blipFill>
          <a:blip r:embed="rId4"/>
          <a:srcRect l="14259" t="16041" r="18144" b="24448"/>
          <a:stretch/>
        </p:blipFill>
        <p:spPr>
          <a:xfrm>
            <a:off x="3728880" y="1720800"/>
            <a:ext cx="1690920" cy="1690560"/>
          </a:xfrm>
          <a:prstGeom prst="rect">
            <a:avLst/>
          </a:prstGeom>
          <a:ln w="0">
            <a:noFill/>
          </a:ln>
        </p:spPr>
      </p:pic>
      <p:sp>
        <p:nvSpPr>
          <p:cNvPr id="99" name="内圆"/>
          <p:cNvSpPr/>
          <p:nvPr/>
        </p:nvSpPr>
        <p:spPr>
          <a:xfrm>
            <a:off x="3610080" y="1601640"/>
            <a:ext cx="1927080" cy="1927440"/>
          </a:xfrm>
          <a:prstGeom prst="donut">
            <a:avLst>
              <a:gd name="adj" fmla="val 132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外圆"/>
          <p:cNvSpPr/>
          <p:nvPr/>
        </p:nvSpPr>
        <p:spPr>
          <a:xfrm>
            <a:off x="3419640" y="1413000"/>
            <a:ext cx="2304720" cy="2305080"/>
          </a:xfrm>
          <a:prstGeom prst="donut">
            <a:avLst>
              <a:gd name="adj" fmla="val 58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mption"/>
          <p:cNvSpPr/>
          <p:nvPr/>
        </p:nvSpPr>
        <p:spPr>
          <a:xfrm>
            <a:off x="3546720" y="320976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OTION 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4"/>
          <p:cNvSpPr/>
          <p:nvPr/>
        </p:nvSpPr>
        <p:spPr>
          <a:xfrm>
            <a:off x="3705120" y="1698480"/>
            <a:ext cx="1737000" cy="1735200"/>
          </a:xfrm>
          <a:prstGeom prst="donut">
            <a:avLst>
              <a:gd name="adj" fmla="val 64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3589200" y="1596960"/>
            <a:ext cx="1951200" cy="19494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3928680" y="1935000"/>
            <a:ext cx="1262520" cy="1262160"/>
            <a:chOff x="3928680" y="1935000"/>
            <a:chExt cx="1262520" cy="1262160"/>
          </a:xfrm>
        </p:grpSpPr>
        <p:sp>
          <p:nvSpPr>
            <p:cNvPr id="105" name="椭圆 5"/>
            <p:cNvSpPr/>
            <p:nvPr/>
          </p:nvSpPr>
          <p:spPr>
            <a:xfrm>
              <a:off x="3928680" y="1935000"/>
              <a:ext cx="126252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6"/>
            <p:cNvSpPr/>
            <p:nvPr/>
          </p:nvSpPr>
          <p:spPr>
            <a:xfrm>
              <a:off x="3987360" y="2374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  <a:ea typeface="Calibri"/>
                </a:rPr>
                <a:t>MY 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flash"/>
          <p:cNvSpPr/>
          <p:nvPr/>
        </p:nvSpPr>
        <p:spPr>
          <a:xfrm>
            <a:off x="2678040" y="179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s"/>
          <p:cNvSpPr/>
          <p:nvPr/>
        </p:nvSpPr>
        <p:spPr>
          <a:xfrm>
            <a:off x="4862160" y="56520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e"/>
          <p:cNvSpPr/>
          <p:nvPr/>
        </p:nvSpPr>
        <p:spPr>
          <a:xfrm>
            <a:off x="495000" y="1349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TF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D"/>
          <p:cNvSpPr/>
          <p:nvPr/>
        </p:nvSpPr>
        <p:spPr>
          <a:xfrm>
            <a:off x="6066720" y="237492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I"/>
          <p:cNvSpPr/>
          <p:nvPr/>
        </p:nvSpPr>
        <p:spPr>
          <a:xfrm>
            <a:off x="673200" y="319716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OK"/>
          <p:cNvSpPr/>
          <p:nvPr/>
        </p:nvSpPr>
        <p:spPr>
          <a:xfrm>
            <a:off x="2503440" y="4032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EB"/>
          <p:cNvSpPr/>
          <p:nvPr/>
        </p:nvSpPr>
        <p:spPr>
          <a:xfrm>
            <a:off x="5798160" y="35701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JAVA"/>
          <p:cNvSpPr/>
          <p:nvPr/>
        </p:nvSpPr>
        <p:spPr>
          <a:xfrm>
            <a:off x="4376160" y="45165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1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6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6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1" dur="600" fill="hold"/>
                                        <p:tgtEl>
                                          <p:spTgt spid="9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45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4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6" presetSubtype="32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4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34" dur="200" fill="hold"/>
                                        <p:tgtEl>
                                          <p:spTgt spid="98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8.33333E-007 0.54167 L 0.06927 0.64445 E">
                                      <p:cBhvr>
                                        <p:cTn id="136" dur="1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5E-006 0.54166 L 0.05781 0.66605 E">
                                      <p:cBhvr>
                                        <p:cTn id="138" dur="1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3.05556E-006 0.54167 L 0.04149 0.68488 E">
                                      <p:cBhvr>
                                        <p:cTn id="140" dur="1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1.94444E-006 0.54167 L 0.02413 0.69661 E">
                                      <p:cBhvr>
                                        <p:cTn id="142" dur="1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4.72222E-006 0.54167 L -0.03247 0.69383 E">
                                      <p:cBhvr>
                                        <p:cTn id="144" dur="1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61111E-006 0.54167 L -0.04983 0.67624 E">
                                      <p:cBhvr>
                                        <p:cTn id="146" dur="1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2.77778E-007 0.54166 L -0.06684 0.65031 E">
                                      <p:cBhvr>
                                        <p:cTn id="148" dur="1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3.05556E-006 0.54167 L -0.07899 0.6247 E">
                                      <p:cBhvr>
                                        <p:cTn id="150" dur="1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42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45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1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8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09" dur="2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11" dur="300" fill="hold"/>
                                        <p:tgtEl>
                                          <p:spTgt spid="10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18" dur="2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22" dur="2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224" dur="300" fill="hold"/>
                                        <p:tgtEl>
                                          <p:spTgt spid="10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31" dur="2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33" dur="300" fill="hold"/>
                                        <p:tgtEl>
                                          <p:spTgt spid="108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35" dur="2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237" dur="300" fill="hold"/>
                                        <p:tgtEl>
                                          <p:spTgt spid="10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2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4" dur="2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46" dur="300" fill="hold"/>
                                        <p:tgtEl>
                                          <p:spTgt spid="110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48" dur="2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50" dur="300" fill="hold"/>
                                        <p:tgtEl>
                                          <p:spTgt spid="11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5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57" dur="2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59" dur="300" fill="hold"/>
                                        <p:tgtEl>
                                          <p:spTgt spid="113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61" dur="2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63" dur="300" fill="hold"/>
                                        <p:tgtEl>
                                          <p:spTgt spid="11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70" dur="2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72" dur="300" fill="hold"/>
                                        <p:tgtEl>
                                          <p:spTgt spid="10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74" dur="2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76" dur="300" fill="hold"/>
                                        <p:tgtEl>
                                          <p:spTgt spid="109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83" dur="2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85" dur="200" fill="hold"/>
                                        <p:tgtEl>
                                          <p:spTgt spid="111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87" dur="2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89" dur="200" fill="hold"/>
                                        <p:tgtEl>
                                          <p:spTgt spid="11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96" dur="2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98" dur="300" fill="hold"/>
                                        <p:tgtEl>
                                          <p:spTgt spid="112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300" dur="2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302" dur="300" fill="hold"/>
                                        <p:tgtEl>
                                          <p:spTgt spid="11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7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309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311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315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lash"/>
          <p:cNvSpPr/>
          <p:nvPr/>
        </p:nvSpPr>
        <p:spPr>
          <a:xfrm>
            <a:off x="2678040" y="179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s"/>
          <p:cNvSpPr/>
          <p:nvPr/>
        </p:nvSpPr>
        <p:spPr>
          <a:xfrm>
            <a:off x="4862160" y="56520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e"/>
          <p:cNvSpPr/>
          <p:nvPr/>
        </p:nvSpPr>
        <p:spPr>
          <a:xfrm>
            <a:off x="495000" y="1349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TF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D"/>
          <p:cNvSpPr/>
          <p:nvPr/>
        </p:nvSpPr>
        <p:spPr>
          <a:xfrm>
            <a:off x="6066720" y="237492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I"/>
          <p:cNvSpPr/>
          <p:nvPr/>
        </p:nvSpPr>
        <p:spPr>
          <a:xfrm>
            <a:off x="673200" y="319716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OK"/>
          <p:cNvSpPr/>
          <p:nvPr/>
        </p:nvSpPr>
        <p:spPr>
          <a:xfrm>
            <a:off x="2503440" y="4032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EB"/>
          <p:cNvSpPr/>
          <p:nvPr/>
        </p:nvSpPr>
        <p:spPr>
          <a:xfrm>
            <a:off x="5798160" y="35701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JAVA"/>
          <p:cNvSpPr/>
          <p:nvPr/>
        </p:nvSpPr>
        <p:spPr>
          <a:xfrm>
            <a:off x="4376160" y="45165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30480" y="1928880"/>
            <a:ext cx="1262160" cy="1262160"/>
            <a:chOff x="3930480" y="1928880"/>
            <a:chExt cx="1262160" cy="1262160"/>
          </a:xfrm>
        </p:grpSpPr>
        <p:sp>
          <p:nvSpPr>
            <p:cNvPr id="124" name="椭圆 15"/>
            <p:cNvSpPr/>
            <p:nvPr/>
          </p:nvSpPr>
          <p:spPr>
            <a:xfrm>
              <a:off x="3930480" y="1928880"/>
              <a:ext cx="12621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6"/>
            <p:cNvSpPr/>
            <p:nvPr/>
          </p:nvSpPr>
          <p:spPr>
            <a:xfrm>
              <a:off x="4218120" y="236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  <a:ea typeface="Calibri"/>
                </a:rPr>
                <a:t>I 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928680" y="1935000"/>
            <a:ext cx="1262520" cy="1262160"/>
            <a:chOff x="3928680" y="1935000"/>
            <a:chExt cx="1262520" cy="1262160"/>
          </a:xfrm>
        </p:grpSpPr>
        <p:sp>
          <p:nvSpPr>
            <p:cNvPr id="127" name="椭圆 10"/>
            <p:cNvSpPr/>
            <p:nvPr/>
          </p:nvSpPr>
          <p:spPr>
            <a:xfrm>
              <a:off x="3928680" y="1935000"/>
              <a:ext cx="126252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1"/>
            <p:cNvSpPr/>
            <p:nvPr/>
          </p:nvSpPr>
          <p:spPr>
            <a:xfrm>
              <a:off x="3987360" y="2374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  <a:ea typeface="Calibri"/>
                </a:rPr>
                <a:t>MY 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8"/>
          <p:cNvSpPr/>
          <p:nvPr/>
        </p:nvSpPr>
        <p:spPr>
          <a:xfrm>
            <a:off x="6631200" y="23749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"/>
          <p:cNvSpPr/>
          <p:nvPr/>
        </p:nvSpPr>
        <p:spPr>
          <a:xfrm>
            <a:off x="6190560" y="35701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"/>
          <p:cNvSpPr/>
          <p:nvPr/>
        </p:nvSpPr>
        <p:spPr>
          <a:xfrm>
            <a:off x="1200600" y="1349280"/>
            <a:ext cx="13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EX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"/>
          <p:cNvSpPr/>
          <p:nvPr/>
        </p:nvSpPr>
        <p:spPr>
          <a:xfrm>
            <a:off x="2638800" y="17928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EX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5"/>
          <p:cNvSpPr/>
          <p:nvPr/>
        </p:nvSpPr>
        <p:spPr>
          <a:xfrm>
            <a:off x="5317920" y="5652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EXT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7"/>
          <p:cNvSpPr/>
          <p:nvPr/>
        </p:nvSpPr>
        <p:spPr>
          <a:xfrm>
            <a:off x="1271520" y="3197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EXT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6"/>
          <p:cNvSpPr/>
          <p:nvPr/>
        </p:nvSpPr>
        <p:spPr>
          <a:xfrm>
            <a:off x="2643480" y="40323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2"/>
          <p:cNvSpPr/>
          <p:nvPr/>
        </p:nvSpPr>
        <p:spPr>
          <a:xfrm>
            <a:off x="4715640" y="45165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3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1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8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1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3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8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1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1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8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8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4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66" dur="2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68" dur="300" fill="hold"/>
                                        <p:tgtEl>
                                          <p:spTgt spid="129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70" dur="2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72" dur="300" fill="hold"/>
                                        <p:tgtEl>
                                          <p:spTgt spid="12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9" dur="2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81" dur="300" fill="hold"/>
                                        <p:tgtEl>
                                          <p:spTgt spid="130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3" dur="2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85" dur="300" fill="hold"/>
                                        <p:tgtEl>
                                          <p:spTgt spid="1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4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97" dur="2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99" dur="300" fill="hold"/>
                                        <p:tgtEl>
                                          <p:spTgt spid="12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06" dur="2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08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10" dur="2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12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419" dur="2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21" dur="300" fill="hold"/>
                                        <p:tgtEl>
                                          <p:spTgt spid="132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23" dur="2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425" dur="300" fill="hold"/>
                                        <p:tgtEl>
                                          <p:spTgt spid="13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32" dur="2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434" dur="300" fill="hold"/>
                                        <p:tgtEl>
                                          <p:spTgt spid="133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36" dur="2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38" dur="300" fill="hold"/>
                                        <p:tgtEl>
                                          <p:spTgt spid="13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45" dur="2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47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49" dur="2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51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458" dur="2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60" dur="300" fill="hold"/>
                                        <p:tgtEl>
                                          <p:spTgt spid="135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462" dur="2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64" dur="300" fill="hold"/>
                                        <p:tgtEl>
                                          <p:spTgt spid="13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9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71" dur="2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73" dur="300" fill="hold"/>
                                        <p:tgtEl>
                                          <p:spTgt spid="136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75" dur="2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7" dur="300" fill="hold"/>
                                        <p:tgtEl>
                                          <p:spTgt spid="13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2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6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2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1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6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1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6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3930480" y="1928880"/>
            <a:ext cx="1262160" cy="1262160"/>
            <a:chOff x="3930480" y="1928880"/>
            <a:chExt cx="1262160" cy="1262160"/>
          </a:xfrm>
        </p:grpSpPr>
        <p:sp>
          <p:nvSpPr>
            <p:cNvPr id="138" name="椭圆 8"/>
            <p:cNvSpPr/>
            <p:nvPr/>
          </p:nvSpPr>
          <p:spPr>
            <a:xfrm>
              <a:off x="3930480" y="1928880"/>
              <a:ext cx="12621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9"/>
            <p:cNvSpPr/>
            <p:nvPr/>
          </p:nvSpPr>
          <p:spPr>
            <a:xfrm>
              <a:off x="4218120" y="236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  <a:ea typeface="Calibri"/>
                </a:rPr>
                <a:t>I 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0"/>
          <p:cNvSpPr/>
          <p:nvPr/>
        </p:nvSpPr>
        <p:spPr>
          <a:xfrm>
            <a:off x="1836720" y="1847880"/>
            <a:ext cx="547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  <a:ea typeface="Calibri"/>
              </a:rPr>
              <a:t>WHAT E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1564920" y="1787400"/>
            <a:ext cx="599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  <a:ea typeface="Calibri"/>
              </a:rPr>
              <a:t>PORTFOLI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95280" y="3098880"/>
            <a:ext cx="2521080" cy="1554120"/>
            <a:chOff x="395280" y="3098880"/>
            <a:chExt cx="2521080" cy="1554120"/>
          </a:xfrm>
        </p:grpSpPr>
        <p:sp>
          <p:nvSpPr>
            <p:cNvPr id="143" name="矩形 15"/>
            <p:cNvSpPr/>
            <p:nvPr/>
          </p:nvSpPr>
          <p:spPr>
            <a:xfrm>
              <a:off x="395280" y="3098880"/>
              <a:ext cx="252108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3"/>
            <p:cNvSpPr/>
            <p:nvPr/>
          </p:nvSpPr>
          <p:spPr>
            <a:xfrm>
              <a:off x="725760" y="35460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95280" y="434880"/>
            <a:ext cx="2521080" cy="1555920"/>
            <a:chOff x="395280" y="434880"/>
            <a:chExt cx="2521080" cy="1555920"/>
          </a:xfrm>
        </p:grpSpPr>
        <p:sp>
          <p:nvSpPr>
            <p:cNvPr id="146" name="矩形 11"/>
            <p:cNvSpPr/>
            <p:nvPr/>
          </p:nvSpPr>
          <p:spPr>
            <a:xfrm>
              <a:off x="395280" y="43488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6"/>
            <p:cNvSpPr/>
            <p:nvPr/>
          </p:nvSpPr>
          <p:spPr>
            <a:xfrm>
              <a:off x="72576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311640" y="434880"/>
            <a:ext cx="2520720" cy="1555920"/>
            <a:chOff x="3311640" y="434880"/>
            <a:chExt cx="2520720" cy="1555920"/>
          </a:xfrm>
        </p:grpSpPr>
        <p:sp>
          <p:nvSpPr>
            <p:cNvPr id="149" name="矩形 2"/>
            <p:cNvSpPr/>
            <p:nvPr/>
          </p:nvSpPr>
          <p:spPr>
            <a:xfrm>
              <a:off x="3311640" y="434880"/>
              <a:ext cx="252072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7"/>
            <p:cNvSpPr/>
            <p:nvPr/>
          </p:nvSpPr>
          <p:spPr>
            <a:xfrm>
              <a:off x="363132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27640" y="434880"/>
            <a:ext cx="2521080" cy="1555920"/>
            <a:chOff x="6227640" y="434880"/>
            <a:chExt cx="2521080" cy="1555920"/>
          </a:xfrm>
        </p:grpSpPr>
        <p:sp>
          <p:nvSpPr>
            <p:cNvPr id="152" name="矩形 12"/>
            <p:cNvSpPr/>
            <p:nvPr/>
          </p:nvSpPr>
          <p:spPr>
            <a:xfrm>
              <a:off x="6227640" y="43488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655812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227640" y="3122640"/>
            <a:ext cx="2521080" cy="1554120"/>
            <a:chOff x="6227640" y="3122640"/>
            <a:chExt cx="2521080" cy="1554120"/>
          </a:xfrm>
        </p:grpSpPr>
        <p:sp>
          <p:nvSpPr>
            <p:cNvPr id="155" name="矩形 14"/>
            <p:cNvSpPr/>
            <p:nvPr/>
          </p:nvSpPr>
          <p:spPr>
            <a:xfrm>
              <a:off x="6227640" y="3122640"/>
              <a:ext cx="252108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9"/>
            <p:cNvSpPr/>
            <p:nvPr/>
          </p:nvSpPr>
          <p:spPr>
            <a:xfrm>
              <a:off x="6558120" y="352188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300480" y="3122640"/>
            <a:ext cx="2520720" cy="1554120"/>
            <a:chOff x="3300480" y="3122640"/>
            <a:chExt cx="2520720" cy="1554120"/>
          </a:xfrm>
        </p:grpSpPr>
        <p:sp>
          <p:nvSpPr>
            <p:cNvPr id="158" name="矩形 13"/>
            <p:cNvSpPr/>
            <p:nvPr/>
          </p:nvSpPr>
          <p:spPr>
            <a:xfrm>
              <a:off x="3300480" y="3122640"/>
              <a:ext cx="252072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20"/>
            <p:cNvSpPr/>
            <p:nvPr/>
          </p:nvSpPr>
          <p:spPr>
            <a:xfrm>
              <a:off x="3641760" y="352188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95280" y="6051600"/>
            <a:ext cx="2521080" cy="1555560"/>
            <a:chOff x="395280" y="6051600"/>
            <a:chExt cx="2521080" cy="1555560"/>
          </a:xfrm>
        </p:grpSpPr>
        <p:sp>
          <p:nvSpPr>
            <p:cNvPr id="161" name="矩形 28"/>
            <p:cNvSpPr/>
            <p:nvPr/>
          </p:nvSpPr>
          <p:spPr>
            <a:xfrm>
              <a:off x="395280" y="6051600"/>
              <a:ext cx="25210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9"/>
            <p:cNvSpPr/>
            <p:nvPr/>
          </p:nvSpPr>
          <p:spPr>
            <a:xfrm>
              <a:off x="725760" y="64753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00480" y="6051600"/>
            <a:ext cx="2520720" cy="1555560"/>
            <a:chOff x="3300480" y="6051600"/>
            <a:chExt cx="2520720" cy="1555560"/>
          </a:xfrm>
        </p:grpSpPr>
        <p:sp>
          <p:nvSpPr>
            <p:cNvPr id="164" name="矩形 31"/>
            <p:cNvSpPr/>
            <p:nvPr/>
          </p:nvSpPr>
          <p:spPr>
            <a:xfrm>
              <a:off x="3300480" y="6051600"/>
              <a:ext cx="252072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2"/>
            <p:cNvSpPr/>
            <p:nvPr/>
          </p:nvSpPr>
          <p:spPr>
            <a:xfrm>
              <a:off x="3630960" y="64753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227640" y="6027840"/>
            <a:ext cx="2521080" cy="1555560"/>
            <a:chOff x="6227640" y="6027840"/>
            <a:chExt cx="2521080" cy="1555560"/>
          </a:xfrm>
        </p:grpSpPr>
        <p:sp>
          <p:nvSpPr>
            <p:cNvPr id="167" name="矩形 34"/>
            <p:cNvSpPr/>
            <p:nvPr/>
          </p:nvSpPr>
          <p:spPr>
            <a:xfrm>
              <a:off x="6227640" y="6027840"/>
              <a:ext cx="25210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35"/>
            <p:cNvSpPr/>
            <p:nvPr/>
          </p:nvSpPr>
          <p:spPr>
            <a:xfrm>
              <a:off x="6558120" y="645156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45280" y="8836200"/>
            <a:ext cx="2519280" cy="1555560"/>
            <a:chOff x="6245280" y="8836200"/>
            <a:chExt cx="2519280" cy="1555560"/>
          </a:xfrm>
        </p:grpSpPr>
        <p:sp>
          <p:nvSpPr>
            <p:cNvPr id="170" name="矩形 37"/>
            <p:cNvSpPr/>
            <p:nvPr/>
          </p:nvSpPr>
          <p:spPr>
            <a:xfrm>
              <a:off x="6245280" y="8836200"/>
              <a:ext cx="25192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38"/>
            <p:cNvSpPr/>
            <p:nvPr/>
          </p:nvSpPr>
          <p:spPr>
            <a:xfrm>
              <a:off x="6575040" y="92599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13080" y="8834400"/>
            <a:ext cx="2519280" cy="1555920"/>
            <a:chOff x="3313080" y="8834400"/>
            <a:chExt cx="2519280" cy="1555920"/>
          </a:xfrm>
        </p:grpSpPr>
        <p:sp>
          <p:nvSpPr>
            <p:cNvPr id="173" name="矩形 40"/>
            <p:cNvSpPr/>
            <p:nvPr/>
          </p:nvSpPr>
          <p:spPr>
            <a:xfrm>
              <a:off x="3313080" y="8834400"/>
              <a:ext cx="25192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41"/>
            <p:cNvSpPr/>
            <p:nvPr/>
          </p:nvSpPr>
          <p:spPr>
            <a:xfrm>
              <a:off x="3642840" y="92581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95280" y="8834400"/>
            <a:ext cx="2521080" cy="1555920"/>
            <a:chOff x="395280" y="8834400"/>
            <a:chExt cx="2521080" cy="1555920"/>
          </a:xfrm>
        </p:grpSpPr>
        <p:sp>
          <p:nvSpPr>
            <p:cNvPr id="176" name="矩形 43"/>
            <p:cNvSpPr/>
            <p:nvPr/>
          </p:nvSpPr>
          <p:spPr>
            <a:xfrm>
              <a:off x="395280" y="883440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44"/>
            <p:cNvSpPr/>
            <p:nvPr/>
          </p:nvSpPr>
          <p:spPr>
            <a:xfrm>
              <a:off x="725760" y="92581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24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4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4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45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551" dur="100" fill="hold"/>
                                        <p:tgtEl>
                                          <p:spTgt spid="14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00122 0 L 0.00122 -0.02809 E">
                                      <p:cBhvr>
                                        <p:cTn id="553" dur="1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8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560" dur="1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62" dur="200" fill="hold"/>
                                        <p:tgtEl>
                                          <p:spTgt spid="14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64" dur="1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66" dur="200" fill="hold"/>
                                        <p:tgtEl>
                                          <p:spTgt spid="14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573" dur="1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75" dur="200" fill="hold"/>
                                        <p:tgtEl>
                                          <p:spTgt spid="14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77" dur="1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79" dur="200" fill="hold"/>
                                        <p:tgtEl>
                                          <p:spTgt spid="14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86" dur="1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588" dur="200" fill="hold"/>
                                        <p:tgtEl>
                                          <p:spTgt spid="15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90" dur="1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592" dur="200" fill="hold"/>
                                        <p:tgtEl>
                                          <p:spTgt spid="15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7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99" dur="1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601" dur="200" fill="hold"/>
                                        <p:tgtEl>
                                          <p:spTgt spid="14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603" dur="1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605" dur="200" fill="hold"/>
                                        <p:tgtEl>
                                          <p:spTgt spid="14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0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612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614" dur="200" fill="hold"/>
                                        <p:tgtEl>
                                          <p:spTgt spid="15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616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618" dur="200" fill="hold"/>
                                        <p:tgtEl>
                                          <p:spTgt spid="15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625" dur="1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627" dur="200" fill="hold"/>
                                        <p:tgtEl>
                                          <p:spTgt spid="15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629" dur="1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631" dur="200" fill="hold"/>
                                        <p:tgtEl>
                                          <p:spTgt spid="15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33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3.82716E-006 L -0.004 1.09044 E">
                                      <p:cBhvr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3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3.29626E-006 L 3.61111E-006 1.11956 E">
                                      <p:cBhvr>
                                        <p:cTn id="639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760">
                                      <p:cBhvr>
                                        <p:cTn id="64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3.61111E-006 -2.07909E-006 L -3.61111E-006 1.09144 E">
                                      <p:cBhvr>
                                        <p:cTn id="643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760">
                                      <p:cBhvr>
                                        <p:cTn id="6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3.61111E-006 2.78344E-006 L -3.61111E-006 1.11492 E">
                                      <p:cBhvr>
                                        <p:cTn id="647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4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-2.07909E-006 L 0 1.07754 E">
                                      <p:cBhvr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760">
                                      <p:cBhvr>
                                        <p:cTn id="65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4.72222E-006 2.78344E-006 L 0.00122 1.11492 E">
                                      <p:cBhvr>
                                        <p:cTn id="655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57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path" presetID="4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59" dur="3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61" dur="4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path" presetID="64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63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path" presetID="4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65" dur="3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67" dur="4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path" presetID="64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69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71" dur="3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73" dur="4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path" presetID="64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7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path" presetID="42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77" dur="3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79" dur="4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xit" presetID="45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path" presetID="64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86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42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88" dur="3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90" dur="4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path" presetID="64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92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path" presetID="42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94" dur="3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96" dur="4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842040" y="1708200"/>
            <a:ext cx="7473240" cy="1727280"/>
            <a:chOff x="842040" y="1708200"/>
            <a:chExt cx="7473240" cy="1727280"/>
          </a:xfrm>
        </p:grpSpPr>
        <p:sp>
          <p:nvSpPr>
            <p:cNvPr id="179" name="矩形 1"/>
            <p:cNvSpPr/>
            <p:nvPr/>
          </p:nvSpPr>
          <p:spPr>
            <a:xfrm>
              <a:off x="842040" y="2310480"/>
              <a:ext cx="40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 illustration goes her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梯形 3"/>
            <p:cNvSpPr/>
            <p:nvPr/>
          </p:nvSpPr>
          <p:spPr>
            <a:xfrm flipV="1" rot="16200000">
              <a:off x="6119640" y="1239840"/>
              <a:ext cx="1727280" cy="2664000"/>
            </a:xfrm>
            <a:custGeom>
              <a:avLst/>
              <a:gdLst>
                <a:gd name="textAreaLeft" fmla="*/ 210600 w 1727280"/>
                <a:gd name="textAreaRight" fmla="*/ 1516680 w 1727280"/>
                <a:gd name="textAreaTop" fmla="*/ 324720 h 2664000"/>
                <a:gd name="textAreaBottom" fmla="*/ 2339280 h 26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10" y="21600"/>
                  </a:lnTo>
                  <a:lnTo>
                    <a:pt x="159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4"/>
            <p:cNvSpPr/>
            <p:nvPr/>
          </p:nvSpPr>
          <p:spPr>
            <a:xfrm>
              <a:off x="5887080" y="2156400"/>
              <a:ext cx="219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LLYSTRA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561000" y="-2178000"/>
            <a:ext cx="2665440" cy="1728720"/>
            <a:chOff x="6561000" y="-2178000"/>
            <a:chExt cx="2665440" cy="1728720"/>
          </a:xfrm>
        </p:grpSpPr>
        <p:sp>
          <p:nvSpPr>
            <p:cNvPr id="183" name="梯形 6"/>
            <p:cNvSpPr/>
            <p:nvPr/>
          </p:nvSpPr>
          <p:spPr>
            <a:xfrm flipV="1" rot="5400000">
              <a:off x="7029360" y="-2646360"/>
              <a:ext cx="1728720" cy="2665440"/>
            </a:xfrm>
            <a:custGeom>
              <a:avLst/>
              <a:gdLst>
                <a:gd name="textAreaLeft" fmla="*/ 210600 w 1728720"/>
                <a:gd name="textAreaRight" fmla="*/ 1518120 w 1728720"/>
                <a:gd name="textAreaTop" fmla="*/ 324720 h 2665440"/>
                <a:gd name="textAreaBottom" fmla="*/ 234072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10" y="21600"/>
                  </a:lnTo>
                  <a:lnTo>
                    <a:pt x="159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7"/>
            <p:cNvSpPr/>
            <p:nvPr/>
          </p:nvSpPr>
          <p:spPr>
            <a:xfrm>
              <a:off x="6797520" y="-1723320"/>
              <a:ext cx="219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LLYSTRA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2"/>
          <p:cNvSpPr/>
          <p:nvPr/>
        </p:nvSpPr>
        <p:spPr>
          <a:xfrm>
            <a:off x="9243000" y="230976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other on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2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2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706" dur="1300" fill="hold"/>
                                        <p:tgtEl>
                                          <p:spTgt spid="178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6997 0.05591 L -0.60729 0.75656 E">
                                      <p:cBhvr>
                                        <p:cTn id="712" dur="9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44444E-006 -3.39203E-006 L -0.48993 -3.39203E-006 E">
                                      <p:cBhvr>
                                        <p:cTn id="714" dur="9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716" dur="1300" fill="hold"/>
                                        <p:tgtEl>
                                          <p:spTgt spid="182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718" dur="1300" fill="hold"/>
                                        <p:tgtEl>
                                          <p:spTgt spid="185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986120" y="5388120"/>
            <a:ext cx="5173200" cy="2643840"/>
            <a:chOff x="1986120" y="5388120"/>
            <a:chExt cx="5173200" cy="2643840"/>
          </a:xfrm>
        </p:grpSpPr>
        <p:sp>
          <p:nvSpPr>
            <p:cNvPr id="187" name="矩形 4"/>
            <p:cNvSpPr/>
            <p:nvPr/>
          </p:nvSpPr>
          <p:spPr>
            <a:xfrm>
              <a:off x="2058480" y="5480280"/>
              <a:ext cx="50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Calibri"/>
                  <a:ea typeface="Calibri"/>
                </a:rPr>
                <a:t>THIS PROJECT WAS MADE WITH THE VER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5"/>
            <p:cNvSpPr/>
            <p:nvPr/>
          </p:nvSpPr>
          <p:spPr>
            <a:xfrm>
              <a:off x="1992960" y="5388120"/>
              <a:ext cx="23842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S4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6"/>
            <p:cNvSpPr/>
            <p:nvPr/>
          </p:nvSpPr>
          <p:spPr>
            <a:xfrm>
              <a:off x="4201560" y="5866920"/>
              <a:ext cx="28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F AFTER EFFE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7"/>
            <p:cNvSpPr/>
            <p:nvPr/>
          </p:nvSpPr>
          <p:spPr>
            <a:xfrm>
              <a:off x="4318920" y="6360120"/>
              <a:ext cx="26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IN HD RE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8"/>
            <p:cNvSpPr/>
            <p:nvPr/>
          </p:nvSpPr>
          <p:spPr>
            <a:xfrm>
              <a:off x="1986120" y="6474960"/>
              <a:ext cx="5173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00000"/>
                  </a:solidFill>
                  <a:latin typeface="Calibri"/>
                  <a:ea typeface="Calibri"/>
                </a:rPr>
                <a:t>1280X720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206360" y="2120760"/>
            <a:ext cx="6730920" cy="880200"/>
            <a:chOff x="1206360" y="2120760"/>
            <a:chExt cx="6730920" cy="880200"/>
          </a:xfrm>
        </p:grpSpPr>
        <p:sp>
          <p:nvSpPr>
            <p:cNvPr id="193" name="矩形 1"/>
            <p:cNvSpPr/>
            <p:nvPr/>
          </p:nvSpPr>
          <p:spPr>
            <a:xfrm>
              <a:off x="1206360" y="2120760"/>
              <a:ext cx="67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ERE YOU CAN PLACE YOUR OWN MESS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2"/>
            <p:cNvSpPr/>
            <p:nvPr/>
          </p:nvSpPr>
          <p:spPr>
            <a:xfrm>
              <a:off x="2378520" y="248040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OR INSERT ANOTHER MED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"/>
          <p:cNvSpPr/>
          <p:nvPr/>
        </p:nvSpPr>
        <p:spPr>
          <a:xfrm>
            <a:off x="2057760" y="1276200"/>
            <a:ext cx="50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alibri"/>
                <a:ea typeface="Calibri"/>
              </a:rPr>
              <a:t>THIS PROJECT WAS MADE WITH THE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"/>
          <p:cNvSpPr/>
          <p:nvPr/>
        </p:nvSpPr>
        <p:spPr>
          <a:xfrm>
            <a:off x="1992240" y="1203480"/>
            <a:ext cx="2384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  <a:ea typeface="Calibri"/>
              </a:rPr>
              <a:t>CS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"/>
          <p:cNvSpPr/>
          <p:nvPr/>
        </p:nvSpPr>
        <p:spPr>
          <a:xfrm>
            <a:off x="4201200" y="163512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 AFT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"/>
          <p:cNvSpPr/>
          <p:nvPr/>
        </p:nvSpPr>
        <p:spPr>
          <a:xfrm>
            <a:off x="4318200" y="213984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IN H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"/>
          <p:cNvSpPr/>
          <p:nvPr/>
        </p:nvSpPr>
        <p:spPr>
          <a:xfrm>
            <a:off x="1986120" y="2298600"/>
            <a:ext cx="517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00000"/>
                </a:solidFill>
                <a:latin typeface="Calibri"/>
                <a:ea typeface="Calibri"/>
              </a:rPr>
              <a:t>1280X7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192320" y="777960"/>
            <a:ext cx="660240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1137240" y="1874880"/>
            <a:ext cx="6870960" cy="1335960"/>
            <a:chOff x="1137240" y="1874880"/>
            <a:chExt cx="6870960" cy="1335960"/>
          </a:xfrm>
        </p:grpSpPr>
        <p:sp>
          <p:nvSpPr>
            <p:cNvPr id="202" name="矩形 9"/>
            <p:cNvSpPr/>
            <p:nvPr/>
          </p:nvSpPr>
          <p:spPr>
            <a:xfrm>
              <a:off x="1137240" y="1874880"/>
              <a:ext cx="687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33"/>
                  </a:solidFill>
                  <a:latin typeface="Calibri"/>
                  <a:ea typeface="Calibri"/>
                </a:rPr>
                <a:t>THIS IS ANOTHER P LACE FOR YOU 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1"/>
            <p:cNvSpPr/>
            <p:nvPr/>
          </p:nvSpPr>
          <p:spPr>
            <a:xfrm>
              <a:off x="2908800" y="2019600"/>
              <a:ext cx="330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DIT IT !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fad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730" dur="3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45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-0.82593 L 0 -0.81945 E">
                                      <p:cBhvr>
                                        <p:cTn id="741" dur="1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760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2" dur="100" fill="hold"/>
                                        <p:tgtEl>
                                          <p:spTgt spid="19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764" dur="2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6" dur="100" fill="hold"/>
                                        <p:tgtEl>
                                          <p:spTgt spid="19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8" dur="2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770" dur="100" fill="hold"/>
                                        <p:tgtEl>
                                          <p:spTgt spid="19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772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774" dur="100" fill="hold"/>
                                        <p:tgtEl>
                                          <p:spTgt spid="19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776" dur="2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778" dur="100" fill="hold"/>
                                        <p:tgtEl>
                                          <p:spTgt spid="19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45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4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995640" y="1995480"/>
            <a:ext cx="1152720" cy="1152360"/>
            <a:chOff x="3995640" y="1995480"/>
            <a:chExt cx="1152720" cy="1152360"/>
          </a:xfrm>
        </p:grpSpPr>
        <p:sp>
          <p:nvSpPr>
            <p:cNvPr id="205" name="椭圆 1"/>
            <p:cNvSpPr/>
            <p:nvPr/>
          </p:nvSpPr>
          <p:spPr>
            <a:xfrm>
              <a:off x="3995640" y="1995480"/>
              <a:ext cx="1152720" cy="1152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2"/>
            <p:cNvSpPr/>
            <p:nvPr/>
          </p:nvSpPr>
          <p:spPr>
            <a:xfrm>
              <a:off x="4036680" y="2217600"/>
              <a:ext cx="107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FOL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ME 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08" name="矩形 11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2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11" name="矩形 17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14" name="矩形 20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1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17" name="矩形 23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24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20" name="矩形 26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27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23" name="矩形 29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30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8" dur="2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20" dur="2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22" dur="100" fill="hold"/>
                                        <p:tgtEl>
                                          <p:spTgt spid="20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2700000">
                                      <p:cBhvr>
                                        <p:cTn id="826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2700000">
                                      <p:cBhvr>
                                        <p:cTn id="828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30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32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34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2700000">
                                      <p:cBhvr>
                                        <p:cTn id="838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40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42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44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48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50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52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56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58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62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66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68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2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4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6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2" dur="4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5" dur="4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4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4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0" dur="4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4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2" dur="4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4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4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7" dur="4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4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4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2" dur="4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4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4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7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4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4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58:00Z</dcterms:created>
  <dc:creator/>
  <dc:description/>
  <cp:keywords>幻灯片之家 http:/www.eeppt.com</cp:keywords>
  <dc:language>en-US</dc:language>
  <cp:lastModifiedBy/>
  <dcterms:modified xsi:type="dcterms:W3CDTF">2015-07-13T13:21:16Z</dcterms:modified>
  <cp:revision>1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