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198D8-47A8-4E97-877D-8D615C7D2E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5280" y="71424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95280"/>
            <a:ext cx="8153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D1F38-8E81-4CF8-BE47-A3B9E8D164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5280" y="71424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3536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35360" y="399528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177C8-20E5-4873-91CC-9F44EB9EE4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71424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14080" y="144792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70600" y="144792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9528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14080" y="399528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70600" y="399528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3C718-2DDE-473E-9D12-B268380001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411B10-C066-43CA-91F2-AEE2A9D2A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5280" y="71424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651C11-E91D-4FBF-94F7-FB2E22ED9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5280" y="71424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ABA1E3-CECD-4954-B925-210786ADA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5280" y="71424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97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5360" y="1447920"/>
            <a:ext cx="397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E57DDF-6FDA-46E4-A06F-A4663595A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5280" y="71424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EE7F70-5EEF-4234-A8D8-50209887D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295280" y="714240"/>
            <a:ext cx="73152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2F4F76-A11B-41E2-B1B2-B45CD45F4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95280" y="71424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5360" y="1447920"/>
            <a:ext cx="397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293F98-7A71-4B8C-AA05-39AA17DB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71424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76F63-3F71-4FEA-85C3-1E1DC7F2E4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71424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97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536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5360" y="399528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7C10A7-998A-483B-93B3-E4A371C65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5280" y="71424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536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8153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252252-FDA1-4F71-BE20-DA0A635B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5280" y="71424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95280"/>
            <a:ext cx="8153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9D8BAC-5B0A-4E5A-AAE8-21DCF590A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71424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536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5360" y="399528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EB5047-A231-4DCE-BFF7-F77C46DB2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5280" y="71424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14080" y="144792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70600" y="144792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9528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14080" y="399528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70600" y="399528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AA8FFA-8831-4D8E-8A9E-B7FEB48DB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5280" y="71424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D24F6-19F4-4177-BDAE-28DCCD93AB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5280" y="71424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97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5360" y="1447920"/>
            <a:ext cx="397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AC174-194C-40D9-A637-E4B0A4126E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71424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57B50-03C5-4D97-85EB-A2F41CA446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95280" y="714240"/>
            <a:ext cx="73152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EA5A6-48FF-4128-90D4-4FBB28FB95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71424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5360" y="1447920"/>
            <a:ext cx="397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19D1C-BC93-4E72-8AB1-D0D4F1BB35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5280" y="71424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97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536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5360" y="399528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2A447-EE6D-4924-A6DA-35238E3365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5280" y="71424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536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8153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F4B8D-9F8C-48B6-9ACE-98DE9F9F60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2"/>
          <p:cNvGraphicFramePr/>
          <p:nvPr/>
        </p:nvGraphicFramePr>
        <p:xfrm>
          <a:off x="152280" y="609480"/>
          <a:ext cx="8839440" cy="76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609480"/>
                    <a:ext cx="88394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" name="Object 3"/>
          <p:cNvGraphicFramePr/>
          <p:nvPr/>
        </p:nvGraphicFramePr>
        <p:xfrm>
          <a:off x="8001000" y="6019920"/>
          <a:ext cx="685800" cy="542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001000" y="6019920"/>
                    <a:ext cx="685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95280" y="714240"/>
            <a:ext cx="731520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0311d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5b8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fb56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0311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0311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0311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30311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30311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6" name="AutoShape 6"/>
          <p:cNvSpPr/>
          <p:nvPr/>
        </p:nvSpPr>
        <p:spPr>
          <a:xfrm>
            <a:off x="152280" y="228600"/>
            <a:ext cx="8839440" cy="6324480"/>
          </a:xfrm>
          <a:prstGeom prst="roundRect">
            <a:avLst>
              <a:gd name="adj" fmla="val 4569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228600" y="655308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" name="Rectangle 8"/>
          <p:cNvSpPr/>
          <p:nvPr/>
        </p:nvSpPr>
        <p:spPr>
          <a:xfrm>
            <a:off x="3200400" y="6553080"/>
            <a:ext cx="2895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1"/>
          </p:nvPr>
        </p:nvSpPr>
        <p:spPr>
          <a:xfrm>
            <a:off x="678132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11753-229F-48BA-8B99-23AD81D5589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238"/>
          <p:cNvPicPr/>
          <p:nvPr/>
        </p:nvPicPr>
        <p:blipFill>
          <a:blip r:embed="rId2"/>
          <a:srcRect l="0" t="1578" r="0" b="0"/>
          <a:stretch/>
        </p:blipFill>
        <p:spPr>
          <a:xfrm>
            <a:off x="-4680" y="0"/>
            <a:ext cx="42656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8"/>
          <p:cNvSpPr/>
          <p:nvPr/>
        </p:nvSpPr>
        <p:spPr>
          <a:xfrm>
            <a:off x="152280" y="228600"/>
            <a:ext cx="8839440" cy="6324480"/>
          </a:xfrm>
          <a:prstGeom prst="roundRect">
            <a:avLst>
              <a:gd name="adj" fmla="val 4569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5280" y="714240"/>
            <a:ext cx="731520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0311d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5b8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fb56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0311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0311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0311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30311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30311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2"/>
          </p:nvPr>
        </p:nvSpPr>
        <p:spPr>
          <a:xfrm>
            <a:off x="22824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3"/>
          </p:nvPr>
        </p:nvSpPr>
        <p:spPr>
          <a:xfrm>
            <a:off x="3200040" y="655272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4"/>
          </p:nvPr>
        </p:nvSpPr>
        <p:spPr>
          <a:xfrm>
            <a:off x="678132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30311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3E5B6-7CD3-4A1A-8C6C-02C6FC1FCDAB}" type="slidenum">
              <a:rPr b="0" lang="zh-CN" sz="1000" spc="-1" strike="noStrike">
                <a:solidFill>
                  <a:srgbClr val="30311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dongtai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43400" y="2895120"/>
            <a:ext cx="42609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0311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b564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355640" y="3789360"/>
            <a:ext cx="4038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0311d"/>
                </a:solidFill>
                <a:latin typeface="Verdana"/>
              </a:rPr>
              <a:t> </a:t>
            </a:r>
            <a:endParaRPr b="1" lang="en-US" sz="16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7391520" y="380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30311d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51280" y="50864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299736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0311d"/>
                </a:solidFill>
                <a:latin typeface="Arial"/>
              </a:rPr>
              <a:t>动态</a:t>
            </a:r>
            <a:r>
              <a:rPr b="0" lang="en-US" sz="3600" spc="-1" strike="noStrike">
                <a:solidFill>
                  <a:srgbClr val="30311d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30311d"/>
                </a:solidFill>
                <a:latin typeface="Arial"/>
              </a:rPr>
              <a:t>模板保护环境</a:t>
            </a:r>
            <a:endParaRPr b="0" lang="en-US" sz="36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6720" y="714240"/>
            <a:ext cx="665964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0311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目录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266920" y="2133720"/>
            <a:ext cx="4724280" cy="685800"/>
            <a:chOff x="2266920" y="2133720"/>
            <a:chExt cx="4724280" cy="685800"/>
          </a:xfrm>
        </p:grpSpPr>
        <p:sp>
          <p:nvSpPr>
            <p:cNvPr id="96" name="AutoShape 4"/>
            <p:cNvSpPr/>
            <p:nvPr/>
          </p:nvSpPr>
          <p:spPr>
            <a:xfrm>
              <a:off x="2647800" y="22528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5a2e9"/>
                </a:gs>
                <a:gs pos="50000">
                  <a:srgbClr val="cdebfa"/>
                </a:gs>
                <a:gs pos="100000">
                  <a:srgbClr val="15a2e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97" name="AutoShape 5"/>
            <p:cNvSpPr/>
            <p:nvPr/>
          </p:nvSpPr>
          <p:spPr>
            <a:xfrm>
              <a:off x="2266920" y="2133720"/>
              <a:ext cx="685800" cy="685800"/>
            </a:xfrm>
            <a:prstGeom prst="diamond">
              <a:avLst/>
            </a:prstGeom>
            <a:solidFill>
              <a:srgbClr val="15a2e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98" name="Text Box 6"/>
            <p:cNvSpPr/>
            <p:nvPr/>
          </p:nvSpPr>
          <p:spPr>
            <a:xfrm>
              <a:off x="2876400" y="2308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0311d"/>
                  </a:solidFill>
                  <a:latin typeface="Arial"/>
                  <a:ea typeface="黑体"/>
                </a:rPr>
                <a:t>请添加标题</a:t>
              </a: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99" name="Text Box 7"/>
            <p:cNvSpPr/>
            <p:nvPr/>
          </p:nvSpPr>
          <p:spPr>
            <a:xfrm>
              <a:off x="2416320" y="2232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2266920" y="2971800"/>
            <a:ext cx="4724280" cy="685800"/>
            <a:chOff x="2266920" y="2971800"/>
            <a:chExt cx="4724280" cy="685800"/>
          </a:xfrm>
        </p:grpSpPr>
        <p:sp>
          <p:nvSpPr>
            <p:cNvPr id="101" name="AutoShape 9"/>
            <p:cNvSpPr/>
            <p:nvPr/>
          </p:nvSpPr>
          <p:spPr>
            <a:xfrm>
              <a:off x="2647800" y="30909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fb564"/>
                </a:gs>
                <a:gs pos="50000">
                  <a:srgbClr val="d6efde"/>
                </a:gs>
                <a:gs pos="100000">
                  <a:srgbClr val="3fb564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02" name="AutoShape 10"/>
            <p:cNvSpPr/>
            <p:nvPr/>
          </p:nvSpPr>
          <p:spPr>
            <a:xfrm>
              <a:off x="2266920" y="2971800"/>
              <a:ext cx="685800" cy="685800"/>
            </a:xfrm>
            <a:prstGeom prst="diamond">
              <a:avLst/>
            </a:prstGeom>
            <a:solidFill>
              <a:srgbClr val="3fb564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03" name="Text Box 11"/>
            <p:cNvSpPr/>
            <p:nvPr/>
          </p:nvSpPr>
          <p:spPr>
            <a:xfrm>
              <a:off x="2876400" y="31464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0311d"/>
                  </a:solidFill>
                  <a:latin typeface="Arial"/>
                  <a:ea typeface="黑体"/>
                </a:rPr>
                <a:t>请添加标题</a:t>
              </a: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04" name="Text Box 12"/>
            <p:cNvSpPr/>
            <p:nvPr/>
          </p:nvSpPr>
          <p:spPr>
            <a:xfrm>
              <a:off x="2416320" y="30700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2266920" y="3809880"/>
            <a:ext cx="4724280" cy="685800"/>
            <a:chOff x="2266920" y="3809880"/>
            <a:chExt cx="4724280" cy="685800"/>
          </a:xfrm>
        </p:grpSpPr>
        <p:sp>
          <p:nvSpPr>
            <p:cNvPr id="106" name="AutoShape 14"/>
            <p:cNvSpPr/>
            <p:nvPr/>
          </p:nvSpPr>
          <p:spPr>
            <a:xfrm>
              <a:off x="2647800" y="39290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5b821"/>
                </a:gs>
                <a:gs pos="50000">
                  <a:srgbClr val="fdf0d0"/>
                </a:gs>
                <a:gs pos="100000">
                  <a:srgbClr val="f5b821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07" name="AutoShape 15"/>
            <p:cNvSpPr/>
            <p:nvPr/>
          </p:nvSpPr>
          <p:spPr>
            <a:xfrm>
              <a:off x="2266920" y="3809880"/>
              <a:ext cx="685800" cy="685800"/>
            </a:xfrm>
            <a:prstGeom prst="diamond">
              <a:avLst/>
            </a:prstGeom>
            <a:solidFill>
              <a:srgbClr val="f5b821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08" name="Text Box 16"/>
            <p:cNvSpPr/>
            <p:nvPr/>
          </p:nvSpPr>
          <p:spPr>
            <a:xfrm>
              <a:off x="2876400" y="39844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0311d"/>
                  </a:solidFill>
                  <a:latin typeface="Arial"/>
                  <a:ea typeface="黑体"/>
                </a:rPr>
                <a:t>请添加标题</a:t>
              </a: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09" name="Text Box 17"/>
            <p:cNvSpPr/>
            <p:nvPr/>
          </p:nvSpPr>
          <p:spPr>
            <a:xfrm>
              <a:off x="2416320" y="3908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266920" y="4724280"/>
            <a:ext cx="4724280" cy="685800"/>
            <a:chOff x="2266920" y="4724280"/>
            <a:chExt cx="4724280" cy="685800"/>
          </a:xfrm>
        </p:grpSpPr>
        <p:sp>
          <p:nvSpPr>
            <p:cNvPr id="111" name="AutoShape 19"/>
            <p:cNvSpPr/>
            <p:nvPr/>
          </p:nvSpPr>
          <p:spPr>
            <a:xfrm>
              <a:off x="2647800" y="4843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1a18b"/>
                </a:gs>
                <a:gs pos="50000">
                  <a:srgbClr val="ebebe6"/>
                </a:gs>
                <a:gs pos="100000">
                  <a:srgbClr val="a1a18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12" name="AutoShape 20"/>
            <p:cNvSpPr/>
            <p:nvPr/>
          </p:nvSpPr>
          <p:spPr>
            <a:xfrm>
              <a:off x="2266920" y="4724280"/>
              <a:ext cx="685800" cy="685800"/>
            </a:xfrm>
            <a:prstGeom prst="diamond">
              <a:avLst/>
            </a:prstGeom>
            <a:solidFill>
              <a:srgbClr val="a1a18b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13" name="Text Box 21"/>
            <p:cNvSpPr/>
            <p:nvPr/>
          </p:nvSpPr>
          <p:spPr>
            <a:xfrm>
              <a:off x="2876400" y="4898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0311d"/>
                  </a:solidFill>
                  <a:latin typeface="Arial"/>
                  <a:ea typeface="黑体"/>
                </a:rPr>
                <a:t>请添加标题</a:t>
              </a: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14" name="Text Box 22"/>
            <p:cNvSpPr/>
            <p:nvPr/>
          </p:nvSpPr>
          <p:spPr>
            <a:xfrm>
              <a:off x="2416320" y="4822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971640" y="4510080"/>
            <a:ext cx="5643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5b821"/>
                </a:solidFill>
                <a:uFillTx/>
                <a:latin typeface="Arial"/>
                <a:hlinkClick r:id="rId1"/>
              </a:rPr>
              <a:t>动态ppt模板</a:t>
            </a:r>
            <a:r>
              <a:rPr b="0" lang="en-US" sz="1800" spc="-1" strike="noStrike">
                <a:solidFill>
                  <a:srgbClr val="30311d"/>
                </a:solidFill>
                <a:latin typeface="Arial"/>
              </a:rPr>
              <a:t>http://www.eeppt.com/dongtai/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0311d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1" lang="en-US" sz="1500" spc="-1" strike="noStrike">
              <a:solidFill>
                <a:srgbClr val="30311d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0311d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5b82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5b82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30311d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0311d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30311d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500" spc="-1" strike="noStrike">
              <a:solidFill>
                <a:srgbClr val="30311d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0311d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30311d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30311d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30311d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30311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1" lang="en-US" sz="1500" spc="-1" strike="noStrike">
              <a:solidFill>
                <a:srgbClr val="30311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30311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1" lang="en-US" sz="1300" spc="-1" strike="noStrike">
              <a:solidFill>
                <a:srgbClr val="30311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1" lang="en-US" sz="1300" spc="-1" strike="noStrike">
              <a:solidFill>
                <a:srgbClr val="30311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1" lang="en-US" sz="1300" spc="-1" strike="noStrike">
              <a:solidFill>
                <a:srgbClr val="30311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1" lang="en-US" sz="1300" spc="-1" strike="noStrike">
              <a:solidFill>
                <a:srgbClr val="30311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1" lang="en-US" sz="1300" spc="-1" strike="noStrike">
              <a:solidFill>
                <a:srgbClr val="30311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1" lang="en-US" sz="1300" spc="-1" strike="noStrike">
              <a:solidFill>
                <a:srgbClr val="30311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1" lang="en-US" sz="1300" spc="-1" strike="noStrike">
              <a:solidFill>
                <a:srgbClr val="30311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1" lang="en-US" sz="1300" spc="-1" strike="noStrike">
              <a:solidFill>
                <a:srgbClr val="30311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1" lang="en-US" sz="1200" spc="-1" strike="noStrike">
              <a:solidFill>
                <a:srgbClr val="30311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0311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0311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0311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0311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0311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0311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0311d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F6481-C69D-41C5-9125-EA484B9F873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714240"/>
            <a:ext cx="731520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0311d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图示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_1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AutoShape 3"/>
          <p:cNvSpPr/>
          <p:nvPr/>
        </p:nvSpPr>
        <p:spPr>
          <a:xfrm rot="5400000">
            <a:off x="785520" y="384156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1" name="未知"/>
          <p:cNvSpPr/>
          <p:nvPr/>
        </p:nvSpPr>
        <p:spPr>
          <a:xfrm>
            <a:off x="873000" y="3763800"/>
            <a:ext cx="2006640" cy="481320"/>
          </a:xfrm>
          <a:prstGeom prst="pie">
            <a:avLst/>
          </a:prstGeom>
          <a:solidFill>
            <a:srgbClr val="15a2e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1398600" y="38512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黑体"/>
              </a:rPr>
              <a:t>请添加标题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861840" y="4441680"/>
            <a:ext cx="2011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请添加</a:t>
            </a: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内容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请添加</a:t>
            </a: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内容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请添加</a:t>
            </a: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内容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4" name="AutoShape 7"/>
          <p:cNvSpPr/>
          <p:nvPr/>
        </p:nvSpPr>
        <p:spPr>
          <a:xfrm rot="5400000">
            <a:off x="3528720" y="384156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5" name="未知"/>
          <p:cNvSpPr/>
          <p:nvPr/>
        </p:nvSpPr>
        <p:spPr>
          <a:xfrm>
            <a:off x="3621240" y="3762360"/>
            <a:ext cx="2001600" cy="480960"/>
          </a:xfrm>
          <a:prstGeom prst="pie">
            <a:avLst/>
          </a:prstGeom>
          <a:solidFill>
            <a:srgbClr val="3fb5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4141800" y="38512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黑体"/>
              </a:rPr>
              <a:t>请添加标题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3605040" y="4441680"/>
            <a:ext cx="2011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请添加</a:t>
            </a: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内容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请添加</a:t>
            </a: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内容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请添加</a:t>
            </a: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内容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8" name="AutoShape 11"/>
          <p:cNvSpPr/>
          <p:nvPr/>
        </p:nvSpPr>
        <p:spPr>
          <a:xfrm rot="5400000">
            <a:off x="6233760" y="3841920"/>
            <a:ext cx="2181240" cy="202860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9" name="未知"/>
          <p:cNvSpPr/>
          <p:nvPr/>
        </p:nvSpPr>
        <p:spPr>
          <a:xfrm>
            <a:off x="6319800" y="3762360"/>
            <a:ext cx="2008080" cy="482760"/>
          </a:xfrm>
          <a:prstGeom prst="pie">
            <a:avLst/>
          </a:prstGeom>
          <a:solidFill>
            <a:srgbClr val="f5b82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6846840" y="38512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黑体"/>
              </a:rPr>
              <a:t>请添加标题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6310440" y="4441680"/>
            <a:ext cx="2011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请添加</a:t>
            </a: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内容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请添加</a:t>
            </a: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内容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请添加</a:t>
            </a: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内容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422520" y="1881360"/>
            <a:ext cx="2382840" cy="537840"/>
            <a:chOff x="3422520" y="1881360"/>
            <a:chExt cx="2382840" cy="537840"/>
          </a:xfrm>
        </p:grpSpPr>
        <p:sp>
          <p:nvSpPr>
            <p:cNvPr id="133" name="AutoShape 16"/>
            <p:cNvSpPr/>
            <p:nvPr/>
          </p:nvSpPr>
          <p:spPr>
            <a:xfrm>
              <a:off x="3422520" y="1881360"/>
              <a:ext cx="2382840" cy="537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34" name="AutoShape 17"/>
            <p:cNvSpPr/>
            <p:nvPr/>
          </p:nvSpPr>
          <p:spPr>
            <a:xfrm>
              <a:off x="3450960" y="1911240"/>
              <a:ext cx="2325960" cy="480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6cb"/>
                </a:gs>
                <a:gs pos="50000">
                  <a:srgbClr val="3fb564">
                    <a:alpha val="90196"/>
                  </a:srgbClr>
                </a:gs>
                <a:gs pos="100000">
                  <a:srgbClr val="bee6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135" name="Rectangle 18"/>
          <p:cNvSpPr/>
          <p:nvPr/>
        </p:nvSpPr>
        <p:spPr>
          <a:xfrm>
            <a:off x="4191840" y="19512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黑体"/>
              </a:rPr>
              <a:t>请添加标题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149880" y="1881360"/>
            <a:ext cx="2384280" cy="537840"/>
            <a:chOff x="6149880" y="1881360"/>
            <a:chExt cx="2384280" cy="537840"/>
          </a:xfrm>
        </p:grpSpPr>
        <p:sp>
          <p:nvSpPr>
            <p:cNvPr id="137" name="AutoShape 20"/>
            <p:cNvSpPr/>
            <p:nvPr/>
          </p:nvSpPr>
          <p:spPr>
            <a:xfrm>
              <a:off x="6149880" y="1881360"/>
              <a:ext cx="2384280" cy="537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38" name="AutoShape 21"/>
            <p:cNvSpPr/>
            <p:nvPr/>
          </p:nvSpPr>
          <p:spPr>
            <a:xfrm>
              <a:off x="6180120" y="1911240"/>
              <a:ext cx="2324160" cy="480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ce7b4"/>
                </a:gs>
                <a:gs pos="50000">
                  <a:srgbClr val="f5b821">
                    <a:alpha val="90196"/>
                  </a:srgbClr>
                </a:gs>
                <a:gs pos="100000">
                  <a:srgbClr val="fce7b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139" name="Rectangle 22"/>
          <p:cNvSpPr/>
          <p:nvPr/>
        </p:nvSpPr>
        <p:spPr>
          <a:xfrm>
            <a:off x="6922440" y="19512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黑体"/>
              </a:rPr>
              <a:t>请添加标题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730080" y="1881360"/>
            <a:ext cx="2384280" cy="537840"/>
            <a:chOff x="730080" y="1881360"/>
            <a:chExt cx="2384280" cy="537840"/>
          </a:xfrm>
        </p:grpSpPr>
        <p:sp>
          <p:nvSpPr>
            <p:cNvPr id="141" name="AutoShape 24"/>
            <p:cNvSpPr/>
            <p:nvPr/>
          </p:nvSpPr>
          <p:spPr>
            <a:xfrm>
              <a:off x="730080" y="1881360"/>
              <a:ext cx="2384280" cy="537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83a54"/>
                </a:gs>
                <a:gs pos="50000">
                  <a:srgbClr val="15a2e9"/>
                </a:gs>
                <a:gs pos="100000">
                  <a:srgbClr val="083a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42" name="AutoShape 25"/>
            <p:cNvSpPr/>
            <p:nvPr/>
          </p:nvSpPr>
          <p:spPr>
            <a:xfrm>
              <a:off x="760320" y="1911240"/>
              <a:ext cx="2324160" cy="480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0e0f8"/>
                </a:gs>
                <a:gs pos="50000">
                  <a:srgbClr val="15a2e9">
                    <a:alpha val="90196"/>
                  </a:srgbClr>
                </a:gs>
                <a:gs pos="100000">
                  <a:srgbClr val="b0e0f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143" name="Rectangle 26"/>
          <p:cNvSpPr/>
          <p:nvPr/>
        </p:nvSpPr>
        <p:spPr>
          <a:xfrm>
            <a:off x="1502640" y="19512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黑体"/>
              </a:rPr>
              <a:t>请添加标题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4" name="AutoShape 27"/>
          <p:cNvSpPr/>
          <p:nvPr/>
        </p:nvSpPr>
        <p:spPr>
          <a:xfrm flipV="1">
            <a:off x="915840" y="2565360"/>
            <a:ext cx="1981440" cy="11685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15a2e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5" name="AutoShape 28"/>
          <p:cNvSpPr/>
          <p:nvPr/>
        </p:nvSpPr>
        <p:spPr>
          <a:xfrm flipV="1">
            <a:off x="3583080" y="2565360"/>
            <a:ext cx="1981080" cy="11685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fb56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6" name="AutoShape 29"/>
          <p:cNvSpPr/>
          <p:nvPr/>
        </p:nvSpPr>
        <p:spPr>
          <a:xfrm flipV="1">
            <a:off x="6326280" y="2565360"/>
            <a:ext cx="1981080" cy="11685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5b82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343400" y="2895120"/>
            <a:ext cx="40384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0311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30311d"/>
                </a:solidFill>
                <a:latin typeface="Verdana"/>
                <a:ea typeface="华文行楷"/>
              </a:rPr>
              <a:t>感谢您的关注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355640" y="3789360"/>
            <a:ext cx="4038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30311d"/>
                </a:solidFill>
                <a:latin typeface="华文行楷"/>
                <a:ea typeface="华文行楷"/>
              </a:rPr>
              <a:t>署名</a:t>
            </a:r>
            <a:r>
              <a:rPr b="0" i="1" lang="zh-CN" sz="1600" spc="-1" strike="noStrike">
                <a:solidFill>
                  <a:srgbClr val="30311d"/>
                </a:solidFill>
                <a:latin typeface="华文行楷"/>
                <a:ea typeface="华文行楷"/>
              </a:rPr>
              <a:t>-</a:t>
            </a:r>
            <a:r>
              <a:rPr b="0" i="1" lang="zh-CN" sz="1600" spc="-1" strike="noStrike">
                <a:solidFill>
                  <a:srgbClr val="30311d"/>
                </a:solidFill>
                <a:latin typeface="华文行楷"/>
                <a:ea typeface="华文行楷"/>
              </a:rPr>
              <a:t>公司</a:t>
            </a:r>
            <a:endParaRPr b="1" lang="en-US" sz="1600" spc="-1" strike="noStrike">
              <a:solidFill>
                <a:srgbClr val="30311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6:49:45Z</dcterms:created>
  <dc:creator/>
  <dc:description/>
  <cp:keywords>幻灯片之家 http:/www.eeppt.com</cp:keywords>
  <dc:language>en-US</dc:language>
  <cp:lastModifiedBy/>
  <dcterms:modified xsi:type="dcterms:W3CDTF">2015-07-07T08:34:27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