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2.png" ContentType="image/png"/>
  <Override PartName="/ppt/media/image25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EDBAD-0C22-48F7-B73F-3173AE756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70645-564F-47F5-BD0F-C126830CD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0C1D1-0896-41B7-AB1E-9DAFD9F90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383A8-6CBF-4057-9509-4C6789D8D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EFB33-7886-45F5-9875-0AC231ED2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D0A0E-3DE3-4777-830F-10DFE44A1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6EB64-4CAA-41CE-9826-8F3AB9BA6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85BC8-6B35-416B-98DE-F3107D607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D5F9F-6552-47C8-9A3F-B26AD64D1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3F697-4328-4EB6-81D3-5029877DF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A2722-BEEC-47B7-A899-92694035A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4D203-3613-4207-9DB4-7FFC7C05F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EDE9C-E7A3-4D22-9906-ED97DBB5F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BAA46-6F9A-4CC2-A7F4-4AB862BDB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6D957-2D28-4A82-BB1C-6CC6E9A59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C68E1-0D4B-4DD8-9AAF-601CEADEF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15847-C347-4F24-9689-CC92A9CC9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0F251-A580-48FB-A6AE-E30F89050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1B390-7D21-47B3-9560-A6F02E3E6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EF0F9-0477-4135-A089-56155BEED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B24E9-733F-43D0-B07F-C7D5D6092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31ADC-0888-412B-BE82-D6EEDA735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98F11-F38B-4AFD-924C-0BA3E751B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A5350-B547-4388-A231-4C9AD5582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74760" indent="3747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24640" indent="-3747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B657B-8E89-42A6-8328-DE5308C890E0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76CA2-560F-44F0-821A-444BC5740825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74760" indent="3747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24640" indent="-3747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6DC13-368E-468C-BFD7-3A5E74F91933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22FCC-2898-4670-8182-81BBB9AAC1DD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6.png"/><Relationship Id="rId8" Type="http://schemas.openxmlformats.org/officeDocument/2006/relationships/image" Target="../media/image16.png"/><Relationship Id="rId9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2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9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矩形 9"/>
          <p:cNvSpPr/>
          <p:nvPr/>
        </p:nvSpPr>
        <p:spPr>
          <a:xfrm>
            <a:off x="0" y="0"/>
            <a:ext cx="9144000" cy="5143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5" descr=""/>
          <p:cNvPicPr/>
          <p:nvPr/>
        </p:nvPicPr>
        <p:blipFill>
          <a:blip r:embed="rId1"/>
          <a:stretch/>
        </p:blipFill>
        <p:spPr>
          <a:xfrm>
            <a:off x="3456000" y="981000"/>
            <a:ext cx="2233440" cy="2238480"/>
          </a:xfrm>
          <a:prstGeom prst="rect">
            <a:avLst/>
          </a:prstGeom>
          <a:ln w="0">
            <a:noFill/>
          </a:ln>
        </p:spPr>
      </p:pic>
      <p:sp>
        <p:nvSpPr>
          <p:cNvPr id="84" name="Text Box 6"/>
          <p:cNvSpPr/>
          <p:nvPr/>
        </p:nvSpPr>
        <p:spPr>
          <a:xfrm>
            <a:off x="3890520" y="3219480"/>
            <a:ext cx="136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让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飞起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7"/>
          <p:cNvSpPr/>
          <p:nvPr/>
        </p:nvSpPr>
        <p:spPr>
          <a:xfrm>
            <a:off x="2651400" y="3651120"/>
            <a:ext cx="383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http://pptshare.qzone.qq.co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12880" y="207504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343520" y="808200"/>
            <a:ext cx="3229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动态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模版免费下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" dur="1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" dur="1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6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9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2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3" name=""/>
          <p:cNvGrpSpPr/>
          <p:nvPr/>
        </p:nvGrpSpPr>
        <p:grpSpPr>
          <a:xfrm>
            <a:off x="3301920" y="1924200"/>
            <a:ext cx="2710080" cy="1087200"/>
            <a:chOff x="3301920" y="1924200"/>
            <a:chExt cx="2710080" cy="1087200"/>
          </a:xfrm>
        </p:grpSpPr>
        <p:pic>
          <p:nvPicPr>
            <p:cNvPr id="904" name="Picture 2" descr=""/>
            <p:cNvPicPr/>
            <p:nvPr/>
          </p:nvPicPr>
          <p:blipFill>
            <a:blip r:embed="rId1"/>
            <a:stretch/>
          </p:blipFill>
          <p:spPr>
            <a:xfrm>
              <a:off x="3301920" y="2132640"/>
              <a:ext cx="2566080" cy="798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5" name="Picture 3" descr=""/>
            <p:cNvPicPr/>
            <p:nvPr/>
          </p:nvPicPr>
          <p:blipFill>
            <a:blip r:embed="rId2"/>
            <a:stretch/>
          </p:blipFill>
          <p:spPr>
            <a:xfrm>
              <a:off x="4692960" y="2653560"/>
              <a:ext cx="1319040" cy="35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6" name="Picture 2" descr=""/>
            <p:cNvPicPr/>
            <p:nvPr/>
          </p:nvPicPr>
          <p:blipFill>
            <a:blip r:embed="rId3"/>
            <a:stretch/>
          </p:blipFill>
          <p:spPr>
            <a:xfrm>
              <a:off x="4473000" y="1924200"/>
              <a:ext cx="1467000" cy="430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24239-1D76-4E44-A5E6-196D654FAC78}" type="slidenum">
              <a:t>10</a:t>
            </a:fld>
          </a:p>
        </p:txBody>
      </p:sp>
    </p:spTree>
  </p:cSld>
  <p:transition spd="slow" advTm="0">
    <p:fade thruBlk="true"/>
  </p:transition>
  <p:timing>
    <p:tnLst>
      <p:par>
        <p:cTn id="595" dur="indefinite" restart="never" nodeType="tmRoot">
          <p:childTnLst>
            <p:seq>
              <p:cTn id="596" dur="indefinite" nodeType="mainSeq">
                <p:childTnLst>
                  <p:par>
                    <p:cTn id="597" fill="hold">
                      <p:stCondLst>
                        <p:cond delay="0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1" dur="1000"/>
                                        <p:tgtEl>
                                          <p:spTgt spid="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2" dur="indefinite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03" dur="5500" fill="hold"/>
                                        <p:tgtEl>
                                          <p:spTgt spid="903"/>
                                        </p:tgtEl>
                                      </p:cBhvr>
                                      <p:to x="90000" y="90000"/>
                                    </p:animScale>
                                  </p:childTnLst>
                                </p:cTn>
                              </p:par>
                              <p:par>
                                <p:cTn id="604" dur="indefinite" nodeType="withEffect" fill="hold" presetClass="exit" presetID="10">
                                  <p:stCondLst>
                                    <p:cond delay="4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05" dur="1000"/>
                                        <p:tgtEl>
                                          <p:spTgt spid="9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908" name="矩形 9"/>
          <p:cNvSpPr/>
          <p:nvPr/>
        </p:nvSpPr>
        <p:spPr>
          <a:xfrm>
            <a:off x="0" y="0"/>
            <a:ext cx="9144000" cy="5143680"/>
          </a:xfrm>
          <a:prstGeom prst="rect">
            <a:avLst/>
          </a:prstGeom>
          <a:solidFill>
            <a:srgbClr val="000000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9" name=""/>
          <p:cNvGrpSpPr/>
          <p:nvPr/>
        </p:nvGrpSpPr>
        <p:grpSpPr>
          <a:xfrm>
            <a:off x="3743280" y="4587840"/>
            <a:ext cx="1657440" cy="434880"/>
            <a:chOff x="3743280" y="4587840"/>
            <a:chExt cx="1657440" cy="434880"/>
          </a:xfrm>
        </p:grpSpPr>
        <p:grpSp>
          <p:nvGrpSpPr>
            <p:cNvPr id="910" name=""/>
            <p:cNvGrpSpPr/>
            <p:nvPr/>
          </p:nvGrpSpPr>
          <p:grpSpPr>
            <a:xfrm>
              <a:off x="4680000" y="4587840"/>
              <a:ext cx="720720" cy="434880"/>
              <a:chOff x="4680000" y="4587840"/>
              <a:chExt cx="720720" cy="434880"/>
            </a:xfrm>
          </p:grpSpPr>
          <p:pic>
            <p:nvPicPr>
              <p:cNvPr id="911" name="Picture 2" descr="">
                <a:hlinkClick r:id="" action="ppaction://hlinkshowjump?jump=firstslide"/>
              </p:cNvPr>
              <p:cNvPicPr/>
              <p:nvPr/>
            </p:nvPicPr>
            <p:blipFill>
              <a:blip r:embed="rId2"/>
              <a:stretch/>
            </p:blipFill>
            <p:spPr>
              <a:xfrm>
                <a:off x="4680000" y="4587840"/>
                <a:ext cx="648720" cy="434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12" name="环形箭头 4"/>
              <p:cNvSpPr/>
              <p:nvPr/>
            </p:nvSpPr>
            <p:spPr>
              <a:xfrm>
                <a:off x="5217840" y="4697280"/>
                <a:ext cx="182880" cy="182880"/>
              </a:xfrm>
              <a:custGeom>
                <a:avLst/>
                <a:gdLst>
                  <a:gd name="textAreaLeft" fmla="*/ 0 w 182880"/>
                  <a:gd name="textAreaRight" fmla="*/ 183240 w 182880"/>
                  <a:gd name="textAreaTop" fmla="*/ 0 h 182880"/>
                  <a:gd name="textAreaBottom" fmla="*/ 183240 h 182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7252" y="5616"/>
                    </a:moveTo>
                    <a:arcTo wR="-8277" hR="-8277" stAng="-2326852" swAng="-19273148"/>
                    <a:lnTo>
                      <a:pt x="0" y="10800"/>
                    </a:lnTo>
                    <a:arcTo wR="10800" hR="10800" stAng="10800000" swAng="19273148"/>
                    <a:lnTo>
                      <a:pt x="276" y="19256"/>
                    </a:lnTo>
                    <a:lnTo>
                      <a:pt x="883" y="13686"/>
                    </a:lnTo>
                    <a:lnTo>
                      <a:pt x="6452" y="1429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3" name=""/>
            <p:cNvGrpSpPr/>
            <p:nvPr/>
          </p:nvGrpSpPr>
          <p:grpSpPr>
            <a:xfrm>
              <a:off x="3743280" y="4587840"/>
              <a:ext cx="648360" cy="434880"/>
              <a:chOff x="3743280" y="4587840"/>
              <a:chExt cx="648360" cy="434880"/>
            </a:xfrm>
          </p:grpSpPr>
          <p:pic>
            <p:nvPicPr>
              <p:cNvPr id="914" name="Picture 3" descr="">
                <a:hlinkClick r:id="" action="ppaction://hlinkshowjump?jump=endshow"/>
              </p:cNvPr>
              <p:cNvPicPr/>
              <p:nvPr/>
            </p:nvPicPr>
            <p:blipFill>
              <a:blip r:embed="rId3"/>
              <a:stretch/>
            </p:blipFill>
            <p:spPr>
              <a:xfrm>
                <a:off x="3743280" y="4587840"/>
                <a:ext cx="648360" cy="434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15" name="下箭头 7"/>
              <p:cNvSpPr/>
              <p:nvPr/>
            </p:nvSpPr>
            <p:spPr>
              <a:xfrm>
                <a:off x="4294800" y="4720320"/>
                <a:ext cx="74160" cy="149760"/>
              </a:xfrm>
              <a:prstGeom prst="downArrow">
                <a:avLst>
                  <a:gd name="adj1" fmla="val 50000"/>
                  <a:gd name="adj2" fmla="val 50008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 spd="slow">
    <p:fade thruBlk="true"/>
  </p:transition>
  <p:timing>
    <p:tnLst>
      <p:par>
        <p:cTn id="607" dur="indefinite" restart="never" nodeType="tmRoot">
          <p:childTnLst>
            <p:seq>
              <p:cTn id="608" dur="indefinite" nodeType="mainSeq">
                <p:childTnLst>
                  <p:par>
                    <p:cTn id="609" fill="hold">
                      <p:stCondLst>
                        <p:cond delay="0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dur="indefinite" nodeType="withEffect" fill="hold" presetClass="entr" presetID="10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3" dur="800"/>
                                        <p:tgtEl>
                                          <p:spTgt spid="9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"/>
          <p:cNvGrpSpPr/>
          <p:nvPr/>
        </p:nvGrpSpPr>
        <p:grpSpPr>
          <a:xfrm>
            <a:off x="3375000" y="2131920"/>
            <a:ext cx="2565360" cy="944640"/>
            <a:chOff x="3375000" y="2131920"/>
            <a:chExt cx="2565360" cy="944640"/>
          </a:xfrm>
        </p:grpSpPr>
        <p:pic>
          <p:nvPicPr>
            <p:cNvPr id="89" name="Picture 2" descr=""/>
            <p:cNvPicPr/>
            <p:nvPr/>
          </p:nvPicPr>
          <p:blipFill>
            <a:blip r:embed="rId1"/>
            <a:stretch/>
          </p:blipFill>
          <p:spPr>
            <a:xfrm>
              <a:off x="3375000" y="2131920"/>
              <a:ext cx="2565360" cy="800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" name="Picture 3" descr=""/>
            <p:cNvPicPr/>
            <p:nvPr/>
          </p:nvPicPr>
          <p:blipFill>
            <a:blip r:embed="rId2"/>
            <a:stretch/>
          </p:blipFill>
          <p:spPr>
            <a:xfrm>
              <a:off x="3973680" y="2717640"/>
              <a:ext cx="1318680" cy="3589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1" name="Silent Night!(Instrumental).mp3" descr=""/>
          <p:cNvPicPr/>
          <p:nvPr/>
        </p:nvPicPr>
        <p:blipFill>
          <a:blip r:embed="rId3"/>
          <a:stretch/>
        </p:blipFill>
        <p:spPr>
          <a:xfrm>
            <a:off x="-1496880" y="-711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" dur="1" fill="hold"/>
                                        <p:tgtEl>
                                          <p:spTgt spid="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dur="indefinite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4" dur="5500" fill="hold"/>
                                        <p:tgtEl>
                                          <p:spTgt spid="88"/>
                                        </p:tgtEl>
                                      </p:cBhvr>
                                      <p:to x="90000" y="90000"/>
                                    </p:animScale>
                                  </p:childTnLst>
                                </p:cTn>
                              </p:par>
                              <p:par>
                                <p:cTn id="35" dur="indefinite" nodeType="withEffect" fill="hold" presetClass="exit" presetID="10">
                                  <p:stCondLst>
                                    <p:cond delay="4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6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"/>
          <p:cNvGrpSpPr/>
          <p:nvPr/>
        </p:nvGrpSpPr>
        <p:grpSpPr>
          <a:xfrm>
            <a:off x="-1023840" y="1851120"/>
            <a:ext cx="11428200" cy="1438200"/>
            <a:chOff x="-1023840" y="1851120"/>
            <a:chExt cx="11428200" cy="1438200"/>
          </a:xfrm>
        </p:grpSpPr>
        <p:grpSp>
          <p:nvGrpSpPr>
            <p:cNvPr id="93" name=""/>
            <p:cNvGrpSpPr/>
            <p:nvPr/>
          </p:nvGrpSpPr>
          <p:grpSpPr>
            <a:xfrm>
              <a:off x="-1023840" y="1851120"/>
              <a:ext cx="11428200" cy="1438200"/>
              <a:chOff x="-1023840" y="1851120"/>
              <a:chExt cx="11428200" cy="1438200"/>
            </a:xfrm>
          </p:grpSpPr>
          <p:sp>
            <p:nvSpPr>
              <p:cNvPr id="94" name="五角星 38"/>
              <p:cNvSpPr/>
              <p:nvPr/>
            </p:nvSpPr>
            <p:spPr>
              <a:xfrm>
                <a:off x="-1023840" y="1851120"/>
                <a:ext cx="11428200" cy="1438200"/>
              </a:xfrm>
              <a:prstGeom prst="star5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五角星 39"/>
              <p:cNvSpPr/>
              <p:nvPr/>
            </p:nvSpPr>
            <p:spPr>
              <a:xfrm>
                <a:off x="1263600" y="2184480"/>
                <a:ext cx="6493320" cy="817200"/>
              </a:xfrm>
              <a:prstGeom prst="star5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6" name=""/>
            <p:cNvGrpSpPr/>
            <p:nvPr/>
          </p:nvGrpSpPr>
          <p:grpSpPr>
            <a:xfrm>
              <a:off x="912600" y="2124360"/>
              <a:ext cx="7721280" cy="971640"/>
              <a:chOff x="912600" y="2124360"/>
              <a:chExt cx="7721280" cy="971640"/>
            </a:xfrm>
          </p:grpSpPr>
          <p:sp>
            <p:nvSpPr>
              <p:cNvPr id="97" name="五角星 36"/>
              <p:cNvSpPr/>
              <p:nvPr/>
            </p:nvSpPr>
            <p:spPr>
              <a:xfrm>
                <a:off x="912600" y="2124360"/>
                <a:ext cx="7721280" cy="971640"/>
              </a:xfrm>
              <a:prstGeom prst="star5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五角星 37"/>
              <p:cNvSpPr/>
              <p:nvPr/>
            </p:nvSpPr>
            <p:spPr>
              <a:xfrm>
                <a:off x="2458080" y="2349360"/>
                <a:ext cx="4386960" cy="552240"/>
              </a:xfrm>
              <a:prstGeom prst="star5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"/>
            <p:cNvGrpSpPr/>
            <p:nvPr/>
          </p:nvGrpSpPr>
          <p:grpSpPr>
            <a:xfrm>
              <a:off x="2545200" y="2345400"/>
              <a:ext cx="4456080" cy="560880"/>
              <a:chOff x="2545200" y="2345400"/>
              <a:chExt cx="4456080" cy="560880"/>
            </a:xfrm>
          </p:grpSpPr>
          <p:sp>
            <p:nvSpPr>
              <p:cNvPr id="100" name="五角星 34"/>
              <p:cNvSpPr/>
              <p:nvPr/>
            </p:nvSpPr>
            <p:spPr>
              <a:xfrm>
                <a:off x="2545200" y="2345400"/>
                <a:ext cx="4456080" cy="560880"/>
              </a:xfrm>
              <a:prstGeom prst="star5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五角星 35"/>
              <p:cNvSpPr/>
              <p:nvPr/>
            </p:nvSpPr>
            <p:spPr>
              <a:xfrm>
                <a:off x="3436920" y="2475360"/>
                <a:ext cx="2531880" cy="318600"/>
              </a:xfrm>
              <a:prstGeom prst="star5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2475000" y="2349720"/>
              <a:ext cx="4456080" cy="560880"/>
              <a:chOff x="2475000" y="2349720"/>
              <a:chExt cx="4456080" cy="560880"/>
            </a:xfrm>
          </p:grpSpPr>
          <p:sp>
            <p:nvSpPr>
              <p:cNvPr id="103" name="五角星 32"/>
              <p:cNvSpPr/>
              <p:nvPr/>
            </p:nvSpPr>
            <p:spPr>
              <a:xfrm>
                <a:off x="2475000" y="2349720"/>
                <a:ext cx="4456080" cy="560880"/>
              </a:xfrm>
              <a:prstGeom prst="star5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五角星 33"/>
              <p:cNvSpPr/>
              <p:nvPr/>
            </p:nvSpPr>
            <p:spPr>
              <a:xfrm>
                <a:off x="3366720" y="2479680"/>
                <a:ext cx="2531880" cy="318600"/>
              </a:xfrm>
              <a:prstGeom prst="star5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"/>
            <p:cNvGrpSpPr/>
            <p:nvPr/>
          </p:nvGrpSpPr>
          <p:grpSpPr>
            <a:xfrm>
              <a:off x="879120" y="2156400"/>
              <a:ext cx="7210440" cy="907560"/>
              <a:chOff x="879120" y="2156400"/>
              <a:chExt cx="7210440" cy="907560"/>
            </a:xfrm>
          </p:grpSpPr>
          <p:sp>
            <p:nvSpPr>
              <p:cNvPr id="106" name="五角星 30"/>
              <p:cNvSpPr/>
              <p:nvPr/>
            </p:nvSpPr>
            <p:spPr>
              <a:xfrm>
                <a:off x="879120" y="2156400"/>
                <a:ext cx="7210440" cy="907560"/>
              </a:xfrm>
              <a:prstGeom prst="star5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五角星 31"/>
              <p:cNvSpPr/>
              <p:nvPr/>
            </p:nvSpPr>
            <p:spPr>
              <a:xfrm>
                <a:off x="2322360" y="2366640"/>
                <a:ext cx="4096800" cy="515520"/>
              </a:xfrm>
              <a:prstGeom prst="star5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"/>
            <p:cNvGrpSpPr/>
            <p:nvPr/>
          </p:nvGrpSpPr>
          <p:grpSpPr>
            <a:xfrm>
              <a:off x="-480960" y="1987200"/>
              <a:ext cx="9931320" cy="1249920"/>
              <a:chOff x="-480960" y="1987200"/>
              <a:chExt cx="9931320" cy="1249920"/>
            </a:xfrm>
          </p:grpSpPr>
          <p:sp>
            <p:nvSpPr>
              <p:cNvPr id="109" name="五角星 28"/>
              <p:cNvSpPr/>
              <p:nvPr/>
            </p:nvSpPr>
            <p:spPr>
              <a:xfrm>
                <a:off x="-480960" y="1987200"/>
                <a:ext cx="9931320" cy="1249920"/>
              </a:xfrm>
              <a:prstGeom prst="star5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五角星 29"/>
              <p:cNvSpPr/>
              <p:nvPr/>
            </p:nvSpPr>
            <p:spPr>
              <a:xfrm>
                <a:off x="1663200" y="2120040"/>
                <a:ext cx="5642640" cy="710280"/>
              </a:xfrm>
              <a:prstGeom prst="star5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椭圆 59"/>
          <p:cNvSpPr/>
          <p:nvPr/>
        </p:nvSpPr>
        <p:spPr>
          <a:xfrm>
            <a:off x="4206960" y="2495520"/>
            <a:ext cx="1085760" cy="10843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-12600" y="2633760"/>
            <a:ext cx="19581840" cy="2530440"/>
            <a:chOff x="-12600" y="2633760"/>
            <a:chExt cx="19581840" cy="2530440"/>
          </a:xfrm>
        </p:grpSpPr>
        <p:sp>
          <p:nvSpPr>
            <p:cNvPr id="113" name="矩形 2"/>
            <p:cNvSpPr/>
            <p:nvPr/>
          </p:nvSpPr>
          <p:spPr>
            <a:xfrm>
              <a:off x="-12600" y="2637000"/>
              <a:ext cx="19566000" cy="2527200"/>
            </a:xfrm>
            <a:custGeom>
              <a:avLst/>
              <a:gdLst>
                <a:gd name="textAreaLeft" fmla="*/ 0 w 19566000"/>
                <a:gd name="textAreaRight" fmla="*/ 19566360 w 19566000"/>
                <a:gd name="textAreaTop" fmla="*/ 0 h 2527200"/>
                <a:gd name="textAreaBottom" fmla="*/ 2527560 h 2527200"/>
              </a:gdLst>
              <a:ahLst/>
              <a:rect l="textAreaLeft" t="textAreaTop" r="textAreaRight" b="textAreaBottom"/>
              <a:pathLst>
                <a:path w="9144000" h="2526760">
                  <a:moveTo>
                    <a:pt x="0" y="154044"/>
                  </a:moveTo>
                  <a:cubicBezTo>
                    <a:pt x="684179" y="151334"/>
                    <a:pt x="1018162" y="2710"/>
                    <a:pt x="1702341" y="0"/>
                  </a:cubicBezTo>
                  <a:cubicBezTo>
                    <a:pt x="3501958" y="48638"/>
                    <a:pt x="5165387" y="223737"/>
                    <a:pt x="6965004" y="272375"/>
                  </a:cubicBezTo>
                  <a:lnTo>
                    <a:pt x="9144000" y="154044"/>
                  </a:lnTo>
                  <a:lnTo>
                    <a:pt x="9144000" y="2526760"/>
                  </a:lnTo>
                  <a:lnTo>
                    <a:pt x="0" y="2526760"/>
                  </a:lnTo>
                  <a:lnTo>
                    <a:pt x="0" y="15404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矩形 2"/>
            <p:cNvSpPr/>
            <p:nvPr/>
          </p:nvSpPr>
          <p:spPr>
            <a:xfrm>
              <a:off x="10080" y="2633760"/>
              <a:ext cx="19559160" cy="2509920"/>
            </a:xfrm>
            <a:custGeom>
              <a:avLst/>
              <a:gdLst>
                <a:gd name="textAreaLeft" fmla="*/ 0 w 19559160"/>
                <a:gd name="textAreaRight" fmla="*/ 19559520 w 19559160"/>
                <a:gd name="textAreaTop" fmla="*/ 0 h 2509920"/>
                <a:gd name="textAreaBottom" fmla="*/ 2510280 h 2509920"/>
              </a:gdLst>
              <a:ahLst/>
              <a:rect l="textAreaLeft" t="textAreaTop" r="textAreaRight" b="textAreaBottom"/>
              <a:pathLst>
                <a:path w="9144000" h="2526760">
                  <a:moveTo>
                    <a:pt x="0" y="154044"/>
                  </a:moveTo>
                  <a:cubicBezTo>
                    <a:pt x="684179" y="151334"/>
                    <a:pt x="1018162" y="2710"/>
                    <a:pt x="1702341" y="0"/>
                  </a:cubicBezTo>
                  <a:cubicBezTo>
                    <a:pt x="3501958" y="48638"/>
                    <a:pt x="5165387" y="223737"/>
                    <a:pt x="6965004" y="272375"/>
                  </a:cubicBezTo>
                  <a:lnTo>
                    <a:pt x="9144000" y="154044"/>
                  </a:lnTo>
                  <a:lnTo>
                    <a:pt x="9144000" y="2526760"/>
                  </a:lnTo>
                  <a:lnTo>
                    <a:pt x="0" y="2526760"/>
                  </a:lnTo>
                  <a:lnTo>
                    <a:pt x="0" y="15404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矩形 2"/>
          <p:cNvSpPr/>
          <p:nvPr/>
        </p:nvSpPr>
        <p:spPr>
          <a:xfrm>
            <a:off x="-31680" y="2654280"/>
            <a:ext cx="19558080" cy="2232000"/>
          </a:xfrm>
          <a:custGeom>
            <a:avLst/>
            <a:gdLst>
              <a:gd name="textAreaLeft" fmla="*/ 0 w 19558080"/>
              <a:gd name="textAreaRight" fmla="*/ 19558440 w 19558080"/>
              <a:gd name="textAreaTop" fmla="*/ 0 h 2232000"/>
              <a:gd name="textAreaBottom" fmla="*/ 2232360 h 2232000"/>
            </a:gdLst>
            <a:ahLst/>
            <a:rect l="textAreaLeft" t="textAreaTop" r="textAreaRight" b="textAreaBottom"/>
            <a:pathLst>
              <a:path w="9144000" h="2526760">
                <a:moveTo>
                  <a:pt x="0" y="154044"/>
                </a:moveTo>
                <a:cubicBezTo>
                  <a:pt x="684179" y="151334"/>
                  <a:pt x="1018162" y="2710"/>
                  <a:pt x="1702341" y="0"/>
                </a:cubicBezTo>
                <a:cubicBezTo>
                  <a:pt x="3501958" y="48638"/>
                  <a:pt x="5165387" y="223737"/>
                  <a:pt x="6965004" y="272375"/>
                </a:cubicBezTo>
                <a:lnTo>
                  <a:pt x="9144000" y="154044"/>
                </a:lnTo>
                <a:lnTo>
                  <a:pt x="9144000" y="2526760"/>
                </a:lnTo>
                <a:lnTo>
                  <a:pt x="0" y="2526760"/>
                </a:lnTo>
                <a:lnTo>
                  <a:pt x="0" y="15404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3043080" y="847800"/>
            <a:ext cx="3473640" cy="3308400"/>
            <a:chOff x="3043080" y="847800"/>
            <a:chExt cx="3473640" cy="3308400"/>
          </a:xfrm>
        </p:grpSpPr>
        <p:sp>
          <p:nvSpPr>
            <p:cNvPr id="117" name="五角星 19"/>
            <p:cNvSpPr/>
            <p:nvPr/>
          </p:nvSpPr>
          <p:spPr>
            <a:xfrm>
              <a:off x="3043080" y="847800"/>
              <a:ext cx="3473640" cy="3308400"/>
            </a:xfrm>
            <a:prstGeom prst="star5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五角星 20"/>
            <p:cNvSpPr/>
            <p:nvPr/>
          </p:nvSpPr>
          <p:spPr>
            <a:xfrm>
              <a:off x="3738240" y="1614600"/>
              <a:ext cx="1973520" cy="1879920"/>
            </a:xfrm>
            <a:prstGeom prst="star5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9847440" y="2178000"/>
            <a:ext cx="2717640" cy="2390760"/>
            <a:chOff x="9847440" y="2178000"/>
            <a:chExt cx="2717640" cy="2390760"/>
          </a:xfrm>
        </p:grpSpPr>
        <p:sp>
          <p:nvSpPr>
            <p:cNvPr id="120" name="椭圆 77"/>
            <p:cNvSpPr/>
            <p:nvPr/>
          </p:nvSpPr>
          <p:spPr>
            <a:xfrm>
              <a:off x="10247040" y="3772080"/>
              <a:ext cx="2318040" cy="796680"/>
            </a:xfrm>
            <a:custGeom>
              <a:avLst/>
              <a:gdLst>
                <a:gd name="textAreaLeft" fmla="*/ 0 w 2318040"/>
                <a:gd name="textAreaRight" fmla="*/ 2318400 w 2318040"/>
                <a:gd name="textAreaTop" fmla="*/ 0 h 796680"/>
                <a:gd name="textAreaBottom" fmla="*/ 797040 h 796680"/>
              </a:gdLst>
              <a:ahLst/>
              <a:rect l="textAreaLeft" t="textAreaTop" r="textAreaRight" b="textAreaBottom"/>
              <a:pathLst>
                <a:path w="1647508" h="831928">
                  <a:moveTo>
                    <a:pt x="0" y="338498"/>
                  </a:moveTo>
                  <a:cubicBezTo>
                    <a:pt x="0" y="151551"/>
                    <a:pt x="248039" y="0"/>
                    <a:pt x="554010" y="0"/>
                  </a:cubicBezTo>
                  <a:cubicBezTo>
                    <a:pt x="859981" y="0"/>
                    <a:pt x="1037750" y="247717"/>
                    <a:pt x="1108020" y="338498"/>
                  </a:cubicBezTo>
                  <a:cubicBezTo>
                    <a:pt x="1178290" y="429279"/>
                    <a:pt x="1729447" y="760647"/>
                    <a:pt x="1637112" y="817063"/>
                  </a:cubicBezTo>
                  <a:cubicBezTo>
                    <a:pt x="1544777" y="873479"/>
                    <a:pt x="826862" y="756757"/>
                    <a:pt x="554010" y="676996"/>
                  </a:cubicBezTo>
                  <a:cubicBezTo>
                    <a:pt x="281158" y="597235"/>
                    <a:pt x="0" y="525445"/>
                    <a:pt x="0" y="338498"/>
                  </a:cubicBezTo>
                  <a:close/>
                </a:path>
              </a:pathLst>
            </a:custGeom>
            <a:solidFill>
              <a:srgbClr val="000000">
                <a:alpha val="2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1" name=""/>
            <p:cNvGrpSpPr/>
            <p:nvPr/>
          </p:nvGrpSpPr>
          <p:grpSpPr>
            <a:xfrm>
              <a:off x="10049760" y="2178000"/>
              <a:ext cx="1514160" cy="2100600"/>
              <a:chOff x="10049760" y="2178000"/>
              <a:chExt cx="1514160" cy="2100600"/>
            </a:xfrm>
          </p:grpSpPr>
          <p:sp>
            <p:nvSpPr>
              <p:cNvPr id="122" name="椭圆 76"/>
              <p:cNvSpPr/>
              <p:nvPr/>
            </p:nvSpPr>
            <p:spPr>
              <a:xfrm>
                <a:off x="10231920" y="2178000"/>
                <a:ext cx="1134720" cy="11347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椭圆 75"/>
              <p:cNvSpPr/>
              <p:nvPr/>
            </p:nvSpPr>
            <p:spPr>
              <a:xfrm>
                <a:off x="10049760" y="2764080"/>
                <a:ext cx="1514160" cy="15145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10353960" y="2502360"/>
              <a:ext cx="365040" cy="70200"/>
              <a:chOff x="10353960" y="2502360"/>
              <a:chExt cx="365040" cy="70200"/>
            </a:xfrm>
          </p:grpSpPr>
          <p:sp>
            <p:nvSpPr>
              <p:cNvPr id="125" name="椭圆 81"/>
              <p:cNvSpPr/>
              <p:nvPr/>
            </p:nvSpPr>
            <p:spPr>
              <a:xfrm>
                <a:off x="10353960" y="2502360"/>
                <a:ext cx="64080" cy="64440"/>
              </a:xfrm>
              <a:prstGeom prst="ellipse">
                <a:avLst/>
              </a:prstGeom>
              <a:solidFill>
                <a:srgbClr val="3f3f3f">
                  <a:alpha val="7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椭圆 82"/>
              <p:cNvSpPr/>
              <p:nvPr/>
            </p:nvSpPr>
            <p:spPr>
              <a:xfrm>
                <a:off x="10654920" y="2508120"/>
                <a:ext cx="64080" cy="64440"/>
              </a:xfrm>
              <a:prstGeom prst="ellipse">
                <a:avLst/>
              </a:prstGeom>
              <a:solidFill>
                <a:srgbClr val="3f3f3f">
                  <a:alpha val="7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7" name="任意多边形 80"/>
            <p:cNvSpPr/>
            <p:nvPr/>
          </p:nvSpPr>
          <p:spPr>
            <a:xfrm rot="13881000">
              <a:off x="10345680" y="2734920"/>
              <a:ext cx="668520" cy="300960"/>
            </a:xfrm>
            <a:custGeom>
              <a:avLst/>
              <a:gdLst>
                <a:gd name="textAreaLeft" fmla="*/ 0 w 668520"/>
                <a:gd name="textAreaRight" fmla="*/ 668520 w 668520"/>
                <a:gd name="textAreaTop" fmla="*/ 0 h 300960"/>
                <a:gd name="textAreaBottom" fmla="*/ 301320 h 300960"/>
              </a:gdLst>
              <a:ahLst/>
              <a:rect l="textAreaLeft" t="textAreaTop" r="textAreaRight" b="textAreaBottom"/>
              <a:pathLst>
                <a:path w="475140" h="214009">
                  <a:moveTo>
                    <a:pt x="379379" y="0"/>
                  </a:moveTo>
                  <a:cubicBezTo>
                    <a:pt x="292536" y="48187"/>
                    <a:pt x="227043" y="87914"/>
                    <a:pt x="140200" y="136101"/>
                  </a:cubicBezTo>
                  <a:lnTo>
                    <a:pt x="0" y="214009"/>
                  </a:lnTo>
                  <a:lnTo>
                    <a:pt x="456690" y="78150"/>
                  </a:lnTo>
                  <a:cubicBezTo>
                    <a:pt x="455675" y="65418"/>
                    <a:pt x="476119" y="71814"/>
                    <a:pt x="475104" y="59082"/>
                  </a:cubicBezTo>
                  <a:lnTo>
                    <a:pt x="466928" y="29183"/>
                  </a:lnTo>
                  <a:cubicBezTo>
                    <a:pt x="452824" y="23255"/>
                    <a:pt x="441524" y="8912"/>
                    <a:pt x="427420" y="2984"/>
                  </a:cubicBezTo>
                  <a:lnTo>
                    <a:pt x="379379" y="0"/>
                  </a:lnTo>
                  <a:close/>
                </a:path>
              </a:pathLst>
            </a:custGeom>
            <a:solidFill>
              <a:srgbClr val="000000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任意多边形 79"/>
            <p:cNvSpPr/>
            <p:nvPr/>
          </p:nvSpPr>
          <p:spPr>
            <a:xfrm>
              <a:off x="9847440" y="2657520"/>
              <a:ext cx="668520" cy="314640"/>
            </a:xfrm>
            <a:custGeom>
              <a:avLst/>
              <a:gdLst>
                <a:gd name="textAreaLeft" fmla="*/ 0 w 668520"/>
                <a:gd name="textAreaRight" fmla="*/ 668880 w 668520"/>
                <a:gd name="textAreaTop" fmla="*/ 0 h 314640"/>
                <a:gd name="textAreaBottom" fmla="*/ 315000 h 314640"/>
              </a:gdLst>
              <a:ahLst/>
              <a:rect l="textAreaLeft" t="textAreaTop" r="textAreaRight" b="textAreaBottom"/>
              <a:pathLst>
                <a:path w="475175" h="214009">
                  <a:moveTo>
                    <a:pt x="379379" y="0"/>
                  </a:moveTo>
                  <a:lnTo>
                    <a:pt x="0" y="214009"/>
                  </a:lnTo>
                  <a:lnTo>
                    <a:pt x="466928" y="97277"/>
                  </a:lnTo>
                  <a:cubicBezTo>
                    <a:pt x="465913" y="84545"/>
                    <a:pt x="476119" y="71814"/>
                    <a:pt x="475104" y="59082"/>
                  </a:cubicBezTo>
                  <a:lnTo>
                    <a:pt x="466928" y="29183"/>
                  </a:lnTo>
                  <a:cubicBezTo>
                    <a:pt x="452824" y="23255"/>
                    <a:pt x="441524" y="8912"/>
                    <a:pt x="427420" y="2984"/>
                  </a:cubicBezTo>
                  <a:lnTo>
                    <a:pt x="379379" y="0"/>
                  </a:lnTo>
                  <a:close/>
                </a:path>
              </a:pathLst>
            </a:custGeom>
            <a:solidFill>
              <a:srgbClr val="a581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3252960" y="1060560"/>
            <a:ext cx="3119400" cy="2970000"/>
            <a:chOff x="3252960" y="1060560"/>
            <a:chExt cx="3119400" cy="2970000"/>
          </a:xfrm>
        </p:grpSpPr>
        <p:sp>
          <p:nvSpPr>
            <p:cNvPr id="130" name="五角星 104"/>
            <p:cNvSpPr/>
            <p:nvPr/>
          </p:nvSpPr>
          <p:spPr>
            <a:xfrm>
              <a:off x="3252960" y="1060560"/>
              <a:ext cx="3119400" cy="2970000"/>
            </a:xfrm>
            <a:prstGeom prst="star5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五角星 105"/>
            <p:cNvSpPr/>
            <p:nvPr/>
          </p:nvSpPr>
          <p:spPr>
            <a:xfrm>
              <a:off x="3877200" y="1748880"/>
              <a:ext cx="1772280" cy="1687320"/>
            </a:xfrm>
            <a:prstGeom prst="star5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五角星 50"/>
          <p:cNvSpPr/>
          <p:nvPr/>
        </p:nvSpPr>
        <p:spPr>
          <a:xfrm>
            <a:off x="-2927520" y="-1058760"/>
            <a:ext cx="5229360" cy="4979880"/>
          </a:xfrm>
          <a:prstGeom prst="star5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4"/>
          <p:cNvSpPr/>
          <p:nvPr/>
        </p:nvSpPr>
        <p:spPr>
          <a:xfrm>
            <a:off x="-39600" y="2238480"/>
            <a:ext cx="9219960" cy="2936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48"/>
          <p:cNvSpPr/>
          <p:nvPr/>
        </p:nvSpPr>
        <p:spPr>
          <a:xfrm flipV="1">
            <a:off x="0" y="-69120"/>
            <a:ext cx="9180360" cy="297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4140360" y="1995480"/>
            <a:ext cx="863280" cy="824040"/>
            <a:chOff x="4140360" y="1995480"/>
            <a:chExt cx="863280" cy="824040"/>
          </a:xfrm>
        </p:grpSpPr>
        <p:sp>
          <p:nvSpPr>
            <p:cNvPr id="136" name="五角星 73"/>
            <p:cNvSpPr/>
            <p:nvPr/>
          </p:nvSpPr>
          <p:spPr>
            <a:xfrm>
              <a:off x="4140360" y="1995480"/>
              <a:ext cx="863280" cy="824040"/>
            </a:xfrm>
            <a:prstGeom prst="star5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7" name=""/>
            <p:cNvGrpSpPr/>
            <p:nvPr/>
          </p:nvGrpSpPr>
          <p:grpSpPr>
            <a:xfrm>
              <a:off x="4339800" y="2210760"/>
              <a:ext cx="481680" cy="469080"/>
              <a:chOff x="4339800" y="2210760"/>
              <a:chExt cx="481680" cy="469080"/>
            </a:xfrm>
          </p:grpSpPr>
          <p:sp>
            <p:nvSpPr>
              <p:cNvPr id="138" name="十字星 84"/>
              <p:cNvSpPr/>
              <p:nvPr/>
            </p:nvSpPr>
            <p:spPr>
              <a:xfrm>
                <a:off x="4436280" y="2299320"/>
                <a:ext cx="289080" cy="290160"/>
              </a:xfrm>
              <a:custGeom>
                <a:avLst/>
                <a:gdLst>
                  <a:gd name="textAreaLeft" fmla="*/ 42840 w 289080"/>
                  <a:gd name="textAreaRight" fmla="*/ 246240 w 289080"/>
                  <a:gd name="textAreaTop" fmla="*/ 42840 h 290160"/>
                  <a:gd name="textAreaBottom" fmla="*/ 247320 h 290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3200" y="3200"/>
                    </a:lnTo>
                    <a:lnTo>
                      <a:pt x="10800" y="0"/>
                    </a:lnTo>
                    <a:lnTo>
                      <a:pt x="18400" y="3200"/>
                    </a:lnTo>
                    <a:lnTo>
                      <a:pt x="21600" y="10800"/>
                    </a:lnTo>
                    <a:lnTo>
                      <a:pt x="18400" y="18400"/>
                    </a:lnTo>
                    <a:lnTo>
                      <a:pt x="10800" y="21600"/>
                    </a:lnTo>
                    <a:lnTo>
                      <a:pt x="3200" y="18400"/>
                    </a:lnTo>
                    <a:lnTo>
                      <a:pt x="0" y="10800"/>
                    </a:lnTo>
                    <a:close/>
                  </a:path>
                </a:pathLst>
              </a:custGeom>
              <a:noFill/>
              <a:ln w="9360">
                <a:solidFill>
                  <a:srgbClr val="ffffff">
                    <a:alpha val="75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十字星 85"/>
              <p:cNvSpPr/>
              <p:nvPr/>
            </p:nvSpPr>
            <p:spPr>
              <a:xfrm>
                <a:off x="4512960" y="2379960"/>
                <a:ext cx="137520" cy="137880"/>
              </a:xfrm>
              <a:custGeom>
                <a:avLst/>
                <a:gdLst>
                  <a:gd name="textAreaLeft" fmla="*/ 20160 w 137520"/>
                  <a:gd name="textAreaRight" fmla="*/ 117360 w 137520"/>
                  <a:gd name="textAreaTop" fmla="*/ 20160 h 137880"/>
                  <a:gd name="textAreaBottom" fmla="*/ 117720 h 137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3200" y="3200"/>
                    </a:lnTo>
                    <a:lnTo>
                      <a:pt x="10800" y="0"/>
                    </a:lnTo>
                    <a:lnTo>
                      <a:pt x="18400" y="3200"/>
                    </a:lnTo>
                    <a:lnTo>
                      <a:pt x="21600" y="10800"/>
                    </a:lnTo>
                    <a:lnTo>
                      <a:pt x="18400" y="18400"/>
                    </a:lnTo>
                    <a:lnTo>
                      <a:pt x="10800" y="21600"/>
                    </a:lnTo>
                    <a:lnTo>
                      <a:pt x="3200" y="18400"/>
                    </a:lnTo>
                    <a:lnTo>
                      <a:pt x="0" y="10800"/>
                    </a:lnTo>
                    <a:close/>
                  </a:path>
                </a:pathLst>
              </a:custGeom>
              <a:noFill/>
              <a:ln w="9360">
                <a:solidFill>
                  <a:srgbClr val="ffffff">
                    <a:alpha val="75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任意多边形 86"/>
              <p:cNvSpPr/>
              <p:nvPr/>
            </p:nvSpPr>
            <p:spPr>
              <a:xfrm>
                <a:off x="4677120" y="2396520"/>
                <a:ext cx="23400" cy="99360"/>
              </a:xfrm>
              <a:custGeom>
                <a:avLst/>
                <a:gdLst>
                  <a:gd name="textAreaLeft" fmla="*/ 0 w 23400"/>
                  <a:gd name="textAreaRight" fmla="*/ 23760 w 23400"/>
                  <a:gd name="textAreaTop" fmla="*/ 0 h 99360"/>
                  <a:gd name="textAreaBottom" fmla="*/ 99720 h 99360"/>
                </a:gdLst>
                <a:ahLst/>
                <a:rect l="textAreaLeft" t="textAreaTop" r="textAreaRight" b="textAreaBottom"/>
                <a:pathLst>
                  <a:path w="105196" h="445062">
                    <a:moveTo>
                      <a:pt x="0" y="0"/>
                    </a:moveTo>
                    <a:lnTo>
                      <a:pt x="105196" y="218485"/>
                    </a:lnTo>
                    <a:lnTo>
                      <a:pt x="8092" y="445062"/>
                    </a:lnTo>
                  </a:path>
                </a:pathLst>
              </a:custGeom>
              <a:noFill/>
              <a:ln w="9360">
                <a:solidFill>
                  <a:srgbClr val="ffffff">
                    <a:alpha val="75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任意多边形 88"/>
              <p:cNvSpPr/>
              <p:nvPr/>
            </p:nvSpPr>
            <p:spPr>
              <a:xfrm flipH="1">
                <a:off x="4467600" y="2396160"/>
                <a:ext cx="23400" cy="9936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99360"/>
                  <a:gd name="textAreaBottom" fmla="*/ 99720 h 99360"/>
                </a:gdLst>
                <a:ahLst/>
                <a:rect l="textAreaLeft" t="textAreaTop" r="textAreaRight" b="textAreaBottom"/>
                <a:pathLst>
                  <a:path w="105196" h="445062">
                    <a:moveTo>
                      <a:pt x="0" y="0"/>
                    </a:moveTo>
                    <a:lnTo>
                      <a:pt x="105196" y="218485"/>
                    </a:lnTo>
                    <a:lnTo>
                      <a:pt x="8092" y="445062"/>
                    </a:lnTo>
                  </a:path>
                </a:pathLst>
              </a:custGeom>
              <a:noFill/>
              <a:ln w="9360">
                <a:solidFill>
                  <a:srgbClr val="ffffff">
                    <a:alpha val="75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任意多边形 89"/>
              <p:cNvSpPr/>
              <p:nvPr/>
            </p:nvSpPr>
            <p:spPr>
              <a:xfrm flipH="1" rot="16200000">
                <a:off x="4570920" y="2495520"/>
                <a:ext cx="23400" cy="9936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99360"/>
                  <a:gd name="textAreaBottom" fmla="*/ 99720 h 99360"/>
                </a:gdLst>
                <a:ahLst/>
                <a:rect l="textAreaLeft" t="textAreaTop" r="textAreaRight" b="textAreaBottom"/>
                <a:pathLst>
                  <a:path w="105196" h="445062">
                    <a:moveTo>
                      <a:pt x="0" y="0"/>
                    </a:moveTo>
                    <a:lnTo>
                      <a:pt x="105196" y="218485"/>
                    </a:lnTo>
                    <a:lnTo>
                      <a:pt x="8092" y="445062"/>
                    </a:lnTo>
                  </a:path>
                </a:pathLst>
              </a:custGeom>
              <a:noFill/>
              <a:ln w="9360">
                <a:solidFill>
                  <a:srgbClr val="ffffff">
                    <a:alpha val="75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任意多边形 90"/>
              <p:cNvSpPr/>
              <p:nvPr/>
            </p:nvSpPr>
            <p:spPr>
              <a:xfrm flipH="1" flipV="1" rot="5400000">
                <a:off x="4572360" y="2296440"/>
                <a:ext cx="23400" cy="9936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360 h 99360"/>
                  <a:gd name="textAreaBottom" fmla="*/ 100080 h 99360"/>
                </a:gdLst>
                <a:ahLst/>
                <a:rect l="textAreaLeft" t="textAreaTop" r="textAreaRight" b="textAreaBottom"/>
                <a:pathLst>
                  <a:path w="105196" h="445062">
                    <a:moveTo>
                      <a:pt x="0" y="0"/>
                    </a:moveTo>
                    <a:lnTo>
                      <a:pt x="105196" y="218485"/>
                    </a:lnTo>
                    <a:lnTo>
                      <a:pt x="8092" y="445062"/>
                    </a:lnTo>
                  </a:path>
                </a:pathLst>
              </a:custGeom>
              <a:noFill/>
              <a:ln w="9360">
                <a:solidFill>
                  <a:srgbClr val="ffffff">
                    <a:alpha val="75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4" name=""/>
              <p:cNvGrpSpPr/>
              <p:nvPr/>
            </p:nvGrpSpPr>
            <p:grpSpPr>
              <a:xfrm>
                <a:off x="4339800" y="2396160"/>
                <a:ext cx="481680" cy="101160"/>
                <a:chOff x="4339800" y="2396160"/>
                <a:chExt cx="481680" cy="101160"/>
              </a:xfrm>
            </p:grpSpPr>
            <p:sp>
              <p:nvSpPr>
                <p:cNvPr id="145" name="直接连接符 109"/>
                <p:cNvSpPr/>
                <p:nvPr/>
              </p:nvSpPr>
              <p:spPr>
                <a:xfrm flipH="1">
                  <a:off x="4344840" y="2444400"/>
                  <a:ext cx="466200" cy="720"/>
                </a:xfrm>
                <a:prstGeom prst="line">
                  <a:avLst/>
                </a:prstGeom>
                <a:ln w="9360">
                  <a:solidFill>
                    <a:srgbClr val="ffffff">
                      <a:alpha val="75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任意多边形 110"/>
                <p:cNvSpPr/>
                <p:nvPr/>
              </p:nvSpPr>
              <p:spPr>
                <a:xfrm flipH="1">
                  <a:off x="4797720" y="2396160"/>
                  <a:ext cx="23400" cy="9936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99360"/>
                    <a:gd name="textAreaBottom" fmla="*/ 99720 h 99360"/>
                  </a:gdLst>
                  <a:ahLst/>
                  <a:rect l="textAreaLeft" t="textAreaTop" r="textAreaRight" b="textAreaBottom"/>
                  <a:pathLst>
                    <a:path w="105196" h="445062">
                      <a:moveTo>
                        <a:pt x="0" y="0"/>
                      </a:moveTo>
                      <a:lnTo>
                        <a:pt x="105196" y="218485"/>
                      </a:lnTo>
                      <a:lnTo>
                        <a:pt x="8092" y="445062"/>
                      </a:lnTo>
                    </a:path>
                  </a:pathLst>
                </a:custGeom>
                <a:noFill/>
                <a:ln w="9360">
                  <a:solidFill>
                    <a:srgbClr val="ffffff">
                      <a:alpha val="75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任意多边形 111"/>
                <p:cNvSpPr/>
                <p:nvPr/>
              </p:nvSpPr>
              <p:spPr>
                <a:xfrm>
                  <a:off x="4339800" y="2397960"/>
                  <a:ext cx="23400" cy="99360"/>
                </a:xfrm>
                <a:custGeom>
                  <a:avLst/>
                  <a:gdLst>
                    <a:gd name="textAreaLeft" fmla="*/ 0 w 23400"/>
                    <a:gd name="textAreaRight" fmla="*/ 23760 w 23400"/>
                    <a:gd name="textAreaTop" fmla="*/ 0 h 99360"/>
                    <a:gd name="textAreaBottom" fmla="*/ 99720 h 99360"/>
                  </a:gdLst>
                  <a:ahLst/>
                  <a:rect l="textAreaLeft" t="textAreaTop" r="textAreaRight" b="textAreaBottom"/>
                  <a:pathLst>
                    <a:path w="105196" h="445062">
                      <a:moveTo>
                        <a:pt x="0" y="0"/>
                      </a:moveTo>
                      <a:lnTo>
                        <a:pt x="105196" y="218485"/>
                      </a:lnTo>
                      <a:lnTo>
                        <a:pt x="8092" y="445062"/>
                      </a:lnTo>
                    </a:path>
                  </a:pathLst>
                </a:custGeom>
                <a:noFill/>
                <a:ln w="9360">
                  <a:solidFill>
                    <a:srgbClr val="ffffff">
                      <a:alpha val="75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8" name="六边形 92"/>
              <p:cNvSpPr/>
              <p:nvPr/>
            </p:nvSpPr>
            <p:spPr>
              <a:xfrm>
                <a:off x="4387680" y="2266200"/>
                <a:ext cx="385920" cy="351000"/>
              </a:xfrm>
              <a:prstGeom prst="hexagon">
                <a:avLst>
                  <a:gd name="adj" fmla="val 24937"/>
                  <a:gd name="vf" fmla="val 115470"/>
                </a:avLst>
              </a:prstGeom>
              <a:noFill/>
              <a:ln w="9360">
                <a:solidFill>
                  <a:srgbClr val="ffffff">
                    <a:alpha val="75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9" name=""/>
              <p:cNvGrpSpPr/>
              <p:nvPr/>
            </p:nvGrpSpPr>
            <p:grpSpPr>
              <a:xfrm>
                <a:off x="4412160" y="2212560"/>
                <a:ext cx="329400" cy="467280"/>
                <a:chOff x="4412160" y="2212560"/>
                <a:chExt cx="329400" cy="467280"/>
              </a:xfrm>
            </p:grpSpPr>
            <p:sp>
              <p:nvSpPr>
                <p:cNvPr id="150" name="直接连接符 99"/>
                <p:cNvSpPr/>
                <p:nvPr/>
              </p:nvSpPr>
              <p:spPr>
                <a:xfrm flipH="1" flipV="1">
                  <a:off x="4460040" y="2240640"/>
                  <a:ext cx="234360" cy="404640"/>
                </a:xfrm>
                <a:prstGeom prst="line">
                  <a:avLst/>
                </a:prstGeom>
                <a:ln w="9360">
                  <a:solidFill>
                    <a:srgbClr val="ffffff">
                      <a:alpha val="75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任意多边形 106"/>
                <p:cNvSpPr/>
                <p:nvPr/>
              </p:nvSpPr>
              <p:spPr>
                <a:xfrm flipH="1" rot="3600000">
                  <a:off x="4680720" y="2594880"/>
                  <a:ext cx="23400" cy="9936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99360"/>
                    <a:gd name="textAreaBottom" fmla="*/ 99720 h 99360"/>
                  </a:gdLst>
                  <a:ahLst/>
                  <a:rect l="textAreaLeft" t="textAreaTop" r="textAreaRight" b="textAreaBottom"/>
                  <a:pathLst>
                    <a:path w="105196" h="445062">
                      <a:moveTo>
                        <a:pt x="0" y="0"/>
                      </a:moveTo>
                      <a:lnTo>
                        <a:pt x="105196" y="218485"/>
                      </a:lnTo>
                      <a:lnTo>
                        <a:pt x="8092" y="445062"/>
                      </a:lnTo>
                    </a:path>
                  </a:pathLst>
                </a:custGeom>
                <a:noFill/>
                <a:ln w="9360">
                  <a:solidFill>
                    <a:srgbClr val="ffffff">
                      <a:alpha val="75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任意多边形 108"/>
                <p:cNvSpPr/>
                <p:nvPr/>
              </p:nvSpPr>
              <p:spPr>
                <a:xfrm rot="3600000">
                  <a:off x="4449240" y="2197800"/>
                  <a:ext cx="23400" cy="99360"/>
                </a:xfrm>
                <a:custGeom>
                  <a:avLst/>
                  <a:gdLst>
                    <a:gd name="textAreaLeft" fmla="*/ 0 w 23400"/>
                    <a:gd name="textAreaRight" fmla="*/ 23760 w 23400"/>
                    <a:gd name="textAreaTop" fmla="*/ 0 h 99360"/>
                    <a:gd name="textAreaBottom" fmla="*/ 99720 h 99360"/>
                  </a:gdLst>
                  <a:ahLst/>
                  <a:rect l="textAreaLeft" t="textAreaTop" r="textAreaRight" b="textAreaBottom"/>
                  <a:pathLst>
                    <a:path w="105196" h="445062">
                      <a:moveTo>
                        <a:pt x="0" y="0"/>
                      </a:moveTo>
                      <a:lnTo>
                        <a:pt x="105196" y="218485"/>
                      </a:lnTo>
                      <a:lnTo>
                        <a:pt x="8092" y="445062"/>
                      </a:lnTo>
                    </a:path>
                  </a:pathLst>
                </a:custGeom>
                <a:noFill/>
                <a:ln w="9360">
                  <a:solidFill>
                    <a:srgbClr val="ffffff">
                      <a:alpha val="75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4419720" y="2210760"/>
                <a:ext cx="329400" cy="468360"/>
                <a:chOff x="4419720" y="2210760"/>
                <a:chExt cx="329400" cy="468360"/>
              </a:xfrm>
            </p:grpSpPr>
            <p:sp>
              <p:nvSpPr>
                <p:cNvPr id="154" name="直接连接符 96"/>
                <p:cNvSpPr/>
                <p:nvPr/>
              </p:nvSpPr>
              <p:spPr>
                <a:xfrm flipV="1">
                  <a:off x="4466880" y="2238840"/>
                  <a:ext cx="234360" cy="404640"/>
                </a:xfrm>
                <a:prstGeom prst="line">
                  <a:avLst/>
                </a:prstGeom>
                <a:ln w="9360">
                  <a:solidFill>
                    <a:srgbClr val="ffffff">
                      <a:alpha val="75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任意多边形 97"/>
                <p:cNvSpPr/>
                <p:nvPr/>
              </p:nvSpPr>
              <p:spPr>
                <a:xfrm rot="18000000">
                  <a:off x="4456800" y="2593440"/>
                  <a:ext cx="23400" cy="99720"/>
                </a:xfrm>
                <a:custGeom>
                  <a:avLst/>
                  <a:gdLst>
                    <a:gd name="textAreaLeft" fmla="*/ 0 w 23400"/>
                    <a:gd name="textAreaRight" fmla="*/ 23760 w 23400"/>
                    <a:gd name="textAreaTop" fmla="*/ 0 h 99720"/>
                    <a:gd name="textAreaBottom" fmla="*/ 100080 h 99720"/>
                  </a:gdLst>
                  <a:ahLst/>
                  <a:rect l="textAreaLeft" t="textAreaTop" r="textAreaRight" b="textAreaBottom"/>
                  <a:pathLst>
                    <a:path w="105196" h="445062">
                      <a:moveTo>
                        <a:pt x="0" y="0"/>
                      </a:moveTo>
                      <a:lnTo>
                        <a:pt x="105196" y="218485"/>
                      </a:lnTo>
                      <a:lnTo>
                        <a:pt x="8092" y="445062"/>
                      </a:lnTo>
                    </a:path>
                  </a:pathLst>
                </a:custGeom>
                <a:noFill/>
                <a:ln w="9360">
                  <a:solidFill>
                    <a:srgbClr val="ffffff">
                      <a:alpha val="75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任意多边形 98"/>
                <p:cNvSpPr/>
                <p:nvPr/>
              </p:nvSpPr>
              <p:spPr>
                <a:xfrm flipH="1" rot="18000000">
                  <a:off x="4688280" y="2196000"/>
                  <a:ext cx="23400" cy="9972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99720"/>
                    <a:gd name="textAreaBottom" fmla="*/ 100080 h 99720"/>
                  </a:gdLst>
                  <a:ahLst/>
                  <a:rect l="textAreaLeft" t="textAreaTop" r="textAreaRight" b="textAreaBottom"/>
                  <a:pathLst>
                    <a:path w="105196" h="445062">
                      <a:moveTo>
                        <a:pt x="0" y="0"/>
                      </a:moveTo>
                      <a:lnTo>
                        <a:pt x="105196" y="218485"/>
                      </a:lnTo>
                      <a:lnTo>
                        <a:pt x="8092" y="445062"/>
                      </a:lnTo>
                    </a:path>
                  </a:pathLst>
                </a:custGeom>
                <a:noFill/>
                <a:ln w="9360">
                  <a:solidFill>
                    <a:srgbClr val="ffffff">
                      <a:alpha val="75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157" name="Picture 3" descr=""/>
          <p:cNvPicPr/>
          <p:nvPr/>
        </p:nvPicPr>
        <p:blipFill>
          <a:blip r:embed="rId1"/>
          <a:stretch/>
        </p:blipFill>
        <p:spPr>
          <a:xfrm>
            <a:off x="5137200" y="1890720"/>
            <a:ext cx="3414600" cy="1133640"/>
          </a:xfrm>
          <a:prstGeom prst="rect">
            <a:avLst/>
          </a:prstGeom>
          <a:ln w="0">
            <a:noFill/>
          </a:ln>
        </p:spPr>
      </p:pic>
      <p:sp>
        <p:nvSpPr>
          <p:cNvPr id="158" name="五角星 114"/>
          <p:cNvSpPr/>
          <p:nvPr/>
        </p:nvSpPr>
        <p:spPr>
          <a:xfrm>
            <a:off x="10117080" y="1924200"/>
            <a:ext cx="903240" cy="903240"/>
          </a:xfrm>
          <a:prstGeom prst="star5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五角星 113"/>
          <p:cNvSpPr/>
          <p:nvPr/>
        </p:nvSpPr>
        <p:spPr>
          <a:xfrm>
            <a:off x="9391680" y="1203480"/>
            <a:ext cx="2247840" cy="2139840"/>
          </a:xfrm>
          <a:prstGeom prst="star5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9720360" y="3834720"/>
            <a:ext cx="2177640" cy="1224720"/>
            <a:chOff x="9720360" y="3834720"/>
            <a:chExt cx="2177640" cy="1224720"/>
          </a:xfrm>
        </p:grpSpPr>
        <p:sp>
          <p:nvSpPr>
            <p:cNvPr id="161" name="任意多边形 17"/>
            <p:cNvSpPr/>
            <p:nvPr/>
          </p:nvSpPr>
          <p:spPr>
            <a:xfrm>
              <a:off x="11053080" y="4475880"/>
              <a:ext cx="204120" cy="267120"/>
            </a:xfrm>
            <a:custGeom>
              <a:avLst/>
              <a:gdLst>
                <a:gd name="textAreaLeft" fmla="*/ 0 w 204120"/>
                <a:gd name="textAreaRight" fmla="*/ 204480 w 204120"/>
                <a:gd name="textAreaTop" fmla="*/ 0 h 267120"/>
                <a:gd name="textAreaBottom" fmla="*/ 267480 h 267120"/>
              </a:gdLst>
              <a:ahLst/>
              <a:rect l="textAreaLeft" t="textAreaTop" r="textAreaRight" b="textAreaBottom"/>
              <a:pathLst>
                <a:path w="345809" h="452213">
                  <a:moveTo>
                    <a:pt x="3325" y="66502"/>
                  </a:moveTo>
                  <a:cubicBezTo>
                    <a:pt x="2217" y="110837"/>
                    <a:pt x="1108" y="155171"/>
                    <a:pt x="0" y="199506"/>
                  </a:cubicBezTo>
                  <a:lnTo>
                    <a:pt x="53201" y="315884"/>
                  </a:lnTo>
                  <a:lnTo>
                    <a:pt x="133004" y="415637"/>
                  </a:lnTo>
                  <a:lnTo>
                    <a:pt x="209481" y="452213"/>
                  </a:lnTo>
                  <a:lnTo>
                    <a:pt x="302583" y="442237"/>
                  </a:lnTo>
                  <a:lnTo>
                    <a:pt x="345809" y="399011"/>
                  </a:lnTo>
                  <a:lnTo>
                    <a:pt x="332509" y="285958"/>
                  </a:lnTo>
                  <a:lnTo>
                    <a:pt x="285958" y="133004"/>
                  </a:lnTo>
                  <a:lnTo>
                    <a:pt x="172905" y="39901"/>
                  </a:lnTo>
                  <a:lnTo>
                    <a:pt x="76477" y="0"/>
                  </a:lnTo>
                  <a:lnTo>
                    <a:pt x="16625" y="9976"/>
                  </a:lnTo>
                  <a:lnTo>
                    <a:pt x="3325" y="66502"/>
                  </a:lnTo>
                  <a:close/>
                </a:path>
              </a:pathLst>
            </a:custGeom>
            <a:solidFill>
              <a:srgbClr val="a6a6a6">
                <a:alpha val="2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任意多边形 242"/>
            <p:cNvSpPr/>
            <p:nvPr/>
          </p:nvSpPr>
          <p:spPr>
            <a:xfrm>
              <a:off x="11323440" y="4792320"/>
              <a:ext cx="204120" cy="267120"/>
            </a:xfrm>
            <a:custGeom>
              <a:avLst/>
              <a:gdLst>
                <a:gd name="textAreaLeft" fmla="*/ 0 w 204120"/>
                <a:gd name="textAreaRight" fmla="*/ 204480 w 204120"/>
                <a:gd name="textAreaTop" fmla="*/ 0 h 267120"/>
                <a:gd name="textAreaBottom" fmla="*/ 267480 h 267120"/>
              </a:gdLst>
              <a:ahLst/>
              <a:rect l="textAreaLeft" t="textAreaTop" r="textAreaRight" b="textAreaBottom"/>
              <a:pathLst>
                <a:path w="345809" h="452213">
                  <a:moveTo>
                    <a:pt x="3325" y="66502"/>
                  </a:moveTo>
                  <a:cubicBezTo>
                    <a:pt x="2217" y="110837"/>
                    <a:pt x="1108" y="155171"/>
                    <a:pt x="0" y="199506"/>
                  </a:cubicBezTo>
                  <a:lnTo>
                    <a:pt x="53201" y="315884"/>
                  </a:lnTo>
                  <a:lnTo>
                    <a:pt x="133004" y="415637"/>
                  </a:lnTo>
                  <a:lnTo>
                    <a:pt x="209481" y="452213"/>
                  </a:lnTo>
                  <a:lnTo>
                    <a:pt x="302583" y="442237"/>
                  </a:lnTo>
                  <a:lnTo>
                    <a:pt x="345809" y="399011"/>
                  </a:lnTo>
                  <a:lnTo>
                    <a:pt x="332509" y="285958"/>
                  </a:lnTo>
                  <a:lnTo>
                    <a:pt x="285958" y="133004"/>
                  </a:lnTo>
                  <a:lnTo>
                    <a:pt x="172905" y="39901"/>
                  </a:lnTo>
                  <a:lnTo>
                    <a:pt x="76477" y="0"/>
                  </a:lnTo>
                  <a:lnTo>
                    <a:pt x="16625" y="9976"/>
                  </a:lnTo>
                  <a:lnTo>
                    <a:pt x="3325" y="66502"/>
                  </a:lnTo>
                  <a:close/>
                </a:path>
              </a:pathLst>
            </a:custGeom>
            <a:solidFill>
              <a:srgbClr val="a6a6a6">
                <a:alpha val="2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任意多边形 243"/>
            <p:cNvSpPr/>
            <p:nvPr/>
          </p:nvSpPr>
          <p:spPr>
            <a:xfrm>
              <a:off x="10848600" y="4732200"/>
              <a:ext cx="204120" cy="267120"/>
            </a:xfrm>
            <a:custGeom>
              <a:avLst/>
              <a:gdLst>
                <a:gd name="textAreaLeft" fmla="*/ 0 w 204120"/>
                <a:gd name="textAreaRight" fmla="*/ 204480 w 204120"/>
                <a:gd name="textAreaTop" fmla="*/ 0 h 267120"/>
                <a:gd name="textAreaBottom" fmla="*/ 267480 h 267120"/>
              </a:gdLst>
              <a:ahLst/>
              <a:rect l="textAreaLeft" t="textAreaTop" r="textAreaRight" b="textAreaBottom"/>
              <a:pathLst>
                <a:path w="345809" h="452213">
                  <a:moveTo>
                    <a:pt x="3325" y="66502"/>
                  </a:moveTo>
                  <a:cubicBezTo>
                    <a:pt x="2217" y="110837"/>
                    <a:pt x="1108" y="155171"/>
                    <a:pt x="0" y="199506"/>
                  </a:cubicBezTo>
                  <a:lnTo>
                    <a:pt x="53201" y="315884"/>
                  </a:lnTo>
                  <a:lnTo>
                    <a:pt x="133004" y="415637"/>
                  </a:lnTo>
                  <a:lnTo>
                    <a:pt x="209481" y="452213"/>
                  </a:lnTo>
                  <a:lnTo>
                    <a:pt x="302583" y="442237"/>
                  </a:lnTo>
                  <a:lnTo>
                    <a:pt x="345809" y="399011"/>
                  </a:lnTo>
                  <a:lnTo>
                    <a:pt x="332509" y="285958"/>
                  </a:lnTo>
                  <a:lnTo>
                    <a:pt x="285958" y="133004"/>
                  </a:lnTo>
                  <a:lnTo>
                    <a:pt x="172905" y="39901"/>
                  </a:lnTo>
                  <a:lnTo>
                    <a:pt x="76477" y="0"/>
                  </a:lnTo>
                  <a:lnTo>
                    <a:pt x="16625" y="9976"/>
                  </a:lnTo>
                  <a:lnTo>
                    <a:pt x="3325" y="66502"/>
                  </a:lnTo>
                  <a:close/>
                </a:path>
              </a:pathLst>
            </a:custGeom>
            <a:solidFill>
              <a:srgbClr val="a6a6a6">
                <a:alpha val="2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任意多边形 244"/>
            <p:cNvSpPr/>
            <p:nvPr/>
          </p:nvSpPr>
          <p:spPr>
            <a:xfrm rot="20146800">
              <a:off x="10015560" y="4151880"/>
              <a:ext cx="204120" cy="267120"/>
            </a:xfrm>
            <a:custGeom>
              <a:avLst/>
              <a:gdLst>
                <a:gd name="textAreaLeft" fmla="*/ 0 w 204120"/>
                <a:gd name="textAreaRight" fmla="*/ 204480 w 204120"/>
                <a:gd name="textAreaTop" fmla="*/ 0 h 267120"/>
                <a:gd name="textAreaBottom" fmla="*/ 267480 h 267120"/>
              </a:gdLst>
              <a:ahLst/>
              <a:rect l="textAreaLeft" t="textAreaTop" r="textAreaRight" b="textAreaBottom"/>
              <a:pathLst>
                <a:path w="345809" h="452213">
                  <a:moveTo>
                    <a:pt x="3325" y="66502"/>
                  </a:moveTo>
                  <a:cubicBezTo>
                    <a:pt x="2217" y="110837"/>
                    <a:pt x="1108" y="155171"/>
                    <a:pt x="0" y="199506"/>
                  </a:cubicBezTo>
                  <a:lnTo>
                    <a:pt x="53201" y="315884"/>
                  </a:lnTo>
                  <a:lnTo>
                    <a:pt x="133004" y="415637"/>
                  </a:lnTo>
                  <a:lnTo>
                    <a:pt x="209481" y="452213"/>
                  </a:lnTo>
                  <a:lnTo>
                    <a:pt x="302583" y="442237"/>
                  </a:lnTo>
                  <a:lnTo>
                    <a:pt x="345809" y="399011"/>
                  </a:lnTo>
                  <a:lnTo>
                    <a:pt x="332509" y="285958"/>
                  </a:lnTo>
                  <a:lnTo>
                    <a:pt x="285958" y="133004"/>
                  </a:lnTo>
                  <a:lnTo>
                    <a:pt x="172905" y="39901"/>
                  </a:lnTo>
                  <a:lnTo>
                    <a:pt x="76477" y="0"/>
                  </a:lnTo>
                  <a:lnTo>
                    <a:pt x="16625" y="9976"/>
                  </a:lnTo>
                  <a:lnTo>
                    <a:pt x="3325" y="66502"/>
                  </a:lnTo>
                  <a:close/>
                </a:path>
              </a:pathLst>
            </a:custGeom>
            <a:solidFill>
              <a:srgbClr val="a6a6a6">
                <a:alpha val="2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任意多边形 245"/>
            <p:cNvSpPr/>
            <p:nvPr/>
          </p:nvSpPr>
          <p:spPr>
            <a:xfrm>
              <a:off x="10482480" y="4382280"/>
              <a:ext cx="204120" cy="267120"/>
            </a:xfrm>
            <a:custGeom>
              <a:avLst/>
              <a:gdLst>
                <a:gd name="textAreaLeft" fmla="*/ 0 w 204120"/>
                <a:gd name="textAreaRight" fmla="*/ 204480 w 204120"/>
                <a:gd name="textAreaTop" fmla="*/ 0 h 267120"/>
                <a:gd name="textAreaBottom" fmla="*/ 267480 h 267120"/>
              </a:gdLst>
              <a:ahLst/>
              <a:rect l="textAreaLeft" t="textAreaTop" r="textAreaRight" b="textAreaBottom"/>
              <a:pathLst>
                <a:path w="345809" h="452213">
                  <a:moveTo>
                    <a:pt x="3325" y="66502"/>
                  </a:moveTo>
                  <a:cubicBezTo>
                    <a:pt x="2217" y="110837"/>
                    <a:pt x="1108" y="155171"/>
                    <a:pt x="0" y="199506"/>
                  </a:cubicBezTo>
                  <a:lnTo>
                    <a:pt x="53201" y="315884"/>
                  </a:lnTo>
                  <a:lnTo>
                    <a:pt x="133004" y="415637"/>
                  </a:lnTo>
                  <a:lnTo>
                    <a:pt x="209481" y="452213"/>
                  </a:lnTo>
                  <a:lnTo>
                    <a:pt x="302583" y="442237"/>
                  </a:lnTo>
                  <a:lnTo>
                    <a:pt x="345809" y="399011"/>
                  </a:lnTo>
                  <a:lnTo>
                    <a:pt x="332509" y="285958"/>
                  </a:lnTo>
                  <a:lnTo>
                    <a:pt x="285958" y="133004"/>
                  </a:lnTo>
                  <a:lnTo>
                    <a:pt x="172905" y="39901"/>
                  </a:lnTo>
                  <a:lnTo>
                    <a:pt x="76477" y="0"/>
                  </a:lnTo>
                  <a:lnTo>
                    <a:pt x="16625" y="9976"/>
                  </a:lnTo>
                  <a:lnTo>
                    <a:pt x="3325" y="66502"/>
                  </a:lnTo>
                  <a:close/>
                </a:path>
              </a:pathLst>
            </a:custGeom>
            <a:solidFill>
              <a:srgbClr val="a6a6a6">
                <a:alpha val="2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任意多边形 246"/>
            <p:cNvSpPr/>
            <p:nvPr/>
          </p:nvSpPr>
          <p:spPr>
            <a:xfrm rot="4060200">
              <a:off x="11616120" y="4133520"/>
              <a:ext cx="204480" cy="266760"/>
            </a:xfrm>
            <a:custGeom>
              <a:avLst/>
              <a:gdLst>
                <a:gd name="textAreaLeft" fmla="*/ 0 w 204480"/>
                <a:gd name="textAreaRight" fmla="*/ 204840 w 204480"/>
                <a:gd name="textAreaTop" fmla="*/ 0 h 266760"/>
                <a:gd name="textAreaBottom" fmla="*/ 267120 h 266760"/>
              </a:gdLst>
              <a:ahLst/>
              <a:rect l="textAreaLeft" t="textAreaTop" r="textAreaRight" b="textAreaBottom"/>
              <a:pathLst>
                <a:path w="345809" h="452213">
                  <a:moveTo>
                    <a:pt x="3325" y="66502"/>
                  </a:moveTo>
                  <a:cubicBezTo>
                    <a:pt x="2217" y="110837"/>
                    <a:pt x="1108" y="155171"/>
                    <a:pt x="0" y="199506"/>
                  </a:cubicBezTo>
                  <a:lnTo>
                    <a:pt x="53201" y="315884"/>
                  </a:lnTo>
                  <a:lnTo>
                    <a:pt x="133004" y="415637"/>
                  </a:lnTo>
                  <a:lnTo>
                    <a:pt x="209481" y="452213"/>
                  </a:lnTo>
                  <a:lnTo>
                    <a:pt x="302583" y="442237"/>
                  </a:lnTo>
                  <a:lnTo>
                    <a:pt x="345809" y="399011"/>
                  </a:lnTo>
                  <a:lnTo>
                    <a:pt x="332509" y="285958"/>
                  </a:lnTo>
                  <a:lnTo>
                    <a:pt x="285958" y="133004"/>
                  </a:lnTo>
                  <a:lnTo>
                    <a:pt x="172905" y="39901"/>
                  </a:lnTo>
                  <a:lnTo>
                    <a:pt x="76477" y="0"/>
                  </a:lnTo>
                  <a:lnTo>
                    <a:pt x="16625" y="9976"/>
                  </a:lnTo>
                  <a:lnTo>
                    <a:pt x="3325" y="66502"/>
                  </a:lnTo>
                  <a:close/>
                </a:path>
              </a:pathLst>
            </a:custGeom>
            <a:solidFill>
              <a:srgbClr val="3f3f3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任意多边形 247"/>
            <p:cNvSpPr/>
            <p:nvPr/>
          </p:nvSpPr>
          <p:spPr>
            <a:xfrm rot="4060200">
              <a:off x="11386080" y="3976920"/>
              <a:ext cx="204480" cy="266760"/>
            </a:xfrm>
            <a:custGeom>
              <a:avLst/>
              <a:gdLst>
                <a:gd name="textAreaLeft" fmla="*/ 0 w 204480"/>
                <a:gd name="textAreaRight" fmla="*/ 204840 w 204480"/>
                <a:gd name="textAreaTop" fmla="*/ 0 h 266760"/>
                <a:gd name="textAreaBottom" fmla="*/ 267120 h 266760"/>
              </a:gdLst>
              <a:ahLst/>
              <a:rect l="textAreaLeft" t="textAreaTop" r="textAreaRight" b="textAreaBottom"/>
              <a:pathLst>
                <a:path w="345809" h="452213">
                  <a:moveTo>
                    <a:pt x="3325" y="66502"/>
                  </a:moveTo>
                  <a:cubicBezTo>
                    <a:pt x="2217" y="110837"/>
                    <a:pt x="1108" y="155171"/>
                    <a:pt x="0" y="199506"/>
                  </a:cubicBezTo>
                  <a:lnTo>
                    <a:pt x="53201" y="315884"/>
                  </a:lnTo>
                  <a:lnTo>
                    <a:pt x="133004" y="415637"/>
                  </a:lnTo>
                  <a:lnTo>
                    <a:pt x="209481" y="452213"/>
                  </a:lnTo>
                  <a:lnTo>
                    <a:pt x="302583" y="442237"/>
                  </a:lnTo>
                  <a:lnTo>
                    <a:pt x="345809" y="399011"/>
                  </a:lnTo>
                  <a:lnTo>
                    <a:pt x="332509" y="285958"/>
                  </a:lnTo>
                  <a:lnTo>
                    <a:pt x="285958" y="133004"/>
                  </a:lnTo>
                  <a:lnTo>
                    <a:pt x="172905" y="39901"/>
                  </a:lnTo>
                  <a:lnTo>
                    <a:pt x="76477" y="0"/>
                  </a:lnTo>
                  <a:lnTo>
                    <a:pt x="16625" y="9976"/>
                  </a:lnTo>
                  <a:lnTo>
                    <a:pt x="3325" y="66502"/>
                  </a:lnTo>
                  <a:close/>
                </a:path>
              </a:pathLst>
            </a:custGeom>
            <a:solidFill>
              <a:srgbClr val="3f3f3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任意多边形 248"/>
            <p:cNvSpPr/>
            <p:nvPr/>
          </p:nvSpPr>
          <p:spPr>
            <a:xfrm rot="375600">
              <a:off x="11679480" y="3852360"/>
              <a:ext cx="204120" cy="267120"/>
            </a:xfrm>
            <a:custGeom>
              <a:avLst/>
              <a:gdLst>
                <a:gd name="textAreaLeft" fmla="*/ 0 w 204120"/>
                <a:gd name="textAreaRight" fmla="*/ 204480 w 204120"/>
                <a:gd name="textAreaTop" fmla="*/ 0 h 267120"/>
                <a:gd name="textAreaBottom" fmla="*/ 267480 h 267120"/>
              </a:gdLst>
              <a:ahLst/>
              <a:rect l="textAreaLeft" t="textAreaTop" r="textAreaRight" b="textAreaBottom"/>
              <a:pathLst>
                <a:path w="345809" h="452213">
                  <a:moveTo>
                    <a:pt x="3325" y="66502"/>
                  </a:moveTo>
                  <a:cubicBezTo>
                    <a:pt x="2217" y="110837"/>
                    <a:pt x="1108" y="155171"/>
                    <a:pt x="0" y="199506"/>
                  </a:cubicBezTo>
                  <a:lnTo>
                    <a:pt x="53201" y="315884"/>
                  </a:lnTo>
                  <a:lnTo>
                    <a:pt x="133004" y="415637"/>
                  </a:lnTo>
                  <a:lnTo>
                    <a:pt x="209481" y="452213"/>
                  </a:lnTo>
                  <a:lnTo>
                    <a:pt x="302583" y="442237"/>
                  </a:lnTo>
                  <a:lnTo>
                    <a:pt x="345809" y="399011"/>
                  </a:lnTo>
                  <a:lnTo>
                    <a:pt x="332509" y="285958"/>
                  </a:lnTo>
                  <a:lnTo>
                    <a:pt x="285958" y="133004"/>
                  </a:lnTo>
                  <a:lnTo>
                    <a:pt x="172905" y="39901"/>
                  </a:lnTo>
                  <a:lnTo>
                    <a:pt x="76477" y="0"/>
                  </a:lnTo>
                  <a:lnTo>
                    <a:pt x="16625" y="9976"/>
                  </a:lnTo>
                  <a:lnTo>
                    <a:pt x="3325" y="66502"/>
                  </a:lnTo>
                  <a:close/>
                </a:path>
              </a:pathLst>
            </a:custGeom>
            <a:solidFill>
              <a:srgbClr val="a6a6a6">
                <a:alpha val="2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任意多边形 249"/>
            <p:cNvSpPr/>
            <p:nvPr/>
          </p:nvSpPr>
          <p:spPr>
            <a:xfrm rot="4596600">
              <a:off x="9873360" y="3831480"/>
              <a:ext cx="204480" cy="266760"/>
            </a:xfrm>
            <a:custGeom>
              <a:avLst/>
              <a:gdLst>
                <a:gd name="textAreaLeft" fmla="*/ 0 w 204480"/>
                <a:gd name="textAreaRight" fmla="*/ 204840 w 204480"/>
                <a:gd name="textAreaTop" fmla="*/ 0 h 266760"/>
                <a:gd name="textAreaBottom" fmla="*/ 267120 h 266760"/>
              </a:gdLst>
              <a:ahLst/>
              <a:rect l="textAreaLeft" t="textAreaTop" r="textAreaRight" b="textAreaBottom"/>
              <a:pathLst>
                <a:path w="345809" h="452213">
                  <a:moveTo>
                    <a:pt x="3325" y="66502"/>
                  </a:moveTo>
                  <a:cubicBezTo>
                    <a:pt x="2217" y="110837"/>
                    <a:pt x="1108" y="155171"/>
                    <a:pt x="0" y="199506"/>
                  </a:cubicBezTo>
                  <a:lnTo>
                    <a:pt x="53201" y="315884"/>
                  </a:lnTo>
                  <a:lnTo>
                    <a:pt x="133004" y="415637"/>
                  </a:lnTo>
                  <a:lnTo>
                    <a:pt x="209481" y="452213"/>
                  </a:lnTo>
                  <a:lnTo>
                    <a:pt x="302583" y="442237"/>
                  </a:lnTo>
                  <a:lnTo>
                    <a:pt x="345809" y="399011"/>
                  </a:lnTo>
                  <a:lnTo>
                    <a:pt x="332509" y="285958"/>
                  </a:lnTo>
                  <a:lnTo>
                    <a:pt x="285958" y="133004"/>
                  </a:lnTo>
                  <a:lnTo>
                    <a:pt x="172905" y="39901"/>
                  </a:lnTo>
                  <a:lnTo>
                    <a:pt x="76477" y="0"/>
                  </a:lnTo>
                  <a:lnTo>
                    <a:pt x="16625" y="9976"/>
                  </a:lnTo>
                  <a:lnTo>
                    <a:pt x="3325" y="66502"/>
                  </a:lnTo>
                  <a:close/>
                </a:path>
              </a:pathLst>
            </a:custGeom>
            <a:solidFill>
              <a:srgbClr val="a6a6a6">
                <a:alpha val="2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任意多边形 250"/>
            <p:cNvSpPr/>
            <p:nvPr/>
          </p:nvSpPr>
          <p:spPr>
            <a:xfrm rot="4596600">
              <a:off x="9771480" y="4036680"/>
              <a:ext cx="204480" cy="266760"/>
            </a:xfrm>
            <a:custGeom>
              <a:avLst/>
              <a:gdLst>
                <a:gd name="textAreaLeft" fmla="*/ 0 w 204480"/>
                <a:gd name="textAreaRight" fmla="*/ 204840 w 204480"/>
                <a:gd name="textAreaTop" fmla="*/ 0 h 266760"/>
                <a:gd name="textAreaBottom" fmla="*/ 267120 h 266760"/>
              </a:gdLst>
              <a:ahLst/>
              <a:rect l="textAreaLeft" t="textAreaTop" r="textAreaRight" b="textAreaBottom"/>
              <a:pathLst>
                <a:path w="345809" h="452213">
                  <a:moveTo>
                    <a:pt x="3325" y="66502"/>
                  </a:moveTo>
                  <a:cubicBezTo>
                    <a:pt x="2217" y="110837"/>
                    <a:pt x="1108" y="155171"/>
                    <a:pt x="0" y="199506"/>
                  </a:cubicBezTo>
                  <a:lnTo>
                    <a:pt x="53201" y="315884"/>
                  </a:lnTo>
                  <a:lnTo>
                    <a:pt x="133004" y="415637"/>
                  </a:lnTo>
                  <a:lnTo>
                    <a:pt x="209481" y="452213"/>
                  </a:lnTo>
                  <a:lnTo>
                    <a:pt x="302583" y="442237"/>
                  </a:lnTo>
                  <a:lnTo>
                    <a:pt x="345809" y="399011"/>
                  </a:lnTo>
                  <a:lnTo>
                    <a:pt x="332509" y="285958"/>
                  </a:lnTo>
                  <a:lnTo>
                    <a:pt x="285958" y="133004"/>
                  </a:lnTo>
                  <a:lnTo>
                    <a:pt x="172905" y="39901"/>
                  </a:lnTo>
                  <a:lnTo>
                    <a:pt x="76477" y="0"/>
                  </a:lnTo>
                  <a:lnTo>
                    <a:pt x="16625" y="9976"/>
                  </a:lnTo>
                  <a:lnTo>
                    <a:pt x="3325" y="66502"/>
                  </a:lnTo>
                  <a:close/>
                </a:path>
              </a:pathLst>
            </a:custGeom>
            <a:solidFill>
              <a:srgbClr val="a6a6a6">
                <a:alpha val="2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任意多边形 251"/>
            <p:cNvSpPr/>
            <p:nvPr/>
          </p:nvSpPr>
          <p:spPr>
            <a:xfrm rot="4596600">
              <a:off x="10152720" y="4424400"/>
              <a:ext cx="204480" cy="266760"/>
            </a:xfrm>
            <a:custGeom>
              <a:avLst/>
              <a:gdLst>
                <a:gd name="textAreaLeft" fmla="*/ 0 w 204480"/>
                <a:gd name="textAreaRight" fmla="*/ 204840 w 204480"/>
                <a:gd name="textAreaTop" fmla="*/ 0 h 266760"/>
                <a:gd name="textAreaBottom" fmla="*/ 267120 h 266760"/>
              </a:gdLst>
              <a:ahLst/>
              <a:rect l="textAreaLeft" t="textAreaTop" r="textAreaRight" b="textAreaBottom"/>
              <a:pathLst>
                <a:path w="345809" h="452213">
                  <a:moveTo>
                    <a:pt x="3325" y="66502"/>
                  </a:moveTo>
                  <a:cubicBezTo>
                    <a:pt x="2217" y="110837"/>
                    <a:pt x="1108" y="155171"/>
                    <a:pt x="0" y="199506"/>
                  </a:cubicBezTo>
                  <a:lnTo>
                    <a:pt x="53201" y="315884"/>
                  </a:lnTo>
                  <a:lnTo>
                    <a:pt x="133004" y="415637"/>
                  </a:lnTo>
                  <a:lnTo>
                    <a:pt x="209481" y="452213"/>
                  </a:lnTo>
                  <a:lnTo>
                    <a:pt x="302583" y="442237"/>
                  </a:lnTo>
                  <a:lnTo>
                    <a:pt x="345809" y="399011"/>
                  </a:lnTo>
                  <a:lnTo>
                    <a:pt x="332509" y="285958"/>
                  </a:lnTo>
                  <a:lnTo>
                    <a:pt x="285958" y="133004"/>
                  </a:lnTo>
                  <a:lnTo>
                    <a:pt x="172905" y="39901"/>
                  </a:lnTo>
                  <a:lnTo>
                    <a:pt x="76477" y="0"/>
                  </a:lnTo>
                  <a:lnTo>
                    <a:pt x="16625" y="9976"/>
                  </a:lnTo>
                  <a:lnTo>
                    <a:pt x="3325" y="66502"/>
                  </a:lnTo>
                  <a:close/>
                </a:path>
              </a:pathLst>
            </a:custGeom>
            <a:solidFill>
              <a:srgbClr val="a6a6a6">
                <a:alpha val="2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任意多边形 252"/>
            <p:cNvSpPr/>
            <p:nvPr/>
          </p:nvSpPr>
          <p:spPr>
            <a:xfrm rot="4596600">
              <a:off x="11135520" y="4185360"/>
              <a:ext cx="204480" cy="266760"/>
            </a:xfrm>
            <a:custGeom>
              <a:avLst/>
              <a:gdLst>
                <a:gd name="textAreaLeft" fmla="*/ 0 w 204480"/>
                <a:gd name="textAreaRight" fmla="*/ 204840 w 204480"/>
                <a:gd name="textAreaTop" fmla="*/ 0 h 266760"/>
                <a:gd name="textAreaBottom" fmla="*/ 267120 h 266760"/>
              </a:gdLst>
              <a:ahLst/>
              <a:rect l="textAreaLeft" t="textAreaTop" r="textAreaRight" b="textAreaBottom"/>
              <a:pathLst>
                <a:path w="345809" h="452213">
                  <a:moveTo>
                    <a:pt x="3325" y="66502"/>
                  </a:moveTo>
                  <a:cubicBezTo>
                    <a:pt x="2217" y="110837"/>
                    <a:pt x="1108" y="155171"/>
                    <a:pt x="0" y="199506"/>
                  </a:cubicBezTo>
                  <a:lnTo>
                    <a:pt x="53201" y="315884"/>
                  </a:lnTo>
                  <a:lnTo>
                    <a:pt x="133004" y="415637"/>
                  </a:lnTo>
                  <a:lnTo>
                    <a:pt x="209481" y="452213"/>
                  </a:lnTo>
                  <a:lnTo>
                    <a:pt x="302583" y="442237"/>
                  </a:lnTo>
                  <a:lnTo>
                    <a:pt x="345809" y="399011"/>
                  </a:lnTo>
                  <a:lnTo>
                    <a:pt x="332509" y="285958"/>
                  </a:lnTo>
                  <a:lnTo>
                    <a:pt x="285958" y="133004"/>
                  </a:lnTo>
                  <a:lnTo>
                    <a:pt x="172905" y="39901"/>
                  </a:lnTo>
                  <a:lnTo>
                    <a:pt x="76477" y="0"/>
                  </a:lnTo>
                  <a:lnTo>
                    <a:pt x="16625" y="9976"/>
                  </a:lnTo>
                  <a:lnTo>
                    <a:pt x="3325" y="66502"/>
                  </a:lnTo>
                  <a:close/>
                </a:path>
              </a:pathLst>
            </a:custGeom>
            <a:solidFill>
              <a:srgbClr val="3f3f3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任意多边形 253"/>
            <p:cNvSpPr/>
            <p:nvPr/>
          </p:nvSpPr>
          <p:spPr>
            <a:xfrm rot="4042800">
              <a:off x="11434680" y="4513320"/>
              <a:ext cx="204480" cy="266760"/>
            </a:xfrm>
            <a:custGeom>
              <a:avLst/>
              <a:gdLst>
                <a:gd name="textAreaLeft" fmla="*/ 0 w 204480"/>
                <a:gd name="textAreaRight" fmla="*/ 204840 w 204480"/>
                <a:gd name="textAreaTop" fmla="*/ 0 h 266760"/>
                <a:gd name="textAreaBottom" fmla="*/ 267120 h 266760"/>
              </a:gdLst>
              <a:ahLst/>
              <a:rect l="textAreaLeft" t="textAreaTop" r="textAreaRight" b="textAreaBottom"/>
              <a:pathLst>
                <a:path w="345809" h="452213">
                  <a:moveTo>
                    <a:pt x="3325" y="66502"/>
                  </a:moveTo>
                  <a:cubicBezTo>
                    <a:pt x="2217" y="110837"/>
                    <a:pt x="1108" y="155171"/>
                    <a:pt x="0" y="199506"/>
                  </a:cubicBezTo>
                  <a:lnTo>
                    <a:pt x="53201" y="315884"/>
                  </a:lnTo>
                  <a:lnTo>
                    <a:pt x="133004" y="415637"/>
                  </a:lnTo>
                  <a:lnTo>
                    <a:pt x="209481" y="452213"/>
                  </a:lnTo>
                  <a:lnTo>
                    <a:pt x="302583" y="442237"/>
                  </a:lnTo>
                  <a:lnTo>
                    <a:pt x="345809" y="399011"/>
                  </a:lnTo>
                  <a:lnTo>
                    <a:pt x="332509" y="285958"/>
                  </a:lnTo>
                  <a:lnTo>
                    <a:pt x="285958" y="133004"/>
                  </a:lnTo>
                  <a:lnTo>
                    <a:pt x="172905" y="39901"/>
                  </a:lnTo>
                  <a:lnTo>
                    <a:pt x="76477" y="0"/>
                  </a:lnTo>
                  <a:lnTo>
                    <a:pt x="16625" y="9976"/>
                  </a:lnTo>
                  <a:lnTo>
                    <a:pt x="3325" y="66502"/>
                  </a:lnTo>
                  <a:close/>
                </a:path>
              </a:pathLst>
            </a:custGeom>
            <a:solidFill>
              <a:srgbClr val="a6a6a6">
                <a:alpha val="2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" name="五角星 256"/>
          <p:cNvSpPr/>
          <p:nvPr/>
        </p:nvSpPr>
        <p:spPr>
          <a:xfrm>
            <a:off x="3807000" y="1635120"/>
            <a:ext cx="1125360" cy="1071720"/>
          </a:xfrm>
          <a:prstGeom prst="star5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13907160" y="-1793880"/>
            <a:ext cx="6264360" cy="8854200"/>
            <a:chOff x="13907160" y="-1793880"/>
            <a:chExt cx="6264360" cy="8854200"/>
          </a:xfrm>
        </p:grpSpPr>
        <p:grpSp>
          <p:nvGrpSpPr>
            <p:cNvPr id="176" name=""/>
            <p:cNvGrpSpPr/>
            <p:nvPr/>
          </p:nvGrpSpPr>
          <p:grpSpPr>
            <a:xfrm>
              <a:off x="13907160" y="-1029960"/>
              <a:ext cx="3893400" cy="8090280"/>
              <a:chOff x="13907160" y="-1029960"/>
              <a:chExt cx="3893400" cy="8090280"/>
            </a:xfrm>
          </p:grpSpPr>
          <p:grpSp>
            <p:nvGrpSpPr>
              <p:cNvPr id="177" name=""/>
              <p:cNvGrpSpPr/>
              <p:nvPr/>
            </p:nvGrpSpPr>
            <p:grpSpPr>
              <a:xfrm>
                <a:off x="13907160" y="-1024560"/>
                <a:ext cx="3893400" cy="8084880"/>
                <a:chOff x="13907160" y="-1024560"/>
                <a:chExt cx="3893400" cy="8084880"/>
              </a:xfrm>
            </p:grpSpPr>
            <p:grpSp>
              <p:nvGrpSpPr>
                <p:cNvPr id="178" name=""/>
                <p:cNvGrpSpPr/>
                <p:nvPr/>
              </p:nvGrpSpPr>
              <p:grpSpPr>
                <a:xfrm>
                  <a:off x="13944600" y="-1024560"/>
                  <a:ext cx="3855960" cy="8084880"/>
                  <a:chOff x="13944600" y="-1024560"/>
                  <a:chExt cx="3855960" cy="8084880"/>
                </a:xfrm>
              </p:grpSpPr>
              <p:sp>
                <p:nvSpPr>
                  <p:cNvPr id="179" name="任意多边形 173"/>
                  <p:cNvSpPr/>
                  <p:nvPr/>
                </p:nvSpPr>
                <p:spPr>
                  <a:xfrm>
                    <a:off x="15537960" y="410040"/>
                    <a:ext cx="1235160" cy="6650280"/>
                  </a:xfrm>
                  <a:custGeom>
                    <a:avLst/>
                    <a:gdLst>
                      <a:gd name="textAreaLeft" fmla="*/ 0 w 1235160"/>
                      <a:gd name="textAreaRight" fmla="*/ 1235520 w 1235160"/>
                      <a:gd name="textAreaTop" fmla="*/ 0 h 6650280"/>
                      <a:gd name="textAreaBottom" fmla="*/ 6650640 h 6650280"/>
                    </a:gdLst>
                    <a:ahLst/>
                    <a:rect l="textAreaLeft" t="textAreaTop" r="textAreaRight" b="textAreaBottom"/>
                    <a:pathLst>
                      <a:path w="2702859" h="9345706">
                        <a:moveTo>
                          <a:pt x="67235" y="9224682"/>
                        </a:moveTo>
                        <a:lnTo>
                          <a:pt x="887506" y="9345706"/>
                        </a:lnTo>
                        <a:lnTo>
                          <a:pt x="1775012" y="9345706"/>
                        </a:lnTo>
                        <a:lnTo>
                          <a:pt x="2232212" y="9144000"/>
                        </a:lnTo>
                        <a:lnTo>
                          <a:pt x="2030506" y="8189259"/>
                        </a:lnTo>
                        <a:lnTo>
                          <a:pt x="1828800" y="6979023"/>
                        </a:lnTo>
                        <a:lnTo>
                          <a:pt x="1667435" y="5513294"/>
                        </a:lnTo>
                        <a:lnTo>
                          <a:pt x="1627094" y="3913094"/>
                        </a:lnTo>
                        <a:lnTo>
                          <a:pt x="1653988" y="3025588"/>
                        </a:lnTo>
                        <a:lnTo>
                          <a:pt x="1909482" y="2151529"/>
                        </a:lnTo>
                        <a:lnTo>
                          <a:pt x="2326341" y="1021976"/>
                        </a:lnTo>
                        <a:lnTo>
                          <a:pt x="2635623" y="389964"/>
                        </a:lnTo>
                        <a:lnTo>
                          <a:pt x="2702859" y="0"/>
                        </a:lnTo>
                        <a:lnTo>
                          <a:pt x="2487706" y="242047"/>
                        </a:lnTo>
                        <a:lnTo>
                          <a:pt x="2084294" y="847164"/>
                        </a:lnTo>
                        <a:lnTo>
                          <a:pt x="1869141" y="1290917"/>
                        </a:lnTo>
                        <a:lnTo>
                          <a:pt x="1653988" y="1653988"/>
                        </a:lnTo>
                        <a:lnTo>
                          <a:pt x="1452282" y="1452282"/>
                        </a:lnTo>
                        <a:lnTo>
                          <a:pt x="1237129" y="1062317"/>
                        </a:lnTo>
                        <a:lnTo>
                          <a:pt x="954741" y="847164"/>
                        </a:lnTo>
                        <a:lnTo>
                          <a:pt x="645459" y="739588"/>
                        </a:lnTo>
                        <a:lnTo>
                          <a:pt x="900953" y="1317811"/>
                        </a:lnTo>
                        <a:lnTo>
                          <a:pt x="1062317" y="1479176"/>
                        </a:lnTo>
                        <a:lnTo>
                          <a:pt x="1048870" y="1600200"/>
                        </a:lnTo>
                        <a:lnTo>
                          <a:pt x="1035423" y="1855694"/>
                        </a:lnTo>
                        <a:lnTo>
                          <a:pt x="860612" y="2017059"/>
                        </a:lnTo>
                        <a:lnTo>
                          <a:pt x="739588" y="1976717"/>
                        </a:lnTo>
                        <a:lnTo>
                          <a:pt x="322729" y="1627094"/>
                        </a:lnTo>
                        <a:lnTo>
                          <a:pt x="215153" y="1116106"/>
                        </a:lnTo>
                        <a:lnTo>
                          <a:pt x="0" y="1102659"/>
                        </a:lnTo>
                        <a:lnTo>
                          <a:pt x="134470" y="1479176"/>
                        </a:lnTo>
                        <a:lnTo>
                          <a:pt x="215153" y="2003611"/>
                        </a:lnTo>
                        <a:lnTo>
                          <a:pt x="470647" y="2272553"/>
                        </a:lnTo>
                        <a:lnTo>
                          <a:pt x="645459" y="3254188"/>
                        </a:lnTo>
                        <a:lnTo>
                          <a:pt x="672353" y="5217459"/>
                        </a:lnTo>
                        <a:lnTo>
                          <a:pt x="578223" y="6602506"/>
                        </a:lnTo>
                        <a:lnTo>
                          <a:pt x="497541" y="7974106"/>
                        </a:lnTo>
                        <a:lnTo>
                          <a:pt x="255494" y="9022976"/>
                        </a:lnTo>
                        <a:lnTo>
                          <a:pt x="121023" y="9211235"/>
                        </a:lnTo>
                        <a:lnTo>
                          <a:pt x="67235" y="9224682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0" name="任意多边形 174"/>
                  <p:cNvSpPr/>
                  <p:nvPr/>
                </p:nvSpPr>
                <p:spPr>
                  <a:xfrm>
                    <a:off x="13944600" y="-1007640"/>
                    <a:ext cx="3855960" cy="5619600"/>
                  </a:xfrm>
                  <a:custGeom>
                    <a:avLst/>
                    <a:gdLst>
                      <a:gd name="textAreaLeft" fmla="*/ 0 w 3855960"/>
                      <a:gd name="textAreaRight" fmla="*/ 3856320 w 3855960"/>
                      <a:gd name="textAreaTop" fmla="*/ 0 h 5619600"/>
                      <a:gd name="textAreaBottom" fmla="*/ 5619600 h 5619600"/>
                    </a:gdLst>
                    <a:ahLst/>
                    <a:rect l="textAreaLeft" t="textAreaTop" r="textAreaRight" b="textAreaBottom"/>
                    <a:pathLst>
                      <a:path w="6885330" h="7897265">
                        <a:moveTo>
                          <a:pt x="3285067" y="7688850"/>
                        </a:moveTo>
                        <a:lnTo>
                          <a:pt x="3285067" y="7688850"/>
                        </a:lnTo>
                        <a:lnTo>
                          <a:pt x="1286934" y="7722716"/>
                        </a:lnTo>
                        <a:cubicBezTo>
                          <a:pt x="1255999" y="7723698"/>
                          <a:pt x="1088890" y="7773726"/>
                          <a:pt x="1049867" y="7790450"/>
                        </a:cubicBezTo>
                        <a:cubicBezTo>
                          <a:pt x="1003463" y="7810337"/>
                          <a:pt x="962295" y="7842218"/>
                          <a:pt x="914400" y="7858183"/>
                        </a:cubicBezTo>
                        <a:cubicBezTo>
                          <a:pt x="859792" y="7876386"/>
                          <a:pt x="690459" y="7910253"/>
                          <a:pt x="745067" y="7892050"/>
                        </a:cubicBezTo>
                        <a:lnTo>
                          <a:pt x="1049867" y="7790450"/>
                        </a:lnTo>
                        <a:cubicBezTo>
                          <a:pt x="1148203" y="7757671"/>
                          <a:pt x="1169512" y="7760469"/>
                          <a:pt x="1253067" y="7688850"/>
                        </a:cubicBezTo>
                        <a:cubicBezTo>
                          <a:pt x="1301553" y="7647291"/>
                          <a:pt x="1452375" y="7551826"/>
                          <a:pt x="1388534" y="7553383"/>
                        </a:cubicBezTo>
                        <a:lnTo>
                          <a:pt x="0" y="7587250"/>
                        </a:lnTo>
                        <a:cubicBezTo>
                          <a:pt x="45156" y="7542094"/>
                          <a:pt x="82332" y="7487206"/>
                          <a:pt x="135467" y="7451783"/>
                        </a:cubicBezTo>
                        <a:cubicBezTo>
                          <a:pt x="186049" y="7418061"/>
                          <a:pt x="249247" y="7408740"/>
                          <a:pt x="304800" y="7384050"/>
                        </a:cubicBezTo>
                        <a:cubicBezTo>
                          <a:pt x="350934" y="7363546"/>
                          <a:pt x="396976" y="7342291"/>
                          <a:pt x="440267" y="7316316"/>
                        </a:cubicBezTo>
                        <a:cubicBezTo>
                          <a:pt x="728274" y="7143512"/>
                          <a:pt x="696095" y="7167693"/>
                          <a:pt x="508000" y="7214716"/>
                        </a:cubicBezTo>
                        <a:cubicBezTo>
                          <a:pt x="474133" y="7203427"/>
                          <a:pt x="395111" y="7214717"/>
                          <a:pt x="406400" y="7180850"/>
                        </a:cubicBezTo>
                        <a:cubicBezTo>
                          <a:pt x="416863" y="7149461"/>
                          <a:pt x="604940" y="7092092"/>
                          <a:pt x="643467" y="7079250"/>
                        </a:cubicBezTo>
                        <a:cubicBezTo>
                          <a:pt x="832154" y="6953459"/>
                          <a:pt x="938590" y="6972812"/>
                          <a:pt x="745067" y="6876050"/>
                        </a:cubicBezTo>
                        <a:cubicBezTo>
                          <a:pt x="713137" y="6860085"/>
                          <a:pt x="677334" y="6853472"/>
                          <a:pt x="643467" y="6842183"/>
                        </a:cubicBezTo>
                        <a:cubicBezTo>
                          <a:pt x="677334" y="6808316"/>
                          <a:pt x="706093" y="6768421"/>
                          <a:pt x="745067" y="6740583"/>
                        </a:cubicBezTo>
                        <a:cubicBezTo>
                          <a:pt x="786149" y="6711239"/>
                          <a:pt x="857956" y="6718006"/>
                          <a:pt x="880534" y="6672850"/>
                        </a:cubicBezTo>
                        <a:cubicBezTo>
                          <a:pt x="894813" y="6644291"/>
                          <a:pt x="842148" y="6617694"/>
                          <a:pt x="812800" y="6605116"/>
                        </a:cubicBezTo>
                        <a:cubicBezTo>
                          <a:pt x="759892" y="6582441"/>
                          <a:pt x="699911" y="6582539"/>
                          <a:pt x="643467" y="6571250"/>
                        </a:cubicBezTo>
                        <a:cubicBezTo>
                          <a:pt x="962375" y="6491522"/>
                          <a:pt x="674720" y="6594660"/>
                          <a:pt x="643467" y="6469650"/>
                        </a:cubicBezTo>
                        <a:cubicBezTo>
                          <a:pt x="633366" y="6429247"/>
                          <a:pt x="830471" y="6373448"/>
                          <a:pt x="846667" y="6368050"/>
                        </a:cubicBezTo>
                        <a:cubicBezTo>
                          <a:pt x="869245" y="6345472"/>
                          <a:pt x="914400" y="6332246"/>
                          <a:pt x="914400" y="6300316"/>
                        </a:cubicBezTo>
                        <a:cubicBezTo>
                          <a:pt x="914400" y="6145356"/>
                          <a:pt x="814006" y="6156685"/>
                          <a:pt x="711200" y="6130983"/>
                        </a:cubicBezTo>
                        <a:cubicBezTo>
                          <a:pt x="722489" y="6085827"/>
                          <a:pt x="721974" y="6035929"/>
                          <a:pt x="745067" y="5995516"/>
                        </a:cubicBezTo>
                        <a:cubicBezTo>
                          <a:pt x="785185" y="5925310"/>
                          <a:pt x="883525" y="5869344"/>
                          <a:pt x="948267" y="5826183"/>
                        </a:cubicBezTo>
                        <a:cubicBezTo>
                          <a:pt x="959556" y="5781027"/>
                          <a:pt x="951484" y="5725745"/>
                          <a:pt x="982134" y="5690716"/>
                        </a:cubicBezTo>
                        <a:cubicBezTo>
                          <a:pt x="1035740" y="5629452"/>
                          <a:pt x="1185334" y="5555250"/>
                          <a:pt x="1185334" y="5555250"/>
                        </a:cubicBezTo>
                        <a:cubicBezTo>
                          <a:pt x="1083734" y="5543961"/>
                          <a:pt x="980490" y="5542802"/>
                          <a:pt x="880534" y="5521383"/>
                        </a:cubicBezTo>
                        <a:cubicBezTo>
                          <a:pt x="821091" y="5508645"/>
                          <a:pt x="744922" y="5504232"/>
                          <a:pt x="711200" y="5453650"/>
                        </a:cubicBezTo>
                        <a:cubicBezTo>
                          <a:pt x="691398" y="5423947"/>
                          <a:pt x="780870" y="5435748"/>
                          <a:pt x="812800" y="5419783"/>
                        </a:cubicBezTo>
                        <a:cubicBezTo>
                          <a:pt x="849206" y="5401580"/>
                          <a:pt x="877994" y="5370253"/>
                          <a:pt x="914400" y="5352050"/>
                        </a:cubicBezTo>
                        <a:cubicBezTo>
                          <a:pt x="946330" y="5336085"/>
                          <a:pt x="981216" y="5326210"/>
                          <a:pt x="1016000" y="5318183"/>
                        </a:cubicBezTo>
                        <a:cubicBezTo>
                          <a:pt x="1128176" y="5292296"/>
                          <a:pt x="1242098" y="5274572"/>
                          <a:pt x="1354667" y="5250450"/>
                        </a:cubicBezTo>
                        <a:cubicBezTo>
                          <a:pt x="1400179" y="5240697"/>
                          <a:pt x="1536679" y="5216583"/>
                          <a:pt x="1490134" y="5216583"/>
                        </a:cubicBezTo>
                        <a:cubicBezTo>
                          <a:pt x="1432571" y="5216583"/>
                          <a:pt x="1377245" y="5239161"/>
                          <a:pt x="1320800" y="5250450"/>
                        </a:cubicBezTo>
                        <a:lnTo>
                          <a:pt x="1117600" y="5216583"/>
                        </a:lnTo>
                        <a:cubicBezTo>
                          <a:pt x="1117600" y="5113296"/>
                          <a:pt x="1339671" y="5011833"/>
                          <a:pt x="1422400" y="4945650"/>
                        </a:cubicBezTo>
                        <a:cubicBezTo>
                          <a:pt x="1447333" y="4925703"/>
                          <a:pt x="1520426" y="4888013"/>
                          <a:pt x="1490134" y="4877916"/>
                        </a:cubicBezTo>
                        <a:cubicBezTo>
                          <a:pt x="1435525" y="4859713"/>
                          <a:pt x="1377245" y="4900494"/>
                          <a:pt x="1320800" y="4911783"/>
                        </a:cubicBezTo>
                        <a:cubicBezTo>
                          <a:pt x="1275645" y="4889205"/>
                          <a:pt x="1207912" y="4889205"/>
                          <a:pt x="1185334" y="4844050"/>
                        </a:cubicBezTo>
                        <a:cubicBezTo>
                          <a:pt x="1171055" y="4815491"/>
                          <a:pt x="1226909" y="4794627"/>
                          <a:pt x="1253067" y="4776316"/>
                        </a:cubicBezTo>
                        <a:cubicBezTo>
                          <a:pt x="1340314" y="4715243"/>
                          <a:pt x="1448693" y="4682289"/>
                          <a:pt x="1524000" y="4606983"/>
                        </a:cubicBezTo>
                        <a:cubicBezTo>
                          <a:pt x="1546578" y="4584405"/>
                          <a:pt x="1564354" y="4555678"/>
                          <a:pt x="1591734" y="4539250"/>
                        </a:cubicBezTo>
                        <a:cubicBezTo>
                          <a:pt x="1622345" y="4520883"/>
                          <a:pt x="1659467" y="4516672"/>
                          <a:pt x="1693334" y="4505383"/>
                        </a:cubicBezTo>
                        <a:cubicBezTo>
                          <a:pt x="1363423" y="4422906"/>
                          <a:pt x="1508832" y="4472223"/>
                          <a:pt x="1253067" y="4369916"/>
                        </a:cubicBezTo>
                        <a:cubicBezTo>
                          <a:pt x="1524000" y="4189295"/>
                          <a:pt x="1196623" y="4426360"/>
                          <a:pt x="1422400" y="4200583"/>
                        </a:cubicBezTo>
                        <a:cubicBezTo>
                          <a:pt x="1451181" y="4171802"/>
                          <a:pt x="1492217" y="4158277"/>
                          <a:pt x="1524000" y="4132850"/>
                        </a:cubicBezTo>
                        <a:cubicBezTo>
                          <a:pt x="1548933" y="4112903"/>
                          <a:pt x="1623664" y="4065116"/>
                          <a:pt x="1591734" y="4065116"/>
                        </a:cubicBezTo>
                        <a:cubicBezTo>
                          <a:pt x="1520337" y="4065116"/>
                          <a:pt x="1388534" y="4132850"/>
                          <a:pt x="1388534" y="4132850"/>
                        </a:cubicBezTo>
                        <a:cubicBezTo>
                          <a:pt x="1408774" y="4072128"/>
                          <a:pt x="1448283" y="3937634"/>
                          <a:pt x="1490134" y="3895783"/>
                        </a:cubicBezTo>
                        <a:cubicBezTo>
                          <a:pt x="1525832" y="3860085"/>
                          <a:pt x="1580445" y="3850628"/>
                          <a:pt x="1625600" y="3828050"/>
                        </a:cubicBezTo>
                        <a:cubicBezTo>
                          <a:pt x="1591733" y="3816761"/>
                          <a:pt x="1532658" y="3828816"/>
                          <a:pt x="1524000" y="3794183"/>
                        </a:cubicBezTo>
                        <a:cubicBezTo>
                          <a:pt x="1507873" y="3729675"/>
                          <a:pt x="1664305" y="3644202"/>
                          <a:pt x="1693334" y="3624850"/>
                        </a:cubicBezTo>
                        <a:cubicBezTo>
                          <a:pt x="1719242" y="3521215"/>
                          <a:pt x="1716972" y="3465744"/>
                          <a:pt x="1794934" y="3387783"/>
                        </a:cubicBezTo>
                        <a:cubicBezTo>
                          <a:pt x="1823715" y="3359002"/>
                          <a:pt x="1862667" y="3342628"/>
                          <a:pt x="1896534" y="3320050"/>
                        </a:cubicBezTo>
                        <a:cubicBezTo>
                          <a:pt x="1862667" y="3308761"/>
                          <a:pt x="1803592" y="3320816"/>
                          <a:pt x="1794934" y="3286183"/>
                        </a:cubicBezTo>
                        <a:cubicBezTo>
                          <a:pt x="1785062" y="3246696"/>
                          <a:pt x="1831763" y="3211072"/>
                          <a:pt x="1862667" y="3184583"/>
                        </a:cubicBezTo>
                        <a:cubicBezTo>
                          <a:pt x="1976213" y="3087258"/>
                          <a:pt x="2049114" y="3089220"/>
                          <a:pt x="2167467" y="3015250"/>
                        </a:cubicBezTo>
                        <a:cubicBezTo>
                          <a:pt x="2401792" y="2868798"/>
                          <a:pt x="2204925" y="2946320"/>
                          <a:pt x="2404534" y="2879783"/>
                        </a:cubicBezTo>
                        <a:cubicBezTo>
                          <a:pt x="2381956" y="2857205"/>
                          <a:pt x="2368730" y="2812050"/>
                          <a:pt x="2336800" y="2812050"/>
                        </a:cubicBezTo>
                        <a:cubicBezTo>
                          <a:pt x="2296097" y="2812050"/>
                          <a:pt x="2272612" y="2863749"/>
                          <a:pt x="2235200" y="2879783"/>
                        </a:cubicBezTo>
                        <a:cubicBezTo>
                          <a:pt x="2192418" y="2898118"/>
                          <a:pt x="2144889" y="2902361"/>
                          <a:pt x="2099734" y="2913650"/>
                        </a:cubicBezTo>
                        <a:cubicBezTo>
                          <a:pt x="2187847" y="2649305"/>
                          <a:pt x="2043500" y="3031869"/>
                          <a:pt x="2302934" y="2642716"/>
                        </a:cubicBezTo>
                        <a:cubicBezTo>
                          <a:pt x="2397234" y="2501265"/>
                          <a:pt x="2341886" y="2569897"/>
                          <a:pt x="2472267" y="2439516"/>
                        </a:cubicBezTo>
                        <a:cubicBezTo>
                          <a:pt x="2431070" y="2377720"/>
                          <a:pt x="2402507" y="2289825"/>
                          <a:pt x="2302934" y="2304050"/>
                        </a:cubicBezTo>
                        <a:cubicBezTo>
                          <a:pt x="2252956" y="2311190"/>
                          <a:pt x="2214738" y="2354056"/>
                          <a:pt x="2167467" y="2371783"/>
                        </a:cubicBezTo>
                        <a:cubicBezTo>
                          <a:pt x="1798583" y="2510114"/>
                          <a:pt x="2273683" y="2284809"/>
                          <a:pt x="1896534" y="2473383"/>
                        </a:cubicBezTo>
                        <a:cubicBezTo>
                          <a:pt x="1919112" y="2416939"/>
                          <a:pt x="1932047" y="2355602"/>
                          <a:pt x="1964267" y="2304050"/>
                        </a:cubicBezTo>
                        <a:cubicBezTo>
                          <a:pt x="2012749" y="2226478"/>
                          <a:pt x="2137188" y="2155832"/>
                          <a:pt x="2201334" y="2100850"/>
                        </a:cubicBezTo>
                        <a:cubicBezTo>
                          <a:pt x="2237698" y="2069681"/>
                          <a:pt x="2257923" y="2015618"/>
                          <a:pt x="2302934" y="1999250"/>
                        </a:cubicBezTo>
                        <a:cubicBezTo>
                          <a:pt x="2388468" y="1968147"/>
                          <a:pt x="2483556" y="1976672"/>
                          <a:pt x="2573867" y="1965383"/>
                        </a:cubicBezTo>
                        <a:cubicBezTo>
                          <a:pt x="2630311" y="1931516"/>
                          <a:pt x="2689636" y="1902043"/>
                          <a:pt x="2743200" y="1863783"/>
                        </a:cubicBezTo>
                        <a:cubicBezTo>
                          <a:pt x="2769182" y="1845224"/>
                          <a:pt x="2833511" y="1818628"/>
                          <a:pt x="2810934" y="1796050"/>
                        </a:cubicBezTo>
                        <a:cubicBezTo>
                          <a:pt x="2785692" y="1770807"/>
                          <a:pt x="2743201" y="1818627"/>
                          <a:pt x="2709334" y="1829916"/>
                        </a:cubicBezTo>
                        <a:cubicBezTo>
                          <a:pt x="2675467" y="1852494"/>
                          <a:pt x="2639518" y="1872223"/>
                          <a:pt x="2607734" y="1897650"/>
                        </a:cubicBezTo>
                        <a:cubicBezTo>
                          <a:pt x="2582801" y="1917596"/>
                          <a:pt x="2517422" y="1987961"/>
                          <a:pt x="2540000" y="1965383"/>
                        </a:cubicBezTo>
                        <a:lnTo>
                          <a:pt x="2675467" y="1829916"/>
                        </a:lnTo>
                        <a:cubicBezTo>
                          <a:pt x="2812766" y="1692617"/>
                          <a:pt x="2734229" y="1749735"/>
                          <a:pt x="2912534" y="1660583"/>
                        </a:cubicBezTo>
                        <a:cubicBezTo>
                          <a:pt x="2946401" y="1615427"/>
                          <a:pt x="2971278" y="1561850"/>
                          <a:pt x="3014134" y="1525116"/>
                        </a:cubicBezTo>
                        <a:cubicBezTo>
                          <a:pt x="3052465" y="1492261"/>
                          <a:pt x="3105767" y="1482431"/>
                          <a:pt x="3149600" y="1457383"/>
                        </a:cubicBezTo>
                        <a:cubicBezTo>
                          <a:pt x="3184940" y="1437189"/>
                          <a:pt x="3217333" y="1412228"/>
                          <a:pt x="3251200" y="1389650"/>
                        </a:cubicBezTo>
                        <a:cubicBezTo>
                          <a:pt x="3239911" y="1423517"/>
                          <a:pt x="3251201" y="1479961"/>
                          <a:pt x="3217334" y="1491250"/>
                        </a:cubicBezTo>
                        <a:cubicBezTo>
                          <a:pt x="3187042" y="1501347"/>
                          <a:pt x="3149600" y="1455446"/>
                          <a:pt x="3149600" y="1423516"/>
                        </a:cubicBezTo>
                        <a:cubicBezTo>
                          <a:pt x="3149600" y="1382813"/>
                          <a:pt x="3194756" y="1355783"/>
                          <a:pt x="3217334" y="1321916"/>
                        </a:cubicBezTo>
                        <a:cubicBezTo>
                          <a:pt x="3270944" y="1107475"/>
                          <a:pt x="3225381" y="1225179"/>
                          <a:pt x="3386667" y="983250"/>
                        </a:cubicBezTo>
                        <a:lnTo>
                          <a:pt x="3454400" y="881650"/>
                        </a:lnTo>
                        <a:cubicBezTo>
                          <a:pt x="3476978" y="847783"/>
                          <a:pt x="3550915" y="751269"/>
                          <a:pt x="3522134" y="780050"/>
                        </a:cubicBezTo>
                        <a:cubicBezTo>
                          <a:pt x="3488267" y="813917"/>
                          <a:pt x="3468429" y="881650"/>
                          <a:pt x="3420534" y="881650"/>
                        </a:cubicBezTo>
                        <a:cubicBezTo>
                          <a:pt x="3379831" y="881650"/>
                          <a:pt x="3462840" y="811834"/>
                          <a:pt x="3488267" y="780050"/>
                        </a:cubicBezTo>
                        <a:cubicBezTo>
                          <a:pt x="3508213" y="755117"/>
                          <a:pt x="3533422" y="734894"/>
                          <a:pt x="3556000" y="712316"/>
                        </a:cubicBezTo>
                        <a:cubicBezTo>
                          <a:pt x="3672034" y="364218"/>
                          <a:pt x="3542543" y="624173"/>
                          <a:pt x="3759200" y="407516"/>
                        </a:cubicBezTo>
                        <a:cubicBezTo>
                          <a:pt x="3984974" y="181742"/>
                          <a:pt x="3657605" y="418801"/>
                          <a:pt x="3928534" y="238183"/>
                        </a:cubicBezTo>
                        <a:cubicBezTo>
                          <a:pt x="3917245" y="193027"/>
                          <a:pt x="3894667" y="149261"/>
                          <a:pt x="3894667" y="102716"/>
                        </a:cubicBezTo>
                        <a:cubicBezTo>
                          <a:pt x="3894667" y="67017"/>
                          <a:pt x="3894667" y="-10173"/>
                          <a:pt x="3928534" y="1116"/>
                        </a:cubicBezTo>
                        <a:cubicBezTo>
                          <a:pt x="3976429" y="17081"/>
                          <a:pt x="3973689" y="91427"/>
                          <a:pt x="3996267" y="136583"/>
                        </a:cubicBezTo>
                        <a:cubicBezTo>
                          <a:pt x="4007556" y="294627"/>
                          <a:pt x="4012637" y="453238"/>
                          <a:pt x="4030134" y="610716"/>
                        </a:cubicBezTo>
                        <a:cubicBezTo>
                          <a:pt x="4035274" y="656977"/>
                          <a:pt x="4064000" y="699638"/>
                          <a:pt x="4064000" y="746183"/>
                        </a:cubicBezTo>
                        <a:cubicBezTo>
                          <a:pt x="4064000" y="781882"/>
                          <a:pt x="4046099" y="676513"/>
                          <a:pt x="4030134" y="644583"/>
                        </a:cubicBezTo>
                        <a:cubicBezTo>
                          <a:pt x="4011931" y="608177"/>
                          <a:pt x="3984978" y="576850"/>
                          <a:pt x="3962400" y="542983"/>
                        </a:cubicBezTo>
                        <a:cubicBezTo>
                          <a:pt x="3951111" y="509116"/>
                          <a:pt x="3896604" y="457348"/>
                          <a:pt x="3928534" y="441383"/>
                        </a:cubicBezTo>
                        <a:cubicBezTo>
                          <a:pt x="3964940" y="423180"/>
                          <a:pt x="3998351" y="483689"/>
                          <a:pt x="4030134" y="509116"/>
                        </a:cubicBezTo>
                        <a:cubicBezTo>
                          <a:pt x="4055067" y="529062"/>
                          <a:pt x="4077921" y="551917"/>
                          <a:pt x="4097867" y="576850"/>
                        </a:cubicBezTo>
                        <a:cubicBezTo>
                          <a:pt x="4123294" y="608634"/>
                          <a:pt x="4133817" y="653023"/>
                          <a:pt x="4165600" y="678450"/>
                        </a:cubicBezTo>
                        <a:cubicBezTo>
                          <a:pt x="4193476" y="700751"/>
                          <a:pt x="4233333" y="701027"/>
                          <a:pt x="4267200" y="712316"/>
                        </a:cubicBezTo>
                        <a:cubicBezTo>
                          <a:pt x="4301067" y="768761"/>
                          <a:pt x="4333913" y="825830"/>
                          <a:pt x="4368800" y="881650"/>
                        </a:cubicBezTo>
                        <a:cubicBezTo>
                          <a:pt x="4390372" y="916166"/>
                          <a:pt x="4420500" y="945838"/>
                          <a:pt x="4436534" y="983250"/>
                        </a:cubicBezTo>
                        <a:cubicBezTo>
                          <a:pt x="4454869" y="1026032"/>
                          <a:pt x="4454057" y="1075135"/>
                          <a:pt x="4470400" y="1118716"/>
                        </a:cubicBezTo>
                        <a:cubicBezTo>
                          <a:pt x="4488127" y="1165987"/>
                          <a:pt x="4515556" y="1209027"/>
                          <a:pt x="4538134" y="1254183"/>
                        </a:cubicBezTo>
                        <a:cubicBezTo>
                          <a:pt x="4549423" y="1299339"/>
                          <a:pt x="4551184" y="1348019"/>
                          <a:pt x="4572000" y="1389650"/>
                        </a:cubicBezTo>
                        <a:cubicBezTo>
                          <a:pt x="4586279" y="1418209"/>
                          <a:pt x="4625455" y="1428824"/>
                          <a:pt x="4639734" y="1457383"/>
                        </a:cubicBezTo>
                        <a:cubicBezTo>
                          <a:pt x="4660550" y="1499014"/>
                          <a:pt x="4650507" y="1552437"/>
                          <a:pt x="4673600" y="1592850"/>
                        </a:cubicBezTo>
                        <a:cubicBezTo>
                          <a:pt x="4697362" y="1634434"/>
                          <a:pt x="4747362" y="1655477"/>
                          <a:pt x="4775200" y="1694450"/>
                        </a:cubicBezTo>
                        <a:cubicBezTo>
                          <a:pt x="4967106" y="1963116"/>
                          <a:pt x="4750456" y="1710412"/>
                          <a:pt x="4876800" y="1931516"/>
                        </a:cubicBezTo>
                        <a:cubicBezTo>
                          <a:pt x="4904804" y="1980524"/>
                          <a:pt x="4946031" y="2020742"/>
                          <a:pt x="4978400" y="2066983"/>
                        </a:cubicBezTo>
                        <a:cubicBezTo>
                          <a:pt x="5025083" y="2133673"/>
                          <a:pt x="5046134" y="2225028"/>
                          <a:pt x="5113867" y="2270183"/>
                        </a:cubicBezTo>
                        <a:cubicBezTo>
                          <a:pt x="5147734" y="2292761"/>
                          <a:pt x="5183684" y="2312489"/>
                          <a:pt x="5215467" y="2337916"/>
                        </a:cubicBezTo>
                        <a:cubicBezTo>
                          <a:pt x="5240400" y="2357862"/>
                          <a:pt x="5305778" y="2383072"/>
                          <a:pt x="5283200" y="2405650"/>
                        </a:cubicBezTo>
                        <a:cubicBezTo>
                          <a:pt x="5257957" y="2430893"/>
                          <a:pt x="5181600" y="2336084"/>
                          <a:pt x="5181600" y="2371783"/>
                        </a:cubicBezTo>
                        <a:cubicBezTo>
                          <a:pt x="5181600" y="2412486"/>
                          <a:pt x="5249333" y="2416938"/>
                          <a:pt x="5283200" y="2439516"/>
                        </a:cubicBezTo>
                        <a:cubicBezTo>
                          <a:pt x="5294489" y="2473383"/>
                          <a:pt x="5303005" y="2508304"/>
                          <a:pt x="5317067" y="2541116"/>
                        </a:cubicBezTo>
                        <a:cubicBezTo>
                          <a:pt x="5336954" y="2587520"/>
                          <a:pt x="5393100" y="2626784"/>
                          <a:pt x="5384800" y="2676583"/>
                        </a:cubicBezTo>
                        <a:cubicBezTo>
                          <a:pt x="5378108" y="2716732"/>
                          <a:pt x="5317067" y="2721738"/>
                          <a:pt x="5283200" y="2744316"/>
                        </a:cubicBezTo>
                        <a:cubicBezTo>
                          <a:pt x="5395839" y="2969593"/>
                          <a:pt x="5298659" y="2795428"/>
                          <a:pt x="5452534" y="3015250"/>
                        </a:cubicBezTo>
                        <a:cubicBezTo>
                          <a:pt x="5499217" y="3081940"/>
                          <a:pt x="5588000" y="3218450"/>
                          <a:pt x="5588000" y="3218450"/>
                        </a:cubicBezTo>
                        <a:cubicBezTo>
                          <a:pt x="5554133" y="3229739"/>
                          <a:pt x="5495058" y="3217683"/>
                          <a:pt x="5486400" y="3252316"/>
                        </a:cubicBezTo>
                        <a:cubicBezTo>
                          <a:pt x="5476528" y="3291804"/>
                          <a:pt x="5537603" y="3316721"/>
                          <a:pt x="5554134" y="3353916"/>
                        </a:cubicBezTo>
                        <a:cubicBezTo>
                          <a:pt x="5583131" y="3419160"/>
                          <a:pt x="5599289" y="3489383"/>
                          <a:pt x="5621867" y="3557116"/>
                        </a:cubicBezTo>
                        <a:cubicBezTo>
                          <a:pt x="5644445" y="3624849"/>
                          <a:pt x="5646762" y="3703198"/>
                          <a:pt x="5689600" y="3760316"/>
                        </a:cubicBezTo>
                        <a:lnTo>
                          <a:pt x="5791200" y="3895783"/>
                        </a:lnTo>
                        <a:cubicBezTo>
                          <a:pt x="5802489" y="3940939"/>
                          <a:pt x="5808724" y="3987668"/>
                          <a:pt x="5825067" y="4031250"/>
                        </a:cubicBezTo>
                        <a:cubicBezTo>
                          <a:pt x="5842794" y="4078521"/>
                          <a:pt x="5892800" y="4116231"/>
                          <a:pt x="5892800" y="4166716"/>
                        </a:cubicBezTo>
                        <a:lnTo>
                          <a:pt x="5825067" y="4234450"/>
                        </a:lnTo>
                        <a:cubicBezTo>
                          <a:pt x="5848081" y="4265135"/>
                          <a:pt x="5969638" y="4421991"/>
                          <a:pt x="5994400" y="4471516"/>
                        </a:cubicBezTo>
                        <a:cubicBezTo>
                          <a:pt x="6021587" y="4525891"/>
                          <a:pt x="6042910" y="4583177"/>
                          <a:pt x="6062134" y="4640850"/>
                        </a:cubicBezTo>
                        <a:cubicBezTo>
                          <a:pt x="6076853" y="4685006"/>
                          <a:pt x="6134728" y="4750498"/>
                          <a:pt x="6096000" y="4776316"/>
                        </a:cubicBezTo>
                        <a:cubicBezTo>
                          <a:pt x="6062420" y="4798702"/>
                          <a:pt x="5858934" y="4638466"/>
                          <a:pt x="5858934" y="4606983"/>
                        </a:cubicBezTo>
                        <a:cubicBezTo>
                          <a:pt x="5858934" y="4571284"/>
                          <a:pt x="5926667" y="4629561"/>
                          <a:pt x="5960534" y="4640850"/>
                        </a:cubicBezTo>
                        <a:cubicBezTo>
                          <a:pt x="5986987" y="4680530"/>
                          <a:pt x="6096000" y="4834949"/>
                          <a:pt x="6096000" y="4877916"/>
                        </a:cubicBezTo>
                        <a:cubicBezTo>
                          <a:pt x="6096000" y="4918619"/>
                          <a:pt x="6050845" y="4945649"/>
                          <a:pt x="6028267" y="4979516"/>
                        </a:cubicBezTo>
                        <a:cubicBezTo>
                          <a:pt x="5977973" y="4904074"/>
                          <a:pt x="5961741" y="4865335"/>
                          <a:pt x="5892800" y="4810183"/>
                        </a:cubicBezTo>
                        <a:cubicBezTo>
                          <a:pt x="5861016" y="4784756"/>
                          <a:pt x="5831903" y="4742450"/>
                          <a:pt x="5791200" y="4742450"/>
                        </a:cubicBezTo>
                        <a:cubicBezTo>
                          <a:pt x="5759270" y="4742450"/>
                          <a:pt x="5838493" y="4785654"/>
                          <a:pt x="5858934" y="4810183"/>
                        </a:cubicBezTo>
                        <a:cubicBezTo>
                          <a:pt x="5895069" y="4853545"/>
                          <a:pt x="5931494" y="4897249"/>
                          <a:pt x="5960534" y="4945650"/>
                        </a:cubicBezTo>
                        <a:cubicBezTo>
                          <a:pt x="6214216" y="5368453"/>
                          <a:pt x="5922157" y="4962215"/>
                          <a:pt x="6163734" y="5284316"/>
                        </a:cubicBezTo>
                        <a:cubicBezTo>
                          <a:pt x="6175023" y="5329472"/>
                          <a:pt x="6184813" y="5375029"/>
                          <a:pt x="6197600" y="5419783"/>
                        </a:cubicBezTo>
                        <a:cubicBezTo>
                          <a:pt x="6207407" y="5454108"/>
                          <a:pt x="6263397" y="5505418"/>
                          <a:pt x="6231467" y="5521383"/>
                        </a:cubicBezTo>
                        <a:cubicBezTo>
                          <a:pt x="6195062" y="5539586"/>
                          <a:pt x="6163734" y="5476228"/>
                          <a:pt x="6129867" y="5453650"/>
                        </a:cubicBezTo>
                        <a:cubicBezTo>
                          <a:pt x="6152445" y="5498805"/>
                          <a:pt x="6167309" y="5548728"/>
                          <a:pt x="6197600" y="5589116"/>
                        </a:cubicBezTo>
                        <a:cubicBezTo>
                          <a:pt x="6235916" y="5640204"/>
                          <a:pt x="6297644" y="5671448"/>
                          <a:pt x="6333067" y="5724583"/>
                        </a:cubicBezTo>
                        <a:cubicBezTo>
                          <a:pt x="6366789" y="5775165"/>
                          <a:pt x="6373613" y="5839542"/>
                          <a:pt x="6400800" y="5893916"/>
                        </a:cubicBezTo>
                        <a:cubicBezTo>
                          <a:pt x="6419003" y="5930322"/>
                          <a:pt x="6444876" y="5962395"/>
                          <a:pt x="6468534" y="5995516"/>
                        </a:cubicBezTo>
                        <a:cubicBezTo>
                          <a:pt x="6501342" y="6041447"/>
                          <a:pt x="6610047" y="6170895"/>
                          <a:pt x="6570134" y="6130983"/>
                        </a:cubicBezTo>
                        <a:cubicBezTo>
                          <a:pt x="6547556" y="6108405"/>
                          <a:pt x="6502400" y="6031320"/>
                          <a:pt x="6502400" y="6063250"/>
                        </a:cubicBezTo>
                        <a:cubicBezTo>
                          <a:pt x="6502400" y="6113735"/>
                          <a:pt x="6540790" y="6157634"/>
                          <a:pt x="6570134" y="6198716"/>
                        </a:cubicBezTo>
                        <a:cubicBezTo>
                          <a:pt x="6597972" y="6237689"/>
                          <a:pt x="6700471" y="6338632"/>
                          <a:pt x="6671734" y="6300316"/>
                        </a:cubicBezTo>
                        <a:lnTo>
                          <a:pt x="6570134" y="6164850"/>
                        </a:lnTo>
                        <a:cubicBezTo>
                          <a:pt x="6676464" y="6483848"/>
                          <a:pt x="6522974" y="6073854"/>
                          <a:pt x="6671734" y="6334183"/>
                        </a:cubicBezTo>
                        <a:cubicBezTo>
                          <a:pt x="6842778" y="6633509"/>
                          <a:pt x="6629101" y="6393150"/>
                          <a:pt x="6841067" y="6605116"/>
                        </a:cubicBezTo>
                        <a:cubicBezTo>
                          <a:pt x="6852356" y="6638983"/>
                          <a:pt x="6906864" y="6690751"/>
                          <a:pt x="6874934" y="6706716"/>
                        </a:cubicBezTo>
                        <a:cubicBezTo>
                          <a:pt x="6838529" y="6724919"/>
                          <a:pt x="6798761" y="6670766"/>
                          <a:pt x="6773334" y="6638983"/>
                        </a:cubicBezTo>
                        <a:cubicBezTo>
                          <a:pt x="6751033" y="6611107"/>
                          <a:pt x="6759269" y="6567086"/>
                          <a:pt x="6739467" y="6537383"/>
                        </a:cubicBezTo>
                        <a:cubicBezTo>
                          <a:pt x="6687314" y="6459154"/>
                          <a:pt x="6611237" y="6418030"/>
                          <a:pt x="6536267" y="6368050"/>
                        </a:cubicBezTo>
                        <a:cubicBezTo>
                          <a:pt x="6524978" y="6401917"/>
                          <a:pt x="6491111" y="6435783"/>
                          <a:pt x="6502400" y="6469650"/>
                        </a:cubicBezTo>
                        <a:cubicBezTo>
                          <a:pt x="6545123" y="6597818"/>
                          <a:pt x="6680847" y="6715830"/>
                          <a:pt x="6773334" y="6808316"/>
                        </a:cubicBezTo>
                        <a:cubicBezTo>
                          <a:pt x="6784623" y="6842183"/>
                          <a:pt x="6788833" y="6879305"/>
                          <a:pt x="6807200" y="6909916"/>
                        </a:cubicBezTo>
                        <a:cubicBezTo>
                          <a:pt x="6839371" y="6963535"/>
                          <a:pt x="6983524" y="7050044"/>
                          <a:pt x="6773334" y="6909916"/>
                        </a:cubicBezTo>
                        <a:cubicBezTo>
                          <a:pt x="6750756" y="6876049"/>
                          <a:pt x="6725794" y="6843656"/>
                          <a:pt x="6705600" y="6808316"/>
                        </a:cubicBezTo>
                        <a:cubicBezTo>
                          <a:pt x="6680552" y="6764483"/>
                          <a:pt x="6668862" y="6712701"/>
                          <a:pt x="6637867" y="6672850"/>
                        </a:cubicBezTo>
                        <a:cubicBezTo>
                          <a:pt x="6588860" y="6609840"/>
                          <a:pt x="6468534" y="6503516"/>
                          <a:pt x="6468534" y="6503516"/>
                        </a:cubicBezTo>
                        <a:cubicBezTo>
                          <a:pt x="6553657" y="6758890"/>
                          <a:pt x="6438831" y="6444110"/>
                          <a:pt x="6570134" y="6706716"/>
                        </a:cubicBezTo>
                        <a:cubicBezTo>
                          <a:pt x="6586099" y="6738646"/>
                          <a:pt x="6588035" y="6776386"/>
                          <a:pt x="6604000" y="6808316"/>
                        </a:cubicBezTo>
                        <a:cubicBezTo>
                          <a:pt x="6622203" y="6844722"/>
                          <a:pt x="6646307" y="6878132"/>
                          <a:pt x="6671734" y="6909916"/>
                        </a:cubicBezTo>
                        <a:cubicBezTo>
                          <a:pt x="6691680" y="6934849"/>
                          <a:pt x="6771397" y="6977650"/>
                          <a:pt x="6739467" y="6977650"/>
                        </a:cubicBezTo>
                        <a:cubicBezTo>
                          <a:pt x="6698764" y="6977650"/>
                          <a:pt x="6671734" y="6932494"/>
                          <a:pt x="6637867" y="6909916"/>
                        </a:cubicBezTo>
                        <a:cubicBezTo>
                          <a:pt x="6615289" y="6876049"/>
                          <a:pt x="6595561" y="6840099"/>
                          <a:pt x="6570134" y="6808316"/>
                        </a:cubicBezTo>
                        <a:cubicBezTo>
                          <a:pt x="6550188" y="6783383"/>
                          <a:pt x="6524978" y="6718005"/>
                          <a:pt x="6502400" y="6740583"/>
                        </a:cubicBezTo>
                        <a:cubicBezTo>
                          <a:pt x="6477157" y="6765826"/>
                          <a:pt x="6522205" y="6809371"/>
                          <a:pt x="6536267" y="6842183"/>
                        </a:cubicBezTo>
                        <a:cubicBezTo>
                          <a:pt x="6598751" y="6987979"/>
                          <a:pt x="6643161" y="7036393"/>
                          <a:pt x="6739467" y="7180850"/>
                        </a:cubicBezTo>
                        <a:cubicBezTo>
                          <a:pt x="6762045" y="7214717"/>
                          <a:pt x="6705601" y="7101828"/>
                          <a:pt x="6671734" y="7079250"/>
                        </a:cubicBezTo>
                        <a:lnTo>
                          <a:pt x="6570134" y="7011516"/>
                        </a:lnTo>
                        <a:cubicBezTo>
                          <a:pt x="6592712" y="7056672"/>
                          <a:pt x="6611110" y="7104171"/>
                          <a:pt x="6637867" y="7146983"/>
                        </a:cubicBezTo>
                        <a:cubicBezTo>
                          <a:pt x="6667782" y="7194848"/>
                          <a:pt x="6711463" y="7233442"/>
                          <a:pt x="6739467" y="7282450"/>
                        </a:cubicBezTo>
                        <a:cubicBezTo>
                          <a:pt x="6757178" y="7313445"/>
                          <a:pt x="6798577" y="7358808"/>
                          <a:pt x="6773334" y="7384050"/>
                        </a:cubicBezTo>
                        <a:cubicBezTo>
                          <a:pt x="6750756" y="7406628"/>
                          <a:pt x="6729843" y="7337096"/>
                          <a:pt x="6705600" y="7316316"/>
                        </a:cubicBezTo>
                        <a:cubicBezTo>
                          <a:pt x="6650718" y="7269274"/>
                          <a:pt x="6592711" y="7226005"/>
                          <a:pt x="6536267" y="7180850"/>
                        </a:cubicBezTo>
                        <a:cubicBezTo>
                          <a:pt x="6615289" y="7417917"/>
                          <a:pt x="6536267" y="7406628"/>
                          <a:pt x="6705600" y="7350183"/>
                        </a:cubicBezTo>
                        <a:cubicBezTo>
                          <a:pt x="6624162" y="7228025"/>
                          <a:pt x="6573856" y="7138175"/>
                          <a:pt x="6434667" y="7045383"/>
                        </a:cubicBezTo>
                        <a:cubicBezTo>
                          <a:pt x="6400800" y="7022805"/>
                          <a:pt x="6365629" y="7002072"/>
                          <a:pt x="6333067" y="6977650"/>
                        </a:cubicBezTo>
                        <a:cubicBezTo>
                          <a:pt x="6275240" y="6934279"/>
                          <a:pt x="6225717" y="6879373"/>
                          <a:pt x="6163734" y="6842183"/>
                        </a:cubicBezTo>
                        <a:cubicBezTo>
                          <a:pt x="6111605" y="6810905"/>
                          <a:pt x="6050845" y="6797028"/>
                          <a:pt x="5994400" y="6774450"/>
                        </a:cubicBezTo>
                        <a:cubicBezTo>
                          <a:pt x="6017016" y="6853606"/>
                          <a:pt x="6092381" y="7130372"/>
                          <a:pt x="6129867" y="7214716"/>
                        </a:cubicBezTo>
                        <a:cubicBezTo>
                          <a:pt x="6181986" y="7331985"/>
                          <a:pt x="6194962" y="7296085"/>
                          <a:pt x="6265334" y="7384050"/>
                        </a:cubicBezTo>
                        <a:cubicBezTo>
                          <a:pt x="6290761" y="7415833"/>
                          <a:pt x="6369473" y="7467448"/>
                          <a:pt x="6333067" y="7485650"/>
                        </a:cubicBezTo>
                        <a:lnTo>
                          <a:pt x="6197600" y="7417916"/>
                        </a:lnTo>
                        <a:cubicBezTo>
                          <a:pt x="6175022" y="7384049"/>
                          <a:pt x="6155924" y="7347585"/>
                          <a:pt x="6129867" y="7316316"/>
                        </a:cubicBezTo>
                        <a:cubicBezTo>
                          <a:pt x="6099206" y="7279522"/>
                          <a:pt x="6049686" y="7171878"/>
                          <a:pt x="6028267" y="7214716"/>
                        </a:cubicBezTo>
                        <a:cubicBezTo>
                          <a:pt x="5959584" y="7352081"/>
                          <a:pt x="6163734" y="7380175"/>
                          <a:pt x="6163734" y="7485650"/>
                        </a:cubicBezTo>
                        <a:cubicBezTo>
                          <a:pt x="6163734" y="7517580"/>
                          <a:pt x="6120933" y="7437863"/>
                          <a:pt x="6096000" y="7417916"/>
                        </a:cubicBezTo>
                        <a:cubicBezTo>
                          <a:pt x="6064217" y="7392489"/>
                          <a:pt x="6028267" y="7372761"/>
                          <a:pt x="5994400" y="7350183"/>
                        </a:cubicBezTo>
                        <a:cubicBezTo>
                          <a:pt x="6005689" y="7384050"/>
                          <a:pt x="6057970" y="7431981"/>
                          <a:pt x="6028267" y="7451783"/>
                        </a:cubicBezTo>
                        <a:cubicBezTo>
                          <a:pt x="5989539" y="7477602"/>
                          <a:pt x="5934432" y="7438732"/>
                          <a:pt x="5892800" y="7417916"/>
                        </a:cubicBezTo>
                        <a:cubicBezTo>
                          <a:pt x="5819989" y="7381511"/>
                          <a:pt x="5753857" y="7332428"/>
                          <a:pt x="5689600" y="7282450"/>
                        </a:cubicBezTo>
                        <a:cubicBezTo>
                          <a:pt x="5589736" y="7204778"/>
                          <a:pt x="5601916" y="7162623"/>
                          <a:pt x="5486400" y="7113116"/>
                        </a:cubicBezTo>
                        <a:cubicBezTo>
                          <a:pt x="5443618" y="7094781"/>
                          <a:pt x="5396089" y="7090539"/>
                          <a:pt x="5350934" y="7079250"/>
                        </a:cubicBezTo>
                        <a:cubicBezTo>
                          <a:pt x="5350934" y="7079250"/>
                          <a:pt x="5416399" y="7171354"/>
                          <a:pt x="5452534" y="7214716"/>
                        </a:cubicBezTo>
                        <a:cubicBezTo>
                          <a:pt x="5472975" y="7239245"/>
                          <a:pt x="5500321" y="7257517"/>
                          <a:pt x="5520267" y="7282450"/>
                        </a:cubicBezTo>
                        <a:cubicBezTo>
                          <a:pt x="5545694" y="7314234"/>
                          <a:pt x="5616782" y="7355269"/>
                          <a:pt x="5588000" y="7384050"/>
                        </a:cubicBezTo>
                        <a:cubicBezTo>
                          <a:pt x="5559218" y="7412831"/>
                          <a:pt x="5522806" y="7334519"/>
                          <a:pt x="5486400" y="7316316"/>
                        </a:cubicBezTo>
                        <a:cubicBezTo>
                          <a:pt x="5454470" y="7300351"/>
                          <a:pt x="5418667" y="7293739"/>
                          <a:pt x="5384800" y="7282450"/>
                        </a:cubicBezTo>
                        <a:cubicBezTo>
                          <a:pt x="5350933" y="7293739"/>
                          <a:pt x="5291858" y="7281683"/>
                          <a:pt x="5283200" y="7316316"/>
                        </a:cubicBezTo>
                        <a:cubicBezTo>
                          <a:pt x="5273328" y="7355804"/>
                          <a:pt x="5325507" y="7386132"/>
                          <a:pt x="5350934" y="7417916"/>
                        </a:cubicBezTo>
                        <a:cubicBezTo>
                          <a:pt x="5370880" y="7442849"/>
                          <a:pt x="5447226" y="7499929"/>
                          <a:pt x="5418667" y="7485650"/>
                        </a:cubicBezTo>
                        <a:cubicBezTo>
                          <a:pt x="5345856" y="7449245"/>
                          <a:pt x="5292695" y="7375926"/>
                          <a:pt x="5215467" y="7350183"/>
                        </a:cubicBezTo>
                        <a:cubicBezTo>
                          <a:pt x="5181600" y="7338894"/>
                          <a:pt x="5145797" y="7332281"/>
                          <a:pt x="5113867" y="7316316"/>
                        </a:cubicBezTo>
                        <a:cubicBezTo>
                          <a:pt x="5077461" y="7298113"/>
                          <a:pt x="4971564" y="7248583"/>
                          <a:pt x="5012267" y="7248583"/>
                        </a:cubicBezTo>
                        <a:cubicBezTo>
                          <a:pt x="5062752" y="7248583"/>
                          <a:pt x="5102578" y="7293738"/>
                          <a:pt x="5147734" y="7316316"/>
                        </a:cubicBezTo>
                        <a:cubicBezTo>
                          <a:pt x="5181601" y="7293738"/>
                          <a:pt x="5262205" y="7287197"/>
                          <a:pt x="5249334" y="7248583"/>
                        </a:cubicBezTo>
                        <a:cubicBezTo>
                          <a:pt x="5234615" y="7204426"/>
                          <a:pt x="5157083" y="7197430"/>
                          <a:pt x="5113867" y="7214716"/>
                        </a:cubicBezTo>
                        <a:cubicBezTo>
                          <a:pt x="5080722" y="7227974"/>
                          <a:pt x="5091289" y="7282449"/>
                          <a:pt x="5080000" y="7316316"/>
                        </a:cubicBezTo>
                        <a:cubicBezTo>
                          <a:pt x="5102578" y="7350183"/>
                          <a:pt x="5122307" y="7386132"/>
                          <a:pt x="5147734" y="7417916"/>
                        </a:cubicBezTo>
                        <a:cubicBezTo>
                          <a:pt x="5167680" y="7442849"/>
                          <a:pt x="5201188" y="7457091"/>
                          <a:pt x="5215467" y="7485650"/>
                        </a:cubicBezTo>
                        <a:cubicBezTo>
                          <a:pt x="5236283" y="7527281"/>
                          <a:pt x="5230999" y="7578334"/>
                          <a:pt x="5249334" y="7621116"/>
                        </a:cubicBezTo>
                        <a:cubicBezTo>
                          <a:pt x="5265368" y="7658528"/>
                          <a:pt x="5356554" y="7732588"/>
                          <a:pt x="5317067" y="7722716"/>
                        </a:cubicBezTo>
                        <a:cubicBezTo>
                          <a:pt x="5238092" y="7702973"/>
                          <a:pt x="5113867" y="7587250"/>
                          <a:pt x="5113867" y="7587250"/>
                        </a:cubicBezTo>
                        <a:cubicBezTo>
                          <a:pt x="5125156" y="7621117"/>
                          <a:pt x="5177437" y="7708652"/>
                          <a:pt x="5147734" y="7688850"/>
                        </a:cubicBezTo>
                        <a:lnTo>
                          <a:pt x="5046134" y="7621116"/>
                        </a:lnTo>
                        <a:cubicBezTo>
                          <a:pt x="5023556" y="7643694"/>
                          <a:pt x="4978400" y="7656920"/>
                          <a:pt x="4978400" y="7688850"/>
                        </a:cubicBezTo>
                        <a:cubicBezTo>
                          <a:pt x="4978400" y="7888085"/>
                          <a:pt x="5176751" y="7791661"/>
                          <a:pt x="4910667" y="7858183"/>
                        </a:cubicBezTo>
                        <a:cubicBezTo>
                          <a:pt x="4854223" y="7813027"/>
                          <a:pt x="4796216" y="7769758"/>
                          <a:pt x="4741334" y="7722716"/>
                        </a:cubicBezTo>
                        <a:cubicBezTo>
                          <a:pt x="4717091" y="7701936"/>
                          <a:pt x="4703891" y="7644886"/>
                          <a:pt x="4673600" y="7654983"/>
                        </a:cubicBezTo>
                        <a:cubicBezTo>
                          <a:pt x="4639733" y="7666272"/>
                          <a:pt x="4651023" y="7722716"/>
                          <a:pt x="4639734" y="7756583"/>
                        </a:cubicBezTo>
                        <a:cubicBezTo>
                          <a:pt x="4651023" y="7790450"/>
                          <a:pt x="4709299" y="7858183"/>
                          <a:pt x="4673600" y="7858183"/>
                        </a:cubicBezTo>
                        <a:cubicBezTo>
                          <a:pt x="4625705" y="7858183"/>
                          <a:pt x="4611851" y="7783150"/>
                          <a:pt x="4572000" y="7756583"/>
                        </a:cubicBezTo>
                        <a:cubicBezTo>
                          <a:pt x="4542297" y="7736781"/>
                          <a:pt x="4502330" y="7738681"/>
                          <a:pt x="4470400" y="7722716"/>
                        </a:cubicBezTo>
                        <a:cubicBezTo>
                          <a:pt x="4433994" y="7704513"/>
                          <a:pt x="4409503" y="7654983"/>
                          <a:pt x="4368800" y="7654983"/>
                        </a:cubicBezTo>
                        <a:cubicBezTo>
                          <a:pt x="4336870" y="7654983"/>
                          <a:pt x="4465093" y="7708436"/>
                          <a:pt x="4436534" y="7722716"/>
                        </a:cubicBezTo>
                        <a:cubicBezTo>
                          <a:pt x="4394903" y="7743532"/>
                          <a:pt x="4346223" y="7700139"/>
                          <a:pt x="4301067" y="7688850"/>
                        </a:cubicBezTo>
                        <a:cubicBezTo>
                          <a:pt x="4278489" y="7722717"/>
                          <a:pt x="4271125" y="7775333"/>
                          <a:pt x="4233334" y="7790450"/>
                        </a:cubicBezTo>
                        <a:cubicBezTo>
                          <a:pt x="4200189" y="7803708"/>
                          <a:pt x="4166947" y="7762452"/>
                          <a:pt x="4131734" y="7756583"/>
                        </a:cubicBezTo>
                        <a:cubicBezTo>
                          <a:pt x="4098328" y="7751015"/>
                          <a:pt x="4064001" y="7756583"/>
                          <a:pt x="4030134" y="7756583"/>
                        </a:cubicBezTo>
                        <a:lnTo>
                          <a:pt x="3386667" y="7756583"/>
                        </a:lnTo>
                        <a:lnTo>
                          <a:pt x="3352800" y="768885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1" name="任意多边形 175"/>
                  <p:cNvSpPr/>
                  <p:nvPr/>
                </p:nvSpPr>
                <p:spPr>
                  <a:xfrm>
                    <a:off x="14731200" y="307440"/>
                    <a:ext cx="1224720" cy="3714120"/>
                  </a:xfrm>
                  <a:custGeom>
                    <a:avLst/>
                    <a:gdLst>
                      <a:gd name="textAreaLeft" fmla="*/ 0 w 1224720"/>
                      <a:gd name="textAreaRight" fmla="*/ 1225080 w 1224720"/>
                      <a:gd name="textAreaTop" fmla="*/ 0 h 3714120"/>
                      <a:gd name="textAreaBottom" fmla="*/ 3714480 h 3714120"/>
                    </a:gdLst>
                    <a:ahLst/>
                    <a:rect l="textAreaLeft" t="textAreaTop" r="textAreaRight" b="textAreaBottom"/>
                    <a:pathLst>
                      <a:path w="2186923" h="5219454">
                        <a:moveTo>
                          <a:pt x="2186923" y="0"/>
                        </a:moveTo>
                        <a:lnTo>
                          <a:pt x="2186923" y="0"/>
                        </a:lnTo>
                        <a:cubicBezTo>
                          <a:pt x="2051456" y="112889"/>
                          <a:pt x="1905213" y="213977"/>
                          <a:pt x="1780523" y="338667"/>
                        </a:cubicBezTo>
                        <a:cubicBezTo>
                          <a:pt x="1571278" y="547912"/>
                          <a:pt x="1849458" y="428576"/>
                          <a:pt x="1611189" y="508000"/>
                        </a:cubicBezTo>
                        <a:cubicBezTo>
                          <a:pt x="1577322" y="553156"/>
                          <a:pt x="1534832" y="592981"/>
                          <a:pt x="1509589" y="643467"/>
                        </a:cubicBezTo>
                        <a:cubicBezTo>
                          <a:pt x="1384757" y="893131"/>
                          <a:pt x="1565726" y="688930"/>
                          <a:pt x="1407989" y="846667"/>
                        </a:cubicBezTo>
                        <a:cubicBezTo>
                          <a:pt x="1325537" y="1094024"/>
                          <a:pt x="1409522" y="1032551"/>
                          <a:pt x="1204789" y="1083733"/>
                        </a:cubicBezTo>
                        <a:cubicBezTo>
                          <a:pt x="970918" y="1551479"/>
                          <a:pt x="1310047" y="908914"/>
                          <a:pt x="1035456" y="1320800"/>
                        </a:cubicBezTo>
                        <a:cubicBezTo>
                          <a:pt x="1015654" y="1350503"/>
                          <a:pt x="1019300" y="1391405"/>
                          <a:pt x="1001589" y="1422400"/>
                        </a:cubicBezTo>
                        <a:cubicBezTo>
                          <a:pt x="973585" y="1471408"/>
                          <a:pt x="929905" y="1510002"/>
                          <a:pt x="899989" y="1557867"/>
                        </a:cubicBezTo>
                        <a:cubicBezTo>
                          <a:pt x="873232" y="1600678"/>
                          <a:pt x="816291" y="1645439"/>
                          <a:pt x="832256" y="1693333"/>
                        </a:cubicBezTo>
                        <a:cubicBezTo>
                          <a:pt x="843545" y="1727200"/>
                          <a:pt x="899989" y="1670756"/>
                          <a:pt x="933856" y="1659467"/>
                        </a:cubicBezTo>
                        <a:cubicBezTo>
                          <a:pt x="1063884" y="1529437"/>
                          <a:pt x="976578" y="1607889"/>
                          <a:pt x="933856" y="1693333"/>
                        </a:cubicBezTo>
                        <a:cubicBezTo>
                          <a:pt x="917891" y="1725263"/>
                          <a:pt x="915954" y="1763003"/>
                          <a:pt x="899989" y="1794933"/>
                        </a:cubicBezTo>
                        <a:cubicBezTo>
                          <a:pt x="881786" y="1831339"/>
                          <a:pt x="850459" y="1860127"/>
                          <a:pt x="832256" y="1896533"/>
                        </a:cubicBezTo>
                        <a:cubicBezTo>
                          <a:pt x="816291" y="1928463"/>
                          <a:pt x="763384" y="1991132"/>
                          <a:pt x="798389" y="1998133"/>
                        </a:cubicBezTo>
                        <a:cubicBezTo>
                          <a:pt x="868400" y="2012135"/>
                          <a:pt x="933856" y="1952978"/>
                          <a:pt x="1001589" y="1930400"/>
                        </a:cubicBezTo>
                        <a:lnTo>
                          <a:pt x="1103189" y="1896533"/>
                        </a:lnTo>
                        <a:cubicBezTo>
                          <a:pt x="1069322" y="1930400"/>
                          <a:pt x="1029427" y="1959159"/>
                          <a:pt x="1001589" y="1998133"/>
                        </a:cubicBezTo>
                        <a:cubicBezTo>
                          <a:pt x="972245" y="2039215"/>
                          <a:pt x="966176" y="2094816"/>
                          <a:pt x="933856" y="2133600"/>
                        </a:cubicBezTo>
                        <a:cubicBezTo>
                          <a:pt x="907799" y="2164869"/>
                          <a:pt x="866123" y="2178755"/>
                          <a:pt x="832256" y="2201333"/>
                        </a:cubicBezTo>
                        <a:cubicBezTo>
                          <a:pt x="798389" y="2246489"/>
                          <a:pt x="760571" y="2288935"/>
                          <a:pt x="730656" y="2336800"/>
                        </a:cubicBezTo>
                        <a:cubicBezTo>
                          <a:pt x="703899" y="2379612"/>
                          <a:pt x="693214" y="2431879"/>
                          <a:pt x="662923" y="2472267"/>
                        </a:cubicBezTo>
                        <a:cubicBezTo>
                          <a:pt x="624607" y="2523355"/>
                          <a:pt x="572612" y="2562578"/>
                          <a:pt x="527456" y="2607733"/>
                        </a:cubicBezTo>
                        <a:cubicBezTo>
                          <a:pt x="470055" y="2779936"/>
                          <a:pt x="476044" y="2692662"/>
                          <a:pt x="595189" y="2641600"/>
                        </a:cubicBezTo>
                        <a:cubicBezTo>
                          <a:pt x="637971" y="2623265"/>
                          <a:pt x="685500" y="2619022"/>
                          <a:pt x="730656" y="2607733"/>
                        </a:cubicBezTo>
                        <a:cubicBezTo>
                          <a:pt x="764523" y="2585155"/>
                          <a:pt x="832256" y="2499297"/>
                          <a:pt x="832256" y="2540000"/>
                        </a:cubicBezTo>
                        <a:cubicBezTo>
                          <a:pt x="832256" y="2587895"/>
                          <a:pt x="757223" y="2601749"/>
                          <a:pt x="730656" y="2641600"/>
                        </a:cubicBezTo>
                        <a:cubicBezTo>
                          <a:pt x="710854" y="2671303"/>
                          <a:pt x="712754" y="2711270"/>
                          <a:pt x="696789" y="2743200"/>
                        </a:cubicBezTo>
                        <a:cubicBezTo>
                          <a:pt x="678586" y="2779606"/>
                          <a:pt x="648823" y="2809220"/>
                          <a:pt x="629056" y="2844800"/>
                        </a:cubicBezTo>
                        <a:cubicBezTo>
                          <a:pt x="475283" y="3121592"/>
                          <a:pt x="600455" y="2975001"/>
                          <a:pt x="425856" y="3149600"/>
                        </a:cubicBezTo>
                        <a:cubicBezTo>
                          <a:pt x="403278" y="3194756"/>
                          <a:pt x="393822" y="3249368"/>
                          <a:pt x="358123" y="3285067"/>
                        </a:cubicBezTo>
                        <a:cubicBezTo>
                          <a:pt x="332880" y="3310310"/>
                          <a:pt x="364113" y="3205768"/>
                          <a:pt x="391989" y="3183467"/>
                        </a:cubicBezTo>
                        <a:cubicBezTo>
                          <a:pt x="428335" y="3154390"/>
                          <a:pt x="482701" y="3162387"/>
                          <a:pt x="527456" y="3149600"/>
                        </a:cubicBezTo>
                        <a:cubicBezTo>
                          <a:pt x="561781" y="3139793"/>
                          <a:pt x="595189" y="3127022"/>
                          <a:pt x="629056" y="3115733"/>
                        </a:cubicBezTo>
                        <a:cubicBezTo>
                          <a:pt x="575203" y="3384998"/>
                          <a:pt x="624032" y="3244580"/>
                          <a:pt x="425856" y="3556000"/>
                        </a:cubicBezTo>
                        <a:cubicBezTo>
                          <a:pt x="404004" y="3590339"/>
                          <a:pt x="370994" y="3618986"/>
                          <a:pt x="358123" y="3657600"/>
                        </a:cubicBezTo>
                        <a:cubicBezTo>
                          <a:pt x="346834" y="3691467"/>
                          <a:pt x="292326" y="3743235"/>
                          <a:pt x="324256" y="3759200"/>
                        </a:cubicBezTo>
                        <a:cubicBezTo>
                          <a:pt x="355951" y="3775048"/>
                          <a:pt x="526224" y="3590637"/>
                          <a:pt x="527456" y="3589867"/>
                        </a:cubicBezTo>
                        <a:cubicBezTo>
                          <a:pt x="629523" y="3526075"/>
                          <a:pt x="698079" y="3531257"/>
                          <a:pt x="798389" y="3488267"/>
                        </a:cubicBezTo>
                        <a:cubicBezTo>
                          <a:pt x="1091333" y="3362720"/>
                          <a:pt x="797186" y="3466089"/>
                          <a:pt x="1035456" y="3386667"/>
                        </a:cubicBezTo>
                        <a:cubicBezTo>
                          <a:pt x="1012878" y="3420534"/>
                          <a:pt x="994526" y="3457635"/>
                          <a:pt x="967723" y="3488267"/>
                        </a:cubicBezTo>
                        <a:cubicBezTo>
                          <a:pt x="915158" y="3548341"/>
                          <a:pt x="798389" y="3657600"/>
                          <a:pt x="798389" y="3657600"/>
                        </a:cubicBezTo>
                        <a:cubicBezTo>
                          <a:pt x="733707" y="3851649"/>
                          <a:pt x="813584" y="3676272"/>
                          <a:pt x="629056" y="3860800"/>
                        </a:cubicBezTo>
                        <a:cubicBezTo>
                          <a:pt x="347489" y="4142366"/>
                          <a:pt x="621683" y="3944736"/>
                          <a:pt x="391989" y="4097867"/>
                        </a:cubicBezTo>
                        <a:cubicBezTo>
                          <a:pt x="369411" y="4131734"/>
                          <a:pt x="306053" y="4163062"/>
                          <a:pt x="324256" y="4199467"/>
                        </a:cubicBezTo>
                        <a:cubicBezTo>
                          <a:pt x="340221" y="4231397"/>
                          <a:pt x="393926" y="4181565"/>
                          <a:pt x="425856" y="4165600"/>
                        </a:cubicBezTo>
                        <a:cubicBezTo>
                          <a:pt x="462262" y="4147397"/>
                          <a:pt x="492116" y="4118061"/>
                          <a:pt x="527456" y="4097867"/>
                        </a:cubicBezTo>
                        <a:cubicBezTo>
                          <a:pt x="752116" y="3969490"/>
                          <a:pt x="574537" y="4077690"/>
                          <a:pt x="764523" y="3996267"/>
                        </a:cubicBezTo>
                        <a:cubicBezTo>
                          <a:pt x="1057466" y="3870720"/>
                          <a:pt x="763319" y="3974089"/>
                          <a:pt x="1001589" y="3894667"/>
                        </a:cubicBezTo>
                        <a:cubicBezTo>
                          <a:pt x="956434" y="3928534"/>
                          <a:pt x="908979" y="3959533"/>
                          <a:pt x="866123" y="3996267"/>
                        </a:cubicBezTo>
                        <a:cubicBezTo>
                          <a:pt x="746018" y="4099214"/>
                          <a:pt x="777610" y="4114580"/>
                          <a:pt x="629056" y="4199467"/>
                        </a:cubicBezTo>
                        <a:cubicBezTo>
                          <a:pt x="598061" y="4217178"/>
                          <a:pt x="561323" y="4222044"/>
                          <a:pt x="527456" y="4233333"/>
                        </a:cubicBezTo>
                        <a:cubicBezTo>
                          <a:pt x="482300" y="4267200"/>
                          <a:pt x="440997" y="4306929"/>
                          <a:pt x="391989" y="4334933"/>
                        </a:cubicBezTo>
                        <a:cubicBezTo>
                          <a:pt x="360994" y="4352644"/>
                          <a:pt x="315632" y="4343557"/>
                          <a:pt x="290389" y="4368800"/>
                        </a:cubicBezTo>
                        <a:cubicBezTo>
                          <a:pt x="232827" y="4426362"/>
                          <a:pt x="212486" y="4514438"/>
                          <a:pt x="154923" y="4572000"/>
                        </a:cubicBezTo>
                        <a:cubicBezTo>
                          <a:pt x="132345" y="4594578"/>
                          <a:pt x="55259" y="4639733"/>
                          <a:pt x="87189" y="4639733"/>
                        </a:cubicBezTo>
                        <a:cubicBezTo>
                          <a:pt x="158586" y="4639733"/>
                          <a:pt x="222656" y="4594578"/>
                          <a:pt x="290389" y="4572000"/>
                        </a:cubicBezTo>
                        <a:lnTo>
                          <a:pt x="493589" y="4504267"/>
                        </a:lnTo>
                        <a:cubicBezTo>
                          <a:pt x="527456" y="4492978"/>
                          <a:pt x="560556" y="4479058"/>
                          <a:pt x="595189" y="4470400"/>
                        </a:cubicBezTo>
                        <a:lnTo>
                          <a:pt x="730656" y="4436533"/>
                        </a:lnTo>
                        <a:cubicBezTo>
                          <a:pt x="520620" y="4646570"/>
                          <a:pt x="639598" y="4590212"/>
                          <a:pt x="391989" y="4639733"/>
                        </a:cubicBezTo>
                        <a:cubicBezTo>
                          <a:pt x="311946" y="4959912"/>
                          <a:pt x="438256" y="4553402"/>
                          <a:pt x="154923" y="4978400"/>
                        </a:cubicBezTo>
                        <a:cubicBezTo>
                          <a:pt x="109767" y="5046133"/>
                          <a:pt x="-56127" y="5211833"/>
                          <a:pt x="19456" y="5181600"/>
                        </a:cubicBezTo>
                        <a:cubicBezTo>
                          <a:pt x="41109" y="5172939"/>
                          <a:pt x="237301" y="5090618"/>
                          <a:pt x="290389" y="5080000"/>
                        </a:cubicBezTo>
                        <a:cubicBezTo>
                          <a:pt x="368663" y="5064345"/>
                          <a:pt x="448560" y="5058271"/>
                          <a:pt x="527456" y="5046133"/>
                        </a:cubicBezTo>
                        <a:cubicBezTo>
                          <a:pt x="715237" y="5017244"/>
                          <a:pt x="723843" y="5013630"/>
                          <a:pt x="899989" y="4978400"/>
                        </a:cubicBezTo>
                        <a:cubicBezTo>
                          <a:pt x="922567" y="4955822"/>
                          <a:pt x="967723" y="4878737"/>
                          <a:pt x="967723" y="4910667"/>
                        </a:cubicBezTo>
                        <a:cubicBezTo>
                          <a:pt x="967723" y="4951370"/>
                          <a:pt x="927030" y="4981845"/>
                          <a:pt x="899989" y="5012267"/>
                        </a:cubicBezTo>
                        <a:cubicBezTo>
                          <a:pt x="836350" y="5083861"/>
                          <a:pt x="764522" y="5147734"/>
                          <a:pt x="696789" y="5215467"/>
                        </a:cubicBezTo>
                        <a:cubicBezTo>
                          <a:pt x="674211" y="5238045"/>
                          <a:pt x="734231" y="5157830"/>
                          <a:pt x="764523" y="5147733"/>
                        </a:cubicBezTo>
                        <a:cubicBezTo>
                          <a:pt x="798390" y="5136444"/>
                          <a:pt x="833311" y="5127929"/>
                          <a:pt x="866123" y="5113867"/>
                        </a:cubicBezTo>
                        <a:cubicBezTo>
                          <a:pt x="1016983" y="5049213"/>
                          <a:pt x="1027758" y="4993793"/>
                          <a:pt x="967723" y="5113867"/>
                        </a:cubicBezTo>
                        <a:lnTo>
                          <a:pt x="967723" y="5113867"/>
                        </a:lnTo>
                      </a:path>
                    </a:pathLst>
                  </a:custGeom>
                  <a:noFill/>
                  <a:ln w="25560">
                    <a:solidFill>
                      <a:srgbClr val="92d050">
                        <a:alpha val="7000"/>
                      </a:srgbClr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2" name="任意多边形 176"/>
                  <p:cNvSpPr/>
                  <p:nvPr/>
                </p:nvSpPr>
                <p:spPr>
                  <a:xfrm flipH="1" rot="21138600">
                    <a:off x="16492680" y="102960"/>
                    <a:ext cx="504360" cy="3714480"/>
                  </a:xfrm>
                  <a:custGeom>
                    <a:avLst/>
                    <a:gdLst>
                      <a:gd name="textAreaLeft" fmla="*/ -360 w 504360"/>
                      <a:gd name="textAreaRight" fmla="*/ 504360 w 504360"/>
                      <a:gd name="textAreaTop" fmla="*/ 0 h 3714480"/>
                      <a:gd name="textAreaBottom" fmla="*/ 3714840 h 3714480"/>
                    </a:gdLst>
                    <a:ahLst/>
                    <a:rect l="textAreaLeft" t="textAreaTop" r="textAreaRight" b="textAreaBottom"/>
                    <a:pathLst>
                      <a:path w="2186923" h="5219454">
                        <a:moveTo>
                          <a:pt x="2186923" y="0"/>
                        </a:moveTo>
                        <a:lnTo>
                          <a:pt x="2186923" y="0"/>
                        </a:lnTo>
                        <a:cubicBezTo>
                          <a:pt x="2051456" y="112889"/>
                          <a:pt x="1905213" y="213977"/>
                          <a:pt x="1780523" y="338667"/>
                        </a:cubicBezTo>
                        <a:cubicBezTo>
                          <a:pt x="1571278" y="547912"/>
                          <a:pt x="1849458" y="428576"/>
                          <a:pt x="1611189" y="508000"/>
                        </a:cubicBezTo>
                        <a:cubicBezTo>
                          <a:pt x="1577322" y="553156"/>
                          <a:pt x="1534832" y="592981"/>
                          <a:pt x="1509589" y="643467"/>
                        </a:cubicBezTo>
                        <a:cubicBezTo>
                          <a:pt x="1384757" y="893131"/>
                          <a:pt x="1565726" y="688930"/>
                          <a:pt x="1407989" y="846667"/>
                        </a:cubicBezTo>
                        <a:cubicBezTo>
                          <a:pt x="1325537" y="1094024"/>
                          <a:pt x="1409522" y="1032551"/>
                          <a:pt x="1204789" y="1083733"/>
                        </a:cubicBezTo>
                        <a:cubicBezTo>
                          <a:pt x="970918" y="1551479"/>
                          <a:pt x="1310047" y="908914"/>
                          <a:pt x="1035456" y="1320800"/>
                        </a:cubicBezTo>
                        <a:cubicBezTo>
                          <a:pt x="1015654" y="1350503"/>
                          <a:pt x="1019300" y="1391405"/>
                          <a:pt x="1001589" y="1422400"/>
                        </a:cubicBezTo>
                        <a:cubicBezTo>
                          <a:pt x="973585" y="1471408"/>
                          <a:pt x="929905" y="1510002"/>
                          <a:pt x="899989" y="1557867"/>
                        </a:cubicBezTo>
                        <a:cubicBezTo>
                          <a:pt x="873232" y="1600678"/>
                          <a:pt x="816291" y="1645439"/>
                          <a:pt x="832256" y="1693333"/>
                        </a:cubicBezTo>
                        <a:cubicBezTo>
                          <a:pt x="843545" y="1727200"/>
                          <a:pt x="899989" y="1670756"/>
                          <a:pt x="933856" y="1659467"/>
                        </a:cubicBezTo>
                        <a:cubicBezTo>
                          <a:pt x="1063884" y="1529437"/>
                          <a:pt x="976578" y="1607889"/>
                          <a:pt x="933856" y="1693333"/>
                        </a:cubicBezTo>
                        <a:cubicBezTo>
                          <a:pt x="917891" y="1725263"/>
                          <a:pt x="915954" y="1763003"/>
                          <a:pt x="899989" y="1794933"/>
                        </a:cubicBezTo>
                        <a:cubicBezTo>
                          <a:pt x="881786" y="1831339"/>
                          <a:pt x="850459" y="1860127"/>
                          <a:pt x="832256" y="1896533"/>
                        </a:cubicBezTo>
                        <a:cubicBezTo>
                          <a:pt x="816291" y="1928463"/>
                          <a:pt x="763384" y="1991132"/>
                          <a:pt x="798389" y="1998133"/>
                        </a:cubicBezTo>
                        <a:cubicBezTo>
                          <a:pt x="868400" y="2012135"/>
                          <a:pt x="933856" y="1952978"/>
                          <a:pt x="1001589" y="1930400"/>
                        </a:cubicBezTo>
                        <a:lnTo>
                          <a:pt x="1103189" y="1896533"/>
                        </a:lnTo>
                        <a:cubicBezTo>
                          <a:pt x="1069322" y="1930400"/>
                          <a:pt x="1029427" y="1959159"/>
                          <a:pt x="1001589" y="1998133"/>
                        </a:cubicBezTo>
                        <a:cubicBezTo>
                          <a:pt x="972245" y="2039215"/>
                          <a:pt x="966176" y="2094816"/>
                          <a:pt x="933856" y="2133600"/>
                        </a:cubicBezTo>
                        <a:cubicBezTo>
                          <a:pt x="907799" y="2164869"/>
                          <a:pt x="866123" y="2178755"/>
                          <a:pt x="832256" y="2201333"/>
                        </a:cubicBezTo>
                        <a:cubicBezTo>
                          <a:pt x="798389" y="2246489"/>
                          <a:pt x="760571" y="2288935"/>
                          <a:pt x="730656" y="2336800"/>
                        </a:cubicBezTo>
                        <a:cubicBezTo>
                          <a:pt x="703899" y="2379612"/>
                          <a:pt x="693214" y="2431879"/>
                          <a:pt x="662923" y="2472267"/>
                        </a:cubicBezTo>
                        <a:cubicBezTo>
                          <a:pt x="624607" y="2523355"/>
                          <a:pt x="572612" y="2562578"/>
                          <a:pt x="527456" y="2607733"/>
                        </a:cubicBezTo>
                        <a:cubicBezTo>
                          <a:pt x="470055" y="2779936"/>
                          <a:pt x="476044" y="2692662"/>
                          <a:pt x="595189" y="2641600"/>
                        </a:cubicBezTo>
                        <a:cubicBezTo>
                          <a:pt x="637971" y="2623265"/>
                          <a:pt x="685500" y="2619022"/>
                          <a:pt x="730656" y="2607733"/>
                        </a:cubicBezTo>
                        <a:cubicBezTo>
                          <a:pt x="764523" y="2585155"/>
                          <a:pt x="832256" y="2499297"/>
                          <a:pt x="832256" y="2540000"/>
                        </a:cubicBezTo>
                        <a:cubicBezTo>
                          <a:pt x="832256" y="2587895"/>
                          <a:pt x="757223" y="2601749"/>
                          <a:pt x="730656" y="2641600"/>
                        </a:cubicBezTo>
                        <a:cubicBezTo>
                          <a:pt x="710854" y="2671303"/>
                          <a:pt x="712754" y="2711270"/>
                          <a:pt x="696789" y="2743200"/>
                        </a:cubicBezTo>
                        <a:cubicBezTo>
                          <a:pt x="678586" y="2779606"/>
                          <a:pt x="648823" y="2809220"/>
                          <a:pt x="629056" y="2844800"/>
                        </a:cubicBezTo>
                        <a:cubicBezTo>
                          <a:pt x="475283" y="3121592"/>
                          <a:pt x="600455" y="2975001"/>
                          <a:pt x="425856" y="3149600"/>
                        </a:cubicBezTo>
                        <a:cubicBezTo>
                          <a:pt x="403278" y="3194756"/>
                          <a:pt x="393822" y="3249368"/>
                          <a:pt x="358123" y="3285067"/>
                        </a:cubicBezTo>
                        <a:cubicBezTo>
                          <a:pt x="332880" y="3310310"/>
                          <a:pt x="364113" y="3205768"/>
                          <a:pt x="391989" y="3183467"/>
                        </a:cubicBezTo>
                        <a:cubicBezTo>
                          <a:pt x="428335" y="3154390"/>
                          <a:pt x="482701" y="3162387"/>
                          <a:pt x="527456" y="3149600"/>
                        </a:cubicBezTo>
                        <a:cubicBezTo>
                          <a:pt x="561781" y="3139793"/>
                          <a:pt x="595189" y="3127022"/>
                          <a:pt x="629056" y="3115733"/>
                        </a:cubicBezTo>
                        <a:cubicBezTo>
                          <a:pt x="575203" y="3384998"/>
                          <a:pt x="624032" y="3244580"/>
                          <a:pt x="425856" y="3556000"/>
                        </a:cubicBezTo>
                        <a:cubicBezTo>
                          <a:pt x="404004" y="3590339"/>
                          <a:pt x="370994" y="3618986"/>
                          <a:pt x="358123" y="3657600"/>
                        </a:cubicBezTo>
                        <a:cubicBezTo>
                          <a:pt x="346834" y="3691467"/>
                          <a:pt x="292326" y="3743235"/>
                          <a:pt x="324256" y="3759200"/>
                        </a:cubicBezTo>
                        <a:cubicBezTo>
                          <a:pt x="355951" y="3775048"/>
                          <a:pt x="526224" y="3590637"/>
                          <a:pt x="527456" y="3589867"/>
                        </a:cubicBezTo>
                        <a:cubicBezTo>
                          <a:pt x="629523" y="3526075"/>
                          <a:pt x="698079" y="3531257"/>
                          <a:pt x="798389" y="3488267"/>
                        </a:cubicBezTo>
                        <a:cubicBezTo>
                          <a:pt x="1091333" y="3362720"/>
                          <a:pt x="797186" y="3466089"/>
                          <a:pt x="1035456" y="3386667"/>
                        </a:cubicBezTo>
                        <a:cubicBezTo>
                          <a:pt x="1012878" y="3420534"/>
                          <a:pt x="994526" y="3457635"/>
                          <a:pt x="967723" y="3488267"/>
                        </a:cubicBezTo>
                        <a:cubicBezTo>
                          <a:pt x="915158" y="3548341"/>
                          <a:pt x="798389" y="3657600"/>
                          <a:pt x="798389" y="3657600"/>
                        </a:cubicBezTo>
                        <a:cubicBezTo>
                          <a:pt x="733707" y="3851649"/>
                          <a:pt x="813584" y="3676272"/>
                          <a:pt x="629056" y="3860800"/>
                        </a:cubicBezTo>
                        <a:cubicBezTo>
                          <a:pt x="347489" y="4142366"/>
                          <a:pt x="621683" y="3944736"/>
                          <a:pt x="391989" y="4097867"/>
                        </a:cubicBezTo>
                        <a:cubicBezTo>
                          <a:pt x="369411" y="4131734"/>
                          <a:pt x="306053" y="4163062"/>
                          <a:pt x="324256" y="4199467"/>
                        </a:cubicBezTo>
                        <a:cubicBezTo>
                          <a:pt x="340221" y="4231397"/>
                          <a:pt x="393926" y="4181565"/>
                          <a:pt x="425856" y="4165600"/>
                        </a:cubicBezTo>
                        <a:cubicBezTo>
                          <a:pt x="462262" y="4147397"/>
                          <a:pt x="492116" y="4118061"/>
                          <a:pt x="527456" y="4097867"/>
                        </a:cubicBezTo>
                        <a:cubicBezTo>
                          <a:pt x="752116" y="3969490"/>
                          <a:pt x="574537" y="4077690"/>
                          <a:pt x="764523" y="3996267"/>
                        </a:cubicBezTo>
                        <a:cubicBezTo>
                          <a:pt x="1057466" y="3870720"/>
                          <a:pt x="763319" y="3974089"/>
                          <a:pt x="1001589" y="3894667"/>
                        </a:cubicBezTo>
                        <a:cubicBezTo>
                          <a:pt x="956434" y="3928534"/>
                          <a:pt x="908979" y="3959533"/>
                          <a:pt x="866123" y="3996267"/>
                        </a:cubicBezTo>
                        <a:cubicBezTo>
                          <a:pt x="746018" y="4099214"/>
                          <a:pt x="777610" y="4114580"/>
                          <a:pt x="629056" y="4199467"/>
                        </a:cubicBezTo>
                        <a:cubicBezTo>
                          <a:pt x="598061" y="4217178"/>
                          <a:pt x="561323" y="4222044"/>
                          <a:pt x="527456" y="4233333"/>
                        </a:cubicBezTo>
                        <a:cubicBezTo>
                          <a:pt x="482300" y="4267200"/>
                          <a:pt x="440997" y="4306929"/>
                          <a:pt x="391989" y="4334933"/>
                        </a:cubicBezTo>
                        <a:cubicBezTo>
                          <a:pt x="360994" y="4352644"/>
                          <a:pt x="315632" y="4343557"/>
                          <a:pt x="290389" y="4368800"/>
                        </a:cubicBezTo>
                        <a:cubicBezTo>
                          <a:pt x="232827" y="4426362"/>
                          <a:pt x="212486" y="4514438"/>
                          <a:pt x="154923" y="4572000"/>
                        </a:cubicBezTo>
                        <a:cubicBezTo>
                          <a:pt x="132345" y="4594578"/>
                          <a:pt x="55259" y="4639733"/>
                          <a:pt x="87189" y="4639733"/>
                        </a:cubicBezTo>
                        <a:cubicBezTo>
                          <a:pt x="158586" y="4639733"/>
                          <a:pt x="222656" y="4594578"/>
                          <a:pt x="290389" y="4572000"/>
                        </a:cubicBezTo>
                        <a:lnTo>
                          <a:pt x="493589" y="4504267"/>
                        </a:lnTo>
                        <a:cubicBezTo>
                          <a:pt x="527456" y="4492978"/>
                          <a:pt x="560556" y="4479058"/>
                          <a:pt x="595189" y="4470400"/>
                        </a:cubicBezTo>
                        <a:lnTo>
                          <a:pt x="730656" y="4436533"/>
                        </a:lnTo>
                        <a:cubicBezTo>
                          <a:pt x="520620" y="4646570"/>
                          <a:pt x="639598" y="4590212"/>
                          <a:pt x="391989" y="4639733"/>
                        </a:cubicBezTo>
                        <a:cubicBezTo>
                          <a:pt x="311946" y="4959912"/>
                          <a:pt x="438256" y="4553402"/>
                          <a:pt x="154923" y="4978400"/>
                        </a:cubicBezTo>
                        <a:cubicBezTo>
                          <a:pt x="109767" y="5046133"/>
                          <a:pt x="-56127" y="5211833"/>
                          <a:pt x="19456" y="5181600"/>
                        </a:cubicBezTo>
                        <a:cubicBezTo>
                          <a:pt x="41109" y="5172939"/>
                          <a:pt x="237301" y="5090618"/>
                          <a:pt x="290389" y="5080000"/>
                        </a:cubicBezTo>
                        <a:cubicBezTo>
                          <a:pt x="368663" y="5064345"/>
                          <a:pt x="448560" y="5058271"/>
                          <a:pt x="527456" y="5046133"/>
                        </a:cubicBezTo>
                        <a:cubicBezTo>
                          <a:pt x="715237" y="5017244"/>
                          <a:pt x="723843" y="5013630"/>
                          <a:pt x="899989" y="4978400"/>
                        </a:cubicBezTo>
                        <a:cubicBezTo>
                          <a:pt x="922567" y="4955822"/>
                          <a:pt x="967723" y="4878737"/>
                          <a:pt x="967723" y="4910667"/>
                        </a:cubicBezTo>
                        <a:cubicBezTo>
                          <a:pt x="967723" y="4951370"/>
                          <a:pt x="927030" y="4981845"/>
                          <a:pt x="899989" y="5012267"/>
                        </a:cubicBezTo>
                        <a:cubicBezTo>
                          <a:pt x="836350" y="5083861"/>
                          <a:pt x="764522" y="5147734"/>
                          <a:pt x="696789" y="5215467"/>
                        </a:cubicBezTo>
                        <a:cubicBezTo>
                          <a:pt x="674211" y="5238045"/>
                          <a:pt x="734231" y="5157830"/>
                          <a:pt x="764523" y="5147733"/>
                        </a:cubicBezTo>
                        <a:cubicBezTo>
                          <a:pt x="798390" y="5136444"/>
                          <a:pt x="833311" y="5127929"/>
                          <a:pt x="866123" y="5113867"/>
                        </a:cubicBezTo>
                        <a:cubicBezTo>
                          <a:pt x="1016983" y="5049213"/>
                          <a:pt x="1027758" y="4993793"/>
                          <a:pt x="967723" y="5113867"/>
                        </a:cubicBezTo>
                        <a:lnTo>
                          <a:pt x="967723" y="5113867"/>
                        </a:lnTo>
                      </a:path>
                    </a:pathLst>
                  </a:custGeom>
                  <a:noFill/>
                  <a:ln w="25560">
                    <a:solidFill>
                      <a:srgbClr val="92d050">
                        <a:alpha val="7000"/>
                      </a:srgbClr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3" name="任意多边形 177"/>
                  <p:cNvSpPr/>
                  <p:nvPr/>
                </p:nvSpPr>
                <p:spPr>
                  <a:xfrm>
                    <a:off x="15818040" y="555120"/>
                    <a:ext cx="212760" cy="3301560"/>
                  </a:xfrm>
                  <a:custGeom>
                    <a:avLst/>
                    <a:gdLst>
                      <a:gd name="textAreaLeft" fmla="*/ 0 w 212760"/>
                      <a:gd name="textAreaRight" fmla="*/ 213120 w 212760"/>
                      <a:gd name="textAreaTop" fmla="*/ 0 h 3301560"/>
                      <a:gd name="textAreaBottom" fmla="*/ 3301920 h 3301560"/>
                    </a:gdLst>
                    <a:ahLst/>
                    <a:rect l="textAreaLeft" t="textAreaTop" r="textAreaRight" b="textAreaBottom"/>
                    <a:pathLst>
                      <a:path w="380014" h="4639734">
                        <a:moveTo>
                          <a:pt x="380014" y="0"/>
                        </a:moveTo>
                        <a:lnTo>
                          <a:pt x="380014" y="0"/>
                        </a:lnTo>
                        <a:cubicBezTo>
                          <a:pt x="357436" y="158045"/>
                          <a:pt x="348846" y="318729"/>
                          <a:pt x="312280" y="474134"/>
                        </a:cubicBezTo>
                        <a:cubicBezTo>
                          <a:pt x="302957" y="513755"/>
                          <a:pt x="261078" y="538539"/>
                          <a:pt x="244547" y="575734"/>
                        </a:cubicBezTo>
                        <a:cubicBezTo>
                          <a:pt x="215550" y="640978"/>
                          <a:pt x="199392" y="711201"/>
                          <a:pt x="176814" y="778934"/>
                        </a:cubicBezTo>
                        <a:lnTo>
                          <a:pt x="142947" y="880534"/>
                        </a:lnTo>
                        <a:lnTo>
                          <a:pt x="109080" y="982134"/>
                        </a:lnTo>
                        <a:cubicBezTo>
                          <a:pt x="120369" y="1016001"/>
                          <a:pt x="133554" y="1049293"/>
                          <a:pt x="142947" y="1083734"/>
                        </a:cubicBezTo>
                        <a:cubicBezTo>
                          <a:pt x="167441" y="1173544"/>
                          <a:pt x="210680" y="1354667"/>
                          <a:pt x="210680" y="1354667"/>
                        </a:cubicBezTo>
                        <a:cubicBezTo>
                          <a:pt x="199391" y="1399823"/>
                          <a:pt x="189601" y="1445380"/>
                          <a:pt x="176814" y="1490134"/>
                        </a:cubicBezTo>
                        <a:cubicBezTo>
                          <a:pt x="167007" y="1524459"/>
                          <a:pt x="150691" y="1556885"/>
                          <a:pt x="142947" y="1591734"/>
                        </a:cubicBezTo>
                        <a:cubicBezTo>
                          <a:pt x="128051" y="1658766"/>
                          <a:pt x="122547" y="1727600"/>
                          <a:pt x="109080" y="1794934"/>
                        </a:cubicBezTo>
                        <a:cubicBezTo>
                          <a:pt x="99952" y="1840575"/>
                          <a:pt x="86503" y="1885245"/>
                          <a:pt x="75214" y="1930400"/>
                        </a:cubicBezTo>
                        <a:cubicBezTo>
                          <a:pt x="86503" y="2111022"/>
                          <a:pt x="81562" y="2293397"/>
                          <a:pt x="109080" y="2472267"/>
                        </a:cubicBezTo>
                        <a:cubicBezTo>
                          <a:pt x="114508" y="2507551"/>
                          <a:pt x="133140" y="2404992"/>
                          <a:pt x="142947" y="2370667"/>
                        </a:cubicBezTo>
                        <a:cubicBezTo>
                          <a:pt x="155734" y="2325912"/>
                          <a:pt x="165525" y="2280356"/>
                          <a:pt x="176814" y="2235200"/>
                        </a:cubicBezTo>
                        <a:cubicBezTo>
                          <a:pt x="188103" y="2269067"/>
                          <a:pt x="210680" y="2301101"/>
                          <a:pt x="210680" y="2336800"/>
                        </a:cubicBezTo>
                        <a:cubicBezTo>
                          <a:pt x="210680" y="2383345"/>
                          <a:pt x="185942" y="2426626"/>
                          <a:pt x="176814" y="2472267"/>
                        </a:cubicBezTo>
                        <a:cubicBezTo>
                          <a:pt x="163347" y="2539601"/>
                          <a:pt x="156414" y="2608133"/>
                          <a:pt x="142947" y="2675467"/>
                        </a:cubicBezTo>
                        <a:cubicBezTo>
                          <a:pt x="133819" y="2721109"/>
                          <a:pt x="118833" y="2765422"/>
                          <a:pt x="109080" y="2810934"/>
                        </a:cubicBezTo>
                        <a:cubicBezTo>
                          <a:pt x="84958" y="2923503"/>
                          <a:pt x="41347" y="3149600"/>
                          <a:pt x="41347" y="3149600"/>
                        </a:cubicBezTo>
                        <a:cubicBezTo>
                          <a:pt x="52636" y="3239911"/>
                          <a:pt x="34511" y="3339128"/>
                          <a:pt x="75214" y="3420534"/>
                        </a:cubicBezTo>
                        <a:cubicBezTo>
                          <a:pt x="147314" y="3564734"/>
                          <a:pt x="176814" y="3026857"/>
                          <a:pt x="176814" y="3217334"/>
                        </a:cubicBezTo>
                        <a:cubicBezTo>
                          <a:pt x="176814" y="3354144"/>
                          <a:pt x="117244" y="3497644"/>
                          <a:pt x="75214" y="3623734"/>
                        </a:cubicBezTo>
                        <a:cubicBezTo>
                          <a:pt x="63925" y="3657601"/>
                          <a:pt x="50005" y="3690701"/>
                          <a:pt x="41347" y="3725334"/>
                        </a:cubicBezTo>
                        <a:cubicBezTo>
                          <a:pt x="30058" y="3770489"/>
                          <a:pt x="-18338" y="3822072"/>
                          <a:pt x="7480" y="3860800"/>
                        </a:cubicBezTo>
                        <a:cubicBezTo>
                          <a:pt x="27282" y="3890503"/>
                          <a:pt x="75213" y="3838223"/>
                          <a:pt x="109080" y="3826934"/>
                        </a:cubicBezTo>
                        <a:cubicBezTo>
                          <a:pt x="131658" y="3793067"/>
                          <a:pt x="136111" y="3725334"/>
                          <a:pt x="176814" y="3725334"/>
                        </a:cubicBezTo>
                        <a:cubicBezTo>
                          <a:pt x="267123" y="3725334"/>
                          <a:pt x="176814" y="3928534"/>
                          <a:pt x="176814" y="3928534"/>
                        </a:cubicBezTo>
                        <a:cubicBezTo>
                          <a:pt x="156927" y="3974937"/>
                          <a:pt x="127830" y="4017126"/>
                          <a:pt x="109080" y="4064000"/>
                        </a:cubicBezTo>
                        <a:cubicBezTo>
                          <a:pt x="83271" y="4128521"/>
                          <a:pt x="21736" y="4317129"/>
                          <a:pt x="7480" y="4402667"/>
                        </a:cubicBezTo>
                        <a:cubicBezTo>
                          <a:pt x="3768" y="4424937"/>
                          <a:pt x="7480" y="4447822"/>
                          <a:pt x="7480" y="4470400"/>
                        </a:cubicBezTo>
                        <a:lnTo>
                          <a:pt x="109080" y="4639734"/>
                        </a:lnTo>
                      </a:path>
                    </a:pathLst>
                  </a:custGeom>
                  <a:noFill/>
                  <a:ln w="25560">
                    <a:solidFill>
                      <a:srgbClr val="92d050">
                        <a:alpha val="7000"/>
                      </a:srgbClr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任意多边形 178"/>
                  <p:cNvSpPr/>
                  <p:nvPr/>
                </p:nvSpPr>
                <p:spPr>
                  <a:xfrm>
                    <a:off x="15923880" y="-1024560"/>
                    <a:ext cx="904320" cy="2163960"/>
                  </a:xfrm>
                  <a:custGeom>
                    <a:avLst/>
                    <a:gdLst>
                      <a:gd name="textAreaLeft" fmla="*/ 0 w 904320"/>
                      <a:gd name="textAreaRight" fmla="*/ 904680 w 904320"/>
                      <a:gd name="textAreaTop" fmla="*/ 0 h 2163960"/>
                      <a:gd name="textAreaBottom" fmla="*/ 2164320 h 2163960"/>
                    </a:gdLst>
                    <a:ahLst/>
                    <a:rect l="textAreaLeft" t="textAreaTop" r="textAreaRight" b="textAreaBottom"/>
                    <a:pathLst>
                      <a:path w="2065867" h="4030133">
                        <a:moveTo>
                          <a:pt x="270933" y="677333"/>
                        </a:moveTo>
                        <a:cubicBezTo>
                          <a:pt x="259644" y="733778"/>
                          <a:pt x="257278" y="792770"/>
                          <a:pt x="237067" y="846667"/>
                        </a:cubicBezTo>
                        <a:cubicBezTo>
                          <a:pt x="222775" y="884778"/>
                          <a:pt x="187536" y="911861"/>
                          <a:pt x="169333" y="948267"/>
                        </a:cubicBezTo>
                        <a:cubicBezTo>
                          <a:pt x="153368" y="980197"/>
                          <a:pt x="146756" y="1016000"/>
                          <a:pt x="135467" y="1049867"/>
                        </a:cubicBezTo>
                        <a:cubicBezTo>
                          <a:pt x="124178" y="1128889"/>
                          <a:pt x="124537" y="1210475"/>
                          <a:pt x="101600" y="1286933"/>
                        </a:cubicBezTo>
                        <a:cubicBezTo>
                          <a:pt x="89904" y="1325919"/>
                          <a:pt x="52070" y="1352127"/>
                          <a:pt x="33867" y="1388533"/>
                        </a:cubicBezTo>
                        <a:cubicBezTo>
                          <a:pt x="17902" y="1420463"/>
                          <a:pt x="11289" y="1456266"/>
                          <a:pt x="0" y="1490133"/>
                        </a:cubicBezTo>
                        <a:cubicBezTo>
                          <a:pt x="11289" y="1648178"/>
                          <a:pt x="6331" y="1808231"/>
                          <a:pt x="33867" y="1964267"/>
                        </a:cubicBezTo>
                        <a:cubicBezTo>
                          <a:pt x="40941" y="2004350"/>
                          <a:pt x="77942" y="2032746"/>
                          <a:pt x="101600" y="2065867"/>
                        </a:cubicBezTo>
                        <a:cubicBezTo>
                          <a:pt x="134408" y="2111798"/>
                          <a:pt x="167065" y="2157971"/>
                          <a:pt x="203200" y="2201333"/>
                        </a:cubicBezTo>
                        <a:cubicBezTo>
                          <a:pt x="223641" y="2225862"/>
                          <a:pt x="253221" y="2242500"/>
                          <a:pt x="270933" y="2269067"/>
                        </a:cubicBezTo>
                        <a:cubicBezTo>
                          <a:pt x="298937" y="2311073"/>
                          <a:pt x="313619" y="2360700"/>
                          <a:pt x="338667" y="2404533"/>
                        </a:cubicBezTo>
                        <a:cubicBezTo>
                          <a:pt x="443708" y="2588354"/>
                          <a:pt x="378175" y="2421458"/>
                          <a:pt x="440267" y="2607733"/>
                        </a:cubicBezTo>
                        <a:cubicBezTo>
                          <a:pt x="451556" y="2686755"/>
                          <a:pt x="448890" y="2769072"/>
                          <a:pt x="474133" y="2844800"/>
                        </a:cubicBezTo>
                        <a:cubicBezTo>
                          <a:pt x="484230" y="2875091"/>
                          <a:pt x="525439" y="2885153"/>
                          <a:pt x="541867" y="2912533"/>
                        </a:cubicBezTo>
                        <a:cubicBezTo>
                          <a:pt x="692110" y="3162937"/>
                          <a:pt x="437916" y="2858793"/>
                          <a:pt x="643467" y="3115733"/>
                        </a:cubicBezTo>
                        <a:cubicBezTo>
                          <a:pt x="663413" y="3140666"/>
                          <a:pt x="691254" y="3158534"/>
                          <a:pt x="711200" y="3183467"/>
                        </a:cubicBezTo>
                        <a:cubicBezTo>
                          <a:pt x="736627" y="3215251"/>
                          <a:pt x="752130" y="3254435"/>
                          <a:pt x="778933" y="3285067"/>
                        </a:cubicBezTo>
                        <a:cubicBezTo>
                          <a:pt x="831498" y="3345141"/>
                          <a:pt x="900372" y="3390540"/>
                          <a:pt x="948267" y="3454400"/>
                        </a:cubicBezTo>
                        <a:cubicBezTo>
                          <a:pt x="982134" y="3499556"/>
                          <a:pt x="1019951" y="3542002"/>
                          <a:pt x="1049867" y="3589867"/>
                        </a:cubicBezTo>
                        <a:cubicBezTo>
                          <a:pt x="1076624" y="3632678"/>
                          <a:pt x="1089596" y="3683327"/>
                          <a:pt x="1117600" y="3725333"/>
                        </a:cubicBezTo>
                        <a:cubicBezTo>
                          <a:pt x="1164328" y="3795425"/>
                          <a:pt x="1222230" y="3809038"/>
                          <a:pt x="1286933" y="3860800"/>
                        </a:cubicBezTo>
                        <a:cubicBezTo>
                          <a:pt x="1311866" y="3880746"/>
                          <a:pt x="1328100" y="3910821"/>
                          <a:pt x="1354667" y="3928533"/>
                        </a:cubicBezTo>
                        <a:cubicBezTo>
                          <a:pt x="1438370" y="3984335"/>
                          <a:pt x="1501418" y="4000029"/>
                          <a:pt x="1591733" y="4030133"/>
                        </a:cubicBezTo>
                        <a:cubicBezTo>
                          <a:pt x="1670755" y="4018844"/>
                          <a:pt x="1753072" y="4021510"/>
                          <a:pt x="1828800" y="3996267"/>
                        </a:cubicBezTo>
                        <a:cubicBezTo>
                          <a:pt x="1947678" y="3956641"/>
                          <a:pt x="1962781" y="3628192"/>
                          <a:pt x="1964267" y="3623733"/>
                        </a:cubicBezTo>
                        <a:cubicBezTo>
                          <a:pt x="1977138" y="3585119"/>
                          <a:pt x="2013797" y="3558539"/>
                          <a:pt x="2032000" y="3522133"/>
                        </a:cubicBezTo>
                        <a:cubicBezTo>
                          <a:pt x="2047965" y="3490203"/>
                          <a:pt x="2054578" y="3454400"/>
                          <a:pt x="2065867" y="3420533"/>
                        </a:cubicBezTo>
                        <a:cubicBezTo>
                          <a:pt x="2054578" y="3318933"/>
                          <a:pt x="2052048" y="3215973"/>
                          <a:pt x="2032000" y="3115733"/>
                        </a:cubicBezTo>
                        <a:cubicBezTo>
                          <a:pt x="2017998" y="3045722"/>
                          <a:pt x="1964267" y="2912533"/>
                          <a:pt x="1964267" y="2912533"/>
                        </a:cubicBezTo>
                        <a:cubicBezTo>
                          <a:pt x="2045473" y="2668911"/>
                          <a:pt x="1946942" y="2973167"/>
                          <a:pt x="2032000" y="2675467"/>
                        </a:cubicBezTo>
                        <a:cubicBezTo>
                          <a:pt x="2041807" y="2641142"/>
                          <a:pt x="2054578" y="2607734"/>
                          <a:pt x="2065867" y="2573867"/>
                        </a:cubicBezTo>
                        <a:cubicBezTo>
                          <a:pt x="1988036" y="2340376"/>
                          <a:pt x="2048618" y="2421153"/>
                          <a:pt x="1930400" y="2302933"/>
                        </a:cubicBezTo>
                        <a:cubicBezTo>
                          <a:pt x="1919111" y="2257778"/>
                          <a:pt x="1909320" y="2212221"/>
                          <a:pt x="1896533" y="2167467"/>
                        </a:cubicBezTo>
                        <a:cubicBezTo>
                          <a:pt x="1886726" y="2133142"/>
                          <a:pt x="1868536" y="2101080"/>
                          <a:pt x="1862667" y="2065867"/>
                        </a:cubicBezTo>
                        <a:cubicBezTo>
                          <a:pt x="1846052" y="1966175"/>
                          <a:pt x="1835554" y="1713597"/>
                          <a:pt x="1794933" y="1591733"/>
                        </a:cubicBezTo>
                        <a:cubicBezTo>
                          <a:pt x="1778968" y="1543839"/>
                          <a:pt x="1753174" y="1499558"/>
                          <a:pt x="1727200" y="1456267"/>
                        </a:cubicBezTo>
                        <a:cubicBezTo>
                          <a:pt x="1685317" y="1386462"/>
                          <a:pt x="1591733" y="1253067"/>
                          <a:pt x="1591733" y="1253067"/>
                        </a:cubicBezTo>
                        <a:cubicBezTo>
                          <a:pt x="1555962" y="1145753"/>
                          <a:pt x="1565165" y="1143657"/>
                          <a:pt x="1490133" y="1049867"/>
                        </a:cubicBezTo>
                        <a:cubicBezTo>
                          <a:pt x="1470187" y="1024934"/>
                          <a:pt x="1442346" y="1007066"/>
                          <a:pt x="1422400" y="982133"/>
                        </a:cubicBezTo>
                        <a:cubicBezTo>
                          <a:pt x="1396973" y="950349"/>
                          <a:pt x="1380094" y="912316"/>
                          <a:pt x="1354667" y="880533"/>
                        </a:cubicBezTo>
                        <a:cubicBezTo>
                          <a:pt x="1334721" y="855600"/>
                          <a:pt x="1306879" y="837733"/>
                          <a:pt x="1286933" y="812800"/>
                        </a:cubicBezTo>
                        <a:cubicBezTo>
                          <a:pt x="1261506" y="781017"/>
                          <a:pt x="1246241" y="741622"/>
                          <a:pt x="1219200" y="711200"/>
                        </a:cubicBezTo>
                        <a:cubicBezTo>
                          <a:pt x="1155561" y="639606"/>
                          <a:pt x="1095702" y="561134"/>
                          <a:pt x="1016000" y="508000"/>
                        </a:cubicBezTo>
                        <a:cubicBezTo>
                          <a:pt x="887833" y="422556"/>
                          <a:pt x="943181" y="469048"/>
                          <a:pt x="846667" y="372533"/>
                        </a:cubicBezTo>
                        <a:cubicBezTo>
                          <a:pt x="835378" y="338666"/>
                          <a:pt x="832602" y="300636"/>
                          <a:pt x="812800" y="270933"/>
                        </a:cubicBezTo>
                        <a:cubicBezTo>
                          <a:pt x="786233" y="231082"/>
                          <a:pt x="749006" y="198737"/>
                          <a:pt x="711200" y="169333"/>
                        </a:cubicBezTo>
                        <a:cubicBezTo>
                          <a:pt x="536524" y="33474"/>
                          <a:pt x="559693" y="51098"/>
                          <a:pt x="406400" y="0"/>
                        </a:cubicBezTo>
                        <a:cubicBezTo>
                          <a:pt x="361244" y="11289"/>
                          <a:pt x="313715" y="15532"/>
                          <a:pt x="270933" y="33867"/>
                        </a:cubicBezTo>
                        <a:cubicBezTo>
                          <a:pt x="53886" y="126887"/>
                          <a:pt x="173770" y="228415"/>
                          <a:pt x="203200" y="508000"/>
                        </a:cubicBezTo>
                        <a:cubicBezTo>
                          <a:pt x="230238" y="764856"/>
                          <a:pt x="168958" y="711013"/>
                          <a:pt x="304800" y="778933"/>
                        </a:cubicBez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5" name="任意多边形 179"/>
                  <p:cNvSpPr/>
                  <p:nvPr/>
                </p:nvSpPr>
                <p:spPr>
                  <a:xfrm>
                    <a:off x="16102440" y="-833760"/>
                    <a:ext cx="452160" cy="992880"/>
                  </a:xfrm>
                  <a:custGeom>
                    <a:avLst/>
                    <a:gdLst>
                      <a:gd name="textAreaLeft" fmla="*/ 0 w 452160"/>
                      <a:gd name="textAreaRight" fmla="*/ 452520 w 452160"/>
                      <a:gd name="textAreaTop" fmla="*/ 0 h 992880"/>
                      <a:gd name="textAreaBottom" fmla="*/ 993240 h 992880"/>
                    </a:gdLst>
                    <a:ahLst/>
                    <a:rect l="textAreaLeft" t="textAreaTop" r="textAreaRight" b="textAreaBottom"/>
                    <a:pathLst>
                      <a:path w="2065867" h="4030133">
                        <a:moveTo>
                          <a:pt x="270933" y="677333"/>
                        </a:moveTo>
                        <a:cubicBezTo>
                          <a:pt x="259644" y="733778"/>
                          <a:pt x="257278" y="792770"/>
                          <a:pt x="237067" y="846667"/>
                        </a:cubicBezTo>
                        <a:cubicBezTo>
                          <a:pt x="222775" y="884778"/>
                          <a:pt x="187536" y="911861"/>
                          <a:pt x="169333" y="948267"/>
                        </a:cubicBezTo>
                        <a:cubicBezTo>
                          <a:pt x="153368" y="980197"/>
                          <a:pt x="146756" y="1016000"/>
                          <a:pt x="135467" y="1049867"/>
                        </a:cubicBezTo>
                        <a:cubicBezTo>
                          <a:pt x="124178" y="1128889"/>
                          <a:pt x="124537" y="1210475"/>
                          <a:pt x="101600" y="1286933"/>
                        </a:cubicBezTo>
                        <a:cubicBezTo>
                          <a:pt x="89904" y="1325919"/>
                          <a:pt x="52070" y="1352127"/>
                          <a:pt x="33867" y="1388533"/>
                        </a:cubicBezTo>
                        <a:cubicBezTo>
                          <a:pt x="17902" y="1420463"/>
                          <a:pt x="11289" y="1456266"/>
                          <a:pt x="0" y="1490133"/>
                        </a:cubicBezTo>
                        <a:cubicBezTo>
                          <a:pt x="11289" y="1648178"/>
                          <a:pt x="6331" y="1808231"/>
                          <a:pt x="33867" y="1964267"/>
                        </a:cubicBezTo>
                        <a:cubicBezTo>
                          <a:pt x="40941" y="2004350"/>
                          <a:pt x="77942" y="2032746"/>
                          <a:pt x="101600" y="2065867"/>
                        </a:cubicBezTo>
                        <a:cubicBezTo>
                          <a:pt x="134408" y="2111798"/>
                          <a:pt x="167065" y="2157971"/>
                          <a:pt x="203200" y="2201333"/>
                        </a:cubicBezTo>
                        <a:cubicBezTo>
                          <a:pt x="223641" y="2225862"/>
                          <a:pt x="253221" y="2242500"/>
                          <a:pt x="270933" y="2269067"/>
                        </a:cubicBezTo>
                        <a:cubicBezTo>
                          <a:pt x="298937" y="2311073"/>
                          <a:pt x="313619" y="2360700"/>
                          <a:pt x="338667" y="2404533"/>
                        </a:cubicBezTo>
                        <a:cubicBezTo>
                          <a:pt x="443708" y="2588354"/>
                          <a:pt x="378175" y="2421458"/>
                          <a:pt x="440267" y="2607733"/>
                        </a:cubicBezTo>
                        <a:cubicBezTo>
                          <a:pt x="451556" y="2686755"/>
                          <a:pt x="448890" y="2769072"/>
                          <a:pt x="474133" y="2844800"/>
                        </a:cubicBezTo>
                        <a:cubicBezTo>
                          <a:pt x="484230" y="2875091"/>
                          <a:pt x="525439" y="2885153"/>
                          <a:pt x="541867" y="2912533"/>
                        </a:cubicBezTo>
                        <a:cubicBezTo>
                          <a:pt x="692110" y="3162937"/>
                          <a:pt x="437916" y="2858793"/>
                          <a:pt x="643467" y="3115733"/>
                        </a:cubicBezTo>
                        <a:cubicBezTo>
                          <a:pt x="663413" y="3140666"/>
                          <a:pt x="691254" y="3158534"/>
                          <a:pt x="711200" y="3183467"/>
                        </a:cubicBezTo>
                        <a:cubicBezTo>
                          <a:pt x="736627" y="3215251"/>
                          <a:pt x="752130" y="3254435"/>
                          <a:pt x="778933" y="3285067"/>
                        </a:cubicBezTo>
                        <a:cubicBezTo>
                          <a:pt x="831498" y="3345141"/>
                          <a:pt x="900372" y="3390540"/>
                          <a:pt x="948267" y="3454400"/>
                        </a:cubicBezTo>
                        <a:cubicBezTo>
                          <a:pt x="982134" y="3499556"/>
                          <a:pt x="1019951" y="3542002"/>
                          <a:pt x="1049867" y="3589867"/>
                        </a:cubicBezTo>
                        <a:cubicBezTo>
                          <a:pt x="1076624" y="3632678"/>
                          <a:pt x="1089596" y="3683327"/>
                          <a:pt x="1117600" y="3725333"/>
                        </a:cubicBezTo>
                        <a:cubicBezTo>
                          <a:pt x="1164328" y="3795425"/>
                          <a:pt x="1222230" y="3809038"/>
                          <a:pt x="1286933" y="3860800"/>
                        </a:cubicBezTo>
                        <a:cubicBezTo>
                          <a:pt x="1311866" y="3880746"/>
                          <a:pt x="1328100" y="3910821"/>
                          <a:pt x="1354667" y="3928533"/>
                        </a:cubicBezTo>
                        <a:cubicBezTo>
                          <a:pt x="1438370" y="3984335"/>
                          <a:pt x="1501418" y="4000029"/>
                          <a:pt x="1591733" y="4030133"/>
                        </a:cubicBezTo>
                        <a:cubicBezTo>
                          <a:pt x="1670755" y="4018844"/>
                          <a:pt x="1753072" y="4021510"/>
                          <a:pt x="1828800" y="3996267"/>
                        </a:cubicBezTo>
                        <a:cubicBezTo>
                          <a:pt x="1947678" y="3956641"/>
                          <a:pt x="1962781" y="3628192"/>
                          <a:pt x="1964267" y="3623733"/>
                        </a:cubicBezTo>
                        <a:cubicBezTo>
                          <a:pt x="1977138" y="3585119"/>
                          <a:pt x="2013797" y="3558539"/>
                          <a:pt x="2032000" y="3522133"/>
                        </a:cubicBezTo>
                        <a:cubicBezTo>
                          <a:pt x="2047965" y="3490203"/>
                          <a:pt x="2054578" y="3454400"/>
                          <a:pt x="2065867" y="3420533"/>
                        </a:cubicBezTo>
                        <a:cubicBezTo>
                          <a:pt x="2054578" y="3318933"/>
                          <a:pt x="2052048" y="3215973"/>
                          <a:pt x="2032000" y="3115733"/>
                        </a:cubicBezTo>
                        <a:cubicBezTo>
                          <a:pt x="2017998" y="3045722"/>
                          <a:pt x="1964267" y="2912533"/>
                          <a:pt x="1964267" y="2912533"/>
                        </a:cubicBezTo>
                        <a:cubicBezTo>
                          <a:pt x="2045473" y="2668911"/>
                          <a:pt x="1946942" y="2973167"/>
                          <a:pt x="2032000" y="2675467"/>
                        </a:cubicBezTo>
                        <a:cubicBezTo>
                          <a:pt x="2041807" y="2641142"/>
                          <a:pt x="2054578" y="2607734"/>
                          <a:pt x="2065867" y="2573867"/>
                        </a:cubicBezTo>
                        <a:cubicBezTo>
                          <a:pt x="1988036" y="2340376"/>
                          <a:pt x="2048618" y="2421153"/>
                          <a:pt x="1930400" y="2302933"/>
                        </a:cubicBezTo>
                        <a:cubicBezTo>
                          <a:pt x="1919111" y="2257778"/>
                          <a:pt x="1909320" y="2212221"/>
                          <a:pt x="1896533" y="2167467"/>
                        </a:cubicBezTo>
                        <a:cubicBezTo>
                          <a:pt x="1886726" y="2133142"/>
                          <a:pt x="1868536" y="2101080"/>
                          <a:pt x="1862667" y="2065867"/>
                        </a:cubicBezTo>
                        <a:cubicBezTo>
                          <a:pt x="1846052" y="1966175"/>
                          <a:pt x="1835554" y="1713597"/>
                          <a:pt x="1794933" y="1591733"/>
                        </a:cubicBezTo>
                        <a:cubicBezTo>
                          <a:pt x="1778968" y="1543839"/>
                          <a:pt x="1753174" y="1499558"/>
                          <a:pt x="1727200" y="1456267"/>
                        </a:cubicBezTo>
                        <a:cubicBezTo>
                          <a:pt x="1685317" y="1386462"/>
                          <a:pt x="1591733" y="1253067"/>
                          <a:pt x="1591733" y="1253067"/>
                        </a:cubicBezTo>
                        <a:cubicBezTo>
                          <a:pt x="1555962" y="1145753"/>
                          <a:pt x="1565165" y="1143657"/>
                          <a:pt x="1490133" y="1049867"/>
                        </a:cubicBezTo>
                        <a:cubicBezTo>
                          <a:pt x="1470187" y="1024934"/>
                          <a:pt x="1442346" y="1007066"/>
                          <a:pt x="1422400" y="982133"/>
                        </a:cubicBezTo>
                        <a:cubicBezTo>
                          <a:pt x="1396973" y="950349"/>
                          <a:pt x="1380094" y="912316"/>
                          <a:pt x="1354667" y="880533"/>
                        </a:cubicBezTo>
                        <a:cubicBezTo>
                          <a:pt x="1334721" y="855600"/>
                          <a:pt x="1306879" y="837733"/>
                          <a:pt x="1286933" y="812800"/>
                        </a:cubicBezTo>
                        <a:cubicBezTo>
                          <a:pt x="1261506" y="781017"/>
                          <a:pt x="1246241" y="741622"/>
                          <a:pt x="1219200" y="711200"/>
                        </a:cubicBezTo>
                        <a:cubicBezTo>
                          <a:pt x="1155561" y="639606"/>
                          <a:pt x="1095702" y="561134"/>
                          <a:pt x="1016000" y="508000"/>
                        </a:cubicBezTo>
                        <a:cubicBezTo>
                          <a:pt x="887833" y="422556"/>
                          <a:pt x="943181" y="469048"/>
                          <a:pt x="846667" y="372533"/>
                        </a:cubicBezTo>
                        <a:cubicBezTo>
                          <a:pt x="835378" y="338666"/>
                          <a:pt x="832602" y="300636"/>
                          <a:pt x="812800" y="270933"/>
                        </a:cubicBezTo>
                        <a:cubicBezTo>
                          <a:pt x="786233" y="231082"/>
                          <a:pt x="749006" y="198737"/>
                          <a:pt x="711200" y="169333"/>
                        </a:cubicBezTo>
                        <a:cubicBezTo>
                          <a:pt x="536524" y="33474"/>
                          <a:pt x="559693" y="51098"/>
                          <a:pt x="406400" y="0"/>
                        </a:cubicBezTo>
                        <a:cubicBezTo>
                          <a:pt x="361244" y="11289"/>
                          <a:pt x="313715" y="15532"/>
                          <a:pt x="270933" y="33867"/>
                        </a:cubicBezTo>
                        <a:cubicBezTo>
                          <a:pt x="53886" y="126887"/>
                          <a:pt x="173770" y="228415"/>
                          <a:pt x="203200" y="508000"/>
                        </a:cubicBezTo>
                        <a:cubicBezTo>
                          <a:pt x="230238" y="764856"/>
                          <a:pt x="168958" y="711013"/>
                          <a:pt x="304800" y="778933"/>
                        </a:cubicBezTo>
                      </a:path>
                    </a:pathLst>
                  </a:custGeom>
                  <a:solidFill>
                    <a:srgbClr val="f2f2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6" name="任意多边形 180"/>
                  <p:cNvSpPr/>
                  <p:nvPr/>
                </p:nvSpPr>
                <p:spPr>
                  <a:xfrm>
                    <a:off x="16496640" y="-204480"/>
                    <a:ext cx="210600" cy="834120"/>
                  </a:xfrm>
                  <a:custGeom>
                    <a:avLst/>
                    <a:gdLst>
                      <a:gd name="textAreaLeft" fmla="*/ 0 w 210600"/>
                      <a:gd name="textAreaRight" fmla="*/ 210960 w 210600"/>
                      <a:gd name="textAreaTop" fmla="*/ 0 h 834120"/>
                      <a:gd name="textAreaBottom" fmla="*/ 834480 h 834120"/>
                    </a:gdLst>
                    <a:ahLst/>
                    <a:rect l="textAreaLeft" t="textAreaTop" r="textAreaRight" b="textAreaBottom"/>
                    <a:pathLst>
                      <a:path w="2065867" h="4030133">
                        <a:moveTo>
                          <a:pt x="270933" y="677333"/>
                        </a:moveTo>
                        <a:cubicBezTo>
                          <a:pt x="259644" y="733778"/>
                          <a:pt x="257278" y="792770"/>
                          <a:pt x="237067" y="846667"/>
                        </a:cubicBezTo>
                        <a:cubicBezTo>
                          <a:pt x="222775" y="884778"/>
                          <a:pt x="187536" y="911861"/>
                          <a:pt x="169333" y="948267"/>
                        </a:cubicBezTo>
                        <a:cubicBezTo>
                          <a:pt x="153368" y="980197"/>
                          <a:pt x="146756" y="1016000"/>
                          <a:pt x="135467" y="1049867"/>
                        </a:cubicBezTo>
                        <a:cubicBezTo>
                          <a:pt x="124178" y="1128889"/>
                          <a:pt x="124537" y="1210475"/>
                          <a:pt x="101600" y="1286933"/>
                        </a:cubicBezTo>
                        <a:cubicBezTo>
                          <a:pt x="89904" y="1325919"/>
                          <a:pt x="52070" y="1352127"/>
                          <a:pt x="33867" y="1388533"/>
                        </a:cubicBezTo>
                        <a:cubicBezTo>
                          <a:pt x="17902" y="1420463"/>
                          <a:pt x="11289" y="1456266"/>
                          <a:pt x="0" y="1490133"/>
                        </a:cubicBezTo>
                        <a:cubicBezTo>
                          <a:pt x="11289" y="1648178"/>
                          <a:pt x="6331" y="1808231"/>
                          <a:pt x="33867" y="1964267"/>
                        </a:cubicBezTo>
                        <a:cubicBezTo>
                          <a:pt x="40941" y="2004350"/>
                          <a:pt x="77942" y="2032746"/>
                          <a:pt x="101600" y="2065867"/>
                        </a:cubicBezTo>
                        <a:cubicBezTo>
                          <a:pt x="134408" y="2111798"/>
                          <a:pt x="167065" y="2157971"/>
                          <a:pt x="203200" y="2201333"/>
                        </a:cubicBezTo>
                        <a:cubicBezTo>
                          <a:pt x="223641" y="2225862"/>
                          <a:pt x="253221" y="2242500"/>
                          <a:pt x="270933" y="2269067"/>
                        </a:cubicBezTo>
                        <a:cubicBezTo>
                          <a:pt x="298937" y="2311073"/>
                          <a:pt x="313619" y="2360700"/>
                          <a:pt x="338667" y="2404533"/>
                        </a:cubicBezTo>
                        <a:cubicBezTo>
                          <a:pt x="443708" y="2588354"/>
                          <a:pt x="378175" y="2421458"/>
                          <a:pt x="440267" y="2607733"/>
                        </a:cubicBezTo>
                        <a:cubicBezTo>
                          <a:pt x="451556" y="2686755"/>
                          <a:pt x="448890" y="2769072"/>
                          <a:pt x="474133" y="2844800"/>
                        </a:cubicBezTo>
                        <a:cubicBezTo>
                          <a:pt x="484230" y="2875091"/>
                          <a:pt x="525439" y="2885153"/>
                          <a:pt x="541867" y="2912533"/>
                        </a:cubicBezTo>
                        <a:cubicBezTo>
                          <a:pt x="692110" y="3162937"/>
                          <a:pt x="437916" y="2858793"/>
                          <a:pt x="643467" y="3115733"/>
                        </a:cubicBezTo>
                        <a:cubicBezTo>
                          <a:pt x="663413" y="3140666"/>
                          <a:pt x="691254" y="3158534"/>
                          <a:pt x="711200" y="3183467"/>
                        </a:cubicBezTo>
                        <a:cubicBezTo>
                          <a:pt x="736627" y="3215251"/>
                          <a:pt x="752130" y="3254435"/>
                          <a:pt x="778933" y="3285067"/>
                        </a:cubicBezTo>
                        <a:cubicBezTo>
                          <a:pt x="831498" y="3345141"/>
                          <a:pt x="900372" y="3390540"/>
                          <a:pt x="948267" y="3454400"/>
                        </a:cubicBezTo>
                        <a:cubicBezTo>
                          <a:pt x="982134" y="3499556"/>
                          <a:pt x="1019951" y="3542002"/>
                          <a:pt x="1049867" y="3589867"/>
                        </a:cubicBezTo>
                        <a:cubicBezTo>
                          <a:pt x="1076624" y="3632678"/>
                          <a:pt x="1089596" y="3683327"/>
                          <a:pt x="1117600" y="3725333"/>
                        </a:cubicBezTo>
                        <a:cubicBezTo>
                          <a:pt x="1164328" y="3795425"/>
                          <a:pt x="1222230" y="3809038"/>
                          <a:pt x="1286933" y="3860800"/>
                        </a:cubicBezTo>
                        <a:cubicBezTo>
                          <a:pt x="1311866" y="3880746"/>
                          <a:pt x="1328100" y="3910821"/>
                          <a:pt x="1354667" y="3928533"/>
                        </a:cubicBezTo>
                        <a:cubicBezTo>
                          <a:pt x="1438370" y="3984335"/>
                          <a:pt x="1501418" y="4000029"/>
                          <a:pt x="1591733" y="4030133"/>
                        </a:cubicBezTo>
                        <a:cubicBezTo>
                          <a:pt x="1670755" y="4018844"/>
                          <a:pt x="1753072" y="4021510"/>
                          <a:pt x="1828800" y="3996267"/>
                        </a:cubicBezTo>
                        <a:cubicBezTo>
                          <a:pt x="1947678" y="3956641"/>
                          <a:pt x="1962781" y="3628192"/>
                          <a:pt x="1964267" y="3623733"/>
                        </a:cubicBezTo>
                        <a:cubicBezTo>
                          <a:pt x="1977138" y="3585119"/>
                          <a:pt x="2013797" y="3558539"/>
                          <a:pt x="2032000" y="3522133"/>
                        </a:cubicBezTo>
                        <a:cubicBezTo>
                          <a:pt x="2047965" y="3490203"/>
                          <a:pt x="2054578" y="3454400"/>
                          <a:pt x="2065867" y="3420533"/>
                        </a:cubicBezTo>
                        <a:cubicBezTo>
                          <a:pt x="2054578" y="3318933"/>
                          <a:pt x="2052048" y="3215973"/>
                          <a:pt x="2032000" y="3115733"/>
                        </a:cubicBezTo>
                        <a:cubicBezTo>
                          <a:pt x="2017998" y="3045722"/>
                          <a:pt x="1964267" y="2912533"/>
                          <a:pt x="1964267" y="2912533"/>
                        </a:cubicBezTo>
                        <a:cubicBezTo>
                          <a:pt x="2045473" y="2668911"/>
                          <a:pt x="1946942" y="2973167"/>
                          <a:pt x="2032000" y="2675467"/>
                        </a:cubicBezTo>
                        <a:cubicBezTo>
                          <a:pt x="2041807" y="2641142"/>
                          <a:pt x="2054578" y="2607734"/>
                          <a:pt x="2065867" y="2573867"/>
                        </a:cubicBezTo>
                        <a:cubicBezTo>
                          <a:pt x="1988036" y="2340376"/>
                          <a:pt x="2048618" y="2421153"/>
                          <a:pt x="1930400" y="2302933"/>
                        </a:cubicBezTo>
                        <a:cubicBezTo>
                          <a:pt x="1919111" y="2257778"/>
                          <a:pt x="1909320" y="2212221"/>
                          <a:pt x="1896533" y="2167467"/>
                        </a:cubicBezTo>
                        <a:cubicBezTo>
                          <a:pt x="1886726" y="2133142"/>
                          <a:pt x="1868536" y="2101080"/>
                          <a:pt x="1862667" y="2065867"/>
                        </a:cubicBezTo>
                        <a:cubicBezTo>
                          <a:pt x="1846052" y="1966175"/>
                          <a:pt x="1835554" y="1713597"/>
                          <a:pt x="1794933" y="1591733"/>
                        </a:cubicBezTo>
                        <a:cubicBezTo>
                          <a:pt x="1778968" y="1543839"/>
                          <a:pt x="1753174" y="1499558"/>
                          <a:pt x="1727200" y="1456267"/>
                        </a:cubicBezTo>
                        <a:cubicBezTo>
                          <a:pt x="1685317" y="1386462"/>
                          <a:pt x="1591733" y="1253067"/>
                          <a:pt x="1591733" y="1253067"/>
                        </a:cubicBezTo>
                        <a:cubicBezTo>
                          <a:pt x="1555962" y="1145753"/>
                          <a:pt x="1565165" y="1143657"/>
                          <a:pt x="1490133" y="1049867"/>
                        </a:cubicBezTo>
                        <a:cubicBezTo>
                          <a:pt x="1470187" y="1024934"/>
                          <a:pt x="1442346" y="1007066"/>
                          <a:pt x="1422400" y="982133"/>
                        </a:cubicBezTo>
                        <a:cubicBezTo>
                          <a:pt x="1396973" y="950349"/>
                          <a:pt x="1380094" y="912316"/>
                          <a:pt x="1354667" y="880533"/>
                        </a:cubicBezTo>
                        <a:cubicBezTo>
                          <a:pt x="1334721" y="855600"/>
                          <a:pt x="1306879" y="837733"/>
                          <a:pt x="1286933" y="812800"/>
                        </a:cubicBezTo>
                        <a:cubicBezTo>
                          <a:pt x="1261506" y="781017"/>
                          <a:pt x="1246241" y="741622"/>
                          <a:pt x="1219200" y="711200"/>
                        </a:cubicBezTo>
                        <a:cubicBezTo>
                          <a:pt x="1155561" y="639606"/>
                          <a:pt x="1095702" y="561134"/>
                          <a:pt x="1016000" y="508000"/>
                        </a:cubicBezTo>
                        <a:cubicBezTo>
                          <a:pt x="887833" y="422556"/>
                          <a:pt x="943181" y="469048"/>
                          <a:pt x="846667" y="372533"/>
                        </a:cubicBezTo>
                        <a:cubicBezTo>
                          <a:pt x="835378" y="338666"/>
                          <a:pt x="832602" y="300636"/>
                          <a:pt x="812800" y="270933"/>
                        </a:cubicBezTo>
                        <a:cubicBezTo>
                          <a:pt x="786233" y="231082"/>
                          <a:pt x="749006" y="198737"/>
                          <a:pt x="711200" y="169333"/>
                        </a:cubicBezTo>
                        <a:cubicBezTo>
                          <a:pt x="536524" y="33474"/>
                          <a:pt x="559693" y="51098"/>
                          <a:pt x="406400" y="0"/>
                        </a:cubicBezTo>
                        <a:cubicBezTo>
                          <a:pt x="361244" y="11289"/>
                          <a:pt x="313715" y="15532"/>
                          <a:pt x="270933" y="33867"/>
                        </a:cubicBezTo>
                        <a:cubicBezTo>
                          <a:pt x="53886" y="126887"/>
                          <a:pt x="173770" y="228415"/>
                          <a:pt x="203200" y="508000"/>
                        </a:cubicBezTo>
                        <a:cubicBezTo>
                          <a:pt x="230238" y="764856"/>
                          <a:pt x="168958" y="711013"/>
                          <a:pt x="304800" y="778933"/>
                        </a:cubicBezTo>
                      </a:path>
                    </a:pathLst>
                  </a:custGeom>
                  <a:solidFill>
                    <a:srgbClr val="f2f2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7" name=""/>
                <p:cNvGrpSpPr/>
                <p:nvPr/>
              </p:nvGrpSpPr>
              <p:grpSpPr>
                <a:xfrm>
                  <a:off x="14776920" y="341280"/>
                  <a:ext cx="811800" cy="886680"/>
                  <a:chOff x="14776920" y="341280"/>
                  <a:chExt cx="811800" cy="886680"/>
                </a:xfrm>
              </p:grpSpPr>
              <p:sp>
                <p:nvSpPr>
                  <p:cNvPr id="188" name="任意多边形 170"/>
                  <p:cNvSpPr/>
                  <p:nvPr/>
                </p:nvSpPr>
                <p:spPr>
                  <a:xfrm rot="13129200">
                    <a:off x="15003720" y="359280"/>
                    <a:ext cx="357840" cy="850320"/>
                  </a:xfrm>
                  <a:custGeom>
                    <a:avLst/>
                    <a:gdLst>
                      <a:gd name="textAreaLeft" fmla="*/ 0 w 357840"/>
                      <a:gd name="textAreaRight" fmla="*/ 358200 w 357840"/>
                      <a:gd name="textAreaTop" fmla="*/ 0 h 850320"/>
                      <a:gd name="textAreaBottom" fmla="*/ 850680 h 850320"/>
                    </a:gdLst>
                    <a:ahLst/>
                    <a:rect l="textAreaLeft" t="textAreaTop" r="textAreaRight" b="textAreaBottom"/>
                    <a:pathLst>
                      <a:path w="2065867" h="4030133">
                        <a:moveTo>
                          <a:pt x="270933" y="677333"/>
                        </a:moveTo>
                        <a:cubicBezTo>
                          <a:pt x="259644" y="733778"/>
                          <a:pt x="257278" y="792770"/>
                          <a:pt x="237067" y="846667"/>
                        </a:cubicBezTo>
                        <a:cubicBezTo>
                          <a:pt x="222775" y="884778"/>
                          <a:pt x="187536" y="911861"/>
                          <a:pt x="169333" y="948267"/>
                        </a:cubicBezTo>
                        <a:cubicBezTo>
                          <a:pt x="153368" y="980197"/>
                          <a:pt x="146756" y="1016000"/>
                          <a:pt x="135467" y="1049867"/>
                        </a:cubicBezTo>
                        <a:cubicBezTo>
                          <a:pt x="124178" y="1128889"/>
                          <a:pt x="124537" y="1210475"/>
                          <a:pt x="101600" y="1286933"/>
                        </a:cubicBezTo>
                        <a:cubicBezTo>
                          <a:pt x="89904" y="1325919"/>
                          <a:pt x="52070" y="1352127"/>
                          <a:pt x="33867" y="1388533"/>
                        </a:cubicBezTo>
                        <a:cubicBezTo>
                          <a:pt x="17902" y="1420463"/>
                          <a:pt x="11289" y="1456266"/>
                          <a:pt x="0" y="1490133"/>
                        </a:cubicBezTo>
                        <a:cubicBezTo>
                          <a:pt x="11289" y="1648178"/>
                          <a:pt x="6331" y="1808231"/>
                          <a:pt x="33867" y="1964267"/>
                        </a:cubicBezTo>
                        <a:cubicBezTo>
                          <a:pt x="40941" y="2004350"/>
                          <a:pt x="77942" y="2032746"/>
                          <a:pt x="101600" y="2065867"/>
                        </a:cubicBezTo>
                        <a:cubicBezTo>
                          <a:pt x="134408" y="2111798"/>
                          <a:pt x="167065" y="2157971"/>
                          <a:pt x="203200" y="2201333"/>
                        </a:cubicBezTo>
                        <a:cubicBezTo>
                          <a:pt x="223641" y="2225862"/>
                          <a:pt x="253221" y="2242500"/>
                          <a:pt x="270933" y="2269067"/>
                        </a:cubicBezTo>
                        <a:cubicBezTo>
                          <a:pt x="298937" y="2311073"/>
                          <a:pt x="313619" y="2360700"/>
                          <a:pt x="338667" y="2404533"/>
                        </a:cubicBezTo>
                        <a:cubicBezTo>
                          <a:pt x="443708" y="2588354"/>
                          <a:pt x="378175" y="2421458"/>
                          <a:pt x="440267" y="2607733"/>
                        </a:cubicBezTo>
                        <a:cubicBezTo>
                          <a:pt x="451556" y="2686755"/>
                          <a:pt x="448890" y="2769072"/>
                          <a:pt x="474133" y="2844800"/>
                        </a:cubicBezTo>
                        <a:cubicBezTo>
                          <a:pt x="484230" y="2875091"/>
                          <a:pt x="525439" y="2885153"/>
                          <a:pt x="541867" y="2912533"/>
                        </a:cubicBezTo>
                        <a:cubicBezTo>
                          <a:pt x="692110" y="3162937"/>
                          <a:pt x="437916" y="2858793"/>
                          <a:pt x="643467" y="3115733"/>
                        </a:cubicBezTo>
                        <a:cubicBezTo>
                          <a:pt x="663413" y="3140666"/>
                          <a:pt x="691254" y="3158534"/>
                          <a:pt x="711200" y="3183467"/>
                        </a:cubicBezTo>
                        <a:cubicBezTo>
                          <a:pt x="736627" y="3215251"/>
                          <a:pt x="752130" y="3254435"/>
                          <a:pt x="778933" y="3285067"/>
                        </a:cubicBezTo>
                        <a:cubicBezTo>
                          <a:pt x="831498" y="3345141"/>
                          <a:pt x="900372" y="3390540"/>
                          <a:pt x="948267" y="3454400"/>
                        </a:cubicBezTo>
                        <a:cubicBezTo>
                          <a:pt x="982134" y="3499556"/>
                          <a:pt x="1019951" y="3542002"/>
                          <a:pt x="1049867" y="3589867"/>
                        </a:cubicBezTo>
                        <a:cubicBezTo>
                          <a:pt x="1076624" y="3632678"/>
                          <a:pt x="1089596" y="3683327"/>
                          <a:pt x="1117600" y="3725333"/>
                        </a:cubicBezTo>
                        <a:cubicBezTo>
                          <a:pt x="1164328" y="3795425"/>
                          <a:pt x="1222230" y="3809038"/>
                          <a:pt x="1286933" y="3860800"/>
                        </a:cubicBezTo>
                        <a:cubicBezTo>
                          <a:pt x="1311866" y="3880746"/>
                          <a:pt x="1328100" y="3910821"/>
                          <a:pt x="1354667" y="3928533"/>
                        </a:cubicBezTo>
                        <a:cubicBezTo>
                          <a:pt x="1438370" y="3984335"/>
                          <a:pt x="1501418" y="4000029"/>
                          <a:pt x="1591733" y="4030133"/>
                        </a:cubicBezTo>
                        <a:cubicBezTo>
                          <a:pt x="1670755" y="4018844"/>
                          <a:pt x="1753072" y="4021510"/>
                          <a:pt x="1828800" y="3996267"/>
                        </a:cubicBezTo>
                        <a:cubicBezTo>
                          <a:pt x="1947678" y="3956641"/>
                          <a:pt x="1962781" y="3628192"/>
                          <a:pt x="1964267" y="3623733"/>
                        </a:cubicBezTo>
                        <a:cubicBezTo>
                          <a:pt x="1977138" y="3585119"/>
                          <a:pt x="2013797" y="3558539"/>
                          <a:pt x="2032000" y="3522133"/>
                        </a:cubicBezTo>
                        <a:cubicBezTo>
                          <a:pt x="2047965" y="3490203"/>
                          <a:pt x="2054578" y="3454400"/>
                          <a:pt x="2065867" y="3420533"/>
                        </a:cubicBezTo>
                        <a:cubicBezTo>
                          <a:pt x="2054578" y="3318933"/>
                          <a:pt x="2052048" y="3215973"/>
                          <a:pt x="2032000" y="3115733"/>
                        </a:cubicBezTo>
                        <a:cubicBezTo>
                          <a:pt x="2017998" y="3045722"/>
                          <a:pt x="1964267" y="2912533"/>
                          <a:pt x="1964267" y="2912533"/>
                        </a:cubicBezTo>
                        <a:cubicBezTo>
                          <a:pt x="2045473" y="2668911"/>
                          <a:pt x="1946942" y="2973167"/>
                          <a:pt x="2032000" y="2675467"/>
                        </a:cubicBezTo>
                        <a:cubicBezTo>
                          <a:pt x="2041807" y="2641142"/>
                          <a:pt x="2054578" y="2607734"/>
                          <a:pt x="2065867" y="2573867"/>
                        </a:cubicBezTo>
                        <a:cubicBezTo>
                          <a:pt x="1988036" y="2340376"/>
                          <a:pt x="2048618" y="2421153"/>
                          <a:pt x="1930400" y="2302933"/>
                        </a:cubicBezTo>
                        <a:cubicBezTo>
                          <a:pt x="1919111" y="2257778"/>
                          <a:pt x="1909320" y="2212221"/>
                          <a:pt x="1896533" y="2167467"/>
                        </a:cubicBezTo>
                        <a:cubicBezTo>
                          <a:pt x="1886726" y="2133142"/>
                          <a:pt x="1868536" y="2101080"/>
                          <a:pt x="1862667" y="2065867"/>
                        </a:cubicBezTo>
                        <a:cubicBezTo>
                          <a:pt x="1846052" y="1966175"/>
                          <a:pt x="1835554" y="1713597"/>
                          <a:pt x="1794933" y="1591733"/>
                        </a:cubicBezTo>
                        <a:cubicBezTo>
                          <a:pt x="1778968" y="1543839"/>
                          <a:pt x="1753174" y="1499558"/>
                          <a:pt x="1727200" y="1456267"/>
                        </a:cubicBezTo>
                        <a:cubicBezTo>
                          <a:pt x="1685317" y="1386462"/>
                          <a:pt x="1591733" y="1253067"/>
                          <a:pt x="1591733" y="1253067"/>
                        </a:cubicBezTo>
                        <a:cubicBezTo>
                          <a:pt x="1555962" y="1145753"/>
                          <a:pt x="1565165" y="1143657"/>
                          <a:pt x="1490133" y="1049867"/>
                        </a:cubicBezTo>
                        <a:cubicBezTo>
                          <a:pt x="1470187" y="1024934"/>
                          <a:pt x="1442346" y="1007066"/>
                          <a:pt x="1422400" y="982133"/>
                        </a:cubicBezTo>
                        <a:cubicBezTo>
                          <a:pt x="1396973" y="950349"/>
                          <a:pt x="1380094" y="912316"/>
                          <a:pt x="1354667" y="880533"/>
                        </a:cubicBezTo>
                        <a:cubicBezTo>
                          <a:pt x="1334721" y="855600"/>
                          <a:pt x="1306879" y="837733"/>
                          <a:pt x="1286933" y="812800"/>
                        </a:cubicBezTo>
                        <a:cubicBezTo>
                          <a:pt x="1261506" y="781017"/>
                          <a:pt x="1246241" y="741622"/>
                          <a:pt x="1219200" y="711200"/>
                        </a:cubicBezTo>
                        <a:cubicBezTo>
                          <a:pt x="1155561" y="639606"/>
                          <a:pt x="1095702" y="561134"/>
                          <a:pt x="1016000" y="508000"/>
                        </a:cubicBezTo>
                        <a:cubicBezTo>
                          <a:pt x="887833" y="422556"/>
                          <a:pt x="943181" y="469048"/>
                          <a:pt x="846667" y="372533"/>
                        </a:cubicBezTo>
                        <a:cubicBezTo>
                          <a:pt x="835378" y="338666"/>
                          <a:pt x="832602" y="300636"/>
                          <a:pt x="812800" y="270933"/>
                        </a:cubicBezTo>
                        <a:cubicBezTo>
                          <a:pt x="786233" y="231082"/>
                          <a:pt x="749006" y="198737"/>
                          <a:pt x="711200" y="169333"/>
                        </a:cubicBezTo>
                        <a:cubicBezTo>
                          <a:pt x="536524" y="33474"/>
                          <a:pt x="559693" y="51098"/>
                          <a:pt x="406400" y="0"/>
                        </a:cubicBezTo>
                        <a:cubicBezTo>
                          <a:pt x="361244" y="11289"/>
                          <a:pt x="313715" y="15532"/>
                          <a:pt x="270933" y="33867"/>
                        </a:cubicBezTo>
                        <a:cubicBezTo>
                          <a:pt x="53886" y="126887"/>
                          <a:pt x="173770" y="228415"/>
                          <a:pt x="203200" y="508000"/>
                        </a:cubicBezTo>
                        <a:cubicBezTo>
                          <a:pt x="230238" y="764856"/>
                          <a:pt x="168958" y="711013"/>
                          <a:pt x="304800" y="778933"/>
                        </a:cubicBez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" name="任意多边形 171"/>
                  <p:cNvSpPr/>
                  <p:nvPr/>
                </p:nvSpPr>
                <p:spPr>
                  <a:xfrm rot="13129200">
                    <a:off x="14988600" y="748800"/>
                    <a:ext cx="178920" cy="390240"/>
                  </a:xfrm>
                  <a:custGeom>
                    <a:avLst/>
                    <a:gdLst>
                      <a:gd name="textAreaLeft" fmla="*/ 0 w 178920"/>
                      <a:gd name="textAreaRight" fmla="*/ 179280 w 178920"/>
                      <a:gd name="textAreaTop" fmla="*/ 0 h 390240"/>
                      <a:gd name="textAreaBottom" fmla="*/ 390600 h 390240"/>
                    </a:gdLst>
                    <a:ahLst/>
                    <a:rect l="textAreaLeft" t="textAreaTop" r="textAreaRight" b="textAreaBottom"/>
                    <a:pathLst>
                      <a:path w="2065867" h="4030133">
                        <a:moveTo>
                          <a:pt x="270933" y="677333"/>
                        </a:moveTo>
                        <a:cubicBezTo>
                          <a:pt x="259644" y="733778"/>
                          <a:pt x="257278" y="792770"/>
                          <a:pt x="237067" y="846667"/>
                        </a:cubicBezTo>
                        <a:cubicBezTo>
                          <a:pt x="222775" y="884778"/>
                          <a:pt x="187536" y="911861"/>
                          <a:pt x="169333" y="948267"/>
                        </a:cubicBezTo>
                        <a:cubicBezTo>
                          <a:pt x="153368" y="980197"/>
                          <a:pt x="146756" y="1016000"/>
                          <a:pt x="135467" y="1049867"/>
                        </a:cubicBezTo>
                        <a:cubicBezTo>
                          <a:pt x="124178" y="1128889"/>
                          <a:pt x="124537" y="1210475"/>
                          <a:pt x="101600" y="1286933"/>
                        </a:cubicBezTo>
                        <a:cubicBezTo>
                          <a:pt x="89904" y="1325919"/>
                          <a:pt x="52070" y="1352127"/>
                          <a:pt x="33867" y="1388533"/>
                        </a:cubicBezTo>
                        <a:cubicBezTo>
                          <a:pt x="17902" y="1420463"/>
                          <a:pt x="11289" y="1456266"/>
                          <a:pt x="0" y="1490133"/>
                        </a:cubicBezTo>
                        <a:cubicBezTo>
                          <a:pt x="11289" y="1648178"/>
                          <a:pt x="6331" y="1808231"/>
                          <a:pt x="33867" y="1964267"/>
                        </a:cubicBezTo>
                        <a:cubicBezTo>
                          <a:pt x="40941" y="2004350"/>
                          <a:pt x="77942" y="2032746"/>
                          <a:pt x="101600" y="2065867"/>
                        </a:cubicBezTo>
                        <a:cubicBezTo>
                          <a:pt x="134408" y="2111798"/>
                          <a:pt x="167065" y="2157971"/>
                          <a:pt x="203200" y="2201333"/>
                        </a:cubicBezTo>
                        <a:cubicBezTo>
                          <a:pt x="223641" y="2225862"/>
                          <a:pt x="253221" y="2242500"/>
                          <a:pt x="270933" y="2269067"/>
                        </a:cubicBezTo>
                        <a:cubicBezTo>
                          <a:pt x="298937" y="2311073"/>
                          <a:pt x="313619" y="2360700"/>
                          <a:pt x="338667" y="2404533"/>
                        </a:cubicBezTo>
                        <a:cubicBezTo>
                          <a:pt x="443708" y="2588354"/>
                          <a:pt x="378175" y="2421458"/>
                          <a:pt x="440267" y="2607733"/>
                        </a:cubicBezTo>
                        <a:cubicBezTo>
                          <a:pt x="451556" y="2686755"/>
                          <a:pt x="448890" y="2769072"/>
                          <a:pt x="474133" y="2844800"/>
                        </a:cubicBezTo>
                        <a:cubicBezTo>
                          <a:pt x="484230" y="2875091"/>
                          <a:pt x="525439" y="2885153"/>
                          <a:pt x="541867" y="2912533"/>
                        </a:cubicBezTo>
                        <a:cubicBezTo>
                          <a:pt x="692110" y="3162937"/>
                          <a:pt x="437916" y="2858793"/>
                          <a:pt x="643467" y="3115733"/>
                        </a:cubicBezTo>
                        <a:cubicBezTo>
                          <a:pt x="663413" y="3140666"/>
                          <a:pt x="691254" y="3158534"/>
                          <a:pt x="711200" y="3183467"/>
                        </a:cubicBezTo>
                        <a:cubicBezTo>
                          <a:pt x="736627" y="3215251"/>
                          <a:pt x="752130" y="3254435"/>
                          <a:pt x="778933" y="3285067"/>
                        </a:cubicBezTo>
                        <a:cubicBezTo>
                          <a:pt x="831498" y="3345141"/>
                          <a:pt x="900372" y="3390540"/>
                          <a:pt x="948267" y="3454400"/>
                        </a:cubicBezTo>
                        <a:cubicBezTo>
                          <a:pt x="982134" y="3499556"/>
                          <a:pt x="1019951" y="3542002"/>
                          <a:pt x="1049867" y="3589867"/>
                        </a:cubicBezTo>
                        <a:cubicBezTo>
                          <a:pt x="1076624" y="3632678"/>
                          <a:pt x="1089596" y="3683327"/>
                          <a:pt x="1117600" y="3725333"/>
                        </a:cubicBezTo>
                        <a:cubicBezTo>
                          <a:pt x="1164328" y="3795425"/>
                          <a:pt x="1222230" y="3809038"/>
                          <a:pt x="1286933" y="3860800"/>
                        </a:cubicBezTo>
                        <a:cubicBezTo>
                          <a:pt x="1311866" y="3880746"/>
                          <a:pt x="1328100" y="3910821"/>
                          <a:pt x="1354667" y="3928533"/>
                        </a:cubicBezTo>
                        <a:cubicBezTo>
                          <a:pt x="1438370" y="3984335"/>
                          <a:pt x="1501418" y="4000029"/>
                          <a:pt x="1591733" y="4030133"/>
                        </a:cubicBezTo>
                        <a:cubicBezTo>
                          <a:pt x="1670755" y="4018844"/>
                          <a:pt x="1753072" y="4021510"/>
                          <a:pt x="1828800" y="3996267"/>
                        </a:cubicBezTo>
                        <a:cubicBezTo>
                          <a:pt x="1947678" y="3956641"/>
                          <a:pt x="1962781" y="3628192"/>
                          <a:pt x="1964267" y="3623733"/>
                        </a:cubicBezTo>
                        <a:cubicBezTo>
                          <a:pt x="1977138" y="3585119"/>
                          <a:pt x="2013797" y="3558539"/>
                          <a:pt x="2032000" y="3522133"/>
                        </a:cubicBezTo>
                        <a:cubicBezTo>
                          <a:pt x="2047965" y="3490203"/>
                          <a:pt x="2054578" y="3454400"/>
                          <a:pt x="2065867" y="3420533"/>
                        </a:cubicBezTo>
                        <a:cubicBezTo>
                          <a:pt x="2054578" y="3318933"/>
                          <a:pt x="2052048" y="3215973"/>
                          <a:pt x="2032000" y="3115733"/>
                        </a:cubicBezTo>
                        <a:cubicBezTo>
                          <a:pt x="2017998" y="3045722"/>
                          <a:pt x="1964267" y="2912533"/>
                          <a:pt x="1964267" y="2912533"/>
                        </a:cubicBezTo>
                        <a:cubicBezTo>
                          <a:pt x="2045473" y="2668911"/>
                          <a:pt x="1946942" y="2973167"/>
                          <a:pt x="2032000" y="2675467"/>
                        </a:cubicBezTo>
                        <a:cubicBezTo>
                          <a:pt x="2041807" y="2641142"/>
                          <a:pt x="2054578" y="2607734"/>
                          <a:pt x="2065867" y="2573867"/>
                        </a:cubicBezTo>
                        <a:cubicBezTo>
                          <a:pt x="1988036" y="2340376"/>
                          <a:pt x="2048618" y="2421153"/>
                          <a:pt x="1930400" y="2302933"/>
                        </a:cubicBezTo>
                        <a:cubicBezTo>
                          <a:pt x="1919111" y="2257778"/>
                          <a:pt x="1909320" y="2212221"/>
                          <a:pt x="1896533" y="2167467"/>
                        </a:cubicBezTo>
                        <a:cubicBezTo>
                          <a:pt x="1886726" y="2133142"/>
                          <a:pt x="1868536" y="2101080"/>
                          <a:pt x="1862667" y="2065867"/>
                        </a:cubicBezTo>
                        <a:cubicBezTo>
                          <a:pt x="1846052" y="1966175"/>
                          <a:pt x="1835554" y="1713597"/>
                          <a:pt x="1794933" y="1591733"/>
                        </a:cubicBezTo>
                        <a:cubicBezTo>
                          <a:pt x="1778968" y="1543839"/>
                          <a:pt x="1753174" y="1499558"/>
                          <a:pt x="1727200" y="1456267"/>
                        </a:cubicBezTo>
                        <a:cubicBezTo>
                          <a:pt x="1685317" y="1386462"/>
                          <a:pt x="1591733" y="1253067"/>
                          <a:pt x="1591733" y="1253067"/>
                        </a:cubicBezTo>
                        <a:cubicBezTo>
                          <a:pt x="1555962" y="1145753"/>
                          <a:pt x="1565165" y="1143657"/>
                          <a:pt x="1490133" y="1049867"/>
                        </a:cubicBezTo>
                        <a:cubicBezTo>
                          <a:pt x="1470187" y="1024934"/>
                          <a:pt x="1442346" y="1007066"/>
                          <a:pt x="1422400" y="982133"/>
                        </a:cubicBezTo>
                        <a:cubicBezTo>
                          <a:pt x="1396973" y="950349"/>
                          <a:pt x="1380094" y="912316"/>
                          <a:pt x="1354667" y="880533"/>
                        </a:cubicBezTo>
                        <a:cubicBezTo>
                          <a:pt x="1334721" y="855600"/>
                          <a:pt x="1306879" y="837733"/>
                          <a:pt x="1286933" y="812800"/>
                        </a:cubicBezTo>
                        <a:cubicBezTo>
                          <a:pt x="1261506" y="781017"/>
                          <a:pt x="1246241" y="741622"/>
                          <a:pt x="1219200" y="711200"/>
                        </a:cubicBezTo>
                        <a:cubicBezTo>
                          <a:pt x="1155561" y="639606"/>
                          <a:pt x="1095702" y="561134"/>
                          <a:pt x="1016000" y="508000"/>
                        </a:cubicBezTo>
                        <a:cubicBezTo>
                          <a:pt x="887833" y="422556"/>
                          <a:pt x="943181" y="469048"/>
                          <a:pt x="846667" y="372533"/>
                        </a:cubicBezTo>
                        <a:cubicBezTo>
                          <a:pt x="835378" y="338666"/>
                          <a:pt x="832602" y="300636"/>
                          <a:pt x="812800" y="270933"/>
                        </a:cubicBezTo>
                        <a:cubicBezTo>
                          <a:pt x="786233" y="231082"/>
                          <a:pt x="749006" y="198737"/>
                          <a:pt x="711200" y="169333"/>
                        </a:cubicBezTo>
                        <a:cubicBezTo>
                          <a:pt x="536524" y="33474"/>
                          <a:pt x="559693" y="51098"/>
                          <a:pt x="406400" y="0"/>
                        </a:cubicBezTo>
                        <a:cubicBezTo>
                          <a:pt x="361244" y="11289"/>
                          <a:pt x="313715" y="15532"/>
                          <a:pt x="270933" y="33867"/>
                        </a:cubicBezTo>
                        <a:cubicBezTo>
                          <a:pt x="53886" y="126887"/>
                          <a:pt x="173770" y="228415"/>
                          <a:pt x="203200" y="508000"/>
                        </a:cubicBezTo>
                        <a:cubicBezTo>
                          <a:pt x="230238" y="764856"/>
                          <a:pt x="168958" y="711013"/>
                          <a:pt x="304800" y="778933"/>
                        </a:cubicBezTo>
                      </a:path>
                    </a:pathLst>
                  </a:custGeom>
                  <a:solidFill>
                    <a:srgbClr val="f2f2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" name="任意多边形 172"/>
                  <p:cNvSpPr/>
                  <p:nvPr/>
                </p:nvSpPr>
                <p:spPr>
                  <a:xfrm rot="13129200">
                    <a:off x="15109920" y="516960"/>
                    <a:ext cx="83160" cy="327960"/>
                  </a:xfrm>
                  <a:custGeom>
                    <a:avLst/>
                    <a:gdLst>
                      <a:gd name="textAreaLeft" fmla="*/ 0 w 83160"/>
                      <a:gd name="textAreaRight" fmla="*/ 83520 w 83160"/>
                      <a:gd name="textAreaTop" fmla="*/ 0 h 327960"/>
                      <a:gd name="textAreaBottom" fmla="*/ 328320 h 327960"/>
                    </a:gdLst>
                    <a:ahLst/>
                    <a:rect l="textAreaLeft" t="textAreaTop" r="textAreaRight" b="textAreaBottom"/>
                    <a:pathLst>
                      <a:path w="2065867" h="4030133">
                        <a:moveTo>
                          <a:pt x="270933" y="677333"/>
                        </a:moveTo>
                        <a:cubicBezTo>
                          <a:pt x="259644" y="733778"/>
                          <a:pt x="257278" y="792770"/>
                          <a:pt x="237067" y="846667"/>
                        </a:cubicBezTo>
                        <a:cubicBezTo>
                          <a:pt x="222775" y="884778"/>
                          <a:pt x="187536" y="911861"/>
                          <a:pt x="169333" y="948267"/>
                        </a:cubicBezTo>
                        <a:cubicBezTo>
                          <a:pt x="153368" y="980197"/>
                          <a:pt x="146756" y="1016000"/>
                          <a:pt x="135467" y="1049867"/>
                        </a:cubicBezTo>
                        <a:cubicBezTo>
                          <a:pt x="124178" y="1128889"/>
                          <a:pt x="124537" y="1210475"/>
                          <a:pt x="101600" y="1286933"/>
                        </a:cubicBezTo>
                        <a:cubicBezTo>
                          <a:pt x="89904" y="1325919"/>
                          <a:pt x="52070" y="1352127"/>
                          <a:pt x="33867" y="1388533"/>
                        </a:cubicBezTo>
                        <a:cubicBezTo>
                          <a:pt x="17902" y="1420463"/>
                          <a:pt x="11289" y="1456266"/>
                          <a:pt x="0" y="1490133"/>
                        </a:cubicBezTo>
                        <a:cubicBezTo>
                          <a:pt x="11289" y="1648178"/>
                          <a:pt x="6331" y="1808231"/>
                          <a:pt x="33867" y="1964267"/>
                        </a:cubicBezTo>
                        <a:cubicBezTo>
                          <a:pt x="40941" y="2004350"/>
                          <a:pt x="77942" y="2032746"/>
                          <a:pt x="101600" y="2065867"/>
                        </a:cubicBezTo>
                        <a:cubicBezTo>
                          <a:pt x="134408" y="2111798"/>
                          <a:pt x="167065" y="2157971"/>
                          <a:pt x="203200" y="2201333"/>
                        </a:cubicBezTo>
                        <a:cubicBezTo>
                          <a:pt x="223641" y="2225862"/>
                          <a:pt x="253221" y="2242500"/>
                          <a:pt x="270933" y="2269067"/>
                        </a:cubicBezTo>
                        <a:cubicBezTo>
                          <a:pt x="298937" y="2311073"/>
                          <a:pt x="313619" y="2360700"/>
                          <a:pt x="338667" y="2404533"/>
                        </a:cubicBezTo>
                        <a:cubicBezTo>
                          <a:pt x="443708" y="2588354"/>
                          <a:pt x="378175" y="2421458"/>
                          <a:pt x="440267" y="2607733"/>
                        </a:cubicBezTo>
                        <a:cubicBezTo>
                          <a:pt x="451556" y="2686755"/>
                          <a:pt x="448890" y="2769072"/>
                          <a:pt x="474133" y="2844800"/>
                        </a:cubicBezTo>
                        <a:cubicBezTo>
                          <a:pt x="484230" y="2875091"/>
                          <a:pt x="525439" y="2885153"/>
                          <a:pt x="541867" y="2912533"/>
                        </a:cubicBezTo>
                        <a:cubicBezTo>
                          <a:pt x="692110" y="3162937"/>
                          <a:pt x="437916" y="2858793"/>
                          <a:pt x="643467" y="3115733"/>
                        </a:cubicBezTo>
                        <a:cubicBezTo>
                          <a:pt x="663413" y="3140666"/>
                          <a:pt x="691254" y="3158534"/>
                          <a:pt x="711200" y="3183467"/>
                        </a:cubicBezTo>
                        <a:cubicBezTo>
                          <a:pt x="736627" y="3215251"/>
                          <a:pt x="752130" y="3254435"/>
                          <a:pt x="778933" y="3285067"/>
                        </a:cubicBezTo>
                        <a:cubicBezTo>
                          <a:pt x="831498" y="3345141"/>
                          <a:pt x="900372" y="3390540"/>
                          <a:pt x="948267" y="3454400"/>
                        </a:cubicBezTo>
                        <a:cubicBezTo>
                          <a:pt x="982134" y="3499556"/>
                          <a:pt x="1019951" y="3542002"/>
                          <a:pt x="1049867" y="3589867"/>
                        </a:cubicBezTo>
                        <a:cubicBezTo>
                          <a:pt x="1076624" y="3632678"/>
                          <a:pt x="1089596" y="3683327"/>
                          <a:pt x="1117600" y="3725333"/>
                        </a:cubicBezTo>
                        <a:cubicBezTo>
                          <a:pt x="1164328" y="3795425"/>
                          <a:pt x="1222230" y="3809038"/>
                          <a:pt x="1286933" y="3860800"/>
                        </a:cubicBezTo>
                        <a:cubicBezTo>
                          <a:pt x="1311866" y="3880746"/>
                          <a:pt x="1328100" y="3910821"/>
                          <a:pt x="1354667" y="3928533"/>
                        </a:cubicBezTo>
                        <a:cubicBezTo>
                          <a:pt x="1438370" y="3984335"/>
                          <a:pt x="1501418" y="4000029"/>
                          <a:pt x="1591733" y="4030133"/>
                        </a:cubicBezTo>
                        <a:cubicBezTo>
                          <a:pt x="1670755" y="4018844"/>
                          <a:pt x="1753072" y="4021510"/>
                          <a:pt x="1828800" y="3996267"/>
                        </a:cubicBezTo>
                        <a:cubicBezTo>
                          <a:pt x="1947678" y="3956641"/>
                          <a:pt x="1962781" y="3628192"/>
                          <a:pt x="1964267" y="3623733"/>
                        </a:cubicBezTo>
                        <a:cubicBezTo>
                          <a:pt x="1977138" y="3585119"/>
                          <a:pt x="2013797" y="3558539"/>
                          <a:pt x="2032000" y="3522133"/>
                        </a:cubicBezTo>
                        <a:cubicBezTo>
                          <a:pt x="2047965" y="3490203"/>
                          <a:pt x="2054578" y="3454400"/>
                          <a:pt x="2065867" y="3420533"/>
                        </a:cubicBezTo>
                        <a:cubicBezTo>
                          <a:pt x="2054578" y="3318933"/>
                          <a:pt x="2052048" y="3215973"/>
                          <a:pt x="2032000" y="3115733"/>
                        </a:cubicBezTo>
                        <a:cubicBezTo>
                          <a:pt x="2017998" y="3045722"/>
                          <a:pt x="1964267" y="2912533"/>
                          <a:pt x="1964267" y="2912533"/>
                        </a:cubicBezTo>
                        <a:cubicBezTo>
                          <a:pt x="2045473" y="2668911"/>
                          <a:pt x="1946942" y="2973167"/>
                          <a:pt x="2032000" y="2675467"/>
                        </a:cubicBezTo>
                        <a:cubicBezTo>
                          <a:pt x="2041807" y="2641142"/>
                          <a:pt x="2054578" y="2607734"/>
                          <a:pt x="2065867" y="2573867"/>
                        </a:cubicBezTo>
                        <a:cubicBezTo>
                          <a:pt x="1988036" y="2340376"/>
                          <a:pt x="2048618" y="2421153"/>
                          <a:pt x="1930400" y="2302933"/>
                        </a:cubicBezTo>
                        <a:cubicBezTo>
                          <a:pt x="1919111" y="2257778"/>
                          <a:pt x="1909320" y="2212221"/>
                          <a:pt x="1896533" y="2167467"/>
                        </a:cubicBezTo>
                        <a:cubicBezTo>
                          <a:pt x="1886726" y="2133142"/>
                          <a:pt x="1868536" y="2101080"/>
                          <a:pt x="1862667" y="2065867"/>
                        </a:cubicBezTo>
                        <a:cubicBezTo>
                          <a:pt x="1846052" y="1966175"/>
                          <a:pt x="1835554" y="1713597"/>
                          <a:pt x="1794933" y="1591733"/>
                        </a:cubicBezTo>
                        <a:cubicBezTo>
                          <a:pt x="1778968" y="1543839"/>
                          <a:pt x="1753174" y="1499558"/>
                          <a:pt x="1727200" y="1456267"/>
                        </a:cubicBezTo>
                        <a:cubicBezTo>
                          <a:pt x="1685317" y="1386462"/>
                          <a:pt x="1591733" y="1253067"/>
                          <a:pt x="1591733" y="1253067"/>
                        </a:cubicBezTo>
                        <a:cubicBezTo>
                          <a:pt x="1555962" y="1145753"/>
                          <a:pt x="1565165" y="1143657"/>
                          <a:pt x="1490133" y="1049867"/>
                        </a:cubicBezTo>
                        <a:cubicBezTo>
                          <a:pt x="1470187" y="1024934"/>
                          <a:pt x="1442346" y="1007066"/>
                          <a:pt x="1422400" y="982133"/>
                        </a:cubicBezTo>
                        <a:cubicBezTo>
                          <a:pt x="1396973" y="950349"/>
                          <a:pt x="1380094" y="912316"/>
                          <a:pt x="1354667" y="880533"/>
                        </a:cubicBezTo>
                        <a:cubicBezTo>
                          <a:pt x="1334721" y="855600"/>
                          <a:pt x="1306879" y="837733"/>
                          <a:pt x="1286933" y="812800"/>
                        </a:cubicBezTo>
                        <a:cubicBezTo>
                          <a:pt x="1261506" y="781017"/>
                          <a:pt x="1246241" y="741622"/>
                          <a:pt x="1219200" y="711200"/>
                        </a:cubicBezTo>
                        <a:cubicBezTo>
                          <a:pt x="1155561" y="639606"/>
                          <a:pt x="1095702" y="561134"/>
                          <a:pt x="1016000" y="508000"/>
                        </a:cubicBezTo>
                        <a:cubicBezTo>
                          <a:pt x="887833" y="422556"/>
                          <a:pt x="943181" y="469048"/>
                          <a:pt x="846667" y="372533"/>
                        </a:cubicBezTo>
                        <a:cubicBezTo>
                          <a:pt x="835378" y="338666"/>
                          <a:pt x="832602" y="300636"/>
                          <a:pt x="812800" y="270933"/>
                        </a:cubicBezTo>
                        <a:cubicBezTo>
                          <a:pt x="786233" y="231082"/>
                          <a:pt x="749006" y="198737"/>
                          <a:pt x="711200" y="169333"/>
                        </a:cubicBezTo>
                        <a:cubicBezTo>
                          <a:pt x="536524" y="33474"/>
                          <a:pt x="559693" y="51098"/>
                          <a:pt x="406400" y="0"/>
                        </a:cubicBezTo>
                        <a:cubicBezTo>
                          <a:pt x="361244" y="11289"/>
                          <a:pt x="313715" y="15532"/>
                          <a:pt x="270933" y="33867"/>
                        </a:cubicBezTo>
                        <a:cubicBezTo>
                          <a:pt x="53886" y="126887"/>
                          <a:pt x="173770" y="228415"/>
                          <a:pt x="203200" y="508000"/>
                        </a:cubicBezTo>
                        <a:cubicBezTo>
                          <a:pt x="230238" y="764856"/>
                          <a:pt x="168958" y="711013"/>
                          <a:pt x="304800" y="778933"/>
                        </a:cubicBezTo>
                      </a:path>
                    </a:pathLst>
                  </a:custGeom>
                  <a:solidFill>
                    <a:srgbClr val="f2f2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1" name=""/>
                <p:cNvGrpSpPr/>
                <p:nvPr/>
              </p:nvGrpSpPr>
              <p:grpSpPr>
                <a:xfrm>
                  <a:off x="13907160" y="924480"/>
                  <a:ext cx="2210760" cy="2454480"/>
                  <a:chOff x="13907160" y="924480"/>
                  <a:chExt cx="2210760" cy="2454480"/>
                </a:xfrm>
              </p:grpSpPr>
              <p:sp>
                <p:nvSpPr>
                  <p:cNvPr id="192" name="任意多边形 167"/>
                  <p:cNvSpPr/>
                  <p:nvPr/>
                </p:nvSpPr>
                <p:spPr>
                  <a:xfrm rot="13129200">
                    <a:off x="14582880" y="921960"/>
                    <a:ext cx="858960" cy="2459160"/>
                  </a:xfrm>
                  <a:custGeom>
                    <a:avLst/>
                    <a:gdLst>
                      <a:gd name="textAreaLeft" fmla="*/ 0 w 858960"/>
                      <a:gd name="textAreaRight" fmla="*/ 859320 w 858960"/>
                      <a:gd name="textAreaTop" fmla="*/ 0 h 2459160"/>
                      <a:gd name="textAreaBottom" fmla="*/ 2459520 h 2459160"/>
                    </a:gdLst>
                    <a:ahLst/>
                    <a:rect l="textAreaLeft" t="textAreaTop" r="textAreaRight" b="textAreaBottom"/>
                    <a:pathLst>
                      <a:path w="2065867" h="4030133">
                        <a:moveTo>
                          <a:pt x="270933" y="677333"/>
                        </a:moveTo>
                        <a:cubicBezTo>
                          <a:pt x="259644" y="733778"/>
                          <a:pt x="257278" y="792770"/>
                          <a:pt x="237067" y="846667"/>
                        </a:cubicBezTo>
                        <a:cubicBezTo>
                          <a:pt x="222775" y="884778"/>
                          <a:pt x="187536" y="911861"/>
                          <a:pt x="169333" y="948267"/>
                        </a:cubicBezTo>
                        <a:cubicBezTo>
                          <a:pt x="153368" y="980197"/>
                          <a:pt x="146756" y="1016000"/>
                          <a:pt x="135467" y="1049867"/>
                        </a:cubicBezTo>
                        <a:cubicBezTo>
                          <a:pt x="124178" y="1128889"/>
                          <a:pt x="124537" y="1210475"/>
                          <a:pt x="101600" y="1286933"/>
                        </a:cubicBezTo>
                        <a:cubicBezTo>
                          <a:pt x="89904" y="1325919"/>
                          <a:pt x="52070" y="1352127"/>
                          <a:pt x="33867" y="1388533"/>
                        </a:cubicBezTo>
                        <a:cubicBezTo>
                          <a:pt x="17902" y="1420463"/>
                          <a:pt x="11289" y="1456266"/>
                          <a:pt x="0" y="1490133"/>
                        </a:cubicBezTo>
                        <a:cubicBezTo>
                          <a:pt x="11289" y="1648178"/>
                          <a:pt x="6331" y="1808231"/>
                          <a:pt x="33867" y="1964267"/>
                        </a:cubicBezTo>
                        <a:cubicBezTo>
                          <a:pt x="40941" y="2004350"/>
                          <a:pt x="77942" y="2032746"/>
                          <a:pt x="101600" y="2065867"/>
                        </a:cubicBezTo>
                        <a:cubicBezTo>
                          <a:pt x="134408" y="2111798"/>
                          <a:pt x="167065" y="2157971"/>
                          <a:pt x="203200" y="2201333"/>
                        </a:cubicBezTo>
                        <a:cubicBezTo>
                          <a:pt x="223641" y="2225862"/>
                          <a:pt x="253221" y="2242500"/>
                          <a:pt x="270933" y="2269067"/>
                        </a:cubicBezTo>
                        <a:cubicBezTo>
                          <a:pt x="298937" y="2311073"/>
                          <a:pt x="313619" y="2360700"/>
                          <a:pt x="338667" y="2404533"/>
                        </a:cubicBezTo>
                        <a:cubicBezTo>
                          <a:pt x="443708" y="2588354"/>
                          <a:pt x="378175" y="2421458"/>
                          <a:pt x="440267" y="2607733"/>
                        </a:cubicBezTo>
                        <a:cubicBezTo>
                          <a:pt x="451556" y="2686755"/>
                          <a:pt x="448890" y="2769072"/>
                          <a:pt x="474133" y="2844800"/>
                        </a:cubicBezTo>
                        <a:cubicBezTo>
                          <a:pt x="484230" y="2875091"/>
                          <a:pt x="525439" y="2885153"/>
                          <a:pt x="541867" y="2912533"/>
                        </a:cubicBezTo>
                        <a:cubicBezTo>
                          <a:pt x="692110" y="3162937"/>
                          <a:pt x="437916" y="2858793"/>
                          <a:pt x="643467" y="3115733"/>
                        </a:cubicBezTo>
                        <a:cubicBezTo>
                          <a:pt x="663413" y="3140666"/>
                          <a:pt x="691254" y="3158534"/>
                          <a:pt x="711200" y="3183467"/>
                        </a:cubicBezTo>
                        <a:cubicBezTo>
                          <a:pt x="736627" y="3215251"/>
                          <a:pt x="752130" y="3254435"/>
                          <a:pt x="778933" y="3285067"/>
                        </a:cubicBezTo>
                        <a:cubicBezTo>
                          <a:pt x="831498" y="3345141"/>
                          <a:pt x="900372" y="3390540"/>
                          <a:pt x="948267" y="3454400"/>
                        </a:cubicBezTo>
                        <a:cubicBezTo>
                          <a:pt x="982134" y="3499556"/>
                          <a:pt x="1019951" y="3542002"/>
                          <a:pt x="1049867" y="3589867"/>
                        </a:cubicBezTo>
                        <a:cubicBezTo>
                          <a:pt x="1076624" y="3632678"/>
                          <a:pt x="1089596" y="3683327"/>
                          <a:pt x="1117600" y="3725333"/>
                        </a:cubicBezTo>
                        <a:cubicBezTo>
                          <a:pt x="1164328" y="3795425"/>
                          <a:pt x="1222230" y="3809038"/>
                          <a:pt x="1286933" y="3860800"/>
                        </a:cubicBezTo>
                        <a:cubicBezTo>
                          <a:pt x="1311866" y="3880746"/>
                          <a:pt x="1328100" y="3910821"/>
                          <a:pt x="1354667" y="3928533"/>
                        </a:cubicBezTo>
                        <a:cubicBezTo>
                          <a:pt x="1438370" y="3984335"/>
                          <a:pt x="1501418" y="4000029"/>
                          <a:pt x="1591733" y="4030133"/>
                        </a:cubicBezTo>
                        <a:cubicBezTo>
                          <a:pt x="1670755" y="4018844"/>
                          <a:pt x="1753072" y="4021510"/>
                          <a:pt x="1828800" y="3996267"/>
                        </a:cubicBezTo>
                        <a:cubicBezTo>
                          <a:pt x="1947678" y="3956641"/>
                          <a:pt x="1962781" y="3628192"/>
                          <a:pt x="1964267" y="3623733"/>
                        </a:cubicBezTo>
                        <a:cubicBezTo>
                          <a:pt x="1977138" y="3585119"/>
                          <a:pt x="2013797" y="3558539"/>
                          <a:pt x="2032000" y="3522133"/>
                        </a:cubicBezTo>
                        <a:cubicBezTo>
                          <a:pt x="2047965" y="3490203"/>
                          <a:pt x="2054578" y="3454400"/>
                          <a:pt x="2065867" y="3420533"/>
                        </a:cubicBezTo>
                        <a:cubicBezTo>
                          <a:pt x="2054578" y="3318933"/>
                          <a:pt x="2052048" y="3215973"/>
                          <a:pt x="2032000" y="3115733"/>
                        </a:cubicBezTo>
                        <a:cubicBezTo>
                          <a:pt x="2017998" y="3045722"/>
                          <a:pt x="1964267" y="2912533"/>
                          <a:pt x="1964267" y="2912533"/>
                        </a:cubicBezTo>
                        <a:cubicBezTo>
                          <a:pt x="2045473" y="2668911"/>
                          <a:pt x="1946942" y="2973167"/>
                          <a:pt x="2032000" y="2675467"/>
                        </a:cubicBezTo>
                        <a:cubicBezTo>
                          <a:pt x="2041807" y="2641142"/>
                          <a:pt x="2054578" y="2607734"/>
                          <a:pt x="2065867" y="2573867"/>
                        </a:cubicBezTo>
                        <a:cubicBezTo>
                          <a:pt x="1988036" y="2340376"/>
                          <a:pt x="2048618" y="2421153"/>
                          <a:pt x="1930400" y="2302933"/>
                        </a:cubicBezTo>
                        <a:cubicBezTo>
                          <a:pt x="1919111" y="2257778"/>
                          <a:pt x="1909320" y="2212221"/>
                          <a:pt x="1896533" y="2167467"/>
                        </a:cubicBezTo>
                        <a:cubicBezTo>
                          <a:pt x="1886726" y="2133142"/>
                          <a:pt x="1868536" y="2101080"/>
                          <a:pt x="1862667" y="2065867"/>
                        </a:cubicBezTo>
                        <a:cubicBezTo>
                          <a:pt x="1846052" y="1966175"/>
                          <a:pt x="1835554" y="1713597"/>
                          <a:pt x="1794933" y="1591733"/>
                        </a:cubicBezTo>
                        <a:cubicBezTo>
                          <a:pt x="1778968" y="1543839"/>
                          <a:pt x="1753174" y="1499558"/>
                          <a:pt x="1727200" y="1456267"/>
                        </a:cubicBezTo>
                        <a:cubicBezTo>
                          <a:pt x="1685317" y="1386462"/>
                          <a:pt x="1591733" y="1253067"/>
                          <a:pt x="1591733" y="1253067"/>
                        </a:cubicBezTo>
                        <a:cubicBezTo>
                          <a:pt x="1555962" y="1145753"/>
                          <a:pt x="1565165" y="1143657"/>
                          <a:pt x="1490133" y="1049867"/>
                        </a:cubicBezTo>
                        <a:cubicBezTo>
                          <a:pt x="1470187" y="1024934"/>
                          <a:pt x="1442346" y="1007066"/>
                          <a:pt x="1422400" y="982133"/>
                        </a:cubicBezTo>
                        <a:cubicBezTo>
                          <a:pt x="1396973" y="950349"/>
                          <a:pt x="1380094" y="912316"/>
                          <a:pt x="1354667" y="880533"/>
                        </a:cubicBezTo>
                        <a:cubicBezTo>
                          <a:pt x="1334721" y="855600"/>
                          <a:pt x="1306879" y="837733"/>
                          <a:pt x="1286933" y="812800"/>
                        </a:cubicBezTo>
                        <a:cubicBezTo>
                          <a:pt x="1261506" y="781017"/>
                          <a:pt x="1246241" y="741622"/>
                          <a:pt x="1219200" y="711200"/>
                        </a:cubicBezTo>
                        <a:cubicBezTo>
                          <a:pt x="1155561" y="639606"/>
                          <a:pt x="1095702" y="561134"/>
                          <a:pt x="1016000" y="508000"/>
                        </a:cubicBezTo>
                        <a:cubicBezTo>
                          <a:pt x="887833" y="422556"/>
                          <a:pt x="943181" y="469048"/>
                          <a:pt x="846667" y="372533"/>
                        </a:cubicBezTo>
                        <a:cubicBezTo>
                          <a:pt x="835378" y="338666"/>
                          <a:pt x="832602" y="300636"/>
                          <a:pt x="812800" y="270933"/>
                        </a:cubicBezTo>
                        <a:cubicBezTo>
                          <a:pt x="786233" y="231082"/>
                          <a:pt x="749006" y="198737"/>
                          <a:pt x="711200" y="169333"/>
                        </a:cubicBezTo>
                        <a:cubicBezTo>
                          <a:pt x="536524" y="33474"/>
                          <a:pt x="559693" y="51098"/>
                          <a:pt x="406400" y="0"/>
                        </a:cubicBezTo>
                        <a:cubicBezTo>
                          <a:pt x="361244" y="11289"/>
                          <a:pt x="313715" y="15532"/>
                          <a:pt x="270933" y="33867"/>
                        </a:cubicBezTo>
                        <a:cubicBezTo>
                          <a:pt x="53886" y="126887"/>
                          <a:pt x="173770" y="228415"/>
                          <a:pt x="203200" y="508000"/>
                        </a:cubicBezTo>
                        <a:cubicBezTo>
                          <a:pt x="230238" y="764856"/>
                          <a:pt x="168958" y="711013"/>
                          <a:pt x="304800" y="778933"/>
                        </a:cubicBez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3" name="任意多边形 168"/>
                  <p:cNvSpPr/>
                  <p:nvPr/>
                </p:nvSpPr>
                <p:spPr>
                  <a:xfrm rot="13129200">
                    <a:off x="14524920" y="1968120"/>
                    <a:ext cx="429480" cy="1128240"/>
                  </a:xfrm>
                  <a:custGeom>
                    <a:avLst/>
                    <a:gdLst>
                      <a:gd name="textAreaLeft" fmla="*/ 0 w 429480"/>
                      <a:gd name="textAreaRight" fmla="*/ 429840 w 429480"/>
                      <a:gd name="textAreaTop" fmla="*/ 0 h 1128240"/>
                      <a:gd name="textAreaBottom" fmla="*/ 1128600 h 1128240"/>
                    </a:gdLst>
                    <a:ahLst/>
                    <a:rect l="textAreaLeft" t="textAreaTop" r="textAreaRight" b="textAreaBottom"/>
                    <a:pathLst>
                      <a:path w="2065867" h="4030133">
                        <a:moveTo>
                          <a:pt x="270933" y="677333"/>
                        </a:moveTo>
                        <a:cubicBezTo>
                          <a:pt x="259644" y="733778"/>
                          <a:pt x="257278" y="792770"/>
                          <a:pt x="237067" y="846667"/>
                        </a:cubicBezTo>
                        <a:cubicBezTo>
                          <a:pt x="222775" y="884778"/>
                          <a:pt x="187536" y="911861"/>
                          <a:pt x="169333" y="948267"/>
                        </a:cubicBezTo>
                        <a:cubicBezTo>
                          <a:pt x="153368" y="980197"/>
                          <a:pt x="146756" y="1016000"/>
                          <a:pt x="135467" y="1049867"/>
                        </a:cubicBezTo>
                        <a:cubicBezTo>
                          <a:pt x="124178" y="1128889"/>
                          <a:pt x="124537" y="1210475"/>
                          <a:pt x="101600" y="1286933"/>
                        </a:cubicBezTo>
                        <a:cubicBezTo>
                          <a:pt x="89904" y="1325919"/>
                          <a:pt x="52070" y="1352127"/>
                          <a:pt x="33867" y="1388533"/>
                        </a:cubicBezTo>
                        <a:cubicBezTo>
                          <a:pt x="17902" y="1420463"/>
                          <a:pt x="11289" y="1456266"/>
                          <a:pt x="0" y="1490133"/>
                        </a:cubicBezTo>
                        <a:cubicBezTo>
                          <a:pt x="11289" y="1648178"/>
                          <a:pt x="6331" y="1808231"/>
                          <a:pt x="33867" y="1964267"/>
                        </a:cubicBezTo>
                        <a:cubicBezTo>
                          <a:pt x="40941" y="2004350"/>
                          <a:pt x="77942" y="2032746"/>
                          <a:pt x="101600" y="2065867"/>
                        </a:cubicBezTo>
                        <a:cubicBezTo>
                          <a:pt x="134408" y="2111798"/>
                          <a:pt x="167065" y="2157971"/>
                          <a:pt x="203200" y="2201333"/>
                        </a:cubicBezTo>
                        <a:cubicBezTo>
                          <a:pt x="223641" y="2225862"/>
                          <a:pt x="253221" y="2242500"/>
                          <a:pt x="270933" y="2269067"/>
                        </a:cubicBezTo>
                        <a:cubicBezTo>
                          <a:pt x="298937" y="2311073"/>
                          <a:pt x="313619" y="2360700"/>
                          <a:pt x="338667" y="2404533"/>
                        </a:cubicBezTo>
                        <a:cubicBezTo>
                          <a:pt x="443708" y="2588354"/>
                          <a:pt x="378175" y="2421458"/>
                          <a:pt x="440267" y="2607733"/>
                        </a:cubicBezTo>
                        <a:cubicBezTo>
                          <a:pt x="451556" y="2686755"/>
                          <a:pt x="448890" y="2769072"/>
                          <a:pt x="474133" y="2844800"/>
                        </a:cubicBezTo>
                        <a:cubicBezTo>
                          <a:pt x="484230" y="2875091"/>
                          <a:pt x="525439" y="2885153"/>
                          <a:pt x="541867" y="2912533"/>
                        </a:cubicBezTo>
                        <a:cubicBezTo>
                          <a:pt x="692110" y="3162937"/>
                          <a:pt x="437916" y="2858793"/>
                          <a:pt x="643467" y="3115733"/>
                        </a:cubicBezTo>
                        <a:cubicBezTo>
                          <a:pt x="663413" y="3140666"/>
                          <a:pt x="691254" y="3158534"/>
                          <a:pt x="711200" y="3183467"/>
                        </a:cubicBezTo>
                        <a:cubicBezTo>
                          <a:pt x="736627" y="3215251"/>
                          <a:pt x="752130" y="3254435"/>
                          <a:pt x="778933" y="3285067"/>
                        </a:cubicBezTo>
                        <a:cubicBezTo>
                          <a:pt x="831498" y="3345141"/>
                          <a:pt x="900372" y="3390540"/>
                          <a:pt x="948267" y="3454400"/>
                        </a:cubicBezTo>
                        <a:cubicBezTo>
                          <a:pt x="982134" y="3499556"/>
                          <a:pt x="1019951" y="3542002"/>
                          <a:pt x="1049867" y="3589867"/>
                        </a:cubicBezTo>
                        <a:cubicBezTo>
                          <a:pt x="1076624" y="3632678"/>
                          <a:pt x="1089596" y="3683327"/>
                          <a:pt x="1117600" y="3725333"/>
                        </a:cubicBezTo>
                        <a:cubicBezTo>
                          <a:pt x="1164328" y="3795425"/>
                          <a:pt x="1222230" y="3809038"/>
                          <a:pt x="1286933" y="3860800"/>
                        </a:cubicBezTo>
                        <a:cubicBezTo>
                          <a:pt x="1311866" y="3880746"/>
                          <a:pt x="1328100" y="3910821"/>
                          <a:pt x="1354667" y="3928533"/>
                        </a:cubicBezTo>
                        <a:cubicBezTo>
                          <a:pt x="1438370" y="3984335"/>
                          <a:pt x="1501418" y="4000029"/>
                          <a:pt x="1591733" y="4030133"/>
                        </a:cubicBezTo>
                        <a:cubicBezTo>
                          <a:pt x="1670755" y="4018844"/>
                          <a:pt x="1753072" y="4021510"/>
                          <a:pt x="1828800" y="3996267"/>
                        </a:cubicBezTo>
                        <a:cubicBezTo>
                          <a:pt x="1947678" y="3956641"/>
                          <a:pt x="1962781" y="3628192"/>
                          <a:pt x="1964267" y="3623733"/>
                        </a:cubicBezTo>
                        <a:cubicBezTo>
                          <a:pt x="1977138" y="3585119"/>
                          <a:pt x="2013797" y="3558539"/>
                          <a:pt x="2032000" y="3522133"/>
                        </a:cubicBezTo>
                        <a:cubicBezTo>
                          <a:pt x="2047965" y="3490203"/>
                          <a:pt x="2054578" y="3454400"/>
                          <a:pt x="2065867" y="3420533"/>
                        </a:cubicBezTo>
                        <a:cubicBezTo>
                          <a:pt x="2054578" y="3318933"/>
                          <a:pt x="2052048" y="3215973"/>
                          <a:pt x="2032000" y="3115733"/>
                        </a:cubicBezTo>
                        <a:cubicBezTo>
                          <a:pt x="2017998" y="3045722"/>
                          <a:pt x="1964267" y="2912533"/>
                          <a:pt x="1964267" y="2912533"/>
                        </a:cubicBezTo>
                        <a:cubicBezTo>
                          <a:pt x="2045473" y="2668911"/>
                          <a:pt x="1946942" y="2973167"/>
                          <a:pt x="2032000" y="2675467"/>
                        </a:cubicBezTo>
                        <a:cubicBezTo>
                          <a:pt x="2041807" y="2641142"/>
                          <a:pt x="2054578" y="2607734"/>
                          <a:pt x="2065867" y="2573867"/>
                        </a:cubicBezTo>
                        <a:cubicBezTo>
                          <a:pt x="1988036" y="2340376"/>
                          <a:pt x="2048618" y="2421153"/>
                          <a:pt x="1930400" y="2302933"/>
                        </a:cubicBezTo>
                        <a:cubicBezTo>
                          <a:pt x="1919111" y="2257778"/>
                          <a:pt x="1909320" y="2212221"/>
                          <a:pt x="1896533" y="2167467"/>
                        </a:cubicBezTo>
                        <a:cubicBezTo>
                          <a:pt x="1886726" y="2133142"/>
                          <a:pt x="1868536" y="2101080"/>
                          <a:pt x="1862667" y="2065867"/>
                        </a:cubicBezTo>
                        <a:cubicBezTo>
                          <a:pt x="1846052" y="1966175"/>
                          <a:pt x="1835554" y="1713597"/>
                          <a:pt x="1794933" y="1591733"/>
                        </a:cubicBezTo>
                        <a:cubicBezTo>
                          <a:pt x="1778968" y="1543839"/>
                          <a:pt x="1753174" y="1499558"/>
                          <a:pt x="1727200" y="1456267"/>
                        </a:cubicBezTo>
                        <a:cubicBezTo>
                          <a:pt x="1685317" y="1386462"/>
                          <a:pt x="1591733" y="1253067"/>
                          <a:pt x="1591733" y="1253067"/>
                        </a:cubicBezTo>
                        <a:cubicBezTo>
                          <a:pt x="1555962" y="1145753"/>
                          <a:pt x="1565165" y="1143657"/>
                          <a:pt x="1490133" y="1049867"/>
                        </a:cubicBezTo>
                        <a:cubicBezTo>
                          <a:pt x="1470187" y="1024934"/>
                          <a:pt x="1442346" y="1007066"/>
                          <a:pt x="1422400" y="982133"/>
                        </a:cubicBezTo>
                        <a:cubicBezTo>
                          <a:pt x="1396973" y="950349"/>
                          <a:pt x="1380094" y="912316"/>
                          <a:pt x="1354667" y="880533"/>
                        </a:cubicBezTo>
                        <a:cubicBezTo>
                          <a:pt x="1334721" y="855600"/>
                          <a:pt x="1306879" y="837733"/>
                          <a:pt x="1286933" y="812800"/>
                        </a:cubicBezTo>
                        <a:cubicBezTo>
                          <a:pt x="1261506" y="781017"/>
                          <a:pt x="1246241" y="741622"/>
                          <a:pt x="1219200" y="711200"/>
                        </a:cubicBezTo>
                        <a:cubicBezTo>
                          <a:pt x="1155561" y="639606"/>
                          <a:pt x="1095702" y="561134"/>
                          <a:pt x="1016000" y="508000"/>
                        </a:cubicBezTo>
                        <a:cubicBezTo>
                          <a:pt x="887833" y="422556"/>
                          <a:pt x="943181" y="469048"/>
                          <a:pt x="846667" y="372533"/>
                        </a:cubicBezTo>
                        <a:cubicBezTo>
                          <a:pt x="835378" y="338666"/>
                          <a:pt x="832602" y="300636"/>
                          <a:pt x="812800" y="270933"/>
                        </a:cubicBezTo>
                        <a:cubicBezTo>
                          <a:pt x="786233" y="231082"/>
                          <a:pt x="749006" y="198737"/>
                          <a:pt x="711200" y="169333"/>
                        </a:cubicBezTo>
                        <a:cubicBezTo>
                          <a:pt x="536524" y="33474"/>
                          <a:pt x="559693" y="51098"/>
                          <a:pt x="406400" y="0"/>
                        </a:cubicBezTo>
                        <a:cubicBezTo>
                          <a:pt x="361244" y="11289"/>
                          <a:pt x="313715" y="15532"/>
                          <a:pt x="270933" y="33867"/>
                        </a:cubicBezTo>
                        <a:cubicBezTo>
                          <a:pt x="53886" y="126887"/>
                          <a:pt x="173770" y="228415"/>
                          <a:pt x="203200" y="508000"/>
                        </a:cubicBezTo>
                        <a:cubicBezTo>
                          <a:pt x="230238" y="764856"/>
                          <a:pt x="168958" y="711013"/>
                          <a:pt x="304800" y="778933"/>
                        </a:cubicBezTo>
                      </a:path>
                    </a:pathLst>
                  </a:custGeom>
                  <a:solidFill>
                    <a:srgbClr val="f2f2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4" name="任意多边形 169"/>
                  <p:cNvSpPr/>
                  <p:nvPr/>
                </p:nvSpPr>
                <p:spPr>
                  <a:xfrm rot="13129200">
                    <a:off x="14724720" y="1405440"/>
                    <a:ext cx="200160" cy="948240"/>
                  </a:xfrm>
                  <a:custGeom>
                    <a:avLst/>
                    <a:gdLst>
                      <a:gd name="textAreaLeft" fmla="*/ 0 w 200160"/>
                      <a:gd name="textAreaRight" fmla="*/ 200520 w 200160"/>
                      <a:gd name="textAreaTop" fmla="*/ 0 h 948240"/>
                      <a:gd name="textAreaBottom" fmla="*/ 948600 h 948240"/>
                    </a:gdLst>
                    <a:ahLst/>
                    <a:rect l="textAreaLeft" t="textAreaTop" r="textAreaRight" b="textAreaBottom"/>
                    <a:pathLst>
                      <a:path w="2065867" h="4030133">
                        <a:moveTo>
                          <a:pt x="270933" y="677333"/>
                        </a:moveTo>
                        <a:cubicBezTo>
                          <a:pt x="259644" y="733778"/>
                          <a:pt x="257278" y="792770"/>
                          <a:pt x="237067" y="846667"/>
                        </a:cubicBezTo>
                        <a:cubicBezTo>
                          <a:pt x="222775" y="884778"/>
                          <a:pt x="187536" y="911861"/>
                          <a:pt x="169333" y="948267"/>
                        </a:cubicBezTo>
                        <a:cubicBezTo>
                          <a:pt x="153368" y="980197"/>
                          <a:pt x="146756" y="1016000"/>
                          <a:pt x="135467" y="1049867"/>
                        </a:cubicBezTo>
                        <a:cubicBezTo>
                          <a:pt x="124178" y="1128889"/>
                          <a:pt x="124537" y="1210475"/>
                          <a:pt x="101600" y="1286933"/>
                        </a:cubicBezTo>
                        <a:cubicBezTo>
                          <a:pt x="89904" y="1325919"/>
                          <a:pt x="52070" y="1352127"/>
                          <a:pt x="33867" y="1388533"/>
                        </a:cubicBezTo>
                        <a:cubicBezTo>
                          <a:pt x="17902" y="1420463"/>
                          <a:pt x="11289" y="1456266"/>
                          <a:pt x="0" y="1490133"/>
                        </a:cubicBezTo>
                        <a:cubicBezTo>
                          <a:pt x="11289" y="1648178"/>
                          <a:pt x="6331" y="1808231"/>
                          <a:pt x="33867" y="1964267"/>
                        </a:cubicBezTo>
                        <a:cubicBezTo>
                          <a:pt x="40941" y="2004350"/>
                          <a:pt x="77942" y="2032746"/>
                          <a:pt x="101600" y="2065867"/>
                        </a:cubicBezTo>
                        <a:cubicBezTo>
                          <a:pt x="134408" y="2111798"/>
                          <a:pt x="167065" y="2157971"/>
                          <a:pt x="203200" y="2201333"/>
                        </a:cubicBezTo>
                        <a:cubicBezTo>
                          <a:pt x="223641" y="2225862"/>
                          <a:pt x="253221" y="2242500"/>
                          <a:pt x="270933" y="2269067"/>
                        </a:cubicBezTo>
                        <a:cubicBezTo>
                          <a:pt x="298937" y="2311073"/>
                          <a:pt x="313619" y="2360700"/>
                          <a:pt x="338667" y="2404533"/>
                        </a:cubicBezTo>
                        <a:cubicBezTo>
                          <a:pt x="443708" y="2588354"/>
                          <a:pt x="378175" y="2421458"/>
                          <a:pt x="440267" y="2607733"/>
                        </a:cubicBezTo>
                        <a:cubicBezTo>
                          <a:pt x="451556" y="2686755"/>
                          <a:pt x="448890" y="2769072"/>
                          <a:pt x="474133" y="2844800"/>
                        </a:cubicBezTo>
                        <a:cubicBezTo>
                          <a:pt x="484230" y="2875091"/>
                          <a:pt x="525439" y="2885153"/>
                          <a:pt x="541867" y="2912533"/>
                        </a:cubicBezTo>
                        <a:cubicBezTo>
                          <a:pt x="692110" y="3162937"/>
                          <a:pt x="437916" y="2858793"/>
                          <a:pt x="643467" y="3115733"/>
                        </a:cubicBezTo>
                        <a:cubicBezTo>
                          <a:pt x="663413" y="3140666"/>
                          <a:pt x="691254" y="3158534"/>
                          <a:pt x="711200" y="3183467"/>
                        </a:cubicBezTo>
                        <a:cubicBezTo>
                          <a:pt x="736627" y="3215251"/>
                          <a:pt x="752130" y="3254435"/>
                          <a:pt x="778933" y="3285067"/>
                        </a:cubicBezTo>
                        <a:cubicBezTo>
                          <a:pt x="831498" y="3345141"/>
                          <a:pt x="900372" y="3390540"/>
                          <a:pt x="948267" y="3454400"/>
                        </a:cubicBezTo>
                        <a:cubicBezTo>
                          <a:pt x="982134" y="3499556"/>
                          <a:pt x="1019951" y="3542002"/>
                          <a:pt x="1049867" y="3589867"/>
                        </a:cubicBezTo>
                        <a:cubicBezTo>
                          <a:pt x="1076624" y="3632678"/>
                          <a:pt x="1089596" y="3683327"/>
                          <a:pt x="1117600" y="3725333"/>
                        </a:cubicBezTo>
                        <a:cubicBezTo>
                          <a:pt x="1164328" y="3795425"/>
                          <a:pt x="1222230" y="3809038"/>
                          <a:pt x="1286933" y="3860800"/>
                        </a:cubicBezTo>
                        <a:cubicBezTo>
                          <a:pt x="1311866" y="3880746"/>
                          <a:pt x="1328100" y="3910821"/>
                          <a:pt x="1354667" y="3928533"/>
                        </a:cubicBezTo>
                        <a:cubicBezTo>
                          <a:pt x="1438370" y="3984335"/>
                          <a:pt x="1501418" y="4000029"/>
                          <a:pt x="1591733" y="4030133"/>
                        </a:cubicBezTo>
                        <a:cubicBezTo>
                          <a:pt x="1670755" y="4018844"/>
                          <a:pt x="1753072" y="4021510"/>
                          <a:pt x="1828800" y="3996267"/>
                        </a:cubicBezTo>
                        <a:cubicBezTo>
                          <a:pt x="1947678" y="3956641"/>
                          <a:pt x="1962781" y="3628192"/>
                          <a:pt x="1964267" y="3623733"/>
                        </a:cubicBezTo>
                        <a:cubicBezTo>
                          <a:pt x="1977138" y="3585119"/>
                          <a:pt x="2013797" y="3558539"/>
                          <a:pt x="2032000" y="3522133"/>
                        </a:cubicBezTo>
                        <a:cubicBezTo>
                          <a:pt x="2047965" y="3490203"/>
                          <a:pt x="2054578" y="3454400"/>
                          <a:pt x="2065867" y="3420533"/>
                        </a:cubicBezTo>
                        <a:cubicBezTo>
                          <a:pt x="2054578" y="3318933"/>
                          <a:pt x="2052048" y="3215973"/>
                          <a:pt x="2032000" y="3115733"/>
                        </a:cubicBezTo>
                        <a:cubicBezTo>
                          <a:pt x="2017998" y="3045722"/>
                          <a:pt x="1964267" y="2912533"/>
                          <a:pt x="1964267" y="2912533"/>
                        </a:cubicBezTo>
                        <a:cubicBezTo>
                          <a:pt x="2045473" y="2668911"/>
                          <a:pt x="1946942" y="2973167"/>
                          <a:pt x="2032000" y="2675467"/>
                        </a:cubicBezTo>
                        <a:cubicBezTo>
                          <a:pt x="2041807" y="2641142"/>
                          <a:pt x="2054578" y="2607734"/>
                          <a:pt x="2065867" y="2573867"/>
                        </a:cubicBezTo>
                        <a:cubicBezTo>
                          <a:pt x="1988036" y="2340376"/>
                          <a:pt x="2048618" y="2421153"/>
                          <a:pt x="1930400" y="2302933"/>
                        </a:cubicBezTo>
                        <a:cubicBezTo>
                          <a:pt x="1919111" y="2257778"/>
                          <a:pt x="1909320" y="2212221"/>
                          <a:pt x="1896533" y="2167467"/>
                        </a:cubicBezTo>
                        <a:cubicBezTo>
                          <a:pt x="1886726" y="2133142"/>
                          <a:pt x="1868536" y="2101080"/>
                          <a:pt x="1862667" y="2065867"/>
                        </a:cubicBezTo>
                        <a:cubicBezTo>
                          <a:pt x="1846052" y="1966175"/>
                          <a:pt x="1835554" y="1713597"/>
                          <a:pt x="1794933" y="1591733"/>
                        </a:cubicBezTo>
                        <a:cubicBezTo>
                          <a:pt x="1778968" y="1543839"/>
                          <a:pt x="1753174" y="1499558"/>
                          <a:pt x="1727200" y="1456267"/>
                        </a:cubicBezTo>
                        <a:cubicBezTo>
                          <a:pt x="1685317" y="1386462"/>
                          <a:pt x="1591733" y="1253067"/>
                          <a:pt x="1591733" y="1253067"/>
                        </a:cubicBezTo>
                        <a:cubicBezTo>
                          <a:pt x="1555962" y="1145753"/>
                          <a:pt x="1565165" y="1143657"/>
                          <a:pt x="1490133" y="1049867"/>
                        </a:cubicBezTo>
                        <a:cubicBezTo>
                          <a:pt x="1470187" y="1024934"/>
                          <a:pt x="1442346" y="1007066"/>
                          <a:pt x="1422400" y="982133"/>
                        </a:cubicBezTo>
                        <a:cubicBezTo>
                          <a:pt x="1396973" y="950349"/>
                          <a:pt x="1380094" y="912316"/>
                          <a:pt x="1354667" y="880533"/>
                        </a:cubicBezTo>
                        <a:cubicBezTo>
                          <a:pt x="1334721" y="855600"/>
                          <a:pt x="1306879" y="837733"/>
                          <a:pt x="1286933" y="812800"/>
                        </a:cubicBezTo>
                        <a:cubicBezTo>
                          <a:pt x="1261506" y="781017"/>
                          <a:pt x="1246241" y="741622"/>
                          <a:pt x="1219200" y="711200"/>
                        </a:cubicBezTo>
                        <a:cubicBezTo>
                          <a:pt x="1155561" y="639606"/>
                          <a:pt x="1095702" y="561134"/>
                          <a:pt x="1016000" y="508000"/>
                        </a:cubicBezTo>
                        <a:cubicBezTo>
                          <a:pt x="887833" y="422556"/>
                          <a:pt x="943181" y="469048"/>
                          <a:pt x="846667" y="372533"/>
                        </a:cubicBezTo>
                        <a:cubicBezTo>
                          <a:pt x="835378" y="338666"/>
                          <a:pt x="832602" y="300636"/>
                          <a:pt x="812800" y="270933"/>
                        </a:cubicBezTo>
                        <a:cubicBezTo>
                          <a:pt x="786233" y="231082"/>
                          <a:pt x="749006" y="198737"/>
                          <a:pt x="711200" y="169333"/>
                        </a:cubicBezTo>
                        <a:cubicBezTo>
                          <a:pt x="536524" y="33474"/>
                          <a:pt x="559693" y="51098"/>
                          <a:pt x="406400" y="0"/>
                        </a:cubicBezTo>
                        <a:cubicBezTo>
                          <a:pt x="361244" y="11289"/>
                          <a:pt x="313715" y="15532"/>
                          <a:pt x="270933" y="33867"/>
                        </a:cubicBezTo>
                        <a:cubicBezTo>
                          <a:pt x="53886" y="126887"/>
                          <a:pt x="173770" y="228415"/>
                          <a:pt x="203200" y="508000"/>
                        </a:cubicBezTo>
                        <a:cubicBezTo>
                          <a:pt x="230238" y="764856"/>
                          <a:pt x="168958" y="711013"/>
                          <a:pt x="304800" y="778933"/>
                        </a:cubicBezTo>
                      </a:path>
                    </a:pathLst>
                  </a:custGeom>
                  <a:solidFill>
                    <a:srgbClr val="f2f2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5" name=""/>
                <p:cNvGrpSpPr/>
                <p:nvPr/>
              </p:nvGrpSpPr>
              <p:grpSpPr>
                <a:xfrm>
                  <a:off x="15909120" y="1110960"/>
                  <a:ext cx="1432800" cy="1753920"/>
                  <a:chOff x="15909120" y="1110960"/>
                  <a:chExt cx="1432800" cy="1753920"/>
                </a:xfrm>
              </p:grpSpPr>
              <p:sp>
                <p:nvSpPr>
                  <p:cNvPr id="196" name="任意多边形 164"/>
                  <p:cNvSpPr/>
                  <p:nvPr/>
                </p:nvSpPr>
                <p:spPr>
                  <a:xfrm rot="21310800">
                    <a:off x="15976080" y="1162440"/>
                    <a:ext cx="1298880" cy="1650600"/>
                  </a:xfrm>
                  <a:custGeom>
                    <a:avLst/>
                    <a:gdLst>
                      <a:gd name="textAreaLeft" fmla="*/ 0 w 1298880"/>
                      <a:gd name="textAreaRight" fmla="*/ 1299240 w 1298880"/>
                      <a:gd name="textAreaTop" fmla="*/ 0 h 1650600"/>
                      <a:gd name="textAreaBottom" fmla="*/ 1650960 h 1650600"/>
                    </a:gdLst>
                    <a:ahLst/>
                    <a:rect l="textAreaLeft" t="textAreaTop" r="textAreaRight" b="textAreaBottom"/>
                    <a:pathLst>
                      <a:path w="2065867" h="4030133">
                        <a:moveTo>
                          <a:pt x="270933" y="677333"/>
                        </a:moveTo>
                        <a:cubicBezTo>
                          <a:pt x="259644" y="733778"/>
                          <a:pt x="257278" y="792770"/>
                          <a:pt x="237067" y="846667"/>
                        </a:cubicBezTo>
                        <a:cubicBezTo>
                          <a:pt x="222775" y="884778"/>
                          <a:pt x="187536" y="911861"/>
                          <a:pt x="169333" y="948267"/>
                        </a:cubicBezTo>
                        <a:cubicBezTo>
                          <a:pt x="153368" y="980197"/>
                          <a:pt x="146756" y="1016000"/>
                          <a:pt x="135467" y="1049867"/>
                        </a:cubicBezTo>
                        <a:cubicBezTo>
                          <a:pt x="124178" y="1128889"/>
                          <a:pt x="124537" y="1210475"/>
                          <a:pt x="101600" y="1286933"/>
                        </a:cubicBezTo>
                        <a:cubicBezTo>
                          <a:pt x="89904" y="1325919"/>
                          <a:pt x="52070" y="1352127"/>
                          <a:pt x="33867" y="1388533"/>
                        </a:cubicBezTo>
                        <a:cubicBezTo>
                          <a:pt x="17902" y="1420463"/>
                          <a:pt x="11289" y="1456266"/>
                          <a:pt x="0" y="1490133"/>
                        </a:cubicBezTo>
                        <a:cubicBezTo>
                          <a:pt x="11289" y="1648178"/>
                          <a:pt x="6331" y="1808231"/>
                          <a:pt x="33867" y="1964267"/>
                        </a:cubicBezTo>
                        <a:cubicBezTo>
                          <a:pt x="40941" y="2004350"/>
                          <a:pt x="77942" y="2032746"/>
                          <a:pt x="101600" y="2065867"/>
                        </a:cubicBezTo>
                        <a:cubicBezTo>
                          <a:pt x="134408" y="2111798"/>
                          <a:pt x="167065" y="2157971"/>
                          <a:pt x="203200" y="2201333"/>
                        </a:cubicBezTo>
                        <a:cubicBezTo>
                          <a:pt x="223641" y="2225862"/>
                          <a:pt x="253221" y="2242500"/>
                          <a:pt x="270933" y="2269067"/>
                        </a:cubicBezTo>
                        <a:cubicBezTo>
                          <a:pt x="298937" y="2311073"/>
                          <a:pt x="313619" y="2360700"/>
                          <a:pt x="338667" y="2404533"/>
                        </a:cubicBezTo>
                        <a:cubicBezTo>
                          <a:pt x="443708" y="2588354"/>
                          <a:pt x="378175" y="2421458"/>
                          <a:pt x="440267" y="2607733"/>
                        </a:cubicBezTo>
                        <a:cubicBezTo>
                          <a:pt x="451556" y="2686755"/>
                          <a:pt x="448890" y="2769072"/>
                          <a:pt x="474133" y="2844800"/>
                        </a:cubicBezTo>
                        <a:cubicBezTo>
                          <a:pt x="484230" y="2875091"/>
                          <a:pt x="525439" y="2885153"/>
                          <a:pt x="541867" y="2912533"/>
                        </a:cubicBezTo>
                        <a:cubicBezTo>
                          <a:pt x="692110" y="3162937"/>
                          <a:pt x="437916" y="2858793"/>
                          <a:pt x="643467" y="3115733"/>
                        </a:cubicBezTo>
                        <a:cubicBezTo>
                          <a:pt x="663413" y="3140666"/>
                          <a:pt x="691254" y="3158534"/>
                          <a:pt x="711200" y="3183467"/>
                        </a:cubicBezTo>
                        <a:cubicBezTo>
                          <a:pt x="736627" y="3215251"/>
                          <a:pt x="752130" y="3254435"/>
                          <a:pt x="778933" y="3285067"/>
                        </a:cubicBezTo>
                        <a:cubicBezTo>
                          <a:pt x="831498" y="3345141"/>
                          <a:pt x="900372" y="3390540"/>
                          <a:pt x="948267" y="3454400"/>
                        </a:cubicBezTo>
                        <a:cubicBezTo>
                          <a:pt x="982134" y="3499556"/>
                          <a:pt x="1019951" y="3542002"/>
                          <a:pt x="1049867" y="3589867"/>
                        </a:cubicBezTo>
                        <a:cubicBezTo>
                          <a:pt x="1076624" y="3632678"/>
                          <a:pt x="1089596" y="3683327"/>
                          <a:pt x="1117600" y="3725333"/>
                        </a:cubicBezTo>
                        <a:cubicBezTo>
                          <a:pt x="1164328" y="3795425"/>
                          <a:pt x="1222230" y="3809038"/>
                          <a:pt x="1286933" y="3860800"/>
                        </a:cubicBezTo>
                        <a:cubicBezTo>
                          <a:pt x="1311866" y="3880746"/>
                          <a:pt x="1328100" y="3910821"/>
                          <a:pt x="1354667" y="3928533"/>
                        </a:cubicBezTo>
                        <a:cubicBezTo>
                          <a:pt x="1438370" y="3984335"/>
                          <a:pt x="1501418" y="4000029"/>
                          <a:pt x="1591733" y="4030133"/>
                        </a:cubicBezTo>
                        <a:cubicBezTo>
                          <a:pt x="1670755" y="4018844"/>
                          <a:pt x="1753072" y="4021510"/>
                          <a:pt x="1828800" y="3996267"/>
                        </a:cubicBezTo>
                        <a:cubicBezTo>
                          <a:pt x="1947678" y="3956641"/>
                          <a:pt x="1962781" y="3628192"/>
                          <a:pt x="1964267" y="3623733"/>
                        </a:cubicBezTo>
                        <a:cubicBezTo>
                          <a:pt x="1977138" y="3585119"/>
                          <a:pt x="2013797" y="3558539"/>
                          <a:pt x="2032000" y="3522133"/>
                        </a:cubicBezTo>
                        <a:cubicBezTo>
                          <a:pt x="2047965" y="3490203"/>
                          <a:pt x="2054578" y="3454400"/>
                          <a:pt x="2065867" y="3420533"/>
                        </a:cubicBezTo>
                        <a:cubicBezTo>
                          <a:pt x="2054578" y="3318933"/>
                          <a:pt x="2052048" y="3215973"/>
                          <a:pt x="2032000" y="3115733"/>
                        </a:cubicBezTo>
                        <a:cubicBezTo>
                          <a:pt x="2017998" y="3045722"/>
                          <a:pt x="1964267" y="2912533"/>
                          <a:pt x="1964267" y="2912533"/>
                        </a:cubicBezTo>
                        <a:cubicBezTo>
                          <a:pt x="2045473" y="2668911"/>
                          <a:pt x="1946942" y="2973167"/>
                          <a:pt x="2032000" y="2675467"/>
                        </a:cubicBezTo>
                        <a:cubicBezTo>
                          <a:pt x="2041807" y="2641142"/>
                          <a:pt x="2054578" y="2607734"/>
                          <a:pt x="2065867" y="2573867"/>
                        </a:cubicBezTo>
                        <a:cubicBezTo>
                          <a:pt x="1988036" y="2340376"/>
                          <a:pt x="2048618" y="2421153"/>
                          <a:pt x="1930400" y="2302933"/>
                        </a:cubicBezTo>
                        <a:cubicBezTo>
                          <a:pt x="1919111" y="2257778"/>
                          <a:pt x="1909320" y="2212221"/>
                          <a:pt x="1896533" y="2167467"/>
                        </a:cubicBezTo>
                        <a:cubicBezTo>
                          <a:pt x="1886726" y="2133142"/>
                          <a:pt x="1868536" y="2101080"/>
                          <a:pt x="1862667" y="2065867"/>
                        </a:cubicBezTo>
                        <a:cubicBezTo>
                          <a:pt x="1846052" y="1966175"/>
                          <a:pt x="1835554" y="1713597"/>
                          <a:pt x="1794933" y="1591733"/>
                        </a:cubicBezTo>
                        <a:cubicBezTo>
                          <a:pt x="1778968" y="1543839"/>
                          <a:pt x="1753174" y="1499558"/>
                          <a:pt x="1727200" y="1456267"/>
                        </a:cubicBezTo>
                        <a:cubicBezTo>
                          <a:pt x="1685317" y="1386462"/>
                          <a:pt x="1591733" y="1253067"/>
                          <a:pt x="1591733" y="1253067"/>
                        </a:cubicBezTo>
                        <a:cubicBezTo>
                          <a:pt x="1555962" y="1145753"/>
                          <a:pt x="1565165" y="1143657"/>
                          <a:pt x="1490133" y="1049867"/>
                        </a:cubicBezTo>
                        <a:cubicBezTo>
                          <a:pt x="1470187" y="1024934"/>
                          <a:pt x="1442346" y="1007066"/>
                          <a:pt x="1422400" y="982133"/>
                        </a:cubicBezTo>
                        <a:cubicBezTo>
                          <a:pt x="1396973" y="950349"/>
                          <a:pt x="1380094" y="912316"/>
                          <a:pt x="1354667" y="880533"/>
                        </a:cubicBezTo>
                        <a:cubicBezTo>
                          <a:pt x="1334721" y="855600"/>
                          <a:pt x="1306879" y="837733"/>
                          <a:pt x="1286933" y="812800"/>
                        </a:cubicBezTo>
                        <a:cubicBezTo>
                          <a:pt x="1261506" y="781017"/>
                          <a:pt x="1246241" y="741622"/>
                          <a:pt x="1219200" y="711200"/>
                        </a:cubicBezTo>
                        <a:cubicBezTo>
                          <a:pt x="1155561" y="639606"/>
                          <a:pt x="1095702" y="561134"/>
                          <a:pt x="1016000" y="508000"/>
                        </a:cubicBezTo>
                        <a:cubicBezTo>
                          <a:pt x="887833" y="422556"/>
                          <a:pt x="943181" y="469048"/>
                          <a:pt x="846667" y="372533"/>
                        </a:cubicBezTo>
                        <a:cubicBezTo>
                          <a:pt x="835378" y="338666"/>
                          <a:pt x="832602" y="300636"/>
                          <a:pt x="812800" y="270933"/>
                        </a:cubicBezTo>
                        <a:cubicBezTo>
                          <a:pt x="786233" y="231082"/>
                          <a:pt x="749006" y="198737"/>
                          <a:pt x="711200" y="169333"/>
                        </a:cubicBezTo>
                        <a:cubicBezTo>
                          <a:pt x="536524" y="33474"/>
                          <a:pt x="559693" y="51098"/>
                          <a:pt x="406400" y="0"/>
                        </a:cubicBezTo>
                        <a:cubicBezTo>
                          <a:pt x="361244" y="11289"/>
                          <a:pt x="313715" y="15532"/>
                          <a:pt x="270933" y="33867"/>
                        </a:cubicBezTo>
                        <a:cubicBezTo>
                          <a:pt x="53886" y="126887"/>
                          <a:pt x="173770" y="228415"/>
                          <a:pt x="203200" y="508000"/>
                        </a:cubicBezTo>
                        <a:cubicBezTo>
                          <a:pt x="230238" y="764856"/>
                          <a:pt x="168958" y="711013"/>
                          <a:pt x="304800" y="778933"/>
                        </a:cubicBez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" name="任意多边形 165"/>
                  <p:cNvSpPr/>
                  <p:nvPr/>
                </p:nvSpPr>
                <p:spPr>
                  <a:xfrm rot="21310800">
                    <a:off x="16201800" y="1247400"/>
                    <a:ext cx="649440" cy="757440"/>
                  </a:xfrm>
                  <a:custGeom>
                    <a:avLst/>
                    <a:gdLst>
                      <a:gd name="textAreaLeft" fmla="*/ 0 w 649440"/>
                      <a:gd name="textAreaRight" fmla="*/ 649800 w 649440"/>
                      <a:gd name="textAreaTop" fmla="*/ 0 h 757440"/>
                      <a:gd name="textAreaBottom" fmla="*/ 757800 h 757440"/>
                    </a:gdLst>
                    <a:ahLst/>
                    <a:rect l="textAreaLeft" t="textAreaTop" r="textAreaRight" b="textAreaBottom"/>
                    <a:pathLst>
                      <a:path w="2065867" h="4030133">
                        <a:moveTo>
                          <a:pt x="270933" y="677333"/>
                        </a:moveTo>
                        <a:cubicBezTo>
                          <a:pt x="259644" y="733778"/>
                          <a:pt x="257278" y="792770"/>
                          <a:pt x="237067" y="846667"/>
                        </a:cubicBezTo>
                        <a:cubicBezTo>
                          <a:pt x="222775" y="884778"/>
                          <a:pt x="187536" y="911861"/>
                          <a:pt x="169333" y="948267"/>
                        </a:cubicBezTo>
                        <a:cubicBezTo>
                          <a:pt x="153368" y="980197"/>
                          <a:pt x="146756" y="1016000"/>
                          <a:pt x="135467" y="1049867"/>
                        </a:cubicBezTo>
                        <a:cubicBezTo>
                          <a:pt x="124178" y="1128889"/>
                          <a:pt x="124537" y="1210475"/>
                          <a:pt x="101600" y="1286933"/>
                        </a:cubicBezTo>
                        <a:cubicBezTo>
                          <a:pt x="89904" y="1325919"/>
                          <a:pt x="52070" y="1352127"/>
                          <a:pt x="33867" y="1388533"/>
                        </a:cubicBezTo>
                        <a:cubicBezTo>
                          <a:pt x="17902" y="1420463"/>
                          <a:pt x="11289" y="1456266"/>
                          <a:pt x="0" y="1490133"/>
                        </a:cubicBezTo>
                        <a:cubicBezTo>
                          <a:pt x="11289" y="1648178"/>
                          <a:pt x="6331" y="1808231"/>
                          <a:pt x="33867" y="1964267"/>
                        </a:cubicBezTo>
                        <a:cubicBezTo>
                          <a:pt x="40941" y="2004350"/>
                          <a:pt x="77942" y="2032746"/>
                          <a:pt x="101600" y="2065867"/>
                        </a:cubicBezTo>
                        <a:cubicBezTo>
                          <a:pt x="134408" y="2111798"/>
                          <a:pt x="167065" y="2157971"/>
                          <a:pt x="203200" y="2201333"/>
                        </a:cubicBezTo>
                        <a:cubicBezTo>
                          <a:pt x="223641" y="2225862"/>
                          <a:pt x="253221" y="2242500"/>
                          <a:pt x="270933" y="2269067"/>
                        </a:cubicBezTo>
                        <a:cubicBezTo>
                          <a:pt x="298937" y="2311073"/>
                          <a:pt x="313619" y="2360700"/>
                          <a:pt x="338667" y="2404533"/>
                        </a:cubicBezTo>
                        <a:cubicBezTo>
                          <a:pt x="443708" y="2588354"/>
                          <a:pt x="378175" y="2421458"/>
                          <a:pt x="440267" y="2607733"/>
                        </a:cubicBezTo>
                        <a:cubicBezTo>
                          <a:pt x="451556" y="2686755"/>
                          <a:pt x="448890" y="2769072"/>
                          <a:pt x="474133" y="2844800"/>
                        </a:cubicBezTo>
                        <a:cubicBezTo>
                          <a:pt x="484230" y="2875091"/>
                          <a:pt x="525439" y="2885153"/>
                          <a:pt x="541867" y="2912533"/>
                        </a:cubicBezTo>
                        <a:cubicBezTo>
                          <a:pt x="692110" y="3162937"/>
                          <a:pt x="437916" y="2858793"/>
                          <a:pt x="643467" y="3115733"/>
                        </a:cubicBezTo>
                        <a:cubicBezTo>
                          <a:pt x="663413" y="3140666"/>
                          <a:pt x="691254" y="3158534"/>
                          <a:pt x="711200" y="3183467"/>
                        </a:cubicBezTo>
                        <a:cubicBezTo>
                          <a:pt x="736627" y="3215251"/>
                          <a:pt x="752130" y="3254435"/>
                          <a:pt x="778933" y="3285067"/>
                        </a:cubicBezTo>
                        <a:cubicBezTo>
                          <a:pt x="831498" y="3345141"/>
                          <a:pt x="900372" y="3390540"/>
                          <a:pt x="948267" y="3454400"/>
                        </a:cubicBezTo>
                        <a:cubicBezTo>
                          <a:pt x="982134" y="3499556"/>
                          <a:pt x="1019951" y="3542002"/>
                          <a:pt x="1049867" y="3589867"/>
                        </a:cubicBezTo>
                        <a:cubicBezTo>
                          <a:pt x="1076624" y="3632678"/>
                          <a:pt x="1089596" y="3683327"/>
                          <a:pt x="1117600" y="3725333"/>
                        </a:cubicBezTo>
                        <a:cubicBezTo>
                          <a:pt x="1164328" y="3795425"/>
                          <a:pt x="1222230" y="3809038"/>
                          <a:pt x="1286933" y="3860800"/>
                        </a:cubicBezTo>
                        <a:cubicBezTo>
                          <a:pt x="1311866" y="3880746"/>
                          <a:pt x="1328100" y="3910821"/>
                          <a:pt x="1354667" y="3928533"/>
                        </a:cubicBezTo>
                        <a:cubicBezTo>
                          <a:pt x="1438370" y="3984335"/>
                          <a:pt x="1501418" y="4000029"/>
                          <a:pt x="1591733" y="4030133"/>
                        </a:cubicBezTo>
                        <a:cubicBezTo>
                          <a:pt x="1670755" y="4018844"/>
                          <a:pt x="1753072" y="4021510"/>
                          <a:pt x="1828800" y="3996267"/>
                        </a:cubicBezTo>
                        <a:cubicBezTo>
                          <a:pt x="1947678" y="3956641"/>
                          <a:pt x="1962781" y="3628192"/>
                          <a:pt x="1964267" y="3623733"/>
                        </a:cubicBezTo>
                        <a:cubicBezTo>
                          <a:pt x="1977138" y="3585119"/>
                          <a:pt x="2013797" y="3558539"/>
                          <a:pt x="2032000" y="3522133"/>
                        </a:cubicBezTo>
                        <a:cubicBezTo>
                          <a:pt x="2047965" y="3490203"/>
                          <a:pt x="2054578" y="3454400"/>
                          <a:pt x="2065867" y="3420533"/>
                        </a:cubicBezTo>
                        <a:cubicBezTo>
                          <a:pt x="2054578" y="3318933"/>
                          <a:pt x="2052048" y="3215973"/>
                          <a:pt x="2032000" y="3115733"/>
                        </a:cubicBezTo>
                        <a:cubicBezTo>
                          <a:pt x="2017998" y="3045722"/>
                          <a:pt x="1964267" y="2912533"/>
                          <a:pt x="1964267" y="2912533"/>
                        </a:cubicBezTo>
                        <a:cubicBezTo>
                          <a:pt x="2045473" y="2668911"/>
                          <a:pt x="1946942" y="2973167"/>
                          <a:pt x="2032000" y="2675467"/>
                        </a:cubicBezTo>
                        <a:cubicBezTo>
                          <a:pt x="2041807" y="2641142"/>
                          <a:pt x="2054578" y="2607734"/>
                          <a:pt x="2065867" y="2573867"/>
                        </a:cubicBezTo>
                        <a:cubicBezTo>
                          <a:pt x="1988036" y="2340376"/>
                          <a:pt x="2048618" y="2421153"/>
                          <a:pt x="1930400" y="2302933"/>
                        </a:cubicBezTo>
                        <a:cubicBezTo>
                          <a:pt x="1919111" y="2257778"/>
                          <a:pt x="1909320" y="2212221"/>
                          <a:pt x="1896533" y="2167467"/>
                        </a:cubicBezTo>
                        <a:cubicBezTo>
                          <a:pt x="1886726" y="2133142"/>
                          <a:pt x="1868536" y="2101080"/>
                          <a:pt x="1862667" y="2065867"/>
                        </a:cubicBezTo>
                        <a:cubicBezTo>
                          <a:pt x="1846052" y="1966175"/>
                          <a:pt x="1835554" y="1713597"/>
                          <a:pt x="1794933" y="1591733"/>
                        </a:cubicBezTo>
                        <a:cubicBezTo>
                          <a:pt x="1778968" y="1543839"/>
                          <a:pt x="1753174" y="1499558"/>
                          <a:pt x="1727200" y="1456267"/>
                        </a:cubicBezTo>
                        <a:cubicBezTo>
                          <a:pt x="1685317" y="1386462"/>
                          <a:pt x="1591733" y="1253067"/>
                          <a:pt x="1591733" y="1253067"/>
                        </a:cubicBezTo>
                        <a:cubicBezTo>
                          <a:pt x="1555962" y="1145753"/>
                          <a:pt x="1565165" y="1143657"/>
                          <a:pt x="1490133" y="1049867"/>
                        </a:cubicBezTo>
                        <a:cubicBezTo>
                          <a:pt x="1470187" y="1024934"/>
                          <a:pt x="1442346" y="1007066"/>
                          <a:pt x="1422400" y="982133"/>
                        </a:cubicBezTo>
                        <a:cubicBezTo>
                          <a:pt x="1396973" y="950349"/>
                          <a:pt x="1380094" y="912316"/>
                          <a:pt x="1354667" y="880533"/>
                        </a:cubicBezTo>
                        <a:cubicBezTo>
                          <a:pt x="1334721" y="855600"/>
                          <a:pt x="1306879" y="837733"/>
                          <a:pt x="1286933" y="812800"/>
                        </a:cubicBezTo>
                        <a:cubicBezTo>
                          <a:pt x="1261506" y="781017"/>
                          <a:pt x="1246241" y="741622"/>
                          <a:pt x="1219200" y="711200"/>
                        </a:cubicBezTo>
                        <a:cubicBezTo>
                          <a:pt x="1155561" y="639606"/>
                          <a:pt x="1095702" y="561134"/>
                          <a:pt x="1016000" y="508000"/>
                        </a:cubicBezTo>
                        <a:cubicBezTo>
                          <a:pt x="887833" y="422556"/>
                          <a:pt x="943181" y="469048"/>
                          <a:pt x="846667" y="372533"/>
                        </a:cubicBezTo>
                        <a:cubicBezTo>
                          <a:pt x="835378" y="338666"/>
                          <a:pt x="832602" y="300636"/>
                          <a:pt x="812800" y="270933"/>
                        </a:cubicBezTo>
                        <a:cubicBezTo>
                          <a:pt x="786233" y="231082"/>
                          <a:pt x="749006" y="198737"/>
                          <a:pt x="711200" y="169333"/>
                        </a:cubicBezTo>
                        <a:cubicBezTo>
                          <a:pt x="536524" y="33474"/>
                          <a:pt x="559693" y="51098"/>
                          <a:pt x="406400" y="0"/>
                        </a:cubicBezTo>
                        <a:cubicBezTo>
                          <a:pt x="361244" y="11289"/>
                          <a:pt x="313715" y="15532"/>
                          <a:pt x="270933" y="33867"/>
                        </a:cubicBezTo>
                        <a:cubicBezTo>
                          <a:pt x="53886" y="126887"/>
                          <a:pt x="173770" y="228415"/>
                          <a:pt x="203200" y="508000"/>
                        </a:cubicBezTo>
                        <a:cubicBezTo>
                          <a:pt x="230238" y="764856"/>
                          <a:pt x="168958" y="711013"/>
                          <a:pt x="304800" y="778933"/>
                        </a:cubicBezTo>
                      </a:path>
                    </a:pathLst>
                  </a:custGeom>
                  <a:solidFill>
                    <a:srgbClr val="f2f2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8" name="任意多边形 166"/>
                  <p:cNvSpPr/>
                  <p:nvPr/>
                </p:nvSpPr>
                <p:spPr>
                  <a:xfrm rot="21310800">
                    <a:off x="16807320" y="1760040"/>
                    <a:ext cx="302760" cy="636480"/>
                  </a:xfrm>
                  <a:custGeom>
                    <a:avLst/>
                    <a:gdLst>
                      <a:gd name="textAreaLeft" fmla="*/ 0 w 302760"/>
                      <a:gd name="textAreaRight" fmla="*/ 303120 w 302760"/>
                      <a:gd name="textAreaTop" fmla="*/ 0 h 636480"/>
                      <a:gd name="textAreaBottom" fmla="*/ 636840 h 636480"/>
                    </a:gdLst>
                    <a:ahLst/>
                    <a:rect l="textAreaLeft" t="textAreaTop" r="textAreaRight" b="textAreaBottom"/>
                    <a:pathLst>
                      <a:path w="2065867" h="4030133">
                        <a:moveTo>
                          <a:pt x="270933" y="677333"/>
                        </a:moveTo>
                        <a:cubicBezTo>
                          <a:pt x="259644" y="733778"/>
                          <a:pt x="257278" y="792770"/>
                          <a:pt x="237067" y="846667"/>
                        </a:cubicBezTo>
                        <a:cubicBezTo>
                          <a:pt x="222775" y="884778"/>
                          <a:pt x="187536" y="911861"/>
                          <a:pt x="169333" y="948267"/>
                        </a:cubicBezTo>
                        <a:cubicBezTo>
                          <a:pt x="153368" y="980197"/>
                          <a:pt x="146756" y="1016000"/>
                          <a:pt x="135467" y="1049867"/>
                        </a:cubicBezTo>
                        <a:cubicBezTo>
                          <a:pt x="124178" y="1128889"/>
                          <a:pt x="124537" y="1210475"/>
                          <a:pt x="101600" y="1286933"/>
                        </a:cubicBezTo>
                        <a:cubicBezTo>
                          <a:pt x="89904" y="1325919"/>
                          <a:pt x="52070" y="1352127"/>
                          <a:pt x="33867" y="1388533"/>
                        </a:cubicBezTo>
                        <a:cubicBezTo>
                          <a:pt x="17902" y="1420463"/>
                          <a:pt x="11289" y="1456266"/>
                          <a:pt x="0" y="1490133"/>
                        </a:cubicBezTo>
                        <a:cubicBezTo>
                          <a:pt x="11289" y="1648178"/>
                          <a:pt x="6331" y="1808231"/>
                          <a:pt x="33867" y="1964267"/>
                        </a:cubicBezTo>
                        <a:cubicBezTo>
                          <a:pt x="40941" y="2004350"/>
                          <a:pt x="77942" y="2032746"/>
                          <a:pt x="101600" y="2065867"/>
                        </a:cubicBezTo>
                        <a:cubicBezTo>
                          <a:pt x="134408" y="2111798"/>
                          <a:pt x="167065" y="2157971"/>
                          <a:pt x="203200" y="2201333"/>
                        </a:cubicBezTo>
                        <a:cubicBezTo>
                          <a:pt x="223641" y="2225862"/>
                          <a:pt x="253221" y="2242500"/>
                          <a:pt x="270933" y="2269067"/>
                        </a:cubicBezTo>
                        <a:cubicBezTo>
                          <a:pt x="298937" y="2311073"/>
                          <a:pt x="313619" y="2360700"/>
                          <a:pt x="338667" y="2404533"/>
                        </a:cubicBezTo>
                        <a:cubicBezTo>
                          <a:pt x="443708" y="2588354"/>
                          <a:pt x="378175" y="2421458"/>
                          <a:pt x="440267" y="2607733"/>
                        </a:cubicBezTo>
                        <a:cubicBezTo>
                          <a:pt x="451556" y="2686755"/>
                          <a:pt x="448890" y="2769072"/>
                          <a:pt x="474133" y="2844800"/>
                        </a:cubicBezTo>
                        <a:cubicBezTo>
                          <a:pt x="484230" y="2875091"/>
                          <a:pt x="525439" y="2885153"/>
                          <a:pt x="541867" y="2912533"/>
                        </a:cubicBezTo>
                        <a:cubicBezTo>
                          <a:pt x="692110" y="3162937"/>
                          <a:pt x="437916" y="2858793"/>
                          <a:pt x="643467" y="3115733"/>
                        </a:cubicBezTo>
                        <a:cubicBezTo>
                          <a:pt x="663413" y="3140666"/>
                          <a:pt x="691254" y="3158534"/>
                          <a:pt x="711200" y="3183467"/>
                        </a:cubicBezTo>
                        <a:cubicBezTo>
                          <a:pt x="736627" y="3215251"/>
                          <a:pt x="752130" y="3254435"/>
                          <a:pt x="778933" y="3285067"/>
                        </a:cubicBezTo>
                        <a:cubicBezTo>
                          <a:pt x="831498" y="3345141"/>
                          <a:pt x="900372" y="3390540"/>
                          <a:pt x="948267" y="3454400"/>
                        </a:cubicBezTo>
                        <a:cubicBezTo>
                          <a:pt x="982134" y="3499556"/>
                          <a:pt x="1019951" y="3542002"/>
                          <a:pt x="1049867" y="3589867"/>
                        </a:cubicBezTo>
                        <a:cubicBezTo>
                          <a:pt x="1076624" y="3632678"/>
                          <a:pt x="1089596" y="3683327"/>
                          <a:pt x="1117600" y="3725333"/>
                        </a:cubicBezTo>
                        <a:cubicBezTo>
                          <a:pt x="1164328" y="3795425"/>
                          <a:pt x="1222230" y="3809038"/>
                          <a:pt x="1286933" y="3860800"/>
                        </a:cubicBezTo>
                        <a:cubicBezTo>
                          <a:pt x="1311866" y="3880746"/>
                          <a:pt x="1328100" y="3910821"/>
                          <a:pt x="1354667" y="3928533"/>
                        </a:cubicBezTo>
                        <a:cubicBezTo>
                          <a:pt x="1438370" y="3984335"/>
                          <a:pt x="1501418" y="4000029"/>
                          <a:pt x="1591733" y="4030133"/>
                        </a:cubicBezTo>
                        <a:cubicBezTo>
                          <a:pt x="1670755" y="4018844"/>
                          <a:pt x="1753072" y="4021510"/>
                          <a:pt x="1828800" y="3996267"/>
                        </a:cubicBezTo>
                        <a:cubicBezTo>
                          <a:pt x="1947678" y="3956641"/>
                          <a:pt x="1962781" y="3628192"/>
                          <a:pt x="1964267" y="3623733"/>
                        </a:cubicBezTo>
                        <a:cubicBezTo>
                          <a:pt x="1977138" y="3585119"/>
                          <a:pt x="2013797" y="3558539"/>
                          <a:pt x="2032000" y="3522133"/>
                        </a:cubicBezTo>
                        <a:cubicBezTo>
                          <a:pt x="2047965" y="3490203"/>
                          <a:pt x="2054578" y="3454400"/>
                          <a:pt x="2065867" y="3420533"/>
                        </a:cubicBezTo>
                        <a:cubicBezTo>
                          <a:pt x="2054578" y="3318933"/>
                          <a:pt x="2052048" y="3215973"/>
                          <a:pt x="2032000" y="3115733"/>
                        </a:cubicBezTo>
                        <a:cubicBezTo>
                          <a:pt x="2017998" y="3045722"/>
                          <a:pt x="1964267" y="2912533"/>
                          <a:pt x="1964267" y="2912533"/>
                        </a:cubicBezTo>
                        <a:cubicBezTo>
                          <a:pt x="2045473" y="2668911"/>
                          <a:pt x="1946942" y="2973167"/>
                          <a:pt x="2032000" y="2675467"/>
                        </a:cubicBezTo>
                        <a:cubicBezTo>
                          <a:pt x="2041807" y="2641142"/>
                          <a:pt x="2054578" y="2607734"/>
                          <a:pt x="2065867" y="2573867"/>
                        </a:cubicBezTo>
                        <a:cubicBezTo>
                          <a:pt x="1988036" y="2340376"/>
                          <a:pt x="2048618" y="2421153"/>
                          <a:pt x="1930400" y="2302933"/>
                        </a:cubicBezTo>
                        <a:cubicBezTo>
                          <a:pt x="1919111" y="2257778"/>
                          <a:pt x="1909320" y="2212221"/>
                          <a:pt x="1896533" y="2167467"/>
                        </a:cubicBezTo>
                        <a:cubicBezTo>
                          <a:pt x="1886726" y="2133142"/>
                          <a:pt x="1868536" y="2101080"/>
                          <a:pt x="1862667" y="2065867"/>
                        </a:cubicBezTo>
                        <a:cubicBezTo>
                          <a:pt x="1846052" y="1966175"/>
                          <a:pt x="1835554" y="1713597"/>
                          <a:pt x="1794933" y="1591733"/>
                        </a:cubicBezTo>
                        <a:cubicBezTo>
                          <a:pt x="1778968" y="1543839"/>
                          <a:pt x="1753174" y="1499558"/>
                          <a:pt x="1727200" y="1456267"/>
                        </a:cubicBezTo>
                        <a:cubicBezTo>
                          <a:pt x="1685317" y="1386462"/>
                          <a:pt x="1591733" y="1253067"/>
                          <a:pt x="1591733" y="1253067"/>
                        </a:cubicBezTo>
                        <a:cubicBezTo>
                          <a:pt x="1555962" y="1145753"/>
                          <a:pt x="1565165" y="1143657"/>
                          <a:pt x="1490133" y="1049867"/>
                        </a:cubicBezTo>
                        <a:cubicBezTo>
                          <a:pt x="1470187" y="1024934"/>
                          <a:pt x="1442346" y="1007066"/>
                          <a:pt x="1422400" y="982133"/>
                        </a:cubicBezTo>
                        <a:cubicBezTo>
                          <a:pt x="1396973" y="950349"/>
                          <a:pt x="1380094" y="912316"/>
                          <a:pt x="1354667" y="880533"/>
                        </a:cubicBezTo>
                        <a:cubicBezTo>
                          <a:pt x="1334721" y="855600"/>
                          <a:pt x="1306879" y="837733"/>
                          <a:pt x="1286933" y="812800"/>
                        </a:cubicBezTo>
                        <a:cubicBezTo>
                          <a:pt x="1261506" y="781017"/>
                          <a:pt x="1246241" y="741622"/>
                          <a:pt x="1219200" y="711200"/>
                        </a:cubicBezTo>
                        <a:cubicBezTo>
                          <a:pt x="1155561" y="639606"/>
                          <a:pt x="1095702" y="561134"/>
                          <a:pt x="1016000" y="508000"/>
                        </a:cubicBezTo>
                        <a:cubicBezTo>
                          <a:pt x="887833" y="422556"/>
                          <a:pt x="943181" y="469048"/>
                          <a:pt x="846667" y="372533"/>
                        </a:cubicBezTo>
                        <a:cubicBezTo>
                          <a:pt x="835378" y="338666"/>
                          <a:pt x="832602" y="300636"/>
                          <a:pt x="812800" y="270933"/>
                        </a:cubicBezTo>
                        <a:cubicBezTo>
                          <a:pt x="786233" y="231082"/>
                          <a:pt x="749006" y="198737"/>
                          <a:pt x="711200" y="169333"/>
                        </a:cubicBezTo>
                        <a:cubicBezTo>
                          <a:pt x="536524" y="33474"/>
                          <a:pt x="559693" y="51098"/>
                          <a:pt x="406400" y="0"/>
                        </a:cubicBezTo>
                        <a:cubicBezTo>
                          <a:pt x="361244" y="11289"/>
                          <a:pt x="313715" y="15532"/>
                          <a:pt x="270933" y="33867"/>
                        </a:cubicBezTo>
                        <a:cubicBezTo>
                          <a:pt x="53886" y="126887"/>
                          <a:pt x="173770" y="228415"/>
                          <a:pt x="203200" y="508000"/>
                        </a:cubicBezTo>
                        <a:cubicBezTo>
                          <a:pt x="230238" y="764856"/>
                          <a:pt x="168958" y="711013"/>
                          <a:pt x="304800" y="778933"/>
                        </a:cubicBezTo>
                      </a:path>
                    </a:pathLst>
                  </a:custGeom>
                  <a:solidFill>
                    <a:srgbClr val="f2f2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9" name=""/>
                <p:cNvGrpSpPr/>
                <p:nvPr/>
              </p:nvGrpSpPr>
              <p:grpSpPr>
                <a:xfrm>
                  <a:off x="15548760" y="272880"/>
                  <a:ext cx="288000" cy="372600"/>
                  <a:chOff x="15548760" y="272880"/>
                  <a:chExt cx="288000" cy="372600"/>
                </a:xfrm>
              </p:grpSpPr>
              <p:sp>
                <p:nvSpPr>
                  <p:cNvPr id="200" name="任意多边形 161"/>
                  <p:cNvSpPr/>
                  <p:nvPr/>
                </p:nvSpPr>
                <p:spPr>
                  <a:xfrm rot="21310800">
                    <a:off x="15562800" y="282960"/>
                    <a:ext cx="259200" cy="352080"/>
                  </a:xfrm>
                  <a:custGeom>
                    <a:avLst/>
                    <a:gdLst>
                      <a:gd name="textAreaLeft" fmla="*/ 0 w 259200"/>
                      <a:gd name="textAreaRight" fmla="*/ 259560 w 259200"/>
                      <a:gd name="textAreaTop" fmla="*/ 0 h 352080"/>
                      <a:gd name="textAreaBottom" fmla="*/ 352440 h 352080"/>
                    </a:gdLst>
                    <a:ahLst/>
                    <a:rect l="textAreaLeft" t="textAreaTop" r="textAreaRight" b="textAreaBottom"/>
                    <a:pathLst>
                      <a:path w="2065867" h="4030133">
                        <a:moveTo>
                          <a:pt x="270933" y="677333"/>
                        </a:moveTo>
                        <a:cubicBezTo>
                          <a:pt x="259644" y="733778"/>
                          <a:pt x="257278" y="792770"/>
                          <a:pt x="237067" y="846667"/>
                        </a:cubicBezTo>
                        <a:cubicBezTo>
                          <a:pt x="222775" y="884778"/>
                          <a:pt x="187536" y="911861"/>
                          <a:pt x="169333" y="948267"/>
                        </a:cubicBezTo>
                        <a:cubicBezTo>
                          <a:pt x="153368" y="980197"/>
                          <a:pt x="146756" y="1016000"/>
                          <a:pt x="135467" y="1049867"/>
                        </a:cubicBezTo>
                        <a:cubicBezTo>
                          <a:pt x="124178" y="1128889"/>
                          <a:pt x="124537" y="1210475"/>
                          <a:pt x="101600" y="1286933"/>
                        </a:cubicBezTo>
                        <a:cubicBezTo>
                          <a:pt x="89904" y="1325919"/>
                          <a:pt x="52070" y="1352127"/>
                          <a:pt x="33867" y="1388533"/>
                        </a:cubicBezTo>
                        <a:cubicBezTo>
                          <a:pt x="17902" y="1420463"/>
                          <a:pt x="11289" y="1456266"/>
                          <a:pt x="0" y="1490133"/>
                        </a:cubicBezTo>
                        <a:cubicBezTo>
                          <a:pt x="11289" y="1648178"/>
                          <a:pt x="6331" y="1808231"/>
                          <a:pt x="33867" y="1964267"/>
                        </a:cubicBezTo>
                        <a:cubicBezTo>
                          <a:pt x="40941" y="2004350"/>
                          <a:pt x="77942" y="2032746"/>
                          <a:pt x="101600" y="2065867"/>
                        </a:cubicBezTo>
                        <a:cubicBezTo>
                          <a:pt x="134408" y="2111798"/>
                          <a:pt x="167065" y="2157971"/>
                          <a:pt x="203200" y="2201333"/>
                        </a:cubicBezTo>
                        <a:cubicBezTo>
                          <a:pt x="223641" y="2225862"/>
                          <a:pt x="253221" y="2242500"/>
                          <a:pt x="270933" y="2269067"/>
                        </a:cubicBezTo>
                        <a:cubicBezTo>
                          <a:pt x="298937" y="2311073"/>
                          <a:pt x="313619" y="2360700"/>
                          <a:pt x="338667" y="2404533"/>
                        </a:cubicBezTo>
                        <a:cubicBezTo>
                          <a:pt x="443708" y="2588354"/>
                          <a:pt x="378175" y="2421458"/>
                          <a:pt x="440267" y="2607733"/>
                        </a:cubicBezTo>
                        <a:cubicBezTo>
                          <a:pt x="451556" y="2686755"/>
                          <a:pt x="448890" y="2769072"/>
                          <a:pt x="474133" y="2844800"/>
                        </a:cubicBezTo>
                        <a:cubicBezTo>
                          <a:pt x="484230" y="2875091"/>
                          <a:pt x="525439" y="2885153"/>
                          <a:pt x="541867" y="2912533"/>
                        </a:cubicBezTo>
                        <a:cubicBezTo>
                          <a:pt x="692110" y="3162937"/>
                          <a:pt x="437916" y="2858793"/>
                          <a:pt x="643467" y="3115733"/>
                        </a:cubicBezTo>
                        <a:cubicBezTo>
                          <a:pt x="663413" y="3140666"/>
                          <a:pt x="691254" y="3158534"/>
                          <a:pt x="711200" y="3183467"/>
                        </a:cubicBezTo>
                        <a:cubicBezTo>
                          <a:pt x="736627" y="3215251"/>
                          <a:pt x="752130" y="3254435"/>
                          <a:pt x="778933" y="3285067"/>
                        </a:cubicBezTo>
                        <a:cubicBezTo>
                          <a:pt x="831498" y="3345141"/>
                          <a:pt x="900372" y="3390540"/>
                          <a:pt x="948267" y="3454400"/>
                        </a:cubicBezTo>
                        <a:cubicBezTo>
                          <a:pt x="982134" y="3499556"/>
                          <a:pt x="1019951" y="3542002"/>
                          <a:pt x="1049867" y="3589867"/>
                        </a:cubicBezTo>
                        <a:cubicBezTo>
                          <a:pt x="1076624" y="3632678"/>
                          <a:pt x="1089596" y="3683327"/>
                          <a:pt x="1117600" y="3725333"/>
                        </a:cubicBezTo>
                        <a:cubicBezTo>
                          <a:pt x="1164328" y="3795425"/>
                          <a:pt x="1222230" y="3809038"/>
                          <a:pt x="1286933" y="3860800"/>
                        </a:cubicBezTo>
                        <a:cubicBezTo>
                          <a:pt x="1311866" y="3880746"/>
                          <a:pt x="1328100" y="3910821"/>
                          <a:pt x="1354667" y="3928533"/>
                        </a:cubicBezTo>
                        <a:cubicBezTo>
                          <a:pt x="1438370" y="3984335"/>
                          <a:pt x="1501418" y="4000029"/>
                          <a:pt x="1591733" y="4030133"/>
                        </a:cubicBezTo>
                        <a:cubicBezTo>
                          <a:pt x="1670755" y="4018844"/>
                          <a:pt x="1753072" y="4021510"/>
                          <a:pt x="1828800" y="3996267"/>
                        </a:cubicBezTo>
                        <a:cubicBezTo>
                          <a:pt x="1947678" y="3956641"/>
                          <a:pt x="1962781" y="3628192"/>
                          <a:pt x="1964267" y="3623733"/>
                        </a:cubicBezTo>
                        <a:cubicBezTo>
                          <a:pt x="1977138" y="3585119"/>
                          <a:pt x="2013797" y="3558539"/>
                          <a:pt x="2032000" y="3522133"/>
                        </a:cubicBezTo>
                        <a:cubicBezTo>
                          <a:pt x="2047965" y="3490203"/>
                          <a:pt x="2054578" y="3454400"/>
                          <a:pt x="2065867" y="3420533"/>
                        </a:cubicBezTo>
                        <a:cubicBezTo>
                          <a:pt x="2054578" y="3318933"/>
                          <a:pt x="2052048" y="3215973"/>
                          <a:pt x="2032000" y="3115733"/>
                        </a:cubicBezTo>
                        <a:cubicBezTo>
                          <a:pt x="2017998" y="3045722"/>
                          <a:pt x="1964267" y="2912533"/>
                          <a:pt x="1964267" y="2912533"/>
                        </a:cubicBezTo>
                        <a:cubicBezTo>
                          <a:pt x="2045473" y="2668911"/>
                          <a:pt x="1946942" y="2973167"/>
                          <a:pt x="2032000" y="2675467"/>
                        </a:cubicBezTo>
                        <a:cubicBezTo>
                          <a:pt x="2041807" y="2641142"/>
                          <a:pt x="2054578" y="2607734"/>
                          <a:pt x="2065867" y="2573867"/>
                        </a:cubicBezTo>
                        <a:cubicBezTo>
                          <a:pt x="1988036" y="2340376"/>
                          <a:pt x="2048618" y="2421153"/>
                          <a:pt x="1930400" y="2302933"/>
                        </a:cubicBezTo>
                        <a:cubicBezTo>
                          <a:pt x="1919111" y="2257778"/>
                          <a:pt x="1909320" y="2212221"/>
                          <a:pt x="1896533" y="2167467"/>
                        </a:cubicBezTo>
                        <a:cubicBezTo>
                          <a:pt x="1886726" y="2133142"/>
                          <a:pt x="1868536" y="2101080"/>
                          <a:pt x="1862667" y="2065867"/>
                        </a:cubicBezTo>
                        <a:cubicBezTo>
                          <a:pt x="1846052" y="1966175"/>
                          <a:pt x="1835554" y="1713597"/>
                          <a:pt x="1794933" y="1591733"/>
                        </a:cubicBezTo>
                        <a:cubicBezTo>
                          <a:pt x="1778968" y="1543839"/>
                          <a:pt x="1753174" y="1499558"/>
                          <a:pt x="1727200" y="1456267"/>
                        </a:cubicBezTo>
                        <a:cubicBezTo>
                          <a:pt x="1685317" y="1386462"/>
                          <a:pt x="1591733" y="1253067"/>
                          <a:pt x="1591733" y="1253067"/>
                        </a:cubicBezTo>
                        <a:cubicBezTo>
                          <a:pt x="1555962" y="1145753"/>
                          <a:pt x="1565165" y="1143657"/>
                          <a:pt x="1490133" y="1049867"/>
                        </a:cubicBezTo>
                        <a:cubicBezTo>
                          <a:pt x="1470187" y="1024934"/>
                          <a:pt x="1442346" y="1007066"/>
                          <a:pt x="1422400" y="982133"/>
                        </a:cubicBezTo>
                        <a:cubicBezTo>
                          <a:pt x="1396973" y="950349"/>
                          <a:pt x="1380094" y="912316"/>
                          <a:pt x="1354667" y="880533"/>
                        </a:cubicBezTo>
                        <a:cubicBezTo>
                          <a:pt x="1334721" y="855600"/>
                          <a:pt x="1306879" y="837733"/>
                          <a:pt x="1286933" y="812800"/>
                        </a:cubicBezTo>
                        <a:cubicBezTo>
                          <a:pt x="1261506" y="781017"/>
                          <a:pt x="1246241" y="741622"/>
                          <a:pt x="1219200" y="711200"/>
                        </a:cubicBezTo>
                        <a:cubicBezTo>
                          <a:pt x="1155561" y="639606"/>
                          <a:pt x="1095702" y="561134"/>
                          <a:pt x="1016000" y="508000"/>
                        </a:cubicBezTo>
                        <a:cubicBezTo>
                          <a:pt x="887833" y="422556"/>
                          <a:pt x="943181" y="469048"/>
                          <a:pt x="846667" y="372533"/>
                        </a:cubicBezTo>
                        <a:cubicBezTo>
                          <a:pt x="835378" y="338666"/>
                          <a:pt x="832602" y="300636"/>
                          <a:pt x="812800" y="270933"/>
                        </a:cubicBezTo>
                        <a:cubicBezTo>
                          <a:pt x="786233" y="231082"/>
                          <a:pt x="749006" y="198737"/>
                          <a:pt x="711200" y="169333"/>
                        </a:cubicBezTo>
                        <a:cubicBezTo>
                          <a:pt x="536524" y="33474"/>
                          <a:pt x="559693" y="51098"/>
                          <a:pt x="406400" y="0"/>
                        </a:cubicBezTo>
                        <a:cubicBezTo>
                          <a:pt x="361244" y="11289"/>
                          <a:pt x="313715" y="15532"/>
                          <a:pt x="270933" y="33867"/>
                        </a:cubicBezTo>
                        <a:cubicBezTo>
                          <a:pt x="53886" y="126887"/>
                          <a:pt x="173770" y="228415"/>
                          <a:pt x="203200" y="508000"/>
                        </a:cubicBezTo>
                        <a:cubicBezTo>
                          <a:pt x="230238" y="764856"/>
                          <a:pt x="168958" y="711013"/>
                          <a:pt x="304800" y="778933"/>
                        </a:cubicBez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1" name="任意多边形 162"/>
                  <p:cNvSpPr/>
                  <p:nvPr/>
                </p:nvSpPr>
                <p:spPr>
                  <a:xfrm rot="21310800">
                    <a:off x="15607800" y="300960"/>
                    <a:ext cx="129600" cy="161640"/>
                  </a:xfrm>
                  <a:custGeom>
                    <a:avLst/>
                    <a:gdLst>
                      <a:gd name="textAreaLeft" fmla="*/ 0 w 129600"/>
                      <a:gd name="textAreaRight" fmla="*/ 129960 w 129600"/>
                      <a:gd name="textAreaTop" fmla="*/ 0 h 161640"/>
                      <a:gd name="textAreaBottom" fmla="*/ 162000 h 161640"/>
                    </a:gdLst>
                    <a:ahLst/>
                    <a:rect l="textAreaLeft" t="textAreaTop" r="textAreaRight" b="textAreaBottom"/>
                    <a:pathLst>
                      <a:path w="2065867" h="4030133">
                        <a:moveTo>
                          <a:pt x="270933" y="677333"/>
                        </a:moveTo>
                        <a:cubicBezTo>
                          <a:pt x="259644" y="733778"/>
                          <a:pt x="257278" y="792770"/>
                          <a:pt x="237067" y="846667"/>
                        </a:cubicBezTo>
                        <a:cubicBezTo>
                          <a:pt x="222775" y="884778"/>
                          <a:pt x="187536" y="911861"/>
                          <a:pt x="169333" y="948267"/>
                        </a:cubicBezTo>
                        <a:cubicBezTo>
                          <a:pt x="153368" y="980197"/>
                          <a:pt x="146756" y="1016000"/>
                          <a:pt x="135467" y="1049867"/>
                        </a:cubicBezTo>
                        <a:cubicBezTo>
                          <a:pt x="124178" y="1128889"/>
                          <a:pt x="124537" y="1210475"/>
                          <a:pt x="101600" y="1286933"/>
                        </a:cubicBezTo>
                        <a:cubicBezTo>
                          <a:pt x="89904" y="1325919"/>
                          <a:pt x="52070" y="1352127"/>
                          <a:pt x="33867" y="1388533"/>
                        </a:cubicBezTo>
                        <a:cubicBezTo>
                          <a:pt x="17902" y="1420463"/>
                          <a:pt x="11289" y="1456266"/>
                          <a:pt x="0" y="1490133"/>
                        </a:cubicBezTo>
                        <a:cubicBezTo>
                          <a:pt x="11289" y="1648178"/>
                          <a:pt x="6331" y="1808231"/>
                          <a:pt x="33867" y="1964267"/>
                        </a:cubicBezTo>
                        <a:cubicBezTo>
                          <a:pt x="40941" y="2004350"/>
                          <a:pt x="77942" y="2032746"/>
                          <a:pt x="101600" y="2065867"/>
                        </a:cubicBezTo>
                        <a:cubicBezTo>
                          <a:pt x="134408" y="2111798"/>
                          <a:pt x="167065" y="2157971"/>
                          <a:pt x="203200" y="2201333"/>
                        </a:cubicBezTo>
                        <a:cubicBezTo>
                          <a:pt x="223641" y="2225862"/>
                          <a:pt x="253221" y="2242500"/>
                          <a:pt x="270933" y="2269067"/>
                        </a:cubicBezTo>
                        <a:cubicBezTo>
                          <a:pt x="298937" y="2311073"/>
                          <a:pt x="313619" y="2360700"/>
                          <a:pt x="338667" y="2404533"/>
                        </a:cubicBezTo>
                        <a:cubicBezTo>
                          <a:pt x="443708" y="2588354"/>
                          <a:pt x="378175" y="2421458"/>
                          <a:pt x="440267" y="2607733"/>
                        </a:cubicBezTo>
                        <a:cubicBezTo>
                          <a:pt x="451556" y="2686755"/>
                          <a:pt x="448890" y="2769072"/>
                          <a:pt x="474133" y="2844800"/>
                        </a:cubicBezTo>
                        <a:cubicBezTo>
                          <a:pt x="484230" y="2875091"/>
                          <a:pt x="525439" y="2885153"/>
                          <a:pt x="541867" y="2912533"/>
                        </a:cubicBezTo>
                        <a:cubicBezTo>
                          <a:pt x="692110" y="3162937"/>
                          <a:pt x="437916" y="2858793"/>
                          <a:pt x="643467" y="3115733"/>
                        </a:cubicBezTo>
                        <a:cubicBezTo>
                          <a:pt x="663413" y="3140666"/>
                          <a:pt x="691254" y="3158534"/>
                          <a:pt x="711200" y="3183467"/>
                        </a:cubicBezTo>
                        <a:cubicBezTo>
                          <a:pt x="736627" y="3215251"/>
                          <a:pt x="752130" y="3254435"/>
                          <a:pt x="778933" y="3285067"/>
                        </a:cubicBezTo>
                        <a:cubicBezTo>
                          <a:pt x="831498" y="3345141"/>
                          <a:pt x="900372" y="3390540"/>
                          <a:pt x="948267" y="3454400"/>
                        </a:cubicBezTo>
                        <a:cubicBezTo>
                          <a:pt x="982134" y="3499556"/>
                          <a:pt x="1019951" y="3542002"/>
                          <a:pt x="1049867" y="3589867"/>
                        </a:cubicBezTo>
                        <a:cubicBezTo>
                          <a:pt x="1076624" y="3632678"/>
                          <a:pt x="1089596" y="3683327"/>
                          <a:pt x="1117600" y="3725333"/>
                        </a:cubicBezTo>
                        <a:cubicBezTo>
                          <a:pt x="1164328" y="3795425"/>
                          <a:pt x="1222230" y="3809038"/>
                          <a:pt x="1286933" y="3860800"/>
                        </a:cubicBezTo>
                        <a:cubicBezTo>
                          <a:pt x="1311866" y="3880746"/>
                          <a:pt x="1328100" y="3910821"/>
                          <a:pt x="1354667" y="3928533"/>
                        </a:cubicBezTo>
                        <a:cubicBezTo>
                          <a:pt x="1438370" y="3984335"/>
                          <a:pt x="1501418" y="4000029"/>
                          <a:pt x="1591733" y="4030133"/>
                        </a:cubicBezTo>
                        <a:cubicBezTo>
                          <a:pt x="1670755" y="4018844"/>
                          <a:pt x="1753072" y="4021510"/>
                          <a:pt x="1828800" y="3996267"/>
                        </a:cubicBezTo>
                        <a:cubicBezTo>
                          <a:pt x="1947678" y="3956641"/>
                          <a:pt x="1962781" y="3628192"/>
                          <a:pt x="1964267" y="3623733"/>
                        </a:cubicBezTo>
                        <a:cubicBezTo>
                          <a:pt x="1977138" y="3585119"/>
                          <a:pt x="2013797" y="3558539"/>
                          <a:pt x="2032000" y="3522133"/>
                        </a:cubicBezTo>
                        <a:cubicBezTo>
                          <a:pt x="2047965" y="3490203"/>
                          <a:pt x="2054578" y="3454400"/>
                          <a:pt x="2065867" y="3420533"/>
                        </a:cubicBezTo>
                        <a:cubicBezTo>
                          <a:pt x="2054578" y="3318933"/>
                          <a:pt x="2052048" y="3215973"/>
                          <a:pt x="2032000" y="3115733"/>
                        </a:cubicBezTo>
                        <a:cubicBezTo>
                          <a:pt x="2017998" y="3045722"/>
                          <a:pt x="1964267" y="2912533"/>
                          <a:pt x="1964267" y="2912533"/>
                        </a:cubicBezTo>
                        <a:cubicBezTo>
                          <a:pt x="2045473" y="2668911"/>
                          <a:pt x="1946942" y="2973167"/>
                          <a:pt x="2032000" y="2675467"/>
                        </a:cubicBezTo>
                        <a:cubicBezTo>
                          <a:pt x="2041807" y="2641142"/>
                          <a:pt x="2054578" y="2607734"/>
                          <a:pt x="2065867" y="2573867"/>
                        </a:cubicBezTo>
                        <a:cubicBezTo>
                          <a:pt x="1988036" y="2340376"/>
                          <a:pt x="2048618" y="2421153"/>
                          <a:pt x="1930400" y="2302933"/>
                        </a:cubicBezTo>
                        <a:cubicBezTo>
                          <a:pt x="1919111" y="2257778"/>
                          <a:pt x="1909320" y="2212221"/>
                          <a:pt x="1896533" y="2167467"/>
                        </a:cubicBezTo>
                        <a:cubicBezTo>
                          <a:pt x="1886726" y="2133142"/>
                          <a:pt x="1868536" y="2101080"/>
                          <a:pt x="1862667" y="2065867"/>
                        </a:cubicBezTo>
                        <a:cubicBezTo>
                          <a:pt x="1846052" y="1966175"/>
                          <a:pt x="1835554" y="1713597"/>
                          <a:pt x="1794933" y="1591733"/>
                        </a:cubicBezTo>
                        <a:cubicBezTo>
                          <a:pt x="1778968" y="1543839"/>
                          <a:pt x="1753174" y="1499558"/>
                          <a:pt x="1727200" y="1456267"/>
                        </a:cubicBezTo>
                        <a:cubicBezTo>
                          <a:pt x="1685317" y="1386462"/>
                          <a:pt x="1591733" y="1253067"/>
                          <a:pt x="1591733" y="1253067"/>
                        </a:cubicBezTo>
                        <a:cubicBezTo>
                          <a:pt x="1555962" y="1145753"/>
                          <a:pt x="1565165" y="1143657"/>
                          <a:pt x="1490133" y="1049867"/>
                        </a:cubicBezTo>
                        <a:cubicBezTo>
                          <a:pt x="1470187" y="1024934"/>
                          <a:pt x="1442346" y="1007066"/>
                          <a:pt x="1422400" y="982133"/>
                        </a:cubicBezTo>
                        <a:cubicBezTo>
                          <a:pt x="1396973" y="950349"/>
                          <a:pt x="1380094" y="912316"/>
                          <a:pt x="1354667" y="880533"/>
                        </a:cubicBezTo>
                        <a:cubicBezTo>
                          <a:pt x="1334721" y="855600"/>
                          <a:pt x="1306879" y="837733"/>
                          <a:pt x="1286933" y="812800"/>
                        </a:cubicBezTo>
                        <a:cubicBezTo>
                          <a:pt x="1261506" y="781017"/>
                          <a:pt x="1246241" y="741622"/>
                          <a:pt x="1219200" y="711200"/>
                        </a:cubicBezTo>
                        <a:cubicBezTo>
                          <a:pt x="1155561" y="639606"/>
                          <a:pt x="1095702" y="561134"/>
                          <a:pt x="1016000" y="508000"/>
                        </a:cubicBezTo>
                        <a:cubicBezTo>
                          <a:pt x="887833" y="422556"/>
                          <a:pt x="943181" y="469048"/>
                          <a:pt x="846667" y="372533"/>
                        </a:cubicBezTo>
                        <a:cubicBezTo>
                          <a:pt x="835378" y="338666"/>
                          <a:pt x="832602" y="300636"/>
                          <a:pt x="812800" y="270933"/>
                        </a:cubicBezTo>
                        <a:cubicBezTo>
                          <a:pt x="786233" y="231082"/>
                          <a:pt x="749006" y="198737"/>
                          <a:pt x="711200" y="169333"/>
                        </a:cubicBezTo>
                        <a:cubicBezTo>
                          <a:pt x="536524" y="33474"/>
                          <a:pt x="559693" y="51098"/>
                          <a:pt x="406400" y="0"/>
                        </a:cubicBezTo>
                        <a:cubicBezTo>
                          <a:pt x="361244" y="11289"/>
                          <a:pt x="313715" y="15532"/>
                          <a:pt x="270933" y="33867"/>
                        </a:cubicBezTo>
                        <a:cubicBezTo>
                          <a:pt x="53886" y="126887"/>
                          <a:pt x="173770" y="228415"/>
                          <a:pt x="203200" y="508000"/>
                        </a:cubicBezTo>
                        <a:cubicBezTo>
                          <a:pt x="230238" y="764856"/>
                          <a:pt x="168958" y="711013"/>
                          <a:pt x="304800" y="778933"/>
                        </a:cubicBezTo>
                      </a:path>
                    </a:pathLst>
                  </a:custGeom>
                  <a:solidFill>
                    <a:srgbClr val="f2f2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2" name="任意多边形 163"/>
                  <p:cNvSpPr/>
                  <p:nvPr/>
                </p:nvSpPr>
                <p:spPr>
                  <a:xfrm rot="21310800">
                    <a:off x="15729120" y="410400"/>
                    <a:ext cx="60480" cy="135720"/>
                  </a:xfrm>
                  <a:custGeom>
                    <a:avLst/>
                    <a:gdLst>
                      <a:gd name="textAreaLeft" fmla="*/ 0 w 60480"/>
                      <a:gd name="textAreaRight" fmla="*/ 60840 w 60480"/>
                      <a:gd name="textAreaTop" fmla="*/ 0 h 135720"/>
                      <a:gd name="textAreaBottom" fmla="*/ 136080 h 135720"/>
                    </a:gdLst>
                    <a:ahLst/>
                    <a:rect l="textAreaLeft" t="textAreaTop" r="textAreaRight" b="textAreaBottom"/>
                    <a:pathLst>
                      <a:path w="2065867" h="4030133">
                        <a:moveTo>
                          <a:pt x="270933" y="677333"/>
                        </a:moveTo>
                        <a:cubicBezTo>
                          <a:pt x="259644" y="733778"/>
                          <a:pt x="257278" y="792770"/>
                          <a:pt x="237067" y="846667"/>
                        </a:cubicBezTo>
                        <a:cubicBezTo>
                          <a:pt x="222775" y="884778"/>
                          <a:pt x="187536" y="911861"/>
                          <a:pt x="169333" y="948267"/>
                        </a:cubicBezTo>
                        <a:cubicBezTo>
                          <a:pt x="153368" y="980197"/>
                          <a:pt x="146756" y="1016000"/>
                          <a:pt x="135467" y="1049867"/>
                        </a:cubicBezTo>
                        <a:cubicBezTo>
                          <a:pt x="124178" y="1128889"/>
                          <a:pt x="124537" y="1210475"/>
                          <a:pt x="101600" y="1286933"/>
                        </a:cubicBezTo>
                        <a:cubicBezTo>
                          <a:pt x="89904" y="1325919"/>
                          <a:pt x="52070" y="1352127"/>
                          <a:pt x="33867" y="1388533"/>
                        </a:cubicBezTo>
                        <a:cubicBezTo>
                          <a:pt x="17902" y="1420463"/>
                          <a:pt x="11289" y="1456266"/>
                          <a:pt x="0" y="1490133"/>
                        </a:cubicBezTo>
                        <a:cubicBezTo>
                          <a:pt x="11289" y="1648178"/>
                          <a:pt x="6331" y="1808231"/>
                          <a:pt x="33867" y="1964267"/>
                        </a:cubicBezTo>
                        <a:cubicBezTo>
                          <a:pt x="40941" y="2004350"/>
                          <a:pt x="77942" y="2032746"/>
                          <a:pt x="101600" y="2065867"/>
                        </a:cubicBezTo>
                        <a:cubicBezTo>
                          <a:pt x="134408" y="2111798"/>
                          <a:pt x="167065" y="2157971"/>
                          <a:pt x="203200" y="2201333"/>
                        </a:cubicBezTo>
                        <a:cubicBezTo>
                          <a:pt x="223641" y="2225862"/>
                          <a:pt x="253221" y="2242500"/>
                          <a:pt x="270933" y="2269067"/>
                        </a:cubicBezTo>
                        <a:cubicBezTo>
                          <a:pt x="298937" y="2311073"/>
                          <a:pt x="313619" y="2360700"/>
                          <a:pt x="338667" y="2404533"/>
                        </a:cubicBezTo>
                        <a:cubicBezTo>
                          <a:pt x="443708" y="2588354"/>
                          <a:pt x="378175" y="2421458"/>
                          <a:pt x="440267" y="2607733"/>
                        </a:cubicBezTo>
                        <a:cubicBezTo>
                          <a:pt x="451556" y="2686755"/>
                          <a:pt x="448890" y="2769072"/>
                          <a:pt x="474133" y="2844800"/>
                        </a:cubicBezTo>
                        <a:cubicBezTo>
                          <a:pt x="484230" y="2875091"/>
                          <a:pt x="525439" y="2885153"/>
                          <a:pt x="541867" y="2912533"/>
                        </a:cubicBezTo>
                        <a:cubicBezTo>
                          <a:pt x="692110" y="3162937"/>
                          <a:pt x="437916" y="2858793"/>
                          <a:pt x="643467" y="3115733"/>
                        </a:cubicBezTo>
                        <a:cubicBezTo>
                          <a:pt x="663413" y="3140666"/>
                          <a:pt x="691254" y="3158534"/>
                          <a:pt x="711200" y="3183467"/>
                        </a:cubicBezTo>
                        <a:cubicBezTo>
                          <a:pt x="736627" y="3215251"/>
                          <a:pt x="752130" y="3254435"/>
                          <a:pt x="778933" y="3285067"/>
                        </a:cubicBezTo>
                        <a:cubicBezTo>
                          <a:pt x="831498" y="3345141"/>
                          <a:pt x="900372" y="3390540"/>
                          <a:pt x="948267" y="3454400"/>
                        </a:cubicBezTo>
                        <a:cubicBezTo>
                          <a:pt x="982134" y="3499556"/>
                          <a:pt x="1019951" y="3542002"/>
                          <a:pt x="1049867" y="3589867"/>
                        </a:cubicBezTo>
                        <a:cubicBezTo>
                          <a:pt x="1076624" y="3632678"/>
                          <a:pt x="1089596" y="3683327"/>
                          <a:pt x="1117600" y="3725333"/>
                        </a:cubicBezTo>
                        <a:cubicBezTo>
                          <a:pt x="1164328" y="3795425"/>
                          <a:pt x="1222230" y="3809038"/>
                          <a:pt x="1286933" y="3860800"/>
                        </a:cubicBezTo>
                        <a:cubicBezTo>
                          <a:pt x="1311866" y="3880746"/>
                          <a:pt x="1328100" y="3910821"/>
                          <a:pt x="1354667" y="3928533"/>
                        </a:cubicBezTo>
                        <a:cubicBezTo>
                          <a:pt x="1438370" y="3984335"/>
                          <a:pt x="1501418" y="4000029"/>
                          <a:pt x="1591733" y="4030133"/>
                        </a:cubicBezTo>
                        <a:cubicBezTo>
                          <a:pt x="1670755" y="4018844"/>
                          <a:pt x="1753072" y="4021510"/>
                          <a:pt x="1828800" y="3996267"/>
                        </a:cubicBezTo>
                        <a:cubicBezTo>
                          <a:pt x="1947678" y="3956641"/>
                          <a:pt x="1962781" y="3628192"/>
                          <a:pt x="1964267" y="3623733"/>
                        </a:cubicBezTo>
                        <a:cubicBezTo>
                          <a:pt x="1977138" y="3585119"/>
                          <a:pt x="2013797" y="3558539"/>
                          <a:pt x="2032000" y="3522133"/>
                        </a:cubicBezTo>
                        <a:cubicBezTo>
                          <a:pt x="2047965" y="3490203"/>
                          <a:pt x="2054578" y="3454400"/>
                          <a:pt x="2065867" y="3420533"/>
                        </a:cubicBezTo>
                        <a:cubicBezTo>
                          <a:pt x="2054578" y="3318933"/>
                          <a:pt x="2052048" y="3215973"/>
                          <a:pt x="2032000" y="3115733"/>
                        </a:cubicBezTo>
                        <a:cubicBezTo>
                          <a:pt x="2017998" y="3045722"/>
                          <a:pt x="1964267" y="2912533"/>
                          <a:pt x="1964267" y="2912533"/>
                        </a:cubicBezTo>
                        <a:cubicBezTo>
                          <a:pt x="2045473" y="2668911"/>
                          <a:pt x="1946942" y="2973167"/>
                          <a:pt x="2032000" y="2675467"/>
                        </a:cubicBezTo>
                        <a:cubicBezTo>
                          <a:pt x="2041807" y="2641142"/>
                          <a:pt x="2054578" y="2607734"/>
                          <a:pt x="2065867" y="2573867"/>
                        </a:cubicBezTo>
                        <a:cubicBezTo>
                          <a:pt x="1988036" y="2340376"/>
                          <a:pt x="2048618" y="2421153"/>
                          <a:pt x="1930400" y="2302933"/>
                        </a:cubicBezTo>
                        <a:cubicBezTo>
                          <a:pt x="1919111" y="2257778"/>
                          <a:pt x="1909320" y="2212221"/>
                          <a:pt x="1896533" y="2167467"/>
                        </a:cubicBezTo>
                        <a:cubicBezTo>
                          <a:pt x="1886726" y="2133142"/>
                          <a:pt x="1868536" y="2101080"/>
                          <a:pt x="1862667" y="2065867"/>
                        </a:cubicBezTo>
                        <a:cubicBezTo>
                          <a:pt x="1846052" y="1966175"/>
                          <a:pt x="1835554" y="1713597"/>
                          <a:pt x="1794933" y="1591733"/>
                        </a:cubicBezTo>
                        <a:cubicBezTo>
                          <a:pt x="1778968" y="1543839"/>
                          <a:pt x="1753174" y="1499558"/>
                          <a:pt x="1727200" y="1456267"/>
                        </a:cubicBezTo>
                        <a:cubicBezTo>
                          <a:pt x="1685317" y="1386462"/>
                          <a:pt x="1591733" y="1253067"/>
                          <a:pt x="1591733" y="1253067"/>
                        </a:cubicBezTo>
                        <a:cubicBezTo>
                          <a:pt x="1555962" y="1145753"/>
                          <a:pt x="1565165" y="1143657"/>
                          <a:pt x="1490133" y="1049867"/>
                        </a:cubicBezTo>
                        <a:cubicBezTo>
                          <a:pt x="1470187" y="1024934"/>
                          <a:pt x="1442346" y="1007066"/>
                          <a:pt x="1422400" y="982133"/>
                        </a:cubicBezTo>
                        <a:cubicBezTo>
                          <a:pt x="1396973" y="950349"/>
                          <a:pt x="1380094" y="912316"/>
                          <a:pt x="1354667" y="880533"/>
                        </a:cubicBezTo>
                        <a:cubicBezTo>
                          <a:pt x="1334721" y="855600"/>
                          <a:pt x="1306879" y="837733"/>
                          <a:pt x="1286933" y="812800"/>
                        </a:cubicBezTo>
                        <a:cubicBezTo>
                          <a:pt x="1261506" y="781017"/>
                          <a:pt x="1246241" y="741622"/>
                          <a:pt x="1219200" y="711200"/>
                        </a:cubicBezTo>
                        <a:cubicBezTo>
                          <a:pt x="1155561" y="639606"/>
                          <a:pt x="1095702" y="561134"/>
                          <a:pt x="1016000" y="508000"/>
                        </a:cubicBezTo>
                        <a:cubicBezTo>
                          <a:pt x="887833" y="422556"/>
                          <a:pt x="943181" y="469048"/>
                          <a:pt x="846667" y="372533"/>
                        </a:cubicBezTo>
                        <a:cubicBezTo>
                          <a:pt x="835378" y="338666"/>
                          <a:pt x="832602" y="300636"/>
                          <a:pt x="812800" y="270933"/>
                        </a:cubicBezTo>
                        <a:cubicBezTo>
                          <a:pt x="786233" y="231082"/>
                          <a:pt x="749006" y="198737"/>
                          <a:pt x="711200" y="169333"/>
                        </a:cubicBezTo>
                        <a:cubicBezTo>
                          <a:pt x="536524" y="33474"/>
                          <a:pt x="559693" y="51098"/>
                          <a:pt x="406400" y="0"/>
                        </a:cubicBezTo>
                        <a:cubicBezTo>
                          <a:pt x="361244" y="11289"/>
                          <a:pt x="313715" y="15532"/>
                          <a:pt x="270933" y="33867"/>
                        </a:cubicBezTo>
                        <a:cubicBezTo>
                          <a:pt x="53886" y="126887"/>
                          <a:pt x="173770" y="228415"/>
                          <a:pt x="203200" y="508000"/>
                        </a:cubicBezTo>
                        <a:cubicBezTo>
                          <a:pt x="230238" y="764856"/>
                          <a:pt x="168958" y="711013"/>
                          <a:pt x="304800" y="778933"/>
                        </a:cubicBezTo>
                      </a:path>
                    </a:pathLst>
                  </a:custGeom>
                  <a:solidFill>
                    <a:srgbClr val="f2f2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3" name=""/>
                <p:cNvGrpSpPr/>
                <p:nvPr/>
              </p:nvGrpSpPr>
              <p:grpSpPr>
                <a:xfrm>
                  <a:off x="14435640" y="2722680"/>
                  <a:ext cx="2175480" cy="1830960"/>
                  <a:chOff x="14435640" y="2722680"/>
                  <a:chExt cx="2175480" cy="1830960"/>
                </a:xfrm>
              </p:grpSpPr>
              <p:sp>
                <p:nvSpPr>
                  <p:cNvPr id="204" name="任意多边形 158"/>
                  <p:cNvSpPr/>
                  <p:nvPr/>
                </p:nvSpPr>
                <p:spPr>
                  <a:xfrm rot="16824600">
                    <a:off x="14770080" y="2670480"/>
                    <a:ext cx="1506600" cy="1935360"/>
                  </a:xfrm>
                  <a:custGeom>
                    <a:avLst/>
                    <a:gdLst>
                      <a:gd name="textAreaLeft" fmla="*/ 0 w 1506600"/>
                      <a:gd name="textAreaRight" fmla="*/ 1506960 w 1506600"/>
                      <a:gd name="textAreaTop" fmla="*/ 0 h 1935360"/>
                      <a:gd name="textAreaBottom" fmla="*/ 1935720 h 1935360"/>
                    </a:gdLst>
                    <a:ahLst/>
                    <a:rect l="textAreaLeft" t="textAreaTop" r="textAreaRight" b="textAreaBottom"/>
                    <a:pathLst>
                      <a:path w="2065867" h="4030133">
                        <a:moveTo>
                          <a:pt x="270933" y="677333"/>
                        </a:moveTo>
                        <a:cubicBezTo>
                          <a:pt x="259644" y="733778"/>
                          <a:pt x="257278" y="792770"/>
                          <a:pt x="237067" y="846667"/>
                        </a:cubicBezTo>
                        <a:cubicBezTo>
                          <a:pt x="222775" y="884778"/>
                          <a:pt x="187536" y="911861"/>
                          <a:pt x="169333" y="948267"/>
                        </a:cubicBezTo>
                        <a:cubicBezTo>
                          <a:pt x="153368" y="980197"/>
                          <a:pt x="146756" y="1016000"/>
                          <a:pt x="135467" y="1049867"/>
                        </a:cubicBezTo>
                        <a:cubicBezTo>
                          <a:pt x="124178" y="1128889"/>
                          <a:pt x="124537" y="1210475"/>
                          <a:pt x="101600" y="1286933"/>
                        </a:cubicBezTo>
                        <a:cubicBezTo>
                          <a:pt x="89904" y="1325919"/>
                          <a:pt x="52070" y="1352127"/>
                          <a:pt x="33867" y="1388533"/>
                        </a:cubicBezTo>
                        <a:cubicBezTo>
                          <a:pt x="17902" y="1420463"/>
                          <a:pt x="11289" y="1456266"/>
                          <a:pt x="0" y="1490133"/>
                        </a:cubicBezTo>
                        <a:cubicBezTo>
                          <a:pt x="11289" y="1648178"/>
                          <a:pt x="6331" y="1808231"/>
                          <a:pt x="33867" y="1964267"/>
                        </a:cubicBezTo>
                        <a:cubicBezTo>
                          <a:pt x="40941" y="2004350"/>
                          <a:pt x="77942" y="2032746"/>
                          <a:pt x="101600" y="2065867"/>
                        </a:cubicBezTo>
                        <a:cubicBezTo>
                          <a:pt x="134408" y="2111798"/>
                          <a:pt x="167065" y="2157971"/>
                          <a:pt x="203200" y="2201333"/>
                        </a:cubicBezTo>
                        <a:cubicBezTo>
                          <a:pt x="223641" y="2225862"/>
                          <a:pt x="253221" y="2242500"/>
                          <a:pt x="270933" y="2269067"/>
                        </a:cubicBezTo>
                        <a:cubicBezTo>
                          <a:pt x="298937" y="2311073"/>
                          <a:pt x="313619" y="2360700"/>
                          <a:pt x="338667" y="2404533"/>
                        </a:cubicBezTo>
                        <a:cubicBezTo>
                          <a:pt x="443708" y="2588354"/>
                          <a:pt x="378175" y="2421458"/>
                          <a:pt x="440267" y="2607733"/>
                        </a:cubicBezTo>
                        <a:cubicBezTo>
                          <a:pt x="451556" y="2686755"/>
                          <a:pt x="448890" y="2769072"/>
                          <a:pt x="474133" y="2844800"/>
                        </a:cubicBezTo>
                        <a:cubicBezTo>
                          <a:pt x="484230" y="2875091"/>
                          <a:pt x="525439" y="2885153"/>
                          <a:pt x="541867" y="2912533"/>
                        </a:cubicBezTo>
                        <a:cubicBezTo>
                          <a:pt x="692110" y="3162937"/>
                          <a:pt x="437916" y="2858793"/>
                          <a:pt x="643467" y="3115733"/>
                        </a:cubicBezTo>
                        <a:cubicBezTo>
                          <a:pt x="663413" y="3140666"/>
                          <a:pt x="691254" y="3158534"/>
                          <a:pt x="711200" y="3183467"/>
                        </a:cubicBezTo>
                        <a:cubicBezTo>
                          <a:pt x="736627" y="3215251"/>
                          <a:pt x="752130" y="3254435"/>
                          <a:pt x="778933" y="3285067"/>
                        </a:cubicBezTo>
                        <a:cubicBezTo>
                          <a:pt x="831498" y="3345141"/>
                          <a:pt x="900372" y="3390540"/>
                          <a:pt x="948267" y="3454400"/>
                        </a:cubicBezTo>
                        <a:cubicBezTo>
                          <a:pt x="982134" y="3499556"/>
                          <a:pt x="1019951" y="3542002"/>
                          <a:pt x="1049867" y="3589867"/>
                        </a:cubicBezTo>
                        <a:cubicBezTo>
                          <a:pt x="1076624" y="3632678"/>
                          <a:pt x="1089596" y="3683327"/>
                          <a:pt x="1117600" y="3725333"/>
                        </a:cubicBezTo>
                        <a:cubicBezTo>
                          <a:pt x="1164328" y="3795425"/>
                          <a:pt x="1222230" y="3809038"/>
                          <a:pt x="1286933" y="3860800"/>
                        </a:cubicBezTo>
                        <a:cubicBezTo>
                          <a:pt x="1311866" y="3880746"/>
                          <a:pt x="1328100" y="3910821"/>
                          <a:pt x="1354667" y="3928533"/>
                        </a:cubicBezTo>
                        <a:cubicBezTo>
                          <a:pt x="1438370" y="3984335"/>
                          <a:pt x="1501418" y="4000029"/>
                          <a:pt x="1591733" y="4030133"/>
                        </a:cubicBezTo>
                        <a:cubicBezTo>
                          <a:pt x="1670755" y="4018844"/>
                          <a:pt x="1753072" y="4021510"/>
                          <a:pt x="1828800" y="3996267"/>
                        </a:cubicBezTo>
                        <a:cubicBezTo>
                          <a:pt x="1947678" y="3956641"/>
                          <a:pt x="1962781" y="3628192"/>
                          <a:pt x="1964267" y="3623733"/>
                        </a:cubicBezTo>
                        <a:cubicBezTo>
                          <a:pt x="1977138" y="3585119"/>
                          <a:pt x="2013797" y="3558539"/>
                          <a:pt x="2032000" y="3522133"/>
                        </a:cubicBezTo>
                        <a:cubicBezTo>
                          <a:pt x="2047965" y="3490203"/>
                          <a:pt x="2054578" y="3454400"/>
                          <a:pt x="2065867" y="3420533"/>
                        </a:cubicBezTo>
                        <a:cubicBezTo>
                          <a:pt x="2054578" y="3318933"/>
                          <a:pt x="2052048" y="3215973"/>
                          <a:pt x="2032000" y="3115733"/>
                        </a:cubicBezTo>
                        <a:cubicBezTo>
                          <a:pt x="2017998" y="3045722"/>
                          <a:pt x="1964267" y="2912533"/>
                          <a:pt x="1964267" y="2912533"/>
                        </a:cubicBezTo>
                        <a:cubicBezTo>
                          <a:pt x="2045473" y="2668911"/>
                          <a:pt x="1946942" y="2973167"/>
                          <a:pt x="2032000" y="2675467"/>
                        </a:cubicBezTo>
                        <a:cubicBezTo>
                          <a:pt x="2041807" y="2641142"/>
                          <a:pt x="2054578" y="2607734"/>
                          <a:pt x="2065867" y="2573867"/>
                        </a:cubicBezTo>
                        <a:cubicBezTo>
                          <a:pt x="1988036" y="2340376"/>
                          <a:pt x="2048618" y="2421153"/>
                          <a:pt x="1930400" y="2302933"/>
                        </a:cubicBezTo>
                        <a:cubicBezTo>
                          <a:pt x="1919111" y="2257778"/>
                          <a:pt x="1909320" y="2212221"/>
                          <a:pt x="1896533" y="2167467"/>
                        </a:cubicBezTo>
                        <a:cubicBezTo>
                          <a:pt x="1886726" y="2133142"/>
                          <a:pt x="1868536" y="2101080"/>
                          <a:pt x="1862667" y="2065867"/>
                        </a:cubicBezTo>
                        <a:cubicBezTo>
                          <a:pt x="1846052" y="1966175"/>
                          <a:pt x="1835554" y="1713597"/>
                          <a:pt x="1794933" y="1591733"/>
                        </a:cubicBezTo>
                        <a:cubicBezTo>
                          <a:pt x="1778968" y="1543839"/>
                          <a:pt x="1753174" y="1499558"/>
                          <a:pt x="1727200" y="1456267"/>
                        </a:cubicBezTo>
                        <a:cubicBezTo>
                          <a:pt x="1685317" y="1386462"/>
                          <a:pt x="1591733" y="1253067"/>
                          <a:pt x="1591733" y="1253067"/>
                        </a:cubicBezTo>
                        <a:cubicBezTo>
                          <a:pt x="1555962" y="1145753"/>
                          <a:pt x="1565165" y="1143657"/>
                          <a:pt x="1490133" y="1049867"/>
                        </a:cubicBezTo>
                        <a:cubicBezTo>
                          <a:pt x="1470187" y="1024934"/>
                          <a:pt x="1442346" y="1007066"/>
                          <a:pt x="1422400" y="982133"/>
                        </a:cubicBezTo>
                        <a:cubicBezTo>
                          <a:pt x="1396973" y="950349"/>
                          <a:pt x="1380094" y="912316"/>
                          <a:pt x="1354667" y="880533"/>
                        </a:cubicBezTo>
                        <a:cubicBezTo>
                          <a:pt x="1334721" y="855600"/>
                          <a:pt x="1306879" y="837733"/>
                          <a:pt x="1286933" y="812800"/>
                        </a:cubicBezTo>
                        <a:cubicBezTo>
                          <a:pt x="1261506" y="781017"/>
                          <a:pt x="1246241" y="741622"/>
                          <a:pt x="1219200" y="711200"/>
                        </a:cubicBezTo>
                        <a:cubicBezTo>
                          <a:pt x="1155561" y="639606"/>
                          <a:pt x="1095702" y="561134"/>
                          <a:pt x="1016000" y="508000"/>
                        </a:cubicBezTo>
                        <a:cubicBezTo>
                          <a:pt x="887833" y="422556"/>
                          <a:pt x="943181" y="469048"/>
                          <a:pt x="846667" y="372533"/>
                        </a:cubicBezTo>
                        <a:cubicBezTo>
                          <a:pt x="835378" y="338666"/>
                          <a:pt x="832602" y="300636"/>
                          <a:pt x="812800" y="270933"/>
                        </a:cubicBezTo>
                        <a:cubicBezTo>
                          <a:pt x="786233" y="231082"/>
                          <a:pt x="749006" y="198737"/>
                          <a:pt x="711200" y="169333"/>
                        </a:cubicBezTo>
                        <a:cubicBezTo>
                          <a:pt x="536524" y="33474"/>
                          <a:pt x="559693" y="51098"/>
                          <a:pt x="406400" y="0"/>
                        </a:cubicBezTo>
                        <a:cubicBezTo>
                          <a:pt x="361244" y="11289"/>
                          <a:pt x="313715" y="15532"/>
                          <a:pt x="270933" y="33867"/>
                        </a:cubicBezTo>
                        <a:cubicBezTo>
                          <a:pt x="53886" y="126887"/>
                          <a:pt x="173770" y="228415"/>
                          <a:pt x="203200" y="508000"/>
                        </a:cubicBezTo>
                        <a:cubicBezTo>
                          <a:pt x="230238" y="764856"/>
                          <a:pt x="168958" y="711013"/>
                          <a:pt x="304800" y="778933"/>
                        </a:cubicBez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" name="任意多边形 159"/>
                  <p:cNvSpPr/>
                  <p:nvPr/>
                </p:nvSpPr>
                <p:spPr>
                  <a:xfrm rot="16824600">
                    <a:off x="14773320" y="3139200"/>
                    <a:ext cx="728640" cy="993240"/>
                  </a:xfrm>
                  <a:custGeom>
                    <a:avLst/>
                    <a:gdLst>
                      <a:gd name="textAreaLeft" fmla="*/ 0 w 728640"/>
                      <a:gd name="textAreaRight" fmla="*/ 728640 w 728640"/>
                      <a:gd name="textAreaTop" fmla="*/ 0 h 993240"/>
                      <a:gd name="textAreaBottom" fmla="*/ 993600 h 993240"/>
                    </a:gdLst>
                    <a:ahLst/>
                    <a:rect l="textAreaLeft" t="textAreaTop" r="textAreaRight" b="textAreaBottom"/>
                    <a:pathLst>
                      <a:path w="2065867" h="4030133">
                        <a:moveTo>
                          <a:pt x="270933" y="677333"/>
                        </a:moveTo>
                        <a:cubicBezTo>
                          <a:pt x="259644" y="733778"/>
                          <a:pt x="257278" y="792770"/>
                          <a:pt x="237067" y="846667"/>
                        </a:cubicBezTo>
                        <a:cubicBezTo>
                          <a:pt x="222775" y="884778"/>
                          <a:pt x="187536" y="911861"/>
                          <a:pt x="169333" y="948267"/>
                        </a:cubicBezTo>
                        <a:cubicBezTo>
                          <a:pt x="153368" y="980197"/>
                          <a:pt x="146756" y="1016000"/>
                          <a:pt x="135467" y="1049867"/>
                        </a:cubicBezTo>
                        <a:cubicBezTo>
                          <a:pt x="124178" y="1128889"/>
                          <a:pt x="124537" y="1210475"/>
                          <a:pt x="101600" y="1286933"/>
                        </a:cubicBezTo>
                        <a:cubicBezTo>
                          <a:pt x="89904" y="1325919"/>
                          <a:pt x="52070" y="1352127"/>
                          <a:pt x="33867" y="1388533"/>
                        </a:cubicBezTo>
                        <a:cubicBezTo>
                          <a:pt x="17902" y="1420463"/>
                          <a:pt x="11289" y="1456266"/>
                          <a:pt x="0" y="1490133"/>
                        </a:cubicBezTo>
                        <a:cubicBezTo>
                          <a:pt x="11289" y="1648178"/>
                          <a:pt x="6331" y="1808231"/>
                          <a:pt x="33867" y="1964267"/>
                        </a:cubicBezTo>
                        <a:cubicBezTo>
                          <a:pt x="40941" y="2004350"/>
                          <a:pt x="77942" y="2032746"/>
                          <a:pt x="101600" y="2065867"/>
                        </a:cubicBezTo>
                        <a:cubicBezTo>
                          <a:pt x="134408" y="2111798"/>
                          <a:pt x="167065" y="2157971"/>
                          <a:pt x="203200" y="2201333"/>
                        </a:cubicBezTo>
                        <a:cubicBezTo>
                          <a:pt x="223641" y="2225862"/>
                          <a:pt x="253221" y="2242500"/>
                          <a:pt x="270933" y="2269067"/>
                        </a:cubicBezTo>
                        <a:cubicBezTo>
                          <a:pt x="298937" y="2311073"/>
                          <a:pt x="313619" y="2360700"/>
                          <a:pt x="338667" y="2404533"/>
                        </a:cubicBezTo>
                        <a:cubicBezTo>
                          <a:pt x="443708" y="2588354"/>
                          <a:pt x="378175" y="2421458"/>
                          <a:pt x="440267" y="2607733"/>
                        </a:cubicBezTo>
                        <a:cubicBezTo>
                          <a:pt x="451556" y="2686755"/>
                          <a:pt x="448890" y="2769072"/>
                          <a:pt x="474133" y="2844800"/>
                        </a:cubicBezTo>
                        <a:cubicBezTo>
                          <a:pt x="484230" y="2875091"/>
                          <a:pt x="525439" y="2885153"/>
                          <a:pt x="541867" y="2912533"/>
                        </a:cubicBezTo>
                        <a:cubicBezTo>
                          <a:pt x="692110" y="3162937"/>
                          <a:pt x="437916" y="2858793"/>
                          <a:pt x="643467" y="3115733"/>
                        </a:cubicBezTo>
                        <a:cubicBezTo>
                          <a:pt x="663413" y="3140666"/>
                          <a:pt x="691254" y="3158534"/>
                          <a:pt x="711200" y="3183467"/>
                        </a:cubicBezTo>
                        <a:cubicBezTo>
                          <a:pt x="736627" y="3215251"/>
                          <a:pt x="752130" y="3254435"/>
                          <a:pt x="778933" y="3285067"/>
                        </a:cubicBezTo>
                        <a:cubicBezTo>
                          <a:pt x="831498" y="3345141"/>
                          <a:pt x="900372" y="3390540"/>
                          <a:pt x="948267" y="3454400"/>
                        </a:cubicBezTo>
                        <a:cubicBezTo>
                          <a:pt x="982134" y="3499556"/>
                          <a:pt x="1019951" y="3542002"/>
                          <a:pt x="1049867" y="3589867"/>
                        </a:cubicBezTo>
                        <a:cubicBezTo>
                          <a:pt x="1076624" y="3632678"/>
                          <a:pt x="1089596" y="3683327"/>
                          <a:pt x="1117600" y="3725333"/>
                        </a:cubicBezTo>
                        <a:cubicBezTo>
                          <a:pt x="1164328" y="3795425"/>
                          <a:pt x="1222230" y="3809038"/>
                          <a:pt x="1286933" y="3860800"/>
                        </a:cubicBezTo>
                        <a:cubicBezTo>
                          <a:pt x="1311866" y="3880746"/>
                          <a:pt x="1328100" y="3910821"/>
                          <a:pt x="1354667" y="3928533"/>
                        </a:cubicBezTo>
                        <a:cubicBezTo>
                          <a:pt x="1438370" y="3984335"/>
                          <a:pt x="1501418" y="4000029"/>
                          <a:pt x="1591733" y="4030133"/>
                        </a:cubicBezTo>
                        <a:cubicBezTo>
                          <a:pt x="1670755" y="4018844"/>
                          <a:pt x="1753072" y="4021510"/>
                          <a:pt x="1828800" y="3996267"/>
                        </a:cubicBezTo>
                        <a:cubicBezTo>
                          <a:pt x="1947678" y="3956641"/>
                          <a:pt x="1962781" y="3628192"/>
                          <a:pt x="1964267" y="3623733"/>
                        </a:cubicBezTo>
                        <a:cubicBezTo>
                          <a:pt x="1977138" y="3585119"/>
                          <a:pt x="2013797" y="3558539"/>
                          <a:pt x="2032000" y="3522133"/>
                        </a:cubicBezTo>
                        <a:cubicBezTo>
                          <a:pt x="2047965" y="3490203"/>
                          <a:pt x="2054578" y="3454400"/>
                          <a:pt x="2065867" y="3420533"/>
                        </a:cubicBezTo>
                        <a:cubicBezTo>
                          <a:pt x="2054578" y="3318933"/>
                          <a:pt x="2052048" y="3215973"/>
                          <a:pt x="2032000" y="3115733"/>
                        </a:cubicBezTo>
                        <a:cubicBezTo>
                          <a:pt x="2017998" y="3045722"/>
                          <a:pt x="1964267" y="2912533"/>
                          <a:pt x="1964267" y="2912533"/>
                        </a:cubicBezTo>
                        <a:cubicBezTo>
                          <a:pt x="2045473" y="2668911"/>
                          <a:pt x="1946942" y="2973167"/>
                          <a:pt x="2032000" y="2675467"/>
                        </a:cubicBezTo>
                        <a:cubicBezTo>
                          <a:pt x="2041807" y="2641142"/>
                          <a:pt x="2054578" y="2607734"/>
                          <a:pt x="2065867" y="2573867"/>
                        </a:cubicBezTo>
                        <a:cubicBezTo>
                          <a:pt x="1988036" y="2340376"/>
                          <a:pt x="2048618" y="2421153"/>
                          <a:pt x="1930400" y="2302933"/>
                        </a:cubicBezTo>
                        <a:cubicBezTo>
                          <a:pt x="1919111" y="2257778"/>
                          <a:pt x="1909320" y="2212221"/>
                          <a:pt x="1896533" y="2167467"/>
                        </a:cubicBezTo>
                        <a:cubicBezTo>
                          <a:pt x="1886726" y="2133142"/>
                          <a:pt x="1868536" y="2101080"/>
                          <a:pt x="1862667" y="2065867"/>
                        </a:cubicBezTo>
                        <a:cubicBezTo>
                          <a:pt x="1846052" y="1966175"/>
                          <a:pt x="1835554" y="1713597"/>
                          <a:pt x="1794933" y="1591733"/>
                        </a:cubicBezTo>
                        <a:cubicBezTo>
                          <a:pt x="1778968" y="1543839"/>
                          <a:pt x="1753174" y="1499558"/>
                          <a:pt x="1727200" y="1456267"/>
                        </a:cubicBezTo>
                        <a:cubicBezTo>
                          <a:pt x="1685317" y="1386462"/>
                          <a:pt x="1591733" y="1253067"/>
                          <a:pt x="1591733" y="1253067"/>
                        </a:cubicBezTo>
                        <a:cubicBezTo>
                          <a:pt x="1555962" y="1145753"/>
                          <a:pt x="1565165" y="1143657"/>
                          <a:pt x="1490133" y="1049867"/>
                        </a:cubicBezTo>
                        <a:cubicBezTo>
                          <a:pt x="1470187" y="1024934"/>
                          <a:pt x="1442346" y="1007066"/>
                          <a:pt x="1422400" y="982133"/>
                        </a:cubicBezTo>
                        <a:cubicBezTo>
                          <a:pt x="1396973" y="950349"/>
                          <a:pt x="1380094" y="912316"/>
                          <a:pt x="1354667" y="880533"/>
                        </a:cubicBezTo>
                        <a:cubicBezTo>
                          <a:pt x="1334721" y="855600"/>
                          <a:pt x="1306879" y="837733"/>
                          <a:pt x="1286933" y="812800"/>
                        </a:cubicBezTo>
                        <a:cubicBezTo>
                          <a:pt x="1261506" y="781017"/>
                          <a:pt x="1246241" y="741622"/>
                          <a:pt x="1219200" y="711200"/>
                        </a:cubicBezTo>
                        <a:cubicBezTo>
                          <a:pt x="1155561" y="639606"/>
                          <a:pt x="1095702" y="561134"/>
                          <a:pt x="1016000" y="508000"/>
                        </a:cubicBezTo>
                        <a:cubicBezTo>
                          <a:pt x="887833" y="422556"/>
                          <a:pt x="943181" y="469048"/>
                          <a:pt x="846667" y="372533"/>
                        </a:cubicBezTo>
                        <a:cubicBezTo>
                          <a:pt x="835378" y="338666"/>
                          <a:pt x="832602" y="300636"/>
                          <a:pt x="812800" y="270933"/>
                        </a:cubicBezTo>
                        <a:cubicBezTo>
                          <a:pt x="786233" y="231082"/>
                          <a:pt x="749006" y="198737"/>
                          <a:pt x="711200" y="169333"/>
                        </a:cubicBezTo>
                        <a:cubicBezTo>
                          <a:pt x="536524" y="33474"/>
                          <a:pt x="559693" y="51098"/>
                          <a:pt x="406400" y="0"/>
                        </a:cubicBezTo>
                        <a:cubicBezTo>
                          <a:pt x="361244" y="11289"/>
                          <a:pt x="313715" y="15532"/>
                          <a:pt x="270933" y="33867"/>
                        </a:cubicBezTo>
                        <a:cubicBezTo>
                          <a:pt x="53886" y="126887"/>
                          <a:pt x="173770" y="228415"/>
                          <a:pt x="203200" y="508000"/>
                        </a:cubicBezTo>
                        <a:cubicBezTo>
                          <a:pt x="230238" y="764856"/>
                          <a:pt x="168958" y="711013"/>
                          <a:pt x="304800" y="778933"/>
                        </a:cubicBezTo>
                      </a:path>
                    </a:pathLst>
                  </a:custGeom>
                  <a:solidFill>
                    <a:srgbClr val="f2f2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6" name="任意多边形 160"/>
                  <p:cNvSpPr/>
                  <p:nvPr/>
                </p:nvSpPr>
                <p:spPr>
                  <a:xfrm rot="16824600">
                    <a:off x="15551640" y="2920320"/>
                    <a:ext cx="351000" cy="746280"/>
                  </a:xfrm>
                  <a:custGeom>
                    <a:avLst/>
                    <a:gdLst>
                      <a:gd name="textAreaLeft" fmla="*/ 0 w 351000"/>
                      <a:gd name="textAreaRight" fmla="*/ 351360 w 351000"/>
                      <a:gd name="textAreaTop" fmla="*/ 0 h 746280"/>
                      <a:gd name="textAreaBottom" fmla="*/ 746640 h 746280"/>
                    </a:gdLst>
                    <a:ahLst/>
                    <a:rect l="textAreaLeft" t="textAreaTop" r="textAreaRight" b="textAreaBottom"/>
                    <a:pathLst>
                      <a:path w="2065867" h="4030133">
                        <a:moveTo>
                          <a:pt x="270933" y="677333"/>
                        </a:moveTo>
                        <a:cubicBezTo>
                          <a:pt x="259644" y="733778"/>
                          <a:pt x="257278" y="792770"/>
                          <a:pt x="237067" y="846667"/>
                        </a:cubicBezTo>
                        <a:cubicBezTo>
                          <a:pt x="222775" y="884778"/>
                          <a:pt x="187536" y="911861"/>
                          <a:pt x="169333" y="948267"/>
                        </a:cubicBezTo>
                        <a:cubicBezTo>
                          <a:pt x="153368" y="980197"/>
                          <a:pt x="146756" y="1016000"/>
                          <a:pt x="135467" y="1049867"/>
                        </a:cubicBezTo>
                        <a:cubicBezTo>
                          <a:pt x="124178" y="1128889"/>
                          <a:pt x="124537" y="1210475"/>
                          <a:pt x="101600" y="1286933"/>
                        </a:cubicBezTo>
                        <a:cubicBezTo>
                          <a:pt x="89904" y="1325919"/>
                          <a:pt x="52070" y="1352127"/>
                          <a:pt x="33867" y="1388533"/>
                        </a:cubicBezTo>
                        <a:cubicBezTo>
                          <a:pt x="17902" y="1420463"/>
                          <a:pt x="11289" y="1456266"/>
                          <a:pt x="0" y="1490133"/>
                        </a:cubicBezTo>
                        <a:cubicBezTo>
                          <a:pt x="11289" y="1648178"/>
                          <a:pt x="6331" y="1808231"/>
                          <a:pt x="33867" y="1964267"/>
                        </a:cubicBezTo>
                        <a:cubicBezTo>
                          <a:pt x="40941" y="2004350"/>
                          <a:pt x="77942" y="2032746"/>
                          <a:pt x="101600" y="2065867"/>
                        </a:cubicBezTo>
                        <a:cubicBezTo>
                          <a:pt x="134408" y="2111798"/>
                          <a:pt x="167065" y="2157971"/>
                          <a:pt x="203200" y="2201333"/>
                        </a:cubicBezTo>
                        <a:cubicBezTo>
                          <a:pt x="223641" y="2225862"/>
                          <a:pt x="253221" y="2242500"/>
                          <a:pt x="270933" y="2269067"/>
                        </a:cubicBezTo>
                        <a:cubicBezTo>
                          <a:pt x="298937" y="2311073"/>
                          <a:pt x="313619" y="2360700"/>
                          <a:pt x="338667" y="2404533"/>
                        </a:cubicBezTo>
                        <a:cubicBezTo>
                          <a:pt x="443708" y="2588354"/>
                          <a:pt x="378175" y="2421458"/>
                          <a:pt x="440267" y="2607733"/>
                        </a:cubicBezTo>
                        <a:cubicBezTo>
                          <a:pt x="451556" y="2686755"/>
                          <a:pt x="448890" y="2769072"/>
                          <a:pt x="474133" y="2844800"/>
                        </a:cubicBezTo>
                        <a:cubicBezTo>
                          <a:pt x="484230" y="2875091"/>
                          <a:pt x="525439" y="2885153"/>
                          <a:pt x="541867" y="2912533"/>
                        </a:cubicBezTo>
                        <a:cubicBezTo>
                          <a:pt x="692110" y="3162937"/>
                          <a:pt x="437916" y="2858793"/>
                          <a:pt x="643467" y="3115733"/>
                        </a:cubicBezTo>
                        <a:cubicBezTo>
                          <a:pt x="663413" y="3140666"/>
                          <a:pt x="691254" y="3158534"/>
                          <a:pt x="711200" y="3183467"/>
                        </a:cubicBezTo>
                        <a:cubicBezTo>
                          <a:pt x="736627" y="3215251"/>
                          <a:pt x="752130" y="3254435"/>
                          <a:pt x="778933" y="3285067"/>
                        </a:cubicBezTo>
                        <a:cubicBezTo>
                          <a:pt x="831498" y="3345141"/>
                          <a:pt x="900372" y="3390540"/>
                          <a:pt x="948267" y="3454400"/>
                        </a:cubicBezTo>
                        <a:cubicBezTo>
                          <a:pt x="982134" y="3499556"/>
                          <a:pt x="1019951" y="3542002"/>
                          <a:pt x="1049867" y="3589867"/>
                        </a:cubicBezTo>
                        <a:cubicBezTo>
                          <a:pt x="1076624" y="3632678"/>
                          <a:pt x="1089596" y="3683327"/>
                          <a:pt x="1117600" y="3725333"/>
                        </a:cubicBezTo>
                        <a:cubicBezTo>
                          <a:pt x="1164328" y="3795425"/>
                          <a:pt x="1222230" y="3809038"/>
                          <a:pt x="1286933" y="3860800"/>
                        </a:cubicBezTo>
                        <a:cubicBezTo>
                          <a:pt x="1311866" y="3880746"/>
                          <a:pt x="1328100" y="3910821"/>
                          <a:pt x="1354667" y="3928533"/>
                        </a:cubicBezTo>
                        <a:cubicBezTo>
                          <a:pt x="1438370" y="3984335"/>
                          <a:pt x="1501418" y="4000029"/>
                          <a:pt x="1591733" y="4030133"/>
                        </a:cubicBezTo>
                        <a:cubicBezTo>
                          <a:pt x="1670755" y="4018844"/>
                          <a:pt x="1753072" y="4021510"/>
                          <a:pt x="1828800" y="3996267"/>
                        </a:cubicBezTo>
                        <a:cubicBezTo>
                          <a:pt x="1947678" y="3956641"/>
                          <a:pt x="1962781" y="3628192"/>
                          <a:pt x="1964267" y="3623733"/>
                        </a:cubicBezTo>
                        <a:cubicBezTo>
                          <a:pt x="1977138" y="3585119"/>
                          <a:pt x="2013797" y="3558539"/>
                          <a:pt x="2032000" y="3522133"/>
                        </a:cubicBezTo>
                        <a:cubicBezTo>
                          <a:pt x="2047965" y="3490203"/>
                          <a:pt x="2054578" y="3454400"/>
                          <a:pt x="2065867" y="3420533"/>
                        </a:cubicBezTo>
                        <a:cubicBezTo>
                          <a:pt x="2054578" y="3318933"/>
                          <a:pt x="2052048" y="3215973"/>
                          <a:pt x="2032000" y="3115733"/>
                        </a:cubicBezTo>
                        <a:cubicBezTo>
                          <a:pt x="2017998" y="3045722"/>
                          <a:pt x="1964267" y="2912533"/>
                          <a:pt x="1964267" y="2912533"/>
                        </a:cubicBezTo>
                        <a:cubicBezTo>
                          <a:pt x="2045473" y="2668911"/>
                          <a:pt x="1946942" y="2973167"/>
                          <a:pt x="2032000" y="2675467"/>
                        </a:cubicBezTo>
                        <a:cubicBezTo>
                          <a:pt x="2041807" y="2641142"/>
                          <a:pt x="2054578" y="2607734"/>
                          <a:pt x="2065867" y="2573867"/>
                        </a:cubicBezTo>
                        <a:cubicBezTo>
                          <a:pt x="1988036" y="2340376"/>
                          <a:pt x="2048618" y="2421153"/>
                          <a:pt x="1930400" y="2302933"/>
                        </a:cubicBezTo>
                        <a:cubicBezTo>
                          <a:pt x="1919111" y="2257778"/>
                          <a:pt x="1909320" y="2212221"/>
                          <a:pt x="1896533" y="2167467"/>
                        </a:cubicBezTo>
                        <a:cubicBezTo>
                          <a:pt x="1886726" y="2133142"/>
                          <a:pt x="1868536" y="2101080"/>
                          <a:pt x="1862667" y="2065867"/>
                        </a:cubicBezTo>
                        <a:cubicBezTo>
                          <a:pt x="1846052" y="1966175"/>
                          <a:pt x="1835554" y="1713597"/>
                          <a:pt x="1794933" y="1591733"/>
                        </a:cubicBezTo>
                        <a:cubicBezTo>
                          <a:pt x="1778968" y="1543839"/>
                          <a:pt x="1753174" y="1499558"/>
                          <a:pt x="1727200" y="1456267"/>
                        </a:cubicBezTo>
                        <a:cubicBezTo>
                          <a:pt x="1685317" y="1386462"/>
                          <a:pt x="1591733" y="1253067"/>
                          <a:pt x="1591733" y="1253067"/>
                        </a:cubicBezTo>
                        <a:cubicBezTo>
                          <a:pt x="1555962" y="1145753"/>
                          <a:pt x="1565165" y="1143657"/>
                          <a:pt x="1490133" y="1049867"/>
                        </a:cubicBezTo>
                        <a:cubicBezTo>
                          <a:pt x="1470187" y="1024934"/>
                          <a:pt x="1442346" y="1007066"/>
                          <a:pt x="1422400" y="982133"/>
                        </a:cubicBezTo>
                        <a:cubicBezTo>
                          <a:pt x="1396973" y="950349"/>
                          <a:pt x="1380094" y="912316"/>
                          <a:pt x="1354667" y="880533"/>
                        </a:cubicBezTo>
                        <a:cubicBezTo>
                          <a:pt x="1334721" y="855600"/>
                          <a:pt x="1306879" y="837733"/>
                          <a:pt x="1286933" y="812800"/>
                        </a:cubicBezTo>
                        <a:cubicBezTo>
                          <a:pt x="1261506" y="781017"/>
                          <a:pt x="1246241" y="741622"/>
                          <a:pt x="1219200" y="711200"/>
                        </a:cubicBezTo>
                        <a:cubicBezTo>
                          <a:pt x="1155561" y="639606"/>
                          <a:pt x="1095702" y="561134"/>
                          <a:pt x="1016000" y="508000"/>
                        </a:cubicBezTo>
                        <a:cubicBezTo>
                          <a:pt x="887833" y="422556"/>
                          <a:pt x="943181" y="469048"/>
                          <a:pt x="846667" y="372533"/>
                        </a:cubicBezTo>
                        <a:cubicBezTo>
                          <a:pt x="835378" y="338666"/>
                          <a:pt x="832602" y="300636"/>
                          <a:pt x="812800" y="270933"/>
                        </a:cubicBezTo>
                        <a:cubicBezTo>
                          <a:pt x="786233" y="231082"/>
                          <a:pt x="749006" y="198737"/>
                          <a:pt x="711200" y="169333"/>
                        </a:cubicBezTo>
                        <a:cubicBezTo>
                          <a:pt x="536524" y="33474"/>
                          <a:pt x="559693" y="51098"/>
                          <a:pt x="406400" y="0"/>
                        </a:cubicBezTo>
                        <a:cubicBezTo>
                          <a:pt x="361244" y="11289"/>
                          <a:pt x="313715" y="15532"/>
                          <a:pt x="270933" y="33867"/>
                        </a:cubicBezTo>
                        <a:cubicBezTo>
                          <a:pt x="53886" y="126887"/>
                          <a:pt x="173770" y="228415"/>
                          <a:pt x="203200" y="508000"/>
                        </a:cubicBezTo>
                        <a:cubicBezTo>
                          <a:pt x="230238" y="764856"/>
                          <a:pt x="168958" y="711013"/>
                          <a:pt x="304800" y="778933"/>
                        </a:cubicBezTo>
                      </a:path>
                    </a:pathLst>
                  </a:custGeom>
                  <a:solidFill>
                    <a:srgbClr val="f2f2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07" name="任意多边形 151"/>
              <p:cNvSpPr/>
              <p:nvPr/>
            </p:nvSpPr>
            <p:spPr>
              <a:xfrm>
                <a:off x="14003280" y="-1029960"/>
                <a:ext cx="3764160" cy="5567040"/>
              </a:xfrm>
              <a:custGeom>
                <a:avLst/>
                <a:gdLst>
                  <a:gd name="textAreaLeft" fmla="*/ 0 w 3764160"/>
                  <a:gd name="textAreaRight" fmla="*/ 3764520 w 3764160"/>
                  <a:gd name="textAreaTop" fmla="*/ 0 h 5567040"/>
                  <a:gd name="textAreaBottom" fmla="*/ 5567400 h 5567040"/>
                </a:gdLst>
                <a:ahLst/>
                <a:rect l="textAreaLeft" t="textAreaTop" r="textAreaRight" b="textAreaBottom"/>
                <a:pathLst>
                  <a:path w="3821892" h="5697930">
                    <a:moveTo>
                      <a:pt x="682085" y="5508433"/>
                    </a:moveTo>
                    <a:lnTo>
                      <a:pt x="682085" y="5508433"/>
                    </a:lnTo>
                    <a:cubicBezTo>
                      <a:pt x="649034" y="5504761"/>
                      <a:pt x="616169" y="5498507"/>
                      <a:pt x="582933" y="5497417"/>
                    </a:cubicBezTo>
                    <a:cubicBezTo>
                      <a:pt x="400197" y="5491426"/>
                      <a:pt x="-158094" y="5621019"/>
                      <a:pt x="43107" y="5453349"/>
                    </a:cubicBezTo>
                    <a:cubicBezTo>
                      <a:pt x="53279" y="5444873"/>
                      <a:pt x="65140" y="5438660"/>
                      <a:pt x="76157" y="5431315"/>
                    </a:cubicBezTo>
                    <a:cubicBezTo>
                      <a:pt x="83502" y="5420298"/>
                      <a:pt x="88828" y="5407627"/>
                      <a:pt x="98191" y="5398265"/>
                    </a:cubicBezTo>
                    <a:cubicBezTo>
                      <a:pt x="107554" y="5388902"/>
                      <a:pt x="122971" y="5386570"/>
                      <a:pt x="131242" y="5376231"/>
                    </a:cubicBezTo>
                    <a:cubicBezTo>
                      <a:pt x="166724" y="5331878"/>
                      <a:pt x="112695" y="5351407"/>
                      <a:pt x="164292" y="5310130"/>
                    </a:cubicBezTo>
                    <a:cubicBezTo>
                      <a:pt x="173360" y="5302876"/>
                      <a:pt x="186326" y="5302785"/>
                      <a:pt x="197343" y="5299113"/>
                    </a:cubicBezTo>
                    <a:cubicBezTo>
                      <a:pt x="204687" y="5288096"/>
                      <a:pt x="221973" y="5279045"/>
                      <a:pt x="219376" y="5266062"/>
                    </a:cubicBezTo>
                    <a:cubicBezTo>
                      <a:pt x="216779" y="5253079"/>
                      <a:pt x="183729" y="5257012"/>
                      <a:pt x="186326" y="5244029"/>
                    </a:cubicBezTo>
                    <a:cubicBezTo>
                      <a:pt x="189927" y="5226024"/>
                      <a:pt x="213970" y="5219190"/>
                      <a:pt x="230393" y="5210978"/>
                    </a:cubicBezTo>
                    <a:cubicBezTo>
                      <a:pt x="251167" y="5200591"/>
                      <a:pt x="274461" y="5196289"/>
                      <a:pt x="296495" y="5188944"/>
                    </a:cubicBezTo>
                    <a:cubicBezTo>
                      <a:pt x="307512" y="5185272"/>
                      <a:pt x="319883" y="5184368"/>
                      <a:pt x="329545" y="5177927"/>
                    </a:cubicBezTo>
                    <a:lnTo>
                      <a:pt x="428697" y="5111826"/>
                    </a:lnTo>
                    <a:lnTo>
                      <a:pt x="461748" y="5089793"/>
                    </a:lnTo>
                    <a:cubicBezTo>
                      <a:pt x="465420" y="5078776"/>
                      <a:pt x="472764" y="5068355"/>
                      <a:pt x="472764" y="5056742"/>
                    </a:cubicBezTo>
                    <a:cubicBezTo>
                      <a:pt x="472764" y="5029240"/>
                      <a:pt x="462509" y="4988553"/>
                      <a:pt x="439714" y="4968607"/>
                    </a:cubicBezTo>
                    <a:cubicBezTo>
                      <a:pt x="419785" y="4951169"/>
                      <a:pt x="373613" y="4924539"/>
                      <a:pt x="373613" y="4924539"/>
                    </a:cubicBezTo>
                    <a:cubicBezTo>
                      <a:pt x="392759" y="4867098"/>
                      <a:pt x="370471" y="4911418"/>
                      <a:pt x="417680" y="4869455"/>
                    </a:cubicBezTo>
                    <a:cubicBezTo>
                      <a:pt x="440970" y="4848753"/>
                      <a:pt x="483781" y="4803354"/>
                      <a:pt x="483781" y="4803354"/>
                    </a:cubicBezTo>
                    <a:cubicBezTo>
                      <a:pt x="476437" y="4788665"/>
                      <a:pt x="472436" y="4771755"/>
                      <a:pt x="461748" y="4759286"/>
                    </a:cubicBezTo>
                    <a:cubicBezTo>
                      <a:pt x="449799" y="4745345"/>
                      <a:pt x="432621" y="4736908"/>
                      <a:pt x="417680" y="4726236"/>
                    </a:cubicBezTo>
                    <a:cubicBezTo>
                      <a:pt x="380305" y="4699540"/>
                      <a:pt x="392509" y="4706829"/>
                      <a:pt x="351579" y="4693185"/>
                    </a:cubicBezTo>
                    <a:cubicBezTo>
                      <a:pt x="355769" y="4672233"/>
                      <a:pt x="362321" y="4627635"/>
                      <a:pt x="373613" y="4605050"/>
                    </a:cubicBezTo>
                    <a:cubicBezTo>
                      <a:pt x="379534" y="4593207"/>
                      <a:pt x="388302" y="4583017"/>
                      <a:pt x="395646" y="4572000"/>
                    </a:cubicBezTo>
                    <a:cubicBezTo>
                      <a:pt x="399318" y="4538949"/>
                      <a:pt x="401196" y="4505650"/>
                      <a:pt x="406663" y="4472848"/>
                    </a:cubicBezTo>
                    <a:cubicBezTo>
                      <a:pt x="408572" y="4461393"/>
                      <a:pt x="419589" y="4451252"/>
                      <a:pt x="417680" y="4439797"/>
                    </a:cubicBezTo>
                    <a:cubicBezTo>
                      <a:pt x="415503" y="4426737"/>
                      <a:pt x="404122" y="4416919"/>
                      <a:pt x="395646" y="4406747"/>
                    </a:cubicBezTo>
                    <a:cubicBezTo>
                      <a:pt x="324958" y="4321921"/>
                      <a:pt x="395268" y="4422703"/>
                      <a:pt x="340562" y="4340646"/>
                    </a:cubicBezTo>
                    <a:lnTo>
                      <a:pt x="362596" y="4274544"/>
                    </a:lnTo>
                    <a:cubicBezTo>
                      <a:pt x="366268" y="4263527"/>
                      <a:pt x="367172" y="4251156"/>
                      <a:pt x="373613" y="4241494"/>
                    </a:cubicBezTo>
                    <a:lnTo>
                      <a:pt x="395646" y="4208443"/>
                    </a:lnTo>
                    <a:cubicBezTo>
                      <a:pt x="399318" y="4179065"/>
                      <a:pt x="401796" y="4149512"/>
                      <a:pt x="406663" y="4120308"/>
                    </a:cubicBezTo>
                    <a:cubicBezTo>
                      <a:pt x="409152" y="4105373"/>
                      <a:pt x="417680" y="4091382"/>
                      <a:pt x="417680" y="4076241"/>
                    </a:cubicBezTo>
                    <a:cubicBezTo>
                      <a:pt x="417680" y="4064628"/>
                      <a:pt x="409480" y="4054456"/>
                      <a:pt x="406663" y="4043190"/>
                    </a:cubicBezTo>
                    <a:cubicBezTo>
                      <a:pt x="402121" y="4025024"/>
                      <a:pt x="402221" y="4005639"/>
                      <a:pt x="395646" y="3988106"/>
                    </a:cubicBezTo>
                    <a:cubicBezTo>
                      <a:pt x="390997" y="3975708"/>
                      <a:pt x="379534" y="3966898"/>
                      <a:pt x="373613" y="3955055"/>
                    </a:cubicBezTo>
                    <a:cubicBezTo>
                      <a:pt x="368420" y="3944668"/>
                      <a:pt x="366268" y="3933022"/>
                      <a:pt x="362596" y="3922005"/>
                    </a:cubicBezTo>
                    <a:cubicBezTo>
                      <a:pt x="369940" y="3910988"/>
                      <a:pt x="378708" y="3900797"/>
                      <a:pt x="384629" y="3888954"/>
                    </a:cubicBezTo>
                    <a:cubicBezTo>
                      <a:pt x="389822" y="3878567"/>
                      <a:pt x="387434" y="3864115"/>
                      <a:pt x="395646" y="3855903"/>
                    </a:cubicBezTo>
                    <a:cubicBezTo>
                      <a:pt x="403858" y="3847691"/>
                      <a:pt x="417680" y="3848558"/>
                      <a:pt x="428697" y="3844886"/>
                    </a:cubicBezTo>
                    <a:cubicBezTo>
                      <a:pt x="516941" y="3712520"/>
                      <a:pt x="462040" y="3819335"/>
                      <a:pt x="483781" y="3558448"/>
                    </a:cubicBezTo>
                    <a:cubicBezTo>
                      <a:pt x="485038" y="3543359"/>
                      <a:pt x="491513" y="3529161"/>
                      <a:pt x="494798" y="3514380"/>
                    </a:cubicBezTo>
                    <a:cubicBezTo>
                      <a:pt x="498860" y="3496101"/>
                      <a:pt x="501604" y="3477541"/>
                      <a:pt x="505815" y="3459296"/>
                    </a:cubicBezTo>
                    <a:cubicBezTo>
                      <a:pt x="505826" y="3459248"/>
                      <a:pt x="533352" y="3349152"/>
                      <a:pt x="538866" y="3327094"/>
                    </a:cubicBezTo>
                    <a:lnTo>
                      <a:pt x="560899" y="3238959"/>
                    </a:lnTo>
                    <a:cubicBezTo>
                      <a:pt x="581897" y="3154970"/>
                      <a:pt x="562329" y="3264860"/>
                      <a:pt x="582933" y="3161841"/>
                    </a:cubicBezTo>
                    <a:cubicBezTo>
                      <a:pt x="597362" y="3089696"/>
                      <a:pt x="587906" y="3111383"/>
                      <a:pt x="604967" y="3051672"/>
                    </a:cubicBezTo>
                    <a:cubicBezTo>
                      <a:pt x="623429" y="2987057"/>
                      <a:pt x="605828" y="3049950"/>
                      <a:pt x="638017" y="2985571"/>
                    </a:cubicBezTo>
                    <a:cubicBezTo>
                      <a:pt x="659458" y="2942688"/>
                      <a:pt x="638869" y="2957877"/>
                      <a:pt x="660051" y="2908453"/>
                    </a:cubicBezTo>
                    <a:cubicBezTo>
                      <a:pt x="665267" y="2896283"/>
                      <a:pt x="676163" y="2887245"/>
                      <a:pt x="682085" y="2875402"/>
                    </a:cubicBezTo>
                    <a:cubicBezTo>
                      <a:pt x="687278" y="2865015"/>
                      <a:pt x="687462" y="2852503"/>
                      <a:pt x="693102" y="2842352"/>
                    </a:cubicBezTo>
                    <a:cubicBezTo>
                      <a:pt x="705962" y="2819203"/>
                      <a:pt x="722480" y="2798284"/>
                      <a:pt x="737169" y="2776250"/>
                    </a:cubicBezTo>
                    <a:cubicBezTo>
                      <a:pt x="746279" y="2762585"/>
                      <a:pt x="751055" y="2746442"/>
                      <a:pt x="759203" y="2732183"/>
                    </a:cubicBezTo>
                    <a:cubicBezTo>
                      <a:pt x="771710" y="2710297"/>
                      <a:pt x="793254" y="2680104"/>
                      <a:pt x="814287" y="2666082"/>
                    </a:cubicBezTo>
                    <a:cubicBezTo>
                      <a:pt x="823950" y="2659640"/>
                      <a:pt x="836321" y="2658737"/>
                      <a:pt x="847338" y="2655065"/>
                    </a:cubicBezTo>
                    <a:cubicBezTo>
                      <a:pt x="903283" y="2571147"/>
                      <a:pt x="877781" y="2611671"/>
                      <a:pt x="924456" y="2533879"/>
                    </a:cubicBezTo>
                    <a:cubicBezTo>
                      <a:pt x="928128" y="2515518"/>
                      <a:pt x="930546" y="2496860"/>
                      <a:pt x="935473" y="2478795"/>
                    </a:cubicBezTo>
                    <a:cubicBezTo>
                      <a:pt x="941584" y="2456388"/>
                      <a:pt x="957507" y="2412694"/>
                      <a:pt x="957507" y="2412694"/>
                    </a:cubicBezTo>
                    <a:cubicBezTo>
                      <a:pt x="961179" y="2262130"/>
                      <a:pt x="962253" y="2111480"/>
                      <a:pt x="968523" y="1961002"/>
                    </a:cubicBezTo>
                    <a:cubicBezTo>
                      <a:pt x="970240" y="1919791"/>
                      <a:pt x="995499" y="1804092"/>
                      <a:pt x="1001574" y="1773715"/>
                    </a:cubicBezTo>
                    <a:cubicBezTo>
                      <a:pt x="1015188" y="1705648"/>
                      <a:pt x="1002204" y="1734211"/>
                      <a:pt x="1034625" y="1685580"/>
                    </a:cubicBezTo>
                    <a:cubicBezTo>
                      <a:pt x="1038153" y="1671469"/>
                      <a:pt x="1048759" y="1624261"/>
                      <a:pt x="1056658" y="1608462"/>
                    </a:cubicBezTo>
                    <a:cubicBezTo>
                      <a:pt x="1062579" y="1596619"/>
                      <a:pt x="1071347" y="1586429"/>
                      <a:pt x="1078692" y="1575412"/>
                    </a:cubicBezTo>
                    <a:cubicBezTo>
                      <a:pt x="1085950" y="1553639"/>
                      <a:pt x="1092327" y="1524844"/>
                      <a:pt x="1111743" y="1509311"/>
                    </a:cubicBezTo>
                    <a:cubicBezTo>
                      <a:pt x="1120811" y="1502057"/>
                      <a:pt x="1134642" y="1503934"/>
                      <a:pt x="1144793" y="1498294"/>
                    </a:cubicBezTo>
                    <a:cubicBezTo>
                      <a:pt x="1258438" y="1435157"/>
                      <a:pt x="1169161" y="1468138"/>
                      <a:pt x="1243945" y="1443209"/>
                    </a:cubicBezTo>
                    <a:cubicBezTo>
                      <a:pt x="1254962" y="1432192"/>
                      <a:pt x="1264032" y="1418801"/>
                      <a:pt x="1276996" y="1410159"/>
                    </a:cubicBezTo>
                    <a:cubicBezTo>
                      <a:pt x="1286658" y="1403718"/>
                      <a:pt x="1301835" y="1407353"/>
                      <a:pt x="1310046" y="1399142"/>
                    </a:cubicBezTo>
                    <a:cubicBezTo>
                      <a:pt x="1377256" y="1331931"/>
                      <a:pt x="1280740" y="1367908"/>
                      <a:pt x="1376148" y="1344058"/>
                    </a:cubicBezTo>
                    <a:cubicBezTo>
                      <a:pt x="1387165" y="1333041"/>
                      <a:pt x="1396235" y="1319649"/>
                      <a:pt x="1409198" y="1311007"/>
                    </a:cubicBezTo>
                    <a:cubicBezTo>
                      <a:pt x="1418861" y="1304565"/>
                      <a:pt x="1433181" y="1307245"/>
                      <a:pt x="1442249" y="1299990"/>
                    </a:cubicBezTo>
                    <a:cubicBezTo>
                      <a:pt x="1452588" y="1291719"/>
                      <a:pt x="1455485" y="1276835"/>
                      <a:pt x="1464282" y="1266939"/>
                    </a:cubicBezTo>
                    <a:cubicBezTo>
                      <a:pt x="1484984" y="1243649"/>
                      <a:pt x="1530384" y="1200838"/>
                      <a:pt x="1530384" y="1200838"/>
                    </a:cubicBezTo>
                    <a:cubicBezTo>
                      <a:pt x="1541864" y="1166398"/>
                      <a:pt x="1553000" y="1123330"/>
                      <a:pt x="1585468" y="1101686"/>
                    </a:cubicBezTo>
                    <a:lnTo>
                      <a:pt x="1618519" y="1079653"/>
                    </a:lnTo>
                    <a:cubicBezTo>
                      <a:pt x="1646210" y="996580"/>
                      <a:pt x="1605636" y="1095755"/>
                      <a:pt x="1662586" y="1024568"/>
                    </a:cubicBezTo>
                    <a:cubicBezTo>
                      <a:pt x="1734271" y="934962"/>
                      <a:pt x="1602762" y="1051343"/>
                      <a:pt x="1695637" y="958467"/>
                    </a:cubicBezTo>
                    <a:cubicBezTo>
                      <a:pt x="1704999" y="949104"/>
                      <a:pt x="1718515" y="944909"/>
                      <a:pt x="1728687" y="936433"/>
                    </a:cubicBezTo>
                    <a:cubicBezTo>
                      <a:pt x="1836982" y="846188"/>
                      <a:pt x="1697107" y="956997"/>
                      <a:pt x="1783772" y="870332"/>
                    </a:cubicBezTo>
                    <a:cubicBezTo>
                      <a:pt x="1793134" y="860970"/>
                      <a:pt x="1805805" y="855643"/>
                      <a:pt x="1816822" y="848299"/>
                    </a:cubicBezTo>
                    <a:cubicBezTo>
                      <a:pt x="1849243" y="783457"/>
                      <a:pt x="1833662" y="819811"/>
                      <a:pt x="1860890" y="738130"/>
                    </a:cubicBezTo>
                    <a:cubicBezTo>
                      <a:pt x="1865077" y="725569"/>
                      <a:pt x="1875579" y="716096"/>
                      <a:pt x="1882923" y="705079"/>
                    </a:cubicBezTo>
                    <a:cubicBezTo>
                      <a:pt x="1886595" y="690390"/>
                      <a:pt x="1890655" y="675793"/>
                      <a:pt x="1893940" y="661012"/>
                    </a:cubicBezTo>
                    <a:cubicBezTo>
                      <a:pt x="1908495" y="595517"/>
                      <a:pt x="1917511" y="529066"/>
                      <a:pt x="1926991" y="462708"/>
                    </a:cubicBezTo>
                    <a:cubicBezTo>
                      <a:pt x="1931900" y="369434"/>
                      <a:pt x="1928850" y="278075"/>
                      <a:pt x="1949025" y="187286"/>
                    </a:cubicBezTo>
                    <a:cubicBezTo>
                      <a:pt x="1953631" y="166558"/>
                      <a:pt x="1965684" y="135527"/>
                      <a:pt x="1982075" y="121185"/>
                    </a:cubicBezTo>
                    <a:cubicBezTo>
                      <a:pt x="2002004" y="103747"/>
                      <a:pt x="2048176" y="77118"/>
                      <a:pt x="2048176" y="77118"/>
                    </a:cubicBezTo>
                    <a:cubicBezTo>
                      <a:pt x="2051848" y="66101"/>
                      <a:pt x="2050981" y="52279"/>
                      <a:pt x="2059193" y="44067"/>
                    </a:cubicBezTo>
                    <a:cubicBezTo>
                      <a:pt x="2077918" y="25342"/>
                      <a:pt x="2125295" y="0"/>
                      <a:pt x="2125295" y="0"/>
                    </a:cubicBezTo>
                    <a:cubicBezTo>
                      <a:pt x="2147329" y="3672"/>
                      <a:pt x="2169813" y="5261"/>
                      <a:pt x="2191396" y="11017"/>
                    </a:cubicBezTo>
                    <a:cubicBezTo>
                      <a:pt x="2225058" y="19993"/>
                      <a:pt x="2256750" y="35617"/>
                      <a:pt x="2290548" y="44067"/>
                    </a:cubicBezTo>
                    <a:lnTo>
                      <a:pt x="2334615" y="55084"/>
                    </a:lnTo>
                    <a:cubicBezTo>
                      <a:pt x="2413679" y="107794"/>
                      <a:pt x="2381991" y="80427"/>
                      <a:pt x="2433767" y="132202"/>
                    </a:cubicBezTo>
                    <a:cubicBezTo>
                      <a:pt x="2453796" y="212317"/>
                      <a:pt x="2427113" y="147582"/>
                      <a:pt x="2477834" y="198303"/>
                    </a:cubicBezTo>
                    <a:cubicBezTo>
                      <a:pt x="2487197" y="207666"/>
                      <a:pt x="2492172" y="220580"/>
                      <a:pt x="2499868" y="231354"/>
                    </a:cubicBezTo>
                    <a:cubicBezTo>
                      <a:pt x="2510540" y="246295"/>
                      <a:pt x="2520970" y="261480"/>
                      <a:pt x="2532919" y="275421"/>
                    </a:cubicBezTo>
                    <a:cubicBezTo>
                      <a:pt x="2543058" y="287250"/>
                      <a:pt x="2555995" y="296503"/>
                      <a:pt x="2565969" y="308472"/>
                    </a:cubicBezTo>
                    <a:cubicBezTo>
                      <a:pt x="2605436" y="355834"/>
                      <a:pt x="2574176" y="324885"/>
                      <a:pt x="2599020" y="374573"/>
                    </a:cubicBezTo>
                    <a:cubicBezTo>
                      <a:pt x="2604942" y="386416"/>
                      <a:pt x="2613709" y="396607"/>
                      <a:pt x="2621054" y="407624"/>
                    </a:cubicBezTo>
                    <a:cubicBezTo>
                      <a:pt x="2645854" y="482030"/>
                      <a:pt x="2617232" y="390432"/>
                      <a:pt x="2643087" y="506776"/>
                    </a:cubicBezTo>
                    <a:cubicBezTo>
                      <a:pt x="2645606" y="518112"/>
                      <a:pt x="2650914" y="528660"/>
                      <a:pt x="2654104" y="539826"/>
                    </a:cubicBezTo>
                    <a:cubicBezTo>
                      <a:pt x="2658264" y="554385"/>
                      <a:pt x="2660961" y="569335"/>
                      <a:pt x="2665121" y="583894"/>
                    </a:cubicBezTo>
                    <a:cubicBezTo>
                      <a:pt x="2676921" y="625194"/>
                      <a:pt x="2678544" y="613651"/>
                      <a:pt x="2687155" y="661012"/>
                    </a:cubicBezTo>
                    <a:cubicBezTo>
                      <a:pt x="2700288" y="733242"/>
                      <a:pt x="2691889" y="724528"/>
                      <a:pt x="2709189" y="782197"/>
                    </a:cubicBezTo>
                    <a:cubicBezTo>
                      <a:pt x="2715863" y="804443"/>
                      <a:pt x="2723878" y="826265"/>
                      <a:pt x="2731222" y="848299"/>
                    </a:cubicBezTo>
                    <a:lnTo>
                      <a:pt x="2753256" y="914400"/>
                    </a:lnTo>
                    <a:cubicBezTo>
                      <a:pt x="2759177" y="932164"/>
                      <a:pt x="2759346" y="951419"/>
                      <a:pt x="2764273" y="969484"/>
                    </a:cubicBezTo>
                    <a:cubicBezTo>
                      <a:pt x="2770384" y="991891"/>
                      <a:pt x="2781752" y="1012810"/>
                      <a:pt x="2786307" y="1035585"/>
                    </a:cubicBezTo>
                    <a:cubicBezTo>
                      <a:pt x="2801878" y="1113445"/>
                      <a:pt x="2791401" y="1072906"/>
                      <a:pt x="2819357" y="1156771"/>
                    </a:cubicBezTo>
                    <a:cubicBezTo>
                      <a:pt x="2824145" y="1171135"/>
                      <a:pt x="2825586" y="1186474"/>
                      <a:pt x="2830374" y="1200838"/>
                    </a:cubicBezTo>
                    <a:cubicBezTo>
                      <a:pt x="2836628" y="1219599"/>
                      <a:pt x="2846154" y="1237162"/>
                      <a:pt x="2852408" y="1255923"/>
                    </a:cubicBezTo>
                    <a:cubicBezTo>
                      <a:pt x="2876122" y="1327064"/>
                      <a:pt x="2846731" y="1274949"/>
                      <a:pt x="2885458" y="1333041"/>
                    </a:cubicBezTo>
                    <a:cubicBezTo>
                      <a:pt x="2913737" y="1446153"/>
                      <a:pt x="2875301" y="1305956"/>
                      <a:pt x="2918509" y="1421176"/>
                    </a:cubicBezTo>
                    <a:cubicBezTo>
                      <a:pt x="2923825" y="1435353"/>
                      <a:pt x="2925175" y="1450740"/>
                      <a:pt x="2929526" y="1465243"/>
                    </a:cubicBezTo>
                    <a:cubicBezTo>
                      <a:pt x="2936200" y="1487489"/>
                      <a:pt x="2944216" y="1509310"/>
                      <a:pt x="2951560" y="1531344"/>
                    </a:cubicBezTo>
                    <a:cubicBezTo>
                      <a:pt x="2955232" y="1542361"/>
                      <a:pt x="2960667" y="1552940"/>
                      <a:pt x="2962576" y="1564395"/>
                    </a:cubicBezTo>
                    <a:cubicBezTo>
                      <a:pt x="2969921" y="1608462"/>
                      <a:pt x="2973775" y="1653256"/>
                      <a:pt x="2984610" y="1696597"/>
                    </a:cubicBezTo>
                    <a:cubicBezTo>
                      <a:pt x="3000168" y="1758831"/>
                      <a:pt x="2992657" y="1725818"/>
                      <a:pt x="3006644" y="1795749"/>
                    </a:cubicBezTo>
                    <a:cubicBezTo>
                      <a:pt x="3010316" y="1854506"/>
                      <a:pt x="3011498" y="1913471"/>
                      <a:pt x="3017661" y="1972019"/>
                    </a:cubicBezTo>
                    <a:cubicBezTo>
                      <a:pt x="3018877" y="1983568"/>
                      <a:pt x="3027036" y="1993574"/>
                      <a:pt x="3028678" y="2005070"/>
                    </a:cubicBezTo>
                    <a:cubicBezTo>
                      <a:pt x="3034414" y="2045224"/>
                      <a:pt x="3032646" y="2086311"/>
                      <a:pt x="3039695" y="2126255"/>
                    </a:cubicBezTo>
                    <a:cubicBezTo>
                      <a:pt x="3043731" y="2149127"/>
                      <a:pt x="3054384" y="2170322"/>
                      <a:pt x="3061728" y="2192356"/>
                    </a:cubicBezTo>
                    <a:cubicBezTo>
                      <a:pt x="3076931" y="2237967"/>
                      <a:pt x="3066304" y="2215746"/>
                      <a:pt x="3094779" y="2258458"/>
                    </a:cubicBezTo>
                    <a:cubicBezTo>
                      <a:pt x="3129233" y="2396269"/>
                      <a:pt x="3085193" y="2224902"/>
                      <a:pt x="3116813" y="2335576"/>
                    </a:cubicBezTo>
                    <a:cubicBezTo>
                      <a:pt x="3120972" y="2350134"/>
                      <a:pt x="3122513" y="2365466"/>
                      <a:pt x="3127829" y="2379643"/>
                    </a:cubicBezTo>
                    <a:cubicBezTo>
                      <a:pt x="3157925" y="2459900"/>
                      <a:pt x="3142641" y="2389886"/>
                      <a:pt x="3160880" y="2456761"/>
                    </a:cubicBezTo>
                    <a:cubicBezTo>
                      <a:pt x="3168848" y="2485976"/>
                      <a:pt x="3175569" y="2515518"/>
                      <a:pt x="3182914" y="2544896"/>
                    </a:cubicBezTo>
                    <a:cubicBezTo>
                      <a:pt x="3190880" y="2576761"/>
                      <a:pt x="3219015" y="2601166"/>
                      <a:pt x="3226981" y="2633031"/>
                    </a:cubicBezTo>
                    <a:cubicBezTo>
                      <a:pt x="3243631" y="2699631"/>
                      <a:pt x="3233210" y="2662735"/>
                      <a:pt x="3260032" y="2743200"/>
                    </a:cubicBezTo>
                    <a:lnTo>
                      <a:pt x="3282066" y="2809301"/>
                    </a:lnTo>
                    <a:lnTo>
                      <a:pt x="3304099" y="2963537"/>
                    </a:lnTo>
                    <a:cubicBezTo>
                      <a:pt x="3307383" y="2986529"/>
                      <a:pt x="3318788" y="3007604"/>
                      <a:pt x="3326133" y="3029638"/>
                    </a:cubicBezTo>
                    <a:lnTo>
                      <a:pt x="3348167" y="3095739"/>
                    </a:lnTo>
                    <a:lnTo>
                      <a:pt x="3370201" y="3161841"/>
                    </a:lnTo>
                    <a:cubicBezTo>
                      <a:pt x="3379154" y="3188699"/>
                      <a:pt x="3386416" y="3234810"/>
                      <a:pt x="3392234" y="3260993"/>
                    </a:cubicBezTo>
                    <a:cubicBezTo>
                      <a:pt x="3395519" y="3275774"/>
                      <a:pt x="3400542" y="3290163"/>
                      <a:pt x="3403251" y="3305060"/>
                    </a:cubicBezTo>
                    <a:cubicBezTo>
                      <a:pt x="3433850" y="3473354"/>
                      <a:pt x="3390128" y="3285618"/>
                      <a:pt x="3436302" y="3470313"/>
                    </a:cubicBezTo>
                    <a:lnTo>
                      <a:pt x="3447319" y="3514380"/>
                    </a:lnTo>
                    <a:lnTo>
                      <a:pt x="3458336" y="3558448"/>
                    </a:lnTo>
                    <a:cubicBezTo>
                      <a:pt x="3464040" y="3609790"/>
                      <a:pt x="3464466" y="3653960"/>
                      <a:pt x="3480369" y="3701667"/>
                    </a:cubicBezTo>
                    <a:cubicBezTo>
                      <a:pt x="3486623" y="3720428"/>
                      <a:pt x="3496587" y="3737850"/>
                      <a:pt x="3502403" y="3756752"/>
                    </a:cubicBezTo>
                    <a:cubicBezTo>
                      <a:pt x="3511309" y="3785695"/>
                      <a:pt x="3517092" y="3815508"/>
                      <a:pt x="3524437" y="3844886"/>
                    </a:cubicBezTo>
                    <a:cubicBezTo>
                      <a:pt x="3535258" y="3888167"/>
                      <a:pt x="3539608" y="3910358"/>
                      <a:pt x="3557487" y="3955055"/>
                    </a:cubicBezTo>
                    <a:cubicBezTo>
                      <a:pt x="3564832" y="3973416"/>
                      <a:pt x="3570677" y="3992451"/>
                      <a:pt x="3579521" y="4010139"/>
                    </a:cubicBezTo>
                    <a:cubicBezTo>
                      <a:pt x="3585443" y="4021982"/>
                      <a:pt x="3594210" y="4032173"/>
                      <a:pt x="3601555" y="4043190"/>
                    </a:cubicBezTo>
                    <a:cubicBezTo>
                      <a:pt x="3605227" y="4072568"/>
                      <a:pt x="3605391" y="4102602"/>
                      <a:pt x="3612572" y="4131325"/>
                    </a:cubicBezTo>
                    <a:cubicBezTo>
                      <a:pt x="3616555" y="4147258"/>
                      <a:pt x="3628136" y="4160298"/>
                      <a:pt x="3634605" y="4175393"/>
                    </a:cubicBezTo>
                    <a:cubicBezTo>
                      <a:pt x="3639179" y="4186067"/>
                      <a:pt x="3642805" y="4197177"/>
                      <a:pt x="3645622" y="4208443"/>
                    </a:cubicBezTo>
                    <a:cubicBezTo>
                      <a:pt x="3650164" y="4226609"/>
                      <a:pt x="3650064" y="4245994"/>
                      <a:pt x="3656639" y="4263527"/>
                    </a:cubicBezTo>
                    <a:cubicBezTo>
                      <a:pt x="3661288" y="4275925"/>
                      <a:pt x="3672104" y="4285082"/>
                      <a:pt x="3678673" y="4296578"/>
                    </a:cubicBezTo>
                    <a:cubicBezTo>
                      <a:pt x="3686821" y="4310837"/>
                      <a:pt x="3693362" y="4325957"/>
                      <a:pt x="3700707" y="4340646"/>
                    </a:cubicBezTo>
                    <a:cubicBezTo>
                      <a:pt x="3717661" y="4425423"/>
                      <a:pt x="3707182" y="4377566"/>
                      <a:pt x="3733757" y="4483865"/>
                    </a:cubicBezTo>
                    <a:cubicBezTo>
                      <a:pt x="3737429" y="4498554"/>
                      <a:pt x="3739986" y="4513568"/>
                      <a:pt x="3744774" y="4527932"/>
                    </a:cubicBezTo>
                    <a:lnTo>
                      <a:pt x="3766808" y="4594033"/>
                    </a:lnTo>
                    <a:cubicBezTo>
                      <a:pt x="3770480" y="4605050"/>
                      <a:pt x="3775547" y="4615697"/>
                      <a:pt x="3777825" y="4627084"/>
                    </a:cubicBezTo>
                    <a:cubicBezTo>
                      <a:pt x="3781497" y="4645445"/>
                      <a:pt x="3785492" y="4663745"/>
                      <a:pt x="3788842" y="4682168"/>
                    </a:cubicBezTo>
                    <a:cubicBezTo>
                      <a:pt x="3792838" y="4704146"/>
                      <a:pt x="3795178" y="4726428"/>
                      <a:pt x="3799858" y="4748270"/>
                    </a:cubicBezTo>
                    <a:cubicBezTo>
                      <a:pt x="3806203" y="4777880"/>
                      <a:pt x="3821892" y="4836405"/>
                      <a:pt x="3821892" y="4836405"/>
                    </a:cubicBezTo>
                    <a:cubicBezTo>
                      <a:pt x="3804172" y="5013603"/>
                      <a:pt x="3833279" y="4957960"/>
                      <a:pt x="3788842" y="4913523"/>
                    </a:cubicBezTo>
                    <a:cubicBezTo>
                      <a:pt x="3779479" y="4904160"/>
                      <a:pt x="3766808" y="4898834"/>
                      <a:pt x="3755791" y="4891489"/>
                    </a:cubicBezTo>
                    <a:cubicBezTo>
                      <a:pt x="3759463" y="4902506"/>
                      <a:pt x="3766808" y="4912926"/>
                      <a:pt x="3766808" y="4924539"/>
                    </a:cubicBezTo>
                    <a:cubicBezTo>
                      <a:pt x="3766808" y="4950506"/>
                      <a:pt x="3779017" y="4990045"/>
                      <a:pt x="3755791" y="5001658"/>
                    </a:cubicBezTo>
                    <a:cubicBezTo>
                      <a:pt x="3735597" y="5011755"/>
                      <a:pt x="3676375" y="4925149"/>
                      <a:pt x="3667656" y="4913523"/>
                    </a:cubicBezTo>
                    <a:cubicBezTo>
                      <a:pt x="3663984" y="4902506"/>
                      <a:pt x="3664851" y="4872261"/>
                      <a:pt x="3656639" y="4880472"/>
                    </a:cubicBezTo>
                    <a:cubicBezTo>
                      <a:pt x="3630050" y="4907060"/>
                      <a:pt x="3647946" y="4942527"/>
                      <a:pt x="3656639" y="4968607"/>
                    </a:cubicBezTo>
                    <a:cubicBezTo>
                      <a:pt x="3652967" y="5023691"/>
                      <a:pt x="3655498" y="5079544"/>
                      <a:pt x="3645622" y="5133860"/>
                    </a:cubicBezTo>
                    <a:cubicBezTo>
                      <a:pt x="3642913" y="5148757"/>
                      <a:pt x="3640569" y="5103710"/>
                      <a:pt x="3634605" y="5089793"/>
                    </a:cubicBezTo>
                    <a:cubicBezTo>
                      <a:pt x="3629389" y="5077623"/>
                      <a:pt x="3612572" y="5043501"/>
                      <a:pt x="3612572" y="5056742"/>
                    </a:cubicBezTo>
                    <a:cubicBezTo>
                      <a:pt x="3612572" y="5094865"/>
                      <a:pt x="3641680" y="5114959"/>
                      <a:pt x="3656639" y="5144877"/>
                    </a:cubicBezTo>
                    <a:cubicBezTo>
                      <a:pt x="3681600" y="5194798"/>
                      <a:pt x="3686617" y="5231736"/>
                      <a:pt x="3700707" y="5288096"/>
                    </a:cubicBezTo>
                    <a:cubicBezTo>
                      <a:pt x="3731649" y="5411863"/>
                      <a:pt x="3756212" y="5409423"/>
                      <a:pt x="3689690" y="5387248"/>
                    </a:cubicBezTo>
                    <a:cubicBezTo>
                      <a:pt x="3679897" y="5357868"/>
                      <a:pt x="3674791" y="5337359"/>
                      <a:pt x="3656639" y="5310130"/>
                    </a:cubicBezTo>
                    <a:cubicBezTo>
                      <a:pt x="3643596" y="5290565"/>
                      <a:pt x="3627261" y="5273407"/>
                      <a:pt x="3612572" y="5255046"/>
                    </a:cubicBezTo>
                    <a:cubicBezTo>
                      <a:pt x="3589272" y="5161845"/>
                      <a:pt x="3621013" y="5256689"/>
                      <a:pt x="3568504" y="5177927"/>
                    </a:cubicBezTo>
                    <a:cubicBezTo>
                      <a:pt x="3562062" y="5168265"/>
                      <a:pt x="3562680" y="5155264"/>
                      <a:pt x="3557487" y="5144877"/>
                    </a:cubicBezTo>
                    <a:cubicBezTo>
                      <a:pt x="3551566" y="5133034"/>
                      <a:pt x="3542023" y="5123322"/>
                      <a:pt x="3535454" y="5111826"/>
                    </a:cubicBezTo>
                    <a:cubicBezTo>
                      <a:pt x="3527306" y="5097567"/>
                      <a:pt x="3523679" y="5080583"/>
                      <a:pt x="3513420" y="5067759"/>
                    </a:cubicBezTo>
                    <a:cubicBezTo>
                      <a:pt x="3493954" y="5043427"/>
                      <a:pt x="3469353" y="5023692"/>
                      <a:pt x="3447319" y="5001658"/>
                    </a:cubicBezTo>
                    <a:lnTo>
                      <a:pt x="3414268" y="4968607"/>
                    </a:lnTo>
                    <a:cubicBezTo>
                      <a:pt x="3410596" y="4979624"/>
                      <a:pt x="3403251" y="4990045"/>
                      <a:pt x="3403251" y="5001658"/>
                    </a:cubicBezTo>
                    <a:cubicBezTo>
                      <a:pt x="3403251" y="5013271"/>
                      <a:pt x="3411451" y="5023442"/>
                      <a:pt x="3414268" y="5034708"/>
                    </a:cubicBezTo>
                    <a:cubicBezTo>
                      <a:pt x="3418810" y="5052874"/>
                      <a:pt x="3420358" y="5071728"/>
                      <a:pt x="3425285" y="5089793"/>
                    </a:cubicBezTo>
                    <a:cubicBezTo>
                      <a:pt x="3431396" y="5112200"/>
                      <a:pt x="3447319" y="5155894"/>
                      <a:pt x="3447319" y="5155894"/>
                    </a:cubicBezTo>
                    <a:cubicBezTo>
                      <a:pt x="3439974" y="5221995"/>
                      <a:pt x="3455028" y="5294711"/>
                      <a:pt x="3425285" y="5354197"/>
                    </a:cubicBezTo>
                    <a:cubicBezTo>
                      <a:pt x="3414769" y="5375229"/>
                      <a:pt x="3385685" y="5327826"/>
                      <a:pt x="3370201" y="5310130"/>
                    </a:cubicBezTo>
                    <a:cubicBezTo>
                      <a:pt x="3343456" y="5279564"/>
                      <a:pt x="3353020" y="5264751"/>
                      <a:pt x="3337150" y="5233012"/>
                    </a:cubicBezTo>
                    <a:cubicBezTo>
                      <a:pt x="3331228" y="5221169"/>
                      <a:pt x="3322461" y="5210978"/>
                      <a:pt x="3315116" y="5199961"/>
                    </a:cubicBezTo>
                    <a:cubicBezTo>
                      <a:pt x="3311444" y="5174255"/>
                      <a:pt x="3304099" y="5148810"/>
                      <a:pt x="3304099" y="5122843"/>
                    </a:cubicBezTo>
                    <a:cubicBezTo>
                      <a:pt x="3304099" y="5107702"/>
                      <a:pt x="3311444" y="5152222"/>
                      <a:pt x="3315116" y="5166911"/>
                    </a:cubicBezTo>
                    <a:cubicBezTo>
                      <a:pt x="3320749" y="5189443"/>
                      <a:pt x="3329805" y="5210978"/>
                      <a:pt x="3337150" y="5233012"/>
                    </a:cubicBezTo>
                    <a:cubicBezTo>
                      <a:pt x="3345604" y="5258375"/>
                      <a:pt x="3351839" y="5284424"/>
                      <a:pt x="3359184" y="5310130"/>
                    </a:cubicBezTo>
                    <a:cubicBezTo>
                      <a:pt x="3362856" y="5343181"/>
                      <a:pt x="3392099" y="5384256"/>
                      <a:pt x="3370201" y="5409282"/>
                    </a:cubicBezTo>
                    <a:cubicBezTo>
                      <a:pt x="3356136" y="5425356"/>
                      <a:pt x="3276581" y="5396437"/>
                      <a:pt x="3249015" y="5387248"/>
                    </a:cubicBezTo>
                    <a:cubicBezTo>
                      <a:pt x="3195332" y="5306724"/>
                      <a:pt x="3266780" y="5402052"/>
                      <a:pt x="3182914" y="5332164"/>
                    </a:cubicBezTo>
                    <a:cubicBezTo>
                      <a:pt x="3172742" y="5323687"/>
                      <a:pt x="3170243" y="5308476"/>
                      <a:pt x="3160880" y="5299113"/>
                    </a:cubicBezTo>
                    <a:cubicBezTo>
                      <a:pt x="3151517" y="5289750"/>
                      <a:pt x="3138603" y="5284775"/>
                      <a:pt x="3127829" y="5277079"/>
                    </a:cubicBezTo>
                    <a:cubicBezTo>
                      <a:pt x="3112888" y="5266407"/>
                      <a:pt x="3099704" y="5253139"/>
                      <a:pt x="3083762" y="5244029"/>
                    </a:cubicBezTo>
                    <a:cubicBezTo>
                      <a:pt x="3061427" y="5231266"/>
                      <a:pt x="3000792" y="5224692"/>
                      <a:pt x="2984610" y="5221995"/>
                    </a:cubicBezTo>
                    <a:cubicBezTo>
                      <a:pt x="2995627" y="5236684"/>
                      <a:pt x="3008551" y="5250120"/>
                      <a:pt x="3017661" y="5266062"/>
                    </a:cubicBezTo>
                    <a:cubicBezTo>
                      <a:pt x="3023423" y="5276145"/>
                      <a:pt x="3040201" y="5297673"/>
                      <a:pt x="3028678" y="5299113"/>
                    </a:cubicBezTo>
                    <a:cubicBezTo>
                      <a:pt x="2995083" y="5303312"/>
                      <a:pt x="2962516" y="5284692"/>
                      <a:pt x="2929526" y="5277079"/>
                    </a:cubicBezTo>
                    <a:cubicBezTo>
                      <a:pt x="2884569" y="5266704"/>
                      <a:pt x="2891864" y="5268197"/>
                      <a:pt x="2852408" y="5255046"/>
                    </a:cubicBezTo>
                    <a:cubicBezTo>
                      <a:pt x="2863425" y="5266063"/>
                      <a:pt x="2878490" y="5274161"/>
                      <a:pt x="2885458" y="5288096"/>
                    </a:cubicBezTo>
                    <a:cubicBezTo>
                      <a:pt x="2893832" y="5304844"/>
                      <a:pt x="2891933" y="5325014"/>
                      <a:pt x="2896475" y="5343180"/>
                    </a:cubicBezTo>
                    <a:cubicBezTo>
                      <a:pt x="2899292" y="5354446"/>
                      <a:pt x="2903820" y="5365214"/>
                      <a:pt x="2907492" y="5376231"/>
                    </a:cubicBezTo>
                    <a:cubicBezTo>
                      <a:pt x="2900147" y="5427643"/>
                      <a:pt x="2888508" y="5478623"/>
                      <a:pt x="2885458" y="5530467"/>
                    </a:cubicBezTo>
                    <a:cubicBezTo>
                      <a:pt x="2884916" y="5539673"/>
                      <a:pt x="2915378" y="5587362"/>
                      <a:pt x="2885458" y="5596568"/>
                    </a:cubicBezTo>
                    <a:cubicBezTo>
                      <a:pt x="2843193" y="5609572"/>
                      <a:pt x="2797323" y="5603913"/>
                      <a:pt x="2753256" y="5607585"/>
                    </a:cubicBezTo>
                    <a:cubicBezTo>
                      <a:pt x="2749584" y="5629619"/>
                      <a:pt x="2752229" y="5653707"/>
                      <a:pt x="2742239" y="5673686"/>
                    </a:cubicBezTo>
                    <a:cubicBezTo>
                      <a:pt x="2718897" y="5720370"/>
                      <a:pt x="2609710" y="5685393"/>
                      <a:pt x="2599020" y="5684703"/>
                    </a:cubicBezTo>
                    <a:cubicBezTo>
                      <a:pt x="2521975" y="5679732"/>
                      <a:pt x="2444784" y="5677358"/>
                      <a:pt x="2367666" y="5673686"/>
                    </a:cubicBezTo>
                    <a:cubicBezTo>
                      <a:pt x="1885238" y="5695615"/>
                      <a:pt x="2057758" y="5692499"/>
                      <a:pt x="1276996" y="5673686"/>
                    </a:cubicBezTo>
                    <a:cubicBezTo>
                      <a:pt x="1254665" y="5673148"/>
                      <a:pt x="1232973" y="5666066"/>
                      <a:pt x="1210895" y="5662670"/>
                    </a:cubicBezTo>
                    <a:cubicBezTo>
                      <a:pt x="1185230" y="5658722"/>
                      <a:pt x="1159482" y="5655325"/>
                      <a:pt x="1133776" y="5651653"/>
                    </a:cubicBezTo>
                    <a:cubicBezTo>
                      <a:pt x="934550" y="5585242"/>
                      <a:pt x="1245641" y="5685330"/>
                      <a:pt x="604967" y="5629619"/>
                    </a:cubicBezTo>
                    <a:cubicBezTo>
                      <a:pt x="593398" y="5628613"/>
                      <a:pt x="597622" y="5607585"/>
                      <a:pt x="593950" y="5596568"/>
                    </a:cubicBezTo>
                    <a:lnTo>
                      <a:pt x="638017" y="5530467"/>
                    </a:lnTo>
                    <a:cubicBezTo>
                      <a:pt x="663025" y="5492955"/>
                      <a:pt x="650532" y="5497043"/>
                      <a:pt x="693102" y="5486400"/>
                    </a:cubicBezTo>
                    <a:cubicBezTo>
                      <a:pt x="696665" y="5485509"/>
                      <a:pt x="683921" y="5504761"/>
                      <a:pt x="682085" y="5508433"/>
                    </a:cubicBezTo>
                    <a:close/>
                  </a:path>
                </a:pathLst>
              </a:custGeom>
              <a:solidFill>
                <a:srgbClr val="000000">
                  <a:alpha val="3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8" name=""/>
            <p:cNvGrpSpPr/>
            <p:nvPr/>
          </p:nvGrpSpPr>
          <p:grpSpPr>
            <a:xfrm>
              <a:off x="16116480" y="-1793880"/>
              <a:ext cx="4055040" cy="8853840"/>
              <a:chOff x="16116480" y="-1793880"/>
              <a:chExt cx="4055040" cy="8853840"/>
            </a:xfrm>
          </p:grpSpPr>
          <p:sp>
            <p:nvSpPr>
              <p:cNvPr id="209" name="任意多边形 181"/>
              <p:cNvSpPr/>
              <p:nvPr/>
            </p:nvSpPr>
            <p:spPr>
              <a:xfrm>
                <a:off x="17709840" y="-237600"/>
                <a:ext cx="1235160" cy="7297560"/>
              </a:xfrm>
              <a:custGeom>
                <a:avLst/>
                <a:gdLst>
                  <a:gd name="textAreaLeft" fmla="*/ 0 w 1235160"/>
                  <a:gd name="textAreaRight" fmla="*/ 1235520 w 1235160"/>
                  <a:gd name="textAreaTop" fmla="*/ 0 h 7297560"/>
                  <a:gd name="textAreaBottom" fmla="*/ 7297920 h 7297560"/>
                </a:gdLst>
                <a:ahLst/>
                <a:rect l="textAreaLeft" t="textAreaTop" r="textAreaRight" b="textAreaBottom"/>
                <a:pathLst>
                  <a:path w="2702859" h="9345706">
                    <a:moveTo>
                      <a:pt x="67235" y="9224682"/>
                    </a:moveTo>
                    <a:lnTo>
                      <a:pt x="887506" y="9345706"/>
                    </a:lnTo>
                    <a:lnTo>
                      <a:pt x="1775012" y="9345706"/>
                    </a:lnTo>
                    <a:lnTo>
                      <a:pt x="2232212" y="9144000"/>
                    </a:lnTo>
                    <a:lnTo>
                      <a:pt x="2030506" y="8189259"/>
                    </a:lnTo>
                    <a:lnTo>
                      <a:pt x="1828800" y="6979023"/>
                    </a:lnTo>
                    <a:lnTo>
                      <a:pt x="1667435" y="5513294"/>
                    </a:lnTo>
                    <a:lnTo>
                      <a:pt x="1627094" y="3913094"/>
                    </a:lnTo>
                    <a:lnTo>
                      <a:pt x="1653988" y="3025588"/>
                    </a:lnTo>
                    <a:lnTo>
                      <a:pt x="1909482" y="2151529"/>
                    </a:lnTo>
                    <a:lnTo>
                      <a:pt x="2326341" y="1021976"/>
                    </a:lnTo>
                    <a:lnTo>
                      <a:pt x="2635623" y="389964"/>
                    </a:lnTo>
                    <a:lnTo>
                      <a:pt x="2702859" y="0"/>
                    </a:lnTo>
                    <a:lnTo>
                      <a:pt x="2487706" y="242047"/>
                    </a:lnTo>
                    <a:lnTo>
                      <a:pt x="2084294" y="847164"/>
                    </a:lnTo>
                    <a:lnTo>
                      <a:pt x="1869141" y="1290917"/>
                    </a:lnTo>
                    <a:lnTo>
                      <a:pt x="1653988" y="1653988"/>
                    </a:lnTo>
                    <a:lnTo>
                      <a:pt x="1452282" y="1452282"/>
                    </a:lnTo>
                    <a:lnTo>
                      <a:pt x="1237129" y="1062317"/>
                    </a:lnTo>
                    <a:lnTo>
                      <a:pt x="954741" y="847164"/>
                    </a:lnTo>
                    <a:lnTo>
                      <a:pt x="645459" y="739588"/>
                    </a:lnTo>
                    <a:lnTo>
                      <a:pt x="900953" y="1317811"/>
                    </a:lnTo>
                    <a:lnTo>
                      <a:pt x="1062317" y="1479176"/>
                    </a:lnTo>
                    <a:lnTo>
                      <a:pt x="1048870" y="1600200"/>
                    </a:lnTo>
                    <a:lnTo>
                      <a:pt x="1035423" y="1855694"/>
                    </a:lnTo>
                    <a:lnTo>
                      <a:pt x="860612" y="2017059"/>
                    </a:lnTo>
                    <a:lnTo>
                      <a:pt x="739588" y="1976717"/>
                    </a:lnTo>
                    <a:lnTo>
                      <a:pt x="322729" y="1627094"/>
                    </a:lnTo>
                    <a:lnTo>
                      <a:pt x="215153" y="1116106"/>
                    </a:lnTo>
                    <a:lnTo>
                      <a:pt x="0" y="1102659"/>
                    </a:lnTo>
                    <a:lnTo>
                      <a:pt x="134470" y="1479176"/>
                    </a:lnTo>
                    <a:lnTo>
                      <a:pt x="215153" y="2003611"/>
                    </a:lnTo>
                    <a:lnTo>
                      <a:pt x="470647" y="2272553"/>
                    </a:lnTo>
                    <a:lnTo>
                      <a:pt x="645459" y="3254188"/>
                    </a:lnTo>
                    <a:lnTo>
                      <a:pt x="672353" y="5217459"/>
                    </a:lnTo>
                    <a:lnTo>
                      <a:pt x="578223" y="6602506"/>
                    </a:lnTo>
                    <a:lnTo>
                      <a:pt x="497541" y="7974106"/>
                    </a:lnTo>
                    <a:lnTo>
                      <a:pt x="255494" y="9022976"/>
                    </a:lnTo>
                    <a:lnTo>
                      <a:pt x="121023" y="9211235"/>
                    </a:lnTo>
                    <a:lnTo>
                      <a:pt x="67235" y="922468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任意多边形 182"/>
              <p:cNvSpPr/>
              <p:nvPr/>
            </p:nvSpPr>
            <p:spPr>
              <a:xfrm>
                <a:off x="16116480" y="-1793880"/>
                <a:ext cx="3855960" cy="6166440"/>
              </a:xfrm>
              <a:custGeom>
                <a:avLst/>
                <a:gdLst>
                  <a:gd name="textAreaLeft" fmla="*/ 0 w 3855960"/>
                  <a:gd name="textAreaRight" fmla="*/ 3856320 w 3855960"/>
                  <a:gd name="textAreaTop" fmla="*/ 0 h 6166440"/>
                  <a:gd name="textAreaBottom" fmla="*/ 6166800 h 6166440"/>
                </a:gdLst>
                <a:ahLst/>
                <a:rect l="textAreaLeft" t="textAreaTop" r="textAreaRight" b="textAreaBottom"/>
                <a:pathLst>
                  <a:path w="6885330" h="7897265">
                    <a:moveTo>
                      <a:pt x="3285067" y="7688850"/>
                    </a:moveTo>
                    <a:lnTo>
                      <a:pt x="3285067" y="7688850"/>
                    </a:lnTo>
                    <a:lnTo>
                      <a:pt x="1286934" y="7722716"/>
                    </a:lnTo>
                    <a:cubicBezTo>
                      <a:pt x="1255999" y="7723698"/>
                      <a:pt x="1088890" y="7773726"/>
                      <a:pt x="1049867" y="7790450"/>
                    </a:cubicBezTo>
                    <a:cubicBezTo>
                      <a:pt x="1003463" y="7810337"/>
                      <a:pt x="962295" y="7842218"/>
                      <a:pt x="914400" y="7858183"/>
                    </a:cubicBezTo>
                    <a:cubicBezTo>
                      <a:pt x="859792" y="7876386"/>
                      <a:pt x="690459" y="7910253"/>
                      <a:pt x="745067" y="7892050"/>
                    </a:cubicBezTo>
                    <a:lnTo>
                      <a:pt x="1049867" y="7790450"/>
                    </a:lnTo>
                    <a:cubicBezTo>
                      <a:pt x="1148203" y="7757671"/>
                      <a:pt x="1169512" y="7760469"/>
                      <a:pt x="1253067" y="7688850"/>
                    </a:cubicBezTo>
                    <a:cubicBezTo>
                      <a:pt x="1301553" y="7647291"/>
                      <a:pt x="1452375" y="7551826"/>
                      <a:pt x="1388534" y="7553383"/>
                    </a:cubicBezTo>
                    <a:lnTo>
                      <a:pt x="0" y="7587250"/>
                    </a:lnTo>
                    <a:cubicBezTo>
                      <a:pt x="45156" y="7542094"/>
                      <a:pt x="82332" y="7487206"/>
                      <a:pt x="135467" y="7451783"/>
                    </a:cubicBezTo>
                    <a:cubicBezTo>
                      <a:pt x="186049" y="7418061"/>
                      <a:pt x="249247" y="7408740"/>
                      <a:pt x="304800" y="7384050"/>
                    </a:cubicBezTo>
                    <a:cubicBezTo>
                      <a:pt x="350934" y="7363546"/>
                      <a:pt x="396976" y="7342291"/>
                      <a:pt x="440267" y="7316316"/>
                    </a:cubicBezTo>
                    <a:cubicBezTo>
                      <a:pt x="728274" y="7143512"/>
                      <a:pt x="696095" y="7167693"/>
                      <a:pt x="508000" y="7214716"/>
                    </a:cubicBezTo>
                    <a:cubicBezTo>
                      <a:pt x="474133" y="7203427"/>
                      <a:pt x="395111" y="7214717"/>
                      <a:pt x="406400" y="7180850"/>
                    </a:cubicBezTo>
                    <a:cubicBezTo>
                      <a:pt x="416863" y="7149461"/>
                      <a:pt x="604940" y="7092092"/>
                      <a:pt x="643467" y="7079250"/>
                    </a:cubicBezTo>
                    <a:cubicBezTo>
                      <a:pt x="832154" y="6953459"/>
                      <a:pt x="938590" y="6972812"/>
                      <a:pt x="745067" y="6876050"/>
                    </a:cubicBezTo>
                    <a:cubicBezTo>
                      <a:pt x="713137" y="6860085"/>
                      <a:pt x="677334" y="6853472"/>
                      <a:pt x="643467" y="6842183"/>
                    </a:cubicBezTo>
                    <a:cubicBezTo>
                      <a:pt x="677334" y="6808316"/>
                      <a:pt x="706093" y="6768421"/>
                      <a:pt x="745067" y="6740583"/>
                    </a:cubicBezTo>
                    <a:cubicBezTo>
                      <a:pt x="786149" y="6711239"/>
                      <a:pt x="857956" y="6718006"/>
                      <a:pt x="880534" y="6672850"/>
                    </a:cubicBezTo>
                    <a:cubicBezTo>
                      <a:pt x="894813" y="6644291"/>
                      <a:pt x="842148" y="6617694"/>
                      <a:pt x="812800" y="6605116"/>
                    </a:cubicBezTo>
                    <a:cubicBezTo>
                      <a:pt x="759892" y="6582441"/>
                      <a:pt x="699911" y="6582539"/>
                      <a:pt x="643467" y="6571250"/>
                    </a:cubicBezTo>
                    <a:cubicBezTo>
                      <a:pt x="962375" y="6491522"/>
                      <a:pt x="674720" y="6594660"/>
                      <a:pt x="643467" y="6469650"/>
                    </a:cubicBezTo>
                    <a:cubicBezTo>
                      <a:pt x="633366" y="6429247"/>
                      <a:pt x="830471" y="6373448"/>
                      <a:pt x="846667" y="6368050"/>
                    </a:cubicBezTo>
                    <a:cubicBezTo>
                      <a:pt x="869245" y="6345472"/>
                      <a:pt x="914400" y="6332246"/>
                      <a:pt x="914400" y="6300316"/>
                    </a:cubicBezTo>
                    <a:cubicBezTo>
                      <a:pt x="914400" y="6145356"/>
                      <a:pt x="814006" y="6156685"/>
                      <a:pt x="711200" y="6130983"/>
                    </a:cubicBezTo>
                    <a:cubicBezTo>
                      <a:pt x="722489" y="6085827"/>
                      <a:pt x="721974" y="6035929"/>
                      <a:pt x="745067" y="5995516"/>
                    </a:cubicBezTo>
                    <a:cubicBezTo>
                      <a:pt x="785185" y="5925310"/>
                      <a:pt x="883525" y="5869344"/>
                      <a:pt x="948267" y="5826183"/>
                    </a:cubicBezTo>
                    <a:cubicBezTo>
                      <a:pt x="959556" y="5781027"/>
                      <a:pt x="951484" y="5725745"/>
                      <a:pt x="982134" y="5690716"/>
                    </a:cubicBezTo>
                    <a:cubicBezTo>
                      <a:pt x="1035740" y="5629452"/>
                      <a:pt x="1185334" y="5555250"/>
                      <a:pt x="1185334" y="5555250"/>
                    </a:cubicBezTo>
                    <a:cubicBezTo>
                      <a:pt x="1083734" y="5543961"/>
                      <a:pt x="980490" y="5542802"/>
                      <a:pt x="880534" y="5521383"/>
                    </a:cubicBezTo>
                    <a:cubicBezTo>
                      <a:pt x="821091" y="5508645"/>
                      <a:pt x="744922" y="5504232"/>
                      <a:pt x="711200" y="5453650"/>
                    </a:cubicBezTo>
                    <a:cubicBezTo>
                      <a:pt x="691398" y="5423947"/>
                      <a:pt x="780870" y="5435748"/>
                      <a:pt x="812800" y="5419783"/>
                    </a:cubicBezTo>
                    <a:cubicBezTo>
                      <a:pt x="849206" y="5401580"/>
                      <a:pt x="877994" y="5370253"/>
                      <a:pt x="914400" y="5352050"/>
                    </a:cubicBezTo>
                    <a:cubicBezTo>
                      <a:pt x="946330" y="5336085"/>
                      <a:pt x="981216" y="5326210"/>
                      <a:pt x="1016000" y="5318183"/>
                    </a:cubicBezTo>
                    <a:cubicBezTo>
                      <a:pt x="1128176" y="5292296"/>
                      <a:pt x="1242098" y="5274572"/>
                      <a:pt x="1354667" y="5250450"/>
                    </a:cubicBezTo>
                    <a:cubicBezTo>
                      <a:pt x="1400179" y="5240697"/>
                      <a:pt x="1536679" y="5216583"/>
                      <a:pt x="1490134" y="5216583"/>
                    </a:cubicBezTo>
                    <a:cubicBezTo>
                      <a:pt x="1432571" y="5216583"/>
                      <a:pt x="1377245" y="5239161"/>
                      <a:pt x="1320800" y="5250450"/>
                    </a:cubicBezTo>
                    <a:lnTo>
                      <a:pt x="1117600" y="5216583"/>
                    </a:lnTo>
                    <a:cubicBezTo>
                      <a:pt x="1117600" y="5113296"/>
                      <a:pt x="1339671" y="5011833"/>
                      <a:pt x="1422400" y="4945650"/>
                    </a:cubicBezTo>
                    <a:cubicBezTo>
                      <a:pt x="1447333" y="4925703"/>
                      <a:pt x="1520426" y="4888013"/>
                      <a:pt x="1490134" y="4877916"/>
                    </a:cubicBezTo>
                    <a:cubicBezTo>
                      <a:pt x="1435525" y="4859713"/>
                      <a:pt x="1377245" y="4900494"/>
                      <a:pt x="1320800" y="4911783"/>
                    </a:cubicBezTo>
                    <a:cubicBezTo>
                      <a:pt x="1275645" y="4889205"/>
                      <a:pt x="1207912" y="4889205"/>
                      <a:pt x="1185334" y="4844050"/>
                    </a:cubicBezTo>
                    <a:cubicBezTo>
                      <a:pt x="1171055" y="4815491"/>
                      <a:pt x="1226909" y="4794627"/>
                      <a:pt x="1253067" y="4776316"/>
                    </a:cubicBezTo>
                    <a:cubicBezTo>
                      <a:pt x="1340314" y="4715243"/>
                      <a:pt x="1448693" y="4682289"/>
                      <a:pt x="1524000" y="4606983"/>
                    </a:cubicBezTo>
                    <a:cubicBezTo>
                      <a:pt x="1546578" y="4584405"/>
                      <a:pt x="1564354" y="4555678"/>
                      <a:pt x="1591734" y="4539250"/>
                    </a:cubicBezTo>
                    <a:cubicBezTo>
                      <a:pt x="1622345" y="4520883"/>
                      <a:pt x="1659467" y="4516672"/>
                      <a:pt x="1693334" y="4505383"/>
                    </a:cubicBezTo>
                    <a:cubicBezTo>
                      <a:pt x="1363423" y="4422906"/>
                      <a:pt x="1508832" y="4472223"/>
                      <a:pt x="1253067" y="4369916"/>
                    </a:cubicBezTo>
                    <a:cubicBezTo>
                      <a:pt x="1524000" y="4189295"/>
                      <a:pt x="1196623" y="4426360"/>
                      <a:pt x="1422400" y="4200583"/>
                    </a:cubicBezTo>
                    <a:cubicBezTo>
                      <a:pt x="1451181" y="4171802"/>
                      <a:pt x="1492217" y="4158277"/>
                      <a:pt x="1524000" y="4132850"/>
                    </a:cubicBezTo>
                    <a:cubicBezTo>
                      <a:pt x="1548933" y="4112903"/>
                      <a:pt x="1623664" y="4065116"/>
                      <a:pt x="1591734" y="4065116"/>
                    </a:cubicBezTo>
                    <a:cubicBezTo>
                      <a:pt x="1520337" y="4065116"/>
                      <a:pt x="1388534" y="4132850"/>
                      <a:pt x="1388534" y="4132850"/>
                    </a:cubicBezTo>
                    <a:cubicBezTo>
                      <a:pt x="1408774" y="4072128"/>
                      <a:pt x="1448283" y="3937634"/>
                      <a:pt x="1490134" y="3895783"/>
                    </a:cubicBezTo>
                    <a:cubicBezTo>
                      <a:pt x="1525832" y="3860085"/>
                      <a:pt x="1580445" y="3850628"/>
                      <a:pt x="1625600" y="3828050"/>
                    </a:cubicBezTo>
                    <a:cubicBezTo>
                      <a:pt x="1591733" y="3816761"/>
                      <a:pt x="1532658" y="3828816"/>
                      <a:pt x="1524000" y="3794183"/>
                    </a:cubicBezTo>
                    <a:cubicBezTo>
                      <a:pt x="1507873" y="3729675"/>
                      <a:pt x="1664305" y="3644202"/>
                      <a:pt x="1693334" y="3624850"/>
                    </a:cubicBezTo>
                    <a:cubicBezTo>
                      <a:pt x="1719242" y="3521215"/>
                      <a:pt x="1716972" y="3465744"/>
                      <a:pt x="1794934" y="3387783"/>
                    </a:cubicBezTo>
                    <a:cubicBezTo>
                      <a:pt x="1823715" y="3359002"/>
                      <a:pt x="1862667" y="3342628"/>
                      <a:pt x="1896534" y="3320050"/>
                    </a:cubicBezTo>
                    <a:cubicBezTo>
                      <a:pt x="1862667" y="3308761"/>
                      <a:pt x="1803592" y="3320816"/>
                      <a:pt x="1794934" y="3286183"/>
                    </a:cubicBezTo>
                    <a:cubicBezTo>
                      <a:pt x="1785062" y="3246696"/>
                      <a:pt x="1831763" y="3211072"/>
                      <a:pt x="1862667" y="3184583"/>
                    </a:cubicBezTo>
                    <a:cubicBezTo>
                      <a:pt x="1976213" y="3087258"/>
                      <a:pt x="2049114" y="3089220"/>
                      <a:pt x="2167467" y="3015250"/>
                    </a:cubicBezTo>
                    <a:cubicBezTo>
                      <a:pt x="2401792" y="2868798"/>
                      <a:pt x="2204925" y="2946320"/>
                      <a:pt x="2404534" y="2879783"/>
                    </a:cubicBezTo>
                    <a:cubicBezTo>
                      <a:pt x="2381956" y="2857205"/>
                      <a:pt x="2368730" y="2812050"/>
                      <a:pt x="2336800" y="2812050"/>
                    </a:cubicBezTo>
                    <a:cubicBezTo>
                      <a:pt x="2296097" y="2812050"/>
                      <a:pt x="2272612" y="2863749"/>
                      <a:pt x="2235200" y="2879783"/>
                    </a:cubicBezTo>
                    <a:cubicBezTo>
                      <a:pt x="2192418" y="2898118"/>
                      <a:pt x="2144889" y="2902361"/>
                      <a:pt x="2099734" y="2913650"/>
                    </a:cubicBezTo>
                    <a:cubicBezTo>
                      <a:pt x="2187847" y="2649305"/>
                      <a:pt x="2043500" y="3031869"/>
                      <a:pt x="2302934" y="2642716"/>
                    </a:cubicBezTo>
                    <a:cubicBezTo>
                      <a:pt x="2397234" y="2501265"/>
                      <a:pt x="2341886" y="2569897"/>
                      <a:pt x="2472267" y="2439516"/>
                    </a:cubicBezTo>
                    <a:cubicBezTo>
                      <a:pt x="2431070" y="2377720"/>
                      <a:pt x="2402507" y="2289825"/>
                      <a:pt x="2302934" y="2304050"/>
                    </a:cubicBezTo>
                    <a:cubicBezTo>
                      <a:pt x="2252956" y="2311190"/>
                      <a:pt x="2214738" y="2354056"/>
                      <a:pt x="2167467" y="2371783"/>
                    </a:cubicBezTo>
                    <a:cubicBezTo>
                      <a:pt x="1798583" y="2510114"/>
                      <a:pt x="2273683" y="2284809"/>
                      <a:pt x="1896534" y="2473383"/>
                    </a:cubicBezTo>
                    <a:cubicBezTo>
                      <a:pt x="1919112" y="2416939"/>
                      <a:pt x="1932047" y="2355602"/>
                      <a:pt x="1964267" y="2304050"/>
                    </a:cubicBezTo>
                    <a:cubicBezTo>
                      <a:pt x="2012749" y="2226478"/>
                      <a:pt x="2137188" y="2155832"/>
                      <a:pt x="2201334" y="2100850"/>
                    </a:cubicBezTo>
                    <a:cubicBezTo>
                      <a:pt x="2237698" y="2069681"/>
                      <a:pt x="2257923" y="2015618"/>
                      <a:pt x="2302934" y="1999250"/>
                    </a:cubicBezTo>
                    <a:cubicBezTo>
                      <a:pt x="2388468" y="1968147"/>
                      <a:pt x="2483556" y="1976672"/>
                      <a:pt x="2573867" y="1965383"/>
                    </a:cubicBezTo>
                    <a:cubicBezTo>
                      <a:pt x="2630311" y="1931516"/>
                      <a:pt x="2689636" y="1902043"/>
                      <a:pt x="2743200" y="1863783"/>
                    </a:cubicBezTo>
                    <a:cubicBezTo>
                      <a:pt x="2769182" y="1845224"/>
                      <a:pt x="2833511" y="1818628"/>
                      <a:pt x="2810934" y="1796050"/>
                    </a:cubicBezTo>
                    <a:cubicBezTo>
                      <a:pt x="2785692" y="1770807"/>
                      <a:pt x="2743201" y="1818627"/>
                      <a:pt x="2709334" y="1829916"/>
                    </a:cubicBezTo>
                    <a:cubicBezTo>
                      <a:pt x="2675467" y="1852494"/>
                      <a:pt x="2639518" y="1872223"/>
                      <a:pt x="2607734" y="1897650"/>
                    </a:cubicBezTo>
                    <a:cubicBezTo>
                      <a:pt x="2582801" y="1917596"/>
                      <a:pt x="2517422" y="1987961"/>
                      <a:pt x="2540000" y="1965383"/>
                    </a:cubicBezTo>
                    <a:lnTo>
                      <a:pt x="2675467" y="1829916"/>
                    </a:lnTo>
                    <a:cubicBezTo>
                      <a:pt x="2812766" y="1692617"/>
                      <a:pt x="2734229" y="1749735"/>
                      <a:pt x="2912534" y="1660583"/>
                    </a:cubicBezTo>
                    <a:cubicBezTo>
                      <a:pt x="2946401" y="1615427"/>
                      <a:pt x="2971278" y="1561850"/>
                      <a:pt x="3014134" y="1525116"/>
                    </a:cubicBezTo>
                    <a:cubicBezTo>
                      <a:pt x="3052465" y="1492261"/>
                      <a:pt x="3105767" y="1482431"/>
                      <a:pt x="3149600" y="1457383"/>
                    </a:cubicBezTo>
                    <a:cubicBezTo>
                      <a:pt x="3184940" y="1437189"/>
                      <a:pt x="3217333" y="1412228"/>
                      <a:pt x="3251200" y="1389650"/>
                    </a:cubicBezTo>
                    <a:cubicBezTo>
                      <a:pt x="3239911" y="1423517"/>
                      <a:pt x="3251201" y="1479961"/>
                      <a:pt x="3217334" y="1491250"/>
                    </a:cubicBezTo>
                    <a:cubicBezTo>
                      <a:pt x="3187042" y="1501347"/>
                      <a:pt x="3149600" y="1455446"/>
                      <a:pt x="3149600" y="1423516"/>
                    </a:cubicBezTo>
                    <a:cubicBezTo>
                      <a:pt x="3149600" y="1382813"/>
                      <a:pt x="3194756" y="1355783"/>
                      <a:pt x="3217334" y="1321916"/>
                    </a:cubicBezTo>
                    <a:cubicBezTo>
                      <a:pt x="3270944" y="1107475"/>
                      <a:pt x="3225381" y="1225179"/>
                      <a:pt x="3386667" y="983250"/>
                    </a:cubicBezTo>
                    <a:lnTo>
                      <a:pt x="3454400" y="881650"/>
                    </a:lnTo>
                    <a:cubicBezTo>
                      <a:pt x="3476978" y="847783"/>
                      <a:pt x="3550915" y="751269"/>
                      <a:pt x="3522134" y="780050"/>
                    </a:cubicBezTo>
                    <a:cubicBezTo>
                      <a:pt x="3488267" y="813917"/>
                      <a:pt x="3468429" y="881650"/>
                      <a:pt x="3420534" y="881650"/>
                    </a:cubicBezTo>
                    <a:cubicBezTo>
                      <a:pt x="3379831" y="881650"/>
                      <a:pt x="3462840" y="811834"/>
                      <a:pt x="3488267" y="780050"/>
                    </a:cubicBezTo>
                    <a:cubicBezTo>
                      <a:pt x="3508213" y="755117"/>
                      <a:pt x="3533422" y="734894"/>
                      <a:pt x="3556000" y="712316"/>
                    </a:cubicBezTo>
                    <a:cubicBezTo>
                      <a:pt x="3672034" y="364218"/>
                      <a:pt x="3542543" y="624173"/>
                      <a:pt x="3759200" y="407516"/>
                    </a:cubicBezTo>
                    <a:cubicBezTo>
                      <a:pt x="3984974" y="181742"/>
                      <a:pt x="3657605" y="418801"/>
                      <a:pt x="3928534" y="238183"/>
                    </a:cubicBezTo>
                    <a:cubicBezTo>
                      <a:pt x="3917245" y="193027"/>
                      <a:pt x="3894667" y="149261"/>
                      <a:pt x="3894667" y="102716"/>
                    </a:cubicBezTo>
                    <a:cubicBezTo>
                      <a:pt x="3894667" y="67017"/>
                      <a:pt x="3894667" y="-10173"/>
                      <a:pt x="3928534" y="1116"/>
                    </a:cubicBezTo>
                    <a:cubicBezTo>
                      <a:pt x="3976429" y="17081"/>
                      <a:pt x="3973689" y="91427"/>
                      <a:pt x="3996267" y="136583"/>
                    </a:cubicBezTo>
                    <a:cubicBezTo>
                      <a:pt x="4007556" y="294627"/>
                      <a:pt x="4012637" y="453238"/>
                      <a:pt x="4030134" y="610716"/>
                    </a:cubicBezTo>
                    <a:cubicBezTo>
                      <a:pt x="4035274" y="656977"/>
                      <a:pt x="4064000" y="699638"/>
                      <a:pt x="4064000" y="746183"/>
                    </a:cubicBezTo>
                    <a:cubicBezTo>
                      <a:pt x="4064000" y="781882"/>
                      <a:pt x="4046099" y="676513"/>
                      <a:pt x="4030134" y="644583"/>
                    </a:cubicBezTo>
                    <a:cubicBezTo>
                      <a:pt x="4011931" y="608177"/>
                      <a:pt x="3984978" y="576850"/>
                      <a:pt x="3962400" y="542983"/>
                    </a:cubicBezTo>
                    <a:cubicBezTo>
                      <a:pt x="3951111" y="509116"/>
                      <a:pt x="3896604" y="457348"/>
                      <a:pt x="3928534" y="441383"/>
                    </a:cubicBezTo>
                    <a:cubicBezTo>
                      <a:pt x="3964940" y="423180"/>
                      <a:pt x="3998351" y="483689"/>
                      <a:pt x="4030134" y="509116"/>
                    </a:cubicBezTo>
                    <a:cubicBezTo>
                      <a:pt x="4055067" y="529062"/>
                      <a:pt x="4077921" y="551917"/>
                      <a:pt x="4097867" y="576850"/>
                    </a:cubicBezTo>
                    <a:cubicBezTo>
                      <a:pt x="4123294" y="608634"/>
                      <a:pt x="4133817" y="653023"/>
                      <a:pt x="4165600" y="678450"/>
                    </a:cubicBezTo>
                    <a:cubicBezTo>
                      <a:pt x="4193476" y="700751"/>
                      <a:pt x="4233333" y="701027"/>
                      <a:pt x="4267200" y="712316"/>
                    </a:cubicBezTo>
                    <a:cubicBezTo>
                      <a:pt x="4301067" y="768761"/>
                      <a:pt x="4333913" y="825830"/>
                      <a:pt x="4368800" y="881650"/>
                    </a:cubicBezTo>
                    <a:cubicBezTo>
                      <a:pt x="4390372" y="916166"/>
                      <a:pt x="4420500" y="945838"/>
                      <a:pt x="4436534" y="983250"/>
                    </a:cubicBezTo>
                    <a:cubicBezTo>
                      <a:pt x="4454869" y="1026032"/>
                      <a:pt x="4454057" y="1075135"/>
                      <a:pt x="4470400" y="1118716"/>
                    </a:cubicBezTo>
                    <a:cubicBezTo>
                      <a:pt x="4488127" y="1165987"/>
                      <a:pt x="4515556" y="1209027"/>
                      <a:pt x="4538134" y="1254183"/>
                    </a:cubicBezTo>
                    <a:cubicBezTo>
                      <a:pt x="4549423" y="1299339"/>
                      <a:pt x="4551184" y="1348019"/>
                      <a:pt x="4572000" y="1389650"/>
                    </a:cubicBezTo>
                    <a:cubicBezTo>
                      <a:pt x="4586279" y="1418209"/>
                      <a:pt x="4625455" y="1428824"/>
                      <a:pt x="4639734" y="1457383"/>
                    </a:cubicBezTo>
                    <a:cubicBezTo>
                      <a:pt x="4660550" y="1499014"/>
                      <a:pt x="4650507" y="1552437"/>
                      <a:pt x="4673600" y="1592850"/>
                    </a:cubicBezTo>
                    <a:cubicBezTo>
                      <a:pt x="4697362" y="1634434"/>
                      <a:pt x="4747362" y="1655477"/>
                      <a:pt x="4775200" y="1694450"/>
                    </a:cubicBezTo>
                    <a:cubicBezTo>
                      <a:pt x="4967106" y="1963116"/>
                      <a:pt x="4750456" y="1710412"/>
                      <a:pt x="4876800" y="1931516"/>
                    </a:cubicBezTo>
                    <a:cubicBezTo>
                      <a:pt x="4904804" y="1980524"/>
                      <a:pt x="4946031" y="2020742"/>
                      <a:pt x="4978400" y="2066983"/>
                    </a:cubicBezTo>
                    <a:cubicBezTo>
                      <a:pt x="5025083" y="2133673"/>
                      <a:pt x="5046134" y="2225028"/>
                      <a:pt x="5113867" y="2270183"/>
                    </a:cubicBezTo>
                    <a:cubicBezTo>
                      <a:pt x="5147734" y="2292761"/>
                      <a:pt x="5183684" y="2312489"/>
                      <a:pt x="5215467" y="2337916"/>
                    </a:cubicBezTo>
                    <a:cubicBezTo>
                      <a:pt x="5240400" y="2357862"/>
                      <a:pt x="5305778" y="2383072"/>
                      <a:pt x="5283200" y="2405650"/>
                    </a:cubicBezTo>
                    <a:cubicBezTo>
                      <a:pt x="5257957" y="2430893"/>
                      <a:pt x="5181600" y="2336084"/>
                      <a:pt x="5181600" y="2371783"/>
                    </a:cubicBezTo>
                    <a:cubicBezTo>
                      <a:pt x="5181600" y="2412486"/>
                      <a:pt x="5249333" y="2416938"/>
                      <a:pt x="5283200" y="2439516"/>
                    </a:cubicBezTo>
                    <a:cubicBezTo>
                      <a:pt x="5294489" y="2473383"/>
                      <a:pt x="5303005" y="2508304"/>
                      <a:pt x="5317067" y="2541116"/>
                    </a:cubicBezTo>
                    <a:cubicBezTo>
                      <a:pt x="5336954" y="2587520"/>
                      <a:pt x="5393100" y="2626784"/>
                      <a:pt x="5384800" y="2676583"/>
                    </a:cubicBezTo>
                    <a:cubicBezTo>
                      <a:pt x="5378108" y="2716732"/>
                      <a:pt x="5317067" y="2721738"/>
                      <a:pt x="5283200" y="2744316"/>
                    </a:cubicBezTo>
                    <a:cubicBezTo>
                      <a:pt x="5395839" y="2969593"/>
                      <a:pt x="5298659" y="2795428"/>
                      <a:pt x="5452534" y="3015250"/>
                    </a:cubicBezTo>
                    <a:cubicBezTo>
                      <a:pt x="5499217" y="3081940"/>
                      <a:pt x="5588000" y="3218450"/>
                      <a:pt x="5588000" y="3218450"/>
                    </a:cubicBezTo>
                    <a:cubicBezTo>
                      <a:pt x="5554133" y="3229739"/>
                      <a:pt x="5495058" y="3217683"/>
                      <a:pt x="5486400" y="3252316"/>
                    </a:cubicBezTo>
                    <a:cubicBezTo>
                      <a:pt x="5476528" y="3291804"/>
                      <a:pt x="5537603" y="3316721"/>
                      <a:pt x="5554134" y="3353916"/>
                    </a:cubicBezTo>
                    <a:cubicBezTo>
                      <a:pt x="5583131" y="3419160"/>
                      <a:pt x="5599289" y="3489383"/>
                      <a:pt x="5621867" y="3557116"/>
                    </a:cubicBezTo>
                    <a:cubicBezTo>
                      <a:pt x="5644445" y="3624849"/>
                      <a:pt x="5646762" y="3703198"/>
                      <a:pt x="5689600" y="3760316"/>
                    </a:cubicBezTo>
                    <a:lnTo>
                      <a:pt x="5791200" y="3895783"/>
                    </a:lnTo>
                    <a:cubicBezTo>
                      <a:pt x="5802489" y="3940939"/>
                      <a:pt x="5808724" y="3987668"/>
                      <a:pt x="5825067" y="4031250"/>
                    </a:cubicBezTo>
                    <a:cubicBezTo>
                      <a:pt x="5842794" y="4078521"/>
                      <a:pt x="5892800" y="4116231"/>
                      <a:pt x="5892800" y="4166716"/>
                    </a:cubicBezTo>
                    <a:lnTo>
                      <a:pt x="5825067" y="4234450"/>
                    </a:lnTo>
                    <a:cubicBezTo>
                      <a:pt x="5848081" y="4265135"/>
                      <a:pt x="5969638" y="4421991"/>
                      <a:pt x="5994400" y="4471516"/>
                    </a:cubicBezTo>
                    <a:cubicBezTo>
                      <a:pt x="6021587" y="4525891"/>
                      <a:pt x="6042910" y="4583177"/>
                      <a:pt x="6062134" y="4640850"/>
                    </a:cubicBezTo>
                    <a:cubicBezTo>
                      <a:pt x="6076853" y="4685006"/>
                      <a:pt x="6134728" y="4750498"/>
                      <a:pt x="6096000" y="4776316"/>
                    </a:cubicBezTo>
                    <a:cubicBezTo>
                      <a:pt x="6062420" y="4798702"/>
                      <a:pt x="5858934" y="4638466"/>
                      <a:pt x="5858934" y="4606983"/>
                    </a:cubicBezTo>
                    <a:cubicBezTo>
                      <a:pt x="5858934" y="4571284"/>
                      <a:pt x="5926667" y="4629561"/>
                      <a:pt x="5960534" y="4640850"/>
                    </a:cubicBezTo>
                    <a:cubicBezTo>
                      <a:pt x="5986987" y="4680530"/>
                      <a:pt x="6096000" y="4834949"/>
                      <a:pt x="6096000" y="4877916"/>
                    </a:cubicBezTo>
                    <a:cubicBezTo>
                      <a:pt x="6096000" y="4918619"/>
                      <a:pt x="6050845" y="4945649"/>
                      <a:pt x="6028267" y="4979516"/>
                    </a:cubicBezTo>
                    <a:cubicBezTo>
                      <a:pt x="5977973" y="4904074"/>
                      <a:pt x="5961741" y="4865335"/>
                      <a:pt x="5892800" y="4810183"/>
                    </a:cubicBezTo>
                    <a:cubicBezTo>
                      <a:pt x="5861016" y="4784756"/>
                      <a:pt x="5831903" y="4742450"/>
                      <a:pt x="5791200" y="4742450"/>
                    </a:cubicBezTo>
                    <a:cubicBezTo>
                      <a:pt x="5759270" y="4742450"/>
                      <a:pt x="5838493" y="4785654"/>
                      <a:pt x="5858934" y="4810183"/>
                    </a:cubicBezTo>
                    <a:cubicBezTo>
                      <a:pt x="5895069" y="4853545"/>
                      <a:pt x="5931494" y="4897249"/>
                      <a:pt x="5960534" y="4945650"/>
                    </a:cubicBezTo>
                    <a:cubicBezTo>
                      <a:pt x="6214216" y="5368453"/>
                      <a:pt x="5922157" y="4962215"/>
                      <a:pt x="6163734" y="5284316"/>
                    </a:cubicBezTo>
                    <a:cubicBezTo>
                      <a:pt x="6175023" y="5329472"/>
                      <a:pt x="6184813" y="5375029"/>
                      <a:pt x="6197600" y="5419783"/>
                    </a:cubicBezTo>
                    <a:cubicBezTo>
                      <a:pt x="6207407" y="5454108"/>
                      <a:pt x="6263397" y="5505418"/>
                      <a:pt x="6231467" y="5521383"/>
                    </a:cubicBezTo>
                    <a:cubicBezTo>
                      <a:pt x="6195062" y="5539586"/>
                      <a:pt x="6163734" y="5476228"/>
                      <a:pt x="6129867" y="5453650"/>
                    </a:cubicBezTo>
                    <a:cubicBezTo>
                      <a:pt x="6152445" y="5498805"/>
                      <a:pt x="6167309" y="5548728"/>
                      <a:pt x="6197600" y="5589116"/>
                    </a:cubicBezTo>
                    <a:cubicBezTo>
                      <a:pt x="6235916" y="5640204"/>
                      <a:pt x="6297644" y="5671448"/>
                      <a:pt x="6333067" y="5724583"/>
                    </a:cubicBezTo>
                    <a:cubicBezTo>
                      <a:pt x="6366789" y="5775165"/>
                      <a:pt x="6373613" y="5839542"/>
                      <a:pt x="6400800" y="5893916"/>
                    </a:cubicBezTo>
                    <a:cubicBezTo>
                      <a:pt x="6419003" y="5930322"/>
                      <a:pt x="6444876" y="5962395"/>
                      <a:pt x="6468534" y="5995516"/>
                    </a:cubicBezTo>
                    <a:cubicBezTo>
                      <a:pt x="6501342" y="6041447"/>
                      <a:pt x="6610047" y="6170895"/>
                      <a:pt x="6570134" y="6130983"/>
                    </a:cubicBezTo>
                    <a:cubicBezTo>
                      <a:pt x="6547556" y="6108405"/>
                      <a:pt x="6502400" y="6031320"/>
                      <a:pt x="6502400" y="6063250"/>
                    </a:cubicBezTo>
                    <a:cubicBezTo>
                      <a:pt x="6502400" y="6113735"/>
                      <a:pt x="6540790" y="6157634"/>
                      <a:pt x="6570134" y="6198716"/>
                    </a:cubicBezTo>
                    <a:cubicBezTo>
                      <a:pt x="6597972" y="6237689"/>
                      <a:pt x="6700471" y="6338632"/>
                      <a:pt x="6671734" y="6300316"/>
                    </a:cubicBezTo>
                    <a:lnTo>
                      <a:pt x="6570134" y="6164850"/>
                    </a:lnTo>
                    <a:cubicBezTo>
                      <a:pt x="6676464" y="6483848"/>
                      <a:pt x="6522974" y="6073854"/>
                      <a:pt x="6671734" y="6334183"/>
                    </a:cubicBezTo>
                    <a:cubicBezTo>
                      <a:pt x="6842778" y="6633509"/>
                      <a:pt x="6629101" y="6393150"/>
                      <a:pt x="6841067" y="6605116"/>
                    </a:cubicBezTo>
                    <a:cubicBezTo>
                      <a:pt x="6852356" y="6638983"/>
                      <a:pt x="6906864" y="6690751"/>
                      <a:pt x="6874934" y="6706716"/>
                    </a:cubicBezTo>
                    <a:cubicBezTo>
                      <a:pt x="6838529" y="6724919"/>
                      <a:pt x="6798761" y="6670766"/>
                      <a:pt x="6773334" y="6638983"/>
                    </a:cubicBezTo>
                    <a:cubicBezTo>
                      <a:pt x="6751033" y="6611107"/>
                      <a:pt x="6759269" y="6567086"/>
                      <a:pt x="6739467" y="6537383"/>
                    </a:cubicBezTo>
                    <a:cubicBezTo>
                      <a:pt x="6687314" y="6459154"/>
                      <a:pt x="6611237" y="6418030"/>
                      <a:pt x="6536267" y="6368050"/>
                    </a:cubicBezTo>
                    <a:cubicBezTo>
                      <a:pt x="6524978" y="6401917"/>
                      <a:pt x="6491111" y="6435783"/>
                      <a:pt x="6502400" y="6469650"/>
                    </a:cubicBezTo>
                    <a:cubicBezTo>
                      <a:pt x="6545123" y="6597818"/>
                      <a:pt x="6680847" y="6715830"/>
                      <a:pt x="6773334" y="6808316"/>
                    </a:cubicBezTo>
                    <a:cubicBezTo>
                      <a:pt x="6784623" y="6842183"/>
                      <a:pt x="6788833" y="6879305"/>
                      <a:pt x="6807200" y="6909916"/>
                    </a:cubicBezTo>
                    <a:cubicBezTo>
                      <a:pt x="6839371" y="6963535"/>
                      <a:pt x="6983524" y="7050044"/>
                      <a:pt x="6773334" y="6909916"/>
                    </a:cubicBezTo>
                    <a:cubicBezTo>
                      <a:pt x="6750756" y="6876049"/>
                      <a:pt x="6725794" y="6843656"/>
                      <a:pt x="6705600" y="6808316"/>
                    </a:cubicBezTo>
                    <a:cubicBezTo>
                      <a:pt x="6680552" y="6764483"/>
                      <a:pt x="6668862" y="6712701"/>
                      <a:pt x="6637867" y="6672850"/>
                    </a:cubicBezTo>
                    <a:cubicBezTo>
                      <a:pt x="6588860" y="6609840"/>
                      <a:pt x="6468534" y="6503516"/>
                      <a:pt x="6468534" y="6503516"/>
                    </a:cubicBezTo>
                    <a:cubicBezTo>
                      <a:pt x="6553657" y="6758890"/>
                      <a:pt x="6438831" y="6444110"/>
                      <a:pt x="6570134" y="6706716"/>
                    </a:cubicBezTo>
                    <a:cubicBezTo>
                      <a:pt x="6586099" y="6738646"/>
                      <a:pt x="6588035" y="6776386"/>
                      <a:pt x="6604000" y="6808316"/>
                    </a:cubicBezTo>
                    <a:cubicBezTo>
                      <a:pt x="6622203" y="6844722"/>
                      <a:pt x="6646307" y="6878132"/>
                      <a:pt x="6671734" y="6909916"/>
                    </a:cubicBezTo>
                    <a:cubicBezTo>
                      <a:pt x="6691680" y="6934849"/>
                      <a:pt x="6771397" y="6977650"/>
                      <a:pt x="6739467" y="6977650"/>
                    </a:cubicBezTo>
                    <a:cubicBezTo>
                      <a:pt x="6698764" y="6977650"/>
                      <a:pt x="6671734" y="6932494"/>
                      <a:pt x="6637867" y="6909916"/>
                    </a:cubicBezTo>
                    <a:cubicBezTo>
                      <a:pt x="6615289" y="6876049"/>
                      <a:pt x="6595561" y="6840099"/>
                      <a:pt x="6570134" y="6808316"/>
                    </a:cubicBezTo>
                    <a:cubicBezTo>
                      <a:pt x="6550188" y="6783383"/>
                      <a:pt x="6524978" y="6718005"/>
                      <a:pt x="6502400" y="6740583"/>
                    </a:cubicBezTo>
                    <a:cubicBezTo>
                      <a:pt x="6477157" y="6765826"/>
                      <a:pt x="6522205" y="6809371"/>
                      <a:pt x="6536267" y="6842183"/>
                    </a:cubicBezTo>
                    <a:cubicBezTo>
                      <a:pt x="6598751" y="6987979"/>
                      <a:pt x="6643161" y="7036393"/>
                      <a:pt x="6739467" y="7180850"/>
                    </a:cubicBezTo>
                    <a:cubicBezTo>
                      <a:pt x="6762045" y="7214717"/>
                      <a:pt x="6705601" y="7101828"/>
                      <a:pt x="6671734" y="7079250"/>
                    </a:cubicBezTo>
                    <a:lnTo>
                      <a:pt x="6570134" y="7011516"/>
                    </a:lnTo>
                    <a:cubicBezTo>
                      <a:pt x="6592712" y="7056672"/>
                      <a:pt x="6611110" y="7104171"/>
                      <a:pt x="6637867" y="7146983"/>
                    </a:cubicBezTo>
                    <a:cubicBezTo>
                      <a:pt x="6667782" y="7194848"/>
                      <a:pt x="6711463" y="7233442"/>
                      <a:pt x="6739467" y="7282450"/>
                    </a:cubicBezTo>
                    <a:cubicBezTo>
                      <a:pt x="6757178" y="7313445"/>
                      <a:pt x="6798577" y="7358808"/>
                      <a:pt x="6773334" y="7384050"/>
                    </a:cubicBezTo>
                    <a:cubicBezTo>
                      <a:pt x="6750756" y="7406628"/>
                      <a:pt x="6729843" y="7337096"/>
                      <a:pt x="6705600" y="7316316"/>
                    </a:cubicBezTo>
                    <a:cubicBezTo>
                      <a:pt x="6650718" y="7269274"/>
                      <a:pt x="6592711" y="7226005"/>
                      <a:pt x="6536267" y="7180850"/>
                    </a:cubicBezTo>
                    <a:cubicBezTo>
                      <a:pt x="6615289" y="7417917"/>
                      <a:pt x="6536267" y="7406628"/>
                      <a:pt x="6705600" y="7350183"/>
                    </a:cubicBezTo>
                    <a:cubicBezTo>
                      <a:pt x="6624162" y="7228025"/>
                      <a:pt x="6573856" y="7138175"/>
                      <a:pt x="6434667" y="7045383"/>
                    </a:cubicBezTo>
                    <a:cubicBezTo>
                      <a:pt x="6400800" y="7022805"/>
                      <a:pt x="6365629" y="7002072"/>
                      <a:pt x="6333067" y="6977650"/>
                    </a:cubicBezTo>
                    <a:cubicBezTo>
                      <a:pt x="6275240" y="6934279"/>
                      <a:pt x="6225717" y="6879373"/>
                      <a:pt x="6163734" y="6842183"/>
                    </a:cubicBezTo>
                    <a:cubicBezTo>
                      <a:pt x="6111605" y="6810905"/>
                      <a:pt x="6050845" y="6797028"/>
                      <a:pt x="5994400" y="6774450"/>
                    </a:cubicBezTo>
                    <a:cubicBezTo>
                      <a:pt x="6017016" y="6853606"/>
                      <a:pt x="6092381" y="7130372"/>
                      <a:pt x="6129867" y="7214716"/>
                    </a:cubicBezTo>
                    <a:cubicBezTo>
                      <a:pt x="6181986" y="7331985"/>
                      <a:pt x="6194962" y="7296085"/>
                      <a:pt x="6265334" y="7384050"/>
                    </a:cubicBezTo>
                    <a:cubicBezTo>
                      <a:pt x="6290761" y="7415833"/>
                      <a:pt x="6369473" y="7467448"/>
                      <a:pt x="6333067" y="7485650"/>
                    </a:cubicBezTo>
                    <a:lnTo>
                      <a:pt x="6197600" y="7417916"/>
                    </a:lnTo>
                    <a:cubicBezTo>
                      <a:pt x="6175022" y="7384049"/>
                      <a:pt x="6155924" y="7347585"/>
                      <a:pt x="6129867" y="7316316"/>
                    </a:cubicBezTo>
                    <a:cubicBezTo>
                      <a:pt x="6099206" y="7279522"/>
                      <a:pt x="6049686" y="7171878"/>
                      <a:pt x="6028267" y="7214716"/>
                    </a:cubicBezTo>
                    <a:cubicBezTo>
                      <a:pt x="5959584" y="7352081"/>
                      <a:pt x="6163734" y="7380175"/>
                      <a:pt x="6163734" y="7485650"/>
                    </a:cubicBezTo>
                    <a:cubicBezTo>
                      <a:pt x="6163734" y="7517580"/>
                      <a:pt x="6120933" y="7437863"/>
                      <a:pt x="6096000" y="7417916"/>
                    </a:cubicBezTo>
                    <a:cubicBezTo>
                      <a:pt x="6064217" y="7392489"/>
                      <a:pt x="6028267" y="7372761"/>
                      <a:pt x="5994400" y="7350183"/>
                    </a:cubicBezTo>
                    <a:cubicBezTo>
                      <a:pt x="6005689" y="7384050"/>
                      <a:pt x="6057970" y="7431981"/>
                      <a:pt x="6028267" y="7451783"/>
                    </a:cubicBezTo>
                    <a:cubicBezTo>
                      <a:pt x="5989539" y="7477602"/>
                      <a:pt x="5934432" y="7438732"/>
                      <a:pt x="5892800" y="7417916"/>
                    </a:cubicBezTo>
                    <a:cubicBezTo>
                      <a:pt x="5819989" y="7381511"/>
                      <a:pt x="5753857" y="7332428"/>
                      <a:pt x="5689600" y="7282450"/>
                    </a:cubicBezTo>
                    <a:cubicBezTo>
                      <a:pt x="5589736" y="7204778"/>
                      <a:pt x="5601916" y="7162623"/>
                      <a:pt x="5486400" y="7113116"/>
                    </a:cubicBezTo>
                    <a:cubicBezTo>
                      <a:pt x="5443618" y="7094781"/>
                      <a:pt x="5396089" y="7090539"/>
                      <a:pt x="5350934" y="7079250"/>
                    </a:cubicBezTo>
                    <a:cubicBezTo>
                      <a:pt x="5350934" y="7079250"/>
                      <a:pt x="5416399" y="7171354"/>
                      <a:pt x="5452534" y="7214716"/>
                    </a:cubicBezTo>
                    <a:cubicBezTo>
                      <a:pt x="5472975" y="7239245"/>
                      <a:pt x="5500321" y="7257517"/>
                      <a:pt x="5520267" y="7282450"/>
                    </a:cubicBezTo>
                    <a:cubicBezTo>
                      <a:pt x="5545694" y="7314234"/>
                      <a:pt x="5616782" y="7355269"/>
                      <a:pt x="5588000" y="7384050"/>
                    </a:cubicBezTo>
                    <a:cubicBezTo>
                      <a:pt x="5559218" y="7412831"/>
                      <a:pt x="5522806" y="7334519"/>
                      <a:pt x="5486400" y="7316316"/>
                    </a:cubicBezTo>
                    <a:cubicBezTo>
                      <a:pt x="5454470" y="7300351"/>
                      <a:pt x="5418667" y="7293739"/>
                      <a:pt x="5384800" y="7282450"/>
                    </a:cubicBezTo>
                    <a:cubicBezTo>
                      <a:pt x="5350933" y="7293739"/>
                      <a:pt x="5291858" y="7281683"/>
                      <a:pt x="5283200" y="7316316"/>
                    </a:cubicBezTo>
                    <a:cubicBezTo>
                      <a:pt x="5273328" y="7355804"/>
                      <a:pt x="5325507" y="7386132"/>
                      <a:pt x="5350934" y="7417916"/>
                    </a:cubicBezTo>
                    <a:cubicBezTo>
                      <a:pt x="5370880" y="7442849"/>
                      <a:pt x="5447226" y="7499929"/>
                      <a:pt x="5418667" y="7485650"/>
                    </a:cubicBezTo>
                    <a:cubicBezTo>
                      <a:pt x="5345856" y="7449245"/>
                      <a:pt x="5292695" y="7375926"/>
                      <a:pt x="5215467" y="7350183"/>
                    </a:cubicBezTo>
                    <a:cubicBezTo>
                      <a:pt x="5181600" y="7338894"/>
                      <a:pt x="5145797" y="7332281"/>
                      <a:pt x="5113867" y="7316316"/>
                    </a:cubicBezTo>
                    <a:cubicBezTo>
                      <a:pt x="5077461" y="7298113"/>
                      <a:pt x="4971564" y="7248583"/>
                      <a:pt x="5012267" y="7248583"/>
                    </a:cubicBezTo>
                    <a:cubicBezTo>
                      <a:pt x="5062752" y="7248583"/>
                      <a:pt x="5102578" y="7293738"/>
                      <a:pt x="5147734" y="7316316"/>
                    </a:cubicBezTo>
                    <a:cubicBezTo>
                      <a:pt x="5181601" y="7293738"/>
                      <a:pt x="5262205" y="7287197"/>
                      <a:pt x="5249334" y="7248583"/>
                    </a:cubicBezTo>
                    <a:cubicBezTo>
                      <a:pt x="5234615" y="7204426"/>
                      <a:pt x="5157083" y="7197430"/>
                      <a:pt x="5113867" y="7214716"/>
                    </a:cubicBezTo>
                    <a:cubicBezTo>
                      <a:pt x="5080722" y="7227974"/>
                      <a:pt x="5091289" y="7282449"/>
                      <a:pt x="5080000" y="7316316"/>
                    </a:cubicBezTo>
                    <a:cubicBezTo>
                      <a:pt x="5102578" y="7350183"/>
                      <a:pt x="5122307" y="7386132"/>
                      <a:pt x="5147734" y="7417916"/>
                    </a:cubicBezTo>
                    <a:cubicBezTo>
                      <a:pt x="5167680" y="7442849"/>
                      <a:pt x="5201188" y="7457091"/>
                      <a:pt x="5215467" y="7485650"/>
                    </a:cubicBezTo>
                    <a:cubicBezTo>
                      <a:pt x="5236283" y="7527281"/>
                      <a:pt x="5230999" y="7578334"/>
                      <a:pt x="5249334" y="7621116"/>
                    </a:cubicBezTo>
                    <a:cubicBezTo>
                      <a:pt x="5265368" y="7658528"/>
                      <a:pt x="5356554" y="7732588"/>
                      <a:pt x="5317067" y="7722716"/>
                    </a:cubicBezTo>
                    <a:cubicBezTo>
                      <a:pt x="5238092" y="7702973"/>
                      <a:pt x="5113867" y="7587250"/>
                      <a:pt x="5113867" y="7587250"/>
                    </a:cubicBezTo>
                    <a:cubicBezTo>
                      <a:pt x="5125156" y="7621117"/>
                      <a:pt x="5177437" y="7708652"/>
                      <a:pt x="5147734" y="7688850"/>
                    </a:cubicBezTo>
                    <a:lnTo>
                      <a:pt x="5046134" y="7621116"/>
                    </a:lnTo>
                    <a:cubicBezTo>
                      <a:pt x="5023556" y="7643694"/>
                      <a:pt x="4978400" y="7656920"/>
                      <a:pt x="4978400" y="7688850"/>
                    </a:cubicBezTo>
                    <a:cubicBezTo>
                      <a:pt x="4978400" y="7888085"/>
                      <a:pt x="5176751" y="7791661"/>
                      <a:pt x="4910667" y="7858183"/>
                    </a:cubicBezTo>
                    <a:cubicBezTo>
                      <a:pt x="4854223" y="7813027"/>
                      <a:pt x="4796216" y="7769758"/>
                      <a:pt x="4741334" y="7722716"/>
                    </a:cubicBezTo>
                    <a:cubicBezTo>
                      <a:pt x="4717091" y="7701936"/>
                      <a:pt x="4703891" y="7644886"/>
                      <a:pt x="4673600" y="7654983"/>
                    </a:cubicBezTo>
                    <a:cubicBezTo>
                      <a:pt x="4639733" y="7666272"/>
                      <a:pt x="4651023" y="7722716"/>
                      <a:pt x="4639734" y="7756583"/>
                    </a:cubicBezTo>
                    <a:cubicBezTo>
                      <a:pt x="4651023" y="7790450"/>
                      <a:pt x="4709299" y="7858183"/>
                      <a:pt x="4673600" y="7858183"/>
                    </a:cubicBezTo>
                    <a:cubicBezTo>
                      <a:pt x="4625705" y="7858183"/>
                      <a:pt x="4611851" y="7783150"/>
                      <a:pt x="4572000" y="7756583"/>
                    </a:cubicBezTo>
                    <a:cubicBezTo>
                      <a:pt x="4542297" y="7736781"/>
                      <a:pt x="4502330" y="7738681"/>
                      <a:pt x="4470400" y="7722716"/>
                    </a:cubicBezTo>
                    <a:cubicBezTo>
                      <a:pt x="4433994" y="7704513"/>
                      <a:pt x="4409503" y="7654983"/>
                      <a:pt x="4368800" y="7654983"/>
                    </a:cubicBezTo>
                    <a:cubicBezTo>
                      <a:pt x="4336870" y="7654983"/>
                      <a:pt x="4465093" y="7708436"/>
                      <a:pt x="4436534" y="7722716"/>
                    </a:cubicBezTo>
                    <a:cubicBezTo>
                      <a:pt x="4394903" y="7743532"/>
                      <a:pt x="4346223" y="7700139"/>
                      <a:pt x="4301067" y="7688850"/>
                    </a:cubicBezTo>
                    <a:cubicBezTo>
                      <a:pt x="4278489" y="7722717"/>
                      <a:pt x="4271125" y="7775333"/>
                      <a:pt x="4233334" y="7790450"/>
                    </a:cubicBezTo>
                    <a:cubicBezTo>
                      <a:pt x="4200189" y="7803708"/>
                      <a:pt x="4166947" y="7762452"/>
                      <a:pt x="4131734" y="7756583"/>
                    </a:cubicBezTo>
                    <a:cubicBezTo>
                      <a:pt x="4098328" y="7751015"/>
                      <a:pt x="4064001" y="7756583"/>
                      <a:pt x="4030134" y="7756583"/>
                    </a:cubicBezTo>
                    <a:lnTo>
                      <a:pt x="3386667" y="7756583"/>
                    </a:lnTo>
                    <a:lnTo>
                      <a:pt x="3352800" y="768885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任意多边形 183"/>
              <p:cNvSpPr/>
              <p:nvPr/>
            </p:nvSpPr>
            <p:spPr>
              <a:xfrm>
                <a:off x="16856280" y="-350280"/>
                <a:ext cx="1224720" cy="4075560"/>
              </a:xfrm>
              <a:custGeom>
                <a:avLst/>
                <a:gdLst>
                  <a:gd name="textAreaLeft" fmla="*/ 0 w 1224720"/>
                  <a:gd name="textAreaRight" fmla="*/ 1225080 w 1224720"/>
                  <a:gd name="textAreaTop" fmla="*/ 0 h 4075560"/>
                  <a:gd name="textAreaBottom" fmla="*/ 4075560 h 4075560"/>
                </a:gdLst>
                <a:ahLst/>
                <a:rect l="textAreaLeft" t="textAreaTop" r="textAreaRight" b="textAreaBottom"/>
                <a:pathLst>
                  <a:path w="2186923" h="5219454">
                    <a:moveTo>
                      <a:pt x="2186923" y="0"/>
                    </a:moveTo>
                    <a:lnTo>
                      <a:pt x="2186923" y="0"/>
                    </a:lnTo>
                    <a:cubicBezTo>
                      <a:pt x="2051456" y="112889"/>
                      <a:pt x="1905213" y="213977"/>
                      <a:pt x="1780523" y="338667"/>
                    </a:cubicBezTo>
                    <a:cubicBezTo>
                      <a:pt x="1571278" y="547912"/>
                      <a:pt x="1849458" y="428576"/>
                      <a:pt x="1611189" y="508000"/>
                    </a:cubicBezTo>
                    <a:cubicBezTo>
                      <a:pt x="1577322" y="553156"/>
                      <a:pt x="1534832" y="592981"/>
                      <a:pt x="1509589" y="643467"/>
                    </a:cubicBezTo>
                    <a:cubicBezTo>
                      <a:pt x="1384757" y="893131"/>
                      <a:pt x="1565726" y="688930"/>
                      <a:pt x="1407989" y="846667"/>
                    </a:cubicBezTo>
                    <a:cubicBezTo>
                      <a:pt x="1325537" y="1094024"/>
                      <a:pt x="1409522" y="1032551"/>
                      <a:pt x="1204789" y="1083733"/>
                    </a:cubicBezTo>
                    <a:cubicBezTo>
                      <a:pt x="970918" y="1551479"/>
                      <a:pt x="1310047" y="908914"/>
                      <a:pt x="1035456" y="1320800"/>
                    </a:cubicBezTo>
                    <a:cubicBezTo>
                      <a:pt x="1015654" y="1350503"/>
                      <a:pt x="1019300" y="1391405"/>
                      <a:pt x="1001589" y="1422400"/>
                    </a:cubicBezTo>
                    <a:cubicBezTo>
                      <a:pt x="973585" y="1471408"/>
                      <a:pt x="929905" y="1510002"/>
                      <a:pt x="899989" y="1557867"/>
                    </a:cubicBezTo>
                    <a:cubicBezTo>
                      <a:pt x="873232" y="1600678"/>
                      <a:pt x="816291" y="1645439"/>
                      <a:pt x="832256" y="1693333"/>
                    </a:cubicBezTo>
                    <a:cubicBezTo>
                      <a:pt x="843545" y="1727200"/>
                      <a:pt x="899989" y="1670756"/>
                      <a:pt x="933856" y="1659467"/>
                    </a:cubicBezTo>
                    <a:cubicBezTo>
                      <a:pt x="1063884" y="1529437"/>
                      <a:pt x="976578" y="1607889"/>
                      <a:pt x="933856" y="1693333"/>
                    </a:cubicBezTo>
                    <a:cubicBezTo>
                      <a:pt x="917891" y="1725263"/>
                      <a:pt x="915954" y="1763003"/>
                      <a:pt x="899989" y="1794933"/>
                    </a:cubicBezTo>
                    <a:cubicBezTo>
                      <a:pt x="881786" y="1831339"/>
                      <a:pt x="850459" y="1860127"/>
                      <a:pt x="832256" y="1896533"/>
                    </a:cubicBezTo>
                    <a:cubicBezTo>
                      <a:pt x="816291" y="1928463"/>
                      <a:pt x="763384" y="1991132"/>
                      <a:pt x="798389" y="1998133"/>
                    </a:cubicBezTo>
                    <a:cubicBezTo>
                      <a:pt x="868400" y="2012135"/>
                      <a:pt x="933856" y="1952978"/>
                      <a:pt x="1001589" y="1930400"/>
                    </a:cubicBezTo>
                    <a:lnTo>
                      <a:pt x="1103189" y="1896533"/>
                    </a:lnTo>
                    <a:cubicBezTo>
                      <a:pt x="1069322" y="1930400"/>
                      <a:pt x="1029427" y="1959159"/>
                      <a:pt x="1001589" y="1998133"/>
                    </a:cubicBezTo>
                    <a:cubicBezTo>
                      <a:pt x="972245" y="2039215"/>
                      <a:pt x="966176" y="2094816"/>
                      <a:pt x="933856" y="2133600"/>
                    </a:cubicBezTo>
                    <a:cubicBezTo>
                      <a:pt x="907799" y="2164869"/>
                      <a:pt x="866123" y="2178755"/>
                      <a:pt x="832256" y="2201333"/>
                    </a:cubicBezTo>
                    <a:cubicBezTo>
                      <a:pt x="798389" y="2246489"/>
                      <a:pt x="760571" y="2288935"/>
                      <a:pt x="730656" y="2336800"/>
                    </a:cubicBezTo>
                    <a:cubicBezTo>
                      <a:pt x="703899" y="2379612"/>
                      <a:pt x="693214" y="2431879"/>
                      <a:pt x="662923" y="2472267"/>
                    </a:cubicBezTo>
                    <a:cubicBezTo>
                      <a:pt x="624607" y="2523355"/>
                      <a:pt x="572612" y="2562578"/>
                      <a:pt x="527456" y="2607733"/>
                    </a:cubicBezTo>
                    <a:cubicBezTo>
                      <a:pt x="470055" y="2779936"/>
                      <a:pt x="476044" y="2692662"/>
                      <a:pt x="595189" y="2641600"/>
                    </a:cubicBezTo>
                    <a:cubicBezTo>
                      <a:pt x="637971" y="2623265"/>
                      <a:pt x="685500" y="2619022"/>
                      <a:pt x="730656" y="2607733"/>
                    </a:cubicBezTo>
                    <a:cubicBezTo>
                      <a:pt x="764523" y="2585155"/>
                      <a:pt x="832256" y="2499297"/>
                      <a:pt x="832256" y="2540000"/>
                    </a:cubicBezTo>
                    <a:cubicBezTo>
                      <a:pt x="832256" y="2587895"/>
                      <a:pt x="757223" y="2601749"/>
                      <a:pt x="730656" y="2641600"/>
                    </a:cubicBezTo>
                    <a:cubicBezTo>
                      <a:pt x="710854" y="2671303"/>
                      <a:pt x="712754" y="2711270"/>
                      <a:pt x="696789" y="2743200"/>
                    </a:cubicBezTo>
                    <a:cubicBezTo>
                      <a:pt x="678586" y="2779606"/>
                      <a:pt x="648823" y="2809220"/>
                      <a:pt x="629056" y="2844800"/>
                    </a:cubicBezTo>
                    <a:cubicBezTo>
                      <a:pt x="475283" y="3121592"/>
                      <a:pt x="600455" y="2975001"/>
                      <a:pt x="425856" y="3149600"/>
                    </a:cubicBezTo>
                    <a:cubicBezTo>
                      <a:pt x="403278" y="3194756"/>
                      <a:pt x="393822" y="3249368"/>
                      <a:pt x="358123" y="3285067"/>
                    </a:cubicBezTo>
                    <a:cubicBezTo>
                      <a:pt x="332880" y="3310310"/>
                      <a:pt x="364113" y="3205768"/>
                      <a:pt x="391989" y="3183467"/>
                    </a:cubicBezTo>
                    <a:cubicBezTo>
                      <a:pt x="428335" y="3154390"/>
                      <a:pt x="482701" y="3162387"/>
                      <a:pt x="527456" y="3149600"/>
                    </a:cubicBezTo>
                    <a:cubicBezTo>
                      <a:pt x="561781" y="3139793"/>
                      <a:pt x="595189" y="3127022"/>
                      <a:pt x="629056" y="3115733"/>
                    </a:cubicBezTo>
                    <a:cubicBezTo>
                      <a:pt x="575203" y="3384998"/>
                      <a:pt x="624032" y="3244580"/>
                      <a:pt x="425856" y="3556000"/>
                    </a:cubicBezTo>
                    <a:cubicBezTo>
                      <a:pt x="404004" y="3590339"/>
                      <a:pt x="370994" y="3618986"/>
                      <a:pt x="358123" y="3657600"/>
                    </a:cubicBezTo>
                    <a:cubicBezTo>
                      <a:pt x="346834" y="3691467"/>
                      <a:pt x="292326" y="3743235"/>
                      <a:pt x="324256" y="3759200"/>
                    </a:cubicBezTo>
                    <a:cubicBezTo>
                      <a:pt x="355951" y="3775048"/>
                      <a:pt x="526224" y="3590637"/>
                      <a:pt x="527456" y="3589867"/>
                    </a:cubicBezTo>
                    <a:cubicBezTo>
                      <a:pt x="629523" y="3526075"/>
                      <a:pt x="698079" y="3531257"/>
                      <a:pt x="798389" y="3488267"/>
                    </a:cubicBezTo>
                    <a:cubicBezTo>
                      <a:pt x="1091333" y="3362720"/>
                      <a:pt x="797186" y="3466089"/>
                      <a:pt x="1035456" y="3386667"/>
                    </a:cubicBezTo>
                    <a:cubicBezTo>
                      <a:pt x="1012878" y="3420534"/>
                      <a:pt x="994526" y="3457635"/>
                      <a:pt x="967723" y="3488267"/>
                    </a:cubicBezTo>
                    <a:cubicBezTo>
                      <a:pt x="915158" y="3548341"/>
                      <a:pt x="798389" y="3657600"/>
                      <a:pt x="798389" y="3657600"/>
                    </a:cubicBezTo>
                    <a:cubicBezTo>
                      <a:pt x="733707" y="3851649"/>
                      <a:pt x="813584" y="3676272"/>
                      <a:pt x="629056" y="3860800"/>
                    </a:cubicBezTo>
                    <a:cubicBezTo>
                      <a:pt x="347489" y="4142366"/>
                      <a:pt x="621683" y="3944736"/>
                      <a:pt x="391989" y="4097867"/>
                    </a:cubicBezTo>
                    <a:cubicBezTo>
                      <a:pt x="369411" y="4131734"/>
                      <a:pt x="306053" y="4163062"/>
                      <a:pt x="324256" y="4199467"/>
                    </a:cubicBezTo>
                    <a:cubicBezTo>
                      <a:pt x="340221" y="4231397"/>
                      <a:pt x="393926" y="4181565"/>
                      <a:pt x="425856" y="4165600"/>
                    </a:cubicBezTo>
                    <a:cubicBezTo>
                      <a:pt x="462262" y="4147397"/>
                      <a:pt x="492116" y="4118061"/>
                      <a:pt x="527456" y="4097867"/>
                    </a:cubicBezTo>
                    <a:cubicBezTo>
                      <a:pt x="752116" y="3969490"/>
                      <a:pt x="574537" y="4077690"/>
                      <a:pt x="764523" y="3996267"/>
                    </a:cubicBezTo>
                    <a:cubicBezTo>
                      <a:pt x="1057466" y="3870720"/>
                      <a:pt x="763319" y="3974089"/>
                      <a:pt x="1001589" y="3894667"/>
                    </a:cubicBezTo>
                    <a:cubicBezTo>
                      <a:pt x="956434" y="3928534"/>
                      <a:pt x="908979" y="3959533"/>
                      <a:pt x="866123" y="3996267"/>
                    </a:cubicBezTo>
                    <a:cubicBezTo>
                      <a:pt x="746018" y="4099214"/>
                      <a:pt x="777610" y="4114580"/>
                      <a:pt x="629056" y="4199467"/>
                    </a:cubicBezTo>
                    <a:cubicBezTo>
                      <a:pt x="598061" y="4217178"/>
                      <a:pt x="561323" y="4222044"/>
                      <a:pt x="527456" y="4233333"/>
                    </a:cubicBezTo>
                    <a:cubicBezTo>
                      <a:pt x="482300" y="4267200"/>
                      <a:pt x="440997" y="4306929"/>
                      <a:pt x="391989" y="4334933"/>
                    </a:cubicBezTo>
                    <a:cubicBezTo>
                      <a:pt x="360994" y="4352644"/>
                      <a:pt x="315632" y="4343557"/>
                      <a:pt x="290389" y="4368800"/>
                    </a:cubicBezTo>
                    <a:cubicBezTo>
                      <a:pt x="232827" y="4426362"/>
                      <a:pt x="212486" y="4514438"/>
                      <a:pt x="154923" y="4572000"/>
                    </a:cubicBezTo>
                    <a:cubicBezTo>
                      <a:pt x="132345" y="4594578"/>
                      <a:pt x="55259" y="4639733"/>
                      <a:pt x="87189" y="4639733"/>
                    </a:cubicBezTo>
                    <a:cubicBezTo>
                      <a:pt x="158586" y="4639733"/>
                      <a:pt x="222656" y="4594578"/>
                      <a:pt x="290389" y="4572000"/>
                    </a:cubicBezTo>
                    <a:lnTo>
                      <a:pt x="493589" y="4504267"/>
                    </a:lnTo>
                    <a:cubicBezTo>
                      <a:pt x="527456" y="4492978"/>
                      <a:pt x="560556" y="4479058"/>
                      <a:pt x="595189" y="4470400"/>
                    </a:cubicBezTo>
                    <a:lnTo>
                      <a:pt x="730656" y="4436533"/>
                    </a:lnTo>
                    <a:cubicBezTo>
                      <a:pt x="520620" y="4646570"/>
                      <a:pt x="639598" y="4590212"/>
                      <a:pt x="391989" y="4639733"/>
                    </a:cubicBezTo>
                    <a:cubicBezTo>
                      <a:pt x="311946" y="4959912"/>
                      <a:pt x="438256" y="4553402"/>
                      <a:pt x="154923" y="4978400"/>
                    </a:cubicBezTo>
                    <a:cubicBezTo>
                      <a:pt x="109767" y="5046133"/>
                      <a:pt x="-56127" y="5211833"/>
                      <a:pt x="19456" y="5181600"/>
                    </a:cubicBezTo>
                    <a:cubicBezTo>
                      <a:pt x="41109" y="5172939"/>
                      <a:pt x="237301" y="5090618"/>
                      <a:pt x="290389" y="5080000"/>
                    </a:cubicBezTo>
                    <a:cubicBezTo>
                      <a:pt x="368663" y="5064345"/>
                      <a:pt x="448560" y="5058271"/>
                      <a:pt x="527456" y="5046133"/>
                    </a:cubicBezTo>
                    <a:cubicBezTo>
                      <a:pt x="715237" y="5017244"/>
                      <a:pt x="723843" y="5013630"/>
                      <a:pt x="899989" y="4978400"/>
                    </a:cubicBezTo>
                    <a:cubicBezTo>
                      <a:pt x="922567" y="4955822"/>
                      <a:pt x="967723" y="4878737"/>
                      <a:pt x="967723" y="4910667"/>
                    </a:cubicBezTo>
                    <a:cubicBezTo>
                      <a:pt x="967723" y="4951370"/>
                      <a:pt x="927030" y="4981845"/>
                      <a:pt x="899989" y="5012267"/>
                    </a:cubicBezTo>
                    <a:cubicBezTo>
                      <a:pt x="836350" y="5083861"/>
                      <a:pt x="764522" y="5147734"/>
                      <a:pt x="696789" y="5215467"/>
                    </a:cubicBezTo>
                    <a:cubicBezTo>
                      <a:pt x="674211" y="5238045"/>
                      <a:pt x="734231" y="5157830"/>
                      <a:pt x="764523" y="5147733"/>
                    </a:cubicBezTo>
                    <a:cubicBezTo>
                      <a:pt x="798390" y="5136444"/>
                      <a:pt x="833311" y="5127929"/>
                      <a:pt x="866123" y="5113867"/>
                    </a:cubicBezTo>
                    <a:cubicBezTo>
                      <a:pt x="1016983" y="5049213"/>
                      <a:pt x="1027758" y="4993793"/>
                      <a:pt x="967723" y="5113867"/>
                    </a:cubicBezTo>
                    <a:lnTo>
                      <a:pt x="967723" y="5113867"/>
                    </a:lnTo>
                  </a:path>
                </a:pathLst>
              </a:custGeom>
              <a:noFill/>
              <a:ln w="25560">
                <a:solidFill>
                  <a:srgbClr val="92d050">
                    <a:alpha val="7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任意多边形 184"/>
              <p:cNvSpPr/>
              <p:nvPr/>
            </p:nvSpPr>
            <p:spPr>
              <a:xfrm flipH="1" rot="21138600">
                <a:off x="18664560" y="-574920"/>
                <a:ext cx="504360" cy="4075920"/>
              </a:xfrm>
              <a:custGeom>
                <a:avLst/>
                <a:gdLst>
                  <a:gd name="textAreaLeft" fmla="*/ -360 w 504360"/>
                  <a:gd name="textAreaRight" fmla="*/ 504360 w 504360"/>
                  <a:gd name="textAreaTop" fmla="*/ 0 h 4075920"/>
                  <a:gd name="textAreaBottom" fmla="*/ 4076280 h 4075920"/>
                </a:gdLst>
                <a:ahLst/>
                <a:rect l="textAreaLeft" t="textAreaTop" r="textAreaRight" b="textAreaBottom"/>
                <a:pathLst>
                  <a:path w="2186923" h="5219454">
                    <a:moveTo>
                      <a:pt x="2186923" y="0"/>
                    </a:moveTo>
                    <a:lnTo>
                      <a:pt x="2186923" y="0"/>
                    </a:lnTo>
                    <a:cubicBezTo>
                      <a:pt x="2051456" y="112889"/>
                      <a:pt x="1905213" y="213977"/>
                      <a:pt x="1780523" y="338667"/>
                    </a:cubicBezTo>
                    <a:cubicBezTo>
                      <a:pt x="1571278" y="547912"/>
                      <a:pt x="1849458" y="428576"/>
                      <a:pt x="1611189" y="508000"/>
                    </a:cubicBezTo>
                    <a:cubicBezTo>
                      <a:pt x="1577322" y="553156"/>
                      <a:pt x="1534832" y="592981"/>
                      <a:pt x="1509589" y="643467"/>
                    </a:cubicBezTo>
                    <a:cubicBezTo>
                      <a:pt x="1384757" y="893131"/>
                      <a:pt x="1565726" y="688930"/>
                      <a:pt x="1407989" y="846667"/>
                    </a:cubicBezTo>
                    <a:cubicBezTo>
                      <a:pt x="1325537" y="1094024"/>
                      <a:pt x="1409522" y="1032551"/>
                      <a:pt x="1204789" y="1083733"/>
                    </a:cubicBezTo>
                    <a:cubicBezTo>
                      <a:pt x="970918" y="1551479"/>
                      <a:pt x="1310047" y="908914"/>
                      <a:pt x="1035456" y="1320800"/>
                    </a:cubicBezTo>
                    <a:cubicBezTo>
                      <a:pt x="1015654" y="1350503"/>
                      <a:pt x="1019300" y="1391405"/>
                      <a:pt x="1001589" y="1422400"/>
                    </a:cubicBezTo>
                    <a:cubicBezTo>
                      <a:pt x="973585" y="1471408"/>
                      <a:pt x="929905" y="1510002"/>
                      <a:pt x="899989" y="1557867"/>
                    </a:cubicBezTo>
                    <a:cubicBezTo>
                      <a:pt x="873232" y="1600678"/>
                      <a:pt x="816291" y="1645439"/>
                      <a:pt x="832256" y="1693333"/>
                    </a:cubicBezTo>
                    <a:cubicBezTo>
                      <a:pt x="843545" y="1727200"/>
                      <a:pt x="899989" y="1670756"/>
                      <a:pt x="933856" y="1659467"/>
                    </a:cubicBezTo>
                    <a:cubicBezTo>
                      <a:pt x="1063884" y="1529437"/>
                      <a:pt x="976578" y="1607889"/>
                      <a:pt x="933856" y="1693333"/>
                    </a:cubicBezTo>
                    <a:cubicBezTo>
                      <a:pt x="917891" y="1725263"/>
                      <a:pt x="915954" y="1763003"/>
                      <a:pt x="899989" y="1794933"/>
                    </a:cubicBezTo>
                    <a:cubicBezTo>
                      <a:pt x="881786" y="1831339"/>
                      <a:pt x="850459" y="1860127"/>
                      <a:pt x="832256" y="1896533"/>
                    </a:cubicBezTo>
                    <a:cubicBezTo>
                      <a:pt x="816291" y="1928463"/>
                      <a:pt x="763384" y="1991132"/>
                      <a:pt x="798389" y="1998133"/>
                    </a:cubicBezTo>
                    <a:cubicBezTo>
                      <a:pt x="868400" y="2012135"/>
                      <a:pt x="933856" y="1952978"/>
                      <a:pt x="1001589" y="1930400"/>
                    </a:cubicBezTo>
                    <a:lnTo>
                      <a:pt x="1103189" y="1896533"/>
                    </a:lnTo>
                    <a:cubicBezTo>
                      <a:pt x="1069322" y="1930400"/>
                      <a:pt x="1029427" y="1959159"/>
                      <a:pt x="1001589" y="1998133"/>
                    </a:cubicBezTo>
                    <a:cubicBezTo>
                      <a:pt x="972245" y="2039215"/>
                      <a:pt x="966176" y="2094816"/>
                      <a:pt x="933856" y="2133600"/>
                    </a:cubicBezTo>
                    <a:cubicBezTo>
                      <a:pt x="907799" y="2164869"/>
                      <a:pt x="866123" y="2178755"/>
                      <a:pt x="832256" y="2201333"/>
                    </a:cubicBezTo>
                    <a:cubicBezTo>
                      <a:pt x="798389" y="2246489"/>
                      <a:pt x="760571" y="2288935"/>
                      <a:pt x="730656" y="2336800"/>
                    </a:cubicBezTo>
                    <a:cubicBezTo>
                      <a:pt x="703899" y="2379612"/>
                      <a:pt x="693214" y="2431879"/>
                      <a:pt x="662923" y="2472267"/>
                    </a:cubicBezTo>
                    <a:cubicBezTo>
                      <a:pt x="624607" y="2523355"/>
                      <a:pt x="572612" y="2562578"/>
                      <a:pt x="527456" y="2607733"/>
                    </a:cubicBezTo>
                    <a:cubicBezTo>
                      <a:pt x="470055" y="2779936"/>
                      <a:pt x="476044" y="2692662"/>
                      <a:pt x="595189" y="2641600"/>
                    </a:cubicBezTo>
                    <a:cubicBezTo>
                      <a:pt x="637971" y="2623265"/>
                      <a:pt x="685500" y="2619022"/>
                      <a:pt x="730656" y="2607733"/>
                    </a:cubicBezTo>
                    <a:cubicBezTo>
                      <a:pt x="764523" y="2585155"/>
                      <a:pt x="832256" y="2499297"/>
                      <a:pt x="832256" y="2540000"/>
                    </a:cubicBezTo>
                    <a:cubicBezTo>
                      <a:pt x="832256" y="2587895"/>
                      <a:pt x="757223" y="2601749"/>
                      <a:pt x="730656" y="2641600"/>
                    </a:cubicBezTo>
                    <a:cubicBezTo>
                      <a:pt x="710854" y="2671303"/>
                      <a:pt x="712754" y="2711270"/>
                      <a:pt x="696789" y="2743200"/>
                    </a:cubicBezTo>
                    <a:cubicBezTo>
                      <a:pt x="678586" y="2779606"/>
                      <a:pt x="648823" y="2809220"/>
                      <a:pt x="629056" y="2844800"/>
                    </a:cubicBezTo>
                    <a:cubicBezTo>
                      <a:pt x="475283" y="3121592"/>
                      <a:pt x="600455" y="2975001"/>
                      <a:pt x="425856" y="3149600"/>
                    </a:cubicBezTo>
                    <a:cubicBezTo>
                      <a:pt x="403278" y="3194756"/>
                      <a:pt x="393822" y="3249368"/>
                      <a:pt x="358123" y="3285067"/>
                    </a:cubicBezTo>
                    <a:cubicBezTo>
                      <a:pt x="332880" y="3310310"/>
                      <a:pt x="364113" y="3205768"/>
                      <a:pt x="391989" y="3183467"/>
                    </a:cubicBezTo>
                    <a:cubicBezTo>
                      <a:pt x="428335" y="3154390"/>
                      <a:pt x="482701" y="3162387"/>
                      <a:pt x="527456" y="3149600"/>
                    </a:cubicBezTo>
                    <a:cubicBezTo>
                      <a:pt x="561781" y="3139793"/>
                      <a:pt x="595189" y="3127022"/>
                      <a:pt x="629056" y="3115733"/>
                    </a:cubicBezTo>
                    <a:cubicBezTo>
                      <a:pt x="575203" y="3384998"/>
                      <a:pt x="624032" y="3244580"/>
                      <a:pt x="425856" y="3556000"/>
                    </a:cubicBezTo>
                    <a:cubicBezTo>
                      <a:pt x="404004" y="3590339"/>
                      <a:pt x="370994" y="3618986"/>
                      <a:pt x="358123" y="3657600"/>
                    </a:cubicBezTo>
                    <a:cubicBezTo>
                      <a:pt x="346834" y="3691467"/>
                      <a:pt x="292326" y="3743235"/>
                      <a:pt x="324256" y="3759200"/>
                    </a:cubicBezTo>
                    <a:cubicBezTo>
                      <a:pt x="355951" y="3775048"/>
                      <a:pt x="526224" y="3590637"/>
                      <a:pt x="527456" y="3589867"/>
                    </a:cubicBezTo>
                    <a:cubicBezTo>
                      <a:pt x="629523" y="3526075"/>
                      <a:pt x="698079" y="3531257"/>
                      <a:pt x="798389" y="3488267"/>
                    </a:cubicBezTo>
                    <a:cubicBezTo>
                      <a:pt x="1091333" y="3362720"/>
                      <a:pt x="797186" y="3466089"/>
                      <a:pt x="1035456" y="3386667"/>
                    </a:cubicBezTo>
                    <a:cubicBezTo>
                      <a:pt x="1012878" y="3420534"/>
                      <a:pt x="994526" y="3457635"/>
                      <a:pt x="967723" y="3488267"/>
                    </a:cubicBezTo>
                    <a:cubicBezTo>
                      <a:pt x="915158" y="3548341"/>
                      <a:pt x="798389" y="3657600"/>
                      <a:pt x="798389" y="3657600"/>
                    </a:cubicBezTo>
                    <a:cubicBezTo>
                      <a:pt x="733707" y="3851649"/>
                      <a:pt x="813584" y="3676272"/>
                      <a:pt x="629056" y="3860800"/>
                    </a:cubicBezTo>
                    <a:cubicBezTo>
                      <a:pt x="347489" y="4142366"/>
                      <a:pt x="621683" y="3944736"/>
                      <a:pt x="391989" y="4097867"/>
                    </a:cubicBezTo>
                    <a:cubicBezTo>
                      <a:pt x="369411" y="4131734"/>
                      <a:pt x="306053" y="4163062"/>
                      <a:pt x="324256" y="4199467"/>
                    </a:cubicBezTo>
                    <a:cubicBezTo>
                      <a:pt x="340221" y="4231397"/>
                      <a:pt x="393926" y="4181565"/>
                      <a:pt x="425856" y="4165600"/>
                    </a:cubicBezTo>
                    <a:cubicBezTo>
                      <a:pt x="462262" y="4147397"/>
                      <a:pt x="492116" y="4118061"/>
                      <a:pt x="527456" y="4097867"/>
                    </a:cubicBezTo>
                    <a:cubicBezTo>
                      <a:pt x="752116" y="3969490"/>
                      <a:pt x="574537" y="4077690"/>
                      <a:pt x="764523" y="3996267"/>
                    </a:cubicBezTo>
                    <a:cubicBezTo>
                      <a:pt x="1057466" y="3870720"/>
                      <a:pt x="763319" y="3974089"/>
                      <a:pt x="1001589" y="3894667"/>
                    </a:cubicBezTo>
                    <a:cubicBezTo>
                      <a:pt x="956434" y="3928534"/>
                      <a:pt x="908979" y="3959533"/>
                      <a:pt x="866123" y="3996267"/>
                    </a:cubicBezTo>
                    <a:cubicBezTo>
                      <a:pt x="746018" y="4099214"/>
                      <a:pt x="777610" y="4114580"/>
                      <a:pt x="629056" y="4199467"/>
                    </a:cubicBezTo>
                    <a:cubicBezTo>
                      <a:pt x="598061" y="4217178"/>
                      <a:pt x="561323" y="4222044"/>
                      <a:pt x="527456" y="4233333"/>
                    </a:cubicBezTo>
                    <a:cubicBezTo>
                      <a:pt x="482300" y="4267200"/>
                      <a:pt x="440997" y="4306929"/>
                      <a:pt x="391989" y="4334933"/>
                    </a:cubicBezTo>
                    <a:cubicBezTo>
                      <a:pt x="360994" y="4352644"/>
                      <a:pt x="315632" y="4343557"/>
                      <a:pt x="290389" y="4368800"/>
                    </a:cubicBezTo>
                    <a:cubicBezTo>
                      <a:pt x="232827" y="4426362"/>
                      <a:pt x="212486" y="4514438"/>
                      <a:pt x="154923" y="4572000"/>
                    </a:cubicBezTo>
                    <a:cubicBezTo>
                      <a:pt x="132345" y="4594578"/>
                      <a:pt x="55259" y="4639733"/>
                      <a:pt x="87189" y="4639733"/>
                    </a:cubicBezTo>
                    <a:cubicBezTo>
                      <a:pt x="158586" y="4639733"/>
                      <a:pt x="222656" y="4594578"/>
                      <a:pt x="290389" y="4572000"/>
                    </a:cubicBezTo>
                    <a:lnTo>
                      <a:pt x="493589" y="4504267"/>
                    </a:lnTo>
                    <a:cubicBezTo>
                      <a:pt x="527456" y="4492978"/>
                      <a:pt x="560556" y="4479058"/>
                      <a:pt x="595189" y="4470400"/>
                    </a:cubicBezTo>
                    <a:lnTo>
                      <a:pt x="730656" y="4436533"/>
                    </a:lnTo>
                    <a:cubicBezTo>
                      <a:pt x="520620" y="4646570"/>
                      <a:pt x="639598" y="4590212"/>
                      <a:pt x="391989" y="4639733"/>
                    </a:cubicBezTo>
                    <a:cubicBezTo>
                      <a:pt x="311946" y="4959912"/>
                      <a:pt x="438256" y="4553402"/>
                      <a:pt x="154923" y="4978400"/>
                    </a:cubicBezTo>
                    <a:cubicBezTo>
                      <a:pt x="109767" y="5046133"/>
                      <a:pt x="-56127" y="5211833"/>
                      <a:pt x="19456" y="5181600"/>
                    </a:cubicBezTo>
                    <a:cubicBezTo>
                      <a:pt x="41109" y="5172939"/>
                      <a:pt x="237301" y="5090618"/>
                      <a:pt x="290389" y="5080000"/>
                    </a:cubicBezTo>
                    <a:cubicBezTo>
                      <a:pt x="368663" y="5064345"/>
                      <a:pt x="448560" y="5058271"/>
                      <a:pt x="527456" y="5046133"/>
                    </a:cubicBezTo>
                    <a:cubicBezTo>
                      <a:pt x="715237" y="5017244"/>
                      <a:pt x="723843" y="5013630"/>
                      <a:pt x="899989" y="4978400"/>
                    </a:cubicBezTo>
                    <a:cubicBezTo>
                      <a:pt x="922567" y="4955822"/>
                      <a:pt x="967723" y="4878737"/>
                      <a:pt x="967723" y="4910667"/>
                    </a:cubicBezTo>
                    <a:cubicBezTo>
                      <a:pt x="967723" y="4951370"/>
                      <a:pt x="927030" y="4981845"/>
                      <a:pt x="899989" y="5012267"/>
                    </a:cubicBezTo>
                    <a:cubicBezTo>
                      <a:pt x="836350" y="5083861"/>
                      <a:pt x="764522" y="5147734"/>
                      <a:pt x="696789" y="5215467"/>
                    </a:cubicBezTo>
                    <a:cubicBezTo>
                      <a:pt x="674211" y="5238045"/>
                      <a:pt x="734231" y="5157830"/>
                      <a:pt x="764523" y="5147733"/>
                    </a:cubicBezTo>
                    <a:cubicBezTo>
                      <a:pt x="798390" y="5136444"/>
                      <a:pt x="833311" y="5127929"/>
                      <a:pt x="866123" y="5113867"/>
                    </a:cubicBezTo>
                    <a:cubicBezTo>
                      <a:pt x="1016983" y="5049213"/>
                      <a:pt x="1027758" y="4993793"/>
                      <a:pt x="967723" y="5113867"/>
                    </a:cubicBezTo>
                    <a:lnTo>
                      <a:pt x="967723" y="5113867"/>
                    </a:lnTo>
                  </a:path>
                </a:pathLst>
              </a:custGeom>
              <a:noFill/>
              <a:ln w="25560">
                <a:solidFill>
                  <a:srgbClr val="92d050">
                    <a:alpha val="7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任意多边形 185"/>
              <p:cNvSpPr/>
              <p:nvPr/>
            </p:nvSpPr>
            <p:spPr>
              <a:xfrm>
                <a:off x="17989920" y="-78840"/>
                <a:ext cx="212760" cy="3623040"/>
              </a:xfrm>
              <a:custGeom>
                <a:avLst/>
                <a:gdLst>
                  <a:gd name="textAreaLeft" fmla="*/ 0 w 212760"/>
                  <a:gd name="textAreaRight" fmla="*/ 213120 w 212760"/>
                  <a:gd name="textAreaTop" fmla="*/ 0 h 3623040"/>
                  <a:gd name="textAreaBottom" fmla="*/ 3623400 h 3623040"/>
                </a:gdLst>
                <a:ahLst/>
                <a:rect l="textAreaLeft" t="textAreaTop" r="textAreaRight" b="textAreaBottom"/>
                <a:pathLst>
                  <a:path w="380014" h="4639734">
                    <a:moveTo>
                      <a:pt x="380014" y="0"/>
                    </a:moveTo>
                    <a:lnTo>
                      <a:pt x="380014" y="0"/>
                    </a:lnTo>
                    <a:cubicBezTo>
                      <a:pt x="357436" y="158045"/>
                      <a:pt x="348846" y="318729"/>
                      <a:pt x="312280" y="474134"/>
                    </a:cubicBezTo>
                    <a:cubicBezTo>
                      <a:pt x="302957" y="513755"/>
                      <a:pt x="261078" y="538539"/>
                      <a:pt x="244547" y="575734"/>
                    </a:cubicBezTo>
                    <a:cubicBezTo>
                      <a:pt x="215550" y="640978"/>
                      <a:pt x="199392" y="711201"/>
                      <a:pt x="176814" y="778934"/>
                    </a:cubicBezTo>
                    <a:lnTo>
                      <a:pt x="142947" y="880534"/>
                    </a:lnTo>
                    <a:lnTo>
                      <a:pt x="109080" y="982134"/>
                    </a:lnTo>
                    <a:cubicBezTo>
                      <a:pt x="120369" y="1016001"/>
                      <a:pt x="133554" y="1049293"/>
                      <a:pt x="142947" y="1083734"/>
                    </a:cubicBezTo>
                    <a:cubicBezTo>
                      <a:pt x="167441" y="1173544"/>
                      <a:pt x="210680" y="1354667"/>
                      <a:pt x="210680" y="1354667"/>
                    </a:cubicBezTo>
                    <a:cubicBezTo>
                      <a:pt x="199391" y="1399823"/>
                      <a:pt x="189601" y="1445380"/>
                      <a:pt x="176814" y="1490134"/>
                    </a:cubicBezTo>
                    <a:cubicBezTo>
                      <a:pt x="167007" y="1524459"/>
                      <a:pt x="150691" y="1556885"/>
                      <a:pt x="142947" y="1591734"/>
                    </a:cubicBezTo>
                    <a:cubicBezTo>
                      <a:pt x="128051" y="1658766"/>
                      <a:pt x="122547" y="1727600"/>
                      <a:pt x="109080" y="1794934"/>
                    </a:cubicBezTo>
                    <a:cubicBezTo>
                      <a:pt x="99952" y="1840575"/>
                      <a:pt x="86503" y="1885245"/>
                      <a:pt x="75214" y="1930400"/>
                    </a:cubicBezTo>
                    <a:cubicBezTo>
                      <a:pt x="86503" y="2111022"/>
                      <a:pt x="81562" y="2293397"/>
                      <a:pt x="109080" y="2472267"/>
                    </a:cubicBezTo>
                    <a:cubicBezTo>
                      <a:pt x="114508" y="2507551"/>
                      <a:pt x="133140" y="2404992"/>
                      <a:pt x="142947" y="2370667"/>
                    </a:cubicBezTo>
                    <a:cubicBezTo>
                      <a:pt x="155734" y="2325912"/>
                      <a:pt x="165525" y="2280356"/>
                      <a:pt x="176814" y="2235200"/>
                    </a:cubicBezTo>
                    <a:cubicBezTo>
                      <a:pt x="188103" y="2269067"/>
                      <a:pt x="210680" y="2301101"/>
                      <a:pt x="210680" y="2336800"/>
                    </a:cubicBezTo>
                    <a:cubicBezTo>
                      <a:pt x="210680" y="2383345"/>
                      <a:pt x="185942" y="2426626"/>
                      <a:pt x="176814" y="2472267"/>
                    </a:cubicBezTo>
                    <a:cubicBezTo>
                      <a:pt x="163347" y="2539601"/>
                      <a:pt x="156414" y="2608133"/>
                      <a:pt x="142947" y="2675467"/>
                    </a:cubicBezTo>
                    <a:cubicBezTo>
                      <a:pt x="133819" y="2721109"/>
                      <a:pt x="118833" y="2765422"/>
                      <a:pt x="109080" y="2810934"/>
                    </a:cubicBezTo>
                    <a:cubicBezTo>
                      <a:pt x="84958" y="2923503"/>
                      <a:pt x="41347" y="3149600"/>
                      <a:pt x="41347" y="3149600"/>
                    </a:cubicBezTo>
                    <a:cubicBezTo>
                      <a:pt x="52636" y="3239911"/>
                      <a:pt x="34511" y="3339128"/>
                      <a:pt x="75214" y="3420534"/>
                    </a:cubicBezTo>
                    <a:cubicBezTo>
                      <a:pt x="147314" y="3564734"/>
                      <a:pt x="176814" y="3026857"/>
                      <a:pt x="176814" y="3217334"/>
                    </a:cubicBezTo>
                    <a:cubicBezTo>
                      <a:pt x="176814" y="3354144"/>
                      <a:pt x="117244" y="3497644"/>
                      <a:pt x="75214" y="3623734"/>
                    </a:cubicBezTo>
                    <a:cubicBezTo>
                      <a:pt x="63925" y="3657601"/>
                      <a:pt x="50005" y="3690701"/>
                      <a:pt x="41347" y="3725334"/>
                    </a:cubicBezTo>
                    <a:cubicBezTo>
                      <a:pt x="30058" y="3770489"/>
                      <a:pt x="-18338" y="3822072"/>
                      <a:pt x="7480" y="3860800"/>
                    </a:cubicBezTo>
                    <a:cubicBezTo>
                      <a:pt x="27282" y="3890503"/>
                      <a:pt x="75213" y="3838223"/>
                      <a:pt x="109080" y="3826934"/>
                    </a:cubicBezTo>
                    <a:cubicBezTo>
                      <a:pt x="131658" y="3793067"/>
                      <a:pt x="136111" y="3725334"/>
                      <a:pt x="176814" y="3725334"/>
                    </a:cubicBezTo>
                    <a:cubicBezTo>
                      <a:pt x="267123" y="3725334"/>
                      <a:pt x="176814" y="3928534"/>
                      <a:pt x="176814" y="3928534"/>
                    </a:cubicBezTo>
                    <a:cubicBezTo>
                      <a:pt x="156927" y="3974937"/>
                      <a:pt x="127830" y="4017126"/>
                      <a:pt x="109080" y="4064000"/>
                    </a:cubicBezTo>
                    <a:cubicBezTo>
                      <a:pt x="83271" y="4128521"/>
                      <a:pt x="21736" y="4317129"/>
                      <a:pt x="7480" y="4402667"/>
                    </a:cubicBezTo>
                    <a:cubicBezTo>
                      <a:pt x="3768" y="4424937"/>
                      <a:pt x="7480" y="4447822"/>
                      <a:pt x="7480" y="4470400"/>
                    </a:cubicBezTo>
                    <a:lnTo>
                      <a:pt x="109080" y="4639734"/>
                    </a:lnTo>
                  </a:path>
                </a:pathLst>
              </a:custGeom>
              <a:noFill/>
              <a:ln w="25560">
                <a:solidFill>
                  <a:srgbClr val="92d050">
                    <a:alpha val="7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4" name=""/>
              <p:cNvGrpSpPr/>
              <p:nvPr/>
            </p:nvGrpSpPr>
            <p:grpSpPr>
              <a:xfrm>
                <a:off x="17958600" y="2729160"/>
                <a:ext cx="752400" cy="988920"/>
                <a:chOff x="17958600" y="2729160"/>
                <a:chExt cx="752400" cy="988920"/>
              </a:xfrm>
            </p:grpSpPr>
            <p:sp>
              <p:nvSpPr>
                <p:cNvPr id="215" name="任意多边形 187"/>
                <p:cNvSpPr/>
                <p:nvPr/>
              </p:nvSpPr>
              <p:spPr>
                <a:xfrm flipH="1" rot="9930600">
                  <a:off x="18059400" y="2783520"/>
                  <a:ext cx="549720" cy="879480"/>
                </a:xfrm>
                <a:custGeom>
                  <a:avLst/>
                  <a:gdLst>
                    <a:gd name="textAreaLeft" fmla="*/ -360 w 549720"/>
                    <a:gd name="textAreaRight" fmla="*/ 549720 w 549720"/>
                    <a:gd name="textAreaTop" fmla="*/ 0 h 879480"/>
                    <a:gd name="textAreaBottom" fmla="*/ 879840 h 879480"/>
                  </a:gdLst>
                  <a:ahLst/>
                  <a:rect l="textAreaLeft" t="textAreaTop" r="textAreaRight" b="textAreaBottom"/>
                  <a:pathLst>
                    <a:path w="2065867" h="4030133">
                      <a:moveTo>
                        <a:pt x="270933" y="677333"/>
                      </a:moveTo>
                      <a:cubicBezTo>
                        <a:pt x="259644" y="733778"/>
                        <a:pt x="257278" y="792770"/>
                        <a:pt x="237067" y="846667"/>
                      </a:cubicBezTo>
                      <a:cubicBezTo>
                        <a:pt x="222775" y="884778"/>
                        <a:pt x="187536" y="911861"/>
                        <a:pt x="169333" y="948267"/>
                      </a:cubicBezTo>
                      <a:cubicBezTo>
                        <a:pt x="153368" y="980197"/>
                        <a:pt x="146756" y="1016000"/>
                        <a:pt x="135467" y="1049867"/>
                      </a:cubicBezTo>
                      <a:cubicBezTo>
                        <a:pt x="124178" y="1128889"/>
                        <a:pt x="124537" y="1210475"/>
                        <a:pt x="101600" y="1286933"/>
                      </a:cubicBezTo>
                      <a:cubicBezTo>
                        <a:pt x="89904" y="1325919"/>
                        <a:pt x="52070" y="1352127"/>
                        <a:pt x="33867" y="1388533"/>
                      </a:cubicBezTo>
                      <a:cubicBezTo>
                        <a:pt x="17902" y="1420463"/>
                        <a:pt x="11289" y="1456266"/>
                        <a:pt x="0" y="1490133"/>
                      </a:cubicBezTo>
                      <a:cubicBezTo>
                        <a:pt x="11289" y="1648178"/>
                        <a:pt x="6331" y="1808231"/>
                        <a:pt x="33867" y="1964267"/>
                      </a:cubicBezTo>
                      <a:cubicBezTo>
                        <a:pt x="40941" y="2004350"/>
                        <a:pt x="77942" y="2032746"/>
                        <a:pt x="101600" y="2065867"/>
                      </a:cubicBezTo>
                      <a:cubicBezTo>
                        <a:pt x="134408" y="2111798"/>
                        <a:pt x="167065" y="2157971"/>
                        <a:pt x="203200" y="2201333"/>
                      </a:cubicBezTo>
                      <a:cubicBezTo>
                        <a:pt x="223641" y="2225862"/>
                        <a:pt x="253221" y="2242500"/>
                        <a:pt x="270933" y="2269067"/>
                      </a:cubicBezTo>
                      <a:cubicBezTo>
                        <a:pt x="298937" y="2311073"/>
                        <a:pt x="313619" y="2360700"/>
                        <a:pt x="338667" y="2404533"/>
                      </a:cubicBezTo>
                      <a:cubicBezTo>
                        <a:pt x="443708" y="2588354"/>
                        <a:pt x="378175" y="2421458"/>
                        <a:pt x="440267" y="2607733"/>
                      </a:cubicBezTo>
                      <a:cubicBezTo>
                        <a:pt x="451556" y="2686755"/>
                        <a:pt x="448890" y="2769072"/>
                        <a:pt x="474133" y="2844800"/>
                      </a:cubicBezTo>
                      <a:cubicBezTo>
                        <a:pt x="484230" y="2875091"/>
                        <a:pt x="525439" y="2885153"/>
                        <a:pt x="541867" y="2912533"/>
                      </a:cubicBezTo>
                      <a:cubicBezTo>
                        <a:pt x="692110" y="3162937"/>
                        <a:pt x="437916" y="2858793"/>
                        <a:pt x="643467" y="3115733"/>
                      </a:cubicBezTo>
                      <a:cubicBezTo>
                        <a:pt x="663413" y="3140666"/>
                        <a:pt x="691254" y="3158534"/>
                        <a:pt x="711200" y="3183467"/>
                      </a:cubicBezTo>
                      <a:cubicBezTo>
                        <a:pt x="736627" y="3215251"/>
                        <a:pt x="752130" y="3254435"/>
                        <a:pt x="778933" y="3285067"/>
                      </a:cubicBezTo>
                      <a:cubicBezTo>
                        <a:pt x="831498" y="3345141"/>
                        <a:pt x="900372" y="3390540"/>
                        <a:pt x="948267" y="3454400"/>
                      </a:cubicBezTo>
                      <a:cubicBezTo>
                        <a:pt x="982134" y="3499556"/>
                        <a:pt x="1019951" y="3542002"/>
                        <a:pt x="1049867" y="3589867"/>
                      </a:cubicBezTo>
                      <a:cubicBezTo>
                        <a:pt x="1076624" y="3632678"/>
                        <a:pt x="1089596" y="3683327"/>
                        <a:pt x="1117600" y="3725333"/>
                      </a:cubicBezTo>
                      <a:cubicBezTo>
                        <a:pt x="1164328" y="3795425"/>
                        <a:pt x="1222230" y="3809038"/>
                        <a:pt x="1286933" y="3860800"/>
                      </a:cubicBezTo>
                      <a:cubicBezTo>
                        <a:pt x="1311866" y="3880746"/>
                        <a:pt x="1328100" y="3910821"/>
                        <a:pt x="1354667" y="3928533"/>
                      </a:cubicBezTo>
                      <a:cubicBezTo>
                        <a:pt x="1438370" y="3984335"/>
                        <a:pt x="1501418" y="4000029"/>
                        <a:pt x="1591733" y="4030133"/>
                      </a:cubicBezTo>
                      <a:cubicBezTo>
                        <a:pt x="1670755" y="4018844"/>
                        <a:pt x="1753072" y="4021510"/>
                        <a:pt x="1828800" y="3996267"/>
                      </a:cubicBezTo>
                      <a:cubicBezTo>
                        <a:pt x="1947678" y="3956641"/>
                        <a:pt x="1962781" y="3628192"/>
                        <a:pt x="1964267" y="3623733"/>
                      </a:cubicBezTo>
                      <a:cubicBezTo>
                        <a:pt x="1977138" y="3585119"/>
                        <a:pt x="2013797" y="3558539"/>
                        <a:pt x="2032000" y="3522133"/>
                      </a:cubicBezTo>
                      <a:cubicBezTo>
                        <a:pt x="2047965" y="3490203"/>
                        <a:pt x="2054578" y="3454400"/>
                        <a:pt x="2065867" y="3420533"/>
                      </a:cubicBezTo>
                      <a:cubicBezTo>
                        <a:pt x="2054578" y="3318933"/>
                        <a:pt x="2052048" y="3215973"/>
                        <a:pt x="2032000" y="3115733"/>
                      </a:cubicBezTo>
                      <a:cubicBezTo>
                        <a:pt x="2017998" y="3045722"/>
                        <a:pt x="1964267" y="2912533"/>
                        <a:pt x="1964267" y="2912533"/>
                      </a:cubicBezTo>
                      <a:cubicBezTo>
                        <a:pt x="2045473" y="2668911"/>
                        <a:pt x="1946942" y="2973167"/>
                        <a:pt x="2032000" y="2675467"/>
                      </a:cubicBezTo>
                      <a:cubicBezTo>
                        <a:pt x="2041807" y="2641142"/>
                        <a:pt x="2054578" y="2607734"/>
                        <a:pt x="2065867" y="2573867"/>
                      </a:cubicBezTo>
                      <a:cubicBezTo>
                        <a:pt x="1988036" y="2340376"/>
                        <a:pt x="2048618" y="2421153"/>
                        <a:pt x="1930400" y="2302933"/>
                      </a:cubicBezTo>
                      <a:cubicBezTo>
                        <a:pt x="1919111" y="2257778"/>
                        <a:pt x="1909320" y="2212221"/>
                        <a:pt x="1896533" y="2167467"/>
                      </a:cubicBezTo>
                      <a:cubicBezTo>
                        <a:pt x="1886726" y="2133142"/>
                        <a:pt x="1868536" y="2101080"/>
                        <a:pt x="1862667" y="2065867"/>
                      </a:cubicBezTo>
                      <a:cubicBezTo>
                        <a:pt x="1846052" y="1966175"/>
                        <a:pt x="1835554" y="1713597"/>
                        <a:pt x="1794933" y="1591733"/>
                      </a:cubicBezTo>
                      <a:cubicBezTo>
                        <a:pt x="1778968" y="1543839"/>
                        <a:pt x="1753174" y="1499558"/>
                        <a:pt x="1727200" y="1456267"/>
                      </a:cubicBezTo>
                      <a:cubicBezTo>
                        <a:pt x="1685317" y="1386462"/>
                        <a:pt x="1591733" y="1253067"/>
                        <a:pt x="1591733" y="1253067"/>
                      </a:cubicBezTo>
                      <a:cubicBezTo>
                        <a:pt x="1555962" y="1145753"/>
                        <a:pt x="1565165" y="1143657"/>
                        <a:pt x="1490133" y="1049867"/>
                      </a:cubicBezTo>
                      <a:cubicBezTo>
                        <a:pt x="1470187" y="1024934"/>
                        <a:pt x="1442346" y="1007066"/>
                        <a:pt x="1422400" y="982133"/>
                      </a:cubicBezTo>
                      <a:cubicBezTo>
                        <a:pt x="1396973" y="950349"/>
                        <a:pt x="1380094" y="912316"/>
                        <a:pt x="1354667" y="880533"/>
                      </a:cubicBezTo>
                      <a:cubicBezTo>
                        <a:pt x="1334721" y="855600"/>
                        <a:pt x="1306879" y="837733"/>
                        <a:pt x="1286933" y="812800"/>
                      </a:cubicBezTo>
                      <a:cubicBezTo>
                        <a:pt x="1261506" y="781017"/>
                        <a:pt x="1246241" y="741622"/>
                        <a:pt x="1219200" y="711200"/>
                      </a:cubicBezTo>
                      <a:cubicBezTo>
                        <a:pt x="1155561" y="639606"/>
                        <a:pt x="1095702" y="561134"/>
                        <a:pt x="1016000" y="508000"/>
                      </a:cubicBezTo>
                      <a:cubicBezTo>
                        <a:pt x="887833" y="422556"/>
                        <a:pt x="943181" y="469048"/>
                        <a:pt x="846667" y="372533"/>
                      </a:cubicBezTo>
                      <a:cubicBezTo>
                        <a:pt x="835378" y="338666"/>
                        <a:pt x="832602" y="300636"/>
                        <a:pt x="812800" y="270933"/>
                      </a:cubicBezTo>
                      <a:cubicBezTo>
                        <a:pt x="786233" y="231082"/>
                        <a:pt x="749006" y="198737"/>
                        <a:pt x="711200" y="169333"/>
                      </a:cubicBezTo>
                      <a:cubicBezTo>
                        <a:pt x="536524" y="33474"/>
                        <a:pt x="559693" y="51098"/>
                        <a:pt x="406400" y="0"/>
                      </a:cubicBezTo>
                      <a:cubicBezTo>
                        <a:pt x="361244" y="11289"/>
                        <a:pt x="313715" y="15532"/>
                        <a:pt x="270933" y="33867"/>
                      </a:cubicBezTo>
                      <a:cubicBezTo>
                        <a:pt x="53886" y="126887"/>
                        <a:pt x="173770" y="228415"/>
                        <a:pt x="203200" y="508000"/>
                      </a:cubicBezTo>
                      <a:cubicBezTo>
                        <a:pt x="230238" y="764856"/>
                        <a:pt x="168958" y="711013"/>
                        <a:pt x="304800" y="778933"/>
                      </a:cubicBez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" name="任意多边形 188"/>
                <p:cNvSpPr/>
                <p:nvPr/>
              </p:nvSpPr>
              <p:spPr>
                <a:xfrm flipH="1" rot="9930600">
                  <a:off x="18209520" y="3184200"/>
                  <a:ext cx="275040" cy="403920"/>
                </a:xfrm>
                <a:custGeom>
                  <a:avLst/>
                  <a:gdLst>
                    <a:gd name="textAreaLeft" fmla="*/ 360 w 275040"/>
                    <a:gd name="textAreaRight" fmla="*/ 275760 w 275040"/>
                    <a:gd name="textAreaTop" fmla="*/ 0 h 403920"/>
                    <a:gd name="textAreaBottom" fmla="*/ 404280 h 403920"/>
                  </a:gdLst>
                  <a:ahLst/>
                  <a:rect l="textAreaLeft" t="textAreaTop" r="textAreaRight" b="textAreaBottom"/>
                  <a:pathLst>
                    <a:path w="2065867" h="4030133">
                      <a:moveTo>
                        <a:pt x="270933" y="677333"/>
                      </a:moveTo>
                      <a:cubicBezTo>
                        <a:pt x="259644" y="733778"/>
                        <a:pt x="257278" y="792770"/>
                        <a:pt x="237067" y="846667"/>
                      </a:cubicBezTo>
                      <a:cubicBezTo>
                        <a:pt x="222775" y="884778"/>
                        <a:pt x="187536" y="911861"/>
                        <a:pt x="169333" y="948267"/>
                      </a:cubicBezTo>
                      <a:cubicBezTo>
                        <a:pt x="153368" y="980197"/>
                        <a:pt x="146756" y="1016000"/>
                        <a:pt x="135467" y="1049867"/>
                      </a:cubicBezTo>
                      <a:cubicBezTo>
                        <a:pt x="124178" y="1128889"/>
                        <a:pt x="124537" y="1210475"/>
                        <a:pt x="101600" y="1286933"/>
                      </a:cubicBezTo>
                      <a:cubicBezTo>
                        <a:pt x="89904" y="1325919"/>
                        <a:pt x="52070" y="1352127"/>
                        <a:pt x="33867" y="1388533"/>
                      </a:cubicBezTo>
                      <a:cubicBezTo>
                        <a:pt x="17902" y="1420463"/>
                        <a:pt x="11289" y="1456266"/>
                        <a:pt x="0" y="1490133"/>
                      </a:cubicBezTo>
                      <a:cubicBezTo>
                        <a:pt x="11289" y="1648178"/>
                        <a:pt x="6331" y="1808231"/>
                        <a:pt x="33867" y="1964267"/>
                      </a:cubicBezTo>
                      <a:cubicBezTo>
                        <a:pt x="40941" y="2004350"/>
                        <a:pt x="77942" y="2032746"/>
                        <a:pt x="101600" y="2065867"/>
                      </a:cubicBezTo>
                      <a:cubicBezTo>
                        <a:pt x="134408" y="2111798"/>
                        <a:pt x="167065" y="2157971"/>
                        <a:pt x="203200" y="2201333"/>
                      </a:cubicBezTo>
                      <a:cubicBezTo>
                        <a:pt x="223641" y="2225862"/>
                        <a:pt x="253221" y="2242500"/>
                        <a:pt x="270933" y="2269067"/>
                      </a:cubicBezTo>
                      <a:cubicBezTo>
                        <a:pt x="298937" y="2311073"/>
                        <a:pt x="313619" y="2360700"/>
                        <a:pt x="338667" y="2404533"/>
                      </a:cubicBezTo>
                      <a:cubicBezTo>
                        <a:pt x="443708" y="2588354"/>
                        <a:pt x="378175" y="2421458"/>
                        <a:pt x="440267" y="2607733"/>
                      </a:cubicBezTo>
                      <a:cubicBezTo>
                        <a:pt x="451556" y="2686755"/>
                        <a:pt x="448890" y="2769072"/>
                        <a:pt x="474133" y="2844800"/>
                      </a:cubicBezTo>
                      <a:cubicBezTo>
                        <a:pt x="484230" y="2875091"/>
                        <a:pt x="525439" y="2885153"/>
                        <a:pt x="541867" y="2912533"/>
                      </a:cubicBezTo>
                      <a:cubicBezTo>
                        <a:pt x="692110" y="3162937"/>
                        <a:pt x="437916" y="2858793"/>
                        <a:pt x="643467" y="3115733"/>
                      </a:cubicBezTo>
                      <a:cubicBezTo>
                        <a:pt x="663413" y="3140666"/>
                        <a:pt x="691254" y="3158534"/>
                        <a:pt x="711200" y="3183467"/>
                      </a:cubicBezTo>
                      <a:cubicBezTo>
                        <a:pt x="736627" y="3215251"/>
                        <a:pt x="752130" y="3254435"/>
                        <a:pt x="778933" y="3285067"/>
                      </a:cubicBezTo>
                      <a:cubicBezTo>
                        <a:pt x="831498" y="3345141"/>
                        <a:pt x="900372" y="3390540"/>
                        <a:pt x="948267" y="3454400"/>
                      </a:cubicBezTo>
                      <a:cubicBezTo>
                        <a:pt x="982134" y="3499556"/>
                        <a:pt x="1019951" y="3542002"/>
                        <a:pt x="1049867" y="3589867"/>
                      </a:cubicBezTo>
                      <a:cubicBezTo>
                        <a:pt x="1076624" y="3632678"/>
                        <a:pt x="1089596" y="3683327"/>
                        <a:pt x="1117600" y="3725333"/>
                      </a:cubicBezTo>
                      <a:cubicBezTo>
                        <a:pt x="1164328" y="3795425"/>
                        <a:pt x="1222230" y="3809038"/>
                        <a:pt x="1286933" y="3860800"/>
                      </a:cubicBezTo>
                      <a:cubicBezTo>
                        <a:pt x="1311866" y="3880746"/>
                        <a:pt x="1328100" y="3910821"/>
                        <a:pt x="1354667" y="3928533"/>
                      </a:cubicBezTo>
                      <a:cubicBezTo>
                        <a:pt x="1438370" y="3984335"/>
                        <a:pt x="1501418" y="4000029"/>
                        <a:pt x="1591733" y="4030133"/>
                      </a:cubicBezTo>
                      <a:cubicBezTo>
                        <a:pt x="1670755" y="4018844"/>
                        <a:pt x="1753072" y="4021510"/>
                        <a:pt x="1828800" y="3996267"/>
                      </a:cubicBezTo>
                      <a:cubicBezTo>
                        <a:pt x="1947678" y="3956641"/>
                        <a:pt x="1962781" y="3628192"/>
                        <a:pt x="1964267" y="3623733"/>
                      </a:cubicBezTo>
                      <a:cubicBezTo>
                        <a:pt x="1977138" y="3585119"/>
                        <a:pt x="2013797" y="3558539"/>
                        <a:pt x="2032000" y="3522133"/>
                      </a:cubicBezTo>
                      <a:cubicBezTo>
                        <a:pt x="2047965" y="3490203"/>
                        <a:pt x="2054578" y="3454400"/>
                        <a:pt x="2065867" y="3420533"/>
                      </a:cubicBezTo>
                      <a:cubicBezTo>
                        <a:pt x="2054578" y="3318933"/>
                        <a:pt x="2052048" y="3215973"/>
                        <a:pt x="2032000" y="3115733"/>
                      </a:cubicBezTo>
                      <a:cubicBezTo>
                        <a:pt x="2017998" y="3045722"/>
                        <a:pt x="1964267" y="2912533"/>
                        <a:pt x="1964267" y="2912533"/>
                      </a:cubicBezTo>
                      <a:cubicBezTo>
                        <a:pt x="2045473" y="2668911"/>
                        <a:pt x="1946942" y="2973167"/>
                        <a:pt x="2032000" y="2675467"/>
                      </a:cubicBezTo>
                      <a:cubicBezTo>
                        <a:pt x="2041807" y="2641142"/>
                        <a:pt x="2054578" y="2607734"/>
                        <a:pt x="2065867" y="2573867"/>
                      </a:cubicBezTo>
                      <a:cubicBezTo>
                        <a:pt x="1988036" y="2340376"/>
                        <a:pt x="2048618" y="2421153"/>
                        <a:pt x="1930400" y="2302933"/>
                      </a:cubicBezTo>
                      <a:cubicBezTo>
                        <a:pt x="1919111" y="2257778"/>
                        <a:pt x="1909320" y="2212221"/>
                        <a:pt x="1896533" y="2167467"/>
                      </a:cubicBezTo>
                      <a:cubicBezTo>
                        <a:pt x="1886726" y="2133142"/>
                        <a:pt x="1868536" y="2101080"/>
                        <a:pt x="1862667" y="2065867"/>
                      </a:cubicBezTo>
                      <a:cubicBezTo>
                        <a:pt x="1846052" y="1966175"/>
                        <a:pt x="1835554" y="1713597"/>
                        <a:pt x="1794933" y="1591733"/>
                      </a:cubicBezTo>
                      <a:cubicBezTo>
                        <a:pt x="1778968" y="1543839"/>
                        <a:pt x="1753174" y="1499558"/>
                        <a:pt x="1727200" y="1456267"/>
                      </a:cubicBezTo>
                      <a:cubicBezTo>
                        <a:pt x="1685317" y="1386462"/>
                        <a:pt x="1591733" y="1253067"/>
                        <a:pt x="1591733" y="1253067"/>
                      </a:cubicBezTo>
                      <a:cubicBezTo>
                        <a:pt x="1555962" y="1145753"/>
                        <a:pt x="1565165" y="1143657"/>
                        <a:pt x="1490133" y="1049867"/>
                      </a:cubicBezTo>
                      <a:cubicBezTo>
                        <a:pt x="1470187" y="1024934"/>
                        <a:pt x="1442346" y="1007066"/>
                        <a:pt x="1422400" y="982133"/>
                      </a:cubicBezTo>
                      <a:cubicBezTo>
                        <a:pt x="1396973" y="950349"/>
                        <a:pt x="1380094" y="912316"/>
                        <a:pt x="1354667" y="880533"/>
                      </a:cubicBezTo>
                      <a:cubicBezTo>
                        <a:pt x="1334721" y="855600"/>
                        <a:pt x="1306879" y="837733"/>
                        <a:pt x="1286933" y="812800"/>
                      </a:cubicBezTo>
                      <a:cubicBezTo>
                        <a:pt x="1261506" y="781017"/>
                        <a:pt x="1246241" y="741622"/>
                        <a:pt x="1219200" y="711200"/>
                      </a:cubicBezTo>
                      <a:cubicBezTo>
                        <a:pt x="1155561" y="639606"/>
                        <a:pt x="1095702" y="561134"/>
                        <a:pt x="1016000" y="508000"/>
                      </a:cubicBezTo>
                      <a:cubicBezTo>
                        <a:pt x="887833" y="422556"/>
                        <a:pt x="943181" y="469048"/>
                        <a:pt x="846667" y="372533"/>
                      </a:cubicBezTo>
                      <a:cubicBezTo>
                        <a:pt x="835378" y="338666"/>
                        <a:pt x="832602" y="300636"/>
                        <a:pt x="812800" y="270933"/>
                      </a:cubicBezTo>
                      <a:cubicBezTo>
                        <a:pt x="786233" y="231082"/>
                        <a:pt x="749006" y="198737"/>
                        <a:pt x="711200" y="169333"/>
                      </a:cubicBezTo>
                      <a:cubicBezTo>
                        <a:pt x="536524" y="33474"/>
                        <a:pt x="559693" y="51098"/>
                        <a:pt x="406400" y="0"/>
                      </a:cubicBezTo>
                      <a:cubicBezTo>
                        <a:pt x="361244" y="11289"/>
                        <a:pt x="313715" y="15532"/>
                        <a:pt x="270933" y="33867"/>
                      </a:cubicBezTo>
                      <a:cubicBezTo>
                        <a:pt x="53886" y="126887"/>
                        <a:pt x="173770" y="228415"/>
                        <a:pt x="203200" y="508000"/>
                      </a:cubicBezTo>
                      <a:cubicBezTo>
                        <a:pt x="230238" y="764856"/>
                        <a:pt x="168958" y="711013"/>
                        <a:pt x="304800" y="778933"/>
                      </a:cubicBezTo>
                    </a:path>
                  </a:pathLst>
                </a:custGeom>
                <a:solidFill>
                  <a:srgbClr val="f2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任意多边形 189"/>
                <p:cNvSpPr/>
                <p:nvPr/>
              </p:nvSpPr>
              <p:spPr>
                <a:xfrm flipH="1" rot="9930600">
                  <a:off x="18388440" y="2958840"/>
                  <a:ext cx="128160" cy="339120"/>
                </a:xfrm>
                <a:custGeom>
                  <a:avLst/>
                  <a:gdLst>
                    <a:gd name="textAreaLeft" fmla="*/ 360 w 128160"/>
                    <a:gd name="textAreaRight" fmla="*/ 128880 w 128160"/>
                    <a:gd name="textAreaTop" fmla="*/ 0 h 339120"/>
                    <a:gd name="textAreaBottom" fmla="*/ 339480 h 339120"/>
                  </a:gdLst>
                  <a:ahLst/>
                  <a:rect l="textAreaLeft" t="textAreaTop" r="textAreaRight" b="textAreaBottom"/>
                  <a:pathLst>
                    <a:path w="2065867" h="4030133">
                      <a:moveTo>
                        <a:pt x="270933" y="677333"/>
                      </a:moveTo>
                      <a:cubicBezTo>
                        <a:pt x="259644" y="733778"/>
                        <a:pt x="257278" y="792770"/>
                        <a:pt x="237067" y="846667"/>
                      </a:cubicBezTo>
                      <a:cubicBezTo>
                        <a:pt x="222775" y="884778"/>
                        <a:pt x="187536" y="911861"/>
                        <a:pt x="169333" y="948267"/>
                      </a:cubicBezTo>
                      <a:cubicBezTo>
                        <a:pt x="153368" y="980197"/>
                        <a:pt x="146756" y="1016000"/>
                        <a:pt x="135467" y="1049867"/>
                      </a:cubicBezTo>
                      <a:cubicBezTo>
                        <a:pt x="124178" y="1128889"/>
                        <a:pt x="124537" y="1210475"/>
                        <a:pt x="101600" y="1286933"/>
                      </a:cubicBezTo>
                      <a:cubicBezTo>
                        <a:pt x="89904" y="1325919"/>
                        <a:pt x="52070" y="1352127"/>
                        <a:pt x="33867" y="1388533"/>
                      </a:cubicBezTo>
                      <a:cubicBezTo>
                        <a:pt x="17902" y="1420463"/>
                        <a:pt x="11289" y="1456266"/>
                        <a:pt x="0" y="1490133"/>
                      </a:cubicBezTo>
                      <a:cubicBezTo>
                        <a:pt x="11289" y="1648178"/>
                        <a:pt x="6331" y="1808231"/>
                        <a:pt x="33867" y="1964267"/>
                      </a:cubicBezTo>
                      <a:cubicBezTo>
                        <a:pt x="40941" y="2004350"/>
                        <a:pt x="77942" y="2032746"/>
                        <a:pt x="101600" y="2065867"/>
                      </a:cubicBezTo>
                      <a:cubicBezTo>
                        <a:pt x="134408" y="2111798"/>
                        <a:pt x="167065" y="2157971"/>
                        <a:pt x="203200" y="2201333"/>
                      </a:cubicBezTo>
                      <a:cubicBezTo>
                        <a:pt x="223641" y="2225862"/>
                        <a:pt x="253221" y="2242500"/>
                        <a:pt x="270933" y="2269067"/>
                      </a:cubicBezTo>
                      <a:cubicBezTo>
                        <a:pt x="298937" y="2311073"/>
                        <a:pt x="313619" y="2360700"/>
                        <a:pt x="338667" y="2404533"/>
                      </a:cubicBezTo>
                      <a:cubicBezTo>
                        <a:pt x="443708" y="2588354"/>
                        <a:pt x="378175" y="2421458"/>
                        <a:pt x="440267" y="2607733"/>
                      </a:cubicBezTo>
                      <a:cubicBezTo>
                        <a:pt x="451556" y="2686755"/>
                        <a:pt x="448890" y="2769072"/>
                        <a:pt x="474133" y="2844800"/>
                      </a:cubicBezTo>
                      <a:cubicBezTo>
                        <a:pt x="484230" y="2875091"/>
                        <a:pt x="525439" y="2885153"/>
                        <a:pt x="541867" y="2912533"/>
                      </a:cubicBezTo>
                      <a:cubicBezTo>
                        <a:pt x="692110" y="3162937"/>
                        <a:pt x="437916" y="2858793"/>
                        <a:pt x="643467" y="3115733"/>
                      </a:cubicBezTo>
                      <a:cubicBezTo>
                        <a:pt x="663413" y="3140666"/>
                        <a:pt x="691254" y="3158534"/>
                        <a:pt x="711200" y="3183467"/>
                      </a:cubicBezTo>
                      <a:cubicBezTo>
                        <a:pt x="736627" y="3215251"/>
                        <a:pt x="752130" y="3254435"/>
                        <a:pt x="778933" y="3285067"/>
                      </a:cubicBezTo>
                      <a:cubicBezTo>
                        <a:pt x="831498" y="3345141"/>
                        <a:pt x="900372" y="3390540"/>
                        <a:pt x="948267" y="3454400"/>
                      </a:cubicBezTo>
                      <a:cubicBezTo>
                        <a:pt x="982134" y="3499556"/>
                        <a:pt x="1019951" y="3542002"/>
                        <a:pt x="1049867" y="3589867"/>
                      </a:cubicBezTo>
                      <a:cubicBezTo>
                        <a:pt x="1076624" y="3632678"/>
                        <a:pt x="1089596" y="3683327"/>
                        <a:pt x="1117600" y="3725333"/>
                      </a:cubicBezTo>
                      <a:cubicBezTo>
                        <a:pt x="1164328" y="3795425"/>
                        <a:pt x="1222230" y="3809038"/>
                        <a:pt x="1286933" y="3860800"/>
                      </a:cubicBezTo>
                      <a:cubicBezTo>
                        <a:pt x="1311866" y="3880746"/>
                        <a:pt x="1328100" y="3910821"/>
                        <a:pt x="1354667" y="3928533"/>
                      </a:cubicBezTo>
                      <a:cubicBezTo>
                        <a:pt x="1438370" y="3984335"/>
                        <a:pt x="1501418" y="4000029"/>
                        <a:pt x="1591733" y="4030133"/>
                      </a:cubicBezTo>
                      <a:cubicBezTo>
                        <a:pt x="1670755" y="4018844"/>
                        <a:pt x="1753072" y="4021510"/>
                        <a:pt x="1828800" y="3996267"/>
                      </a:cubicBezTo>
                      <a:cubicBezTo>
                        <a:pt x="1947678" y="3956641"/>
                        <a:pt x="1962781" y="3628192"/>
                        <a:pt x="1964267" y="3623733"/>
                      </a:cubicBezTo>
                      <a:cubicBezTo>
                        <a:pt x="1977138" y="3585119"/>
                        <a:pt x="2013797" y="3558539"/>
                        <a:pt x="2032000" y="3522133"/>
                      </a:cubicBezTo>
                      <a:cubicBezTo>
                        <a:pt x="2047965" y="3490203"/>
                        <a:pt x="2054578" y="3454400"/>
                        <a:pt x="2065867" y="3420533"/>
                      </a:cubicBezTo>
                      <a:cubicBezTo>
                        <a:pt x="2054578" y="3318933"/>
                        <a:pt x="2052048" y="3215973"/>
                        <a:pt x="2032000" y="3115733"/>
                      </a:cubicBezTo>
                      <a:cubicBezTo>
                        <a:pt x="2017998" y="3045722"/>
                        <a:pt x="1964267" y="2912533"/>
                        <a:pt x="1964267" y="2912533"/>
                      </a:cubicBezTo>
                      <a:cubicBezTo>
                        <a:pt x="2045473" y="2668911"/>
                        <a:pt x="1946942" y="2973167"/>
                        <a:pt x="2032000" y="2675467"/>
                      </a:cubicBezTo>
                      <a:cubicBezTo>
                        <a:pt x="2041807" y="2641142"/>
                        <a:pt x="2054578" y="2607734"/>
                        <a:pt x="2065867" y="2573867"/>
                      </a:cubicBezTo>
                      <a:cubicBezTo>
                        <a:pt x="1988036" y="2340376"/>
                        <a:pt x="2048618" y="2421153"/>
                        <a:pt x="1930400" y="2302933"/>
                      </a:cubicBezTo>
                      <a:cubicBezTo>
                        <a:pt x="1919111" y="2257778"/>
                        <a:pt x="1909320" y="2212221"/>
                        <a:pt x="1896533" y="2167467"/>
                      </a:cubicBezTo>
                      <a:cubicBezTo>
                        <a:pt x="1886726" y="2133142"/>
                        <a:pt x="1868536" y="2101080"/>
                        <a:pt x="1862667" y="2065867"/>
                      </a:cubicBezTo>
                      <a:cubicBezTo>
                        <a:pt x="1846052" y="1966175"/>
                        <a:pt x="1835554" y="1713597"/>
                        <a:pt x="1794933" y="1591733"/>
                      </a:cubicBezTo>
                      <a:cubicBezTo>
                        <a:pt x="1778968" y="1543839"/>
                        <a:pt x="1753174" y="1499558"/>
                        <a:pt x="1727200" y="1456267"/>
                      </a:cubicBezTo>
                      <a:cubicBezTo>
                        <a:pt x="1685317" y="1386462"/>
                        <a:pt x="1591733" y="1253067"/>
                        <a:pt x="1591733" y="1253067"/>
                      </a:cubicBezTo>
                      <a:cubicBezTo>
                        <a:pt x="1555962" y="1145753"/>
                        <a:pt x="1565165" y="1143657"/>
                        <a:pt x="1490133" y="1049867"/>
                      </a:cubicBezTo>
                      <a:cubicBezTo>
                        <a:pt x="1470187" y="1024934"/>
                        <a:pt x="1442346" y="1007066"/>
                        <a:pt x="1422400" y="982133"/>
                      </a:cubicBezTo>
                      <a:cubicBezTo>
                        <a:pt x="1396973" y="950349"/>
                        <a:pt x="1380094" y="912316"/>
                        <a:pt x="1354667" y="880533"/>
                      </a:cubicBezTo>
                      <a:cubicBezTo>
                        <a:pt x="1334721" y="855600"/>
                        <a:pt x="1306879" y="837733"/>
                        <a:pt x="1286933" y="812800"/>
                      </a:cubicBezTo>
                      <a:cubicBezTo>
                        <a:pt x="1261506" y="781017"/>
                        <a:pt x="1246241" y="741622"/>
                        <a:pt x="1219200" y="711200"/>
                      </a:cubicBezTo>
                      <a:cubicBezTo>
                        <a:pt x="1155561" y="639606"/>
                        <a:pt x="1095702" y="561134"/>
                        <a:pt x="1016000" y="508000"/>
                      </a:cubicBezTo>
                      <a:cubicBezTo>
                        <a:pt x="887833" y="422556"/>
                        <a:pt x="943181" y="469048"/>
                        <a:pt x="846667" y="372533"/>
                      </a:cubicBezTo>
                      <a:cubicBezTo>
                        <a:pt x="835378" y="338666"/>
                        <a:pt x="832602" y="300636"/>
                        <a:pt x="812800" y="270933"/>
                      </a:cubicBezTo>
                      <a:cubicBezTo>
                        <a:pt x="786233" y="231082"/>
                        <a:pt x="749006" y="198737"/>
                        <a:pt x="711200" y="169333"/>
                      </a:cubicBezTo>
                      <a:cubicBezTo>
                        <a:pt x="536524" y="33474"/>
                        <a:pt x="559693" y="51098"/>
                        <a:pt x="406400" y="0"/>
                      </a:cubicBezTo>
                      <a:cubicBezTo>
                        <a:pt x="361244" y="11289"/>
                        <a:pt x="313715" y="15532"/>
                        <a:pt x="270933" y="33867"/>
                      </a:cubicBezTo>
                      <a:cubicBezTo>
                        <a:pt x="53886" y="126887"/>
                        <a:pt x="173770" y="228415"/>
                        <a:pt x="203200" y="508000"/>
                      </a:cubicBezTo>
                      <a:cubicBezTo>
                        <a:pt x="230238" y="764856"/>
                        <a:pt x="168958" y="711013"/>
                        <a:pt x="304800" y="778933"/>
                      </a:cubicBezTo>
                    </a:path>
                  </a:pathLst>
                </a:custGeom>
                <a:solidFill>
                  <a:srgbClr val="f2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8" name=""/>
              <p:cNvGrpSpPr/>
              <p:nvPr/>
            </p:nvGrpSpPr>
            <p:grpSpPr>
              <a:xfrm>
                <a:off x="17696160" y="-1712880"/>
                <a:ext cx="863640" cy="951480"/>
                <a:chOff x="17696160" y="-1712880"/>
                <a:chExt cx="863640" cy="951480"/>
              </a:xfrm>
            </p:grpSpPr>
            <p:sp>
              <p:nvSpPr>
                <p:cNvPr id="219" name="任意多边形 191"/>
                <p:cNvSpPr/>
                <p:nvPr/>
              </p:nvSpPr>
              <p:spPr>
                <a:xfrm rot="13129200">
                  <a:off x="17948880" y="-1703520"/>
                  <a:ext cx="357840" cy="933120"/>
                </a:xfrm>
                <a:custGeom>
                  <a:avLst/>
                  <a:gdLst>
                    <a:gd name="textAreaLeft" fmla="*/ 0 w 357840"/>
                    <a:gd name="textAreaRight" fmla="*/ 358200 w 357840"/>
                    <a:gd name="textAreaTop" fmla="*/ 0 h 933120"/>
                    <a:gd name="textAreaBottom" fmla="*/ 933480 h 933120"/>
                  </a:gdLst>
                  <a:ahLst/>
                  <a:rect l="textAreaLeft" t="textAreaTop" r="textAreaRight" b="textAreaBottom"/>
                  <a:pathLst>
                    <a:path w="2065867" h="4030133">
                      <a:moveTo>
                        <a:pt x="270933" y="677333"/>
                      </a:moveTo>
                      <a:cubicBezTo>
                        <a:pt x="259644" y="733778"/>
                        <a:pt x="257278" y="792770"/>
                        <a:pt x="237067" y="846667"/>
                      </a:cubicBezTo>
                      <a:cubicBezTo>
                        <a:pt x="222775" y="884778"/>
                        <a:pt x="187536" y="911861"/>
                        <a:pt x="169333" y="948267"/>
                      </a:cubicBezTo>
                      <a:cubicBezTo>
                        <a:pt x="153368" y="980197"/>
                        <a:pt x="146756" y="1016000"/>
                        <a:pt x="135467" y="1049867"/>
                      </a:cubicBezTo>
                      <a:cubicBezTo>
                        <a:pt x="124178" y="1128889"/>
                        <a:pt x="124537" y="1210475"/>
                        <a:pt x="101600" y="1286933"/>
                      </a:cubicBezTo>
                      <a:cubicBezTo>
                        <a:pt x="89904" y="1325919"/>
                        <a:pt x="52070" y="1352127"/>
                        <a:pt x="33867" y="1388533"/>
                      </a:cubicBezTo>
                      <a:cubicBezTo>
                        <a:pt x="17902" y="1420463"/>
                        <a:pt x="11289" y="1456266"/>
                        <a:pt x="0" y="1490133"/>
                      </a:cubicBezTo>
                      <a:cubicBezTo>
                        <a:pt x="11289" y="1648178"/>
                        <a:pt x="6331" y="1808231"/>
                        <a:pt x="33867" y="1964267"/>
                      </a:cubicBezTo>
                      <a:cubicBezTo>
                        <a:pt x="40941" y="2004350"/>
                        <a:pt x="77942" y="2032746"/>
                        <a:pt x="101600" y="2065867"/>
                      </a:cubicBezTo>
                      <a:cubicBezTo>
                        <a:pt x="134408" y="2111798"/>
                        <a:pt x="167065" y="2157971"/>
                        <a:pt x="203200" y="2201333"/>
                      </a:cubicBezTo>
                      <a:cubicBezTo>
                        <a:pt x="223641" y="2225862"/>
                        <a:pt x="253221" y="2242500"/>
                        <a:pt x="270933" y="2269067"/>
                      </a:cubicBezTo>
                      <a:cubicBezTo>
                        <a:pt x="298937" y="2311073"/>
                        <a:pt x="313619" y="2360700"/>
                        <a:pt x="338667" y="2404533"/>
                      </a:cubicBezTo>
                      <a:cubicBezTo>
                        <a:pt x="443708" y="2588354"/>
                        <a:pt x="378175" y="2421458"/>
                        <a:pt x="440267" y="2607733"/>
                      </a:cubicBezTo>
                      <a:cubicBezTo>
                        <a:pt x="451556" y="2686755"/>
                        <a:pt x="448890" y="2769072"/>
                        <a:pt x="474133" y="2844800"/>
                      </a:cubicBezTo>
                      <a:cubicBezTo>
                        <a:pt x="484230" y="2875091"/>
                        <a:pt x="525439" y="2885153"/>
                        <a:pt x="541867" y="2912533"/>
                      </a:cubicBezTo>
                      <a:cubicBezTo>
                        <a:pt x="692110" y="3162937"/>
                        <a:pt x="437916" y="2858793"/>
                        <a:pt x="643467" y="3115733"/>
                      </a:cubicBezTo>
                      <a:cubicBezTo>
                        <a:pt x="663413" y="3140666"/>
                        <a:pt x="691254" y="3158534"/>
                        <a:pt x="711200" y="3183467"/>
                      </a:cubicBezTo>
                      <a:cubicBezTo>
                        <a:pt x="736627" y="3215251"/>
                        <a:pt x="752130" y="3254435"/>
                        <a:pt x="778933" y="3285067"/>
                      </a:cubicBezTo>
                      <a:cubicBezTo>
                        <a:pt x="831498" y="3345141"/>
                        <a:pt x="900372" y="3390540"/>
                        <a:pt x="948267" y="3454400"/>
                      </a:cubicBezTo>
                      <a:cubicBezTo>
                        <a:pt x="982134" y="3499556"/>
                        <a:pt x="1019951" y="3542002"/>
                        <a:pt x="1049867" y="3589867"/>
                      </a:cubicBezTo>
                      <a:cubicBezTo>
                        <a:pt x="1076624" y="3632678"/>
                        <a:pt x="1089596" y="3683327"/>
                        <a:pt x="1117600" y="3725333"/>
                      </a:cubicBezTo>
                      <a:cubicBezTo>
                        <a:pt x="1164328" y="3795425"/>
                        <a:pt x="1222230" y="3809038"/>
                        <a:pt x="1286933" y="3860800"/>
                      </a:cubicBezTo>
                      <a:cubicBezTo>
                        <a:pt x="1311866" y="3880746"/>
                        <a:pt x="1328100" y="3910821"/>
                        <a:pt x="1354667" y="3928533"/>
                      </a:cubicBezTo>
                      <a:cubicBezTo>
                        <a:pt x="1438370" y="3984335"/>
                        <a:pt x="1501418" y="4000029"/>
                        <a:pt x="1591733" y="4030133"/>
                      </a:cubicBezTo>
                      <a:cubicBezTo>
                        <a:pt x="1670755" y="4018844"/>
                        <a:pt x="1753072" y="4021510"/>
                        <a:pt x="1828800" y="3996267"/>
                      </a:cubicBezTo>
                      <a:cubicBezTo>
                        <a:pt x="1947678" y="3956641"/>
                        <a:pt x="1962781" y="3628192"/>
                        <a:pt x="1964267" y="3623733"/>
                      </a:cubicBezTo>
                      <a:cubicBezTo>
                        <a:pt x="1977138" y="3585119"/>
                        <a:pt x="2013797" y="3558539"/>
                        <a:pt x="2032000" y="3522133"/>
                      </a:cubicBezTo>
                      <a:cubicBezTo>
                        <a:pt x="2047965" y="3490203"/>
                        <a:pt x="2054578" y="3454400"/>
                        <a:pt x="2065867" y="3420533"/>
                      </a:cubicBezTo>
                      <a:cubicBezTo>
                        <a:pt x="2054578" y="3318933"/>
                        <a:pt x="2052048" y="3215973"/>
                        <a:pt x="2032000" y="3115733"/>
                      </a:cubicBezTo>
                      <a:cubicBezTo>
                        <a:pt x="2017998" y="3045722"/>
                        <a:pt x="1964267" y="2912533"/>
                        <a:pt x="1964267" y="2912533"/>
                      </a:cubicBezTo>
                      <a:cubicBezTo>
                        <a:pt x="2045473" y="2668911"/>
                        <a:pt x="1946942" y="2973167"/>
                        <a:pt x="2032000" y="2675467"/>
                      </a:cubicBezTo>
                      <a:cubicBezTo>
                        <a:pt x="2041807" y="2641142"/>
                        <a:pt x="2054578" y="2607734"/>
                        <a:pt x="2065867" y="2573867"/>
                      </a:cubicBezTo>
                      <a:cubicBezTo>
                        <a:pt x="1988036" y="2340376"/>
                        <a:pt x="2048618" y="2421153"/>
                        <a:pt x="1930400" y="2302933"/>
                      </a:cubicBezTo>
                      <a:cubicBezTo>
                        <a:pt x="1919111" y="2257778"/>
                        <a:pt x="1909320" y="2212221"/>
                        <a:pt x="1896533" y="2167467"/>
                      </a:cubicBezTo>
                      <a:cubicBezTo>
                        <a:pt x="1886726" y="2133142"/>
                        <a:pt x="1868536" y="2101080"/>
                        <a:pt x="1862667" y="2065867"/>
                      </a:cubicBezTo>
                      <a:cubicBezTo>
                        <a:pt x="1846052" y="1966175"/>
                        <a:pt x="1835554" y="1713597"/>
                        <a:pt x="1794933" y="1591733"/>
                      </a:cubicBezTo>
                      <a:cubicBezTo>
                        <a:pt x="1778968" y="1543839"/>
                        <a:pt x="1753174" y="1499558"/>
                        <a:pt x="1727200" y="1456267"/>
                      </a:cubicBezTo>
                      <a:cubicBezTo>
                        <a:pt x="1685317" y="1386462"/>
                        <a:pt x="1591733" y="1253067"/>
                        <a:pt x="1591733" y="1253067"/>
                      </a:cubicBezTo>
                      <a:cubicBezTo>
                        <a:pt x="1555962" y="1145753"/>
                        <a:pt x="1565165" y="1143657"/>
                        <a:pt x="1490133" y="1049867"/>
                      </a:cubicBezTo>
                      <a:cubicBezTo>
                        <a:pt x="1470187" y="1024934"/>
                        <a:pt x="1442346" y="1007066"/>
                        <a:pt x="1422400" y="982133"/>
                      </a:cubicBezTo>
                      <a:cubicBezTo>
                        <a:pt x="1396973" y="950349"/>
                        <a:pt x="1380094" y="912316"/>
                        <a:pt x="1354667" y="880533"/>
                      </a:cubicBezTo>
                      <a:cubicBezTo>
                        <a:pt x="1334721" y="855600"/>
                        <a:pt x="1306879" y="837733"/>
                        <a:pt x="1286933" y="812800"/>
                      </a:cubicBezTo>
                      <a:cubicBezTo>
                        <a:pt x="1261506" y="781017"/>
                        <a:pt x="1246241" y="741622"/>
                        <a:pt x="1219200" y="711200"/>
                      </a:cubicBezTo>
                      <a:cubicBezTo>
                        <a:pt x="1155561" y="639606"/>
                        <a:pt x="1095702" y="561134"/>
                        <a:pt x="1016000" y="508000"/>
                      </a:cubicBezTo>
                      <a:cubicBezTo>
                        <a:pt x="887833" y="422556"/>
                        <a:pt x="943181" y="469048"/>
                        <a:pt x="846667" y="372533"/>
                      </a:cubicBezTo>
                      <a:cubicBezTo>
                        <a:pt x="835378" y="338666"/>
                        <a:pt x="832602" y="300636"/>
                        <a:pt x="812800" y="270933"/>
                      </a:cubicBezTo>
                      <a:cubicBezTo>
                        <a:pt x="786233" y="231082"/>
                        <a:pt x="749006" y="198737"/>
                        <a:pt x="711200" y="169333"/>
                      </a:cubicBezTo>
                      <a:cubicBezTo>
                        <a:pt x="536524" y="33474"/>
                        <a:pt x="559693" y="51098"/>
                        <a:pt x="406400" y="0"/>
                      </a:cubicBezTo>
                      <a:cubicBezTo>
                        <a:pt x="361244" y="11289"/>
                        <a:pt x="313715" y="15532"/>
                        <a:pt x="270933" y="33867"/>
                      </a:cubicBezTo>
                      <a:cubicBezTo>
                        <a:pt x="53886" y="126887"/>
                        <a:pt x="173770" y="228415"/>
                        <a:pt x="203200" y="508000"/>
                      </a:cubicBezTo>
                      <a:cubicBezTo>
                        <a:pt x="230238" y="764856"/>
                        <a:pt x="168958" y="711013"/>
                        <a:pt x="304800" y="778933"/>
                      </a:cubicBez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" name="任意多边形 192"/>
                <p:cNvSpPr/>
                <p:nvPr/>
              </p:nvSpPr>
              <p:spPr>
                <a:xfrm rot="13129200">
                  <a:off x="17922240" y="-1276560"/>
                  <a:ext cx="178920" cy="428040"/>
                </a:xfrm>
                <a:custGeom>
                  <a:avLst/>
                  <a:gdLst>
                    <a:gd name="textAreaLeft" fmla="*/ 0 w 178920"/>
                    <a:gd name="textAreaRight" fmla="*/ 179280 w 178920"/>
                    <a:gd name="textAreaTop" fmla="*/ 0 h 428040"/>
                    <a:gd name="textAreaBottom" fmla="*/ 428400 h 428040"/>
                  </a:gdLst>
                  <a:ahLst/>
                  <a:rect l="textAreaLeft" t="textAreaTop" r="textAreaRight" b="textAreaBottom"/>
                  <a:pathLst>
                    <a:path w="2065867" h="4030133">
                      <a:moveTo>
                        <a:pt x="270933" y="677333"/>
                      </a:moveTo>
                      <a:cubicBezTo>
                        <a:pt x="259644" y="733778"/>
                        <a:pt x="257278" y="792770"/>
                        <a:pt x="237067" y="846667"/>
                      </a:cubicBezTo>
                      <a:cubicBezTo>
                        <a:pt x="222775" y="884778"/>
                        <a:pt x="187536" y="911861"/>
                        <a:pt x="169333" y="948267"/>
                      </a:cubicBezTo>
                      <a:cubicBezTo>
                        <a:pt x="153368" y="980197"/>
                        <a:pt x="146756" y="1016000"/>
                        <a:pt x="135467" y="1049867"/>
                      </a:cubicBezTo>
                      <a:cubicBezTo>
                        <a:pt x="124178" y="1128889"/>
                        <a:pt x="124537" y="1210475"/>
                        <a:pt x="101600" y="1286933"/>
                      </a:cubicBezTo>
                      <a:cubicBezTo>
                        <a:pt x="89904" y="1325919"/>
                        <a:pt x="52070" y="1352127"/>
                        <a:pt x="33867" y="1388533"/>
                      </a:cubicBezTo>
                      <a:cubicBezTo>
                        <a:pt x="17902" y="1420463"/>
                        <a:pt x="11289" y="1456266"/>
                        <a:pt x="0" y="1490133"/>
                      </a:cubicBezTo>
                      <a:cubicBezTo>
                        <a:pt x="11289" y="1648178"/>
                        <a:pt x="6331" y="1808231"/>
                        <a:pt x="33867" y="1964267"/>
                      </a:cubicBezTo>
                      <a:cubicBezTo>
                        <a:pt x="40941" y="2004350"/>
                        <a:pt x="77942" y="2032746"/>
                        <a:pt x="101600" y="2065867"/>
                      </a:cubicBezTo>
                      <a:cubicBezTo>
                        <a:pt x="134408" y="2111798"/>
                        <a:pt x="167065" y="2157971"/>
                        <a:pt x="203200" y="2201333"/>
                      </a:cubicBezTo>
                      <a:cubicBezTo>
                        <a:pt x="223641" y="2225862"/>
                        <a:pt x="253221" y="2242500"/>
                        <a:pt x="270933" y="2269067"/>
                      </a:cubicBezTo>
                      <a:cubicBezTo>
                        <a:pt x="298937" y="2311073"/>
                        <a:pt x="313619" y="2360700"/>
                        <a:pt x="338667" y="2404533"/>
                      </a:cubicBezTo>
                      <a:cubicBezTo>
                        <a:pt x="443708" y="2588354"/>
                        <a:pt x="378175" y="2421458"/>
                        <a:pt x="440267" y="2607733"/>
                      </a:cubicBezTo>
                      <a:cubicBezTo>
                        <a:pt x="451556" y="2686755"/>
                        <a:pt x="448890" y="2769072"/>
                        <a:pt x="474133" y="2844800"/>
                      </a:cubicBezTo>
                      <a:cubicBezTo>
                        <a:pt x="484230" y="2875091"/>
                        <a:pt x="525439" y="2885153"/>
                        <a:pt x="541867" y="2912533"/>
                      </a:cubicBezTo>
                      <a:cubicBezTo>
                        <a:pt x="692110" y="3162937"/>
                        <a:pt x="437916" y="2858793"/>
                        <a:pt x="643467" y="3115733"/>
                      </a:cubicBezTo>
                      <a:cubicBezTo>
                        <a:pt x="663413" y="3140666"/>
                        <a:pt x="691254" y="3158534"/>
                        <a:pt x="711200" y="3183467"/>
                      </a:cubicBezTo>
                      <a:cubicBezTo>
                        <a:pt x="736627" y="3215251"/>
                        <a:pt x="752130" y="3254435"/>
                        <a:pt x="778933" y="3285067"/>
                      </a:cubicBezTo>
                      <a:cubicBezTo>
                        <a:pt x="831498" y="3345141"/>
                        <a:pt x="900372" y="3390540"/>
                        <a:pt x="948267" y="3454400"/>
                      </a:cubicBezTo>
                      <a:cubicBezTo>
                        <a:pt x="982134" y="3499556"/>
                        <a:pt x="1019951" y="3542002"/>
                        <a:pt x="1049867" y="3589867"/>
                      </a:cubicBezTo>
                      <a:cubicBezTo>
                        <a:pt x="1076624" y="3632678"/>
                        <a:pt x="1089596" y="3683327"/>
                        <a:pt x="1117600" y="3725333"/>
                      </a:cubicBezTo>
                      <a:cubicBezTo>
                        <a:pt x="1164328" y="3795425"/>
                        <a:pt x="1222230" y="3809038"/>
                        <a:pt x="1286933" y="3860800"/>
                      </a:cubicBezTo>
                      <a:cubicBezTo>
                        <a:pt x="1311866" y="3880746"/>
                        <a:pt x="1328100" y="3910821"/>
                        <a:pt x="1354667" y="3928533"/>
                      </a:cubicBezTo>
                      <a:cubicBezTo>
                        <a:pt x="1438370" y="3984335"/>
                        <a:pt x="1501418" y="4000029"/>
                        <a:pt x="1591733" y="4030133"/>
                      </a:cubicBezTo>
                      <a:cubicBezTo>
                        <a:pt x="1670755" y="4018844"/>
                        <a:pt x="1753072" y="4021510"/>
                        <a:pt x="1828800" y="3996267"/>
                      </a:cubicBezTo>
                      <a:cubicBezTo>
                        <a:pt x="1947678" y="3956641"/>
                        <a:pt x="1962781" y="3628192"/>
                        <a:pt x="1964267" y="3623733"/>
                      </a:cubicBezTo>
                      <a:cubicBezTo>
                        <a:pt x="1977138" y="3585119"/>
                        <a:pt x="2013797" y="3558539"/>
                        <a:pt x="2032000" y="3522133"/>
                      </a:cubicBezTo>
                      <a:cubicBezTo>
                        <a:pt x="2047965" y="3490203"/>
                        <a:pt x="2054578" y="3454400"/>
                        <a:pt x="2065867" y="3420533"/>
                      </a:cubicBezTo>
                      <a:cubicBezTo>
                        <a:pt x="2054578" y="3318933"/>
                        <a:pt x="2052048" y="3215973"/>
                        <a:pt x="2032000" y="3115733"/>
                      </a:cubicBezTo>
                      <a:cubicBezTo>
                        <a:pt x="2017998" y="3045722"/>
                        <a:pt x="1964267" y="2912533"/>
                        <a:pt x="1964267" y="2912533"/>
                      </a:cubicBezTo>
                      <a:cubicBezTo>
                        <a:pt x="2045473" y="2668911"/>
                        <a:pt x="1946942" y="2973167"/>
                        <a:pt x="2032000" y="2675467"/>
                      </a:cubicBezTo>
                      <a:cubicBezTo>
                        <a:pt x="2041807" y="2641142"/>
                        <a:pt x="2054578" y="2607734"/>
                        <a:pt x="2065867" y="2573867"/>
                      </a:cubicBezTo>
                      <a:cubicBezTo>
                        <a:pt x="1988036" y="2340376"/>
                        <a:pt x="2048618" y="2421153"/>
                        <a:pt x="1930400" y="2302933"/>
                      </a:cubicBezTo>
                      <a:cubicBezTo>
                        <a:pt x="1919111" y="2257778"/>
                        <a:pt x="1909320" y="2212221"/>
                        <a:pt x="1896533" y="2167467"/>
                      </a:cubicBezTo>
                      <a:cubicBezTo>
                        <a:pt x="1886726" y="2133142"/>
                        <a:pt x="1868536" y="2101080"/>
                        <a:pt x="1862667" y="2065867"/>
                      </a:cubicBezTo>
                      <a:cubicBezTo>
                        <a:pt x="1846052" y="1966175"/>
                        <a:pt x="1835554" y="1713597"/>
                        <a:pt x="1794933" y="1591733"/>
                      </a:cubicBezTo>
                      <a:cubicBezTo>
                        <a:pt x="1778968" y="1543839"/>
                        <a:pt x="1753174" y="1499558"/>
                        <a:pt x="1727200" y="1456267"/>
                      </a:cubicBezTo>
                      <a:cubicBezTo>
                        <a:pt x="1685317" y="1386462"/>
                        <a:pt x="1591733" y="1253067"/>
                        <a:pt x="1591733" y="1253067"/>
                      </a:cubicBezTo>
                      <a:cubicBezTo>
                        <a:pt x="1555962" y="1145753"/>
                        <a:pt x="1565165" y="1143657"/>
                        <a:pt x="1490133" y="1049867"/>
                      </a:cubicBezTo>
                      <a:cubicBezTo>
                        <a:pt x="1470187" y="1024934"/>
                        <a:pt x="1442346" y="1007066"/>
                        <a:pt x="1422400" y="982133"/>
                      </a:cubicBezTo>
                      <a:cubicBezTo>
                        <a:pt x="1396973" y="950349"/>
                        <a:pt x="1380094" y="912316"/>
                        <a:pt x="1354667" y="880533"/>
                      </a:cubicBezTo>
                      <a:cubicBezTo>
                        <a:pt x="1334721" y="855600"/>
                        <a:pt x="1306879" y="837733"/>
                        <a:pt x="1286933" y="812800"/>
                      </a:cubicBezTo>
                      <a:cubicBezTo>
                        <a:pt x="1261506" y="781017"/>
                        <a:pt x="1246241" y="741622"/>
                        <a:pt x="1219200" y="711200"/>
                      </a:cubicBezTo>
                      <a:cubicBezTo>
                        <a:pt x="1155561" y="639606"/>
                        <a:pt x="1095702" y="561134"/>
                        <a:pt x="1016000" y="508000"/>
                      </a:cubicBezTo>
                      <a:cubicBezTo>
                        <a:pt x="887833" y="422556"/>
                        <a:pt x="943181" y="469048"/>
                        <a:pt x="846667" y="372533"/>
                      </a:cubicBezTo>
                      <a:cubicBezTo>
                        <a:pt x="835378" y="338666"/>
                        <a:pt x="832602" y="300636"/>
                        <a:pt x="812800" y="270933"/>
                      </a:cubicBezTo>
                      <a:cubicBezTo>
                        <a:pt x="786233" y="231082"/>
                        <a:pt x="749006" y="198737"/>
                        <a:pt x="711200" y="169333"/>
                      </a:cubicBezTo>
                      <a:cubicBezTo>
                        <a:pt x="536524" y="33474"/>
                        <a:pt x="559693" y="51098"/>
                        <a:pt x="406400" y="0"/>
                      </a:cubicBezTo>
                      <a:cubicBezTo>
                        <a:pt x="361244" y="11289"/>
                        <a:pt x="313715" y="15532"/>
                        <a:pt x="270933" y="33867"/>
                      </a:cubicBezTo>
                      <a:cubicBezTo>
                        <a:pt x="53886" y="126887"/>
                        <a:pt x="173770" y="228415"/>
                        <a:pt x="203200" y="508000"/>
                      </a:cubicBezTo>
                      <a:cubicBezTo>
                        <a:pt x="230238" y="764856"/>
                        <a:pt x="168958" y="711013"/>
                        <a:pt x="304800" y="778933"/>
                      </a:cubicBezTo>
                    </a:path>
                  </a:pathLst>
                </a:custGeom>
                <a:solidFill>
                  <a:srgbClr val="f2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任意多边形 193"/>
                <p:cNvSpPr/>
                <p:nvPr/>
              </p:nvSpPr>
              <p:spPr>
                <a:xfrm rot="13129200">
                  <a:off x="18058680" y="-1524960"/>
                  <a:ext cx="83160" cy="359640"/>
                </a:xfrm>
                <a:custGeom>
                  <a:avLst/>
                  <a:gdLst>
                    <a:gd name="textAreaLeft" fmla="*/ 0 w 83160"/>
                    <a:gd name="textAreaRight" fmla="*/ 83520 w 83160"/>
                    <a:gd name="textAreaTop" fmla="*/ 0 h 359640"/>
                    <a:gd name="textAreaBottom" fmla="*/ 360000 h 359640"/>
                  </a:gdLst>
                  <a:ahLst/>
                  <a:rect l="textAreaLeft" t="textAreaTop" r="textAreaRight" b="textAreaBottom"/>
                  <a:pathLst>
                    <a:path w="2065867" h="4030133">
                      <a:moveTo>
                        <a:pt x="270933" y="677333"/>
                      </a:moveTo>
                      <a:cubicBezTo>
                        <a:pt x="259644" y="733778"/>
                        <a:pt x="257278" y="792770"/>
                        <a:pt x="237067" y="846667"/>
                      </a:cubicBezTo>
                      <a:cubicBezTo>
                        <a:pt x="222775" y="884778"/>
                        <a:pt x="187536" y="911861"/>
                        <a:pt x="169333" y="948267"/>
                      </a:cubicBezTo>
                      <a:cubicBezTo>
                        <a:pt x="153368" y="980197"/>
                        <a:pt x="146756" y="1016000"/>
                        <a:pt x="135467" y="1049867"/>
                      </a:cubicBezTo>
                      <a:cubicBezTo>
                        <a:pt x="124178" y="1128889"/>
                        <a:pt x="124537" y="1210475"/>
                        <a:pt x="101600" y="1286933"/>
                      </a:cubicBezTo>
                      <a:cubicBezTo>
                        <a:pt x="89904" y="1325919"/>
                        <a:pt x="52070" y="1352127"/>
                        <a:pt x="33867" y="1388533"/>
                      </a:cubicBezTo>
                      <a:cubicBezTo>
                        <a:pt x="17902" y="1420463"/>
                        <a:pt x="11289" y="1456266"/>
                        <a:pt x="0" y="1490133"/>
                      </a:cubicBezTo>
                      <a:cubicBezTo>
                        <a:pt x="11289" y="1648178"/>
                        <a:pt x="6331" y="1808231"/>
                        <a:pt x="33867" y="1964267"/>
                      </a:cubicBezTo>
                      <a:cubicBezTo>
                        <a:pt x="40941" y="2004350"/>
                        <a:pt x="77942" y="2032746"/>
                        <a:pt x="101600" y="2065867"/>
                      </a:cubicBezTo>
                      <a:cubicBezTo>
                        <a:pt x="134408" y="2111798"/>
                        <a:pt x="167065" y="2157971"/>
                        <a:pt x="203200" y="2201333"/>
                      </a:cubicBezTo>
                      <a:cubicBezTo>
                        <a:pt x="223641" y="2225862"/>
                        <a:pt x="253221" y="2242500"/>
                        <a:pt x="270933" y="2269067"/>
                      </a:cubicBezTo>
                      <a:cubicBezTo>
                        <a:pt x="298937" y="2311073"/>
                        <a:pt x="313619" y="2360700"/>
                        <a:pt x="338667" y="2404533"/>
                      </a:cubicBezTo>
                      <a:cubicBezTo>
                        <a:pt x="443708" y="2588354"/>
                        <a:pt x="378175" y="2421458"/>
                        <a:pt x="440267" y="2607733"/>
                      </a:cubicBezTo>
                      <a:cubicBezTo>
                        <a:pt x="451556" y="2686755"/>
                        <a:pt x="448890" y="2769072"/>
                        <a:pt x="474133" y="2844800"/>
                      </a:cubicBezTo>
                      <a:cubicBezTo>
                        <a:pt x="484230" y="2875091"/>
                        <a:pt x="525439" y="2885153"/>
                        <a:pt x="541867" y="2912533"/>
                      </a:cubicBezTo>
                      <a:cubicBezTo>
                        <a:pt x="692110" y="3162937"/>
                        <a:pt x="437916" y="2858793"/>
                        <a:pt x="643467" y="3115733"/>
                      </a:cubicBezTo>
                      <a:cubicBezTo>
                        <a:pt x="663413" y="3140666"/>
                        <a:pt x="691254" y="3158534"/>
                        <a:pt x="711200" y="3183467"/>
                      </a:cubicBezTo>
                      <a:cubicBezTo>
                        <a:pt x="736627" y="3215251"/>
                        <a:pt x="752130" y="3254435"/>
                        <a:pt x="778933" y="3285067"/>
                      </a:cubicBezTo>
                      <a:cubicBezTo>
                        <a:pt x="831498" y="3345141"/>
                        <a:pt x="900372" y="3390540"/>
                        <a:pt x="948267" y="3454400"/>
                      </a:cubicBezTo>
                      <a:cubicBezTo>
                        <a:pt x="982134" y="3499556"/>
                        <a:pt x="1019951" y="3542002"/>
                        <a:pt x="1049867" y="3589867"/>
                      </a:cubicBezTo>
                      <a:cubicBezTo>
                        <a:pt x="1076624" y="3632678"/>
                        <a:pt x="1089596" y="3683327"/>
                        <a:pt x="1117600" y="3725333"/>
                      </a:cubicBezTo>
                      <a:cubicBezTo>
                        <a:pt x="1164328" y="3795425"/>
                        <a:pt x="1222230" y="3809038"/>
                        <a:pt x="1286933" y="3860800"/>
                      </a:cubicBezTo>
                      <a:cubicBezTo>
                        <a:pt x="1311866" y="3880746"/>
                        <a:pt x="1328100" y="3910821"/>
                        <a:pt x="1354667" y="3928533"/>
                      </a:cubicBezTo>
                      <a:cubicBezTo>
                        <a:pt x="1438370" y="3984335"/>
                        <a:pt x="1501418" y="4000029"/>
                        <a:pt x="1591733" y="4030133"/>
                      </a:cubicBezTo>
                      <a:cubicBezTo>
                        <a:pt x="1670755" y="4018844"/>
                        <a:pt x="1753072" y="4021510"/>
                        <a:pt x="1828800" y="3996267"/>
                      </a:cubicBezTo>
                      <a:cubicBezTo>
                        <a:pt x="1947678" y="3956641"/>
                        <a:pt x="1962781" y="3628192"/>
                        <a:pt x="1964267" y="3623733"/>
                      </a:cubicBezTo>
                      <a:cubicBezTo>
                        <a:pt x="1977138" y="3585119"/>
                        <a:pt x="2013797" y="3558539"/>
                        <a:pt x="2032000" y="3522133"/>
                      </a:cubicBezTo>
                      <a:cubicBezTo>
                        <a:pt x="2047965" y="3490203"/>
                        <a:pt x="2054578" y="3454400"/>
                        <a:pt x="2065867" y="3420533"/>
                      </a:cubicBezTo>
                      <a:cubicBezTo>
                        <a:pt x="2054578" y="3318933"/>
                        <a:pt x="2052048" y="3215973"/>
                        <a:pt x="2032000" y="3115733"/>
                      </a:cubicBezTo>
                      <a:cubicBezTo>
                        <a:pt x="2017998" y="3045722"/>
                        <a:pt x="1964267" y="2912533"/>
                        <a:pt x="1964267" y="2912533"/>
                      </a:cubicBezTo>
                      <a:cubicBezTo>
                        <a:pt x="2045473" y="2668911"/>
                        <a:pt x="1946942" y="2973167"/>
                        <a:pt x="2032000" y="2675467"/>
                      </a:cubicBezTo>
                      <a:cubicBezTo>
                        <a:pt x="2041807" y="2641142"/>
                        <a:pt x="2054578" y="2607734"/>
                        <a:pt x="2065867" y="2573867"/>
                      </a:cubicBezTo>
                      <a:cubicBezTo>
                        <a:pt x="1988036" y="2340376"/>
                        <a:pt x="2048618" y="2421153"/>
                        <a:pt x="1930400" y="2302933"/>
                      </a:cubicBezTo>
                      <a:cubicBezTo>
                        <a:pt x="1919111" y="2257778"/>
                        <a:pt x="1909320" y="2212221"/>
                        <a:pt x="1896533" y="2167467"/>
                      </a:cubicBezTo>
                      <a:cubicBezTo>
                        <a:pt x="1886726" y="2133142"/>
                        <a:pt x="1868536" y="2101080"/>
                        <a:pt x="1862667" y="2065867"/>
                      </a:cubicBezTo>
                      <a:cubicBezTo>
                        <a:pt x="1846052" y="1966175"/>
                        <a:pt x="1835554" y="1713597"/>
                        <a:pt x="1794933" y="1591733"/>
                      </a:cubicBezTo>
                      <a:cubicBezTo>
                        <a:pt x="1778968" y="1543839"/>
                        <a:pt x="1753174" y="1499558"/>
                        <a:pt x="1727200" y="1456267"/>
                      </a:cubicBezTo>
                      <a:cubicBezTo>
                        <a:pt x="1685317" y="1386462"/>
                        <a:pt x="1591733" y="1253067"/>
                        <a:pt x="1591733" y="1253067"/>
                      </a:cubicBezTo>
                      <a:cubicBezTo>
                        <a:pt x="1555962" y="1145753"/>
                        <a:pt x="1565165" y="1143657"/>
                        <a:pt x="1490133" y="1049867"/>
                      </a:cubicBezTo>
                      <a:cubicBezTo>
                        <a:pt x="1470187" y="1024934"/>
                        <a:pt x="1442346" y="1007066"/>
                        <a:pt x="1422400" y="982133"/>
                      </a:cubicBezTo>
                      <a:cubicBezTo>
                        <a:pt x="1396973" y="950349"/>
                        <a:pt x="1380094" y="912316"/>
                        <a:pt x="1354667" y="880533"/>
                      </a:cubicBezTo>
                      <a:cubicBezTo>
                        <a:pt x="1334721" y="855600"/>
                        <a:pt x="1306879" y="837733"/>
                        <a:pt x="1286933" y="812800"/>
                      </a:cubicBezTo>
                      <a:cubicBezTo>
                        <a:pt x="1261506" y="781017"/>
                        <a:pt x="1246241" y="741622"/>
                        <a:pt x="1219200" y="711200"/>
                      </a:cubicBezTo>
                      <a:cubicBezTo>
                        <a:pt x="1155561" y="639606"/>
                        <a:pt x="1095702" y="561134"/>
                        <a:pt x="1016000" y="508000"/>
                      </a:cubicBezTo>
                      <a:cubicBezTo>
                        <a:pt x="887833" y="422556"/>
                        <a:pt x="943181" y="469048"/>
                        <a:pt x="846667" y="372533"/>
                      </a:cubicBezTo>
                      <a:cubicBezTo>
                        <a:pt x="835378" y="338666"/>
                        <a:pt x="832602" y="300636"/>
                        <a:pt x="812800" y="270933"/>
                      </a:cubicBezTo>
                      <a:cubicBezTo>
                        <a:pt x="786233" y="231082"/>
                        <a:pt x="749006" y="198737"/>
                        <a:pt x="711200" y="169333"/>
                      </a:cubicBezTo>
                      <a:cubicBezTo>
                        <a:pt x="536524" y="33474"/>
                        <a:pt x="559693" y="51098"/>
                        <a:pt x="406400" y="0"/>
                      </a:cubicBezTo>
                      <a:cubicBezTo>
                        <a:pt x="361244" y="11289"/>
                        <a:pt x="313715" y="15532"/>
                        <a:pt x="270933" y="33867"/>
                      </a:cubicBezTo>
                      <a:cubicBezTo>
                        <a:pt x="53886" y="126887"/>
                        <a:pt x="173770" y="228415"/>
                        <a:pt x="203200" y="508000"/>
                      </a:cubicBezTo>
                      <a:cubicBezTo>
                        <a:pt x="230238" y="764856"/>
                        <a:pt x="168958" y="711013"/>
                        <a:pt x="304800" y="778933"/>
                      </a:cubicBezTo>
                    </a:path>
                  </a:pathLst>
                </a:custGeom>
                <a:solidFill>
                  <a:srgbClr val="f2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2" name=""/>
              <p:cNvGrpSpPr/>
              <p:nvPr/>
            </p:nvGrpSpPr>
            <p:grpSpPr>
              <a:xfrm>
                <a:off x="17810640" y="214560"/>
                <a:ext cx="2360880" cy="2640960"/>
                <a:chOff x="17810640" y="214560"/>
                <a:chExt cx="2360880" cy="2640960"/>
              </a:xfrm>
            </p:grpSpPr>
            <p:sp>
              <p:nvSpPr>
                <p:cNvPr id="223" name="任意多边形 195"/>
                <p:cNvSpPr/>
                <p:nvPr/>
              </p:nvSpPr>
              <p:spPr>
                <a:xfrm flipH="1" rot="8470800">
                  <a:off x="18561600" y="185400"/>
                  <a:ext cx="858960" cy="2698560"/>
                </a:xfrm>
                <a:custGeom>
                  <a:avLst/>
                  <a:gdLst>
                    <a:gd name="textAreaLeft" fmla="*/ 360 w 858960"/>
                    <a:gd name="textAreaRight" fmla="*/ 859680 w 858960"/>
                    <a:gd name="textAreaTop" fmla="*/ 0 h 2698560"/>
                    <a:gd name="textAreaBottom" fmla="*/ 2698920 h 2698560"/>
                  </a:gdLst>
                  <a:ahLst/>
                  <a:rect l="textAreaLeft" t="textAreaTop" r="textAreaRight" b="textAreaBottom"/>
                  <a:pathLst>
                    <a:path w="2065867" h="4030133">
                      <a:moveTo>
                        <a:pt x="270933" y="677333"/>
                      </a:moveTo>
                      <a:cubicBezTo>
                        <a:pt x="259644" y="733778"/>
                        <a:pt x="257278" y="792770"/>
                        <a:pt x="237067" y="846667"/>
                      </a:cubicBezTo>
                      <a:cubicBezTo>
                        <a:pt x="222775" y="884778"/>
                        <a:pt x="187536" y="911861"/>
                        <a:pt x="169333" y="948267"/>
                      </a:cubicBezTo>
                      <a:cubicBezTo>
                        <a:pt x="153368" y="980197"/>
                        <a:pt x="146756" y="1016000"/>
                        <a:pt x="135467" y="1049867"/>
                      </a:cubicBezTo>
                      <a:cubicBezTo>
                        <a:pt x="124178" y="1128889"/>
                        <a:pt x="124537" y="1210475"/>
                        <a:pt x="101600" y="1286933"/>
                      </a:cubicBezTo>
                      <a:cubicBezTo>
                        <a:pt x="89904" y="1325919"/>
                        <a:pt x="52070" y="1352127"/>
                        <a:pt x="33867" y="1388533"/>
                      </a:cubicBezTo>
                      <a:cubicBezTo>
                        <a:pt x="17902" y="1420463"/>
                        <a:pt x="11289" y="1456266"/>
                        <a:pt x="0" y="1490133"/>
                      </a:cubicBezTo>
                      <a:cubicBezTo>
                        <a:pt x="11289" y="1648178"/>
                        <a:pt x="6331" y="1808231"/>
                        <a:pt x="33867" y="1964267"/>
                      </a:cubicBezTo>
                      <a:cubicBezTo>
                        <a:pt x="40941" y="2004350"/>
                        <a:pt x="77942" y="2032746"/>
                        <a:pt x="101600" y="2065867"/>
                      </a:cubicBezTo>
                      <a:cubicBezTo>
                        <a:pt x="134408" y="2111798"/>
                        <a:pt x="167065" y="2157971"/>
                        <a:pt x="203200" y="2201333"/>
                      </a:cubicBezTo>
                      <a:cubicBezTo>
                        <a:pt x="223641" y="2225862"/>
                        <a:pt x="253221" y="2242500"/>
                        <a:pt x="270933" y="2269067"/>
                      </a:cubicBezTo>
                      <a:cubicBezTo>
                        <a:pt x="298937" y="2311073"/>
                        <a:pt x="313619" y="2360700"/>
                        <a:pt x="338667" y="2404533"/>
                      </a:cubicBezTo>
                      <a:cubicBezTo>
                        <a:pt x="443708" y="2588354"/>
                        <a:pt x="378175" y="2421458"/>
                        <a:pt x="440267" y="2607733"/>
                      </a:cubicBezTo>
                      <a:cubicBezTo>
                        <a:pt x="451556" y="2686755"/>
                        <a:pt x="448890" y="2769072"/>
                        <a:pt x="474133" y="2844800"/>
                      </a:cubicBezTo>
                      <a:cubicBezTo>
                        <a:pt x="484230" y="2875091"/>
                        <a:pt x="525439" y="2885153"/>
                        <a:pt x="541867" y="2912533"/>
                      </a:cubicBezTo>
                      <a:cubicBezTo>
                        <a:pt x="692110" y="3162937"/>
                        <a:pt x="437916" y="2858793"/>
                        <a:pt x="643467" y="3115733"/>
                      </a:cubicBezTo>
                      <a:cubicBezTo>
                        <a:pt x="663413" y="3140666"/>
                        <a:pt x="691254" y="3158534"/>
                        <a:pt x="711200" y="3183467"/>
                      </a:cubicBezTo>
                      <a:cubicBezTo>
                        <a:pt x="736627" y="3215251"/>
                        <a:pt x="752130" y="3254435"/>
                        <a:pt x="778933" y="3285067"/>
                      </a:cubicBezTo>
                      <a:cubicBezTo>
                        <a:pt x="831498" y="3345141"/>
                        <a:pt x="900372" y="3390540"/>
                        <a:pt x="948267" y="3454400"/>
                      </a:cubicBezTo>
                      <a:cubicBezTo>
                        <a:pt x="982134" y="3499556"/>
                        <a:pt x="1019951" y="3542002"/>
                        <a:pt x="1049867" y="3589867"/>
                      </a:cubicBezTo>
                      <a:cubicBezTo>
                        <a:pt x="1076624" y="3632678"/>
                        <a:pt x="1089596" y="3683327"/>
                        <a:pt x="1117600" y="3725333"/>
                      </a:cubicBezTo>
                      <a:cubicBezTo>
                        <a:pt x="1164328" y="3795425"/>
                        <a:pt x="1222230" y="3809038"/>
                        <a:pt x="1286933" y="3860800"/>
                      </a:cubicBezTo>
                      <a:cubicBezTo>
                        <a:pt x="1311866" y="3880746"/>
                        <a:pt x="1328100" y="3910821"/>
                        <a:pt x="1354667" y="3928533"/>
                      </a:cubicBezTo>
                      <a:cubicBezTo>
                        <a:pt x="1438370" y="3984335"/>
                        <a:pt x="1501418" y="4000029"/>
                        <a:pt x="1591733" y="4030133"/>
                      </a:cubicBezTo>
                      <a:cubicBezTo>
                        <a:pt x="1670755" y="4018844"/>
                        <a:pt x="1753072" y="4021510"/>
                        <a:pt x="1828800" y="3996267"/>
                      </a:cubicBezTo>
                      <a:cubicBezTo>
                        <a:pt x="1947678" y="3956641"/>
                        <a:pt x="1962781" y="3628192"/>
                        <a:pt x="1964267" y="3623733"/>
                      </a:cubicBezTo>
                      <a:cubicBezTo>
                        <a:pt x="1977138" y="3585119"/>
                        <a:pt x="2013797" y="3558539"/>
                        <a:pt x="2032000" y="3522133"/>
                      </a:cubicBezTo>
                      <a:cubicBezTo>
                        <a:pt x="2047965" y="3490203"/>
                        <a:pt x="2054578" y="3454400"/>
                        <a:pt x="2065867" y="3420533"/>
                      </a:cubicBezTo>
                      <a:cubicBezTo>
                        <a:pt x="2054578" y="3318933"/>
                        <a:pt x="2052048" y="3215973"/>
                        <a:pt x="2032000" y="3115733"/>
                      </a:cubicBezTo>
                      <a:cubicBezTo>
                        <a:pt x="2017998" y="3045722"/>
                        <a:pt x="1964267" y="2912533"/>
                        <a:pt x="1964267" y="2912533"/>
                      </a:cubicBezTo>
                      <a:cubicBezTo>
                        <a:pt x="2045473" y="2668911"/>
                        <a:pt x="1946942" y="2973167"/>
                        <a:pt x="2032000" y="2675467"/>
                      </a:cubicBezTo>
                      <a:cubicBezTo>
                        <a:pt x="2041807" y="2641142"/>
                        <a:pt x="2054578" y="2607734"/>
                        <a:pt x="2065867" y="2573867"/>
                      </a:cubicBezTo>
                      <a:cubicBezTo>
                        <a:pt x="1988036" y="2340376"/>
                        <a:pt x="2048618" y="2421153"/>
                        <a:pt x="1930400" y="2302933"/>
                      </a:cubicBezTo>
                      <a:cubicBezTo>
                        <a:pt x="1919111" y="2257778"/>
                        <a:pt x="1909320" y="2212221"/>
                        <a:pt x="1896533" y="2167467"/>
                      </a:cubicBezTo>
                      <a:cubicBezTo>
                        <a:pt x="1886726" y="2133142"/>
                        <a:pt x="1868536" y="2101080"/>
                        <a:pt x="1862667" y="2065867"/>
                      </a:cubicBezTo>
                      <a:cubicBezTo>
                        <a:pt x="1846052" y="1966175"/>
                        <a:pt x="1835554" y="1713597"/>
                        <a:pt x="1794933" y="1591733"/>
                      </a:cubicBezTo>
                      <a:cubicBezTo>
                        <a:pt x="1778968" y="1543839"/>
                        <a:pt x="1753174" y="1499558"/>
                        <a:pt x="1727200" y="1456267"/>
                      </a:cubicBezTo>
                      <a:cubicBezTo>
                        <a:pt x="1685317" y="1386462"/>
                        <a:pt x="1591733" y="1253067"/>
                        <a:pt x="1591733" y="1253067"/>
                      </a:cubicBezTo>
                      <a:cubicBezTo>
                        <a:pt x="1555962" y="1145753"/>
                        <a:pt x="1565165" y="1143657"/>
                        <a:pt x="1490133" y="1049867"/>
                      </a:cubicBezTo>
                      <a:cubicBezTo>
                        <a:pt x="1470187" y="1024934"/>
                        <a:pt x="1442346" y="1007066"/>
                        <a:pt x="1422400" y="982133"/>
                      </a:cubicBezTo>
                      <a:cubicBezTo>
                        <a:pt x="1396973" y="950349"/>
                        <a:pt x="1380094" y="912316"/>
                        <a:pt x="1354667" y="880533"/>
                      </a:cubicBezTo>
                      <a:cubicBezTo>
                        <a:pt x="1334721" y="855600"/>
                        <a:pt x="1306879" y="837733"/>
                        <a:pt x="1286933" y="812800"/>
                      </a:cubicBezTo>
                      <a:cubicBezTo>
                        <a:pt x="1261506" y="781017"/>
                        <a:pt x="1246241" y="741622"/>
                        <a:pt x="1219200" y="711200"/>
                      </a:cubicBezTo>
                      <a:cubicBezTo>
                        <a:pt x="1155561" y="639606"/>
                        <a:pt x="1095702" y="561134"/>
                        <a:pt x="1016000" y="508000"/>
                      </a:cubicBezTo>
                      <a:cubicBezTo>
                        <a:pt x="887833" y="422556"/>
                        <a:pt x="943181" y="469048"/>
                        <a:pt x="846667" y="372533"/>
                      </a:cubicBezTo>
                      <a:cubicBezTo>
                        <a:pt x="835378" y="338666"/>
                        <a:pt x="832602" y="300636"/>
                        <a:pt x="812800" y="270933"/>
                      </a:cubicBezTo>
                      <a:cubicBezTo>
                        <a:pt x="786233" y="231082"/>
                        <a:pt x="749006" y="198737"/>
                        <a:pt x="711200" y="169333"/>
                      </a:cubicBezTo>
                      <a:cubicBezTo>
                        <a:pt x="536524" y="33474"/>
                        <a:pt x="559693" y="51098"/>
                        <a:pt x="406400" y="0"/>
                      </a:cubicBezTo>
                      <a:cubicBezTo>
                        <a:pt x="361244" y="11289"/>
                        <a:pt x="313715" y="15532"/>
                        <a:pt x="270933" y="33867"/>
                      </a:cubicBezTo>
                      <a:cubicBezTo>
                        <a:pt x="53886" y="126887"/>
                        <a:pt x="173770" y="228415"/>
                        <a:pt x="203200" y="508000"/>
                      </a:cubicBezTo>
                      <a:cubicBezTo>
                        <a:pt x="230238" y="764856"/>
                        <a:pt x="168958" y="711013"/>
                        <a:pt x="304800" y="778933"/>
                      </a:cubicBez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" name="任意多边形 196"/>
                <p:cNvSpPr/>
                <p:nvPr/>
              </p:nvSpPr>
              <p:spPr>
                <a:xfrm flipH="1" rot="8470800">
                  <a:off x="19076760" y="1332360"/>
                  <a:ext cx="429480" cy="1237680"/>
                </a:xfrm>
                <a:custGeom>
                  <a:avLst/>
                  <a:gdLst>
                    <a:gd name="textAreaLeft" fmla="*/ -360 w 429480"/>
                    <a:gd name="textAreaRight" fmla="*/ 429480 w 429480"/>
                    <a:gd name="textAreaTop" fmla="*/ 0 h 1237680"/>
                    <a:gd name="textAreaBottom" fmla="*/ 1238040 h 1237680"/>
                  </a:gdLst>
                  <a:ahLst/>
                  <a:rect l="textAreaLeft" t="textAreaTop" r="textAreaRight" b="textAreaBottom"/>
                  <a:pathLst>
                    <a:path w="2065867" h="4030133">
                      <a:moveTo>
                        <a:pt x="270933" y="677333"/>
                      </a:moveTo>
                      <a:cubicBezTo>
                        <a:pt x="259644" y="733778"/>
                        <a:pt x="257278" y="792770"/>
                        <a:pt x="237067" y="846667"/>
                      </a:cubicBezTo>
                      <a:cubicBezTo>
                        <a:pt x="222775" y="884778"/>
                        <a:pt x="187536" y="911861"/>
                        <a:pt x="169333" y="948267"/>
                      </a:cubicBezTo>
                      <a:cubicBezTo>
                        <a:pt x="153368" y="980197"/>
                        <a:pt x="146756" y="1016000"/>
                        <a:pt x="135467" y="1049867"/>
                      </a:cubicBezTo>
                      <a:cubicBezTo>
                        <a:pt x="124178" y="1128889"/>
                        <a:pt x="124537" y="1210475"/>
                        <a:pt x="101600" y="1286933"/>
                      </a:cubicBezTo>
                      <a:cubicBezTo>
                        <a:pt x="89904" y="1325919"/>
                        <a:pt x="52070" y="1352127"/>
                        <a:pt x="33867" y="1388533"/>
                      </a:cubicBezTo>
                      <a:cubicBezTo>
                        <a:pt x="17902" y="1420463"/>
                        <a:pt x="11289" y="1456266"/>
                        <a:pt x="0" y="1490133"/>
                      </a:cubicBezTo>
                      <a:cubicBezTo>
                        <a:pt x="11289" y="1648178"/>
                        <a:pt x="6331" y="1808231"/>
                        <a:pt x="33867" y="1964267"/>
                      </a:cubicBezTo>
                      <a:cubicBezTo>
                        <a:pt x="40941" y="2004350"/>
                        <a:pt x="77942" y="2032746"/>
                        <a:pt x="101600" y="2065867"/>
                      </a:cubicBezTo>
                      <a:cubicBezTo>
                        <a:pt x="134408" y="2111798"/>
                        <a:pt x="167065" y="2157971"/>
                        <a:pt x="203200" y="2201333"/>
                      </a:cubicBezTo>
                      <a:cubicBezTo>
                        <a:pt x="223641" y="2225862"/>
                        <a:pt x="253221" y="2242500"/>
                        <a:pt x="270933" y="2269067"/>
                      </a:cubicBezTo>
                      <a:cubicBezTo>
                        <a:pt x="298937" y="2311073"/>
                        <a:pt x="313619" y="2360700"/>
                        <a:pt x="338667" y="2404533"/>
                      </a:cubicBezTo>
                      <a:cubicBezTo>
                        <a:pt x="443708" y="2588354"/>
                        <a:pt x="378175" y="2421458"/>
                        <a:pt x="440267" y="2607733"/>
                      </a:cubicBezTo>
                      <a:cubicBezTo>
                        <a:pt x="451556" y="2686755"/>
                        <a:pt x="448890" y="2769072"/>
                        <a:pt x="474133" y="2844800"/>
                      </a:cubicBezTo>
                      <a:cubicBezTo>
                        <a:pt x="484230" y="2875091"/>
                        <a:pt x="525439" y="2885153"/>
                        <a:pt x="541867" y="2912533"/>
                      </a:cubicBezTo>
                      <a:cubicBezTo>
                        <a:pt x="692110" y="3162937"/>
                        <a:pt x="437916" y="2858793"/>
                        <a:pt x="643467" y="3115733"/>
                      </a:cubicBezTo>
                      <a:cubicBezTo>
                        <a:pt x="663413" y="3140666"/>
                        <a:pt x="691254" y="3158534"/>
                        <a:pt x="711200" y="3183467"/>
                      </a:cubicBezTo>
                      <a:cubicBezTo>
                        <a:pt x="736627" y="3215251"/>
                        <a:pt x="752130" y="3254435"/>
                        <a:pt x="778933" y="3285067"/>
                      </a:cubicBezTo>
                      <a:cubicBezTo>
                        <a:pt x="831498" y="3345141"/>
                        <a:pt x="900372" y="3390540"/>
                        <a:pt x="948267" y="3454400"/>
                      </a:cubicBezTo>
                      <a:cubicBezTo>
                        <a:pt x="982134" y="3499556"/>
                        <a:pt x="1019951" y="3542002"/>
                        <a:pt x="1049867" y="3589867"/>
                      </a:cubicBezTo>
                      <a:cubicBezTo>
                        <a:pt x="1076624" y="3632678"/>
                        <a:pt x="1089596" y="3683327"/>
                        <a:pt x="1117600" y="3725333"/>
                      </a:cubicBezTo>
                      <a:cubicBezTo>
                        <a:pt x="1164328" y="3795425"/>
                        <a:pt x="1222230" y="3809038"/>
                        <a:pt x="1286933" y="3860800"/>
                      </a:cubicBezTo>
                      <a:cubicBezTo>
                        <a:pt x="1311866" y="3880746"/>
                        <a:pt x="1328100" y="3910821"/>
                        <a:pt x="1354667" y="3928533"/>
                      </a:cubicBezTo>
                      <a:cubicBezTo>
                        <a:pt x="1438370" y="3984335"/>
                        <a:pt x="1501418" y="4000029"/>
                        <a:pt x="1591733" y="4030133"/>
                      </a:cubicBezTo>
                      <a:cubicBezTo>
                        <a:pt x="1670755" y="4018844"/>
                        <a:pt x="1753072" y="4021510"/>
                        <a:pt x="1828800" y="3996267"/>
                      </a:cubicBezTo>
                      <a:cubicBezTo>
                        <a:pt x="1947678" y="3956641"/>
                        <a:pt x="1962781" y="3628192"/>
                        <a:pt x="1964267" y="3623733"/>
                      </a:cubicBezTo>
                      <a:cubicBezTo>
                        <a:pt x="1977138" y="3585119"/>
                        <a:pt x="2013797" y="3558539"/>
                        <a:pt x="2032000" y="3522133"/>
                      </a:cubicBezTo>
                      <a:cubicBezTo>
                        <a:pt x="2047965" y="3490203"/>
                        <a:pt x="2054578" y="3454400"/>
                        <a:pt x="2065867" y="3420533"/>
                      </a:cubicBezTo>
                      <a:cubicBezTo>
                        <a:pt x="2054578" y="3318933"/>
                        <a:pt x="2052048" y="3215973"/>
                        <a:pt x="2032000" y="3115733"/>
                      </a:cubicBezTo>
                      <a:cubicBezTo>
                        <a:pt x="2017998" y="3045722"/>
                        <a:pt x="1964267" y="2912533"/>
                        <a:pt x="1964267" y="2912533"/>
                      </a:cubicBezTo>
                      <a:cubicBezTo>
                        <a:pt x="2045473" y="2668911"/>
                        <a:pt x="1946942" y="2973167"/>
                        <a:pt x="2032000" y="2675467"/>
                      </a:cubicBezTo>
                      <a:cubicBezTo>
                        <a:pt x="2041807" y="2641142"/>
                        <a:pt x="2054578" y="2607734"/>
                        <a:pt x="2065867" y="2573867"/>
                      </a:cubicBezTo>
                      <a:cubicBezTo>
                        <a:pt x="1988036" y="2340376"/>
                        <a:pt x="2048618" y="2421153"/>
                        <a:pt x="1930400" y="2302933"/>
                      </a:cubicBezTo>
                      <a:cubicBezTo>
                        <a:pt x="1919111" y="2257778"/>
                        <a:pt x="1909320" y="2212221"/>
                        <a:pt x="1896533" y="2167467"/>
                      </a:cubicBezTo>
                      <a:cubicBezTo>
                        <a:pt x="1886726" y="2133142"/>
                        <a:pt x="1868536" y="2101080"/>
                        <a:pt x="1862667" y="2065867"/>
                      </a:cubicBezTo>
                      <a:cubicBezTo>
                        <a:pt x="1846052" y="1966175"/>
                        <a:pt x="1835554" y="1713597"/>
                        <a:pt x="1794933" y="1591733"/>
                      </a:cubicBezTo>
                      <a:cubicBezTo>
                        <a:pt x="1778968" y="1543839"/>
                        <a:pt x="1753174" y="1499558"/>
                        <a:pt x="1727200" y="1456267"/>
                      </a:cubicBezTo>
                      <a:cubicBezTo>
                        <a:pt x="1685317" y="1386462"/>
                        <a:pt x="1591733" y="1253067"/>
                        <a:pt x="1591733" y="1253067"/>
                      </a:cubicBezTo>
                      <a:cubicBezTo>
                        <a:pt x="1555962" y="1145753"/>
                        <a:pt x="1565165" y="1143657"/>
                        <a:pt x="1490133" y="1049867"/>
                      </a:cubicBezTo>
                      <a:cubicBezTo>
                        <a:pt x="1470187" y="1024934"/>
                        <a:pt x="1442346" y="1007066"/>
                        <a:pt x="1422400" y="982133"/>
                      </a:cubicBezTo>
                      <a:cubicBezTo>
                        <a:pt x="1396973" y="950349"/>
                        <a:pt x="1380094" y="912316"/>
                        <a:pt x="1354667" y="880533"/>
                      </a:cubicBezTo>
                      <a:cubicBezTo>
                        <a:pt x="1334721" y="855600"/>
                        <a:pt x="1306879" y="837733"/>
                        <a:pt x="1286933" y="812800"/>
                      </a:cubicBezTo>
                      <a:cubicBezTo>
                        <a:pt x="1261506" y="781017"/>
                        <a:pt x="1246241" y="741622"/>
                        <a:pt x="1219200" y="711200"/>
                      </a:cubicBezTo>
                      <a:cubicBezTo>
                        <a:pt x="1155561" y="639606"/>
                        <a:pt x="1095702" y="561134"/>
                        <a:pt x="1016000" y="508000"/>
                      </a:cubicBezTo>
                      <a:cubicBezTo>
                        <a:pt x="887833" y="422556"/>
                        <a:pt x="943181" y="469048"/>
                        <a:pt x="846667" y="372533"/>
                      </a:cubicBezTo>
                      <a:cubicBezTo>
                        <a:pt x="835378" y="338666"/>
                        <a:pt x="832602" y="300636"/>
                        <a:pt x="812800" y="270933"/>
                      </a:cubicBezTo>
                      <a:cubicBezTo>
                        <a:pt x="786233" y="231082"/>
                        <a:pt x="749006" y="198737"/>
                        <a:pt x="711200" y="169333"/>
                      </a:cubicBezTo>
                      <a:cubicBezTo>
                        <a:pt x="536524" y="33474"/>
                        <a:pt x="559693" y="51098"/>
                        <a:pt x="406400" y="0"/>
                      </a:cubicBezTo>
                      <a:cubicBezTo>
                        <a:pt x="361244" y="11289"/>
                        <a:pt x="313715" y="15532"/>
                        <a:pt x="270933" y="33867"/>
                      </a:cubicBezTo>
                      <a:cubicBezTo>
                        <a:pt x="53886" y="126887"/>
                        <a:pt x="173770" y="228415"/>
                        <a:pt x="203200" y="508000"/>
                      </a:cubicBezTo>
                      <a:cubicBezTo>
                        <a:pt x="230238" y="764856"/>
                        <a:pt x="168958" y="711013"/>
                        <a:pt x="304800" y="778933"/>
                      </a:cubicBezTo>
                    </a:path>
                  </a:pathLst>
                </a:custGeom>
                <a:solidFill>
                  <a:srgbClr val="f2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" name="任意多边形 197"/>
                <p:cNvSpPr/>
                <p:nvPr/>
              </p:nvSpPr>
              <p:spPr>
                <a:xfrm flipH="1" rot="8470800">
                  <a:off x="19073160" y="736560"/>
                  <a:ext cx="200160" cy="1040040"/>
                </a:xfrm>
                <a:custGeom>
                  <a:avLst/>
                  <a:gdLst>
                    <a:gd name="textAreaLeft" fmla="*/ 360 w 200160"/>
                    <a:gd name="textAreaRight" fmla="*/ 200880 w 200160"/>
                    <a:gd name="textAreaTop" fmla="*/ 0 h 1040040"/>
                    <a:gd name="textAreaBottom" fmla="*/ 1040400 h 1040040"/>
                  </a:gdLst>
                  <a:ahLst/>
                  <a:rect l="textAreaLeft" t="textAreaTop" r="textAreaRight" b="textAreaBottom"/>
                  <a:pathLst>
                    <a:path w="2065867" h="4030133">
                      <a:moveTo>
                        <a:pt x="270933" y="677333"/>
                      </a:moveTo>
                      <a:cubicBezTo>
                        <a:pt x="259644" y="733778"/>
                        <a:pt x="257278" y="792770"/>
                        <a:pt x="237067" y="846667"/>
                      </a:cubicBezTo>
                      <a:cubicBezTo>
                        <a:pt x="222775" y="884778"/>
                        <a:pt x="187536" y="911861"/>
                        <a:pt x="169333" y="948267"/>
                      </a:cubicBezTo>
                      <a:cubicBezTo>
                        <a:pt x="153368" y="980197"/>
                        <a:pt x="146756" y="1016000"/>
                        <a:pt x="135467" y="1049867"/>
                      </a:cubicBezTo>
                      <a:cubicBezTo>
                        <a:pt x="124178" y="1128889"/>
                        <a:pt x="124537" y="1210475"/>
                        <a:pt x="101600" y="1286933"/>
                      </a:cubicBezTo>
                      <a:cubicBezTo>
                        <a:pt x="89904" y="1325919"/>
                        <a:pt x="52070" y="1352127"/>
                        <a:pt x="33867" y="1388533"/>
                      </a:cubicBezTo>
                      <a:cubicBezTo>
                        <a:pt x="17902" y="1420463"/>
                        <a:pt x="11289" y="1456266"/>
                        <a:pt x="0" y="1490133"/>
                      </a:cubicBezTo>
                      <a:cubicBezTo>
                        <a:pt x="11289" y="1648178"/>
                        <a:pt x="6331" y="1808231"/>
                        <a:pt x="33867" y="1964267"/>
                      </a:cubicBezTo>
                      <a:cubicBezTo>
                        <a:pt x="40941" y="2004350"/>
                        <a:pt x="77942" y="2032746"/>
                        <a:pt x="101600" y="2065867"/>
                      </a:cubicBezTo>
                      <a:cubicBezTo>
                        <a:pt x="134408" y="2111798"/>
                        <a:pt x="167065" y="2157971"/>
                        <a:pt x="203200" y="2201333"/>
                      </a:cubicBezTo>
                      <a:cubicBezTo>
                        <a:pt x="223641" y="2225862"/>
                        <a:pt x="253221" y="2242500"/>
                        <a:pt x="270933" y="2269067"/>
                      </a:cubicBezTo>
                      <a:cubicBezTo>
                        <a:pt x="298937" y="2311073"/>
                        <a:pt x="313619" y="2360700"/>
                        <a:pt x="338667" y="2404533"/>
                      </a:cubicBezTo>
                      <a:cubicBezTo>
                        <a:pt x="443708" y="2588354"/>
                        <a:pt x="378175" y="2421458"/>
                        <a:pt x="440267" y="2607733"/>
                      </a:cubicBezTo>
                      <a:cubicBezTo>
                        <a:pt x="451556" y="2686755"/>
                        <a:pt x="448890" y="2769072"/>
                        <a:pt x="474133" y="2844800"/>
                      </a:cubicBezTo>
                      <a:cubicBezTo>
                        <a:pt x="484230" y="2875091"/>
                        <a:pt x="525439" y="2885153"/>
                        <a:pt x="541867" y="2912533"/>
                      </a:cubicBezTo>
                      <a:cubicBezTo>
                        <a:pt x="692110" y="3162937"/>
                        <a:pt x="437916" y="2858793"/>
                        <a:pt x="643467" y="3115733"/>
                      </a:cubicBezTo>
                      <a:cubicBezTo>
                        <a:pt x="663413" y="3140666"/>
                        <a:pt x="691254" y="3158534"/>
                        <a:pt x="711200" y="3183467"/>
                      </a:cubicBezTo>
                      <a:cubicBezTo>
                        <a:pt x="736627" y="3215251"/>
                        <a:pt x="752130" y="3254435"/>
                        <a:pt x="778933" y="3285067"/>
                      </a:cubicBezTo>
                      <a:cubicBezTo>
                        <a:pt x="831498" y="3345141"/>
                        <a:pt x="900372" y="3390540"/>
                        <a:pt x="948267" y="3454400"/>
                      </a:cubicBezTo>
                      <a:cubicBezTo>
                        <a:pt x="982134" y="3499556"/>
                        <a:pt x="1019951" y="3542002"/>
                        <a:pt x="1049867" y="3589867"/>
                      </a:cubicBezTo>
                      <a:cubicBezTo>
                        <a:pt x="1076624" y="3632678"/>
                        <a:pt x="1089596" y="3683327"/>
                        <a:pt x="1117600" y="3725333"/>
                      </a:cubicBezTo>
                      <a:cubicBezTo>
                        <a:pt x="1164328" y="3795425"/>
                        <a:pt x="1222230" y="3809038"/>
                        <a:pt x="1286933" y="3860800"/>
                      </a:cubicBezTo>
                      <a:cubicBezTo>
                        <a:pt x="1311866" y="3880746"/>
                        <a:pt x="1328100" y="3910821"/>
                        <a:pt x="1354667" y="3928533"/>
                      </a:cubicBezTo>
                      <a:cubicBezTo>
                        <a:pt x="1438370" y="3984335"/>
                        <a:pt x="1501418" y="4000029"/>
                        <a:pt x="1591733" y="4030133"/>
                      </a:cubicBezTo>
                      <a:cubicBezTo>
                        <a:pt x="1670755" y="4018844"/>
                        <a:pt x="1753072" y="4021510"/>
                        <a:pt x="1828800" y="3996267"/>
                      </a:cubicBezTo>
                      <a:cubicBezTo>
                        <a:pt x="1947678" y="3956641"/>
                        <a:pt x="1962781" y="3628192"/>
                        <a:pt x="1964267" y="3623733"/>
                      </a:cubicBezTo>
                      <a:cubicBezTo>
                        <a:pt x="1977138" y="3585119"/>
                        <a:pt x="2013797" y="3558539"/>
                        <a:pt x="2032000" y="3522133"/>
                      </a:cubicBezTo>
                      <a:cubicBezTo>
                        <a:pt x="2047965" y="3490203"/>
                        <a:pt x="2054578" y="3454400"/>
                        <a:pt x="2065867" y="3420533"/>
                      </a:cubicBezTo>
                      <a:cubicBezTo>
                        <a:pt x="2054578" y="3318933"/>
                        <a:pt x="2052048" y="3215973"/>
                        <a:pt x="2032000" y="3115733"/>
                      </a:cubicBezTo>
                      <a:cubicBezTo>
                        <a:pt x="2017998" y="3045722"/>
                        <a:pt x="1964267" y="2912533"/>
                        <a:pt x="1964267" y="2912533"/>
                      </a:cubicBezTo>
                      <a:cubicBezTo>
                        <a:pt x="2045473" y="2668911"/>
                        <a:pt x="1946942" y="2973167"/>
                        <a:pt x="2032000" y="2675467"/>
                      </a:cubicBezTo>
                      <a:cubicBezTo>
                        <a:pt x="2041807" y="2641142"/>
                        <a:pt x="2054578" y="2607734"/>
                        <a:pt x="2065867" y="2573867"/>
                      </a:cubicBezTo>
                      <a:cubicBezTo>
                        <a:pt x="1988036" y="2340376"/>
                        <a:pt x="2048618" y="2421153"/>
                        <a:pt x="1930400" y="2302933"/>
                      </a:cubicBezTo>
                      <a:cubicBezTo>
                        <a:pt x="1919111" y="2257778"/>
                        <a:pt x="1909320" y="2212221"/>
                        <a:pt x="1896533" y="2167467"/>
                      </a:cubicBezTo>
                      <a:cubicBezTo>
                        <a:pt x="1886726" y="2133142"/>
                        <a:pt x="1868536" y="2101080"/>
                        <a:pt x="1862667" y="2065867"/>
                      </a:cubicBezTo>
                      <a:cubicBezTo>
                        <a:pt x="1846052" y="1966175"/>
                        <a:pt x="1835554" y="1713597"/>
                        <a:pt x="1794933" y="1591733"/>
                      </a:cubicBezTo>
                      <a:cubicBezTo>
                        <a:pt x="1778968" y="1543839"/>
                        <a:pt x="1753174" y="1499558"/>
                        <a:pt x="1727200" y="1456267"/>
                      </a:cubicBezTo>
                      <a:cubicBezTo>
                        <a:pt x="1685317" y="1386462"/>
                        <a:pt x="1591733" y="1253067"/>
                        <a:pt x="1591733" y="1253067"/>
                      </a:cubicBezTo>
                      <a:cubicBezTo>
                        <a:pt x="1555962" y="1145753"/>
                        <a:pt x="1565165" y="1143657"/>
                        <a:pt x="1490133" y="1049867"/>
                      </a:cubicBezTo>
                      <a:cubicBezTo>
                        <a:pt x="1470187" y="1024934"/>
                        <a:pt x="1442346" y="1007066"/>
                        <a:pt x="1422400" y="982133"/>
                      </a:cubicBezTo>
                      <a:cubicBezTo>
                        <a:pt x="1396973" y="950349"/>
                        <a:pt x="1380094" y="912316"/>
                        <a:pt x="1354667" y="880533"/>
                      </a:cubicBezTo>
                      <a:cubicBezTo>
                        <a:pt x="1334721" y="855600"/>
                        <a:pt x="1306879" y="837733"/>
                        <a:pt x="1286933" y="812800"/>
                      </a:cubicBezTo>
                      <a:cubicBezTo>
                        <a:pt x="1261506" y="781017"/>
                        <a:pt x="1246241" y="741622"/>
                        <a:pt x="1219200" y="711200"/>
                      </a:cubicBezTo>
                      <a:cubicBezTo>
                        <a:pt x="1155561" y="639606"/>
                        <a:pt x="1095702" y="561134"/>
                        <a:pt x="1016000" y="508000"/>
                      </a:cubicBezTo>
                      <a:cubicBezTo>
                        <a:pt x="887833" y="422556"/>
                        <a:pt x="943181" y="469048"/>
                        <a:pt x="846667" y="372533"/>
                      </a:cubicBezTo>
                      <a:cubicBezTo>
                        <a:pt x="835378" y="338666"/>
                        <a:pt x="832602" y="300636"/>
                        <a:pt x="812800" y="270933"/>
                      </a:cubicBezTo>
                      <a:cubicBezTo>
                        <a:pt x="786233" y="231082"/>
                        <a:pt x="749006" y="198737"/>
                        <a:pt x="711200" y="169333"/>
                      </a:cubicBezTo>
                      <a:cubicBezTo>
                        <a:pt x="536524" y="33474"/>
                        <a:pt x="559693" y="51098"/>
                        <a:pt x="406400" y="0"/>
                      </a:cubicBezTo>
                      <a:cubicBezTo>
                        <a:pt x="361244" y="11289"/>
                        <a:pt x="313715" y="15532"/>
                        <a:pt x="270933" y="33867"/>
                      </a:cubicBezTo>
                      <a:cubicBezTo>
                        <a:pt x="53886" y="126887"/>
                        <a:pt x="173770" y="228415"/>
                        <a:pt x="203200" y="508000"/>
                      </a:cubicBezTo>
                      <a:cubicBezTo>
                        <a:pt x="230238" y="764856"/>
                        <a:pt x="168958" y="711013"/>
                        <a:pt x="304800" y="778933"/>
                      </a:cubicBezTo>
                    </a:path>
                  </a:pathLst>
                </a:custGeom>
                <a:solidFill>
                  <a:srgbClr val="f2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6" name=""/>
              <p:cNvGrpSpPr/>
              <p:nvPr/>
            </p:nvGrpSpPr>
            <p:grpSpPr>
              <a:xfrm>
                <a:off x="16336080" y="2297880"/>
                <a:ext cx="1459440" cy="1267560"/>
                <a:chOff x="16336080" y="2297880"/>
                <a:chExt cx="1459440" cy="1267560"/>
              </a:xfrm>
            </p:grpSpPr>
            <p:sp>
              <p:nvSpPr>
                <p:cNvPr id="227" name="任意多边形 199"/>
                <p:cNvSpPr/>
                <p:nvPr/>
              </p:nvSpPr>
              <p:spPr>
                <a:xfrm rot="3712200">
                  <a:off x="16678800" y="2310840"/>
                  <a:ext cx="773640" cy="1241280"/>
                </a:xfrm>
                <a:custGeom>
                  <a:avLst/>
                  <a:gdLst>
                    <a:gd name="textAreaLeft" fmla="*/ 0 w 773640"/>
                    <a:gd name="textAreaRight" fmla="*/ 774000 w 773640"/>
                    <a:gd name="textAreaTop" fmla="*/ 0 h 1241280"/>
                    <a:gd name="textAreaBottom" fmla="*/ 1241640 h 1241280"/>
                  </a:gdLst>
                  <a:ahLst/>
                  <a:rect l="textAreaLeft" t="textAreaTop" r="textAreaRight" b="textAreaBottom"/>
                  <a:pathLst>
                    <a:path w="2065867" h="4030133">
                      <a:moveTo>
                        <a:pt x="270933" y="677333"/>
                      </a:moveTo>
                      <a:cubicBezTo>
                        <a:pt x="259644" y="733778"/>
                        <a:pt x="257278" y="792770"/>
                        <a:pt x="237067" y="846667"/>
                      </a:cubicBezTo>
                      <a:cubicBezTo>
                        <a:pt x="222775" y="884778"/>
                        <a:pt x="187536" y="911861"/>
                        <a:pt x="169333" y="948267"/>
                      </a:cubicBezTo>
                      <a:cubicBezTo>
                        <a:pt x="153368" y="980197"/>
                        <a:pt x="146756" y="1016000"/>
                        <a:pt x="135467" y="1049867"/>
                      </a:cubicBezTo>
                      <a:cubicBezTo>
                        <a:pt x="124178" y="1128889"/>
                        <a:pt x="124537" y="1210475"/>
                        <a:pt x="101600" y="1286933"/>
                      </a:cubicBezTo>
                      <a:cubicBezTo>
                        <a:pt x="89904" y="1325919"/>
                        <a:pt x="52070" y="1352127"/>
                        <a:pt x="33867" y="1388533"/>
                      </a:cubicBezTo>
                      <a:cubicBezTo>
                        <a:pt x="17902" y="1420463"/>
                        <a:pt x="11289" y="1456266"/>
                        <a:pt x="0" y="1490133"/>
                      </a:cubicBezTo>
                      <a:cubicBezTo>
                        <a:pt x="11289" y="1648178"/>
                        <a:pt x="6331" y="1808231"/>
                        <a:pt x="33867" y="1964267"/>
                      </a:cubicBezTo>
                      <a:cubicBezTo>
                        <a:pt x="40941" y="2004350"/>
                        <a:pt x="77942" y="2032746"/>
                        <a:pt x="101600" y="2065867"/>
                      </a:cubicBezTo>
                      <a:cubicBezTo>
                        <a:pt x="134408" y="2111798"/>
                        <a:pt x="167065" y="2157971"/>
                        <a:pt x="203200" y="2201333"/>
                      </a:cubicBezTo>
                      <a:cubicBezTo>
                        <a:pt x="223641" y="2225862"/>
                        <a:pt x="253221" y="2242500"/>
                        <a:pt x="270933" y="2269067"/>
                      </a:cubicBezTo>
                      <a:cubicBezTo>
                        <a:pt x="298937" y="2311073"/>
                        <a:pt x="313619" y="2360700"/>
                        <a:pt x="338667" y="2404533"/>
                      </a:cubicBezTo>
                      <a:cubicBezTo>
                        <a:pt x="443708" y="2588354"/>
                        <a:pt x="378175" y="2421458"/>
                        <a:pt x="440267" y="2607733"/>
                      </a:cubicBezTo>
                      <a:cubicBezTo>
                        <a:pt x="451556" y="2686755"/>
                        <a:pt x="448890" y="2769072"/>
                        <a:pt x="474133" y="2844800"/>
                      </a:cubicBezTo>
                      <a:cubicBezTo>
                        <a:pt x="484230" y="2875091"/>
                        <a:pt x="525439" y="2885153"/>
                        <a:pt x="541867" y="2912533"/>
                      </a:cubicBezTo>
                      <a:cubicBezTo>
                        <a:pt x="692110" y="3162937"/>
                        <a:pt x="437916" y="2858793"/>
                        <a:pt x="643467" y="3115733"/>
                      </a:cubicBezTo>
                      <a:cubicBezTo>
                        <a:pt x="663413" y="3140666"/>
                        <a:pt x="691254" y="3158534"/>
                        <a:pt x="711200" y="3183467"/>
                      </a:cubicBezTo>
                      <a:cubicBezTo>
                        <a:pt x="736627" y="3215251"/>
                        <a:pt x="752130" y="3254435"/>
                        <a:pt x="778933" y="3285067"/>
                      </a:cubicBezTo>
                      <a:cubicBezTo>
                        <a:pt x="831498" y="3345141"/>
                        <a:pt x="900372" y="3390540"/>
                        <a:pt x="948267" y="3454400"/>
                      </a:cubicBezTo>
                      <a:cubicBezTo>
                        <a:pt x="982134" y="3499556"/>
                        <a:pt x="1019951" y="3542002"/>
                        <a:pt x="1049867" y="3589867"/>
                      </a:cubicBezTo>
                      <a:cubicBezTo>
                        <a:pt x="1076624" y="3632678"/>
                        <a:pt x="1089596" y="3683327"/>
                        <a:pt x="1117600" y="3725333"/>
                      </a:cubicBezTo>
                      <a:cubicBezTo>
                        <a:pt x="1164328" y="3795425"/>
                        <a:pt x="1222230" y="3809038"/>
                        <a:pt x="1286933" y="3860800"/>
                      </a:cubicBezTo>
                      <a:cubicBezTo>
                        <a:pt x="1311866" y="3880746"/>
                        <a:pt x="1328100" y="3910821"/>
                        <a:pt x="1354667" y="3928533"/>
                      </a:cubicBezTo>
                      <a:cubicBezTo>
                        <a:pt x="1438370" y="3984335"/>
                        <a:pt x="1501418" y="4000029"/>
                        <a:pt x="1591733" y="4030133"/>
                      </a:cubicBezTo>
                      <a:cubicBezTo>
                        <a:pt x="1670755" y="4018844"/>
                        <a:pt x="1753072" y="4021510"/>
                        <a:pt x="1828800" y="3996267"/>
                      </a:cubicBezTo>
                      <a:cubicBezTo>
                        <a:pt x="1947678" y="3956641"/>
                        <a:pt x="1962781" y="3628192"/>
                        <a:pt x="1964267" y="3623733"/>
                      </a:cubicBezTo>
                      <a:cubicBezTo>
                        <a:pt x="1977138" y="3585119"/>
                        <a:pt x="2013797" y="3558539"/>
                        <a:pt x="2032000" y="3522133"/>
                      </a:cubicBezTo>
                      <a:cubicBezTo>
                        <a:pt x="2047965" y="3490203"/>
                        <a:pt x="2054578" y="3454400"/>
                        <a:pt x="2065867" y="3420533"/>
                      </a:cubicBezTo>
                      <a:cubicBezTo>
                        <a:pt x="2054578" y="3318933"/>
                        <a:pt x="2052048" y="3215973"/>
                        <a:pt x="2032000" y="3115733"/>
                      </a:cubicBezTo>
                      <a:cubicBezTo>
                        <a:pt x="2017998" y="3045722"/>
                        <a:pt x="1964267" y="2912533"/>
                        <a:pt x="1964267" y="2912533"/>
                      </a:cubicBezTo>
                      <a:cubicBezTo>
                        <a:pt x="2045473" y="2668911"/>
                        <a:pt x="1946942" y="2973167"/>
                        <a:pt x="2032000" y="2675467"/>
                      </a:cubicBezTo>
                      <a:cubicBezTo>
                        <a:pt x="2041807" y="2641142"/>
                        <a:pt x="2054578" y="2607734"/>
                        <a:pt x="2065867" y="2573867"/>
                      </a:cubicBezTo>
                      <a:cubicBezTo>
                        <a:pt x="1988036" y="2340376"/>
                        <a:pt x="2048618" y="2421153"/>
                        <a:pt x="1930400" y="2302933"/>
                      </a:cubicBezTo>
                      <a:cubicBezTo>
                        <a:pt x="1919111" y="2257778"/>
                        <a:pt x="1909320" y="2212221"/>
                        <a:pt x="1896533" y="2167467"/>
                      </a:cubicBezTo>
                      <a:cubicBezTo>
                        <a:pt x="1886726" y="2133142"/>
                        <a:pt x="1868536" y="2101080"/>
                        <a:pt x="1862667" y="2065867"/>
                      </a:cubicBezTo>
                      <a:cubicBezTo>
                        <a:pt x="1846052" y="1966175"/>
                        <a:pt x="1835554" y="1713597"/>
                        <a:pt x="1794933" y="1591733"/>
                      </a:cubicBezTo>
                      <a:cubicBezTo>
                        <a:pt x="1778968" y="1543839"/>
                        <a:pt x="1753174" y="1499558"/>
                        <a:pt x="1727200" y="1456267"/>
                      </a:cubicBezTo>
                      <a:cubicBezTo>
                        <a:pt x="1685317" y="1386462"/>
                        <a:pt x="1591733" y="1253067"/>
                        <a:pt x="1591733" y="1253067"/>
                      </a:cubicBezTo>
                      <a:cubicBezTo>
                        <a:pt x="1555962" y="1145753"/>
                        <a:pt x="1565165" y="1143657"/>
                        <a:pt x="1490133" y="1049867"/>
                      </a:cubicBezTo>
                      <a:cubicBezTo>
                        <a:pt x="1470187" y="1024934"/>
                        <a:pt x="1442346" y="1007066"/>
                        <a:pt x="1422400" y="982133"/>
                      </a:cubicBezTo>
                      <a:cubicBezTo>
                        <a:pt x="1396973" y="950349"/>
                        <a:pt x="1380094" y="912316"/>
                        <a:pt x="1354667" y="880533"/>
                      </a:cubicBezTo>
                      <a:cubicBezTo>
                        <a:pt x="1334721" y="855600"/>
                        <a:pt x="1306879" y="837733"/>
                        <a:pt x="1286933" y="812800"/>
                      </a:cubicBezTo>
                      <a:cubicBezTo>
                        <a:pt x="1261506" y="781017"/>
                        <a:pt x="1246241" y="741622"/>
                        <a:pt x="1219200" y="711200"/>
                      </a:cubicBezTo>
                      <a:cubicBezTo>
                        <a:pt x="1155561" y="639606"/>
                        <a:pt x="1095702" y="561134"/>
                        <a:pt x="1016000" y="508000"/>
                      </a:cubicBezTo>
                      <a:cubicBezTo>
                        <a:pt x="887833" y="422556"/>
                        <a:pt x="943181" y="469048"/>
                        <a:pt x="846667" y="372533"/>
                      </a:cubicBezTo>
                      <a:cubicBezTo>
                        <a:pt x="835378" y="338666"/>
                        <a:pt x="832602" y="300636"/>
                        <a:pt x="812800" y="270933"/>
                      </a:cubicBezTo>
                      <a:cubicBezTo>
                        <a:pt x="786233" y="231082"/>
                        <a:pt x="749006" y="198737"/>
                        <a:pt x="711200" y="169333"/>
                      </a:cubicBezTo>
                      <a:cubicBezTo>
                        <a:pt x="536524" y="33474"/>
                        <a:pt x="559693" y="51098"/>
                        <a:pt x="406400" y="0"/>
                      </a:cubicBezTo>
                      <a:cubicBezTo>
                        <a:pt x="361244" y="11289"/>
                        <a:pt x="313715" y="15532"/>
                        <a:pt x="270933" y="33867"/>
                      </a:cubicBezTo>
                      <a:cubicBezTo>
                        <a:pt x="53886" y="126887"/>
                        <a:pt x="173770" y="228415"/>
                        <a:pt x="203200" y="508000"/>
                      </a:cubicBezTo>
                      <a:cubicBezTo>
                        <a:pt x="230238" y="764856"/>
                        <a:pt x="168958" y="711013"/>
                        <a:pt x="304800" y="778933"/>
                      </a:cubicBez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任意多边形 200"/>
                <p:cNvSpPr/>
                <p:nvPr/>
              </p:nvSpPr>
              <p:spPr>
                <a:xfrm rot="3712200">
                  <a:off x="17097480" y="2480040"/>
                  <a:ext cx="386640" cy="569520"/>
                </a:xfrm>
                <a:custGeom>
                  <a:avLst/>
                  <a:gdLst>
                    <a:gd name="textAreaLeft" fmla="*/ 0 w 386640"/>
                    <a:gd name="textAreaRight" fmla="*/ 387000 w 386640"/>
                    <a:gd name="textAreaTop" fmla="*/ 0 h 569520"/>
                    <a:gd name="textAreaBottom" fmla="*/ 569880 h 569520"/>
                  </a:gdLst>
                  <a:ahLst/>
                  <a:rect l="textAreaLeft" t="textAreaTop" r="textAreaRight" b="textAreaBottom"/>
                  <a:pathLst>
                    <a:path w="2065867" h="4030133">
                      <a:moveTo>
                        <a:pt x="270933" y="677333"/>
                      </a:moveTo>
                      <a:cubicBezTo>
                        <a:pt x="259644" y="733778"/>
                        <a:pt x="257278" y="792770"/>
                        <a:pt x="237067" y="846667"/>
                      </a:cubicBezTo>
                      <a:cubicBezTo>
                        <a:pt x="222775" y="884778"/>
                        <a:pt x="187536" y="911861"/>
                        <a:pt x="169333" y="948267"/>
                      </a:cubicBezTo>
                      <a:cubicBezTo>
                        <a:pt x="153368" y="980197"/>
                        <a:pt x="146756" y="1016000"/>
                        <a:pt x="135467" y="1049867"/>
                      </a:cubicBezTo>
                      <a:cubicBezTo>
                        <a:pt x="124178" y="1128889"/>
                        <a:pt x="124537" y="1210475"/>
                        <a:pt x="101600" y="1286933"/>
                      </a:cubicBezTo>
                      <a:cubicBezTo>
                        <a:pt x="89904" y="1325919"/>
                        <a:pt x="52070" y="1352127"/>
                        <a:pt x="33867" y="1388533"/>
                      </a:cubicBezTo>
                      <a:cubicBezTo>
                        <a:pt x="17902" y="1420463"/>
                        <a:pt x="11289" y="1456266"/>
                        <a:pt x="0" y="1490133"/>
                      </a:cubicBezTo>
                      <a:cubicBezTo>
                        <a:pt x="11289" y="1648178"/>
                        <a:pt x="6331" y="1808231"/>
                        <a:pt x="33867" y="1964267"/>
                      </a:cubicBezTo>
                      <a:cubicBezTo>
                        <a:pt x="40941" y="2004350"/>
                        <a:pt x="77942" y="2032746"/>
                        <a:pt x="101600" y="2065867"/>
                      </a:cubicBezTo>
                      <a:cubicBezTo>
                        <a:pt x="134408" y="2111798"/>
                        <a:pt x="167065" y="2157971"/>
                        <a:pt x="203200" y="2201333"/>
                      </a:cubicBezTo>
                      <a:cubicBezTo>
                        <a:pt x="223641" y="2225862"/>
                        <a:pt x="253221" y="2242500"/>
                        <a:pt x="270933" y="2269067"/>
                      </a:cubicBezTo>
                      <a:cubicBezTo>
                        <a:pt x="298937" y="2311073"/>
                        <a:pt x="313619" y="2360700"/>
                        <a:pt x="338667" y="2404533"/>
                      </a:cubicBezTo>
                      <a:cubicBezTo>
                        <a:pt x="443708" y="2588354"/>
                        <a:pt x="378175" y="2421458"/>
                        <a:pt x="440267" y="2607733"/>
                      </a:cubicBezTo>
                      <a:cubicBezTo>
                        <a:pt x="451556" y="2686755"/>
                        <a:pt x="448890" y="2769072"/>
                        <a:pt x="474133" y="2844800"/>
                      </a:cubicBezTo>
                      <a:cubicBezTo>
                        <a:pt x="484230" y="2875091"/>
                        <a:pt x="525439" y="2885153"/>
                        <a:pt x="541867" y="2912533"/>
                      </a:cubicBezTo>
                      <a:cubicBezTo>
                        <a:pt x="692110" y="3162937"/>
                        <a:pt x="437916" y="2858793"/>
                        <a:pt x="643467" y="3115733"/>
                      </a:cubicBezTo>
                      <a:cubicBezTo>
                        <a:pt x="663413" y="3140666"/>
                        <a:pt x="691254" y="3158534"/>
                        <a:pt x="711200" y="3183467"/>
                      </a:cubicBezTo>
                      <a:cubicBezTo>
                        <a:pt x="736627" y="3215251"/>
                        <a:pt x="752130" y="3254435"/>
                        <a:pt x="778933" y="3285067"/>
                      </a:cubicBezTo>
                      <a:cubicBezTo>
                        <a:pt x="831498" y="3345141"/>
                        <a:pt x="900372" y="3390540"/>
                        <a:pt x="948267" y="3454400"/>
                      </a:cubicBezTo>
                      <a:cubicBezTo>
                        <a:pt x="982134" y="3499556"/>
                        <a:pt x="1019951" y="3542002"/>
                        <a:pt x="1049867" y="3589867"/>
                      </a:cubicBezTo>
                      <a:cubicBezTo>
                        <a:pt x="1076624" y="3632678"/>
                        <a:pt x="1089596" y="3683327"/>
                        <a:pt x="1117600" y="3725333"/>
                      </a:cubicBezTo>
                      <a:cubicBezTo>
                        <a:pt x="1164328" y="3795425"/>
                        <a:pt x="1222230" y="3809038"/>
                        <a:pt x="1286933" y="3860800"/>
                      </a:cubicBezTo>
                      <a:cubicBezTo>
                        <a:pt x="1311866" y="3880746"/>
                        <a:pt x="1328100" y="3910821"/>
                        <a:pt x="1354667" y="3928533"/>
                      </a:cubicBezTo>
                      <a:cubicBezTo>
                        <a:pt x="1438370" y="3984335"/>
                        <a:pt x="1501418" y="4000029"/>
                        <a:pt x="1591733" y="4030133"/>
                      </a:cubicBezTo>
                      <a:cubicBezTo>
                        <a:pt x="1670755" y="4018844"/>
                        <a:pt x="1753072" y="4021510"/>
                        <a:pt x="1828800" y="3996267"/>
                      </a:cubicBezTo>
                      <a:cubicBezTo>
                        <a:pt x="1947678" y="3956641"/>
                        <a:pt x="1962781" y="3628192"/>
                        <a:pt x="1964267" y="3623733"/>
                      </a:cubicBezTo>
                      <a:cubicBezTo>
                        <a:pt x="1977138" y="3585119"/>
                        <a:pt x="2013797" y="3558539"/>
                        <a:pt x="2032000" y="3522133"/>
                      </a:cubicBezTo>
                      <a:cubicBezTo>
                        <a:pt x="2047965" y="3490203"/>
                        <a:pt x="2054578" y="3454400"/>
                        <a:pt x="2065867" y="3420533"/>
                      </a:cubicBezTo>
                      <a:cubicBezTo>
                        <a:pt x="2054578" y="3318933"/>
                        <a:pt x="2052048" y="3215973"/>
                        <a:pt x="2032000" y="3115733"/>
                      </a:cubicBezTo>
                      <a:cubicBezTo>
                        <a:pt x="2017998" y="3045722"/>
                        <a:pt x="1964267" y="2912533"/>
                        <a:pt x="1964267" y="2912533"/>
                      </a:cubicBezTo>
                      <a:cubicBezTo>
                        <a:pt x="2045473" y="2668911"/>
                        <a:pt x="1946942" y="2973167"/>
                        <a:pt x="2032000" y="2675467"/>
                      </a:cubicBezTo>
                      <a:cubicBezTo>
                        <a:pt x="2041807" y="2641142"/>
                        <a:pt x="2054578" y="2607734"/>
                        <a:pt x="2065867" y="2573867"/>
                      </a:cubicBezTo>
                      <a:cubicBezTo>
                        <a:pt x="1988036" y="2340376"/>
                        <a:pt x="2048618" y="2421153"/>
                        <a:pt x="1930400" y="2302933"/>
                      </a:cubicBezTo>
                      <a:cubicBezTo>
                        <a:pt x="1919111" y="2257778"/>
                        <a:pt x="1909320" y="2212221"/>
                        <a:pt x="1896533" y="2167467"/>
                      </a:cubicBezTo>
                      <a:cubicBezTo>
                        <a:pt x="1886726" y="2133142"/>
                        <a:pt x="1868536" y="2101080"/>
                        <a:pt x="1862667" y="2065867"/>
                      </a:cubicBezTo>
                      <a:cubicBezTo>
                        <a:pt x="1846052" y="1966175"/>
                        <a:pt x="1835554" y="1713597"/>
                        <a:pt x="1794933" y="1591733"/>
                      </a:cubicBezTo>
                      <a:cubicBezTo>
                        <a:pt x="1778968" y="1543839"/>
                        <a:pt x="1753174" y="1499558"/>
                        <a:pt x="1727200" y="1456267"/>
                      </a:cubicBezTo>
                      <a:cubicBezTo>
                        <a:pt x="1685317" y="1386462"/>
                        <a:pt x="1591733" y="1253067"/>
                        <a:pt x="1591733" y="1253067"/>
                      </a:cubicBezTo>
                      <a:cubicBezTo>
                        <a:pt x="1555962" y="1145753"/>
                        <a:pt x="1565165" y="1143657"/>
                        <a:pt x="1490133" y="1049867"/>
                      </a:cubicBezTo>
                      <a:cubicBezTo>
                        <a:pt x="1470187" y="1024934"/>
                        <a:pt x="1442346" y="1007066"/>
                        <a:pt x="1422400" y="982133"/>
                      </a:cubicBezTo>
                      <a:cubicBezTo>
                        <a:pt x="1396973" y="950349"/>
                        <a:pt x="1380094" y="912316"/>
                        <a:pt x="1354667" y="880533"/>
                      </a:cubicBezTo>
                      <a:cubicBezTo>
                        <a:pt x="1334721" y="855600"/>
                        <a:pt x="1306879" y="837733"/>
                        <a:pt x="1286933" y="812800"/>
                      </a:cubicBezTo>
                      <a:cubicBezTo>
                        <a:pt x="1261506" y="781017"/>
                        <a:pt x="1246241" y="741622"/>
                        <a:pt x="1219200" y="711200"/>
                      </a:cubicBezTo>
                      <a:cubicBezTo>
                        <a:pt x="1155561" y="639606"/>
                        <a:pt x="1095702" y="561134"/>
                        <a:pt x="1016000" y="508000"/>
                      </a:cubicBezTo>
                      <a:cubicBezTo>
                        <a:pt x="887833" y="422556"/>
                        <a:pt x="943181" y="469048"/>
                        <a:pt x="846667" y="372533"/>
                      </a:cubicBezTo>
                      <a:cubicBezTo>
                        <a:pt x="835378" y="338666"/>
                        <a:pt x="832602" y="300636"/>
                        <a:pt x="812800" y="270933"/>
                      </a:cubicBezTo>
                      <a:cubicBezTo>
                        <a:pt x="786233" y="231082"/>
                        <a:pt x="749006" y="198737"/>
                        <a:pt x="711200" y="169333"/>
                      </a:cubicBezTo>
                      <a:cubicBezTo>
                        <a:pt x="536524" y="33474"/>
                        <a:pt x="559693" y="51098"/>
                        <a:pt x="406400" y="0"/>
                      </a:cubicBezTo>
                      <a:cubicBezTo>
                        <a:pt x="361244" y="11289"/>
                        <a:pt x="313715" y="15532"/>
                        <a:pt x="270933" y="33867"/>
                      </a:cubicBezTo>
                      <a:cubicBezTo>
                        <a:pt x="53886" y="126887"/>
                        <a:pt x="173770" y="228415"/>
                        <a:pt x="203200" y="508000"/>
                      </a:cubicBezTo>
                      <a:cubicBezTo>
                        <a:pt x="230238" y="764856"/>
                        <a:pt x="168958" y="711013"/>
                        <a:pt x="304800" y="778933"/>
                      </a:cubicBezTo>
                    </a:path>
                  </a:pathLst>
                </a:custGeom>
                <a:solidFill>
                  <a:srgbClr val="f2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" name="任意多边形 201"/>
                <p:cNvSpPr/>
                <p:nvPr/>
              </p:nvSpPr>
              <p:spPr>
                <a:xfrm rot="3712200">
                  <a:off x="16988400" y="2904480"/>
                  <a:ext cx="180360" cy="478440"/>
                </a:xfrm>
                <a:custGeom>
                  <a:avLst/>
                  <a:gdLst>
                    <a:gd name="textAreaLeft" fmla="*/ 0 w 180360"/>
                    <a:gd name="textAreaRight" fmla="*/ 180720 w 180360"/>
                    <a:gd name="textAreaTop" fmla="*/ 0 h 478440"/>
                    <a:gd name="textAreaBottom" fmla="*/ 478800 h 478440"/>
                  </a:gdLst>
                  <a:ahLst/>
                  <a:rect l="textAreaLeft" t="textAreaTop" r="textAreaRight" b="textAreaBottom"/>
                  <a:pathLst>
                    <a:path w="2065867" h="4030133">
                      <a:moveTo>
                        <a:pt x="270933" y="677333"/>
                      </a:moveTo>
                      <a:cubicBezTo>
                        <a:pt x="259644" y="733778"/>
                        <a:pt x="257278" y="792770"/>
                        <a:pt x="237067" y="846667"/>
                      </a:cubicBezTo>
                      <a:cubicBezTo>
                        <a:pt x="222775" y="884778"/>
                        <a:pt x="187536" y="911861"/>
                        <a:pt x="169333" y="948267"/>
                      </a:cubicBezTo>
                      <a:cubicBezTo>
                        <a:pt x="153368" y="980197"/>
                        <a:pt x="146756" y="1016000"/>
                        <a:pt x="135467" y="1049867"/>
                      </a:cubicBezTo>
                      <a:cubicBezTo>
                        <a:pt x="124178" y="1128889"/>
                        <a:pt x="124537" y="1210475"/>
                        <a:pt x="101600" y="1286933"/>
                      </a:cubicBezTo>
                      <a:cubicBezTo>
                        <a:pt x="89904" y="1325919"/>
                        <a:pt x="52070" y="1352127"/>
                        <a:pt x="33867" y="1388533"/>
                      </a:cubicBezTo>
                      <a:cubicBezTo>
                        <a:pt x="17902" y="1420463"/>
                        <a:pt x="11289" y="1456266"/>
                        <a:pt x="0" y="1490133"/>
                      </a:cubicBezTo>
                      <a:cubicBezTo>
                        <a:pt x="11289" y="1648178"/>
                        <a:pt x="6331" y="1808231"/>
                        <a:pt x="33867" y="1964267"/>
                      </a:cubicBezTo>
                      <a:cubicBezTo>
                        <a:pt x="40941" y="2004350"/>
                        <a:pt x="77942" y="2032746"/>
                        <a:pt x="101600" y="2065867"/>
                      </a:cubicBezTo>
                      <a:cubicBezTo>
                        <a:pt x="134408" y="2111798"/>
                        <a:pt x="167065" y="2157971"/>
                        <a:pt x="203200" y="2201333"/>
                      </a:cubicBezTo>
                      <a:cubicBezTo>
                        <a:pt x="223641" y="2225862"/>
                        <a:pt x="253221" y="2242500"/>
                        <a:pt x="270933" y="2269067"/>
                      </a:cubicBezTo>
                      <a:cubicBezTo>
                        <a:pt x="298937" y="2311073"/>
                        <a:pt x="313619" y="2360700"/>
                        <a:pt x="338667" y="2404533"/>
                      </a:cubicBezTo>
                      <a:cubicBezTo>
                        <a:pt x="443708" y="2588354"/>
                        <a:pt x="378175" y="2421458"/>
                        <a:pt x="440267" y="2607733"/>
                      </a:cubicBezTo>
                      <a:cubicBezTo>
                        <a:pt x="451556" y="2686755"/>
                        <a:pt x="448890" y="2769072"/>
                        <a:pt x="474133" y="2844800"/>
                      </a:cubicBezTo>
                      <a:cubicBezTo>
                        <a:pt x="484230" y="2875091"/>
                        <a:pt x="525439" y="2885153"/>
                        <a:pt x="541867" y="2912533"/>
                      </a:cubicBezTo>
                      <a:cubicBezTo>
                        <a:pt x="692110" y="3162937"/>
                        <a:pt x="437916" y="2858793"/>
                        <a:pt x="643467" y="3115733"/>
                      </a:cubicBezTo>
                      <a:cubicBezTo>
                        <a:pt x="663413" y="3140666"/>
                        <a:pt x="691254" y="3158534"/>
                        <a:pt x="711200" y="3183467"/>
                      </a:cubicBezTo>
                      <a:cubicBezTo>
                        <a:pt x="736627" y="3215251"/>
                        <a:pt x="752130" y="3254435"/>
                        <a:pt x="778933" y="3285067"/>
                      </a:cubicBezTo>
                      <a:cubicBezTo>
                        <a:pt x="831498" y="3345141"/>
                        <a:pt x="900372" y="3390540"/>
                        <a:pt x="948267" y="3454400"/>
                      </a:cubicBezTo>
                      <a:cubicBezTo>
                        <a:pt x="982134" y="3499556"/>
                        <a:pt x="1019951" y="3542002"/>
                        <a:pt x="1049867" y="3589867"/>
                      </a:cubicBezTo>
                      <a:cubicBezTo>
                        <a:pt x="1076624" y="3632678"/>
                        <a:pt x="1089596" y="3683327"/>
                        <a:pt x="1117600" y="3725333"/>
                      </a:cubicBezTo>
                      <a:cubicBezTo>
                        <a:pt x="1164328" y="3795425"/>
                        <a:pt x="1222230" y="3809038"/>
                        <a:pt x="1286933" y="3860800"/>
                      </a:cubicBezTo>
                      <a:cubicBezTo>
                        <a:pt x="1311866" y="3880746"/>
                        <a:pt x="1328100" y="3910821"/>
                        <a:pt x="1354667" y="3928533"/>
                      </a:cubicBezTo>
                      <a:cubicBezTo>
                        <a:pt x="1438370" y="3984335"/>
                        <a:pt x="1501418" y="4000029"/>
                        <a:pt x="1591733" y="4030133"/>
                      </a:cubicBezTo>
                      <a:cubicBezTo>
                        <a:pt x="1670755" y="4018844"/>
                        <a:pt x="1753072" y="4021510"/>
                        <a:pt x="1828800" y="3996267"/>
                      </a:cubicBezTo>
                      <a:cubicBezTo>
                        <a:pt x="1947678" y="3956641"/>
                        <a:pt x="1962781" y="3628192"/>
                        <a:pt x="1964267" y="3623733"/>
                      </a:cubicBezTo>
                      <a:cubicBezTo>
                        <a:pt x="1977138" y="3585119"/>
                        <a:pt x="2013797" y="3558539"/>
                        <a:pt x="2032000" y="3522133"/>
                      </a:cubicBezTo>
                      <a:cubicBezTo>
                        <a:pt x="2047965" y="3490203"/>
                        <a:pt x="2054578" y="3454400"/>
                        <a:pt x="2065867" y="3420533"/>
                      </a:cubicBezTo>
                      <a:cubicBezTo>
                        <a:pt x="2054578" y="3318933"/>
                        <a:pt x="2052048" y="3215973"/>
                        <a:pt x="2032000" y="3115733"/>
                      </a:cubicBezTo>
                      <a:cubicBezTo>
                        <a:pt x="2017998" y="3045722"/>
                        <a:pt x="1964267" y="2912533"/>
                        <a:pt x="1964267" y="2912533"/>
                      </a:cubicBezTo>
                      <a:cubicBezTo>
                        <a:pt x="2045473" y="2668911"/>
                        <a:pt x="1946942" y="2973167"/>
                        <a:pt x="2032000" y="2675467"/>
                      </a:cubicBezTo>
                      <a:cubicBezTo>
                        <a:pt x="2041807" y="2641142"/>
                        <a:pt x="2054578" y="2607734"/>
                        <a:pt x="2065867" y="2573867"/>
                      </a:cubicBezTo>
                      <a:cubicBezTo>
                        <a:pt x="1988036" y="2340376"/>
                        <a:pt x="2048618" y="2421153"/>
                        <a:pt x="1930400" y="2302933"/>
                      </a:cubicBezTo>
                      <a:cubicBezTo>
                        <a:pt x="1919111" y="2257778"/>
                        <a:pt x="1909320" y="2212221"/>
                        <a:pt x="1896533" y="2167467"/>
                      </a:cubicBezTo>
                      <a:cubicBezTo>
                        <a:pt x="1886726" y="2133142"/>
                        <a:pt x="1868536" y="2101080"/>
                        <a:pt x="1862667" y="2065867"/>
                      </a:cubicBezTo>
                      <a:cubicBezTo>
                        <a:pt x="1846052" y="1966175"/>
                        <a:pt x="1835554" y="1713597"/>
                        <a:pt x="1794933" y="1591733"/>
                      </a:cubicBezTo>
                      <a:cubicBezTo>
                        <a:pt x="1778968" y="1543839"/>
                        <a:pt x="1753174" y="1499558"/>
                        <a:pt x="1727200" y="1456267"/>
                      </a:cubicBezTo>
                      <a:cubicBezTo>
                        <a:pt x="1685317" y="1386462"/>
                        <a:pt x="1591733" y="1253067"/>
                        <a:pt x="1591733" y="1253067"/>
                      </a:cubicBezTo>
                      <a:cubicBezTo>
                        <a:pt x="1555962" y="1145753"/>
                        <a:pt x="1565165" y="1143657"/>
                        <a:pt x="1490133" y="1049867"/>
                      </a:cubicBezTo>
                      <a:cubicBezTo>
                        <a:pt x="1470187" y="1024934"/>
                        <a:pt x="1442346" y="1007066"/>
                        <a:pt x="1422400" y="982133"/>
                      </a:cubicBezTo>
                      <a:cubicBezTo>
                        <a:pt x="1396973" y="950349"/>
                        <a:pt x="1380094" y="912316"/>
                        <a:pt x="1354667" y="880533"/>
                      </a:cubicBezTo>
                      <a:cubicBezTo>
                        <a:pt x="1334721" y="855600"/>
                        <a:pt x="1306879" y="837733"/>
                        <a:pt x="1286933" y="812800"/>
                      </a:cubicBezTo>
                      <a:cubicBezTo>
                        <a:pt x="1261506" y="781017"/>
                        <a:pt x="1246241" y="741622"/>
                        <a:pt x="1219200" y="711200"/>
                      </a:cubicBezTo>
                      <a:cubicBezTo>
                        <a:pt x="1155561" y="639606"/>
                        <a:pt x="1095702" y="561134"/>
                        <a:pt x="1016000" y="508000"/>
                      </a:cubicBezTo>
                      <a:cubicBezTo>
                        <a:pt x="887833" y="422556"/>
                        <a:pt x="943181" y="469048"/>
                        <a:pt x="846667" y="372533"/>
                      </a:cubicBezTo>
                      <a:cubicBezTo>
                        <a:pt x="835378" y="338666"/>
                        <a:pt x="832602" y="300636"/>
                        <a:pt x="812800" y="270933"/>
                      </a:cubicBezTo>
                      <a:cubicBezTo>
                        <a:pt x="786233" y="231082"/>
                        <a:pt x="749006" y="198737"/>
                        <a:pt x="711200" y="169333"/>
                      </a:cubicBezTo>
                      <a:cubicBezTo>
                        <a:pt x="536524" y="33474"/>
                        <a:pt x="559693" y="51098"/>
                        <a:pt x="406400" y="0"/>
                      </a:cubicBezTo>
                      <a:cubicBezTo>
                        <a:pt x="361244" y="11289"/>
                        <a:pt x="313715" y="15532"/>
                        <a:pt x="270933" y="33867"/>
                      </a:cubicBezTo>
                      <a:cubicBezTo>
                        <a:pt x="53886" y="126887"/>
                        <a:pt x="173770" y="228415"/>
                        <a:pt x="203200" y="508000"/>
                      </a:cubicBezTo>
                      <a:cubicBezTo>
                        <a:pt x="230238" y="764856"/>
                        <a:pt x="168958" y="711013"/>
                        <a:pt x="304800" y="778933"/>
                      </a:cubicBezTo>
                    </a:path>
                  </a:pathLst>
                </a:custGeom>
                <a:solidFill>
                  <a:srgbClr val="f2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0" name=""/>
              <p:cNvGrpSpPr/>
              <p:nvPr/>
            </p:nvGrpSpPr>
            <p:grpSpPr>
              <a:xfrm>
                <a:off x="18453240" y="-986040"/>
                <a:ext cx="290880" cy="406440"/>
                <a:chOff x="18453240" y="-986040"/>
                <a:chExt cx="290880" cy="406440"/>
              </a:xfrm>
            </p:grpSpPr>
            <p:sp>
              <p:nvSpPr>
                <p:cNvPr id="231" name="任意多边形 203"/>
                <p:cNvSpPr/>
                <p:nvPr/>
              </p:nvSpPr>
              <p:spPr>
                <a:xfrm rot="21310800">
                  <a:off x="18468720" y="-975960"/>
                  <a:ext cx="259200" cy="386280"/>
                </a:xfrm>
                <a:custGeom>
                  <a:avLst/>
                  <a:gdLst>
                    <a:gd name="textAreaLeft" fmla="*/ 0 w 259200"/>
                    <a:gd name="textAreaRight" fmla="*/ 259560 w 259200"/>
                    <a:gd name="textAreaTop" fmla="*/ 0 h 386280"/>
                    <a:gd name="textAreaBottom" fmla="*/ 386640 h 386280"/>
                  </a:gdLst>
                  <a:ahLst/>
                  <a:rect l="textAreaLeft" t="textAreaTop" r="textAreaRight" b="textAreaBottom"/>
                  <a:pathLst>
                    <a:path w="2065867" h="4030133">
                      <a:moveTo>
                        <a:pt x="270933" y="677333"/>
                      </a:moveTo>
                      <a:cubicBezTo>
                        <a:pt x="259644" y="733778"/>
                        <a:pt x="257278" y="792770"/>
                        <a:pt x="237067" y="846667"/>
                      </a:cubicBezTo>
                      <a:cubicBezTo>
                        <a:pt x="222775" y="884778"/>
                        <a:pt x="187536" y="911861"/>
                        <a:pt x="169333" y="948267"/>
                      </a:cubicBezTo>
                      <a:cubicBezTo>
                        <a:pt x="153368" y="980197"/>
                        <a:pt x="146756" y="1016000"/>
                        <a:pt x="135467" y="1049867"/>
                      </a:cubicBezTo>
                      <a:cubicBezTo>
                        <a:pt x="124178" y="1128889"/>
                        <a:pt x="124537" y="1210475"/>
                        <a:pt x="101600" y="1286933"/>
                      </a:cubicBezTo>
                      <a:cubicBezTo>
                        <a:pt x="89904" y="1325919"/>
                        <a:pt x="52070" y="1352127"/>
                        <a:pt x="33867" y="1388533"/>
                      </a:cubicBezTo>
                      <a:cubicBezTo>
                        <a:pt x="17902" y="1420463"/>
                        <a:pt x="11289" y="1456266"/>
                        <a:pt x="0" y="1490133"/>
                      </a:cubicBezTo>
                      <a:cubicBezTo>
                        <a:pt x="11289" y="1648178"/>
                        <a:pt x="6331" y="1808231"/>
                        <a:pt x="33867" y="1964267"/>
                      </a:cubicBezTo>
                      <a:cubicBezTo>
                        <a:pt x="40941" y="2004350"/>
                        <a:pt x="77942" y="2032746"/>
                        <a:pt x="101600" y="2065867"/>
                      </a:cubicBezTo>
                      <a:cubicBezTo>
                        <a:pt x="134408" y="2111798"/>
                        <a:pt x="167065" y="2157971"/>
                        <a:pt x="203200" y="2201333"/>
                      </a:cubicBezTo>
                      <a:cubicBezTo>
                        <a:pt x="223641" y="2225862"/>
                        <a:pt x="253221" y="2242500"/>
                        <a:pt x="270933" y="2269067"/>
                      </a:cubicBezTo>
                      <a:cubicBezTo>
                        <a:pt x="298937" y="2311073"/>
                        <a:pt x="313619" y="2360700"/>
                        <a:pt x="338667" y="2404533"/>
                      </a:cubicBezTo>
                      <a:cubicBezTo>
                        <a:pt x="443708" y="2588354"/>
                        <a:pt x="378175" y="2421458"/>
                        <a:pt x="440267" y="2607733"/>
                      </a:cubicBezTo>
                      <a:cubicBezTo>
                        <a:pt x="451556" y="2686755"/>
                        <a:pt x="448890" y="2769072"/>
                        <a:pt x="474133" y="2844800"/>
                      </a:cubicBezTo>
                      <a:cubicBezTo>
                        <a:pt x="484230" y="2875091"/>
                        <a:pt x="525439" y="2885153"/>
                        <a:pt x="541867" y="2912533"/>
                      </a:cubicBezTo>
                      <a:cubicBezTo>
                        <a:pt x="692110" y="3162937"/>
                        <a:pt x="437916" y="2858793"/>
                        <a:pt x="643467" y="3115733"/>
                      </a:cubicBezTo>
                      <a:cubicBezTo>
                        <a:pt x="663413" y="3140666"/>
                        <a:pt x="691254" y="3158534"/>
                        <a:pt x="711200" y="3183467"/>
                      </a:cubicBezTo>
                      <a:cubicBezTo>
                        <a:pt x="736627" y="3215251"/>
                        <a:pt x="752130" y="3254435"/>
                        <a:pt x="778933" y="3285067"/>
                      </a:cubicBezTo>
                      <a:cubicBezTo>
                        <a:pt x="831498" y="3345141"/>
                        <a:pt x="900372" y="3390540"/>
                        <a:pt x="948267" y="3454400"/>
                      </a:cubicBezTo>
                      <a:cubicBezTo>
                        <a:pt x="982134" y="3499556"/>
                        <a:pt x="1019951" y="3542002"/>
                        <a:pt x="1049867" y="3589867"/>
                      </a:cubicBezTo>
                      <a:cubicBezTo>
                        <a:pt x="1076624" y="3632678"/>
                        <a:pt x="1089596" y="3683327"/>
                        <a:pt x="1117600" y="3725333"/>
                      </a:cubicBezTo>
                      <a:cubicBezTo>
                        <a:pt x="1164328" y="3795425"/>
                        <a:pt x="1222230" y="3809038"/>
                        <a:pt x="1286933" y="3860800"/>
                      </a:cubicBezTo>
                      <a:cubicBezTo>
                        <a:pt x="1311866" y="3880746"/>
                        <a:pt x="1328100" y="3910821"/>
                        <a:pt x="1354667" y="3928533"/>
                      </a:cubicBezTo>
                      <a:cubicBezTo>
                        <a:pt x="1438370" y="3984335"/>
                        <a:pt x="1501418" y="4000029"/>
                        <a:pt x="1591733" y="4030133"/>
                      </a:cubicBezTo>
                      <a:cubicBezTo>
                        <a:pt x="1670755" y="4018844"/>
                        <a:pt x="1753072" y="4021510"/>
                        <a:pt x="1828800" y="3996267"/>
                      </a:cubicBezTo>
                      <a:cubicBezTo>
                        <a:pt x="1947678" y="3956641"/>
                        <a:pt x="1962781" y="3628192"/>
                        <a:pt x="1964267" y="3623733"/>
                      </a:cubicBezTo>
                      <a:cubicBezTo>
                        <a:pt x="1977138" y="3585119"/>
                        <a:pt x="2013797" y="3558539"/>
                        <a:pt x="2032000" y="3522133"/>
                      </a:cubicBezTo>
                      <a:cubicBezTo>
                        <a:pt x="2047965" y="3490203"/>
                        <a:pt x="2054578" y="3454400"/>
                        <a:pt x="2065867" y="3420533"/>
                      </a:cubicBezTo>
                      <a:cubicBezTo>
                        <a:pt x="2054578" y="3318933"/>
                        <a:pt x="2052048" y="3215973"/>
                        <a:pt x="2032000" y="3115733"/>
                      </a:cubicBezTo>
                      <a:cubicBezTo>
                        <a:pt x="2017998" y="3045722"/>
                        <a:pt x="1964267" y="2912533"/>
                        <a:pt x="1964267" y="2912533"/>
                      </a:cubicBezTo>
                      <a:cubicBezTo>
                        <a:pt x="2045473" y="2668911"/>
                        <a:pt x="1946942" y="2973167"/>
                        <a:pt x="2032000" y="2675467"/>
                      </a:cubicBezTo>
                      <a:cubicBezTo>
                        <a:pt x="2041807" y="2641142"/>
                        <a:pt x="2054578" y="2607734"/>
                        <a:pt x="2065867" y="2573867"/>
                      </a:cubicBezTo>
                      <a:cubicBezTo>
                        <a:pt x="1988036" y="2340376"/>
                        <a:pt x="2048618" y="2421153"/>
                        <a:pt x="1930400" y="2302933"/>
                      </a:cubicBezTo>
                      <a:cubicBezTo>
                        <a:pt x="1919111" y="2257778"/>
                        <a:pt x="1909320" y="2212221"/>
                        <a:pt x="1896533" y="2167467"/>
                      </a:cubicBezTo>
                      <a:cubicBezTo>
                        <a:pt x="1886726" y="2133142"/>
                        <a:pt x="1868536" y="2101080"/>
                        <a:pt x="1862667" y="2065867"/>
                      </a:cubicBezTo>
                      <a:cubicBezTo>
                        <a:pt x="1846052" y="1966175"/>
                        <a:pt x="1835554" y="1713597"/>
                        <a:pt x="1794933" y="1591733"/>
                      </a:cubicBezTo>
                      <a:cubicBezTo>
                        <a:pt x="1778968" y="1543839"/>
                        <a:pt x="1753174" y="1499558"/>
                        <a:pt x="1727200" y="1456267"/>
                      </a:cubicBezTo>
                      <a:cubicBezTo>
                        <a:pt x="1685317" y="1386462"/>
                        <a:pt x="1591733" y="1253067"/>
                        <a:pt x="1591733" y="1253067"/>
                      </a:cubicBezTo>
                      <a:cubicBezTo>
                        <a:pt x="1555962" y="1145753"/>
                        <a:pt x="1565165" y="1143657"/>
                        <a:pt x="1490133" y="1049867"/>
                      </a:cubicBezTo>
                      <a:cubicBezTo>
                        <a:pt x="1470187" y="1024934"/>
                        <a:pt x="1442346" y="1007066"/>
                        <a:pt x="1422400" y="982133"/>
                      </a:cubicBezTo>
                      <a:cubicBezTo>
                        <a:pt x="1396973" y="950349"/>
                        <a:pt x="1380094" y="912316"/>
                        <a:pt x="1354667" y="880533"/>
                      </a:cubicBezTo>
                      <a:cubicBezTo>
                        <a:pt x="1334721" y="855600"/>
                        <a:pt x="1306879" y="837733"/>
                        <a:pt x="1286933" y="812800"/>
                      </a:cubicBezTo>
                      <a:cubicBezTo>
                        <a:pt x="1261506" y="781017"/>
                        <a:pt x="1246241" y="741622"/>
                        <a:pt x="1219200" y="711200"/>
                      </a:cubicBezTo>
                      <a:cubicBezTo>
                        <a:pt x="1155561" y="639606"/>
                        <a:pt x="1095702" y="561134"/>
                        <a:pt x="1016000" y="508000"/>
                      </a:cubicBezTo>
                      <a:cubicBezTo>
                        <a:pt x="887833" y="422556"/>
                        <a:pt x="943181" y="469048"/>
                        <a:pt x="846667" y="372533"/>
                      </a:cubicBezTo>
                      <a:cubicBezTo>
                        <a:pt x="835378" y="338666"/>
                        <a:pt x="832602" y="300636"/>
                        <a:pt x="812800" y="270933"/>
                      </a:cubicBezTo>
                      <a:cubicBezTo>
                        <a:pt x="786233" y="231082"/>
                        <a:pt x="749006" y="198737"/>
                        <a:pt x="711200" y="169333"/>
                      </a:cubicBezTo>
                      <a:cubicBezTo>
                        <a:pt x="536524" y="33474"/>
                        <a:pt x="559693" y="51098"/>
                        <a:pt x="406400" y="0"/>
                      </a:cubicBezTo>
                      <a:cubicBezTo>
                        <a:pt x="361244" y="11289"/>
                        <a:pt x="313715" y="15532"/>
                        <a:pt x="270933" y="33867"/>
                      </a:cubicBezTo>
                      <a:cubicBezTo>
                        <a:pt x="53886" y="126887"/>
                        <a:pt x="173770" y="228415"/>
                        <a:pt x="203200" y="508000"/>
                      </a:cubicBezTo>
                      <a:cubicBezTo>
                        <a:pt x="230238" y="764856"/>
                        <a:pt x="168958" y="711013"/>
                        <a:pt x="304800" y="778933"/>
                      </a:cubicBez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" name="任意多边形 204"/>
                <p:cNvSpPr/>
                <p:nvPr/>
              </p:nvSpPr>
              <p:spPr>
                <a:xfrm rot="21310800">
                  <a:off x="18513000" y="-955800"/>
                  <a:ext cx="129600" cy="177120"/>
                </a:xfrm>
                <a:custGeom>
                  <a:avLst/>
                  <a:gdLst>
                    <a:gd name="textAreaLeft" fmla="*/ 0 w 129600"/>
                    <a:gd name="textAreaRight" fmla="*/ 129960 w 129600"/>
                    <a:gd name="textAreaTop" fmla="*/ 0 h 177120"/>
                    <a:gd name="textAreaBottom" fmla="*/ 177480 h 177120"/>
                  </a:gdLst>
                  <a:ahLst/>
                  <a:rect l="textAreaLeft" t="textAreaTop" r="textAreaRight" b="textAreaBottom"/>
                  <a:pathLst>
                    <a:path w="2065867" h="4030133">
                      <a:moveTo>
                        <a:pt x="270933" y="677333"/>
                      </a:moveTo>
                      <a:cubicBezTo>
                        <a:pt x="259644" y="733778"/>
                        <a:pt x="257278" y="792770"/>
                        <a:pt x="237067" y="846667"/>
                      </a:cubicBezTo>
                      <a:cubicBezTo>
                        <a:pt x="222775" y="884778"/>
                        <a:pt x="187536" y="911861"/>
                        <a:pt x="169333" y="948267"/>
                      </a:cubicBezTo>
                      <a:cubicBezTo>
                        <a:pt x="153368" y="980197"/>
                        <a:pt x="146756" y="1016000"/>
                        <a:pt x="135467" y="1049867"/>
                      </a:cubicBezTo>
                      <a:cubicBezTo>
                        <a:pt x="124178" y="1128889"/>
                        <a:pt x="124537" y="1210475"/>
                        <a:pt x="101600" y="1286933"/>
                      </a:cubicBezTo>
                      <a:cubicBezTo>
                        <a:pt x="89904" y="1325919"/>
                        <a:pt x="52070" y="1352127"/>
                        <a:pt x="33867" y="1388533"/>
                      </a:cubicBezTo>
                      <a:cubicBezTo>
                        <a:pt x="17902" y="1420463"/>
                        <a:pt x="11289" y="1456266"/>
                        <a:pt x="0" y="1490133"/>
                      </a:cubicBezTo>
                      <a:cubicBezTo>
                        <a:pt x="11289" y="1648178"/>
                        <a:pt x="6331" y="1808231"/>
                        <a:pt x="33867" y="1964267"/>
                      </a:cubicBezTo>
                      <a:cubicBezTo>
                        <a:pt x="40941" y="2004350"/>
                        <a:pt x="77942" y="2032746"/>
                        <a:pt x="101600" y="2065867"/>
                      </a:cubicBezTo>
                      <a:cubicBezTo>
                        <a:pt x="134408" y="2111798"/>
                        <a:pt x="167065" y="2157971"/>
                        <a:pt x="203200" y="2201333"/>
                      </a:cubicBezTo>
                      <a:cubicBezTo>
                        <a:pt x="223641" y="2225862"/>
                        <a:pt x="253221" y="2242500"/>
                        <a:pt x="270933" y="2269067"/>
                      </a:cubicBezTo>
                      <a:cubicBezTo>
                        <a:pt x="298937" y="2311073"/>
                        <a:pt x="313619" y="2360700"/>
                        <a:pt x="338667" y="2404533"/>
                      </a:cubicBezTo>
                      <a:cubicBezTo>
                        <a:pt x="443708" y="2588354"/>
                        <a:pt x="378175" y="2421458"/>
                        <a:pt x="440267" y="2607733"/>
                      </a:cubicBezTo>
                      <a:cubicBezTo>
                        <a:pt x="451556" y="2686755"/>
                        <a:pt x="448890" y="2769072"/>
                        <a:pt x="474133" y="2844800"/>
                      </a:cubicBezTo>
                      <a:cubicBezTo>
                        <a:pt x="484230" y="2875091"/>
                        <a:pt x="525439" y="2885153"/>
                        <a:pt x="541867" y="2912533"/>
                      </a:cubicBezTo>
                      <a:cubicBezTo>
                        <a:pt x="692110" y="3162937"/>
                        <a:pt x="437916" y="2858793"/>
                        <a:pt x="643467" y="3115733"/>
                      </a:cubicBezTo>
                      <a:cubicBezTo>
                        <a:pt x="663413" y="3140666"/>
                        <a:pt x="691254" y="3158534"/>
                        <a:pt x="711200" y="3183467"/>
                      </a:cubicBezTo>
                      <a:cubicBezTo>
                        <a:pt x="736627" y="3215251"/>
                        <a:pt x="752130" y="3254435"/>
                        <a:pt x="778933" y="3285067"/>
                      </a:cubicBezTo>
                      <a:cubicBezTo>
                        <a:pt x="831498" y="3345141"/>
                        <a:pt x="900372" y="3390540"/>
                        <a:pt x="948267" y="3454400"/>
                      </a:cubicBezTo>
                      <a:cubicBezTo>
                        <a:pt x="982134" y="3499556"/>
                        <a:pt x="1019951" y="3542002"/>
                        <a:pt x="1049867" y="3589867"/>
                      </a:cubicBezTo>
                      <a:cubicBezTo>
                        <a:pt x="1076624" y="3632678"/>
                        <a:pt x="1089596" y="3683327"/>
                        <a:pt x="1117600" y="3725333"/>
                      </a:cubicBezTo>
                      <a:cubicBezTo>
                        <a:pt x="1164328" y="3795425"/>
                        <a:pt x="1222230" y="3809038"/>
                        <a:pt x="1286933" y="3860800"/>
                      </a:cubicBezTo>
                      <a:cubicBezTo>
                        <a:pt x="1311866" y="3880746"/>
                        <a:pt x="1328100" y="3910821"/>
                        <a:pt x="1354667" y="3928533"/>
                      </a:cubicBezTo>
                      <a:cubicBezTo>
                        <a:pt x="1438370" y="3984335"/>
                        <a:pt x="1501418" y="4000029"/>
                        <a:pt x="1591733" y="4030133"/>
                      </a:cubicBezTo>
                      <a:cubicBezTo>
                        <a:pt x="1670755" y="4018844"/>
                        <a:pt x="1753072" y="4021510"/>
                        <a:pt x="1828800" y="3996267"/>
                      </a:cubicBezTo>
                      <a:cubicBezTo>
                        <a:pt x="1947678" y="3956641"/>
                        <a:pt x="1962781" y="3628192"/>
                        <a:pt x="1964267" y="3623733"/>
                      </a:cubicBezTo>
                      <a:cubicBezTo>
                        <a:pt x="1977138" y="3585119"/>
                        <a:pt x="2013797" y="3558539"/>
                        <a:pt x="2032000" y="3522133"/>
                      </a:cubicBezTo>
                      <a:cubicBezTo>
                        <a:pt x="2047965" y="3490203"/>
                        <a:pt x="2054578" y="3454400"/>
                        <a:pt x="2065867" y="3420533"/>
                      </a:cubicBezTo>
                      <a:cubicBezTo>
                        <a:pt x="2054578" y="3318933"/>
                        <a:pt x="2052048" y="3215973"/>
                        <a:pt x="2032000" y="3115733"/>
                      </a:cubicBezTo>
                      <a:cubicBezTo>
                        <a:pt x="2017998" y="3045722"/>
                        <a:pt x="1964267" y="2912533"/>
                        <a:pt x="1964267" y="2912533"/>
                      </a:cubicBezTo>
                      <a:cubicBezTo>
                        <a:pt x="2045473" y="2668911"/>
                        <a:pt x="1946942" y="2973167"/>
                        <a:pt x="2032000" y="2675467"/>
                      </a:cubicBezTo>
                      <a:cubicBezTo>
                        <a:pt x="2041807" y="2641142"/>
                        <a:pt x="2054578" y="2607734"/>
                        <a:pt x="2065867" y="2573867"/>
                      </a:cubicBezTo>
                      <a:cubicBezTo>
                        <a:pt x="1988036" y="2340376"/>
                        <a:pt x="2048618" y="2421153"/>
                        <a:pt x="1930400" y="2302933"/>
                      </a:cubicBezTo>
                      <a:cubicBezTo>
                        <a:pt x="1919111" y="2257778"/>
                        <a:pt x="1909320" y="2212221"/>
                        <a:pt x="1896533" y="2167467"/>
                      </a:cubicBezTo>
                      <a:cubicBezTo>
                        <a:pt x="1886726" y="2133142"/>
                        <a:pt x="1868536" y="2101080"/>
                        <a:pt x="1862667" y="2065867"/>
                      </a:cubicBezTo>
                      <a:cubicBezTo>
                        <a:pt x="1846052" y="1966175"/>
                        <a:pt x="1835554" y="1713597"/>
                        <a:pt x="1794933" y="1591733"/>
                      </a:cubicBezTo>
                      <a:cubicBezTo>
                        <a:pt x="1778968" y="1543839"/>
                        <a:pt x="1753174" y="1499558"/>
                        <a:pt x="1727200" y="1456267"/>
                      </a:cubicBezTo>
                      <a:cubicBezTo>
                        <a:pt x="1685317" y="1386462"/>
                        <a:pt x="1591733" y="1253067"/>
                        <a:pt x="1591733" y="1253067"/>
                      </a:cubicBezTo>
                      <a:cubicBezTo>
                        <a:pt x="1555962" y="1145753"/>
                        <a:pt x="1565165" y="1143657"/>
                        <a:pt x="1490133" y="1049867"/>
                      </a:cubicBezTo>
                      <a:cubicBezTo>
                        <a:pt x="1470187" y="1024934"/>
                        <a:pt x="1442346" y="1007066"/>
                        <a:pt x="1422400" y="982133"/>
                      </a:cubicBezTo>
                      <a:cubicBezTo>
                        <a:pt x="1396973" y="950349"/>
                        <a:pt x="1380094" y="912316"/>
                        <a:pt x="1354667" y="880533"/>
                      </a:cubicBezTo>
                      <a:cubicBezTo>
                        <a:pt x="1334721" y="855600"/>
                        <a:pt x="1306879" y="837733"/>
                        <a:pt x="1286933" y="812800"/>
                      </a:cubicBezTo>
                      <a:cubicBezTo>
                        <a:pt x="1261506" y="781017"/>
                        <a:pt x="1246241" y="741622"/>
                        <a:pt x="1219200" y="711200"/>
                      </a:cubicBezTo>
                      <a:cubicBezTo>
                        <a:pt x="1155561" y="639606"/>
                        <a:pt x="1095702" y="561134"/>
                        <a:pt x="1016000" y="508000"/>
                      </a:cubicBezTo>
                      <a:cubicBezTo>
                        <a:pt x="887833" y="422556"/>
                        <a:pt x="943181" y="469048"/>
                        <a:pt x="846667" y="372533"/>
                      </a:cubicBezTo>
                      <a:cubicBezTo>
                        <a:pt x="835378" y="338666"/>
                        <a:pt x="832602" y="300636"/>
                        <a:pt x="812800" y="270933"/>
                      </a:cubicBezTo>
                      <a:cubicBezTo>
                        <a:pt x="786233" y="231082"/>
                        <a:pt x="749006" y="198737"/>
                        <a:pt x="711200" y="169333"/>
                      </a:cubicBezTo>
                      <a:cubicBezTo>
                        <a:pt x="536524" y="33474"/>
                        <a:pt x="559693" y="51098"/>
                        <a:pt x="406400" y="0"/>
                      </a:cubicBezTo>
                      <a:cubicBezTo>
                        <a:pt x="361244" y="11289"/>
                        <a:pt x="313715" y="15532"/>
                        <a:pt x="270933" y="33867"/>
                      </a:cubicBezTo>
                      <a:cubicBezTo>
                        <a:pt x="53886" y="126887"/>
                        <a:pt x="173770" y="228415"/>
                        <a:pt x="203200" y="508000"/>
                      </a:cubicBezTo>
                      <a:cubicBezTo>
                        <a:pt x="230238" y="764856"/>
                        <a:pt x="168958" y="711013"/>
                        <a:pt x="304800" y="778933"/>
                      </a:cubicBezTo>
                    </a:path>
                  </a:pathLst>
                </a:custGeom>
                <a:solidFill>
                  <a:srgbClr val="f2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任意多边形 205"/>
                <p:cNvSpPr/>
                <p:nvPr/>
              </p:nvSpPr>
              <p:spPr>
                <a:xfrm rot="21310800">
                  <a:off x="18635400" y="-834840"/>
                  <a:ext cx="60480" cy="149040"/>
                </a:xfrm>
                <a:custGeom>
                  <a:avLst/>
                  <a:gdLst>
                    <a:gd name="textAreaLeft" fmla="*/ 0 w 60480"/>
                    <a:gd name="textAreaRight" fmla="*/ 60840 w 60480"/>
                    <a:gd name="textAreaTop" fmla="*/ 0 h 149040"/>
                    <a:gd name="textAreaBottom" fmla="*/ 149400 h 149040"/>
                  </a:gdLst>
                  <a:ahLst/>
                  <a:rect l="textAreaLeft" t="textAreaTop" r="textAreaRight" b="textAreaBottom"/>
                  <a:pathLst>
                    <a:path w="2065867" h="4030133">
                      <a:moveTo>
                        <a:pt x="270933" y="677333"/>
                      </a:moveTo>
                      <a:cubicBezTo>
                        <a:pt x="259644" y="733778"/>
                        <a:pt x="257278" y="792770"/>
                        <a:pt x="237067" y="846667"/>
                      </a:cubicBezTo>
                      <a:cubicBezTo>
                        <a:pt x="222775" y="884778"/>
                        <a:pt x="187536" y="911861"/>
                        <a:pt x="169333" y="948267"/>
                      </a:cubicBezTo>
                      <a:cubicBezTo>
                        <a:pt x="153368" y="980197"/>
                        <a:pt x="146756" y="1016000"/>
                        <a:pt x="135467" y="1049867"/>
                      </a:cubicBezTo>
                      <a:cubicBezTo>
                        <a:pt x="124178" y="1128889"/>
                        <a:pt x="124537" y="1210475"/>
                        <a:pt x="101600" y="1286933"/>
                      </a:cubicBezTo>
                      <a:cubicBezTo>
                        <a:pt x="89904" y="1325919"/>
                        <a:pt x="52070" y="1352127"/>
                        <a:pt x="33867" y="1388533"/>
                      </a:cubicBezTo>
                      <a:cubicBezTo>
                        <a:pt x="17902" y="1420463"/>
                        <a:pt x="11289" y="1456266"/>
                        <a:pt x="0" y="1490133"/>
                      </a:cubicBezTo>
                      <a:cubicBezTo>
                        <a:pt x="11289" y="1648178"/>
                        <a:pt x="6331" y="1808231"/>
                        <a:pt x="33867" y="1964267"/>
                      </a:cubicBezTo>
                      <a:cubicBezTo>
                        <a:pt x="40941" y="2004350"/>
                        <a:pt x="77942" y="2032746"/>
                        <a:pt x="101600" y="2065867"/>
                      </a:cubicBezTo>
                      <a:cubicBezTo>
                        <a:pt x="134408" y="2111798"/>
                        <a:pt x="167065" y="2157971"/>
                        <a:pt x="203200" y="2201333"/>
                      </a:cubicBezTo>
                      <a:cubicBezTo>
                        <a:pt x="223641" y="2225862"/>
                        <a:pt x="253221" y="2242500"/>
                        <a:pt x="270933" y="2269067"/>
                      </a:cubicBezTo>
                      <a:cubicBezTo>
                        <a:pt x="298937" y="2311073"/>
                        <a:pt x="313619" y="2360700"/>
                        <a:pt x="338667" y="2404533"/>
                      </a:cubicBezTo>
                      <a:cubicBezTo>
                        <a:pt x="443708" y="2588354"/>
                        <a:pt x="378175" y="2421458"/>
                        <a:pt x="440267" y="2607733"/>
                      </a:cubicBezTo>
                      <a:cubicBezTo>
                        <a:pt x="451556" y="2686755"/>
                        <a:pt x="448890" y="2769072"/>
                        <a:pt x="474133" y="2844800"/>
                      </a:cubicBezTo>
                      <a:cubicBezTo>
                        <a:pt x="484230" y="2875091"/>
                        <a:pt x="525439" y="2885153"/>
                        <a:pt x="541867" y="2912533"/>
                      </a:cubicBezTo>
                      <a:cubicBezTo>
                        <a:pt x="692110" y="3162937"/>
                        <a:pt x="437916" y="2858793"/>
                        <a:pt x="643467" y="3115733"/>
                      </a:cubicBezTo>
                      <a:cubicBezTo>
                        <a:pt x="663413" y="3140666"/>
                        <a:pt x="691254" y="3158534"/>
                        <a:pt x="711200" y="3183467"/>
                      </a:cubicBezTo>
                      <a:cubicBezTo>
                        <a:pt x="736627" y="3215251"/>
                        <a:pt x="752130" y="3254435"/>
                        <a:pt x="778933" y="3285067"/>
                      </a:cubicBezTo>
                      <a:cubicBezTo>
                        <a:pt x="831498" y="3345141"/>
                        <a:pt x="900372" y="3390540"/>
                        <a:pt x="948267" y="3454400"/>
                      </a:cubicBezTo>
                      <a:cubicBezTo>
                        <a:pt x="982134" y="3499556"/>
                        <a:pt x="1019951" y="3542002"/>
                        <a:pt x="1049867" y="3589867"/>
                      </a:cubicBezTo>
                      <a:cubicBezTo>
                        <a:pt x="1076624" y="3632678"/>
                        <a:pt x="1089596" y="3683327"/>
                        <a:pt x="1117600" y="3725333"/>
                      </a:cubicBezTo>
                      <a:cubicBezTo>
                        <a:pt x="1164328" y="3795425"/>
                        <a:pt x="1222230" y="3809038"/>
                        <a:pt x="1286933" y="3860800"/>
                      </a:cubicBezTo>
                      <a:cubicBezTo>
                        <a:pt x="1311866" y="3880746"/>
                        <a:pt x="1328100" y="3910821"/>
                        <a:pt x="1354667" y="3928533"/>
                      </a:cubicBezTo>
                      <a:cubicBezTo>
                        <a:pt x="1438370" y="3984335"/>
                        <a:pt x="1501418" y="4000029"/>
                        <a:pt x="1591733" y="4030133"/>
                      </a:cubicBezTo>
                      <a:cubicBezTo>
                        <a:pt x="1670755" y="4018844"/>
                        <a:pt x="1753072" y="4021510"/>
                        <a:pt x="1828800" y="3996267"/>
                      </a:cubicBezTo>
                      <a:cubicBezTo>
                        <a:pt x="1947678" y="3956641"/>
                        <a:pt x="1962781" y="3628192"/>
                        <a:pt x="1964267" y="3623733"/>
                      </a:cubicBezTo>
                      <a:cubicBezTo>
                        <a:pt x="1977138" y="3585119"/>
                        <a:pt x="2013797" y="3558539"/>
                        <a:pt x="2032000" y="3522133"/>
                      </a:cubicBezTo>
                      <a:cubicBezTo>
                        <a:pt x="2047965" y="3490203"/>
                        <a:pt x="2054578" y="3454400"/>
                        <a:pt x="2065867" y="3420533"/>
                      </a:cubicBezTo>
                      <a:cubicBezTo>
                        <a:pt x="2054578" y="3318933"/>
                        <a:pt x="2052048" y="3215973"/>
                        <a:pt x="2032000" y="3115733"/>
                      </a:cubicBezTo>
                      <a:cubicBezTo>
                        <a:pt x="2017998" y="3045722"/>
                        <a:pt x="1964267" y="2912533"/>
                        <a:pt x="1964267" y="2912533"/>
                      </a:cubicBezTo>
                      <a:cubicBezTo>
                        <a:pt x="2045473" y="2668911"/>
                        <a:pt x="1946942" y="2973167"/>
                        <a:pt x="2032000" y="2675467"/>
                      </a:cubicBezTo>
                      <a:cubicBezTo>
                        <a:pt x="2041807" y="2641142"/>
                        <a:pt x="2054578" y="2607734"/>
                        <a:pt x="2065867" y="2573867"/>
                      </a:cubicBezTo>
                      <a:cubicBezTo>
                        <a:pt x="1988036" y="2340376"/>
                        <a:pt x="2048618" y="2421153"/>
                        <a:pt x="1930400" y="2302933"/>
                      </a:cubicBezTo>
                      <a:cubicBezTo>
                        <a:pt x="1919111" y="2257778"/>
                        <a:pt x="1909320" y="2212221"/>
                        <a:pt x="1896533" y="2167467"/>
                      </a:cubicBezTo>
                      <a:cubicBezTo>
                        <a:pt x="1886726" y="2133142"/>
                        <a:pt x="1868536" y="2101080"/>
                        <a:pt x="1862667" y="2065867"/>
                      </a:cubicBezTo>
                      <a:cubicBezTo>
                        <a:pt x="1846052" y="1966175"/>
                        <a:pt x="1835554" y="1713597"/>
                        <a:pt x="1794933" y="1591733"/>
                      </a:cubicBezTo>
                      <a:cubicBezTo>
                        <a:pt x="1778968" y="1543839"/>
                        <a:pt x="1753174" y="1499558"/>
                        <a:pt x="1727200" y="1456267"/>
                      </a:cubicBezTo>
                      <a:cubicBezTo>
                        <a:pt x="1685317" y="1386462"/>
                        <a:pt x="1591733" y="1253067"/>
                        <a:pt x="1591733" y="1253067"/>
                      </a:cubicBezTo>
                      <a:cubicBezTo>
                        <a:pt x="1555962" y="1145753"/>
                        <a:pt x="1565165" y="1143657"/>
                        <a:pt x="1490133" y="1049867"/>
                      </a:cubicBezTo>
                      <a:cubicBezTo>
                        <a:pt x="1470187" y="1024934"/>
                        <a:pt x="1442346" y="1007066"/>
                        <a:pt x="1422400" y="982133"/>
                      </a:cubicBezTo>
                      <a:cubicBezTo>
                        <a:pt x="1396973" y="950349"/>
                        <a:pt x="1380094" y="912316"/>
                        <a:pt x="1354667" y="880533"/>
                      </a:cubicBezTo>
                      <a:cubicBezTo>
                        <a:pt x="1334721" y="855600"/>
                        <a:pt x="1306879" y="837733"/>
                        <a:pt x="1286933" y="812800"/>
                      </a:cubicBezTo>
                      <a:cubicBezTo>
                        <a:pt x="1261506" y="781017"/>
                        <a:pt x="1246241" y="741622"/>
                        <a:pt x="1219200" y="711200"/>
                      </a:cubicBezTo>
                      <a:cubicBezTo>
                        <a:pt x="1155561" y="639606"/>
                        <a:pt x="1095702" y="561134"/>
                        <a:pt x="1016000" y="508000"/>
                      </a:cubicBezTo>
                      <a:cubicBezTo>
                        <a:pt x="887833" y="422556"/>
                        <a:pt x="943181" y="469048"/>
                        <a:pt x="846667" y="372533"/>
                      </a:cubicBezTo>
                      <a:cubicBezTo>
                        <a:pt x="835378" y="338666"/>
                        <a:pt x="832602" y="300636"/>
                        <a:pt x="812800" y="270933"/>
                      </a:cubicBezTo>
                      <a:cubicBezTo>
                        <a:pt x="786233" y="231082"/>
                        <a:pt x="749006" y="198737"/>
                        <a:pt x="711200" y="169333"/>
                      </a:cubicBezTo>
                      <a:cubicBezTo>
                        <a:pt x="536524" y="33474"/>
                        <a:pt x="559693" y="51098"/>
                        <a:pt x="406400" y="0"/>
                      </a:cubicBezTo>
                      <a:cubicBezTo>
                        <a:pt x="361244" y="11289"/>
                        <a:pt x="313715" y="15532"/>
                        <a:pt x="270933" y="33867"/>
                      </a:cubicBezTo>
                      <a:cubicBezTo>
                        <a:pt x="53886" y="126887"/>
                        <a:pt x="173770" y="228415"/>
                        <a:pt x="203200" y="508000"/>
                      </a:cubicBezTo>
                      <a:cubicBezTo>
                        <a:pt x="230238" y="764856"/>
                        <a:pt x="168958" y="711013"/>
                        <a:pt x="304800" y="778933"/>
                      </a:cubicBezTo>
                    </a:path>
                  </a:pathLst>
                </a:custGeom>
                <a:solidFill>
                  <a:srgbClr val="f2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4" name=""/>
              <p:cNvGrpSpPr/>
              <p:nvPr/>
            </p:nvGrpSpPr>
            <p:grpSpPr>
              <a:xfrm>
                <a:off x="16798680" y="74880"/>
                <a:ext cx="1787400" cy="1786680"/>
                <a:chOff x="16798680" y="74880"/>
                <a:chExt cx="1787400" cy="1786680"/>
              </a:xfrm>
            </p:grpSpPr>
            <p:sp>
              <p:nvSpPr>
                <p:cNvPr id="235" name="任意多边形 207"/>
                <p:cNvSpPr/>
                <p:nvPr/>
              </p:nvSpPr>
              <p:spPr>
                <a:xfrm rot="3319800">
                  <a:off x="17050680" y="325080"/>
                  <a:ext cx="1283040" cy="1285920"/>
                </a:xfrm>
                <a:custGeom>
                  <a:avLst/>
                  <a:gdLst>
                    <a:gd name="textAreaLeft" fmla="*/ 0 w 1283040"/>
                    <a:gd name="textAreaRight" fmla="*/ 1283400 w 1283040"/>
                    <a:gd name="textAreaTop" fmla="*/ 0 h 1285920"/>
                    <a:gd name="textAreaBottom" fmla="*/ 1286280 h 1285920"/>
                  </a:gdLst>
                  <a:ahLst/>
                  <a:rect l="textAreaLeft" t="textAreaTop" r="textAreaRight" b="textAreaBottom"/>
                  <a:pathLst>
                    <a:path w="2065867" h="4030133">
                      <a:moveTo>
                        <a:pt x="270933" y="677333"/>
                      </a:moveTo>
                      <a:cubicBezTo>
                        <a:pt x="259644" y="733778"/>
                        <a:pt x="257278" y="792770"/>
                        <a:pt x="237067" y="846667"/>
                      </a:cubicBezTo>
                      <a:cubicBezTo>
                        <a:pt x="222775" y="884778"/>
                        <a:pt x="187536" y="911861"/>
                        <a:pt x="169333" y="948267"/>
                      </a:cubicBezTo>
                      <a:cubicBezTo>
                        <a:pt x="153368" y="980197"/>
                        <a:pt x="146756" y="1016000"/>
                        <a:pt x="135467" y="1049867"/>
                      </a:cubicBezTo>
                      <a:cubicBezTo>
                        <a:pt x="124178" y="1128889"/>
                        <a:pt x="124537" y="1210475"/>
                        <a:pt x="101600" y="1286933"/>
                      </a:cubicBezTo>
                      <a:cubicBezTo>
                        <a:pt x="89904" y="1325919"/>
                        <a:pt x="52070" y="1352127"/>
                        <a:pt x="33867" y="1388533"/>
                      </a:cubicBezTo>
                      <a:cubicBezTo>
                        <a:pt x="17902" y="1420463"/>
                        <a:pt x="11289" y="1456266"/>
                        <a:pt x="0" y="1490133"/>
                      </a:cubicBezTo>
                      <a:cubicBezTo>
                        <a:pt x="11289" y="1648178"/>
                        <a:pt x="6331" y="1808231"/>
                        <a:pt x="33867" y="1964267"/>
                      </a:cubicBezTo>
                      <a:cubicBezTo>
                        <a:pt x="40941" y="2004350"/>
                        <a:pt x="77942" y="2032746"/>
                        <a:pt x="101600" y="2065867"/>
                      </a:cubicBezTo>
                      <a:cubicBezTo>
                        <a:pt x="134408" y="2111798"/>
                        <a:pt x="167065" y="2157971"/>
                        <a:pt x="203200" y="2201333"/>
                      </a:cubicBezTo>
                      <a:cubicBezTo>
                        <a:pt x="223641" y="2225862"/>
                        <a:pt x="253221" y="2242500"/>
                        <a:pt x="270933" y="2269067"/>
                      </a:cubicBezTo>
                      <a:cubicBezTo>
                        <a:pt x="298937" y="2311073"/>
                        <a:pt x="313619" y="2360700"/>
                        <a:pt x="338667" y="2404533"/>
                      </a:cubicBezTo>
                      <a:cubicBezTo>
                        <a:pt x="443708" y="2588354"/>
                        <a:pt x="378175" y="2421458"/>
                        <a:pt x="440267" y="2607733"/>
                      </a:cubicBezTo>
                      <a:cubicBezTo>
                        <a:pt x="451556" y="2686755"/>
                        <a:pt x="448890" y="2769072"/>
                        <a:pt x="474133" y="2844800"/>
                      </a:cubicBezTo>
                      <a:cubicBezTo>
                        <a:pt x="484230" y="2875091"/>
                        <a:pt x="525439" y="2885153"/>
                        <a:pt x="541867" y="2912533"/>
                      </a:cubicBezTo>
                      <a:cubicBezTo>
                        <a:pt x="692110" y="3162937"/>
                        <a:pt x="437916" y="2858793"/>
                        <a:pt x="643467" y="3115733"/>
                      </a:cubicBezTo>
                      <a:cubicBezTo>
                        <a:pt x="663413" y="3140666"/>
                        <a:pt x="691254" y="3158534"/>
                        <a:pt x="711200" y="3183467"/>
                      </a:cubicBezTo>
                      <a:cubicBezTo>
                        <a:pt x="736627" y="3215251"/>
                        <a:pt x="752130" y="3254435"/>
                        <a:pt x="778933" y="3285067"/>
                      </a:cubicBezTo>
                      <a:cubicBezTo>
                        <a:pt x="831498" y="3345141"/>
                        <a:pt x="900372" y="3390540"/>
                        <a:pt x="948267" y="3454400"/>
                      </a:cubicBezTo>
                      <a:cubicBezTo>
                        <a:pt x="982134" y="3499556"/>
                        <a:pt x="1019951" y="3542002"/>
                        <a:pt x="1049867" y="3589867"/>
                      </a:cubicBezTo>
                      <a:cubicBezTo>
                        <a:pt x="1076624" y="3632678"/>
                        <a:pt x="1089596" y="3683327"/>
                        <a:pt x="1117600" y="3725333"/>
                      </a:cubicBezTo>
                      <a:cubicBezTo>
                        <a:pt x="1164328" y="3795425"/>
                        <a:pt x="1222230" y="3809038"/>
                        <a:pt x="1286933" y="3860800"/>
                      </a:cubicBezTo>
                      <a:cubicBezTo>
                        <a:pt x="1311866" y="3880746"/>
                        <a:pt x="1328100" y="3910821"/>
                        <a:pt x="1354667" y="3928533"/>
                      </a:cubicBezTo>
                      <a:cubicBezTo>
                        <a:pt x="1438370" y="3984335"/>
                        <a:pt x="1501418" y="4000029"/>
                        <a:pt x="1591733" y="4030133"/>
                      </a:cubicBezTo>
                      <a:cubicBezTo>
                        <a:pt x="1670755" y="4018844"/>
                        <a:pt x="1753072" y="4021510"/>
                        <a:pt x="1828800" y="3996267"/>
                      </a:cubicBezTo>
                      <a:cubicBezTo>
                        <a:pt x="1947678" y="3956641"/>
                        <a:pt x="1962781" y="3628192"/>
                        <a:pt x="1964267" y="3623733"/>
                      </a:cubicBezTo>
                      <a:cubicBezTo>
                        <a:pt x="1977138" y="3585119"/>
                        <a:pt x="2013797" y="3558539"/>
                        <a:pt x="2032000" y="3522133"/>
                      </a:cubicBezTo>
                      <a:cubicBezTo>
                        <a:pt x="2047965" y="3490203"/>
                        <a:pt x="2054578" y="3454400"/>
                        <a:pt x="2065867" y="3420533"/>
                      </a:cubicBezTo>
                      <a:cubicBezTo>
                        <a:pt x="2054578" y="3318933"/>
                        <a:pt x="2052048" y="3215973"/>
                        <a:pt x="2032000" y="3115733"/>
                      </a:cubicBezTo>
                      <a:cubicBezTo>
                        <a:pt x="2017998" y="3045722"/>
                        <a:pt x="1964267" y="2912533"/>
                        <a:pt x="1964267" y="2912533"/>
                      </a:cubicBezTo>
                      <a:cubicBezTo>
                        <a:pt x="2045473" y="2668911"/>
                        <a:pt x="1946942" y="2973167"/>
                        <a:pt x="2032000" y="2675467"/>
                      </a:cubicBezTo>
                      <a:cubicBezTo>
                        <a:pt x="2041807" y="2641142"/>
                        <a:pt x="2054578" y="2607734"/>
                        <a:pt x="2065867" y="2573867"/>
                      </a:cubicBezTo>
                      <a:cubicBezTo>
                        <a:pt x="1988036" y="2340376"/>
                        <a:pt x="2048618" y="2421153"/>
                        <a:pt x="1930400" y="2302933"/>
                      </a:cubicBezTo>
                      <a:cubicBezTo>
                        <a:pt x="1919111" y="2257778"/>
                        <a:pt x="1909320" y="2212221"/>
                        <a:pt x="1896533" y="2167467"/>
                      </a:cubicBezTo>
                      <a:cubicBezTo>
                        <a:pt x="1886726" y="2133142"/>
                        <a:pt x="1868536" y="2101080"/>
                        <a:pt x="1862667" y="2065867"/>
                      </a:cubicBezTo>
                      <a:cubicBezTo>
                        <a:pt x="1846052" y="1966175"/>
                        <a:pt x="1835554" y="1713597"/>
                        <a:pt x="1794933" y="1591733"/>
                      </a:cubicBezTo>
                      <a:cubicBezTo>
                        <a:pt x="1778968" y="1543839"/>
                        <a:pt x="1753174" y="1499558"/>
                        <a:pt x="1727200" y="1456267"/>
                      </a:cubicBezTo>
                      <a:cubicBezTo>
                        <a:pt x="1685317" y="1386462"/>
                        <a:pt x="1591733" y="1253067"/>
                        <a:pt x="1591733" y="1253067"/>
                      </a:cubicBezTo>
                      <a:cubicBezTo>
                        <a:pt x="1555962" y="1145753"/>
                        <a:pt x="1565165" y="1143657"/>
                        <a:pt x="1490133" y="1049867"/>
                      </a:cubicBezTo>
                      <a:cubicBezTo>
                        <a:pt x="1470187" y="1024934"/>
                        <a:pt x="1442346" y="1007066"/>
                        <a:pt x="1422400" y="982133"/>
                      </a:cubicBezTo>
                      <a:cubicBezTo>
                        <a:pt x="1396973" y="950349"/>
                        <a:pt x="1380094" y="912316"/>
                        <a:pt x="1354667" y="880533"/>
                      </a:cubicBezTo>
                      <a:cubicBezTo>
                        <a:pt x="1334721" y="855600"/>
                        <a:pt x="1306879" y="837733"/>
                        <a:pt x="1286933" y="812800"/>
                      </a:cubicBezTo>
                      <a:cubicBezTo>
                        <a:pt x="1261506" y="781017"/>
                        <a:pt x="1246241" y="741622"/>
                        <a:pt x="1219200" y="711200"/>
                      </a:cubicBezTo>
                      <a:cubicBezTo>
                        <a:pt x="1155561" y="639606"/>
                        <a:pt x="1095702" y="561134"/>
                        <a:pt x="1016000" y="508000"/>
                      </a:cubicBezTo>
                      <a:cubicBezTo>
                        <a:pt x="887833" y="422556"/>
                        <a:pt x="943181" y="469048"/>
                        <a:pt x="846667" y="372533"/>
                      </a:cubicBezTo>
                      <a:cubicBezTo>
                        <a:pt x="835378" y="338666"/>
                        <a:pt x="832602" y="300636"/>
                        <a:pt x="812800" y="270933"/>
                      </a:cubicBezTo>
                      <a:cubicBezTo>
                        <a:pt x="786233" y="231082"/>
                        <a:pt x="749006" y="198737"/>
                        <a:pt x="711200" y="169333"/>
                      </a:cubicBezTo>
                      <a:cubicBezTo>
                        <a:pt x="536524" y="33474"/>
                        <a:pt x="559693" y="51098"/>
                        <a:pt x="406400" y="0"/>
                      </a:cubicBezTo>
                      <a:cubicBezTo>
                        <a:pt x="361244" y="11289"/>
                        <a:pt x="313715" y="15532"/>
                        <a:pt x="270933" y="33867"/>
                      </a:cubicBezTo>
                      <a:cubicBezTo>
                        <a:pt x="53886" y="126887"/>
                        <a:pt x="173770" y="228415"/>
                        <a:pt x="203200" y="508000"/>
                      </a:cubicBezTo>
                      <a:cubicBezTo>
                        <a:pt x="230238" y="764856"/>
                        <a:pt x="168958" y="711013"/>
                        <a:pt x="304800" y="778933"/>
                      </a:cubicBez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任意多边形 208"/>
                <p:cNvSpPr/>
                <p:nvPr/>
              </p:nvSpPr>
              <p:spPr>
                <a:xfrm rot="3319800">
                  <a:off x="17556840" y="447480"/>
                  <a:ext cx="620640" cy="659880"/>
                </a:xfrm>
                <a:custGeom>
                  <a:avLst/>
                  <a:gdLst>
                    <a:gd name="textAreaLeft" fmla="*/ 0 w 620640"/>
                    <a:gd name="textAreaRight" fmla="*/ 621000 w 620640"/>
                    <a:gd name="textAreaTop" fmla="*/ 0 h 659880"/>
                    <a:gd name="textAreaBottom" fmla="*/ 660240 h 659880"/>
                  </a:gdLst>
                  <a:ahLst/>
                  <a:rect l="textAreaLeft" t="textAreaTop" r="textAreaRight" b="textAreaBottom"/>
                  <a:pathLst>
                    <a:path w="2065867" h="4030133">
                      <a:moveTo>
                        <a:pt x="270933" y="677333"/>
                      </a:moveTo>
                      <a:cubicBezTo>
                        <a:pt x="259644" y="733778"/>
                        <a:pt x="257278" y="792770"/>
                        <a:pt x="237067" y="846667"/>
                      </a:cubicBezTo>
                      <a:cubicBezTo>
                        <a:pt x="222775" y="884778"/>
                        <a:pt x="187536" y="911861"/>
                        <a:pt x="169333" y="948267"/>
                      </a:cubicBezTo>
                      <a:cubicBezTo>
                        <a:pt x="153368" y="980197"/>
                        <a:pt x="146756" y="1016000"/>
                        <a:pt x="135467" y="1049867"/>
                      </a:cubicBezTo>
                      <a:cubicBezTo>
                        <a:pt x="124178" y="1128889"/>
                        <a:pt x="124537" y="1210475"/>
                        <a:pt x="101600" y="1286933"/>
                      </a:cubicBezTo>
                      <a:cubicBezTo>
                        <a:pt x="89904" y="1325919"/>
                        <a:pt x="52070" y="1352127"/>
                        <a:pt x="33867" y="1388533"/>
                      </a:cubicBezTo>
                      <a:cubicBezTo>
                        <a:pt x="17902" y="1420463"/>
                        <a:pt x="11289" y="1456266"/>
                        <a:pt x="0" y="1490133"/>
                      </a:cubicBezTo>
                      <a:cubicBezTo>
                        <a:pt x="11289" y="1648178"/>
                        <a:pt x="6331" y="1808231"/>
                        <a:pt x="33867" y="1964267"/>
                      </a:cubicBezTo>
                      <a:cubicBezTo>
                        <a:pt x="40941" y="2004350"/>
                        <a:pt x="77942" y="2032746"/>
                        <a:pt x="101600" y="2065867"/>
                      </a:cubicBezTo>
                      <a:cubicBezTo>
                        <a:pt x="134408" y="2111798"/>
                        <a:pt x="167065" y="2157971"/>
                        <a:pt x="203200" y="2201333"/>
                      </a:cubicBezTo>
                      <a:cubicBezTo>
                        <a:pt x="223641" y="2225862"/>
                        <a:pt x="253221" y="2242500"/>
                        <a:pt x="270933" y="2269067"/>
                      </a:cubicBezTo>
                      <a:cubicBezTo>
                        <a:pt x="298937" y="2311073"/>
                        <a:pt x="313619" y="2360700"/>
                        <a:pt x="338667" y="2404533"/>
                      </a:cubicBezTo>
                      <a:cubicBezTo>
                        <a:pt x="443708" y="2588354"/>
                        <a:pt x="378175" y="2421458"/>
                        <a:pt x="440267" y="2607733"/>
                      </a:cubicBezTo>
                      <a:cubicBezTo>
                        <a:pt x="451556" y="2686755"/>
                        <a:pt x="448890" y="2769072"/>
                        <a:pt x="474133" y="2844800"/>
                      </a:cubicBezTo>
                      <a:cubicBezTo>
                        <a:pt x="484230" y="2875091"/>
                        <a:pt x="525439" y="2885153"/>
                        <a:pt x="541867" y="2912533"/>
                      </a:cubicBezTo>
                      <a:cubicBezTo>
                        <a:pt x="692110" y="3162937"/>
                        <a:pt x="437916" y="2858793"/>
                        <a:pt x="643467" y="3115733"/>
                      </a:cubicBezTo>
                      <a:cubicBezTo>
                        <a:pt x="663413" y="3140666"/>
                        <a:pt x="691254" y="3158534"/>
                        <a:pt x="711200" y="3183467"/>
                      </a:cubicBezTo>
                      <a:cubicBezTo>
                        <a:pt x="736627" y="3215251"/>
                        <a:pt x="752130" y="3254435"/>
                        <a:pt x="778933" y="3285067"/>
                      </a:cubicBezTo>
                      <a:cubicBezTo>
                        <a:pt x="831498" y="3345141"/>
                        <a:pt x="900372" y="3390540"/>
                        <a:pt x="948267" y="3454400"/>
                      </a:cubicBezTo>
                      <a:cubicBezTo>
                        <a:pt x="982134" y="3499556"/>
                        <a:pt x="1019951" y="3542002"/>
                        <a:pt x="1049867" y="3589867"/>
                      </a:cubicBezTo>
                      <a:cubicBezTo>
                        <a:pt x="1076624" y="3632678"/>
                        <a:pt x="1089596" y="3683327"/>
                        <a:pt x="1117600" y="3725333"/>
                      </a:cubicBezTo>
                      <a:cubicBezTo>
                        <a:pt x="1164328" y="3795425"/>
                        <a:pt x="1222230" y="3809038"/>
                        <a:pt x="1286933" y="3860800"/>
                      </a:cubicBezTo>
                      <a:cubicBezTo>
                        <a:pt x="1311866" y="3880746"/>
                        <a:pt x="1328100" y="3910821"/>
                        <a:pt x="1354667" y="3928533"/>
                      </a:cubicBezTo>
                      <a:cubicBezTo>
                        <a:pt x="1438370" y="3984335"/>
                        <a:pt x="1501418" y="4000029"/>
                        <a:pt x="1591733" y="4030133"/>
                      </a:cubicBezTo>
                      <a:cubicBezTo>
                        <a:pt x="1670755" y="4018844"/>
                        <a:pt x="1753072" y="4021510"/>
                        <a:pt x="1828800" y="3996267"/>
                      </a:cubicBezTo>
                      <a:cubicBezTo>
                        <a:pt x="1947678" y="3956641"/>
                        <a:pt x="1962781" y="3628192"/>
                        <a:pt x="1964267" y="3623733"/>
                      </a:cubicBezTo>
                      <a:cubicBezTo>
                        <a:pt x="1977138" y="3585119"/>
                        <a:pt x="2013797" y="3558539"/>
                        <a:pt x="2032000" y="3522133"/>
                      </a:cubicBezTo>
                      <a:cubicBezTo>
                        <a:pt x="2047965" y="3490203"/>
                        <a:pt x="2054578" y="3454400"/>
                        <a:pt x="2065867" y="3420533"/>
                      </a:cubicBezTo>
                      <a:cubicBezTo>
                        <a:pt x="2054578" y="3318933"/>
                        <a:pt x="2052048" y="3215973"/>
                        <a:pt x="2032000" y="3115733"/>
                      </a:cubicBezTo>
                      <a:cubicBezTo>
                        <a:pt x="2017998" y="3045722"/>
                        <a:pt x="1964267" y="2912533"/>
                        <a:pt x="1964267" y="2912533"/>
                      </a:cubicBezTo>
                      <a:cubicBezTo>
                        <a:pt x="2045473" y="2668911"/>
                        <a:pt x="1946942" y="2973167"/>
                        <a:pt x="2032000" y="2675467"/>
                      </a:cubicBezTo>
                      <a:cubicBezTo>
                        <a:pt x="2041807" y="2641142"/>
                        <a:pt x="2054578" y="2607734"/>
                        <a:pt x="2065867" y="2573867"/>
                      </a:cubicBezTo>
                      <a:cubicBezTo>
                        <a:pt x="1988036" y="2340376"/>
                        <a:pt x="2048618" y="2421153"/>
                        <a:pt x="1930400" y="2302933"/>
                      </a:cubicBezTo>
                      <a:cubicBezTo>
                        <a:pt x="1919111" y="2257778"/>
                        <a:pt x="1909320" y="2212221"/>
                        <a:pt x="1896533" y="2167467"/>
                      </a:cubicBezTo>
                      <a:cubicBezTo>
                        <a:pt x="1886726" y="2133142"/>
                        <a:pt x="1868536" y="2101080"/>
                        <a:pt x="1862667" y="2065867"/>
                      </a:cubicBezTo>
                      <a:cubicBezTo>
                        <a:pt x="1846052" y="1966175"/>
                        <a:pt x="1835554" y="1713597"/>
                        <a:pt x="1794933" y="1591733"/>
                      </a:cubicBezTo>
                      <a:cubicBezTo>
                        <a:pt x="1778968" y="1543839"/>
                        <a:pt x="1753174" y="1499558"/>
                        <a:pt x="1727200" y="1456267"/>
                      </a:cubicBezTo>
                      <a:cubicBezTo>
                        <a:pt x="1685317" y="1386462"/>
                        <a:pt x="1591733" y="1253067"/>
                        <a:pt x="1591733" y="1253067"/>
                      </a:cubicBezTo>
                      <a:cubicBezTo>
                        <a:pt x="1555962" y="1145753"/>
                        <a:pt x="1565165" y="1143657"/>
                        <a:pt x="1490133" y="1049867"/>
                      </a:cubicBezTo>
                      <a:cubicBezTo>
                        <a:pt x="1470187" y="1024934"/>
                        <a:pt x="1442346" y="1007066"/>
                        <a:pt x="1422400" y="982133"/>
                      </a:cubicBezTo>
                      <a:cubicBezTo>
                        <a:pt x="1396973" y="950349"/>
                        <a:pt x="1380094" y="912316"/>
                        <a:pt x="1354667" y="880533"/>
                      </a:cubicBezTo>
                      <a:cubicBezTo>
                        <a:pt x="1334721" y="855600"/>
                        <a:pt x="1306879" y="837733"/>
                        <a:pt x="1286933" y="812800"/>
                      </a:cubicBezTo>
                      <a:cubicBezTo>
                        <a:pt x="1261506" y="781017"/>
                        <a:pt x="1246241" y="741622"/>
                        <a:pt x="1219200" y="711200"/>
                      </a:cubicBezTo>
                      <a:cubicBezTo>
                        <a:pt x="1155561" y="639606"/>
                        <a:pt x="1095702" y="561134"/>
                        <a:pt x="1016000" y="508000"/>
                      </a:cubicBezTo>
                      <a:cubicBezTo>
                        <a:pt x="887833" y="422556"/>
                        <a:pt x="943181" y="469048"/>
                        <a:pt x="846667" y="372533"/>
                      </a:cubicBezTo>
                      <a:cubicBezTo>
                        <a:pt x="835378" y="338666"/>
                        <a:pt x="832602" y="300636"/>
                        <a:pt x="812800" y="270933"/>
                      </a:cubicBezTo>
                      <a:cubicBezTo>
                        <a:pt x="786233" y="231082"/>
                        <a:pt x="749006" y="198737"/>
                        <a:pt x="711200" y="169333"/>
                      </a:cubicBezTo>
                      <a:cubicBezTo>
                        <a:pt x="536524" y="33474"/>
                        <a:pt x="559693" y="51098"/>
                        <a:pt x="406400" y="0"/>
                      </a:cubicBezTo>
                      <a:cubicBezTo>
                        <a:pt x="361244" y="11289"/>
                        <a:pt x="313715" y="15532"/>
                        <a:pt x="270933" y="33867"/>
                      </a:cubicBezTo>
                      <a:cubicBezTo>
                        <a:pt x="53886" y="126887"/>
                        <a:pt x="173770" y="228415"/>
                        <a:pt x="203200" y="508000"/>
                      </a:cubicBezTo>
                      <a:cubicBezTo>
                        <a:pt x="230238" y="764856"/>
                        <a:pt x="168958" y="711013"/>
                        <a:pt x="304800" y="778933"/>
                      </a:cubicBezTo>
                    </a:path>
                  </a:pathLst>
                </a:custGeom>
                <a:solidFill>
                  <a:srgbClr val="f2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任意多边形 209"/>
                <p:cNvSpPr/>
                <p:nvPr/>
              </p:nvSpPr>
              <p:spPr>
                <a:xfrm rot="3319800">
                  <a:off x="17649360" y="1036080"/>
                  <a:ext cx="298800" cy="495720"/>
                </a:xfrm>
                <a:custGeom>
                  <a:avLst/>
                  <a:gdLst>
                    <a:gd name="textAreaLeft" fmla="*/ 0 w 298800"/>
                    <a:gd name="textAreaRight" fmla="*/ 299160 w 298800"/>
                    <a:gd name="textAreaTop" fmla="*/ 0 h 495720"/>
                    <a:gd name="textAreaBottom" fmla="*/ 496080 h 495720"/>
                  </a:gdLst>
                  <a:ahLst/>
                  <a:rect l="textAreaLeft" t="textAreaTop" r="textAreaRight" b="textAreaBottom"/>
                  <a:pathLst>
                    <a:path w="2065867" h="4030133">
                      <a:moveTo>
                        <a:pt x="270933" y="677333"/>
                      </a:moveTo>
                      <a:cubicBezTo>
                        <a:pt x="259644" y="733778"/>
                        <a:pt x="257278" y="792770"/>
                        <a:pt x="237067" y="846667"/>
                      </a:cubicBezTo>
                      <a:cubicBezTo>
                        <a:pt x="222775" y="884778"/>
                        <a:pt x="187536" y="911861"/>
                        <a:pt x="169333" y="948267"/>
                      </a:cubicBezTo>
                      <a:cubicBezTo>
                        <a:pt x="153368" y="980197"/>
                        <a:pt x="146756" y="1016000"/>
                        <a:pt x="135467" y="1049867"/>
                      </a:cubicBezTo>
                      <a:cubicBezTo>
                        <a:pt x="124178" y="1128889"/>
                        <a:pt x="124537" y="1210475"/>
                        <a:pt x="101600" y="1286933"/>
                      </a:cubicBezTo>
                      <a:cubicBezTo>
                        <a:pt x="89904" y="1325919"/>
                        <a:pt x="52070" y="1352127"/>
                        <a:pt x="33867" y="1388533"/>
                      </a:cubicBezTo>
                      <a:cubicBezTo>
                        <a:pt x="17902" y="1420463"/>
                        <a:pt x="11289" y="1456266"/>
                        <a:pt x="0" y="1490133"/>
                      </a:cubicBezTo>
                      <a:cubicBezTo>
                        <a:pt x="11289" y="1648178"/>
                        <a:pt x="6331" y="1808231"/>
                        <a:pt x="33867" y="1964267"/>
                      </a:cubicBezTo>
                      <a:cubicBezTo>
                        <a:pt x="40941" y="2004350"/>
                        <a:pt x="77942" y="2032746"/>
                        <a:pt x="101600" y="2065867"/>
                      </a:cubicBezTo>
                      <a:cubicBezTo>
                        <a:pt x="134408" y="2111798"/>
                        <a:pt x="167065" y="2157971"/>
                        <a:pt x="203200" y="2201333"/>
                      </a:cubicBezTo>
                      <a:cubicBezTo>
                        <a:pt x="223641" y="2225862"/>
                        <a:pt x="253221" y="2242500"/>
                        <a:pt x="270933" y="2269067"/>
                      </a:cubicBezTo>
                      <a:cubicBezTo>
                        <a:pt x="298937" y="2311073"/>
                        <a:pt x="313619" y="2360700"/>
                        <a:pt x="338667" y="2404533"/>
                      </a:cubicBezTo>
                      <a:cubicBezTo>
                        <a:pt x="443708" y="2588354"/>
                        <a:pt x="378175" y="2421458"/>
                        <a:pt x="440267" y="2607733"/>
                      </a:cubicBezTo>
                      <a:cubicBezTo>
                        <a:pt x="451556" y="2686755"/>
                        <a:pt x="448890" y="2769072"/>
                        <a:pt x="474133" y="2844800"/>
                      </a:cubicBezTo>
                      <a:cubicBezTo>
                        <a:pt x="484230" y="2875091"/>
                        <a:pt x="525439" y="2885153"/>
                        <a:pt x="541867" y="2912533"/>
                      </a:cubicBezTo>
                      <a:cubicBezTo>
                        <a:pt x="692110" y="3162937"/>
                        <a:pt x="437916" y="2858793"/>
                        <a:pt x="643467" y="3115733"/>
                      </a:cubicBezTo>
                      <a:cubicBezTo>
                        <a:pt x="663413" y="3140666"/>
                        <a:pt x="691254" y="3158534"/>
                        <a:pt x="711200" y="3183467"/>
                      </a:cubicBezTo>
                      <a:cubicBezTo>
                        <a:pt x="736627" y="3215251"/>
                        <a:pt x="752130" y="3254435"/>
                        <a:pt x="778933" y="3285067"/>
                      </a:cubicBezTo>
                      <a:cubicBezTo>
                        <a:pt x="831498" y="3345141"/>
                        <a:pt x="900372" y="3390540"/>
                        <a:pt x="948267" y="3454400"/>
                      </a:cubicBezTo>
                      <a:cubicBezTo>
                        <a:pt x="982134" y="3499556"/>
                        <a:pt x="1019951" y="3542002"/>
                        <a:pt x="1049867" y="3589867"/>
                      </a:cubicBezTo>
                      <a:cubicBezTo>
                        <a:pt x="1076624" y="3632678"/>
                        <a:pt x="1089596" y="3683327"/>
                        <a:pt x="1117600" y="3725333"/>
                      </a:cubicBezTo>
                      <a:cubicBezTo>
                        <a:pt x="1164328" y="3795425"/>
                        <a:pt x="1222230" y="3809038"/>
                        <a:pt x="1286933" y="3860800"/>
                      </a:cubicBezTo>
                      <a:cubicBezTo>
                        <a:pt x="1311866" y="3880746"/>
                        <a:pt x="1328100" y="3910821"/>
                        <a:pt x="1354667" y="3928533"/>
                      </a:cubicBezTo>
                      <a:cubicBezTo>
                        <a:pt x="1438370" y="3984335"/>
                        <a:pt x="1501418" y="4000029"/>
                        <a:pt x="1591733" y="4030133"/>
                      </a:cubicBezTo>
                      <a:cubicBezTo>
                        <a:pt x="1670755" y="4018844"/>
                        <a:pt x="1753072" y="4021510"/>
                        <a:pt x="1828800" y="3996267"/>
                      </a:cubicBezTo>
                      <a:cubicBezTo>
                        <a:pt x="1947678" y="3956641"/>
                        <a:pt x="1962781" y="3628192"/>
                        <a:pt x="1964267" y="3623733"/>
                      </a:cubicBezTo>
                      <a:cubicBezTo>
                        <a:pt x="1977138" y="3585119"/>
                        <a:pt x="2013797" y="3558539"/>
                        <a:pt x="2032000" y="3522133"/>
                      </a:cubicBezTo>
                      <a:cubicBezTo>
                        <a:pt x="2047965" y="3490203"/>
                        <a:pt x="2054578" y="3454400"/>
                        <a:pt x="2065867" y="3420533"/>
                      </a:cubicBezTo>
                      <a:cubicBezTo>
                        <a:pt x="2054578" y="3318933"/>
                        <a:pt x="2052048" y="3215973"/>
                        <a:pt x="2032000" y="3115733"/>
                      </a:cubicBezTo>
                      <a:cubicBezTo>
                        <a:pt x="2017998" y="3045722"/>
                        <a:pt x="1964267" y="2912533"/>
                        <a:pt x="1964267" y="2912533"/>
                      </a:cubicBezTo>
                      <a:cubicBezTo>
                        <a:pt x="2045473" y="2668911"/>
                        <a:pt x="1946942" y="2973167"/>
                        <a:pt x="2032000" y="2675467"/>
                      </a:cubicBezTo>
                      <a:cubicBezTo>
                        <a:pt x="2041807" y="2641142"/>
                        <a:pt x="2054578" y="2607734"/>
                        <a:pt x="2065867" y="2573867"/>
                      </a:cubicBezTo>
                      <a:cubicBezTo>
                        <a:pt x="1988036" y="2340376"/>
                        <a:pt x="2048618" y="2421153"/>
                        <a:pt x="1930400" y="2302933"/>
                      </a:cubicBezTo>
                      <a:cubicBezTo>
                        <a:pt x="1919111" y="2257778"/>
                        <a:pt x="1909320" y="2212221"/>
                        <a:pt x="1896533" y="2167467"/>
                      </a:cubicBezTo>
                      <a:cubicBezTo>
                        <a:pt x="1886726" y="2133142"/>
                        <a:pt x="1868536" y="2101080"/>
                        <a:pt x="1862667" y="2065867"/>
                      </a:cubicBezTo>
                      <a:cubicBezTo>
                        <a:pt x="1846052" y="1966175"/>
                        <a:pt x="1835554" y="1713597"/>
                        <a:pt x="1794933" y="1591733"/>
                      </a:cubicBezTo>
                      <a:cubicBezTo>
                        <a:pt x="1778968" y="1543839"/>
                        <a:pt x="1753174" y="1499558"/>
                        <a:pt x="1727200" y="1456267"/>
                      </a:cubicBezTo>
                      <a:cubicBezTo>
                        <a:pt x="1685317" y="1386462"/>
                        <a:pt x="1591733" y="1253067"/>
                        <a:pt x="1591733" y="1253067"/>
                      </a:cubicBezTo>
                      <a:cubicBezTo>
                        <a:pt x="1555962" y="1145753"/>
                        <a:pt x="1565165" y="1143657"/>
                        <a:pt x="1490133" y="1049867"/>
                      </a:cubicBezTo>
                      <a:cubicBezTo>
                        <a:pt x="1470187" y="1024934"/>
                        <a:pt x="1442346" y="1007066"/>
                        <a:pt x="1422400" y="982133"/>
                      </a:cubicBezTo>
                      <a:cubicBezTo>
                        <a:pt x="1396973" y="950349"/>
                        <a:pt x="1380094" y="912316"/>
                        <a:pt x="1354667" y="880533"/>
                      </a:cubicBezTo>
                      <a:cubicBezTo>
                        <a:pt x="1334721" y="855600"/>
                        <a:pt x="1306879" y="837733"/>
                        <a:pt x="1286933" y="812800"/>
                      </a:cubicBezTo>
                      <a:cubicBezTo>
                        <a:pt x="1261506" y="781017"/>
                        <a:pt x="1246241" y="741622"/>
                        <a:pt x="1219200" y="711200"/>
                      </a:cubicBezTo>
                      <a:cubicBezTo>
                        <a:pt x="1155561" y="639606"/>
                        <a:pt x="1095702" y="561134"/>
                        <a:pt x="1016000" y="508000"/>
                      </a:cubicBezTo>
                      <a:cubicBezTo>
                        <a:pt x="887833" y="422556"/>
                        <a:pt x="943181" y="469048"/>
                        <a:pt x="846667" y="372533"/>
                      </a:cubicBezTo>
                      <a:cubicBezTo>
                        <a:pt x="835378" y="338666"/>
                        <a:pt x="832602" y="300636"/>
                        <a:pt x="812800" y="270933"/>
                      </a:cubicBezTo>
                      <a:cubicBezTo>
                        <a:pt x="786233" y="231082"/>
                        <a:pt x="749006" y="198737"/>
                        <a:pt x="711200" y="169333"/>
                      </a:cubicBezTo>
                      <a:cubicBezTo>
                        <a:pt x="536524" y="33474"/>
                        <a:pt x="559693" y="51098"/>
                        <a:pt x="406400" y="0"/>
                      </a:cubicBezTo>
                      <a:cubicBezTo>
                        <a:pt x="361244" y="11289"/>
                        <a:pt x="313715" y="15532"/>
                        <a:pt x="270933" y="33867"/>
                      </a:cubicBezTo>
                      <a:cubicBezTo>
                        <a:pt x="53886" y="126887"/>
                        <a:pt x="173770" y="228415"/>
                        <a:pt x="203200" y="508000"/>
                      </a:cubicBezTo>
                      <a:cubicBezTo>
                        <a:pt x="230238" y="764856"/>
                        <a:pt x="168958" y="711013"/>
                        <a:pt x="304800" y="778933"/>
                      </a:cubicBezTo>
                    </a:path>
                  </a:pathLst>
                </a:custGeom>
                <a:solidFill>
                  <a:srgbClr val="f2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8" name="任意多边形 210"/>
              <p:cNvSpPr/>
              <p:nvPr/>
            </p:nvSpPr>
            <p:spPr>
              <a:xfrm>
                <a:off x="16116480" y="-1736280"/>
                <a:ext cx="3764160" cy="6109200"/>
              </a:xfrm>
              <a:custGeom>
                <a:avLst/>
                <a:gdLst>
                  <a:gd name="textAreaLeft" fmla="*/ 0 w 3764160"/>
                  <a:gd name="textAreaRight" fmla="*/ 3764520 w 3764160"/>
                  <a:gd name="textAreaTop" fmla="*/ 0 h 6109200"/>
                  <a:gd name="textAreaBottom" fmla="*/ 6109560 h 6109200"/>
                </a:gdLst>
                <a:ahLst/>
                <a:rect l="textAreaLeft" t="textAreaTop" r="textAreaRight" b="textAreaBottom"/>
                <a:pathLst>
                  <a:path w="3821892" h="5697930">
                    <a:moveTo>
                      <a:pt x="682085" y="5508433"/>
                    </a:moveTo>
                    <a:lnTo>
                      <a:pt x="682085" y="5508433"/>
                    </a:lnTo>
                    <a:cubicBezTo>
                      <a:pt x="649034" y="5504761"/>
                      <a:pt x="616169" y="5498507"/>
                      <a:pt x="582933" y="5497417"/>
                    </a:cubicBezTo>
                    <a:cubicBezTo>
                      <a:pt x="400197" y="5491426"/>
                      <a:pt x="-158094" y="5621019"/>
                      <a:pt x="43107" y="5453349"/>
                    </a:cubicBezTo>
                    <a:cubicBezTo>
                      <a:pt x="53279" y="5444873"/>
                      <a:pt x="65140" y="5438660"/>
                      <a:pt x="76157" y="5431315"/>
                    </a:cubicBezTo>
                    <a:cubicBezTo>
                      <a:pt x="83502" y="5420298"/>
                      <a:pt x="88828" y="5407627"/>
                      <a:pt x="98191" y="5398265"/>
                    </a:cubicBezTo>
                    <a:cubicBezTo>
                      <a:pt x="107554" y="5388902"/>
                      <a:pt x="122971" y="5386570"/>
                      <a:pt x="131242" y="5376231"/>
                    </a:cubicBezTo>
                    <a:cubicBezTo>
                      <a:pt x="166724" y="5331878"/>
                      <a:pt x="112695" y="5351407"/>
                      <a:pt x="164292" y="5310130"/>
                    </a:cubicBezTo>
                    <a:cubicBezTo>
                      <a:pt x="173360" y="5302876"/>
                      <a:pt x="186326" y="5302785"/>
                      <a:pt x="197343" y="5299113"/>
                    </a:cubicBezTo>
                    <a:cubicBezTo>
                      <a:pt x="204687" y="5288096"/>
                      <a:pt x="221973" y="5279045"/>
                      <a:pt x="219376" y="5266062"/>
                    </a:cubicBezTo>
                    <a:cubicBezTo>
                      <a:pt x="216779" y="5253079"/>
                      <a:pt x="183729" y="5257012"/>
                      <a:pt x="186326" y="5244029"/>
                    </a:cubicBezTo>
                    <a:cubicBezTo>
                      <a:pt x="189927" y="5226024"/>
                      <a:pt x="213970" y="5219190"/>
                      <a:pt x="230393" y="5210978"/>
                    </a:cubicBezTo>
                    <a:cubicBezTo>
                      <a:pt x="251167" y="5200591"/>
                      <a:pt x="274461" y="5196289"/>
                      <a:pt x="296495" y="5188944"/>
                    </a:cubicBezTo>
                    <a:cubicBezTo>
                      <a:pt x="307512" y="5185272"/>
                      <a:pt x="319883" y="5184368"/>
                      <a:pt x="329545" y="5177927"/>
                    </a:cubicBezTo>
                    <a:lnTo>
                      <a:pt x="428697" y="5111826"/>
                    </a:lnTo>
                    <a:lnTo>
                      <a:pt x="461748" y="5089793"/>
                    </a:lnTo>
                    <a:cubicBezTo>
                      <a:pt x="465420" y="5078776"/>
                      <a:pt x="472764" y="5068355"/>
                      <a:pt x="472764" y="5056742"/>
                    </a:cubicBezTo>
                    <a:cubicBezTo>
                      <a:pt x="472764" y="5029240"/>
                      <a:pt x="462509" y="4988553"/>
                      <a:pt x="439714" y="4968607"/>
                    </a:cubicBezTo>
                    <a:cubicBezTo>
                      <a:pt x="419785" y="4951169"/>
                      <a:pt x="373613" y="4924539"/>
                      <a:pt x="373613" y="4924539"/>
                    </a:cubicBezTo>
                    <a:cubicBezTo>
                      <a:pt x="392759" y="4867098"/>
                      <a:pt x="370471" y="4911418"/>
                      <a:pt x="417680" y="4869455"/>
                    </a:cubicBezTo>
                    <a:cubicBezTo>
                      <a:pt x="440970" y="4848753"/>
                      <a:pt x="483781" y="4803354"/>
                      <a:pt x="483781" y="4803354"/>
                    </a:cubicBezTo>
                    <a:cubicBezTo>
                      <a:pt x="476437" y="4788665"/>
                      <a:pt x="472436" y="4771755"/>
                      <a:pt x="461748" y="4759286"/>
                    </a:cubicBezTo>
                    <a:cubicBezTo>
                      <a:pt x="449799" y="4745345"/>
                      <a:pt x="432621" y="4736908"/>
                      <a:pt x="417680" y="4726236"/>
                    </a:cubicBezTo>
                    <a:cubicBezTo>
                      <a:pt x="380305" y="4699540"/>
                      <a:pt x="392509" y="4706829"/>
                      <a:pt x="351579" y="4693185"/>
                    </a:cubicBezTo>
                    <a:cubicBezTo>
                      <a:pt x="355769" y="4672233"/>
                      <a:pt x="362321" y="4627635"/>
                      <a:pt x="373613" y="4605050"/>
                    </a:cubicBezTo>
                    <a:cubicBezTo>
                      <a:pt x="379534" y="4593207"/>
                      <a:pt x="388302" y="4583017"/>
                      <a:pt x="395646" y="4572000"/>
                    </a:cubicBezTo>
                    <a:cubicBezTo>
                      <a:pt x="399318" y="4538949"/>
                      <a:pt x="401196" y="4505650"/>
                      <a:pt x="406663" y="4472848"/>
                    </a:cubicBezTo>
                    <a:cubicBezTo>
                      <a:pt x="408572" y="4461393"/>
                      <a:pt x="419589" y="4451252"/>
                      <a:pt x="417680" y="4439797"/>
                    </a:cubicBezTo>
                    <a:cubicBezTo>
                      <a:pt x="415503" y="4426737"/>
                      <a:pt x="404122" y="4416919"/>
                      <a:pt x="395646" y="4406747"/>
                    </a:cubicBezTo>
                    <a:cubicBezTo>
                      <a:pt x="324958" y="4321921"/>
                      <a:pt x="395268" y="4422703"/>
                      <a:pt x="340562" y="4340646"/>
                    </a:cubicBezTo>
                    <a:lnTo>
                      <a:pt x="362596" y="4274544"/>
                    </a:lnTo>
                    <a:cubicBezTo>
                      <a:pt x="366268" y="4263527"/>
                      <a:pt x="367172" y="4251156"/>
                      <a:pt x="373613" y="4241494"/>
                    </a:cubicBezTo>
                    <a:lnTo>
                      <a:pt x="395646" y="4208443"/>
                    </a:lnTo>
                    <a:cubicBezTo>
                      <a:pt x="399318" y="4179065"/>
                      <a:pt x="401796" y="4149512"/>
                      <a:pt x="406663" y="4120308"/>
                    </a:cubicBezTo>
                    <a:cubicBezTo>
                      <a:pt x="409152" y="4105373"/>
                      <a:pt x="417680" y="4091382"/>
                      <a:pt x="417680" y="4076241"/>
                    </a:cubicBezTo>
                    <a:cubicBezTo>
                      <a:pt x="417680" y="4064628"/>
                      <a:pt x="409480" y="4054456"/>
                      <a:pt x="406663" y="4043190"/>
                    </a:cubicBezTo>
                    <a:cubicBezTo>
                      <a:pt x="402121" y="4025024"/>
                      <a:pt x="402221" y="4005639"/>
                      <a:pt x="395646" y="3988106"/>
                    </a:cubicBezTo>
                    <a:cubicBezTo>
                      <a:pt x="390997" y="3975708"/>
                      <a:pt x="379534" y="3966898"/>
                      <a:pt x="373613" y="3955055"/>
                    </a:cubicBezTo>
                    <a:cubicBezTo>
                      <a:pt x="368420" y="3944668"/>
                      <a:pt x="366268" y="3933022"/>
                      <a:pt x="362596" y="3922005"/>
                    </a:cubicBezTo>
                    <a:cubicBezTo>
                      <a:pt x="369940" y="3910988"/>
                      <a:pt x="378708" y="3900797"/>
                      <a:pt x="384629" y="3888954"/>
                    </a:cubicBezTo>
                    <a:cubicBezTo>
                      <a:pt x="389822" y="3878567"/>
                      <a:pt x="387434" y="3864115"/>
                      <a:pt x="395646" y="3855903"/>
                    </a:cubicBezTo>
                    <a:cubicBezTo>
                      <a:pt x="403858" y="3847691"/>
                      <a:pt x="417680" y="3848558"/>
                      <a:pt x="428697" y="3844886"/>
                    </a:cubicBezTo>
                    <a:cubicBezTo>
                      <a:pt x="516941" y="3712520"/>
                      <a:pt x="462040" y="3819335"/>
                      <a:pt x="483781" y="3558448"/>
                    </a:cubicBezTo>
                    <a:cubicBezTo>
                      <a:pt x="485038" y="3543359"/>
                      <a:pt x="491513" y="3529161"/>
                      <a:pt x="494798" y="3514380"/>
                    </a:cubicBezTo>
                    <a:cubicBezTo>
                      <a:pt x="498860" y="3496101"/>
                      <a:pt x="501604" y="3477541"/>
                      <a:pt x="505815" y="3459296"/>
                    </a:cubicBezTo>
                    <a:cubicBezTo>
                      <a:pt x="505826" y="3459248"/>
                      <a:pt x="533352" y="3349152"/>
                      <a:pt x="538866" y="3327094"/>
                    </a:cubicBezTo>
                    <a:lnTo>
                      <a:pt x="560899" y="3238959"/>
                    </a:lnTo>
                    <a:cubicBezTo>
                      <a:pt x="581897" y="3154970"/>
                      <a:pt x="562329" y="3264860"/>
                      <a:pt x="582933" y="3161841"/>
                    </a:cubicBezTo>
                    <a:cubicBezTo>
                      <a:pt x="597362" y="3089696"/>
                      <a:pt x="587906" y="3111383"/>
                      <a:pt x="604967" y="3051672"/>
                    </a:cubicBezTo>
                    <a:cubicBezTo>
                      <a:pt x="623429" y="2987057"/>
                      <a:pt x="605828" y="3049950"/>
                      <a:pt x="638017" y="2985571"/>
                    </a:cubicBezTo>
                    <a:cubicBezTo>
                      <a:pt x="659458" y="2942688"/>
                      <a:pt x="638869" y="2957877"/>
                      <a:pt x="660051" y="2908453"/>
                    </a:cubicBezTo>
                    <a:cubicBezTo>
                      <a:pt x="665267" y="2896283"/>
                      <a:pt x="676163" y="2887245"/>
                      <a:pt x="682085" y="2875402"/>
                    </a:cubicBezTo>
                    <a:cubicBezTo>
                      <a:pt x="687278" y="2865015"/>
                      <a:pt x="687462" y="2852503"/>
                      <a:pt x="693102" y="2842352"/>
                    </a:cubicBezTo>
                    <a:cubicBezTo>
                      <a:pt x="705962" y="2819203"/>
                      <a:pt x="722480" y="2798284"/>
                      <a:pt x="737169" y="2776250"/>
                    </a:cubicBezTo>
                    <a:cubicBezTo>
                      <a:pt x="746279" y="2762585"/>
                      <a:pt x="751055" y="2746442"/>
                      <a:pt x="759203" y="2732183"/>
                    </a:cubicBezTo>
                    <a:cubicBezTo>
                      <a:pt x="771710" y="2710297"/>
                      <a:pt x="793254" y="2680104"/>
                      <a:pt x="814287" y="2666082"/>
                    </a:cubicBezTo>
                    <a:cubicBezTo>
                      <a:pt x="823950" y="2659640"/>
                      <a:pt x="836321" y="2658737"/>
                      <a:pt x="847338" y="2655065"/>
                    </a:cubicBezTo>
                    <a:cubicBezTo>
                      <a:pt x="903283" y="2571147"/>
                      <a:pt x="877781" y="2611671"/>
                      <a:pt x="924456" y="2533879"/>
                    </a:cubicBezTo>
                    <a:cubicBezTo>
                      <a:pt x="928128" y="2515518"/>
                      <a:pt x="930546" y="2496860"/>
                      <a:pt x="935473" y="2478795"/>
                    </a:cubicBezTo>
                    <a:cubicBezTo>
                      <a:pt x="941584" y="2456388"/>
                      <a:pt x="957507" y="2412694"/>
                      <a:pt x="957507" y="2412694"/>
                    </a:cubicBezTo>
                    <a:cubicBezTo>
                      <a:pt x="961179" y="2262130"/>
                      <a:pt x="962253" y="2111480"/>
                      <a:pt x="968523" y="1961002"/>
                    </a:cubicBezTo>
                    <a:cubicBezTo>
                      <a:pt x="970240" y="1919791"/>
                      <a:pt x="995499" y="1804092"/>
                      <a:pt x="1001574" y="1773715"/>
                    </a:cubicBezTo>
                    <a:cubicBezTo>
                      <a:pt x="1015188" y="1705648"/>
                      <a:pt x="1002204" y="1734211"/>
                      <a:pt x="1034625" y="1685580"/>
                    </a:cubicBezTo>
                    <a:cubicBezTo>
                      <a:pt x="1038153" y="1671469"/>
                      <a:pt x="1048759" y="1624261"/>
                      <a:pt x="1056658" y="1608462"/>
                    </a:cubicBezTo>
                    <a:cubicBezTo>
                      <a:pt x="1062579" y="1596619"/>
                      <a:pt x="1071347" y="1586429"/>
                      <a:pt x="1078692" y="1575412"/>
                    </a:cubicBezTo>
                    <a:cubicBezTo>
                      <a:pt x="1085950" y="1553639"/>
                      <a:pt x="1092327" y="1524844"/>
                      <a:pt x="1111743" y="1509311"/>
                    </a:cubicBezTo>
                    <a:cubicBezTo>
                      <a:pt x="1120811" y="1502057"/>
                      <a:pt x="1134642" y="1503934"/>
                      <a:pt x="1144793" y="1498294"/>
                    </a:cubicBezTo>
                    <a:cubicBezTo>
                      <a:pt x="1258438" y="1435157"/>
                      <a:pt x="1169161" y="1468138"/>
                      <a:pt x="1243945" y="1443209"/>
                    </a:cubicBezTo>
                    <a:cubicBezTo>
                      <a:pt x="1254962" y="1432192"/>
                      <a:pt x="1264032" y="1418801"/>
                      <a:pt x="1276996" y="1410159"/>
                    </a:cubicBezTo>
                    <a:cubicBezTo>
                      <a:pt x="1286658" y="1403718"/>
                      <a:pt x="1301835" y="1407353"/>
                      <a:pt x="1310046" y="1399142"/>
                    </a:cubicBezTo>
                    <a:cubicBezTo>
                      <a:pt x="1377256" y="1331931"/>
                      <a:pt x="1280740" y="1367908"/>
                      <a:pt x="1376148" y="1344058"/>
                    </a:cubicBezTo>
                    <a:cubicBezTo>
                      <a:pt x="1387165" y="1333041"/>
                      <a:pt x="1396235" y="1319649"/>
                      <a:pt x="1409198" y="1311007"/>
                    </a:cubicBezTo>
                    <a:cubicBezTo>
                      <a:pt x="1418861" y="1304565"/>
                      <a:pt x="1433181" y="1307245"/>
                      <a:pt x="1442249" y="1299990"/>
                    </a:cubicBezTo>
                    <a:cubicBezTo>
                      <a:pt x="1452588" y="1291719"/>
                      <a:pt x="1455485" y="1276835"/>
                      <a:pt x="1464282" y="1266939"/>
                    </a:cubicBezTo>
                    <a:cubicBezTo>
                      <a:pt x="1484984" y="1243649"/>
                      <a:pt x="1530384" y="1200838"/>
                      <a:pt x="1530384" y="1200838"/>
                    </a:cubicBezTo>
                    <a:cubicBezTo>
                      <a:pt x="1541864" y="1166398"/>
                      <a:pt x="1553000" y="1123330"/>
                      <a:pt x="1585468" y="1101686"/>
                    </a:cubicBezTo>
                    <a:lnTo>
                      <a:pt x="1618519" y="1079653"/>
                    </a:lnTo>
                    <a:cubicBezTo>
                      <a:pt x="1646210" y="996580"/>
                      <a:pt x="1605636" y="1095755"/>
                      <a:pt x="1662586" y="1024568"/>
                    </a:cubicBezTo>
                    <a:cubicBezTo>
                      <a:pt x="1734271" y="934962"/>
                      <a:pt x="1602762" y="1051343"/>
                      <a:pt x="1695637" y="958467"/>
                    </a:cubicBezTo>
                    <a:cubicBezTo>
                      <a:pt x="1704999" y="949104"/>
                      <a:pt x="1718515" y="944909"/>
                      <a:pt x="1728687" y="936433"/>
                    </a:cubicBezTo>
                    <a:cubicBezTo>
                      <a:pt x="1836982" y="846188"/>
                      <a:pt x="1697107" y="956997"/>
                      <a:pt x="1783772" y="870332"/>
                    </a:cubicBezTo>
                    <a:cubicBezTo>
                      <a:pt x="1793134" y="860970"/>
                      <a:pt x="1805805" y="855643"/>
                      <a:pt x="1816822" y="848299"/>
                    </a:cubicBezTo>
                    <a:cubicBezTo>
                      <a:pt x="1849243" y="783457"/>
                      <a:pt x="1833662" y="819811"/>
                      <a:pt x="1860890" y="738130"/>
                    </a:cubicBezTo>
                    <a:cubicBezTo>
                      <a:pt x="1865077" y="725569"/>
                      <a:pt x="1875579" y="716096"/>
                      <a:pt x="1882923" y="705079"/>
                    </a:cubicBezTo>
                    <a:cubicBezTo>
                      <a:pt x="1886595" y="690390"/>
                      <a:pt x="1890655" y="675793"/>
                      <a:pt x="1893940" y="661012"/>
                    </a:cubicBezTo>
                    <a:cubicBezTo>
                      <a:pt x="1908495" y="595517"/>
                      <a:pt x="1917511" y="529066"/>
                      <a:pt x="1926991" y="462708"/>
                    </a:cubicBezTo>
                    <a:cubicBezTo>
                      <a:pt x="1931900" y="369434"/>
                      <a:pt x="1928850" y="278075"/>
                      <a:pt x="1949025" y="187286"/>
                    </a:cubicBezTo>
                    <a:cubicBezTo>
                      <a:pt x="1953631" y="166558"/>
                      <a:pt x="1965684" y="135527"/>
                      <a:pt x="1982075" y="121185"/>
                    </a:cubicBezTo>
                    <a:cubicBezTo>
                      <a:pt x="2002004" y="103747"/>
                      <a:pt x="2048176" y="77118"/>
                      <a:pt x="2048176" y="77118"/>
                    </a:cubicBezTo>
                    <a:cubicBezTo>
                      <a:pt x="2051848" y="66101"/>
                      <a:pt x="2050981" y="52279"/>
                      <a:pt x="2059193" y="44067"/>
                    </a:cubicBezTo>
                    <a:cubicBezTo>
                      <a:pt x="2077918" y="25342"/>
                      <a:pt x="2125295" y="0"/>
                      <a:pt x="2125295" y="0"/>
                    </a:cubicBezTo>
                    <a:cubicBezTo>
                      <a:pt x="2147329" y="3672"/>
                      <a:pt x="2169813" y="5261"/>
                      <a:pt x="2191396" y="11017"/>
                    </a:cubicBezTo>
                    <a:cubicBezTo>
                      <a:pt x="2225058" y="19993"/>
                      <a:pt x="2256750" y="35617"/>
                      <a:pt x="2290548" y="44067"/>
                    </a:cubicBezTo>
                    <a:lnTo>
                      <a:pt x="2334615" y="55084"/>
                    </a:lnTo>
                    <a:cubicBezTo>
                      <a:pt x="2413679" y="107794"/>
                      <a:pt x="2381991" y="80427"/>
                      <a:pt x="2433767" y="132202"/>
                    </a:cubicBezTo>
                    <a:cubicBezTo>
                      <a:pt x="2453796" y="212317"/>
                      <a:pt x="2427113" y="147582"/>
                      <a:pt x="2477834" y="198303"/>
                    </a:cubicBezTo>
                    <a:cubicBezTo>
                      <a:pt x="2487197" y="207666"/>
                      <a:pt x="2492172" y="220580"/>
                      <a:pt x="2499868" y="231354"/>
                    </a:cubicBezTo>
                    <a:cubicBezTo>
                      <a:pt x="2510540" y="246295"/>
                      <a:pt x="2520970" y="261480"/>
                      <a:pt x="2532919" y="275421"/>
                    </a:cubicBezTo>
                    <a:cubicBezTo>
                      <a:pt x="2543058" y="287250"/>
                      <a:pt x="2555995" y="296503"/>
                      <a:pt x="2565969" y="308472"/>
                    </a:cubicBezTo>
                    <a:cubicBezTo>
                      <a:pt x="2605436" y="355834"/>
                      <a:pt x="2574176" y="324885"/>
                      <a:pt x="2599020" y="374573"/>
                    </a:cubicBezTo>
                    <a:cubicBezTo>
                      <a:pt x="2604942" y="386416"/>
                      <a:pt x="2613709" y="396607"/>
                      <a:pt x="2621054" y="407624"/>
                    </a:cubicBezTo>
                    <a:cubicBezTo>
                      <a:pt x="2645854" y="482030"/>
                      <a:pt x="2617232" y="390432"/>
                      <a:pt x="2643087" y="506776"/>
                    </a:cubicBezTo>
                    <a:cubicBezTo>
                      <a:pt x="2645606" y="518112"/>
                      <a:pt x="2650914" y="528660"/>
                      <a:pt x="2654104" y="539826"/>
                    </a:cubicBezTo>
                    <a:cubicBezTo>
                      <a:pt x="2658264" y="554385"/>
                      <a:pt x="2660961" y="569335"/>
                      <a:pt x="2665121" y="583894"/>
                    </a:cubicBezTo>
                    <a:cubicBezTo>
                      <a:pt x="2676921" y="625194"/>
                      <a:pt x="2678544" y="613651"/>
                      <a:pt x="2687155" y="661012"/>
                    </a:cubicBezTo>
                    <a:cubicBezTo>
                      <a:pt x="2700288" y="733242"/>
                      <a:pt x="2691889" y="724528"/>
                      <a:pt x="2709189" y="782197"/>
                    </a:cubicBezTo>
                    <a:cubicBezTo>
                      <a:pt x="2715863" y="804443"/>
                      <a:pt x="2723878" y="826265"/>
                      <a:pt x="2731222" y="848299"/>
                    </a:cubicBezTo>
                    <a:lnTo>
                      <a:pt x="2753256" y="914400"/>
                    </a:lnTo>
                    <a:cubicBezTo>
                      <a:pt x="2759177" y="932164"/>
                      <a:pt x="2759346" y="951419"/>
                      <a:pt x="2764273" y="969484"/>
                    </a:cubicBezTo>
                    <a:cubicBezTo>
                      <a:pt x="2770384" y="991891"/>
                      <a:pt x="2781752" y="1012810"/>
                      <a:pt x="2786307" y="1035585"/>
                    </a:cubicBezTo>
                    <a:cubicBezTo>
                      <a:pt x="2801878" y="1113445"/>
                      <a:pt x="2791401" y="1072906"/>
                      <a:pt x="2819357" y="1156771"/>
                    </a:cubicBezTo>
                    <a:cubicBezTo>
                      <a:pt x="2824145" y="1171135"/>
                      <a:pt x="2825586" y="1186474"/>
                      <a:pt x="2830374" y="1200838"/>
                    </a:cubicBezTo>
                    <a:cubicBezTo>
                      <a:pt x="2836628" y="1219599"/>
                      <a:pt x="2846154" y="1237162"/>
                      <a:pt x="2852408" y="1255923"/>
                    </a:cubicBezTo>
                    <a:cubicBezTo>
                      <a:pt x="2876122" y="1327064"/>
                      <a:pt x="2846731" y="1274949"/>
                      <a:pt x="2885458" y="1333041"/>
                    </a:cubicBezTo>
                    <a:cubicBezTo>
                      <a:pt x="2913737" y="1446153"/>
                      <a:pt x="2875301" y="1305956"/>
                      <a:pt x="2918509" y="1421176"/>
                    </a:cubicBezTo>
                    <a:cubicBezTo>
                      <a:pt x="2923825" y="1435353"/>
                      <a:pt x="2925175" y="1450740"/>
                      <a:pt x="2929526" y="1465243"/>
                    </a:cubicBezTo>
                    <a:cubicBezTo>
                      <a:pt x="2936200" y="1487489"/>
                      <a:pt x="2944216" y="1509310"/>
                      <a:pt x="2951560" y="1531344"/>
                    </a:cubicBezTo>
                    <a:cubicBezTo>
                      <a:pt x="2955232" y="1542361"/>
                      <a:pt x="2960667" y="1552940"/>
                      <a:pt x="2962576" y="1564395"/>
                    </a:cubicBezTo>
                    <a:cubicBezTo>
                      <a:pt x="2969921" y="1608462"/>
                      <a:pt x="2973775" y="1653256"/>
                      <a:pt x="2984610" y="1696597"/>
                    </a:cubicBezTo>
                    <a:cubicBezTo>
                      <a:pt x="3000168" y="1758831"/>
                      <a:pt x="2992657" y="1725818"/>
                      <a:pt x="3006644" y="1795749"/>
                    </a:cubicBezTo>
                    <a:cubicBezTo>
                      <a:pt x="3010316" y="1854506"/>
                      <a:pt x="3011498" y="1913471"/>
                      <a:pt x="3017661" y="1972019"/>
                    </a:cubicBezTo>
                    <a:cubicBezTo>
                      <a:pt x="3018877" y="1983568"/>
                      <a:pt x="3027036" y="1993574"/>
                      <a:pt x="3028678" y="2005070"/>
                    </a:cubicBezTo>
                    <a:cubicBezTo>
                      <a:pt x="3034414" y="2045224"/>
                      <a:pt x="3032646" y="2086311"/>
                      <a:pt x="3039695" y="2126255"/>
                    </a:cubicBezTo>
                    <a:cubicBezTo>
                      <a:pt x="3043731" y="2149127"/>
                      <a:pt x="3054384" y="2170322"/>
                      <a:pt x="3061728" y="2192356"/>
                    </a:cubicBezTo>
                    <a:cubicBezTo>
                      <a:pt x="3076931" y="2237967"/>
                      <a:pt x="3066304" y="2215746"/>
                      <a:pt x="3094779" y="2258458"/>
                    </a:cubicBezTo>
                    <a:cubicBezTo>
                      <a:pt x="3129233" y="2396269"/>
                      <a:pt x="3085193" y="2224902"/>
                      <a:pt x="3116813" y="2335576"/>
                    </a:cubicBezTo>
                    <a:cubicBezTo>
                      <a:pt x="3120972" y="2350134"/>
                      <a:pt x="3122513" y="2365466"/>
                      <a:pt x="3127829" y="2379643"/>
                    </a:cubicBezTo>
                    <a:cubicBezTo>
                      <a:pt x="3157925" y="2459900"/>
                      <a:pt x="3142641" y="2389886"/>
                      <a:pt x="3160880" y="2456761"/>
                    </a:cubicBezTo>
                    <a:cubicBezTo>
                      <a:pt x="3168848" y="2485976"/>
                      <a:pt x="3175569" y="2515518"/>
                      <a:pt x="3182914" y="2544896"/>
                    </a:cubicBezTo>
                    <a:cubicBezTo>
                      <a:pt x="3190880" y="2576761"/>
                      <a:pt x="3219015" y="2601166"/>
                      <a:pt x="3226981" y="2633031"/>
                    </a:cubicBezTo>
                    <a:cubicBezTo>
                      <a:pt x="3243631" y="2699631"/>
                      <a:pt x="3233210" y="2662735"/>
                      <a:pt x="3260032" y="2743200"/>
                    </a:cubicBezTo>
                    <a:lnTo>
                      <a:pt x="3282066" y="2809301"/>
                    </a:lnTo>
                    <a:lnTo>
                      <a:pt x="3304099" y="2963537"/>
                    </a:lnTo>
                    <a:cubicBezTo>
                      <a:pt x="3307383" y="2986529"/>
                      <a:pt x="3318788" y="3007604"/>
                      <a:pt x="3326133" y="3029638"/>
                    </a:cubicBezTo>
                    <a:lnTo>
                      <a:pt x="3348167" y="3095739"/>
                    </a:lnTo>
                    <a:lnTo>
                      <a:pt x="3370201" y="3161841"/>
                    </a:lnTo>
                    <a:cubicBezTo>
                      <a:pt x="3379154" y="3188699"/>
                      <a:pt x="3386416" y="3234810"/>
                      <a:pt x="3392234" y="3260993"/>
                    </a:cubicBezTo>
                    <a:cubicBezTo>
                      <a:pt x="3395519" y="3275774"/>
                      <a:pt x="3400542" y="3290163"/>
                      <a:pt x="3403251" y="3305060"/>
                    </a:cubicBezTo>
                    <a:cubicBezTo>
                      <a:pt x="3433850" y="3473354"/>
                      <a:pt x="3390128" y="3285618"/>
                      <a:pt x="3436302" y="3470313"/>
                    </a:cubicBezTo>
                    <a:lnTo>
                      <a:pt x="3447319" y="3514380"/>
                    </a:lnTo>
                    <a:lnTo>
                      <a:pt x="3458336" y="3558448"/>
                    </a:lnTo>
                    <a:cubicBezTo>
                      <a:pt x="3464040" y="3609790"/>
                      <a:pt x="3464466" y="3653960"/>
                      <a:pt x="3480369" y="3701667"/>
                    </a:cubicBezTo>
                    <a:cubicBezTo>
                      <a:pt x="3486623" y="3720428"/>
                      <a:pt x="3496587" y="3737850"/>
                      <a:pt x="3502403" y="3756752"/>
                    </a:cubicBezTo>
                    <a:cubicBezTo>
                      <a:pt x="3511309" y="3785695"/>
                      <a:pt x="3517092" y="3815508"/>
                      <a:pt x="3524437" y="3844886"/>
                    </a:cubicBezTo>
                    <a:cubicBezTo>
                      <a:pt x="3535258" y="3888167"/>
                      <a:pt x="3539608" y="3910358"/>
                      <a:pt x="3557487" y="3955055"/>
                    </a:cubicBezTo>
                    <a:cubicBezTo>
                      <a:pt x="3564832" y="3973416"/>
                      <a:pt x="3570677" y="3992451"/>
                      <a:pt x="3579521" y="4010139"/>
                    </a:cubicBezTo>
                    <a:cubicBezTo>
                      <a:pt x="3585443" y="4021982"/>
                      <a:pt x="3594210" y="4032173"/>
                      <a:pt x="3601555" y="4043190"/>
                    </a:cubicBezTo>
                    <a:cubicBezTo>
                      <a:pt x="3605227" y="4072568"/>
                      <a:pt x="3605391" y="4102602"/>
                      <a:pt x="3612572" y="4131325"/>
                    </a:cubicBezTo>
                    <a:cubicBezTo>
                      <a:pt x="3616555" y="4147258"/>
                      <a:pt x="3628136" y="4160298"/>
                      <a:pt x="3634605" y="4175393"/>
                    </a:cubicBezTo>
                    <a:cubicBezTo>
                      <a:pt x="3639179" y="4186067"/>
                      <a:pt x="3642805" y="4197177"/>
                      <a:pt x="3645622" y="4208443"/>
                    </a:cubicBezTo>
                    <a:cubicBezTo>
                      <a:pt x="3650164" y="4226609"/>
                      <a:pt x="3650064" y="4245994"/>
                      <a:pt x="3656639" y="4263527"/>
                    </a:cubicBezTo>
                    <a:cubicBezTo>
                      <a:pt x="3661288" y="4275925"/>
                      <a:pt x="3672104" y="4285082"/>
                      <a:pt x="3678673" y="4296578"/>
                    </a:cubicBezTo>
                    <a:cubicBezTo>
                      <a:pt x="3686821" y="4310837"/>
                      <a:pt x="3693362" y="4325957"/>
                      <a:pt x="3700707" y="4340646"/>
                    </a:cubicBezTo>
                    <a:cubicBezTo>
                      <a:pt x="3717661" y="4425423"/>
                      <a:pt x="3707182" y="4377566"/>
                      <a:pt x="3733757" y="4483865"/>
                    </a:cubicBezTo>
                    <a:cubicBezTo>
                      <a:pt x="3737429" y="4498554"/>
                      <a:pt x="3739986" y="4513568"/>
                      <a:pt x="3744774" y="4527932"/>
                    </a:cubicBezTo>
                    <a:lnTo>
                      <a:pt x="3766808" y="4594033"/>
                    </a:lnTo>
                    <a:cubicBezTo>
                      <a:pt x="3770480" y="4605050"/>
                      <a:pt x="3775547" y="4615697"/>
                      <a:pt x="3777825" y="4627084"/>
                    </a:cubicBezTo>
                    <a:cubicBezTo>
                      <a:pt x="3781497" y="4645445"/>
                      <a:pt x="3785492" y="4663745"/>
                      <a:pt x="3788842" y="4682168"/>
                    </a:cubicBezTo>
                    <a:cubicBezTo>
                      <a:pt x="3792838" y="4704146"/>
                      <a:pt x="3795178" y="4726428"/>
                      <a:pt x="3799858" y="4748270"/>
                    </a:cubicBezTo>
                    <a:cubicBezTo>
                      <a:pt x="3806203" y="4777880"/>
                      <a:pt x="3821892" y="4836405"/>
                      <a:pt x="3821892" y="4836405"/>
                    </a:cubicBezTo>
                    <a:cubicBezTo>
                      <a:pt x="3804172" y="5013603"/>
                      <a:pt x="3833279" y="4957960"/>
                      <a:pt x="3788842" y="4913523"/>
                    </a:cubicBezTo>
                    <a:cubicBezTo>
                      <a:pt x="3779479" y="4904160"/>
                      <a:pt x="3766808" y="4898834"/>
                      <a:pt x="3755791" y="4891489"/>
                    </a:cubicBezTo>
                    <a:cubicBezTo>
                      <a:pt x="3759463" y="4902506"/>
                      <a:pt x="3766808" y="4912926"/>
                      <a:pt x="3766808" y="4924539"/>
                    </a:cubicBezTo>
                    <a:cubicBezTo>
                      <a:pt x="3766808" y="4950506"/>
                      <a:pt x="3779017" y="4990045"/>
                      <a:pt x="3755791" y="5001658"/>
                    </a:cubicBezTo>
                    <a:cubicBezTo>
                      <a:pt x="3735597" y="5011755"/>
                      <a:pt x="3676375" y="4925149"/>
                      <a:pt x="3667656" y="4913523"/>
                    </a:cubicBezTo>
                    <a:cubicBezTo>
                      <a:pt x="3663984" y="4902506"/>
                      <a:pt x="3664851" y="4872261"/>
                      <a:pt x="3656639" y="4880472"/>
                    </a:cubicBezTo>
                    <a:cubicBezTo>
                      <a:pt x="3630050" y="4907060"/>
                      <a:pt x="3647946" y="4942527"/>
                      <a:pt x="3656639" y="4968607"/>
                    </a:cubicBezTo>
                    <a:cubicBezTo>
                      <a:pt x="3652967" y="5023691"/>
                      <a:pt x="3655498" y="5079544"/>
                      <a:pt x="3645622" y="5133860"/>
                    </a:cubicBezTo>
                    <a:cubicBezTo>
                      <a:pt x="3642913" y="5148757"/>
                      <a:pt x="3640569" y="5103710"/>
                      <a:pt x="3634605" y="5089793"/>
                    </a:cubicBezTo>
                    <a:cubicBezTo>
                      <a:pt x="3629389" y="5077623"/>
                      <a:pt x="3612572" y="5043501"/>
                      <a:pt x="3612572" y="5056742"/>
                    </a:cubicBezTo>
                    <a:cubicBezTo>
                      <a:pt x="3612572" y="5094865"/>
                      <a:pt x="3641680" y="5114959"/>
                      <a:pt x="3656639" y="5144877"/>
                    </a:cubicBezTo>
                    <a:cubicBezTo>
                      <a:pt x="3681600" y="5194798"/>
                      <a:pt x="3686617" y="5231736"/>
                      <a:pt x="3700707" y="5288096"/>
                    </a:cubicBezTo>
                    <a:cubicBezTo>
                      <a:pt x="3731649" y="5411863"/>
                      <a:pt x="3756212" y="5409423"/>
                      <a:pt x="3689690" y="5387248"/>
                    </a:cubicBezTo>
                    <a:cubicBezTo>
                      <a:pt x="3679897" y="5357868"/>
                      <a:pt x="3674791" y="5337359"/>
                      <a:pt x="3656639" y="5310130"/>
                    </a:cubicBezTo>
                    <a:cubicBezTo>
                      <a:pt x="3643596" y="5290565"/>
                      <a:pt x="3627261" y="5273407"/>
                      <a:pt x="3612572" y="5255046"/>
                    </a:cubicBezTo>
                    <a:cubicBezTo>
                      <a:pt x="3589272" y="5161845"/>
                      <a:pt x="3621013" y="5256689"/>
                      <a:pt x="3568504" y="5177927"/>
                    </a:cubicBezTo>
                    <a:cubicBezTo>
                      <a:pt x="3562062" y="5168265"/>
                      <a:pt x="3562680" y="5155264"/>
                      <a:pt x="3557487" y="5144877"/>
                    </a:cubicBezTo>
                    <a:cubicBezTo>
                      <a:pt x="3551566" y="5133034"/>
                      <a:pt x="3542023" y="5123322"/>
                      <a:pt x="3535454" y="5111826"/>
                    </a:cubicBezTo>
                    <a:cubicBezTo>
                      <a:pt x="3527306" y="5097567"/>
                      <a:pt x="3523679" y="5080583"/>
                      <a:pt x="3513420" y="5067759"/>
                    </a:cubicBezTo>
                    <a:cubicBezTo>
                      <a:pt x="3493954" y="5043427"/>
                      <a:pt x="3469353" y="5023692"/>
                      <a:pt x="3447319" y="5001658"/>
                    </a:cubicBezTo>
                    <a:lnTo>
                      <a:pt x="3414268" y="4968607"/>
                    </a:lnTo>
                    <a:cubicBezTo>
                      <a:pt x="3410596" y="4979624"/>
                      <a:pt x="3403251" y="4990045"/>
                      <a:pt x="3403251" y="5001658"/>
                    </a:cubicBezTo>
                    <a:cubicBezTo>
                      <a:pt x="3403251" y="5013271"/>
                      <a:pt x="3411451" y="5023442"/>
                      <a:pt x="3414268" y="5034708"/>
                    </a:cubicBezTo>
                    <a:cubicBezTo>
                      <a:pt x="3418810" y="5052874"/>
                      <a:pt x="3420358" y="5071728"/>
                      <a:pt x="3425285" y="5089793"/>
                    </a:cubicBezTo>
                    <a:cubicBezTo>
                      <a:pt x="3431396" y="5112200"/>
                      <a:pt x="3447319" y="5155894"/>
                      <a:pt x="3447319" y="5155894"/>
                    </a:cubicBezTo>
                    <a:cubicBezTo>
                      <a:pt x="3439974" y="5221995"/>
                      <a:pt x="3455028" y="5294711"/>
                      <a:pt x="3425285" y="5354197"/>
                    </a:cubicBezTo>
                    <a:cubicBezTo>
                      <a:pt x="3414769" y="5375229"/>
                      <a:pt x="3385685" y="5327826"/>
                      <a:pt x="3370201" y="5310130"/>
                    </a:cubicBezTo>
                    <a:cubicBezTo>
                      <a:pt x="3343456" y="5279564"/>
                      <a:pt x="3353020" y="5264751"/>
                      <a:pt x="3337150" y="5233012"/>
                    </a:cubicBezTo>
                    <a:cubicBezTo>
                      <a:pt x="3331228" y="5221169"/>
                      <a:pt x="3322461" y="5210978"/>
                      <a:pt x="3315116" y="5199961"/>
                    </a:cubicBezTo>
                    <a:cubicBezTo>
                      <a:pt x="3311444" y="5174255"/>
                      <a:pt x="3304099" y="5148810"/>
                      <a:pt x="3304099" y="5122843"/>
                    </a:cubicBezTo>
                    <a:cubicBezTo>
                      <a:pt x="3304099" y="5107702"/>
                      <a:pt x="3311444" y="5152222"/>
                      <a:pt x="3315116" y="5166911"/>
                    </a:cubicBezTo>
                    <a:cubicBezTo>
                      <a:pt x="3320749" y="5189443"/>
                      <a:pt x="3329805" y="5210978"/>
                      <a:pt x="3337150" y="5233012"/>
                    </a:cubicBezTo>
                    <a:cubicBezTo>
                      <a:pt x="3345604" y="5258375"/>
                      <a:pt x="3351839" y="5284424"/>
                      <a:pt x="3359184" y="5310130"/>
                    </a:cubicBezTo>
                    <a:cubicBezTo>
                      <a:pt x="3362856" y="5343181"/>
                      <a:pt x="3392099" y="5384256"/>
                      <a:pt x="3370201" y="5409282"/>
                    </a:cubicBezTo>
                    <a:cubicBezTo>
                      <a:pt x="3356136" y="5425356"/>
                      <a:pt x="3276581" y="5396437"/>
                      <a:pt x="3249015" y="5387248"/>
                    </a:cubicBezTo>
                    <a:cubicBezTo>
                      <a:pt x="3195332" y="5306724"/>
                      <a:pt x="3266780" y="5402052"/>
                      <a:pt x="3182914" y="5332164"/>
                    </a:cubicBezTo>
                    <a:cubicBezTo>
                      <a:pt x="3172742" y="5323687"/>
                      <a:pt x="3170243" y="5308476"/>
                      <a:pt x="3160880" y="5299113"/>
                    </a:cubicBezTo>
                    <a:cubicBezTo>
                      <a:pt x="3151517" y="5289750"/>
                      <a:pt x="3138603" y="5284775"/>
                      <a:pt x="3127829" y="5277079"/>
                    </a:cubicBezTo>
                    <a:cubicBezTo>
                      <a:pt x="3112888" y="5266407"/>
                      <a:pt x="3099704" y="5253139"/>
                      <a:pt x="3083762" y="5244029"/>
                    </a:cubicBezTo>
                    <a:cubicBezTo>
                      <a:pt x="3061427" y="5231266"/>
                      <a:pt x="3000792" y="5224692"/>
                      <a:pt x="2984610" y="5221995"/>
                    </a:cubicBezTo>
                    <a:cubicBezTo>
                      <a:pt x="2995627" y="5236684"/>
                      <a:pt x="3008551" y="5250120"/>
                      <a:pt x="3017661" y="5266062"/>
                    </a:cubicBezTo>
                    <a:cubicBezTo>
                      <a:pt x="3023423" y="5276145"/>
                      <a:pt x="3040201" y="5297673"/>
                      <a:pt x="3028678" y="5299113"/>
                    </a:cubicBezTo>
                    <a:cubicBezTo>
                      <a:pt x="2995083" y="5303312"/>
                      <a:pt x="2962516" y="5284692"/>
                      <a:pt x="2929526" y="5277079"/>
                    </a:cubicBezTo>
                    <a:cubicBezTo>
                      <a:pt x="2884569" y="5266704"/>
                      <a:pt x="2891864" y="5268197"/>
                      <a:pt x="2852408" y="5255046"/>
                    </a:cubicBezTo>
                    <a:cubicBezTo>
                      <a:pt x="2863425" y="5266063"/>
                      <a:pt x="2878490" y="5274161"/>
                      <a:pt x="2885458" y="5288096"/>
                    </a:cubicBezTo>
                    <a:cubicBezTo>
                      <a:pt x="2893832" y="5304844"/>
                      <a:pt x="2891933" y="5325014"/>
                      <a:pt x="2896475" y="5343180"/>
                    </a:cubicBezTo>
                    <a:cubicBezTo>
                      <a:pt x="2899292" y="5354446"/>
                      <a:pt x="2903820" y="5365214"/>
                      <a:pt x="2907492" y="5376231"/>
                    </a:cubicBezTo>
                    <a:cubicBezTo>
                      <a:pt x="2900147" y="5427643"/>
                      <a:pt x="2888508" y="5478623"/>
                      <a:pt x="2885458" y="5530467"/>
                    </a:cubicBezTo>
                    <a:cubicBezTo>
                      <a:pt x="2884916" y="5539673"/>
                      <a:pt x="2915378" y="5587362"/>
                      <a:pt x="2885458" y="5596568"/>
                    </a:cubicBezTo>
                    <a:cubicBezTo>
                      <a:pt x="2843193" y="5609572"/>
                      <a:pt x="2797323" y="5603913"/>
                      <a:pt x="2753256" y="5607585"/>
                    </a:cubicBezTo>
                    <a:cubicBezTo>
                      <a:pt x="2749584" y="5629619"/>
                      <a:pt x="2752229" y="5653707"/>
                      <a:pt x="2742239" y="5673686"/>
                    </a:cubicBezTo>
                    <a:cubicBezTo>
                      <a:pt x="2718897" y="5720370"/>
                      <a:pt x="2609710" y="5685393"/>
                      <a:pt x="2599020" y="5684703"/>
                    </a:cubicBezTo>
                    <a:cubicBezTo>
                      <a:pt x="2521975" y="5679732"/>
                      <a:pt x="2444784" y="5677358"/>
                      <a:pt x="2367666" y="5673686"/>
                    </a:cubicBezTo>
                    <a:cubicBezTo>
                      <a:pt x="1885238" y="5695615"/>
                      <a:pt x="2057758" y="5692499"/>
                      <a:pt x="1276996" y="5673686"/>
                    </a:cubicBezTo>
                    <a:cubicBezTo>
                      <a:pt x="1254665" y="5673148"/>
                      <a:pt x="1232973" y="5666066"/>
                      <a:pt x="1210895" y="5662670"/>
                    </a:cubicBezTo>
                    <a:cubicBezTo>
                      <a:pt x="1185230" y="5658722"/>
                      <a:pt x="1159482" y="5655325"/>
                      <a:pt x="1133776" y="5651653"/>
                    </a:cubicBezTo>
                    <a:cubicBezTo>
                      <a:pt x="934550" y="5585242"/>
                      <a:pt x="1245641" y="5685330"/>
                      <a:pt x="604967" y="5629619"/>
                    </a:cubicBezTo>
                    <a:cubicBezTo>
                      <a:pt x="593398" y="5628613"/>
                      <a:pt x="597622" y="5607585"/>
                      <a:pt x="593950" y="5596568"/>
                    </a:cubicBezTo>
                    <a:lnTo>
                      <a:pt x="638017" y="5530467"/>
                    </a:lnTo>
                    <a:cubicBezTo>
                      <a:pt x="663025" y="5492955"/>
                      <a:pt x="650532" y="5497043"/>
                      <a:pt x="693102" y="5486400"/>
                    </a:cubicBezTo>
                    <a:cubicBezTo>
                      <a:pt x="696665" y="5485509"/>
                      <a:pt x="683921" y="5504761"/>
                      <a:pt x="682085" y="5508433"/>
                    </a:cubicBezTo>
                    <a:close/>
                  </a:path>
                </a:pathLst>
              </a:custGeom>
              <a:solidFill>
                <a:srgbClr val="000000">
                  <a:alpha val="3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39" name=""/>
          <p:cNvGrpSpPr/>
          <p:nvPr/>
        </p:nvGrpSpPr>
        <p:grpSpPr>
          <a:xfrm>
            <a:off x="15179760" y="-517680"/>
            <a:ext cx="3855960" cy="8080560"/>
            <a:chOff x="15179760" y="-517680"/>
            <a:chExt cx="3855960" cy="8080560"/>
          </a:xfrm>
        </p:grpSpPr>
        <p:sp>
          <p:nvSpPr>
            <p:cNvPr id="240" name="任意多边形 212"/>
            <p:cNvSpPr/>
            <p:nvPr/>
          </p:nvSpPr>
          <p:spPr>
            <a:xfrm>
              <a:off x="16773120" y="913320"/>
              <a:ext cx="1235160" cy="6649560"/>
            </a:xfrm>
            <a:custGeom>
              <a:avLst/>
              <a:gdLst>
                <a:gd name="textAreaLeft" fmla="*/ 0 w 1235160"/>
                <a:gd name="textAreaRight" fmla="*/ 1235520 w 1235160"/>
                <a:gd name="textAreaTop" fmla="*/ 0 h 6649560"/>
                <a:gd name="textAreaBottom" fmla="*/ 6649920 h 6649560"/>
              </a:gdLst>
              <a:ahLst/>
              <a:rect l="textAreaLeft" t="textAreaTop" r="textAreaRight" b="textAreaBottom"/>
              <a:pathLst>
                <a:path w="2702859" h="9345706">
                  <a:moveTo>
                    <a:pt x="67235" y="9224682"/>
                  </a:moveTo>
                  <a:lnTo>
                    <a:pt x="887506" y="9345706"/>
                  </a:lnTo>
                  <a:lnTo>
                    <a:pt x="1775012" y="9345706"/>
                  </a:lnTo>
                  <a:lnTo>
                    <a:pt x="2232212" y="9144000"/>
                  </a:lnTo>
                  <a:lnTo>
                    <a:pt x="2030506" y="8189259"/>
                  </a:lnTo>
                  <a:lnTo>
                    <a:pt x="1828800" y="6979023"/>
                  </a:lnTo>
                  <a:lnTo>
                    <a:pt x="1667435" y="5513294"/>
                  </a:lnTo>
                  <a:lnTo>
                    <a:pt x="1627094" y="3913094"/>
                  </a:lnTo>
                  <a:lnTo>
                    <a:pt x="1653988" y="3025588"/>
                  </a:lnTo>
                  <a:lnTo>
                    <a:pt x="1909482" y="2151529"/>
                  </a:lnTo>
                  <a:lnTo>
                    <a:pt x="2326341" y="1021976"/>
                  </a:lnTo>
                  <a:lnTo>
                    <a:pt x="2635623" y="389964"/>
                  </a:lnTo>
                  <a:lnTo>
                    <a:pt x="2702859" y="0"/>
                  </a:lnTo>
                  <a:lnTo>
                    <a:pt x="2487706" y="242047"/>
                  </a:lnTo>
                  <a:lnTo>
                    <a:pt x="2084294" y="847164"/>
                  </a:lnTo>
                  <a:lnTo>
                    <a:pt x="1869141" y="1290917"/>
                  </a:lnTo>
                  <a:lnTo>
                    <a:pt x="1653988" y="1653988"/>
                  </a:lnTo>
                  <a:lnTo>
                    <a:pt x="1452282" y="1452282"/>
                  </a:lnTo>
                  <a:lnTo>
                    <a:pt x="1237129" y="1062317"/>
                  </a:lnTo>
                  <a:lnTo>
                    <a:pt x="954741" y="847164"/>
                  </a:lnTo>
                  <a:lnTo>
                    <a:pt x="645459" y="739588"/>
                  </a:lnTo>
                  <a:lnTo>
                    <a:pt x="900953" y="1317811"/>
                  </a:lnTo>
                  <a:lnTo>
                    <a:pt x="1062317" y="1479176"/>
                  </a:lnTo>
                  <a:lnTo>
                    <a:pt x="1048870" y="1600200"/>
                  </a:lnTo>
                  <a:lnTo>
                    <a:pt x="1035423" y="1855694"/>
                  </a:lnTo>
                  <a:lnTo>
                    <a:pt x="860612" y="2017059"/>
                  </a:lnTo>
                  <a:lnTo>
                    <a:pt x="739588" y="1976717"/>
                  </a:lnTo>
                  <a:lnTo>
                    <a:pt x="322729" y="1627094"/>
                  </a:lnTo>
                  <a:lnTo>
                    <a:pt x="215153" y="1116106"/>
                  </a:lnTo>
                  <a:lnTo>
                    <a:pt x="0" y="1102659"/>
                  </a:lnTo>
                  <a:lnTo>
                    <a:pt x="134470" y="1479176"/>
                  </a:lnTo>
                  <a:lnTo>
                    <a:pt x="215153" y="2003611"/>
                  </a:lnTo>
                  <a:lnTo>
                    <a:pt x="470647" y="2272553"/>
                  </a:lnTo>
                  <a:lnTo>
                    <a:pt x="645459" y="3254188"/>
                  </a:lnTo>
                  <a:lnTo>
                    <a:pt x="672353" y="5217459"/>
                  </a:lnTo>
                  <a:lnTo>
                    <a:pt x="578223" y="6602506"/>
                  </a:lnTo>
                  <a:lnTo>
                    <a:pt x="497541" y="7974106"/>
                  </a:lnTo>
                  <a:lnTo>
                    <a:pt x="255494" y="9022976"/>
                  </a:lnTo>
                  <a:lnTo>
                    <a:pt x="121023" y="9211235"/>
                  </a:lnTo>
                  <a:lnTo>
                    <a:pt x="67235" y="922468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任意多边形 213"/>
            <p:cNvSpPr/>
            <p:nvPr/>
          </p:nvSpPr>
          <p:spPr>
            <a:xfrm>
              <a:off x="15179760" y="-504000"/>
              <a:ext cx="3855960" cy="5618880"/>
            </a:xfrm>
            <a:custGeom>
              <a:avLst/>
              <a:gdLst>
                <a:gd name="textAreaLeft" fmla="*/ 0 w 3855960"/>
                <a:gd name="textAreaRight" fmla="*/ 3856320 w 3855960"/>
                <a:gd name="textAreaTop" fmla="*/ 0 h 5618880"/>
                <a:gd name="textAreaBottom" fmla="*/ 5619240 h 5618880"/>
              </a:gdLst>
              <a:ahLst/>
              <a:rect l="textAreaLeft" t="textAreaTop" r="textAreaRight" b="textAreaBottom"/>
              <a:pathLst>
                <a:path w="6885330" h="7897265">
                  <a:moveTo>
                    <a:pt x="3285067" y="7688850"/>
                  </a:moveTo>
                  <a:lnTo>
                    <a:pt x="3285067" y="7688850"/>
                  </a:lnTo>
                  <a:lnTo>
                    <a:pt x="1286934" y="7722716"/>
                  </a:lnTo>
                  <a:cubicBezTo>
                    <a:pt x="1255999" y="7723698"/>
                    <a:pt x="1088890" y="7773726"/>
                    <a:pt x="1049867" y="7790450"/>
                  </a:cubicBezTo>
                  <a:cubicBezTo>
                    <a:pt x="1003463" y="7810337"/>
                    <a:pt x="962295" y="7842218"/>
                    <a:pt x="914400" y="7858183"/>
                  </a:cubicBezTo>
                  <a:cubicBezTo>
                    <a:pt x="859792" y="7876386"/>
                    <a:pt x="690459" y="7910253"/>
                    <a:pt x="745067" y="7892050"/>
                  </a:cubicBezTo>
                  <a:lnTo>
                    <a:pt x="1049867" y="7790450"/>
                  </a:lnTo>
                  <a:cubicBezTo>
                    <a:pt x="1148203" y="7757671"/>
                    <a:pt x="1169512" y="7760469"/>
                    <a:pt x="1253067" y="7688850"/>
                  </a:cubicBezTo>
                  <a:cubicBezTo>
                    <a:pt x="1301553" y="7647291"/>
                    <a:pt x="1452375" y="7551826"/>
                    <a:pt x="1388534" y="7553383"/>
                  </a:cubicBezTo>
                  <a:lnTo>
                    <a:pt x="0" y="7587250"/>
                  </a:lnTo>
                  <a:cubicBezTo>
                    <a:pt x="45156" y="7542094"/>
                    <a:pt x="82332" y="7487206"/>
                    <a:pt x="135467" y="7451783"/>
                  </a:cubicBezTo>
                  <a:cubicBezTo>
                    <a:pt x="186049" y="7418061"/>
                    <a:pt x="249247" y="7408740"/>
                    <a:pt x="304800" y="7384050"/>
                  </a:cubicBezTo>
                  <a:cubicBezTo>
                    <a:pt x="350934" y="7363546"/>
                    <a:pt x="396976" y="7342291"/>
                    <a:pt x="440267" y="7316316"/>
                  </a:cubicBezTo>
                  <a:cubicBezTo>
                    <a:pt x="728274" y="7143512"/>
                    <a:pt x="696095" y="7167693"/>
                    <a:pt x="508000" y="7214716"/>
                  </a:cubicBezTo>
                  <a:cubicBezTo>
                    <a:pt x="474133" y="7203427"/>
                    <a:pt x="395111" y="7214717"/>
                    <a:pt x="406400" y="7180850"/>
                  </a:cubicBezTo>
                  <a:cubicBezTo>
                    <a:pt x="416863" y="7149461"/>
                    <a:pt x="604940" y="7092092"/>
                    <a:pt x="643467" y="7079250"/>
                  </a:cubicBezTo>
                  <a:cubicBezTo>
                    <a:pt x="832154" y="6953459"/>
                    <a:pt x="938590" y="6972812"/>
                    <a:pt x="745067" y="6876050"/>
                  </a:cubicBezTo>
                  <a:cubicBezTo>
                    <a:pt x="713137" y="6860085"/>
                    <a:pt x="677334" y="6853472"/>
                    <a:pt x="643467" y="6842183"/>
                  </a:cubicBezTo>
                  <a:cubicBezTo>
                    <a:pt x="677334" y="6808316"/>
                    <a:pt x="706093" y="6768421"/>
                    <a:pt x="745067" y="6740583"/>
                  </a:cubicBezTo>
                  <a:cubicBezTo>
                    <a:pt x="786149" y="6711239"/>
                    <a:pt x="857956" y="6718006"/>
                    <a:pt x="880534" y="6672850"/>
                  </a:cubicBezTo>
                  <a:cubicBezTo>
                    <a:pt x="894813" y="6644291"/>
                    <a:pt x="842148" y="6617694"/>
                    <a:pt x="812800" y="6605116"/>
                  </a:cubicBezTo>
                  <a:cubicBezTo>
                    <a:pt x="759892" y="6582441"/>
                    <a:pt x="699911" y="6582539"/>
                    <a:pt x="643467" y="6571250"/>
                  </a:cubicBezTo>
                  <a:cubicBezTo>
                    <a:pt x="962375" y="6491522"/>
                    <a:pt x="674720" y="6594660"/>
                    <a:pt x="643467" y="6469650"/>
                  </a:cubicBezTo>
                  <a:cubicBezTo>
                    <a:pt x="633366" y="6429247"/>
                    <a:pt x="830471" y="6373448"/>
                    <a:pt x="846667" y="6368050"/>
                  </a:cubicBezTo>
                  <a:cubicBezTo>
                    <a:pt x="869245" y="6345472"/>
                    <a:pt x="914400" y="6332246"/>
                    <a:pt x="914400" y="6300316"/>
                  </a:cubicBezTo>
                  <a:cubicBezTo>
                    <a:pt x="914400" y="6145356"/>
                    <a:pt x="814006" y="6156685"/>
                    <a:pt x="711200" y="6130983"/>
                  </a:cubicBezTo>
                  <a:cubicBezTo>
                    <a:pt x="722489" y="6085827"/>
                    <a:pt x="721974" y="6035929"/>
                    <a:pt x="745067" y="5995516"/>
                  </a:cubicBezTo>
                  <a:cubicBezTo>
                    <a:pt x="785185" y="5925310"/>
                    <a:pt x="883525" y="5869344"/>
                    <a:pt x="948267" y="5826183"/>
                  </a:cubicBezTo>
                  <a:cubicBezTo>
                    <a:pt x="959556" y="5781027"/>
                    <a:pt x="951484" y="5725745"/>
                    <a:pt x="982134" y="5690716"/>
                  </a:cubicBezTo>
                  <a:cubicBezTo>
                    <a:pt x="1035740" y="5629452"/>
                    <a:pt x="1185334" y="5555250"/>
                    <a:pt x="1185334" y="5555250"/>
                  </a:cubicBezTo>
                  <a:cubicBezTo>
                    <a:pt x="1083734" y="5543961"/>
                    <a:pt x="980490" y="5542802"/>
                    <a:pt x="880534" y="5521383"/>
                  </a:cubicBezTo>
                  <a:cubicBezTo>
                    <a:pt x="821091" y="5508645"/>
                    <a:pt x="744922" y="5504232"/>
                    <a:pt x="711200" y="5453650"/>
                  </a:cubicBezTo>
                  <a:cubicBezTo>
                    <a:pt x="691398" y="5423947"/>
                    <a:pt x="780870" y="5435748"/>
                    <a:pt x="812800" y="5419783"/>
                  </a:cubicBezTo>
                  <a:cubicBezTo>
                    <a:pt x="849206" y="5401580"/>
                    <a:pt x="877994" y="5370253"/>
                    <a:pt x="914400" y="5352050"/>
                  </a:cubicBezTo>
                  <a:cubicBezTo>
                    <a:pt x="946330" y="5336085"/>
                    <a:pt x="981216" y="5326210"/>
                    <a:pt x="1016000" y="5318183"/>
                  </a:cubicBezTo>
                  <a:cubicBezTo>
                    <a:pt x="1128176" y="5292296"/>
                    <a:pt x="1242098" y="5274572"/>
                    <a:pt x="1354667" y="5250450"/>
                  </a:cubicBezTo>
                  <a:cubicBezTo>
                    <a:pt x="1400179" y="5240697"/>
                    <a:pt x="1536679" y="5216583"/>
                    <a:pt x="1490134" y="5216583"/>
                  </a:cubicBezTo>
                  <a:cubicBezTo>
                    <a:pt x="1432571" y="5216583"/>
                    <a:pt x="1377245" y="5239161"/>
                    <a:pt x="1320800" y="5250450"/>
                  </a:cubicBezTo>
                  <a:lnTo>
                    <a:pt x="1117600" y="5216583"/>
                  </a:lnTo>
                  <a:cubicBezTo>
                    <a:pt x="1117600" y="5113296"/>
                    <a:pt x="1339671" y="5011833"/>
                    <a:pt x="1422400" y="4945650"/>
                  </a:cubicBezTo>
                  <a:cubicBezTo>
                    <a:pt x="1447333" y="4925703"/>
                    <a:pt x="1520426" y="4888013"/>
                    <a:pt x="1490134" y="4877916"/>
                  </a:cubicBezTo>
                  <a:cubicBezTo>
                    <a:pt x="1435525" y="4859713"/>
                    <a:pt x="1377245" y="4900494"/>
                    <a:pt x="1320800" y="4911783"/>
                  </a:cubicBezTo>
                  <a:cubicBezTo>
                    <a:pt x="1275645" y="4889205"/>
                    <a:pt x="1207912" y="4889205"/>
                    <a:pt x="1185334" y="4844050"/>
                  </a:cubicBezTo>
                  <a:cubicBezTo>
                    <a:pt x="1171055" y="4815491"/>
                    <a:pt x="1226909" y="4794627"/>
                    <a:pt x="1253067" y="4776316"/>
                  </a:cubicBezTo>
                  <a:cubicBezTo>
                    <a:pt x="1340314" y="4715243"/>
                    <a:pt x="1448693" y="4682289"/>
                    <a:pt x="1524000" y="4606983"/>
                  </a:cubicBezTo>
                  <a:cubicBezTo>
                    <a:pt x="1546578" y="4584405"/>
                    <a:pt x="1564354" y="4555678"/>
                    <a:pt x="1591734" y="4539250"/>
                  </a:cubicBezTo>
                  <a:cubicBezTo>
                    <a:pt x="1622345" y="4520883"/>
                    <a:pt x="1659467" y="4516672"/>
                    <a:pt x="1693334" y="4505383"/>
                  </a:cubicBezTo>
                  <a:cubicBezTo>
                    <a:pt x="1363423" y="4422906"/>
                    <a:pt x="1508832" y="4472223"/>
                    <a:pt x="1253067" y="4369916"/>
                  </a:cubicBezTo>
                  <a:cubicBezTo>
                    <a:pt x="1524000" y="4189295"/>
                    <a:pt x="1196623" y="4426360"/>
                    <a:pt x="1422400" y="4200583"/>
                  </a:cubicBezTo>
                  <a:cubicBezTo>
                    <a:pt x="1451181" y="4171802"/>
                    <a:pt x="1492217" y="4158277"/>
                    <a:pt x="1524000" y="4132850"/>
                  </a:cubicBezTo>
                  <a:cubicBezTo>
                    <a:pt x="1548933" y="4112903"/>
                    <a:pt x="1623664" y="4065116"/>
                    <a:pt x="1591734" y="4065116"/>
                  </a:cubicBezTo>
                  <a:cubicBezTo>
                    <a:pt x="1520337" y="4065116"/>
                    <a:pt x="1388534" y="4132850"/>
                    <a:pt x="1388534" y="4132850"/>
                  </a:cubicBezTo>
                  <a:cubicBezTo>
                    <a:pt x="1408774" y="4072128"/>
                    <a:pt x="1448283" y="3937634"/>
                    <a:pt x="1490134" y="3895783"/>
                  </a:cubicBezTo>
                  <a:cubicBezTo>
                    <a:pt x="1525832" y="3860085"/>
                    <a:pt x="1580445" y="3850628"/>
                    <a:pt x="1625600" y="3828050"/>
                  </a:cubicBezTo>
                  <a:cubicBezTo>
                    <a:pt x="1591733" y="3816761"/>
                    <a:pt x="1532658" y="3828816"/>
                    <a:pt x="1524000" y="3794183"/>
                  </a:cubicBezTo>
                  <a:cubicBezTo>
                    <a:pt x="1507873" y="3729675"/>
                    <a:pt x="1664305" y="3644202"/>
                    <a:pt x="1693334" y="3624850"/>
                  </a:cubicBezTo>
                  <a:cubicBezTo>
                    <a:pt x="1719242" y="3521215"/>
                    <a:pt x="1716972" y="3465744"/>
                    <a:pt x="1794934" y="3387783"/>
                  </a:cubicBezTo>
                  <a:cubicBezTo>
                    <a:pt x="1823715" y="3359002"/>
                    <a:pt x="1862667" y="3342628"/>
                    <a:pt x="1896534" y="3320050"/>
                  </a:cubicBezTo>
                  <a:cubicBezTo>
                    <a:pt x="1862667" y="3308761"/>
                    <a:pt x="1803592" y="3320816"/>
                    <a:pt x="1794934" y="3286183"/>
                  </a:cubicBezTo>
                  <a:cubicBezTo>
                    <a:pt x="1785062" y="3246696"/>
                    <a:pt x="1831763" y="3211072"/>
                    <a:pt x="1862667" y="3184583"/>
                  </a:cubicBezTo>
                  <a:cubicBezTo>
                    <a:pt x="1976213" y="3087258"/>
                    <a:pt x="2049114" y="3089220"/>
                    <a:pt x="2167467" y="3015250"/>
                  </a:cubicBezTo>
                  <a:cubicBezTo>
                    <a:pt x="2401792" y="2868798"/>
                    <a:pt x="2204925" y="2946320"/>
                    <a:pt x="2404534" y="2879783"/>
                  </a:cubicBezTo>
                  <a:cubicBezTo>
                    <a:pt x="2381956" y="2857205"/>
                    <a:pt x="2368730" y="2812050"/>
                    <a:pt x="2336800" y="2812050"/>
                  </a:cubicBezTo>
                  <a:cubicBezTo>
                    <a:pt x="2296097" y="2812050"/>
                    <a:pt x="2272612" y="2863749"/>
                    <a:pt x="2235200" y="2879783"/>
                  </a:cubicBezTo>
                  <a:cubicBezTo>
                    <a:pt x="2192418" y="2898118"/>
                    <a:pt x="2144889" y="2902361"/>
                    <a:pt x="2099734" y="2913650"/>
                  </a:cubicBezTo>
                  <a:cubicBezTo>
                    <a:pt x="2187847" y="2649305"/>
                    <a:pt x="2043500" y="3031869"/>
                    <a:pt x="2302934" y="2642716"/>
                  </a:cubicBezTo>
                  <a:cubicBezTo>
                    <a:pt x="2397234" y="2501265"/>
                    <a:pt x="2341886" y="2569897"/>
                    <a:pt x="2472267" y="2439516"/>
                  </a:cubicBezTo>
                  <a:cubicBezTo>
                    <a:pt x="2431070" y="2377720"/>
                    <a:pt x="2402507" y="2289825"/>
                    <a:pt x="2302934" y="2304050"/>
                  </a:cubicBezTo>
                  <a:cubicBezTo>
                    <a:pt x="2252956" y="2311190"/>
                    <a:pt x="2214738" y="2354056"/>
                    <a:pt x="2167467" y="2371783"/>
                  </a:cubicBezTo>
                  <a:cubicBezTo>
                    <a:pt x="1798583" y="2510114"/>
                    <a:pt x="2273683" y="2284809"/>
                    <a:pt x="1896534" y="2473383"/>
                  </a:cubicBezTo>
                  <a:cubicBezTo>
                    <a:pt x="1919112" y="2416939"/>
                    <a:pt x="1932047" y="2355602"/>
                    <a:pt x="1964267" y="2304050"/>
                  </a:cubicBezTo>
                  <a:cubicBezTo>
                    <a:pt x="2012749" y="2226478"/>
                    <a:pt x="2137188" y="2155832"/>
                    <a:pt x="2201334" y="2100850"/>
                  </a:cubicBezTo>
                  <a:cubicBezTo>
                    <a:pt x="2237698" y="2069681"/>
                    <a:pt x="2257923" y="2015618"/>
                    <a:pt x="2302934" y="1999250"/>
                  </a:cubicBezTo>
                  <a:cubicBezTo>
                    <a:pt x="2388468" y="1968147"/>
                    <a:pt x="2483556" y="1976672"/>
                    <a:pt x="2573867" y="1965383"/>
                  </a:cubicBezTo>
                  <a:cubicBezTo>
                    <a:pt x="2630311" y="1931516"/>
                    <a:pt x="2689636" y="1902043"/>
                    <a:pt x="2743200" y="1863783"/>
                  </a:cubicBezTo>
                  <a:cubicBezTo>
                    <a:pt x="2769182" y="1845224"/>
                    <a:pt x="2833511" y="1818628"/>
                    <a:pt x="2810934" y="1796050"/>
                  </a:cubicBezTo>
                  <a:cubicBezTo>
                    <a:pt x="2785692" y="1770807"/>
                    <a:pt x="2743201" y="1818627"/>
                    <a:pt x="2709334" y="1829916"/>
                  </a:cubicBezTo>
                  <a:cubicBezTo>
                    <a:pt x="2675467" y="1852494"/>
                    <a:pt x="2639518" y="1872223"/>
                    <a:pt x="2607734" y="1897650"/>
                  </a:cubicBezTo>
                  <a:cubicBezTo>
                    <a:pt x="2582801" y="1917596"/>
                    <a:pt x="2517422" y="1987961"/>
                    <a:pt x="2540000" y="1965383"/>
                  </a:cubicBezTo>
                  <a:lnTo>
                    <a:pt x="2675467" y="1829916"/>
                  </a:lnTo>
                  <a:cubicBezTo>
                    <a:pt x="2812766" y="1692617"/>
                    <a:pt x="2734229" y="1749735"/>
                    <a:pt x="2912534" y="1660583"/>
                  </a:cubicBezTo>
                  <a:cubicBezTo>
                    <a:pt x="2946401" y="1615427"/>
                    <a:pt x="2971278" y="1561850"/>
                    <a:pt x="3014134" y="1525116"/>
                  </a:cubicBezTo>
                  <a:cubicBezTo>
                    <a:pt x="3052465" y="1492261"/>
                    <a:pt x="3105767" y="1482431"/>
                    <a:pt x="3149600" y="1457383"/>
                  </a:cubicBezTo>
                  <a:cubicBezTo>
                    <a:pt x="3184940" y="1437189"/>
                    <a:pt x="3217333" y="1412228"/>
                    <a:pt x="3251200" y="1389650"/>
                  </a:cubicBezTo>
                  <a:cubicBezTo>
                    <a:pt x="3239911" y="1423517"/>
                    <a:pt x="3251201" y="1479961"/>
                    <a:pt x="3217334" y="1491250"/>
                  </a:cubicBezTo>
                  <a:cubicBezTo>
                    <a:pt x="3187042" y="1501347"/>
                    <a:pt x="3149600" y="1455446"/>
                    <a:pt x="3149600" y="1423516"/>
                  </a:cubicBezTo>
                  <a:cubicBezTo>
                    <a:pt x="3149600" y="1382813"/>
                    <a:pt x="3194756" y="1355783"/>
                    <a:pt x="3217334" y="1321916"/>
                  </a:cubicBezTo>
                  <a:cubicBezTo>
                    <a:pt x="3270944" y="1107475"/>
                    <a:pt x="3225381" y="1225179"/>
                    <a:pt x="3386667" y="983250"/>
                  </a:cubicBezTo>
                  <a:lnTo>
                    <a:pt x="3454400" y="881650"/>
                  </a:lnTo>
                  <a:cubicBezTo>
                    <a:pt x="3476978" y="847783"/>
                    <a:pt x="3550915" y="751269"/>
                    <a:pt x="3522134" y="780050"/>
                  </a:cubicBezTo>
                  <a:cubicBezTo>
                    <a:pt x="3488267" y="813917"/>
                    <a:pt x="3468429" y="881650"/>
                    <a:pt x="3420534" y="881650"/>
                  </a:cubicBezTo>
                  <a:cubicBezTo>
                    <a:pt x="3379831" y="881650"/>
                    <a:pt x="3462840" y="811834"/>
                    <a:pt x="3488267" y="780050"/>
                  </a:cubicBezTo>
                  <a:cubicBezTo>
                    <a:pt x="3508213" y="755117"/>
                    <a:pt x="3533422" y="734894"/>
                    <a:pt x="3556000" y="712316"/>
                  </a:cubicBezTo>
                  <a:cubicBezTo>
                    <a:pt x="3672034" y="364218"/>
                    <a:pt x="3542543" y="624173"/>
                    <a:pt x="3759200" y="407516"/>
                  </a:cubicBezTo>
                  <a:cubicBezTo>
                    <a:pt x="3984974" y="181742"/>
                    <a:pt x="3657605" y="418801"/>
                    <a:pt x="3928534" y="238183"/>
                  </a:cubicBezTo>
                  <a:cubicBezTo>
                    <a:pt x="3917245" y="193027"/>
                    <a:pt x="3894667" y="149261"/>
                    <a:pt x="3894667" y="102716"/>
                  </a:cubicBezTo>
                  <a:cubicBezTo>
                    <a:pt x="3894667" y="67017"/>
                    <a:pt x="3894667" y="-10173"/>
                    <a:pt x="3928534" y="1116"/>
                  </a:cubicBezTo>
                  <a:cubicBezTo>
                    <a:pt x="3976429" y="17081"/>
                    <a:pt x="3973689" y="91427"/>
                    <a:pt x="3996267" y="136583"/>
                  </a:cubicBezTo>
                  <a:cubicBezTo>
                    <a:pt x="4007556" y="294627"/>
                    <a:pt x="4012637" y="453238"/>
                    <a:pt x="4030134" y="610716"/>
                  </a:cubicBezTo>
                  <a:cubicBezTo>
                    <a:pt x="4035274" y="656977"/>
                    <a:pt x="4064000" y="699638"/>
                    <a:pt x="4064000" y="746183"/>
                  </a:cubicBezTo>
                  <a:cubicBezTo>
                    <a:pt x="4064000" y="781882"/>
                    <a:pt x="4046099" y="676513"/>
                    <a:pt x="4030134" y="644583"/>
                  </a:cubicBezTo>
                  <a:cubicBezTo>
                    <a:pt x="4011931" y="608177"/>
                    <a:pt x="3984978" y="576850"/>
                    <a:pt x="3962400" y="542983"/>
                  </a:cubicBezTo>
                  <a:cubicBezTo>
                    <a:pt x="3951111" y="509116"/>
                    <a:pt x="3896604" y="457348"/>
                    <a:pt x="3928534" y="441383"/>
                  </a:cubicBezTo>
                  <a:cubicBezTo>
                    <a:pt x="3964940" y="423180"/>
                    <a:pt x="3998351" y="483689"/>
                    <a:pt x="4030134" y="509116"/>
                  </a:cubicBezTo>
                  <a:cubicBezTo>
                    <a:pt x="4055067" y="529062"/>
                    <a:pt x="4077921" y="551917"/>
                    <a:pt x="4097867" y="576850"/>
                  </a:cubicBezTo>
                  <a:cubicBezTo>
                    <a:pt x="4123294" y="608634"/>
                    <a:pt x="4133817" y="653023"/>
                    <a:pt x="4165600" y="678450"/>
                  </a:cubicBezTo>
                  <a:cubicBezTo>
                    <a:pt x="4193476" y="700751"/>
                    <a:pt x="4233333" y="701027"/>
                    <a:pt x="4267200" y="712316"/>
                  </a:cubicBezTo>
                  <a:cubicBezTo>
                    <a:pt x="4301067" y="768761"/>
                    <a:pt x="4333913" y="825830"/>
                    <a:pt x="4368800" y="881650"/>
                  </a:cubicBezTo>
                  <a:cubicBezTo>
                    <a:pt x="4390372" y="916166"/>
                    <a:pt x="4420500" y="945838"/>
                    <a:pt x="4436534" y="983250"/>
                  </a:cubicBezTo>
                  <a:cubicBezTo>
                    <a:pt x="4454869" y="1026032"/>
                    <a:pt x="4454057" y="1075135"/>
                    <a:pt x="4470400" y="1118716"/>
                  </a:cubicBezTo>
                  <a:cubicBezTo>
                    <a:pt x="4488127" y="1165987"/>
                    <a:pt x="4515556" y="1209027"/>
                    <a:pt x="4538134" y="1254183"/>
                  </a:cubicBezTo>
                  <a:cubicBezTo>
                    <a:pt x="4549423" y="1299339"/>
                    <a:pt x="4551184" y="1348019"/>
                    <a:pt x="4572000" y="1389650"/>
                  </a:cubicBezTo>
                  <a:cubicBezTo>
                    <a:pt x="4586279" y="1418209"/>
                    <a:pt x="4625455" y="1428824"/>
                    <a:pt x="4639734" y="1457383"/>
                  </a:cubicBezTo>
                  <a:cubicBezTo>
                    <a:pt x="4660550" y="1499014"/>
                    <a:pt x="4650507" y="1552437"/>
                    <a:pt x="4673600" y="1592850"/>
                  </a:cubicBezTo>
                  <a:cubicBezTo>
                    <a:pt x="4697362" y="1634434"/>
                    <a:pt x="4747362" y="1655477"/>
                    <a:pt x="4775200" y="1694450"/>
                  </a:cubicBezTo>
                  <a:cubicBezTo>
                    <a:pt x="4967106" y="1963116"/>
                    <a:pt x="4750456" y="1710412"/>
                    <a:pt x="4876800" y="1931516"/>
                  </a:cubicBezTo>
                  <a:cubicBezTo>
                    <a:pt x="4904804" y="1980524"/>
                    <a:pt x="4946031" y="2020742"/>
                    <a:pt x="4978400" y="2066983"/>
                  </a:cubicBezTo>
                  <a:cubicBezTo>
                    <a:pt x="5025083" y="2133673"/>
                    <a:pt x="5046134" y="2225028"/>
                    <a:pt x="5113867" y="2270183"/>
                  </a:cubicBezTo>
                  <a:cubicBezTo>
                    <a:pt x="5147734" y="2292761"/>
                    <a:pt x="5183684" y="2312489"/>
                    <a:pt x="5215467" y="2337916"/>
                  </a:cubicBezTo>
                  <a:cubicBezTo>
                    <a:pt x="5240400" y="2357862"/>
                    <a:pt x="5305778" y="2383072"/>
                    <a:pt x="5283200" y="2405650"/>
                  </a:cubicBezTo>
                  <a:cubicBezTo>
                    <a:pt x="5257957" y="2430893"/>
                    <a:pt x="5181600" y="2336084"/>
                    <a:pt x="5181600" y="2371783"/>
                  </a:cubicBezTo>
                  <a:cubicBezTo>
                    <a:pt x="5181600" y="2412486"/>
                    <a:pt x="5249333" y="2416938"/>
                    <a:pt x="5283200" y="2439516"/>
                  </a:cubicBezTo>
                  <a:cubicBezTo>
                    <a:pt x="5294489" y="2473383"/>
                    <a:pt x="5303005" y="2508304"/>
                    <a:pt x="5317067" y="2541116"/>
                  </a:cubicBezTo>
                  <a:cubicBezTo>
                    <a:pt x="5336954" y="2587520"/>
                    <a:pt x="5393100" y="2626784"/>
                    <a:pt x="5384800" y="2676583"/>
                  </a:cubicBezTo>
                  <a:cubicBezTo>
                    <a:pt x="5378108" y="2716732"/>
                    <a:pt x="5317067" y="2721738"/>
                    <a:pt x="5283200" y="2744316"/>
                  </a:cubicBezTo>
                  <a:cubicBezTo>
                    <a:pt x="5395839" y="2969593"/>
                    <a:pt x="5298659" y="2795428"/>
                    <a:pt x="5452534" y="3015250"/>
                  </a:cubicBezTo>
                  <a:cubicBezTo>
                    <a:pt x="5499217" y="3081940"/>
                    <a:pt x="5588000" y="3218450"/>
                    <a:pt x="5588000" y="3218450"/>
                  </a:cubicBezTo>
                  <a:cubicBezTo>
                    <a:pt x="5554133" y="3229739"/>
                    <a:pt x="5495058" y="3217683"/>
                    <a:pt x="5486400" y="3252316"/>
                  </a:cubicBezTo>
                  <a:cubicBezTo>
                    <a:pt x="5476528" y="3291804"/>
                    <a:pt x="5537603" y="3316721"/>
                    <a:pt x="5554134" y="3353916"/>
                  </a:cubicBezTo>
                  <a:cubicBezTo>
                    <a:pt x="5583131" y="3419160"/>
                    <a:pt x="5599289" y="3489383"/>
                    <a:pt x="5621867" y="3557116"/>
                  </a:cubicBezTo>
                  <a:cubicBezTo>
                    <a:pt x="5644445" y="3624849"/>
                    <a:pt x="5646762" y="3703198"/>
                    <a:pt x="5689600" y="3760316"/>
                  </a:cubicBezTo>
                  <a:lnTo>
                    <a:pt x="5791200" y="3895783"/>
                  </a:lnTo>
                  <a:cubicBezTo>
                    <a:pt x="5802489" y="3940939"/>
                    <a:pt x="5808724" y="3987668"/>
                    <a:pt x="5825067" y="4031250"/>
                  </a:cubicBezTo>
                  <a:cubicBezTo>
                    <a:pt x="5842794" y="4078521"/>
                    <a:pt x="5892800" y="4116231"/>
                    <a:pt x="5892800" y="4166716"/>
                  </a:cubicBezTo>
                  <a:lnTo>
                    <a:pt x="5825067" y="4234450"/>
                  </a:lnTo>
                  <a:cubicBezTo>
                    <a:pt x="5848081" y="4265135"/>
                    <a:pt x="5969638" y="4421991"/>
                    <a:pt x="5994400" y="4471516"/>
                  </a:cubicBezTo>
                  <a:cubicBezTo>
                    <a:pt x="6021587" y="4525891"/>
                    <a:pt x="6042910" y="4583177"/>
                    <a:pt x="6062134" y="4640850"/>
                  </a:cubicBezTo>
                  <a:cubicBezTo>
                    <a:pt x="6076853" y="4685006"/>
                    <a:pt x="6134728" y="4750498"/>
                    <a:pt x="6096000" y="4776316"/>
                  </a:cubicBezTo>
                  <a:cubicBezTo>
                    <a:pt x="6062420" y="4798702"/>
                    <a:pt x="5858934" y="4638466"/>
                    <a:pt x="5858934" y="4606983"/>
                  </a:cubicBezTo>
                  <a:cubicBezTo>
                    <a:pt x="5858934" y="4571284"/>
                    <a:pt x="5926667" y="4629561"/>
                    <a:pt x="5960534" y="4640850"/>
                  </a:cubicBezTo>
                  <a:cubicBezTo>
                    <a:pt x="5986987" y="4680530"/>
                    <a:pt x="6096000" y="4834949"/>
                    <a:pt x="6096000" y="4877916"/>
                  </a:cubicBezTo>
                  <a:cubicBezTo>
                    <a:pt x="6096000" y="4918619"/>
                    <a:pt x="6050845" y="4945649"/>
                    <a:pt x="6028267" y="4979516"/>
                  </a:cubicBezTo>
                  <a:cubicBezTo>
                    <a:pt x="5977973" y="4904074"/>
                    <a:pt x="5961741" y="4865335"/>
                    <a:pt x="5892800" y="4810183"/>
                  </a:cubicBezTo>
                  <a:cubicBezTo>
                    <a:pt x="5861016" y="4784756"/>
                    <a:pt x="5831903" y="4742450"/>
                    <a:pt x="5791200" y="4742450"/>
                  </a:cubicBezTo>
                  <a:cubicBezTo>
                    <a:pt x="5759270" y="4742450"/>
                    <a:pt x="5838493" y="4785654"/>
                    <a:pt x="5858934" y="4810183"/>
                  </a:cubicBezTo>
                  <a:cubicBezTo>
                    <a:pt x="5895069" y="4853545"/>
                    <a:pt x="5931494" y="4897249"/>
                    <a:pt x="5960534" y="4945650"/>
                  </a:cubicBezTo>
                  <a:cubicBezTo>
                    <a:pt x="6214216" y="5368453"/>
                    <a:pt x="5922157" y="4962215"/>
                    <a:pt x="6163734" y="5284316"/>
                  </a:cubicBezTo>
                  <a:cubicBezTo>
                    <a:pt x="6175023" y="5329472"/>
                    <a:pt x="6184813" y="5375029"/>
                    <a:pt x="6197600" y="5419783"/>
                  </a:cubicBezTo>
                  <a:cubicBezTo>
                    <a:pt x="6207407" y="5454108"/>
                    <a:pt x="6263397" y="5505418"/>
                    <a:pt x="6231467" y="5521383"/>
                  </a:cubicBezTo>
                  <a:cubicBezTo>
                    <a:pt x="6195062" y="5539586"/>
                    <a:pt x="6163734" y="5476228"/>
                    <a:pt x="6129867" y="5453650"/>
                  </a:cubicBezTo>
                  <a:cubicBezTo>
                    <a:pt x="6152445" y="5498805"/>
                    <a:pt x="6167309" y="5548728"/>
                    <a:pt x="6197600" y="5589116"/>
                  </a:cubicBezTo>
                  <a:cubicBezTo>
                    <a:pt x="6235916" y="5640204"/>
                    <a:pt x="6297644" y="5671448"/>
                    <a:pt x="6333067" y="5724583"/>
                  </a:cubicBezTo>
                  <a:cubicBezTo>
                    <a:pt x="6366789" y="5775165"/>
                    <a:pt x="6373613" y="5839542"/>
                    <a:pt x="6400800" y="5893916"/>
                  </a:cubicBezTo>
                  <a:cubicBezTo>
                    <a:pt x="6419003" y="5930322"/>
                    <a:pt x="6444876" y="5962395"/>
                    <a:pt x="6468534" y="5995516"/>
                  </a:cubicBezTo>
                  <a:cubicBezTo>
                    <a:pt x="6501342" y="6041447"/>
                    <a:pt x="6610047" y="6170895"/>
                    <a:pt x="6570134" y="6130983"/>
                  </a:cubicBezTo>
                  <a:cubicBezTo>
                    <a:pt x="6547556" y="6108405"/>
                    <a:pt x="6502400" y="6031320"/>
                    <a:pt x="6502400" y="6063250"/>
                  </a:cubicBezTo>
                  <a:cubicBezTo>
                    <a:pt x="6502400" y="6113735"/>
                    <a:pt x="6540790" y="6157634"/>
                    <a:pt x="6570134" y="6198716"/>
                  </a:cubicBezTo>
                  <a:cubicBezTo>
                    <a:pt x="6597972" y="6237689"/>
                    <a:pt x="6700471" y="6338632"/>
                    <a:pt x="6671734" y="6300316"/>
                  </a:cubicBezTo>
                  <a:lnTo>
                    <a:pt x="6570134" y="6164850"/>
                  </a:lnTo>
                  <a:cubicBezTo>
                    <a:pt x="6676464" y="6483848"/>
                    <a:pt x="6522974" y="6073854"/>
                    <a:pt x="6671734" y="6334183"/>
                  </a:cubicBezTo>
                  <a:cubicBezTo>
                    <a:pt x="6842778" y="6633509"/>
                    <a:pt x="6629101" y="6393150"/>
                    <a:pt x="6841067" y="6605116"/>
                  </a:cubicBezTo>
                  <a:cubicBezTo>
                    <a:pt x="6852356" y="6638983"/>
                    <a:pt x="6906864" y="6690751"/>
                    <a:pt x="6874934" y="6706716"/>
                  </a:cubicBezTo>
                  <a:cubicBezTo>
                    <a:pt x="6838529" y="6724919"/>
                    <a:pt x="6798761" y="6670766"/>
                    <a:pt x="6773334" y="6638983"/>
                  </a:cubicBezTo>
                  <a:cubicBezTo>
                    <a:pt x="6751033" y="6611107"/>
                    <a:pt x="6759269" y="6567086"/>
                    <a:pt x="6739467" y="6537383"/>
                  </a:cubicBezTo>
                  <a:cubicBezTo>
                    <a:pt x="6687314" y="6459154"/>
                    <a:pt x="6611237" y="6418030"/>
                    <a:pt x="6536267" y="6368050"/>
                  </a:cubicBezTo>
                  <a:cubicBezTo>
                    <a:pt x="6524978" y="6401917"/>
                    <a:pt x="6491111" y="6435783"/>
                    <a:pt x="6502400" y="6469650"/>
                  </a:cubicBezTo>
                  <a:cubicBezTo>
                    <a:pt x="6545123" y="6597818"/>
                    <a:pt x="6680847" y="6715830"/>
                    <a:pt x="6773334" y="6808316"/>
                  </a:cubicBezTo>
                  <a:cubicBezTo>
                    <a:pt x="6784623" y="6842183"/>
                    <a:pt x="6788833" y="6879305"/>
                    <a:pt x="6807200" y="6909916"/>
                  </a:cubicBezTo>
                  <a:cubicBezTo>
                    <a:pt x="6839371" y="6963535"/>
                    <a:pt x="6983524" y="7050044"/>
                    <a:pt x="6773334" y="6909916"/>
                  </a:cubicBezTo>
                  <a:cubicBezTo>
                    <a:pt x="6750756" y="6876049"/>
                    <a:pt x="6725794" y="6843656"/>
                    <a:pt x="6705600" y="6808316"/>
                  </a:cubicBezTo>
                  <a:cubicBezTo>
                    <a:pt x="6680552" y="6764483"/>
                    <a:pt x="6668862" y="6712701"/>
                    <a:pt x="6637867" y="6672850"/>
                  </a:cubicBezTo>
                  <a:cubicBezTo>
                    <a:pt x="6588860" y="6609840"/>
                    <a:pt x="6468534" y="6503516"/>
                    <a:pt x="6468534" y="6503516"/>
                  </a:cubicBezTo>
                  <a:cubicBezTo>
                    <a:pt x="6553657" y="6758890"/>
                    <a:pt x="6438831" y="6444110"/>
                    <a:pt x="6570134" y="6706716"/>
                  </a:cubicBezTo>
                  <a:cubicBezTo>
                    <a:pt x="6586099" y="6738646"/>
                    <a:pt x="6588035" y="6776386"/>
                    <a:pt x="6604000" y="6808316"/>
                  </a:cubicBezTo>
                  <a:cubicBezTo>
                    <a:pt x="6622203" y="6844722"/>
                    <a:pt x="6646307" y="6878132"/>
                    <a:pt x="6671734" y="6909916"/>
                  </a:cubicBezTo>
                  <a:cubicBezTo>
                    <a:pt x="6691680" y="6934849"/>
                    <a:pt x="6771397" y="6977650"/>
                    <a:pt x="6739467" y="6977650"/>
                  </a:cubicBezTo>
                  <a:cubicBezTo>
                    <a:pt x="6698764" y="6977650"/>
                    <a:pt x="6671734" y="6932494"/>
                    <a:pt x="6637867" y="6909916"/>
                  </a:cubicBezTo>
                  <a:cubicBezTo>
                    <a:pt x="6615289" y="6876049"/>
                    <a:pt x="6595561" y="6840099"/>
                    <a:pt x="6570134" y="6808316"/>
                  </a:cubicBezTo>
                  <a:cubicBezTo>
                    <a:pt x="6550188" y="6783383"/>
                    <a:pt x="6524978" y="6718005"/>
                    <a:pt x="6502400" y="6740583"/>
                  </a:cubicBezTo>
                  <a:cubicBezTo>
                    <a:pt x="6477157" y="6765826"/>
                    <a:pt x="6522205" y="6809371"/>
                    <a:pt x="6536267" y="6842183"/>
                  </a:cubicBezTo>
                  <a:cubicBezTo>
                    <a:pt x="6598751" y="6987979"/>
                    <a:pt x="6643161" y="7036393"/>
                    <a:pt x="6739467" y="7180850"/>
                  </a:cubicBezTo>
                  <a:cubicBezTo>
                    <a:pt x="6762045" y="7214717"/>
                    <a:pt x="6705601" y="7101828"/>
                    <a:pt x="6671734" y="7079250"/>
                  </a:cubicBezTo>
                  <a:lnTo>
                    <a:pt x="6570134" y="7011516"/>
                  </a:lnTo>
                  <a:cubicBezTo>
                    <a:pt x="6592712" y="7056672"/>
                    <a:pt x="6611110" y="7104171"/>
                    <a:pt x="6637867" y="7146983"/>
                  </a:cubicBezTo>
                  <a:cubicBezTo>
                    <a:pt x="6667782" y="7194848"/>
                    <a:pt x="6711463" y="7233442"/>
                    <a:pt x="6739467" y="7282450"/>
                  </a:cubicBezTo>
                  <a:cubicBezTo>
                    <a:pt x="6757178" y="7313445"/>
                    <a:pt x="6798577" y="7358808"/>
                    <a:pt x="6773334" y="7384050"/>
                  </a:cubicBezTo>
                  <a:cubicBezTo>
                    <a:pt x="6750756" y="7406628"/>
                    <a:pt x="6729843" y="7337096"/>
                    <a:pt x="6705600" y="7316316"/>
                  </a:cubicBezTo>
                  <a:cubicBezTo>
                    <a:pt x="6650718" y="7269274"/>
                    <a:pt x="6592711" y="7226005"/>
                    <a:pt x="6536267" y="7180850"/>
                  </a:cubicBezTo>
                  <a:cubicBezTo>
                    <a:pt x="6615289" y="7417917"/>
                    <a:pt x="6536267" y="7406628"/>
                    <a:pt x="6705600" y="7350183"/>
                  </a:cubicBezTo>
                  <a:cubicBezTo>
                    <a:pt x="6624162" y="7228025"/>
                    <a:pt x="6573856" y="7138175"/>
                    <a:pt x="6434667" y="7045383"/>
                  </a:cubicBezTo>
                  <a:cubicBezTo>
                    <a:pt x="6400800" y="7022805"/>
                    <a:pt x="6365629" y="7002072"/>
                    <a:pt x="6333067" y="6977650"/>
                  </a:cubicBezTo>
                  <a:cubicBezTo>
                    <a:pt x="6275240" y="6934279"/>
                    <a:pt x="6225717" y="6879373"/>
                    <a:pt x="6163734" y="6842183"/>
                  </a:cubicBezTo>
                  <a:cubicBezTo>
                    <a:pt x="6111605" y="6810905"/>
                    <a:pt x="6050845" y="6797028"/>
                    <a:pt x="5994400" y="6774450"/>
                  </a:cubicBezTo>
                  <a:cubicBezTo>
                    <a:pt x="6017016" y="6853606"/>
                    <a:pt x="6092381" y="7130372"/>
                    <a:pt x="6129867" y="7214716"/>
                  </a:cubicBezTo>
                  <a:cubicBezTo>
                    <a:pt x="6181986" y="7331985"/>
                    <a:pt x="6194962" y="7296085"/>
                    <a:pt x="6265334" y="7384050"/>
                  </a:cubicBezTo>
                  <a:cubicBezTo>
                    <a:pt x="6290761" y="7415833"/>
                    <a:pt x="6369473" y="7467448"/>
                    <a:pt x="6333067" y="7485650"/>
                  </a:cubicBezTo>
                  <a:lnTo>
                    <a:pt x="6197600" y="7417916"/>
                  </a:lnTo>
                  <a:cubicBezTo>
                    <a:pt x="6175022" y="7384049"/>
                    <a:pt x="6155924" y="7347585"/>
                    <a:pt x="6129867" y="7316316"/>
                  </a:cubicBezTo>
                  <a:cubicBezTo>
                    <a:pt x="6099206" y="7279522"/>
                    <a:pt x="6049686" y="7171878"/>
                    <a:pt x="6028267" y="7214716"/>
                  </a:cubicBezTo>
                  <a:cubicBezTo>
                    <a:pt x="5959584" y="7352081"/>
                    <a:pt x="6163734" y="7380175"/>
                    <a:pt x="6163734" y="7485650"/>
                  </a:cubicBezTo>
                  <a:cubicBezTo>
                    <a:pt x="6163734" y="7517580"/>
                    <a:pt x="6120933" y="7437863"/>
                    <a:pt x="6096000" y="7417916"/>
                  </a:cubicBezTo>
                  <a:cubicBezTo>
                    <a:pt x="6064217" y="7392489"/>
                    <a:pt x="6028267" y="7372761"/>
                    <a:pt x="5994400" y="7350183"/>
                  </a:cubicBezTo>
                  <a:cubicBezTo>
                    <a:pt x="6005689" y="7384050"/>
                    <a:pt x="6057970" y="7431981"/>
                    <a:pt x="6028267" y="7451783"/>
                  </a:cubicBezTo>
                  <a:cubicBezTo>
                    <a:pt x="5989539" y="7477602"/>
                    <a:pt x="5934432" y="7438732"/>
                    <a:pt x="5892800" y="7417916"/>
                  </a:cubicBezTo>
                  <a:cubicBezTo>
                    <a:pt x="5819989" y="7381511"/>
                    <a:pt x="5753857" y="7332428"/>
                    <a:pt x="5689600" y="7282450"/>
                  </a:cubicBezTo>
                  <a:cubicBezTo>
                    <a:pt x="5589736" y="7204778"/>
                    <a:pt x="5601916" y="7162623"/>
                    <a:pt x="5486400" y="7113116"/>
                  </a:cubicBezTo>
                  <a:cubicBezTo>
                    <a:pt x="5443618" y="7094781"/>
                    <a:pt x="5396089" y="7090539"/>
                    <a:pt x="5350934" y="7079250"/>
                  </a:cubicBezTo>
                  <a:cubicBezTo>
                    <a:pt x="5350934" y="7079250"/>
                    <a:pt x="5416399" y="7171354"/>
                    <a:pt x="5452534" y="7214716"/>
                  </a:cubicBezTo>
                  <a:cubicBezTo>
                    <a:pt x="5472975" y="7239245"/>
                    <a:pt x="5500321" y="7257517"/>
                    <a:pt x="5520267" y="7282450"/>
                  </a:cubicBezTo>
                  <a:cubicBezTo>
                    <a:pt x="5545694" y="7314234"/>
                    <a:pt x="5616782" y="7355269"/>
                    <a:pt x="5588000" y="7384050"/>
                  </a:cubicBezTo>
                  <a:cubicBezTo>
                    <a:pt x="5559218" y="7412831"/>
                    <a:pt x="5522806" y="7334519"/>
                    <a:pt x="5486400" y="7316316"/>
                  </a:cubicBezTo>
                  <a:cubicBezTo>
                    <a:pt x="5454470" y="7300351"/>
                    <a:pt x="5418667" y="7293739"/>
                    <a:pt x="5384800" y="7282450"/>
                  </a:cubicBezTo>
                  <a:cubicBezTo>
                    <a:pt x="5350933" y="7293739"/>
                    <a:pt x="5291858" y="7281683"/>
                    <a:pt x="5283200" y="7316316"/>
                  </a:cubicBezTo>
                  <a:cubicBezTo>
                    <a:pt x="5273328" y="7355804"/>
                    <a:pt x="5325507" y="7386132"/>
                    <a:pt x="5350934" y="7417916"/>
                  </a:cubicBezTo>
                  <a:cubicBezTo>
                    <a:pt x="5370880" y="7442849"/>
                    <a:pt x="5447226" y="7499929"/>
                    <a:pt x="5418667" y="7485650"/>
                  </a:cubicBezTo>
                  <a:cubicBezTo>
                    <a:pt x="5345856" y="7449245"/>
                    <a:pt x="5292695" y="7375926"/>
                    <a:pt x="5215467" y="7350183"/>
                  </a:cubicBezTo>
                  <a:cubicBezTo>
                    <a:pt x="5181600" y="7338894"/>
                    <a:pt x="5145797" y="7332281"/>
                    <a:pt x="5113867" y="7316316"/>
                  </a:cubicBezTo>
                  <a:cubicBezTo>
                    <a:pt x="5077461" y="7298113"/>
                    <a:pt x="4971564" y="7248583"/>
                    <a:pt x="5012267" y="7248583"/>
                  </a:cubicBezTo>
                  <a:cubicBezTo>
                    <a:pt x="5062752" y="7248583"/>
                    <a:pt x="5102578" y="7293738"/>
                    <a:pt x="5147734" y="7316316"/>
                  </a:cubicBezTo>
                  <a:cubicBezTo>
                    <a:pt x="5181601" y="7293738"/>
                    <a:pt x="5262205" y="7287197"/>
                    <a:pt x="5249334" y="7248583"/>
                  </a:cubicBezTo>
                  <a:cubicBezTo>
                    <a:pt x="5234615" y="7204426"/>
                    <a:pt x="5157083" y="7197430"/>
                    <a:pt x="5113867" y="7214716"/>
                  </a:cubicBezTo>
                  <a:cubicBezTo>
                    <a:pt x="5080722" y="7227974"/>
                    <a:pt x="5091289" y="7282449"/>
                    <a:pt x="5080000" y="7316316"/>
                  </a:cubicBezTo>
                  <a:cubicBezTo>
                    <a:pt x="5102578" y="7350183"/>
                    <a:pt x="5122307" y="7386132"/>
                    <a:pt x="5147734" y="7417916"/>
                  </a:cubicBezTo>
                  <a:cubicBezTo>
                    <a:pt x="5167680" y="7442849"/>
                    <a:pt x="5201188" y="7457091"/>
                    <a:pt x="5215467" y="7485650"/>
                  </a:cubicBezTo>
                  <a:cubicBezTo>
                    <a:pt x="5236283" y="7527281"/>
                    <a:pt x="5230999" y="7578334"/>
                    <a:pt x="5249334" y="7621116"/>
                  </a:cubicBezTo>
                  <a:cubicBezTo>
                    <a:pt x="5265368" y="7658528"/>
                    <a:pt x="5356554" y="7732588"/>
                    <a:pt x="5317067" y="7722716"/>
                  </a:cubicBezTo>
                  <a:cubicBezTo>
                    <a:pt x="5238092" y="7702973"/>
                    <a:pt x="5113867" y="7587250"/>
                    <a:pt x="5113867" y="7587250"/>
                  </a:cubicBezTo>
                  <a:cubicBezTo>
                    <a:pt x="5125156" y="7621117"/>
                    <a:pt x="5177437" y="7708652"/>
                    <a:pt x="5147734" y="7688850"/>
                  </a:cubicBezTo>
                  <a:lnTo>
                    <a:pt x="5046134" y="7621116"/>
                  </a:lnTo>
                  <a:cubicBezTo>
                    <a:pt x="5023556" y="7643694"/>
                    <a:pt x="4978400" y="7656920"/>
                    <a:pt x="4978400" y="7688850"/>
                  </a:cubicBezTo>
                  <a:cubicBezTo>
                    <a:pt x="4978400" y="7888085"/>
                    <a:pt x="5176751" y="7791661"/>
                    <a:pt x="4910667" y="7858183"/>
                  </a:cubicBezTo>
                  <a:cubicBezTo>
                    <a:pt x="4854223" y="7813027"/>
                    <a:pt x="4796216" y="7769758"/>
                    <a:pt x="4741334" y="7722716"/>
                  </a:cubicBezTo>
                  <a:cubicBezTo>
                    <a:pt x="4717091" y="7701936"/>
                    <a:pt x="4703891" y="7644886"/>
                    <a:pt x="4673600" y="7654983"/>
                  </a:cubicBezTo>
                  <a:cubicBezTo>
                    <a:pt x="4639733" y="7666272"/>
                    <a:pt x="4651023" y="7722716"/>
                    <a:pt x="4639734" y="7756583"/>
                  </a:cubicBezTo>
                  <a:cubicBezTo>
                    <a:pt x="4651023" y="7790450"/>
                    <a:pt x="4709299" y="7858183"/>
                    <a:pt x="4673600" y="7858183"/>
                  </a:cubicBezTo>
                  <a:cubicBezTo>
                    <a:pt x="4625705" y="7858183"/>
                    <a:pt x="4611851" y="7783150"/>
                    <a:pt x="4572000" y="7756583"/>
                  </a:cubicBezTo>
                  <a:cubicBezTo>
                    <a:pt x="4542297" y="7736781"/>
                    <a:pt x="4502330" y="7738681"/>
                    <a:pt x="4470400" y="7722716"/>
                  </a:cubicBezTo>
                  <a:cubicBezTo>
                    <a:pt x="4433994" y="7704513"/>
                    <a:pt x="4409503" y="7654983"/>
                    <a:pt x="4368800" y="7654983"/>
                  </a:cubicBezTo>
                  <a:cubicBezTo>
                    <a:pt x="4336870" y="7654983"/>
                    <a:pt x="4465093" y="7708436"/>
                    <a:pt x="4436534" y="7722716"/>
                  </a:cubicBezTo>
                  <a:cubicBezTo>
                    <a:pt x="4394903" y="7743532"/>
                    <a:pt x="4346223" y="7700139"/>
                    <a:pt x="4301067" y="7688850"/>
                  </a:cubicBezTo>
                  <a:cubicBezTo>
                    <a:pt x="4278489" y="7722717"/>
                    <a:pt x="4271125" y="7775333"/>
                    <a:pt x="4233334" y="7790450"/>
                  </a:cubicBezTo>
                  <a:cubicBezTo>
                    <a:pt x="4200189" y="7803708"/>
                    <a:pt x="4166947" y="7762452"/>
                    <a:pt x="4131734" y="7756583"/>
                  </a:cubicBezTo>
                  <a:cubicBezTo>
                    <a:pt x="4098328" y="7751015"/>
                    <a:pt x="4064001" y="7756583"/>
                    <a:pt x="4030134" y="7756583"/>
                  </a:cubicBezTo>
                  <a:lnTo>
                    <a:pt x="3386667" y="7756583"/>
                  </a:lnTo>
                  <a:lnTo>
                    <a:pt x="3352800" y="768885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任意多边形 214"/>
            <p:cNvSpPr/>
            <p:nvPr/>
          </p:nvSpPr>
          <p:spPr>
            <a:xfrm>
              <a:off x="15919560" y="810720"/>
              <a:ext cx="1224720" cy="3713760"/>
            </a:xfrm>
            <a:custGeom>
              <a:avLst/>
              <a:gdLst>
                <a:gd name="textAreaLeft" fmla="*/ 0 w 1224720"/>
                <a:gd name="textAreaRight" fmla="*/ 1225080 w 1224720"/>
                <a:gd name="textAreaTop" fmla="*/ 0 h 3713760"/>
                <a:gd name="textAreaBottom" fmla="*/ 3714120 h 3713760"/>
              </a:gdLst>
              <a:ahLst/>
              <a:rect l="textAreaLeft" t="textAreaTop" r="textAreaRight" b="textAreaBottom"/>
              <a:pathLst>
                <a:path w="2186923" h="5219454">
                  <a:moveTo>
                    <a:pt x="2186923" y="0"/>
                  </a:moveTo>
                  <a:lnTo>
                    <a:pt x="2186923" y="0"/>
                  </a:lnTo>
                  <a:cubicBezTo>
                    <a:pt x="2051456" y="112889"/>
                    <a:pt x="1905213" y="213977"/>
                    <a:pt x="1780523" y="338667"/>
                  </a:cubicBezTo>
                  <a:cubicBezTo>
                    <a:pt x="1571278" y="547912"/>
                    <a:pt x="1849458" y="428576"/>
                    <a:pt x="1611189" y="508000"/>
                  </a:cubicBezTo>
                  <a:cubicBezTo>
                    <a:pt x="1577322" y="553156"/>
                    <a:pt x="1534832" y="592981"/>
                    <a:pt x="1509589" y="643467"/>
                  </a:cubicBezTo>
                  <a:cubicBezTo>
                    <a:pt x="1384757" y="893131"/>
                    <a:pt x="1565726" y="688930"/>
                    <a:pt x="1407989" y="846667"/>
                  </a:cubicBezTo>
                  <a:cubicBezTo>
                    <a:pt x="1325537" y="1094024"/>
                    <a:pt x="1409522" y="1032551"/>
                    <a:pt x="1204789" y="1083733"/>
                  </a:cubicBezTo>
                  <a:cubicBezTo>
                    <a:pt x="970918" y="1551479"/>
                    <a:pt x="1310047" y="908914"/>
                    <a:pt x="1035456" y="1320800"/>
                  </a:cubicBezTo>
                  <a:cubicBezTo>
                    <a:pt x="1015654" y="1350503"/>
                    <a:pt x="1019300" y="1391405"/>
                    <a:pt x="1001589" y="1422400"/>
                  </a:cubicBezTo>
                  <a:cubicBezTo>
                    <a:pt x="973585" y="1471408"/>
                    <a:pt x="929905" y="1510002"/>
                    <a:pt x="899989" y="1557867"/>
                  </a:cubicBezTo>
                  <a:cubicBezTo>
                    <a:pt x="873232" y="1600678"/>
                    <a:pt x="816291" y="1645439"/>
                    <a:pt x="832256" y="1693333"/>
                  </a:cubicBezTo>
                  <a:cubicBezTo>
                    <a:pt x="843545" y="1727200"/>
                    <a:pt x="899989" y="1670756"/>
                    <a:pt x="933856" y="1659467"/>
                  </a:cubicBezTo>
                  <a:cubicBezTo>
                    <a:pt x="1063884" y="1529437"/>
                    <a:pt x="976578" y="1607889"/>
                    <a:pt x="933856" y="1693333"/>
                  </a:cubicBezTo>
                  <a:cubicBezTo>
                    <a:pt x="917891" y="1725263"/>
                    <a:pt x="915954" y="1763003"/>
                    <a:pt x="899989" y="1794933"/>
                  </a:cubicBezTo>
                  <a:cubicBezTo>
                    <a:pt x="881786" y="1831339"/>
                    <a:pt x="850459" y="1860127"/>
                    <a:pt x="832256" y="1896533"/>
                  </a:cubicBezTo>
                  <a:cubicBezTo>
                    <a:pt x="816291" y="1928463"/>
                    <a:pt x="763384" y="1991132"/>
                    <a:pt x="798389" y="1998133"/>
                  </a:cubicBezTo>
                  <a:cubicBezTo>
                    <a:pt x="868400" y="2012135"/>
                    <a:pt x="933856" y="1952978"/>
                    <a:pt x="1001589" y="1930400"/>
                  </a:cubicBezTo>
                  <a:lnTo>
                    <a:pt x="1103189" y="1896533"/>
                  </a:lnTo>
                  <a:cubicBezTo>
                    <a:pt x="1069322" y="1930400"/>
                    <a:pt x="1029427" y="1959159"/>
                    <a:pt x="1001589" y="1998133"/>
                  </a:cubicBezTo>
                  <a:cubicBezTo>
                    <a:pt x="972245" y="2039215"/>
                    <a:pt x="966176" y="2094816"/>
                    <a:pt x="933856" y="2133600"/>
                  </a:cubicBezTo>
                  <a:cubicBezTo>
                    <a:pt x="907799" y="2164869"/>
                    <a:pt x="866123" y="2178755"/>
                    <a:pt x="832256" y="2201333"/>
                  </a:cubicBezTo>
                  <a:cubicBezTo>
                    <a:pt x="798389" y="2246489"/>
                    <a:pt x="760571" y="2288935"/>
                    <a:pt x="730656" y="2336800"/>
                  </a:cubicBezTo>
                  <a:cubicBezTo>
                    <a:pt x="703899" y="2379612"/>
                    <a:pt x="693214" y="2431879"/>
                    <a:pt x="662923" y="2472267"/>
                  </a:cubicBezTo>
                  <a:cubicBezTo>
                    <a:pt x="624607" y="2523355"/>
                    <a:pt x="572612" y="2562578"/>
                    <a:pt x="527456" y="2607733"/>
                  </a:cubicBezTo>
                  <a:cubicBezTo>
                    <a:pt x="470055" y="2779936"/>
                    <a:pt x="476044" y="2692662"/>
                    <a:pt x="595189" y="2641600"/>
                  </a:cubicBezTo>
                  <a:cubicBezTo>
                    <a:pt x="637971" y="2623265"/>
                    <a:pt x="685500" y="2619022"/>
                    <a:pt x="730656" y="2607733"/>
                  </a:cubicBezTo>
                  <a:cubicBezTo>
                    <a:pt x="764523" y="2585155"/>
                    <a:pt x="832256" y="2499297"/>
                    <a:pt x="832256" y="2540000"/>
                  </a:cubicBezTo>
                  <a:cubicBezTo>
                    <a:pt x="832256" y="2587895"/>
                    <a:pt x="757223" y="2601749"/>
                    <a:pt x="730656" y="2641600"/>
                  </a:cubicBezTo>
                  <a:cubicBezTo>
                    <a:pt x="710854" y="2671303"/>
                    <a:pt x="712754" y="2711270"/>
                    <a:pt x="696789" y="2743200"/>
                  </a:cubicBezTo>
                  <a:cubicBezTo>
                    <a:pt x="678586" y="2779606"/>
                    <a:pt x="648823" y="2809220"/>
                    <a:pt x="629056" y="2844800"/>
                  </a:cubicBezTo>
                  <a:cubicBezTo>
                    <a:pt x="475283" y="3121592"/>
                    <a:pt x="600455" y="2975001"/>
                    <a:pt x="425856" y="3149600"/>
                  </a:cubicBezTo>
                  <a:cubicBezTo>
                    <a:pt x="403278" y="3194756"/>
                    <a:pt x="393822" y="3249368"/>
                    <a:pt x="358123" y="3285067"/>
                  </a:cubicBezTo>
                  <a:cubicBezTo>
                    <a:pt x="332880" y="3310310"/>
                    <a:pt x="364113" y="3205768"/>
                    <a:pt x="391989" y="3183467"/>
                  </a:cubicBezTo>
                  <a:cubicBezTo>
                    <a:pt x="428335" y="3154390"/>
                    <a:pt x="482701" y="3162387"/>
                    <a:pt x="527456" y="3149600"/>
                  </a:cubicBezTo>
                  <a:cubicBezTo>
                    <a:pt x="561781" y="3139793"/>
                    <a:pt x="595189" y="3127022"/>
                    <a:pt x="629056" y="3115733"/>
                  </a:cubicBezTo>
                  <a:cubicBezTo>
                    <a:pt x="575203" y="3384998"/>
                    <a:pt x="624032" y="3244580"/>
                    <a:pt x="425856" y="3556000"/>
                  </a:cubicBezTo>
                  <a:cubicBezTo>
                    <a:pt x="404004" y="3590339"/>
                    <a:pt x="370994" y="3618986"/>
                    <a:pt x="358123" y="3657600"/>
                  </a:cubicBezTo>
                  <a:cubicBezTo>
                    <a:pt x="346834" y="3691467"/>
                    <a:pt x="292326" y="3743235"/>
                    <a:pt x="324256" y="3759200"/>
                  </a:cubicBezTo>
                  <a:cubicBezTo>
                    <a:pt x="355951" y="3775048"/>
                    <a:pt x="526224" y="3590637"/>
                    <a:pt x="527456" y="3589867"/>
                  </a:cubicBezTo>
                  <a:cubicBezTo>
                    <a:pt x="629523" y="3526075"/>
                    <a:pt x="698079" y="3531257"/>
                    <a:pt x="798389" y="3488267"/>
                  </a:cubicBezTo>
                  <a:cubicBezTo>
                    <a:pt x="1091333" y="3362720"/>
                    <a:pt x="797186" y="3466089"/>
                    <a:pt x="1035456" y="3386667"/>
                  </a:cubicBezTo>
                  <a:cubicBezTo>
                    <a:pt x="1012878" y="3420534"/>
                    <a:pt x="994526" y="3457635"/>
                    <a:pt x="967723" y="3488267"/>
                  </a:cubicBezTo>
                  <a:cubicBezTo>
                    <a:pt x="915158" y="3548341"/>
                    <a:pt x="798389" y="3657600"/>
                    <a:pt x="798389" y="3657600"/>
                  </a:cubicBezTo>
                  <a:cubicBezTo>
                    <a:pt x="733707" y="3851649"/>
                    <a:pt x="813584" y="3676272"/>
                    <a:pt x="629056" y="3860800"/>
                  </a:cubicBezTo>
                  <a:cubicBezTo>
                    <a:pt x="347489" y="4142366"/>
                    <a:pt x="621683" y="3944736"/>
                    <a:pt x="391989" y="4097867"/>
                  </a:cubicBezTo>
                  <a:cubicBezTo>
                    <a:pt x="369411" y="4131734"/>
                    <a:pt x="306053" y="4163062"/>
                    <a:pt x="324256" y="4199467"/>
                  </a:cubicBezTo>
                  <a:cubicBezTo>
                    <a:pt x="340221" y="4231397"/>
                    <a:pt x="393926" y="4181565"/>
                    <a:pt x="425856" y="4165600"/>
                  </a:cubicBezTo>
                  <a:cubicBezTo>
                    <a:pt x="462262" y="4147397"/>
                    <a:pt x="492116" y="4118061"/>
                    <a:pt x="527456" y="4097867"/>
                  </a:cubicBezTo>
                  <a:cubicBezTo>
                    <a:pt x="752116" y="3969490"/>
                    <a:pt x="574537" y="4077690"/>
                    <a:pt x="764523" y="3996267"/>
                  </a:cubicBezTo>
                  <a:cubicBezTo>
                    <a:pt x="1057466" y="3870720"/>
                    <a:pt x="763319" y="3974089"/>
                    <a:pt x="1001589" y="3894667"/>
                  </a:cubicBezTo>
                  <a:cubicBezTo>
                    <a:pt x="956434" y="3928534"/>
                    <a:pt x="908979" y="3959533"/>
                    <a:pt x="866123" y="3996267"/>
                  </a:cubicBezTo>
                  <a:cubicBezTo>
                    <a:pt x="746018" y="4099214"/>
                    <a:pt x="777610" y="4114580"/>
                    <a:pt x="629056" y="4199467"/>
                  </a:cubicBezTo>
                  <a:cubicBezTo>
                    <a:pt x="598061" y="4217178"/>
                    <a:pt x="561323" y="4222044"/>
                    <a:pt x="527456" y="4233333"/>
                  </a:cubicBezTo>
                  <a:cubicBezTo>
                    <a:pt x="482300" y="4267200"/>
                    <a:pt x="440997" y="4306929"/>
                    <a:pt x="391989" y="4334933"/>
                  </a:cubicBezTo>
                  <a:cubicBezTo>
                    <a:pt x="360994" y="4352644"/>
                    <a:pt x="315632" y="4343557"/>
                    <a:pt x="290389" y="4368800"/>
                  </a:cubicBezTo>
                  <a:cubicBezTo>
                    <a:pt x="232827" y="4426362"/>
                    <a:pt x="212486" y="4514438"/>
                    <a:pt x="154923" y="4572000"/>
                  </a:cubicBezTo>
                  <a:cubicBezTo>
                    <a:pt x="132345" y="4594578"/>
                    <a:pt x="55259" y="4639733"/>
                    <a:pt x="87189" y="4639733"/>
                  </a:cubicBezTo>
                  <a:cubicBezTo>
                    <a:pt x="158586" y="4639733"/>
                    <a:pt x="222656" y="4594578"/>
                    <a:pt x="290389" y="4572000"/>
                  </a:cubicBezTo>
                  <a:lnTo>
                    <a:pt x="493589" y="4504267"/>
                  </a:lnTo>
                  <a:cubicBezTo>
                    <a:pt x="527456" y="4492978"/>
                    <a:pt x="560556" y="4479058"/>
                    <a:pt x="595189" y="4470400"/>
                  </a:cubicBezTo>
                  <a:lnTo>
                    <a:pt x="730656" y="4436533"/>
                  </a:lnTo>
                  <a:cubicBezTo>
                    <a:pt x="520620" y="4646570"/>
                    <a:pt x="639598" y="4590212"/>
                    <a:pt x="391989" y="4639733"/>
                  </a:cubicBezTo>
                  <a:cubicBezTo>
                    <a:pt x="311946" y="4959912"/>
                    <a:pt x="438256" y="4553402"/>
                    <a:pt x="154923" y="4978400"/>
                  </a:cubicBezTo>
                  <a:cubicBezTo>
                    <a:pt x="109767" y="5046133"/>
                    <a:pt x="-56127" y="5211833"/>
                    <a:pt x="19456" y="5181600"/>
                  </a:cubicBezTo>
                  <a:cubicBezTo>
                    <a:pt x="41109" y="5172939"/>
                    <a:pt x="237301" y="5090618"/>
                    <a:pt x="290389" y="5080000"/>
                  </a:cubicBezTo>
                  <a:cubicBezTo>
                    <a:pt x="368663" y="5064345"/>
                    <a:pt x="448560" y="5058271"/>
                    <a:pt x="527456" y="5046133"/>
                  </a:cubicBezTo>
                  <a:cubicBezTo>
                    <a:pt x="715237" y="5017244"/>
                    <a:pt x="723843" y="5013630"/>
                    <a:pt x="899989" y="4978400"/>
                  </a:cubicBezTo>
                  <a:cubicBezTo>
                    <a:pt x="922567" y="4955822"/>
                    <a:pt x="967723" y="4878737"/>
                    <a:pt x="967723" y="4910667"/>
                  </a:cubicBezTo>
                  <a:cubicBezTo>
                    <a:pt x="967723" y="4951370"/>
                    <a:pt x="927030" y="4981845"/>
                    <a:pt x="899989" y="5012267"/>
                  </a:cubicBezTo>
                  <a:cubicBezTo>
                    <a:pt x="836350" y="5083861"/>
                    <a:pt x="764522" y="5147734"/>
                    <a:pt x="696789" y="5215467"/>
                  </a:cubicBezTo>
                  <a:cubicBezTo>
                    <a:pt x="674211" y="5238045"/>
                    <a:pt x="734231" y="5157830"/>
                    <a:pt x="764523" y="5147733"/>
                  </a:cubicBezTo>
                  <a:cubicBezTo>
                    <a:pt x="798390" y="5136444"/>
                    <a:pt x="833311" y="5127929"/>
                    <a:pt x="866123" y="5113867"/>
                  </a:cubicBezTo>
                  <a:cubicBezTo>
                    <a:pt x="1016983" y="5049213"/>
                    <a:pt x="1027758" y="4993793"/>
                    <a:pt x="967723" y="5113867"/>
                  </a:cubicBezTo>
                  <a:lnTo>
                    <a:pt x="967723" y="5113867"/>
                  </a:lnTo>
                </a:path>
              </a:pathLst>
            </a:custGeom>
            <a:noFill/>
            <a:ln w="25560">
              <a:solidFill>
                <a:srgbClr val="92d050">
                  <a:alpha val="7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任意多边形 215"/>
            <p:cNvSpPr/>
            <p:nvPr/>
          </p:nvSpPr>
          <p:spPr>
            <a:xfrm flipH="1" rot="21138600">
              <a:off x="17727840" y="606240"/>
              <a:ext cx="504360" cy="3714120"/>
            </a:xfrm>
            <a:custGeom>
              <a:avLst/>
              <a:gdLst>
                <a:gd name="textAreaLeft" fmla="*/ -360 w 504360"/>
                <a:gd name="textAreaRight" fmla="*/ 504360 w 504360"/>
                <a:gd name="textAreaTop" fmla="*/ 0 h 3714120"/>
                <a:gd name="textAreaBottom" fmla="*/ 3714480 h 3714120"/>
              </a:gdLst>
              <a:ahLst/>
              <a:rect l="textAreaLeft" t="textAreaTop" r="textAreaRight" b="textAreaBottom"/>
              <a:pathLst>
                <a:path w="2186923" h="5219454">
                  <a:moveTo>
                    <a:pt x="2186923" y="0"/>
                  </a:moveTo>
                  <a:lnTo>
                    <a:pt x="2186923" y="0"/>
                  </a:lnTo>
                  <a:cubicBezTo>
                    <a:pt x="2051456" y="112889"/>
                    <a:pt x="1905213" y="213977"/>
                    <a:pt x="1780523" y="338667"/>
                  </a:cubicBezTo>
                  <a:cubicBezTo>
                    <a:pt x="1571278" y="547912"/>
                    <a:pt x="1849458" y="428576"/>
                    <a:pt x="1611189" y="508000"/>
                  </a:cubicBezTo>
                  <a:cubicBezTo>
                    <a:pt x="1577322" y="553156"/>
                    <a:pt x="1534832" y="592981"/>
                    <a:pt x="1509589" y="643467"/>
                  </a:cubicBezTo>
                  <a:cubicBezTo>
                    <a:pt x="1384757" y="893131"/>
                    <a:pt x="1565726" y="688930"/>
                    <a:pt x="1407989" y="846667"/>
                  </a:cubicBezTo>
                  <a:cubicBezTo>
                    <a:pt x="1325537" y="1094024"/>
                    <a:pt x="1409522" y="1032551"/>
                    <a:pt x="1204789" y="1083733"/>
                  </a:cubicBezTo>
                  <a:cubicBezTo>
                    <a:pt x="970918" y="1551479"/>
                    <a:pt x="1310047" y="908914"/>
                    <a:pt x="1035456" y="1320800"/>
                  </a:cubicBezTo>
                  <a:cubicBezTo>
                    <a:pt x="1015654" y="1350503"/>
                    <a:pt x="1019300" y="1391405"/>
                    <a:pt x="1001589" y="1422400"/>
                  </a:cubicBezTo>
                  <a:cubicBezTo>
                    <a:pt x="973585" y="1471408"/>
                    <a:pt x="929905" y="1510002"/>
                    <a:pt x="899989" y="1557867"/>
                  </a:cubicBezTo>
                  <a:cubicBezTo>
                    <a:pt x="873232" y="1600678"/>
                    <a:pt x="816291" y="1645439"/>
                    <a:pt x="832256" y="1693333"/>
                  </a:cubicBezTo>
                  <a:cubicBezTo>
                    <a:pt x="843545" y="1727200"/>
                    <a:pt x="899989" y="1670756"/>
                    <a:pt x="933856" y="1659467"/>
                  </a:cubicBezTo>
                  <a:cubicBezTo>
                    <a:pt x="1063884" y="1529437"/>
                    <a:pt x="976578" y="1607889"/>
                    <a:pt x="933856" y="1693333"/>
                  </a:cubicBezTo>
                  <a:cubicBezTo>
                    <a:pt x="917891" y="1725263"/>
                    <a:pt x="915954" y="1763003"/>
                    <a:pt x="899989" y="1794933"/>
                  </a:cubicBezTo>
                  <a:cubicBezTo>
                    <a:pt x="881786" y="1831339"/>
                    <a:pt x="850459" y="1860127"/>
                    <a:pt x="832256" y="1896533"/>
                  </a:cubicBezTo>
                  <a:cubicBezTo>
                    <a:pt x="816291" y="1928463"/>
                    <a:pt x="763384" y="1991132"/>
                    <a:pt x="798389" y="1998133"/>
                  </a:cubicBezTo>
                  <a:cubicBezTo>
                    <a:pt x="868400" y="2012135"/>
                    <a:pt x="933856" y="1952978"/>
                    <a:pt x="1001589" y="1930400"/>
                  </a:cubicBezTo>
                  <a:lnTo>
                    <a:pt x="1103189" y="1896533"/>
                  </a:lnTo>
                  <a:cubicBezTo>
                    <a:pt x="1069322" y="1930400"/>
                    <a:pt x="1029427" y="1959159"/>
                    <a:pt x="1001589" y="1998133"/>
                  </a:cubicBezTo>
                  <a:cubicBezTo>
                    <a:pt x="972245" y="2039215"/>
                    <a:pt x="966176" y="2094816"/>
                    <a:pt x="933856" y="2133600"/>
                  </a:cubicBezTo>
                  <a:cubicBezTo>
                    <a:pt x="907799" y="2164869"/>
                    <a:pt x="866123" y="2178755"/>
                    <a:pt x="832256" y="2201333"/>
                  </a:cubicBezTo>
                  <a:cubicBezTo>
                    <a:pt x="798389" y="2246489"/>
                    <a:pt x="760571" y="2288935"/>
                    <a:pt x="730656" y="2336800"/>
                  </a:cubicBezTo>
                  <a:cubicBezTo>
                    <a:pt x="703899" y="2379612"/>
                    <a:pt x="693214" y="2431879"/>
                    <a:pt x="662923" y="2472267"/>
                  </a:cubicBezTo>
                  <a:cubicBezTo>
                    <a:pt x="624607" y="2523355"/>
                    <a:pt x="572612" y="2562578"/>
                    <a:pt x="527456" y="2607733"/>
                  </a:cubicBezTo>
                  <a:cubicBezTo>
                    <a:pt x="470055" y="2779936"/>
                    <a:pt x="476044" y="2692662"/>
                    <a:pt x="595189" y="2641600"/>
                  </a:cubicBezTo>
                  <a:cubicBezTo>
                    <a:pt x="637971" y="2623265"/>
                    <a:pt x="685500" y="2619022"/>
                    <a:pt x="730656" y="2607733"/>
                  </a:cubicBezTo>
                  <a:cubicBezTo>
                    <a:pt x="764523" y="2585155"/>
                    <a:pt x="832256" y="2499297"/>
                    <a:pt x="832256" y="2540000"/>
                  </a:cubicBezTo>
                  <a:cubicBezTo>
                    <a:pt x="832256" y="2587895"/>
                    <a:pt x="757223" y="2601749"/>
                    <a:pt x="730656" y="2641600"/>
                  </a:cubicBezTo>
                  <a:cubicBezTo>
                    <a:pt x="710854" y="2671303"/>
                    <a:pt x="712754" y="2711270"/>
                    <a:pt x="696789" y="2743200"/>
                  </a:cubicBezTo>
                  <a:cubicBezTo>
                    <a:pt x="678586" y="2779606"/>
                    <a:pt x="648823" y="2809220"/>
                    <a:pt x="629056" y="2844800"/>
                  </a:cubicBezTo>
                  <a:cubicBezTo>
                    <a:pt x="475283" y="3121592"/>
                    <a:pt x="600455" y="2975001"/>
                    <a:pt x="425856" y="3149600"/>
                  </a:cubicBezTo>
                  <a:cubicBezTo>
                    <a:pt x="403278" y="3194756"/>
                    <a:pt x="393822" y="3249368"/>
                    <a:pt x="358123" y="3285067"/>
                  </a:cubicBezTo>
                  <a:cubicBezTo>
                    <a:pt x="332880" y="3310310"/>
                    <a:pt x="364113" y="3205768"/>
                    <a:pt x="391989" y="3183467"/>
                  </a:cubicBezTo>
                  <a:cubicBezTo>
                    <a:pt x="428335" y="3154390"/>
                    <a:pt x="482701" y="3162387"/>
                    <a:pt x="527456" y="3149600"/>
                  </a:cubicBezTo>
                  <a:cubicBezTo>
                    <a:pt x="561781" y="3139793"/>
                    <a:pt x="595189" y="3127022"/>
                    <a:pt x="629056" y="3115733"/>
                  </a:cubicBezTo>
                  <a:cubicBezTo>
                    <a:pt x="575203" y="3384998"/>
                    <a:pt x="624032" y="3244580"/>
                    <a:pt x="425856" y="3556000"/>
                  </a:cubicBezTo>
                  <a:cubicBezTo>
                    <a:pt x="404004" y="3590339"/>
                    <a:pt x="370994" y="3618986"/>
                    <a:pt x="358123" y="3657600"/>
                  </a:cubicBezTo>
                  <a:cubicBezTo>
                    <a:pt x="346834" y="3691467"/>
                    <a:pt x="292326" y="3743235"/>
                    <a:pt x="324256" y="3759200"/>
                  </a:cubicBezTo>
                  <a:cubicBezTo>
                    <a:pt x="355951" y="3775048"/>
                    <a:pt x="526224" y="3590637"/>
                    <a:pt x="527456" y="3589867"/>
                  </a:cubicBezTo>
                  <a:cubicBezTo>
                    <a:pt x="629523" y="3526075"/>
                    <a:pt x="698079" y="3531257"/>
                    <a:pt x="798389" y="3488267"/>
                  </a:cubicBezTo>
                  <a:cubicBezTo>
                    <a:pt x="1091333" y="3362720"/>
                    <a:pt x="797186" y="3466089"/>
                    <a:pt x="1035456" y="3386667"/>
                  </a:cubicBezTo>
                  <a:cubicBezTo>
                    <a:pt x="1012878" y="3420534"/>
                    <a:pt x="994526" y="3457635"/>
                    <a:pt x="967723" y="3488267"/>
                  </a:cubicBezTo>
                  <a:cubicBezTo>
                    <a:pt x="915158" y="3548341"/>
                    <a:pt x="798389" y="3657600"/>
                    <a:pt x="798389" y="3657600"/>
                  </a:cubicBezTo>
                  <a:cubicBezTo>
                    <a:pt x="733707" y="3851649"/>
                    <a:pt x="813584" y="3676272"/>
                    <a:pt x="629056" y="3860800"/>
                  </a:cubicBezTo>
                  <a:cubicBezTo>
                    <a:pt x="347489" y="4142366"/>
                    <a:pt x="621683" y="3944736"/>
                    <a:pt x="391989" y="4097867"/>
                  </a:cubicBezTo>
                  <a:cubicBezTo>
                    <a:pt x="369411" y="4131734"/>
                    <a:pt x="306053" y="4163062"/>
                    <a:pt x="324256" y="4199467"/>
                  </a:cubicBezTo>
                  <a:cubicBezTo>
                    <a:pt x="340221" y="4231397"/>
                    <a:pt x="393926" y="4181565"/>
                    <a:pt x="425856" y="4165600"/>
                  </a:cubicBezTo>
                  <a:cubicBezTo>
                    <a:pt x="462262" y="4147397"/>
                    <a:pt x="492116" y="4118061"/>
                    <a:pt x="527456" y="4097867"/>
                  </a:cubicBezTo>
                  <a:cubicBezTo>
                    <a:pt x="752116" y="3969490"/>
                    <a:pt x="574537" y="4077690"/>
                    <a:pt x="764523" y="3996267"/>
                  </a:cubicBezTo>
                  <a:cubicBezTo>
                    <a:pt x="1057466" y="3870720"/>
                    <a:pt x="763319" y="3974089"/>
                    <a:pt x="1001589" y="3894667"/>
                  </a:cubicBezTo>
                  <a:cubicBezTo>
                    <a:pt x="956434" y="3928534"/>
                    <a:pt x="908979" y="3959533"/>
                    <a:pt x="866123" y="3996267"/>
                  </a:cubicBezTo>
                  <a:cubicBezTo>
                    <a:pt x="746018" y="4099214"/>
                    <a:pt x="777610" y="4114580"/>
                    <a:pt x="629056" y="4199467"/>
                  </a:cubicBezTo>
                  <a:cubicBezTo>
                    <a:pt x="598061" y="4217178"/>
                    <a:pt x="561323" y="4222044"/>
                    <a:pt x="527456" y="4233333"/>
                  </a:cubicBezTo>
                  <a:cubicBezTo>
                    <a:pt x="482300" y="4267200"/>
                    <a:pt x="440997" y="4306929"/>
                    <a:pt x="391989" y="4334933"/>
                  </a:cubicBezTo>
                  <a:cubicBezTo>
                    <a:pt x="360994" y="4352644"/>
                    <a:pt x="315632" y="4343557"/>
                    <a:pt x="290389" y="4368800"/>
                  </a:cubicBezTo>
                  <a:cubicBezTo>
                    <a:pt x="232827" y="4426362"/>
                    <a:pt x="212486" y="4514438"/>
                    <a:pt x="154923" y="4572000"/>
                  </a:cubicBezTo>
                  <a:cubicBezTo>
                    <a:pt x="132345" y="4594578"/>
                    <a:pt x="55259" y="4639733"/>
                    <a:pt x="87189" y="4639733"/>
                  </a:cubicBezTo>
                  <a:cubicBezTo>
                    <a:pt x="158586" y="4639733"/>
                    <a:pt x="222656" y="4594578"/>
                    <a:pt x="290389" y="4572000"/>
                  </a:cubicBezTo>
                  <a:lnTo>
                    <a:pt x="493589" y="4504267"/>
                  </a:lnTo>
                  <a:cubicBezTo>
                    <a:pt x="527456" y="4492978"/>
                    <a:pt x="560556" y="4479058"/>
                    <a:pt x="595189" y="4470400"/>
                  </a:cubicBezTo>
                  <a:lnTo>
                    <a:pt x="730656" y="4436533"/>
                  </a:lnTo>
                  <a:cubicBezTo>
                    <a:pt x="520620" y="4646570"/>
                    <a:pt x="639598" y="4590212"/>
                    <a:pt x="391989" y="4639733"/>
                  </a:cubicBezTo>
                  <a:cubicBezTo>
                    <a:pt x="311946" y="4959912"/>
                    <a:pt x="438256" y="4553402"/>
                    <a:pt x="154923" y="4978400"/>
                  </a:cubicBezTo>
                  <a:cubicBezTo>
                    <a:pt x="109767" y="5046133"/>
                    <a:pt x="-56127" y="5211833"/>
                    <a:pt x="19456" y="5181600"/>
                  </a:cubicBezTo>
                  <a:cubicBezTo>
                    <a:pt x="41109" y="5172939"/>
                    <a:pt x="237301" y="5090618"/>
                    <a:pt x="290389" y="5080000"/>
                  </a:cubicBezTo>
                  <a:cubicBezTo>
                    <a:pt x="368663" y="5064345"/>
                    <a:pt x="448560" y="5058271"/>
                    <a:pt x="527456" y="5046133"/>
                  </a:cubicBezTo>
                  <a:cubicBezTo>
                    <a:pt x="715237" y="5017244"/>
                    <a:pt x="723843" y="5013630"/>
                    <a:pt x="899989" y="4978400"/>
                  </a:cubicBezTo>
                  <a:cubicBezTo>
                    <a:pt x="922567" y="4955822"/>
                    <a:pt x="967723" y="4878737"/>
                    <a:pt x="967723" y="4910667"/>
                  </a:cubicBezTo>
                  <a:cubicBezTo>
                    <a:pt x="967723" y="4951370"/>
                    <a:pt x="927030" y="4981845"/>
                    <a:pt x="899989" y="5012267"/>
                  </a:cubicBezTo>
                  <a:cubicBezTo>
                    <a:pt x="836350" y="5083861"/>
                    <a:pt x="764522" y="5147734"/>
                    <a:pt x="696789" y="5215467"/>
                  </a:cubicBezTo>
                  <a:cubicBezTo>
                    <a:pt x="674211" y="5238045"/>
                    <a:pt x="734231" y="5157830"/>
                    <a:pt x="764523" y="5147733"/>
                  </a:cubicBezTo>
                  <a:cubicBezTo>
                    <a:pt x="798390" y="5136444"/>
                    <a:pt x="833311" y="5127929"/>
                    <a:pt x="866123" y="5113867"/>
                  </a:cubicBezTo>
                  <a:cubicBezTo>
                    <a:pt x="1016983" y="5049213"/>
                    <a:pt x="1027758" y="4993793"/>
                    <a:pt x="967723" y="5113867"/>
                  </a:cubicBezTo>
                  <a:lnTo>
                    <a:pt x="967723" y="5113867"/>
                  </a:lnTo>
                </a:path>
              </a:pathLst>
            </a:custGeom>
            <a:noFill/>
            <a:ln w="25560">
              <a:solidFill>
                <a:srgbClr val="92d050">
                  <a:alpha val="7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任意多边形 216"/>
            <p:cNvSpPr/>
            <p:nvPr/>
          </p:nvSpPr>
          <p:spPr>
            <a:xfrm>
              <a:off x="17053200" y="1058400"/>
              <a:ext cx="212760" cy="3301200"/>
            </a:xfrm>
            <a:custGeom>
              <a:avLst/>
              <a:gdLst>
                <a:gd name="textAreaLeft" fmla="*/ 0 w 212760"/>
                <a:gd name="textAreaRight" fmla="*/ 213120 w 212760"/>
                <a:gd name="textAreaTop" fmla="*/ 0 h 3301200"/>
                <a:gd name="textAreaBottom" fmla="*/ 3301560 h 3301200"/>
              </a:gdLst>
              <a:ahLst/>
              <a:rect l="textAreaLeft" t="textAreaTop" r="textAreaRight" b="textAreaBottom"/>
              <a:pathLst>
                <a:path w="380014" h="4639734">
                  <a:moveTo>
                    <a:pt x="380014" y="0"/>
                  </a:moveTo>
                  <a:lnTo>
                    <a:pt x="380014" y="0"/>
                  </a:lnTo>
                  <a:cubicBezTo>
                    <a:pt x="357436" y="158045"/>
                    <a:pt x="348846" y="318729"/>
                    <a:pt x="312280" y="474134"/>
                  </a:cubicBezTo>
                  <a:cubicBezTo>
                    <a:pt x="302957" y="513755"/>
                    <a:pt x="261078" y="538539"/>
                    <a:pt x="244547" y="575734"/>
                  </a:cubicBezTo>
                  <a:cubicBezTo>
                    <a:pt x="215550" y="640978"/>
                    <a:pt x="199392" y="711201"/>
                    <a:pt x="176814" y="778934"/>
                  </a:cubicBezTo>
                  <a:lnTo>
                    <a:pt x="142947" y="880534"/>
                  </a:lnTo>
                  <a:lnTo>
                    <a:pt x="109080" y="982134"/>
                  </a:lnTo>
                  <a:cubicBezTo>
                    <a:pt x="120369" y="1016001"/>
                    <a:pt x="133554" y="1049293"/>
                    <a:pt x="142947" y="1083734"/>
                  </a:cubicBezTo>
                  <a:cubicBezTo>
                    <a:pt x="167441" y="1173544"/>
                    <a:pt x="210680" y="1354667"/>
                    <a:pt x="210680" y="1354667"/>
                  </a:cubicBezTo>
                  <a:cubicBezTo>
                    <a:pt x="199391" y="1399823"/>
                    <a:pt x="189601" y="1445380"/>
                    <a:pt x="176814" y="1490134"/>
                  </a:cubicBezTo>
                  <a:cubicBezTo>
                    <a:pt x="167007" y="1524459"/>
                    <a:pt x="150691" y="1556885"/>
                    <a:pt x="142947" y="1591734"/>
                  </a:cubicBezTo>
                  <a:cubicBezTo>
                    <a:pt x="128051" y="1658766"/>
                    <a:pt x="122547" y="1727600"/>
                    <a:pt x="109080" y="1794934"/>
                  </a:cubicBezTo>
                  <a:cubicBezTo>
                    <a:pt x="99952" y="1840575"/>
                    <a:pt x="86503" y="1885245"/>
                    <a:pt x="75214" y="1930400"/>
                  </a:cubicBezTo>
                  <a:cubicBezTo>
                    <a:pt x="86503" y="2111022"/>
                    <a:pt x="81562" y="2293397"/>
                    <a:pt x="109080" y="2472267"/>
                  </a:cubicBezTo>
                  <a:cubicBezTo>
                    <a:pt x="114508" y="2507551"/>
                    <a:pt x="133140" y="2404992"/>
                    <a:pt x="142947" y="2370667"/>
                  </a:cubicBezTo>
                  <a:cubicBezTo>
                    <a:pt x="155734" y="2325912"/>
                    <a:pt x="165525" y="2280356"/>
                    <a:pt x="176814" y="2235200"/>
                  </a:cubicBezTo>
                  <a:cubicBezTo>
                    <a:pt x="188103" y="2269067"/>
                    <a:pt x="210680" y="2301101"/>
                    <a:pt x="210680" y="2336800"/>
                  </a:cubicBezTo>
                  <a:cubicBezTo>
                    <a:pt x="210680" y="2383345"/>
                    <a:pt x="185942" y="2426626"/>
                    <a:pt x="176814" y="2472267"/>
                  </a:cubicBezTo>
                  <a:cubicBezTo>
                    <a:pt x="163347" y="2539601"/>
                    <a:pt x="156414" y="2608133"/>
                    <a:pt x="142947" y="2675467"/>
                  </a:cubicBezTo>
                  <a:cubicBezTo>
                    <a:pt x="133819" y="2721109"/>
                    <a:pt x="118833" y="2765422"/>
                    <a:pt x="109080" y="2810934"/>
                  </a:cubicBezTo>
                  <a:cubicBezTo>
                    <a:pt x="84958" y="2923503"/>
                    <a:pt x="41347" y="3149600"/>
                    <a:pt x="41347" y="3149600"/>
                  </a:cubicBezTo>
                  <a:cubicBezTo>
                    <a:pt x="52636" y="3239911"/>
                    <a:pt x="34511" y="3339128"/>
                    <a:pt x="75214" y="3420534"/>
                  </a:cubicBezTo>
                  <a:cubicBezTo>
                    <a:pt x="147314" y="3564734"/>
                    <a:pt x="176814" y="3026857"/>
                    <a:pt x="176814" y="3217334"/>
                  </a:cubicBezTo>
                  <a:cubicBezTo>
                    <a:pt x="176814" y="3354144"/>
                    <a:pt x="117244" y="3497644"/>
                    <a:pt x="75214" y="3623734"/>
                  </a:cubicBezTo>
                  <a:cubicBezTo>
                    <a:pt x="63925" y="3657601"/>
                    <a:pt x="50005" y="3690701"/>
                    <a:pt x="41347" y="3725334"/>
                  </a:cubicBezTo>
                  <a:cubicBezTo>
                    <a:pt x="30058" y="3770489"/>
                    <a:pt x="-18338" y="3822072"/>
                    <a:pt x="7480" y="3860800"/>
                  </a:cubicBezTo>
                  <a:cubicBezTo>
                    <a:pt x="27282" y="3890503"/>
                    <a:pt x="75213" y="3838223"/>
                    <a:pt x="109080" y="3826934"/>
                  </a:cubicBezTo>
                  <a:cubicBezTo>
                    <a:pt x="131658" y="3793067"/>
                    <a:pt x="136111" y="3725334"/>
                    <a:pt x="176814" y="3725334"/>
                  </a:cubicBezTo>
                  <a:cubicBezTo>
                    <a:pt x="267123" y="3725334"/>
                    <a:pt x="176814" y="3928534"/>
                    <a:pt x="176814" y="3928534"/>
                  </a:cubicBezTo>
                  <a:cubicBezTo>
                    <a:pt x="156927" y="3974937"/>
                    <a:pt x="127830" y="4017126"/>
                    <a:pt x="109080" y="4064000"/>
                  </a:cubicBezTo>
                  <a:cubicBezTo>
                    <a:pt x="83271" y="4128521"/>
                    <a:pt x="21736" y="4317129"/>
                    <a:pt x="7480" y="4402667"/>
                  </a:cubicBezTo>
                  <a:cubicBezTo>
                    <a:pt x="3768" y="4424937"/>
                    <a:pt x="7480" y="4447822"/>
                    <a:pt x="7480" y="4470400"/>
                  </a:cubicBezTo>
                  <a:lnTo>
                    <a:pt x="109080" y="4639734"/>
                  </a:lnTo>
                </a:path>
              </a:pathLst>
            </a:custGeom>
            <a:noFill/>
            <a:ln w="25560">
              <a:solidFill>
                <a:srgbClr val="92d050">
                  <a:alpha val="7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5" name=""/>
            <p:cNvGrpSpPr/>
            <p:nvPr/>
          </p:nvGrpSpPr>
          <p:grpSpPr>
            <a:xfrm>
              <a:off x="17031960" y="3611160"/>
              <a:ext cx="732600" cy="913320"/>
              <a:chOff x="17031960" y="3611160"/>
              <a:chExt cx="732600" cy="913320"/>
            </a:xfrm>
          </p:grpSpPr>
          <p:sp>
            <p:nvSpPr>
              <p:cNvPr id="246" name="任意多边形 239"/>
              <p:cNvSpPr/>
              <p:nvPr/>
            </p:nvSpPr>
            <p:spPr>
              <a:xfrm flipH="1" rot="9930600">
                <a:off x="17122680" y="3666960"/>
                <a:ext cx="549720" cy="801360"/>
              </a:xfrm>
              <a:custGeom>
                <a:avLst/>
                <a:gdLst>
                  <a:gd name="textAreaLeft" fmla="*/ -360 w 549720"/>
                  <a:gd name="textAreaRight" fmla="*/ 549720 w 549720"/>
                  <a:gd name="textAreaTop" fmla="*/ 0 h 801360"/>
                  <a:gd name="textAreaBottom" fmla="*/ 801720 h 801360"/>
                </a:gdLst>
                <a:ahLst/>
                <a:rect l="textAreaLeft" t="textAreaTop" r="textAreaRight" b="textAreaBottom"/>
                <a:pathLst>
                  <a:path w="2065867" h="4030133">
                    <a:moveTo>
                      <a:pt x="270933" y="677333"/>
                    </a:moveTo>
                    <a:cubicBezTo>
                      <a:pt x="259644" y="733778"/>
                      <a:pt x="257278" y="792770"/>
                      <a:pt x="237067" y="846667"/>
                    </a:cubicBezTo>
                    <a:cubicBezTo>
                      <a:pt x="222775" y="884778"/>
                      <a:pt x="187536" y="911861"/>
                      <a:pt x="169333" y="948267"/>
                    </a:cubicBezTo>
                    <a:cubicBezTo>
                      <a:pt x="153368" y="980197"/>
                      <a:pt x="146756" y="1016000"/>
                      <a:pt x="135467" y="1049867"/>
                    </a:cubicBezTo>
                    <a:cubicBezTo>
                      <a:pt x="124178" y="1128889"/>
                      <a:pt x="124537" y="1210475"/>
                      <a:pt x="101600" y="1286933"/>
                    </a:cubicBezTo>
                    <a:cubicBezTo>
                      <a:pt x="89904" y="1325919"/>
                      <a:pt x="52070" y="1352127"/>
                      <a:pt x="33867" y="1388533"/>
                    </a:cubicBezTo>
                    <a:cubicBezTo>
                      <a:pt x="17902" y="1420463"/>
                      <a:pt x="11289" y="1456266"/>
                      <a:pt x="0" y="1490133"/>
                    </a:cubicBezTo>
                    <a:cubicBezTo>
                      <a:pt x="11289" y="1648178"/>
                      <a:pt x="6331" y="1808231"/>
                      <a:pt x="33867" y="1964267"/>
                    </a:cubicBezTo>
                    <a:cubicBezTo>
                      <a:pt x="40941" y="2004350"/>
                      <a:pt x="77942" y="2032746"/>
                      <a:pt x="101600" y="2065867"/>
                    </a:cubicBezTo>
                    <a:cubicBezTo>
                      <a:pt x="134408" y="2111798"/>
                      <a:pt x="167065" y="2157971"/>
                      <a:pt x="203200" y="2201333"/>
                    </a:cubicBezTo>
                    <a:cubicBezTo>
                      <a:pt x="223641" y="2225862"/>
                      <a:pt x="253221" y="2242500"/>
                      <a:pt x="270933" y="2269067"/>
                    </a:cubicBezTo>
                    <a:cubicBezTo>
                      <a:pt x="298937" y="2311073"/>
                      <a:pt x="313619" y="2360700"/>
                      <a:pt x="338667" y="2404533"/>
                    </a:cubicBezTo>
                    <a:cubicBezTo>
                      <a:pt x="443708" y="2588354"/>
                      <a:pt x="378175" y="2421458"/>
                      <a:pt x="440267" y="2607733"/>
                    </a:cubicBezTo>
                    <a:cubicBezTo>
                      <a:pt x="451556" y="2686755"/>
                      <a:pt x="448890" y="2769072"/>
                      <a:pt x="474133" y="2844800"/>
                    </a:cubicBezTo>
                    <a:cubicBezTo>
                      <a:pt x="484230" y="2875091"/>
                      <a:pt x="525439" y="2885153"/>
                      <a:pt x="541867" y="2912533"/>
                    </a:cubicBezTo>
                    <a:cubicBezTo>
                      <a:pt x="692110" y="3162937"/>
                      <a:pt x="437916" y="2858793"/>
                      <a:pt x="643467" y="3115733"/>
                    </a:cubicBezTo>
                    <a:cubicBezTo>
                      <a:pt x="663413" y="3140666"/>
                      <a:pt x="691254" y="3158534"/>
                      <a:pt x="711200" y="3183467"/>
                    </a:cubicBezTo>
                    <a:cubicBezTo>
                      <a:pt x="736627" y="3215251"/>
                      <a:pt x="752130" y="3254435"/>
                      <a:pt x="778933" y="3285067"/>
                    </a:cubicBezTo>
                    <a:cubicBezTo>
                      <a:pt x="831498" y="3345141"/>
                      <a:pt x="900372" y="3390540"/>
                      <a:pt x="948267" y="3454400"/>
                    </a:cubicBezTo>
                    <a:cubicBezTo>
                      <a:pt x="982134" y="3499556"/>
                      <a:pt x="1019951" y="3542002"/>
                      <a:pt x="1049867" y="3589867"/>
                    </a:cubicBezTo>
                    <a:cubicBezTo>
                      <a:pt x="1076624" y="3632678"/>
                      <a:pt x="1089596" y="3683327"/>
                      <a:pt x="1117600" y="3725333"/>
                    </a:cubicBezTo>
                    <a:cubicBezTo>
                      <a:pt x="1164328" y="3795425"/>
                      <a:pt x="1222230" y="3809038"/>
                      <a:pt x="1286933" y="3860800"/>
                    </a:cubicBezTo>
                    <a:cubicBezTo>
                      <a:pt x="1311866" y="3880746"/>
                      <a:pt x="1328100" y="3910821"/>
                      <a:pt x="1354667" y="3928533"/>
                    </a:cubicBezTo>
                    <a:cubicBezTo>
                      <a:pt x="1438370" y="3984335"/>
                      <a:pt x="1501418" y="4000029"/>
                      <a:pt x="1591733" y="4030133"/>
                    </a:cubicBezTo>
                    <a:cubicBezTo>
                      <a:pt x="1670755" y="4018844"/>
                      <a:pt x="1753072" y="4021510"/>
                      <a:pt x="1828800" y="3996267"/>
                    </a:cubicBezTo>
                    <a:cubicBezTo>
                      <a:pt x="1947678" y="3956641"/>
                      <a:pt x="1962781" y="3628192"/>
                      <a:pt x="1964267" y="3623733"/>
                    </a:cubicBezTo>
                    <a:cubicBezTo>
                      <a:pt x="1977138" y="3585119"/>
                      <a:pt x="2013797" y="3558539"/>
                      <a:pt x="2032000" y="3522133"/>
                    </a:cubicBezTo>
                    <a:cubicBezTo>
                      <a:pt x="2047965" y="3490203"/>
                      <a:pt x="2054578" y="3454400"/>
                      <a:pt x="2065867" y="3420533"/>
                    </a:cubicBezTo>
                    <a:cubicBezTo>
                      <a:pt x="2054578" y="3318933"/>
                      <a:pt x="2052048" y="3215973"/>
                      <a:pt x="2032000" y="3115733"/>
                    </a:cubicBezTo>
                    <a:cubicBezTo>
                      <a:pt x="2017998" y="3045722"/>
                      <a:pt x="1964267" y="2912533"/>
                      <a:pt x="1964267" y="2912533"/>
                    </a:cubicBezTo>
                    <a:cubicBezTo>
                      <a:pt x="2045473" y="2668911"/>
                      <a:pt x="1946942" y="2973167"/>
                      <a:pt x="2032000" y="2675467"/>
                    </a:cubicBezTo>
                    <a:cubicBezTo>
                      <a:pt x="2041807" y="2641142"/>
                      <a:pt x="2054578" y="2607734"/>
                      <a:pt x="2065867" y="2573867"/>
                    </a:cubicBezTo>
                    <a:cubicBezTo>
                      <a:pt x="1988036" y="2340376"/>
                      <a:pt x="2048618" y="2421153"/>
                      <a:pt x="1930400" y="2302933"/>
                    </a:cubicBezTo>
                    <a:cubicBezTo>
                      <a:pt x="1919111" y="2257778"/>
                      <a:pt x="1909320" y="2212221"/>
                      <a:pt x="1896533" y="2167467"/>
                    </a:cubicBezTo>
                    <a:cubicBezTo>
                      <a:pt x="1886726" y="2133142"/>
                      <a:pt x="1868536" y="2101080"/>
                      <a:pt x="1862667" y="2065867"/>
                    </a:cubicBezTo>
                    <a:cubicBezTo>
                      <a:pt x="1846052" y="1966175"/>
                      <a:pt x="1835554" y="1713597"/>
                      <a:pt x="1794933" y="1591733"/>
                    </a:cubicBezTo>
                    <a:cubicBezTo>
                      <a:pt x="1778968" y="1543839"/>
                      <a:pt x="1753174" y="1499558"/>
                      <a:pt x="1727200" y="1456267"/>
                    </a:cubicBezTo>
                    <a:cubicBezTo>
                      <a:pt x="1685317" y="1386462"/>
                      <a:pt x="1591733" y="1253067"/>
                      <a:pt x="1591733" y="1253067"/>
                    </a:cubicBezTo>
                    <a:cubicBezTo>
                      <a:pt x="1555962" y="1145753"/>
                      <a:pt x="1565165" y="1143657"/>
                      <a:pt x="1490133" y="1049867"/>
                    </a:cubicBezTo>
                    <a:cubicBezTo>
                      <a:pt x="1470187" y="1024934"/>
                      <a:pt x="1442346" y="1007066"/>
                      <a:pt x="1422400" y="982133"/>
                    </a:cubicBezTo>
                    <a:cubicBezTo>
                      <a:pt x="1396973" y="950349"/>
                      <a:pt x="1380094" y="912316"/>
                      <a:pt x="1354667" y="880533"/>
                    </a:cubicBezTo>
                    <a:cubicBezTo>
                      <a:pt x="1334721" y="855600"/>
                      <a:pt x="1306879" y="837733"/>
                      <a:pt x="1286933" y="812800"/>
                    </a:cubicBezTo>
                    <a:cubicBezTo>
                      <a:pt x="1261506" y="781017"/>
                      <a:pt x="1246241" y="741622"/>
                      <a:pt x="1219200" y="711200"/>
                    </a:cubicBezTo>
                    <a:cubicBezTo>
                      <a:pt x="1155561" y="639606"/>
                      <a:pt x="1095702" y="561134"/>
                      <a:pt x="1016000" y="508000"/>
                    </a:cubicBezTo>
                    <a:cubicBezTo>
                      <a:pt x="887833" y="422556"/>
                      <a:pt x="943181" y="469048"/>
                      <a:pt x="846667" y="372533"/>
                    </a:cubicBezTo>
                    <a:cubicBezTo>
                      <a:pt x="835378" y="338666"/>
                      <a:pt x="832602" y="300636"/>
                      <a:pt x="812800" y="270933"/>
                    </a:cubicBezTo>
                    <a:cubicBezTo>
                      <a:pt x="786233" y="231082"/>
                      <a:pt x="749006" y="198737"/>
                      <a:pt x="711200" y="169333"/>
                    </a:cubicBezTo>
                    <a:cubicBezTo>
                      <a:pt x="536524" y="33474"/>
                      <a:pt x="559693" y="51098"/>
                      <a:pt x="406400" y="0"/>
                    </a:cubicBezTo>
                    <a:cubicBezTo>
                      <a:pt x="361244" y="11289"/>
                      <a:pt x="313715" y="15532"/>
                      <a:pt x="270933" y="33867"/>
                    </a:cubicBezTo>
                    <a:cubicBezTo>
                      <a:pt x="53886" y="126887"/>
                      <a:pt x="173770" y="228415"/>
                      <a:pt x="203200" y="508000"/>
                    </a:cubicBezTo>
                    <a:cubicBezTo>
                      <a:pt x="230238" y="764856"/>
                      <a:pt x="168958" y="711013"/>
                      <a:pt x="304800" y="778933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任意多边形 240"/>
              <p:cNvSpPr/>
              <p:nvPr/>
            </p:nvSpPr>
            <p:spPr>
              <a:xfrm flipH="1" rot="9930600">
                <a:off x="17268840" y="4032000"/>
                <a:ext cx="275040" cy="367920"/>
              </a:xfrm>
              <a:custGeom>
                <a:avLst/>
                <a:gdLst>
                  <a:gd name="textAreaLeft" fmla="*/ 360 w 275040"/>
                  <a:gd name="textAreaRight" fmla="*/ 275760 w 275040"/>
                  <a:gd name="textAreaTop" fmla="*/ 0 h 367920"/>
                  <a:gd name="textAreaBottom" fmla="*/ 368280 h 367920"/>
                </a:gdLst>
                <a:ahLst/>
                <a:rect l="textAreaLeft" t="textAreaTop" r="textAreaRight" b="textAreaBottom"/>
                <a:pathLst>
                  <a:path w="2065867" h="4030133">
                    <a:moveTo>
                      <a:pt x="270933" y="677333"/>
                    </a:moveTo>
                    <a:cubicBezTo>
                      <a:pt x="259644" y="733778"/>
                      <a:pt x="257278" y="792770"/>
                      <a:pt x="237067" y="846667"/>
                    </a:cubicBezTo>
                    <a:cubicBezTo>
                      <a:pt x="222775" y="884778"/>
                      <a:pt x="187536" y="911861"/>
                      <a:pt x="169333" y="948267"/>
                    </a:cubicBezTo>
                    <a:cubicBezTo>
                      <a:pt x="153368" y="980197"/>
                      <a:pt x="146756" y="1016000"/>
                      <a:pt x="135467" y="1049867"/>
                    </a:cubicBezTo>
                    <a:cubicBezTo>
                      <a:pt x="124178" y="1128889"/>
                      <a:pt x="124537" y="1210475"/>
                      <a:pt x="101600" y="1286933"/>
                    </a:cubicBezTo>
                    <a:cubicBezTo>
                      <a:pt x="89904" y="1325919"/>
                      <a:pt x="52070" y="1352127"/>
                      <a:pt x="33867" y="1388533"/>
                    </a:cubicBezTo>
                    <a:cubicBezTo>
                      <a:pt x="17902" y="1420463"/>
                      <a:pt x="11289" y="1456266"/>
                      <a:pt x="0" y="1490133"/>
                    </a:cubicBezTo>
                    <a:cubicBezTo>
                      <a:pt x="11289" y="1648178"/>
                      <a:pt x="6331" y="1808231"/>
                      <a:pt x="33867" y="1964267"/>
                    </a:cubicBezTo>
                    <a:cubicBezTo>
                      <a:pt x="40941" y="2004350"/>
                      <a:pt x="77942" y="2032746"/>
                      <a:pt x="101600" y="2065867"/>
                    </a:cubicBezTo>
                    <a:cubicBezTo>
                      <a:pt x="134408" y="2111798"/>
                      <a:pt x="167065" y="2157971"/>
                      <a:pt x="203200" y="2201333"/>
                    </a:cubicBezTo>
                    <a:cubicBezTo>
                      <a:pt x="223641" y="2225862"/>
                      <a:pt x="253221" y="2242500"/>
                      <a:pt x="270933" y="2269067"/>
                    </a:cubicBezTo>
                    <a:cubicBezTo>
                      <a:pt x="298937" y="2311073"/>
                      <a:pt x="313619" y="2360700"/>
                      <a:pt x="338667" y="2404533"/>
                    </a:cubicBezTo>
                    <a:cubicBezTo>
                      <a:pt x="443708" y="2588354"/>
                      <a:pt x="378175" y="2421458"/>
                      <a:pt x="440267" y="2607733"/>
                    </a:cubicBezTo>
                    <a:cubicBezTo>
                      <a:pt x="451556" y="2686755"/>
                      <a:pt x="448890" y="2769072"/>
                      <a:pt x="474133" y="2844800"/>
                    </a:cubicBezTo>
                    <a:cubicBezTo>
                      <a:pt x="484230" y="2875091"/>
                      <a:pt x="525439" y="2885153"/>
                      <a:pt x="541867" y="2912533"/>
                    </a:cubicBezTo>
                    <a:cubicBezTo>
                      <a:pt x="692110" y="3162937"/>
                      <a:pt x="437916" y="2858793"/>
                      <a:pt x="643467" y="3115733"/>
                    </a:cubicBezTo>
                    <a:cubicBezTo>
                      <a:pt x="663413" y="3140666"/>
                      <a:pt x="691254" y="3158534"/>
                      <a:pt x="711200" y="3183467"/>
                    </a:cubicBezTo>
                    <a:cubicBezTo>
                      <a:pt x="736627" y="3215251"/>
                      <a:pt x="752130" y="3254435"/>
                      <a:pt x="778933" y="3285067"/>
                    </a:cubicBezTo>
                    <a:cubicBezTo>
                      <a:pt x="831498" y="3345141"/>
                      <a:pt x="900372" y="3390540"/>
                      <a:pt x="948267" y="3454400"/>
                    </a:cubicBezTo>
                    <a:cubicBezTo>
                      <a:pt x="982134" y="3499556"/>
                      <a:pt x="1019951" y="3542002"/>
                      <a:pt x="1049867" y="3589867"/>
                    </a:cubicBezTo>
                    <a:cubicBezTo>
                      <a:pt x="1076624" y="3632678"/>
                      <a:pt x="1089596" y="3683327"/>
                      <a:pt x="1117600" y="3725333"/>
                    </a:cubicBezTo>
                    <a:cubicBezTo>
                      <a:pt x="1164328" y="3795425"/>
                      <a:pt x="1222230" y="3809038"/>
                      <a:pt x="1286933" y="3860800"/>
                    </a:cubicBezTo>
                    <a:cubicBezTo>
                      <a:pt x="1311866" y="3880746"/>
                      <a:pt x="1328100" y="3910821"/>
                      <a:pt x="1354667" y="3928533"/>
                    </a:cubicBezTo>
                    <a:cubicBezTo>
                      <a:pt x="1438370" y="3984335"/>
                      <a:pt x="1501418" y="4000029"/>
                      <a:pt x="1591733" y="4030133"/>
                    </a:cubicBezTo>
                    <a:cubicBezTo>
                      <a:pt x="1670755" y="4018844"/>
                      <a:pt x="1753072" y="4021510"/>
                      <a:pt x="1828800" y="3996267"/>
                    </a:cubicBezTo>
                    <a:cubicBezTo>
                      <a:pt x="1947678" y="3956641"/>
                      <a:pt x="1962781" y="3628192"/>
                      <a:pt x="1964267" y="3623733"/>
                    </a:cubicBezTo>
                    <a:cubicBezTo>
                      <a:pt x="1977138" y="3585119"/>
                      <a:pt x="2013797" y="3558539"/>
                      <a:pt x="2032000" y="3522133"/>
                    </a:cubicBezTo>
                    <a:cubicBezTo>
                      <a:pt x="2047965" y="3490203"/>
                      <a:pt x="2054578" y="3454400"/>
                      <a:pt x="2065867" y="3420533"/>
                    </a:cubicBezTo>
                    <a:cubicBezTo>
                      <a:pt x="2054578" y="3318933"/>
                      <a:pt x="2052048" y="3215973"/>
                      <a:pt x="2032000" y="3115733"/>
                    </a:cubicBezTo>
                    <a:cubicBezTo>
                      <a:pt x="2017998" y="3045722"/>
                      <a:pt x="1964267" y="2912533"/>
                      <a:pt x="1964267" y="2912533"/>
                    </a:cubicBezTo>
                    <a:cubicBezTo>
                      <a:pt x="2045473" y="2668911"/>
                      <a:pt x="1946942" y="2973167"/>
                      <a:pt x="2032000" y="2675467"/>
                    </a:cubicBezTo>
                    <a:cubicBezTo>
                      <a:pt x="2041807" y="2641142"/>
                      <a:pt x="2054578" y="2607734"/>
                      <a:pt x="2065867" y="2573867"/>
                    </a:cubicBezTo>
                    <a:cubicBezTo>
                      <a:pt x="1988036" y="2340376"/>
                      <a:pt x="2048618" y="2421153"/>
                      <a:pt x="1930400" y="2302933"/>
                    </a:cubicBezTo>
                    <a:cubicBezTo>
                      <a:pt x="1919111" y="2257778"/>
                      <a:pt x="1909320" y="2212221"/>
                      <a:pt x="1896533" y="2167467"/>
                    </a:cubicBezTo>
                    <a:cubicBezTo>
                      <a:pt x="1886726" y="2133142"/>
                      <a:pt x="1868536" y="2101080"/>
                      <a:pt x="1862667" y="2065867"/>
                    </a:cubicBezTo>
                    <a:cubicBezTo>
                      <a:pt x="1846052" y="1966175"/>
                      <a:pt x="1835554" y="1713597"/>
                      <a:pt x="1794933" y="1591733"/>
                    </a:cubicBezTo>
                    <a:cubicBezTo>
                      <a:pt x="1778968" y="1543839"/>
                      <a:pt x="1753174" y="1499558"/>
                      <a:pt x="1727200" y="1456267"/>
                    </a:cubicBezTo>
                    <a:cubicBezTo>
                      <a:pt x="1685317" y="1386462"/>
                      <a:pt x="1591733" y="1253067"/>
                      <a:pt x="1591733" y="1253067"/>
                    </a:cubicBezTo>
                    <a:cubicBezTo>
                      <a:pt x="1555962" y="1145753"/>
                      <a:pt x="1565165" y="1143657"/>
                      <a:pt x="1490133" y="1049867"/>
                    </a:cubicBezTo>
                    <a:cubicBezTo>
                      <a:pt x="1470187" y="1024934"/>
                      <a:pt x="1442346" y="1007066"/>
                      <a:pt x="1422400" y="982133"/>
                    </a:cubicBezTo>
                    <a:cubicBezTo>
                      <a:pt x="1396973" y="950349"/>
                      <a:pt x="1380094" y="912316"/>
                      <a:pt x="1354667" y="880533"/>
                    </a:cubicBezTo>
                    <a:cubicBezTo>
                      <a:pt x="1334721" y="855600"/>
                      <a:pt x="1306879" y="837733"/>
                      <a:pt x="1286933" y="812800"/>
                    </a:cubicBezTo>
                    <a:cubicBezTo>
                      <a:pt x="1261506" y="781017"/>
                      <a:pt x="1246241" y="741622"/>
                      <a:pt x="1219200" y="711200"/>
                    </a:cubicBezTo>
                    <a:cubicBezTo>
                      <a:pt x="1155561" y="639606"/>
                      <a:pt x="1095702" y="561134"/>
                      <a:pt x="1016000" y="508000"/>
                    </a:cubicBezTo>
                    <a:cubicBezTo>
                      <a:pt x="887833" y="422556"/>
                      <a:pt x="943181" y="469048"/>
                      <a:pt x="846667" y="372533"/>
                    </a:cubicBezTo>
                    <a:cubicBezTo>
                      <a:pt x="835378" y="338666"/>
                      <a:pt x="832602" y="300636"/>
                      <a:pt x="812800" y="270933"/>
                    </a:cubicBezTo>
                    <a:cubicBezTo>
                      <a:pt x="786233" y="231082"/>
                      <a:pt x="749006" y="198737"/>
                      <a:pt x="711200" y="169333"/>
                    </a:cubicBezTo>
                    <a:cubicBezTo>
                      <a:pt x="536524" y="33474"/>
                      <a:pt x="559693" y="51098"/>
                      <a:pt x="406400" y="0"/>
                    </a:cubicBezTo>
                    <a:cubicBezTo>
                      <a:pt x="361244" y="11289"/>
                      <a:pt x="313715" y="15532"/>
                      <a:pt x="270933" y="33867"/>
                    </a:cubicBezTo>
                    <a:cubicBezTo>
                      <a:pt x="53886" y="126887"/>
                      <a:pt x="173770" y="228415"/>
                      <a:pt x="203200" y="508000"/>
                    </a:cubicBezTo>
                    <a:cubicBezTo>
                      <a:pt x="230238" y="764856"/>
                      <a:pt x="168958" y="711013"/>
                      <a:pt x="304800" y="778933"/>
                    </a:cubicBezTo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任意多边形 241"/>
              <p:cNvSpPr/>
              <p:nvPr/>
            </p:nvSpPr>
            <p:spPr>
              <a:xfrm flipH="1" rot="9930600">
                <a:off x="17452440" y="3823200"/>
                <a:ext cx="128160" cy="308880"/>
              </a:xfrm>
              <a:custGeom>
                <a:avLst/>
                <a:gdLst>
                  <a:gd name="textAreaLeft" fmla="*/ 360 w 128160"/>
                  <a:gd name="textAreaRight" fmla="*/ 128880 w 128160"/>
                  <a:gd name="textAreaTop" fmla="*/ 0 h 308880"/>
                  <a:gd name="textAreaBottom" fmla="*/ 309240 h 308880"/>
                </a:gdLst>
                <a:ahLst/>
                <a:rect l="textAreaLeft" t="textAreaTop" r="textAreaRight" b="textAreaBottom"/>
                <a:pathLst>
                  <a:path w="2065867" h="4030133">
                    <a:moveTo>
                      <a:pt x="270933" y="677333"/>
                    </a:moveTo>
                    <a:cubicBezTo>
                      <a:pt x="259644" y="733778"/>
                      <a:pt x="257278" y="792770"/>
                      <a:pt x="237067" y="846667"/>
                    </a:cubicBezTo>
                    <a:cubicBezTo>
                      <a:pt x="222775" y="884778"/>
                      <a:pt x="187536" y="911861"/>
                      <a:pt x="169333" y="948267"/>
                    </a:cubicBezTo>
                    <a:cubicBezTo>
                      <a:pt x="153368" y="980197"/>
                      <a:pt x="146756" y="1016000"/>
                      <a:pt x="135467" y="1049867"/>
                    </a:cubicBezTo>
                    <a:cubicBezTo>
                      <a:pt x="124178" y="1128889"/>
                      <a:pt x="124537" y="1210475"/>
                      <a:pt x="101600" y="1286933"/>
                    </a:cubicBezTo>
                    <a:cubicBezTo>
                      <a:pt x="89904" y="1325919"/>
                      <a:pt x="52070" y="1352127"/>
                      <a:pt x="33867" y="1388533"/>
                    </a:cubicBezTo>
                    <a:cubicBezTo>
                      <a:pt x="17902" y="1420463"/>
                      <a:pt x="11289" y="1456266"/>
                      <a:pt x="0" y="1490133"/>
                    </a:cubicBezTo>
                    <a:cubicBezTo>
                      <a:pt x="11289" y="1648178"/>
                      <a:pt x="6331" y="1808231"/>
                      <a:pt x="33867" y="1964267"/>
                    </a:cubicBezTo>
                    <a:cubicBezTo>
                      <a:pt x="40941" y="2004350"/>
                      <a:pt x="77942" y="2032746"/>
                      <a:pt x="101600" y="2065867"/>
                    </a:cubicBezTo>
                    <a:cubicBezTo>
                      <a:pt x="134408" y="2111798"/>
                      <a:pt x="167065" y="2157971"/>
                      <a:pt x="203200" y="2201333"/>
                    </a:cubicBezTo>
                    <a:cubicBezTo>
                      <a:pt x="223641" y="2225862"/>
                      <a:pt x="253221" y="2242500"/>
                      <a:pt x="270933" y="2269067"/>
                    </a:cubicBezTo>
                    <a:cubicBezTo>
                      <a:pt x="298937" y="2311073"/>
                      <a:pt x="313619" y="2360700"/>
                      <a:pt x="338667" y="2404533"/>
                    </a:cubicBezTo>
                    <a:cubicBezTo>
                      <a:pt x="443708" y="2588354"/>
                      <a:pt x="378175" y="2421458"/>
                      <a:pt x="440267" y="2607733"/>
                    </a:cubicBezTo>
                    <a:cubicBezTo>
                      <a:pt x="451556" y="2686755"/>
                      <a:pt x="448890" y="2769072"/>
                      <a:pt x="474133" y="2844800"/>
                    </a:cubicBezTo>
                    <a:cubicBezTo>
                      <a:pt x="484230" y="2875091"/>
                      <a:pt x="525439" y="2885153"/>
                      <a:pt x="541867" y="2912533"/>
                    </a:cubicBezTo>
                    <a:cubicBezTo>
                      <a:pt x="692110" y="3162937"/>
                      <a:pt x="437916" y="2858793"/>
                      <a:pt x="643467" y="3115733"/>
                    </a:cubicBezTo>
                    <a:cubicBezTo>
                      <a:pt x="663413" y="3140666"/>
                      <a:pt x="691254" y="3158534"/>
                      <a:pt x="711200" y="3183467"/>
                    </a:cubicBezTo>
                    <a:cubicBezTo>
                      <a:pt x="736627" y="3215251"/>
                      <a:pt x="752130" y="3254435"/>
                      <a:pt x="778933" y="3285067"/>
                    </a:cubicBezTo>
                    <a:cubicBezTo>
                      <a:pt x="831498" y="3345141"/>
                      <a:pt x="900372" y="3390540"/>
                      <a:pt x="948267" y="3454400"/>
                    </a:cubicBezTo>
                    <a:cubicBezTo>
                      <a:pt x="982134" y="3499556"/>
                      <a:pt x="1019951" y="3542002"/>
                      <a:pt x="1049867" y="3589867"/>
                    </a:cubicBezTo>
                    <a:cubicBezTo>
                      <a:pt x="1076624" y="3632678"/>
                      <a:pt x="1089596" y="3683327"/>
                      <a:pt x="1117600" y="3725333"/>
                    </a:cubicBezTo>
                    <a:cubicBezTo>
                      <a:pt x="1164328" y="3795425"/>
                      <a:pt x="1222230" y="3809038"/>
                      <a:pt x="1286933" y="3860800"/>
                    </a:cubicBezTo>
                    <a:cubicBezTo>
                      <a:pt x="1311866" y="3880746"/>
                      <a:pt x="1328100" y="3910821"/>
                      <a:pt x="1354667" y="3928533"/>
                    </a:cubicBezTo>
                    <a:cubicBezTo>
                      <a:pt x="1438370" y="3984335"/>
                      <a:pt x="1501418" y="4000029"/>
                      <a:pt x="1591733" y="4030133"/>
                    </a:cubicBezTo>
                    <a:cubicBezTo>
                      <a:pt x="1670755" y="4018844"/>
                      <a:pt x="1753072" y="4021510"/>
                      <a:pt x="1828800" y="3996267"/>
                    </a:cubicBezTo>
                    <a:cubicBezTo>
                      <a:pt x="1947678" y="3956641"/>
                      <a:pt x="1962781" y="3628192"/>
                      <a:pt x="1964267" y="3623733"/>
                    </a:cubicBezTo>
                    <a:cubicBezTo>
                      <a:pt x="1977138" y="3585119"/>
                      <a:pt x="2013797" y="3558539"/>
                      <a:pt x="2032000" y="3522133"/>
                    </a:cubicBezTo>
                    <a:cubicBezTo>
                      <a:pt x="2047965" y="3490203"/>
                      <a:pt x="2054578" y="3454400"/>
                      <a:pt x="2065867" y="3420533"/>
                    </a:cubicBezTo>
                    <a:cubicBezTo>
                      <a:pt x="2054578" y="3318933"/>
                      <a:pt x="2052048" y="3215973"/>
                      <a:pt x="2032000" y="3115733"/>
                    </a:cubicBezTo>
                    <a:cubicBezTo>
                      <a:pt x="2017998" y="3045722"/>
                      <a:pt x="1964267" y="2912533"/>
                      <a:pt x="1964267" y="2912533"/>
                    </a:cubicBezTo>
                    <a:cubicBezTo>
                      <a:pt x="2045473" y="2668911"/>
                      <a:pt x="1946942" y="2973167"/>
                      <a:pt x="2032000" y="2675467"/>
                    </a:cubicBezTo>
                    <a:cubicBezTo>
                      <a:pt x="2041807" y="2641142"/>
                      <a:pt x="2054578" y="2607734"/>
                      <a:pt x="2065867" y="2573867"/>
                    </a:cubicBezTo>
                    <a:cubicBezTo>
                      <a:pt x="1988036" y="2340376"/>
                      <a:pt x="2048618" y="2421153"/>
                      <a:pt x="1930400" y="2302933"/>
                    </a:cubicBezTo>
                    <a:cubicBezTo>
                      <a:pt x="1919111" y="2257778"/>
                      <a:pt x="1909320" y="2212221"/>
                      <a:pt x="1896533" y="2167467"/>
                    </a:cubicBezTo>
                    <a:cubicBezTo>
                      <a:pt x="1886726" y="2133142"/>
                      <a:pt x="1868536" y="2101080"/>
                      <a:pt x="1862667" y="2065867"/>
                    </a:cubicBezTo>
                    <a:cubicBezTo>
                      <a:pt x="1846052" y="1966175"/>
                      <a:pt x="1835554" y="1713597"/>
                      <a:pt x="1794933" y="1591733"/>
                    </a:cubicBezTo>
                    <a:cubicBezTo>
                      <a:pt x="1778968" y="1543839"/>
                      <a:pt x="1753174" y="1499558"/>
                      <a:pt x="1727200" y="1456267"/>
                    </a:cubicBezTo>
                    <a:cubicBezTo>
                      <a:pt x="1685317" y="1386462"/>
                      <a:pt x="1591733" y="1253067"/>
                      <a:pt x="1591733" y="1253067"/>
                    </a:cubicBezTo>
                    <a:cubicBezTo>
                      <a:pt x="1555962" y="1145753"/>
                      <a:pt x="1565165" y="1143657"/>
                      <a:pt x="1490133" y="1049867"/>
                    </a:cubicBezTo>
                    <a:cubicBezTo>
                      <a:pt x="1470187" y="1024934"/>
                      <a:pt x="1442346" y="1007066"/>
                      <a:pt x="1422400" y="982133"/>
                    </a:cubicBezTo>
                    <a:cubicBezTo>
                      <a:pt x="1396973" y="950349"/>
                      <a:pt x="1380094" y="912316"/>
                      <a:pt x="1354667" y="880533"/>
                    </a:cubicBezTo>
                    <a:cubicBezTo>
                      <a:pt x="1334721" y="855600"/>
                      <a:pt x="1306879" y="837733"/>
                      <a:pt x="1286933" y="812800"/>
                    </a:cubicBezTo>
                    <a:cubicBezTo>
                      <a:pt x="1261506" y="781017"/>
                      <a:pt x="1246241" y="741622"/>
                      <a:pt x="1219200" y="711200"/>
                    </a:cubicBezTo>
                    <a:cubicBezTo>
                      <a:pt x="1155561" y="639606"/>
                      <a:pt x="1095702" y="561134"/>
                      <a:pt x="1016000" y="508000"/>
                    </a:cubicBezTo>
                    <a:cubicBezTo>
                      <a:pt x="887833" y="422556"/>
                      <a:pt x="943181" y="469048"/>
                      <a:pt x="846667" y="372533"/>
                    </a:cubicBezTo>
                    <a:cubicBezTo>
                      <a:pt x="835378" y="338666"/>
                      <a:pt x="832602" y="300636"/>
                      <a:pt x="812800" y="270933"/>
                    </a:cubicBezTo>
                    <a:cubicBezTo>
                      <a:pt x="786233" y="231082"/>
                      <a:pt x="749006" y="198737"/>
                      <a:pt x="711200" y="169333"/>
                    </a:cubicBezTo>
                    <a:cubicBezTo>
                      <a:pt x="536524" y="33474"/>
                      <a:pt x="559693" y="51098"/>
                      <a:pt x="406400" y="0"/>
                    </a:cubicBezTo>
                    <a:cubicBezTo>
                      <a:pt x="361244" y="11289"/>
                      <a:pt x="313715" y="15532"/>
                      <a:pt x="270933" y="33867"/>
                    </a:cubicBezTo>
                    <a:cubicBezTo>
                      <a:pt x="53886" y="126887"/>
                      <a:pt x="173770" y="228415"/>
                      <a:pt x="203200" y="508000"/>
                    </a:cubicBezTo>
                    <a:cubicBezTo>
                      <a:pt x="230238" y="764856"/>
                      <a:pt x="168958" y="711013"/>
                      <a:pt x="304800" y="778933"/>
                    </a:cubicBezTo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9" name=""/>
            <p:cNvGrpSpPr/>
            <p:nvPr/>
          </p:nvGrpSpPr>
          <p:grpSpPr>
            <a:xfrm>
              <a:off x="16443720" y="-254880"/>
              <a:ext cx="850680" cy="2128320"/>
              <a:chOff x="16443720" y="-254880"/>
              <a:chExt cx="850680" cy="2128320"/>
            </a:xfrm>
          </p:grpSpPr>
          <p:sp>
            <p:nvSpPr>
              <p:cNvPr id="250" name="任意多边形 236"/>
              <p:cNvSpPr/>
              <p:nvPr/>
            </p:nvSpPr>
            <p:spPr>
              <a:xfrm rot="13129200">
                <a:off x="16670520" y="1004400"/>
                <a:ext cx="358200" cy="850320"/>
              </a:xfrm>
              <a:custGeom>
                <a:avLst/>
                <a:gdLst>
                  <a:gd name="textAreaLeft" fmla="*/ 0 w 358200"/>
                  <a:gd name="textAreaRight" fmla="*/ 358560 w 358200"/>
                  <a:gd name="textAreaTop" fmla="*/ 0 h 850320"/>
                  <a:gd name="textAreaBottom" fmla="*/ 850680 h 850320"/>
                </a:gdLst>
                <a:ahLst/>
                <a:rect l="textAreaLeft" t="textAreaTop" r="textAreaRight" b="textAreaBottom"/>
                <a:pathLst>
                  <a:path w="2065867" h="4030133">
                    <a:moveTo>
                      <a:pt x="270933" y="677333"/>
                    </a:moveTo>
                    <a:cubicBezTo>
                      <a:pt x="259644" y="733778"/>
                      <a:pt x="257278" y="792770"/>
                      <a:pt x="237067" y="846667"/>
                    </a:cubicBezTo>
                    <a:cubicBezTo>
                      <a:pt x="222775" y="884778"/>
                      <a:pt x="187536" y="911861"/>
                      <a:pt x="169333" y="948267"/>
                    </a:cubicBezTo>
                    <a:cubicBezTo>
                      <a:pt x="153368" y="980197"/>
                      <a:pt x="146756" y="1016000"/>
                      <a:pt x="135467" y="1049867"/>
                    </a:cubicBezTo>
                    <a:cubicBezTo>
                      <a:pt x="124178" y="1128889"/>
                      <a:pt x="124537" y="1210475"/>
                      <a:pt x="101600" y="1286933"/>
                    </a:cubicBezTo>
                    <a:cubicBezTo>
                      <a:pt x="89904" y="1325919"/>
                      <a:pt x="52070" y="1352127"/>
                      <a:pt x="33867" y="1388533"/>
                    </a:cubicBezTo>
                    <a:cubicBezTo>
                      <a:pt x="17902" y="1420463"/>
                      <a:pt x="11289" y="1456266"/>
                      <a:pt x="0" y="1490133"/>
                    </a:cubicBezTo>
                    <a:cubicBezTo>
                      <a:pt x="11289" y="1648178"/>
                      <a:pt x="6331" y="1808231"/>
                      <a:pt x="33867" y="1964267"/>
                    </a:cubicBezTo>
                    <a:cubicBezTo>
                      <a:pt x="40941" y="2004350"/>
                      <a:pt x="77942" y="2032746"/>
                      <a:pt x="101600" y="2065867"/>
                    </a:cubicBezTo>
                    <a:cubicBezTo>
                      <a:pt x="134408" y="2111798"/>
                      <a:pt x="167065" y="2157971"/>
                      <a:pt x="203200" y="2201333"/>
                    </a:cubicBezTo>
                    <a:cubicBezTo>
                      <a:pt x="223641" y="2225862"/>
                      <a:pt x="253221" y="2242500"/>
                      <a:pt x="270933" y="2269067"/>
                    </a:cubicBezTo>
                    <a:cubicBezTo>
                      <a:pt x="298937" y="2311073"/>
                      <a:pt x="313619" y="2360700"/>
                      <a:pt x="338667" y="2404533"/>
                    </a:cubicBezTo>
                    <a:cubicBezTo>
                      <a:pt x="443708" y="2588354"/>
                      <a:pt x="378175" y="2421458"/>
                      <a:pt x="440267" y="2607733"/>
                    </a:cubicBezTo>
                    <a:cubicBezTo>
                      <a:pt x="451556" y="2686755"/>
                      <a:pt x="448890" y="2769072"/>
                      <a:pt x="474133" y="2844800"/>
                    </a:cubicBezTo>
                    <a:cubicBezTo>
                      <a:pt x="484230" y="2875091"/>
                      <a:pt x="525439" y="2885153"/>
                      <a:pt x="541867" y="2912533"/>
                    </a:cubicBezTo>
                    <a:cubicBezTo>
                      <a:pt x="692110" y="3162937"/>
                      <a:pt x="437916" y="2858793"/>
                      <a:pt x="643467" y="3115733"/>
                    </a:cubicBezTo>
                    <a:cubicBezTo>
                      <a:pt x="663413" y="3140666"/>
                      <a:pt x="691254" y="3158534"/>
                      <a:pt x="711200" y="3183467"/>
                    </a:cubicBezTo>
                    <a:cubicBezTo>
                      <a:pt x="736627" y="3215251"/>
                      <a:pt x="752130" y="3254435"/>
                      <a:pt x="778933" y="3285067"/>
                    </a:cubicBezTo>
                    <a:cubicBezTo>
                      <a:pt x="831498" y="3345141"/>
                      <a:pt x="900372" y="3390540"/>
                      <a:pt x="948267" y="3454400"/>
                    </a:cubicBezTo>
                    <a:cubicBezTo>
                      <a:pt x="982134" y="3499556"/>
                      <a:pt x="1019951" y="3542002"/>
                      <a:pt x="1049867" y="3589867"/>
                    </a:cubicBezTo>
                    <a:cubicBezTo>
                      <a:pt x="1076624" y="3632678"/>
                      <a:pt x="1089596" y="3683327"/>
                      <a:pt x="1117600" y="3725333"/>
                    </a:cubicBezTo>
                    <a:cubicBezTo>
                      <a:pt x="1164328" y="3795425"/>
                      <a:pt x="1222230" y="3809038"/>
                      <a:pt x="1286933" y="3860800"/>
                    </a:cubicBezTo>
                    <a:cubicBezTo>
                      <a:pt x="1311866" y="3880746"/>
                      <a:pt x="1328100" y="3910821"/>
                      <a:pt x="1354667" y="3928533"/>
                    </a:cubicBezTo>
                    <a:cubicBezTo>
                      <a:pt x="1438370" y="3984335"/>
                      <a:pt x="1501418" y="4000029"/>
                      <a:pt x="1591733" y="4030133"/>
                    </a:cubicBezTo>
                    <a:cubicBezTo>
                      <a:pt x="1670755" y="4018844"/>
                      <a:pt x="1753072" y="4021510"/>
                      <a:pt x="1828800" y="3996267"/>
                    </a:cubicBezTo>
                    <a:cubicBezTo>
                      <a:pt x="1947678" y="3956641"/>
                      <a:pt x="1962781" y="3628192"/>
                      <a:pt x="1964267" y="3623733"/>
                    </a:cubicBezTo>
                    <a:cubicBezTo>
                      <a:pt x="1977138" y="3585119"/>
                      <a:pt x="2013797" y="3558539"/>
                      <a:pt x="2032000" y="3522133"/>
                    </a:cubicBezTo>
                    <a:cubicBezTo>
                      <a:pt x="2047965" y="3490203"/>
                      <a:pt x="2054578" y="3454400"/>
                      <a:pt x="2065867" y="3420533"/>
                    </a:cubicBezTo>
                    <a:cubicBezTo>
                      <a:pt x="2054578" y="3318933"/>
                      <a:pt x="2052048" y="3215973"/>
                      <a:pt x="2032000" y="3115733"/>
                    </a:cubicBezTo>
                    <a:cubicBezTo>
                      <a:pt x="2017998" y="3045722"/>
                      <a:pt x="1964267" y="2912533"/>
                      <a:pt x="1964267" y="2912533"/>
                    </a:cubicBezTo>
                    <a:cubicBezTo>
                      <a:pt x="2045473" y="2668911"/>
                      <a:pt x="1946942" y="2973167"/>
                      <a:pt x="2032000" y="2675467"/>
                    </a:cubicBezTo>
                    <a:cubicBezTo>
                      <a:pt x="2041807" y="2641142"/>
                      <a:pt x="2054578" y="2607734"/>
                      <a:pt x="2065867" y="2573867"/>
                    </a:cubicBezTo>
                    <a:cubicBezTo>
                      <a:pt x="1988036" y="2340376"/>
                      <a:pt x="2048618" y="2421153"/>
                      <a:pt x="1930400" y="2302933"/>
                    </a:cubicBezTo>
                    <a:cubicBezTo>
                      <a:pt x="1919111" y="2257778"/>
                      <a:pt x="1909320" y="2212221"/>
                      <a:pt x="1896533" y="2167467"/>
                    </a:cubicBezTo>
                    <a:cubicBezTo>
                      <a:pt x="1886726" y="2133142"/>
                      <a:pt x="1868536" y="2101080"/>
                      <a:pt x="1862667" y="2065867"/>
                    </a:cubicBezTo>
                    <a:cubicBezTo>
                      <a:pt x="1846052" y="1966175"/>
                      <a:pt x="1835554" y="1713597"/>
                      <a:pt x="1794933" y="1591733"/>
                    </a:cubicBezTo>
                    <a:cubicBezTo>
                      <a:pt x="1778968" y="1543839"/>
                      <a:pt x="1753174" y="1499558"/>
                      <a:pt x="1727200" y="1456267"/>
                    </a:cubicBezTo>
                    <a:cubicBezTo>
                      <a:pt x="1685317" y="1386462"/>
                      <a:pt x="1591733" y="1253067"/>
                      <a:pt x="1591733" y="1253067"/>
                    </a:cubicBezTo>
                    <a:cubicBezTo>
                      <a:pt x="1555962" y="1145753"/>
                      <a:pt x="1565165" y="1143657"/>
                      <a:pt x="1490133" y="1049867"/>
                    </a:cubicBezTo>
                    <a:cubicBezTo>
                      <a:pt x="1470187" y="1024934"/>
                      <a:pt x="1442346" y="1007066"/>
                      <a:pt x="1422400" y="982133"/>
                    </a:cubicBezTo>
                    <a:cubicBezTo>
                      <a:pt x="1396973" y="950349"/>
                      <a:pt x="1380094" y="912316"/>
                      <a:pt x="1354667" y="880533"/>
                    </a:cubicBezTo>
                    <a:cubicBezTo>
                      <a:pt x="1334721" y="855600"/>
                      <a:pt x="1306879" y="837733"/>
                      <a:pt x="1286933" y="812800"/>
                    </a:cubicBezTo>
                    <a:cubicBezTo>
                      <a:pt x="1261506" y="781017"/>
                      <a:pt x="1246241" y="741622"/>
                      <a:pt x="1219200" y="711200"/>
                    </a:cubicBezTo>
                    <a:cubicBezTo>
                      <a:pt x="1155561" y="639606"/>
                      <a:pt x="1095702" y="561134"/>
                      <a:pt x="1016000" y="508000"/>
                    </a:cubicBezTo>
                    <a:cubicBezTo>
                      <a:pt x="887833" y="422556"/>
                      <a:pt x="943181" y="469048"/>
                      <a:pt x="846667" y="372533"/>
                    </a:cubicBezTo>
                    <a:cubicBezTo>
                      <a:pt x="835378" y="338666"/>
                      <a:pt x="832602" y="300636"/>
                      <a:pt x="812800" y="270933"/>
                    </a:cubicBezTo>
                    <a:cubicBezTo>
                      <a:pt x="786233" y="231082"/>
                      <a:pt x="749006" y="198737"/>
                      <a:pt x="711200" y="169333"/>
                    </a:cubicBezTo>
                    <a:cubicBezTo>
                      <a:pt x="536524" y="33474"/>
                      <a:pt x="559693" y="51098"/>
                      <a:pt x="406400" y="0"/>
                    </a:cubicBezTo>
                    <a:cubicBezTo>
                      <a:pt x="361244" y="11289"/>
                      <a:pt x="313715" y="15532"/>
                      <a:pt x="270933" y="33867"/>
                    </a:cubicBezTo>
                    <a:cubicBezTo>
                      <a:pt x="53886" y="126887"/>
                      <a:pt x="173770" y="228415"/>
                      <a:pt x="203200" y="508000"/>
                    </a:cubicBezTo>
                    <a:cubicBezTo>
                      <a:pt x="230238" y="764856"/>
                      <a:pt x="168958" y="711013"/>
                      <a:pt x="304800" y="778933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任意多边形 237"/>
              <p:cNvSpPr/>
              <p:nvPr/>
            </p:nvSpPr>
            <p:spPr>
              <a:xfrm rot="13129200">
                <a:off x="16997040" y="-32760"/>
                <a:ext cx="178920" cy="389880"/>
              </a:xfrm>
              <a:custGeom>
                <a:avLst/>
                <a:gdLst>
                  <a:gd name="textAreaLeft" fmla="*/ 0 w 178920"/>
                  <a:gd name="textAreaRight" fmla="*/ 179280 w 178920"/>
                  <a:gd name="textAreaTop" fmla="*/ 0 h 389880"/>
                  <a:gd name="textAreaBottom" fmla="*/ 390240 h 389880"/>
                </a:gdLst>
                <a:ahLst/>
                <a:rect l="textAreaLeft" t="textAreaTop" r="textAreaRight" b="textAreaBottom"/>
                <a:pathLst>
                  <a:path w="2065867" h="4030133">
                    <a:moveTo>
                      <a:pt x="270933" y="677333"/>
                    </a:moveTo>
                    <a:cubicBezTo>
                      <a:pt x="259644" y="733778"/>
                      <a:pt x="257278" y="792770"/>
                      <a:pt x="237067" y="846667"/>
                    </a:cubicBezTo>
                    <a:cubicBezTo>
                      <a:pt x="222775" y="884778"/>
                      <a:pt x="187536" y="911861"/>
                      <a:pt x="169333" y="948267"/>
                    </a:cubicBezTo>
                    <a:cubicBezTo>
                      <a:pt x="153368" y="980197"/>
                      <a:pt x="146756" y="1016000"/>
                      <a:pt x="135467" y="1049867"/>
                    </a:cubicBezTo>
                    <a:cubicBezTo>
                      <a:pt x="124178" y="1128889"/>
                      <a:pt x="124537" y="1210475"/>
                      <a:pt x="101600" y="1286933"/>
                    </a:cubicBezTo>
                    <a:cubicBezTo>
                      <a:pt x="89904" y="1325919"/>
                      <a:pt x="52070" y="1352127"/>
                      <a:pt x="33867" y="1388533"/>
                    </a:cubicBezTo>
                    <a:cubicBezTo>
                      <a:pt x="17902" y="1420463"/>
                      <a:pt x="11289" y="1456266"/>
                      <a:pt x="0" y="1490133"/>
                    </a:cubicBezTo>
                    <a:cubicBezTo>
                      <a:pt x="11289" y="1648178"/>
                      <a:pt x="6331" y="1808231"/>
                      <a:pt x="33867" y="1964267"/>
                    </a:cubicBezTo>
                    <a:cubicBezTo>
                      <a:pt x="40941" y="2004350"/>
                      <a:pt x="77942" y="2032746"/>
                      <a:pt x="101600" y="2065867"/>
                    </a:cubicBezTo>
                    <a:cubicBezTo>
                      <a:pt x="134408" y="2111798"/>
                      <a:pt x="167065" y="2157971"/>
                      <a:pt x="203200" y="2201333"/>
                    </a:cubicBezTo>
                    <a:cubicBezTo>
                      <a:pt x="223641" y="2225862"/>
                      <a:pt x="253221" y="2242500"/>
                      <a:pt x="270933" y="2269067"/>
                    </a:cubicBezTo>
                    <a:cubicBezTo>
                      <a:pt x="298937" y="2311073"/>
                      <a:pt x="313619" y="2360700"/>
                      <a:pt x="338667" y="2404533"/>
                    </a:cubicBezTo>
                    <a:cubicBezTo>
                      <a:pt x="443708" y="2588354"/>
                      <a:pt x="378175" y="2421458"/>
                      <a:pt x="440267" y="2607733"/>
                    </a:cubicBezTo>
                    <a:cubicBezTo>
                      <a:pt x="451556" y="2686755"/>
                      <a:pt x="448890" y="2769072"/>
                      <a:pt x="474133" y="2844800"/>
                    </a:cubicBezTo>
                    <a:cubicBezTo>
                      <a:pt x="484230" y="2875091"/>
                      <a:pt x="525439" y="2885153"/>
                      <a:pt x="541867" y="2912533"/>
                    </a:cubicBezTo>
                    <a:cubicBezTo>
                      <a:pt x="692110" y="3162937"/>
                      <a:pt x="437916" y="2858793"/>
                      <a:pt x="643467" y="3115733"/>
                    </a:cubicBezTo>
                    <a:cubicBezTo>
                      <a:pt x="663413" y="3140666"/>
                      <a:pt x="691254" y="3158534"/>
                      <a:pt x="711200" y="3183467"/>
                    </a:cubicBezTo>
                    <a:cubicBezTo>
                      <a:pt x="736627" y="3215251"/>
                      <a:pt x="752130" y="3254435"/>
                      <a:pt x="778933" y="3285067"/>
                    </a:cubicBezTo>
                    <a:cubicBezTo>
                      <a:pt x="831498" y="3345141"/>
                      <a:pt x="900372" y="3390540"/>
                      <a:pt x="948267" y="3454400"/>
                    </a:cubicBezTo>
                    <a:cubicBezTo>
                      <a:pt x="982134" y="3499556"/>
                      <a:pt x="1019951" y="3542002"/>
                      <a:pt x="1049867" y="3589867"/>
                    </a:cubicBezTo>
                    <a:cubicBezTo>
                      <a:pt x="1076624" y="3632678"/>
                      <a:pt x="1089596" y="3683327"/>
                      <a:pt x="1117600" y="3725333"/>
                    </a:cubicBezTo>
                    <a:cubicBezTo>
                      <a:pt x="1164328" y="3795425"/>
                      <a:pt x="1222230" y="3809038"/>
                      <a:pt x="1286933" y="3860800"/>
                    </a:cubicBezTo>
                    <a:cubicBezTo>
                      <a:pt x="1311866" y="3880746"/>
                      <a:pt x="1328100" y="3910821"/>
                      <a:pt x="1354667" y="3928533"/>
                    </a:cubicBezTo>
                    <a:cubicBezTo>
                      <a:pt x="1438370" y="3984335"/>
                      <a:pt x="1501418" y="4000029"/>
                      <a:pt x="1591733" y="4030133"/>
                    </a:cubicBezTo>
                    <a:cubicBezTo>
                      <a:pt x="1670755" y="4018844"/>
                      <a:pt x="1753072" y="4021510"/>
                      <a:pt x="1828800" y="3996267"/>
                    </a:cubicBezTo>
                    <a:cubicBezTo>
                      <a:pt x="1947678" y="3956641"/>
                      <a:pt x="1962781" y="3628192"/>
                      <a:pt x="1964267" y="3623733"/>
                    </a:cubicBezTo>
                    <a:cubicBezTo>
                      <a:pt x="1977138" y="3585119"/>
                      <a:pt x="2013797" y="3558539"/>
                      <a:pt x="2032000" y="3522133"/>
                    </a:cubicBezTo>
                    <a:cubicBezTo>
                      <a:pt x="2047965" y="3490203"/>
                      <a:pt x="2054578" y="3454400"/>
                      <a:pt x="2065867" y="3420533"/>
                    </a:cubicBezTo>
                    <a:cubicBezTo>
                      <a:pt x="2054578" y="3318933"/>
                      <a:pt x="2052048" y="3215973"/>
                      <a:pt x="2032000" y="3115733"/>
                    </a:cubicBezTo>
                    <a:cubicBezTo>
                      <a:pt x="2017998" y="3045722"/>
                      <a:pt x="1964267" y="2912533"/>
                      <a:pt x="1964267" y="2912533"/>
                    </a:cubicBezTo>
                    <a:cubicBezTo>
                      <a:pt x="2045473" y="2668911"/>
                      <a:pt x="1946942" y="2973167"/>
                      <a:pt x="2032000" y="2675467"/>
                    </a:cubicBezTo>
                    <a:cubicBezTo>
                      <a:pt x="2041807" y="2641142"/>
                      <a:pt x="2054578" y="2607734"/>
                      <a:pt x="2065867" y="2573867"/>
                    </a:cubicBezTo>
                    <a:cubicBezTo>
                      <a:pt x="1988036" y="2340376"/>
                      <a:pt x="2048618" y="2421153"/>
                      <a:pt x="1930400" y="2302933"/>
                    </a:cubicBezTo>
                    <a:cubicBezTo>
                      <a:pt x="1919111" y="2257778"/>
                      <a:pt x="1909320" y="2212221"/>
                      <a:pt x="1896533" y="2167467"/>
                    </a:cubicBezTo>
                    <a:cubicBezTo>
                      <a:pt x="1886726" y="2133142"/>
                      <a:pt x="1868536" y="2101080"/>
                      <a:pt x="1862667" y="2065867"/>
                    </a:cubicBezTo>
                    <a:cubicBezTo>
                      <a:pt x="1846052" y="1966175"/>
                      <a:pt x="1835554" y="1713597"/>
                      <a:pt x="1794933" y="1591733"/>
                    </a:cubicBezTo>
                    <a:cubicBezTo>
                      <a:pt x="1778968" y="1543839"/>
                      <a:pt x="1753174" y="1499558"/>
                      <a:pt x="1727200" y="1456267"/>
                    </a:cubicBezTo>
                    <a:cubicBezTo>
                      <a:pt x="1685317" y="1386462"/>
                      <a:pt x="1591733" y="1253067"/>
                      <a:pt x="1591733" y="1253067"/>
                    </a:cubicBezTo>
                    <a:cubicBezTo>
                      <a:pt x="1555962" y="1145753"/>
                      <a:pt x="1565165" y="1143657"/>
                      <a:pt x="1490133" y="1049867"/>
                    </a:cubicBezTo>
                    <a:cubicBezTo>
                      <a:pt x="1470187" y="1024934"/>
                      <a:pt x="1442346" y="1007066"/>
                      <a:pt x="1422400" y="982133"/>
                    </a:cubicBezTo>
                    <a:cubicBezTo>
                      <a:pt x="1396973" y="950349"/>
                      <a:pt x="1380094" y="912316"/>
                      <a:pt x="1354667" y="880533"/>
                    </a:cubicBezTo>
                    <a:cubicBezTo>
                      <a:pt x="1334721" y="855600"/>
                      <a:pt x="1306879" y="837733"/>
                      <a:pt x="1286933" y="812800"/>
                    </a:cubicBezTo>
                    <a:cubicBezTo>
                      <a:pt x="1261506" y="781017"/>
                      <a:pt x="1246241" y="741622"/>
                      <a:pt x="1219200" y="711200"/>
                    </a:cubicBezTo>
                    <a:cubicBezTo>
                      <a:pt x="1155561" y="639606"/>
                      <a:pt x="1095702" y="561134"/>
                      <a:pt x="1016000" y="508000"/>
                    </a:cubicBezTo>
                    <a:cubicBezTo>
                      <a:pt x="887833" y="422556"/>
                      <a:pt x="943181" y="469048"/>
                      <a:pt x="846667" y="372533"/>
                    </a:cubicBezTo>
                    <a:cubicBezTo>
                      <a:pt x="835378" y="338666"/>
                      <a:pt x="832602" y="300636"/>
                      <a:pt x="812800" y="270933"/>
                    </a:cubicBezTo>
                    <a:cubicBezTo>
                      <a:pt x="786233" y="231082"/>
                      <a:pt x="749006" y="198737"/>
                      <a:pt x="711200" y="169333"/>
                    </a:cubicBezTo>
                    <a:cubicBezTo>
                      <a:pt x="536524" y="33474"/>
                      <a:pt x="559693" y="51098"/>
                      <a:pt x="406400" y="0"/>
                    </a:cubicBezTo>
                    <a:cubicBezTo>
                      <a:pt x="361244" y="11289"/>
                      <a:pt x="313715" y="15532"/>
                      <a:pt x="270933" y="33867"/>
                    </a:cubicBezTo>
                    <a:cubicBezTo>
                      <a:pt x="53886" y="126887"/>
                      <a:pt x="173770" y="228415"/>
                      <a:pt x="203200" y="508000"/>
                    </a:cubicBezTo>
                    <a:cubicBezTo>
                      <a:pt x="230238" y="764856"/>
                      <a:pt x="168958" y="711013"/>
                      <a:pt x="304800" y="778933"/>
                    </a:cubicBezTo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任意多边形 238"/>
              <p:cNvSpPr/>
              <p:nvPr/>
            </p:nvSpPr>
            <p:spPr>
              <a:xfrm rot="13129200">
                <a:off x="17117640" y="-264600"/>
                <a:ext cx="83160" cy="327600"/>
              </a:xfrm>
              <a:custGeom>
                <a:avLst/>
                <a:gdLst>
                  <a:gd name="textAreaLeft" fmla="*/ 0 w 83160"/>
                  <a:gd name="textAreaRight" fmla="*/ 83520 w 83160"/>
                  <a:gd name="textAreaTop" fmla="*/ 0 h 327600"/>
                  <a:gd name="textAreaBottom" fmla="*/ 327960 h 327600"/>
                </a:gdLst>
                <a:ahLst/>
                <a:rect l="textAreaLeft" t="textAreaTop" r="textAreaRight" b="textAreaBottom"/>
                <a:pathLst>
                  <a:path w="2065867" h="4030133">
                    <a:moveTo>
                      <a:pt x="270933" y="677333"/>
                    </a:moveTo>
                    <a:cubicBezTo>
                      <a:pt x="259644" y="733778"/>
                      <a:pt x="257278" y="792770"/>
                      <a:pt x="237067" y="846667"/>
                    </a:cubicBezTo>
                    <a:cubicBezTo>
                      <a:pt x="222775" y="884778"/>
                      <a:pt x="187536" y="911861"/>
                      <a:pt x="169333" y="948267"/>
                    </a:cubicBezTo>
                    <a:cubicBezTo>
                      <a:pt x="153368" y="980197"/>
                      <a:pt x="146756" y="1016000"/>
                      <a:pt x="135467" y="1049867"/>
                    </a:cubicBezTo>
                    <a:cubicBezTo>
                      <a:pt x="124178" y="1128889"/>
                      <a:pt x="124537" y="1210475"/>
                      <a:pt x="101600" y="1286933"/>
                    </a:cubicBezTo>
                    <a:cubicBezTo>
                      <a:pt x="89904" y="1325919"/>
                      <a:pt x="52070" y="1352127"/>
                      <a:pt x="33867" y="1388533"/>
                    </a:cubicBezTo>
                    <a:cubicBezTo>
                      <a:pt x="17902" y="1420463"/>
                      <a:pt x="11289" y="1456266"/>
                      <a:pt x="0" y="1490133"/>
                    </a:cubicBezTo>
                    <a:cubicBezTo>
                      <a:pt x="11289" y="1648178"/>
                      <a:pt x="6331" y="1808231"/>
                      <a:pt x="33867" y="1964267"/>
                    </a:cubicBezTo>
                    <a:cubicBezTo>
                      <a:pt x="40941" y="2004350"/>
                      <a:pt x="77942" y="2032746"/>
                      <a:pt x="101600" y="2065867"/>
                    </a:cubicBezTo>
                    <a:cubicBezTo>
                      <a:pt x="134408" y="2111798"/>
                      <a:pt x="167065" y="2157971"/>
                      <a:pt x="203200" y="2201333"/>
                    </a:cubicBezTo>
                    <a:cubicBezTo>
                      <a:pt x="223641" y="2225862"/>
                      <a:pt x="253221" y="2242500"/>
                      <a:pt x="270933" y="2269067"/>
                    </a:cubicBezTo>
                    <a:cubicBezTo>
                      <a:pt x="298937" y="2311073"/>
                      <a:pt x="313619" y="2360700"/>
                      <a:pt x="338667" y="2404533"/>
                    </a:cubicBezTo>
                    <a:cubicBezTo>
                      <a:pt x="443708" y="2588354"/>
                      <a:pt x="378175" y="2421458"/>
                      <a:pt x="440267" y="2607733"/>
                    </a:cubicBezTo>
                    <a:cubicBezTo>
                      <a:pt x="451556" y="2686755"/>
                      <a:pt x="448890" y="2769072"/>
                      <a:pt x="474133" y="2844800"/>
                    </a:cubicBezTo>
                    <a:cubicBezTo>
                      <a:pt x="484230" y="2875091"/>
                      <a:pt x="525439" y="2885153"/>
                      <a:pt x="541867" y="2912533"/>
                    </a:cubicBezTo>
                    <a:cubicBezTo>
                      <a:pt x="692110" y="3162937"/>
                      <a:pt x="437916" y="2858793"/>
                      <a:pt x="643467" y="3115733"/>
                    </a:cubicBezTo>
                    <a:cubicBezTo>
                      <a:pt x="663413" y="3140666"/>
                      <a:pt x="691254" y="3158534"/>
                      <a:pt x="711200" y="3183467"/>
                    </a:cubicBezTo>
                    <a:cubicBezTo>
                      <a:pt x="736627" y="3215251"/>
                      <a:pt x="752130" y="3254435"/>
                      <a:pt x="778933" y="3285067"/>
                    </a:cubicBezTo>
                    <a:cubicBezTo>
                      <a:pt x="831498" y="3345141"/>
                      <a:pt x="900372" y="3390540"/>
                      <a:pt x="948267" y="3454400"/>
                    </a:cubicBezTo>
                    <a:cubicBezTo>
                      <a:pt x="982134" y="3499556"/>
                      <a:pt x="1019951" y="3542002"/>
                      <a:pt x="1049867" y="3589867"/>
                    </a:cubicBezTo>
                    <a:cubicBezTo>
                      <a:pt x="1076624" y="3632678"/>
                      <a:pt x="1089596" y="3683327"/>
                      <a:pt x="1117600" y="3725333"/>
                    </a:cubicBezTo>
                    <a:cubicBezTo>
                      <a:pt x="1164328" y="3795425"/>
                      <a:pt x="1222230" y="3809038"/>
                      <a:pt x="1286933" y="3860800"/>
                    </a:cubicBezTo>
                    <a:cubicBezTo>
                      <a:pt x="1311866" y="3880746"/>
                      <a:pt x="1328100" y="3910821"/>
                      <a:pt x="1354667" y="3928533"/>
                    </a:cubicBezTo>
                    <a:cubicBezTo>
                      <a:pt x="1438370" y="3984335"/>
                      <a:pt x="1501418" y="4000029"/>
                      <a:pt x="1591733" y="4030133"/>
                    </a:cubicBezTo>
                    <a:cubicBezTo>
                      <a:pt x="1670755" y="4018844"/>
                      <a:pt x="1753072" y="4021510"/>
                      <a:pt x="1828800" y="3996267"/>
                    </a:cubicBezTo>
                    <a:cubicBezTo>
                      <a:pt x="1947678" y="3956641"/>
                      <a:pt x="1962781" y="3628192"/>
                      <a:pt x="1964267" y="3623733"/>
                    </a:cubicBezTo>
                    <a:cubicBezTo>
                      <a:pt x="1977138" y="3585119"/>
                      <a:pt x="2013797" y="3558539"/>
                      <a:pt x="2032000" y="3522133"/>
                    </a:cubicBezTo>
                    <a:cubicBezTo>
                      <a:pt x="2047965" y="3490203"/>
                      <a:pt x="2054578" y="3454400"/>
                      <a:pt x="2065867" y="3420533"/>
                    </a:cubicBezTo>
                    <a:cubicBezTo>
                      <a:pt x="2054578" y="3318933"/>
                      <a:pt x="2052048" y="3215973"/>
                      <a:pt x="2032000" y="3115733"/>
                    </a:cubicBezTo>
                    <a:cubicBezTo>
                      <a:pt x="2017998" y="3045722"/>
                      <a:pt x="1964267" y="2912533"/>
                      <a:pt x="1964267" y="2912533"/>
                    </a:cubicBezTo>
                    <a:cubicBezTo>
                      <a:pt x="2045473" y="2668911"/>
                      <a:pt x="1946942" y="2973167"/>
                      <a:pt x="2032000" y="2675467"/>
                    </a:cubicBezTo>
                    <a:cubicBezTo>
                      <a:pt x="2041807" y="2641142"/>
                      <a:pt x="2054578" y="2607734"/>
                      <a:pt x="2065867" y="2573867"/>
                    </a:cubicBezTo>
                    <a:cubicBezTo>
                      <a:pt x="1988036" y="2340376"/>
                      <a:pt x="2048618" y="2421153"/>
                      <a:pt x="1930400" y="2302933"/>
                    </a:cubicBezTo>
                    <a:cubicBezTo>
                      <a:pt x="1919111" y="2257778"/>
                      <a:pt x="1909320" y="2212221"/>
                      <a:pt x="1896533" y="2167467"/>
                    </a:cubicBezTo>
                    <a:cubicBezTo>
                      <a:pt x="1886726" y="2133142"/>
                      <a:pt x="1868536" y="2101080"/>
                      <a:pt x="1862667" y="2065867"/>
                    </a:cubicBezTo>
                    <a:cubicBezTo>
                      <a:pt x="1846052" y="1966175"/>
                      <a:pt x="1835554" y="1713597"/>
                      <a:pt x="1794933" y="1591733"/>
                    </a:cubicBezTo>
                    <a:cubicBezTo>
                      <a:pt x="1778968" y="1543839"/>
                      <a:pt x="1753174" y="1499558"/>
                      <a:pt x="1727200" y="1456267"/>
                    </a:cubicBezTo>
                    <a:cubicBezTo>
                      <a:pt x="1685317" y="1386462"/>
                      <a:pt x="1591733" y="1253067"/>
                      <a:pt x="1591733" y="1253067"/>
                    </a:cubicBezTo>
                    <a:cubicBezTo>
                      <a:pt x="1555962" y="1145753"/>
                      <a:pt x="1565165" y="1143657"/>
                      <a:pt x="1490133" y="1049867"/>
                    </a:cubicBezTo>
                    <a:cubicBezTo>
                      <a:pt x="1470187" y="1024934"/>
                      <a:pt x="1442346" y="1007066"/>
                      <a:pt x="1422400" y="982133"/>
                    </a:cubicBezTo>
                    <a:cubicBezTo>
                      <a:pt x="1396973" y="950349"/>
                      <a:pt x="1380094" y="912316"/>
                      <a:pt x="1354667" y="880533"/>
                    </a:cubicBezTo>
                    <a:cubicBezTo>
                      <a:pt x="1334721" y="855600"/>
                      <a:pt x="1306879" y="837733"/>
                      <a:pt x="1286933" y="812800"/>
                    </a:cubicBezTo>
                    <a:cubicBezTo>
                      <a:pt x="1261506" y="781017"/>
                      <a:pt x="1246241" y="741622"/>
                      <a:pt x="1219200" y="711200"/>
                    </a:cubicBezTo>
                    <a:cubicBezTo>
                      <a:pt x="1155561" y="639606"/>
                      <a:pt x="1095702" y="561134"/>
                      <a:pt x="1016000" y="508000"/>
                    </a:cubicBezTo>
                    <a:cubicBezTo>
                      <a:pt x="887833" y="422556"/>
                      <a:pt x="943181" y="469048"/>
                      <a:pt x="846667" y="372533"/>
                    </a:cubicBezTo>
                    <a:cubicBezTo>
                      <a:pt x="835378" y="338666"/>
                      <a:pt x="832602" y="300636"/>
                      <a:pt x="812800" y="270933"/>
                    </a:cubicBezTo>
                    <a:cubicBezTo>
                      <a:pt x="786233" y="231082"/>
                      <a:pt x="749006" y="198737"/>
                      <a:pt x="711200" y="169333"/>
                    </a:cubicBezTo>
                    <a:cubicBezTo>
                      <a:pt x="536524" y="33474"/>
                      <a:pt x="559693" y="51098"/>
                      <a:pt x="406400" y="0"/>
                    </a:cubicBezTo>
                    <a:cubicBezTo>
                      <a:pt x="361244" y="11289"/>
                      <a:pt x="313715" y="15532"/>
                      <a:pt x="270933" y="33867"/>
                    </a:cubicBezTo>
                    <a:cubicBezTo>
                      <a:pt x="53886" y="126887"/>
                      <a:pt x="173770" y="228415"/>
                      <a:pt x="203200" y="508000"/>
                    </a:cubicBezTo>
                    <a:cubicBezTo>
                      <a:pt x="230238" y="764856"/>
                      <a:pt x="168958" y="711013"/>
                      <a:pt x="304800" y="778933"/>
                    </a:cubicBezTo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3" name=""/>
            <p:cNvGrpSpPr/>
            <p:nvPr/>
          </p:nvGrpSpPr>
          <p:grpSpPr>
            <a:xfrm>
              <a:off x="17805960" y="1825200"/>
              <a:ext cx="1042200" cy="1658520"/>
              <a:chOff x="17805960" y="1825200"/>
              <a:chExt cx="1042200" cy="1658520"/>
            </a:xfrm>
          </p:grpSpPr>
          <p:sp>
            <p:nvSpPr>
              <p:cNvPr id="254" name="任意多边形 234"/>
              <p:cNvSpPr/>
              <p:nvPr/>
            </p:nvSpPr>
            <p:spPr>
              <a:xfrm flipH="1" rot="8470800">
                <a:off x="18111600" y="2345400"/>
                <a:ext cx="429480" cy="1128240"/>
              </a:xfrm>
              <a:custGeom>
                <a:avLst/>
                <a:gdLst>
                  <a:gd name="textAreaLeft" fmla="*/ -360 w 429480"/>
                  <a:gd name="textAreaRight" fmla="*/ 429480 w 429480"/>
                  <a:gd name="textAreaTop" fmla="*/ 0 h 1128240"/>
                  <a:gd name="textAreaBottom" fmla="*/ 1128600 h 1128240"/>
                </a:gdLst>
                <a:ahLst/>
                <a:rect l="textAreaLeft" t="textAreaTop" r="textAreaRight" b="textAreaBottom"/>
                <a:pathLst>
                  <a:path w="2065867" h="4030133">
                    <a:moveTo>
                      <a:pt x="270933" y="677333"/>
                    </a:moveTo>
                    <a:cubicBezTo>
                      <a:pt x="259644" y="733778"/>
                      <a:pt x="257278" y="792770"/>
                      <a:pt x="237067" y="846667"/>
                    </a:cubicBezTo>
                    <a:cubicBezTo>
                      <a:pt x="222775" y="884778"/>
                      <a:pt x="187536" y="911861"/>
                      <a:pt x="169333" y="948267"/>
                    </a:cubicBezTo>
                    <a:cubicBezTo>
                      <a:pt x="153368" y="980197"/>
                      <a:pt x="146756" y="1016000"/>
                      <a:pt x="135467" y="1049867"/>
                    </a:cubicBezTo>
                    <a:cubicBezTo>
                      <a:pt x="124178" y="1128889"/>
                      <a:pt x="124537" y="1210475"/>
                      <a:pt x="101600" y="1286933"/>
                    </a:cubicBezTo>
                    <a:cubicBezTo>
                      <a:pt x="89904" y="1325919"/>
                      <a:pt x="52070" y="1352127"/>
                      <a:pt x="33867" y="1388533"/>
                    </a:cubicBezTo>
                    <a:cubicBezTo>
                      <a:pt x="17902" y="1420463"/>
                      <a:pt x="11289" y="1456266"/>
                      <a:pt x="0" y="1490133"/>
                    </a:cubicBezTo>
                    <a:cubicBezTo>
                      <a:pt x="11289" y="1648178"/>
                      <a:pt x="6331" y="1808231"/>
                      <a:pt x="33867" y="1964267"/>
                    </a:cubicBezTo>
                    <a:cubicBezTo>
                      <a:pt x="40941" y="2004350"/>
                      <a:pt x="77942" y="2032746"/>
                      <a:pt x="101600" y="2065867"/>
                    </a:cubicBezTo>
                    <a:cubicBezTo>
                      <a:pt x="134408" y="2111798"/>
                      <a:pt x="167065" y="2157971"/>
                      <a:pt x="203200" y="2201333"/>
                    </a:cubicBezTo>
                    <a:cubicBezTo>
                      <a:pt x="223641" y="2225862"/>
                      <a:pt x="253221" y="2242500"/>
                      <a:pt x="270933" y="2269067"/>
                    </a:cubicBezTo>
                    <a:cubicBezTo>
                      <a:pt x="298937" y="2311073"/>
                      <a:pt x="313619" y="2360700"/>
                      <a:pt x="338667" y="2404533"/>
                    </a:cubicBezTo>
                    <a:cubicBezTo>
                      <a:pt x="443708" y="2588354"/>
                      <a:pt x="378175" y="2421458"/>
                      <a:pt x="440267" y="2607733"/>
                    </a:cubicBezTo>
                    <a:cubicBezTo>
                      <a:pt x="451556" y="2686755"/>
                      <a:pt x="448890" y="2769072"/>
                      <a:pt x="474133" y="2844800"/>
                    </a:cubicBezTo>
                    <a:cubicBezTo>
                      <a:pt x="484230" y="2875091"/>
                      <a:pt x="525439" y="2885153"/>
                      <a:pt x="541867" y="2912533"/>
                    </a:cubicBezTo>
                    <a:cubicBezTo>
                      <a:pt x="692110" y="3162937"/>
                      <a:pt x="437916" y="2858793"/>
                      <a:pt x="643467" y="3115733"/>
                    </a:cubicBezTo>
                    <a:cubicBezTo>
                      <a:pt x="663413" y="3140666"/>
                      <a:pt x="691254" y="3158534"/>
                      <a:pt x="711200" y="3183467"/>
                    </a:cubicBezTo>
                    <a:cubicBezTo>
                      <a:pt x="736627" y="3215251"/>
                      <a:pt x="752130" y="3254435"/>
                      <a:pt x="778933" y="3285067"/>
                    </a:cubicBezTo>
                    <a:cubicBezTo>
                      <a:pt x="831498" y="3345141"/>
                      <a:pt x="900372" y="3390540"/>
                      <a:pt x="948267" y="3454400"/>
                    </a:cubicBezTo>
                    <a:cubicBezTo>
                      <a:pt x="982134" y="3499556"/>
                      <a:pt x="1019951" y="3542002"/>
                      <a:pt x="1049867" y="3589867"/>
                    </a:cubicBezTo>
                    <a:cubicBezTo>
                      <a:pt x="1076624" y="3632678"/>
                      <a:pt x="1089596" y="3683327"/>
                      <a:pt x="1117600" y="3725333"/>
                    </a:cubicBezTo>
                    <a:cubicBezTo>
                      <a:pt x="1164328" y="3795425"/>
                      <a:pt x="1222230" y="3809038"/>
                      <a:pt x="1286933" y="3860800"/>
                    </a:cubicBezTo>
                    <a:cubicBezTo>
                      <a:pt x="1311866" y="3880746"/>
                      <a:pt x="1328100" y="3910821"/>
                      <a:pt x="1354667" y="3928533"/>
                    </a:cubicBezTo>
                    <a:cubicBezTo>
                      <a:pt x="1438370" y="3984335"/>
                      <a:pt x="1501418" y="4000029"/>
                      <a:pt x="1591733" y="4030133"/>
                    </a:cubicBezTo>
                    <a:cubicBezTo>
                      <a:pt x="1670755" y="4018844"/>
                      <a:pt x="1753072" y="4021510"/>
                      <a:pt x="1828800" y="3996267"/>
                    </a:cubicBezTo>
                    <a:cubicBezTo>
                      <a:pt x="1947678" y="3956641"/>
                      <a:pt x="1962781" y="3628192"/>
                      <a:pt x="1964267" y="3623733"/>
                    </a:cubicBezTo>
                    <a:cubicBezTo>
                      <a:pt x="1977138" y="3585119"/>
                      <a:pt x="2013797" y="3558539"/>
                      <a:pt x="2032000" y="3522133"/>
                    </a:cubicBezTo>
                    <a:cubicBezTo>
                      <a:pt x="2047965" y="3490203"/>
                      <a:pt x="2054578" y="3454400"/>
                      <a:pt x="2065867" y="3420533"/>
                    </a:cubicBezTo>
                    <a:cubicBezTo>
                      <a:pt x="2054578" y="3318933"/>
                      <a:pt x="2052048" y="3215973"/>
                      <a:pt x="2032000" y="3115733"/>
                    </a:cubicBezTo>
                    <a:cubicBezTo>
                      <a:pt x="2017998" y="3045722"/>
                      <a:pt x="1964267" y="2912533"/>
                      <a:pt x="1964267" y="2912533"/>
                    </a:cubicBezTo>
                    <a:cubicBezTo>
                      <a:pt x="2045473" y="2668911"/>
                      <a:pt x="1946942" y="2973167"/>
                      <a:pt x="2032000" y="2675467"/>
                    </a:cubicBezTo>
                    <a:cubicBezTo>
                      <a:pt x="2041807" y="2641142"/>
                      <a:pt x="2054578" y="2607734"/>
                      <a:pt x="2065867" y="2573867"/>
                    </a:cubicBezTo>
                    <a:cubicBezTo>
                      <a:pt x="1988036" y="2340376"/>
                      <a:pt x="2048618" y="2421153"/>
                      <a:pt x="1930400" y="2302933"/>
                    </a:cubicBezTo>
                    <a:cubicBezTo>
                      <a:pt x="1919111" y="2257778"/>
                      <a:pt x="1909320" y="2212221"/>
                      <a:pt x="1896533" y="2167467"/>
                    </a:cubicBezTo>
                    <a:cubicBezTo>
                      <a:pt x="1886726" y="2133142"/>
                      <a:pt x="1868536" y="2101080"/>
                      <a:pt x="1862667" y="2065867"/>
                    </a:cubicBezTo>
                    <a:cubicBezTo>
                      <a:pt x="1846052" y="1966175"/>
                      <a:pt x="1835554" y="1713597"/>
                      <a:pt x="1794933" y="1591733"/>
                    </a:cubicBezTo>
                    <a:cubicBezTo>
                      <a:pt x="1778968" y="1543839"/>
                      <a:pt x="1753174" y="1499558"/>
                      <a:pt x="1727200" y="1456267"/>
                    </a:cubicBezTo>
                    <a:cubicBezTo>
                      <a:pt x="1685317" y="1386462"/>
                      <a:pt x="1591733" y="1253067"/>
                      <a:pt x="1591733" y="1253067"/>
                    </a:cubicBezTo>
                    <a:cubicBezTo>
                      <a:pt x="1555962" y="1145753"/>
                      <a:pt x="1565165" y="1143657"/>
                      <a:pt x="1490133" y="1049867"/>
                    </a:cubicBezTo>
                    <a:cubicBezTo>
                      <a:pt x="1470187" y="1024934"/>
                      <a:pt x="1442346" y="1007066"/>
                      <a:pt x="1422400" y="982133"/>
                    </a:cubicBezTo>
                    <a:cubicBezTo>
                      <a:pt x="1396973" y="950349"/>
                      <a:pt x="1380094" y="912316"/>
                      <a:pt x="1354667" y="880533"/>
                    </a:cubicBezTo>
                    <a:cubicBezTo>
                      <a:pt x="1334721" y="855600"/>
                      <a:pt x="1306879" y="837733"/>
                      <a:pt x="1286933" y="812800"/>
                    </a:cubicBezTo>
                    <a:cubicBezTo>
                      <a:pt x="1261506" y="781017"/>
                      <a:pt x="1246241" y="741622"/>
                      <a:pt x="1219200" y="711200"/>
                    </a:cubicBezTo>
                    <a:cubicBezTo>
                      <a:pt x="1155561" y="639606"/>
                      <a:pt x="1095702" y="561134"/>
                      <a:pt x="1016000" y="508000"/>
                    </a:cubicBezTo>
                    <a:cubicBezTo>
                      <a:pt x="887833" y="422556"/>
                      <a:pt x="943181" y="469048"/>
                      <a:pt x="846667" y="372533"/>
                    </a:cubicBezTo>
                    <a:cubicBezTo>
                      <a:pt x="835378" y="338666"/>
                      <a:pt x="832602" y="300636"/>
                      <a:pt x="812800" y="270933"/>
                    </a:cubicBezTo>
                    <a:cubicBezTo>
                      <a:pt x="786233" y="231082"/>
                      <a:pt x="749006" y="198737"/>
                      <a:pt x="711200" y="169333"/>
                    </a:cubicBezTo>
                    <a:cubicBezTo>
                      <a:pt x="536524" y="33474"/>
                      <a:pt x="559693" y="51098"/>
                      <a:pt x="406400" y="0"/>
                    </a:cubicBezTo>
                    <a:cubicBezTo>
                      <a:pt x="361244" y="11289"/>
                      <a:pt x="313715" y="15532"/>
                      <a:pt x="270933" y="33867"/>
                    </a:cubicBezTo>
                    <a:cubicBezTo>
                      <a:pt x="53886" y="126887"/>
                      <a:pt x="173770" y="228415"/>
                      <a:pt x="203200" y="508000"/>
                    </a:cubicBezTo>
                    <a:cubicBezTo>
                      <a:pt x="230238" y="764856"/>
                      <a:pt x="168958" y="711013"/>
                      <a:pt x="304800" y="778933"/>
                    </a:cubicBezTo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任意多边形 235"/>
              <p:cNvSpPr/>
              <p:nvPr/>
            </p:nvSpPr>
            <p:spPr>
              <a:xfrm flipH="1" rot="8470800">
                <a:off x="18141480" y="1783080"/>
                <a:ext cx="200160" cy="948240"/>
              </a:xfrm>
              <a:custGeom>
                <a:avLst/>
                <a:gdLst>
                  <a:gd name="textAreaLeft" fmla="*/ 360 w 200160"/>
                  <a:gd name="textAreaRight" fmla="*/ 200880 w 200160"/>
                  <a:gd name="textAreaTop" fmla="*/ 0 h 948240"/>
                  <a:gd name="textAreaBottom" fmla="*/ 948600 h 948240"/>
                </a:gdLst>
                <a:ahLst/>
                <a:rect l="textAreaLeft" t="textAreaTop" r="textAreaRight" b="textAreaBottom"/>
                <a:pathLst>
                  <a:path w="2065867" h="4030133">
                    <a:moveTo>
                      <a:pt x="270933" y="677333"/>
                    </a:moveTo>
                    <a:cubicBezTo>
                      <a:pt x="259644" y="733778"/>
                      <a:pt x="257278" y="792770"/>
                      <a:pt x="237067" y="846667"/>
                    </a:cubicBezTo>
                    <a:cubicBezTo>
                      <a:pt x="222775" y="884778"/>
                      <a:pt x="187536" y="911861"/>
                      <a:pt x="169333" y="948267"/>
                    </a:cubicBezTo>
                    <a:cubicBezTo>
                      <a:pt x="153368" y="980197"/>
                      <a:pt x="146756" y="1016000"/>
                      <a:pt x="135467" y="1049867"/>
                    </a:cubicBezTo>
                    <a:cubicBezTo>
                      <a:pt x="124178" y="1128889"/>
                      <a:pt x="124537" y="1210475"/>
                      <a:pt x="101600" y="1286933"/>
                    </a:cubicBezTo>
                    <a:cubicBezTo>
                      <a:pt x="89904" y="1325919"/>
                      <a:pt x="52070" y="1352127"/>
                      <a:pt x="33867" y="1388533"/>
                    </a:cubicBezTo>
                    <a:cubicBezTo>
                      <a:pt x="17902" y="1420463"/>
                      <a:pt x="11289" y="1456266"/>
                      <a:pt x="0" y="1490133"/>
                    </a:cubicBezTo>
                    <a:cubicBezTo>
                      <a:pt x="11289" y="1648178"/>
                      <a:pt x="6331" y="1808231"/>
                      <a:pt x="33867" y="1964267"/>
                    </a:cubicBezTo>
                    <a:cubicBezTo>
                      <a:pt x="40941" y="2004350"/>
                      <a:pt x="77942" y="2032746"/>
                      <a:pt x="101600" y="2065867"/>
                    </a:cubicBezTo>
                    <a:cubicBezTo>
                      <a:pt x="134408" y="2111798"/>
                      <a:pt x="167065" y="2157971"/>
                      <a:pt x="203200" y="2201333"/>
                    </a:cubicBezTo>
                    <a:cubicBezTo>
                      <a:pt x="223641" y="2225862"/>
                      <a:pt x="253221" y="2242500"/>
                      <a:pt x="270933" y="2269067"/>
                    </a:cubicBezTo>
                    <a:cubicBezTo>
                      <a:pt x="298937" y="2311073"/>
                      <a:pt x="313619" y="2360700"/>
                      <a:pt x="338667" y="2404533"/>
                    </a:cubicBezTo>
                    <a:cubicBezTo>
                      <a:pt x="443708" y="2588354"/>
                      <a:pt x="378175" y="2421458"/>
                      <a:pt x="440267" y="2607733"/>
                    </a:cubicBezTo>
                    <a:cubicBezTo>
                      <a:pt x="451556" y="2686755"/>
                      <a:pt x="448890" y="2769072"/>
                      <a:pt x="474133" y="2844800"/>
                    </a:cubicBezTo>
                    <a:cubicBezTo>
                      <a:pt x="484230" y="2875091"/>
                      <a:pt x="525439" y="2885153"/>
                      <a:pt x="541867" y="2912533"/>
                    </a:cubicBezTo>
                    <a:cubicBezTo>
                      <a:pt x="692110" y="3162937"/>
                      <a:pt x="437916" y="2858793"/>
                      <a:pt x="643467" y="3115733"/>
                    </a:cubicBezTo>
                    <a:cubicBezTo>
                      <a:pt x="663413" y="3140666"/>
                      <a:pt x="691254" y="3158534"/>
                      <a:pt x="711200" y="3183467"/>
                    </a:cubicBezTo>
                    <a:cubicBezTo>
                      <a:pt x="736627" y="3215251"/>
                      <a:pt x="752130" y="3254435"/>
                      <a:pt x="778933" y="3285067"/>
                    </a:cubicBezTo>
                    <a:cubicBezTo>
                      <a:pt x="831498" y="3345141"/>
                      <a:pt x="900372" y="3390540"/>
                      <a:pt x="948267" y="3454400"/>
                    </a:cubicBezTo>
                    <a:cubicBezTo>
                      <a:pt x="982134" y="3499556"/>
                      <a:pt x="1019951" y="3542002"/>
                      <a:pt x="1049867" y="3589867"/>
                    </a:cubicBezTo>
                    <a:cubicBezTo>
                      <a:pt x="1076624" y="3632678"/>
                      <a:pt x="1089596" y="3683327"/>
                      <a:pt x="1117600" y="3725333"/>
                    </a:cubicBezTo>
                    <a:cubicBezTo>
                      <a:pt x="1164328" y="3795425"/>
                      <a:pt x="1222230" y="3809038"/>
                      <a:pt x="1286933" y="3860800"/>
                    </a:cubicBezTo>
                    <a:cubicBezTo>
                      <a:pt x="1311866" y="3880746"/>
                      <a:pt x="1328100" y="3910821"/>
                      <a:pt x="1354667" y="3928533"/>
                    </a:cubicBezTo>
                    <a:cubicBezTo>
                      <a:pt x="1438370" y="3984335"/>
                      <a:pt x="1501418" y="4000029"/>
                      <a:pt x="1591733" y="4030133"/>
                    </a:cubicBezTo>
                    <a:cubicBezTo>
                      <a:pt x="1670755" y="4018844"/>
                      <a:pt x="1753072" y="4021510"/>
                      <a:pt x="1828800" y="3996267"/>
                    </a:cubicBezTo>
                    <a:cubicBezTo>
                      <a:pt x="1947678" y="3956641"/>
                      <a:pt x="1962781" y="3628192"/>
                      <a:pt x="1964267" y="3623733"/>
                    </a:cubicBezTo>
                    <a:cubicBezTo>
                      <a:pt x="1977138" y="3585119"/>
                      <a:pt x="2013797" y="3558539"/>
                      <a:pt x="2032000" y="3522133"/>
                    </a:cubicBezTo>
                    <a:cubicBezTo>
                      <a:pt x="2047965" y="3490203"/>
                      <a:pt x="2054578" y="3454400"/>
                      <a:pt x="2065867" y="3420533"/>
                    </a:cubicBezTo>
                    <a:cubicBezTo>
                      <a:pt x="2054578" y="3318933"/>
                      <a:pt x="2052048" y="3215973"/>
                      <a:pt x="2032000" y="3115733"/>
                    </a:cubicBezTo>
                    <a:cubicBezTo>
                      <a:pt x="2017998" y="3045722"/>
                      <a:pt x="1964267" y="2912533"/>
                      <a:pt x="1964267" y="2912533"/>
                    </a:cubicBezTo>
                    <a:cubicBezTo>
                      <a:pt x="2045473" y="2668911"/>
                      <a:pt x="1946942" y="2973167"/>
                      <a:pt x="2032000" y="2675467"/>
                    </a:cubicBezTo>
                    <a:cubicBezTo>
                      <a:pt x="2041807" y="2641142"/>
                      <a:pt x="2054578" y="2607734"/>
                      <a:pt x="2065867" y="2573867"/>
                    </a:cubicBezTo>
                    <a:cubicBezTo>
                      <a:pt x="1988036" y="2340376"/>
                      <a:pt x="2048618" y="2421153"/>
                      <a:pt x="1930400" y="2302933"/>
                    </a:cubicBezTo>
                    <a:cubicBezTo>
                      <a:pt x="1919111" y="2257778"/>
                      <a:pt x="1909320" y="2212221"/>
                      <a:pt x="1896533" y="2167467"/>
                    </a:cubicBezTo>
                    <a:cubicBezTo>
                      <a:pt x="1886726" y="2133142"/>
                      <a:pt x="1868536" y="2101080"/>
                      <a:pt x="1862667" y="2065867"/>
                    </a:cubicBezTo>
                    <a:cubicBezTo>
                      <a:pt x="1846052" y="1966175"/>
                      <a:pt x="1835554" y="1713597"/>
                      <a:pt x="1794933" y="1591733"/>
                    </a:cubicBezTo>
                    <a:cubicBezTo>
                      <a:pt x="1778968" y="1543839"/>
                      <a:pt x="1753174" y="1499558"/>
                      <a:pt x="1727200" y="1456267"/>
                    </a:cubicBezTo>
                    <a:cubicBezTo>
                      <a:pt x="1685317" y="1386462"/>
                      <a:pt x="1591733" y="1253067"/>
                      <a:pt x="1591733" y="1253067"/>
                    </a:cubicBezTo>
                    <a:cubicBezTo>
                      <a:pt x="1555962" y="1145753"/>
                      <a:pt x="1565165" y="1143657"/>
                      <a:pt x="1490133" y="1049867"/>
                    </a:cubicBezTo>
                    <a:cubicBezTo>
                      <a:pt x="1470187" y="1024934"/>
                      <a:pt x="1442346" y="1007066"/>
                      <a:pt x="1422400" y="982133"/>
                    </a:cubicBezTo>
                    <a:cubicBezTo>
                      <a:pt x="1396973" y="950349"/>
                      <a:pt x="1380094" y="912316"/>
                      <a:pt x="1354667" y="880533"/>
                    </a:cubicBezTo>
                    <a:cubicBezTo>
                      <a:pt x="1334721" y="855600"/>
                      <a:pt x="1306879" y="837733"/>
                      <a:pt x="1286933" y="812800"/>
                    </a:cubicBezTo>
                    <a:cubicBezTo>
                      <a:pt x="1261506" y="781017"/>
                      <a:pt x="1246241" y="741622"/>
                      <a:pt x="1219200" y="711200"/>
                    </a:cubicBezTo>
                    <a:cubicBezTo>
                      <a:pt x="1155561" y="639606"/>
                      <a:pt x="1095702" y="561134"/>
                      <a:pt x="1016000" y="508000"/>
                    </a:cubicBezTo>
                    <a:cubicBezTo>
                      <a:pt x="887833" y="422556"/>
                      <a:pt x="943181" y="469048"/>
                      <a:pt x="846667" y="372533"/>
                    </a:cubicBezTo>
                    <a:cubicBezTo>
                      <a:pt x="835378" y="338666"/>
                      <a:pt x="832602" y="300636"/>
                      <a:pt x="812800" y="270933"/>
                    </a:cubicBezTo>
                    <a:cubicBezTo>
                      <a:pt x="786233" y="231082"/>
                      <a:pt x="749006" y="198737"/>
                      <a:pt x="711200" y="169333"/>
                    </a:cubicBezTo>
                    <a:cubicBezTo>
                      <a:pt x="536524" y="33474"/>
                      <a:pt x="559693" y="51098"/>
                      <a:pt x="406400" y="0"/>
                    </a:cubicBezTo>
                    <a:cubicBezTo>
                      <a:pt x="361244" y="11289"/>
                      <a:pt x="313715" y="15532"/>
                      <a:pt x="270933" y="33867"/>
                    </a:cubicBezTo>
                    <a:cubicBezTo>
                      <a:pt x="53886" y="126887"/>
                      <a:pt x="173770" y="228415"/>
                      <a:pt x="203200" y="508000"/>
                    </a:cubicBezTo>
                    <a:cubicBezTo>
                      <a:pt x="230238" y="764856"/>
                      <a:pt x="168958" y="711013"/>
                      <a:pt x="304800" y="778933"/>
                    </a:cubicBezTo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6" name=""/>
            <p:cNvGrpSpPr/>
            <p:nvPr/>
          </p:nvGrpSpPr>
          <p:grpSpPr>
            <a:xfrm>
              <a:off x="15415560" y="3198240"/>
              <a:ext cx="1427040" cy="1206720"/>
              <a:chOff x="15415560" y="3198240"/>
              <a:chExt cx="1427040" cy="1206720"/>
            </a:xfrm>
          </p:grpSpPr>
          <p:sp>
            <p:nvSpPr>
              <p:cNvPr id="257" name="任意多边形 230"/>
              <p:cNvSpPr/>
              <p:nvPr/>
            </p:nvSpPr>
            <p:spPr>
              <a:xfrm rot="3712200">
                <a:off x="15776640" y="3180960"/>
                <a:ext cx="704880" cy="1241280"/>
              </a:xfrm>
              <a:custGeom>
                <a:avLst/>
                <a:gdLst>
                  <a:gd name="textAreaLeft" fmla="*/ 0 w 704880"/>
                  <a:gd name="textAreaRight" fmla="*/ 705240 w 704880"/>
                  <a:gd name="textAreaTop" fmla="*/ 0 h 1241280"/>
                  <a:gd name="textAreaBottom" fmla="*/ 1241640 h 1241280"/>
                </a:gdLst>
                <a:ahLst/>
                <a:rect l="textAreaLeft" t="textAreaTop" r="textAreaRight" b="textAreaBottom"/>
                <a:pathLst>
                  <a:path w="2065867" h="4030133">
                    <a:moveTo>
                      <a:pt x="270933" y="677333"/>
                    </a:moveTo>
                    <a:cubicBezTo>
                      <a:pt x="259644" y="733778"/>
                      <a:pt x="257278" y="792770"/>
                      <a:pt x="237067" y="846667"/>
                    </a:cubicBezTo>
                    <a:cubicBezTo>
                      <a:pt x="222775" y="884778"/>
                      <a:pt x="187536" y="911861"/>
                      <a:pt x="169333" y="948267"/>
                    </a:cubicBezTo>
                    <a:cubicBezTo>
                      <a:pt x="153368" y="980197"/>
                      <a:pt x="146756" y="1016000"/>
                      <a:pt x="135467" y="1049867"/>
                    </a:cubicBezTo>
                    <a:cubicBezTo>
                      <a:pt x="124178" y="1128889"/>
                      <a:pt x="124537" y="1210475"/>
                      <a:pt x="101600" y="1286933"/>
                    </a:cubicBezTo>
                    <a:cubicBezTo>
                      <a:pt x="89904" y="1325919"/>
                      <a:pt x="52070" y="1352127"/>
                      <a:pt x="33867" y="1388533"/>
                    </a:cubicBezTo>
                    <a:cubicBezTo>
                      <a:pt x="17902" y="1420463"/>
                      <a:pt x="11289" y="1456266"/>
                      <a:pt x="0" y="1490133"/>
                    </a:cubicBezTo>
                    <a:cubicBezTo>
                      <a:pt x="11289" y="1648178"/>
                      <a:pt x="6331" y="1808231"/>
                      <a:pt x="33867" y="1964267"/>
                    </a:cubicBezTo>
                    <a:cubicBezTo>
                      <a:pt x="40941" y="2004350"/>
                      <a:pt x="77942" y="2032746"/>
                      <a:pt x="101600" y="2065867"/>
                    </a:cubicBezTo>
                    <a:cubicBezTo>
                      <a:pt x="134408" y="2111798"/>
                      <a:pt x="167065" y="2157971"/>
                      <a:pt x="203200" y="2201333"/>
                    </a:cubicBezTo>
                    <a:cubicBezTo>
                      <a:pt x="223641" y="2225862"/>
                      <a:pt x="253221" y="2242500"/>
                      <a:pt x="270933" y="2269067"/>
                    </a:cubicBezTo>
                    <a:cubicBezTo>
                      <a:pt x="298937" y="2311073"/>
                      <a:pt x="313619" y="2360700"/>
                      <a:pt x="338667" y="2404533"/>
                    </a:cubicBezTo>
                    <a:cubicBezTo>
                      <a:pt x="443708" y="2588354"/>
                      <a:pt x="378175" y="2421458"/>
                      <a:pt x="440267" y="2607733"/>
                    </a:cubicBezTo>
                    <a:cubicBezTo>
                      <a:pt x="451556" y="2686755"/>
                      <a:pt x="448890" y="2769072"/>
                      <a:pt x="474133" y="2844800"/>
                    </a:cubicBezTo>
                    <a:cubicBezTo>
                      <a:pt x="484230" y="2875091"/>
                      <a:pt x="525439" y="2885153"/>
                      <a:pt x="541867" y="2912533"/>
                    </a:cubicBezTo>
                    <a:cubicBezTo>
                      <a:pt x="692110" y="3162937"/>
                      <a:pt x="437916" y="2858793"/>
                      <a:pt x="643467" y="3115733"/>
                    </a:cubicBezTo>
                    <a:cubicBezTo>
                      <a:pt x="663413" y="3140666"/>
                      <a:pt x="691254" y="3158534"/>
                      <a:pt x="711200" y="3183467"/>
                    </a:cubicBezTo>
                    <a:cubicBezTo>
                      <a:pt x="736627" y="3215251"/>
                      <a:pt x="752130" y="3254435"/>
                      <a:pt x="778933" y="3285067"/>
                    </a:cubicBezTo>
                    <a:cubicBezTo>
                      <a:pt x="831498" y="3345141"/>
                      <a:pt x="900372" y="3390540"/>
                      <a:pt x="948267" y="3454400"/>
                    </a:cubicBezTo>
                    <a:cubicBezTo>
                      <a:pt x="982134" y="3499556"/>
                      <a:pt x="1019951" y="3542002"/>
                      <a:pt x="1049867" y="3589867"/>
                    </a:cubicBezTo>
                    <a:cubicBezTo>
                      <a:pt x="1076624" y="3632678"/>
                      <a:pt x="1089596" y="3683327"/>
                      <a:pt x="1117600" y="3725333"/>
                    </a:cubicBezTo>
                    <a:cubicBezTo>
                      <a:pt x="1164328" y="3795425"/>
                      <a:pt x="1222230" y="3809038"/>
                      <a:pt x="1286933" y="3860800"/>
                    </a:cubicBezTo>
                    <a:cubicBezTo>
                      <a:pt x="1311866" y="3880746"/>
                      <a:pt x="1328100" y="3910821"/>
                      <a:pt x="1354667" y="3928533"/>
                    </a:cubicBezTo>
                    <a:cubicBezTo>
                      <a:pt x="1438370" y="3984335"/>
                      <a:pt x="1501418" y="4000029"/>
                      <a:pt x="1591733" y="4030133"/>
                    </a:cubicBezTo>
                    <a:cubicBezTo>
                      <a:pt x="1670755" y="4018844"/>
                      <a:pt x="1753072" y="4021510"/>
                      <a:pt x="1828800" y="3996267"/>
                    </a:cubicBezTo>
                    <a:cubicBezTo>
                      <a:pt x="1947678" y="3956641"/>
                      <a:pt x="1962781" y="3628192"/>
                      <a:pt x="1964267" y="3623733"/>
                    </a:cubicBezTo>
                    <a:cubicBezTo>
                      <a:pt x="1977138" y="3585119"/>
                      <a:pt x="2013797" y="3558539"/>
                      <a:pt x="2032000" y="3522133"/>
                    </a:cubicBezTo>
                    <a:cubicBezTo>
                      <a:pt x="2047965" y="3490203"/>
                      <a:pt x="2054578" y="3454400"/>
                      <a:pt x="2065867" y="3420533"/>
                    </a:cubicBezTo>
                    <a:cubicBezTo>
                      <a:pt x="2054578" y="3318933"/>
                      <a:pt x="2052048" y="3215973"/>
                      <a:pt x="2032000" y="3115733"/>
                    </a:cubicBezTo>
                    <a:cubicBezTo>
                      <a:pt x="2017998" y="3045722"/>
                      <a:pt x="1964267" y="2912533"/>
                      <a:pt x="1964267" y="2912533"/>
                    </a:cubicBezTo>
                    <a:cubicBezTo>
                      <a:pt x="2045473" y="2668911"/>
                      <a:pt x="1946942" y="2973167"/>
                      <a:pt x="2032000" y="2675467"/>
                    </a:cubicBezTo>
                    <a:cubicBezTo>
                      <a:pt x="2041807" y="2641142"/>
                      <a:pt x="2054578" y="2607734"/>
                      <a:pt x="2065867" y="2573867"/>
                    </a:cubicBezTo>
                    <a:cubicBezTo>
                      <a:pt x="1988036" y="2340376"/>
                      <a:pt x="2048618" y="2421153"/>
                      <a:pt x="1930400" y="2302933"/>
                    </a:cubicBezTo>
                    <a:cubicBezTo>
                      <a:pt x="1919111" y="2257778"/>
                      <a:pt x="1909320" y="2212221"/>
                      <a:pt x="1896533" y="2167467"/>
                    </a:cubicBezTo>
                    <a:cubicBezTo>
                      <a:pt x="1886726" y="2133142"/>
                      <a:pt x="1868536" y="2101080"/>
                      <a:pt x="1862667" y="2065867"/>
                    </a:cubicBezTo>
                    <a:cubicBezTo>
                      <a:pt x="1846052" y="1966175"/>
                      <a:pt x="1835554" y="1713597"/>
                      <a:pt x="1794933" y="1591733"/>
                    </a:cubicBezTo>
                    <a:cubicBezTo>
                      <a:pt x="1778968" y="1543839"/>
                      <a:pt x="1753174" y="1499558"/>
                      <a:pt x="1727200" y="1456267"/>
                    </a:cubicBezTo>
                    <a:cubicBezTo>
                      <a:pt x="1685317" y="1386462"/>
                      <a:pt x="1591733" y="1253067"/>
                      <a:pt x="1591733" y="1253067"/>
                    </a:cubicBezTo>
                    <a:cubicBezTo>
                      <a:pt x="1555962" y="1145753"/>
                      <a:pt x="1565165" y="1143657"/>
                      <a:pt x="1490133" y="1049867"/>
                    </a:cubicBezTo>
                    <a:cubicBezTo>
                      <a:pt x="1470187" y="1024934"/>
                      <a:pt x="1442346" y="1007066"/>
                      <a:pt x="1422400" y="982133"/>
                    </a:cubicBezTo>
                    <a:cubicBezTo>
                      <a:pt x="1396973" y="950349"/>
                      <a:pt x="1380094" y="912316"/>
                      <a:pt x="1354667" y="880533"/>
                    </a:cubicBezTo>
                    <a:cubicBezTo>
                      <a:pt x="1334721" y="855600"/>
                      <a:pt x="1306879" y="837733"/>
                      <a:pt x="1286933" y="812800"/>
                    </a:cubicBezTo>
                    <a:cubicBezTo>
                      <a:pt x="1261506" y="781017"/>
                      <a:pt x="1246241" y="741622"/>
                      <a:pt x="1219200" y="711200"/>
                    </a:cubicBezTo>
                    <a:cubicBezTo>
                      <a:pt x="1155561" y="639606"/>
                      <a:pt x="1095702" y="561134"/>
                      <a:pt x="1016000" y="508000"/>
                    </a:cubicBezTo>
                    <a:cubicBezTo>
                      <a:pt x="887833" y="422556"/>
                      <a:pt x="943181" y="469048"/>
                      <a:pt x="846667" y="372533"/>
                    </a:cubicBezTo>
                    <a:cubicBezTo>
                      <a:pt x="835378" y="338666"/>
                      <a:pt x="832602" y="300636"/>
                      <a:pt x="812800" y="270933"/>
                    </a:cubicBezTo>
                    <a:cubicBezTo>
                      <a:pt x="786233" y="231082"/>
                      <a:pt x="749006" y="198737"/>
                      <a:pt x="711200" y="169333"/>
                    </a:cubicBezTo>
                    <a:cubicBezTo>
                      <a:pt x="536524" y="33474"/>
                      <a:pt x="559693" y="51098"/>
                      <a:pt x="406400" y="0"/>
                    </a:cubicBezTo>
                    <a:cubicBezTo>
                      <a:pt x="361244" y="11289"/>
                      <a:pt x="313715" y="15532"/>
                      <a:pt x="270933" y="33867"/>
                    </a:cubicBezTo>
                    <a:cubicBezTo>
                      <a:pt x="53886" y="126887"/>
                      <a:pt x="173770" y="228415"/>
                      <a:pt x="203200" y="508000"/>
                    </a:cubicBezTo>
                    <a:cubicBezTo>
                      <a:pt x="230238" y="764856"/>
                      <a:pt x="168958" y="711013"/>
                      <a:pt x="304800" y="778933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任意多边形 231"/>
              <p:cNvSpPr/>
              <p:nvPr/>
            </p:nvSpPr>
            <p:spPr>
              <a:xfrm rot="3712200">
                <a:off x="16179480" y="3353040"/>
                <a:ext cx="352440" cy="569520"/>
              </a:xfrm>
              <a:custGeom>
                <a:avLst/>
                <a:gdLst>
                  <a:gd name="textAreaLeft" fmla="*/ 0 w 352440"/>
                  <a:gd name="textAreaRight" fmla="*/ 352800 w 352440"/>
                  <a:gd name="textAreaTop" fmla="*/ 0 h 569520"/>
                  <a:gd name="textAreaBottom" fmla="*/ 569880 h 569520"/>
                </a:gdLst>
                <a:ahLst/>
                <a:rect l="textAreaLeft" t="textAreaTop" r="textAreaRight" b="textAreaBottom"/>
                <a:pathLst>
                  <a:path w="2065867" h="4030133">
                    <a:moveTo>
                      <a:pt x="270933" y="677333"/>
                    </a:moveTo>
                    <a:cubicBezTo>
                      <a:pt x="259644" y="733778"/>
                      <a:pt x="257278" y="792770"/>
                      <a:pt x="237067" y="846667"/>
                    </a:cubicBezTo>
                    <a:cubicBezTo>
                      <a:pt x="222775" y="884778"/>
                      <a:pt x="187536" y="911861"/>
                      <a:pt x="169333" y="948267"/>
                    </a:cubicBezTo>
                    <a:cubicBezTo>
                      <a:pt x="153368" y="980197"/>
                      <a:pt x="146756" y="1016000"/>
                      <a:pt x="135467" y="1049867"/>
                    </a:cubicBezTo>
                    <a:cubicBezTo>
                      <a:pt x="124178" y="1128889"/>
                      <a:pt x="124537" y="1210475"/>
                      <a:pt x="101600" y="1286933"/>
                    </a:cubicBezTo>
                    <a:cubicBezTo>
                      <a:pt x="89904" y="1325919"/>
                      <a:pt x="52070" y="1352127"/>
                      <a:pt x="33867" y="1388533"/>
                    </a:cubicBezTo>
                    <a:cubicBezTo>
                      <a:pt x="17902" y="1420463"/>
                      <a:pt x="11289" y="1456266"/>
                      <a:pt x="0" y="1490133"/>
                    </a:cubicBezTo>
                    <a:cubicBezTo>
                      <a:pt x="11289" y="1648178"/>
                      <a:pt x="6331" y="1808231"/>
                      <a:pt x="33867" y="1964267"/>
                    </a:cubicBezTo>
                    <a:cubicBezTo>
                      <a:pt x="40941" y="2004350"/>
                      <a:pt x="77942" y="2032746"/>
                      <a:pt x="101600" y="2065867"/>
                    </a:cubicBezTo>
                    <a:cubicBezTo>
                      <a:pt x="134408" y="2111798"/>
                      <a:pt x="167065" y="2157971"/>
                      <a:pt x="203200" y="2201333"/>
                    </a:cubicBezTo>
                    <a:cubicBezTo>
                      <a:pt x="223641" y="2225862"/>
                      <a:pt x="253221" y="2242500"/>
                      <a:pt x="270933" y="2269067"/>
                    </a:cubicBezTo>
                    <a:cubicBezTo>
                      <a:pt x="298937" y="2311073"/>
                      <a:pt x="313619" y="2360700"/>
                      <a:pt x="338667" y="2404533"/>
                    </a:cubicBezTo>
                    <a:cubicBezTo>
                      <a:pt x="443708" y="2588354"/>
                      <a:pt x="378175" y="2421458"/>
                      <a:pt x="440267" y="2607733"/>
                    </a:cubicBezTo>
                    <a:cubicBezTo>
                      <a:pt x="451556" y="2686755"/>
                      <a:pt x="448890" y="2769072"/>
                      <a:pt x="474133" y="2844800"/>
                    </a:cubicBezTo>
                    <a:cubicBezTo>
                      <a:pt x="484230" y="2875091"/>
                      <a:pt x="525439" y="2885153"/>
                      <a:pt x="541867" y="2912533"/>
                    </a:cubicBezTo>
                    <a:cubicBezTo>
                      <a:pt x="692110" y="3162937"/>
                      <a:pt x="437916" y="2858793"/>
                      <a:pt x="643467" y="3115733"/>
                    </a:cubicBezTo>
                    <a:cubicBezTo>
                      <a:pt x="663413" y="3140666"/>
                      <a:pt x="691254" y="3158534"/>
                      <a:pt x="711200" y="3183467"/>
                    </a:cubicBezTo>
                    <a:cubicBezTo>
                      <a:pt x="736627" y="3215251"/>
                      <a:pt x="752130" y="3254435"/>
                      <a:pt x="778933" y="3285067"/>
                    </a:cubicBezTo>
                    <a:cubicBezTo>
                      <a:pt x="831498" y="3345141"/>
                      <a:pt x="900372" y="3390540"/>
                      <a:pt x="948267" y="3454400"/>
                    </a:cubicBezTo>
                    <a:cubicBezTo>
                      <a:pt x="982134" y="3499556"/>
                      <a:pt x="1019951" y="3542002"/>
                      <a:pt x="1049867" y="3589867"/>
                    </a:cubicBezTo>
                    <a:cubicBezTo>
                      <a:pt x="1076624" y="3632678"/>
                      <a:pt x="1089596" y="3683327"/>
                      <a:pt x="1117600" y="3725333"/>
                    </a:cubicBezTo>
                    <a:cubicBezTo>
                      <a:pt x="1164328" y="3795425"/>
                      <a:pt x="1222230" y="3809038"/>
                      <a:pt x="1286933" y="3860800"/>
                    </a:cubicBezTo>
                    <a:cubicBezTo>
                      <a:pt x="1311866" y="3880746"/>
                      <a:pt x="1328100" y="3910821"/>
                      <a:pt x="1354667" y="3928533"/>
                    </a:cubicBezTo>
                    <a:cubicBezTo>
                      <a:pt x="1438370" y="3984335"/>
                      <a:pt x="1501418" y="4000029"/>
                      <a:pt x="1591733" y="4030133"/>
                    </a:cubicBezTo>
                    <a:cubicBezTo>
                      <a:pt x="1670755" y="4018844"/>
                      <a:pt x="1753072" y="4021510"/>
                      <a:pt x="1828800" y="3996267"/>
                    </a:cubicBezTo>
                    <a:cubicBezTo>
                      <a:pt x="1947678" y="3956641"/>
                      <a:pt x="1962781" y="3628192"/>
                      <a:pt x="1964267" y="3623733"/>
                    </a:cubicBezTo>
                    <a:cubicBezTo>
                      <a:pt x="1977138" y="3585119"/>
                      <a:pt x="2013797" y="3558539"/>
                      <a:pt x="2032000" y="3522133"/>
                    </a:cubicBezTo>
                    <a:cubicBezTo>
                      <a:pt x="2047965" y="3490203"/>
                      <a:pt x="2054578" y="3454400"/>
                      <a:pt x="2065867" y="3420533"/>
                    </a:cubicBezTo>
                    <a:cubicBezTo>
                      <a:pt x="2054578" y="3318933"/>
                      <a:pt x="2052048" y="3215973"/>
                      <a:pt x="2032000" y="3115733"/>
                    </a:cubicBezTo>
                    <a:cubicBezTo>
                      <a:pt x="2017998" y="3045722"/>
                      <a:pt x="1964267" y="2912533"/>
                      <a:pt x="1964267" y="2912533"/>
                    </a:cubicBezTo>
                    <a:cubicBezTo>
                      <a:pt x="2045473" y="2668911"/>
                      <a:pt x="1946942" y="2973167"/>
                      <a:pt x="2032000" y="2675467"/>
                    </a:cubicBezTo>
                    <a:cubicBezTo>
                      <a:pt x="2041807" y="2641142"/>
                      <a:pt x="2054578" y="2607734"/>
                      <a:pt x="2065867" y="2573867"/>
                    </a:cubicBezTo>
                    <a:cubicBezTo>
                      <a:pt x="1988036" y="2340376"/>
                      <a:pt x="2048618" y="2421153"/>
                      <a:pt x="1930400" y="2302933"/>
                    </a:cubicBezTo>
                    <a:cubicBezTo>
                      <a:pt x="1919111" y="2257778"/>
                      <a:pt x="1909320" y="2212221"/>
                      <a:pt x="1896533" y="2167467"/>
                    </a:cubicBezTo>
                    <a:cubicBezTo>
                      <a:pt x="1886726" y="2133142"/>
                      <a:pt x="1868536" y="2101080"/>
                      <a:pt x="1862667" y="2065867"/>
                    </a:cubicBezTo>
                    <a:cubicBezTo>
                      <a:pt x="1846052" y="1966175"/>
                      <a:pt x="1835554" y="1713597"/>
                      <a:pt x="1794933" y="1591733"/>
                    </a:cubicBezTo>
                    <a:cubicBezTo>
                      <a:pt x="1778968" y="1543839"/>
                      <a:pt x="1753174" y="1499558"/>
                      <a:pt x="1727200" y="1456267"/>
                    </a:cubicBezTo>
                    <a:cubicBezTo>
                      <a:pt x="1685317" y="1386462"/>
                      <a:pt x="1591733" y="1253067"/>
                      <a:pt x="1591733" y="1253067"/>
                    </a:cubicBezTo>
                    <a:cubicBezTo>
                      <a:pt x="1555962" y="1145753"/>
                      <a:pt x="1565165" y="1143657"/>
                      <a:pt x="1490133" y="1049867"/>
                    </a:cubicBezTo>
                    <a:cubicBezTo>
                      <a:pt x="1470187" y="1024934"/>
                      <a:pt x="1442346" y="1007066"/>
                      <a:pt x="1422400" y="982133"/>
                    </a:cubicBezTo>
                    <a:cubicBezTo>
                      <a:pt x="1396973" y="950349"/>
                      <a:pt x="1380094" y="912316"/>
                      <a:pt x="1354667" y="880533"/>
                    </a:cubicBezTo>
                    <a:cubicBezTo>
                      <a:pt x="1334721" y="855600"/>
                      <a:pt x="1306879" y="837733"/>
                      <a:pt x="1286933" y="812800"/>
                    </a:cubicBezTo>
                    <a:cubicBezTo>
                      <a:pt x="1261506" y="781017"/>
                      <a:pt x="1246241" y="741622"/>
                      <a:pt x="1219200" y="711200"/>
                    </a:cubicBezTo>
                    <a:cubicBezTo>
                      <a:pt x="1155561" y="639606"/>
                      <a:pt x="1095702" y="561134"/>
                      <a:pt x="1016000" y="508000"/>
                    </a:cubicBezTo>
                    <a:cubicBezTo>
                      <a:pt x="887833" y="422556"/>
                      <a:pt x="943181" y="469048"/>
                      <a:pt x="846667" y="372533"/>
                    </a:cubicBezTo>
                    <a:cubicBezTo>
                      <a:pt x="835378" y="338666"/>
                      <a:pt x="832602" y="300636"/>
                      <a:pt x="812800" y="270933"/>
                    </a:cubicBezTo>
                    <a:cubicBezTo>
                      <a:pt x="786233" y="231082"/>
                      <a:pt x="749006" y="198737"/>
                      <a:pt x="711200" y="169333"/>
                    </a:cubicBezTo>
                    <a:cubicBezTo>
                      <a:pt x="536524" y="33474"/>
                      <a:pt x="559693" y="51098"/>
                      <a:pt x="406400" y="0"/>
                    </a:cubicBezTo>
                    <a:cubicBezTo>
                      <a:pt x="361244" y="11289"/>
                      <a:pt x="313715" y="15532"/>
                      <a:pt x="270933" y="33867"/>
                    </a:cubicBezTo>
                    <a:cubicBezTo>
                      <a:pt x="53886" y="126887"/>
                      <a:pt x="173770" y="228415"/>
                      <a:pt x="203200" y="508000"/>
                    </a:cubicBezTo>
                    <a:cubicBezTo>
                      <a:pt x="230238" y="764856"/>
                      <a:pt x="168958" y="711013"/>
                      <a:pt x="304800" y="778933"/>
                    </a:cubicBezTo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任意多边形 232"/>
              <p:cNvSpPr/>
              <p:nvPr/>
            </p:nvSpPr>
            <p:spPr>
              <a:xfrm rot="3712200">
                <a:off x="16051680" y="3759120"/>
                <a:ext cx="164160" cy="478440"/>
              </a:xfrm>
              <a:custGeom>
                <a:avLst/>
                <a:gdLst>
                  <a:gd name="textAreaLeft" fmla="*/ 0 w 164160"/>
                  <a:gd name="textAreaRight" fmla="*/ 164520 w 164160"/>
                  <a:gd name="textAreaTop" fmla="*/ 0 h 478440"/>
                  <a:gd name="textAreaBottom" fmla="*/ 478800 h 478440"/>
                </a:gdLst>
                <a:ahLst/>
                <a:rect l="textAreaLeft" t="textAreaTop" r="textAreaRight" b="textAreaBottom"/>
                <a:pathLst>
                  <a:path w="2065867" h="4030133">
                    <a:moveTo>
                      <a:pt x="270933" y="677333"/>
                    </a:moveTo>
                    <a:cubicBezTo>
                      <a:pt x="259644" y="733778"/>
                      <a:pt x="257278" y="792770"/>
                      <a:pt x="237067" y="846667"/>
                    </a:cubicBezTo>
                    <a:cubicBezTo>
                      <a:pt x="222775" y="884778"/>
                      <a:pt x="187536" y="911861"/>
                      <a:pt x="169333" y="948267"/>
                    </a:cubicBezTo>
                    <a:cubicBezTo>
                      <a:pt x="153368" y="980197"/>
                      <a:pt x="146756" y="1016000"/>
                      <a:pt x="135467" y="1049867"/>
                    </a:cubicBezTo>
                    <a:cubicBezTo>
                      <a:pt x="124178" y="1128889"/>
                      <a:pt x="124537" y="1210475"/>
                      <a:pt x="101600" y="1286933"/>
                    </a:cubicBezTo>
                    <a:cubicBezTo>
                      <a:pt x="89904" y="1325919"/>
                      <a:pt x="52070" y="1352127"/>
                      <a:pt x="33867" y="1388533"/>
                    </a:cubicBezTo>
                    <a:cubicBezTo>
                      <a:pt x="17902" y="1420463"/>
                      <a:pt x="11289" y="1456266"/>
                      <a:pt x="0" y="1490133"/>
                    </a:cubicBezTo>
                    <a:cubicBezTo>
                      <a:pt x="11289" y="1648178"/>
                      <a:pt x="6331" y="1808231"/>
                      <a:pt x="33867" y="1964267"/>
                    </a:cubicBezTo>
                    <a:cubicBezTo>
                      <a:pt x="40941" y="2004350"/>
                      <a:pt x="77942" y="2032746"/>
                      <a:pt x="101600" y="2065867"/>
                    </a:cubicBezTo>
                    <a:cubicBezTo>
                      <a:pt x="134408" y="2111798"/>
                      <a:pt x="167065" y="2157971"/>
                      <a:pt x="203200" y="2201333"/>
                    </a:cubicBezTo>
                    <a:cubicBezTo>
                      <a:pt x="223641" y="2225862"/>
                      <a:pt x="253221" y="2242500"/>
                      <a:pt x="270933" y="2269067"/>
                    </a:cubicBezTo>
                    <a:cubicBezTo>
                      <a:pt x="298937" y="2311073"/>
                      <a:pt x="313619" y="2360700"/>
                      <a:pt x="338667" y="2404533"/>
                    </a:cubicBezTo>
                    <a:cubicBezTo>
                      <a:pt x="443708" y="2588354"/>
                      <a:pt x="378175" y="2421458"/>
                      <a:pt x="440267" y="2607733"/>
                    </a:cubicBezTo>
                    <a:cubicBezTo>
                      <a:pt x="451556" y="2686755"/>
                      <a:pt x="448890" y="2769072"/>
                      <a:pt x="474133" y="2844800"/>
                    </a:cubicBezTo>
                    <a:cubicBezTo>
                      <a:pt x="484230" y="2875091"/>
                      <a:pt x="525439" y="2885153"/>
                      <a:pt x="541867" y="2912533"/>
                    </a:cubicBezTo>
                    <a:cubicBezTo>
                      <a:pt x="692110" y="3162937"/>
                      <a:pt x="437916" y="2858793"/>
                      <a:pt x="643467" y="3115733"/>
                    </a:cubicBezTo>
                    <a:cubicBezTo>
                      <a:pt x="663413" y="3140666"/>
                      <a:pt x="691254" y="3158534"/>
                      <a:pt x="711200" y="3183467"/>
                    </a:cubicBezTo>
                    <a:cubicBezTo>
                      <a:pt x="736627" y="3215251"/>
                      <a:pt x="752130" y="3254435"/>
                      <a:pt x="778933" y="3285067"/>
                    </a:cubicBezTo>
                    <a:cubicBezTo>
                      <a:pt x="831498" y="3345141"/>
                      <a:pt x="900372" y="3390540"/>
                      <a:pt x="948267" y="3454400"/>
                    </a:cubicBezTo>
                    <a:cubicBezTo>
                      <a:pt x="982134" y="3499556"/>
                      <a:pt x="1019951" y="3542002"/>
                      <a:pt x="1049867" y="3589867"/>
                    </a:cubicBezTo>
                    <a:cubicBezTo>
                      <a:pt x="1076624" y="3632678"/>
                      <a:pt x="1089596" y="3683327"/>
                      <a:pt x="1117600" y="3725333"/>
                    </a:cubicBezTo>
                    <a:cubicBezTo>
                      <a:pt x="1164328" y="3795425"/>
                      <a:pt x="1222230" y="3809038"/>
                      <a:pt x="1286933" y="3860800"/>
                    </a:cubicBezTo>
                    <a:cubicBezTo>
                      <a:pt x="1311866" y="3880746"/>
                      <a:pt x="1328100" y="3910821"/>
                      <a:pt x="1354667" y="3928533"/>
                    </a:cubicBezTo>
                    <a:cubicBezTo>
                      <a:pt x="1438370" y="3984335"/>
                      <a:pt x="1501418" y="4000029"/>
                      <a:pt x="1591733" y="4030133"/>
                    </a:cubicBezTo>
                    <a:cubicBezTo>
                      <a:pt x="1670755" y="4018844"/>
                      <a:pt x="1753072" y="4021510"/>
                      <a:pt x="1828800" y="3996267"/>
                    </a:cubicBezTo>
                    <a:cubicBezTo>
                      <a:pt x="1947678" y="3956641"/>
                      <a:pt x="1962781" y="3628192"/>
                      <a:pt x="1964267" y="3623733"/>
                    </a:cubicBezTo>
                    <a:cubicBezTo>
                      <a:pt x="1977138" y="3585119"/>
                      <a:pt x="2013797" y="3558539"/>
                      <a:pt x="2032000" y="3522133"/>
                    </a:cubicBezTo>
                    <a:cubicBezTo>
                      <a:pt x="2047965" y="3490203"/>
                      <a:pt x="2054578" y="3454400"/>
                      <a:pt x="2065867" y="3420533"/>
                    </a:cubicBezTo>
                    <a:cubicBezTo>
                      <a:pt x="2054578" y="3318933"/>
                      <a:pt x="2052048" y="3215973"/>
                      <a:pt x="2032000" y="3115733"/>
                    </a:cubicBezTo>
                    <a:cubicBezTo>
                      <a:pt x="2017998" y="3045722"/>
                      <a:pt x="1964267" y="2912533"/>
                      <a:pt x="1964267" y="2912533"/>
                    </a:cubicBezTo>
                    <a:cubicBezTo>
                      <a:pt x="2045473" y="2668911"/>
                      <a:pt x="1946942" y="2973167"/>
                      <a:pt x="2032000" y="2675467"/>
                    </a:cubicBezTo>
                    <a:cubicBezTo>
                      <a:pt x="2041807" y="2641142"/>
                      <a:pt x="2054578" y="2607734"/>
                      <a:pt x="2065867" y="2573867"/>
                    </a:cubicBezTo>
                    <a:cubicBezTo>
                      <a:pt x="1988036" y="2340376"/>
                      <a:pt x="2048618" y="2421153"/>
                      <a:pt x="1930400" y="2302933"/>
                    </a:cubicBezTo>
                    <a:cubicBezTo>
                      <a:pt x="1919111" y="2257778"/>
                      <a:pt x="1909320" y="2212221"/>
                      <a:pt x="1896533" y="2167467"/>
                    </a:cubicBezTo>
                    <a:cubicBezTo>
                      <a:pt x="1886726" y="2133142"/>
                      <a:pt x="1868536" y="2101080"/>
                      <a:pt x="1862667" y="2065867"/>
                    </a:cubicBezTo>
                    <a:cubicBezTo>
                      <a:pt x="1846052" y="1966175"/>
                      <a:pt x="1835554" y="1713597"/>
                      <a:pt x="1794933" y="1591733"/>
                    </a:cubicBezTo>
                    <a:cubicBezTo>
                      <a:pt x="1778968" y="1543839"/>
                      <a:pt x="1753174" y="1499558"/>
                      <a:pt x="1727200" y="1456267"/>
                    </a:cubicBezTo>
                    <a:cubicBezTo>
                      <a:pt x="1685317" y="1386462"/>
                      <a:pt x="1591733" y="1253067"/>
                      <a:pt x="1591733" y="1253067"/>
                    </a:cubicBezTo>
                    <a:cubicBezTo>
                      <a:pt x="1555962" y="1145753"/>
                      <a:pt x="1565165" y="1143657"/>
                      <a:pt x="1490133" y="1049867"/>
                    </a:cubicBezTo>
                    <a:cubicBezTo>
                      <a:pt x="1470187" y="1024934"/>
                      <a:pt x="1442346" y="1007066"/>
                      <a:pt x="1422400" y="982133"/>
                    </a:cubicBezTo>
                    <a:cubicBezTo>
                      <a:pt x="1396973" y="950349"/>
                      <a:pt x="1380094" y="912316"/>
                      <a:pt x="1354667" y="880533"/>
                    </a:cubicBezTo>
                    <a:cubicBezTo>
                      <a:pt x="1334721" y="855600"/>
                      <a:pt x="1306879" y="837733"/>
                      <a:pt x="1286933" y="812800"/>
                    </a:cubicBezTo>
                    <a:cubicBezTo>
                      <a:pt x="1261506" y="781017"/>
                      <a:pt x="1246241" y="741622"/>
                      <a:pt x="1219200" y="711200"/>
                    </a:cubicBezTo>
                    <a:cubicBezTo>
                      <a:pt x="1155561" y="639606"/>
                      <a:pt x="1095702" y="561134"/>
                      <a:pt x="1016000" y="508000"/>
                    </a:cubicBezTo>
                    <a:cubicBezTo>
                      <a:pt x="887833" y="422556"/>
                      <a:pt x="943181" y="469048"/>
                      <a:pt x="846667" y="372533"/>
                    </a:cubicBezTo>
                    <a:cubicBezTo>
                      <a:pt x="835378" y="338666"/>
                      <a:pt x="832602" y="300636"/>
                      <a:pt x="812800" y="270933"/>
                    </a:cubicBezTo>
                    <a:cubicBezTo>
                      <a:pt x="786233" y="231082"/>
                      <a:pt x="749006" y="198737"/>
                      <a:pt x="711200" y="169333"/>
                    </a:cubicBezTo>
                    <a:cubicBezTo>
                      <a:pt x="536524" y="33474"/>
                      <a:pt x="559693" y="51098"/>
                      <a:pt x="406400" y="0"/>
                    </a:cubicBezTo>
                    <a:cubicBezTo>
                      <a:pt x="361244" y="11289"/>
                      <a:pt x="313715" y="15532"/>
                      <a:pt x="270933" y="33867"/>
                    </a:cubicBezTo>
                    <a:cubicBezTo>
                      <a:pt x="53886" y="126887"/>
                      <a:pt x="173770" y="228415"/>
                      <a:pt x="203200" y="508000"/>
                    </a:cubicBezTo>
                    <a:cubicBezTo>
                      <a:pt x="230238" y="764856"/>
                      <a:pt x="168958" y="711013"/>
                      <a:pt x="304800" y="778933"/>
                    </a:cubicBezTo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0" name=""/>
            <p:cNvGrpSpPr/>
            <p:nvPr/>
          </p:nvGrpSpPr>
          <p:grpSpPr>
            <a:xfrm>
              <a:off x="17518320" y="253800"/>
              <a:ext cx="288000" cy="612360"/>
              <a:chOff x="17518320" y="253800"/>
              <a:chExt cx="288000" cy="612360"/>
            </a:xfrm>
          </p:grpSpPr>
          <p:sp>
            <p:nvSpPr>
              <p:cNvPr id="261" name="任意多边形 227"/>
              <p:cNvSpPr/>
              <p:nvPr/>
            </p:nvSpPr>
            <p:spPr>
              <a:xfrm rot="21310800">
                <a:off x="17532360" y="503640"/>
                <a:ext cx="259200" cy="352080"/>
              </a:xfrm>
              <a:custGeom>
                <a:avLst/>
                <a:gdLst>
                  <a:gd name="textAreaLeft" fmla="*/ 0 w 259200"/>
                  <a:gd name="textAreaRight" fmla="*/ 259560 w 259200"/>
                  <a:gd name="textAreaTop" fmla="*/ 0 h 352080"/>
                  <a:gd name="textAreaBottom" fmla="*/ 352440 h 352080"/>
                </a:gdLst>
                <a:ahLst/>
                <a:rect l="textAreaLeft" t="textAreaTop" r="textAreaRight" b="textAreaBottom"/>
                <a:pathLst>
                  <a:path w="2065867" h="4030133">
                    <a:moveTo>
                      <a:pt x="270933" y="677333"/>
                    </a:moveTo>
                    <a:cubicBezTo>
                      <a:pt x="259644" y="733778"/>
                      <a:pt x="257278" y="792770"/>
                      <a:pt x="237067" y="846667"/>
                    </a:cubicBezTo>
                    <a:cubicBezTo>
                      <a:pt x="222775" y="884778"/>
                      <a:pt x="187536" y="911861"/>
                      <a:pt x="169333" y="948267"/>
                    </a:cubicBezTo>
                    <a:cubicBezTo>
                      <a:pt x="153368" y="980197"/>
                      <a:pt x="146756" y="1016000"/>
                      <a:pt x="135467" y="1049867"/>
                    </a:cubicBezTo>
                    <a:cubicBezTo>
                      <a:pt x="124178" y="1128889"/>
                      <a:pt x="124537" y="1210475"/>
                      <a:pt x="101600" y="1286933"/>
                    </a:cubicBezTo>
                    <a:cubicBezTo>
                      <a:pt x="89904" y="1325919"/>
                      <a:pt x="52070" y="1352127"/>
                      <a:pt x="33867" y="1388533"/>
                    </a:cubicBezTo>
                    <a:cubicBezTo>
                      <a:pt x="17902" y="1420463"/>
                      <a:pt x="11289" y="1456266"/>
                      <a:pt x="0" y="1490133"/>
                    </a:cubicBezTo>
                    <a:cubicBezTo>
                      <a:pt x="11289" y="1648178"/>
                      <a:pt x="6331" y="1808231"/>
                      <a:pt x="33867" y="1964267"/>
                    </a:cubicBezTo>
                    <a:cubicBezTo>
                      <a:pt x="40941" y="2004350"/>
                      <a:pt x="77942" y="2032746"/>
                      <a:pt x="101600" y="2065867"/>
                    </a:cubicBezTo>
                    <a:cubicBezTo>
                      <a:pt x="134408" y="2111798"/>
                      <a:pt x="167065" y="2157971"/>
                      <a:pt x="203200" y="2201333"/>
                    </a:cubicBezTo>
                    <a:cubicBezTo>
                      <a:pt x="223641" y="2225862"/>
                      <a:pt x="253221" y="2242500"/>
                      <a:pt x="270933" y="2269067"/>
                    </a:cubicBezTo>
                    <a:cubicBezTo>
                      <a:pt x="298937" y="2311073"/>
                      <a:pt x="313619" y="2360700"/>
                      <a:pt x="338667" y="2404533"/>
                    </a:cubicBezTo>
                    <a:cubicBezTo>
                      <a:pt x="443708" y="2588354"/>
                      <a:pt x="378175" y="2421458"/>
                      <a:pt x="440267" y="2607733"/>
                    </a:cubicBezTo>
                    <a:cubicBezTo>
                      <a:pt x="451556" y="2686755"/>
                      <a:pt x="448890" y="2769072"/>
                      <a:pt x="474133" y="2844800"/>
                    </a:cubicBezTo>
                    <a:cubicBezTo>
                      <a:pt x="484230" y="2875091"/>
                      <a:pt x="525439" y="2885153"/>
                      <a:pt x="541867" y="2912533"/>
                    </a:cubicBezTo>
                    <a:cubicBezTo>
                      <a:pt x="692110" y="3162937"/>
                      <a:pt x="437916" y="2858793"/>
                      <a:pt x="643467" y="3115733"/>
                    </a:cubicBezTo>
                    <a:cubicBezTo>
                      <a:pt x="663413" y="3140666"/>
                      <a:pt x="691254" y="3158534"/>
                      <a:pt x="711200" y="3183467"/>
                    </a:cubicBezTo>
                    <a:cubicBezTo>
                      <a:pt x="736627" y="3215251"/>
                      <a:pt x="752130" y="3254435"/>
                      <a:pt x="778933" y="3285067"/>
                    </a:cubicBezTo>
                    <a:cubicBezTo>
                      <a:pt x="831498" y="3345141"/>
                      <a:pt x="900372" y="3390540"/>
                      <a:pt x="948267" y="3454400"/>
                    </a:cubicBezTo>
                    <a:cubicBezTo>
                      <a:pt x="982134" y="3499556"/>
                      <a:pt x="1019951" y="3542002"/>
                      <a:pt x="1049867" y="3589867"/>
                    </a:cubicBezTo>
                    <a:cubicBezTo>
                      <a:pt x="1076624" y="3632678"/>
                      <a:pt x="1089596" y="3683327"/>
                      <a:pt x="1117600" y="3725333"/>
                    </a:cubicBezTo>
                    <a:cubicBezTo>
                      <a:pt x="1164328" y="3795425"/>
                      <a:pt x="1222230" y="3809038"/>
                      <a:pt x="1286933" y="3860800"/>
                    </a:cubicBezTo>
                    <a:cubicBezTo>
                      <a:pt x="1311866" y="3880746"/>
                      <a:pt x="1328100" y="3910821"/>
                      <a:pt x="1354667" y="3928533"/>
                    </a:cubicBezTo>
                    <a:cubicBezTo>
                      <a:pt x="1438370" y="3984335"/>
                      <a:pt x="1501418" y="4000029"/>
                      <a:pt x="1591733" y="4030133"/>
                    </a:cubicBezTo>
                    <a:cubicBezTo>
                      <a:pt x="1670755" y="4018844"/>
                      <a:pt x="1753072" y="4021510"/>
                      <a:pt x="1828800" y="3996267"/>
                    </a:cubicBezTo>
                    <a:cubicBezTo>
                      <a:pt x="1947678" y="3956641"/>
                      <a:pt x="1962781" y="3628192"/>
                      <a:pt x="1964267" y="3623733"/>
                    </a:cubicBezTo>
                    <a:cubicBezTo>
                      <a:pt x="1977138" y="3585119"/>
                      <a:pt x="2013797" y="3558539"/>
                      <a:pt x="2032000" y="3522133"/>
                    </a:cubicBezTo>
                    <a:cubicBezTo>
                      <a:pt x="2047965" y="3490203"/>
                      <a:pt x="2054578" y="3454400"/>
                      <a:pt x="2065867" y="3420533"/>
                    </a:cubicBezTo>
                    <a:cubicBezTo>
                      <a:pt x="2054578" y="3318933"/>
                      <a:pt x="2052048" y="3215973"/>
                      <a:pt x="2032000" y="3115733"/>
                    </a:cubicBezTo>
                    <a:cubicBezTo>
                      <a:pt x="2017998" y="3045722"/>
                      <a:pt x="1964267" y="2912533"/>
                      <a:pt x="1964267" y="2912533"/>
                    </a:cubicBezTo>
                    <a:cubicBezTo>
                      <a:pt x="2045473" y="2668911"/>
                      <a:pt x="1946942" y="2973167"/>
                      <a:pt x="2032000" y="2675467"/>
                    </a:cubicBezTo>
                    <a:cubicBezTo>
                      <a:pt x="2041807" y="2641142"/>
                      <a:pt x="2054578" y="2607734"/>
                      <a:pt x="2065867" y="2573867"/>
                    </a:cubicBezTo>
                    <a:cubicBezTo>
                      <a:pt x="1988036" y="2340376"/>
                      <a:pt x="2048618" y="2421153"/>
                      <a:pt x="1930400" y="2302933"/>
                    </a:cubicBezTo>
                    <a:cubicBezTo>
                      <a:pt x="1919111" y="2257778"/>
                      <a:pt x="1909320" y="2212221"/>
                      <a:pt x="1896533" y="2167467"/>
                    </a:cubicBezTo>
                    <a:cubicBezTo>
                      <a:pt x="1886726" y="2133142"/>
                      <a:pt x="1868536" y="2101080"/>
                      <a:pt x="1862667" y="2065867"/>
                    </a:cubicBezTo>
                    <a:cubicBezTo>
                      <a:pt x="1846052" y="1966175"/>
                      <a:pt x="1835554" y="1713597"/>
                      <a:pt x="1794933" y="1591733"/>
                    </a:cubicBezTo>
                    <a:cubicBezTo>
                      <a:pt x="1778968" y="1543839"/>
                      <a:pt x="1753174" y="1499558"/>
                      <a:pt x="1727200" y="1456267"/>
                    </a:cubicBezTo>
                    <a:cubicBezTo>
                      <a:pt x="1685317" y="1386462"/>
                      <a:pt x="1591733" y="1253067"/>
                      <a:pt x="1591733" y="1253067"/>
                    </a:cubicBezTo>
                    <a:cubicBezTo>
                      <a:pt x="1555962" y="1145753"/>
                      <a:pt x="1565165" y="1143657"/>
                      <a:pt x="1490133" y="1049867"/>
                    </a:cubicBezTo>
                    <a:cubicBezTo>
                      <a:pt x="1470187" y="1024934"/>
                      <a:pt x="1442346" y="1007066"/>
                      <a:pt x="1422400" y="982133"/>
                    </a:cubicBezTo>
                    <a:cubicBezTo>
                      <a:pt x="1396973" y="950349"/>
                      <a:pt x="1380094" y="912316"/>
                      <a:pt x="1354667" y="880533"/>
                    </a:cubicBezTo>
                    <a:cubicBezTo>
                      <a:pt x="1334721" y="855600"/>
                      <a:pt x="1306879" y="837733"/>
                      <a:pt x="1286933" y="812800"/>
                    </a:cubicBezTo>
                    <a:cubicBezTo>
                      <a:pt x="1261506" y="781017"/>
                      <a:pt x="1246241" y="741622"/>
                      <a:pt x="1219200" y="711200"/>
                    </a:cubicBezTo>
                    <a:cubicBezTo>
                      <a:pt x="1155561" y="639606"/>
                      <a:pt x="1095702" y="561134"/>
                      <a:pt x="1016000" y="508000"/>
                    </a:cubicBezTo>
                    <a:cubicBezTo>
                      <a:pt x="887833" y="422556"/>
                      <a:pt x="943181" y="469048"/>
                      <a:pt x="846667" y="372533"/>
                    </a:cubicBezTo>
                    <a:cubicBezTo>
                      <a:pt x="835378" y="338666"/>
                      <a:pt x="832602" y="300636"/>
                      <a:pt x="812800" y="270933"/>
                    </a:cubicBezTo>
                    <a:cubicBezTo>
                      <a:pt x="786233" y="231082"/>
                      <a:pt x="749006" y="198737"/>
                      <a:pt x="711200" y="169333"/>
                    </a:cubicBezTo>
                    <a:cubicBezTo>
                      <a:pt x="536524" y="33474"/>
                      <a:pt x="559693" y="51098"/>
                      <a:pt x="406400" y="0"/>
                    </a:cubicBezTo>
                    <a:cubicBezTo>
                      <a:pt x="361244" y="11289"/>
                      <a:pt x="313715" y="15532"/>
                      <a:pt x="270933" y="33867"/>
                    </a:cubicBezTo>
                    <a:cubicBezTo>
                      <a:pt x="53886" y="126887"/>
                      <a:pt x="173770" y="228415"/>
                      <a:pt x="203200" y="508000"/>
                    </a:cubicBezTo>
                    <a:cubicBezTo>
                      <a:pt x="230238" y="764856"/>
                      <a:pt x="168958" y="711013"/>
                      <a:pt x="304800" y="778933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任意多边形 228"/>
              <p:cNvSpPr/>
              <p:nvPr/>
            </p:nvSpPr>
            <p:spPr>
              <a:xfrm rot="21310800">
                <a:off x="17577000" y="258840"/>
                <a:ext cx="129600" cy="161280"/>
              </a:xfrm>
              <a:custGeom>
                <a:avLst/>
                <a:gdLst>
                  <a:gd name="textAreaLeft" fmla="*/ 0 w 129600"/>
                  <a:gd name="textAreaRight" fmla="*/ 129960 w 129600"/>
                  <a:gd name="textAreaTop" fmla="*/ 0 h 161280"/>
                  <a:gd name="textAreaBottom" fmla="*/ 161640 h 161280"/>
                </a:gdLst>
                <a:ahLst/>
                <a:rect l="textAreaLeft" t="textAreaTop" r="textAreaRight" b="textAreaBottom"/>
                <a:pathLst>
                  <a:path w="2065867" h="4030133">
                    <a:moveTo>
                      <a:pt x="270933" y="677333"/>
                    </a:moveTo>
                    <a:cubicBezTo>
                      <a:pt x="259644" y="733778"/>
                      <a:pt x="257278" y="792770"/>
                      <a:pt x="237067" y="846667"/>
                    </a:cubicBezTo>
                    <a:cubicBezTo>
                      <a:pt x="222775" y="884778"/>
                      <a:pt x="187536" y="911861"/>
                      <a:pt x="169333" y="948267"/>
                    </a:cubicBezTo>
                    <a:cubicBezTo>
                      <a:pt x="153368" y="980197"/>
                      <a:pt x="146756" y="1016000"/>
                      <a:pt x="135467" y="1049867"/>
                    </a:cubicBezTo>
                    <a:cubicBezTo>
                      <a:pt x="124178" y="1128889"/>
                      <a:pt x="124537" y="1210475"/>
                      <a:pt x="101600" y="1286933"/>
                    </a:cubicBezTo>
                    <a:cubicBezTo>
                      <a:pt x="89904" y="1325919"/>
                      <a:pt x="52070" y="1352127"/>
                      <a:pt x="33867" y="1388533"/>
                    </a:cubicBezTo>
                    <a:cubicBezTo>
                      <a:pt x="17902" y="1420463"/>
                      <a:pt x="11289" y="1456266"/>
                      <a:pt x="0" y="1490133"/>
                    </a:cubicBezTo>
                    <a:cubicBezTo>
                      <a:pt x="11289" y="1648178"/>
                      <a:pt x="6331" y="1808231"/>
                      <a:pt x="33867" y="1964267"/>
                    </a:cubicBezTo>
                    <a:cubicBezTo>
                      <a:pt x="40941" y="2004350"/>
                      <a:pt x="77942" y="2032746"/>
                      <a:pt x="101600" y="2065867"/>
                    </a:cubicBezTo>
                    <a:cubicBezTo>
                      <a:pt x="134408" y="2111798"/>
                      <a:pt x="167065" y="2157971"/>
                      <a:pt x="203200" y="2201333"/>
                    </a:cubicBezTo>
                    <a:cubicBezTo>
                      <a:pt x="223641" y="2225862"/>
                      <a:pt x="253221" y="2242500"/>
                      <a:pt x="270933" y="2269067"/>
                    </a:cubicBezTo>
                    <a:cubicBezTo>
                      <a:pt x="298937" y="2311073"/>
                      <a:pt x="313619" y="2360700"/>
                      <a:pt x="338667" y="2404533"/>
                    </a:cubicBezTo>
                    <a:cubicBezTo>
                      <a:pt x="443708" y="2588354"/>
                      <a:pt x="378175" y="2421458"/>
                      <a:pt x="440267" y="2607733"/>
                    </a:cubicBezTo>
                    <a:cubicBezTo>
                      <a:pt x="451556" y="2686755"/>
                      <a:pt x="448890" y="2769072"/>
                      <a:pt x="474133" y="2844800"/>
                    </a:cubicBezTo>
                    <a:cubicBezTo>
                      <a:pt x="484230" y="2875091"/>
                      <a:pt x="525439" y="2885153"/>
                      <a:pt x="541867" y="2912533"/>
                    </a:cubicBezTo>
                    <a:cubicBezTo>
                      <a:pt x="692110" y="3162937"/>
                      <a:pt x="437916" y="2858793"/>
                      <a:pt x="643467" y="3115733"/>
                    </a:cubicBezTo>
                    <a:cubicBezTo>
                      <a:pt x="663413" y="3140666"/>
                      <a:pt x="691254" y="3158534"/>
                      <a:pt x="711200" y="3183467"/>
                    </a:cubicBezTo>
                    <a:cubicBezTo>
                      <a:pt x="736627" y="3215251"/>
                      <a:pt x="752130" y="3254435"/>
                      <a:pt x="778933" y="3285067"/>
                    </a:cubicBezTo>
                    <a:cubicBezTo>
                      <a:pt x="831498" y="3345141"/>
                      <a:pt x="900372" y="3390540"/>
                      <a:pt x="948267" y="3454400"/>
                    </a:cubicBezTo>
                    <a:cubicBezTo>
                      <a:pt x="982134" y="3499556"/>
                      <a:pt x="1019951" y="3542002"/>
                      <a:pt x="1049867" y="3589867"/>
                    </a:cubicBezTo>
                    <a:cubicBezTo>
                      <a:pt x="1076624" y="3632678"/>
                      <a:pt x="1089596" y="3683327"/>
                      <a:pt x="1117600" y="3725333"/>
                    </a:cubicBezTo>
                    <a:cubicBezTo>
                      <a:pt x="1164328" y="3795425"/>
                      <a:pt x="1222230" y="3809038"/>
                      <a:pt x="1286933" y="3860800"/>
                    </a:cubicBezTo>
                    <a:cubicBezTo>
                      <a:pt x="1311866" y="3880746"/>
                      <a:pt x="1328100" y="3910821"/>
                      <a:pt x="1354667" y="3928533"/>
                    </a:cubicBezTo>
                    <a:cubicBezTo>
                      <a:pt x="1438370" y="3984335"/>
                      <a:pt x="1501418" y="4000029"/>
                      <a:pt x="1591733" y="4030133"/>
                    </a:cubicBezTo>
                    <a:cubicBezTo>
                      <a:pt x="1670755" y="4018844"/>
                      <a:pt x="1753072" y="4021510"/>
                      <a:pt x="1828800" y="3996267"/>
                    </a:cubicBezTo>
                    <a:cubicBezTo>
                      <a:pt x="1947678" y="3956641"/>
                      <a:pt x="1962781" y="3628192"/>
                      <a:pt x="1964267" y="3623733"/>
                    </a:cubicBezTo>
                    <a:cubicBezTo>
                      <a:pt x="1977138" y="3585119"/>
                      <a:pt x="2013797" y="3558539"/>
                      <a:pt x="2032000" y="3522133"/>
                    </a:cubicBezTo>
                    <a:cubicBezTo>
                      <a:pt x="2047965" y="3490203"/>
                      <a:pt x="2054578" y="3454400"/>
                      <a:pt x="2065867" y="3420533"/>
                    </a:cubicBezTo>
                    <a:cubicBezTo>
                      <a:pt x="2054578" y="3318933"/>
                      <a:pt x="2052048" y="3215973"/>
                      <a:pt x="2032000" y="3115733"/>
                    </a:cubicBezTo>
                    <a:cubicBezTo>
                      <a:pt x="2017998" y="3045722"/>
                      <a:pt x="1964267" y="2912533"/>
                      <a:pt x="1964267" y="2912533"/>
                    </a:cubicBezTo>
                    <a:cubicBezTo>
                      <a:pt x="2045473" y="2668911"/>
                      <a:pt x="1946942" y="2973167"/>
                      <a:pt x="2032000" y="2675467"/>
                    </a:cubicBezTo>
                    <a:cubicBezTo>
                      <a:pt x="2041807" y="2641142"/>
                      <a:pt x="2054578" y="2607734"/>
                      <a:pt x="2065867" y="2573867"/>
                    </a:cubicBezTo>
                    <a:cubicBezTo>
                      <a:pt x="1988036" y="2340376"/>
                      <a:pt x="2048618" y="2421153"/>
                      <a:pt x="1930400" y="2302933"/>
                    </a:cubicBezTo>
                    <a:cubicBezTo>
                      <a:pt x="1919111" y="2257778"/>
                      <a:pt x="1909320" y="2212221"/>
                      <a:pt x="1896533" y="2167467"/>
                    </a:cubicBezTo>
                    <a:cubicBezTo>
                      <a:pt x="1886726" y="2133142"/>
                      <a:pt x="1868536" y="2101080"/>
                      <a:pt x="1862667" y="2065867"/>
                    </a:cubicBezTo>
                    <a:cubicBezTo>
                      <a:pt x="1846052" y="1966175"/>
                      <a:pt x="1835554" y="1713597"/>
                      <a:pt x="1794933" y="1591733"/>
                    </a:cubicBezTo>
                    <a:cubicBezTo>
                      <a:pt x="1778968" y="1543839"/>
                      <a:pt x="1753174" y="1499558"/>
                      <a:pt x="1727200" y="1456267"/>
                    </a:cubicBezTo>
                    <a:cubicBezTo>
                      <a:pt x="1685317" y="1386462"/>
                      <a:pt x="1591733" y="1253067"/>
                      <a:pt x="1591733" y="1253067"/>
                    </a:cubicBezTo>
                    <a:cubicBezTo>
                      <a:pt x="1555962" y="1145753"/>
                      <a:pt x="1565165" y="1143657"/>
                      <a:pt x="1490133" y="1049867"/>
                    </a:cubicBezTo>
                    <a:cubicBezTo>
                      <a:pt x="1470187" y="1024934"/>
                      <a:pt x="1442346" y="1007066"/>
                      <a:pt x="1422400" y="982133"/>
                    </a:cubicBezTo>
                    <a:cubicBezTo>
                      <a:pt x="1396973" y="950349"/>
                      <a:pt x="1380094" y="912316"/>
                      <a:pt x="1354667" y="880533"/>
                    </a:cubicBezTo>
                    <a:cubicBezTo>
                      <a:pt x="1334721" y="855600"/>
                      <a:pt x="1306879" y="837733"/>
                      <a:pt x="1286933" y="812800"/>
                    </a:cubicBezTo>
                    <a:cubicBezTo>
                      <a:pt x="1261506" y="781017"/>
                      <a:pt x="1246241" y="741622"/>
                      <a:pt x="1219200" y="711200"/>
                    </a:cubicBezTo>
                    <a:cubicBezTo>
                      <a:pt x="1155561" y="639606"/>
                      <a:pt x="1095702" y="561134"/>
                      <a:pt x="1016000" y="508000"/>
                    </a:cubicBezTo>
                    <a:cubicBezTo>
                      <a:pt x="887833" y="422556"/>
                      <a:pt x="943181" y="469048"/>
                      <a:pt x="846667" y="372533"/>
                    </a:cubicBezTo>
                    <a:cubicBezTo>
                      <a:pt x="835378" y="338666"/>
                      <a:pt x="832602" y="300636"/>
                      <a:pt x="812800" y="270933"/>
                    </a:cubicBezTo>
                    <a:cubicBezTo>
                      <a:pt x="786233" y="231082"/>
                      <a:pt x="749006" y="198737"/>
                      <a:pt x="711200" y="169333"/>
                    </a:cubicBezTo>
                    <a:cubicBezTo>
                      <a:pt x="536524" y="33474"/>
                      <a:pt x="559693" y="51098"/>
                      <a:pt x="406400" y="0"/>
                    </a:cubicBezTo>
                    <a:cubicBezTo>
                      <a:pt x="361244" y="11289"/>
                      <a:pt x="313715" y="15532"/>
                      <a:pt x="270933" y="33867"/>
                    </a:cubicBezTo>
                    <a:cubicBezTo>
                      <a:pt x="53886" y="126887"/>
                      <a:pt x="173770" y="228415"/>
                      <a:pt x="203200" y="508000"/>
                    </a:cubicBezTo>
                    <a:cubicBezTo>
                      <a:pt x="230238" y="764856"/>
                      <a:pt x="168958" y="711013"/>
                      <a:pt x="304800" y="778933"/>
                    </a:cubicBezTo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任意多边形 229"/>
              <p:cNvSpPr/>
              <p:nvPr/>
            </p:nvSpPr>
            <p:spPr>
              <a:xfrm rot="21310800">
                <a:off x="17698320" y="368640"/>
                <a:ext cx="60480" cy="135720"/>
              </a:xfrm>
              <a:custGeom>
                <a:avLst/>
                <a:gdLst>
                  <a:gd name="textAreaLeft" fmla="*/ 0 w 60480"/>
                  <a:gd name="textAreaRight" fmla="*/ 60840 w 60480"/>
                  <a:gd name="textAreaTop" fmla="*/ 0 h 135720"/>
                  <a:gd name="textAreaBottom" fmla="*/ 136080 h 135720"/>
                </a:gdLst>
                <a:ahLst/>
                <a:rect l="textAreaLeft" t="textAreaTop" r="textAreaRight" b="textAreaBottom"/>
                <a:pathLst>
                  <a:path w="2065867" h="4030133">
                    <a:moveTo>
                      <a:pt x="270933" y="677333"/>
                    </a:moveTo>
                    <a:cubicBezTo>
                      <a:pt x="259644" y="733778"/>
                      <a:pt x="257278" y="792770"/>
                      <a:pt x="237067" y="846667"/>
                    </a:cubicBezTo>
                    <a:cubicBezTo>
                      <a:pt x="222775" y="884778"/>
                      <a:pt x="187536" y="911861"/>
                      <a:pt x="169333" y="948267"/>
                    </a:cubicBezTo>
                    <a:cubicBezTo>
                      <a:pt x="153368" y="980197"/>
                      <a:pt x="146756" y="1016000"/>
                      <a:pt x="135467" y="1049867"/>
                    </a:cubicBezTo>
                    <a:cubicBezTo>
                      <a:pt x="124178" y="1128889"/>
                      <a:pt x="124537" y="1210475"/>
                      <a:pt x="101600" y="1286933"/>
                    </a:cubicBezTo>
                    <a:cubicBezTo>
                      <a:pt x="89904" y="1325919"/>
                      <a:pt x="52070" y="1352127"/>
                      <a:pt x="33867" y="1388533"/>
                    </a:cubicBezTo>
                    <a:cubicBezTo>
                      <a:pt x="17902" y="1420463"/>
                      <a:pt x="11289" y="1456266"/>
                      <a:pt x="0" y="1490133"/>
                    </a:cubicBezTo>
                    <a:cubicBezTo>
                      <a:pt x="11289" y="1648178"/>
                      <a:pt x="6331" y="1808231"/>
                      <a:pt x="33867" y="1964267"/>
                    </a:cubicBezTo>
                    <a:cubicBezTo>
                      <a:pt x="40941" y="2004350"/>
                      <a:pt x="77942" y="2032746"/>
                      <a:pt x="101600" y="2065867"/>
                    </a:cubicBezTo>
                    <a:cubicBezTo>
                      <a:pt x="134408" y="2111798"/>
                      <a:pt x="167065" y="2157971"/>
                      <a:pt x="203200" y="2201333"/>
                    </a:cubicBezTo>
                    <a:cubicBezTo>
                      <a:pt x="223641" y="2225862"/>
                      <a:pt x="253221" y="2242500"/>
                      <a:pt x="270933" y="2269067"/>
                    </a:cubicBezTo>
                    <a:cubicBezTo>
                      <a:pt x="298937" y="2311073"/>
                      <a:pt x="313619" y="2360700"/>
                      <a:pt x="338667" y="2404533"/>
                    </a:cubicBezTo>
                    <a:cubicBezTo>
                      <a:pt x="443708" y="2588354"/>
                      <a:pt x="378175" y="2421458"/>
                      <a:pt x="440267" y="2607733"/>
                    </a:cubicBezTo>
                    <a:cubicBezTo>
                      <a:pt x="451556" y="2686755"/>
                      <a:pt x="448890" y="2769072"/>
                      <a:pt x="474133" y="2844800"/>
                    </a:cubicBezTo>
                    <a:cubicBezTo>
                      <a:pt x="484230" y="2875091"/>
                      <a:pt x="525439" y="2885153"/>
                      <a:pt x="541867" y="2912533"/>
                    </a:cubicBezTo>
                    <a:cubicBezTo>
                      <a:pt x="692110" y="3162937"/>
                      <a:pt x="437916" y="2858793"/>
                      <a:pt x="643467" y="3115733"/>
                    </a:cubicBezTo>
                    <a:cubicBezTo>
                      <a:pt x="663413" y="3140666"/>
                      <a:pt x="691254" y="3158534"/>
                      <a:pt x="711200" y="3183467"/>
                    </a:cubicBezTo>
                    <a:cubicBezTo>
                      <a:pt x="736627" y="3215251"/>
                      <a:pt x="752130" y="3254435"/>
                      <a:pt x="778933" y="3285067"/>
                    </a:cubicBezTo>
                    <a:cubicBezTo>
                      <a:pt x="831498" y="3345141"/>
                      <a:pt x="900372" y="3390540"/>
                      <a:pt x="948267" y="3454400"/>
                    </a:cubicBezTo>
                    <a:cubicBezTo>
                      <a:pt x="982134" y="3499556"/>
                      <a:pt x="1019951" y="3542002"/>
                      <a:pt x="1049867" y="3589867"/>
                    </a:cubicBezTo>
                    <a:cubicBezTo>
                      <a:pt x="1076624" y="3632678"/>
                      <a:pt x="1089596" y="3683327"/>
                      <a:pt x="1117600" y="3725333"/>
                    </a:cubicBezTo>
                    <a:cubicBezTo>
                      <a:pt x="1164328" y="3795425"/>
                      <a:pt x="1222230" y="3809038"/>
                      <a:pt x="1286933" y="3860800"/>
                    </a:cubicBezTo>
                    <a:cubicBezTo>
                      <a:pt x="1311866" y="3880746"/>
                      <a:pt x="1328100" y="3910821"/>
                      <a:pt x="1354667" y="3928533"/>
                    </a:cubicBezTo>
                    <a:cubicBezTo>
                      <a:pt x="1438370" y="3984335"/>
                      <a:pt x="1501418" y="4000029"/>
                      <a:pt x="1591733" y="4030133"/>
                    </a:cubicBezTo>
                    <a:cubicBezTo>
                      <a:pt x="1670755" y="4018844"/>
                      <a:pt x="1753072" y="4021510"/>
                      <a:pt x="1828800" y="3996267"/>
                    </a:cubicBezTo>
                    <a:cubicBezTo>
                      <a:pt x="1947678" y="3956641"/>
                      <a:pt x="1962781" y="3628192"/>
                      <a:pt x="1964267" y="3623733"/>
                    </a:cubicBezTo>
                    <a:cubicBezTo>
                      <a:pt x="1977138" y="3585119"/>
                      <a:pt x="2013797" y="3558539"/>
                      <a:pt x="2032000" y="3522133"/>
                    </a:cubicBezTo>
                    <a:cubicBezTo>
                      <a:pt x="2047965" y="3490203"/>
                      <a:pt x="2054578" y="3454400"/>
                      <a:pt x="2065867" y="3420533"/>
                    </a:cubicBezTo>
                    <a:cubicBezTo>
                      <a:pt x="2054578" y="3318933"/>
                      <a:pt x="2052048" y="3215973"/>
                      <a:pt x="2032000" y="3115733"/>
                    </a:cubicBezTo>
                    <a:cubicBezTo>
                      <a:pt x="2017998" y="3045722"/>
                      <a:pt x="1964267" y="2912533"/>
                      <a:pt x="1964267" y="2912533"/>
                    </a:cubicBezTo>
                    <a:cubicBezTo>
                      <a:pt x="2045473" y="2668911"/>
                      <a:pt x="1946942" y="2973167"/>
                      <a:pt x="2032000" y="2675467"/>
                    </a:cubicBezTo>
                    <a:cubicBezTo>
                      <a:pt x="2041807" y="2641142"/>
                      <a:pt x="2054578" y="2607734"/>
                      <a:pt x="2065867" y="2573867"/>
                    </a:cubicBezTo>
                    <a:cubicBezTo>
                      <a:pt x="1988036" y="2340376"/>
                      <a:pt x="2048618" y="2421153"/>
                      <a:pt x="1930400" y="2302933"/>
                    </a:cubicBezTo>
                    <a:cubicBezTo>
                      <a:pt x="1919111" y="2257778"/>
                      <a:pt x="1909320" y="2212221"/>
                      <a:pt x="1896533" y="2167467"/>
                    </a:cubicBezTo>
                    <a:cubicBezTo>
                      <a:pt x="1886726" y="2133142"/>
                      <a:pt x="1868536" y="2101080"/>
                      <a:pt x="1862667" y="2065867"/>
                    </a:cubicBezTo>
                    <a:cubicBezTo>
                      <a:pt x="1846052" y="1966175"/>
                      <a:pt x="1835554" y="1713597"/>
                      <a:pt x="1794933" y="1591733"/>
                    </a:cubicBezTo>
                    <a:cubicBezTo>
                      <a:pt x="1778968" y="1543839"/>
                      <a:pt x="1753174" y="1499558"/>
                      <a:pt x="1727200" y="1456267"/>
                    </a:cubicBezTo>
                    <a:cubicBezTo>
                      <a:pt x="1685317" y="1386462"/>
                      <a:pt x="1591733" y="1253067"/>
                      <a:pt x="1591733" y="1253067"/>
                    </a:cubicBezTo>
                    <a:cubicBezTo>
                      <a:pt x="1555962" y="1145753"/>
                      <a:pt x="1565165" y="1143657"/>
                      <a:pt x="1490133" y="1049867"/>
                    </a:cubicBezTo>
                    <a:cubicBezTo>
                      <a:pt x="1470187" y="1024934"/>
                      <a:pt x="1442346" y="1007066"/>
                      <a:pt x="1422400" y="982133"/>
                    </a:cubicBezTo>
                    <a:cubicBezTo>
                      <a:pt x="1396973" y="950349"/>
                      <a:pt x="1380094" y="912316"/>
                      <a:pt x="1354667" y="880533"/>
                    </a:cubicBezTo>
                    <a:cubicBezTo>
                      <a:pt x="1334721" y="855600"/>
                      <a:pt x="1306879" y="837733"/>
                      <a:pt x="1286933" y="812800"/>
                    </a:cubicBezTo>
                    <a:cubicBezTo>
                      <a:pt x="1261506" y="781017"/>
                      <a:pt x="1246241" y="741622"/>
                      <a:pt x="1219200" y="711200"/>
                    </a:cubicBezTo>
                    <a:cubicBezTo>
                      <a:pt x="1155561" y="639606"/>
                      <a:pt x="1095702" y="561134"/>
                      <a:pt x="1016000" y="508000"/>
                    </a:cubicBezTo>
                    <a:cubicBezTo>
                      <a:pt x="887833" y="422556"/>
                      <a:pt x="943181" y="469048"/>
                      <a:pt x="846667" y="372533"/>
                    </a:cubicBezTo>
                    <a:cubicBezTo>
                      <a:pt x="835378" y="338666"/>
                      <a:pt x="832602" y="300636"/>
                      <a:pt x="812800" y="270933"/>
                    </a:cubicBezTo>
                    <a:cubicBezTo>
                      <a:pt x="786233" y="231082"/>
                      <a:pt x="749006" y="198737"/>
                      <a:pt x="711200" y="169333"/>
                    </a:cubicBezTo>
                    <a:cubicBezTo>
                      <a:pt x="536524" y="33474"/>
                      <a:pt x="559693" y="51098"/>
                      <a:pt x="406400" y="0"/>
                    </a:cubicBezTo>
                    <a:cubicBezTo>
                      <a:pt x="361244" y="11289"/>
                      <a:pt x="313715" y="15532"/>
                      <a:pt x="270933" y="33867"/>
                    </a:cubicBezTo>
                    <a:cubicBezTo>
                      <a:pt x="53886" y="126887"/>
                      <a:pt x="173770" y="228415"/>
                      <a:pt x="203200" y="508000"/>
                    </a:cubicBezTo>
                    <a:cubicBezTo>
                      <a:pt x="230238" y="764856"/>
                      <a:pt x="168958" y="711013"/>
                      <a:pt x="304800" y="778933"/>
                    </a:cubicBezTo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4" name=""/>
            <p:cNvGrpSpPr/>
            <p:nvPr/>
          </p:nvGrpSpPr>
          <p:grpSpPr>
            <a:xfrm>
              <a:off x="16501320" y="1406160"/>
              <a:ext cx="864720" cy="1152000"/>
              <a:chOff x="16501320" y="1406160"/>
              <a:chExt cx="864720" cy="1152000"/>
            </a:xfrm>
          </p:grpSpPr>
          <p:sp>
            <p:nvSpPr>
              <p:cNvPr id="265" name="任意多边形 225"/>
              <p:cNvSpPr/>
              <p:nvPr/>
            </p:nvSpPr>
            <p:spPr>
              <a:xfrm rot="3319800">
                <a:off x="16650720" y="1496160"/>
                <a:ext cx="565560" cy="660240"/>
              </a:xfrm>
              <a:custGeom>
                <a:avLst/>
                <a:gdLst>
                  <a:gd name="textAreaLeft" fmla="*/ 0 w 565560"/>
                  <a:gd name="textAreaRight" fmla="*/ 565920 w 565560"/>
                  <a:gd name="textAreaTop" fmla="*/ 0 h 660240"/>
                  <a:gd name="textAreaBottom" fmla="*/ 660600 h 660240"/>
                </a:gdLst>
                <a:ahLst/>
                <a:rect l="textAreaLeft" t="textAreaTop" r="textAreaRight" b="textAreaBottom"/>
                <a:pathLst>
                  <a:path w="2065867" h="4030133">
                    <a:moveTo>
                      <a:pt x="270933" y="677333"/>
                    </a:moveTo>
                    <a:cubicBezTo>
                      <a:pt x="259644" y="733778"/>
                      <a:pt x="257278" y="792770"/>
                      <a:pt x="237067" y="846667"/>
                    </a:cubicBezTo>
                    <a:cubicBezTo>
                      <a:pt x="222775" y="884778"/>
                      <a:pt x="187536" y="911861"/>
                      <a:pt x="169333" y="948267"/>
                    </a:cubicBezTo>
                    <a:cubicBezTo>
                      <a:pt x="153368" y="980197"/>
                      <a:pt x="146756" y="1016000"/>
                      <a:pt x="135467" y="1049867"/>
                    </a:cubicBezTo>
                    <a:cubicBezTo>
                      <a:pt x="124178" y="1128889"/>
                      <a:pt x="124537" y="1210475"/>
                      <a:pt x="101600" y="1286933"/>
                    </a:cubicBezTo>
                    <a:cubicBezTo>
                      <a:pt x="89904" y="1325919"/>
                      <a:pt x="52070" y="1352127"/>
                      <a:pt x="33867" y="1388533"/>
                    </a:cubicBezTo>
                    <a:cubicBezTo>
                      <a:pt x="17902" y="1420463"/>
                      <a:pt x="11289" y="1456266"/>
                      <a:pt x="0" y="1490133"/>
                    </a:cubicBezTo>
                    <a:cubicBezTo>
                      <a:pt x="11289" y="1648178"/>
                      <a:pt x="6331" y="1808231"/>
                      <a:pt x="33867" y="1964267"/>
                    </a:cubicBezTo>
                    <a:cubicBezTo>
                      <a:pt x="40941" y="2004350"/>
                      <a:pt x="77942" y="2032746"/>
                      <a:pt x="101600" y="2065867"/>
                    </a:cubicBezTo>
                    <a:cubicBezTo>
                      <a:pt x="134408" y="2111798"/>
                      <a:pt x="167065" y="2157971"/>
                      <a:pt x="203200" y="2201333"/>
                    </a:cubicBezTo>
                    <a:cubicBezTo>
                      <a:pt x="223641" y="2225862"/>
                      <a:pt x="253221" y="2242500"/>
                      <a:pt x="270933" y="2269067"/>
                    </a:cubicBezTo>
                    <a:cubicBezTo>
                      <a:pt x="298937" y="2311073"/>
                      <a:pt x="313619" y="2360700"/>
                      <a:pt x="338667" y="2404533"/>
                    </a:cubicBezTo>
                    <a:cubicBezTo>
                      <a:pt x="443708" y="2588354"/>
                      <a:pt x="378175" y="2421458"/>
                      <a:pt x="440267" y="2607733"/>
                    </a:cubicBezTo>
                    <a:cubicBezTo>
                      <a:pt x="451556" y="2686755"/>
                      <a:pt x="448890" y="2769072"/>
                      <a:pt x="474133" y="2844800"/>
                    </a:cubicBezTo>
                    <a:cubicBezTo>
                      <a:pt x="484230" y="2875091"/>
                      <a:pt x="525439" y="2885153"/>
                      <a:pt x="541867" y="2912533"/>
                    </a:cubicBezTo>
                    <a:cubicBezTo>
                      <a:pt x="692110" y="3162937"/>
                      <a:pt x="437916" y="2858793"/>
                      <a:pt x="643467" y="3115733"/>
                    </a:cubicBezTo>
                    <a:cubicBezTo>
                      <a:pt x="663413" y="3140666"/>
                      <a:pt x="691254" y="3158534"/>
                      <a:pt x="711200" y="3183467"/>
                    </a:cubicBezTo>
                    <a:cubicBezTo>
                      <a:pt x="736627" y="3215251"/>
                      <a:pt x="752130" y="3254435"/>
                      <a:pt x="778933" y="3285067"/>
                    </a:cubicBezTo>
                    <a:cubicBezTo>
                      <a:pt x="831498" y="3345141"/>
                      <a:pt x="900372" y="3390540"/>
                      <a:pt x="948267" y="3454400"/>
                    </a:cubicBezTo>
                    <a:cubicBezTo>
                      <a:pt x="982134" y="3499556"/>
                      <a:pt x="1019951" y="3542002"/>
                      <a:pt x="1049867" y="3589867"/>
                    </a:cubicBezTo>
                    <a:cubicBezTo>
                      <a:pt x="1076624" y="3632678"/>
                      <a:pt x="1089596" y="3683327"/>
                      <a:pt x="1117600" y="3725333"/>
                    </a:cubicBezTo>
                    <a:cubicBezTo>
                      <a:pt x="1164328" y="3795425"/>
                      <a:pt x="1222230" y="3809038"/>
                      <a:pt x="1286933" y="3860800"/>
                    </a:cubicBezTo>
                    <a:cubicBezTo>
                      <a:pt x="1311866" y="3880746"/>
                      <a:pt x="1328100" y="3910821"/>
                      <a:pt x="1354667" y="3928533"/>
                    </a:cubicBezTo>
                    <a:cubicBezTo>
                      <a:pt x="1438370" y="3984335"/>
                      <a:pt x="1501418" y="4000029"/>
                      <a:pt x="1591733" y="4030133"/>
                    </a:cubicBezTo>
                    <a:cubicBezTo>
                      <a:pt x="1670755" y="4018844"/>
                      <a:pt x="1753072" y="4021510"/>
                      <a:pt x="1828800" y="3996267"/>
                    </a:cubicBezTo>
                    <a:cubicBezTo>
                      <a:pt x="1947678" y="3956641"/>
                      <a:pt x="1962781" y="3628192"/>
                      <a:pt x="1964267" y="3623733"/>
                    </a:cubicBezTo>
                    <a:cubicBezTo>
                      <a:pt x="1977138" y="3585119"/>
                      <a:pt x="2013797" y="3558539"/>
                      <a:pt x="2032000" y="3522133"/>
                    </a:cubicBezTo>
                    <a:cubicBezTo>
                      <a:pt x="2047965" y="3490203"/>
                      <a:pt x="2054578" y="3454400"/>
                      <a:pt x="2065867" y="3420533"/>
                    </a:cubicBezTo>
                    <a:cubicBezTo>
                      <a:pt x="2054578" y="3318933"/>
                      <a:pt x="2052048" y="3215973"/>
                      <a:pt x="2032000" y="3115733"/>
                    </a:cubicBezTo>
                    <a:cubicBezTo>
                      <a:pt x="2017998" y="3045722"/>
                      <a:pt x="1964267" y="2912533"/>
                      <a:pt x="1964267" y="2912533"/>
                    </a:cubicBezTo>
                    <a:cubicBezTo>
                      <a:pt x="2045473" y="2668911"/>
                      <a:pt x="1946942" y="2973167"/>
                      <a:pt x="2032000" y="2675467"/>
                    </a:cubicBezTo>
                    <a:cubicBezTo>
                      <a:pt x="2041807" y="2641142"/>
                      <a:pt x="2054578" y="2607734"/>
                      <a:pt x="2065867" y="2573867"/>
                    </a:cubicBezTo>
                    <a:cubicBezTo>
                      <a:pt x="1988036" y="2340376"/>
                      <a:pt x="2048618" y="2421153"/>
                      <a:pt x="1930400" y="2302933"/>
                    </a:cubicBezTo>
                    <a:cubicBezTo>
                      <a:pt x="1919111" y="2257778"/>
                      <a:pt x="1909320" y="2212221"/>
                      <a:pt x="1896533" y="2167467"/>
                    </a:cubicBezTo>
                    <a:cubicBezTo>
                      <a:pt x="1886726" y="2133142"/>
                      <a:pt x="1868536" y="2101080"/>
                      <a:pt x="1862667" y="2065867"/>
                    </a:cubicBezTo>
                    <a:cubicBezTo>
                      <a:pt x="1846052" y="1966175"/>
                      <a:pt x="1835554" y="1713597"/>
                      <a:pt x="1794933" y="1591733"/>
                    </a:cubicBezTo>
                    <a:cubicBezTo>
                      <a:pt x="1778968" y="1543839"/>
                      <a:pt x="1753174" y="1499558"/>
                      <a:pt x="1727200" y="1456267"/>
                    </a:cubicBezTo>
                    <a:cubicBezTo>
                      <a:pt x="1685317" y="1386462"/>
                      <a:pt x="1591733" y="1253067"/>
                      <a:pt x="1591733" y="1253067"/>
                    </a:cubicBezTo>
                    <a:cubicBezTo>
                      <a:pt x="1555962" y="1145753"/>
                      <a:pt x="1565165" y="1143657"/>
                      <a:pt x="1490133" y="1049867"/>
                    </a:cubicBezTo>
                    <a:cubicBezTo>
                      <a:pt x="1470187" y="1024934"/>
                      <a:pt x="1442346" y="1007066"/>
                      <a:pt x="1422400" y="982133"/>
                    </a:cubicBezTo>
                    <a:cubicBezTo>
                      <a:pt x="1396973" y="950349"/>
                      <a:pt x="1380094" y="912316"/>
                      <a:pt x="1354667" y="880533"/>
                    </a:cubicBezTo>
                    <a:cubicBezTo>
                      <a:pt x="1334721" y="855600"/>
                      <a:pt x="1306879" y="837733"/>
                      <a:pt x="1286933" y="812800"/>
                    </a:cubicBezTo>
                    <a:cubicBezTo>
                      <a:pt x="1261506" y="781017"/>
                      <a:pt x="1246241" y="741622"/>
                      <a:pt x="1219200" y="711200"/>
                    </a:cubicBezTo>
                    <a:cubicBezTo>
                      <a:pt x="1155561" y="639606"/>
                      <a:pt x="1095702" y="561134"/>
                      <a:pt x="1016000" y="508000"/>
                    </a:cubicBezTo>
                    <a:cubicBezTo>
                      <a:pt x="887833" y="422556"/>
                      <a:pt x="943181" y="469048"/>
                      <a:pt x="846667" y="372533"/>
                    </a:cubicBezTo>
                    <a:cubicBezTo>
                      <a:pt x="835378" y="338666"/>
                      <a:pt x="832602" y="300636"/>
                      <a:pt x="812800" y="270933"/>
                    </a:cubicBezTo>
                    <a:cubicBezTo>
                      <a:pt x="786233" y="231082"/>
                      <a:pt x="749006" y="198737"/>
                      <a:pt x="711200" y="169333"/>
                    </a:cubicBezTo>
                    <a:cubicBezTo>
                      <a:pt x="536524" y="33474"/>
                      <a:pt x="559693" y="51098"/>
                      <a:pt x="406400" y="0"/>
                    </a:cubicBezTo>
                    <a:cubicBezTo>
                      <a:pt x="361244" y="11289"/>
                      <a:pt x="313715" y="15532"/>
                      <a:pt x="270933" y="33867"/>
                    </a:cubicBezTo>
                    <a:cubicBezTo>
                      <a:pt x="53886" y="126887"/>
                      <a:pt x="173770" y="228415"/>
                      <a:pt x="203200" y="508000"/>
                    </a:cubicBezTo>
                    <a:cubicBezTo>
                      <a:pt x="230238" y="764856"/>
                      <a:pt x="168958" y="711013"/>
                      <a:pt x="304800" y="778933"/>
                    </a:cubicBezTo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任意多边形 226"/>
              <p:cNvSpPr/>
              <p:nvPr/>
            </p:nvSpPr>
            <p:spPr>
              <a:xfrm rot="3319800">
                <a:off x="16709760" y="2057040"/>
                <a:ext cx="272520" cy="496080"/>
              </a:xfrm>
              <a:custGeom>
                <a:avLst/>
                <a:gdLst>
                  <a:gd name="textAreaLeft" fmla="*/ 0 w 272520"/>
                  <a:gd name="textAreaRight" fmla="*/ 272880 w 272520"/>
                  <a:gd name="textAreaTop" fmla="*/ 0 h 496080"/>
                  <a:gd name="textAreaBottom" fmla="*/ 496440 h 496080"/>
                </a:gdLst>
                <a:ahLst/>
                <a:rect l="textAreaLeft" t="textAreaTop" r="textAreaRight" b="textAreaBottom"/>
                <a:pathLst>
                  <a:path w="2065867" h="4030133">
                    <a:moveTo>
                      <a:pt x="270933" y="677333"/>
                    </a:moveTo>
                    <a:cubicBezTo>
                      <a:pt x="259644" y="733778"/>
                      <a:pt x="257278" y="792770"/>
                      <a:pt x="237067" y="846667"/>
                    </a:cubicBezTo>
                    <a:cubicBezTo>
                      <a:pt x="222775" y="884778"/>
                      <a:pt x="187536" y="911861"/>
                      <a:pt x="169333" y="948267"/>
                    </a:cubicBezTo>
                    <a:cubicBezTo>
                      <a:pt x="153368" y="980197"/>
                      <a:pt x="146756" y="1016000"/>
                      <a:pt x="135467" y="1049867"/>
                    </a:cubicBezTo>
                    <a:cubicBezTo>
                      <a:pt x="124178" y="1128889"/>
                      <a:pt x="124537" y="1210475"/>
                      <a:pt x="101600" y="1286933"/>
                    </a:cubicBezTo>
                    <a:cubicBezTo>
                      <a:pt x="89904" y="1325919"/>
                      <a:pt x="52070" y="1352127"/>
                      <a:pt x="33867" y="1388533"/>
                    </a:cubicBezTo>
                    <a:cubicBezTo>
                      <a:pt x="17902" y="1420463"/>
                      <a:pt x="11289" y="1456266"/>
                      <a:pt x="0" y="1490133"/>
                    </a:cubicBezTo>
                    <a:cubicBezTo>
                      <a:pt x="11289" y="1648178"/>
                      <a:pt x="6331" y="1808231"/>
                      <a:pt x="33867" y="1964267"/>
                    </a:cubicBezTo>
                    <a:cubicBezTo>
                      <a:pt x="40941" y="2004350"/>
                      <a:pt x="77942" y="2032746"/>
                      <a:pt x="101600" y="2065867"/>
                    </a:cubicBezTo>
                    <a:cubicBezTo>
                      <a:pt x="134408" y="2111798"/>
                      <a:pt x="167065" y="2157971"/>
                      <a:pt x="203200" y="2201333"/>
                    </a:cubicBezTo>
                    <a:cubicBezTo>
                      <a:pt x="223641" y="2225862"/>
                      <a:pt x="253221" y="2242500"/>
                      <a:pt x="270933" y="2269067"/>
                    </a:cubicBezTo>
                    <a:cubicBezTo>
                      <a:pt x="298937" y="2311073"/>
                      <a:pt x="313619" y="2360700"/>
                      <a:pt x="338667" y="2404533"/>
                    </a:cubicBezTo>
                    <a:cubicBezTo>
                      <a:pt x="443708" y="2588354"/>
                      <a:pt x="378175" y="2421458"/>
                      <a:pt x="440267" y="2607733"/>
                    </a:cubicBezTo>
                    <a:cubicBezTo>
                      <a:pt x="451556" y="2686755"/>
                      <a:pt x="448890" y="2769072"/>
                      <a:pt x="474133" y="2844800"/>
                    </a:cubicBezTo>
                    <a:cubicBezTo>
                      <a:pt x="484230" y="2875091"/>
                      <a:pt x="525439" y="2885153"/>
                      <a:pt x="541867" y="2912533"/>
                    </a:cubicBezTo>
                    <a:cubicBezTo>
                      <a:pt x="692110" y="3162937"/>
                      <a:pt x="437916" y="2858793"/>
                      <a:pt x="643467" y="3115733"/>
                    </a:cubicBezTo>
                    <a:cubicBezTo>
                      <a:pt x="663413" y="3140666"/>
                      <a:pt x="691254" y="3158534"/>
                      <a:pt x="711200" y="3183467"/>
                    </a:cubicBezTo>
                    <a:cubicBezTo>
                      <a:pt x="736627" y="3215251"/>
                      <a:pt x="752130" y="3254435"/>
                      <a:pt x="778933" y="3285067"/>
                    </a:cubicBezTo>
                    <a:cubicBezTo>
                      <a:pt x="831498" y="3345141"/>
                      <a:pt x="900372" y="3390540"/>
                      <a:pt x="948267" y="3454400"/>
                    </a:cubicBezTo>
                    <a:cubicBezTo>
                      <a:pt x="982134" y="3499556"/>
                      <a:pt x="1019951" y="3542002"/>
                      <a:pt x="1049867" y="3589867"/>
                    </a:cubicBezTo>
                    <a:cubicBezTo>
                      <a:pt x="1076624" y="3632678"/>
                      <a:pt x="1089596" y="3683327"/>
                      <a:pt x="1117600" y="3725333"/>
                    </a:cubicBezTo>
                    <a:cubicBezTo>
                      <a:pt x="1164328" y="3795425"/>
                      <a:pt x="1222230" y="3809038"/>
                      <a:pt x="1286933" y="3860800"/>
                    </a:cubicBezTo>
                    <a:cubicBezTo>
                      <a:pt x="1311866" y="3880746"/>
                      <a:pt x="1328100" y="3910821"/>
                      <a:pt x="1354667" y="3928533"/>
                    </a:cubicBezTo>
                    <a:cubicBezTo>
                      <a:pt x="1438370" y="3984335"/>
                      <a:pt x="1501418" y="4000029"/>
                      <a:pt x="1591733" y="4030133"/>
                    </a:cubicBezTo>
                    <a:cubicBezTo>
                      <a:pt x="1670755" y="4018844"/>
                      <a:pt x="1753072" y="4021510"/>
                      <a:pt x="1828800" y="3996267"/>
                    </a:cubicBezTo>
                    <a:cubicBezTo>
                      <a:pt x="1947678" y="3956641"/>
                      <a:pt x="1962781" y="3628192"/>
                      <a:pt x="1964267" y="3623733"/>
                    </a:cubicBezTo>
                    <a:cubicBezTo>
                      <a:pt x="1977138" y="3585119"/>
                      <a:pt x="2013797" y="3558539"/>
                      <a:pt x="2032000" y="3522133"/>
                    </a:cubicBezTo>
                    <a:cubicBezTo>
                      <a:pt x="2047965" y="3490203"/>
                      <a:pt x="2054578" y="3454400"/>
                      <a:pt x="2065867" y="3420533"/>
                    </a:cubicBezTo>
                    <a:cubicBezTo>
                      <a:pt x="2054578" y="3318933"/>
                      <a:pt x="2052048" y="3215973"/>
                      <a:pt x="2032000" y="3115733"/>
                    </a:cubicBezTo>
                    <a:cubicBezTo>
                      <a:pt x="2017998" y="3045722"/>
                      <a:pt x="1964267" y="2912533"/>
                      <a:pt x="1964267" y="2912533"/>
                    </a:cubicBezTo>
                    <a:cubicBezTo>
                      <a:pt x="2045473" y="2668911"/>
                      <a:pt x="1946942" y="2973167"/>
                      <a:pt x="2032000" y="2675467"/>
                    </a:cubicBezTo>
                    <a:cubicBezTo>
                      <a:pt x="2041807" y="2641142"/>
                      <a:pt x="2054578" y="2607734"/>
                      <a:pt x="2065867" y="2573867"/>
                    </a:cubicBezTo>
                    <a:cubicBezTo>
                      <a:pt x="1988036" y="2340376"/>
                      <a:pt x="2048618" y="2421153"/>
                      <a:pt x="1930400" y="2302933"/>
                    </a:cubicBezTo>
                    <a:cubicBezTo>
                      <a:pt x="1919111" y="2257778"/>
                      <a:pt x="1909320" y="2212221"/>
                      <a:pt x="1896533" y="2167467"/>
                    </a:cubicBezTo>
                    <a:cubicBezTo>
                      <a:pt x="1886726" y="2133142"/>
                      <a:pt x="1868536" y="2101080"/>
                      <a:pt x="1862667" y="2065867"/>
                    </a:cubicBezTo>
                    <a:cubicBezTo>
                      <a:pt x="1846052" y="1966175"/>
                      <a:pt x="1835554" y="1713597"/>
                      <a:pt x="1794933" y="1591733"/>
                    </a:cubicBezTo>
                    <a:cubicBezTo>
                      <a:pt x="1778968" y="1543839"/>
                      <a:pt x="1753174" y="1499558"/>
                      <a:pt x="1727200" y="1456267"/>
                    </a:cubicBezTo>
                    <a:cubicBezTo>
                      <a:pt x="1685317" y="1386462"/>
                      <a:pt x="1591733" y="1253067"/>
                      <a:pt x="1591733" y="1253067"/>
                    </a:cubicBezTo>
                    <a:cubicBezTo>
                      <a:pt x="1555962" y="1145753"/>
                      <a:pt x="1565165" y="1143657"/>
                      <a:pt x="1490133" y="1049867"/>
                    </a:cubicBezTo>
                    <a:cubicBezTo>
                      <a:pt x="1470187" y="1024934"/>
                      <a:pt x="1442346" y="1007066"/>
                      <a:pt x="1422400" y="982133"/>
                    </a:cubicBezTo>
                    <a:cubicBezTo>
                      <a:pt x="1396973" y="950349"/>
                      <a:pt x="1380094" y="912316"/>
                      <a:pt x="1354667" y="880533"/>
                    </a:cubicBezTo>
                    <a:cubicBezTo>
                      <a:pt x="1334721" y="855600"/>
                      <a:pt x="1306879" y="837733"/>
                      <a:pt x="1286933" y="812800"/>
                    </a:cubicBezTo>
                    <a:cubicBezTo>
                      <a:pt x="1261506" y="781017"/>
                      <a:pt x="1246241" y="741622"/>
                      <a:pt x="1219200" y="711200"/>
                    </a:cubicBezTo>
                    <a:cubicBezTo>
                      <a:pt x="1155561" y="639606"/>
                      <a:pt x="1095702" y="561134"/>
                      <a:pt x="1016000" y="508000"/>
                    </a:cubicBezTo>
                    <a:cubicBezTo>
                      <a:pt x="887833" y="422556"/>
                      <a:pt x="943181" y="469048"/>
                      <a:pt x="846667" y="372533"/>
                    </a:cubicBezTo>
                    <a:cubicBezTo>
                      <a:pt x="835378" y="338666"/>
                      <a:pt x="832602" y="300636"/>
                      <a:pt x="812800" y="270933"/>
                    </a:cubicBezTo>
                    <a:cubicBezTo>
                      <a:pt x="786233" y="231082"/>
                      <a:pt x="749006" y="198737"/>
                      <a:pt x="711200" y="169333"/>
                    </a:cubicBezTo>
                    <a:cubicBezTo>
                      <a:pt x="536524" y="33474"/>
                      <a:pt x="559693" y="51098"/>
                      <a:pt x="406400" y="0"/>
                    </a:cubicBezTo>
                    <a:cubicBezTo>
                      <a:pt x="361244" y="11289"/>
                      <a:pt x="313715" y="15532"/>
                      <a:pt x="270933" y="33867"/>
                    </a:cubicBezTo>
                    <a:cubicBezTo>
                      <a:pt x="53886" y="126887"/>
                      <a:pt x="173770" y="228415"/>
                      <a:pt x="203200" y="508000"/>
                    </a:cubicBezTo>
                    <a:cubicBezTo>
                      <a:pt x="230238" y="764856"/>
                      <a:pt x="168958" y="711013"/>
                      <a:pt x="304800" y="778933"/>
                    </a:cubicBezTo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7" name="任意多边形 223"/>
            <p:cNvSpPr/>
            <p:nvPr/>
          </p:nvSpPr>
          <p:spPr>
            <a:xfrm>
              <a:off x="15234480" y="-517680"/>
              <a:ext cx="3764160" cy="5566680"/>
            </a:xfrm>
            <a:custGeom>
              <a:avLst/>
              <a:gdLst>
                <a:gd name="textAreaLeft" fmla="*/ 0 w 3764160"/>
                <a:gd name="textAreaRight" fmla="*/ 3764520 w 3764160"/>
                <a:gd name="textAreaTop" fmla="*/ 0 h 5566680"/>
                <a:gd name="textAreaBottom" fmla="*/ 5567040 h 5566680"/>
              </a:gdLst>
              <a:ahLst/>
              <a:rect l="textAreaLeft" t="textAreaTop" r="textAreaRight" b="textAreaBottom"/>
              <a:pathLst>
                <a:path w="3821892" h="5697930">
                  <a:moveTo>
                    <a:pt x="682085" y="5508433"/>
                  </a:moveTo>
                  <a:lnTo>
                    <a:pt x="682085" y="5508433"/>
                  </a:lnTo>
                  <a:cubicBezTo>
                    <a:pt x="649034" y="5504761"/>
                    <a:pt x="616169" y="5498507"/>
                    <a:pt x="582933" y="5497417"/>
                  </a:cubicBezTo>
                  <a:cubicBezTo>
                    <a:pt x="400197" y="5491426"/>
                    <a:pt x="-158094" y="5621019"/>
                    <a:pt x="43107" y="5453349"/>
                  </a:cubicBezTo>
                  <a:cubicBezTo>
                    <a:pt x="53279" y="5444873"/>
                    <a:pt x="65140" y="5438660"/>
                    <a:pt x="76157" y="5431315"/>
                  </a:cubicBezTo>
                  <a:cubicBezTo>
                    <a:pt x="83502" y="5420298"/>
                    <a:pt x="88828" y="5407627"/>
                    <a:pt x="98191" y="5398265"/>
                  </a:cubicBezTo>
                  <a:cubicBezTo>
                    <a:pt x="107554" y="5388902"/>
                    <a:pt x="122971" y="5386570"/>
                    <a:pt x="131242" y="5376231"/>
                  </a:cubicBezTo>
                  <a:cubicBezTo>
                    <a:pt x="166724" y="5331878"/>
                    <a:pt x="112695" y="5351407"/>
                    <a:pt x="164292" y="5310130"/>
                  </a:cubicBezTo>
                  <a:cubicBezTo>
                    <a:pt x="173360" y="5302876"/>
                    <a:pt x="186326" y="5302785"/>
                    <a:pt x="197343" y="5299113"/>
                  </a:cubicBezTo>
                  <a:cubicBezTo>
                    <a:pt x="204687" y="5288096"/>
                    <a:pt x="221973" y="5279045"/>
                    <a:pt x="219376" y="5266062"/>
                  </a:cubicBezTo>
                  <a:cubicBezTo>
                    <a:pt x="216779" y="5253079"/>
                    <a:pt x="183729" y="5257012"/>
                    <a:pt x="186326" y="5244029"/>
                  </a:cubicBezTo>
                  <a:cubicBezTo>
                    <a:pt x="189927" y="5226024"/>
                    <a:pt x="213970" y="5219190"/>
                    <a:pt x="230393" y="5210978"/>
                  </a:cubicBezTo>
                  <a:cubicBezTo>
                    <a:pt x="251167" y="5200591"/>
                    <a:pt x="274461" y="5196289"/>
                    <a:pt x="296495" y="5188944"/>
                  </a:cubicBezTo>
                  <a:cubicBezTo>
                    <a:pt x="307512" y="5185272"/>
                    <a:pt x="319883" y="5184368"/>
                    <a:pt x="329545" y="5177927"/>
                  </a:cubicBezTo>
                  <a:lnTo>
                    <a:pt x="428697" y="5111826"/>
                  </a:lnTo>
                  <a:lnTo>
                    <a:pt x="461748" y="5089793"/>
                  </a:lnTo>
                  <a:cubicBezTo>
                    <a:pt x="465420" y="5078776"/>
                    <a:pt x="472764" y="5068355"/>
                    <a:pt x="472764" y="5056742"/>
                  </a:cubicBezTo>
                  <a:cubicBezTo>
                    <a:pt x="472764" y="5029240"/>
                    <a:pt x="462509" y="4988553"/>
                    <a:pt x="439714" y="4968607"/>
                  </a:cubicBezTo>
                  <a:cubicBezTo>
                    <a:pt x="419785" y="4951169"/>
                    <a:pt x="373613" y="4924539"/>
                    <a:pt x="373613" y="4924539"/>
                  </a:cubicBezTo>
                  <a:cubicBezTo>
                    <a:pt x="392759" y="4867098"/>
                    <a:pt x="370471" y="4911418"/>
                    <a:pt x="417680" y="4869455"/>
                  </a:cubicBezTo>
                  <a:cubicBezTo>
                    <a:pt x="440970" y="4848753"/>
                    <a:pt x="483781" y="4803354"/>
                    <a:pt x="483781" y="4803354"/>
                  </a:cubicBezTo>
                  <a:cubicBezTo>
                    <a:pt x="476437" y="4788665"/>
                    <a:pt x="472436" y="4771755"/>
                    <a:pt x="461748" y="4759286"/>
                  </a:cubicBezTo>
                  <a:cubicBezTo>
                    <a:pt x="449799" y="4745345"/>
                    <a:pt x="432621" y="4736908"/>
                    <a:pt x="417680" y="4726236"/>
                  </a:cubicBezTo>
                  <a:cubicBezTo>
                    <a:pt x="380305" y="4699540"/>
                    <a:pt x="392509" y="4706829"/>
                    <a:pt x="351579" y="4693185"/>
                  </a:cubicBezTo>
                  <a:cubicBezTo>
                    <a:pt x="355769" y="4672233"/>
                    <a:pt x="362321" y="4627635"/>
                    <a:pt x="373613" y="4605050"/>
                  </a:cubicBezTo>
                  <a:cubicBezTo>
                    <a:pt x="379534" y="4593207"/>
                    <a:pt x="388302" y="4583017"/>
                    <a:pt x="395646" y="4572000"/>
                  </a:cubicBezTo>
                  <a:cubicBezTo>
                    <a:pt x="399318" y="4538949"/>
                    <a:pt x="401196" y="4505650"/>
                    <a:pt x="406663" y="4472848"/>
                  </a:cubicBezTo>
                  <a:cubicBezTo>
                    <a:pt x="408572" y="4461393"/>
                    <a:pt x="419589" y="4451252"/>
                    <a:pt x="417680" y="4439797"/>
                  </a:cubicBezTo>
                  <a:cubicBezTo>
                    <a:pt x="415503" y="4426737"/>
                    <a:pt x="404122" y="4416919"/>
                    <a:pt x="395646" y="4406747"/>
                  </a:cubicBezTo>
                  <a:cubicBezTo>
                    <a:pt x="324958" y="4321921"/>
                    <a:pt x="395268" y="4422703"/>
                    <a:pt x="340562" y="4340646"/>
                  </a:cubicBezTo>
                  <a:lnTo>
                    <a:pt x="362596" y="4274544"/>
                  </a:lnTo>
                  <a:cubicBezTo>
                    <a:pt x="366268" y="4263527"/>
                    <a:pt x="367172" y="4251156"/>
                    <a:pt x="373613" y="4241494"/>
                  </a:cubicBezTo>
                  <a:lnTo>
                    <a:pt x="395646" y="4208443"/>
                  </a:lnTo>
                  <a:cubicBezTo>
                    <a:pt x="399318" y="4179065"/>
                    <a:pt x="401796" y="4149512"/>
                    <a:pt x="406663" y="4120308"/>
                  </a:cubicBezTo>
                  <a:cubicBezTo>
                    <a:pt x="409152" y="4105373"/>
                    <a:pt x="417680" y="4091382"/>
                    <a:pt x="417680" y="4076241"/>
                  </a:cubicBezTo>
                  <a:cubicBezTo>
                    <a:pt x="417680" y="4064628"/>
                    <a:pt x="409480" y="4054456"/>
                    <a:pt x="406663" y="4043190"/>
                  </a:cubicBezTo>
                  <a:cubicBezTo>
                    <a:pt x="402121" y="4025024"/>
                    <a:pt x="402221" y="4005639"/>
                    <a:pt x="395646" y="3988106"/>
                  </a:cubicBezTo>
                  <a:cubicBezTo>
                    <a:pt x="390997" y="3975708"/>
                    <a:pt x="379534" y="3966898"/>
                    <a:pt x="373613" y="3955055"/>
                  </a:cubicBezTo>
                  <a:cubicBezTo>
                    <a:pt x="368420" y="3944668"/>
                    <a:pt x="366268" y="3933022"/>
                    <a:pt x="362596" y="3922005"/>
                  </a:cubicBezTo>
                  <a:cubicBezTo>
                    <a:pt x="369940" y="3910988"/>
                    <a:pt x="378708" y="3900797"/>
                    <a:pt x="384629" y="3888954"/>
                  </a:cubicBezTo>
                  <a:cubicBezTo>
                    <a:pt x="389822" y="3878567"/>
                    <a:pt x="387434" y="3864115"/>
                    <a:pt x="395646" y="3855903"/>
                  </a:cubicBezTo>
                  <a:cubicBezTo>
                    <a:pt x="403858" y="3847691"/>
                    <a:pt x="417680" y="3848558"/>
                    <a:pt x="428697" y="3844886"/>
                  </a:cubicBezTo>
                  <a:cubicBezTo>
                    <a:pt x="516941" y="3712520"/>
                    <a:pt x="462040" y="3819335"/>
                    <a:pt x="483781" y="3558448"/>
                  </a:cubicBezTo>
                  <a:cubicBezTo>
                    <a:pt x="485038" y="3543359"/>
                    <a:pt x="491513" y="3529161"/>
                    <a:pt x="494798" y="3514380"/>
                  </a:cubicBezTo>
                  <a:cubicBezTo>
                    <a:pt x="498860" y="3496101"/>
                    <a:pt x="501604" y="3477541"/>
                    <a:pt x="505815" y="3459296"/>
                  </a:cubicBezTo>
                  <a:cubicBezTo>
                    <a:pt x="505826" y="3459248"/>
                    <a:pt x="533352" y="3349152"/>
                    <a:pt x="538866" y="3327094"/>
                  </a:cubicBezTo>
                  <a:lnTo>
                    <a:pt x="560899" y="3238959"/>
                  </a:lnTo>
                  <a:cubicBezTo>
                    <a:pt x="581897" y="3154970"/>
                    <a:pt x="562329" y="3264860"/>
                    <a:pt x="582933" y="3161841"/>
                  </a:cubicBezTo>
                  <a:cubicBezTo>
                    <a:pt x="597362" y="3089696"/>
                    <a:pt x="587906" y="3111383"/>
                    <a:pt x="604967" y="3051672"/>
                  </a:cubicBezTo>
                  <a:cubicBezTo>
                    <a:pt x="623429" y="2987057"/>
                    <a:pt x="605828" y="3049950"/>
                    <a:pt x="638017" y="2985571"/>
                  </a:cubicBezTo>
                  <a:cubicBezTo>
                    <a:pt x="659458" y="2942688"/>
                    <a:pt x="638869" y="2957877"/>
                    <a:pt x="660051" y="2908453"/>
                  </a:cubicBezTo>
                  <a:cubicBezTo>
                    <a:pt x="665267" y="2896283"/>
                    <a:pt x="676163" y="2887245"/>
                    <a:pt x="682085" y="2875402"/>
                  </a:cubicBezTo>
                  <a:cubicBezTo>
                    <a:pt x="687278" y="2865015"/>
                    <a:pt x="687462" y="2852503"/>
                    <a:pt x="693102" y="2842352"/>
                  </a:cubicBezTo>
                  <a:cubicBezTo>
                    <a:pt x="705962" y="2819203"/>
                    <a:pt x="722480" y="2798284"/>
                    <a:pt x="737169" y="2776250"/>
                  </a:cubicBezTo>
                  <a:cubicBezTo>
                    <a:pt x="746279" y="2762585"/>
                    <a:pt x="751055" y="2746442"/>
                    <a:pt x="759203" y="2732183"/>
                  </a:cubicBezTo>
                  <a:cubicBezTo>
                    <a:pt x="771710" y="2710297"/>
                    <a:pt x="793254" y="2680104"/>
                    <a:pt x="814287" y="2666082"/>
                  </a:cubicBezTo>
                  <a:cubicBezTo>
                    <a:pt x="823950" y="2659640"/>
                    <a:pt x="836321" y="2658737"/>
                    <a:pt x="847338" y="2655065"/>
                  </a:cubicBezTo>
                  <a:cubicBezTo>
                    <a:pt x="903283" y="2571147"/>
                    <a:pt x="877781" y="2611671"/>
                    <a:pt x="924456" y="2533879"/>
                  </a:cubicBezTo>
                  <a:cubicBezTo>
                    <a:pt x="928128" y="2515518"/>
                    <a:pt x="930546" y="2496860"/>
                    <a:pt x="935473" y="2478795"/>
                  </a:cubicBezTo>
                  <a:cubicBezTo>
                    <a:pt x="941584" y="2456388"/>
                    <a:pt x="957507" y="2412694"/>
                    <a:pt x="957507" y="2412694"/>
                  </a:cubicBezTo>
                  <a:cubicBezTo>
                    <a:pt x="961179" y="2262130"/>
                    <a:pt x="962253" y="2111480"/>
                    <a:pt x="968523" y="1961002"/>
                  </a:cubicBezTo>
                  <a:cubicBezTo>
                    <a:pt x="970240" y="1919791"/>
                    <a:pt x="995499" y="1804092"/>
                    <a:pt x="1001574" y="1773715"/>
                  </a:cubicBezTo>
                  <a:cubicBezTo>
                    <a:pt x="1015188" y="1705648"/>
                    <a:pt x="1002204" y="1734211"/>
                    <a:pt x="1034625" y="1685580"/>
                  </a:cubicBezTo>
                  <a:cubicBezTo>
                    <a:pt x="1038153" y="1671469"/>
                    <a:pt x="1048759" y="1624261"/>
                    <a:pt x="1056658" y="1608462"/>
                  </a:cubicBezTo>
                  <a:cubicBezTo>
                    <a:pt x="1062579" y="1596619"/>
                    <a:pt x="1071347" y="1586429"/>
                    <a:pt x="1078692" y="1575412"/>
                  </a:cubicBezTo>
                  <a:cubicBezTo>
                    <a:pt x="1085950" y="1553639"/>
                    <a:pt x="1092327" y="1524844"/>
                    <a:pt x="1111743" y="1509311"/>
                  </a:cubicBezTo>
                  <a:cubicBezTo>
                    <a:pt x="1120811" y="1502057"/>
                    <a:pt x="1134642" y="1503934"/>
                    <a:pt x="1144793" y="1498294"/>
                  </a:cubicBezTo>
                  <a:cubicBezTo>
                    <a:pt x="1258438" y="1435157"/>
                    <a:pt x="1169161" y="1468138"/>
                    <a:pt x="1243945" y="1443209"/>
                  </a:cubicBezTo>
                  <a:cubicBezTo>
                    <a:pt x="1254962" y="1432192"/>
                    <a:pt x="1264032" y="1418801"/>
                    <a:pt x="1276996" y="1410159"/>
                  </a:cubicBezTo>
                  <a:cubicBezTo>
                    <a:pt x="1286658" y="1403718"/>
                    <a:pt x="1301835" y="1407353"/>
                    <a:pt x="1310046" y="1399142"/>
                  </a:cubicBezTo>
                  <a:cubicBezTo>
                    <a:pt x="1377256" y="1331931"/>
                    <a:pt x="1280740" y="1367908"/>
                    <a:pt x="1376148" y="1344058"/>
                  </a:cubicBezTo>
                  <a:cubicBezTo>
                    <a:pt x="1387165" y="1333041"/>
                    <a:pt x="1396235" y="1319649"/>
                    <a:pt x="1409198" y="1311007"/>
                  </a:cubicBezTo>
                  <a:cubicBezTo>
                    <a:pt x="1418861" y="1304565"/>
                    <a:pt x="1433181" y="1307245"/>
                    <a:pt x="1442249" y="1299990"/>
                  </a:cubicBezTo>
                  <a:cubicBezTo>
                    <a:pt x="1452588" y="1291719"/>
                    <a:pt x="1455485" y="1276835"/>
                    <a:pt x="1464282" y="1266939"/>
                  </a:cubicBezTo>
                  <a:cubicBezTo>
                    <a:pt x="1484984" y="1243649"/>
                    <a:pt x="1530384" y="1200838"/>
                    <a:pt x="1530384" y="1200838"/>
                  </a:cubicBezTo>
                  <a:cubicBezTo>
                    <a:pt x="1541864" y="1166398"/>
                    <a:pt x="1553000" y="1123330"/>
                    <a:pt x="1585468" y="1101686"/>
                  </a:cubicBezTo>
                  <a:lnTo>
                    <a:pt x="1618519" y="1079653"/>
                  </a:lnTo>
                  <a:cubicBezTo>
                    <a:pt x="1646210" y="996580"/>
                    <a:pt x="1605636" y="1095755"/>
                    <a:pt x="1662586" y="1024568"/>
                  </a:cubicBezTo>
                  <a:cubicBezTo>
                    <a:pt x="1734271" y="934962"/>
                    <a:pt x="1602762" y="1051343"/>
                    <a:pt x="1695637" y="958467"/>
                  </a:cubicBezTo>
                  <a:cubicBezTo>
                    <a:pt x="1704999" y="949104"/>
                    <a:pt x="1718515" y="944909"/>
                    <a:pt x="1728687" y="936433"/>
                  </a:cubicBezTo>
                  <a:cubicBezTo>
                    <a:pt x="1836982" y="846188"/>
                    <a:pt x="1697107" y="956997"/>
                    <a:pt x="1783772" y="870332"/>
                  </a:cubicBezTo>
                  <a:cubicBezTo>
                    <a:pt x="1793134" y="860970"/>
                    <a:pt x="1805805" y="855643"/>
                    <a:pt x="1816822" y="848299"/>
                  </a:cubicBezTo>
                  <a:cubicBezTo>
                    <a:pt x="1849243" y="783457"/>
                    <a:pt x="1833662" y="819811"/>
                    <a:pt x="1860890" y="738130"/>
                  </a:cubicBezTo>
                  <a:cubicBezTo>
                    <a:pt x="1865077" y="725569"/>
                    <a:pt x="1875579" y="716096"/>
                    <a:pt x="1882923" y="705079"/>
                  </a:cubicBezTo>
                  <a:cubicBezTo>
                    <a:pt x="1886595" y="690390"/>
                    <a:pt x="1890655" y="675793"/>
                    <a:pt x="1893940" y="661012"/>
                  </a:cubicBezTo>
                  <a:cubicBezTo>
                    <a:pt x="1908495" y="595517"/>
                    <a:pt x="1917511" y="529066"/>
                    <a:pt x="1926991" y="462708"/>
                  </a:cubicBezTo>
                  <a:cubicBezTo>
                    <a:pt x="1931900" y="369434"/>
                    <a:pt x="1928850" y="278075"/>
                    <a:pt x="1949025" y="187286"/>
                  </a:cubicBezTo>
                  <a:cubicBezTo>
                    <a:pt x="1953631" y="166558"/>
                    <a:pt x="1965684" y="135527"/>
                    <a:pt x="1982075" y="121185"/>
                  </a:cubicBezTo>
                  <a:cubicBezTo>
                    <a:pt x="2002004" y="103747"/>
                    <a:pt x="2048176" y="77118"/>
                    <a:pt x="2048176" y="77118"/>
                  </a:cubicBezTo>
                  <a:cubicBezTo>
                    <a:pt x="2051848" y="66101"/>
                    <a:pt x="2050981" y="52279"/>
                    <a:pt x="2059193" y="44067"/>
                  </a:cubicBezTo>
                  <a:cubicBezTo>
                    <a:pt x="2077918" y="25342"/>
                    <a:pt x="2125295" y="0"/>
                    <a:pt x="2125295" y="0"/>
                  </a:cubicBezTo>
                  <a:cubicBezTo>
                    <a:pt x="2147329" y="3672"/>
                    <a:pt x="2169813" y="5261"/>
                    <a:pt x="2191396" y="11017"/>
                  </a:cubicBezTo>
                  <a:cubicBezTo>
                    <a:pt x="2225058" y="19993"/>
                    <a:pt x="2256750" y="35617"/>
                    <a:pt x="2290548" y="44067"/>
                  </a:cubicBezTo>
                  <a:lnTo>
                    <a:pt x="2334615" y="55084"/>
                  </a:lnTo>
                  <a:cubicBezTo>
                    <a:pt x="2413679" y="107794"/>
                    <a:pt x="2381991" y="80427"/>
                    <a:pt x="2433767" y="132202"/>
                  </a:cubicBezTo>
                  <a:cubicBezTo>
                    <a:pt x="2453796" y="212317"/>
                    <a:pt x="2427113" y="147582"/>
                    <a:pt x="2477834" y="198303"/>
                  </a:cubicBezTo>
                  <a:cubicBezTo>
                    <a:pt x="2487197" y="207666"/>
                    <a:pt x="2492172" y="220580"/>
                    <a:pt x="2499868" y="231354"/>
                  </a:cubicBezTo>
                  <a:cubicBezTo>
                    <a:pt x="2510540" y="246295"/>
                    <a:pt x="2520970" y="261480"/>
                    <a:pt x="2532919" y="275421"/>
                  </a:cubicBezTo>
                  <a:cubicBezTo>
                    <a:pt x="2543058" y="287250"/>
                    <a:pt x="2555995" y="296503"/>
                    <a:pt x="2565969" y="308472"/>
                  </a:cubicBezTo>
                  <a:cubicBezTo>
                    <a:pt x="2605436" y="355834"/>
                    <a:pt x="2574176" y="324885"/>
                    <a:pt x="2599020" y="374573"/>
                  </a:cubicBezTo>
                  <a:cubicBezTo>
                    <a:pt x="2604942" y="386416"/>
                    <a:pt x="2613709" y="396607"/>
                    <a:pt x="2621054" y="407624"/>
                  </a:cubicBezTo>
                  <a:cubicBezTo>
                    <a:pt x="2645854" y="482030"/>
                    <a:pt x="2617232" y="390432"/>
                    <a:pt x="2643087" y="506776"/>
                  </a:cubicBezTo>
                  <a:cubicBezTo>
                    <a:pt x="2645606" y="518112"/>
                    <a:pt x="2650914" y="528660"/>
                    <a:pt x="2654104" y="539826"/>
                  </a:cubicBezTo>
                  <a:cubicBezTo>
                    <a:pt x="2658264" y="554385"/>
                    <a:pt x="2660961" y="569335"/>
                    <a:pt x="2665121" y="583894"/>
                  </a:cubicBezTo>
                  <a:cubicBezTo>
                    <a:pt x="2676921" y="625194"/>
                    <a:pt x="2678544" y="613651"/>
                    <a:pt x="2687155" y="661012"/>
                  </a:cubicBezTo>
                  <a:cubicBezTo>
                    <a:pt x="2700288" y="733242"/>
                    <a:pt x="2691889" y="724528"/>
                    <a:pt x="2709189" y="782197"/>
                  </a:cubicBezTo>
                  <a:cubicBezTo>
                    <a:pt x="2715863" y="804443"/>
                    <a:pt x="2723878" y="826265"/>
                    <a:pt x="2731222" y="848299"/>
                  </a:cubicBezTo>
                  <a:lnTo>
                    <a:pt x="2753256" y="914400"/>
                  </a:lnTo>
                  <a:cubicBezTo>
                    <a:pt x="2759177" y="932164"/>
                    <a:pt x="2759346" y="951419"/>
                    <a:pt x="2764273" y="969484"/>
                  </a:cubicBezTo>
                  <a:cubicBezTo>
                    <a:pt x="2770384" y="991891"/>
                    <a:pt x="2781752" y="1012810"/>
                    <a:pt x="2786307" y="1035585"/>
                  </a:cubicBezTo>
                  <a:cubicBezTo>
                    <a:pt x="2801878" y="1113445"/>
                    <a:pt x="2791401" y="1072906"/>
                    <a:pt x="2819357" y="1156771"/>
                  </a:cubicBezTo>
                  <a:cubicBezTo>
                    <a:pt x="2824145" y="1171135"/>
                    <a:pt x="2825586" y="1186474"/>
                    <a:pt x="2830374" y="1200838"/>
                  </a:cubicBezTo>
                  <a:cubicBezTo>
                    <a:pt x="2836628" y="1219599"/>
                    <a:pt x="2846154" y="1237162"/>
                    <a:pt x="2852408" y="1255923"/>
                  </a:cubicBezTo>
                  <a:cubicBezTo>
                    <a:pt x="2876122" y="1327064"/>
                    <a:pt x="2846731" y="1274949"/>
                    <a:pt x="2885458" y="1333041"/>
                  </a:cubicBezTo>
                  <a:cubicBezTo>
                    <a:pt x="2913737" y="1446153"/>
                    <a:pt x="2875301" y="1305956"/>
                    <a:pt x="2918509" y="1421176"/>
                  </a:cubicBezTo>
                  <a:cubicBezTo>
                    <a:pt x="2923825" y="1435353"/>
                    <a:pt x="2925175" y="1450740"/>
                    <a:pt x="2929526" y="1465243"/>
                  </a:cubicBezTo>
                  <a:cubicBezTo>
                    <a:pt x="2936200" y="1487489"/>
                    <a:pt x="2944216" y="1509310"/>
                    <a:pt x="2951560" y="1531344"/>
                  </a:cubicBezTo>
                  <a:cubicBezTo>
                    <a:pt x="2955232" y="1542361"/>
                    <a:pt x="2960667" y="1552940"/>
                    <a:pt x="2962576" y="1564395"/>
                  </a:cubicBezTo>
                  <a:cubicBezTo>
                    <a:pt x="2969921" y="1608462"/>
                    <a:pt x="2973775" y="1653256"/>
                    <a:pt x="2984610" y="1696597"/>
                  </a:cubicBezTo>
                  <a:cubicBezTo>
                    <a:pt x="3000168" y="1758831"/>
                    <a:pt x="2992657" y="1725818"/>
                    <a:pt x="3006644" y="1795749"/>
                  </a:cubicBezTo>
                  <a:cubicBezTo>
                    <a:pt x="3010316" y="1854506"/>
                    <a:pt x="3011498" y="1913471"/>
                    <a:pt x="3017661" y="1972019"/>
                  </a:cubicBezTo>
                  <a:cubicBezTo>
                    <a:pt x="3018877" y="1983568"/>
                    <a:pt x="3027036" y="1993574"/>
                    <a:pt x="3028678" y="2005070"/>
                  </a:cubicBezTo>
                  <a:cubicBezTo>
                    <a:pt x="3034414" y="2045224"/>
                    <a:pt x="3032646" y="2086311"/>
                    <a:pt x="3039695" y="2126255"/>
                  </a:cubicBezTo>
                  <a:cubicBezTo>
                    <a:pt x="3043731" y="2149127"/>
                    <a:pt x="3054384" y="2170322"/>
                    <a:pt x="3061728" y="2192356"/>
                  </a:cubicBezTo>
                  <a:cubicBezTo>
                    <a:pt x="3076931" y="2237967"/>
                    <a:pt x="3066304" y="2215746"/>
                    <a:pt x="3094779" y="2258458"/>
                  </a:cubicBezTo>
                  <a:cubicBezTo>
                    <a:pt x="3129233" y="2396269"/>
                    <a:pt x="3085193" y="2224902"/>
                    <a:pt x="3116813" y="2335576"/>
                  </a:cubicBezTo>
                  <a:cubicBezTo>
                    <a:pt x="3120972" y="2350134"/>
                    <a:pt x="3122513" y="2365466"/>
                    <a:pt x="3127829" y="2379643"/>
                  </a:cubicBezTo>
                  <a:cubicBezTo>
                    <a:pt x="3157925" y="2459900"/>
                    <a:pt x="3142641" y="2389886"/>
                    <a:pt x="3160880" y="2456761"/>
                  </a:cubicBezTo>
                  <a:cubicBezTo>
                    <a:pt x="3168848" y="2485976"/>
                    <a:pt x="3175569" y="2515518"/>
                    <a:pt x="3182914" y="2544896"/>
                  </a:cubicBezTo>
                  <a:cubicBezTo>
                    <a:pt x="3190880" y="2576761"/>
                    <a:pt x="3219015" y="2601166"/>
                    <a:pt x="3226981" y="2633031"/>
                  </a:cubicBezTo>
                  <a:cubicBezTo>
                    <a:pt x="3243631" y="2699631"/>
                    <a:pt x="3233210" y="2662735"/>
                    <a:pt x="3260032" y="2743200"/>
                  </a:cubicBezTo>
                  <a:lnTo>
                    <a:pt x="3282066" y="2809301"/>
                  </a:lnTo>
                  <a:lnTo>
                    <a:pt x="3304099" y="2963537"/>
                  </a:lnTo>
                  <a:cubicBezTo>
                    <a:pt x="3307383" y="2986529"/>
                    <a:pt x="3318788" y="3007604"/>
                    <a:pt x="3326133" y="3029638"/>
                  </a:cubicBezTo>
                  <a:lnTo>
                    <a:pt x="3348167" y="3095739"/>
                  </a:lnTo>
                  <a:lnTo>
                    <a:pt x="3370201" y="3161841"/>
                  </a:lnTo>
                  <a:cubicBezTo>
                    <a:pt x="3379154" y="3188699"/>
                    <a:pt x="3386416" y="3234810"/>
                    <a:pt x="3392234" y="3260993"/>
                  </a:cubicBezTo>
                  <a:cubicBezTo>
                    <a:pt x="3395519" y="3275774"/>
                    <a:pt x="3400542" y="3290163"/>
                    <a:pt x="3403251" y="3305060"/>
                  </a:cubicBezTo>
                  <a:cubicBezTo>
                    <a:pt x="3433850" y="3473354"/>
                    <a:pt x="3390128" y="3285618"/>
                    <a:pt x="3436302" y="3470313"/>
                  </a:cubicBezTo>
                  <a:lnTo>
                    <a:pt x="3447319" y="3514380"/>
                  </a:lnTo>
                  <a:lnTo>
                    <a:pt x="3458336" y="3558448"/>
                  </a:lnTo>
                  <a:cubicBezTo>
                    <a:pt x="3464040" y="3609790"/>
                    <a:pt x="3464466" y="3653960"/>
                    <a:pt x="3480369" y="3701667"/>
                  </a:cubicBezTo>
                  <a:cubicBezTo>
                    <a:pt x="3486623" y="3720428"/>
                    <a:pt x="3496587" y="3737850"/>
                    <a:pt x="3502403" y="3756752"/>
                  </a:cubicBezTo>
                  <a:cubicBezTo>
                    <a:pt x="3511309" y="3785695"/>
                    <a:pt x="3517092" y="3815508"/>
                    <a:pt x="3524437" y="3844886"/>
                  </a:cubicBezTo>
                  <a:cubicBezTo>
                    <a:pt x="3535258" y="3888167"/>
                    <a:pt x="3539608" y="3910358"/>
                    <a:pt x="3557487" y="3955055"/>
                  </a:cubicBezTo>
                  <a:cubicBezTo>
                    <a:pt x="3564832" y="3973416"/>
                    <a:pt x="3570677" y="3992451"/>
                    <a:pt x="3579521" y="4010139"/>
                  </a:cubicBezTo>
                  <a:cubicBezTo>
                    <a:pt x="3585443" y="4021982"/>
                    <a:pt x="3594210" y="4032173"/>
                    <a:pt x="3601555" y="4043190"/>
                  </a:cubicBezTo>
                  <a:cubicBezTo>
                    <a:pt x="3605227" y="4072568"/>
                    <a:pt x="3605391" y="4102602"/>
                    <a:pt x="3612572" y="4131325"/>
                  </a:cubicBezTo>
                  <a:cubicBezTo>
                    <a:pt x="3616555" y="4147258"/>
                    <a:pt x="3628136" y="4160298"/>
                    <a:pt x="3634605" y="4175393"/>
                  </a:cubicBezTo>
                  <a:cubicBezTo>
                    <a:pt x="3639179" y="4186067"/>
                    <a:pt x="3642805" y="4197177"/>
                    <a:pt x="3645622" y="4208443"/>
                  </a:cubicBezTo>
                  <a:cubicBezTo>
                    <a:pt x="3650164" y="4226609"/>
                    <a:pt x="3650064" y="4245994"/>
                    <a:pt x="3656639" y="4263527"/>
                  </a:cubicBezTo>
                  <a:cubicBezTo>
                    <a:pt x="3661288" y="4275925"/>
                    <a:pt x="3672104" y="4285082"/>
                    <a:pt x="3678673" y="4296578"/>
                  </a:cubicBezTo>
                  <a:cubicBezTo>
                    <a:pt x="3686821" y="4310837"/>
                    <a:pt x="3693362" y="4325957"/>
                    <a:pt x="3700707" y="4340646"/>
                  </a:cubicBezTo>
                  <a:cubicBezTo>
                    <a:pt x="3717661" y="4425423"/>
                    <a:pt x="3707182" y="4377566"/>
                    <a:pt x="3733757" y="4483865"/>
                  </a:cubicBezTo>
                  <a:cubicBezTo>
                    <a:pt x="3737429" y="4498554"/>
                    <a:pt x="3739986" y="4513568"/>
                    <a:pt x="3744774" y="4527932"/>
                  </a:cubicBezTo>
                  <a:lnTo>
                    <a:pt x="3766808" y="4594033"/>
                  </a:lnTo>
                  <a:cubicBezTo>
                    <a:pt x="3770480" y="4605050"/>
                    <a:pt x="3775547" y="4615697"/>
                    <a:pt x="3777825" y="4627084"/>
                  </a:cubicBezTo>
                  <a:cubicBezTo>
                    <a:pt x="3781497" y="4645445"/>
                    <a:pt x="3785492" y="4663745"/>
                    <a:pt x="3788842" y="4682168"/>
                  </a:cubicBezTo>
                  <a:cubicBezTo>
                    <a:pt x="3792838" y="4704146"/>
                    <a:pt x="3795178" y="4726428"/>
                    <a:pt x="3799858" y="4748270"/>
                  </a:cubicBezTo>
                  <a:cubicBezTo>
                    <a:pt x="3806203" y="4777880"/>
                    <a:pt x="3821892" y="4836405"/>
                    <a:pt x="3821892" y="4836405"/>
                  </a:cubicBezTo>
                  <a:cubicBezTo>
                    <a:pt x="3804172" y="5013603"/>
                    <a:pt x="3833279" y="4957960"/>
                    <a:pt x="3788842" y="4913523"/>
                  </a:cubicBezTo>
                  <a:cubicBezTo>
                    <a:pt x="3779479" y="4904160"/>
                    <a:pt x="3766808" y="4898834"/>
                    <a:pt x="3755791" y="4891489"/>
                  </a:cubicBezTo>
                  <a:cubicBezTo>
                    <a:pt x="3759463" y="4902506"/>
                    <a:pt x="3766808" y="4912926"/>
                    <a:pt x="3766808" y="4924539"/>
                  </a:cubicBezTo>
                  <a:cubicBezTo>
                    <a:pt x="3766808" y="4950506"/>
                    <a:pt x="3779017" y="4990045"/>
                    <a:pt x="3755791" y="5001658"/>
                  </a:cubicBezTo>
                  <a:cubicBezTo>
                    <a:pt x="3735597" y="5011755"/>
                    <a:pt x="3676375" y="4925149"/>
                    <a:pt x="3667656" y="4913523"/>
                  </a:cubicBezTo>
                  <a:cubicBezTo>
                    <a:pt x="3663984" y="4902506"/>
                    <a:pt x="3664851" y="4872261"/>
                    <a:pt x="3656639" y="4880472"/>
                  </a:cubicBezTo>
                  <a:cubicBezTo>
                    <a:pt x="3630050" y="4907060"/>
                    <a:pt x="3647946" y="4942527"/>
                    <a:pt x="3656639" y="4968607"/>
                  </a:cubicBezTo>
                  <a:cubicBezTo>
                    <a:pt x="3652967" y="5023691"/>
                    <a:pt x="3655498" y="5079544"/>
                    <a:pt x="3645622" y="5133860"/>
                  </a:cubicBezTo>
                  <a:cubicBezTo>
                    <a:pt x="3642913" y="5148757"/>
                    <a:pt x="3640569" y="5103710"/>
                    <a:pt x="3634605" y="5089793"/>
                  </a:cubicBezTo>
                  <a:cubicBezTo>
                    <a:pt x="3629389" y="5077623"/>
                    <a:pt x="3612572" y="5043501"/>
                    <a:pt x="3612572" y="5056742"/>
                  </a:cubicBezTo>
                  <a:cubicBezTo>
                    <a:pt x="3612572" y="5094865"/>
                    <a:pt x="3641680" y="5114959"/>
                    <a:pt x="3656639" y="5144877"/>
                  </a:cubicBezTo>
                  <a:cubicBezTo>
                    <a:pt x="3681600" y="5194798"/>
                    <a:pt x="3686617" y="5231736"/>
                    <a:pt x="3700707" y="5288096"/>
                  </a:cubicBezTo>
                  <a:cubicBezTo>
                    <a:pt x="3731649" y="5411863"/>
                    <a:pt x="3756212" y="5409423"/>
                    <a:pt x="3689690" y="5387248"/>
                  </a:cubicBezTo>
                  <a:cubicBezTo>
                    <a:pt x="3679897" y="5357868"/>
                    <a:pt x="3674791" y="5337359"/>
                    <a:pt x="3656639" y="5310130"/>
                  </a:cubicBezTo>
                  <a:cubicBezTo>
                    <a:pt x="3643596" y="5290565"/>
                    <a:pt x="3627261" y="5273407"/>
                    <a:pt x="3612572" y="5255046"/>
                  </a:cubicBezTo>
                  <a:cubicBezTo>
                    <a:pt x="3589272" y="5161845"/>
                    <a:pt x="3621013" y="5256689"/>
                    <a:pt x="3568504" y="5177927"/>
                  </a:cubicBezTo>
                  <a:cubicBezTo>
                    <a:pt x="3562062" y="5168265"/>
                    <a:pt x="3562680" y="5155264"/>
                    <a:pt x="3557487" y="5144877"/>
                  </a:cubicBezTo>
                  <a:cubicBezTo>
                    <a:pt x="3551566" y="5133034"/>
                    <a:pt x="3542023" y="5123322"/>
                    <a:pt x="3535454" y="5111826"/>
                  </a:cubicBezTo>
                  <a:cubicBezTo>
                    <a:pt x="3527306" y="5097567"/>
                    <a:pt x="3523679" y="5080583"/>
                    <a:pt x="3513420" y="5067759"/>
                  </a:cubicBezTo>
                  <a:cubicBezTo>
                    <a:pt x="3493954" y="5043427"/>
                    <a:pt x="3469353" y="5023692"/>
                    <a:pt x="3447319" y="5001658"/>
                  </a:cubicBezTo>
                  <a:lnTo>
                    <a:pt x="3414268" y="4968607"/>
                  </a:lnTo>
                  <a:cubicBezTo>
                    <a:pt x="3410596" y="4979624"/>
                    <a:pt x="3403251" y="4990045"/>
                    <a:pt x="3403251" y="5001658"/>
                  </a:cubicBezTo>
                  <a:cubicBezTo>
                    <a:pt x="3403251" y="5013271"/>
                    <a:pt x="3411451" y="5023442"/>
                    <a:pt x="3414268" y="5034708"/>
                  </a:cubicBezTo>
                  <a:cubicBezTo>
                    <a:pt x="3418810" y="5052874"/>
                    <a:pt x="3420358" y="5071728"/>
                    <a:pt x="3425285" y="5089793"/>
                  </a:cubicBezTo>
                  <a:cubicBezTo>
                    <a:pt x="3431396" y="5112200"/>
                    <a:pt x="3447319" y="5155894"/>
                    <a:pt x="3447319" y="5155894"/>
                  </a:cubicBezTo>
                  <a:cubicBezTo>
                    <a:pt x="3439974" y="5221995"/>
                    <a:pt x="3455028" y="5294711"/>
                    <a:pt x="3425285" y="5354197"/>
                  </a:cubicBezTo>
                  <a:cubicBezTo>
                    <a:pt x="3414769" y="5375229"/>
                    <a:pt x="3385685" y="5327826"/>
                    <a:pt x="3370201" y="5310130"/>
                  </a:cubicBezTo>
                  <a:cubicBezTo>
                    <a:pt x="3343456" y="5279564"/>
                    <a:pt x="3353020" y="5264751"/>
                    <a:pt x="3337150" y="5233012"/>
                  </a:cubicBezTo>
                  <a:cubicBezTo>
                    <a:pt x="3331228" y="5221169"/>
                    <a:pt x="3322461" y="5210978"/>
                    <a:pt x="3315116" y="5199961"/>
                  </a:cubicBezTo>
                  <a:cubicBezTo>
                    <a:pt x="3311444" y="5174255"/>
                    <a:pt x="3304099" y="5148810"/>
                    <a:pt x="3304099" y="5122843"/>
                  </a:cubicBezTo>
                  <a:cubicBezTo>
                    <a:pt x="3304099" y="5107702"/>
                    <a:pt x="3311444" y="5152222"/>
                    <a:pt x="3315116" y="5166911"/>
                  </a:cubicBezTo>
                  <a:cubicBezTo>
                    <a:pt x="3320749" y="5189443"/>
                    <a:pt x="3329805" y="5210978"/>
                    <a:pt x="3337150" y="5233012"/>
                  </a:cubicBezTo>
                  <a:cubicBezTo>
                    <a:pt x="3345604" y="5258375"/>
                    <a:pt x="3351839" y="5284424"/>
                    <a:pt x="3359184" y="5310130"/>
                  </a:cubicBezTo>
                  <a:cubicBezTo>
                    <a:pt x="3362856" y="5343181"/>
                    <a:pt x="3392099" y="5384256"/>
                    <a:pt x="3370201" y="5409282"/>
                  </a:cubicBezTo>
                  <a:cubicBezTo>
                    <a:pt x="3356136" y="5425356"/>
                    <a:pt x="3276581" y="5396437"/>
                    <a:pt x="3249015" y="5387248"/>
                  </a:cubicBezTo>
                  <a:cubicBezTo>
                    <a:pt x="3195332" y="5306724"/>
                    <a:pt x="3266780" y="5402052"/>
                    <a:pt x="3182914" y="5332164"/>
                  </a:cubicBezTo>
                  <a:cubicBezTo>
                    <a:pt x="3172742" y="5323687"/>
                    <a:pt x="3170243" y="5308476"/>
                    <a:pt x="3160880" y="5299113"/>
                  </a:cubicBezTo>
                  <a:cubicBezTo>
                    <a:pt x="3151517" y="5289750"/>
                    <a:pt x="3138603" y="5284775"/>
                    <a:pt x="3127829" y="5277079"/>
                  </a:cubicBezTo>
                  <a:cubicBezTo>
                    <a:pt x="3112888" y="5266407"/>
                    <a:pt x="3099704" y="5253139"/>
                    <a:pt x="3083762" y="5244029"/>
                  </a:cubicBezTo>
                  <a:cubicBezTo>
                    <a:pt x="3061427" y="5231266"/>
                    <a:pt x="3000792" y="5224692"/>
                    <a:pt x="2984610" y="5221995"/>
                  </a:cubicBezTo>
                  <a:cubicBezTo>
                    <a:pt x="2995627" y="5236684"/>
                    <a:pt x="3008551" y="5250120"/>
                    <a:pt x="3017661" y="5266062"/>
                  </a:cubicBezTo>
                  <a:cubicBezTo>
                    <a:pt x="3023423" y="5276145"/>
                    <a:pt x="3040201" y="5297673"/>
                    <a:pt x="3028678" y="5299113"/>
                  </a:cubicBezTo>
                  <a:cubicBezTo>
                    <a:pt x="2995083" y="5303312"/>
                    <a:pt x="2962516" y="5284692"/>
                    <a:pt x="2929526" y="5277079"/>
                  </a:cubicBezTo>
                  <a:cubicBezTo>
                    <a:pt x="2884569" y="5266704"/>
                    <a:pt x="2891864" y="5268197"/>
                    <a:pt x="2852408" y="5255046"/>
                  </a:cubicBezTo>
                  <a:cubicBezTo>
                    <a:pt x="2863425" y="5266063"/>
                    <a:pt x="2878490" y="5274161"/>
                    <a:pt x="2885458" y="5288096"/>
                  </a:cubicBezTo>
                  <a:cubicBezTo>
                    <a:pt x="2893832" y="5304844"/>
                    <a:pt x="2891933" y="5325014"/>
                    <a:pt x="2896475" y="5343180"/>
                  </a:cubicBezTo>
                  <a:cubicBezTo>
                    <a:pt x="2899292" y="5354446"/>
                    <a:pt x="2903820" y="5365214"/>
                    <a:pt x="2907492" y="5376231"/>
                  </a:cubicBezTo>
                  <a:cubicBezTo>
                    <a:pt x="2900147" y="5427643"/>
                    <a:pt x="2888508" y="5478623"/>
                    <a:pt x="2885458" y="5530467"/>
                  </a:cubicBezTo>
                  <a:cubicBezTo>
                    <a:pt x="2884916" y="5539673"/>
                    <a:pt x="2915378" y="5587362"/>
                    <a:pt x="2885458" y="5596568"/>
                  </a:cubicBezTo>
                  <a:cubicBezTo>
                    <a:pt x="2843193" y="5609572"/>
                    <a:pt x="2797323" y="5603913"/>
                    <a:pt x="2753256" y="5607585"/>
                  </a:cubicBezTo>
                  <a:cubicBezTo>
                    <a:pt x="2749584" y="5629619"/>
                    <a:pt x="2752229" y="5653707"/>
                    <a:pt x="2742239" y="5673686"/>
                  </a:cubicBezTo>
                  <a:cubicBezTo>
                    <a:pt x="2718897" y="5720370"/>
                    <a:pt x="2609710" y="5685393"/>
                    <a:pt x="2599020" y="5684703"/>
                  </a:cubicBezTo>
                  <a:cubicBezTo>
                    <a:pt x="2521975" y="5679732"/>
                    <a:pt x="2444784" y="5677358"/>
                    <a:pt x="2367666" y="5673686"/>
                  </a:cubicBezTo>
                  <a:cubicBezTo>
                    <a:pt x="1885238" y="5695615"/>
                    <a:pt x="2057758" y="5692499"/>
                    <a:pt x="1276996" y="5673686"/>
                  </a:cubicBezTo>
                  <a:cubicBezTo>
                    <a:pt x="1254665" y="5673148"/>
                    <a:pt x="1232973" y="5666066"/>
                    <a:pt x="1210895" y="5662670"/>
                  </a:cubicBezTo>
                  <a:cubicBezTo>
                    <a:pt x="1185230" y="5658722"/>
                    <a:pt x="1159482" y="5655325"/>
                    <a:pt x="1133776" y="5651653"/>
                  </a:cubicBezTo>
                  <a:cubicBezTo>
                    <a:pt x="934550" y="5585242"/>
                    <a:pt x="1245641" y="5685330"/>
                    <a:pt x="604967" y="5629619"/>
                  </a:cubicBezTo>
                  <a:cubicBezTo>
                    <a:pt x="593398" y="5628613"/>
                    <a:pt x="597622" y="5607585"/>
                    <a:pt x="593950" y="5596568"/>
                  </a:cubicBezTo>
                  <a:lnTo>
                    <a:pt x="638017" y="5530467"/>
                  </a:lnTo>
                  <a:cubicBezTo>
                    <a:pt x="663025" y="5492955"/>
                    <a:pt x="650532" y="5497043"/>
                    <a:pt x="693102" y="5486400"/>
                  </a:cubicBezTo>
                  <a:cubicBezTo>
                    <a:pt x="696665" y="5485509"/>
                    <a:pt x="683921" y="5504761"/>
                    <a:pt x="682085" y="5508433"/>
                  </a:cubicBezTo>
                  <a:close/>
                </a:path>
              </a:pathLst>
            </a:custGeom>
            <a:solidFill>
              <a:srgbClr val="000000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8" name="矩形 254"/>
          <p:cNvSpPr/>
          <p:nvPr/>
        </p:nvSpPr>
        <p:spPr>
          <a:xfrm>
            <a:off x="0" y="-15840"/>
            <a:ext cx="9180360" cy="5159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0018 -0.07989 E">
                                      <p:cBhvr>
                                        <p:cTn id="43" dur="4250" fill="hold"/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8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82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1.44266E-006 L -0.00573 1.37238 E">
                                      <p:cBhvr>
                                        <p:cTn id="51" dur="9500" fill="hold"/>
                                        <p:tgtEl>
                                          <p:spTgt spid="1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208 -1.20438 L 0 2.74969E-006 E">
                                      <p:cBhvr>
                                        <p:cTn id="53" dur="9500" fill="hold"/>
                                        <p:tgtEl>
                                          <p:spTgt spid="1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58281 -0.48951 L -0.4882 -0.36366 L -0.37795 -0.23781 L -0.22049 -0.09778 L -0.14184 -0.04195 L -0.03941 -4.781E-006 L 1.11111E-006 -4.781E-006 E">
                                      <p:cBhvr>
                                        <p:cTn id="55" dur="8500" fill="hold"/>
                                        <p:tgtEl>
                                          <p:spTgt spid="1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6" autoRev="1" nodeType="withEffect" fill="hold" presetClass="path" presetID="37">
                                  <p:stCondLst>
                                    <p:cond delay="8500"/>
                                  </p:stCondLst>
                                  <p:childTnLst>
                                    <p:animMotion origin="layout" path="M 1.94444E-006 1.09809E-006 L 0.02951 0.01295 C 0.03559 0.01573 0.04496 0.01758 0.05451 0.01758 C 0.06562 0.01758 0.07448 0.01573 0.08055 0.01295 L 0.11024 1.09809E-006 E">
                                      <p:cBhvr>
                                        <p:cTn id="57" dur="3250" fill="hold"/>
                                        <p:tgtEl>
                                          <p:spTgt spid="1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8" nodeType="withEffect" fill="hold" presetClass="emph" presetID="8" repeatCount="2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9" dur="7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path" presetID="0">
                                  <p:stCondLst>
                                    <p:cond delay="4000"/>
                                  </p:stCondLst>
                                  <p:childTnLst>
                                    <p:animMotion origin="layout" path="M 0.00018 -0.07989 L -0.92691 -0.07958 E">
                                      <p:cBhvr>
                                        <p:cTn id="64" dur="9750" fill="hold"/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5" nodeType="withEffect" fill="hold" presetClass="path" presetID="0">
                                  <p:stCondLst>
                                    <p:cond delay="4000"/>
                                  </p:stCondLst>
                                  <p:childTnLst>
                                    <p:animMotion origin="layout" path="M 0 0 L -0.92709 0.00031 E">
                                      <p:cBhvr>
                                        <p:cTn id="66" dur="9750" fill="hold"/>
                                        <p:tgtEl>
                                          <p:spTgt spid="1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7" nodeType="withEffect" fill="hold" presetClass="path" presetID="0">
                                  <p:stCondLst>
                                    <p:cond delay="4000"/>
                                  </p:stCondLst>
                                  <p:childTnLst>
                                    <p:animMotion origin="layout" path="M 0 0 L -0.92709 0.00031 E">
                                      <p:cBhvr>
                                        <p:cTn id="68" dur="9750" fill="hold"/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9" nodeType="withEffect" fill="hold" presetClass="path" presetID="0">
                                  <p:stCondLst>
                                    <p:cond delay="4000"/>
                                  </p:stCondLst>
                                  <p:childTnLst>
                                    <p:animMotion origin="layout" path="M 4.72222E-006 -9.68538E-007 L -1.05382 0.00185 E">
                                      <p:cBhvr>
                                        <p:cTn id="70" dur="9800" fill="hold"/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1" nodeType="withEffect" fill="hold" presetClass="path" presetID="0">
                                  <p:stCondLst>
                                    <p:cond delay="4000"/>
                                  </p:stCondLst>
                                  <p:childTnLst>
                                    <p:animMotion origin="layout" path="M 0 0 L -0.70295 0.00031 E">
                                      <p:cBhvr>
                                        <p:cTn id="72" dur="11000" fill="hold"/>
                                        <p:tgtEl>
                                          <p:spTgt spid="1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3" nodeType="withEffect" fill="hold" presetClass="path" presetID="0">
                                  <p:stCondLst>
                                    <p:cond delay="4000"/>
                                  </p:stCondLst>
                                  <p:childTnLst>
                                    <p:animMotion origin="layout" path="M 0 0 L -0.70295 0.00031 E">
                                      <p:cBhvr>
                                        <p:cTn id="74" dur="11000" fill="hold"/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5" nodeType="withEffect" fill="hold" presetClass="path" presetID="0">
                                  <p:stCondLst>
                                    <p:cond delay="4000"/>
                                  </p:stCondLst>
                                  <p:childTnLst>
                                    <p:animMotion origin="layout" path="M -8.33333E-007 6.97962E-007 L -1.04045 -0.00185 E">
                                      <p:cBhvr>
                                        <p:cTn id="76" dur="11000" fill="hold"/>
                                        <p:tgtEl>
                                          <p:spTgt spid="1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7" nodeType="withEffect" fill="hold" presetClass="path" presetID="0">
                                  <p:stCondLst>
                                    <p:cond delay="4000"/>
                                  </p:stCondLst>
                                  <p:childTnLst>
                                    <p:animMotion origin="layout" path="M -8.33333E-007 6.97962E-007 L -1.04045 -0.00185 E">
                                      <p:cBhvr>
                                        <p:cTn id="78" dur="11000" fill="hold"/>
                                        <p:tgtEl>
                                          <p:spTgt spid="1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9" nodeType="withEffect" fill="hold" presetClass="path" presetID="0">
                                  <p:stCondLst>
                                    <p:cond delay="4000"/>
                                  </p:stCondLst>
                                  <p:childTnLst>
                                    <p:animMotion origin="layout" path="M -8.33333E-007 6.97962E-007 L -1.04045 -0.00185 E">
                                      <p:cBhvr>
                                        <p:cTn id="80" dur="11000" fill="hold"/>
                                        <p:tgtEl>
                                          <p:spTgt spid="1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1" nodeType="withEffect" fill="hold" presetClass="path" presetID="0">
                                  <p:stCondLst>
                                    <p:cond delay="5100"/>
                                  </p:stCondLst>
                                  <p:childTnLst>
                                    <p:animMotion origin="layout" path="M -3.88889E-006 1.4162E-006 L -2.24444 0.0167 E">
                                      <p:cBhvr>
                                        <p:cTn id="82" dur="4500" fill="hold"/>
                                        <p:tgtEl>
                                          <p:spTgt spid="1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3" nodeType="withEffect" fill="hold" presetClass="path" presetID="0">
                                  <p:stCondLst>
                                    <p:cond delay="5100"/>
                                  </p:stCondLst>
                                  <p:childTnLst>
                                    <p:animMotion origin="layout" path="M -3.33333E-006 2.02845E-006 L -2.44184 0.01144 E">
                                      <p:cBhvr>
                                        <p:cTn id="84" dur="4500" fill="hold"/>
                                        <p:tgtEl>
                                          <p:spTgt spid="2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0">
                                  <p:stCondLst>
                                    <p:cond delay="83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mph" presetID="26">
                                  <p:stCondLst>
                                    <p:cond delay="83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9" dur="3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0" dur="1750" autoRev="1" fill="hold"/>
                                        <p:tgtEl>
                                          <p:spTgt spid="15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0">
                                  <p:stCondLst>
                                    <p:cond delay="119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92" dur="13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12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0">
                                  <p:stCondLst>
                                    <p:cond delay="108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" dur="2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xit" presetID="10">
                                  <p:stCondLst>
                                    <p:cond delay="109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98" dur="9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8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0">
                                  <p:stCondLst>
                                    <p:cond delay="106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1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0">
                                  <p:stCondLst>
                                    <p:cond delay="87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" dur="29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xit" presetID="10">
                                  <p:stCondLst>
                                    <p:cond delay="13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7" dur="1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58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mph" presetID="26" repeatCount="15000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3" dur="1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4" dur="50" autoRev="1" fill="hold"/>
                                        <p:tgtEl>
                                          <p:spTgt spid="12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15" nodeType="withEffect" fill="hold" presetClass="path" presetID="0">
                                  <p:stCondLst>
                                    <p:cond delay="4000"/>
                                  </p:stCondLst>
                                  <p:childTnLst>
                                    <p:animMotion origin="layout" path="M -8.33333E-007 6.97962E-007 L -1.04045 -0.00185 E">
                                      <p:cBhvr>
                                        <p:cTn id="116" dur="11000" fill="hold"/>
                                        <p:tgtEl>
                                          <p:spTgt spid="1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58281 -0.48951 L -0.4882 -0.36366 L -0.37795 -0.23781 L -0.22049 -0.09778 L -0.14184 -0.04195 L -0.03941 -4.781E-006 L 1.11111E-006 -4.781E-006 E">
                                      <p:cBhvr>
                                        <p:cTn id="121" dur="8500" fill="hold"/>
                                        <p:tgtEl>
                                          <p:spTgt spid="1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2" autoRev="1" nodeType="withEffect" fill="hold" presetClass="path" presetID="37">
                                  <p:stCondLst>
                                    <p:cond delay="8500"/>
                                  </p:stCondLst>
                                  <p:childTnLst>
                                    <p:animMotion origin="layout" path="M 1.94444E-006 1.09809E-006 L 0.02951 0.01295 C 0.03559 0.01573 0.04496 0.01758 0.05451 0.01758 C 0.06562 0.01758 0.07448 0.01573 0.08055 0.01295 L 0.11024 1.09809E-006 E">
                                      <p:cBhvr>
                                        <p:cTn id="123" dur="3250" fill="hold"/>
                                        <p:tgtEl>
                                          <p:spTgt spid="1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4" nodeType="withEffect" fill="hold" presetClass="emph" presetID="8" repeatCount="2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5" dur="7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6" nodeType="withEffect" fill="hold" presetClass="emph" presetID="26" repeatCount="18000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7" dur="83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8" dur="42" autoRev="1" fill="hold"/>
                                        <p:tgtEl>
                                          <p:spTgt spid="17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29" nodeType="withEffect" fill="hold" presetClass="exit" presetID="10">
                                  <p:stCondLst>
                                    <p:cond delay="133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0" dur="17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16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矩形 8"/>
          <p:cNvSpPr/>
          <p:nvPr/>
        </p:nvSpPr>
        <p:spPr>
          <a:xfrm>
            <a:off x="11196720" y="2789280"/>
            <a:ext cx="7705800" cy="2459160"/>
          </a:xfrm>
          <a:custGeom>
            <a:avLst/>
            <a:gdLst>
              <a:gd name="textAreaLeft" fmla="*/ 0 w 7705800"/>
              <a:gd name="textAreaRight" fmla="*/ 7706160 w 7705800"/>
              <a:gd name="textAreaTop" fmla="*/ 0 h 2459160"/>
              <a:gd name="textAreaBottom" fmla="*/ 2459520 h 2459160"/>
            </a:gdLst>
            <a:ahLst/>
            <a:rect l="textAreaLeft" t="textAreaTop" r="textAreaRight" b="textAreaBottom"/>
            <a:pathLst>
              <a:path w="7704856" h="2460008">
                <a:moveTo>
                  <a:pt x="0" y="114494"/>
                </a:moveTo>
                <a:lnTo>
                  <a:pt x="1506010" y="0"/>
                </a:lnTo>
                <a:lnTo>
                  <a:pt x="7704856" y="15640"/>
                </a:lnTo>
                <a:lnTo>
                  <a:pt x="7704856" y="2460008"/>
                </a:lnTo>
                <a:lnTo>
                  <a:pt x="0" y="2460008"/>
                </a:lnTo>
                <a:lnTo>
                  <a:pt x="0" y="11449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矩形 8"/>
          <p:cNvSpPr/>
          <p:nvPr/>
        </p:nvSpPr>
        <p:spPr>
          <a:xfrm>
            <a:off x="11085480" y="2776680"/>
            <a:ext cx="7704000" cy="2458800"/>
          </a:xfrm>
          <a:custGeom>
            <a:avLst/>
            <a:gdLst>
              <a:gd name="textAreaLeft" fmla="*/ 0 w 7704000"/>
              <a:gd name="textAreaRight" fmla="*/ 7704360 w 7704000"/>
              <a:gd name="textAreaTop" fmla="*/ 0 h 2458800"/>
              <a:gd name="textAreaBottom" fmla="*/ 2459160 h 2458800"/>
            </a:gdLst>
            <a:ahLst/>
            <a:rect l="textAreaLeft" t="textAreaTop" r="textAreaRight" b="textAreaBottom"/>
            <a:pathLst>
              <a:path w="7704856" h="2460008">
                <a:moveTo>
                  <a:pt x="0" y="114494"/>
                </a:moveTo>
                <a:lnTo>
                  <a:pt x="1506010" y="0"/>
                </a:lnTo>
                <a:lnTo>
                  <a:pt x="7704856" y="15640"/>
                </a:lnTo>
                <a:lnTo>
                  <a:pt x="7704856" y="2460008"/>
                </a:lnTo>
                <a:lnTo>
                  <a:pt x="0" y="2460008"/>
                </a:lnTo>
                <a:lnTo>
                  <a:pt x="0" y="114494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任意多边形 158"/>
          <p:cNvSpPr/>
          <p:nvPr/>
        </p:nvSpPr>
        <p:spPr>
          <a:xfrm flipH="1">
            <a:off x="11448360" y="4214880"/>
            <a:ext cx="3203640" cy="446040"/>
          </a:xfrm>
          <a:custGeom>
            <a:avLst/>
            <a:gdLst>
              <a:gd name="textAreaLeft" fmla="*/ -360 w 3203640"/>
              <a:gd name="textAreaRight" fmla="*/ 3203640 w 3203640"/>
              <a:gd name="textAreaTop" fmla="*/ 0 h 446040"/>
              <a:gd name="textAreaBottom" fmla="*/ 446400 h 446040"/>
            </a:gdLst>
            <a:ahLst/>
            <a:rect l="textAreaLeft" t="textAreaTop" r="textAreaRight" b="textAreaBottom"/>
            <a:pathLst>
              <a:path w="3084812" h="2125362">
                <a:moveTo>
                  <a:pt x="2763537" y="0"/>
                </a:moveTo>
                <a:lnTo>
                  <a:pt x="0" y="1937822"/>
                </a:lnTo>
                <a:lnTo>
                  <a:pt x="934737" y="2125362"/>
                </a:lnTo>
                <a:lnTo>
                  <a:pt x="3084812" y="864973"/>
                </a:lnTo>
                <a:lnTo>
                  <a:pt x="2812964" y="24714"/>
                </a:lnTo>
                <a:lnTo>
                  <a:pt x="2837677" y="24714"/>
                </a:lnTo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任意多边形 9"/>
          <p:cNvSpPr/>
          <p:nvPr/>
        </p:nvSpPr>
        <p:spPr>
          <a:xfrm>
            <a:off x="13453920" y="2784600"/>
            <a:ext cx="4583160" cy="1170000"/>
          </a:xfrm>
          <a:custGeom>
            <a:avLst/>
            <a:gdLst>
              <a:gd name="textAreaLeft" fmla="*/ 0 w 4583160"/>
              <a:gd name="textAreaRight" fmla="*/ 4583520 w 4583160"/>
              <a:gd name="textAreaTop" fmla="*/ 0 h 1170000"/>
              <a:gd name="textAreaBottom" fmla="*/ 1170360 h 1170000"/>
            </a:gdLst>
            <a:ahLst/>
            <a:rect l="textAreaLeft" t="textAreaTop" r="textAreaRight" b="textAreaBottom"/>
            <a:pathLst>
              <a:path w="2767913" h="1804086">
                <a:moveTo>
                  <a:pt x="2446638" y="0"/>
                </a:moveTo>
                <a:lnTo>
                  <a:pt x="0" y="1804086"/>
                </a:lnTo>
                <a:lnTo>
                  <a:pt x="1210962" y="1655805"/>
                </a:lnTo>
                <a:lnTo>
                  <a:pt x="2767913" y="864973"/>
                </a:lnTo>
                <a:lnTo>
                  <a:pt x="2496065" y="24714"/>
                </a:lnTo>
                <a:lnTo>
                  <a:pt x="2520778" y="24714"/>
                </a:lnTo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任意多边形 157"/>
          <p:cNvSpPr/>
          <p:nvPr/>
        </p:nvSpPr>
        <p:spPr>
          <a:xfrm>
            <a:off x="15576480" y="4227480"/>
            <a:ext cx="3203640" cy="938160"/>
          </a:xfrm>
          <a:custGeom>
            <a:avLst/>
            <a:gdLst>
              <a:gd name="textAreaLeft" fmla="*/ 0 w 3203640"/>
              <a:gd name="textAreaRight" fmla="*/ 3204000 w 3203640"/>
              <a:gd name="textAreaTop" fmla="*/ 0 h 938160"/>
              <a:gd name="textAreaBottom" fmla="*/ 938520 h 938160"/>
            </a:gdLst>
            <a:ahLst/>
            <a:rect l="textAreaLeft" t="textAreaTop" r="textAreaRight" b="textAreaBottom"/>
            <a:pathLst>
              <a:path w="3084812" h="2125362">
                <a:moveTo>
                  <a:pt x="2763537" y="0"/>
                </a:moveTo>
                <a:lnTo>
                  <a:pt x="0" y="1937822"/>
                </a:lnTo>
                <a:lnTo>
                  <a:pt x="934737" y="2125362"/>
                </a:lnTo>
                <a:lnTo>
                  <a:pt x="3084812" y="864973"/>
                </a:lnTo>
                <a:lnTo>
                  <a:pt x="2812964" y="24714"/>
                </a:lnTo>
                <a:lnTo>
                  <a:pt x="2837677" y="24714"/>
                </a:lnTo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4" name=""/>
          <p:cNvGrpSpPr/>
          <p:nvPr/>
        </p:nvGrpSpPr>
        <p:grpSpPr>
          <a:xfrm>
            <a:off x="-6657840" y="2571840"/>
            <a:ext cx="42509880" cy="2676600"/>
            <a:chOff x="-6657840" y="2571840"/>
            <a:chExt cx="42509880" cy="2676600"/>
          </a:xfrm>
        </p:grpSpPr>
        <p:grpSp>
          <p:nvGrpSpPr>
            <p:cNvPr id="275" name=""/>
            <p:cNvGrpSpPr/>
            <p:nvPr/>
          </p:nvGrpSpPr>
          <p:grpSpPr>
            <a:xfrm>
              <a:off x="-6657840" y="2637360"/>
              <a:ext cx="19566360" cy="2566080"/>
              <a:chOff x="-6657840" y="2637360"/>
              <a:chExt cx="19566360" cy="2566080"/>
            </a:xfrm>
          </p:grpSpPr>
          <p:grpSp>
            <p:nvGrpSpPr>
              <p:cNvPr id="276" name=""/>
              <p:cNvGrpSpPr/>
              <p:nvPr/>
            </p:nvGrpSpPr>
            <p:grpSpPr>
              <a:xfrm>
                <a:off x="-6657480" y="2637360"/>
                <a:ext cx="19566000" cy="2566080"/>
                <a:chOff x="-6657480" y="2637360"/>
                <a:chExt cx="19566000" cy="2566080"/>
              </a:xfrm>
            </p:grpSpPr>
            <p:sp>
              <p:nvSpPr>
                <p:cNvPr id="277" name="矩形 2"/>
                <p:cNvSpPr/>
                <p:nvPr/>
              </p:nvSpPr>
              <p:spPr>
                <a:xfrm>
                  <a:off x="-6657480" y="2637360"/>
                  <a:ext cx="19566000" cy="2566080"/>
                </a:xfrm>
                <a:custGeom>
                  <a:avLst/>
                  <a:gdLst>
                    <a:gd name="textAreaLeft" fmla="*/ 0 w 19566000"/>
                    <a:gd name="textAreaRight" fmla="*/ 19566360 w 19566000"/>
                    <a:gd name="textAreaTop" fmla="*/ 0 h 2566080"/>
                    <a:gd name="textAreaBottom" fmla="*/ 2566440 h 2566080"/>
                  </a:gdLst>
                  <a:ahLst/>
                  <a:rect l="textAreaLeft" t="textAreaTop" r="textAreaRight" b="textAreaBottom"/>
                  <a:pathLst>
                    <a:path w="9142760" h="2565930">
                      <a:moveTo>
                        <a:pt x="0" y="154044"/>
                      </a:moveTo>
                      <a:cubicBezTo>
                        <a:pt x="684179" y="151334"/>
                        <a:pt x="1018162" y="2710"/>
                        <a:pt x="1702341" y="0"/>
                      </a:cubicBezTo>
                      <a:cubicBezTo>
                        <a:pt x="3501958" y="48638"/>
                        <a:pt x="5165387" y="223737"/>
                        <a:pt x="6965004" y="272375"/>
                      </a:cubicBezTo>
                      <a:lnTo>
                        <a:pt x="9023829" y="165883"/>
                      </a:lnTo>
                      <a:cubicBezTo>
                        <a:pt x="9065552" y="158537"/>
                        <a:pt x="9056084" y="168048"/>
                        <a:pt x="9097807" y="160702"/>
                      </a:cubicBezTo>
                      <a:cubicBezTo>
                        <a:pt x="9137841" y="156488"/>
                        <a:pt x="8715188" y="514663"/>
                        <a:pt x="8755222" y="510449"/>
                      </a:cubicBezTo>
                      <a:cubicBezTo>
                        <a:pt x="8878605" y="485166"/>
                        <a:pt x="8911420" y="615795"/>
                        <a:pt x="9034803" y="590512"/>
                      </a:cubicBezTo>
                      <a:cubicBezTo>
                        <a:pt x="9089275" y="576466"/>
                        <a:pt x="9037577" y="608319"/>
                        <a:pt x="9092049" y="594273"/>
                      </a:cubicBezTo>
                      <a:cubicBezTo>
                        <a:pt x="9096718" y="600784"/>
                        <a:pt x="9099176" y="613943"/>
                        <a:pt x="9052883" y="656157"/>
                      </a:cubicBezTo>
                      <a:cubicBezTo>
                        <a:pt x="9006590" y="698371"/>
                        <a:pt x="8834381" y="809820"/>
                        <a:pt x="8814289" y="847555"/>
                      </a:cubicBezTo>
                      <a:cubicBezTo>
                        <a:pt x="8875980" y="830700"/>
                        <a:pt x="8880574" y="872838"/>
                        <a:pt x="8942265" y="855983"/>
                      </a:cubicBezTo>
                      <a:cubicBezTo>
                        <a:pt x="8967541" y="863069"/>
                        <a:pt x="8973697" y="895832"/>
                        <a:pt x="8984574" y="913996"/>
                      </a:cubicBezTo>
                      <a:cubicBezTo>
                        <a:pt x="8995451" y="932160"/>
                        <a:pt x="8986840" y="950024"/>
                        <a:pt x="9007529" y="964969"/>
                      </a:cubicBezTo>
                      <a:cubicBezTo>
                        <a:pt x="9036378" y="986497"/>
                        <a:pt x="9069732" y="980444"/>
                        <a:pt x="9090077" y="979742"/>
                      </a:cubicBezTo>
                      <a:cubicBezTo>
                        <a:pt x="9110422" y="979040"/>
                        <a:pt x="9141608" y="974733"/>
                        <a:pt x="9137184" y="982398"/>
                      </a:cubicBezTo>
                      <a:cubicBezTo>
                        <a:pt x="9153470" y="983959"/>
                        <a:pt x="9133113" y="999539"/>
                        <a:pt x="9088813" y="1031143"/>
                      </a:cubicBezTo>
                      <a:cubicBezTo>
                        <a:pt x="9044513" y="1062747"/>
                        <a:pt x="8893250" y="1143381"/>
                        <a:pt x="8871386" y="1172020"/>
                      </a:cubicBezTo>
                      <a:cubicBezTo>
                        <a:pt x="8950797" y="1142523"/>
                        <a:pt x="8902232" y="1197303"/>
                        <a:pt x="8981643" y="1167806"/>
                      </a:cubicBezTo>
                      <a:cubicBezTo>
                        <a:pt x="9003957" y="1160783"/>
                        <a:pt x="8891414" y="1283286"/>
                        <a:pt x="8913728" y="1276263"/>
                      </a:cubicBezTo>
                      <a:cubicBezTo>
                        <a:pt x="8957043" y="1259408"/>
                        <a:pt x="8534708" y="1677678"/>
                        <a:pt x="8578023" y="1660823"/>
                      </a:cubicBezTo>
                      <a:cubicBezTo>
                        <a:pt x="8578032" y="1693480"/>
                        <a:pt x="8865585" y="1503258"/>
                        <a:pt x="8936136" y="1469548"/>
                      </a:cubicBezTo>
                      <a:cubicBezTo>
                        <a:pt x="9006687" y="1435838"/>
                        <a:pt x="9059751" y="1390085"/>
                        <a:pt x="9001332" y="1458560"/>
                      </a:cubicBezTo>
                      <a:cubicBezTo>
                        <a:pt x="9051210" y="1433277"/>
                        <a:pt x="8565554" y="1913653"/>
                        <a:pt x="8615432" y="1888370"/>
                      </a:cubicBezTo>
                      <a:cubicBezTo>
                        <a:pt x="8666623" y="1857469"/>
                        <a:pt x="8700093" y="1898202"/>
                        <a:pt x="8751284" y="1867301"/>
                      </a:cubicBezTo>
                      <a:cubicBezTo>
                        <a:pt x="8791974" y="1842018"/>
                        <a:pt x="8590493" y="2094847"/>
                        <a:pt x="8631183" y="2069564"/>
                      </a:cubicBezTo>
                      <a:cubicBezTo>
                        <a:pt x="8702719" y="2027426"/>
                        <a:pt x="8669904" y="2200193"/>
                        <a:pt x="8741440" y="2158055"/>
                      </a:cubicBezTo>
                      <a:cubicBezTo>
                        <a:pt x="8781474" y="2132772"/>
                        <a:pt x="8589180" y="2381387"/>
                        <a:pt x="8629214" y="2356104"/>
                      </a:cubicBezTo>
                      <a:cubicBezTo>
                        <a:pt x="8718470" y="2295706"/>
                        <a:pt x="8461203" y="2618766"/>
                        <a:pt x="8550459" y="2558368"/>
                      </a:cubicBezTo>
                      <a:lnTo>
                        <a:pt x="0" y="2526760"/>
                      </a:lnTo>
                      <a:lnTo>
                        <a:pt x="0" y="15404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8" name="矩形 2"/>
                <p:cNvSpPr/>
                <p:nvPr/>
              </p:nvSpPr>
              <p:spPr>
                <a:xfrm>
                  <a:off x="-6634440" y="2639520"/>
                  <a:ext cx="19499400" cy="2299320"/>
                </a:xfrm>
                <a:custGeom>
                  <a:avLst/>
                  <a:gdLst>
                    <a:gd name="textAreaLeft" fmla="*/ 0 w 19499400"/>
                    <a:gd name="textAreaRight" fmla="*/ 19499760 w 19499400"/>
                    <a:gd name="textAreaTop" fmla="*/ 0 h 2299320"/>
                    <a:gd name="textAreaBottom" fmla="*/ 2299680 h 2299320"/>
                  </a:gdLst>
                  <a:ahLst/>
                  <a:rect l="textAreaLeft" t="textAreaTop" r="textAreaRight" b="textAreaBottom"/>
                  <a:pathLst>
                    <a:path w="9114770" h="2526760">
                      <a:moveTo>
                        <a:pt x="0" y="154044"/>
                      </a:moveTo>
                      <a:cubicBezTo>
                        <a:pt x="684179" y="151334"/>
                        <a:pt x="1018162" y="2710"/>
                        <a:pt x="1702341" y="0"/>
                      </a:cubicBezTo>
                      <a:cubicBezTo>
                        <a:pt x="3501958" y="48638"/>
                        <a:pt x="5165387" y="223737"/>
                        <a:pt x="6965004" y="272375"/>
                      </a:cubicBezTo>
                      <a:lnTo>
                        <a:pt x="9068169" y="158895"/>
                      </a:lnTo>
                      <a:lnTo>
                        <a:pt x="9090400" y="197165"/>
                      </a:lnTo>
                      <a:cubicBezTo>
                        <a:pt x="9133249" y="193709"/>
                        <a:pt x="8702156" y="584972"/>
                        <a:pt x="8745005" y="581516"/>
                      </a:cubicBezTo>
                      <a:cubicBezTo>
                        <a:pt x="8844213" y="559403"/>
                        <a:pt x="8855968" y="679920"/>
                        <a:pt x="8955176" y="657807"/>
                      </a:cubicBezTo>
                      <a:cubicBezTo>
                        <a:pt x="9006896" y="645645"/>
                        <a:pt x="9013991" y="678339"/>
                        <a:pt x="9065711" y="666177"/>
                      </a:cubicBezTo>
                      <a:cubicBezTo>
                        <a:pt x="9089438" y="669046"/>
                        <a:pt x="9096104" y="693172"/>
                        <a:pt x="9040387" y="745138"/>
                      </a:cubicBezTo>
                      <a:cubicBezTo>
                        <a:pt x="8984671" y="797104"/>
                        <a:pt x="8812694" y="917741"/>
                        <a:pt x="8787321" y="966285"/>
                      </a:cubicBezTo>
                      <a:cubicBezTo>
                        <a:pt x="8871013" y="937538"/>
                        <a:pt x="8861610" y="995032"/>
                        <a:pt x="8945302" y="966285"/>
                      </a:cubicBezTo>
                      <a:cubicBezTo>
                        <a:pt x="8968341" y="958546"/>
                        <a:pt x="8960347" y="1093436"/>
                        <a:pt x="8983386" y="1085697"/>
                      </a:cubicBezTo>
                      <a:cubicBezTo>
                        <a:pt x="9034166" y="1068006"/>
                        <a:pt x="9063787" y="1119971"/>
                        <a:pt x="9114567" y="1102280"/>
                      </a:cubicBezTo>
                      <a:cubicBezTo>
                        <a:pt x="9123500" y="1097857"/>
                        <a:pt x="8834810" y="1325624"/>
                        <a:pt x="8843743" y="1321201"/>
                      </a:cubicBezTo>
                      <a:cubicBezTo>
                        <a:pt x="8911919" y="1293559"/>
                        <a:pt x="8885589" y="1338891"/>
                        <a:pt x="8953765" y="1311249"/>
                      </a:cubicBezTo>
                      <a:cubicBezTo>
                        <a:pt x="8973983" y="1300193"/>
                        <a:pt x="8929315" y="1438400"/>
                        <a:pt x="8949533" y="1427344"/>
                      </a:cubicBezTo>
                      <a:cubicBezTo>
                        <a:pt x="8982916" y="1411864"/>
                        <a:pt x="8536714" y="1874029"/>
                        <a:pt x="8570097" y="1858549"/>
                      </a:cubicBezTo>
                      <a:cubicBezTo>
                        <a:pt x="8551694" y="1910894"/>
                        <a:pt x="8799805" y="1722810"/>
                        <a:pt x="8856508" y="1697589"/>
                      </a:cubicBezTo>
                      <a:cubicBezTo>
                        <a:pt x="8913211" y="1672368"/>
                        <a:pt x="8951627" y="1646238"/>
                        <a:pt x="8910317" y="1707222"/>
                      </a:cubicBezTo>
                      <a:cubicBezTo>
                        <a:pt x="8955454" y="1684003"/>
                        <a:pt x="8546119" y="2130540"/>
                        <a:pt x="8591256" y="2107321"/>
                      </a:cubicBezTo>
                      <a:cubicBezTo>
                        <a:pt x="8689524" y="2045404"/>
                        <a:pt x="8652379" y="2132752"/>
                        <a:pt x="8750647" y="2070835"/>
                      </a:cubicBezTo>
                      <a:cubicBezTo>
                        <a:pt x="8773216" y="2054250"/>
                        <a:pt x="8585613" y="2322925"/>
                        <a:pt x="8608182" y="2306340"/>
                      </a:cubicBezTo>
                      <a:cubicBezTo>
                        <a:pt x="8698457" y="2245529"/>
                        <a:pt x="8663193" y="2443441"/>
                        <a:pt x="8753468" y="2382630"/>
                      </a:cubicBezTo>
                      <a:cubicBezTo>
                        <a:pt x="8793904" y="2352777"/>
                        <a:pt x="8533893" y="2531894"/>
                        <a:pt x="8574329" y="2502041"/>
                      </a:cubicBezTo>
                      <a:lnTo>
                        <a:pt x="0" y="2526760"/>
                      </a:lnTo>
                      <a:lnTo>
                        <a:pt x="0" y="15404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9" name="矩形 2"/>
              <p:cNvSpPr/>
              <p:nvPr/>
            </p:nvSpPr>
            <p:spPr>
              <a:xfrm>
                <a:off x="-6657840" y="2643840"/>
                <a:ext cx="19539720" cy="2232360"/>
              </a:xfrm>
              <a:custGeom>
                <a:avLst/>
                <a:gdLst>
                  <a:gd name="textAreaLeft" fmla="*/ 0 w 19539720"/>
                  <a:gd name="textAreaRight" fmla="*/ 19540080 w 19539720"/>
                  <a:gd name="textAreaTop" fmla="*/ 0 h 2232360"/>
                  <a:gd name="textAreaBottom" fmla="*/ 2232720 h 2232360"/>
                </a:gdLst>
                <a:ahLst/>
                <a:rect l="textAreaLeft" t="textAreaTop" r="textAreaRight" b="textAreaBottom"/>
                <a:pathLst>
                  <a:path w="9109418" h="2526760">
                    <a:moveTo>
                      <a:pt x="0" y="154044"/>
                    </a:moveTo>
                    <a:cubicBezTo>
                      <a:pt x="684179" y="151334"/>
                      <a:pt x="1018162" y="2710"/>
                      <a:pt x="1702341" y="0"/>
                    </a:cubicBezTo>
                    <a:cubicBezTo>
                      <a:pt x="3501958" y="48638"/>
                      <a:pt x="5165387" y="223737"/>
                      <a:pt x="6965004" y="272375"/>
                    </a:cubicBezTo>
                    <a:lnTo>
                      <a:pt x="9075998" y="151834"/>
                    </a:lnTo>
                    <a:cubicBezTo>
                      <a:pt x="9162152" y="144451"/>
                      <a:pt x="8666573" y="568334"/>
                      <a:pt x="8752727" y="560951"/>
                    </a:cubicBezTo>
                    <a:cubicBezTo>
                      <a:pt x="8942680" y="522616"/>
                      <a:pt x="8823960" y="685539"/>
                      <a:pt x="9013913" y="647204"/>
                    </a:cubicBezTo>
                    <a:cubicBezTo>
                      <a:pt x="9283013" y="580118"/>
                      <a:pt x="8578604" y="1030553"/>
                      <a:pt x="8847704" y="963467"/>
                    </a:cubicBezTo>
                    <a:cubicBezTo>
                      <a:pt x="9089103" y="896381"/>
                      <a:pt x="8855618" y="1145558"/>
                      <a:pt x="9097017" y="1078472"/>
                    </a:cubicBezTo>
                    <a:cubicBezTo>
                      <a:pt x="9133632" y="1106084"/>
                      <a:pt x="9081874" y="1147501"/>
                      <a:pt x="9036365" y="1190628"/>
                    </a:cubicBezTo>
                    <a:cubicBezTo>
                      <a:pt x="8990856" y="1233755"/>
                      <a:pt x="8878384" y="1245048"/>
                      <a:pt x="8823960" y="1337232"/>
                    </a:cubicBezTo>
                    <a:cubicBezTo>
                      <a:pt x="9037657" y="1231811"/>
                      <a:pt x="9002041" y="1471405"/>
                      <a:pt x="8740855" y="1682246"/>
                    </a:cubicBezTo>
                    <a:cubicBezTo>
                      <a:pt x="8982254" y="1567241"/>
                      <a:pt x="8377798" y="1970896"/>
                      <a:pt x="8619197" y="1855891"/>
                    </a:cubicBezTo>
                    <a:cubicBezTo>
                      <a:pt x="8690429" y="1788805"/>
                      <a:pt x="8744455" y="1793128"/>
                      <a:pt x="8815687" y="1726042"/>
                    </a:cubicBezTo>
                    <a:cubicBezTo>
                      <a:pt x="9227252" y="1467282"/>
                      <a:pt x="8269930" y="2372273"/>
                      <a:pt x="8681495" y="2113513"/>
                    </a:cubicBezTo>
                    <a:cubicBezTo>
                      <a:pt x="8699636" y="2172533"/>
                      <a:pt x="8602113" y="2252050"/>
                      <a:pt x="8620254" y="2311070"/>
                    </a:cubicBezTo>
                    <a:lnTo>
                      <a:pt x="8780703" y="2429776"/>
                    </a:lnTo>
                    <a:lnTo>
                      <a:pt x="0" y="2526760"/>
                    </a:lnTo>
                    <a:lnTo>
                      <a:pt x="0" y="15404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0" name=""/>
            <p:cNvGrpSpPr/>
            <p:nvPr/>
          </p:nvGrpSpPr>
          <p:grpSpPr>
            <a:xfrm>
              <a:off x="16311240" y="2571840"/>
              <a:ext cx="19540800" cy="2676600"/>
              <a:chOff x="16311240" y="2571840"/>
              <a:chExt cx="19540800" cy="2676600"/>
            </a:xfrm>
          </p:grpSpPr>
          <p:sp>
            <p:nvSpPr>
              <p:cNvPr id="281" name="矩形 2"/>
              <p:cNvSpPr/>
              <p:nvPr/>
            </p:nvSpPr>
            <p:spPr>
              <a:xfrm flipH="1">
                <a:off x="16311240" y="2571840"/>
                <a:ext cx="19540800" cy="2676600"/>
              </a:xfrm>
              <a:custGeom>
                <a:avLst/>
                <a:gdLst>
                  <a:gd name="textAreaLeft" fmla="*/ 360 w 19540800"/>
                  <a:gd name="textAreaRight" fmla="*/ 19541520 w 19540800"/>
                  <a:gd name="textAreaTop" fmla="*/ 0 h 2676600"/>
                  <a:gd name="textAreaBottom" fmla="*/ 2676960 h 2676600"/>
                </a:gdLst>
                <a:ahLst/>
                <a:rect l="textAreaLeft" t="textAreaTop" r="textAreaRight" b="textAreaBottom"/>
                <a:pathLst>
                  <a:path w="9130999" h="2565930">
                    <a:moveTo>
                      <a:pt x="0" y="154044"/>
                    </a:moveTo>
                    <a:cubicBezTo>
                      <a:pt x="684179" y="151334"/>
                      <a:pt x="1018162" y="2710"/>
                      <a:pt x="1702341" y="0"/>
                    </a:cubicBezTo>
                    <a:cubicBezTo>
                      <a:pt x="3501958" y="48638"/>
                      <a:pt x="5165387" y="223737"/>
                      <a:pt x="6965004" y="272375"/>
                    </a:cubicBezTo>
                    <a:lnTo>
                      <a:pt x="9023829" y="165883"/>
                    </a:lnTo>
                    <a:cubicBezTo>
                      <a:pt x="9322199" y="205562"/>
                      <a:pt x="8902673" y="351543"/>
                      <a:pt x="8904502" y="422314"/>
                    </a:cubicBezTo>
                    <a:cubicBezTo>
                      <a:pt x="8891746" y="490014"/>
                      <a:pt x="9013939" y="426540"/>
                      <a:pt x="9060536" y="439884"/>
                    </a:cubicBezTo>
                    <a:cubicBezTo>
                      <a:pt x="9107133" y="453228"/>
                      <a:pt x="9056970" y="544601"/>
                      <a:pt x="9034803" y="590512"/>
                    </a:cubicBezTo>
                    <a:cubicBezTo>
                      <a:pt x="9044647" y="646696"/>
                      <a:pt x="8829712" y="803310"/>
                      <a:pt x="8814289" y="847555"/>
                    </a:cubicBezTo>
                    <a:cubicBezTo>
                      <a:pt x="8875980" y="830700"/>
                      <a:pt x="8880574" y="872838"/>
                      <a:pt x="8942265" y="855983"/>
                    </a:cubicBezTo>
                    <a:cubicBezTo>
                      <a:pt x="8969173" y="846151"/>
                      <a:pt x="8980621" y="974801"/>
                      <a:pt x="9007529" y="964969"/>
                    </a:cubicBezTo>
                    <a:cubicBezTo>
                      <a:pt x="9036378" y="986497"/>
                      <a:pt x="9079962" y="961368"/>
                      <a:pt x="9090077" y="979742"/>
                    </a:cubicBezTo>
                    <a:cubicBezTo>
                      <a:pt x="9100193" y="998116"/>
                      <a:pt x="9104670" y="1043165"/>
                      <a:pt x="9068222" y="1075211"/>
                    </a:cubicBezTo>
                    <a:cubicBezTo>
                      <a:pt x="9023922" y="1106815"/>
                      <a:pt x="8893250" y="1143381"/>
                      <a:pt x="8871386" y="1172020"/>
                    </a:cubicBezTo>
                    <a:cubicBezTo>
                      <a:pt x="8950797" y="1142523"/>
                      <a:pt x="8902232" y="1197303"/>
                      <a:pt x="8981643" y="1167806"/>
                    </a:cubicBezTo>
                    <a:cubicBezTo>
                      <a:pt x="9003957" y="1160783"/>
                      <a:pt x="8943578" y="1288602"/>
                      <a:pt x="8965892" y="1281579"/>
                    </a:cubicBezTo>
                    <a:cubicBezTo>
                      <a:pt x="9009207" y="1264724"/>
                      <a:pt x="8822972" y="1446323"/>
                      <a:pt x="8866287" y="1429468"/>
                    </a:cubicBezTo>
                    <a:cubicBezTo>
                      <a:pt x="8836591" y="1507687"/>
                      <a:pt x="8772071" y="1656073"/>
                      <a:pt x="8828896" y="1673774"/>
                    </a:cubicBezTo>
                    <a:cubicBezTo>
                      <a:pt x="8885721" y="1691475"/>
                      <a:pt x="8947686" y="1744119"/>
                      <a:pt x="8918972" y="1767032"/>
                    </a:cubicBezTo>
                    <a:cubicBezTo>
                      <a:pt x="8968850" y="1741749"/>
                      <a:pt x="8565554" y="1913653"/>
                      <a:pt x="8615432" y="1888370"/>
                    </a:cubicBezTo>
                    <a:cubicBezTo>
                      <a:pt x="8666623" y="1857469"/>
                      <a:pt x="8700093" y="1898202"/>
                      <a:pt x="8751284" y="1867301"/>
                    </a:cubicBezTo>
                    <a:cubicBezTo>
                      <a:pt x="8791974" y="1842018"/>
                      <a:pt x="8590493" y="2094847"/>
                      <a:pt x="8631183" y="2069564"/>
                    </a:cubicBezTo>
                    <a:cubicBezTo>
                      <a:pt x="8702719" y="2027426"/>
                      <a:pt x="8669904" y="2200193"/>
                      <a:pt x="8741440" y="2158055"/>
                    </a:cubicBezTo>
                    <a:cubicBezTo>
                      <a:pt x="8781474" y="2132772"/>
                      <a:pt x="8589180" y="2381387"/>
                      <a:pt x="8629214" y="2356104"/>
                    </a:cubicBezTo>
                    <a:cubicBezTo>
                      <a:pt x="8718470" y="2295706"/>
                      <a:pt x="8461203" y="2618766"/>
                      <a:pt x="8550459" y="2558368"/>
                    </a:cubicBezTo>
                    <a:lnTo>
                      <a:pt x="0" y="2526760"/>
                    </a:lnTo>
                    <a:lnTo>
                      <a:pt x="0" y="15404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矩形 2"/>
              <p:cNvSpPr/>
              <p:nvPr/>
            </p:nvSpPr>
            <p:spPr>
              <a:xfrm flipH="1">
                <a:off x="16311240" y="2571840"/>
                <a:ext cx="19540800" cy="2676600"/>
              </a:xfrm>
              <a:custGeom>
                <a:avLst/>
                <a:gdLst>
                  <a:gd name="textAreaLeft" fmla="*/ 360 w 19540800"/>
                  <a:gd name="textAreaRight" fmla="*/ 19541520 w 19540800"/>
                  <a:gd name="textAreaTop" fmla="*/ 0 h 2676600"/>
                  <a:gd name="textAreaBottom" fmla="*/ 2676960 h 2676600"/>
                </a:gdLst>
                <a:ahLst/>
                <a:rect l="textAreaLeft" t="textAreaTop" r="textAreaRight" b="textAreaBottom"/>
                <a:pathLst>
                  <a:path w="9130999" h="2565930">
                    <a:moveTo>
                      <a:pt x="0" y="154044"/>
                    </a:moveTo>
                    <a:cubicBezTo>
                      <a:pt x="684179" y="151334"/>
                      <a:pt x="1018162" y="2710"/>
                      <a:pt x="1702341" y="0"/>
                    </a:cubicBezTo>
                    <a:cubicBezTo>
                      <a:pt x="3501958" y="48638"/>
                      <a:pt x="5165387" y="223737"/>
                      <a:pt x="6965004" y="272375"/>
                    </a:cubicBezTo>
                    <a:lnTo>
                      <a:pt x="9023829" y="165883"/>
                    </a:lnTo>
                    <a:cubicBezTo>
                      <a:pt x="9322199" y="205562"/>
                      <a:pt x="8902673" y="351543"/>
                      <a:pt x="8904502" y="422314"/>
                    </a:cubicBezTo>
                    <a:cubicBezTo>
                      <a:pt x="8891746" y="490014"/>
                      <a:pt x="9013939" y="426540"/>
                      <a:pt x="9060536" y="439884"/>
                    </a:cubicBezTo>
                    <a:cubicBezTo>
                      <a:pt x="9107133" y="453228"/>
                      <a:pt x="9056970" y="544601"/>
                      <a:pt x="9034803" y="590512"/>
                    </a:cubicBezTo>
                    <a:cubicBezTo>
                      <a:pt x="9044647" y="646696"/>
                      <a:pt x="8829712" y="803310"/>
                      <a:pt x="8814289" y="847555"/>
                    </a:cubicBezTo>
                    <a:cubicBezTo>
                      <a:pt x="8875980" y="830700"/>
                      <a:pt x="8880574" y="872838"/>
                      <a:pt x="8942265" y="855983"/>
                    </a:cubicBezTo>
                    <a:cubicBezTo>
                      <a:pt x="8969173" y="846151"/>
                      <a:pt x="8980621" y="974801"/>
                      <a:pt x="9007529" y="964969"/>
                    </a:cubicBezTo>
                    <a:cubicBezTo>
                      <a:pt x="9036378" y="986497"/>
                      <a:pt x="9079962" y="961368"/>
                      <a:pt x="9090077" y="979742"/>
                    </a:cubicBezTo>
                    <a:cubicBezTo>
                      <a:pt x="9100193" y="998116"/>
                      <a:pt x="9104670" y="1043165"/>
                      <a:pt x="9068222" y="1075211"/>
                    </a:cubicBezTo>
                    <a:cubicBezTo>
                      <a:pt x="9023922" y="1106815"/>
                      <a:pt x="8893250" y="1143381"/>
                      <a:pt x="8871386" y="1172020"/>
                    </a:cubicBezTo>
                    <a:cubicBezTo>
                      <a:pt x="8950797" y="1142523"/>
                      <a:pt x="8902232" y="1197303"/>
                      <a:pt x="8981643" y="1167806"/>
                    </a:cubicBezTo>
                    <a:cubicBezTo>
                      <a:pt x="9003957" y="1160783"/>
                      <a:pt x="8943578" y="1288602"/>
                      <a:pt x="8965892" y="1281579"/>
                    </a:cubicBezTo>
                    <a:cubicBezTo>
                      <a:pt x="9009207" y="1264724"/>
                      <a:pt x="8822972" y="1446323"/>
                      <a:pt x="8866287" y="1429468"/>
                    </a:cubicBezTo>
                    <a:cubicBezTo>
                      <a:pt x="8836591" y="1507687"/>
                      <a:pt x="8772071" y="1656073"/>
                      <a:pt x="8828896" y="1673774"/>
                    </a:cubicBezTo>
                    <a:cubicBezTo>
                      <a:pt x="8885721" y="1691475"/>
                      <a:pt x="8947686" y="1744119"/>
                      <a:pt x="8918972" y="1767032"/>
                    </a:cubicBezTo>
                    <a:cubicBezTo>
                      <a:pt x="8968850" y="1741749"/>
                      <a:pt x="8565554" y="1913653"/>
                      <a:pt x="8615432" y="1888370"/>
                    </a:cubicBezTo>
                    <a:cubicBezTo>
                      <a:pt x="8666623" y="1857469"/>
                      <a:pt x="8700093" y="1898202"/>
                      <a:pt x="8751284" y="1867301"/>
                    </a:cubicBezTo>
                    <a:cubicBezTo>
                      <a:pt x="8791974" y="1842018"/>
                      <a:pt x="8590493" y="2094847"/>
                      <a:pt x="8631183" y="2069564"/>
                    </a:cubicBezTo>
                    <a:cubicBezTo>
                      <a:pt x="8702719" y="2027426"/>
                      <a:pt x="8669904" y="2200193"/>
                      <a:pt x="8741440" y="2158055"/>
                    </a:cubicBezTo>
                    <a:cubicBezTo>
                      <a:pt x="8781474" y="2132772"/>
                      <a:pt x="8589180" y="2381387"/>
                      <a:pt x="8629214" y="2356104"/>
                    </a:cubicBezTo>
                    <a:cubicBezTo>
                      <a:pt x="8718470" y="2295706"/>
                      <a:pt x="8461203" y="2618766"/>
                      <a:pt x="8550459" y="2558368"/>
                    </a:cubicBezTo>
                    <a:lnTo>
                      <a:pt x="0" y="2526760"/>
                    </a:lnTo>
                    <a:lnTo>
                      <a:pt x="0" y="154044"/>
                    </a:lnTo>
                    <a:close/>
                  </a:path>
                </a:pathLst>
              </a:cu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矩形 2"/>
              <p:cNvSpPr/>
              <p:nvPr/>
            </p:nvSpPr>
            <p:spPr>
              <a:xfrm flipH="1">
                <a:off x="16311240" y="2571840"/>
                <a:ext cx="19540800" cy="2676600"/>
              </a:xfrm>
              <a:custGeom>
                <a:avLst/>
                <a:gdLst>
                  <a:gd name="textAreaLeft" fmla="*/ 360 w 19540800"/>
                  <a:gd name="textAreaRight" fmla="*/ 19541520 w 19540800"/>
                  <a:gd name="textAreaTop" fmla="*/ 0 h 2676600"/>
                  <a:gd name="textAreaBottom" fmla="*/ 2676960 h 2676600"/>
                </a:gdLst>
                <a:ahLst/>
                <a:rect l="textAreaLeft" t="textAreaTop" r="textAreaRight" b="textAreaBottom"/>
                <a:pathLst>
                  <a:path w="9130999" h="2565930">
                    <a:moveTo>
                      <a:pt x="0" y="154044"/>
                    </a:moveTo>
                    <a:cubicBezTo>
                      <a:pt x="684179" y="151334"/>
                      <a:pt x="1018162" y="2710"/>
                      <a:pt x="1702341" y="0"/>
                    </a:cubicBezTo>
                    <a:cubicBezTo>
                      <a:pt x="3501958" y="48638"/>
                      <a:pt x="5165387" y="223737"/>
                      <a:pt x="6965004" y="272375"/>
                    </a:cubicBezTo>
                    <a:lnTo>
                      <a:pt x="9023829" y="165883"/>
                    </a:lnTo>
                    <a:cubicBezTo>
                      <a:pt x="9322199" y="205562"/>
                      <a:pt x="8902673" y="351543"/>
                      <a:pt x="8904502" y="422314"/>
                    </a:cubicBezTo>
                    <a:cubicBezTo>
                      <a:pt x="8891746" y="490014"/>
                      <a:pt x="9013939" y="426540"/>
                      <a:pt x="9060536" y="439884"/>
                    </a:cubicBezTo>
                    <a:cubicBezTo>
                      <a:pt x="9107133" y="453228"/>
                      <a:pt x="9056970" y="544601"/>
                      <a:pt x="9034803" y="590512"/>
                    </a:cubicBezTo>
                    <a:cubicBezTo>
                      <a:pt x="9044647" y="646696"/>
                      <a:pt x="8829712" y="803310"/>
                      <a:pt x="8814289" y="847555"/>
                    </a:cubicBezTo>
                    <a:cubicBezTo>
                      <a:pt x="8875980" y="830700"/>
                      <a:pt x="8880574" y="872838"/>
                      <a:pt x="8942265" y="855983"/>
                    </a:cubicBezTo>
                    <a:cubicBezTo>
                      <a:pt x="8969173" y="846151"/>
                      <a:pt x="8980621" y="974801"/>
                      <a:pt x="9007529" y="964969"/>
                    </a:cubicBezTo>
                    <a:cubicBezTo>
                      <a:pt x="9036378" y="986497"/>
                      <a:pt x="9079962" y="961368"/>
                      <a:pt x="9090077" y="979742"/>
                    </a:cubicBezTo>
                    <a:cubicBezTo>
                      <a:pt x="9100193" y="998116"/>
                      <a:pt x="9104670" y="1043165"/>
                      <a:pt x="9068222" y="1075211"/>
                    </a:cubicBezTo>
                    <a:cubicBezTo>
                      <a:pt x="9023922" y="1106815"/>
                      <a:pt x="8893250" y="1143381"/>
                      <a:pt x="8871386" y="1172020"/>
                    </a:cubicBezTo>
                    <a:cubicBezTo>
                      <a:pt x="8950797" y="1142523"/>
                      <a:pt x="8902232" y="1197303"/>
                      <a:pt x="8981643" y="1167806"/>
                    </a:cubicBezTo>
                    <a:cubicBezTo>
                      <a:pt x="9003957" y="1160783"/>
                      <a:pt x="8943578" y="1288602"/>
                      <a:pt x="8965892" y="1281579"/>
                    </a:cubicBezTo>
                    <a:cubicBezTo>
                      <a:pt x="9009207" y="1264724"/>
                      <a:pt x="8822972" y="1446323"/>
                      <a:pt x="8866287" y="1429468"/>
                    </a:cubicBezTo>
                    <a:cubicBezTo>
                      <a:pt x="8836591" y="1507687"/>
                      <a:pt x="8772071" y="1656073"/>
                      <a:pt x="8828896" y="1673774"/>
                    </a:cubicBezTo>
                    <a:cubicBezTo>
                      <a:pt x="8885721" y="1691475"/>
                      <a:pt x="8947686" y="1744119"/>
                      <a:pt x="8918972" y="1767032"/>
                    </a:cubicBezTo>
                    <a:cubicBezTo>
                      <a:pt x="8968850" y="1741749"/>
                      <a:pt x="8565554" y="1913653"/>
                      <a:pt x="8615432" y="1888370"/>
                    </a:cubicBezTo>
                    <a:cubicBezTo>
                      <a:pt x="8666623" y="1857469"/>
                      <a:pt x="8700093" y="1898202"/>
                      <a:pt x="8751284" y="1867301"/>
                    </a:cubicBezTo>
                    <a:cubicBezTo>
                      <a:pt x="8791974" y="1842018"/>
                      <a:pt x="8590493" y="2094847"/>
                      <a:pt x="8631183" y="2069564"/>
                    </a:cubicBezTo>
                    <a:cubicBezTo>
                      <a:pt x="8702719" y="2027426"/>
                      <a:pt x="8669904" y="2200193"/>
                      <a:pt x="8741440" y="2158055"/>
                    </a:cubicBezTo>
                    <a:cubicBezTo>
                      <a:pt x="8781474" y="2132772"/>
                      <a:pt x="8589180" y="2381387"/>
                      <a:pt x="8629214" y="2356104"/>
                    </a:cubicBezTo>
                    <a:cubicBezTo>
                      <a:pt x="8718470" y="2295706"/>
                      <a:pt x="8461203" y="2618766"/>
                      <a:pt x="8550459" y="2558368"/>
                    </a:cubicBezTo>
                    <a:lnTo>
                      <a:pt x="0" y="2526760"/>
                    </a:lnTo>
                    <a:lnTo>
                      <a:pt x="0" y="154044"/>
                    </a:lnTo>
                    <a:close/>
                  </a:path>
                </a:pathLst>
              </a:custGeom>
              <a:blipFill rotWithShape="0">
                <a:blip r:embed="rId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84" name="五角星 50"/>
          <p:cNvSpPr/>
          <p:nvPr/>
        </p:nvSpPr>
        <p:spPr>
          <a:xfrm>
            <a:off x="-2927520" y="-1058760"/>
            <a:ext cx="5229360" cy="4979880"/>
          </a:xfrm>
          <a:prstGeom prst="star5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334800" y="2171880"/>
            <a:ext cx="2718000" cy="2390760"/>
            <a:chOff x="334800" y="2171880"/>
            <a:chExt cx="2718000" cy="2390760"/>
          </a:xfrm>
        </p:grpSpPr>
        <p:sp>
          <p:nvSpPr>
            <p:cNvPr id="286" name="椭圆 77"/>
            <p:cNvSpPr/>
            <p:nvPr/>
          </p:nvSpPr>
          <p:spPr>
            <a:xfrm>
              <a:off x="734760" y="3765960"/>
              <a:ext cx="2318040" cy="796680"/>
            </a:xfrm>
            <a:custGeom>
              <a:avLst/>
              <a:gdLst>
                <a:gd name="textAreaLeft" fmla="*/ 0 w 2318040"/>
                <a:gd name="textAreaRight" fmla="*/ 2318400 w 2318040"/>
                <a:gd name="textAreaTop" fmla="*/ 0 h 796680"/>
                <a:gd name="textAreaBottom" fmla="*/ 797040 h 796680"/>
              </a:gdLst>
              <a:ahLst/>
              <a:rect l="textAreaLeft" t="textAreaTop" r="textAreaRight" b="textAreaBottom"/>
              <a:pathLst>
                <a:path w="1647508" h="831928">
                  <a:moveTo>
                    <a:pt x="0" y="338498"/>
                  </a:moveTo>
                  <a:cubicBezTo>
                    <a:pt x="0" y="151551"/>
                    <a:pt x="248039" y="0"/>
                    <a:pt x="554010" y="0"/>
                  </a:cubicBezTo>
                  <a:cubicBezTo>
                    <a:pt x="859981" y="0"/>
                    <a:pt x="1037750" y="247717"/>
                    <a:pt x="1108020" y="338498"/>
                  </a:cubicBezTo>
                  <a:cubicBezTo>
                    <a:pt x="1178290" y="429279"/>
                    <a:pt x="1729447" y="760647"/>
                    <a:pt x="1637112" y="817063"/>
                  </a:cubicBezTo>
                  <a:cubicBezTo>
                    <a:pt x="1544777" y="873479"/>
                    <a:pt x="826862" y="756757"/>
                    <a:pt x="554010" y="676996"/>
                  </a:cubicBezTo>
                  <a:cubicBezTo>
                    <a:pt x="281158" y="597235"/>
                    <a:pt x="0" y="525445"/>
                    <a:pt x="0" y="338498"/>
                  </a:cubicBezTo>
                  <a:close/>
                </a:path>
              </a:pathLst>
            </a:custGeom>
            <a:solidFill>
              <a:srgbClr val="000000">
                <a:alpha val="2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7" name=""/>
            <p:cNvGrpSpPr/>
            <p:nvPr/>
          </p:nvGrpSpPr>
          <p:grpSpPr>
            <a:xfrm>
              <a:off x="537120" y="2171880"/>
              <a:ext cx="1514520" cy="2100600"/>
              <a:chOff x="537120" y="2171880"/>
              <a:chExt cx="1514520" cy="2100600"/>
            </a:xfrm>
          </p:grpSpPr>
          <p:sp>
            <p:nvSpPr>
              <p:cNvPr id="288" name="椭圆 76"/>
              <p:cNvSpPr/>
              <p:nvPr/>
            </p:nvSpPr>
            <p:spPr>
              <a:xfrm>
                <a:off x="719280" y="2171880"/>
                <a:ext cx="1134720" cy="11347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椭圆 75"/>
              <p:cNvSpPr/>
              <p:nvPr/>
            </p:nvSpPr>
            <p:spPr>
              <a:xfrm>
                <a:off x="537120" y="2757960"/>
                <a:ext cx="1514520" cy="15145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0" name=""/>
            <p:cNvGrpSpPr/>
            <p:nvPr/>
          </p:nvGrpSpPr>
          <p:grpSpPr>
            <a:xfrm>
              <a:off x="841320" y="2496240"/>
              <a:ext cx="365040" cy="70200"/>
              <a:chOff x="841320" y="2496240"/>
              <a:chExt cx="365040" cy="70200"/>
            </a:xfrm>
          </p:grpSpPr>
          <p:sp>
            <p:nvSpPr>
              <p:cNvPr id="291" name="椭圆 81"/>
              <p:cNvSpPr/>
              <p:nvPr/>
            </p:nvSpPr>
            <p:spPr>
              <a:xfrm>
                <a:off x="841320" y="2496240"/>
                <a:ext cx="64080" cy="64440"/>
              </a:xfrm>
              <a:prstGeom prst="ellipse">
                <a:avLst/>
              </a:prstGeom>
              <a:solidFill>
                <a:srgbClr val="3f3f3f">
                  <a:alpha val="7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椭圆 82"/>
              <p:cNvSpPr/>
              <p:nvPr/>
            </p:nvSpPr>
            <p:spPr>
              <a:xfrm>
                <a:off x="1142280" y="2502000"/>
                <a:ext cx="64080" cy="64440"/>
              </a:xfrm>
              <a:prstGeom prst="ellipse">
                <a:avLst/>
              </a:prstGeom>
              <a:solidFill>
                <a:srgbClr val="3f3f3f">
                  <a:alpha val="7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3" name="任意多边形 80"/>
            <p:cNvSpPr/>
            <p:nvPr/>
          </p:nvSpPr>
          <p:spPr>
            <a:xfrm rot="13881000">
              <a:off x="833040" y="2728800"/>
              <a:ext cx="668520" cy="300960"/>
            </a:xfrm>
            <a:custGeom>
              <a:avLst/>
              <a:gdLst>
                <a:gd name="textAreaLeft" fmla="*/ 0 w 668520"/>
                <a:gd name="textAreaRight" fmla="*/ 668520 w 668520"/>
                <a:gd name="textAreaTop" fmla="*/ 0 h 300960"/>
                <a:gd name="textAreaBottom" fmla="*/ 301320 h 300960"/>
              </a:gdLst>
              <a:ahLst/>
              <a:rect l="textAreaLeft" t="textAreaTop" r="textAreaRight" b="textAreaBottom"/>
              <a:pathLst>
                <a:path w="475140" h="214009">
                  <a:moveTo>
                    <a:pt x="379379" y="0"/>
                  </a:moveTo>
                  <a:cubicBezTo>
                    <a:pt x="292536" y="48187"/>
                    <a:pt x="227043" y="87914"/>
                    <a:pt x="140200" y="136101"/>
                  </a:cubicBezTo>
                  <a:lnTo>
                    <a:pt x="0" y="214009"/>
                  </a:lnTo>
                  <a:lnTo>
                    <a:pt x="456690" y="78150"/>
                  </a:lnTo>
                  <a:cubicBezTo>
                    <a:pt x="455675" y="65418"/>
                    <a:pt x="476119" y="71814"/>
                    <a:pt x="475104" y="59082"/>
                  </a:cubicBezTo>
                  <a:lnTo>
                    <a:pt x="466928" y="29183"/>
                  </a:lnTo>
                  <a:cubicBezTo>
                    <a:pt x="452824" y="23255"/>
                    <a:pt x="441524" y="8912"/>
                    <a:pt x="427420" y="2984"/>
                  </a:cubicBezTo>
                  <a:lnTo>
                    <a:pt x="379379" y="0"/>
                  </a:lnTo>
                  <a:close/>
                </a:path>
              </a:pathLst>
            </a:custGeom>
            <a:solidFill>
              <a:srgbClr val="000000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任意多边形 79"/>
            <p:cNvSpPr/>
            <p:nvPr/>
          </p:nvSpPr>
          <p:spPr>
            <a:xfrm>
              <a:off x="334800" y="2651400"/>
              <a:ext cx="668520" cy="314640"/>
            </a:xfrm>
            <a:custGeom>
              <a:avLst/>
              <a:gdLst>
                <a:gd name="textAreaLeft" fmla="*/ 0 w 668520"/>
                <a:gd name="textAreaRight" fmla="*/ 668880 w 668520"/>
                <a:gd name="textAreaTop" fmla="*/ 0 h 314640"/>
                <a:gd name="textAreaBottom" fmla="*/ 315000 h 314640"/>
              </a:gdLst>
              <a:ahLst/>
              <a:rect l="textAreaLeft" t="textAreaTop" r="textAreaRight" b="textAreaBottom"/>
              <a:pathLst>
                <a:path w="475175" h="214009">
                  <a:moveTo>
                    <a:pt x="379379" y="0"/>
                  </a:moveTo>
                  <a:lnTo>
                    <a:pt x="0" y="214009"/>
                  </a:lnTo>
                  <a:lnTo>
                    <a:pt x="466928" y="97277"/>
                  </a:lnTo>
                  <a:cubicBezTo>
                    <a:pt x="465913" y="84545"/>
                    <a:pt x="476119" y="71814"/>
                    <a:pt x="475104" y="59082"/>
                  </a:cubicBezTo>
                  <a:lnTo>
                    <a:pt x="466928" y="29183"/>
                  </a:lnTo>
                  <a:cubicBezTo>
                    <a:pt x="452824" y="23255"/>
                    <a:pt x="441524" y="8912"/>
                    <a:pt x="427420" y="2984"/>
                  </a:cubicBezTo>
                  <a:lnTo>
                    <a:pt x="379379" y="0"/>
                  </a:lnTo>
                  <a:close/>
                </a:path>
              </a:pathLst>
            </a:custGeom>
            <a:solidFill>
              <a:srgbClr val="a581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5" name="五角星 68"/>
          <p:cNvSpPr/>
          <p:nvPr/>
        </p:nvSpPr>
        <p:spPr>
          <a:xfrm>
            <a:off x="317520" y="1754280"/>
            <a:ext cx="1085760" cy="1033200"/>
          </a:xfrm>
          <a:prstGeom prst="star5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198720" y="3823920"/>
            <a:ext cx="2177640" cy="1224360"/>
            <a:chOff x="198720" y="3823920"/>
            <a:chExt cx="2177640" cy="1224360"/>
          </a:xfrm>
        </p:grpSpPr>
        <p:sp>
          <p:nvSpPr>
            <p:cNvPr id="297" name="任意多边形 129"/>
            <p:cNvSpPr/>
            <p:nvPr/>
          </p:nvSpPr>
          <p:spPr>
            <a:xfrm>
              <a:off x="1531440" y="4465080"/>
              <a:ext cx="204120" cy="267120"/>
            </a:xfrm>
            <a:custGeom>
              <a:avLst/>
              <a:gdLst>
                <a:gd name="textAreaLeft" fmla="*/ 0 w 204120"/>
                <a:gd name="textAreaRight" fmla="*/ 204480 w 204120"/>
                <a:gd name="textAreaTop" fmla="*/ 0 h 267120"/>
                <a:gd name="textAreaBottom" fmla="*/ 267480 h 267120"/>
              </a:gdLst>
              <a:ahLst/>
              <a:rect l="textAreaLeft" t="textAreaTop" r="textAreaRight" b="textAreaBottom"/>
              <a:pathLst>
                <a:path w="345809" h="452213">
                  <a:moveTo>
                    <a:pt x="3325" y="66502"/>
                  </a:moveTo>
                  <a:cubicBezTo>
                    <a:pt x="2217" y="110837"/>
                    <a:pt x="1108" y="155171"/>
                    <a:pt x="0" y="199506"/>
                  </a:cubicBezTo>
                  <a:lnTo>
                    <a:pt x="53201" y="315884"/>
                  </a:lnTo>
                  <a:lnTo>
                    <a:pt x="133004" y="415637"/>
                  </a:lnTo>
                  <a:lnTo>
                    <a:pt x="209481" y="452213"/>
                  </a:lnTo>
                  <a:lnTo>
                    <a:pt x="302583" y="442237"/>
                  </a:lnTo>
                  <a:lnTo>
                    <a:pt x="345809" y="399011"/>
                  </a:lnTo>
                  <a:lnTo>
                    <a:pt x="332509" y="285958"/>
                  </a:lnTo>
                  <a:lnTo>
                    <a:pt x="285958" y="133004"/>
                  </a:lnTo>
                  <a:lnTo>
                    <a:pt x="172905" y="39901"/>
                  </a:lnTo>
                  <a:lnTo>
                    <a:pt x="76477" y="0"/>
                  </a:lnTo>
                  <a:lnTo>
                    <a:pt x="16625" y="9976"/>
                  </a:lnTo>
                  <a:lnTo>
                    <a:pt x="3325" y="66502"/>
                  </a:lnTo>
                  <a:close/>
                </a:path>
              </a:pathLst>
            </a:custGeom>
            <a:solidFill>
              <a:srgbClr val="a6a6a6">
                <a:alpha val="2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任意多边形 130"/>
            <p:cNvSpPr/>
            <p:nvPr/>
          </p:nvSpPr>
          <p:spPr>
            <a:xfrm>
              <a:off x="1801800" y="4781160"/>
              <a:ext cx="204120" cy="267120"/>
            </a:xfrm>
            <a:custGeom>
              <a:avLst/>
              <a:gdLst>
                <a:gd name="textAreaLeft" fmla="*/ 0 w 204120"/>
                <a:gd name="textAreaRight" fmla="*/ 204480 w 204120"/>
                <a:gd name="textAreaTop" fmla="*/ 0 h 267120"/>
                <a:gd name="textAreaBottom" fmla="*/ 267480 h 267120"/>
              </a:gdLst>
              <a:ahLst/>
              <a:rect l="textAreaLeft" t="textAreaTop" r="textAreaRight" b="textAreaBottom"/>
              <a:pathLst>
                <a:path w="345809" h="452213">
                  <a:moveTo>
                    <a:pt x="3325" y="66502"/>
                  </a:moveTo>
                  <a:cubicBezTo>
                    <a:pt x="2217" y="110837"/>
                    <a:pt x="1108" y="155171"/>
                    <a:pt x="0" y="199506"/>
                  </a:cubicBezTo>
                  <a:lnTo>
                    <a:pt x="53201" y="315884"/>
                  </a:lnTo>
                  <a:lnTo>
                    <a:pt x="133004" y="415637"/>
                  </a:lnTo>
                  <a:lnTo>
                    <a:pt x="209481" y="452213"/>
                  </a:lnTo>
                  <a:lnTo>
                    <a:pt x="302583" y="442237"/>
                  </a:lnTo>
                  <a:lnTo>
                    <a:pt x="345809" y="399011"/>
                  </a:lnTo>
                  <a:lnTo>
                    <a:pt x="332509" y="285958"/>
                  </a:lnTo>
                  <a:lnTo>
                    <a:pt x="285958" y="133004"/>
                  </a:lnTo>
                  <a:lnTo>
                    <a:pt x="172905" y="39901"/>
                  </a:lnTo>
                  <a:lnTo>
                    <a:pt x="76477" y="0"/>
                  </a:lnTo>
                  <a:lnTo>
                    <a:pt x="16625" y="9976"/>
                  </a:lnTo>
                  <a:lnTo>
                    <a:pt x="3325" y="66502"/>
                  </a:lnTo>
                  <a:close/>
                </a:path>
              </a:pathLst>
            </a:custGeom>
            <a:solidFill>
              <a:srgbClr val="a6a6a6">
                <a:alpha val="2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任意多边形 131"/>
            <p:cNvSpPr/>
            <p:nvPr/>
          </p:nvSpPr>
          <p:spPr>
            <a:xfrm>
              <a:off x="1326960" y="4721040"/>
              <a:ext cx="204120" cy="267120"/>
            </a:xfrm>
            <a:custGeom>
              <a:avLst/>
              <a:gdLst>
                <a:gd name="textAreaLeft" fmla="*/ 0 w 204120"/>
                <a:gd name="textAreaRight" fmla="*/ 204480 w 204120"/>
                <a:gd name="textAreaTop" fmla="*/ 0 h 267120"/>
                <a:gd name="textAreaBottom" fmla="*/ 267480 h 267120"/>
              </a:gdLst>
              <a:ahLst/>
              <a:rect l="textAreaLeft" t="textAreaTop" r="textAreaRight" b="textAreaBottom"/>
              <a:pathLst>
                <a:path w="345809" h="452213">
                  <a:moveTo>
                    <a:pt x="3325" y="66502"/>
                  </a:moveTo>
                  <a:cubicBezTo>
                    <a:pt x="2217" y="110837"/>
                    <a:pt x="1108" y="155171"/>
                    <a:pt x="0" y="199506"/>
                  </a:cubicBezTo>
                  <a:lnTo>
                    <a:pt x="53201" y="315884"/>
                  </a:lnTo>
                  <a:lnTo>
                    <a:pt x="133004" y="415637"/>
                  </a:lnTo>
                  <a:lnTo>
                    <a:pt x="209481" y="452213"/>
                  </a:lnTo>
                  <a:lnTo>
                    <a:pt x="302583" y="442237"/>
                  </a:lnTo>
                  <a:lnTo>
                    <a:pt x="345809" y="399011"/>
                  </a:lnTo>
                  <a:lnTo>
                    <a:pt x="332509" y="285958"/>
                  </a:lnTo>
                  <a:lnTo>
                    <a:pt x="285958" y="133004"/>
                  </a:lnTo>
                  <a:lnTo>
                    <a:pt x="172905" y="39901"/>
                  </a:lnTo>
                  <a:lnTo>
                    <a:pt x="76477" y="0"/>
                  </a:lnTo>
                  <a:lnTo>
                    <a:pt x="16625" y="9976"/>
                  </a:lnTo>
                  <a:lnTo>
                    <a:pt x="3325" y="66502"/>
                  </a:lnTo>
                  <a:close/>
                </a:path>
              </a:pathLst>
            </a:custGeom>
            <a:solidFill>
              <a:srgbClr val="a6a6a6">
                <a:alpha val="2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任意多边形 132"/>
            <p:cNvSpPr/>
            <p:nvPr/>
          </p:nvSpPr>
          <p:spPr>
            <a:xfrm rot="20146800">
              <a:off x="493920" y="4141080"/>
              <a:ext cx="204120" cy="267120"/>
            </a:xfrm>
            <a:custGeom>
              <a:avLst/>
              <a:gdLst>
                <a:gd name="textAreaLeft" fmla="*/ 0 w 204120"/>
                <a:gd name="textAreaRight" fmla="*/ 204480 w 204120"/>
                <a:gd name="textAreaTop" fmla="*/ 0 h 267120"/>
                <a:gd name="textAreaBottom" fmla="*/ 267480 h 267120"/>
              </a:gdLst>
              <a:ahLst/>
              <a:rect l="textAreaLeft" t="textAreaTop" r="textAreaRight" b="textAreaBottom"/>
              <a:pathLst>
                <a:path w="345809" h="452213">
                  <a:moveTo>
                    <a:pt x="3325" y="66502"/>
                  </a:moveTo>
                  <a:cubicBezTo>
                    <a:pt x="2217" y="110837"/>
                    <a:pt x="1108" y="155171"/>
                    <a:pt x="0" y="199506"/>
                  </a:cubicBezTo>
                  <a:lnTo>
                    <a:pt x="53201" y="315884"/>
                  </a:lnTo>
                  <a:lnTo>
                    <a:pt x="133004" y="415637"/>
                  </a:lnTo>
                  <a:lnTo>
                    <a:pt x="209481" y="452213"/>
                  </a:lnTo>
                  <a:lnTo>
                    <a:pt x="302583" y="442237"/>
                  </a:lnTo>
                  <a:lnTo>
                    <a:pt x="345809" y="399011"/>
                  </a:lnTo>
                  <a:lnTo>
                    <a:pt x="332509" y="285958"/>
                  </a:lnTo>
                  <a:lnTo>
                    <a:pt x="285958" y="133004"/>
                  </a:lnTo>
                  <a:lnTo>
                    <a:pt x="172905" y="39901"/>
                  </a:lnTo>
                  <a:lnTo>
                    <a:pt x="76477" y="0"/>
                  </a:lnTo>
                  <a:lnTo>
                    <a:pt x="16625" y="9976"/>
                  </a:lnTo>
                  <a:lnTo>
                    <a:pt x="3325" y="66502"/>
                  </a:lnTo>
                  <a:close/>
                </a:path>
              </a:pathLst>
            </a:custGeom>
            <a:solidFill>
              <a:srgbClr val="a6a6a6">
                <a:alpha val="2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任意多边形 133"/>
            <p:cNvSpPr/>
            <p:nvPr/>
          </p:nvSpPr>
          <p:spPr>
            <a:xfrm>
              <a:off x="960840" y="4371480"/>
              <a:ext cx="204120" cy="267120"/>
            </a:xfrm>
            <a:custGeom>
              <a:avLst/>
              <a:gdLst>
                <a:gd name="textAreaLeft" fmla="*/ 0 w 204120"/>
                <a:gd name="textAreaRight" fmla="*/ 204480 w 204120"/>
                <a:gd name="textAreaTop" fmla="*/ 0 h 267120"/>
                <a:gd name="textAreaBottom" fmla="*/ 267480 h 267120"/>
              </a:gdLst>
              <a:ahLst/>
              <a:rect l="textAreaLeft" t="textAreaTop" r="textAreaRight" b="textAreaBottom"/>
              <a:pathLst>
                <a:path w="345809" h="452213">
                  <a:moveTo>
                    <a:pt x="3325" y="66502"/>
                  </a:moveTo>
                  <a:cubicBezTo>
                    <a:pt x="2217" y="110837"/>
                    <a:pt x="1108" y="155171"/>
                    <a:pt x="0" y="199506"/>
                  </a:cubicBezTo>
                  <a:lnTo>
                    <a:pt x="53201" y="315884"/>
                  </a:lnTo>
                  <a:lnTo>
                    <a:pt x="133004" y="415637"/>
                  </a:lnTo>
                  <a:lnTo>
                    <a:pt x="209481" y="452213"/>
                  </a:lnTo>
                  <a:lnTo>
                    <a:pt x="302583" y="442237"/>
                  </a:lnTo>
                  <a:lnTo>
                    <a:pt x="345809" y="399011"/>
                  </a:lnTo>
                  <a:lnTo>
                    <a:pt x="332509" y="285958"/>
                  </a:lnTo>
                  <a:lnTo>
                    <a:pt x="285958" y="133004"/>
                  </a:lnTo>
                  <a:lnTo>
                    <a:pt x="172905" y="39901"/>
                  </a:lnTo>
                  <a:lnTo>
                    <a:pt x="76477" y="0"/>
                  </a:lnTo>
                  <a:lnTo>
                    <a:pt x="16625" y="9976"/>
                  </a:lnTo>
                  <a:lnTo>
                    <a:pt x="3325" y="66502"/>
                  </a:lnTo>
                  <a:close/>
                </a:path>
              </a:pathLst>
            </a:custGeom>
            <a:solidFill>
              <a:srgbClr val="a6a6a6">
                <a:alpha val="2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任意多边形 134"/>
            <p:cNvSpPr/>
            <p:nvPr/>
          </p:nvSpPr>
          <p:spPr>
            <a:xfrm rot="4060200">
              <a:off x="2094840" y="4122720"/>
              <a:ext cx="204120" cy="266760"/>
            </a:xfrm>
            <a:custGeom>
              <a:avLst/>
              <a:gdLst>
                <a:gd name="textAreaLeft" fmla="*/ 0 w 204120"/>
                <a:gd name="textAreaRight" fmla="*/ 204480 w 204120"/>
                <a:gd name="textAreaTop" fmla="*/ 0 h 266760"/>
                <a:gd name="textAreaBottom" fmla="*/ 267120 h 266760"/>
              </a:gdLst>
              <a:ahLst/>
              <a:rect l="textAreaLeft" t="textAreaTop" r="textAreaRight" b="textAreaBottom"/>
              <a:pathLst>
                <a:path w="345809" h="452213">
                  <a:moveTo>
                    <a:pt x="3325" y="66502"/>
                  </a:moveTo>
                  <a:cubicBezTo>
                    <a:pt x="2217" y="110837"/>
                    <a:pt x="1108" y="155171"/>
                    <a:pt x="0" y="199506"/>
                  </a:cubicBezTo>
                  <a:lnTo>
                    <a:pt x="53201" y="315884"/>
                  </a:lnTo>
                  <a:lnTo>
                    <a:pt x="133004" y="415637"/>
                  </a:lnTo>
                  <a:lnTo>
                    <a:pt x="209481" y="452213"/>
                  </a:lnTo>
                  <a:lnTo>
                    <a:pt x="302583" y="442237"/>
                  </a:lnTo>
                  <a:lnTo>
                    <a:pt x="345809" y="399011"/>
                  </a:lnTo>
                  <a:lnTo>
                    <a:pt x="332509" y="285958"/>
                  </a:lnTo>
                  <a:lnTo>
                    <a:pt x="285958" y="133004"/>
                  </a:lnTo>
                  <a:lnTo>
                    <a:pt x="172905" y="39901"/>
                  </a:lnTo>
                  <a:lnTo>
                    <a:pt x="76477" y="0"/>
                  </a:lnTo>
                  <a:lnTo>
                    <a:pt x="16625" y="9976"/>
                  </a:lnTo>
                  <a:lnTo>
                    <a:pt x="3325" y="66502"/>
                  </a:lnTo>
                  <a:close/>
                </a:path>
              </a:pathLst>
            </a:custGeom>
            <a:solidFill>
              <a:srgbClr val="3f3f3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任意多边形 135"/>
            <p:cNvSpPr/>
            <p:nvPr/>
          </p:nvSpPr>
          <p:spPr>
            <a:xfrm rot="4060200">
              <a:off x="1864800" y="3966120"/>
              <a:ext cx="204120" cy="266760"/>
            </a:xfrm>
            <a:custGeom>
              <a:avLst/>
              <a:gdLst>
                <a:gd name="textAreaLeft" fmla="*/ 0 w 204120"/>
                <a:gd name="textAreaRight" fmla="*/ 204480 w 204120"/>
                <a:gd name="textAreaTop" fmla="*/ 0 h 266760"/>
                <a:gd name="textAreaBottom" fmla="*/ 267120 h 266760"/>
              </a:gdLst>
              <a:ahLst/>
              <a:rect l="textAreaLeft" t="textAreaTop" r="textAreaRight" b="textAreaBottom"/>
              <a:pathLst>
                <a:path w="345809" h="452213">
                  <a:moveTo>
                    <a:pt x="3325" y="66502"/>
                  </a:moveTo>
                  <a:cubicBezTo>
                    <a:pt x="2217" y="110837"/>
                    <a:pt x="1108" y="155171"/>
                    <a:pt x="0" y="199506"/>
                  </a:cubicBezTo>
                  <a:lnTo>
                    <a:pt x="53201" y="315884"/>
                  </a:lnTo>
                  <a:lnTo>
                    <a:pt x="133004" y="415637"/>
                  </a:lnTo>
                  <a:lnTo>
                    <a:pt x="209481" y="452213"/>
                  </a:lnTo>
                  <a:lnTo>
                    <a:pt x="302583" y="442237"/>
                  </a:lnTo>
                  <a:lnTo>
                    <a:pt x="345809" y="399011"/>
                  </a:lnTo>
                  <a:lnTo>
                    <a:pt x="332509" y="285958"/>
                  </a:lnTo>
                  <a:lnTo>
                    <a:pt x="285958" y="133004"/>
                  </a:lnTo>
                  <a:lnTo>
                    <a:pt x="172905" y="39901"/>
                  </a:lnTo>
                  <a:lnTo>
                    <a:pt x="76477" y="0"/>
                  </a:lnTo>
                  <a:lnTo>
                    <a:pt x="16625" y="9976"/>
                  </a:lnTo>
                  <a:lnTo>
                    <a:pt x="3325" y="66502"/>
                  </a:lnTo>
                  <a:close/>
                </a:path>
              </a:pathLst>
            </a:custGeom>
            <a:solidFill>
              <a:srgbClr val="3f3f3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任意多边形 136"/>
            <p:cNvSpPr/>
            <p:nvPr/>
          </p:nvSpPr>
          <p:spPr>
            <a:xfrm rot="375600">
              <a:off x="2157840" y="3841560"/>
              <a:ext cx="204120" cy="267120"/>
            </a:xfrm>
            <a:custGeom>
              <a:avLst/>
              <a:gdLst>
                <a:gd name="textAreaLeft" fmla="*/ 0 w 204120"/>
                <a:gd name="textAreaRight" fmla="*/ 204480 w 204120"/>
                <a:gd name="textAreaTop" fmla="*/ 0 h 267120"/>
                <a:gd name="textAreaBottom" fmla="*/ 267480 h 267120"/>
              </a:gdLst>
              <a:ahLst/>
              <a:rect l="textAreaLeft" t="textAreaTop" r="textAreaRight" b="textAreaBottom"/>
              <a:pathLst>
                <a:path w="345809" h="452213">
                  <a:moveTo>
                    <a:pt x="3325" y="66502"/>
                  </a:moveTo>
                  <a:cubicBezTo>
                    <a:pt x="2217" y="110837"/>
                    <a:pt x="1108" y="155171"/>
                    <a:pt x="0" y="199506"/>
                  </a:cubicBezTo>
                  <a:lnTo>
                    <a:pt x="53201" y="315884"/>
                  </a:lnTo>
                  <a:lnTo>
                    <a:pt x="133004" y="415637"/>
                  </a:lnTo>
                  <a:lnTo>
                    <a:pt x="209481" y="452213"/>
                  </a:lnTo>
                  <a:lnTo>
                    <a:pt x="302583" y="442237"/>
                  </a:lnTo>
                  <a:lnTo>
                    <a:pt x="345809" y="399011"/>
                  </a:lnTo>
                  <a:lnTo>
                    <a:pt x="332509" y="285958"/>
                  </a:lnTo>
                  <a:lnTo>
                    <a:pt x="285958" y="133004"/>
                  </a:lnTo>
                  <a:lnTo>
                    <a:pt x="172905" y="39901"/>
                  </a:lnTo>
                  <a:lnTo>
                    <a:pt x="76477" y="0"/>
                  </a:lnTo>
                  <a:lnTo>
                    <a:pt x="16625" y="9976"/>
                  </a:lnTo>
                  <a:lnTo>
                    <a:pt x="3325" y="66502"/>
                  </a:lnTo>
                  <a:close/>
                </a:path>
              </a:pathLst>
            </a:custGeom>
            <a:solidFill>
              <a:srgbClr val="a6a6a6">
                <a:alpha val="2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任意多边形 137"/>
            <p:cNvSpPr/>
            <p:nvPr/>
          </p:nvSpPr>
          <p:spPr>
            <a:xfrm rot="4596600">
              <a:off x="351720" y="3820680"/>
              <a:ext cx="204120" cy="266760"/>
            </a:xfrm>
            <a:custGeom>
              <a:avLst/>
              <a:gdLst>
                <a:gd name="textAreaLeft" fmla="*/ 0 w 204120"/>
                <a:gd name="textAreaRight" fmla="*/ 204480 w 204120"/>
                <a:gd name="textAreaTop" fmla="*/ 0 h 266760"/>
                <a:gd name="textAreaBottom" fmla="*/ 267120 h 266760"/>
              </a:gdLst>
              <a:ahLst/>
              <a:rect l="textAreaLeft" t="textAreaTop" r="textAreaRight" b="textAreaBottom"/>
              <a:pathLst>
                <a:path w="345809" h="452213">
                  <a:moveTo>
                    <a:pt x="3325" y="66502"/>
                  </a:moveTo>
                  <a:cubicBezTo>
                    <a:pt x="2217" y="110837"/>
                    <a:pt x="1108" y="155171"/>
                    <a:pt x="0" y="199506"/>
                  </a:cubicBezTo>
                  <a:lnTo>
                    <a:pt x="53201" y="315884"/>
                  </a:lnTo>
                  <a:lnTo>
                    <a:pt x="133004" y="415637"/>
                  </a:lnTo>
                  <a:lnTo>
                    <a:pt x="209481" y="452213"/>
                  </a:lnTo>
                  <a:lnTo>
                    <a:pt x="302583" y="442237"/>
                  </a:lnTo>
                  <a:lnTo>
                    <a:pt x="345809" y="399011"/>
                  </a:lnTo>
                  <a:lnTo>
                    <a:pt x="332509" y="285958"/>
                  </a:lnTo>
                  <a:lnTo>
                    <a:pt x="285958" y="133004"/>
                  </a:lnTo>
                  <a:lnTo>
                    <a:pt x="172905" y="39901"/>
                  </a:lnTo>
                  <a:lnTo>
                    <a:pt x="76477" y="0"/>
                  </a:lnTo>
                  <a:lnTo>
                    <a:pt x="16625" y="9976"/>
                  </a:lnTo>
                  <a:lnTo>
                    <a:pt x="3325" y="66502"/>
                  </a:lnTo>
                  <a:close/>
                </a:path>
              </a:pathLst>
            </a:custGeom>
            <a:solidFill>
              <a:srgbClr val="a6a6a6">
                <a:alpha val="2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任意多边形 138"/>
            <p:cNvSpPr/>
            <p:nvPr/>
          </p:nvSpPr>
          <p:spPr>
            <a:xfrm rot="4596600">
              <a:off x="249840" y="4025880"/>
              <a:ext cx="204120" cy="266760"/>
            </a:xfrm>
            <a:custGeom>
              <a:avLst/>
              <a:gdLst>
                <a:gd name="textAreaLeft" fmla="*/ 0 w 204120"/>
                <a:gd name="textAreaRight" fmla="*/ 204480 w 204120"/>
                <a:gd name="textAreaTop" fmla="*/ 0 h 266760"/>
                <a:gd name="textAreaBottom" fmla="*/ 267120 h 266760"/>
              </a:gdLst>
              <a:ahLst/>
              <a:rect l="textAreaLeft" t="textAreaTop" r="textAreaRight" b="textAreaBottom"/>
              <a:pathLst>
                <a:path w="345809" h="452213">
                  <a:moveTo>
                    <a:pt x="3325" y="66502"/>
                  </a:moveTo>
                  <a:cubicBezTo>
                    <a:pt x="2217" y="110837"/>
                    <a:pt x="1108" y="155171"/>
                    <a:pt x="0" y="199506"/>
                  </a:cubicBezTo>
                  <a:lnTo>
                    <a:pt x="53201" y="315884"/>
                  </a:lnTo>
                  <a:lnTo>
                    <a:pt x="133004" y="415637"/>
                  </a:lnTo>
                  <a:lnTo>
                    <a:pt x="209481" y="452213"/>
                  </a:lnTo>
                  <a:lnTo>
                    <a:pt x="302583" y="442237"/>
                  </a:lnTo>
                  <a:lnTo>
                    <a:pt x="345809" y="399011"/>
                  </a:lnTo>
                  <a:lnTo>
                    <a:pt x="332509" y="285958"/>
                  </a:lnTo>
                  <a:lnTo>
                    <a:pt x="285958" y="133004"/>
                  </a:lnTo>
                  <a:lnTo>
                    <a:pt x="172905" y="39901"/>
                  </a:lnTo>
                  <a:lnTo>
                    <a:pt x="76477" y="0"/>
                  </a:lnTo>
                  <a:lnTo>
                    <a:pt x="16625" y="9976"/>
                  </a:lnTo>
                  <a:lnTo>
                    <a:pt x="3325" y="66502"/>
                  </a:lnTo>
                  <a:close/>
                </a:path>
              </a:pathLst>
            </a:custGeom>
            <a:solidFill>
              <a:srgbClr val="a6a6a6">
                <a:alpha val="2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任意多边形 139"/>
            <p:cNvSpPr/>
            <p:nvPr/>
          </p:nvSpPr>
          <p:spPr>
            <a:xfrm rot="4596600">
              <a:off x="631080" y="4413600"/>
              <a:ext cx="204120" cy="266760"/>
            </a:xfrm>
            <a:custGeom>
              <a:avLst/>
              <a:gdLst>
                <a:gd name="textAreaLeft" fmla="*/ 0 w 204120"/>
                <a:gd name="textAreaRight" fmla="*/ 204480 w 204120"/>
                <a:gd name="textAreaTop" fmla="*/ 0 h 266760"/>
                <a:gd name="textAreaBottom" fmla="*/ 267120 h 266760"/>
              </a:gdLst>
              <a:ahLst/>
              <a:rect l="textAreaLeft" t="textAreaTop" r="textAreaRight" b="textAreaBottom"/>
              <a:pathLst>
                <a:path w="345809" h="452213">
                  <a:moveTo>
                    <a:pt x="3325" y="66502"/>
                  </a:moveTo>
                  <a:cubicBezTo>
                    <a:pt x="2217" y="110837"/>
                    <a:pt x="1108" y="155171"/>
                    <a:pt x="0" y="199506"/>
                  </a:cubicBezTo>
                  <a:lnTo>
                    <a:pt x="53201" y="315884"/>
                  </a:lnTo>
                  <a:lnTo>
                    <a:pt x="133004" y="415637"/>
                  </a:lnTo>
                  <a:lnTo>
                    <a:pt x="209481" y="452213"/>
                  </a:lnTo>
                  <a:lnTo>
                    <a:pt x="302583" y="442237"/>
                  </a:lnTo>
                  <a:lnTo>
                    <a:pt x="345809" y="399011"/>
                  </a:lnTo>
                  <a:lnTo>
                    <a:pt x="332509" y="285958"/>
                  </a:lnTo>
                  <a:lnTo>
                    <a:pt x="285958" y="133004"/>
                  </a:lnTo>
                  <a:lnTo>
                    <a:pt x="172905" y="39901"/>
                  </a:lnTo>
                  <a:lnTo>
                    <a:pt x="76477" y="0"/>
                  </a:lnTo>
                  <a:lnTo>
                    <a:pt x="16625" y="9976"/>
                  </a:lnTo>
                  <a:lnTo>
                    <a:pt x="3325" y="66502"/>
                  </a:lnTo>
                  <a:close/>
                </a:path>
              </a:pathLst>
            </a:custGeom>
            <a:solidFill>
              <a:srgbClr val="a6a6a6">
                <a:alpha val="2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任意多边形 140"/>
            <p:cNvSpPr/>
            <p:nvPr/>
          </p:nvSpPr>
          <p:spPr>
            <a:xfrm rot="4596600">
              <a:off x="1613880" y="4174560"/>
              <a:ext cx="204120" cy="266760"/>
            </a:xfrm>
            <a:custGeom>
              <a:avLst/>
              <a:gdLst>
                <a:gd name="textAreaLeft" fmla="*/ 0 w 204120"/>
                <a:gd name="textAreaRight" fmla="*/ 204480 w 204120"/>
                <a:gd name="textAreaTop" fmla="*/ 0 h 266760"/>
                <a:gd name="textAreaBottom" fmla="*/ 267120 h 266760"/>
              </a:gdLst>
              <a:ahLst/>
              <a:rect l="textAreaLeft" t="textAreaTop" r="textAreaRight" b="textAreaBottom"/>
              <a:pathLst>
                <a:path w="345809" h="452213">
                  <a:moveTo>
                    <a:pt x="3325" y="66502"/>
                  </a:moveTo>
                  <a:cubicBezTo>
                    <a:pt x="2217" y="110837"/>
                    <a:pt x="1108" y="155171"/>
                    <a:pt x="0" y="199506"/>
                  </a:cubicBezTo>
                  <a:lnTo>
                    <a:pt x="53201" y="315884"/>
                  </a:lnTo>
                  <a:lnTo>
                    <a:pt x="133004" y="415637"/>
                  </a:lnTo>
                  <a:lnTo>
                    <a:pt x="209481" y="452213"/>
                  </a:lnTo>
                  <a:lnTo>
                    <a:pt x="302583" y="442237"/>
                  </a:lnTo>
                  <a:lnTo>
                    <a:pt x="345809" y="399011"/>
                  </a:lnTo>
                  <a:lnTo>
                    <a:pt x="332509" y="285958"/>
                  </a:lnTo>
                  <a:lnTo>
                    <a:pt x="285958" y="133004"/>
                  </a:lnTo>
                  <a:lnTo>
                    <a:pt x="172905" y="39901"/>
                  </a:lnTo>
                  <a:lnTo>
                    <a:pt x="76477" y="0"/>
                  </a:lnTo>
                  <a:lnTo>
                    <a:pt x="16625" y="9976"/>
                  </a:lnTo>
                  <a:lnTo>
                    <a:pt x="3325" y="66502"/>
                  </a:lnTo>
                  <a:close/>
                </a:path>
              </a:pathLst>
            </a:custGeom>
            <a:solidFill>
              <a:srgbClr val="3f3f3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任意多边形 141"/>
            <p:cNvSpPr/>
            <p:nvPr/>
          </p:nvSpPr>
          <p:spPr>
            <a:xfrm rot="4042800">
              <a:off x="1913400" y="4501440"/>
              <a:ext cx="204120" cy="266760"/>
            </a:xfrm>
            <a:custGeom>
              <a:avLst/>
              <a:gdLst>
                <a:gd name="textAreaLeft" fmla="*/ 0 w 204120"/>
                <a:gd name="textAreaRight" fmla="*/ 204480 w 204120"/>
                <a:gd name="textAreaTop" fmla="*/ 0 h 266760"/>
                <a:gd name="textAreaBottom" fmla="*/ 267120 h 266760"/>
              </a:gdLst>
              <a:ahLst/>
              <a:rect l="textAreaLeft" t="textAreaTop" r="textAreaRight" b="textAreaBottom"/>
              <a:pathLst>
                <a:path w="345809" h="452213">
                  <a:moveTo>
                    <a:pt x="3325" y="66502"/>
                  </a:moveTo>
                  <a:cubicBezTo>
                    <a:pt x="2217" y="110837"/>
                    <a:pt x="1108" y="155171"/>
                    <a:pt x="0" y="199506"/>
                  </a:cubicBezTo>
                  <a:lnTo>
                    <a:pt x="53201" y="315884"/>
                  </a:lnTo>
                  <a:lnTo>
                    <a:pt x="133004" y="415637"/>
                  </a:lnTo>
                  <a:lnTo>
                    <a:pt x="209481" y="452213"/>
                  </a:lnTo>
                  <a:lnTo>
                    <a:pt x="302583" y="442237"/>
                  </a:lnTo>
                  <a:lnTo>
                    <a:pt x="345809" y="399011"/>
                  </a:lnTo>
                  <a:lnTo>
                    <a:pt x="332509" y="285958"/>
                  </a:lnTo>
                  <a:lnTo>
                    <a:pt x="285958" y="133004"/>
                  </a:lnTo>
                  <a:lnTo>
                    <a:pt x="172905" y="39901"/>
                  </a:lnTo>
                  <a:lnTo>
                    <a:pt x="76477" y="0"/>
                  </a:lnTo>
                  <a:lnTo>
                    <a:pt x="16625" y="9976"/>
                  </a:lnTo>
                  <a:lnTo>
                    <a:pt x="3325" y="66502"/>
                  </a:lnTo>
                  <a:close/>
                </a:path>
              </a:pathLst>
            </a:custGeom>
            <a:solidFill>
              <a:srgbClr val="a6a6a6">
                <a:alpha val="2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10" name="Picture 3" descr=""/>
          <p:cNvPicPr/>
          <p:nvPr/>
        </p:nvPicPr>
        <p:blipFill>
          <a:blip r:embed="rId5"/>
          <a:stretch/>
        </p:blipFill>
        <p:spPr>
          <a:xfrm>
            <a:off x="4981680" y="700200"/>
            <a:ext cx="3603600" cy="1139760"/>
          </a:xfrm>
          <a:prstGeom prst="rect">
            <a:avLst/>
          </a:prstGeom>
          <a:ln w="0">
            <a:noFill/>
          </a:ln>
        </p:spPr>
      </p:pic>
      <p:sp>
        <p:nvSpPr>
          <p:cNvPr id="311" name="矩形 6"/>
          <p:cNvSpPr/>
          <p:nvPr/>
        </p:nvSpPr>
        <p:spPr>
          <a:xfrm>
            <a:off x="19037160" y="0"/>
            <a:ext cx="863640" cy="411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95e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-1701720" y="7827840"/>
            <a:ext cx="19514880" cy="2298960"/>
            <a:chOff x="-1701720" y="7827840"/>
            <a:chExt cx="19514880" cy="2298960"/>
          </a:xfrm>
        </p:grpSpPr>
        <p:sp>
          <p:nvSpPr>
            <p:cNvPr id="313" name="矩形 2"/>
            <p:cNvSpPr/>
            <p:nvPr/>
          </p:nvSpPr>
          <p:spPr>
            <a:xfrm>
              <a:off x="-1689120" y="7827840"/>
              <a:ext cx="19486080" cy="223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矩形 2"/>
            <p:cNvSpPr/>
            <p:nvPr/>
          </p:nvSpPr>
          <p:spPr>
            <a:xfrm>
              <a:off x="-1701720" y="7827840"/>
              <a:ext cx="19514880" cy="2298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15" name="Picture 4" descr=""/>
          <p:cNvPicPr/>
          <p:nvPr/>
        </p:nvPicPr>
        <p:blipFill>
          <a:blip r:embed="rId6"/>
          <a:stretch/>
        </p:blipFill>
        <p:spPr>
          <a:xfrm>
            <a:off x="4981680" y="700200"/>
            <a:ext cx="2711520" cy="1139760"/>
          </a:xfrm>
          <a:prstGeom prst="rect">
            <a:avLst/>
          </a:prstGeom>
          <a:ln w="0">
            <a:noFill/>
          </a:ln>
        </p:spPr>
      </p:pic>
      <p:grpSp>
        <p:nvGrpSpPr>
          <p:cNvPr id="316" name=""/>
          <p:cNvGrpSpPr/>
          <p:nvPr/>
        </p:nvGrpSpPr>
        <p:grpSpPr>
          <a:xfrm>
            <a:off x="11023560" y="2582280"/>
            <a:ext cx="6942240" cy="2729520"/>
            <a:chOff x="11023560" y="2582280"/>
            <a:chExt cx="6942240" cy="2729520"/>
          </a:xfrm>
        </p:grpSpPr>
        <p:grpSp>
          <p:nvGrpSpPr>
            <p:cNvPr id="317" name=""/>
            <p:cNvGrpSpPr/>
            <p:nvPr/>
          </p:nvGrpSpPr>
          <p:grpSpPr>
            <a:xfrm>
              <a:off x="11023560" y="2618280"/>
              <a:ext cx="1983600" cy="2693520"/>
              <a:chOff x="11023560" y="2618280"/>
              <a:chExt cx="1983600" cy="2693520"/>
            </a:xfrm>
          </p:grpSpPr>
          <p:sp>
            <p:nvSpPr>
              <p:cNvPr id="318" name="任意多边形 13"/>
              <p:cNvSpPr/>
              <p:nvPr/>
            </p:nvSpPr>
            <p:spPr>
              <a:xfrm>
                <a:off x="11023560" y="2772720"/>
                <a:ext cx="1640160" cy="2485440"/>
              </a:xfrm>
              <a:custGeom>
                <a:avLst/>
                <a:gdLst>
                  <a:gd name="textAreaLeft" fmla="*/ 0 w 1640160"/>
                  <a:gd name="textAreaRight" fmla="*/ 1640520 w 1640160"/>
                  <a:gd name="textAreaTop" fmla="*/ 0 h 2485440"/>
                  <a:gd name="textAreaBottom" fmla="*/ 2485800 h 2485440"/>
                </a:gdLst>
                <a:ahLst/>
                <a:rect l="textAreaLeft" t="textAreaTop" r="textAreaRight" b="textAreaBottom"/>
                <a:pathLst>
                  <a:path w="1639957" h="2484967">
                    <a:moveTo>
                      <a:pt x="1123122" y="30002"/>
                    </a:moveTo>
                    <a:cubicBezTo>
                      <a:pt x="1065144" y="38285"/>
                      <a:pt x="1087699" y="39175"/>
                      <a:pt x="1073426" y="49880"/>
                    </a:cubicBezTo>
                    <a:cubicBezTo>
                      <a:pt x="1060174" y="59819"/>
                      <a:pt x="1055322" y="77924"/>
                      <a:pt x="1043609" y="89637"/>
                    </a:cubicBezTo>
                    <a:cubicBezTo>
                      <a:pt x="1035162" y="98084"/>
                      <a:pt x="1023730" y="102889"/>
                      <a:pt x="1013791" y="109515"/>
                    </a:cubicBezTo>
                    <a:cubicBezTo>
                      <a:pt x="999298" y="128839"/>
                      <a:pt x="983837" y="153357"/>
                      <a:pt x="964096" y="169150"/>
                    </a:cubicBezTo>
                    <a:cubicBezTo>
                      <a:pt x="954768" y="176612"/>
                      <a:pt x="945610" y="185251"/>
                      <a:pt x="934278" y="189028"/>
                    </a:cubicBezTo>
                    <a:cubicBezTo>
                      <a:pt x="915160" y="195401"/>
                      <a:pt x="894521" y="195654"/>
                      <a:pt x="874643" y="198967"/>
                    </a:cubicBezTo>
                    <a:cubicBezTo>
                      <a:pt x="852188" y="266331"/>
                      <a:pt x="886496" y="193040"/>
                      <a:pt x="795130" y="238724"/>
                    </a:cubicBezTo>
                    <a:cubicBezTo>
                      <a:pt x="785759" y="243409"/>
                      <a:pt x="789876" y="259170"/>
                      <a:pt x="785191" y="268541"/>
                    </a:cubicBezTo>
                    <a:cubicBezTo>
                      <a:pt x="760872" y="317179"/>
                      <a:pt x="773165" y="281263"/>
                      <a:pt x="745435" y="318237"/>
                    </a:cubicBezTo>
                    <a:cubicBezTo>
                      <a:pt x="731101" y="337349"/>
                      <a:pt x="718930" y="357993"/>
                      <a:pt x="705678" y="377871"/>
                    </a:cubicBezTo>
                    <a:lnTo>
                      <a:pt x="685800" y="407689"/>
                    </a:lnTo>
                    <a:cubicBezTo>
                      <a:pt x="682487" y="420941"/>
                      <a:pt x="681970" y="435227"/>
                      <a:pt x="675861" y="447445"/>
                    </a:cubicBezTo>
                    <a:cubicBezTo>
                      <a:pt x="671670" y="455827"/>
                      <a:pt x="658256" y="458233"/>
                      <a:pt x="655983" y="467324"/>
                    </a:cubicBezTo>
                    <a:cubicBezTo>
                      <a:pt x="644619" y="512778"/>
                      <a:pt x="650920" y="562022"/>
                      <a:pt x="636104" y="606471"/>
                    </a:cubicBezTo>
                    <a:cubicBezTo>
                      <a:pt x="629478" y="626349"/>
                      <a:pt x="636773" y="661997"/>
                      <a:pt x="616226" y="666106"/>
                    </a:cubicBezTo>
                    <a:cubicBezTo>
                      <a:pt x="543558" y="680639"/>
                      <a:pt x="583254" y="673656"/>
                      <a:pt x="496957" y="685984"/>
                    </a:cubicBezTo>
                    <a:cubicBezTo>
                      <a:pt x="490331" y="692610"/>
                      <a:pt x="481899" y="697827"/>
                      <a:pt x="477078" y="705863"/>
                    </a:cubicBezTo>
                    <a:cubicBezTo>
                      <a:pt x="471688" y="714847"/>
                      <a:pt x="471824" y="726309"/>
                      <a:pt x="467139" y="735680"/>
                    </a:cubicBezTo>
                    <a:cubicBezTo>
                      <a:pt x="461797" y="746364"/>
                      <a:pt x="453887" y="755558"/>
                      <a:pt x="447261" y="765497"/>
                    </a:cubicBezTo>
                    <a:cubicBezTo>
                      <a:pt x="443948" y="845010"/>
                      <a:pt x="445800" y="924908"/>
                      <a:pt x="437322" y="1004037"/>
                    </a:cubicBezTo>
                    <a:cubicBezTo>
                      <a:pt x="435744" y="1018769"/>
                      <a:pt x="423280" y="1030175"/>
                      <a:pt x="417443" y="1043793"/>
                    </a:cubicBezTo>
                    <a:cubicBezTo>
                      <a:pt x="413316" y="1053422"/>
                      <a:pt x="412189" y="1064239"/>
                      <a:pt x="407504" y="1073610"/>
                    </a:cubicBezTo>
                    <a:cubicBezTo>
                      <a:pt x="400236" y="1088147"/>
                      <a:pt x="364566" y="1134175"/>
                      <a:pt x="357809" y="1143184"/>
                    </a:cubicBezTo>
                    <a:cubicBezTo>
                      <a:pt x="331534" y="1222012"/>
                      <a:pt x="371232" y="1117732"/>
                      <a:pt x="318052" y="1202819"/>
                    </a:cubicBezTo>
                    <a:cubicBezTo>
                      <a:pt x="308596" y="1217948"/>
                      <a:pt x="305420" y="1236211"/>
                      <a:pt x="298174" y="1252515"/>
                    </a:cubicBezTo>
                    <a:cubicBezTo>
                      <a:pt x="292157" y="1266054"/>
                      <a:pt x="284132" y="1278653"/>
                      <a:pt x="278296" y="1292271"/>
                    </a:cubicBezTo>
                    <a:cubicBezTo>
                      <a:pt x="274169" y="1301901"/>
                      <a:pt x="273042" y="1312718"/>
                      <a:pt x="268357" y="1322089"/>
                    </a:cubicBezTo>
                    <a:cubicBezTo>
                      <a:pt x="263015" y="1332773"/>
                      <a:pt x="254405" y="1341535"/>
                      <a:pt x="248478" y="1351906"/>
                    </a:cubicBezTo>
                    <a:cubicBezTo>
                      <a:pt x="241127" y="1364770"/>
                      <a:pt x="234436" y="1378044"/>
                      <a:pt x="228600" y="1391663"/>
                    </a:cubicBezTo>
                    <a:cubicBezTo>
                      <a:pt x="224473" y="1401293"/>
                      <a:pt x="224472" y="1412763"/>
                      <a:pt x="218661" y="1421480"/>
                    </a:cubicBezTo>
                    <a:cubicBezTo>
                      <a:pt x="210864" y="1433175"/>
                      <a:pt x="198782" y="1441358"/>
                      <a:pt x="188843" y="1451297"/>
                    </a:cubicBezTo>
                    <a:cubicBezTo>
                      <a:pt x="174622" y="1493962"/>
                      <a:pt x="171023" y="1514129"/>
                      <a:pt x="149087" y="1550689"/>
                    </a:cubicBezTo>
                    <a:cubicBezTo>
                      <a:pt x="136795" y="1571175"/>
                      <a:pt x="109330" y="1610324"/>
                      <a:pt x="109330" y="1610324"/>
                    </a:cubicBezTo>
                    <a:cubicBezTo>
                      <a:pt x="106017" y="1626889"/>
                      <a:pt x="106946" y="1644909"/>
                      <a:pt x="99391" y="1660019"/>
                    </a:cubicBezTo>
                    <a:cubicBezTo>
                      <a:pt x="53203" y="1752395"/>
                      <a:pt x="80699" y="1635397"/>
                      <a:pt x="59635" y="1719654"/>
                    </a:cubicBezTo>
                    <a:cubicBezTo>
                      <a:pt x="55538" y="1736043"/>
                      <a:pt x="54141" y="1753052"/>
                      <a:pt x="49696" y="1769350"/>
                    </a:cubicBezTo>
                    <a:cubicBezTo>
                      <a:pt x="44183" y="1789565"/>
                      <a:pt x="36443" y="1809106"/>
                      <a:pt x="29817" y="1828984"/>
                    </a:cubicBezTo>
                    <a:cubicBezTo>
                      <a:pt x="26504" y="1838923"/>
                      <a:pt x="21933" y="1848529"/>
                      <a:pt x="19878" y="1858802"/>
                    </a:cubicBezTo>
                    <a:cubicBezTo>
                      <a:pt x="7884" y="1918770"/>
                      <a:pt x="15281" y="1892471"/>
                      <a:pt x="0" y="1938315"/>
                    </a:cubicBezTo>
                    <a:cubicBezTo>
                      <a:pt x="3313" y="1994637"/>
                      <a:pt x="4590" y="2051115"/>
                      <a:pt x="9939" y="2107280"/>
                    </a:cubicBezTo>
                    <a:cubicBezTo>
                      <a:pt x="11234" y="2120879"/>
                      <a:pt x="14497" y="2134481"/>
                      <a:pt x="19878" y="2147037"/>
                    </a:cubicBezTo>
                    <a:cubicBezTo>
                      <a:pt x="24584" y="2158017"/>
                      <a:pt x="33131" y="2166915"/>
                      <a:pt x="39757" y="2176854"/>
                    </a:cubicBezTo>
                    <a:cubicBezTo>
                      <a:pt x="63587" y="2248344"/>
                      <a:pt x="34675" y="2159067"/>
                      <a:pt x="59635" y="2246428"/>
                    </a:cubicBezTo>
                    <a:cubicBezTo>
                      <a:pt x="62513" y="2256502"/>
                      <a:pt x="66696" y="2266171"/>
                      <a:pt x="69574" y="2276245"/>
                    </a:cubicBezTo>
                    <a:cubicBezTo>
                      <a:pt x="73327" y="2289380"/>
                      <a:pt x="74132" y="2303446"/>
                      <a:pt x="79513" y="2316002"/>
                    </a:cubicBezTo>
                    <a:cubicBezTo>
                      <a:pt x="84218" y="2326981"/>
                      <a:pt x="93464" y="2335448"/>
                      <a:pt x="99391" y="2345819"/>
                    </a:cubicBezTo>
                    <a:cubicBezTo>
                      <a:pt x="106742" y="2358683"/>
                      <a:pt x="111647" y="2372871"/>
                      <a:pt x="119270" y="2385576"/>
                    </a:cubicBezTo>
                    <a:cubicBezTo>
                      <a:pt x="131562" y="2406062"/>
                      <a:pt x="142133" y="2428317"/>
                      <a:pt x="159026" y="2445210"/>
                    </a:cubicBezTo>
                    <a:lnTo>
                      <a:pt x="198783" y="2484967"/>
                    </a:lnTo>
                    <a:cubicBezTo>
                      <a:pt x="304800" y="2481654"/>
                      <a:pt x="411095" y="2483376"/>
                      <a:pt x="516835" y="2475028"/>
                    </a:cubicBezTo>
                    <a:cubicBezTo>
                      <a:pt x="537724" y="2473379"/>
                      <a:pt x="576470" y="2455150"/>
                      <a:pt x="576470" y="2455150"/>
                    </a:cubicBezTo>
                    <a:cubicBezTo>
                      <a:pt x="647994" y="2407465"/>
                      <a:pt x="559932" y="2474990"/>
                      <a:pt x="626165" y="2375637"/>
                    </a:cubicBezTo>
                    <a:cubicBezTo>
                      <a:pt x="632791" y="2365698"/>
                      <a:pt x="638581" y="2355147"/>
                      <a:pt x="646043" y="2345819"/>
                    </a:cubicBezTo>
                    <a:cubicBezTo>
                      <a:pt x="702699" y="2275000"/>
                      <a:pt x="624611" y="2387907"/>
                      <a:pt x="685800" y="2296124"/>
                    </a:cubicBezTo>
                    <a:cubicBezTo>
                      <a:pt x="687657" y="2288698"/>
                      <a:pt x="699567" y="2236735"/>
                      <a:pt x="705678" y="2226550"/>
                    </a:cubicBezTo>
                    <a:cubicBezTo>
                      <a:pt x="710499" y="2218514"/>
                      <a:pt x="719703" y="2213989"/>
                      <a:pt x="725557" y="2206671"/>
                    </a:cubicBezTo>
                    <a:cubicBezTo>
                      <a:pt x="763534" y="2159200"/>
                      <a:pt x="730881" y="2196024"/>
                      <a:pt x="755374" y="2147037"/>
                    </a:cubicBezTo>
                    <a:cubicBezTo>
                      <a:pt x="784412" y="2088959"/>
                      <a:pt x="768537" y="2145691"/>
                      <a:pt x="785191" y="2087402"/>
                    </a:cubicBezTo>
                    <a:cubicBezTo>
                      <a:pt x="795993" y="2049596"/>
                      <a:pt x="793735" y="2014982"/>
                      <a:pt x="844826" y="1997950"/>
                    </a:cubicBezTo>
                    <a:cubicBezTo>
                      <a:pt x="915623" y="1974349"/>
                      <a:pt x="864197" y="1988814"/>
                      <a:pt x="1003852" y="1978071"/>
                    </a:cubicBezTo>
                    <a:cubicBezTo>
                      <a:pt x="1013791" y="1971445"/>
                      <a:pt x="1022986" y="1963535"/>
                      <a:pt x="1033670" y="1958193"/>
                    </a:cubicBezTo>
                    <a:cubicBezTo>
                      <a:pt x="1043041" y="1953508"/>
                      <a:pt x="1055106" y="1954540"/>
                      <a:pt x="1063487" y="1948254"/>
                    </a:cubicBezTo>
                    <a:cubicBezTo>
                      <a:pt x="1102249" y="1919182"/>
                      <a:pt x="1110070" y="1903227"/>
                      <a:pt x="1133061" y="1868741"/>
                    </a:cubicBezTo>
                    <a:cubicBezTo>
                      <a:pt x="1136210" y="1840400"/>
                      <a:pt x="1136288" y="1782773"/>
                      <a:pt x="1152939" y="1749471"/>
                    </a:cubicBezTo>
                    <a:cubicBezTo>
                      <a:pt x="1160764" y="1733820"/>
                      <a:pt x="1177903" y="1710871"/>
                      <a:pt x="1192696" y="1699776"/>
                    </a:cubicBezTo>
                    <a:cubicBezTo>
                      <a:pt x="1211808" y="1685442"/>
                      <a:pt x="1235437" y="1676912"/>
                      <a:pt x="1252330" y="1660019"/>
                    </a:cubicBezTo>
                    <a:cubicBezTo>
                      <a:pt x="1268895" y="1643454"/>
                      <a:pt x="1282534" y="1623319"/>
                      <a:pt x="1302026" y="1610324"/>
                    </a:cubicBezTo>
                    <a:lnTo>
                      <a:pt x="1361661" y="1570567"/>
                    </a:lnTo>
                    <a:cubicBezTo>
                      <a:pt x="1371600" y="1563941"/>
                      <a:pt x="1383031" y="1559136"/>
                      <a:pt x="1391478" y="1550689"/>
                    </a:cubicBezTo>
                    <a:cubicBezTo>
                      <a:pt x="1398104" y="1544063"/>
                      <a:pt x="1402975" y="1535001"/>
                      <a:pt x="1411357" y="1530810"/>
                    </a:cubicBezTo>
                    <a:cubicBezTo>
                      <a:pt x="1435555" y="1518711"/>
                      <a:pt x="1482214" y="1508126"/>
                      <a:pt x="1510748" y="1500993"/>
                    </a:cubicBezTo>
                    <a:cubicBezTo>
                      <a:pt x="1530626" y="1487741"/>
                      <a:pt x="1562828" y="1483902"/>
                      <a:pt x="1570383" y="1461237"/>
                    </a:cubicBezTo>
                    <a:cubicBezTo>
                      <a:pt x="1573696" y="1451298"/>
                      <a:pt x="1572914" y="1438827"/>
                      <a:pt x="1580322" y="1431419"/>
                    </a:cubicBezTo>
                    <a:cubicBezTo>
                      <a:pt x="1597215" y="1414526"/>
                      <a:pt x="1639957" y="1391663"/>
                      <a:pt x="1639957" y="1391663"/>
                    </a:cubicBezTo>
                    <a:cubicBezTo>
                      <a:pt x="1636644" y="1358532"/>
                      <a:pt x="1635080" y="1325180"/>
                      <a:pt x="1630017" y="1292271"/>
                    </a:cubicBezTo>
                    <a:cubicBezTo>
                      <a:pt x="1628424" y="1281916"/>
                      <a:pt x="1626364" y="1270835"/>
                      <a:pt x="1620078" y="1262454"/>
                    </a:cubicBezTo>
                    <a:cubicBezTo>
                      <a:pt x="1586782" y="1218059"/>
                      <a:pt x="1555923" y="1203118"/>
                      <a:pt x="1510748" y="1173002"/>
                    </a:cubicBezTo>
                    <a:cubicBezTo>
                      <a:pt x="1500809" y="1166376"/>
                      <a:pt x="1489377" y="1161571"/>
                      <a:pt x="1480930" y="1153124"/>
                    </a:cubicBezTo>
                    <a:lnTo>
                      <a:pt x="1461052" y="1133245"/>
                    </a:lnTo>
                    <a:cubicBezTo>
                      <a:pt x="1473590" y="1032938"/>
                      <a:pt x="1462544" y="1079073"/>
                      <a:pt x="1490870" y="994097"/>
                    </a:cubicBezTo>
                    <a:lnTo>
                      <a:pt x="1500809" y="964280"/>
                    </a:lnTo>
                    <a:cubicBezTo>
                      <a:pt x="1497496" y="937776"/>
                      <a:pt x="1495648" y="911047"/>
                      <a:pt x="1490870" y="884767"/>
                    </a:cubicBezTo>
                    <a:cubicBezTo>
                      <a:pt x="1488996" y="874459"/>
                      <a:pt x="1489647" y="860761"/>
                      <a:pt x="1480930" y="854950"/>
                    </a:cubicBezTo>
                    <a:cubicBezTo>
                      <a:pt x="1466874" y="845579"/>
                      <a:pt x="1447800" y="848323"/>
                      <a:pt x="1431235" y="845010"/>
                    </a:cubicBezTo>
                    <a:cubicBezTo>
                      <a:pt x="1441174" y="838384"/>
                      <a:pt x="1454426" y="835071"/>
                      <a:pt x="1461052" y="825132"/>
                    </a:cubicBezTo>
                    <a:cubicBezTo>
                      <a:pt x="1468629" y="813766"/>
                      <a:pt x="1465610" y="797931"/>
                      <a:pt x="1470991" y="785376"/>
                    </a:cubicBezTo>
                    <a:cubicBezTo>
                      <a:pt x="1475697" y="774396"/>
                      <a:pt x="1484244" y="765497"/>
                      <a:pt x="1490870" y="755558"/>
                    </a:cubicBezTo>
                    <a:cubicBezTo>
                      <a:pt x="1494183" y="745619"/>
                      <a:pt x="1502532" y="736075"/>
                      <a:pt x="1500809" y="725741"/>
                    </a:cubicBezTo>
                    <a:cubicBezTo>
                      <a:pt x="1495520" y="694008"/>
                      <a:pt x="1474369" y="693737"/>
                      <a:pt x="1451113" y="685984"/>
                    </a:cubicBezTo>
                    <a:cubicBezTo>
                      <a:pt x="1431235" y="659480"/>
                      <a:pt x="1414905" y="629898"/>
                      <a:pt x="1391478" y="606471"/>
                    </a:cubicBezTo>
                    <a:cubicBezTo>
                      <a:pt x="1353214" y="568207"/>
                      <a:pt x="1369458" y="588349"/>
                      <a:pt x="1341783" y="546837"/>
                    </a:cubicBezTo>
                    <a:cubicBezTo>
                      <a:pt x="1364974" y="477263"/>
                      <a:pt x="1341783" y="493828"/>
                      <a:pt x="1391478" y="477263"/>
                    </a:cubicBezTo>
                    <a:cubicBezTo>
                      <a:pt x="1423970" y="379784"/>
                      <a:pt x="1371292" y="517480"/>
                      <a:pt x="1431235" y="427567"/>
                    </a:cubicBezTo>
                    <a:cubicBezTo>
                      <a:pt x="1438812" y="416201"/>
                      <a:pt x="1437421" y="400945"/>
                      <a:pt x="1441174" y="387810"/>
                    </a:cubicBezTo>
                    <a:cubicBezTo>
                      <a:pt x="1451461" y="351805"/>
                      <a:pt x="1449212" y="360845"/>
                      <a:pt x="1470991" y="328176"/>
                    </a:cubicBezTo>
                    <a:cubicBezTo>
                      <a:pt x="1477617" y="301672"/>
                      <a:pt x="1468138" y="263818"/>
                      <a:pt x="1490870" y="248663"/>
                    </a:cubicBezTo>
                    <a:lnTo>
                      <a:pt x="1550504" y="208906"/>
                    </a:lnTo>
                    <a:cubicBezTo>
                      <a:pt x="1557130" y="198967"/>
                      <a:pt x="1562921" y="188417"/>
                      <a:pt x="1570383" y="179089"/>
                    </a:cubicBezTo>
                    <a:cubicBezTo>
                      <a:pt x="1576237" y="171772"/>
                      <a:pt x="1586570" y="167823"/>
                      <a:pt x="1590261" y="159210"/>
                    </a:cubicBezTo>
                    <a:cubicBezTo>
                      <a:pt x="1596915" y="143683"/>
                      <a:pt x="1596887" y="126080"/>
                      <a:pt x="1600200" y="109515"/>
                    </a:cubicBezTo>
                    <a:cubicBezTo>
                      <a:pt x="1596887" y="86324"/>
                      <a:pt x="1602677" y="59807"/>
                      <a:pt x="1590261" y="39941"/>
                    </a:cubicBezTo>
                    <a:cubicBezTo>
                      <a:pt x="1583021" y="28357"/>
                      <a:pt x="1563060" y="35383"/>
                      <a:pt x="1550504" y="30002"/>
                    </a:cubicBezTo>
                    <a:cubicBezTo>
                      <a:pt x="1466662" y="-5930"/>
                      <a:pt x="1605941" y="4581"/>
                      <a:pt x="1421296" y="184"/>
                    </a:cubicBezTo>
                    <a:cubicBezTo>
                      <a:pt x="1315308" y="-2340"/>
                      <a:pt x="1181100" y="21719"/>
                      <a:pt x="1123122" y="30002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19" name=""/>
              <p:cNvGrpSpPr/>
              <p:nvPr/>
            </p:nvGrpSpPr>
            <p:grpSpPr>
              <a:xfrm>
                <a:off x="12081600" y="2618280"/>
                <a:ext cx="804600" cy="620640"/>
                <a:chOff x="12081600" y="2618280"/>
                <a:chExt cx="804600" cy="620640"/>
              </a:xfrm>
            </p:grpSpPr>
            <p:sp>
              <p:nvSpPr>
                <p:cNvPr id="320" name="任意多边形 165"/>
                <p:cNvSpPr/>
                <p:nvPr/>
              </p:nvSpPr>
              <p:spPr>
                <a:xfrm rot="19641000">
                  <a:off x="12073680" y="2822760"/>
                  <a:ext cx="820080" cy="211680"/>
                </a:xfrm>
                <a:custGeom>
                  <a:avLst/>
                  <a:gdLst>
                    <a:gd name="textAreaLeft" fmla="*/ 0 w 820080"/>
                    <a:gd name="textAreaRight" fmla="*/ 820440 w 820080"/>
                    <a:gd name="textAreaTop" fmla="*/ 0 h 211680"/>
                    <a:gd name="textAreaBottom" fmla="*/ 212040 h 211680"/>
                  </a:gdLst>
                  <a:ahLst/>
                  <a:rect l="textAreaLeft" t="textAreaTop" r="textAreaRight" b="textAreaBottom"/>
                  <a:pathLst>
                    <a:path w="2065867" h="4030133">
                      <a:moveTo>
                        <a:pt x="270933" y="677333"/>
                      </a:moveTo>
                      <a:cubicBezTo>
                        <a:pt x="259644" y="733778"/>
                        <a:pt x="257278" y="792770"/>
                        <a:pt x="237067" y="846667"/>
                      </a:cubicBezTo>
                      <a:cubicBezTo>
                        <a:pt x="222775" y="884778"/>
                        <a:pt x="187536" y="911861"/>
                        <a:pt x="169333" y="948267"/>
                      </a:cubicBezTo>
                      <a:cubicBezTo>
                        <a:pt x="153368" y="980197"/>
                        <a:pt x="146756" y="1016000"/>
                        <a:pt x="135467" y="1049867"/>
                      </a:cubicBezTo>
                      <a:cubicBezTo>
                        <a:pt x="124178" y="1128889"/>
                        <a:pt x="124537" y="1210475"/>
                        <a:pt x="101600" y="1286933"/>
                      </a:cubicBezTo>
                      <a:cubicBezTo>
                        <a:pt x="89904" y="1325919"/>
                        <a:pt x="52070" y="1352127"/>
                        <a:pt x="33867" y="1388533"/>
                      </a:cubicBezTo>
                      <a:cubicBezTo>
                        <a:pt x="17902" y="1420463"/>
                        <a:pt x="11289" y="1456266"/>
                        <a:pt x="0" y="1490133"/>
                      </a:cubicBezTo>
                      <a:cubicBezTo>
                        <a:pt x="11289" y="1648178"/>
                        <a:pt x="6331" y="1808231"/>
                        <a:pt x="33867" y="1964267"/>
                      </a:cubicBezTo>
                      <a:cubicBezTo>
                        <a:pt x="40941" y="2004350"/>
                        <a:pt x="77942" y="2032746"/>
                        <a:pt x="101600" y="2065867"/>
                      </a:cubicBezTo>
                      <a:cubicBezTo>
                        <a:pt x="134408" y="2111798"/>
                        <a:pt x="167065" y="2157971"/>
                        <a:pt x="203200" y="2201333"/>
                      </a:cubicBezTo>
                      <a:cubicBezTo>
                        <a:pt x="223641" y="2225862"/>
                        <a:pt x="253221" y="2242500"/>
                        <a:pt x="270933" y="2269067"/>
                      </a:cubicBezTo>
                      <a:cubicBezTo>
                        <a:pt x="298937" y="2311073"/>
                        <a:pt x="313619" y="2360700"/>
                        <a:pt x="338667" y="2404533"/>
                      </a:cubicBezTo>
                      <a:cubicBezTo>
                        <a:pt x="443708" y="2588354"/>
                        <a:pt x="378175" y="2421458"/>
                        <a:pt x="440267" y="2607733"/>
                      </a:cubicBezTo>
                      <a:cubicBezTo>
                        <a:pt x="451556" y="2686755"/>
                        <a:pt x="448890" y="2769072"/>
                        <a:pt x="474133" y="2844800"/>
                      </a:cubicBezTo>
                      <a:cubicBezTo>
                        <a:pt x="484230" y="2875091"/>
                        <a:pt x="525439" y="2885153"/>
                        <a:pt x="541867" y="2912533"/>
                      </a:cubicBezTo>
                      <a:cubicBezTo>
                        <a:pt x="692110" y="3162937"/>
                        <a:pt x="437916" y="2858793"/>
                        <a:pt x="643467" y="3115733"/>
                      </a:cubicBezTo>
                      <a:cubicBezTo>
                        <a:pt x="663413" y="3140666"/>
                        <a:pt x="691254" y="3158534"/>
                        <a:pt x="711200" y="3183467"/>
                      </a:cubicBezTo>
                      <a:cubicBezTo>
                        <a:pt x="736627" y="3215251"/>
                        <a:pt x="752130" y="3254435"/>
                        <a:pt x="778933" y="3285067"/>
                      </a:cubicBezTo>
                      <a:cubicBezTo>
                        <a:pt x="831498" y="3345141"/>
                        <a:pt x="900372" y="3390540"/>
                        <a:pt x="948267" y="3454400"/>
                      </a:cubicBezTo>
                      <a:cubicBezTo>
                        <a:pt x="982134" y="3499556"/>
                        <a:pt x="1019951" y="3542002"/>
                        <a:pt x="1049867" y="3589867"/>
                      </a:cubicBezTo>
                      <a:cubicBezTo>
                        <a:pt x="1076624" y="3632678"/>
                        <a:pt x="1089596" y="3683327"/>
                        <a:pt x="1117600" y="3725333"/>
                      </a:cubicBezTo>
                      <a:cubicBezTo>
                        <a:pt x="1164328" y="3795425"/>
                        <a:pt x="1222230" y="3809038"/>
                        <a:pt x="1286933" y="3860800"/>
                      </a:cubicBezTo>
                      <a:cubicBezTo>
                        <a:pt x="1311866" y="3880746"/>
                        <a:pt x="1328100" y="3910821"/>
                        <a:pt x="1354667" y="3928533"/>
                      </a:cubicBezTo>
                      <a:cubicBezTo>
                        <a:pt x="1438370" y="3984335"/>
                        <a:pt x="1501418" y="4000029"/>
                        <a:pt x="1591733" y="4030133"/>
                      </a:cubicBezTo>
                      <a:cubicBezTo>
                        <a:pt x="1670755" y="4018844"/>
                        <a:pt x="1753072" y="4021510"/>
                        <a:pt x="1828800" y="3996267"/>
                      </a:cubicBezTo>
                      <a:cubicBezTo>
                        <a:pt x="1947678" y="3956641"/>
                        <a:pt x="1962781" y="3628192"/>
                        <a:pt x="1964267" y="3623733"/>
                      </a:cubicBezTo>
                      <a:cubicBezTo>
                        <a:pt x="1977138" y="3585119"/>
                        <a:pt x="2013797" y="3558539"/>
                        <a:pt x="2032000" y="3522133"/>
                      </a:cubicBezTo>
                      <a:cubicBezTo>
                        <a:pt x="2047965" y="3490203"/>
                        <a:pt x="2054578" y="3454400"/>
                        <a:pt x="2065867" y="3420533"/>
                      </a:cubicBezTo>
                      <a:cubicBezTo>
                        <a:pt x="2054578" y="3318933"/>
                        <a:pt x="2052048" y="3215973"/>
                        <a:pt x="2032000" y="3115733"/>
                      </a:cubicBezTo>
                      <a:cubicBezTo>
                        <a:pt x="2017998" y="3045722"/>
                        <a:pt x="1964267" y="2912533"/>
                        <a:pt x="1964267" y="2912533"/>
                      </a:cubicBezTo>
                      <a:cubicBezTo>
                        <a:pt x="2045473" y="2668911"/>
                        <a:pt x="1946942" y="2973167"/>
                        <a:pt x="2032000" y="2675467"/>
                      </a:cubicBezTo>
                      <a:cubicBezTo>
                        <a:pt x="2041807" y="2641142"/>
                        <a:pt x="2054578" y="2607734"/>
                        <a:pt x="2065867" y="2573867"/>
                      </a:cubicBezTo>
                      <a:cubicBezTo>
                        <a:pt x="1988036" y="2340376"/>
                        <a:pt x="2048618" y="2421153"/>
                        <a:pt x="1930400" y="2302933"/>
                      </a:cubicBezTo>
                      <a:cubicBezTo>
                        <a:pt x="1919111" y="2257778"/>
                        <a:pt x="1909320" y="2212221"/>
                        <a:pt x="1896533" y="2167467"/>
                      </a:cubicBezTo>
                      <a:cubicBezTo>
                        <a:pt x="1886726" y="2133142"/>
                        <a:pt x="1868536" y="2101080"/>
                        <a:pt x="1862667" y="2065867"/>
                      </a:cubicBezTo>
                      <a:cubicBezTo>
                        <a:pt x="1846052" y="1966175"/>
                        <a:pt x="1835554" y="1713597"/>
                        <a:pt x="1794933" y="1591733"/>
                      </a:cubicBezTo>
                      <a:cubicBezTo>
                        <a:pt x="1778968" y="1543839"/>
                        <a:pt x="1753174" y="1499558"/>
                        <a:pt x="1727200" y="1456267"/>
                      </a:cubicBezTo>
                      <a:cubicBezTo>
                        <a:pt x="1685317" y="1386462"/>
                        <a:pt x="1591733" y="1253067"/>
                        <a:pt x="1591733" y="1253067"/>
                      </a:cubicBezTo>
                      <a:cubicBezTo>
                        <a:pt x="1555962" y="1145753"/>
                        <a:pt x="1565165" y="1143657"/>
                        <a:pt x="1490133" y="1049867"/>
                      </a:cubicBezTo>
                      <a:cubicBezTo>
                        <a:pt x="1470187" y="1024934"/>
                        <a:pt x="1442346" y="1007066"/>
                        <a:pt x="1422400" y="982133"/>
                      </a:cubicBezTo>
                      <a:cubicBezTo>
                        <a:pt x="1396973" y="950349"/>
                        <a:pt x="1380094" y="912316"/>
                        <a:pt x="1354667" y="880533"/>
                      </a:cubicBezTo>
                      <a:cubicBezTo>
                        <a:pt x="1334721" y="855600"/>
                        <a:pt x="1306879" y="837733"/>
                        <a:pt x="1286933" y="812800"/>
                      </a:cubicBezTo>
                      <a:cubicBezTo>
                        <a:pt x="1261506" y="781017"/>
                        <a:pt x="1246241" y="741622"/>
                        <a:pt x="1219200" y="711200"/>
                      </a:cubicBezTo>
                      <a:cubicBezTo>
                        <a:pt x="1155561" y="639606"/>
                        <a:pt x="1095702" y="561134"/>
                        <a:pt x="1016000" y="508000"/>
                      </a:cubicBezTo>
                      <a:cubicBezTo>
                        <a:pt x="887833" y="422556"/>
                        <a:pt x="943181" y="469048"/>
                        <a:pt x="846667" y="372533"/>
                      </a:cubicBezTo>
                      <a:cubicBezTo>
                        <a:pt x="835378" y="338666"/>
                        <a:pt x="832602" y="300636"/>
                        <a:pt x="812800" y="270933"/>
                      </a:cubicBezTo>
                      <a:cubicBezTo>
                        <a:pt x="786233" y="231082"/>
                        <a:pt x="749006" y="198737"/>
                        <a:pt x="711200" y="169333"/>
                      </a:cubicBezTo>
                      <a:cubicBezTo>
                        <a:pt x="536524" y="33474"/>
                        <a:pt x="559693" y="51098"/>
                        <a:pt x="406400" y="0"/>
                      </a:cubicBezTo>
                      <a:cubicBezTo>
                        <a:pt x="361244" y="11289"/>
                        <a:pt x="313715" y="15532"/>
                        <a:pt x="270933" y="33867"/>
                      </a:cubicBezTo>
                      <a:cubicBezTo>
                        <a:pt x="53886" y="126887"/>
                        <a:pt x="173770" y="228415"/>
                        <a:pt x="203200" y="508000"/>
                      </a:cubicBezTo>
                      <a:cubicBezTo>
                        <a:pt x="230238" y="764856"/>
                        <a:pt x="168958" y="711013"/>
                        <a:pt x="304800" y="778933"/>
                      </a:cubicBez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1" name="任意多边形 166"/>
                <p:cNvSpPr/>
                <p:nvPr/>
              </p:nvSpPr>
              <p:spPr>
                <a:xfrm rot="18059400">
                  <a:off x="12485160" y="2765880"/>
                  <a:ext cx="241560" cy="171360"/>
                </a:xfrm>
                <a:custGeom>
                  <a:avLst/>
                  <a:gdLst>
                    <a:gd name="textAreaLeft" fmla="*/ 0 w 241560"/>
                    <a:gd name="textAreaRight" fmla="*/ 241920 w 241560"/>
                    <a:gd name="textAreaTop" fmla="*/ 0 h 171360"/>
                    <a:gd name="textAreaBottom" fmla="*/ 171720 h 171360"/>
                  </a:gdLst>
                  <a:ahLst/>
                  <a:rect l="textAreaLeft" t="textAreaTop" r="textAreaRight" b="textAreaBottom"/>
                  <a:pathLst>
                    <a:path w="2065867" h="4030133">
                      <a:moveTo>
                        <a:pt x="270933" y="677333"/>
                      </a:moveTo>
                      <a:cubicBezTo>
                        <a:pt x="259644" y="733778"/>
                        <a:pt x="257278" y="792770"/>
                        <a:pt x="237067" y="846667"/>
                      </a:cubicBezTo>
                      <a:cubicBezTo>
                        <a:pt x="222775" y="884778"/>
                        <a:pt x="187536" y="911861"/>
                        <a:pt x="169333" y="948267"/>
                      </a:cubicBezTo>
                      <a:cubicBezTo>
                        <a:pt x="153368" y="980197"/>
                        <a:pt x="146756" y="1016000"/>
                        <a:pt x="135467" y="1049867"/>
                      </a:cubicBezTo>
                      <a:cubicBezTo>
                        <a:pt x="124178" y="1128889"/>
                        <a:pt x="124537" y="1210475"/>
                        <a:pt x="101600" y="1286933"/>
                      </a:cubicBezTo>
                      <a:cubicBezTo>
                        <a:pt x="89904" y="1325919"/>
                        <a:pt x="52070" y="1352127"/>
                        <a:pt x="33867" y="1388533"/>
                      </a:cubicBezTo>
                      <a:cubicBezTo>
                        <a:pt x="17902" y="1420463"/>
                        <a:pt x="11289" y="1456266"/>
                        <a:pt x="0" y="1490133"/>
                      </a:cubicBezTo>
                      <a:cubicBezTo>
                        <a:pt x="11289" y="1648178"/>
                        <a:pt x="6331" y="1808231"/>
                        <a:pt x="33867" y="1964267"/>
                      </a:cubicBezTo>
                      <a:cubicBezTo>
                        <a:pt x="40941" y="2004350"/>
                        <a:pt x="77942" y="2032746"/>
                        <a:pt x="101600" y="2065867"/>
                      </a:cubicBezTo>
                      <a:cubicBezTo>
                        <a:pt x="134408" y="2111798"/>
                        <a:pt x="167065" y="2157971"/>
                        <a:pt x="203200" y="2201333"/>
                      </a:cubicBezTo>
                      <a:cubicBezTo>
                        <a:pt x="223641" y="2225862"/>
                        <a:pt x="253221" y="2242500"/>
                        <a:pt x="270933" y="2269067"/>
                      </a:cubicBezTo>
                      <a:cubicBezTo>
                        <a:pt x="298937" y="2311073"/>
                        <a:pt x="313619" y="2360700"/>
                        <a:pt x="338667" y="2404533"/>
                      </a:cubicBezTo>
                      <a:cubicBezTo>
                        <a:pt x="443708" y="2588354"/>
                        <a:pt x="378175" y="2421458"/>
                        <a:pt x="440267" y="2607733"/>
                      </a:cubicBezTo>
                      <a:cubicBezTo>
                        <a:pt x="451556" y="2686755"/>
                        <a:pt x="448890" y="2769072"/>
                        <a:pt x="474133" y="2844800"/>
                      </a:cubicBezTo>
                      <a:cubicBezTo>
                        <a:pt x="484230" y="2875091"/>
                        <a:pt x="525439" y="2885153"/>
                        <a:pt x="541867" y="2912533"/>
                      </a:cubicBezTo>
                      <a:cubicBezTo>
                        <a:pt x="692110" y="3162937"/>
                        <a:pt x="437916" y="2858793"/>
                        <a:pt x="643467" y="3115733"/>
                      </a:cubicBezTo>
                      <a:cubicBezTo>
                        <a:pt x="663413" y="3140666"/>
                        <a:pt x="691254" y="3158534"/>
                        <a:pt x="711200" y="3183467"/>
                      </a:cubicBezTo>
                      <a:cubicBezTo>
                        <a:pt x="736627" y="3215251"/>
                        <a:pt x="752130" y="3254435"/>
                        <a:pt x="778933" y="3285067"/>
                      </a:cubicBezTo>
                      <a:cubicBezTo>
                        <a:pt x="831498" y="3345141"/>
                        <a:pt x="900372" y="3390540"/>
                        <a:pt x="948267" y="3454400"/>
                      </a:cubicBezTo>
                      <a:cubicBezTo>
                        <a:pt x="982134" y="3499556"/>
                        <a:pt x="1019951" y="3542002"/>
                        <a:pt x="1049867" y="3589867"/>
                      </a:cubicBezTo>
                      <a:cubicBezTo>
                        <a:pt x="1076624" y="3632678"/>
                        <a:pt x="1089596" y="3683327"/>
                        <a:pt x="1117600" y="3725333"/>
                      </a:cubicBezTo>
                      <a:cubicBezTo>
                        <a:pt x="1164328" y="3795425"/>
                        <a:pt x="1222230" y="3809038"/>
                        <a:pt x="1286933" y="3860800"/>
                      </a:cubicBezTo>
                      <a:cubicBezTo>
                        <a:pt x="1311866" y="3880746"/>
                        <a:pt x="1328100" y="3910821"/>
                        <a:pt x="1354667" y="3928533"/>
                      </a:cubicBezTo>
                      <a:cubicBezTo>
                        <a:pt x="1438370" y="3984335"/>
                        <a:pt x="1501418" y="4000029"/>
                        <a:pt x="1591733" y="4030133"/>
                      </a:cubicBezTo>
                      <a:cubicBezTo>
                        <a:pt x="1670755" y="4018844"/>
                        <a:pt x="1753072" y="4021510"/>
                        <a:pt x="1828800" y="3996267"/>
                      </a:cubicBezTo>
                      <a:cubicBezTo>
                        <a:pt x="1947678" y="3956641"/>
                        <a:pt x="1962781" y="3628192"/>
                        <a:pt x="1964267" y="3623733"/>
                      </a:cubicBezTo>
                      <a:cubicBezTo>
                        <a:pt x="1977138" y="3585119"/>
                        <a:pt x="2013797" y="3558539"/>
                        <a:pt x="2032000" y="3522133"/>
                      </a:cubicBezTo>
                      <a:cubicBezTo>
                        <a:pt x="2047965" y="3490203"/>
                        <a:pt x="2054578" y="3454400"/>
                        <a:pt x="2065867" y="3420533"/>
                      </a:cubicBezTo>
                      <a:cubicBezTo>
                        <a:pt x="2054578" y="3318933"/>
                        <a:pt x="2052048" y="3215973"/>
                        <a:pt x="2032000" y="3115733"/>
                      </a:cubicBezTo>
                      <a:cubicBezTo>
                        <a:pt x="2017998" y="3045722"/>
                        <a:pt x="1964267" y="2912533"/>
                        <a:pt x="1964267" y="2912533"/>
                      </a:cubicBezTo>
                      <a:cubicBezTo>
                        <a:pt x="2045473" y="2668911"/>
                        <a:pt x="1946942" y="2973167"/>
                        <a:pt x="2032000" y="2675467"/>
                      </a:cubicBezTo>
                      <a:cubicBezTo>
                        <a:pt x="2041807" y="2641142"/>
                        <a:pt x="2054578" y="2607734"/>
                        <a:pt x="2065867" y="2573867"/>
                      </a:cubicBezTo>
                      <a:cubicBezTo>
                        <a:pt x="1988036" y="2340376"/>
                        <a:pt x="2048618" y="2421153"/>
                        <a:pt x="1930400" y="2302933"/>
                      </a:cubicBezTo>
                      <a:cubicBezTo>
                        <a:pt x="1919111" y="2257778"/>
                        <a:pt x="1909320" y="2212221"/>
                        <a:pt x="1896533" y="2167467"/>
                      </a:cubicBezTo>
                      <a:cubicBezTo>
                        <a:pt x="1886726" y="2133142"/>
                        <a:pt x="1868536" y="2101080"/>
                        <a:pt x="1862667" y="2065867"/>
                      </a:cubicBezTo>
                      <a:cubicBezTo>
                        <a:pt x="1846052" y="1966175"/>
                        <a:pt x="1835554" y="1713597"/>
                        <a:pt x="1794933" y="1591733"/>
                      </a:cubicBezTo>
                      <a:cubicBezTo>
                        <a:pt x="1778968" y="1543839"/>
                        <a:pt x="1753174" y="1499558"/>
                        <a:pt x="1727200" y="1456267"/>
                      </a:cubicBezTo>
                      <a:cubicBezTo>
                        <a:pt x="1685317" y="1386462"/>
                        <a:pt x="1591733" y="1253067"/>
                        <a:pt x="1591733" y="1253067"/>
                      </a:cubicBezTo>
                      <a:cubicBezTo>
                        <a:pt x="1555962" y="1145753"/>
                        <a:pt x="1565165" y="1143657"/>
                        <a:pt x="1490133" y="1049867"/>
                      </a:cubicBezTo>
                      <a:cubicBezTo>
                        <a:pt x="1470187" y="1024934"/>
                        <a:pt x="1442346" y="1007066"/>
                        <a:pt x="1422400" y="982133"/>
                      </a:cubicBezTo>
                      <a:cubicBezTo>
                        <a:pt x="1396973" y="950349"/>
                        <a:pt x="1380094" y="912316"/>
                        <a:pt x="1354667" y="880533"/>
                      </a:cubicBezTo>
                      <a:cubicBezTo>
                        <a:pt x="1334721" y="855600"/>
                        <a:pt x="1306879" y="837733"/>
                        <a:pt x="1286933" y="812800"/>
                      </a:cubicBezTo>
                      <a:cubicBezTo>
                        <a:pt x="1261506" y="781017"/>
                        <a:pt x="1246241" y="741622"/>
                        <a:pt x="1219200" y="711200"/>
                      </a:cubicBezTo>
                      <a:cubicBezTo>
                        <a:pt x="1155561" y="639606"/>
                        <a:pt x="1095702" y="561134"/>
                        <a:pt x="1016000" y="508000"/>
                      </a:cubicBezTo>
                      <a:cubicBezTo>
                        <a:pt x="887833" y="422556"/>
                        <a:pt x="943181" y="469048"/>
                        <a:pt x="846667" y="372533"/>
                      </a:cubicBezTo>
                      <a:cubicBezTo>
                        <a:pt x="835378" y="338666"/>
                        <a:pt x="832602" y="300636"/>
                        <a:pt x="812800" y="270933"/>
                      </a:cubicBezTo>
                      <a:cubicBezTo>
                        <a:pt x="786233" y="231082"/>
                        <a:pt x="749006" y="198737"/>
                        <a:pt x="711200" y="169333"/>
                      </a:cubicBezTo>
                      <a:cubicBezTo>
                        <a:pt x="536524" y="33474"/>
                        <a:pt x="559693" y="51098"/>
                        <a:pt x="406400" y="0"/>
                      </a:cubicBezTo>
                      <a:cubicBezTo>
                        <a:pt x="361244" y="11289"/>
                        <a:pt x="313715" y="15532"/>
                        <a:pt x="270933" y="33867"/>
                      </a:cubicBezTo>
                      <a:cubicBezTo>
                        <a:pt x="53886" y="126887"/>
                        <a:pt x="173770" y="228415"/>
                        <a:pt x="203200" y="508000"/>
                      </a:cubicBezTo>
                      <a:cubicBezTo>
                        <a:pt x="230238" y="764856"/>
                        <a:pt x="168958" y="711013"/>
                        <a:pt x="304800" y="778933"/>
                      </a:cubicBezTo>
                    </a:path>
                  </a:pathLst>
                </a:custGeom>
                <a:solidFill>
                  <a:srgbClr val="f2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2" name="任意多边形 167"/>
                <p:cNvSpPr/>
                <p:nvPr/>
              </p:nvSpPr>
              <p:spPr>
                <a:xfrm rot="17366400">
                  <a:off x="12462840" y="2867760"/>
                  <a:ext cx="116280" cy="128880"/>
                </a:xfrm>
                <a:custGeom>
                  <a:avLst/>
                  <a:gdLst>
                    <a:gd name="textAreaLeft" fmla="*/ 0 w 116280"/>
                    <a:gd name="textAreaRight" fmla="*/ 116640 w 116280"/>
                    <a:gd name="textAreaTop" fmla="*/ 0 h 128880"/>
                    <a:gd name="textAreaBottom" fmla="*/ 129240 h 128880"/>
                  </a:gdLst>
                  <a:ahLst/>
                  <a:rect l="textAreaLeft" t="textAreaTop" r="textAreaRight" b="textAreaBottom"/>
                  <a:pathLst>
                    <a:path w="2065867" h="4030133">
                      <a:moveTo>
                        <a:pt x="270933" y="677333"/>
                      </a:moveTo>
                      <a:cubicBezTo>
                        <a:pt x="259644" y="733778"/>
                        <a:pt x="257278" y="792770"/>
                        <a:pt x="237067" y="846667"/>
                      </a:cubicBezTo>
                      <a:cubicBezTo>
                        <a:pt x="222775" y="884778"/>
                        <a:pt x="187536" y="911861"/>
                        <a:pt x="169333" y="948267"/>
                      </a:cubicBezTo>
                      <a:cubicBezTo>
                        <a:pt x="153368" y="980197"/>
                        <a:pt x="146756" y="1016000"/>
                        <a:pt x="135467" y="1049867"/>
                      </a:cubicBezTo>
                      <a:cubicBezTo>
                        <a:pt x="124178" y="1128889"/>
                        <a:pt x="124537" y="1210475"/>
                        <a:pt x="101600" y="1286933"/>
                      </a:cubicBezTo>
                      <a:cubicBezTo>
                        <a:pt x="89904" y="1325919"/>
                        <a:pt x="52070" y="1352127"/>
                        <a:pt x="33867" y="1388533"/>
                      </a:cubicBezTo>
                      <a:cubicBezTo>
                        <a:pt x="17902" y="1420463"/>
                        <a:pt x="11289" y="1456266"/>
                        <a:pt x="0" y="1490133"/>
                      </a:cubicBezTo>
                      <a:cubicBezTo>
                        <a:pt x="11289" y="1648178"/>
                        <a:pt x="6331" y="1808231"/>
                        <a:pt x="33867" y="1964267"/>
                      </a:cubicBezTo>
                      <a:cubicBezTo>
                        <a:pt x="40941" y="2004350"/>
                        <a:pt x="77942" y="2032746"/>
                        <a:pt x="101600" y="2065867"/>
                      </a:cubicBezTo>
                      <a:cubicBezTo>
                        <a:pt x="134408" y="2111798"/>
                        <a:pt x="167065" y="2157971"/>
                        <a:pt x="203200" y="2201333"/>
                      </a:cubicBezTo>
                      <a:cubicBezTo>
                        <a:pt x="223641" y="2225862"/>
                        <a:pt x="253221" y="2242500"/>
                        <a:pt x="270933" y="2269067"/>
                      </a:cubicBezTo>
                      <a:cubicBezTo>
                        <a:pt x="298937" y="2311073"/>
                        <a:pt x="313619" y="2360700"/>
                        <a:pt x="338667" y="2404533"/>
                      </a:cubicBezTo>
                      <a:cubicBezTo>
                        <a:pt x="443708" y="2588354"/>
                        <a:pt x="378175" y="2421458"/>
                        <a:pt x="440267" y="2607733"/>
                      </a:cubicBezTo>
                      <a:cubicBezTo>
                        <a:pt x="451556" y="2686755"/>
                        <a:pt x="448890" y="2769072"/>
                        <a:pt x="474133" y="2844800"/>
                      </a:cubicBezTo>
                      <a:cubicBezTo>
                        <a:pt x="484230" y="2875091"/>
                        <a:pt x="525439" y="2885153"/>
                        <a:pt x="541867" y="2912533"/>
                      </a:cubicBezTo>
                      <a:cubicBezTo>
                        <a:pt x="692110" y="3162937"/>
                        <a:pt x="437916" y="2858793"/>
                        <a:pt x="643467" y="3115733"/>
                      </a:cubicBezTo>
                      <a:cubicBezTo>
                        <a:pt x="663413" y="3140666"/>
                        <a:pt x="691254" y="3158534"/>
                        <a:pt x="711200" y="3183467"/>
                      </a:cubicBezTo>
                      <a:cubicBezTo>
                        <a:pt x="736627" y="3215251"/>
                        <a:pt x="752130" y="3254435"/>
                        <a:pt x="778933" y="3285067"/>
                      </a:cubicBezTo>
                      <a:cubicBezTo>
                        <a:pt x="831498" y="3345141"/>
                        <a:pt x="900372" y="3390540"/>
                        <a:pt x="948267" y="3454400"/>
                      </a:cubicBezTo>
                      <a:cubicBezTo>
                        <a:pt x="982134" y="3499556"/>
                        <a:pt x="1019951" y="3542002"/>
                        <a:pt x="1049867" y="3589867"/>
                      </a:cubicBezTo>
                      <a:cubicBezTo>
                        <a:pt x="1076624" y="3632678"/>
                        <a:pt x="1089596" y="3683327"/>
                        <a:pt x="1117600" y="3725333"/>
                      </a:cubicBezTo>
                      <a:cubicBezTo>
                        <a:pt x="1164328" y="3795425"/>
                        <a:pt x="1222230" y="3809038"/>
                        <a:pt x="1286933" y="3860800"/>
                      </a:cubicBezTo>
                      <a:cubicBezTo>
                        <a:pt x="1311866" y="3880746"/>
                        <a:pt x="1328100" y="3910821"/>
                        <a:pt x="1354667" y="3928533"/>
                      </a:cubicBezTo>
                      <a:cubicBezTo>
                        <a:pt x="1438370" y="3984335"/>
                        <a:pt x="1501418" y="4000029"/>
                        <a:pt x="1591733" y="4030133"/>
                      </a:cubicBezTo>
                      <a:cubicBezTo>
                        <a:pt x="1670755" y="4018844"/>
                        <a:pt x="1753072" y="4021510"/>
                        <a:pt x="1828800" y="3996267"/>
                      </a:cubicBezTo>
                      <a:cubicBezTo>
                        <a:pt x="1947678" y="3956641"/>
                        <a:pt x="1962781" y="3628192"/>
                        <a:pt x="1964267" y="3623733"/>
                      </a:cubicBezTo>
                      <a:cubicBezTo>
                        <a:pt x="1977138" y="3585119"/>
                        <a:pt x="2013797" y="3558539"/>
                        <a:pt x="2032000" y="3522133"/>
                      </a:cubicBezTo>
                      <a:cubicBezTo>
                        <a:pt x="2047965" y="3490203"/>
                        <a:pt x="2054578" y="3454400"/>
                        <a:pt x="2065867" y="3420533"/>
                      </a:cubicBezTo>
                      <a:cubicBezTo>
                        <a:pt x="2054578" y="3318933"/>
                        <a:pt x="2052048" y="3215973"/>
                        <a:pt x="2032000" y="3115733"/>
                      </a:cubicBezTo>
                      <a:cubicBezTo>
                        <a:pt x="2017998" y="3045722"/>
                        <a:pt x="1964267" y="2912533"/>
                        <a:pt x="1964267" y="2912533"/>
                      </a:cubicBezTo>
                      <a:cubicBezTo>
                        <a:pt x="2045473" y="2668911"/>
                        <a:pt x="1946942" y="2973167"/>
                        <a:pt x="2032000" y="2675467"/>
                      </a:cubicBezTo>
                      <a:cubicBezTo>
                        <a:pt x="2041807" y="2641142"/>
                        <a:pt x="2054578" y="2607734"/>
                        <a:pt x="2065867" y="2573867"/>
                      </a:cubicBezTo>
                      <a:cubicBezTo>
                        <a:pt x="1988036" y="2340376"/>
                        <a:pt x="2048618" y="2421153"/>
                        <a:pt x="1930400" y="2302933"/>
                      </a:cubicBezTo>
                      <a:cubicBezTo>
                        <a:pt x="1919111" y="2257778"/>
                        <a:pt x="1909320" y="2212221"/>
                        <a:pt x="1896533" y="2167467"/>
                      </a:cubicBezTo>
                      <a:cubicBezTo>
                        <a:pt x="1886726" y="2133142"/>
                        <a:pt x="1868536" y="2101080"/>
                        <a:pt x="1862667" y="2065867"/>
                      </a:cubicBezTo>
                      <a:cubicBezTo>
                        <a:pt x="1846052" y="1966175"/>
                        <a:pt x="1835554" y="1713597"/>
                        <a:pt x="1794933" y="1591733"/>
                      </a:cubicBezTo>
                      <a:cubicBezTo>
                        <a:pt x="1778968" y="1543839"/>
                        <a:pt x="1753174" y="1499558"/>
                        <a:pt x="1727200" y="1456267"/>
                      </a:cubicBezTo>
                      <a:cubicBezTo>
                        <a:pt x="1685317" y="1386462"/>
                        <a:pt x="1591733" y="1253067"/>
                        <a:pt x="1591733" y="1253067"/>
                      </a:cubicBezTo>
                      <a:cubicBezTo>
                        <a:pt x="1555962" y="1145753"/>
                        <a:pt x="1565165" y="1143657"/>
                        <a:pt x="1490133" y="1049867"/>
                      </a:cubicBezTo>
                      <a:cubicBezTo>
                        <a:pt x="1470187" y="1024934"/>
                        <a:pt x="1442346" y="1007066"/>
                        <a:pt x="1422400" y="982133"/>
                      </a:cubicBezTo>
                      <a:cubicBezTo>
                        <a:pt x="1396973" y="950349"/>
                        <a:pt x="1380094" y="912316"/>
                        <a:pt x="1354667" y="880533"/>
                      </a:cubicBezTo>
                      <a:cubicBezTo>
                        <a:pt x="1334721" y="855600"/>
                        <a:pt x="1306879" y="837733"/>
                        <a:pt x="1286933" y="812800"/>
                      </a:cubicBezTo>
                      <a:cubicBezTo>
                        <a:pt x="1261506" y="781017"/>
                        <a:pt x="1246241" y="741622"/>
                        <a:pt x="1219200" y="711200"/>
                      </a:cubicBezTo>
                      <a:cubicBezTo>
                        <a:pt x="1155561" y="639606"/>
                        <a:pt x="1095702" y="561134"/>
                        <a:pt x="1016000" y="508000"/>
                      </a:cubicBezTo>
                      <a:cubicBezTo>
                        <a:pt x="887833" y="422556"/>
                        <a:pt x="943181" y="469048"/>
                        <a:pt x="846667" y="372533"/>
                      </a:cubicBezTo>
                      <a:cubicBezTo>
                        <a:pt x="835378" y="338666"/>
                        <a:pt x="832602" y="300636"/>
                        <a:pt x="812800" y="270933"/>
                      </a:cubicBezTo>
                      <a:cubicBezTo>
                        <a:pt x="786233" y="231082"/>
                        <a:pt x="749006" y="198737"/>
                        <a:pt x="711200" y="169333"/>
                      </a:cubicBezTo>
                      <a:cubicBezTo>
                        <a:pt x="536524" y="33474"/>
                        <a:pt x="559693" y="51098"/>
                        <a:pt x="406400" y="0"/>
                      </a:cubicBezTo>
                      <a:cubicBezTo>
                        <a:pt x="361244" y="11289"/>
                        <a:pt x="313715" y="15532"/>
                        <a:pt x="270933" y="33867"/>
                      </a:cubicBezTo>
                      <a:cubicBezTo>
                        <a:pt x="53886" y="126887"/>
                        <a:pt x="173770" y="228415"/>
                        <a:pt x="203200" y="508000"/>
                      </a:cubicBezTo>
                      <a:cubicBezTo>
                        <a:pt x="230238" y="764856"/>
                        <a:pt x="168958" y="711013"/>
                        <a:pt x="304800" y="778933"/>
                      </a:cubicBezTo>
                    </a:path>
                  </a:pathLst>
                </a:custGeom>
                <a:solidFill>
                  <a:srgbClr val="f2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3" name=""/>
              <p:cNvGrpSpPr/>
              <p:nvPr/>
            </p:nvGrpSpPr>
            <p:grpSpPr>
              <a:xfrm>
                <a:off x="12114720" y="2996280"/>
                <a:ext cx="810360" cy="613800"/>
                <a:chOff x="12114720" y="2996280"/>
                <a:chExt cx="810360" cy="613800"/>
              </a:xfrm>
            </p:grpSpPr>
            <p:sp>
              <p:nvSpPr>
                <p:cNvPr id="324" name="任意多边形 169"/>
                <p:cNvSpPr/>
                <p:nvPr/>
              </p:nvSpPr>
              <p:spPr>
                <a:xfrm rot="19971000">
                  <a:off x="12142080" y="3151800"/>
                  <a:ext cx="755640" cy="302400"/>
                </a:xfrm>
                <a:custGeom>
                  <a:avLst/>
                  <a:gdLst>
                    <a:gd name="textAreaLeft" fmla="*/ 0 w 755640"/>
                    <a:gd name="textAreaRight" fmla="*/ 756000 w 755640"/>
                    <a:gd name="textAreaTop" fmla="*/ 0 h 302400"/>
                    <a:gd name="textAreaBottom" fmla="*/ 302760 h 302400"/>
                  </a:gdLst>
                  <a:ahLst/>
                  <a:rect l="textAreaLeft" t="textAreaTop" r="textAreaRight" b="textAreaBottom"/>
                  <a:pathLst>
                    <a:path w="2065867" h="4030133">
                      <a:moveTo>
                        <a:pt x="270933" y="677333"/>
                      </a:moveTo>
                      <a:cubicBezTo>
                        <a:pt x="259644" y="733778"/>
                        <a:pt x="257278" y="792770"/>
                        <a:pt x="237067" y="846667"/>
                      </a:cubicBezTo>
                      <a:cubicBezTo>
                        <a:pt x="222775" y="884778"/>
                        <a:pt x="187536" y="911861"/>
                        <a:pt x="169333" y="948267"/>
                      </a:cubicBezTo>
                      <a:cubicBezTo>
                        <a:pt x="153368" y="980197"/>
                        <a:pt x="146756" y="1016000"/>
                        <a:pt x="135467" y="1049867"/>
                      </a:cubicBezTo>
                      <a:cubicBezTo>
                        <a:pt x="124178" y="1128889"/>
                        <a:pt x="124537" y="1210475"/>
                        <a:pt x="101600" y="1286933"/>
                      </a:cubicBezTo>
                      <a:cubicBezTo>
                        <a:pt x="89904" y="1325919"/>
                        <a:pt x="52070" y="1352127"/>
                        <a:pt x="33867" y="1388533"/>
                      </a:cubicBezTo>
                      <a:cubicBezTo>
                        <a:pt x="17902" y="1420463"/>
                        <a:pt x="11289" y="1456266"/>
                        <a:pt x="0" y="1490133"/>
                      </a:cubicBezTo>
                      <a:cubicBezTo>
                        <a:pt x="11289" y="1648178"/>
                        <a:pt x="6331" y="1808231"/>
                        <a:pt x="33867" y="1964267"/>
                      </a:cubicBezTo>
                      <a:cubicBezTo>
                        <a:pt x="40941" y="2004350"/>
                        <a:pt x="77942" y="2032746"/>
                        <a:pt x="101600" y="2065867"/>
                      </a:cubicBezTo>
                      <a:cubicBezTo>
                        <a:pt x="134408" y="2111798"/>
                        <a:pt x="167065" y="2157971"/>
                        <a:pt x="203200" y="2201333"/>
                      </a:cubicBezTo>
                      <a:cubicBezTo>
                        <a:pt x="223641" y="2225862"/>
                        <a:pt x="253221" y="2242500"/>
                        <a:pt x="270933" y="2269067"/>
                      </a:cubicBezTo>
                      <a:cubicBezTo>
                        <a:pt x="298937" y="2311073"/>
                        <a:pt x="313619" y="2360700"/>
                        <a:pt x="338667" y="2404533"/>
                      </a:cubicBezTo>
                      <a:cubicBezTo>
                        <a:pt x="443708" y="2588354"/>
                        <a:pt x="378175" y="2421458"/>
                        <a:pt x="440267" y="2607733"/>
                      </a:cubicBezTo>
                      <a:cubicBezTo>
                        <a:pt x="451556" y="2686755"/>
                        <a:pt x="448890" y="2769072"/>
                        <a:pt x="474133" y="2844800"/>
                      </a:cubicBezTo>
                      <a:cubicBezTo>
                        <a:pt x="484230" y="2875091"/>
                        <a:pt x="525439" y="2885153"/>
                        <a:pt x="541867" y="2912533"/>
                      </a:cubicBezTo>
                      <a:cubicBezTo>
                        <a:pt x="692110" y="3162937"/>
                        <a:pt x="437916" y="2858793"/>
                        <a:pt x="643467" y="3115733"/>
                      </a:cubicBezTo>
                      <a:cubicBezTo>
                        <a:pt x="663413" y="3140666"/>
                        <a:pt x="691254" y="3158534"/>
                        <a:pt x="711200" y="3183467"/>
                      </a:cubicBezTo>
                      <a:cubicBezTo>
                        <a:pt x="736627" y="3215251"/>
                        <a:pt x="752130" y="3254435"/>
                        <a:pt x="778933" y="3285067"/>
                      </a:cubicBezTo>
                      <a:cubicBezTo>
                        <a:pt x="831498" y="3345141"/>
                        <a:pt x="900372" y="3390540"/>
                        <a:pt x="948267" y="3454400"/>
                      </a:cubicBezTo>
                      <a:cubicBezTo>
                        <a:pt x="982134" y="3499556"/>
                        <a:pt x="1019951" y="3542002"/>
                        <a:pt x="1049867" y="3589867"/>
                      </a:cubicBezTo>
                      <a:cubicBezTo>
                        <a:pt x="1076624" y="3632678"/>
                        <a:pt x="1089596" y="3683327"/>
                        <a:pt x="1117600" y="3725333"/>
                      </a:cubicBezTo>
                      <a:cubicBezTo>
                        <a:pt x="1164328" y="3795425"/>
                        <a:pt x="1222230" y="3809038"/>
                        <a:pt x="1286933" y="3860800"/>
                      </a:cubicBezTo>
                      <a:cubicBezTo>
                        <a:pt x="1311866" y="3880746"/>
                        <a:pt x="1328100" y="3910821"/>
                        <a:pt x="1354667" y="3928533"/>
                      </a:cubicBezTo>
                      <a:cubicBezTo>
                        <a:pt x="1438370" y="3984335"/>
                        <a:pt x="1501418" y="4000029"/>
                        <a:pt x="1591733" y="4030133"/>
                      </a:cubicBezTo>
                      <a:cubicBezTo>
                        <a:pt x="1670755" y="4018844"/>
                        <a:pt x="1753072" y="4021510"/>
                        <a:pt x="1828800" y="3996267"/>
                      </a:cubicBezTo>
                      <a:cubicBezTo>
                        <a:pt x="1947678" y="3956641"/>
                        <a:pt x="1962781" y="3628192"/>
                        <a:pt x="1964267" y="3623733"/>
                      </a:cubicBezTo>
                      <a:cubicBezTo>
                        <a:pt x="1977138" y="3585119"/>
                        <a:pt x="2013797" y="3558539"/>
                        <a:pt x="2032000" y="3522133"/>
                      </a:cubicBezTo>
                      <a:cubicBezTo>
                        <a:pt x="2047965" y="3490203"/>
                        <a:pt x="2054578" y="3454400"/>
                        <a:pt x="2065867" y="3420533"/>
                      </a:cubicBezTo>
                      <a:cubicBezTo>
                        <a:pt x="2054578" y="3318933"/>
                        <a:pt x="2052048" y="3215973"/>
                        <a:pt x="2032000" y="3115733"/>
                      </a:cubicBezTo>
                      <a:cubicBezTo>
                        <a:pt x="2017998" y="3045722"/>
                        <a:pt x="1964267" y="2912533"/>
                        <a:pt x="1964267" y="2912533"/>
                      </a:cubicBezTo>
                      <a:cubicBezTo>
                        <a:pt x="2045473" y="2668911"/>
                        <a:pt x="1946942" y="2973167"/>
                        <a:pt x="2032000" y="2675467"/>
                      </a:cubicBezTo>
                      <a:cubicBezTo>
                        <a:pt x="2041807" y="2641142"/>
                        <a:pt x="2054578" y="2607734"/>
                        <a:pt x="2065867" y="2573867"/>
                      </a:cubicBezTo>
                      <a:cubicBezTo>
                        <a:pt x="1988036" y="2340376"/>
                        <a:pt x="2048618" y="2421153"/>
                        <a:pt x="1930400" y="2302933"/>
                      </a:cubicBezTo>
                      <a:cubicBezTo>
                        <a:pt x="1919111" y="2257778"/>
                        <a:pt x="1909320" y="2212221"/>
                        <a:pt x="1896533" y="2167467"/>
                      </a:cubicBezTo>
                      <a:cubicBezTo>
                        <a:pt x="1886726" y="2133142"/>
                        <a:pt x="1868536" y="2101080"/>
                        <a:pt x="1862667" y="2065867"/>
                      </a:cubicBezTo>
                      <a:cubicBezTo>
                        <a:pt x="1846052" y="1966175"/>
                        <a:pt x="1835554" y="1713597"/>
                        <a:pt x="1794933" y="1591733"/>
                      </a:cubicBezTo>
                      <a:cubicBezTo>
                        <a:pt x="1778968" y="1543839"/>
                        <a:pt x="1753174" y="1499558"/>
                        <a:pt x="1727200" y="1456267"/>
                      </a:cubicBezTo>
                      <a:cubicBezTo>
                        <a:pt x="1685317" y="1386462"/>
                        <a:pt x="1591733" y="1253067"/>
                        <a:pt x="1591733" y="1253067"/>
                      </a:cubicBezTo>
                      <a:cubicBezTo>
                        <a:pt x="1555962" y="1145753"/>
                        <a:pt x="1565165" y="1143657"/>
                        <a:pt x="1490133" y="1049867"/>
                      </a:cubicBezTo>
                      <a:cubicBezTo>
                        <a:pt x="1470187" y="1024934"/>
                        <a:pt x="1442346" y="1007066"/>
                        <a:pt x="1422400" y="982133"/>
                      </a:cubicBezTo>
                      <a:cubicBezTo>
                        <a:pt x="1396973" y="950349"/>
                        <a:pt x="1380094" y="912316"/>
                        <a:pt x="1354667" y="880533"/>
                      </a:cubicBezTo>
                      <a:cubicBezTo>
                        <a:pt x="1334721" y="855600"/>
                        <a:pt x="1306879" y="837733"/>
                        <a:pt x="1286933" y="812800"/>
                      </a:cubicBezTo>
                      <a:cubicBezTo>
                        <a:pt x="1261506" y="781017"/>
                        <a:pt x="1246241" y="741622"/>
                        <a:pt x="1219200" y="711200"/>
                      </a:cubicBezTo>
                      <a:cubicBezTo>
                        <a:pt x="1155561" y="639606"/>
                        <a:pt x="1095702" y="561134"/>
                        <a:pt x="1016000" y="508000"/>
                      </a:cubicBezTo>
                      <a:cubicBezTo>
                        <a:pt x="887833" y="422556"/>
                        <a:pt x="943181" y="469048"/>
                        <a:pt x="846667" y="372533"/>
                      </a:cubicBezTo>
                      <a:cubicBezTo>
                        <a:pt x="835378" y="338666"/>
                        <a:pt x="832602" y="300636"/>
                        <a:pt x="812800" y="270933"/>
                      </a:cubicBezTo>
                      <a:cubicBezTo>
                        <a:pt x="786233" y="231082"/>
                        <a:pt x="749006" y="198737"/>
                        <a:pt x="711200" y="169333"/>
                      </a:cubicBezTo>
                      <a:cubicBezTo>
                        <a:pt x="536524" y="33474"/>
                        <a:pt x="559693" y="51098"/>
                        <a:pt x="406400" y="0"/>
                      </a:cubicBezTo>
                      <a:cubicBezTo>
                        <a:pt x="361244" y="11289"/>
                        <a:pt x="313715" y="15532"/>
                        <a:pt x="270933" y="33867"/>
                      </a:cubicBezTo>
                      <a:cubicBezTo>
                        <a:pt x="53886" y="126887"/>
                        <a:pt x="173770" y="228415"/>
                        <a:pt x="203200" y="508000"/>
                      </a:cubicBezTo>
                      <a:cubicBezTo>
                        <a:pt x="230238" y="764856"/>
                        <a:pt x="168958" y="711013"/>
                        <a:pt x="304800" y="778933"/>
                      </a:cubicBez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5" name="任意多边形 170"/>
                <p:cNvSpPr/>
                <p:nvPr/>
              </p:nvSpPr>
              <p:spPr>
                <a:xfrm rot="18389400">
                  <a:off x="12636360" y="3065400"/>
                  <a:ext cx="187200" cy="334080"/>
                </a:xfrm>
                <a:custGeom>
                  <a:avLst/>
                  <a:gdLst>
                    <a:gd name="textAreaLeft" fmla="*/ 0 w 187200"/>
                    <a:gd name="textAreaRight" fmla="*/ 187560 w 187200"/>
                    <a:gd name="textAreaTop" fmla="*/ 0 h 334080"/>
                    <a:gd name="textAreaBottom" fmla="*/ 334440 h 334080"/>
                  </a:gdLst>
                  <a:ahLst/>
                  <a:rect l="textAreaLeft" t="textAreaTop" r="textAreaRight" b="textAreaBottom"/>
                  <a:pathLst>
                    <a:path w="2065867" h="4030133">
                      <a:moveTo>
                        <a:pt x="270933" y="677333"/>
                      </a:moveTo>
                      <a:cubicBezTo>
                        <a:pt x="259644" y="733778"/>
                        <a:pt x="257278" y="792770"/>
                        <a:pt x="237067" y="846667"/>
                      </a:cubicBezTo>
                      <a:cubicBezTo>
                        <a:pt x="222775" y="884778"/>
                        <a:pt x="187536" y="911861"/>
                        <a:pt x="169333" y="948267"/>
                      </a:cubicBezTo>
                      <a:cubicBezTo>
                        <a:pt x="153368" y="980197"/>
                        <a:pt x="146756" y="1016000"/>
                        <a:pt x="135467" y="1049867"/>
                      </a:cubicBezTo>
                      <a:cubicBezTo>
                        <a:pt x="124178" y="1128889"/>
                        <a:pt x="124537" y="1210475"/>
                        <a:pt x="101600" y="1286933"/>
                      </a:cubicBezTo>
                      <a:cubicBezTo>
                        <a:pt x="89904" y="1325919"/>
                        <a:pt x="52070" y="1352127"/>
                        <a:pt x="33867" y="1388533"/>
                      </a:cubicBezTo>
                      <a:cubicBezTo>
                        <a:pt x="17902" y="1420463"/>
                        <a:pt x="11289" y="1456266"/>
                        <a:pt x="0" y="1490133"/>
                      </a:cubicBezTo>
                      <a:cubicBezTo>
                        <a:pt x="11289" y="1648178"/>
                        <a:pt x="6331" y="1808231"/>
                        <a:pt x="33867" y="1964267"/>
                      </a:cubicBezTo>
                      <a:cubicBezTo>
                        <a:pt x="40941" y="2004350"/>
                        <a:pt x="77942" y="2032746"/>
                        <a:pt x="101600" y="2065867"/>
                      </a:cubicBezTo>
                      <a:cubicBezTo>
                        <a:pt x="134408" y="2111798"/>
                        <a:pt x="167065" y="2157971"/>
                        <a:pt x="203200" y="2201333"/>
                      </a:cubicBezTo>
                      <a:cubicBezTo>
                        <a:pt x="223641" y="2225862"/>
                        <a:pt x="253221" y="2242500"/>
                        <a:pt x="270933" y="2269067"/>
                      </a:cubicBezTo>
                      <a:cubicBezTo>
                        <a:pt x="298937" y="2311073"/>
                        <a:pt x="313619" y="2360700"/>
                        <a:pt x="338667" y="2404533"/>
                      </a:cubicBezTo>
                      <a:cubicBezTo>
                        <a:pt x="443708" y="2588354"/>
                        <a:pt x="378175" y="2421458"/>
                        <a:pt x="440267" y="2607733"/>
                      </a:cubicBezTo>
                      <a:cubicBezTo>
                        <a:pt x="451556" y="2686755"/>
                        <a:pt x="448890" y="2769072"/>
                        <a:pt x="474133" y="2844800"/>
                      </a:cubicBezTo>
                      <a:cubicBezTo>
                        <a:pt x="484230" y="2875091"/>
                        <a:pt x="525439" y="2885153"/>
                        <a:pt x="541867" y="2912533"/>
                      </a:cubicBezTo>
                      <a:cubicBezTo>
                        <a:pt x="692110" y="3162937"/>
                        <a:pt x="437916" y="2858793"/>
                        <a:pt x="643467" y="3115733"/>
                      </a:cubicBezTo>
                      <a:cubicBezTo>
                        <a:pt x="663413" y="3140666"/>
                        <a:pt x="691254" y="3158534"/>
                        <a:pt x="711200" y="3183467"/>
                      </a:cubicBezTo>
                      <a:cubicBezTo>
                        <a:pt x="736627" y="3215251"/>
                        <a:pt x="752130" y="3254435"/>
                        <a:pt x="778933" y="3285067"/>
                      </a:cubicBezTo>
                      <a:cubicBezTo>
                        <a:pt x="831498" y="3345141"/>
                        <a:pt x="900372" y="3390540"/>
                        <a:pt x="948267" y="3454400"/>
                      </a:cubicBezTo>
                      <a:cubicBezTo>
                        <a:pt x="982134" y="3499556"/>
                        <a:pt x="1019951" y="3542002"/>
                        <a:pt x="1049867" y="3589867"/>
                      </a:cubicBezTo>
                      <a:cubicBezTo>
                        <a:pt x="1076624" y="3632678"/>
                        <a:pt x="1089596" y="3683327"/>
                        <a:pt x="1117600" y="3725333"/>
                      </a:cubicBezTo>
                      <a:cubicBezTo>
                        <a:pt x="1164328" y="3795425"/>
                        <a:pt x="1222230" y="3809038"/>
                        <a:pt x="1286933" y="3860800"/>
                      </a:cubicBezTo>
                      <a:cubicBezTo>
                        <a:pt x="1311866" y="3880746"/>
                        <a:pt x="1328100" y="3910821"/>
                        <a:pt x="1354667" y="3928533"/>
                      </a:cubicBezTo>
                      <a:cubicBezTo>
                        <a:pt x="1438370" y="3984335"/>
                        <a:pt x="1501418" y="4000029"/>
                        <a:pt x="1591733" y="4030133"/>
                      </a:cubicBezTo>
                      <a:cubicBezTo>
                        <a:pt x="1670755" y="4018844"/>
                        <a:pt x="1753072" y="4021510"/>
                        <a:pt x="1828800" y="3996267"/>
                      </a:cubicBezTo>
                      <a:cubicBezTo>
                        <a:pt x="1947678" y="3956641"/>
                        <a:pt x="1962781" y="3628192"/>
                        <a:pt x="1964267" y="3623733"/>
                      </a:cubicBezTo>
                      <a:cubicBezTo>
                        <a:pt x="1977138" y="3585119"/>
                        <a:pt x="2013797" y="3558539"/>
                        <a:pt x="2032000" y="3522133"/>
                      </a:cubicBezTo>
                      <a:cubicBezTo>
                        <a:pt x="2047965" y="3490203"/>
                        <a:pt x="2054578" y="3454400"/>
                        <a:pt x="2065867" y="3420533"/>
                      </a:cubicBezTo>
                      <a:cubicBezTo>
                        <a:pt x="2054578" y="3318933"/>
                        <a:pt x="2052048" y="3215973"/>
                        <a:pt x="2032000" y="3115733"/>
                      </a:cubicBezTo>
                      <a:cubicBezTo>
                        <a:pt x="2017998" y="3045722"/>
                        <a:pt x="1964267" y="2912533"/>
                        <a:pt x="1964267" y="2912533"/>
                      </a:cubicBezTo>
                      <a:cubicBezTo>
                        <a:pt x="2045473" y="2668911"/>
                        <a:pt x="1946942" y="2973167"/>
                        <a:pt x="2032000" y="2675467"/>
                      </a:cubicBezTo>
                      <a:cubicBezTo>
                        <a:pt x="2041807" y="2641142"/>
                        <a:pt x="2054578" y="2607734"/>
                        <a:pt x="2065867" y="2573867"/>
                      </a:cubicBezTo>
                      <a:cubicBezTo>
                        <a:pt x="1988036" y="2340376"/>
                        <a:pt x="2048618" y="2421153"/>
                        <a:pt x="1930400" y="2302933"/>
                      </a:cubicBezTo>
                      <a:cubicBezTo>
                        <a:pt x="1919111" y="2257778"/>
                        <a:pt x="1909320" y="2212221"/>
                        <a:pt x="1896533" y="2167467"/>
                      </a:cubicBezTo>
                      <a:cubicBezTo>
                        <a:pt x="1886726" y="2133142"/>
                        <a:pt x="1868536" y="2101080"/>
                        <a:pt x="1862667" y="2065867"/>
                      </a:cubicBezTo>
                      <a:cubicBezTo>
                        <a:pt x="1846052" y="1966175"/>
                        <a:pt x="1835554" y="1713597"/>
                        <a:pt x="1794933" y="1591733"/>
                      </a:cubicBezTo>
                      <a:cubicBezTo>
                        <a:pt x="1778968" y="1543839"/>
                        <a:pt x="1753174" y="1499558"/>
                        <a:pt x="1727200" y="1456267"/>
                      </a:cubicBezTo>
                      <a:cubicBezTo>
                        <a:pt x="1685317" y="1386462"/>
                        <a:pt x="1591733" y="1253067"/>
                        <a:pt x="1591733" y="1253067"/>
                      </a:cubicBezTo>
                      <a:cubicBezTo>
                        <a:pt x="1555962" y="1145753"/>
                        <a:pt x="1565165" y="1143657"/>
                        <a:pt x="1490133" y="1049867"/>
                      </a:cubicBezTo>
                      <a:cubicBezTo>
                        <a:pt x="1470187" y="1024934"/>
                        <a:pt x="1442346" y="1007066"/>
                        <a:pt x="1422400" y="982133"/>
                      </a:cubicBezTo>
                      <a:cubicBezTo>
                        <a:pt x="1396973" y="950349"/>
                        <a:pt x="1380094" y="912316"/>
                        <a:pt x="1354667" y="880533"/>
                      </a:cubicBezTo>
                      <a:cubicBezTo>
                        <a:pt x="1334721" y="855600"/>
                        <a:pt x="1306879" y="837733"/>
                        <a:pt x="1286933" y="812800"/>
                      </a:cubicBezTo>
                      <a:cubicBezTo>
                        <a:pt x="1261506" y="781017"/>
                        <a:pt x="1246241" y="741622"/>
                        <a:pt x="1219200" y="711200"/>
                      </a:cubicBezTo>
                      <a:cubicBezTo>
                        <a:pt x="1155561" y="639606"/>
                        <a:pt x="1095702" y="561134"/>
                        <a:pt x="1016000" y="508000"/>
                      </a:cubicBezTo>
                      <a:cubicBezTo>
                        <a:pt x="887833" y="422556"/>
                        <a:pt x="943181" y="469048"/>
                        <a:pt x="846667" y="372533"/>
                      </a:cubicBezTo>
                      <a:cubicBezTo>
                        <a:pt x="835378" y="338666"/>
                        <a:pt x="832602" y="300636"/>
                        <a:pt x="812800" y="270933"/>
                      </a:cubicBezTo>
                      <a:cubicBezTo>
                        <a:pt x="786233" y="231082"/>
                        <a:pt x="749006" y="198737"/>
                        <a:pt x="711200" y="169333"/>
                      </a:cubicBezTo>
                      <a:cubicBezTo>
                        <a:pt x="536524" y="33474"/>
                        <a:pt x="559693" y="51098"/>
                        <a:pt x="406400" y="0"/>
                      </a:cubicBezTo>
                      <a:cubicBezTo>
                        <a:pt x="361244" y="11289"/>
                        <a:pt x="313715" y="15532"/>
                        <a:pt x="270933" y="33867"/>
                      </a:cubicBezTo>
                      <a:cubicBezTo>
                        <a:pt x="53886" y="126887"/>
                        <a:pt x="173770" y="228415"/>
                        <a:pt x="203200" y="508000"/>
                      </a:cubicBezTo>
                      <a:cubicBezTo>
                        <a:pt x="230238" y="764856"/>
                        <a:pt x="168958" y="711013"/>
                        <a:pt x="304800" y="778933"/>
                      </a:cubicBezTo>
                    </a:path>
                  </a:pathLst>
                </a:custGeom>
                <a:solidFill>
                  <a:srgbClr val="f2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6" name="任意多边形 171"/>
                <p:cNvSpPr/>
                <p:nvPr/>
              </p:nvSpPr>
              <p:spPr>
                <a:xfrm rot="17696400">
                  <a:off x="12366000" y="3175560"/>
                  <a:ext cx="128520" cy="222480"/>
                </a:xfrm>
                <a:custGeom>
                  <a:avLst/>
                  <a:gdLst>
                    <a:gd name="textAreaLeft" fmla="*/ 0 w 128520"/>
                    <a:gd name="textAreaRight" fmla="*/ 128880 w 128520"/>
                    <a:gd name="textAreaTop" fmla="*/ 0 h 222480"/>
                    <a:gd name="textAreaBottom" fmla="*/ 222840 h 222480"/>
                  </a:gdLst>
                  <a:ahLst/>
                  <a:rect l="textAreaLeft" t="textAreaTop" r="textAreaRight" b="textAreaBottom"/>
                  <a:pathLst>
                    <a:path w="2065867" h="4030133">
                      <a:moveTo>
                        <a:pt x="270933" y="677333"/>
                      </a:moveTo>
                      <a:cubicBezTo>
                        <a:pt x="259644" y="733778"/>
                        <a:pt x="257278" y="792770"/>
                        <a:pt x="237067" y="846667"/>
                      </a:cubicBezTo>
                      <a:cubicBezTo>
                        <a:pt x="222775" y="884778"/>
                        <a:pt x="187536" y="911861"/>
                        <a:pt x="169333" y="948267"/>
                      </a:cubicBezTo>
                      <a:cubicBezTo>
                        <a:pt x="153368" y="980197"/>
                        <a:pt x="146756" y="1016000"/>
                        <a:pt x="135467" y="1049867"/>
                      </a:cubicBezTo>
                      <a:cubicBezTo>
                        <a:pt x="124178" y="1128889"/>
                        <a:pt x="124537" y="1210475"/>
                        <a:pt x="101600" y="1286933"/>
                      </a:cubicBezTo>
                      <a:cubicBezTo>
                        <a:pt x="89904" y="1325919"/>
                        <a:pt x="52070" y="1352127"/>
                        <a:pt x="33867" y="1388533"/>
                      </a:cubicBezTo>
                      <a:cubicBezTo>
                        <a:pt x="17902" y="1420463"/>
                        <a:pt x="11289" y="1456266"/>
                        <a:pt x="0" y="1490133"/>
                      </a:cubicBezTo>
                      <a:cubicBezTo>
                        <a:pt x="11289" y="1648178"/>
                        <a:pt x="6331" y="1808231"/>
                        <a:pt x="33867" y="1964267"/>
                      </a:cubicBezTo>
                      <a:cubicBezTo>
                        <a:pt x="40941" y="2004350"/>
                        <a:pt x="77942" y="2032746"/>
                        <a:pt x="101600" y="2065867"/>
                      </a:cubicBezTo>
                      <a:cubicBezTo>
                        <a:pt x="134408" y="2111798"/>
                        <a:pt x="167065" y="2157971"/>
                        <a:pt x="203200" y="2201333"/>
                      </a:cubicBezTo>
                      <a:cubicBezTo>
                        <a:pt x="223641" y="2225862"/>
                        <a:pt x="253221" y="2242500"/>
                        <a:pt x="270933" y="2269067"/>
                      </a:cubicBezTo>
                      <a:cubicBezTo>
                        <a:pt x="298937" y="2311073"/>
                        <a:pt x="313619" y="2360700"/>
                        <a:pt x="338667" y="2404533"/>
                      </a:cubicBezTo>
                      <a:cubicBezTo>
                        <a:pt x="443708" y="2588354"/>
                        <a:pt x="378175" y="2421458"/>
                        <a:pt x="440267" y="2607733"/>
                      </a:cubicBezTo>
                      <a:cubicBezTo>
                        <a:pt x="451556" y="2686755"/>
                        <a:pt x="448890" y="2769072"/>
                        <a:pt x="474133" y="2844800"/>
                      </a:cubicBezTo>
                      <a:cubicBezTo>
                        <a:pt x="484230" y="2875091"/>
                        <a:pt x="525439" y="2885153"/>
                        <a:pt x="541867" y="2912533"/>
                      </a:cubicBezTo>
                      <a:cubicBezTo>
                        <a:pt x="692110" y="3162937"/>
                        <a:pt x="437916" y="2858793"/>
                        <a:pt x="643467" y="3115733"/>
                      </a:cubicBezTo>
                      <a:cubicBezTo>
                        <a:pt x="663413" y="3140666"/>
                        <a:pt x="691254" y="3158534"/>
                        <a:pt x="711200" y="3183467"/>
                      </a:cubicBezTo>
                      <a:cubicBezTo>
                        <a:pt x="736627" y="3215251"/>
                        <a:pt x="752130" y="3254435"/>
                        <a:pt x="778933" y="3285067"/>
                      </a:cubicBezTo>
                      <a:cubicBezTo>
                        <a:pt x="831498" y="3345141"/>
                        <a:pt x="900372" y="3390540"/>
                        <a:pt x="948267" y="3454400"/>
                      </a:cubicBezTo>
                      <a:cubicBezTo>
                        <a:pt x="982134" y="3499556"/>
                        <a:pt x="1019951" y="3542002"/>
                        <a:pt x="1049867" y="3589867"/>
                      </a:cubicBezTo>
                      <a:cubicBezTo>
                        <a:pt x="1076624" y="3632678"/>
                        <a:pt x="1089596" y="3683327"/>
                        <a:pt x="1117600" y="3725333"/>
                      </a:cubicBezTo>
                      <a:cubicBezTo>
                        <a:pt x="1164328" y="3795425"/>
                        <a:pt x="1222230" y="3809038"/>
                        <a:pt x="1286933" y="3860800"/>
                      </a:cubicBezTo>
                      <a:cubicBezTo>
                        <a:pt x="1311866" y="3880746"/>
                        <a:pt x="1328100" y="3910821"/>
                        <a:pt x="1354667" y="3928533"/>
                      </a:cubicBezTo>
                      <a:cubicBezTo>
                        <a:pt x="1438370" y="3984335"/>
                        <a:pt x="1501418" y="4000029"/>
                        <a:pt x="1591733" y="4030133"/>
                      </a:cubicBezTo>
                      <a:cubicBezTo>
                        <a:pt x="1670755" y="4018844"/>
                        <a:pt x="1753072" y="4021510"/>
                        <a:pt x="1828800" y="3996267"/>
                      </a:cubicBezTo>
                      <a:cubicBezTo>
                        <a:pt x="1947678" y="3956641"/>
                        <a:pt x="1962781" y="3628192"/>
                        <a:pt x="1964267" y="3623733"/>
                      </a:cubicBezTo>
                      <a:cubicBezTo>
                        <a:pt x="1977138" y="3585119"/>
                        <a:pt x="2013797" y="3558539"/>
                        <a:pt x="2032000" y="3522133"/>
                      </a:cubicBezTo>
                      <a:cubicBezTo>
                        <a:pt x="2047965" y="3490203"/>
                        <a:pt x="2054578" y="3454400"/>
                        <a:pt x="2065867" y="3420533"/>
                      </a:cubicBezTo>
                      <a:cubicBezTo>
                        <a:pt x="2054578" y="3318933"/>
                        <a:pt x="2052048" y="3215973"/>
                        <a:pt x="2032000" y="3115733"/>
                      </a:cubicBezTo>
                      <a:cubicBezTo>
                        <a:pt x="2017998" y="3045722"/>
                        <a:pt x="1964267" y="2912533"/>
                        <a:pt x="1964267" y="2912533"/>
                      </a:cubicBezTo>
                      <a:cubicBezTo>
                        <a:pt x="2045473" y="2668911"/>
                        <a:pt x="1946942" y="2973167"/>
                        <a:pt x="2032000" y="2675467"/>
                      </a:cubicBezTo>
                      <a:cubicBezTo>
                        <a:pt x="2041807" y="2641142"/>
                        <a:pt x="2054578" y="2607734"/>
                        <a:pt x="2065867" y="2573867"/>
                      </a:cubicBezTo>
                      <a:cubicBezTo>
                        <a:pt x="1988036" y="2340376"/>
                        <a:pt x="2048618" y="2421153"/>
                        <a:pt x="1930400" y="2302933"/>
                      </a:cubicBezTo>
                      <a:cubicBezTo>
                        <a:pt x="1919111" y="2257778"/>
                        <a:pt x="1909320" y="2212221"/>
                        <a:pt x="1896533" y="2167467"/>
                      </a:cubicBezTo>
                      <a:cubicBezTo>
                        <a:pt x="1886726" y="2133142"/>
                        <a:pt x="1868536" y="2101080"/>
                        <a:pt x="1862667" y="2065867"/>
                      </a:cubicBezTo>
                      <a:cubicBezTo>
                        <a:pt x="1846052" y="1966175"/>
                        <a:pt x="1835554" y="1713597"/>
                        <a:pt x="1794933" y="1591733"/>
                      </a:cubicBezTo>
                      <a:cubicBezTo>
                        <a:pt x="1778968" y="1543839"/>
                        <a:pt x="1753174" y="1499558"/>
                        <a:pt x="1727200" y="1456267"/>
                      </a:cubicBezTo>
                      <a:cubicBezTo>
                        <a:pt x="1685317" y="1386462"/>
                        <a:pt x="1591733" y="1253067"/>
                        <a:pt x="1591733" y="1253067"/>
                      </a:cubicBezTo>
                      <a:cubicBezTo>
                        <a:pt x="1555962" y="1145753"/>
                        <a:pt x="1565165" y="1143657"/>
                        <a:pt x="1490133" y="1049867"/>
                      </a:cubicBezTo>
                      <a:cubicBezTo>
                        <a:pt x="1470187" y="1024934"/>
                        <a:pt x="1442346" y="1007066"/>
                        <a:pt x="1422400" y="982133"/>
                      </a:cubicBezTo>
                      <a:cubicBezTo>
                        <a:pt x="1396973" y="950349"/>
                        <a:pt x="1380094" y="912316"/>
                        <a:pt x="1354667" y="880533"/>
                      </a:cubicBezTo>
                      <a:cubicBezTo>
                        <a:pt x="1334721" y="855600"/>
                        <a:pt x="1306879" y="837733"/>
                        <a:pt x="1286933" y="812800"/>
                      </a:cubicBezTo>
                      <a:cubicBezTo>
                        <a:pt x="1261506" y="781017"/>
                        <a:pt x="1246241" y="741622"/>
                        <a:pt x="1219200" y="711200"/>
                      </a:cubicBezTo>
                      <a:cubicBezTo>
                        <a:pt x="1155561" y="639606"/>
                        <a:pt x="1095702" y="561134"/>
                        <a:pt x="1016000" y="508000"/>
                      </a:cubicBezTo>
                      <a:cubicBezTo>
                        <a:pt x="887833" y="422556"/>
                        <a:pt x="943181" y="469048"/>
                        <a:pt x="846667" y="372533"/>
                      </a:cubicBezTo>
                      <a:cubicBezTo>
                        <a:pt x="835378" y="338666"/>
                        <a:pt x="832602" y="300636"/>
                        <a:pt x="812800" y="270933"/>
                      </a:cubicBezTo>
                      <a:cubicBezTo>
                        <a:pt x="786233" y="231082"/>
                        <a:pt x="749006" y="198737"/>
                        <a:pt x="711200" y="169333"/>
                      </a:cubicBezTo>
                      <a:cubicBezTo>
                        <a:pt x="536524" y="33474"/>
                        <a:pt x="559693" y="51098"/>
                        <a:pt x="406400" y="0"/>
                      </a:cubicBezTo>
                      <a:cubicBezTo>
                        <a:pt x="361244" y="11289"/>
                        <a:pt x="313715" y="15532"/>
                        <a:pt x="270933" y="33867"/>
                      </a:cubicBezTo>
                      <a:cubicBezTo>
                        <a:pt x="53886" y="126887"/>
                        <a:pt x="173770" y="228415"/>
                        <a:pt x="203200" y="508000"/>
                      </a:cubicBezTo>
                      <a:cubicBezTo>
                        <a:pt x="230238" y="764856"/>
                        <a:pt x="168958" y="711013"/>
                        <a:pt x="304800" y="778933"/>
                      </a:cubicBezTo>
                    </a:path>
                  </a:pathLst>
                </a:custGeom>
                <a:solidFill>
                  <a:srgbClr val="f2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7" name=""/>
              <p:cNvGrpSpPr/>
              <p:nvPr/>
            </p:nvGrpSpPr>
            <p:grpSpPr>
              <a:xfrm>
                <a:off x="12425040" y="3469680"/>
                <a:ext cx="582120" cy="422280"/>
                <a:chOff x="12425040" y="3469680"/>
                <a:chExt cx="582120" cy="422280"/>
              </a:xfrm>
            </p:grpSpPr>
            <p:sp>
              <p:nvSpPr>
                <p:cNvPr id="328" name="任意多边形 173"/>
                <p:cNvSpPr/>
                <p:nvPr/>
              </p:nvSpPr>
              <p:spPr>
                <a:xfrm rot="19971000">
                  <a:off x="12437280" y="3586320"/>
                  <a:ext cx="557640" cy="188640"/>
                </a:xfrm>
                <a:custGeom>
                  <a:avLst/>
                  <a:gdLst>
                    <a:gd name="textAreaLeft" fmla="*/ 0 w 557640"/>
                    <a:gd name="textAreaRight" fmla="*/ 558000 w 557640"/>
                    <a:gd name="textAreaTop" fmla="*/ 0 h 188640"/>
                    <a:gd name="textAreaBottom" fmla="*/ 189000 h 188640"/>
                  </a:gdLst>
                  <a:ahLst/>
                  <a:rect l="textAreaLeft" t="textAreaTop" r="textAreaRight" b="textAreaBottom"/>
                  <a:pathLst>
                    <a:path w="2065867" h="4030133">
                      <a:moveTo>
                        <a:pt x="270933" y="677333"/>
                      </a:moveTo>
                      <a:cubicBezTo>
                        <a:pt x="259644" y="733778"/>
                        <a:pt x="257278" y="792770"/>
                        <a:pt x="237067" y="846667"/>
                      </a:cubicBezTo>
                      <a:cubicBezTo>
                        <a:pt x="222775" y="884778"/>
                        <a:pt x="187536" y="911861"/>
                        <a:pt x="169333" y="948267"/>
                      </a:cubicBezTo>
                      <a:cubicBezTo>
                        <a:pt x="153368" y="980197"/>
                        <a:pt x="146756" y="1016000"/>
                        <a:pt x="135467" y="1049867"/>
                      </a:cubicBezTo>
                      <a:cubicBezTo>
                        <a:pt x="124178" y="1128889"/>
                        <a:pt x="124537" y="1210475"/>
                        <a:pt x="101600" y="1286933"/>
                      </a:cubicBezTo>
                      <a:cubicBezTo>
                        <a:pt x="89904" y="1325919"/>
                        <a:pt x="52070" y="1352127"/>
                        <a:pt x="33867" y="1388533"/>
                      </a:cubicBezTo>
                      <a:cubicBezTo>
                        <a:pt x="17902" y="1420463"/>
                        <a:pt x="11289" y="1456266"/>
                        <a:pt x="0" y="1490133"/>
                      </a:cubicBezTo>
                      <a:cubicBezTo>
                        <a:pt x="11289" y="1648178"/>
                        <a:pt x="6331" y="1808231"/>
                        <a:pt x="33867" y="1964267"/>
                      </a:cubicBezTo>
                      <a:cubicBezTo>
                        <a:pt x="40941" y="2004350"/>
                        <a:pt x="77942" y="2032746"/>
                        <a:pt x="101600" y="2065867"/>
                      </a:cubicBezTo>
                      <a:cubicBezTo>
                        <a:pt x="134408" y="2111798"/>
                        <a:pt x="167065" y="2157971"/>
                        <a:pt x="203200" y="2201333"/>
                      </a:cubicBezTo>
                      <a:cubicBezTo>
                        <a:pt x="223641" y="2225862"/>
                        <a:pt x="253221" y="2242500"/>
                        <a:pt x="270933" y="2269067"/>
                      </a:cubicBezTo>
                      <a:cubicBezTo>
                        <a:pt x="298937" y="2311073"/>
                        <a:pt x="313619" y="2360700"/>
                        <a:pt x="338667" y="2404533"/>
                      </a:cubicBezTo>
                      <a:cubicBezTo>
                        <a:pt x="443708" y="2588354"/>
                        <a:pt x="378175" y="2421458"/>
                        <a:pt x="440267" y="2607733"/>
                      </a:cubicBezTo>
                      <a:cubicBezTo>
                        <a:pt x="451556" y="2686755"/>
                        <a:pt x="448890" y="2769072"/>
                        <a:pt x="474133" y="2844800"/>
                      </a:cubicBezTo>
                      <a:cubicBezTo>
                        <a:pt x="484230" y="2875091"/>
                        <a:pt x="525439" y="2885153"/>
                        <a:pt x="541867" y="2912533"/>
                      </a:cubicBezTo>
                      <a:cubicBezTo>
                        <a:pt x="692110" y="3162937"/>
                        <a:pt x="437916" y="2858793"/>
                        <a:pt x="643467" y="3115733"/>
                      </a:cubicBezTo>
                      <a:cubicBezTo>
                        <a:pt x="663413" y="3140666"/>
                        <a:pt x="691254" y="3158534"/>
                        <a:pt x="711200" y="3183467"/>
                      </a:cubicBezTo>
                      <a:cubicBezTo>
                        <a:pt x="736627" y="3215251"/>
                        <a:pt x="752130" y="3254435"/>
                        <a:pt x="778933" y="3285067"/>
                      </a:cubicBezTo>
                      <a:cubicBezTo>
                        <a:pt x="831498" y="3345141"/>
                        <a:pt x="900372" y="3390540"/>
                        <a:pt x="948267" y="3454400"/>
                      </a:cubicBezTo>
                      <a:cubicBezTo>
                        <a:pt x="982134" y="3499556"/>
                        <a:pt x="1019951" y="3542002"/>
                        <a:pt x="1049867" y="3589867"/>
                      </a:cubicBezTo>
                      <a:cubicBezTo>
                        <a:pt x="1076624" y="3632678"/>
                        <a:pt x="1089596" y="3683327"/>
                        <a:pt x="1117600" y="3725333"/>
                      </a:cubicBezTo>
                      <a:cubicBezTo>
                        <a:pt x="1164328" y="3795425"/>
                        <a:pt x="1222230" y="3809038"/>
                        <a:pt x="1286933" y="3860800"/>
                      </a:cubicBezTo>
                      <a:cubicBezTo>
                        <a:pt x="1311866" y="3880746"/>
                        <a:pt x="1328100" y="3910821"/>
                        <a:pt x="1354667" y="3928533"/>
                      </a:cubicBezTo>
                      <a:cubicBezTo>
                        <a:pt x="1438370" y="3984335"/>
                        <a:pt x="1501418" y="4000029"/>
                        <a:pt x="1591733" y="4030133"/>
                      </a:cubicBezTo>
                      <a:cubicBezTo>
                        <a:pt x="1670755" y="4018844"/>
                        <a:pt x="1753072" y="4021510"/>
                        <a:pt x="1828800" y="3996267"/>
                      </a:cubicBezTo>
                      <a:cubicBezTo>
                        <a:pt x="1947678" y="3956641"/>
                        <a:pt x="1962781" y="3628192"/>
                        <a:pt x="1964267" y="3623733"/>
                      </a:cubicBezTo>
                      <a:cubicBezTo>
                        <a:pt x="1977138" y="3585119"/>
                        <a:pt x="2013797" y="3558539"/>
                        <a:pt x="2032000" y="3522133"/>
                      </a:cubicBezTo>
                      <a:cubicBezTo>
                        <a:pt x="2047965" y="3490203"/>
                        <a:pt x="2054578" y="3454400"/>
                        <a:pt x="2065867" y="3420533"/>
                      </a:cubicBezTo>
                      <a:cubicBezTo>
                        <a:pt x="2054578" y="3318933"/>
                        <a:pt x="2052048" y="3215973"/>
                        <a:pt x="2032000" y="3115733"/>
                      </a:cubicBezTo>
                      <a:cubicBezTo>
                        <a:pt x="2017998" y="3045722"/>
                        <a:pt x="1964267" y="2912533"/>
                        <a:pt x="1964267" y="2912533"/>
                      </a:cubicBezTo>
                      <a:cubicBezTo>
                        <a:pt x="2045473" y="2668911"/>
                        <a:pt x="1946942" y="2973167"/>
                        <a:pt x="2032000" y="2675467"/>
                      </a:cubicBezTo>
                      <a:cubicBezTo>
                        <a:pt x="2041807" y="2641142"/>
                        <a:pt x="2054578" y="2607734"/>
                        <a:pt x="2065867" y="2573867"/>
                      </a:cubicBezTo>
                      <a:cubicBezTo>
                        <a:pt x="1988036" y="2340376"/>
                        <a:pt x="2048618" y="2421153"/>
                        <a:pt x="1930400" y="2302933"/>
                      </a:cubicBezTo>
                      <a:cubicBezTo>
                        <a:pt x="1919111" y="2257778"/>
                        <a:pt x="1909320" y="2212221"/>
                        <a:pt x="1896533" y="2167467"/>
                      </a:cubicBezTo>
                      <a:cubicBezTo>
                        <a:pt x="1886726" y="2133142"/>
                        <a:pt x="1868536" y="2101080"/>
                        <a:pt x="1862667" y="2065867"/>
                      </a:cubicBezTo>
                      <a:cubicBezTo>
                        <a:pt x="1846052" y="1966175"/>
                        <a:pt x="1835554" y="1713597"/>
                        <a:pt x="1794933" y="1591733"/>
                      </a:cubicBezTo>
                      <a:cubicBezTo>
                        <a:pt x="1778968" y="1543839"/>
                        <a:pt x="1753174" y="1499558"/>
                        <a:pt x="1727200" y="1456267"/>
                      </a:cubicBezTo>
                      <a:cubicBezTo>
                        <a:pt x="1685317" y="1386462"/>
                        <a:pt x="1591733" y="1253067"/>
                        <a:pt x="1591733" y="1253067"/>
                      </a:cubicBezTo>
                      <a:cubicBezTo>
                        <a:pt x="1555962" y="1145753"/>
                        <a:pt x="1565165" y="1143657"/>
                        <a:pt x="1490133" y="1049867"/>
                      </a:cubicBezTo>
                      <a:cubicBezTo>
                        <a:pt x="1470187" y="1024934"/>
                        <a:pt x="1442346" y="1007066"/>
                        <a:pt x="1422400" y="982133"/>
                      </a:cubicBezTo>
                      <a:cubicBezTo>
                        <a:pt x="1396973" y="950349"/>
                        <a:pt x="1380094" y="912316"/>
                        <a:pt x="1354667" y="880533"/>
                      </a:cubicBezTo>
                      <a:cubicBezTo>
                        <a:pt x="1334721" y="855600"/>
                        <a:pt x="1306879" y="837733"/>
                        <a:pt x="1286933" y="812800"/>
                      </a:cubicBezTo>
                      <a:cubicBezTo>
                        <a:pt x="1261506" y="781017"/>
                        <a:pt x="1246241" y="741622"/>
                        <a:pt x="1219200" y="711200"/>
                      </a:cubicBezTo>
                      <a:cubicBezTo>
                        <a:pt x="1155561" y="639606"/>
                        <a:pt x="1095702" y="561134"/>
                        <a:pt x="1016000" y="508000"/>
                      </a:cubicBezTo>
                      <a:cubicBezTo>
                        <a:pt x="887833" y="422556"/>
                        <a:pt x="943181" y="469048"/>
                        <a:pt x="846667" y="372533"/>
                      </a:cubicBezTo>
                      <a:cubicBezTo>
                        <a:pt x="835378" y="338666"/>
                        <a:pt x="832602" y="300636"/>
                        <a:pt x="812800" y="270933"/>
                      </a:cubicBezTo>
                      <a:cubicBezTo>
                        <a:pt x="786233" y="231082"/>
                        <a:pt x="749006" y="198737"/>
                        <a:pt x="711200" y="169333"/>
                      </a:cubicBezTo>
                      <a:cubicBezTo>
                        <a:pt x="536524" y="33474"/>
                        <a:pt x="559693" y="51098"/>
                        <a:pt x="406400" y="0"/>
                      </a:cubicBezTo>
                      <a:cubicBezTo>
                        <a:pt x="361244" y="11289"/>
                        <a:pt x="313715" y="15532"/>
                        <a:pt x="270933" y="33867"/>
                      </a:cubicBezTo>
                      <a:cubicBezTo>
                        <a:pt x="53886" y="126887"/>
                        <a:pt x="173770" y="228415"/>
                        <a:pt x="203200" y="508000"/>
                      </a:cubicBezTo>
                      <a:cubicBezTo>
                        <a:pt x="230238" y="764856"/>
                        <a:pt x="168958" y="711013"/>
                        <a:pt x="304800" y="778933"/>
                      </a:cubicBez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9" name="任意多边形 174"/>
                <p:cNvSpPr/>
                <p:nvPr/>
              </p:nvSpPr>
              <p:spPr>
                <a:xfrm rot="18389400">
                  <a:off x="12726360" y="3645000"/>
                  <a:ext cx="164160" cy="171360"/>
                </a:xfrm>
                <a:custGeom>
                  <a:avLst/>
                  <a:gdLst>
                    <a:gd name="textAreaLeft" fmla="*/ 0 w 164160"/>
                    <a:gd name="textAreaRight" fmla="*/ 164520 w 164160"/>
                    <a:gd name="textAreaTop" fmla="*/ 0 h 171360"/>
                    <a:gd name="textAreaBottom" fmla="*/ 171720 h 171360"/>
                  </a:gdLst>
                  <a:ahLst/>
                  <a:rect l="textAreaLeft" t="textAreaTop" r="textAreaRight" b="textAreaBottom"/>
                  <a:pathLst>
                    <a:path w="2065867" h="4030133">
                      <a:moveTo>
                        <a:pt x="270933" y="677333"/>
                      </a:moveTo>
                      <a:cubicBezTo>
                        <a:pt x="259644" y="733778"/>
                        <a:pt x="257278" y="792770"/>
                        <a:pt x="237067" y="846667"/>
                      </a:cubicBezTo>
                      <a:cubicBezTo>
                        <a:pt x="222775" y="884778"/>
                        <a:pt x="187536" y="911861"/>
                        <a:pt x="169333" y="948267"/>
                      </a:cubicBezTo>
                      <a:cubicBezTo>
                        <a:pt x="153368" y="980197"/>
                        <a:pt x="146756" y="1016000"/>
                        <a:pt x="135467" y="1049867"/>
                      </a:cubicBezTo>
                      <a:cubicBezTo>
                        <a:pt x="124178" y="1128889"/>
                        <a:pt x="124537" y="1210475"/>
                        <a:pt x="101600" y="1286933"/>
                      </a:cubicBezTo>
                      <a:cubicBezTo>
                        <a:pt x="89904" y="1325919"/>
                        <a:pt x="52070" y="1352127"/>
                        <a:pt x="33867" y="1388533"/>
                      </a:cubicBezTo>
                      <a:cubicBezTo>
                        <a:pt x="17902" y="1420463"/>
                        <a:pt x="11289" y="1456266"/>
                        <a:pt x="0" y="1490133"/>
                      </a:cubicBezTo>
                      <a:cubicBezTo>
                        <a:pt x="11289" y="1648178"/>
                        <a:pt x="6331" y="1808231"/>
                        <a:pt x="33867" y="1964267"/>
                      </a:cubicBezTo>
                      <a:cubicBezTo>
                        <a:pt x="40941" y="2004350"/>
                        <a:pt x="77942" y="2032746"/>
                        <a:pt x="101600" y="2065867"/>
                      </a:cubicBezTo>
                      <a:cubicBezTo>
                        <a:pt x="134408" y="2111798"/>
                        <a:pt x="167065" y="2157971"/>
                        <a:pt x="203200" y="2201333"/>
                      </a:cubicBezTo>
                      <a:cubicBezTo>
                        <a:pt x="223641" y="2225862"/>
                        <a:pt x="253221" y="2242500"/>
                        <a:pt x="270933" y="2269067"/>
                      </a:cubicBezTo>
                      <a:cubicBezTo>
                        <a:pt x="298937" y="2311073"/>
                        <a:pt x="313619" y="2360700"/>
                        <a:pt x="338667" y="2404533"/>
                      </a:cubicBezTo>
                      <a:cubicBezTo>
                        <a:pt x="443708" y="2588354"/>
                        <a:pt x="378175" y="2421458"/>
                        <a:pt x="440267" y="2607733"/>
                      </a:cubicBezTo>
                      <a:cubicBezTo>
                        <a:pt x="451556" y="2686755"/>
                        <a:pt x="448890" y="2769072"/>
                        <a:pt x="474133" y="2844800"/>
                      </a:cubicBezTo>
                      <a:cubicBezTo>
                        <a:pt x="484230" y="2875091"/>
                        <a:pt x="525439" y="2885153"/>
                        <a:pt x="541867" y="2912533"/>
                      </a:cubicBezTo>
                      <a:cubicBezTo>
                        <a:pt x="692110" y="3162937"/>
                        <a:pt x="437916" y="2858793"/>
                        <a:pt x="643467" y="3115733"/>
                      </a:cubicBezTo>
                      <a:cubicBezTo>
                        <a:pt x="663413" y="3140666"/>
                        <a:pt x="691254" y="3158534"/>
                        <a:pt x="711200" y="3183467"/>
                      </a:cubicBezTo>
                      <a:cubicBezTo>
                        <a:pt x="736627" y="3215251"/>
                        <a:pt x="752130" y="3254435"/>
                        <a:pt x="778933" y="3285067"/>
                      </a:cubicBezTo>
                      <a:cubicBezTo>
                        <a:pt x="831498" y="3345141"/>
                        <a:pt x="900372" y="3390540"/>
                        <a:pt x="948267" y="3454400"/>
                      </a:cubicBezTo>
                      <a:cubicBezTo>
                        <a:pt x="982134" y="3499556"/>
                        <a:pt x="1019951" y="3542002"/>
                        <a:pt x="1049867" y="3589867"/>
                      </a:cubicBezTo>
                      <a:cubicBezTo>
                        <a:pt x="1076624" y="3632678"/>
                        <a:pt x="1089596" y="3683327"/>
                        <a:pt x="1117600" y="3725333"/>
                      </a:cubicBezTo>
                      <a:cubicBezTo>
                        <a:pt x="1164328" y="3795425"/>
                        <a:pt x="1222230" y="3809038"/>
                        <a:pt x="1286933" y="3860800"/>
                      </a:cubicBezTo>
                      <a:cubicBezTo>
                        <a:pt x="1311866" y="3880746"/>
                        <a:pt x="1328100" y="3910821"/>
                        <a:pt x="1354667" y="3928533"/>
                      </a:cubicBezTo>
                      <a:cubicBezTo>
                        <a:pt x="1438370" y="3984335"/>
                        <a:pt x="1501418" y="4000029"/>
                        <a:pt x="1591733" y="4030133"/>
                      </a:cubicBezTo>
                      <a:cubicBezTo>
                        <a:pt x="1670755" y="4018844"/>
                        <a:pt x="1753072" y="4021510"/>
                        <a:pt x="1828800" y="3996267"/>
                      </a:cubicBezTo>
                      <a:cubicBezTo>
                        <a:pt x="1947678" y="3956641"/>
                        <a:pt x="1962781" y="3628192"/>
                        <a:pt x="1964267" y="3623733"/>
                      </a:cubicBezTo>
                      <a:cubicBezTo>
                        <a:pt x="1977138" y="3585119"/>
                        <a:pt x="2013797" y="3558539"/>
                        <a:pt x="2032000" y="3522133"/>
                      </a:cubicBezTo>
                      <a:cubicBezTo>
                        <a:pt x="2047965" y="3490203"/>
                        <a:pt x="2054578" y="3454400"/>
                        <a:pt x="2065867" y="3420533"/>
                      </a:cubicBezTo>
                      <a:cubicBezTo>
                        <a:pt x="2054578" y="3318933"/>
                        <a:pt x="2052048" y="3215973"/>
                        <a:pt x="2032000" y="3115733"/>
                      </a:cubicBezTo>
                      <a:cubicBezTo>
                        <a:pt x="2017998" y="3045722"/>
                        <a:pt x="1964267" y="2912533"/>
                        <a:pt x="1964267" y="2912533"/>
                      </a:cubicBezTo>
                      <a:cubicBezTo>
                        <a:pt x="2045473" y="2668911"/>
                        <a:pt x="1946942" y="2973167"/>
                        <a:pt x="2032000" y="2675467"/>
                      </a:cubicBezTo>
                      <a:cubicBezTo>
                        <a:pt x="2041807" y="2641142"/>
                        <a:pt x="2054578" y="2607734"/>
                        <a:pt x="2065867" y="2573867"/>
                      </a:cubicBezTo>
                      <a:cubicBezTo>
                        <a:pt x="1988036" y="2340376"/>
                        <a:pt x="2048618" y="2421153"/>
                        <a:pt x="1930400" y="2302933"/>
                      </a:cubicBezTo>
                      <a:cubicBezTo>
                        <a:pt x="1919111" y="2257778"/>
                        <a:pt x="1909320" y="2212221"/>
                        <a:pt x="1896533" y="2167467"/>
                      </a:cubicBezTo>
                      <a:cubicBezTo>
                        <a:pt x="1886726" y="2133142"/>
                        <a:pt x="1868536" y="2101080"/>
                        <a:pt x="1862667" y="2065867"/>
                      </a:cubicBezTo>
                      <a:cubicBezTo>
                        <a:pt x="1846052" y="1966175"/>
                        <a:pt x="1835554" y="1713597"/>
                        <a:pt x="1794933" y="1591733"/>
                      </a:cubicBezTo>
                      <a:cubicBezTo>
                        <a:pt x="1778968" y="1543839"/>
                        <a:pt x="1753174" y="1499558"/>
                        <a:pt x="1727200" y="1456267"/>
                      </a:cubicBezTo>
                      <a:cubicBezTo>
                        <a:pt x="1685317" y="1386462"/>
                        <a:pt x="1591733" y="1253067"/>
                        <a:pt x="1591733" y="1253067"/>
                      </a:cubicBezTo>
                      <a:cubicBezTo>
                        <a:pt x="1555962" y="1145753"/>
                        <a:pt x="1565165" y="1143657"/>
                        <a:pt x="1490133" y="1049867"/>
                      </a:cubicBezTo>
                      <a:cubicBezTo>
                        <a:pt x="1470187" y="1024934"/>
                        <a:pt x="1442346" y="1007066"/>
                        <a:pt x="1422400" y="982133"/>
                      </a:cubicBezTo>
                      <a:cubicBezTo>
                        <a:pt x="1396973" y="950349"/>
                        <a:pt x="1380094" y="912316"/>
                        <a:pt x="1354667" y="880533"/>
                      </a:cubicBezTo>
                      <a:cubicBezTo>
                        <a:pt x="1334721" y="855600"/>
                        <a:pt x="1306879" y="837733"/>
                        <a:pt x="1286933" y="812800"/>
                      </a:cubicBezTo>
                      <a:cubicBezTo>
                        <a:pt x="1261506" y="781017"/>
                        <a:pt x="1246241" y="741622"/>
                        <a:pt x="1219200" y="711200"/>
                      </a:cubicBezTo>
                      <a:cubicBezTo>
                        <a:pt x="1155561" y="639606"/>
                        <a:pt x="1095702" y="561134"/>
                        <a:pt x="1016000" y="508000"/>
                      </a:cubicBezTo>
                      <a:cubicBezTo>
                        <a:pt x="887833" y="422556"/>
                        <a:pt x="943181" y="469048"/>
                        <a:pt x="846667" y="372533"/>
                      </a:cubicBezTo>
                      <a:cubicBezTo>
                        <a:pt x="835378" y="338666"/>
                        <a:pt x="832602" y="300636"/>
                        <a:pt x="812800" y="270933"/>
                      </a:cubicBezTo>
                      <a:cubicBezTo>
                        <a:pt x="786233" y="231082"/>
                        <a:pt x="749006" y="198737"/>
                        <a:pt x="711200" y="169333"/>
                      </a:cubicBezTo>
                      <a:cubicBezTo>
                        <a:pt x="536524" y="33474"/>
                        <a:pt x="559693" y="51098"/>
                        <a:pt x="406400" y="0"/>
                      </a:cubicBezTo>
                      <a:cubicBezTo>
                        <a:pt x="361244" y="11289"/>
                        <a:pt x="313715" y="15532"/>
                        <a:pt x="270933" y="33867"/>
                      </a:cubicBezTo>
                      <a:cubicBezTo>
                        <a:pt x="53886" y="126887"/>
                        <a:pt x="173770" y="228415"/>
                        <a:pt x="203200" y="508000"/>
                      </a:cubicBezTo>
                      <a:cubicBezTo>
                        <a:pt x="230238" y="764856"/>
                        <a:pt x="168958" y="711013"/>
                        <a:pt x="304800" y="778933"/>
                      </a:cubicBezTo>
                    </a:path>
                  </a:pathLst>
                </a:custGeom>
                <a:solidFill>
                  <a:srgbClr val="f2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0" name="任意多边形 175"/>
                <p:cNvSpPr/>
                <p:nvPr/>
              </p:nvSpPr>
              <p:spPr>
                <a:xfrm rot="17696400">
                  <a:off x="12863880" y="3617280"/>
                  <a:ext cx="112680" cy="114120"/>
                </a:xfrm>
                <a:custGeom>
                  <a:avLst/>
                  <a:gdLst>
                    <a:gd name="textAreaLeft" fmla="*/ 0 w 112680"/>
                    <a:gd name="textAreaRight" fmla="*/ 113040 w 112680"/>
                    <a:gd name="textAreaTop" fmla="*/ 0 h 114120"/>
                    <a:gd name="textAreaBottom" fmla="*/ 114480 h 114120"/>
                  </a:gdLst>
                  <a:ahLst/>
                  <a:rect l="textAreaLeft" t="textAreaTop" r="textAreaRight" b="textAreaBottom"/>
                  <a:pathLst>
                    <a:path w="2065867" h="4030133">
                      <a:moveTo>
                        <a:pt x="270933" y="677333"/>
                      </a:moveTo>
                      <a:cubicBezTo>
                        <a:pt x="259644" y="733778"/>
                        <a:pt x="257278" y="792770"/>
                        <a:pt x="237067" y="846667"/>
                      </a:cubicBezTo>
                      <a:cubicBezTo>
                        <a:pt x="222775" y="884778"/>
                        <a:pt x="187536" y="911861"/>
                        <a:pt x="169333" y="948267"/>
                      </a:cubicBezTo>
                      <a:cubicBezTo>
                        <a:pt x="153368" y="980197"/>
                        <a:pt x="146756" y="1016000"/>
                        <a:pt x="135467" y="1049867"/>
                      </a:cubicBezTo>
                      <a:cubicBezTo>
                        <a:pt x="124178" y="1128889"/>
                        <a:pt x="124537" y="1210475"/>
                        <a:pt x="101600" y="1286933"/>
                      </a:cubicBezTo>
                      <a:cubicBezTo>
                        <a:pt x="89904" y="1325919"/>
                        <a:pt x="52070" y="1352127"/>
                        <a:pt x="33867" y="1388533"/>
                      </a:cubicBezTo>
                      <a:cubicBezTo>
                        <a:pt x="17902" y="1420463"/>
                        <a:pt x="11289" y="1456266"/>
                        <a:pt x="0" y="1490133"/>
                      </a:cubicBezTo>
                      <a:cubicBezTo>
                        <a:pt x="11289" y="1648178"/>
                        <a:pt x="6331" y="1808231"/>
                        <a:pt x="33867" y="1964267"/>
                      </a:cubicBezTo>
                      <a:cubicBezTo>
                        <a:pt x="40941" y="2004350"/>
                        <a:pt x="77942" y="2032746"/>
                        <a:pt x="101600" y="2065867"/>
                      </a:cubicBezTo>
                      <a:cubicBezTo>
                        <a:pt x="134408" y="2111798"/>
                        <a:pt x="167065" y="2157971"/>
                        <a:pt x="203200" y="2201333"/>
                      </a:cubicBezTo>
                      <a:cubicBezTo>
                        <a:pt x="223641" y="2225862"/>
                        <a:pt x="253221" y="2242500"/>
                        <a:pt x="270933" y="2269067"/>
                      </a:cubicBezTo>
                      <a:cubicBezTo>
                        <a:pt x="298937" y="2311073"/>
                        <a:pt x="313619" y="2360700"/>
                        <a:pt x="338667" y="2404533"/>
                      </a:cubicBezTo>
                      <a:cubicBezTo>
                        <a:pt x="443708" y="2588354"/>
                        <a:pt x="378175" y="2421458"/>
                        <a:pt x="440267" y="2607733"/>
                      </a:cubicBezTo>
                      <a:cubicBezTo>
                        <a:pt x="451556" y="2686755"/>
                        <a:pt x="448890" y="2769072"/>
                        <a:pt x="474133" y="2844800"/>
                      </a:cubicBezTo>
                      <a:cubicBezTo>
                        <a:pt x="484230" y="2875091"/>
                        <a:pt x="525439" y="2885153"/>
                        <a:pt x="541867" y="2912533"/>
                      </a:cubicBezTo>
                      <a:cubicBezTo>
                        <a:pt x="692110" y="3162937"/>
                        <a:pt x="437916" y="2858793"/>
                        <a:pt x="643467" y="3115733"/>
                      </a:cubicBezTo>
                      <a:cubicBezTo>
                        <a:pt x="663413" y="3140666"/>
                        <a:pt x="691254" y="3158534"/>
                        <a:pt x="711200" y="3183467"/>
                      </a:cubicBezTo>
                      <a:cubicBezTo>
                        <a:pt x="736627" y="3215251"/>
                        <a:pt x="752130" y="3254435"/>
                        <a:pt x="778933" y="3285067"/>
                      </a:cubicBezTo>
                      <a:cubicBezTo>
                        <a:pt x="831498" y="3345141"/>
                        <a:pt x="900372" y="3390540"/>
                        <a:pt x="948267" y="3454400"/>
                      </a:cubicBezTo>
                      <a:cubicBezTo>
                        <a:pt x="982134" y="3499556"/>
                        <a:pt x="1019951" y="3542002"/>
                        <a:pt x="1049867" y="3589867"/>
                      </a:cubicBezTo>
                      <a:cubicBezTo>
                        <a:pt x="1076624" y="3632678"/>
                        <a:pt x="1089596" y="3683327"/>
                        <a:pt x="1117600" y="3725333"/>
                      </a:cubicBezTo>
                      <a:cubicBezTo>
                        <a:pt x="1164328" y="3795425"/>
                        <a:pt x="1222230" y="3809038"/>
                        <a:pt x="1286933" y="3860800"/>
                      </a:cubicBezTo>
                      <a:cubicBezTo>
                        <a:pt x="1311866" y="3880746"/>
                        <a:pt x="1328100" y="3910821"/>
                        <a:pt x="1354667" y="3928533"/>
                      </a:cubicBezTo>
                      <a:cubicBezTo>
                        <a:pt x="1438370" y="3984335"/>
                        <a:pt x="1501418" y="4000029"/>
                        <a:pt x="1591733" y="4030133"/>
                      </a:cubicBezTo>
                      <a:cubicBezTo>
                        <a:pt x="1670755" y="4018844"/>
                        <a:pt x="1753072" y="4021510"/>
                        <a:pt x="1828800" y="3996267"/>
                      </a:cubicBezTo>
                      <a:cubicBezTo>
                        <a:pt x="1947678" y="3956641"/>
                        <a:pt x="1962781" y="3628192"/>
                        <a:pt x="1964267" y="3623733"/>
                      </a:cubicBezTo>
                      <a:cubicBezTo>
                        <a:pt x="1977138" y="3585119"/>
                        <a:pt x="2013797" y="3558539"/>
                        <a:pt x="2032000" y="3522133"/>
                      </a:cubicBezTo>
                      <a:cubicBezTo>
                        <a:pt x="2047965" y="3490203"/>
                        <a:pt x="2054578" y="3454400"/>
                        <a:pt x="2065867" y="3420533"/>
                      </a:cubicBezTo>
                      <a:cubicBezTo>
                        <a:pt x="2054578" y="3318933"/>
                        <a:pt x="2052048" y="3215973"/>
                        <a:pt x="2032000" y="3115733"/>
                      </a:cubicBezTo>
                      <a:cubicBezTo>
                        <a:pt x="2017998" y="3045722"/>
                        <a:pt x="1964267" y="2912533"/>
                        <a:pt x="1964267" y="2912533"/>
                      </a:cubicBezTo>
                      <a:cubicBezTo>
                        <a:pt x="2045473" y="2668911"/>
                        <a:pt x="1946942" y="2973167"/>
                        <a:pt x="2032000" y="2675467"/>
                      </a:cubicBezTo>
                      <a:cubicBezTo>
                        <a:pt x="2041807" y="2641142"/>
                        <a:pt x="2054578" y="2607734"/>
                        <a:pt x="2065867" y="2573867"/>
                      </a:cubicBezTo>
                      <a:cubicBezTo>
                        <a:pt x="1988036" y="2340376"/>
                        <a:pt x="2048618" y="2421153"/>
                        <a:pt x="1930400" y="2302933"/>
                      </a:cubicBezTo>
                      <a:cubicBezTo>
                        <a:pt x="1919111" y="2257778"/>
                        <a:pt x="1909320" y="2212221"/>
                        <a:pt x="1896533" y="2167467"/>
                      </a:cubicBezTo>
                      <a:cubicBezTo>
                        <a:pt x="1886726" y="2133142"/>
                        <a:pt x="1868536" y="2101080"/>
                        <a:pt x="1862667" y="2065867"/>
                      </a:cubicBezTo>
                      <a:cubicBezTo>
                        <a:pt x="1846052" y="1966175"/>
                        <a:pt x="1835554" y="1713597"/>
                        <a:pt x="1794933" y="1591733"/>
                      </a:cubicBezTo>
                      <a:cubicBezTo>
                        <a:pt x="1778968" y="1543839"/>
                        <a:pt x="1753174" y="1499558"/>
                        <a:pt x="1727200" y="1456267"/>
                      </a:cubicBezTo>
                      <a:cubicBezTo>
                        <a:pt x="1685317" y="1386462"/>
                        <a:pt x="1591733" y="1253067"/>
                        <a:pt x="1591733" y="1253067"/>
                      </a:cubicBezTo>
                      <a:cubicBezTo>
                        <a:pt x="1555962" y="1145753"/>
                        <a:pt x="1565165" y="1143657"/>
                        <a:pt x="1490133" y="1049867"/>
                      </a:cubicBezTo>
                      <a:cubicBezTo>
                        <a:pt x="1470187" y="1024934"/>
                        <a:pt x="1442346" y="1007066"/>
                        <a:pt x="1422400" y="982133"/>
                      </a:cubicBezTo>
                      <a:cubicBezTo>
                        <a:pt x="1396973" y="950349"/>
                        <a:pt x="1380094" y="912316"/>
                        <a:pt x="1354667" y="880533"/>
                      </a:cubicBezTo>
                      <a:cubicBezTo>
                        <a:pt x="1334721" y="855600"/>
                        <a:pt x="1306879" y="837733"/>
                        <a:pt x="1286933" y="812800"/>
                      </a:cubicBezTo>
                      <a:cubicBezTo>
                        <a:pt x="1261506" y="781017"/>
                        <a:pt x="1246241" y="741622"/>
                        <a:pt x="1219200" y="711200"/>
                      </a:cubicBezTo>
                      <a:cubicBezTo>
                        <a:pt x="1155561" y="639606"/>
                        <a:pt x="1095702" y="561134"/>
                        <a:pt x="1016000" y="508000"/>
                      </a:cubicBezTo>
                      <a:cubicBezTo>
                        <a:pt x="887833" y="422556"/>
                        <a:pt x="943181" y="469048"/>
                        <a:pt x="846667" y="372533"/>
                      </a:cubicBezTo>
                      <a:cubicBezTo>
                        <a:pt x="835378" y="338666"/>
                        <a:pt x="832602" y="300636"/>
                        <a:pt x="812800" y="270933"/>
                      </a:cubicBezTo>
                      <a:cubicBezTo>
                        <a:pt x="786233" y="231082"/>
                        <a:pt x="749006" y="198737"/>
                        <a:pt x="711200" y="169333"/>
                      </a:cubicBezTo>
                      <a:cubicBezTo>
                        <a:pt x="536524" y="33474"/>
                        <a:pt x="559693" y="51098"/>
                        <a:pt x="406400" y="0"/>
                      </a:cubicBezTo>
                      <a:cubicBezTo>
                        <a:pt x="361244" y="11289"/>
                        <a:pt x="313715" y="15532"/>
                        <a:pt x="270933" y="33867"/>
                      </a:cubicBezTo>
                      <a:cubicBezTo>
                        <a:pt x="53886" y="126887"/>
                        <a:pt x="173770" y="228415"/>
                        <a:pt x="203200" y="508000"/>
                      </a:cubicBezTo>
                      <a:cubicBezTo>
                        <a:pt x="230238" y="764856"/>
                        <a:pt x="168958" y="711013"/>
                        <a:pt x="304800" y="778933"/>
                      </a:cubicBezTo>
                    </a:path>
                  </a:pathLst>
                </a:custGeom>
                <a:solidFill>
                  <a:srgbClr val="f2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1" name=""/>
              <p:cNvGrpSpPr/>
              <p:nvPr/>
            </p:nvGrpSpPr>
            <p:grpSpPr>
              <a:xfrm>
                <a:off x="11764080" y="3711240"/>
                <a:ext cx="940680" cy="682920"/>
                <a:chOff x="11764080" y="3711240"/>
                <a:chExt cx="940680" cy="682920"/>
              </a:xfrm>
            </p:grpSpPr>
            <p:sp>
              <p:nvSpPr>
                <p:cNvPr id="332" name="任意多边形 177"/>
                <p:cNvSpPr/>
                <p:nvPr/>
              </p:nvSpPr>
              <p:spPr>
                <a:xfrm rot="19753800">
                  <a:off x="11752560" y="3942000"/>
                  <a:ext cx="963360" cy="221040"/>
                </a:xfrm>
                <a:custGeom>
                  <a:avLst/>
                  <a:gdLst>
                    <a:gd name="textAreaLeft" fmla="*/ 0 w 963360"/>
                    <a:gd name="textAreaRight" fmla="*/ 963720 w 963360"/>
                    <a:gd name="textAreaTop" fmla="*/ 0 h 221040"/>
                    <a:gd name="textAreaBottom" fmla="*/ 221400 h 221040"/>
                  </a:gdLst>
                  <a:ahLst/>
                  <a:rect l="textAreaLeft" t="textAreaTop" r="textAreaRight" b="textAreaBottom"/>
                  <a:pathLst>
                    <a:path w="2065867" h="4030133">
                      <a:moveTo>
                        <a:pt x="270933" y="677333"/>
                      </a:moveTo>
                      <a:cubicBezTo>
                        <a:pt x="259644" y="733778"/>
                        <a:pt x="257278" y="792770"/>
                        <a:pt x="237067" y="846667"/>
                      </a:cubicBezTo>
                      <a:cubicBezTo>
                        <a:pt x="222775" y="884778"/>
                        <a:pt x="187536" y="911861"/>
                        <a:pt x="169333" y="948267"/>
                      </a:cubicBezTo>
                      <a:cubicBezTo>
                        <a:pt x="153368" y="980197"/>
                        <a:pt x="146756" y="1016000"/>
                        <a:pt x="135467" y="1049867"/>
                      </a:cubicBezTo>
                      <a:cubicBezTo>
                        <a:pt x="124178" y="1128889"/>
                        <a:pt x="124537" y="1210475"/>
                        <a:pt x="101600" y="1286933"/>
                      </a:cubicBezTo>
                      <a:cubicBezTo>
                        <a:pt x="89904" y="1325919"/>
                        <a:pt x="52070" y="1352127"/>
                        <a:pt x="33867" y="1388533"/>
                      </a:cubicBezTo>
                      <a:cubicBezTo>
                        <a:pt x="17902" y="1420463"/>
                        <a:pt x="11289" y="1456266"/>
                        <a:pt x="0" y="1490133"/>
                      </a:cubicBezTo>
                      <a:cubicBezTo>
                        <a:pt x="11289" y="1648178"/>
                        <a:pt x="6331" y="1808231"/>
                        <a:pt x="33867" y="1964267"/>
                      </a:cubicBezTo>
                      <a:cubicBezTo>
                        <a:pt x="40941" y="2004350"/>
                        <a:pt x="77942" y="2032746"/>
                        <a:pt x="101600" y="2065867"/>
                      </a:cubicBezTo>
                      <a:cubicBezTo>
                        <a:pt x="134408" y="2111798"/>
                        <a:pt x="167065" y="2157971"/>
                        <a:pt x="203200" y="2201333"/>
                      </a:cubicBezTo>
                      <a:cubicBezTo>
                        <a:pt x="223641" y="2225862"/>
                        <a:pt x="253221" y="2242500"/>
                        <a:pt x="270933" y="2269067"/>
                      </a:cubicBezTo>
                      <a:cubicBezTo>
                        <a:pt x="298937" y="2311073"/>
                        <a:pt x="313619" y="2360700"/>
                        <a:pt x="338667" y="2404533"/>
                      </a:cubicBezTo>
                      <a:cubicBezTo>
                        <a:pt x="443708" y="2588354"/>
                        <a:pt x="378175" y="2421458"/>
                        <a:pt x="440267" y="2607733"/>
                      </a:cubicBezTo>
                      <a:cubicBezTo>
                        <a:pt x="451556" y="2686755"/>
                        <a:pt x="448890" y="2769072"/>
                        <a:pt x="474133" y="2844800"/>
                      </a:cubicBezTo>
                      <a:cubicBezTo>
                        <a:pt x="484230" y="2875091"/>
                        <a:pt x="525439" y="2885153"/>
                        <a:pt x="541867" y="2912533"/>
                      </a:cubicBezTo>
                      <a:cubicBezTo>
                        <a:pt x="692110" y="3162937"/>
                        <a:pt x="437916" y="2858793"/>
                        <a:pt x="643467" y="3115733"/>
                      </a:cubicBezTo>
                      <a:cubicBezTo>
                        <a:pt x="663413" y="3140666"/>
                        <a:pt x="691254" y="3158534"/>
                        <a:pt x="711200" y="3183467"/>
                      </a:cubicBezTo>
                      <a:cubicBezTo>
                        <a:pt x="736627" y="3215251"/>
                        <a:pt x="752130" y="3254435"/>
                        <a:pt x="778933" y="3285067"/>
                      </a:cubicBezTo>
                      <a:cubicBezTo>
                        <a:pt x="831498" y="3345141"/>
                        <a:pt x="900372" y="3390540"/>
                        <a:pt x="948267" y="3454400"/>
                      </a:cubicBezTo>
                      <a:cubicBezTo>
                        <a:pt x="982134" y="3499556"/>
                        <a:pt x="1019951" y="3542002"/>
                        <a:pt x="1049867" y="3589867"/>
                      </a:cubicBezTo>
                      <a:cubicBezTo>
                        <a:pt x="1076624" y="3632678"/>
                        <a:pt x="1089596" y="3683327"/>
                        <a:pt x="1117600" y="3725333"/>
                      </a:cubicBezTo>
                      <a:cubicBezTo>
                        <a:pt x="1164328" y="3795425"/>
                        <a:pt x="1222230" y="3809038"/>
                        <a:pt x="1286933" y="3860800"/>
                      </a:cubicBezTo>
                      <a:cubicBezTo>
                        <a:pt x="1311866" y="3880746"/>
                        <a:pt x="1328100" y="3910821"/>
                        <a:pt x="1354667" y="3928533"/>
                      </a:cubicBezTo>
                      <a:cubicBezTo>
                        <a:pt x="1438370" y="3984335"/>
                        <a:pt x="1501418" y="4000029"/>
                        <a:pt x="1591733" y="4030133"/>
                      </a:cubicBezTo>
                      <a:cubicBezTo>
                        <a:pt x="1670755" y="4018844"/>
                        <a:pt x="1753072" y="4021510"/>
                        <a:pt x="1828800" y="3996267"/>
                      </a:cubicBezTo>
                      <a:cubicBezTo>
                        <a:pt x="1947678" y="3956641"/>
                        <a:pt x="1962781" y="3628192"/>
                        <a:pt x="1964267" y="3623733"/>
                      </a:cubicBezTo>
                      <a:cubicBezTo>
                        <a:pt x="1977138" y="3585119"/>
                        <a:pt x="2013797" y="3558539"/>
                        <a:pt x="2032000" y="3522133"/>
                      </a:cubicBezTo>
                      <a:cubicBezTo>
                        <a:pt x="2047965" y="3490203"/>
                        <a:pt x="2054578" y="3454400"/>
                        <a:pt x="2065867" y="3420533"/>
                      </a:cubicBezTo>
                      <a:cubicBezTo>
                        <a:pt x="2054578" y="3318933"/>
                        <a:pt x="2052048" y="3215973"/>
                        <a:pt x="2032000" y="3115733"/>
                      </a:cubicBezTo>
                      <a:cubicBezTo>
                        <a:pt x="2017998" y="3045722"/>
                        <a:pt x="1964267" y="2912533"/>
                        <a:pt x="1964267" y="2912533"/>
                      </a:cubicBezTo>
                      <a:cubicBezTo>
                        <a:pt x="2045473" y="2668911"/>
                        <a:pt x="1946942" y="2973167"/>
                        <a:pt x="2032000" y="2675467"/>
                      </a:cubicBezTo>
                      <a:cubicBezTo>
                        <a:pt x="2041807" y="2641142"/>
                        <a:pt x="2054578" y="2607734"/>
                        <a:pt x="2065867" y="2573867"/>
                      </a:cubicBezTo>
                      <a:cubicBezTo>
                        <a:pt x="1988036" y="2340376"/>
                        <a:pt x="2048618" y="2421153"/>
                        <a:pt x="1930400" y="2302933"/>
                      </a:cubicBezTo>
                      <a:cubicBezTo>
                        <a:pt x="1919111" y="2257778"/>
                        <a:pt x="1909320" y="2212221"/>
                        <a:pt x="1896533" y="2167467"/>
                      </a:cubicBezTo>
                      <a:cubicBezTo>
                        <a:pt x="1886726" y="2133142"/>
                        <a:pt x="1868536" y="2101080"/>
                        <a:pt x="1862667" y="2065867"/>
                      </a:cubicBezTo>
                      <a:cubicBezTo>
                        <a:pt x="1846052" y="1966175"/>
                        <a:pt x="1835554" y="1713597"/>
                        <a:pt x="1794933" y="1591733"/>
                      </a:cubicBezTo>
                      <a:cubicBezTo>
                        <a:pt x="1778968" y="1543839"/>
                        <a:pt x="1753174" y="1499558"/>
                        <a:pt x="1727200" y="1456267"/>
                      </a:cubicBezTo>
                      <a:cubicBezTo>
                        <a:pt x="1685317" y="1386462"/>
                        <a:pt x="1591733" y="1253067"/>
                        <a:pt x="1591733" y="1253067"/>
                      </a:cubicBezTo>
                      <a:cubicBezTo>
                        <a:pt x="1555962" y="1145753"/>
                        <a:pt x="1565165" y="1143657"/>
                        <a:pt x="1490133" y="1049867"/>
                      </a:cubicBezTo>
                      <a:cubicBezTo>
                        <a:pt x="1470187" y="1024934"/>
                        <a:pt x="1442346" y="1007066"/>
                        <a:pt x="1422400" y="982133"/>
                      </a:cubicBezTo>
                      <a:cubicBezTo>
                        <a:pt x="1396973" y="950349"/>
                        <a:pt x="1380094" y="912316"/>
                        <a:pt x="1354667" y="880533"/>
                      </a:cubicBezTo>
                      <a:cubicBezTo>
                        <a:pt x="1334721" y="855600"/>
                        <a:pt x="1306879" y="837733"/>
                        <a:pt x="1286933" y="812800"/>
                      </a:cubicBezTo>
                      <a:cubicBezTo>
                        <a:pt x="1261506" y="781017"/>
                        <a:pt x="1246241" y="741622"/>
                        <a:pt x="1219200" y="711200"/>
                      </a:cubicBezTo>
                      <a:cubicBezTo>
                        <a:pt x="1155561" y="639606"/>
                        <a:pt x="1095702" y="561134"/>
                        <a:pt x="1016000" y="508000"/>
                      </a:cubicBezTo>
                      <a:cubicBezTo>
                        <a:pt x="887833" y="422556"/>
                        <a:pt x="943181" y="469048"/>
                        <a:pt x="846667" y="372533"/>
                      </a:cubicBezTo>
                      <a:cubicBezTo>
                        <a:pt x="835378" y="338666"/>
                        <a:pt x="832602" y="300636"/>
                        <a:pt x="812800" y="270933"/>
                      </a:cubicBezTo>
                      <a:cubicBezTo>
                        <a:pt x="786233" y="231082"/>
                        <a:pt x="749006" y="198737"/>
                        <a:pt x="711200" y="169333"/>
                      </a:cubicBezTo>
                      <a:cubicBezTo>
                        <a:pt x="536524" y="33474"/>
                        <a:pt x="559693" y="51098"/>
                        <a:pt x="406400" y="0"/>
                      </a:cubicBezTo>
                      <a:cubicBezTo>
                        <a:pt x="361244" y="11289"/>
                        <a:pt x="313715" y="15532"/>
                        <a:pt x="270933" y="33867"/>
                      </a:cubicBezTo>
                      <a:cubicBezTo>
                        <a:pt x="53886" y="126887"/>
                        <a:pt x="173770" y="228415"/>
                        <a:pt x="203200" y="508000"/>
                      </a:cubicBezTo>
                      <a:cubicBezTo>
                        <a:pt x="230238" y="764856"/>
                        <a:pt x="168958" y="711013"/>
                        <a:pt x="304800" y="778933"/>
                      </a:cubicBez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3" name="任意多边形 178"/>
                <p:cNvSpPr/>
                <p:nvPr/>
              </p:nvSpPr>
              <p:spPr>
                <a:xfrm rot="18172200">
                  <a:off x="12096360" y="3953520"/>
                  <a:ext cx="283680" cy="200880"/>
                </a:xfrm>
                <a:custGeom>
                  <a:avLst/>
                  <a:gdLst>
                    <a:gd name="textAreaLeft" fmla="*/ 0 w 283680"/>
                    <a:gd name="textAreaRight" fmla="*/ 284040 w 283680"/>
                    <a:gd name="textAreaTop" fmla="*/ 0 h 200880"/>
                    <a:gd name="textAreaBottom" fmla="*/ 201240 h 200880"/>
                  </a:gdLst>
                  <a:ahLst/>
                  <a:rect l="textAreaLeft" t="textAreaTop" r="textAreaRight" b="textAreaBottom"/>
                  <a:pathLst>
                    <a:path w="2065867" h="4030133">
                      <a:moveTo>
                        <a:pt x="270933" y="677333"/>
                      </a:moveTo>
                      <a:cubicBezTo>
                        <a:pt x="259644" y="733778"/>
                        <a:pt x="257278" y="792770"/>
                        <a:pt x="237067" y="846667"/>
                      </a:cubicBezTo>
                      <a:cubicBezTo>
                        <a:pt x="222775" y="884778"/>
                        <a:pt x="187536" y="911861"/>
                        <a:pt x="169333" y="948267"/>
                      </a:cubicBezTo>
                      <a:cubicBezTo>
                        <a:pt x="153368" y="980197"/>
                        <a:pt x="146756" y="1016000"/>
                        <a:pt x="135467" y="1049867"/>
                      </a:cubicBezTo>
                      <a:cubicBezTo>
                        <a:pt x="124178" y="1128889"/>
                        <a:pt x="124537" y="1210475"/>
                        <a:pt x="101600" y="1286933"/>
                      </a:cubicBezTo>
                      <a:cubicBezTo>
                        <a:pt x="89904" y="1325919"/>
                        <a:pt x="52070" y="1352127"/>
                        <a:pt x="33867" y="1388533"/>
                      </a:cubicBezTo>
                      <a:cubicBezTo>
                        <a:pt x="17902" y="1420463"/>
                        <a:pt x="11289" y="1456266"/>
                        <a:pt x="0" y="1490133"/>
                      </a:cubicBezTo>
                      <a:cubicBezTo>
                        <a:pt x="11289" y="1648178"/>
                        <a:pt x="6331" y="1808231"/>
                        <a:pt x="33867" y="1964267"/>
                      </a:cubicBezTo>
                      <a:cubicBezTo>
                        <a:pt x="40941" y="2004350"/>
                        <a:pt x="77942" y="2032746"/>
                        <a:pt x="101600" y="2065867"/>
                      </a:cubicBezTo>
                      <a:cubicBezTo>
                        <a:pt x="134408" y="2111798"/>
                        <a:pt x="167065" y="2157971"/>
                        <a:pt x="203200" y="2201333"/>
                      </a:cubicBezTo>
                      <a:cubicBezTo>
                        <a:pt x="223641" y="2225862"/>
                        <a:pt x="253221" y="2242500"/>
                        <a:pt x="270933" y="2269067"/>
                      </a:cubicBezTo>
                      <a:cubicBezTo>
                        <a:pt x="298937" y="2311073"/>
                        <a:pt x="313619" y="2360700"/>
                        <a:pt x="338667" y="2404533"/>
                      </a:cubicBezTo>
                      <a:cubicBezTo>
                        <a:pt x="443708" y="2588354"/>
                        <a:pt x="378175" y="2421458"/>
                        <a:pt x="440267" y="2607733"/>
                      </a:cubicBezTo>
                      <a:cubicBezTo>
                        <a:pt x="451556" y="2686755"/>
                        <a:pt x="448890" y="2769072"/>
                        <a:pt x="474133" y="2844800"/>
                      </a:cubicBezTo>
                      <a:cubicBezTo>
                        <a:pt x="484230" y="2875091"/>
                        <a:pt x="525439" y="2885153"/>
                        <a:pt x="541867" y="2912533"/>
                      </a:cubicBezTo>
                      <a:cubicBezTo>
                        <a:pt x="692110" y="3162937"/>
                        <a:pt x="437916" y="2858793"/>
                        <a:pt x="643467" y="3115733"/>
                      </a:cubicBezTo>
                      <a:cubicBezTo>
                        <a:pt x="663413" y="3140666"/>
                        <a:pt x="691254" y="3158534"/>
                        <a:pt x="711200" y="3183467"/>
                      </a:cubicBezTo>
                      <a:cubicBezTo>
                        <a:pt x="736627" y="3215251"/>
                        <a:pt x="752130" y="3254435"/>
                        <a:pt x="778933" y="3285067"/>
                      </a:cubicBezTo>
                      <a:cubicBezTo>
                        <a:pt x="831498" y="3345141"/>
                        <a:pt x="900372" y="3390540"/>
                        <a:pt x="948267" y="3454400"/>
                      </a:cubicBezTo>
                      <a:cubicBezTo>
                        <a:pt x="982134" y="3499556"/>
                        <a:pt x="1019951" y="3542002"/>
                        <a:pt x="1049867" y="3589867"/>
                      </a:cubicBezTo>
                      <a:cubicBezTo>
                        <a:pt x="1076624" y="3632678"/>
                        <a:pt x="1089596" y="3683327"/>
                        <a:pt x="1117600" y="3725333"/>
                      </a:cubicBezTo>
                      <a:cubicBezTo>
                        <a:pt x="1164328" y="3795425"/>
                        <a:pt x="1222230" y="3809038"/>
                        <a:pt x="1286933" y="3860800"/>
                      </a:cubicBezTo>
                      <a:cubicBezTo>
                        <a:pt x="1311866" y="3880746"/>
                        <a:pt x="1328100" y="3910821"/>
                        <a:pt x="1354667" y="3928533"/>
                      </a:cubicBezTo>
                      <a:cubicBezTo>
                        <a:pt x="1438370" y="3984335"/>
                        <a:pt x="1501418" y="4000029"/>
                        <a:pt x="1591733" y="4030133"/>
                      </a:cubicBezTo>
                      <a:cubicBezTo>
                        <a:pt x="1670755" y="4018844"/>
                        <a:pt x="1753072" y="4021510"/>
                        <a:pt x="1828800" y="3996267"/>
                      </a:cubicBezTo>
                      <a:cubicBezTo>
                        <a:pt x="1947678" y="3956641"/>
                        <a:pt x="1962781" y="3628192"/>
                        <a:pt x="1964267" y="3623733"/>
                      </a:cubicBezTo>
                      <a:cubicBezTo>
                        <a:pt x="1977138" y="3585119"/>
                        <a:pt x="2013797" y="3558539"/>
                        <a:pt x="2032000" y="3522133"/>
                      </a:cubicBezTo>
                      <a:cubicBezTo>
                        <a:pt x="2047965" y="3490203"/>
                        <a:pt x="2054578" y="3454400"/>
                        <a:pt x="2065867" y="3420533"/>
                      </a:cubicBezTo>
                      <a:cubicBezTo>
                        <a:pt x="2054578" y="3318933"/>
                        <a:pt x="2052048" y="3215973"/>
                        <a:pt x="2032000" y="3115733"/>
                      </a:cubicBezTo>
                      <a:cubicBezTo>
                        <a:pt x="2017998" y="3045722"/>
                        <a:pt x="1964267" y="2912533"/>
                        <a:pt x="1964267" y="2912533"/>
                      </a:cubicBezTo>
                      <a:cubicBezTo>
                        <a:pt x="2045473" y="2668911"/>
                        <a:pt x="1946942" y="2973167"/>
                        <a:pt x="2032000" y="2675467"/>
                      </a:cubicBezTo>
                      <a:cubicBezTo>
                        <a:pt x="2041807" y="2641142"/>
                        <a:pt x="2054578" y="2607734"/>
                        <a:pt x="2065867" y="2573867"/>
                      </a:cubicBezTo>
                      <a:cubicBezTo>
                        <a:pt x="1988036" y="2340376"/>
                        <a:pt x="2048618" y="2421153"/>
                        <a:pt x="1930400" y="2302933"/>
                      </a:cubicBezTo>
                      <a:cubicBezTo>
                        <a:pt x="1919111" y="2257778"/>
                        <a:pt x="1909320" y="2212221"/>
                        <a:pt x="1896533" y="2167467"/>
                      </a:cubicBezTo>
                      <a:cubicBezTo>
                        <a:pt x="1886726" y="2133142"/>
                        <a:pt x="1868536" y="2101080"/>
                        <a:pt x="1862667" y="2065867"/>
                      </a:cubicBezTo>
                      <a:cubicBezTo>
                        <a:pt x="1846052" y="1966175"/>
                        <a:pt x="1835554" y="1713597"/>
                        <a:pt x="1794933" y="1591733"/>
                      </a:cubicBezTo>
                      <a:cubicBezTo>
                        <a:pt x="1778968" y="1543839"/>
                        <a:pt x="1753174" y="1499558"/>
                        <a:pt x="1727200" y="1456267"/>
                      </a:cubicBezTo>
                      <a:cubicBezTo>
                        <a:pt x="1685317" y="1386462"/>
                        <a:pt x="1591733" y="1253067"/>
                        <a:pt x="1591733" y="1253067"/>
                      </a:cubicBezTo>
                      <a:cubicBezTo>
                        <a:pt x="1555962" y="1145753"/>
                        <a:pt x="1565165" y="1143657"/>
                        <a:pt x="1490133" y="1049867"/>
                      </a:cubicBezTo>
                      <a:cubicBezTo>
                        <a:pt x="1470187" y="1024934"/>
                        <a:pt x="1442346" y="1007066"/>
                        <a:pt x="1422400" y="982133"/>
                      </a:cubicBezTo>
                      <a:cubicBezTo>
                        <a:pt x="1396973" y="950349"/>
                        <a:pt x="1380094" y="912316"/>
                        <a:pt x="1354667" y="880533"/>
                      </a:cubicBezTo>
                      <a:cubicBezTo>
                        <a:pt x="1334721" y="855600"/>
                        <a:pt x="1306879" y="837733"/>
                        <a:pt x="1286933" y="812800"/>
                      </a:cubicBezTo>
                      <a:cubicBezTo>
                        <a:pt x="1261506" y="781017"/>
                        <a:pt x="1246241" y="741622"/>
                        <a:pt x="1219200" y="711200"/>
                      </a:cubicBezTo>
                      <a:cubicBezTo>
                        <a:pt x="1155561" y="639606"/>
                        <a:pt x="1095702" y="561134"/>
                        <a:pt x="1016000" y="508000"/>
                      </a:cubicBezTo>
                      <a:cubicBezTo>
                        <a:pt x="887833" y="422556"/>
                        <a:pt x="943181" y="469048"/>
                        <a:pt x="846667" y="372533"/>
                      </a:cubicBezTo>
                      <a:cubicBezTo>
                        <a:pt x="835378" y="338666"/>
                        <a:pt x="832602" y="300636"/>
                        <a:pt x="812800" y="270933"/>
                      </a:cubicBezTo>
                      <a:cubicBezTo>
                        <a:pt x="786233" y="231082"/>
                        <a:pt x="749006" y="198737"/>
                        <a:pt x="711200" y="169333"/>
                      </a:cubicBezTo>
                      <a:cubicBezTo>
                        <a:pt x="536524" y="33474"/>
                        <a:pt x="559693" y="51098"/>
                        <a:pt x="406400" y="0"/>
                      </a:cubicBezTo>
                      <a:cubicBezTo>
                        <a:pt x="361244" y="11289"/>
                        <a:pt x="313715" y="15532"/>
                        <a:pt x="270933" y="33867"/>
                      </a:cubicBezTo>
                      <a:cubicBezTo>
                        <a:pt x="53886" y="126887"/>
                        <a:pt x="173770" y="228415"/>
                        <a:pt x="203200" y="508000"/>
                      </a:cubicBezTo>
                      <a:cubicBezTo>
                        <a:pt x="230238" y="764856"/>
                        <a:pt x="168958" y="711013"/>
                        <a:pt x="304800" y="778933"/>
                      </a:cubicBezTo>
                    </a:path>
                  </a:pathLst>
                </a:custGeom>
                <a:solidFill>
                  <a:srgbClr val="f2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4" name="任意多边形 179"/>
                <p:cNvSpPr/>
                <p:nvPr/>
              </p:nvSpPr>
              <p:spPr>
                <a:xfrm rot="17479200">
                  <a:off x="12444480" y="3902400"/>
                  <a:ext cx="194760" cy="133560"/>
                </a:xfrm>
                <a:custGeom>
                  <a:avLst/>
                  <a:gdLst>
                    <a:gd name="textAreaLeft" fmla="*/ 0 w 194760"/>
                    <a:gd name="textAreaRight" fmla="*/ 195120 w 194760"/>
                    <a:gd name="textAreaTop" fmla="*/ 0 h 133560"/>
                    <a:gd name="textAreaBottom" fmla="*/ 133920 h 133560"/>
                  </a:gdLst>
                  <a:ahLst/>
                  <a:rect l="textAreaLeft" t="textAreaTop" r="textAreaRight" b="textAreaBottom"/>
                  <a:pathLst>
                    <a:path w="2065867" h="4030133">
                      <a:moveTo>
                        <a:pt x="270933" y="677333"/>
                      </a:moveTo>
                      <a:cubicBezTo>
                        <a:pt x="259644" y="733778"/>
                        <a:pt x="257278" y="792770"/>
                        <a:pt x="237067" y="846667"/>
                      </a:cubicBezTo>
                      <a:cubicBezTo>
                        <a:pt x="222775" y="884778"/>
                        <a:pt x="187536" y="911861"/>
                        <a:pt x="169333" y="948267"/>
                      </a:cubicBezTo>
                      <a:cubicBezTo>
                        <a:pt x="153368" y="980197"/>
                        <a:pt x="146756" y="1016000"/>
                        <a:pt x="135467" y="1049867"/>
                      </a:cubicBezTo>
                      <a:cubicBezTo>
                        <a:pt x="124178" y="1128889"/>
                        <a:pt x="124537" y="1210475"/>
                        <a:pt x="101600" y="1286933"/>
                      </a:cubicBezTo>
                      <a:cubicBezTo>
                        <a:pt x="89904" y="1325919"/>
                        <a:pt x="52070" y="1352127"/>
                        <a:pt x="33867" y="1388533"/>
                      </a:cubicBezTo>
                      <a:cubicBezTo>
                        <a:pt x="17902" y="1420463"/>
                        <a:pt x="11289" y="1456266"/>
                        <a:pt x="0" y="1490133"/>
                      </a:cubicBezTo>
                      <a:cubicBezTo>
                        <a:pt x="11289" y="1648178"/>
                        <a:pt x="6331" y="1808231"/>
                        <a:pt x="33867" y="1964267"/>
                      </a:cubicBezTo>
                      <a:cubicBezTo>
                        <a:pt x="40941" y="2004350"/>
                        <a:pt x="77942" y="2032746"/>
                        <a:pt x="101600" y="2065867"/>
                      </a:cubicBezTo>
                      <a:cubicBezTo>
                        <a:pt x="134408" y="2111798"/>
                        <a:pt x="167065" y="2157971"/>
                        <a:pt x="203200" y="2201333"/>
                      </a:cubicBezTo>
                      <a:cubicBezTo>
                        <a:pt x="223641" y="2225862"/>
                        <a:pt x="253221" y="2242500"/>
                        <a:pt x="270933" y="2269067"/>
                      </a:cubicBezTo>
                      <a:cubicBezTo>
                        <a:pt x="298937" y="2311073"/>
                        <a:pt x="313619" y="2360700"/>
                        <a:pt x="338667" y="2404533"/>
                      </a:cubicBezTo>
                      <a:cubicBezTo>
                        <a:pt x="443708" y="2588354"/>
                        <a:pt x="378175" y="2421458"/>
                        <a:pt x="440267" y="2607733"/>
                      </a:cubicBezTo>
                      <a:cubicBezTo>
                        <a:pt x="451556" y="2686755"/>
                        <a:pt x="448890" y="2769072"/>
                        <a:pt x="474133" y="2844800"/>
                      </a:cubicBezTo>
                      <a:cubicBezTo>
                        <a:pt x="484230" y="2875091"/>
                        <a:pt x="525439" y="2885153"/>
                        <a:pt x="541867" y="2912533"/>
                      </a:cubicBezTo>
                      <a:cubicBezTo>
                        <a:pt x="692110" y="3162937"/>
                        <a:pt x="437916" y="2858793"/>
                        <a:pt x="643467" y="3115733"/>
                      </a:cubicBezTo>
                      <a:cubicBezTo>
                        <a:pt x="663413" y="3140666"/>
                        <a:pt x="691254" y="3158534"/>
                        <a:pt x="711200" y="3183467"/>
                      </a:cubicBezTo>
                      <a:cubicBezTo>
                        <a:pt x="736627" y="3215251"/>
                        <a:pt x="752130" y="3254435"/>
                        <a:pt x="778933" y="3285067"/>
                      </a:cubicBezTo>
                      <a:cubicBezTo>
                        <a:pt x="831498" y="3345141"/>
                        <a:pt x="900372" y="3390540"/>
                        <a:pt x="948267" y="3454400"/>
                      </a:cubicBezTo>
                      <a:cubicBezTo>
                        <a:pt x="982134" y="3499556"/>
                        <a:pt x="1019951" y="3542002"/>
                        <a:pt x="1049867" y="3589867"/>
                      </a:cubicBezTo>
                      <a:cubicBezTo>
                        <a:pt x="1076624" y="3632678"/>
                        <a:pt x="1089596" y="3683327"/>
                        <a:pt x="1117600" y="3725333"/>
                      </a:cubicBezTo>
                      <a:cubicBezTo>
                        <a:pt x="1164328" y="3795425"/>
                        <a:pt x="1222230" y="3809038"/>
                        <a:pt x="1286933" y="3860800"/>
                      </a:cubicBezTo>
                      <a:cubicBezTo>
                        <a:pt x="1311866" y="3880746"/>
                        <a:pt x="1328100" y="3910821"/>
                        <a:pt x="1354667" y="3928533"/>
                      </a:cubicBezTo>
                      <a:cubicBezTo>
                        <a:pt x="1438370" y="3984335"/>
                        <a:pt x="1501418" y="4000029"/>
                        <a:pt x="1591733" y="4030133"/>
                      </a:cubicBezTo>
                      <a:cubicBezTo>
                        <a:pt x="1670755" y="4018844"/>
                        <a:pt x="1753072" y="4021510"/>
                        <a:pt x="1828800" y="3996267"/>
                      </a:cubicBezTo>
                      <a:cubicBezTo>
                        <a:pt x="1947678" y="3956641"/>
                        <a:pt x="1962781" y="3628192"/>
                        <a:pt x="1964267" y="3623733"/>
                      </a:cubicBezTo>
                      <a:cubicBezTo>
                        <a:pt x="1977138" y="3585119"/>
                        <a:pt x="2013797" y="3558539"/>
                        <a:pt x="2032000" y="3522133"/>
                      </a:cubicBezTo>
                      <a:cubicBezTo>
                        <a:pt x="2047965" y="3490203"/>
                        <a:pt x="2054578" y="3454400"/>
                        <a:pt x="2065867" y="3420533"/>
                      </a:cubicBezTo>
                      <a:cubicBezTo>
                        <a:pt x="2054578" y="3318933"/>
                        <a:pt x="2052048" y="3215973"/>
                        <a:pt x="2032000" y="3115733"/>
                      </a:cubicBezTo>
                      <a:cubicBezTo>
                        <a:pt x="2017998" y="3045722"/>
                        <a:pt x="1964267" y="2912533"/>
                        <a:pt x="1964267" y="2912533"/>
                      </a:cubicBezTo>
                      <a:cubicBezTo>
                        <a:pt x="2045473" y="2668911"/>
                        <a:pt x="1946942" y="2973167"/>
                        <a:pt x="2032000" y="2675467"/>
                      </a:cubicBezTo>
                      <a:cubicBezTo>
                        <a:pt x="2041807" y="2641142"/>
                        <a:pt x="2054578" y="2607734"/>
                        <a:pt x="2065867" y="2573867"/>
                      </a:cubicBezTo>
                      <a:cubicBezTo>
                        <a:pt x="1988036" y="2340376"/>
                        <a:pt x="2048618" y="2421153"/>
                        <a:pt x="1930400" y="2302933"/>
                      </a:cubicBezTo>
                      <a:cubicBezTo>
                        <a:pt x="1919111" y="2257778"/>
                        <a:pt x="1909320" y="2212221"/>
                        <a:pt x="1896533" y="2167467"/>
                      </a:cubicBezTo>
                      <a:cubicBezTo>
                        <a:pt x="1886726" y="2133142"/>
                        <a:pt x="1868536" y="2101080"/>
                        <a:pt x="1862667" y="2065867"/>
                      </a:cubicBezTo>
                      <a:cubicBezTo>
                        <a:pt x="1846052" y="1966175"/>
                        <a:pt x="1835554" y="1713597"/>
                        <a:pt x="1794933" y="1591733"/>
                      </a:cubicBezTo>
                      <a:cubicBezTo>
                        <a:pt x="1778968" y="1543839"/>
                        <a:pt x="1753174" y="1499558"/>
                        <a:pt x="1727200" y="1456267"/>
                      </a:cubicBezTo>
                      <a:cubicBezTo>
                        <a:pt x="1685317" y="1386462"/>
                        <a:pt x="1591733" y="1253067"/>
                        <a:pt x="1591733" y="1253067"/>
                      </a:cubicBezTo>
                      <a:cubicBezTo>
                        <a:pt x="1555962" y="1145753"/>
                        <a:pt x="1565165" y="1143657"/>
                        <a:pt x="1490133" y="1049867"/>
                      </a:cubicBezTo>
                      <a:cubicBezTo>
                        <a:pt x="1470187" y="1024934"/>
                        <a:pt x="1442346" y="1007066"/>
                        <a:pt x="1422400" y="982133"/>
                      </a:cubicBezTo>
                      <a:cubicBezTo>
                        <a:pt x="1396973" y="950349"/>
                        <a:pt x="1380094" y="912316"/>
                        <a:pt x="1354667" y="880533"/>
                      </a:cubicBezTo>
                      <a:cubicBezTo>
                        <a:pt x="1334721" y="855600"/>
                        <a:pt x="1306879" y="837733"/>
                        <a:pt x="1286933" y="812800"/>
                      </a:cubicBezTo>
                      <a:cubicBezTo>
                        <a:pt x="1261506" y="781017"/>
                        <a:pt x="1246241" y="741622"/>
                        <a:pt x="1219200" y="711200"/>
                      </a:cubicBezTo>
                      <a:cubicBezTo>
                        <a:pt x="1155561" y="639606"/>
                        <a:pt x="1095702" y="561134"/>
                        <a:pt x="1016000" y="508000"/>
                      </a:cubicBezTo>
                      <a:cubicBezTo>
                        <a:pt x="887833" y="422556"/>
                        <a:pt x="943181" y="469048"/>
                        <a:pt x="846667" y="372533"/>
                      </a:cubicBezTo>
                      <a:cubicBezTo>
                        <a:pt x="835378" y="338666"/>
                        <a:pt x="832602" y="300636"/>
                        <a:pt x="812800" y="270933"/>
                      </a:cubicBezTo>
                      <a:cubicBezTo>
                        <a:pt x="786233" y="231082"/>
                        <a:pt x="749006" y="198737"/>
                        <a:pt x="711200" y="169333"/>
                      </a:cubicBezTo>
                      <a:cubicBezTo>
                        <a:pt x="536524" y="33474"/>
                        <a:pt x="559693" y="51098"/>
                        <a:pt x="406400" y="0"/>
                      </a:cubicBezTo>
                      <a:cubicBezTo>
                        <a:pt x="361244" y="11289"/>
                        <a:pt x="313715" y="15532"/>
                        <a:pt x="270933" y="33867"/>
                      </a:cubicBezTo>
                      <a:cubicBezTo>
                        <a:pt x="53886" y="126887"/>
                        <a:pt x="173770" y="228415"/>
                        <a:pt x="203200" y="508000"/>
                      </a:cubicBezTo>
                      <a:cubicBezTo>
                        <a:pt x="230238" y="764856"/>
                        <a:pt x="168958" y="711013"/>
                        <a:pt x="304800" y="778933"/>
                      </a:cubicBezTo>
                    </a:path>
                  </a:pathLst>
                </a:custGeom>
                <a:solidFill>
                  <a:srgbClr val="f2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5" name=""/>
              <p:cNvGrpSpPr/>
              <p:nvPr/>
            </p:nvGrpSpPr>
            <p:grpSpPr>
              <a:xfrm>
                <a:off x="11854800" y="3981960"/>
                <a:ext cx="944280" cy="688680"/>
                <a:chOff x="11854800" y="3981960"/>
                <a:chExt cx="944280" cy="688680"/>
              </a:xfrm>
            </p:grpSpPr>
            <p:sp>
              <p:nvSpPr>
                <p:cNvPr id="336" name="任意多边形 181"/>
                <p:cNvSpPr/>
                <p:nvPr/>
              </p:nvSpPr>
              <p:spPr>
                <a:xfrm rot="19753800">
                  <a:off x="11845080" y="4212000"/>
                  <a:ext cx="963360" cy="227880"/>
                </a:xfrm>
                <a:custGeom>
                  <a:avLst/>
                  <a:gdLst>
                    <a:gd name="textAreaLeft" fmla="*/ 0 w 963360"/>
                    <a:gd name="textAreaRight" fmla="*/ 963720 w 963360"/>
                    <a:gd name="textAreaTop" fmla="*/ 0 h 227880"/>
                    <a:gd name="textAreaBottom" fmla="*/ 228240 h 227880"/>
                  </a:gdLst>
                  <a:ahLst/>
                  <a:rect l="textAreaLeft" t="textAreaTop" r="textAreaRight" b="textAreaBottom"/>
                  <a:pathLst>
                    <a:path w="2065867" h="4030133">
                      <a:moveTo>
                        <a:pt x="270933" y="677333"/>
                      </a:moveTo>
                      <a:cubicBezTo>
                        <a:pt x="259644" y="733778"/>
                        <a:pt x="257278" y="792770"/>
                        <a:pt x="237067" y="846667"/>
                      </a:cubicBezTo>
                      <a:cubicBezTo>
                        <a:pt x="222775" y="884778"/>
                        <a:pt x="187536" y="911861"/>
                        <a:pt x="169333" y="948267"/>
                      </a:cubicBezTo>
                      <a:cubicBezTo>
                        <a:pt x="153368" y="980197"/>
                        <a:pt x="146756" y="1016000"/>
                        <a:pt x="135467" y="1049867"/>
                      </a:cubicBezTo>
                      <a:cubicBezTo>
                        <a:pt x="124178" y="1128889"/>
                        <a:pt x="124537" y="1210475"/>
                        <a:pt x="101600" y="1286933"/>
                      </a:cubicBezTo>
                      <a:cubicBezTo>
                        <a:pt x="89904" y="1325919"/>
                        <a:pt x="52070" y="1352127"/>
                        <a:pt x="33867" y="1388533"/>
                      </a:cubicBezTo>
                      <a:cubicBezTo>
                        <a:pt x="17902" y="1420463"/>
                        <a:pt x="11289" y="1456266"/>
                        <a:pt x="0" y="1490133"/>
                      </a:cubicBezTo>
                      <a:cubicBezTo>
                        <a:pt x="11289" y="1648178"/>
                        <a:pt x="6331" y="1808231"/>
                        <a:pt x="33867" y="1964267"/>
                      </a:cubicBezTo>
                      <a:cubicBezTo>
                        <a:pt x="40941" y="2004350"/>
                        <a:pt x="77942" y="2032746"/>
                        <a:pt x="101600" y="2065867"/>
                      </a:cubicBezTo>
                      <a:cubicBezTo>
                        <a:pt x="134408" y="2111798"/>
                        <a:pt x="167065" y="2157971"/>
                        <a:pt x="203200" y="2201333"/>
                      </a:cubicBezTo>
                      <a:cubicBezTo>
                        <a:pt x="223641" y="2225862"/>
                        <a:pt x="253221" y="2242500"/>
                        <a:pt x="270933" y="2269067"/>
                      </a:cubicBezTo>
                      <a:cubicBezTo>
                        <a:pt x="298937" y="2311073"/>
                        <a:pt x="313619" y="2360700"/>
                        <a:pt x="338667" y="2404533"/>
                      </a:cubicBezTo>
                      <a:cubicBezTo>
                        <a:pt x="443708" y="2588354"/>
                        <a:pt x="378175" y="2421458"/>
                        <a:pt x="440267" y="2607733"/>
                      </a:cubicBezTo>
                      <a:cubicBezTo>
                        <a:pt x="451556" y="2686755"/>
                        <a:pt x="448890" y="2769072"/>
                        <a:pt x="474133" y="2844800"/>
                      </a:cubicBezTo>
                      <a:cubicBezTo>
                        <a:pt x="484230" y="2875091"/>
                        <a:pt x="525439" y="2885153"/>
                        <a:pt x="541867" y="2912533"/>
                      </a:cubicBezTo>
                      <a:cubicBezTo>
                        <a:pt x="692110" y="3162937"/>
                        <a:pt x="437916" y="2858793"/>
                        <a:pt x="643467" y="3115733"/>
                      </a:cubicBezTo>
                      <a:cubicBezTo>
                        <a:pt x="663413" y="3140666"/>
                        <a:pt x="691254" y="3158534"/>
                        <a:pt x="711200" y="3183467"/>
                      </a:cubicBezTo>
                      <a:cubicBezTo>
                        <a:pt x="736627" y="3215251"/>
                        <a:pt x="752130" y="3254435"/>
                        <a:pt x="778933" y="3285067"/>
                      </a:cubicBezTo>
                      <a:cubicBezTo>
                        <a:pt x="831498" y="3345141"/>
                        <a:pt x="900372" y="3390540"/>
                        <a:pt x="948267" y="3454400"/>
                      </a:cubicBezTo>
                      <a:cubicBezTo>
                        <a:pt x="982134" y="3499556"/>
                        <a:pt x="1019951" y="3542002"/>
                        <a:pt x="1049867" y="3589867"/>
                      </a:cubicBezTo>
                      <a:cubicBezTo>
                        <a:pt x="1076624" y="3632678"/>
                        <a:pt x="1089596" y="3683327"/>
                        <a:pt x="1117600" y="3725333"/>
                      </a:cubicBezTo>
                      <a:cubicBezTo>
                        <a:pt x="1164328" y="3795425"/>
                        <a:pt x="1222230" y="3809038"/>
                        <a:pt x="1286933" y="3860800"/>
                      </a:cubicBezTo>
                      <a:cubicBezTo>
                        <a:pt x="1311866" y="3880746"/>
                        <a:pt x="1328100" y="3910821"/>
                        <a:pt x="1354667" y="3928533"/>
                      </a:cubicBezTo>
                      <a:cubicBezTo>
                        <a:pt x="1438370" y="3984335"/>
                        <a:pt x="1501418" y="4000029"/>
                        <a:pt x="1591733" y="4030133"/>
                      </a:cubicBezTo>
                      <a:cubicBezTo>
                        <a:pt x="1670755" y="4018844"/>
                        <a:pt x="1753072" y="4021510"/>
                        <a:pt x="1828800" y="3996267"/>
                      </a:cubicBezTo>
                      <a:cubicBezTo>
                        <a:pt x="1947678" y="3956641"/>
                        <a:pt x="1962781" y="3628192"/>
                        <a:pt x="1964267" y="3623733"/>
                      </a:cubicBezTo>
                      <a:cubicBezTo>
                        <a:pt x="1977138" y="3585119"/>
                        <a:pt x="2013797" y="3558539"/>
                        <a:pt x="2032000" y="3522133"/>
                      </a:cubicBezTo>
                      <a:cubicBezTo>
                        <a:pt x="2047965" y="3490203"/>
                        <a:pt x="2054578" y="3454400"/>
                        <a:pt x="2065867" y="3420533"/>
                      </a:cubicBezTo>
                      <a:cubicBezTo>
                        <a:pt x="2054578" y="3318933"/>
                        <a:pt x="2052048" y="3215973"/>
                        <a:pt x="2032000" y="3115733"/>
                      </a:cubicBezTo>
                      <a:cubicBezTo>
                        <a:pt x="2017998" y="3045722"/>
                        <a:pt x="1964267" y="2912533"/>
                        <a:pt x="1964267" y="2912533"/>
                      </a:cubicBezTo>
                      <a:cubicBezTo>
                        <a:pt x="2045473" y="2668911"/>
                        <a:pt x="1946942" y="2973167"/>
                        <a:pt x="2032000" y="2675467"/>
                      </a:cubicBezTo>
                      <a:cubicBezTo>
                        <a:pt x="2041807" y="2641142"/>
                        <a:pt x="2054578" y="2607734"/>
                        <a:pt x="2065867" y="2573867"/>
                      </a:cubicBezTo>
                      <a:cubicBezTo>
                        <a:pt x="1988036" y="2340376"/>
                        <a:pt x="2048618" y="2421153"/>
                        <a:pt x="1930400" y="2302933"/>
                      </a:cubicBezTo>
                      <a:cubicBezTo>
                        <a:pt x="1919111" y="2257778"/>
                        <a:pt x="1909320" y="2212221"/>
                        <a:pt x="1896533" y="2167467"/>
                      </a:cubicBezTo>
                      <a:cubicBezTo>
                        <a:pt x="1886726" y="2133142"/>
                        <a:pt x="1868536" y="2101080"/>
                        <a:pt x="1862667" y="2065867"/>
                      </a:cubicBezTo>
                      <a:cubicBezTo>
                        <a:pt x="1846052" y="1966175"/>
                        <a:pt x="1835554" y="1713597"/>
                        <a:pt x="1794933" y="1591733"/>
                      </a:cubicBezTo>
                      <a:cubicBezTo>
                        <a:pt x="1778968" y="1543839"/>
                        <a:pt x="1753174" y="1499558"/>
                        <a:pt x="1727200" y="1456267"/>
                      </a:cubicBezTo>
                      <a:cubicBezTo>
                        <a:pt x="1685317" y="1386462"/>
                        <a:pt x="1591733" y="1253067"/>
                        <a:pt x="1591733" y="1253067"/>
                      </a:cubicBezTo>
                      <a:cubicBezTo>
                        <a:pt x="1555962" y="1145753"/>
                        <a:pt x="1565165" y="1143657"/>
                        <a:pt x="1490133" y="1049867"/>
                      </a:cubicBezTo>
                      <a:cubicBezTo>
                        <a:pt x="1470187" y="1024934"/>
                        <a:pt x="1442346" y="1007066"/>
                        <a:pt x="1422400" y="982133"/>
                      </a:cubicBezTo>
                      <a:cubicBezTo>
                        <a:pt x="1396973" y="950349"/>
                        <a:pt x="1380094" y="912316"/>
                        <a:pt x="1354667" y="880533"/>
                      </a:cubicBezTo>
                      <a:cubicBezTo>
                        <a:pt x="1334721" y="855600"/>
                        <a:pt x="1306879" y="837733"/>
                        <a:pt x="1286933" y="812800"/>
                      </a:cubicBezTo>
                      <a:cubicBezTo>
                        <a:pt x="1261506" y="781017"/>
                        <a:pt x="1246241" y="741622"/>
                        <a:pt x="1219200" y="711200"/>
                      </a:cubicBezTo>
                      <a:cubicBezTo>
                        <a:pt x="1155561" y="639606"/>
                        <a:pt x="1095702" y="561134"/>
                        <a:pt x="1016000" y="508000"/>
                      </a:cubicBezTo>
                      <a:cubicBezTo>
                        <a:pt x="887833" y="422556"/>
                        <a:pt x="943181" y="469048"/>
                        <a:pt x="846667" y="372533"/>
                      </a:cubicBezTo>
                      <a:cubicBezTo>
                        <a:pt x="835378" y="338666"/>
                        <a:pt x="832602" y="300636"/>
                        <a:pt x="812800" y="270933"/>
                      </a:cubicBezTo>
                      <a:cubicBezTo>
                        <a:pt x="786233" y="231082"/>
                        <a:pt x="749006" y="198737"/>
                        <a:pt x="711200" y="169333"/>
                      </a:cubicBezTo>
                      <a:cubicBezTo>
                        <a:pt x="536524" y="33474"/>
                        <a:pt x="559693" y="51098"/>
                        <a:pt x="406400" y="0"/>
                      </a:cubicBezTo>
                      <a:cubicBezTo>
                        <a:pt x="361244" y="11289"/>
                        <a:pt x="313715" y="15532"/>
                        <a:pt x="270933" y="33867"/>
                      </a:cubicBezTo>
                      <a:cubicBezTo>
                        <a:pt x="53886" y="126887"/>
                        <a:pt x="173770" y="228415"/>
                        <a:pt x="203200" y="508000"/>
                      </a:cubicBezTo>
                      <a:cubicBezTo>
                        <a:pt x="230238" y="764856"/>
                        <a:pt x="168958" y="711013"/>
                        <a:pt x="304800" y="778933"/>
                      </a:cubicBez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7" name="任意多边形 182"/>
                <p:cNvSpPr/>
                <p:nvPr/>
              </p:nvSpPr>
              <p:spPr>
                <a:xfrm rot="19666800">
                  <a:off x="12187440" y="4262400"/>
                  <a:ext cx="480240" cy="213840"/>
                </a:xfrm>
                <a:custGeom>
                  <a:avLst/>
                  <a:gdLst>
                    <a:gd name="textAreaLeft" fmla="*/ 0 w 480240"/>
                    <a:gd name="textAreaRight" fmla="*/ 480600 w 480240"/>
                    <a:gd name="textAreaTop" fmla="*/ 0 h 213840"/>
                    <a:gd name="textAreaBottom" fmla="*/ 214200 h 213840"/>
                  </a:gdLst>
                  <a:ahLst/>
                  <a:rect l="textAreaLeft" t="textAreaTop" r="textAreaRight" b="textAreaBottom"/>
                  <a:pathLst>
                    <a:path w="2065867" h="4030133">
                      <a:moveTo>
                        <a:pt x="270933" y="677333"/>
                      </a:moveTo>
                      <a:cubicBezTo>
                        <a:pt x="259644" y="733778"/>
                        <a:pt x="257278" y="792770"/>
                        <a:pt x="237067" y="846667"/>
                      </a:cubicBezTo>
                      <a:cubicBezTo>
                        <a:pt x="222775" y="884778"/>
                        <a:pt x="187536" y="911861"/>
                        <a:pt x="169333" y="948267"/>
                      </a:cubicBezTo>
                      <a:cubicBezTo>
                        <a:pt x="153368" y="980197"/>
                        <a:pt x="146756" y="1016000"/>
                        <a:pt x="135467" y="1049867"/>
                      </a:cubicBezTo>
                      <a:cubicBezTo>
                        <a:pt x="124178" y="1128889"/>
                        <a:pt x="124537" y="1210475"/>
                        <a:pt x="101600" y="1286933"/>
                      </a:cubicBezTo>
                      <a:cubicBezTo>
                        <a:pt x="89904" y="1325919"/>
                        <a:pt x="52070" y="1352127"/>
                        <a:pt x="33867" y="1388533"/>
                      </a:cubicBezTo>
                      <a:cubicBezTo>
                        <a:pt x="17902" y="1420463"/>
                        <a:pt x="11289" y="1456266"/>
                        <a:pt x="0" y="1490133"/>
                      </a:cubicBezTo>
                      <a:cubicBezTo>
                        <a:pt x="11289" y="1648178"/>
                        <a:pt x="6331" y="1808231"/>
                        <a:pt x="33867" y="1964267"/>
                      </a:cubicBezTo>
                      <a:cubicBezTo>
                        <a:pt x="40941" y="2004350"/>
                        <a:pt x="77942" y="2032746"/>
                        <a:pt x="101600" y="2065867"/>
                      </a:cubicBezTo>
                      <a:cubicBezTo>
                        <a:pt x="134408" y="2111798"/>
                        <a:pt x="167065" y="2157971"/>
                        <a:pt x="203200" y="2201333"/>
                      </a:cubicBezTo>
                      <a:cubicBezTo>
                        <a:pt x="223641" y="2225862"/>
                        <a:pt x="253221" y="2242500"/>
                        <a:pt x="270933" y="2269067"/>
                      </a:cubicBezTo>
                      <a:cubicBezTo>
                        <a:pt x="298937" y="2311073"/>
                        <a:pt x="313619" y="2360700"/>
                        <a:pt x="338667" y="2404533"/>
                      </a:cubicBezTo>
                      <a:cubicBezTo>
                        <a:pt x="443708" y="2588354"/>
                        <a:pt x="378175" y="2421458"/>
                        <a:pt x="440267" y="2607733"/>
                      </a:cubicBezTo>
                      <a:cubicBezTo>
                        <a:pt x="451556" y="2686755"/>
                        <a:pt x="448890" y="2769072"/>
                        <a:pt x="474133" y="2844800"/>
                      </a:cubicBezTo>
                      <a:cubicBezTo>
                        <a:pt x="484230" y="2875091"/>
                        <a:pt x="525439" y="2885153"/>
                        <a:pt x="541867" y="2912533"/>
                      </a:cubicBezTo>
                      <a:cubicBezTo>
                        <a:pt x="692110" y="3162937"/>
                        <a:pt x="437916" y="2858793"/>
                        <a:pt x="643467" y="3115733"/>
                      </a:cubicBezTo>
                      <a:cubicBezTo>
                        <a:pt x="663413" y="3140666"/>
                        <a:pt x="691254" y="3158534"/>
                        <a:pt x="711200" y="3183467"/>
                      </a:cubicBezTo>
                      <a:cubicBezTo>
                        <a:pt x="736627" y="3215251"/>
                        <a:pt x="752130" y="3254435"/>
                        <a:pt x="778933" y="3285067"/>
                      </a:cubicBezTo>
                      <a:cubicBezTo>
                        <a:pt x="831498" y="3345141"/>
                        <a:pt x="900372" y="3390540"/>
                        <a:pt x="948267" y="3454400"/>
                      </a:cubicBezTo>
                      <a:cubicBezTo>
                        <a:pt x="982134" y="3499556"/>
                        <a:pt x="1019951" y="3542002"/>
                        <a:pt x="1049867" y="3589867"/>
                      </a:cubicBezTo>
                      <a:cubicBezTo>
                        <a:pt x="1076624" y="3632678"/>
                        <a:pt x="1089596" y="3683327"/>
                        <a:pt x="1117600" y="3725333"/>
                      </a:cubicBezTo>
                      <a:cubicBezTo>
                        <a:pt x="1164328" y="3795425"/>
                        <a:pt x="1222230" y="3809038"/>
                        <a:pt x="1286933" y="3860800"/>
                      </a:cubicBezTo>
                      <a:cubicBezTo>
                        <a:pt x="1311866" y="3880746"/>
                        <a:pt x="1328100" y="3910821"/>
                        <a:pt x="1354667" y="3928533"/>
                      </a:cubicBezTo>
                      <a:cubicBezTo>
                        <a:pt x="1438370" y="3984335"/>
                        <a:pt x="1501418" y="4000029"/>
                        <a:pt x="1591733" y="4030133"/>
                      </a:cubicBezTo>
                      <a:cubicBezTo>
                        <a:pt x="1670755" y="4018844"/>
                        <a:pt x="1753072" y="4021510"/>
                        <a:pt x="1828800" y="3996267"/>
                      </a:cubicBezTo>
                      <a:cubicBezTo>
                        <a:pt x="1947678" y="3956641"/>
                        <a:pt x="1962781" y="3628192"/>
                        <a:pt x="1964267" y="3623733"/>
                      </a:cubicBezTo>
                      <a:cubicBezTo>
                        <a:pt x="1977138" y="3585119"/>
                        <a:pt x="2013797" y="3558539"/>
                        <a:pt x="2032000" y="3522133"/>
                      </a:cubicBezTo>
                      <a:cubicBezTo>
                        <a:pt x="2047965" y="3490203"/>
                        <a:pt x="2054578" y="3454400"/>
                        <a:pt x="2065867" y="3420533"/>
                      </a:cubicBezTo>
                      <a:cubicBezTo>
                        <a:pt x="2054578" y="3318933"/>
                        <a:pt x="2052048" y="3215973"/>
                        <a:pt x="2032000" y="3115733"/>
                      </a:cubicBezTo>
                      <a:cubicBezTo>
                        <a:pt x="2017998" y="3045722"/>
                        <a:pt x="1964267" y="2912533"/>
                        <a:pt x="1964267" y="2912533"/>
                      </a:cubicBezTo>
                      <a:cubicBezTo>
                        <a:pt x="2045473" y="2668911"/>
                        <a:pt x="1946942" y="2973167"/>
                        <a:pt x="2032000" y="2675467"/>
                      </a:cubicBezTo>
                      <a:cubicBezTo>
                        <a:pt x="2041807" y="2641142"/>
                        <a:pt x="2054578" y="2607734"/>
                        <a:pt x="2065867" y="2573867"/>
                      </a:cubicBezTo>
                      <a:cubicBezTo>
                        <a:pt x="1988036" y="2340376"/>
                        <a:pt x="2048618" y="2421153"/>
                        <a:pt x="1930400" y="2302933"/>
                      </a:cubicBezTo>
                      <a:cubicBezTo>
                        <a:pt x="1919111" y="2257778"/>
                        <a:pt x="1909320" y="2212221"/>
                        <a:pt x="1896533" y="2167467"/>
                      </a:cubicBezTo>
                      <a:cubicBezTo>
                        <a:pt x="1886726" y="2133142"/>
                        <a:pt x="1868536" y="2101080"/>
                        <a:pt x="1862667" y="2065867"/>
                      </a:cubicBezTo>
                      <a:cubicBezTo>
                        <a:pt x="1846052" y="1966175"/>
                        <a:pt x="1835554" y="1713597"/>
                        <a:pt x="1794933" y="1591733"/>
                      </a:cubicBezTo>
                      <a:cubicBezTo>
                        <a:pt x="1778968" y="1543839"/>
                        <a:pt x="1753174" y="1499558"/>
                        <a:pt x="1727200" y="1456267"/>
                      </a:cubicBezTo>
                      <a:cubicBezTo>
                        <a:pt x="1685317" y="1386462"/>
                        <a:pt x="1591733" y="1253067"/>
                        <a:pt x="1591733" y="1253067"/>
                      </a:cubicBezTo>
                      <a:cubicBezTo>
                        <a:pt x="1555962" y="1145753"/>
                        <a:pt x="1565165" y="1143657"/>
                        <a:pt x="1490133" y="1049867"/>
                      </a:cubicBezTo>
                      <a:cubicBezTo>
                        <a:pt x="1470187" y="1024934"/>
                        <a:pt x="1442346" y="1007066"/>
                        <a:pt x="1422400" y="982133"/>
                      </a:cubicBezTo>
                      <a:cubicBezTo>
                        <a:pt x="1396973" y="950349"/>
                        <a:pt x="1380094" y="912316"/>
                        <a:pt x="1354667" y="880533"/>
                      </a:cubicBezTo>
                      <a:cubicBezTo>
                        <a:pt x="1334721" y="855600"/>
                        <a:pt x="1306879" y="837733"/>
                        <a:pt x="1286933" y="812800"/>
                      </a:cubicBezTo>
                      <a:cubicBezTo>
                        <a:pt x="1261506" y="781017"/>
                        <a:pt x="1246241" y="741622"/>
                        <a:pt x="1219200" y="711200"/>
                      </a:cubicBezTo>
                      <a:cubicBezTo>
                        <a:pt x="1155561" y="639606"/>
                        <a:pt x="1095702" y="561134"/>
                        <a:pt x="1016000" y="508000"/>
                      </a:cubicBezTo>
                      <a:cubicBezTo>
                        <a:pt x="887833" y="422556"/>
                        <a:pt x="943181" y="469048"/>
                        <a:pt x="846667" y="372533"/>
                      </a:cubicBezTo>
                      <a:cubicBezTo>
                        <a:pt x="835378" y="338666"/>
                        <a:pt x="832602" y="300636"/>
                        <a:pt x="812800" y="270933"/>
                      </a:cubicBezTo>
                      <a:cubicBezTo>
                        <a:pt x="786233" y="231082"/>
                        <a:pt x="749006" y="198737"/>
                        <a:pt x="711200" y="169333"/>
                      </a:cubicBezTo>
                      <a:cubicBezTo>
                        <a:pt x="536524" y="33474"/>
                        <a:pt x="559693" y="51098"/>
                        <a:pt x="406400" y="0"/>
                      </a:cubicBezTo>
                      <a:cubicBezTo>
                        <a:pt x="361244" y="11289"/>
                        <a:pt x="313715" y="15532"/>
                        <a:pt x="270933" y="33867"/>
                      </a:cubicBezTo>
                      <a:cubicBezTo>
                        <a:pt x="53886" y="126887"/>
                        <a:pt x="173770" y="228415"/>
                        <a:pt x="203200" y="508000"/>
                      </a:cubicBezTo>
                      <a:cubicBezTo>
                        <a:pt x="230238" y="764856"/>
                        <a:pt x="168958" y="711013"/>
                        <a:pt x="304800" y="778933"/>
                      </a:cubicBezTo>
                    </a:path>
                  </a:pathLst>
                </a:custGeom>
                <a:solidFill>
                  <a:srgbClr val="f2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8" name=""/>
              <p:cNvGrpSpPr/>
              <p:nvPr/>
            </p:nvGrpSpPr>
            <p:grpSpPr>
              <a:xfrm>
                <a:off x="11471760" y="4403520"/>
                <a:ext cx="758880" cy="908280"/>
                <a:chOff x="11471760" y="4403520"/>
                <a:chExt cx="758880" cy="908280"/>
              </a:xfrm>
            </p:grpSpPr>
            <p:sp>
              <p:nvSpPr>
                <p:cNvPr id="339" name="任意多边形 185"/>
                <p:cNvSpPr/>
                <p:nvPr/>
              </p:nvSpPr>
              <p:spPr>
                <a:xfrm rot="18404400">
                  <a:off x="11369520" y="4743360"/>
                  <a:ext cx="963360" cy="227880"/>
                </a:xfrm>
                <a:custGeom>
                  <a:avLst/>
                  <a:gdLst>
                    <a:gd name="textAreaLeft" fmla="*/ 0 w 963360"/>
                    <a:gd name="textAreaRight" fmla="*/ 963720 w 963360"/>
                    <a:gd name="textAreaTop" fmla="*/ 0 h 227880"/>
                    <a:gd name="textAreaBottom" fmla="*/ 228240 h 227880"/>
                  </a:gdLst>
                  <a:ahLst/>
                  <a:rect l="textAreaLeft" t="textAreaTop" r="textAreaRight" b="textAreaBottom"/>
                  <a:pathLst>
                    <a:path w="2065867" h="4030133">
                      <a:moveTo>
                        <a:pt x="270933" y="677333"/>
                      </a:moveTo>
                      <a:cubicBezTo>
                        <a:pt x="259644" y="733778"/>
                        <a:pt x="257278" y="792770"/>
                        <a:pt x="237067" y="846667"/>
                      </a:cubicBezTo>
                      <a:cubicBezTo>
                        <a:pt x="222775" y="884778"/>
                        <a:pt x="187536" y="911861"/>
                        <a:pt x="169333" y="948267"/>
                      </a:cubicBezTo>
                      <a:cubicBezTo>
                        <a:pt x="153368" y="980197"/>
                        <a:pt x="146756" y="1016000"/>
                        <a:pt x="135467" y="1049867"/>
                      </a:cubicBezTo>
                      <a:cubicBezTo>
                        <a:pt x="124178" y="1128889"/>
                        <a:pt x="124537" y="1210475"/>
                        <a:pt x="101600" y="1286933"/>
                      </a:cubicBezTo>
                      <a:cubicBezTo>
                        <a:pt x="89904" y="1325919"/>
                        <a:pt x="52070" y="1352127"/>
                        <a:pt x="33867" y="1388533"/>
                      </a:cubicBezTo>
                      <a:cubicBezTo>
                        <a:pt x="17902" y="1420463"/>
                        <a:pt x="11289" y="1456266"/>
                        <a:pt x="0" y="1490133"/>
                      </a:cubicBezTo>
                      <a:cubicBezTo>
                        <a:pt x="11289" y="1648178"/>
                        <a:pt x="6331" y="1808231"/>
                        <a:pt x="33867" y="1964267"/>
                      </a:cubicBezTo>
                      <a:cubicBezTo>
                        <a:pt x="40941" y="2004350"/>
                        <a:pt x="77942" y="2032746"/>
                        <a:pt x="101600" y="2065867"/>
                      </a:cubicBezTo>
                      <a:cubicBezTo>
                        <a:pt x="134408" y="2111798"/>
                        <a:pt x="167065" y="2157971"/>
                        <a:pt x="203200" y="2201333"/>
                      </a:cubicBezTo>
                      <a:cubicBezTo>
                        <a:pt x="223641" y="2225862"/>
                        <a:pt x="253221" y="2242500"/>
                        <a:pt x="270933" y="2269067"/>
                      </a:cubicBezTo>
                      <a:cubicBezTo>
                        <a:pt x="298937" y="2311073"/>
                        <a:pt x="313619" y="2360700"/>
                        <a:pt x="338667" y="2404533"/>
                      </a:cubicBezTo>
                      <a:cubicBezTo>
                        <a:pt x="443708" y="2588354"/>
                        <a:pt x="378175" y="2421458"/>
                        <a:pt x="440267" y="2607733"/>
                      </a:cubicBezTo>
                      <a:cubicBezTo>
                        <a:pt x="451556" y="2686755"/>
                        <a:pt x="448890" y="2769072"/>
                        <a:pt x="474133" y="2844800"/>
                      </a:cubicBezTo>
                      <a:cubicBezTo>
                        <a:pt x="484230" y="2875091"/>
                        <a:pt x="525439" y="2885153"/>
                        <a:pt x="541867" y="2912533"/>
                      </a:cubicBezTo>
                      <a:cubicBezTo>
                        <a:pt x="692110" y="3162937"/>
                        <a:pt x="437916" y="2858793"/>
                        <a:pt x="643467" y="3115733"/>
                      </a:cubicBezTo>
                      <a:cubicBezTo>
                        <a:pt x="663413" y="3140666"/>
                        <a:pt x="691254" y="3158534"/>
                        <a:pt x="711200" y="3183467"/>
                      </a:cubicBezTo>
                      <a:cubicBezTo>
                        <a:pt x="736627" y="3215251"/>
                        <a:pt x="752130" y="3254435"/>
                        <a:pt x="778933" y="3285067"/>
                      </a:cubicBezTo>
                      <a:cubicBezTo>
                        <a:pt x="831498" y="3345141"/>
                        <a:pt x="900372" y="3390540"/>
                        <a:pt x="948267" y="3454400"/>
                      </a:cubicBezTo>
                      <a:cubicBezTo>
                        <a:pt x="982134" y="3499556"/>
                        <a:pt x="1019951" y="3542002"/>
                        <a:pt x="1049867" y="3589867"/>
                      </a:cubicBezTo>
                      <a:cubicBezTo>
                        <a:pt x="1076624" y="3632678"/>
                        <a:pt x="1089596" y="3683327"/>
                        <a:pt x="1117600" y="3725333"/>
                      </a:cubicBezTo>
                      <a:cubicBezTo>
                        <a:pt x="1164328" y="3795425"/>
                        <a:pt x="1222230" y="3809038"/>
                        <a:pt x="1286933" y="3860800"/>
                      </a:cubicBezTo>
                      <a:cubicBezTo>
                        <a:pt x="1311866" y="3880746"/>
                        <a:pt x="1328100" y="3910821"/>
                        <a:pt x="1354667" y="3928533"/>
                      </a:cubicBezTo>
                      <a:cubicBezTo>
                        <a:pt x="1438370" y="3984335"/>
                        <a:pt x="1501418" y="4000029"/>
                        <a:pt x="1591733" y="4030133"/>
                      </a:cubicBezTo>
                      <a:cubicBezTo>
                        <a:pt x="1670755" y="4018844"/>
                        <a:pt x="1753072" y="4021510"/>
                        <a:pt x="1828800" y="3996267"/>
                      </a:cubicBezTo>
                      <a:cubicBezTo>
                        <a:pt x="1947678" y="3956641"/>
                        <a:pt x="1962781" y="3628192"/>
                        <a:pt x="1964267" y="3623733"/>
                      </a:cubicBezTo>
                      <a:cubicBezTo>
                        <a:pt x="1977138" y="3585119"/>
                        <a:pt x="2013797" y="3558539"/>
                        <a:pt x="2032000" y="3522133"/>
                      </a:cubicBezTo>
                      <a:cubicBezTo>
                        <a:pt x="2047965" y="3490203"/>
                        <a:pt x="2054578" y="3454400"/>
                        <a:pt x="2065867" y="3420533"/>
                      </a:cubicBezTo>
                      <a:cubicBezTo>
                        <a:pt x="2054578" y="3318933"/>
                        <a:pt x="2052048" y="3215973"/>
                        <a:pt x="2032000" y="3115733"/>
                      </a:cubicBezTo>
                      <a:cubicBezTo>
                        <a:pt x="2017998" y="3045722"/>
                        <a:pt x="1964267" y="2912533"/>
                        <a:pt x="1964267" y="2912533"/>
                      </a:cubicBezTo>
                      <a:cubicBezTo>
                        <a:pt x="2045473" y="2668911"/>
                        <a:pt x="1946942" y="2973167"/>
                        <a:pt x="2032000" y="2675467"/>
                      </a:cubicBezTo>
                      <a:cubicBezTo>
                        <a:pt x="2041807" y="2641142"/>
                        <a:pt x="2054578" y="2607734"/>
                        <a:pt x="2065867" y="2573867"/>
                      </a:cubicBezTo>
                      <a:cubicBezTo>
                        <a:pt x="1988036" y="2340376"/>
                        <a:pt x="2048618" y="2421153"/>
                        <a:pt x="1930400" y="2302933"/>
                      </a:cubicBezTo>
                      <a:cubicBezTo>
                        <a:pt x="1919111" y="2257778"/>
                        <a:pt x="1909320" y="2212221"/>
                        <a:pt x="1896533" y="2167467"/>
                      </a:cubicBezTo>
                      <a:cubicBezTo>
                        <a:pt x="1886726" y="2133142"/>
                        <a:pt x="1868536" y="2101080"/>
                        <a:pt x="1862667" y="2065867"/>
                      </a:cubicBezTo>
                      <a:cubicBezTo>
                        <a:pt x="1846052" y="1966175"/>
                        <a:pt x="1835554" y="1713597"/>
                        <a:pt x="1794933" y="1591733"/>
                      </a:cubicBezTo>
                      <a:cubicBezTo>
                        <a:pt x="1778968" y="1543839"/>
                        <a:pt x="1753174" y="1499558"/>
                        <a:pt x="1727200" y="1456267"/>
                      </a:cubicBezTo>
                      <a:cubicBezTo>
                        <a:pt x="1685317" y="1386462"/>
                        <a:pt x="1591733" y="1253067"/>
                        <a:pt x="1591733" y="1253067"/>
                      </a:cubicBezTo>
                      <a:cubicBezTo>
                        <a:pt x="1555962" y="1145753"/>
                        <a:pt x="1565165" y="1143657"/>
                        <a:pt x="1490133" y="1049867"/>
                      </a:cubicBezTo>
                      <a:cubicBezTo>
                        <a:pt x="1470187" y="1024934"/>
                        <a:pt x="1442346" y="1007066"/>
                        <a:pt x="1422400" y="982133"/>
                      </a:cubicBezTo>
                      <a:cubicBezTo>
                        <a:pt x="1396973" y="950349"/>
                        <a:pt x="1380094" y="912316"/>
                        <a:pt x="1354667" y="880533"/>
                      </a:cubicBezTo>
                      <a:cubicBezTo>
                        <a:pt x="1334721" y="855600"/>
                        <a:pt x="1306879" y="837733"/>
                        <a:pt x="1286933" y="812800"/>
                      </a:cubicBezTo>
                      <a:cubicBezTo>
                        <a:pt x="1261506" y="781017"/>
                        <a:pt x="1246241" y="741622"/>
                        <a:pt x="1219200" y="711200"/>
                      </a:cubicBezTo>
                      <a:cubicBezTo>
                        <a:pt x="1155561" y="639606"/>
                        <a:pt x="1095702" y="561134"/>
                        <a:pt x="1016000" y="508000"/>
                      </a:cubicBezTo>
                      <a:cubicBezTo>
                        <a:pt x="887833" y="422556"/>
                        <a:pt x="943181" y="469048"/>
                        <a:pt x="846667" y="372533"/>
                      </a:cubicBezTo>
                      <a:cubicBezTo>
                        <a:pt x="835378" y="338666"/>
                        <a:pt x="832602" y="300636"/>
                        <a:pt x="812800" y="270933"/>
                      </a:cubicBezTo>
                      <a:cubicBezTo>
                        <a:pt x="786233" y="231082"/>
                        <a:pt x="749006" y="198737"/>
                        <a:pt x="711200" y="169333"/>
                      </a:cubicBezTo>
                      <a:cubicBezTo>
                        <a:pt x="536524" y="33474"/>
                        <a:pt x="559693" y="51098"/>
                        <a:pt x="406400" y="0"/>
                      </a:cubicBezTo>
                      <a:cubicBezTo>
                        <a:pt x="361244" y="11289"/>
                        <a:pt x="313715" y="15532"/>
                        <a:pt x="270933" y="33867"/>
                      </a:cubicBezTo>
                      <a:cubicBezTo>
                        <a:pt x="53886" y="126887"/>
                        <a:pt x="173770" y="228415"/>
                        <a:pt x="203200" y="508000"/>
                      </a:cubicBezTo>
                      <a:cubicBezTo>
                        <a:pt x="230238" y="764856"/>
                        <a:pt x="168958" y="711013"/>
                        <a:pt x="304800" y="778933"/>
                      </a:cubicBez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0" name="任意多边形 186"/>
                <p:cNvSpPr/>
                <p:nvPr/>
              </p:nvSpPr>
              <p:spPr>
                <a:xfrm rot="18317400">
                  <a:off x="11720520" y="4752000"/>
                  <a:ext cx="480240" cy="213840"/>
                </a:xfrm>
                <a:custGeom>
                  <a:avLst/>
                  <a:gdLst>
                    <a:gd name="textAreaLeft" fmla="*/ 0 w 480240"/>
                    <a:gd name="textAreaRight" fmla="*/ 480600 w 480240"/>
                    <a:gd name="textAreaTop" fmla="*/ 0 h 213840"/>
                    <a:gd name="textAreaBottom" fmla="*/ 214200 h 213840"/>
                  </a:gdLst>
                  <a:ahLst/>
                  <a:rect l="textAreaLeft" t="textAreaTop" r="textAreaRight" b="textAreaBottom"/>
                  <a:pathLst>
                    <a:path w="2065867" h="4030133">
                      <a:moveTo>
                        <a:pt x="270933" y="677333"/>
                      </a:moveTo>
                      <a:cubicBezTo>
                        <a:pt x="259644" y="733778"/>
                        <a:pt x="257278" y="792770"/>
                        <a:pt x="237067" y="846667"/>
                      </a:cubicBezTo>
                      <a:cubicBezTo>
                        <a:pt x="222775" y="884778"/>
                        <a:pt x="187536" y="911861"/>
                        <a:pt x="169333" y="948267"/>
                      </a:cubicBezTo>
                      <a:cubicBezTo>
                        <a:pt x="153368" y="980197"/>
                        <a:pt x="146756" y="1016000"/>
                        <a:pt x="135467" y="1049867"/>
                      </a:cubicBezTo>
                      <a:cubicBezTo>
                        <a:pt x="124178" y="1128889"/>
                        <a:pt x="124537" y="1210475"/>
                        <a:pt x="101600" y="1286933"/>
                      </a:cubicBezTo>
                      <a:cubicBezTo>
                        <a:pt x="89904" y="1325919"/>
                        <a:pt x="52070" y="1352127"/>
                        <a:pt x="33867" y="1388533"/>
                      </a:cubicBezTo>
                      <a:cubicBezTo>
                        <a:pt x="17902" y="1420463"/>
                        <a:pt x="11289" y="1456266"/>
                        <a:pt x="0" y="1490133"/>
                      </a:cubicBezTo>
                      <a:cubicBezTo>
                        <a:pt x="11289" y="1648178"/>
                        <a:pt x="6331" y="1808231"/>
                        <a:pt x="33867" y="1964267"/>
                      </a:cubicBezTo>
                      <a:cubicBezTo>
                        <a:pt x="40941" y="2004350"/>
                        <a:pt x="77942" y="2032746"/>
                        <a:pt x="101600" y="2065867"/>
                      </a:cubicBezTo>
                      <a:cubicBezTo>
                        <a:pt x="134408" y="2111798"/>
                        <a:pt x="167065" y="2157971"/>
                        <a:pt x="203200" y="2201333"/>
                      </a:cubicBezTo>
                      <a:cubicBezTo>
                        <a:pt x="223641" y="2225862"/>
                        <a:pt x="253221" y="2242500"/>
                        <a:pt x="270933" y="2269067"/>
                      </a:cubicBezTo>
                      <a:cubicBezTo>
                        <a:pt x="298937" y="2311073"/>
                        <a:pt x="313619" y="2360700"/>
                        <a:pt x="338667" y="2404533"/>
                      </a:cubicBezTo>
                      <a:cubicBezTo>
                        <a:pt x="443708" y="2588354"/>
                        <a:pt x="378175" y="2421458"/>
                        <a:pt x="440267" y="2607733"/>
                      </a:cubicBezTo>
                      <a:cubicBezTo>
                        <a:pt x="451556" y="2686755"/>
                        <a:pt x="448890" y="2769072"/>
                        <a:pt x="474133" y="2844800"/>
                      </a:cubicBezTo>
                      <a:cubicBezTo>
                        <a:pt x="484230" y="2875091"/>
                        <a:pt x="525439" y="2885153"/>
                        <a:pt x="541867" y="2912533"/>
                      </a:cubicBezTo>
                      <a:cubicBezTo>
                        <a:pt x="692110" y="3162937"/>
                        <a:pt x="437916" y="2858793"/>
                        <a:pt x="643467" y="3115733"/>
                      </a:cubicBezTo>
                      <a:cubicBezTo>
                        <a:pt x="663413" y="3140666"/>
                        <a:pt x="691254" y="3158534"/>
                        <a:pt x="711200" y="3183467"/>
                      </a:cubicBezTo>
                      <a:cubicBezTo>
                        <a:pt x="736627" y="3215251"/>
                        <a:pt x="752130" y="3254435"/>
                        <a:pt x="778933" y="3285067"/>
                      </a:cubicBezTo>
                      <a:cubicBezTo>
                        <a:pt x="831498" y="3345141"/>
                        <a:pt x="900372" y="3390540"/>
                        <a:pt x="948267" y="3454400"/>
                      </a:cubicBezTo>
                      <a:cubicBezTo>
                        <a:pt x="982134" y="3499556"/>
                        <a:pt x="1019951" y="3542002"/>
                        <a:pt x="1049867" y="3589867"/>
                      </a:cubicBezTo>
                      <a:cubicBezTo>
                        <a:pt x="1076624" y="3632678"/>
                        <a:pt x="1089596" y="3683327"/>
                        <a:pt x="1117600" y="3725333"/>
                      </a:cubicBezTo>
                      <a:cubicBezTo>
                        <a:pt x="1164328" y="3795425"/>
                        <a:pt x="1222230" y="3809038"/>
                        <a:pt x="1286933" y="3860800"/>
                      </a:cubicBezTo>
                      <a:cubicBezTo>
                        <a:pt x="1311866" y="3880746"/>
                        <a:pt x="1328100" y="3910821"/>
                        <a:pt x="1354667" y="3928533"/>
                      </a:cubicBezTo>
                      <a:cubicBezTo>
                        <a:pt x="1438370" y="3984335"/>
                        <a:pt x="1501418" y="4000029"/>
                        <a:pt x="1591733" y="4030133"/>
                      </a:cubicBezTo>
                      <a:cubicBezTo>
                        <a:pt x="1670755" y="4018844"/>
                        <a:pt x="1753072" y="4021510"/>
                        <a:pt x="1828800" y="3996267"/>
                      </a:cubicBezTo>
                      <a:cubicBezTo>
                        <a:pt x="1947678" y="3956641"/>
                        <a:pt x="1962781" y="3628192"/>
                        <a:pt x="1964267" y="3623733"/>
                      </a:cubicBezTo>
                      <a:cubicBezTo>
                        <a:pt x="1977138" y="3585119"/>
                        <a:pt x="2013797" y="3558539"/>
                        <a:pt x="2032000" y="3522133"/>
                      </a:cubicBezTo>
                      <a:cubicBezTo>
                        <a:pt x="2047965" y="3490203"/>
                        <a:pt x="2054578" y="3454400"/>
                        <a:pt x="2065867" y="3420533"/>
                      </a:cubicBezTo>
                      <a:cubicBezTo>
                        <a:pt x="2054578" y="3318933"/>
                        <a:pt x="2052048" y="3215973"/>
                        <a:pt x="2032000" y="3115733"/>
                      </a:cubicBezTo>
                      <a:cubicBezTo>
                        <a:pt x="2017998" y="3045722"/>
                        <a:pt x="1964267" y="2912533"/>
                        <a:pt x="1964267" y="2912533"/>
                      </a:cubicBezTo>
                      <a:cubicBezTo>
                        <a:pt x="2045473" y="2668911"/>
                        <a:pt x="1946942" y="2973167"/>
                        <a:pt x="2032000" y="2675467"/>
                      </a:cubicBezTo>
                      <a:cubicBezTo>
                        <a:pt x="2041807" y="2641142"/>
                        <a:pt x="2054578" y="2607734"/>
                        <a:pt x="2065867" y="2573867"/>
                      </a:cubicBezTo>
                      <a:cubicBezTo>
                        <a:pt x="1988036" y="2340376"/>
                        <a:pt x="2048618" y="2421153"/>
                        <a:pt x="1930400" y="2302933"/>
                      </a:cubicBezTo>
                      <a:cubicBezTo>
                        <a:pt x="1919111" y="2257778"/>
                        <a:pt x="1909320" y="2212221"/>
                        <a:pt x="1896533" y="2167467"/>
                      </a:cubicBezTo>
                      <a:cubicBezTo>
                        <a:pt x="1886726" y="2133142"/>
                        <a:pt x="1868536" y="2101080"/>
                        <a:pt x="1862667" y="2065867"/>
                      </a:cubicBezTo>
                      <a:cubicBezTo>
                        <a:pt x="1846052" y="1966175"/>
                        <a:pt x="1835554" y="1713597"/>
                        <a:pt x="1794933" y="1591733"/>
                      </a:cubicBezTo>
                      <a:cubicBezTo>
                        <a:pt x="1778968" y="1543839"/>
                        <a:pt x="1753174" y="1499558"/>
                        <a:pt x="1727200" y="1456267"/>
                      </a:cubicBezTo>
                      <a:cubicBezTo>
                        <a:pt x="1685317" y="1386462"/>
                        <a:pt x="1591733" y="1253067"/>
                        <a:pt x="1591733" y="1253067"/>
                      </a:cubicBezTo>
                      <a:cubicBezTo>
                        <a:pt x="1555962" y="1145753"/>
                        <a:pt x="1565165" y="1143657"/>
                        <a:pt x="1490133" y="1049867"/>
                      </a:cubicBezTo>
                      <a:cubicBezTo>
                        <a:pt x="1470187" y="1024934"/>
                        <a:pt x="1442346" y="1007066"/>
                        <a:pt x="1422400" y="982133"/>
                      </a:cubicBezTo>
                      <a:cubicBezTo>
                        <a:pt x="1396973" y="950349"/>
                        <a:pt x="1380094" y="912316"/>
                        <a:pt x="1354667" y="880533"/>
                      </a:cubicBezTo>
                      <a:cubicBezTo>
                        <a:pt x="1334721" y="855600"/>
                        <a:pt x="1306879" y="837733"/>
                        <a:pt x="1286933" y="812800"/>
                      </a:cubicBezTo>
                      <a:cubicBezTo>
                        <a:pt x="1261506" y="781017"/>
                        <a:pt x="1246241" y="741622"/>
                        <a:pt x="1219200" y="711200"/>
                      </a:cubicBezTo>
                      <a:cubicBezTo>
                        <a:pt x="1155561" y="639606"/>
                        <a:pt x="1095702" y="561134"/>
                        <a:pt x="1016000" y="508000"/>
                      </a:cubicBezTo>
                      <a:cubicBezTo>
                        <a:pt x="887833" y="422556"/>
                        <a:pt x="943181" y="469048"/>
                        <a:pt x="846667" y="372533"/>
                      </a:cubicBezTo>
                      <a:cubicBezTo>
                        <a:pt x="835378" y="338666"/>
                        <a:pt x="832602" y="300636"/>
                        <a:pt x="812800" y="270933"/>
                      </a:cubicBezTo>
                      <a:cubicBezTo>
                        <a:pt x="786233" y="231082"/>
                        <a:pt x="749006" y="198737"/>
                        <a:pt x="711200" y="169333"/>
                      </a:cubicBezTo>
                      <a:cubicBezTo>
                        <a:pt x="536524" y="33474"/>
                        <a:pt x="559693" y="51098"/>
                        <a:pt x="406400" y="0"/>
                      </a:cubicBezTo>
                      <a:cubicBezTo>
                        <a:pt x="361244" y="11289"/>
                        <a:pt x="313715" y="15532"/>
                        <a:pt x="270933" y="33867"/>
                      </a:cubicBezTo>
                      <a:cubicBezTo>
                        <a:pt x="53886" y="126887"/>
                        <a:pt x="173770" y="228415"/>
                        <a:pt x="203200" y="508000"/>
                      </a:cubicBezTo>
                      <a:cubicBezTo>
                        <a:pt x="230238" y="764856"/>
                        <a:pt x="168958" y="711013"/>
                        <a:pt x="304800" y="778933"/>
                      </a:cubicBezTo>
                    </a:path>
                  </a:pathLst>
                </a:custGeom>
                <a:solidFill>
                  <a:srgbClr val="f2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1" name="任意多边形 14"/>
              <p:cNvSpPr/>
              <p:nvPr/>
            </p:nvSpPr>
            <p:spPr>
              <a:xfrm>
                <a:off x="12399840" y="3451680"/>
                <a:ext cx="307080" cy="264240"/>
              </a:xfrm>
              <a:custGeom>
                <a:avLst/>
                <a:gdLst>
                  <a:gd name="textAreaLeft" fmla="*/ 0 w 307080"/>
                  <a:gd name="textAreaRight" fmla="*/ 307440 w 307080"/>
                  <a:gd name="textAreaTop" fmla="*/ 0 h 264240"/>
                  <a:gd name="textAreaBottom" fmla="*/ 264600 h 264240"/>
                </a:gdLst>
                <a:ahLst/>
                <a:rect l="textAreaLeft" t="textAreaTop" r="textAreaRight" b="textAreaBottom"/>
                <a:pathLst>
                  <a:path w="307238" h="264197">
                    <a:moveTo>
                      <a:pt x="80467" y="849"/>
                    </a:moveTo>
                    <a:cubicBezTo>
                      <a:pt x="98755" y="6945"/>
                      <a:pt x="153179" y="38924"/>
                      <a:pt x="190195" y="66686"/>
                    </a:cubicBezTo>
                    <a:cubicBezTo>
                      <a:pt x="207853" y="79930"/>
                      <a:pt x="205064" y="85272"/>
                      <a:pt x="219456" y="103262"/>
                    </a:cubicBezTo>
                    <a:cubicBezTo>
                      <a:pt x="223764" y="108648"/>
                      <a:pt x="229209" y="113016"/>
                      <a:pt x="234086" y="117893"/>
                    </a:cubicBezTo>
                    <a:cubicBezTo>
                      <a:pt x="246789" y="156003"/>
                      <a:pt x="233080" y="125779"/>
                      <a:pt x="256032" y="154469"/>
                    </a:cubicBezTo>
                    <a:cubicBezTo>
                      <a:pt x="261524" y="161334"/>
                      <a:pt x="263029" y="172052"/>
                      <a:pt x="270662" y="176414"/>
                    </a:cubicBezTo>
                    <a:cubicBezTo>
                      <a:pt x="281457" y="182583"/>
                      <a:pt x="295046" y="181291"/>
                      <a:pt x="307238" y="183729"/>
                    </a:cubicBezTo>
                    <a:cubicBezTo>
                      <a:pt x="299923" y="186168"/>
                      <a:pt x="292189" y="187596"/>
                      <a:pt x="285292" y="191045"/>
                    </a:cubicBezTo>
                    <a:cubicBezTo>
                      <a:pt x="277429" y="194977"/>
                      <a:pt x="271428" y="202212"/>
                      <a:pt x="263347" y="205675"/>
                    </a:cubicBezTo>
                    <a:cubicBezTo>
                      <a:pt x="254106" y="209635"/>
                      <a:pt x="243840" y="210552"/>
                      <a:pt x="234086" y="212990"/>
                    </a:cubicBezTo>
                    <a:cubicBezTo>
                      <a:pt x="178283" y="268793"/>
                      <a:pt x="243125" y="210494"/>
                      <a:pt x="190195" y="242251"/>
                    </a:cubicBezTo>
                    <a:cubicBezTo>
                      <a:pt x="139983" y="272377"/>
                      <a:pt x="215791" y="243470"/>
                      <a:pt x="153619" y="264197"/>
                    </a:cubicBezTo>
                    <a:cubicBezTo>
                      <a:pt x="117043" y="261758"/>
                      <a:pt x="79675" y="264833"/>
                      <a:pt x="43891" y="256881"/>
                    </a:cubicBezTo>
                    <a:cubicBezTo>
                      <a:pt x="33792" y="254637"/>
                      <a:pt x="29892" y="241559"/>
                      <a:pt x="21945" y="234936"/>
                    </a:cubicBezTo>
                    <a:cubicBezTo>
                      <a:pt x="15191" y="229308"/>
                      <a:pt x="7315" y="225182"/>
                      <a:pt x="0" y="220305"/>
                    </a:cubicBezTo>
                    <a:cubicBezTo>
                      <a:pt x="2438" y="198360"/>
                      <a:pt x="1960" y="175890"/>
                      <a:pt x="7315" y="154469"/>
                    </a:cubicBezTo>
                    <a:cubicBezTo>
                      <a:pt x="9447" y="145940"/>
                      <a:pt x="18013" y="140387"/>
                      <a:pt x="21945" y="132523"/>
                    </a:cubicBezTo>
                    <a:cubicBezTo>
                      <a:pt x="40936" y="94540"/>
                      <a:pt x="15315" y="124521"/>
                      <a:pt x="43891" y="95947"/>
                    </a:cubicBezTo>
                    <a:cubicBezTo>
                      <a:pt x="50393" y="76440"/>
                      <a:pt x="53783" y="62820"/>
                      <a:pt x="65836" y="44741"/>
                    </a:cubicBezTo>
                    <a:cubicBezTo>
                      <a:pt x="69662" y="39002"/>
                      <a:pt x="76158" y="35496"/>
                      <a:pt x="80467" y="30110"/>
                    </a:cubicBezTo>
                    <a:cubicBezTo>
                      <a:pt x="85959" y="23245"/>
                      <a:pt x="62179" y="-5247"/>
                      <a:pt x="80467" y="84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2" name=""/>
            <p:cNvGrpSpPr/>
            <p:nvPr/>
          </p:nvGrpSpPr>
          <p:grpSpPr>
            <a:xfrm>
              <a:off x="16103160" y="2582280"/>
              <a:ext cx="1862640" cy="2692800"/>
              <a:chOff x="16103160" y="2582280"/>
              <a:chExt cx="1862640" cy="2692800"/>
            </a:xfrm>
          </p:grpSpPr>
          <p:sp>
            <p:nvSpPr>
              <p:cNvPr id="343" name="任意多边形 188"/>
              <p:cNvSpPr/>
              <p:nvPr/>
            </p:nvSpPr>
            <p:spPr>
              <a:xfrm flipH="1">
                <a:off x="16325640" y="2736720"/>
                <a:ext cx="1640160" cy="2485440"/>
              </a:xfrm>
              <a:custGeom>
                <a:avLst/>
                <a:gdLst>
                  <a:gd name="textAreaLeft" fmla="*/ 360 w 1640160"/>
                  <a:gd name="textAreaRight" fmla="*/ 1640880 w 1640160"/>
                  <a:gd name="textAreaTop" fmla="*/ 0 h 2485440"/>
                  <a:gd name="textAreaBottom" fmla="*/ 2485800 h 2485440"/>
                </a:gdLst>
                <a:ahLst/>
                <a:rect l="textAreaLeft" t="textAreaTop" r="textAreaRight" b="textAreaBottom"/>
                <a:pathLst>
                  <a:path w="1639957" h="2484967">
                    <a:moveTo>
                      <a:pt x="1123122" y="30002"/>
                    </a:moveTo>
                    <a:cubicBezTo>
                      <a:pt x="1065144" y="38285"/>
                      <a:pt x="1087699" y="39175"/>
                      <a:pt x="1073426" y="49880"/>
                    </a:cubicBezTo>
                    <a:cubicBezTo>
                      <a:pt x="1060174" y="59819"/>
                      <a:pt x="1055322" y="77924"/>
                      <a:pt x="1043609" y="89637"/>
                    </a:cubicBezTo>
                    <a:cubicBezTo>
                      <a:pt x="1035162" y="98084"/>
                      <a:pt x="1023730" y="102889"/>
                      <a:pt x="1013791" y="109515"/>
                    </a:cubicBezTo>
                    <a:cubicBezTo>
                      <a:pt x="999298" y="128839"/>
                      <a:pt x="983837" y="153357"/>
                      <a:pt x="964096" y="169150"/>
                    </a:cubicBezTo>
                    <a:cubicBezTo>
                      <a:pt x="954768" y="176612"/>
                      <a:pt x="945610" y="185251"/>
                      <a:pt x="934278" y="189028"/>
                    </a:cubicBezTo>
                    <a:cubicBezTo>
                      <a:pt x="915160" y="195401"/>
                      <a:pt x="894521" y="195654"/>
                      <a:pt x="874643" y="198967"/>
                    </a:cubicBezTo>
                    <a:cubicBezTo>
                      <a:pt x="852188" y="266331"/>
                      <a:pt x="886496" y="193040"/>
                      <a:pt x="795130" y="238724"/>
                    </a:cubicBezTo>
                    <a:cubicBezTo>
                      <a:pt x="785759" y="243409"/>
                      <a:pt x="789876" y="259170"/>
                      <a:pt x="785191" y="268541"/>
                    </a:cubicBezTo>
                    <a:cubicBezTo>
                      <a:pt x="760872" y="317179"/>
                      <a:pt x="773165" y="281263"/>
                      <a:pt x="745435" y="318237"/>
                    </a:cubicBezTo>
                    <a:cubicBezTo>
                      <a:pt x="731101" y="337349"/>
                      <a:pt x="718930" y="357993"/>
                      <a:pt x="705678" y="377871"/>
                    </a:cubicBezTo>
                    <a:lnTo>
                      <a:pt x="685800" y="407689"/>
                    </a:lnTo>
                    <a:cubicBezTo>
                      <a:pt x="682487" y="420941"/>
                      <a:pt x="681970" y="435227"/>
                      <a:pt x="675861" y="447445"/>
                    </a:cubicBezTo>
                    <a:cubicBezTo>
                      <a:pt x="671670" y="455827"/>
                      <a:pt x="658256" y="458233"/>
                      <a:pt x="655983" y="467324"/>
                    </a:cubicBezTo>
                    <a:cubicBezTo>
                      <a:pt x="644619" y="512778"/>
                      <a:pt x="650920" y="562022"/>
                      <a:pt x="636104" y="606471"/>
                    </a:cubicBezTo>
                    <a:cubicBezTo>
                      <a:pt x="629478" y="626349"/>
                      <a:pt x="636773" y="661997"/>
                      <a:pt x="616226" y="666106"/>
                    </a:cubicBezTo>
                    <a:cubicBezTo>
                      <a:pt x="543558" y="680639"/>
                      <a:pt x="583254" y="673656"/>
                      <a:pt x="496957" y="685984"/>
                    </a:cubicBezTo>
                    <a:cubicBezTo>
                      <a:pt x="490331" y="692610"/>
                      <a:pt x="481899" y="697827"/>
                      <a:pt x="477078" y="705863"/>
                    </a:cubicBezTo>
                    <a:cubicBezTo>
                      <a:pt x="471688" y="714847"/>
                      <a:pt x="471824" y="726309"/>
                      <a:pt x="467139" y="735680"/>
                    </a:cubicBezTo>
                    <a:cubicBezTo>
                      <a:pt x="461797" y="746364"/>
                      <a:pt x="453887" y="755558"/>
                      <a:pt x="447261" y="765497"/>
                    </a:cubicBezTo>
                    <a:cubicBezTo>
                      <a:pt x="443948" y="845010"/>
                      <a:pt x="445800" y="924908"/>
                      <a:pt x="437322" y="1004037"/>
                    </a:cubicBezTo>
                    <a:cubicBezTo>
                      <a:pt x="435744" y="1018769"/>
                      <a:pt x="423280" y="1030175"/>
                      <a:pt x="417443" y="1043793"/>
                    </a:cubicBezTo>
                    <a:cubicBezTo>
                      <a:pt x="413316" y="1053422"/>
                      <a:pt x="412189" y="1064239"/>
                      <a:pt x="407504" y="1073610"/>
                    </a:cubicBezTo>
                    <a:cubicBezTo>
                      <a:pt x="400236" y="1088147"/>
                      <a:pt x="364566" y="1134175"/>
                      <a:pt x="357809" y="1143184"/>
                    </a:cubicBezTo>
                    <a:cubicBezTo>
                      <a:pt x="331534" y="1222012"/>
                      <a:pt x="371232" y="1117732"/>
                      <a:pt x="318052" y="1202819"/>
                    </a:cubicBezTo>
                    <a:cubicBezTo>
                      <a:pt x="308596" y="1217948"/>
                      <a:pt x="305420" y="1236211"/>
                      <a:pt x="298174" y="1252515"/>
                    </a:cubicBezTo>
                    <a:cubicBezTo>
                      <a:pt x="292157" y="1266054"/>
                      <a:pt x="284132" y="1278653"/>
                      <a:pt x="278296" y="1292271"/>
                    </a:cubicBezTo>
                    <a:cubicBezTo>
                      <a:pt x="274169" y="1301901"/>
                      <a:pt x="273042" y="1312718"/>
                      <a:pt x="268357" y="1322089"/>
                    </a:cubicBezTo>
                    <a:cubicBezTo>
                      <a:pt x="263015" y="1332773"/>
                      <a:pt x="254405" y="1341535"/>
                      <a:pt x="248478" y="1351906"/>
                    </a:cubicBezTo>
                    <a:cubicBezTo>
                      <a:pt x="241127" y="1364770"/>
                      <a:pt x="234436" y="1378044"/>
                      <a:pt x="228600" y="1391663"/>
                    </a:cubicBezTo>
                    <a:cubicBezTo>
                      <a:pt x="224473" y="1401293"/>
                      <a:pt x="224472" y="1412763"/>
                      <a:pt x="218661" y="1421480"/>
                    </a:cubicBezTo>
                    <a:cubicBezTo>
                      <a:pt x="210864" y="1433175"/>
                      <a:pt x="198782" y="1441358"/>
                      <a:pt x="188843" y="1451297"/>
                    </a:cubicBezTo>
                    <a:cubicBezTo>
                      <a:pt x="174622" y="1493962"/>
                      <a:pt x="171023" y="1514129"/>
                      <a:pt x="149087" y="1550689"/>
                    </a:cubicBezTo>
                    <a:cubicBezTo>
                      <a:pt x="136795" y="1571175"/>
                      <a:pt x="109330" y="1610324"/>
                      <a:pt x="109330" y="1610324"/>
                    </a:cubicBezTo>
                    <a:cubicBezTo>
                      <a:pt x="106017" y="1626889"/>
                      <a:pt x="106946" y="1644909"/>
                      <a:pt x="99391" y="1660019"/>
                    </a:cubicBezTo>
                    <a:cubicBezTo>
                      <a:pt x="53203" y="1752395"/>
                      <a:pt x="80699" y="1635397"/>
                      <a:pt x="59635" y="1719654"/>
                    </a:cubicBezTo>
                    <a:cubicBezTo>
                      <a:pt x="55538" y="1736043"/>
                      <a:pt x="54141" y="1753052"/>
                      <a:pt x="49696" y="1769350"/>
                    </a:cubicBezTo>
                    <a:cubicBezTo>
                      <a:pt x="44183" y="1789565"/>
                      <a:pt x="36443" y="1809106"/>
                      <a:pt x="29817" y="1828984"/>
                    </a:cubicBezTo>
                    <a:cubicBezTo>
                      <a:pt x="26504" y="1838923"/>
                      <a:pt x="21933" y="1848529"/>
                      <a:pt x="19878" y="1858802"/>
                    </a:cubicBezTo>
                    <a:cubicBezTo>
                      <a:pt x="7884" y="1918770"/>
                      <a:pt x="15281" y="1892471"/>
                      <a:pt x="0" y="1938315"/>
                    </a:cubicBezTo>
                    <a:cubicBezTo>
                      <a:pt x="3313" y="1994637"/>
                      <a:pt x="4590" y="2051115"/>
                      <a:pt x="9939" y="2107280"/>
                    </a:cubicBezTo>
                    <a:cubicBezTo>
                      <a:pt x="11234" y="2120879"/>
                      <a:pt x="14497" y="2134481"/>
                      <a:pt x="19878" y="2147037"/>
                    </a:cubicBezTo>
                    <a:cubicBezTo>
                      <a:pt x="24584" y="2158017"/>
                      <a:pt x="33131" y="2166915"/>
                      <a:pt x="39757" y="2176854"/>
                    </a:cubicBezTo>
                    <a:cubicBezTo>
                      <a:pt x="63587" y="2248344"/>
                      <a:pt x="34675" y="2159067"/>
                      <a:pt x="59635" y="2246428"/>
                    </a:cubicBezTo>
                    <a:cubicBezTo>
                      <a:pt x="62513" y="2256502"/>
                      <a:pt x="66696" y="2266171"/>
                      <a:pt x="69574" y="2276245"/>
                    </a:cubicBezTo>
                    <a:cubicBezTo>
                      <a:pt x="73327" y="2289380"/>
                      <a:pt x="74132" y="2303446"/>
                      <a:pt x="79513" y="2316002"/>
                    </a:cubicBezTo>
                    <a:cubicBezTo>
                      <a:pt x="84218" y="2326981"/>
                      <a:pt x="93464" y="2335448"/>
                      <a:pt x="99391" y="2345819"/>
                    </a:cubicBezTo>
                    <a:cubicBezTo>
                      <a:pt x="106742" y="2358683"/>
                      <a:pt x="111647" y="2372871"/>
                      <a:pt x="119270" y="2385576"/>
                    </a:cubicBezTo>
                    <a:cubicBezTo>
                      <a:pt x="131562" y="2406062"/>
                      <a:pt x="142133" y="2428317"/>
                      <a:pt x="159026" y="2445210"/>
                    </a:cubicBezTo>
                    <a:lnTo>
                      <a:pt x="198783" y="2484967"/>
                    </a:lnTo>
                    <a:cubicBezTo>
                      <a:pt x="304800" y="2481654"/>
                      <a:pt x="411095" y="2483376"/>
                      <a:pt x="516835" y="2475028"/>
                    </a:cubicBezTo>
                    <a:cubicBezTo>
                      <a:pt x="537724" y="2473379"/>
                      <a:pt x="576470" y="2455150"/>
                      <a:pt x="576470" y="2455150"/>
                    </a:cubicBezTo>
                    <a:cubicBezTo>
                      <a:pt x="647994" y="2407465"/>
                      <a:pt x="559932" y="2474990"/>
                      <a:pt x="626165" y="2375637"/>
                    </a:cubicBezTo>
                    <a:cubicBezTo>
                      <a:pt x="632791" y="2365698"/>
                      <a:pt x="638581" y="2355147"/>
                      <a:pt x="646043" y="2345819"/>
                    </a:cubicBezTo>
                    <a:cubicBezTo>
                      <a:pt x="702699" y="2275000"/>
                      <a:pt x="624611" y="2387907"/>
                      <a:pt x="685800" y="2296124"/>
                    </a:cubicBezTo>
                    <a:cubicBezTo>
                      <a:pt x="687657" y="2288698"/>
                      <a:pt x="699567" y="2236735"/>
                      <a:pt x="705678" y="2226550"/>
                    </a:cubicBezTo>
                    <a:cubicBezTo>
                      <a:pt x="710499" y="2218514"/>
                      <a:pt x="719703" y="2213989"/>
                      <a:pt x="725557" y="2206671"/>
                    </a:cubicBezTo>
                    <a:cubicBezTo>
                      <a:pt x="763534" y="2159200"/>
                      <a:pt x="730881" y="2196024"/>
                      <a:pt x="755374" y="2147037"/>
                    </a:cubicBezTo>
                    <a:cubicBezTo>
                      <a:pt x="784412" y="2088959"/>
                      <a:pt x="768537" y="2145691"/>
                      <a:pt x="785191" y="2087402"/>
                    </a:cubicBezTo>
                    <a:cubicBezTo>
                      <a:pt x="795993" y="2049596"/>
                      <a:pt x="793735" y="2014982"/>
                      <a:pt x="844826" y="1997950"/>
                    </a:cubicBezTo>
                    <a:cubicBezTo>
                      <a:pt x="915623" y="1974349"/>
                      <a:pt x="864197" y="1988814"/>
                      <a:pt x="1003852" y="1978071"/>
                    </a:cubicBezTo>
                    <a:cubicBezTo>
                      <a:pt x="1013791" y="1971445"/>
                      <a:pt x="1022986" y="1963535"/>
                      <a:pt x="1033670" y="1958193"/>
                    </a:cubicBezTo>
                    <a:cubicBezTo>
                      <a:pt x="1043041" y="1953508"/>
                      <a:pt x="1055106" y="1954540"/>
                      <a:pt x="1063487" y="1948254"/>
                    </a:cubicBezTo>
                    <a:cubicBezTo>
                      <a:pt x="1102249" y="1919182"/>
                      <a:pt x="1110070" y="1903227"/>
                      <a:pt x="1133061" y="1868741"/>
                    </a:cubicBezTo>
                    <a:cubicBezTo>
                      <a:pt x="1136210" y="1840400"/>
                      <a:pt x="1136288" y="1782773"/>
                      <a:pt x="1152939" y="1749471"/>
                    </a:cubicBezTo>
                    <a:cubicBezTo>
                      <a:pt x="1160764" y="1733820"/>
                      <a:pt x="1177903" y="1710871"/>
                      <a:pt x="1192696" y="1699776"/>
                    </a:cubicBezTo>
                    <a:cubicBezTo>
                      <a:pt x="1211808" y="1685442"/>
                      <a:pt x="1235437" y="1676912"/>
                      <a:pt x="1252330" y="1660019"/>
                    </a:cubicBezTo>
                    <a:cubicBezTo>
                      <a:pt x="1268895" y="1643454"/>
                      <a:pt x="1282534" y="1623319"/>
                      <a:pt x="1302026" y="1610324"/>
                    </a:cubicBezTo>
                    <a:lnTo>
                      <a:pt x="1361661" y="1570567"/>
                    </a:lnTo>
                    <a:cubicBezTo>
                      <a:pt x="1371600" y="1563941"/>
                      <a:pt x="1383031" y="1559136"/>
                      <a:pt x="1391478" y="1550689"/>
                    </a:cubicBezTo>
                    <a:cubicBezTo>
                      <a:pt x="1398104" y="1544063"/>
                      <a:pt x="1402975" y="1535001"/>
                      <a:pt x="1411357" y="1530810"/>
                    </a:cubicBezTo>
                    <a:cubicBezTo>
                      <a:pt x="1435555" y="1518711"/>
                      <a:pt x="1482214" y="1508126"/>
                      <a:pt x="1510748" y="1500993"/>
                    </a:cubicBezTo>
                    <a:cubicBezTo>
                      <a:pt x="1530626" y="1487741"/>
                      <a:pt x="1562828" y="1483902"/>
                      <a:pt x="1570383" y="1461237"/>
                    </a:cubicBezTo>
                    <a:cubicBezTo>
                      <a:pt x="1573696" y="1451298"/>
                      <a:pt x="1572914" y="1438827"/>
                      <a:pt x="1580322" y="1431419"/>
                    </a:cubicBezTo>
                    <a:cubicBezTo>
                      <a:pt x="1597215" y="1414526"/>
                      <a:pt x="1639957" y="1391663"/>
                      <a:pt x="1639957" y="1391663"/>
                    </a:cubicBezTo>
                    <a:cubicBezTo>
                      <a:pt x="1636644" y="1358532"/>
                      <a:pt x="1635080" y="1325180"/>
                      <a:pt x="1630017" y="1292271"/>
                    </a:cubicBezTo>
                    <a:cubicBezTo>
                      <a:pt x="1628424" y="1281916"/>
                      <a:pt x="1626364" y="1270835"/>
                      <a:pt x="1620078" y="1262454"/>
                    </a:cubicBezTo>
                    <a:cubicBezTo>
                      <a:pt x="1586782" y="1218059"/>
                      <a:pt x="1555923" y="1203118"/>
                      <a:pt x="1510748" y="1173002"/>
                    </a:cubicBezTo>
                    <a:cubicBezTo>
                      <a:pt x="1500809" y="1166376"/>
                      <a:pt x="1489377" y="1161571"/>
                      <a:pt x="1480930" y="1153124"/>
                    </a:cubicBezTo>
                    <a:lnTo>
                      <a:pt x="1461052" y="1133245"/>
                    </a:lnTo>
                    <a:cubicBezTo>
                      <a:pt x="1473590" y="1032938"/>
                      <a:pt x="1462544" y="1079073"/>
                      <a:pt x="1490870" y="994097"/>
                    </a:cubicBezTo>
                    <a:lnTo>
                      <a:pt x="1500809" y="964280"/>
                    </a:lnTo>
                    <a:cubicBezTo>
                      <a:pt x="1497496" y="937776"/>
                      <a:pt x="1495648" y="911047"/>
                      <a:pt x="1490870" y="884767"/>
                    </a:cubicBezTo>
                    <a:cubicBezTo>
                      <a:pt x="1488996" y="874459"/>
                      <a:pt x="1489647" y="860761"/>
                      <a:pt x="1480930" y="854950"/>
                    </a:cubicBezTo>
                    <a:cubicBezTo>
                      <a:pt x="1466874" y="845579"/>
                      <a:pt x="1447800" y="848323"/>
                      <a:pt x="1431235" y="845010"/>
                    </a:cubicBezTo>
                    <a:cubicBezTo>
                      <a:pt x="1441174" y="838384"/>
                      <a:pt x="1454426" y="835071"/>
                      <a:pt x="1461052" y="825132"/>
                    </a:cubicBezTo>
                    <a:cubicBezTo>
                      <a:pt x="1468629" y="813766"/>
                      <a:pt x="1465610" y="797931"/>
                      <a:pt x="1470991" y="785376"/>
                    </a:cubicBezTo>
                    <a:cubicBezTo>
                      <a:pt x="1475697" y="774396"/>
                      <a:pt x="1484244" y="765497"/>
                      <a:pt x="1490870" y="755558"/>
                    </a:cubicBezTo>
                    <a:cubicBezTo>
                      <a:pt x="1494183" y="745619"/>
                      <a:pt x="1502532" y="736075"/>
                      <a:pt x="1500809" y="725741"/>
                    </a:cubicBezTo>
                    <a:cubicBezTo>
                      <a:pt x="1495520" y="694008"/>
                      <a:pt x="1474369" y="693737"/>
                      <a:pt x="1451113" y="685984"/>
                    </a:cubicBezTo>
                    <a:cubicBezTo>
                      <a:pt x="1431235" y="659480"/>
                      <a:pt x="1414905" y="629898"/>
                      <a:pt x="1391478" y="606471"/>
                    </a:cubicBezTo>
                    <a:cubicBezTo>
                      <a:pt x="1353214" y="568207"/>
                      <a:pt x="1369458" y="588349"/>
                      <a:pt x="1341783" y="546837"/>
                    </a:cubicBezTo>
                    <a:cubicBezTo>
                      <a:pt x="1364974" y="477263"/>
                      <a:pt x="1341783" y="493828"/>
                      <a:pt x="1391478" y="477263"/>
                    </a:cubicBezTo>
                    <a:cubicBezTo>
                      <a:pt x="1423970" y="379784"/>
                      <a:pt x="1371292" y="517480"/>
                      <a:pt x="1431235" y="427567"/>
                    </a:cubicBezTo>
                    <a:cubicBezTo>
                      <a:pt x="1438812" y="416201"/>
                      <a:pt x="1437421" y="400945"/>
                      <a:pt x="1441174" y="387810"/>
                    </a:cubicBezTo>
                    <a:cubicBezTo>
                      <a:pt x="1451461" y="351805"/>
                      <a:pt x="1449212" y="360845"/>
                      <a:pt x="1470991" y="328176"/>
                    </a:cubicBezTo>
                    <a:cubicBezTo>
                      <a:pt x="1477617" y="301672"/>
                      <a:pt x="1468138" y="263818"/>
                      <a:pt x="1490870" y="248663"/>
                    </a:cubicBezTo>
                    <a:lnTo>
                      <a:pt x="1550504" y="208906"/>
                    </a:lnTo>
                    <a:cubicBezTo>
                      <a:pt x="1557130" y="198967"/>
                      <a:pt x="1562921" y="188417"/>
                      <a:pt x="1570383" y="179089"/>
                    </a:cubicBezTo>
                    <a:cubicBezTo>
                      <a:pt x="1576237" y="171772"/>
                      <a:pt x="1586570" y="167823"/>
                      <a:pt x="1590261" y="159210"/>
                    </a:cubicBezTo>
                    <a:cubicBezTo>
                      <a:pt x="1596915" y="143683"/>
                      <a:pt x="1596887" y="126080"/>
                      <a:pt x="1600200" y="109515"/>
                    </a:cubicBezTo>
                    <a:cubicBezTo>
                      <a:pt x="1596887" y="86324"/>
                      <a:pt x="1602677" y="59807"/>
                      <a:pt x="1590261" y="39941"/>
                    </a:cubicBezTo>
                    <a:cubicBezTo>
                      <a:pt x="1583021" y="28357"/>
                      <a:pt x="1563060" y="35383"/>
                      <a:pt x="1550504" y="30002"/>
                    </a:cubicBezTo>
                    <a:cubicBezTo>
                      <a:pt x="1466662" y="-5930"/>
                      <a:pt x="1605941" y="4581"/>
                      <a:pt x="1421296" y="184"/>
                    </a:cubicBezTo>
                    <a:cubicBezTo>
                      <a:pt x="1315308" y="-2340"/>
                      <a:pt x="1181100" y="21719"/>
                      <a:pt x="1123122" y="30002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44" name=""/>
              <p:cNvGrpSpPr/>
              <p:nvPr/>
            </p:nvGrpSpPr>
            <p:grpSpPr>
              <a:xfrm>
                <a:off x="16103160" y="2582280"/>
                <a:ext cx="804600" cy="620640"/>
                <a:chOff x="16103160" y="2582280"/>
                <a:chExt cx="804600" cy="620640"/>
              </a:xfrm>
            </p:grpSpPr>
            <p:sp>
              <p:nvSpPr>
                <p:cNvPr id="345" name="任意多边形 209"/>
                <p:cNvSpPr/>
                <p:nvPr/>
              </p:nvSpPr>
              <p:spPr>
                <a:xfrm flipH="1" rot="1959000">
                  <a:off x="16094880" y="2786760"/>
                  <a:ext cx="820080" cy="211680"/>
                </a:xfrm>
                <a:custGeom>
                  <a:avLst/>
                  <a:gdLst>
                    <a:gd name="textAreaLeft" fmla="*/ 360 w 820080"/>
                    <a:gd name="textAreaRight" fmla="*/ 820800 w 820080"/>
                    <a:gd name="textAreaTop" fmla="*/ 0 h 211680"/>
                    <a:gd name="textAreaBottom" fmla="*/ 212040 h 211680"/>
                  </a:gdLst>
                  <a:ahLst/>
                  <a:rect l="textAreaLeft" t="textAreaTop" r="textAreaRight" b="textAreaBottom"/>
                  <a:pathLst>
                    <a:path w="2065867" h="4030133">
                      <a:moveTo>
                        <a:pt x="270933" y="677333"/>
                      </a:moveTo>
                      <a:cubicBezTo>
                        <a:pt x="259644" y="733778"/>
                        <a:pt x="257278" y="792770"/>
                        <a:pt x="237067" y="846667"/>
                      </a:cubicBezTo>
                      <a:cubicBezTo>
                        <a:pt x="222775" y="884778"/>
                        <a:pt x="187536" y="911861"/>
                        <a:pt x="169333" y="948267"/>
                      </a:cubicBezTo>
                      <a:cubicBezTo>
                        <a:pt x="153368" y="980197"/>
                        <a:pt x="146756" y="1016000"/>
                        <a:pt x="135467" y="1049867"/>
                      </a:cubicBezTo>
                      <a:cubicBezTo>
                        <a:pt x="124178" y="1128889"/>
                        <a:pt x="124537" y="1210475"/>
                        <a:pt x="101600" y="1286933"/>
                      </a:cubicBezTo>
                      <a:cubicBezTo>
                        <a:pt x="89904" y="1325919"/>
                        <a:pt x="52070" y="1352127"/>
                        <a:pt x="33867" y="1388533"/>
                      </a:cubicBezTo>
                      <a:cubicBezTo>
                        <a:pt x="17902" y="1420463"/>
                        <a:pt x="11289" y="1456266"/>
                        <a:pt x="0" y="1490133"/>
                      </a:cubicBezTo>
                      <a:cubicBezTo>
                        <a:pt x="11289" y="1648178"/>
                        <a:pt x="6331" y="1808231"/>
                        <a:pt x="33867" y="1964267"/>
                      </a:cubicBezTo>
                      <a:cubicBezTo>
                        <a:pt x="40941" y="2004350"/>
                        <a:pt x="77942" y="2032746"/>
                        <a:pt x="101600" y="2065867"/>
                      </a:cubicBezTo>
                      <a:cubicBezTo>
                        <a:pt x="134408" y="2111798"/>
                        <a:pt x="167065" y="2157971"/>
                        <a:pt x="203200" y="2201333"/>
                      </a:cubicBezTo>
                      <a:cubicBezTo>
                        <a:pt x="223641" y="2225862"/>
                        <a:pt x="253221" y="2242500"/>
                        <a:pt x="270933" y="2269067"/>
                      </a:cubicBezTo>
                      <a:cubicBezTo>
                        <a:pt x="298937" y="2311073"/>
                        <a:pt x="313619" y="2360700"/>
                        <a:pt x="338667" y="2404533"/>
                      </a:cubicBezTo>
                      <a:cubicBezTo>
                        <a:pt x="443708" y="2588354"/>
                        <a:pt x="378175" y="2421458"/>
                        <a:pt x="440267" y="2607733"/>
                      </a:cubicBezTo>
                      <a:cubicBezTo>
                        <a:pt x="451556" y="2686755"/>
                        <a:pt x="448890" y="2769072"/>
                        <a:pt x="474133" y="2844800"/>
                      </a:cubicBezTo>
                      <a:cubicBezTo>
                        <a:pt x="484230" y="2875091"/>
                        <a:pt x="525439" y="2885153"/>
                        <a:pt x="541867" y="2912533"/>
                      </a:cubicBezTo>
                      <a:cubicBezTo>
                        <a:pt x="692110" y="3162937"/>
                        <a:pt x="437916" y="2858793"/>
                        <a:pt x="643467" y="3115733"/>
                      </a:cubicBezTo>
                      <a:cubicBezTo>
                        <a:pt x="663413" y="3140666"/>
                        <a:pt x="691254" y="3158534"/>
                        <a:pt x="711200" y="3183467"/>
                      </a:cubicBezTo>
                      <a:cubicBezTo>
                        <a:pt x="736627" y="3215251"/>
                        <a:pt x="752130" y="3254435"/>
                        <a:pt x="778933" y="3285067"/>
                      </a:cubicBezTo>
                      <a:cubicBezTo>
                        <a:pt x="831498" y="3345141"/>
                        <a:pt x="900372" y="3390540"/>
                        <a:pt x="948267" y="3454400"/>
                      </a:cubicBezTo>
                      <a:cubicBezTo>
                        <a:pt x="982134" y="3499556"/>
                        <a:pt x="1019951" y="3542002"/>
                        <a:pt x="1049867" y="3589867"/>
                      </a:cubicBezTo>
                      <a:cubicBezTo>
                        <a:pt x="1076624" y="3632678"/>
                        <a:pt x="1089596" y="3683327"/>
                        <a:pt x="1117600" y="3725333"/>
                      </a:cubicBezTo>
                      <a:cubicBezTo>
                        <a:pt x="1164328" y="3795425"/>
                        <a:pt x="1222230" y="3809038"/>
                        <a:pt x="1286933" y="3860800"/>
                      </a:cubicBezTo>
                      <a:cubicBezTo>
                        <a:pt x="1311866" y="3880746"/>
                        <a:pt x="1328100" y="3910821"/>
                        <a:pt x="1354667" y="3928533"/>
                      </a:cubicBezTo>
                      <a:cubicBezTo>
                        <a:pt x="1438370" y="3984335"/>
                        <a:pt x="1501418" y="4000029"/>
                        <a:pt x="1591733" y="4030133"/>
                      </a:cubicBezTo>
                      <a:cubicBezTo>
                        <a:pt x="1670755" y="4018844"/>
                        <a:pt x="1753072" y="4021510"/>
                        <a:pt x="1828800" y="3996267"/>
                      </a:cubicBezTo>
                      <a:cubicBezTo>
                        <a:pt x="1947678" y="3956641"/>
                        <a:pt x="1962781" y="3628192"/>
                        <a:pt x="1964267" y="3623733"/>
                      </a:cubicBezTo>
                      <a:cubicBezTo>
                        <a:pt x="1977138" y="3585119"/>
                        <a:pt x="2013797" y="3558539"/>
                        <a:pt x="2032000" y="3522133"/>
                      </a:cubicBezTo>
                      <a:cubicBezTo>
                        <a:pt x="2047965" y="3490203"/>
                        <a:pt x="2054578" y="3454400"/>
                        <a:pt x="2065867" y="3420533"/>
                      </a:cubicBezTo>
                      <a:cubicBezTo>
                        <a:pt x="2054578" y="3318933"/>
                        <a:pt x="2052048" y="3215973"/>
                        <a:pt x="2032000" y="3115733"/>
                      </a:cubicBezTo>
                      <a:cubicBezTo>
                        <a:pt x="2017998" y="3045722"/>
                        <a:pt x="1964267" y="2912533"/>
                        <a:pt x="1964267" y="2912533"/>
                      </a:cubicBezTo>
                      <a:cubicBezTo>
                        <a:pt x="2045473" y="2668911"/>
                        <a:pt x="1946942" y="2973167"/>
                        <a:pt x="2032000" y="2675467"/>
                      </a:cubicBezTo>
                      <a:cubicBezTo>
                        <a:pt x="2041807" y="2641142"/>
                        <a:pt x="2054578" y="2607734"/>
                        <a:pt x="2065867" y="2573867"/>
                      </a:cubicBezTo>
                      <a:cubicBezTo>
                        <a:pt x="1988036" y="2340376"/>
                        <a:pt x="2048618" y="2421153"/>
                        <a:pt x="1930400" y="2302933"/>
                      </a:cubicBezTo>
                      <a:cubicBezTo>
                        <a:pt x="1919111" y="2257778"/>
                        <a:pt x="1909320" y="2212221"/>
                        <a:pt x="1896533" y="2167467"/>
                      </a:cubicBezTo>
                      <a:cubicBezTo>
                        <a:pt x="1886726" y="2133142"/>
                        <a:pt x="1868536" y="2101080"/>
                        <a:pt x="1862667" y="2065867"/>
                      </a:cubicBezTo>
                      <a:cubicBezTo>
                        <a:pt x="1846052" y="1966175"/>
                        <a:pt x="1835554" y="1713597"/>
                        <a:pt x="1794933" y="1591733"/>
                      </a:cubicBezTo>
                      <a:cubicBezTo>
                        <a:pt x="1778968" y="1543839"/>
                        <a:pt x="1753174" y="1499558"/>
                        <a:pt x="1727200" y="1456267"/>
                      </a:cubicBezTo>
                      <a:cubicBezTo>
                        <a:pt x="1685317" y="1386462"/>
                        <a:pt x="1591733" y="1253067"/>
                        <a:pt x="1591733" y="1253067"/>
                      </a:cubicBezTo>
                      <a:cubicBezTo>
                        <a:pt x="1555962" y="1145753"/>
                        <a:pt x="1565165" y="1143657"/>
                        <a:pt x="1490133" y="1049867"/>
                      </a:cubicBezTo>
                      <a:cubicBezTo>
                        <a:pt x="1470187" y="1024934"/>
                        <a:pt x="1442346" y="1007066"/>
                        <a:pt x="1422400" y="982133"/>
                      </a:cubicBezTo>
                      <a:cubicBezTo>
                        <a:pt x="1396973" y="950349"/>
                        <a:pt x="1380094" y="912316"/>
                        <a:pt x="1354667" y="880533"/>
                      </a:cubicBezTo>
                      <a:cubicBezTo>
                        <a:pt x="1334721" y="855600"/>
                        <a:pt x="1306879" y="837733"/>
                        <a:pt x="1286933" y="812800"/>
                      </a:cubicBezTo>
                      <a:cubicBezTo>
                        <a:pt x="1261506" y="781017"/>
                        <a:pt x="1246241" y="741622"/>
                        <a:pt x="1219200" y="711200"/>
                      </a:cubicBezTo>
                      <a:cubicBezTo>
                        <a:pt x="1155561" y="639606"/>
                        <a:pt x="1095702" y="561134"/>
                        <a:pt x="1016000" y="508000"/>
                      </a:cubicBezTo>
                      <a:cubicBezTo>
                        <a:pt x="887833" y="422556"/>
                        <a:pt x="943181" y="469048"/>
                        <a:pt x="846667" y="372533"/>
                      </a:cubicBezTo>
                      <a:cubicBezTo>
                        <a:pt x="835378" y="338666"/>
                        <a:pt x="832602" y="300636"/>
                        <a:pt x="812800" y="270933"/>
                      </a:cubicBezTo>
                      <a:cubicBezTo>
                        <a:pt x="786233" y="231082"/>
                        <a:pt x="749006" y="198737"/>
                        <a:pt x="711200" y="169333"/>
                      </a:cubicBezTo>
                      <a:cubicBezTo>
                        <a:pt x="536524" y="33474"/>
                        <a:pt x="559693" y="51098"/>
                        <a:pt x="406400" y="0"/>
                      </a:cubicBezTo>
                      <a:cubicBezTo>
                        <a:pt x="361244" y="11289"/>
                        <a:pt x="313715" y="15532"/>
                        <a:pt x="270933" y="33867"/>
                      </a:cubicBezTo>
                      <a:cubicBezTo>
                        <a:pt x="53886" y="126887"/>
                        <a:pt x="173770" y="228415"/>
                        <a:pt x="203200" y="508000"/>
                      </a:cubicBezTo>
                      <a:cubicBezTo>
                        <a:pt x="230238" y="764856"/>
                        <a:pt x="168958" y="711013"/>
                        <a:pt x="304800" y="778933"/>
                      </a:cubicBez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6" name="任意多边形 210"/>
                <p:cNvSpPr/>
                <p:nvPr/>
              </p:nvSpPr>
              <p:spPr>
                <a:xfrm flipH="1" rot="3540600">
                  <a:off x="16262280" y="2729880"/>
                  <a:ext cx="241560" cy="171360"/>
                </a:xfrm>
                <a:custGeom>
                  <a:avLst/>
                  <a:gdLst>
                    <a:gd name="textAreaLeft" fmla="*/ -360 w 241560"/>
                    <a:gd name="textAreaRight" fmla="*/ 241560 w 241560"/>
                    <a:gd name="textAreaTop" fmla="*/ 0 h 171360"/>
                    <a:gd name="textAreaBottom" fmla="*/ 171720 h 171360"/>
                  </a:gdLst>
                  <a:ahLst/>
                  <a:rect l="textAreaLeft" t="textAreaTop" r="textAreaRight" b="textAreaBottom"/>
                  <a:pathLst>
                    <a:path w="2065867" h="4030133">
                      <a:moveTo>
                        <a:pt x="270933" y="677333"/>
                      </a:moveTo>
                      <a:cubicBezTo>
                        <a:pt x="259644" y="733778"/>
                        <a:pt x="257278" y="792770"/>
                        <a:pt x="237067" y="846667"/>
                      </a:cubicBezTo>
                      <a:cubicBezTo>
                        <a:pt x="222775" y="884778"/>
                        <a:pt x="187536" y="911861"/>
                        <a:pt x="169333" y="948267"/>
                      </a:cubicBezTo>
                      <a:cubicBezTo>
                        <a:pt x="153368" y="980197"/>
                        <a:pt x="146756" y="1016000"/>
                        <a:pt x="135467" y="1049867"/>
                      </a:cubicBezTo>
                      <a:cubicBezTo>
                        <a:pt x="124178" y="1128889"/>
                        <a:pt x="124537" y="1210475"/>
                        <a:pt x="101600" y="1286933"/>
                      </a:cubicBezTo>
                      <a:cubicBezTo>
                        <a:pt x="89904" y="1325919"/>
                        <a:pt x="52070" y="1352127"/>
                        <a:pt x="33867" y="1388533"/>
                      </a:cubicBezTo>
                      <a:cubicBezTo>
                        <a:pt x="17902" y="1420463"/>
                        <a:pt x="11289" y="1456266"/>
                        <a:pt x="0" y="1490133"/>
                      </a:cubicBezTo>
                      <a:cubicBezTo>
                        <a:pt x="11289" y="1648178"/>
                        <a:pt x="6331" y="1808231"/>
                        <a:pt x="33867" y="1964267"/>
                      </a:cubicBezTo>
                      <a:cubicBezTo>
                        <a:pt x="40941" y="2004350"/>
                        <a:pt x="77942" y="2032746"/>
                        <a:pt x="101600" y="2065867"/>
                      </a:cubicBezTo>
                      <a:cubicBezTo>
                        <a:pt x="134408" y="2111798"/>
                        <a:pt x="167065" y="2157971"/>
                        <a:pt x="203200" y="2201333"/>
                      </a:cubicBezTo>
                      <a:cubicBezTo>
                        <a:pt x="223641" y="2225862"/>
                        <a:pt x="253221" y="2242500"/>
                        <a:pt x="270933" y="2269067"/>
                      </a:cubicBezTo>
                      <a:cubicBezTo>
                        <a:pt x="298937" y="2311073"/>
                        <a:pt x="313619" y="2360700"/>
                        <a:pt x="338667" y="2404533"/>
                      </a:cubicBezTo>
                      <a:cubicBezTo>
                        <a:pt x="443708" y="2588354"/>
                        <a:pt x="378175" y="2421458"/>
                        <a:pt x="440267" y="2607733"/>
                      </a:cubicBezTo>
                      <a:cubicBezTo>
                        <a:pt x="451556" y="2686755"/>
                        <a:pt x="448890" y="2769072"/>
                        <a:pt x="474133" y="2844800"/>
                      </a:cubicBezTo>
                      <a:cubicBezTo>
                        <a:pt x="484230" y="2875091"/>
                        <a:pt x="525439" y="2885153"/>
                        <a:pt x="541867" y="2912533"/>
                      </a:cubicBezTo>
                      <a:cubicBezTo>
                        <a:pt x="692110" y="3162937"/>
                        <a:pt x="437916" y="2858793"/>
                        <a:pt x="643467" y="3115733"/>
                      </a:cubicBezTo>
                      <a:cubicBezTo>
                        <a:pt x="663413" y="3140666"/>
                        <a:pt x="691254" y="3158534"/>
                        <a:pt x="711200" y="3183467"/>
                      </a:cubicBezTo>
                      <a:cubicBezTo>
                        <a:pt x="736627" y="3215251"/>
                        <a:pt x="752130" y="3254435"/>
                        <a:pt x="778933" y="3285067"/>
                      </a:cubicBezTo>
                      <a:cubicBezTo>
                        <a:pt x="831498" y="3345141"/>
                        <a:pt x="900372" y="3390540"/>
                        <a:pt x="948267" y="3454400"/>
                      </a:cubicBezTo>
                      <a:cubicBezTo>
                        <a:pt x="982134" y="3499556"/>
                        <a:pt x="1019951" y="3542002"/>
                        <a:pt x="1049867" y="3589867"/>
                      </a:cubicBezTo>
                      <a:cubicBezTo>
                        <a:pt x="1076624" y="3632678"/>
                        <a:pt x="1089596" y="3683327"/>
                        <a:pt x="1117600" y="3725333"/>
                      </a:cubicBezTo>
                      <a:cubicBezTo>
                        <a:pt x="1164328" y="3795425"/>
                        <a:pt x="1222230" y="3809038"/>
                        <a:pt x="1286933" y="3860800"/>
                      </a:cubicBezTo>
                      <a:cubicBezTo>
                        <a:pt x="1311866" y="3880746"/>
                        <a:pt x="1328100" y="3910821"/>
                        <a:pt x="1354667" y="3928533"/>
                      </a:cubicBezTo>
                      <a:cubicBezTo>
                        <a:pt x="1438370" y="3984335"/>
                        <a:pt x="1501418" y="4000029"/>
                        <a:pt x="1591733" y="4030133"/>
                      </a:cubicBezTo>
                      <a:cubicBezTo>
                        <a:pt x="1670755" y="4018844"/>
                        <a:pt x="1753072" y="4021510"/>
                        <a:pt x="1828800" y="3996267"/>
                      </a:cubicBezTo>
                      <a:cubicBezTo>
                        <a:pt x="1947678" y="3956641"/>
                        <a:pt x="1962781" y="3628192"/>
                        <a:pt x="1964267" y="3623733"/>
                      </a:cubicBezTo>
                      <a:cubicBezTo>
                        <a:pt x="1977138" y="3585119"/>
                        <a:pt x="2013797" y="3558539"/>
                        <a:pt x="2032000" y="3522133"/>
                      </a:cubicBezTo>
                      <a:cubicBezTo>
                        <a:pt x="2047965" y="3490203"/>
                        <a:pt x="2054578" y="3454400"/>
                        <a:pt x="2065867" y="3420533"/>
                      </a:cubicBezTo>
                      <a:cubicBezTo>
                        <a:pt x="2054578" y="3318933"/>
                        <a:pt x="2052048" y="3215973"/>
                        <a:pt x="2032000" y="3115733"/>
                      </a:cubicBezTo>
                      <a:cubicBezTo>
                        <a:pt x="2017998" y="3045722"/>
                        <a:pt x="1964267" y="2912533"/>
                        <a:pt x="1964267" y="2912533"/>
                      </a:cubicBezTo>
                      <a:cubicBezTo>
                        <a:pt x="2045473" y="2668911"/>
                        <a:pt x="1946942" y="2973167"/>
                        <a:pt x="2032000" y="2675467"/>
                      </a:cubicBezTo>
                      <a:cubicBezTo>
                        <a:pt x="2041807" y="2641142"/>
                        <a:pt x="2054578" y="2607734"/>
                        <a:pt x="2065867" y="2573867"/>
                      </a:cubicBezTo>
                      <a:cubicBezTo>
                        <a:pt x="1988036" y="2340376"/>
                        <a:pt x="2048618" y="2421153"/>
                        <a:pt x="1930400" y="2302933"/>
                      </a:cubicBezTo>
                      <a:cubicBezTo>
                        <a:pt x="1919111" y="2257778"/>
                        <a:pt x="1909320" y="2212221"/>
                        <a:pt x="1896533" y="2167467"/>
                      </a:cubicBezTo>
                      <a:cubicBezTo>
                        <a:pt x="1886726" y="2133142"/>
                        <a:pt x="1868536" y="2101080"/>
                        <a:pt x="1862667" y="2065867"/>
                      </a:cubicBezTo>
                      <a:cubicBezTo>
                        <a:pt x="1846052" y="1966175"/>
                        <a:pt x="1835554" y="1713597"/>
                        <a:pt x="1794933" y="1591733"/>
                      </a:cubicBezTo>
                      <a:cubicBezTo>
                        <a:pt x="1778968" y="1543839"/>
                        <a:pt x="1753174" y="1499558"/>
                        <a:pt x="1727200" y="1456267"/>
                      </a:cubicBezTo>
                      <a:cubicBezTo>
                        <a:pt x="1685317" y="1386462"/>
                        <a:pt x="1591733" y="1253067"/>
                        <a:pt x="1591733" y="1253067"/>
                      </a:cubicBezTo>
                      <a:cubicBezTo>
                        <a:pt x="1555962" y="1145753"/>
                        <a:pt x="1565165" y="1143657"/>
                        <a:pt x="1490133" y="1049867"/>
                      </a:cubicBezTo>
                      <a:cubicBezTo>
                        <a:pt x="1470187" y="1024934"/>
                        <a:pt x="1442346" y="1007066"/>
                        <a:pt x="1422400" y="982133"/>
                      </a:cubicBezTo>
                      <a:cubicBezTo>
                        <a:pt x="1396973" y="950349"/>
                        <a:pt x="1380094" y="912316"/>
                        <a:pt x="1354667" y="880533"/>
                      </a:cubicBezTo>
                      <a:cubicBezTo>
                        <a:pt x="1334721" y="855600"/>
                        <a:pt x="1306879" y="837733"/>
                        <a:pt x="1286933" y="812800"/>
                      </a:cubicBezTo>
                      <a:cubicBezTo>
                        <a:pt x="1261506" y="781017"/>
                        <a:pt x="1246241" y="741622"/>
                        <a:pt x="1219200" y="711200"/>
                      </a:cubicBezTo>
                      <a:cubicBezTo>
                        <a:pt x="1155561" y="639606"/>
                        <a:pt x="1095702" y="561134"/>
                        <a:pt x="1016000" y="508000"/>
                      </a:cubicBezTo>
                      <a:cubicBezTo>
                        <a:pt x="887833" y="422556"/>
                        <a:pt x="943181" y="469048"/>
                        <a:pt x="846667" y="372533"/>
                      </a:cubicBezTo>
                      <a:cubicBezTo>
                        <a:pt x="835378" y="338666"/>
                        <a:pt x="832602" y="300636"/>
                        <a:pt x="812800" y="270933"/>
                      </a:cubicBezTo>
                      <a:cubicBezTo>
                        <a:pt x="786233" y="231082"/>
                        <a:pt x="749006" y="198737"/>
                        <a:pt x="711200" y="169333"/>
                      </a:cubicBezTo>
                      <a:cubicBezTo>
                        <a:pt x="536524" y="33474"/>
                        <a:pt x="559693" y="51098"/>
                        <a:pt x="406400" y="0"/>
                      </a:cubicBezTo>
                      <a:cubicBezTo>
                        <a:pt x="361244" y="11289"/>
                        <a:pt x="313715" y="15532"/>
                        <a:pt x="270933" y="33867"/>
                      </a:cubicBezTo>
                      <a:cubicBezTo>
                        <a:pt x="53886" y="126887"/>
                        <a:pt x="173770" y="228415"/>
                        <a:pt x="203200" y="508000"/>
                      </a:cubicBezTo>
                      <a:cubicBezTo>
                        <a:pt x="230238" y="764856"/>
                        <a:pt x="168958" y="711013"/>
                        <a:pt x="304800" y="778933"/>
                      </a:cubicBezTo>
                    </a:path>
                  </a:pathLst>
                </a:custGeom>
                <a:solidFill>
                  <a:srgbClr val="f2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7" name="任意多边形 211"/>
                <p:cNvSpPr/>
                <p:nvPr/>
              </p:nvSpPr>
              <p:spPr>
                <a:xfrm flipH="1" rot="4233600">
                  <a:off x="16409520" y="2831760"/>
                  <a:ext cx="116640" cy="128880"/>
                </a:xfrm>
                <a:custGeom>
                  <a:avLst/>
                  <a:gdLst>
                    <a:gd name="textAreaLeft" fmla="*/ 360 w 116640"/>
                    <a:gd name="textAreaRight" fmla="*/ 117360 w 116640"/>
                    <a:gd name="textAreaTop" fmla="*/ 0 h 128880"/>
                    <a:gd name="textAreaBottom" fmla="*/ 129240 h 128880"/>
                  </a:gdLst>
                  <a:ahLst/>
                  <a:rect l="textAreaLeft" t="textAreaTop" r="textAreaRight" b="textAreaBottom"/>
                  <a:pathLst>
                    <a:path w="2065867" h="4030133">
                      <a:moveTo>
                        <a:pt x="270933" y="677333"/>
                      </a:moveTo>
                      <a:cubicBezTo>
                        <a:pt x="259644" y="733778"/>
                        <a:pt x="257278" y="792770"/>
                        <a:pt x="237067" y="846667"/>
                      </a:cubicBezTo>
                      <a:cubicBezTo>
                        <a:pt x="222775" y="884778"/>
                        <a:pt x="187536" y="911861"/>
                        <a:pt x="169333" y="948267"/>
                      </a:cubicBezTo>
                      <a:cubicBezTo>
                        <a:pt x="153368" y="980197"/>
                        <a:pt x="146756" y="1016000"/>
                        <a:pt x="135467" y="1049867"/>
                      </a:cubicBezTo>
                      <a:cubicBezTo>
                        <a:pt x="124178" y="1128889"/>
                        <a:pt x="124537" y="1210475"/>
                        <a:pt x="101600" y="1286933"/>
                      </a:cubicBezTo>
                      <a:cubicBezTo>
                        <a:pt x="89904" y="1325919"/>
                        <a:pt x="52070" y="1352127"/>
                        <a:pt x="33867" y="1388533"/>
                      </a:cubicBezTo>
                      <a:cubicBezTo>
                        <a:pt x="17902" y="1420463"/>
                        <a:pt x="11289" y="1456266"/>
                        <a:pt x="0" y="1490133"/>
                      </a:cubicBezTo>
                      <a:cubicBezTo>
                        <a:pt x="11289" y="1648178"/>
                        <a:pt x="6331" y="1808231"/>
                        <a:pt x="33867" y="1964267"/>
                      </a:cubicBezTo>
                      <a:cubicBezTo>
                        <a:pt x="40941" y="2004350"/>
                        <a:pt x="77942" y="2032746"/>
                        <a:pt x="101600" y="2065867"/>
                      </a:cubicBezTo>
                      <a:cubicBezTo>
                        <a:pt x="134408" y="2111798"/>
                        <a:pt x="167065" y="2157971"/>
                        <a:pt x="203200" y="2201333"/>
                      </a:cubicBezTo>
                      <a:cubicBezTo>
                        <a:pt x="223641" y="2225862"/>
                        <a:pt x="253221" y="2242500"/>
                        <a:pt x="270933" y="2269067"/>
                      </a:cubicBezTo>
                      <a:cubicBezTo>
                        <a:pt x="298937" y="2311073"/>
                        <a:pt x="313619" y="2360700"/>
                        <a:pt x="338667" y="2404533"/>
                      </a:cubicBezTo>
                      <a:cubicBezTo>
                        <a:pt x="443708" y="2588354"/>
                        <a:pt x="378175" y="2421458"/>
                        <a:pt x="440267" y="2607733"/>
                      </a:cubicBezTo>
                      <a:cubicBezTo>
                        <a:pt x="451556" y="2686755"/>
                        <a:pt x="448890" y="2769072"/>
                        <a:pt x="474133" y="2844800"/>
                      </a:cubicBezTo>
                      <a:cubicBezTo>
                        <a:pt x="484230" y="2875091"/>
                        <a:pt x="525439" y="2885153"/>
                        <a:pt x="541867" y="2912533"/>
                      </a:cubicBezTo>
                      <a:cubicBezTo>
                        <a:pt x="692110" y="3162937"/>
                        <a:pt x="437916" y="2858793"/>
                        <a:pt x="643467" y="3115733"/>
                      </a:cubicBezTo>
                      <a:cubicBezTo>
                        <a:pt x="663413" y="3140666"/>
                        <a:pt x="691254" y="3158534"/>
                        <a:pt x="711200" y="3183467"/>
                      </a:cubicBezTo>
                      <a:cubicBezTo>
                        <a:pt x="736627" y="3215251"/>
                        <a:pt x="752130" y="3254435"/>
                        <a:pt x="778933" y="3285067"/>
                      </a:cubicBezTo>
                      <a:cubicBezTo>
                        <a:pt x="831498" y="3345141"/>
                        <a:pt x="900372" y="3390540"/>
                        <a:pt x="948267" y="3454400"/>
                      </a:cubicBezTo>
                      <a:cubicBezTo>
                        <a:pt x="982134" y="3499556"/>
                        <a:pt x="1019951" y="3542002"/>
                        <a:pt x="1049867" y="3589867"/>
                      </a:cubicBezTo>
                      <a:cubicBezTo>
                        <a:pt x="1076624" y="3632678"/>
                        <a:pt x="1089596" y="3683327"/>
                        <a:pt x="1117600" y="3725333"/>
                      </a:cubicBezTo>
                      <a:cubicBezTo>
                        <a:pt x="1164328" y="3795425"/>
                        <a:pt x="1222230" y="3809038"/>
                        <a:pt x="1286933" y="3860800"/>
                      </a:cubicBezTo>
                      <a:cubicBezTo>
                        <a:pt x="1311866" y="3880746"/>
                        <a:pt x="1328100" y="3910821"/>
                        <a:pt x="1354667" y="3928533"/>
                      </a:cubicBezTo>
                      <a:cubicBezTo>
                        <a:pt x="1438370" y="3984335"/>
                        <a:pt x="1501418" y="4000029"/>
                        <a:pt x="1591733" y="4030133"/>
                      </a:cubicBezTo>
                      <a:cubicBezTo>
                        <a:pt x="1670755" y="4018844"/>
                        <a:pt x="1753072" y="4021510"/>
                        <a:pt x="1828800" y="3996267"/>
                      </a:cubicBezTo>
                      <a:cubicBezTo>
                        <a:pt x="1947678" y="3956641"/>
                        <a:pt x="1962781" y="3628192"/>
                        <a:pt x="1964267" y="3623733"/>
                      </a:cubicBezTo>
                      <a:cubicBezTo>
                        <a:pt x="1977138" y="3585119"/>
                        <a:pt x="2013797" y="3558539"/>
                        <a:pt x="2032000" y="3522133"/>
                      </a:cubicBezTo>
                      <a:cubicBezTo>
                        <a:pt x="2047965" y="3490203"/>
                        <a:pt x="2054578" y="3454400"/>
                        <a:pt x="2065867" y="3420533"/>
                      </a:cubicBezTo>
                      <a:cubicBezTo>
                        <a:pt x="2054578" y="3318933"/>
                        <a:pt x="2052048" y="3215973"/>
                        <a:pt x="2032000" y="3115733"/>
                      </a:cubicBezTo>
                      <a:cubicBezTo>
                        <a:pt x="2017998" y="3045722"/>
                        <a:pt x="1964267" y="2912533"/>
                        <a:pt x="1964267" y="2912533"/>
                      </a:cubicBezTo>
                      <a:cubicBezTo>
                        <a:pt x="2045473" y="2668911"/>
                        <a:pt x="1946942" y="2973167"/>
                        <a:pt x="2032000" y="2675467"/>
                      </a:cubicBezTo>
                      <a:cubicBezTo>
                        <a:pt x="2041807" y="2641142"/>
                        <a:pt x="2054578" y="2607734"/>
                        <a:pt x="2065867" y="2573867"/>
                      </a:cubicBezTo>
                      <a:cubicBezTo>
                        <a:pt x="1988036" y="2340376"/>
                        <a:pt x="2048618" y="2421153"/>
                        <a:pt x="1930400" y="2302933"/>
                      </a:cubicBezTo>
                      <a:cubicBezTo>
                        <a:pt x="1919111" y="2257778"/>
                        <a:pt x="1909320" y="2212221"/>
                        <a:pt x="1896533" y="2167467"/>
                      </a:cubicBezTo>
                      <a:cubicBezTo>
                        <a:pt x="1886726" y="2133142"/>
                        <a:pt x="1868536" y="2101080"/>
                        <a:pt x="1862667" y="2065867"/>
                      </a:cubicBezTo>
                      <a:cubicBezTo>
                        <a:pt x="1846052" y="1966175"/>
                        <a:pt x="1835554" y="1713597"/>
                        <a:pt x="1794933" y="1591733"/>
                      </a:cubicBezTo>
                      <a:cubicBezTo>
                        <a:pt x="1778968" y="1543839"/>
                        <a:pt x="1753174" y="1499558"/>
                        <a:pt x="1727200" y="1456267"/>
                      </a:cubicBezTo>
                      <a:cubicBezTo>
                        <a:pt x="1685317" y="1386462"/>
                        <a:pt x="1591733" y="1253067"/>
                        <a:pt x="1591733" y="1253067"/>
                      </a:cubicBezTo>
                      <a:cubicBezTo>
                        <a:pt x="1555962" y="1145753"/>
                        <a:pt x="1565165" y="1143657"/>
                        <a:pt x="1490133" y="1049867"/>
                      </a:cubicBezTo>
                      <a:cubicBezTo>
                        <a:pt x="1470187" y="1024934"/>
                        <a:pt x="1442346" y="1007066"/>
                        <a:pt x="1422400" y="982133"/>
                      </a:cubicBezTo>
                      <a:cubicBezTo>
                        <a:pt x="1396973" y="950349"/>
                        <a:pt x="1380094" y="912316"/>
                        <a:pt x="1354667" y="880533"/>
                      </a:cubicBezTo>
                      <a:cubicBezTo>
                        <a:pt x="1334721" y="855600"/>
                        <a:pt x="1306879" y="837733"/>
                        <a:pt x="1286933" y="812800"/>
                      </a:cubicBezTo>
                      <a:cubicBezTo>
                        <a:pt x="1261506" y="781017"/>
                        <a:pt x="1246241" y="741622"/>
                        <a:pt x="1219200" y="711200"/>
                      </a:cubicBezTo>
                      <a:cubicBezTo>
                        <a:pt x="1155561" y="639606"/>
                        <a:pt x="1095702" y="561134"/>
                        <a:pt x="1016000" y="508000"/>
                      </a:cubicBezTo>
                      <a:cubicBezTo>
                        <a:pt x="887833" y="422556"/>
                        <a:pt x="943181" y="469048"/>
                        <a:pt x="846667" y="372533"/>
                      </a:cubicBezTo>
                      <a:cubicBezTo>
                        <a:pt x="835378" y="338666"/>
                        <a:pt x="832602" y="300636"/>
                        <a:pt x="812800" y="270933"/>
                      </a:cubicBezTo>
                      <a:cubicBezTo>
                        <a:pt x="786233" y="231082"/>
                        <a:pt x="749006" y="198737"/>
                        <a:pt x="711200" y="169333"/>
                      </a:cubicBezTo>
                      <a:cubicBezTo>
                        <a:pt x="536524" y="33474"/>
                        <a:pt x="559693" y="51098"/>
                        <a:pt x="406400" y="0"/>
                      </a:cubicBezTo>
                      <a:cubicBezTo>
                        <a:pt x="361244" y="11289"/>
                        <a:pt x="313715" y="15532"/>
                        <a:pt x="270933" y="33867"/>
                      </a:cubicBezTo>
                      <a:cubicBezTo>
                        <a:pt x="53886" y="126887"/>
                        <a:pt x="173770" y="228415"/>
                        <a:pt x="203200" y="508000"/>
                      </a:cubicBezTo>
                      <a:cubicBezTo>
                        <a:pt x="230238" y="764856"/>
                        <a:pt x="168958" y="711013"/>
                        <a:pt x="304800" y="778933"/>
                      </a:cubicBezTo>
                    </a:path>
                  </a:pathLst>
                </a:custGeom>
                <a:solidFill>
                  <a:srgbClr val="f2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8" name=""/>
              <p:cNvGrpSpPr/>
              <p:nvPr/>
            </p:nvGrpSpPr>
            <p:grpSpPr>
              <a:xfrm>
                <a:off x="16260120" y="2859840"/>
                <a:ext cx="503640" cy="516960"/>
                <a:chOff x="16260120" y="2859840"/>
                <a:chExt cx="503640" cy="516960"/>
              </a:xfrm>
            </p:grpSpPr>
            <p:sp>
              <p:nvSpPr>
                <p:cNvPr id="349" name="任意多边形 207"/>
                <p:cNvSpPr/>
                <p:nvPr/>
              </p:nvSpPr>
              <p:spPr>
                <a:xfrm flipH="1" rot="3210600">
                  <a:off x="16313400" y="2950920"/>
                  <a:ext cx="396000" cy="333720"/>
                </a:xfrm>
                <a:custGeom>
                  <a:avLst/>
                  <a:gdLst>
                    <a:gd name="textAreaLeft" fmla="*/ 360 w 396000"/>
                    <a:gd name="textAreaRight" fmla="*/ 396720 w 396000"/>
                    <a:gd name="textAreaTop" fmla="*/ 0 h 333720"/>
                    <a:gd name="textAreaBottom" fmla="*/ 334080 h 333720"/>
                  </a:gdLst>
                  <a:ahLst/>
                  <a:rect l="textAreaLeft" t="textAreaTop" r="textAreaRight" b="textAreaBottom"/>
                  <a:pathLst>
                    <a:path w="2065867" h="4030133">
                      <a:moveTo>
                        <a:pt x="270933" y="677333"/>
                      </a:moveTo>
                      <a:cubicBezTo>
                        <a:pt x="259644" y="733778"/>
                        <a:pt x="257278" y="792770"/>
                        <a:pt x="237067" y="846667"/>
                      </a:cubicBezTo>
                      <a:cubicBezTo>
                        <a:pt x="222775" y="884778"/>
                        <a:pt x="187536" y="911861"/>
                        <a:pt x="169333" y="948267"/>
                      </a:cubicBezTo>
                      <a:cubicBezTo>
                        <a:pt x="153368" y="980197"/>
                        <a:pt x="146756" y="1016000"/>
                        <a:pt x="135467" y="1049867"/>
                      </a:cubicBezTo>
                      <a:cubicBezTo>
                        <a:pt x="124178" y="1128889"/>
                        <a:pt x="124537" y="1210475"/>
                        <a:pt x="101600" y="1286933"/>
                      </a:cubicBezTo>
                      <a:cubicBezTo>
                        <a:pt x="89904" y="1325919"/>
                        <a:pt x="52070" y="1352127"/>
                        <a:pt x="33867" y="1388533"/>
                      </a:cubicBezTo>
                      <a:cubicBezTo>
                        <a:pt x="17902" y="1420463"/>
                        <a:pt x="11289" y="1456266"/>
                        <a:pt x="0" y="1490133"/>
                      </a:cubicBezTo>
                      <a:cubicBezTo>
                        <a:pt x="11289" y="1648178"/>
                        <a:pt x="6331" y="1808231"/>
                        <a:pt x="33867" y="1964267"/>
                      </a:cubicBezTo>
                      <a:cubicBezTo>
                        <a:pt x="40941" y="2004350"/>
                        <a:pt x="77942" y="2032746"/>
                        <a:pt x="101600" y="2065867"/>
                      </a:cubicBezTo>
                      <a:cubicBezTo>
                        <a:pt x="134408" y="2111798"/>
                        <a:pt x="167065" y="2157971"/>
                        <a:pt x="203200" y="2201333"/>
                      </a:cubicBezTo>
                      <a:cubicBezTo>
                        <a:pt x="223641" y="2225862"/>
                        <a:pt x="253221" y="2242500"/>
                        <a:pt x="270933" y="2269067"/>
                      </a:cubicBezTo>
                      <a:cubicBezTo>
                        <a:pt x="298937" y="2311073"/>
                        <a:pt x="313619" y="2360700"/>
                        <a:pt x="338667" y="2404533"/>
                      </a:cubicBezTo>
                      <a:cubicBezTo>
                        <a:pt x="443708" y="2588354"/>
                        <a:pt x="378175" y="2421458"/>
                        <a:pt x="440267" y="2607733"/>
                      </a:cubicBezTo>
                      <a:cubicBezTo>
                        <a:pt x="451556" y="2686755"/>
                        <a:pt x="448890" y="2769072"/>
                        <a:pt x="474133" y="2844800"/>
                      </a:cubicBezTo>
                      <a:cubicBezTo>
                        <a:pt x="484230" y="2875091"/>
                        <a:pt x="525439" y="2885153"/>
                        <a:pt x="541867" y="2912533"/>
                      </a:cubicBezTo>
                      <a:cubicBezTo>
                        <a:pt x="692110" y="3162937"/>
                        <a:pt x="437916" y="2858793"/>
                        <a:pt x="643467" y="3115733"/>
                      </a:cubicBezTo>
                      <a:cubicBezTo>
                        <a:pt x="663413" y="3140666"/>
                        <a:pt x="691254" y="3158534"/>
                        <a:pt x="711200" y="3183467"/>
                      </a:cubicBezTo>
                      <a:cubicBezTo>
                        <a:pt x="736627" y="3215251"/>
                        <a:pt x="752130" y="3254435"/>
                        <a:pt x="778933" y="3285067"/>
                      </a:cubicBezTo>
                      <a:cubicBezTo>
                        <a:pt x="831498" y="3345141"/>
                        <a:pt x="900372" y="3390540"/>
                        <a:pt x="948267" y="3454400"/>
                      </a:cubicBezTo>
                      <a:cubicBezTo>
                        <a:pt x="982134" y="3499556"/>
                        <a:pt x="1019951" y="3542002"/>
                        <a:pt x="1049867" y="3589867"/>
                      </a:cubicBezTo>
                      <a:cubicBezTo>
                        <a:pt x="1076624" y="3632678"/>
                        <a:pt x="1089596" y="3683327"/>
                        <a:pt x="1117600" y="3725333"/>
                      </a:cubicBezTo>
                      <a:cubicBezTo>
                        <a:pt x="1164328" y="3795425"/>
                        <a:pt x="1222230" y="3809038"/>
                        <a:pt x="1286933" y="3860800"/>
                      </a:cubicBezTo>
                      <a:cubicBezTo>
                        <a:pt x="1311866" y="3880746"/>
                        <a:pt x="1328100" y="3910821"/>
                        <a:pt x="1354667" y="3928533"/>
                      </a:cubicBezTo>
                      <a:cubicBezTo>
                        <a:pt x="1438370" y="3984335"/>
                        <a:pt x="1501418" y="4000029"/>
                        <a:pt x="1591733" y="4030133"/>
                      </a:cubicBezTo>
                      <a:cubicBezTo>
                        <a:pt x="1670755" y="4018844"/>
                        <a:pt x="1753072" y="4021510"/>
                        <a:pt x="1828800" y="3996267"/>
                      </a:cubicBezTo>
                      <a:cubicBezTo>
                        <a:pt x="1947678" y="3956641"/>
                        <a:pt x="1962781" y="3628192"/>
                        <a:pt x="1964267" y="3623733"/>
                      </a:cubicBezTo>
                      <a:cubicBezTo>
                        <a:pt x="1977138" y="3585119"/>
                        <a:pt x="2013797" y="3558539"/>
                        <a:pt x="2032000" y="3522133"/>
                      </a:cubicBezTo>
                      <a:cubicBezTo>
                        <a:pt x="2047965" y="3490203"/>
                        <a:pt x="2054578" y="3454400"/>
                        <a:pt x="2065867" y="3420533"/>
                      </a:cubicBezTo>
                      <a:cubicBezTo>
                        <a:pt x="2054578" y="3318933"/>
                        <a:pt x="2052048" y="3215973"/>
                        <a:pt x="2032000" y="3115733"/>
                      </a:cubicBezTo>
                      <a:cubicBezTo>
                        <a:pt x="2017998" y="3045722"/>
                        <a:pt x="1964267" y="2912533"/>
                        <a:pt x="1964267" y="2912533"/>
                      </a:cubicBezTo>
                      <a:cubicBezTo>
                        <a:pt x="2045473" y="2668911"/>
                        <a:pt x="1946942" y="2973167"/>
                        <a:pt x="2032000" y="2675467"/>
                      </a:cubicBezTo>
                      <a:cubicBezTo>
                        <a:pt x="2041807" y="2641142"/>
                        <a:pt x="2054578" y="2607734"/>
                        <a:pt x="2065867" y="2573867"/>
                      </a:cubicBezTo>
                      <a:cubicBezTo>
                        <a:pt x="1988036" y="2340376"/>
                        <a:pt x="2048618" y="2421153"/>
                        <a:pt x="1930400" y="2302933"/>
                      </a:cubicBezTo>
                      <a:cubicBezTo>
                        <a:pt x="1919111" y="2257778"/>
                        <a:pt x="1909320" y="2212221"/>
                        <a:pt x="1896533" y="2167467"/>
                      </a:cubicBezTo>
                      <a:cubicBezTo>
                        <a:pt x="1886726" y="2133142"/>
                        <a:pt x="1868536" y="2101080"/>
                        <a:pt x="1862667" y="2065867"/>
                      </a:cubicBezTo>
                      <a:cubicBezTo>
                        <a:pt x="1846052" y="1966175"/>
                        <a:pt x="1835554" y="1713597"/>
                        <a:pt x="1794933" y="1591733"/>
                      </a:cubicBezTo>
                      <a:cubicBezTo>
                        <a:pt x="1778968" y="1543839"/>
                        <a:pt x="1753174" y="1499558"/>
                        <a:pt x="1727200" y="1456267"/>
                      </a:cubicBezTo>
                      <a:cubicBezTo>
                        <a:pt x="1685317" y="1386462"/>
                        <a:pt x="1591733" y="1253067"/>
                        <a:pt x="1591733" y="1253067"/>
                      </a:cubicBezTo>
                      <a:cubicBezTo>
                        <a:pt x="1555962" y="1145753"/>
                        <a:pt x="1565165" y="1143657"/>
                        <a:pt x="1490133" y="1049867"/>
                      </a:cubicBezTo>
                      <a:cubicBezTo>
                        <a:pt x="1470187" y="1024934"/>
                        <a:pt x="1442346" y="1007066"/>
                        <a:pt x="1422400" y="982133"/>
                      </a:cubicBezTo>
                      <a:cubicBezTo>
                        <a:pt x="1396973" y="950349"/>
                        <a:pt x="1380094" y="912316"/>
                        <a:pt x="1354667" y="880533"/>
                      </a:cubicBezTo>
                      <a:cubicBezTo>
                        <a:pt x="1334721" y="855600"/>
                        <a:pt x="1306879" y="837733"/>
                        <a:pt x="1286933" y="812800"/>
                      </a:cubicBezTo>
                      <a:cubicBezTo>
                        <a:pt x="1261506" y="781017"/>
                        <a:pt x="1246241" y="741622"/>
                        <a:pt x="1219200" y="711200"/>
                      </a:cubicBezTo>
                      <a:cubicBezTo>
                        <a:pt x="1155561" y="639606"/>
                        <a:pt x="1095702" y="561134"/>
                        <a:pt x="1016000" y="508000"/>
                      </a:cubicBezTo>
                      <a:cubicBezTo>
                        <a:pt x="887833" y="422556"/>
                        <a:pt x="943181" y="469048"/>
                        <a:pt x="846667" y="372533"/>
                      </a:cubicBezTo>
                      <a:cubicBezTo>
                        <a:pt x="835378" y="338666"/>
                        <a:pt x="832602" y="300636"/>
                        <a:pt x="812800" y="270933"/>
                      </a:cubicBezTo>
                      <a:cubicBezTo>
                        <a:pt x="786233" y="231082"/>
                        <a:pt x="749006" y="198737"/>
                        <a:pt x="711200" y="169333"/>
                      </a:cubicBezTo>
                      <a:cubicBezTo>
                        <a:pt x="536524" y="33474"/>
                        <a:pt x="559693" y="51098"/>
                        <a:pt x="406400" y="0"/>
                      </a:cubicBezTo>
                      <a:cubicBezTo>
                        <a:pt x="361244" y="11289"/>
                        <a:pt x="313715" y="15532"/>
                        <a:pt x="270933" y="33867"/>
                      </a:cubicBezTo>
                      <a:cubicBezTo>
                        <a:pt x="53886" y="126887"/>
                        <a:pt x="173770" y="228415"/>
                        <a:pt x="203200" y="508000"/>
                      </a:cubicBezTo>
                      <a:cubicBezTo>
                        <a:pt x="230238" y="764856"/>
                        <a:pt x="168958" y="711013"/>
                        <a:pt x="304800" y="778933"/>
                      </a:cubicBezTo>
                    </a:path>
                  </a:pathLst>
                </a:custGeom>
                <a:solidFill>
                  <a:srgbClr val="f2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0" name="任意多边形 208"/>
                <p:cNvSpPr/>
                <p:nvPr/>
              </p:nvSpPr>
              <p:spPr>
                <a:xfrm flipH="1" rot="3903600">
                  <a:off x="16493400" y="3146760"/>
                  <a:ext cx="128520" cy="222480"/>
                </a:xfrm>
                <a:custGeom>
                  <a:avLst/>
                  <a:gdLst>
                    <a:gd name="textAreaLeft" fmla="*/ -360 w 128520"/>
                    <a:gd name="textAreaRight" fmla="*/ 128520 w 128520"/>
                    <a:gd name="textAreaTop" fmla="*/ 0 h 222480"/>
                    <a:gd name="textAreaBottom" fmla="*/ 222840 h 222480"/>
                  </a:gdLst>
                  <a:ahLst/>
                  <a:rect l="textAreaLeft" t="textAreaTop" r="textAreaRight" b="textAreaBottom"/>
                  <a:pathLst>
                    <a:path w="2065867" h="4030133">
                      <a:moveTo>
                        <a:pt x="270933" y="677333"/>
                      </a:moveTo>
                      <a:cubicBezTo>
                        <a:pt x="259644" y="733778"/>
                        <a:pt x="257278" y="792770"/>
                        <a:pt x="237067" y="846667"/>
                      </a:cubicBezTo>
                      <a:cubicBezTo>
                        <a:pt x="222775" y="884778"/>
                        <a:pt x="187536" y="911861"/>
                        <a:pt x="169333" y="948267"/>
                      </a:cubicBezTo>
                      <a:cubicBezTo>
                        <a:pt x="153368" y="980197"/>
                        <a:pt x="146756" y="1016000"/>
                        <a:pt x="135467" y="1049867"/>
                      </a:cubicBezTo>
                      <a:cubicBezTo>
                        <a:pt x="124178" y="1128889"/>
                        <a:pt x="124537" y="1210475"/>
                        <a:pt x="101600" y="1286933"/>
                      </a:cubicBezTo>
                      <a:cubicBezTo>
                        <a:pt x="89904" y="1325919"/>
                        <a:pt x="52070" y="1352127"/>
                        <a:pt x="33867" y="1388533"/>
                      </a:cubicBezTo>
                      <a:cubicBezTo>
                        <a:pt x="17902" y="1420463"/>
                        <a:pt x="11289" y="1456266"/>
                        <a:pt x="0" y="1490133"/>
                      </a:cubicBezTo>
                      <a:cubicBezTo>
                        <a:pt x="11289" y="1648178"/>
                        <a:pt x="6331" y="1808231"/>
                        <a:pt x="33867" y="1964267"/>
                      </a:cubicBezTo>
                      <a:cubicBezTo>
                        <a:pt x="40941" y="2004350"/>
                        <a:pt x="77942" y="2032746"/>
                        <a:pt x="101600" y="2065867"/>
                      </a:cubicBezTo>
                      <a:cubicBezTo>
                        <a:pt x="134408" y="2111798"/>
                        <a:pt x="167065" y="2157971"/>
                        <a:pt x="203200" y="2201333"/>
                      </a:cubicBezTo>
                      <a:cubicBezTo>
                        <a:pt x="223641" y="2225862"/>
                        <a:pt x="253221" y="2242500"/>
                        <a:pt x="270933" y="2269067"/>
                      </a:cubicBezTo>
                      <a:cubicBezTo>
                        <a:pt x="298937" y="2311073"/>
                        <a:pt x="313619" y="2360700"/>
                        <a:pt x="338667" y="2404533"/>
                      </a:cubicBezTo>
                      <a:cubicBezTo>
                        <a:pt x="443708" y="2588354"/>
                        <a:pt x="378175" y="2421458"/>
                        <a:pt x="440267" y="2607733"/>
                      </a:cubicBezTo>
                      <a:cubicBezTo>
                        <a:pt x="451556" y="2686755"/>
                        <a:pt x="448890" y="2769072"/>
                        <a:pt x="474133" y="2844800"/>
                      </a:cubicBezTo>
                      <a:cubicBezTo>
                        <a:pt x="484230" y="2875091"/>
                        <a:pt x="525439" y="2885153"/>
                        <a:pt x="541867" y="2912533"/>
                      </a:cubicBezTo>
                      <a:cubicBezTo>
                        <a:pt x="692110" y="3162937"/>
                        <a:pt x="437916" y="2858793"/>
                        <a:pt x="643467" y="3115733"/>
                      </a:cubicBezTo>
                      <a:cubicBezTo>
                        <a:pt x="663413" y="3140666"/>
                        <a:pt x="691254" y="3158534"/>
                        <a:pt x="711200" y="3183467"/>
                      </a:cubicBezTo>
                      <a:cubicBezTo>
                        <a:pt x="736627" y="3215251"/>
                        <a:pt x="752130" y="3254435"/>
                        <a:pt x="778933" y="3285067"/>
                      </a:cubicBezTo>
                      <a:cubicBezTo>
                        <a:pt x="831498" y="3345141"/>
                        <a:pt x="900372" y="3390540"/>
                        <a:pt x="948267" y="3454400"/>
                      </a:cubicBezTo>
                      <a:cubicBezTo>
                        <a:pt x="982134" y="3499556"/>
                        <a:pt x="1019951" y="3542002"/>
                        <a:pt x="1049867" y="3589867"/>
                      </a:cubicBezTo>
                      <a:cubicBezTo>
                        <a:pt x="1076624" y="3632678"/>
                        <a:pt x="1089596" y="3683327"/>
                        <a:pt x="1117600" y="3725333"/>
                      </a:cubicBezTo>
                      <a:cubicBezTo>
                        <a:pt x="1164328" y="3795425"/>
                        <a:pt x="1222230" y="3809038"/>
                        <a:pt x="1286933" y="3860800"/>
                      </a:cubicBezTo>
                      <a:cubicBezTo>
                        <a:pt x="1311866" y="3880746"/>
                        <a:pt x="1328100" y="3910821"/>
                        <a:pt x="1354667" y="3928533"/>
                      </a:cubicBezTo>
                      <a:cubicBezTo>
                        <a:pt x="1438370" y="3984335"/>
                        <a:pt x="1501418" y="4000029"/>
                        <a:pt x="1591733" y="4030133"/>
                      </a:cubicBezTo>
                      <a:cubicBezTo>
                        <a:pt x="1670755" y="4018844"/>
                        <a:pt x="1753072" y="4021510"/>
                        <a:pt x="1828800" y="3996267"/>
                      </a:cubicBezTo>
                      <a:cubicBezTo>
                        <a:pt x="1947678" y="3956641"/>
                        <a:pt x="1962781" y="3628192"/>
                        <a:pt x="1964267" y="3623733"/>
                      </a:cubicBezTo>
                      <a:cubicBezTo>
                        <a:pt x="1977138" y="3585119"/>
                        <a:pt x="2013797" y="3558539"/>
                        <a:pt x="2032000" y="3522133"/>
                      </a:cubicBezTo>
                      <a:cubicBezTo>
                        <a:pt x="2047965" y="3490203"/>
                        <a:pt x="2054578" y="3454400"/>
                        <a:pt x="2065867" y="3420533"/>
                      </a:cubicBezTo>
                      <a:cubicBezTo>
                        <a:pt x="2054578" y="3318933"/>
                        <a:pt x="2052048" y="3215973"/>
                        <a:pt x="2032000" y="3115733"/>
                      </a:cubicBezTo>
                      <a:cubicBezTo>
                        <a:pt x="2017998" y="3045722"/>
                        <a:pt x="1964267" y="2912533"/>
                        <a:pt x="1964267" y="2912533"/>
                      </a:cubicBezTo>
                      <a:cubicBezTo>
                        <a:pt x="2045473" y="2668911"/>
                        <a:pt x="1946942" y="2973167"/>
                        <a:pt x="2032000" y="2675467"/>
                      </a:cubicBezTo>
                      <a:cubicBezTo>
                        <a:pt x="2041807" y="2641142"/>
                        <a:pt x="2054578" y="2607734"/>
                        <a:pt x="2065867" y="2573867"/>
                      </a:cubicBezTo>
                      <a:cubicBezTo>
                        <a:pt x="1988036" y="2340376"/>
                        <a:pt x="2048618" y="2421153"/>
                        <a:pt x="1930400" y="2302933"/>
                      </a:cubicBezTo>
                      <a:cubicBezTo>
                        <a:pt x="1919111" y="2257778"/>
                        <a:pt x="1909320" y="2212221"/>
                        <a:pt x="1896533" y="2167467"/>
                      </a:cubicBezTo>
                      <a:cubicBezTo>
                        <a:pt x="1886726" y="2133142"/>
                        <a:pt x="1868536" y="2101080"/>
                        <a:pt x="1862667" y="2065867"/>
                      </a:cubicBezTo>
                      <a:cubicBezTo>
                        <a:pt x="1846052" y="1966175"/>
                        <a:pt x="1835554" y="1713597"/>
                        <a:pt x="1794933" y="1591733"/>
                      </a:cubicBezTo>
                      <a:cubicBezTo>
                        <a:pt x="1778968" y="1543839"/>
                        <a:pt x="1753174" y="1499558"/>
                        <a:pt x="1727200" y="1456267"/>
                      </a:cubicBezTo>
                      <a:cubicBezTo>
                        <a:pt x="1685317" y="1386462"/>
                        <a:pt x="1591733" y="1253067"/>
                        <a:pt x="1591733" y="1253067"/>
                      </a:cubicBezTo>
                      <a:cubicBezTo>
                        <a:pt x="1555962" y="1145753"/>
                        <a:pt x="1565165" y="1143657"/>
                        <a:pt x="1490133" y="1049867"/>
                      </a:cubicBezTo>
                      <a:cubicBezTo>
                        <a:pt x="1470187" y="1024934"/>
                        <a:pt x="1442346" y="1007066"/>
                        <a:pt x="1422400" y="982133"/>
                      </a:cubicBezTo>
                      <a:cubicBezTo>
                        <a:pt x="1396973" y="950349"/>
                        <a:pt x="1380094" y="912316"/>
                        <a:pt x="1354667" y="880533"/>
                      </a:cubicBezTo>
                      <a:cubicBezTo>
                        <a:pt x="1334721" y="855600"/>
                        <a:pt x="1306879" y="837733"/>
                        <a:pt x="1286933" y="812800"/>
                      </a:cubicBezTo>
                      <a:cubicBezTo>
                        <a:pt x="1261506" y="781017"/>
                        <a:pt x="1246241" y="741622"/>
                        <a:pt x="1219200" y="711200"/>
                      </a:cubicBezTo>
                      <a:cubicBezTo>
                        <a:pt x="1155561" y="639606"/>
                        <a:pt x="1095702" y="561134"/>
                        <a:pt x="1016000" y="508000"/>
                      </a:cubicBezTo>
                      <a:cubicBezTo>
                        <a:pt x="887833" y="422556"/>
                        <a:pt x="943181" y="469048"/>
                        <a:pt x="846667" y="372533"/>
                      </a:cubicBezTo>
                      <a:cubicBezTo>
                        <a:pt x="835378" y="338666"/>
                        <a:pt x="832602" y="300636"/>
                        <a:pt x="812800" y="270933"/>
                      </a:cubicBezTo>
                      <a:cubicBezTo>
                        <a:pt x="786233" y="231082"/>
                        <a:pt x="749006" y="198737"/>
                        <a:pt x="711200" y="169333"/>
                      </a:cubicBezTo>
                      <a:cubicBezTo>
                        <a:pt x="536524" y="33474"/>
                        <a:pt x="559693" y="51098"/>
                        <a:pt x="406400" y="0"/>
                      </a:cubicBezTo>
                      <a:cubicBezTo>
                        <a:pt x="361244" y="11289"/>
                        <a:pt x="313715" y="15532"/>
                        <a:pt x="270933" y="33867"/>
                      </a:cubicBezTo>
                      <a:cubicBezTo>
                        <a:pt x="53886" y="126887"/>
                        <a:pt x="173770" y="228415"/>
                        <a:pt x="203200" y="508000"/>
                      </a:cubicBezTo>
                      <a:cubicBezTo>
                        <a:pt x="230238" y="764856"/>
                        <a:pt x="168958" y="711013"/>
                        <a:pt x="304800" y="778933"/>
                      </a:cubicBezTo>
                    </a:path>
                  </a:pathLst>
                </a:custGeom>
                <a:solidFill>
                  <a:srgbClr val="f2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1" name=""/>
              <p:cNvGrpSpPr/>
              <p:nvPr/>
            </p:nvGrpSpPr>
            <p:grpSpPr>
              <a:xfrm>
                <a:off x="16284600" y="3674880"/>
                <a:ext cx="1395720" cy="1373400"/>
                <a:chOff x="16284600" y="3674880"/>
                <a:chExt cx="1395720" cy="1373400"/>
              </a:xfrm>
            </p:grpSpPr>
            <p:sp>
              <p:nvSpPr>
                <p:cNvPr id="352" name="任意多边形 200"/>
                <p:cNvSpPr/>
                <p:nvPr/>
              </p:nvSpPr>
              <p:spPr>
                <a:xfrm flipH="1" rot="1846200">
                  <a:off x="16272720" y="3905640"/>
                  <a:ext cx="963360" cy="221040"/>
                </a:xfrm>
                <a:custGeom>
                  <a:avLst/>
                  <a:gdLst>
                    <a:gd name="textAreaLeft" fmla="*/ 360 w 963360"/>
                    <a:gd name="textAreaRight" fmla="*/ 964080 w 963360"/>
                    <a:gd name="textAreaTop" fmla="*/ 0 h 221040"/>
                    <a:gd name="textAreaBottom" fmla="*/ 221400 h 221040"/>
                  </a:gdLst>
                  <a:ahLst/>
                  <a:rect l="textAreaLeft" t="textAreaTop" r="textAreaRight" b="textAreaBottom"/>
                  <a:pathLst>
                    <a:path w="2065867" h="4030133">
                      <a:moveTo>
                        <a:pt x="270933" y="677333"/>
                      </a:moveTo>
                      <a:cubicBezTo>
                        <a:pt x="259644" y="733778"/>
                        <a:pt x="257278" y="792770"/>
                        <a:pt x="237067" y="846667"/>
                      </a:cubicBezTo>
                      <a:cubicBezTo>
                        <a:pt x="222775" y="884778"/>
                        <a:pt x="187536" y="911861"/>
                        <a:pt x="169333" y="948267"/>
                      </a:cubicBezTo>
                      <a:cubicBezTo>
                        <a:pt x="153368" y="980197"/>
                        <a:pt x="146756" y="1016000"/>
                        <a:pt x="135467" y="1049867"/>
                      </a:cubicBezTo>
                      <a:cubicBezTo>
                        <a:pt x="124178" y="1128889"/>
                        <a:pt x="124537" y="1210475"/>
                        <a:pt x="101600" y="1286933"/>
                      </a:cubicBezTo>
                      <a:cubicBezTo>
                        <a:pt x="89904" y="1325919"/>
                        <a:pt x="52070" y="1352127"/>
                        <a:pt x="33867" y="1388533"/>
                      </a:cubicBezTo>
                      <a:cubicBezTo>
                        <a:pt x="17902" y="1420463"/>
                        <a:pt x="11289" y="1456266"/>
                        <a:pt x="0" y="1490133"/>
                      </a:cubicBezTo>
                      <a:cubicBezTo>
                        <a:pt x="11289" y="1648178"/>
                        <a:pt x="6331" y="1808231"/>
                        <a:pt x="33867" y="1964267"/>
                      </a:cubicBezTo>
                      <a:cubicBezTo>
                        <a:pt x="40941" y="2004350"/>
                        <a:pt x="77942" y="2032746"/>
                        <a:pt x="101600" y="2065867"/>
                      </a:cubicBezTo>
                      <a:cubicBezTo>
                        <a:pt x="134408" y="2111798"/>
                        <a:pt x="167065" y="2157971"/>
                        <a:pt x="203200" y="2201333"/>
                      </a:cubicBezTo>
                      <a:cubicBezTo>
                        <a:pt x="223641" y="2225862"/>
                        <a:pt x="253221" y="2242500"/>
                        <a:pt x="270933" y="2269067"/>
                      </a:cubicBezTo>
                      <a:cubicBezTo>
                        <a:pt x="298937" y="2311073"/>
                        <a:pt x="313619" y="2360700"/>
                        <a:pt x="338667" y="2404533"/>
                      </a:cubicBezTo>
                      <a:cubicBezTo>
                        <a:pt x="443708" y="2588354"/>
                        <a:pt x="378175" y="2421458"/>
                        <a:pt x="440267" y="2607733"/>
                      </a:cubicBezTo>
                      <a:cubicBezTo>
                        <a:pt x="451556" y="2686755"/>
                        <a:pt x="448890" y="2769072"/>
                        <a:pt x="474133" y="2844800"/>
                      </a:cubicBezTo>
                      <a:cubicBezTo>
                        <a:pt x="484230" y="2875091"/>
                        <a:pt x="525439" y="2885153"/>
                        <a:pt x="541867" y="2912533"/>
                      </a:cubicBezTo>
                      <a:cubicBezTo>
                        <a:pt x="692110" y="3162937"/>
                        <a:pt x="437916" y="2858793"/>
                        <a:pt x="643467" y="3115733"/>
                      </a:cubicBezTo>
                      <a:cubicBezTo>
                        <a:pt x="663413" y="3140666"/>
                        <a:pt x="691254" y="3158534"/>
                        <a:pt x="711200" y="3183467"/>
                      </a:cubicBezTo>
                      <a:cubicBezTo>
                        <a:pt x="736627" y="3215251"/>
                        <a:pt x="752130" y="3254435"/>
                        <a:pt x="778933" y="3285067"/>
                      </a:cubicBezTo>
                      <a:cubicBezTo>
                        <a:pt x="831498" y="3345141"/>
                        <a:pt x="900372" y="3390540"/>
                        <a:pt x="948267" y="3454400"/>
                      </a:cubicBezTo>
                      <a:cubicBezTo>
                        <a:pt x="982134" y="3499556"/>
                        <a:pt x="1019951" y="3542002"/>
                        <a:pt x="1049867" y="3589867"/>
                      </a:cubicBezTo>
                      <a:cubicBezTo>
                        <a:pt x="1076624" y="3632678"/>
                        <a:pt x="1089596" y="3683327"/>
                        <a:pt x="1117600" y="3725333"/>
                      </a:cubicBezTo>
                      <a:cubicBezTo>
                        <a:pt x="1164328" y="3795425"/>
                        <a:pt x="1222230" y="3809038"/>
                        <a:pt x="1286933" y="3860800"/>
                      </a:cubicBezTo>
                      <a:cubicBezTo>
                        <a:pt x="1311866" y="3880746"/>
                        <a:pt x="1328100" y="3910821"/>
                        <a:pt x="1354667" y="3928533"/>
                      </a:cubicBezTo>
                      <a:cubicBezTo>
                        <a:pt x="1438370" y="3984335"/>
                        <a:pt x="1501418" y="4000029"/>
                        <a:pt x="1591733" y="4030133"/>
                      </a:cubicBezTo>
                      <a:cubicBezTo>
                        <a:pt x="1670755" y="4018844"/>
                        <a:pt x="1753072" y="4021510"/>
                        <a:pt x="1828800" y="3996267"/>
                      </a:cubicBezTo>
                      <a:cubicBezTo>
                        <a:pt x="1947678" y="3956641"/>
                        <a:pt x="1962781" y="3628192"/>
                        <a:pt x="1964267" y="3623733"/>
                      </a:cubicBezTo>
                      <a:cubicBezTo>
                        <a:pt x="1977138" y="3585119"/>
                        <a:pt x="2013797" y="3558539"/>
                        <a:pt x="2032000" y="3522133"/>
                      </a:cubicBezTo>
                      <a:cubicBezTo>
                        <a:pt x="2047965" y="3490203"/>
                        <a:pt x="2054578" y="3454400"/>
                        <a:pt x="2065867" y="3420533"/>
                      </a:cubicBezTo>
                      <a:cubicBezTo>
                        <a:pt x="2054578" y="3318933"/>
                        <a:pt x="2052048" y="3215973"/>
                        <a:pt x="2032000" y="3115733"/>
                      </a:cubicBezTo>
                      <a:cubicBezTo>
                        <a:pt x="2017998" y="3045722"/>
                        <a:pt x="1964267" y="2912533"/>
                        <a:pt x="1964267" y="2912533"/>
                      </a:cubicBezTo>
                      <a:cubicBezTo>
                        <a:pt x="2045473" y="2668911"/>
                        <a:pt x="1946942" y="2973167"/>
                        <a:pt x="2032000" y="2675467"/>
                      </a:cubicBezTo>
                      <a:cubicBezTo>
                        <a:pt x="2041807" y="2641142"/>
                        <a:pt x="2054578" y="2607734"/>
                        <a:pt x="2065867" y="2573867"/>
                      </a:cubicBezTo>
                      <a:cubicBezTo>
                        <a:pt x="1988036" y="2340376"/>
                        <a:pt x="2048618" y="2421153"/>
                        <a:pt x="1930400" y="2302933"/>
                      </a:cubicBezTo>
                      <a:cubicBezTo>
                        <a:pt x="1919111" y="2257778"/>
                        <a:pt x="1909320" y="2212221"/>
                        <a:pt x="1896533" y="2167467"/>
                      </a:cubicBezTo>
                      <a:cubicBezTo>
                        <a:pt x="1886726" y="2133142"/>
                        <a:pt x="1868536" y="2101080"/>
                        <a:pt x="1862667" y="2065867"/>
                      </a:cubicBezTo>
                      <a:cubicBezTo>
                        <a:pt x="1846052" y="1966175"/>
                        <a:pt x="1835554" y="1713597"/>
                        <a:pt x="1794933" y="1591733"/>
                      </a:cubicBezTo>
                      <a:cubicBezTo>
                        <a:pt x="1778968" y="1543839"/>
                        <a:pt x="1753174" y="1499558"/>
                        <a:pt x="1727200" y="1456267"/>
                      </a:cubicBezTo>
                      <a:cubicBezTo>
                        <a:pt x="1685317" y="1386462"/>
                        <a:pt x="1591733" y="1253067"/>
                        <a:pt x="1591733" y="1253067"/>
                      </a:cubicBezTo>
                      <a:cubicBezTo>
                        <a:pt x="1555962" y="1145753"/>
                        <a:pt x="1565165" y="1143657"/>
                        <a:pt x="1490133" y="1049867"/>
                      </a:cubicBezTo>
                      <a:cubicBezTo>
                        <a:pt x="1470187" y="1024934"/>
                        <a:pt x="1442346" y="1007066"/>
                        <a:pt x="1422400" y="982133"/>
                      </a:cubicBezTo>
                      <a:cubicBezTo>
                        <a:pt x="1396973" y="950349"/>
                        <a:pt x="1380094" y="912316"/>
                        <a:pt x="1354667" y="880533"/>
                      </a:cubicBezTo>
                      <a:cubicBezTo>
                        <a:pt x="1334721" y="855600"/>
                        <a:pt x="1306879" y="837733"/>
                        <a:pt x="1286933" y="812800"/>
                      </a:cubicBezTo>
                      <a:cubicBezTo>
                        <a:pt x="1261506" y="781017"/>
                        <a:pt x="1246241" y="741622"/>
                        <a:pt x="1219200" y="711200"/>
                      </a:cubicBezTo>
                      <a:cubicBezTo>
                        <a:pt x="1155561" y="639606"/>
                        <a:pt x="1095702" y="561134"/>
                        <a:pt x="1016000" y="508000"/>
                      </a:cubicBezTo>
                      <a:cubicBezTo>
                        <a:pt x="887833" y="422556"/>
                        <a:pt x="943181" y="469048"/>
                        <a:pt x="846667" y="372533"/>
                      </a:cubicBezTo>
                      <a:cubicBezTo>
                        <a:pt x="835378" y="338666"/>
                        <a:pt x="832602" y="300636"/>
                        <a:pt x="812800" y="270933"/>
                      </a:cubicBezTo>
                      <a:cubicBezTo>
                        <a:pt x="786233" y="231082"/>
                        <a:pt x="749006" y="198737"/>
                        <a:pt x="711200" y="169333"/>
                      </a:cubicBezTo>
                      <a:cubicBezTo>
                        <a:pt x="536524" y="33474"/>
                        <a:pt x="559693" y="51098"/>
                        <a:pt x="406400" y="0"/>
                      </a:cubicBezTo>
                      <a:cubicBezTo>
                        <a:pt x="361244" y="11289"/>
                        <a:pt x="313715" y="15532"/>
                        <a:pt x="270933" y="33867"/>
                      </a:cubicBezTo>
                      <a:cubicBezTo>
                        <a:pt x="53886" y="126887"/>
                        <a:pt x="173770" y="228415"/>
                        <a:pt x="203200" y="508000"/>
                      </a:cubicBezTo>
                      <a:cubicBezTo>
                        <a:pt x="230238" y="764856"/>
                        <a:pt x="168958" y="711013"/>
                        <a:pt x="304800" y="778933"/>
                      </a:cubicBez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3" name="任意多边形 201"/>
                <p:cNvSpPr/>
                <p:nvPr/>
              </p:nvSpPr>
              <p:spPr>
                <a:xfrm flipH="1" rot="3427800">
                  <a:off x="17321400" y="4672800"/>
                  <a:ext cx="283680" cy="332280"/>
                </a:xfrm>
                <a:custGeom>
                  <a:avLst/>
                  <a:gdLst>
                    <a:gd name="textAreaLeft" fmla="*/ 360 w 283680"/>
                    <a:gd name="textAreaRight" fmla="*/ 284400 w 283680"/>
                    <a:gd name="textAreaTop" fmla="*/ 0 h 332280"/>
                    <a:gd name="textAreaBottom" fmla="*/ 332640 h 332280"/>
                  </a:gdLst>
                  <a:ahLst/>
                  <a:rect l="textAreaLeft" t="textAreaTop" r="textAreaRight" b="textAreaBottom"/>
                  <a:pathLst>
                    <a:path w="2065867" h="4030133">
                      <a:moveTo>
                        <a:pt x="270933" y="677333"/>
                      </a:moveTo>
                      <a:cubicBezTo>
                        <a:pt x="259644" y="733778"/>
                        <a:pt x="257278" y="792770"/>
                        <a:pt x="237067" y="846667"/>
                      </a:cubicBezTo>
                      <a:cubicBezTo>
                        <a:pt x="222775" y="884778"/>
                        <a:pt x="187536" y="911861"/>
                        <a:pt x="169333" y="948267"/>
                      </a:cubicBezTo>
                      <a:cubicBezTo>
                        <a:pt x="153368" y="980197"/>
                        <a:pt x="146756" y="1016000"/>
                        <a:pt x="135467" y="1049867"/>
                      </a:cubicBezTo>
                      <a:cubicBezTo>
                        <a:pt x="124178" y="1128889"/>
                        <a:pt x="124537" y="1210475"/>
                        <a:pt x="101600" y="1286933"/>
                      </a:cubicBezTo>
                      <a:cubicBezTo>
                        <a:pt x="89904" y="1325919"/>
                        <a:pt x="52070" y="1352127"/>
                        <a:pt x="33867" y="1388533"/>
                      </a:cubicBezTo>
                      <a:cubicBezTo>
                        <a:pt x="17902" y="1420463"/>
                        <a:pt x="11289" y="1456266"/>
                        <a:pt x="0" y="1490133"/>
                      </a:cubicBezTo>
                      <a:cubicBezTo>
                        <a:pt x="11289" y="1648178"/>
                        <a:pt x="6331" y="1808231"/>
                        <a:pt x="33867" y="1964267"/>
                      </a:cubicBezTo>
                      <a:cubicBezTo>
                        <a:pt x="40941" y="2004350"/>
                        <a:pt x="77942" y="2032746"/>
                        <a:pt x="101600" y="2065867"/>
                      </a:cubicBezTo>
                      <a:cubicBezTo>
                        <a:pt x="134408" y="2111798"/>
                        <a:pt x="167065" y="2157971"/>
                        <a:pt x="203200" y="2201333"/>
                      </a:cubicBezTo>
                      <a:cubicBezTo>
                        <a:pt x="223641" y="2225862"/>
                        <a:pt x="253221" y="2242500"/>
                        <a:pt x="270933" y="2269067"/>
                      </a:cubicBezTo>
                      <a:cubicBezTo>
                        <a:pt x="298937" y="2311073"/>
                        <a:pt x="313619" y="2360700"/>
                        <a:pt x="338667" y="2404533"/>
                      </a:cubicBezTo>
                      <a:cubicBezTo>
                        <a:pt x="443708" y="2588354"/>
                        <a:pt x="378175" y="2421458"/>
                        <a:pt x="440267" y="2607733"/>
                      </a:cubicBezTo>
                      <a:cubicBezTo>
                        <a:pt x="451556" y="2686755"/>
                        <a:pt x="448890" y="2769072"/>
                        <a:pt x="474133" y="2844800"/>
                      </a:cubicBezTo>
                      <a:cubicBezTo>
                        <a:pt x="484230" y="2875091"/>
                        <a:pt x="525439" y="2885153"/>
                        <a:pt x="541867" y="2912533"/>
                      </a:cubicBezTo>
                      <a:cubicBezTo>
                        <a:pt x="692110" y="3162937"/>
                        <a:pt x="437916" y="2858793"/>
                        <a:pt x="643467" y="3115733"/>
                      </a:cubicBezTo>
                      <a:cubicBezTo>
                        <a:pt x="663413" y="3140666"/>
                        <a:pt x="691254" y="3158534"/>
                        <a:pt x="711200" y="3183467"/>
                      </a:cubicBezTo>
                      <a:cubicBezTo>
                        <a:pt x="736627" y="3215251"/>
                        <a:pt x="752130" y="3254435"/>
                        <a:pt x="778933" y="3285067"/>
                      </a:cubicBezTo>
                      <a:cubicBezTo>
                        <a:pt x="831498" y="3345141"/>
                        <a:pt x="900372" y="3390540"/>
                        <a:pt x="948267" y="3454400"/>
                      </a:cubicBezTo>
                      <a:cubicBezTo>
                        <a:pt x="982134" y="3499556"/>
                        <a:pt x="1019951" y="3542002"/>
                        <a:pt x="1049867" y="3589867"/>
                      </a:cubicBezTo>
                      <a:cubicBezTo>
                        <a:pt x="1076624" y="3632678"/>
                        <a:pt x="1089596" y="3683327"/>
                        <a:pt x="1117600" y="3725333"/>
                      </a:cubicBezTo>
                      <a:cubicBezTo>
                        <a:pt x="1164328" y="3795425"/>
                        <a:pt x="1222230" y="3809038"/>
                        <a:pt x="1286933" y="3860800"/>
                      </a:cubicBezTo>
                      <a:cubicBezTo>
                        <a:pt x="1311866" y="3880746"/>
                        <a:pt x="1328100" y="3910821"/>
                        <a:pt x="1354667" y="3928533"/>
                      </a:cubicBezTo>
                      <a:cubicBezTo>
                        <a:pt x="1438370" y="3984335"/>
                        <a:pt x="1501418" y="4000029"/>
                        <a:pt x="1591733" y="4030133"/>
                      </a:cubicBezTo>
                      <a:cubicBezTo>
                        <a:pt x="1670755" y="4018844"/>
                        <a:pt x="1753072" y="4021510"/>
                        <a:pt x="1828800" y="3996267"/>
                      </a:cubicBezTo>
                      <a:cubicBezTo>
                        <a:pt x="1947678" y="3956641"/>
                        <a:pt x="1962781" y="3628192"/>
                        <a:pt x="1964267" y="3623733"/>
                      </a:cubicBezTo>
                      <a:cubicBezTo>
                        <a:pt x="1977138" y="3585119"/>
                        <a:pt x="2013797" y="3558539"/>
                        <a:pt x="2032000" y="3522133"/>
                      </a:cubicBezTo>
                      <a:cubicBezTo>
                        <a:pt x="2047965" y="3490203"/>
                        <a:pt x="2054578" y="3454400"/>
                        <a:pt x="2065867" y="3420533"/>
                      </a:cubicBezTo>
                      <a:cubicBezTo>
                        <a:pt x="2054578" y="3318933"/>
                        <a:pt x="2052048" y="3215973"/>
                        <a:pt x="2032000" y="3115733"/>
                      </a:cubicBezTo>
                      <a:cubicBezTo>
                        <a:pt x="2017998" y="3045722"/>
                        <a:pt x="1964267" y="2912533"/>
                        <a:pt x="1964267" y="2912533"/>
                      </a:cubicBezTo>
                      <a:cubicBezTo>
                        <a:pt x="2045473" y="2668911"/>
                        <a:pt x="1946942" y="2973167"/>
                        <a:pt x="2032000" y="2675467"/>
                      </a:cubicBezTo>
                      <a:cubicBezTo>
                        <a:pt x="2041807" y="2641142"/>
                        <a:pt x="2054578" y="2607734"/>
                        <a:pt x="2065867" y="2573867"/>
                      </a:cubicBezTo>
                      <a:cubicBezTo>
                        <a:pt x="1988036" y="2340376"/>
                        <a:pt x="2048618" y="2421153"/>
                        <a:pt x="1930400" y="2302933"/>
                      </a:cubicBezTo>
                      <a:cubicBezTo>
                        <a:pt x="1919111" y="2257778"/>
                        <a:pt x="1909320" y="2212221"/>
                        <a:pt x="1896533" y="2167467"/>
                      </a:cubicBezTo>
                      <a:cubicBezTo>
                        <a:pt x="1886726" y="2133142"/>
                        <a:pt x="1868536" y="2101080"/>
                        <a:pt x="1862667" y="2065867"/>
                      </a:cubicBezTo>
                      <a:cubicBezTo>
                        <a:pt x="1846052" y="1966175"/>
                        <a:pt x="1835554" y="1713597"/>
                        <a:pt x="1794933" y="1591733"/>
                      </a:cubicBezTo>
                      <a:cubicBezTo>
                        <a:pt x="1778968" y="1543839"/>
                        <a:pt x="1753174" y="1499558"/>
                        <a:pt x="1727200" y="1456267"/>
                      </a:cubicBezTo>
                      <a:cubicBezTo>
                        <a:pt x="1685317" y="1386462"/>
                        <a:pt x="1591733" y="1253067"/>
                        <a:pt x="1591733" y="1253067"/>
                      </a:cubicBezTo>
                      <a:cubicBezTo>
                        <a:pt x="1555962" y="1145753"/>
                        <a:pt x="1565165" y="1143657"/>
                        <a:pt x="1490133" y="1049867"/>
                      </a:cubicBezTo>
                      <a:cubicBezTo>
                        <a:pt x="1470187" y="1024934"/>
                        <a:pt x="1442346" y="1007066"/>
                        <a:pt x="1422400" y="982133"/>
                      </a:cubicBezTo>
                      <a:cubicBezTo>
                        <a:pt x="1396973" y="950349"/>
                        <a:pt x="1380094" y="912316"/>
                        <a:pt x="1354667" y="880533"/>
                      </a:cubicBezTo>
                      <a:cubicBezTo>
                        <a:pt x="1334721" y="855600"/>
                        <a:pt x="1306879" y="837733"/>
                        <a:pt x="1286933" y="812800"/>
                      </a:cubicBezTo>
                      <a:cubicBezTo>
                        <a:pt x="1261506" y="781017"/>
                        <a:pt x="1246241" y="741622"/>
                        <a:pt x="1219200" y="711200"/>
                      </a:cubicBezTo>
                      <a:cubicBezTo>
                        <a:pt x="1155561" y="639606"/>
                        <a:pt x="1095702" y="561134"/>
                        <a:pt x="1016000" y="508000"/>
                      </a:cubicBezTo>
                      <a:cubicBezTo>
                        <a:pt x="887833" y="422556"/>
                        <a:pt x="943181" y="469048"/>
                        <a:pt x="846667" y="372533"/>
                      </a:cubicBezTo>
                      <a:cubicBezTo>
                        <a:pt x="835378" y="338666"/>
                        <a:pt x="832602" y="300636"/>
                        <a:pt x="812800" y="270933"/>
                      </a:cubicBezTo>
                      <a:cubicBezTo>
                        <a:pt x="786233" y="231082"/>
                        <a:pt x="749006" y="198737"/>
                        <a:pt x="711200" y="169333"/>
                      </a:cubicBezTo>
                      <a:cubicBezTo>
                        <a:pt x="536524" y="33474"/>
                        <a:pt x="559693" y="51098"/>
                        <a:pt x="406400" y="0"/>
                      </a:cubicBezTo>
                      <a:cubicBezTo>
                        <a:pt x="361244" y="11289"/>
                        <a:pt x="313715" y="15532"/>
                        <a:pt x="270933" y="33867"/>
                      </a:cubicBezTo>
                      <a:cubicBezTo>
                        <a:pt x="53886" y="126887"/>
                        <a:pt x="173770" y="228415"/>
                        <a:pt x="203200" y="508000"/>
                      </a:cubicBezTo>
                      <a:cubicBezTo>
                        <a:pt x="230238" y="764856"/>
                        <a:pt x="168958" y="711013"/>
                        <a:pt x="304800" y="778933"/>
                      </a:cubicBezTo>
                    </a:path>
                  </a:pathLst>
                </a:custGeom>
                <a:solidFill>
                  <a:srgbClr val="f2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4" name="任意多边形 202"/>
                <p:cNvSpPr/>
                <p:nvPr/>
              </p:nvSpPr>
              <p:spPr>
                <a:xfrm flipH="1" rot="4120800">
                  <a:off x="16349760" y="3866400"/>
                  <a:ext cx="194760" cy="133200"/>
                </a:xfrm>
                <a:custGeom>
                  <a:avLst/>
                  <a:gdLst>
                    <a:gd name="textAreaLeft" fmla="*/ -360 w 194760"/>
                    <a:gd name="textAreaRight" fmla="*/ 194760 w 194760"/>
                    <a:gd name="textAreaTop" fmla="*/ 0 h 133200"/>
                    <a:gd name="textAreaBottom" fmla="*/ 133560 h 133200"/>
                  </a:gdLst>
                  <a:ahLst/>
                  <a:rect l="textAreaLeft" t="textAreaTop" r="textAreaRight" b="textAreaBottom"/>
                  <a:pathLst>
                    <a:path w="2065867" h="4030133">
                      <a:moveTo>
                        <a:pt x="270933" y="677333"/>
                      </a:moveTo>
                      <a:cubicBezTo>
                        <a:pt x="259644" y="733778"/>
                        <a:pt x="257278" y="792770"/>
                        <a:pt x="237067" y="846667"/>
                      </a:cubicBezTo>
                      <a:cubicBezTo>
                        <a:pt x="222775" y="884778"/>
                        <a:pt x="187536" y="911861"/>
                        <a:pt x="169333" y="948267"/>
                      </a:cubicBezTo>
                      <a:cubicBezTo>
                        <a:pt x="153368" y="980197"/>
                        <a:pt x="146756" y="1016000"/>
                        <a:pt x="135467" y="1049867"/>
                      </a:cubicBezTo>
                      <a:cubicBezTo>
                        <a:pt x="124178" y="1128889"/>
                        <a:pt x="124537" y="1210475"/>
                        <a:pt x="101600" y="1286933"/>
                      </a:cubicBezTo>
                      <a:cubicBezTo>
                        <a:pt x="89904" y="1325919"/>
                        <a:pt x="52070" y="1352127"/>
                        <a:pt x="33867" y="1388533"/>
                      </a:cubicBezTo>
                      <a:cubicBezTo>
                        <a:pt x="17902" y="1420463"/>
                        <a:pt x="11289" y="1456266"/>
                        <a:pt x="0" y="1490133"/>
                      </a:cubicBezTo>
                      <a:cubicBezTo>
                        <a:pt x="11289" y="1648178"/>
                        <a:pt x="6331" y="1808231"/>
                        <a:pt x="33867" y="1964267"/>
                      </a:cubicBezTo>
                      <a:cubicBezTo>
                        <a:pt x="40941" y="2004350"/>
                        <a:pt x="77942" y="2032746"/>
                        <a:pt x="101600" y="2065867"/>
                      </a:cubicBezTo>
                      <a:cubicBezTo>
                        <a:pt x="134408" y="2111798"/>
                        <a:pt x="167065" y="2157971"/>
                        <a:pt x="203200" y="2201333"/>
                      </a:cubicBezTo>
                      <a:cubicBezTo>
                        <a:pt x="223641" y="2225862"/>
                        <a:pt x="253221" y="2242500"/>
                        <a:pt x="270933" y="2269067"/>
                      </a:cubicBezTo>
                      <a:cubicBezTo>
                        <a:pt x="298937" y="2311073"/>
                        <a:pt x="313619" y="2360700"/>
                        <a:pt x="338667" y="2404533"/>
                      </a:cubicBezTo>
                      <a:cubicBezTo>
                        <a:pt x="443708" y="2588354"/>
                        <a:pt x="378175" y="2421458"/>
                        <a:pt x="440267" y="2607733"/>
                      </a:cubicBezTo>
                      <a:cubicBezTo>
                        <a:pt x="451556" y="2686755"/>
                        <a:pt x="448890" y="2769072"/>
                        <a:pt x="474133" y="2844800"/>
                      </a:cubicBezTo>
                      <a:cubicBezTo>
                        <a:pt x="484230" y="2875091"/>
                        <a:pt x="525439" y="2885153"/>
                        <a:pt x="541867" y="2912533"/>
                      </a:cubicBezTo>
                      <a:cubicBezTo>
                        <a:pt x="692110" y="3162937"/>
                        <a:pt x="437916" y="2858793"/>
                        <a:pt x="643467" y="3115733"/>
                      </a:cubicBezTo>
                      <a:cubicBezTo>
                        <a:pt x="663413" y="3140666"/>
                        <a:pt x="691254" y="3158534"/>
                        <a:pt x="711200" y="3183467"/>
                      </a:cubicBezTo>
                      <a:cubicBezTo>
                        <a:pt x="736627" y="3215251"/>
                        <a:pt x="752130" y="3254435"/>
                        <a:pt x="778933" y="3285067"/>
                      </a:cubicBezTo>
                      <a:cubicBezTo>
                        <a:pt x="831498" y="3345141"/>
                        <a:pt x="900372" y="3390540"/>
                        <a:pt x="948267" y="3454400"/>
                      </a:cubicBezTo>
                      <a:cubicBezTo>
                        <a:pt x="982134" y="3499556"/>
                        <a:pt x="1019951" y="3542002"/>
                        <a:pt x="1049867" y="3589867"/>
                      </a:cubicBezTo>
                      <a:cubicBezTo>
                        <a:pt x="1076624" y="3632678"/>
                        <a:pt x="1089596" y="3683327"/>
                        <a:pt x="1117600" y="3725333"/>
                      </a:cubicBezTo>
                      <a:cubicBezTo>
                        <a:pt x="1164328" y="3795425"/>
                        <a:pt x="1222230" y="3809038"/>
                        <a:pt x="1286933" y="3860800"/>
                      </a:cubicBezTo>
                      <a:cubicBezTo>
                        <a:pt x="1311866" y="3880746"/>
                        <a:pt x="1328100" y="3910821"/>
                        <a:pt x="1354667" y="3928533"/>
                      </a:cubicBezTo>
                      <a:cubicBezTo>
                        <a:pt x="1438370" y="3984335"/>
                        <a:pt x="1501418" y="4000029"/>
                        <a:pt x="1591733" y="4030133"/>
                      </a:cubicBezTo>
                      <a:cubicBezTo>
                        <a:pt x="1670755" y="4018844"/>
                        <a:pt x="1753072" y="4021510"/>
                        <a:pt x="1828800" y="3996267"/>
                      </a:cubicBezTo>
                      <a:cubicBezTo>
                        <a:pt x="1947678" y="3956641"/>
                        <a:pt x="1962781" y="3628192"/>
                        <a:pt x="1964267" y="3623733"/>
                      </a:cubicBezTo>
                      <a:cubicBezTo>
                        <a:pt x="1977138" y="3585119"/>
                        <a:pt x="2013797" y="3558539"/>
                        <a:pt x="2032000" y="3522133"/>
                      </a:cubicBezTo>
                      <a:cubicBezTo>
                        <a:pt x="2047965" y="3490203"/>
                        <a:pt x="2054578" y="3454400"/>
                        <a:pt x="2065867" y="3420533"/>
                      </a:cubicBezTo>
                      <a:cubicBezTo>
                        <a:pt x="2054578" y="3318933"/>
                        <a:pt x="2052048" y="3215973"/>
                        <a:pt x="2032000" y="3115733"/>
                      </a:cubicBezTo>
                      <a:cubicBezTo>
                        <a:pt x="2017998" y="3045722"/>
                        <a:pt x="1964267" y="2912533"/>
                        <a:pt x="1964267" y="2912533"/>
                      </a:cubicBezTo>
                      <a:cubicBezTo>
                        <a:pt x="2045473" y="2668911"/>
                        <a:pt x="1946942" y="2973167"/>
                        <a:pt x="2032000" y="2675467"/>
                      </a:cubicBezTo>
                      <a:cubicBezTo>
                        <a:pt x="2041807" y="2641142"/>
                        <a:pt x="2054578" y="2607734"/>
                        <a:pt x="2065867" y="2573867"/>
                      </a:cubicBezTo>
                      <a:cubicBezTo>
                        <a:pt x="1988036" y="2340376"/>
                        <a:pt x="2048618" y="2421153"/>
                        <a:pt x="1930400" y="2302933"/>
                      </a:cubicBezTo>
                      <a:cubicBezTo>
                        <a:pt x="1919111" y="2257778"/>
                        <a:pt x="1909320" y="2212221"/>
                        <a:pt x="1896533" y="2167467"/>
                      </a:cubicBezTo>
                      <a:cubicBezTo>
                        <a:pt x="1886726" y="2133142"/>
                        <a:pt x="1868536" y="2101080"/>
                        <a:pt x="1862667" y="2065867"/>
                      </a:cubicBezTo>
                      <a:cubicBezTo>
                        <a:pt x="1846052" y="1966175"/>
                        <a:pt x="1835554" y="1713597"/>
                        <a:pt x="1794933" y="1591733"/>
                      </a:cubicBezTo>
                      <a:cubicBezTo>
                        <a:pt x="1778968" y="1543839"/>
                        <a:pt x="1753174" y="1499558"/>
                        <a:pt x="1727200" y="1456267"/>
                      </a:cubicBezTo>
                      <a:cubicBezTo>
                        <a:pt x="1685317" y="1386462"/>
                        <a:pt x="1591733" y="1253067"/>
                        <a:pt x="1591733" y="1253067"/>
                      </a:cubicBezTo>
                      <a:cubicBezTo>
                        <a:pt x="1555962" y="1145753"/>
                        <a:pt x="1565165" y="1143657"/>
                        <a:pt x="1490133" y="1049867"/>
                      </a:cubicBezTo>
                      <a:cubicBezTo>
                        <a:pt x="1470187" y="1024934"/>
                        <a:pt x="1442346" y="1007066"/>
                        <a:pt x="1422400" y="982133"/>
                      </a:cubicBezTo>
                      <a:cubicBezTo>
                        <a:pt x="1396973" y="950349"/>
                        <a:pt x="1380094" y="912316"/>
                        <a:pt x="1354667" y="880533"/>
                      </a:cubicBezTo>
                      <a:cubicBezTo>
                        <a:pt x="1334721" y="855600"/>
                        <a:pt x="1306879" y="837733"/>
                        <a:pt x="1286933" y="812800"/>
                      </a:cubicBezTo>
                      <a:cubicBezTo>
                        <a:pt x="1261506" y="781017"/>
                        <a:pt x="1246241" y="741622"/>
                        <a:pt x="1219200" y="711200"/>
                      </a:cubicBezTo>
                      <a:cubicBezTo>
                        <a:pt x="1155561" y="639606"/>
                        <a:pt x="1095702" y="561134"/>
                        <a:pt x="1016000" y="508000"/>
                      </a:cubicBezTo>
                      <a:cubicBezTo>
                        <a:pt x="887833" y="422556"/>
                        <a:pt x="943181" y="469048"/>
                        <a:pt x="846667" y="372533"/>
                      </a:cubicBezTo>
                      <a:cubicBezTo>
                        <a:pt x="835378" y="338666"/>
                        <a:pt x="832602" y="300636"/>
                        <a:pt x="812800" y="270933"/>
                      </a:cubicBezTo>
                      <a:cubicBezTo>
                        <a:pt x="786233" y="231082"/>
                        <a:pt x="749006" y="198737"/>
                        <a:pt x="711200" y="169333"/>
                      </a:cubicBezTo>
                      <a:cubicBezTo>
                        <a:pt x="536524" y="33474"/>
                        <a:pt x="559693" y="51098"/>
                        <a:pt x="406400" y="0"/>
                      </a:cubicBezTo>
                      <a:cubicBezTo>
                        <a:pt x="361244" y="11289"/>
                        <a:pt x="313715" y="15532"/>
                        <a:pt x="270933" y="33867"/>
                      </a:cubicBezTo>
                      <a:cubicBezTo>
                        <a:pt x="53886" y="126887"/>
                        <a:pt x="173770" y="228415"/>
                        <a:pt x="203200" y="508000"/>
                      </a:cubicBezTo>
                      <a:cubicBezTo>
                        <a:pt x="230238" y="764856"/>
                        <a:pt x="168958" y="711013"/>
                        <a:pt x="304800" y="778933"/>
                      </a:cubicBezTo>
                    </a:path>
                  </a:pathLst>
                </a:custGeom>
                <a:solidFill>
                  <a:srgbClr val="f2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5" name="任意多边形 198"/>
              <p:cNvSpPr/>
              <p:nvPr/>
            </p:nvSpPr>
            <p:spPr>
              <a:xfrm flipH="1" rot="1846800">
                <a:off x="16180920" y="4176000"/>
                <a:ext cx="963360" cy="227520"/>
              </a:xfrm>
              <a:custGeom>
                <a:avLst/>
                <a:gdLst>
                  <a:gd name="textAreaLeft" fmla="*/ 360 w 963360"/>
                  <a:gd name="textAreaRight" fmla="*/ 964080 w 963360"/>
                  <a:gd name="textAreaTop" fmla="*/ 0 h 227520"/>
                  <a:gd name="textAreaBottom" fmla="*/ 227880 h 227520"/>
                </a:gdLst>
                <a:ahLst/>
                <a:rect l="textAreaLeft" t="textAreaTop" r="textAreaRight" b="textAreaBottom"/>
                <a:pathLst>
                  <a:path w="2065867" h="4030133">
                    <a:moveTo>
                      <a:pt x="270933" y="677333"/>
                    </a:moveTo>
                    <a:cubicBezTo>
                      <a:pt x="259644" y="733778"/>
                      <a:pt x="257278" y="792770"/>
                      <a:pt x="237067" y="846667"/>
                    </a:cubicBezTo>
                    <a:cubicBezTo>
                      <a:pt x="222775" y="884778"/>
                      <a:pt x="187536" y="911861"/>
                      <a:pt x="169333" y="948267"/>
                    </a:cubicBezTo>
                    <a:cubicBezTo>
                      <a:pt x="153368" y="980197"/>
                      <a:pt x="146756" y="1016000"/>
                      <a:pt x="135467" y="1049867"/>
                    </a:cubicBezTo>
                    <a:cubicBezTo>
                      <a:pt x="124178" y="1128889"/>
                      <a:pt x="124537" y="1210475"/>
                      <a:pt x="101600" y="1286933"/>
                    </a:cubicBezTo>
                    <a:cubicBezTo>
                      <a:pt x="89904" y="1325919"/>
                      <a:pt x="52070" y="1352127"/>
                      <a:pt x="33867" y="1388533"/>
                    </a:cubicBezTo>
                    <a:cubicBezTo>
                      <a:pt x="17902" y="1420463"/>
                      <a:pt x="11289" y="1456266"/>
                      <a:pt x="0" y="1490133"/>
                    </a:cubicBezTo>
                    <a:cubicBezTo>
                      <a:pt x="11289" y="1648178"/>
                      <a:pt x="6331" y="1808231"/>
                      <a:pt x="33867" y="1964267"/>
                    </a:cubicBezTo>
                    <a:cubicBezTo>
                      <a:pt x="40941" y="2004350"/>
                      <a:pt x="77942" y="2032746"/>
                      <a:pt x="101600" y="2065867"/>
                    </a:cubicBezTo>
                    <a:cubicBezTo>
                      <a:pt x="134408" y="2111798"/>
                      <a:pt x="167065" y="2157971"/>
                      <a:pt x="203200" y="2201333"/>
                    </a:cubicBezTo>
                    <a:cubicBezTo>
                      <a:pt x="223641" y="2225862"/>
                      <a:pt x="253221" y="2242500"/>
                      <a:pt x="270933" y="2269067"/>
                    </a:cubicBezTo>
                    <a:cubicBezTo>
                      <a:pt x="298937" y="2311073"/>
                      <a:pt x="313619" y="2360700"/>
                      <a:pt x="338667" y="2404533"/>
                    </a:cubicBezTo>
                    <a:cubicBezTo>
                      <a:pt x="443708" y="2588354"/>
                      <a:pt x="378175" y="2421458"/>
                      <a:pt x="440267" y="2607733"/>
                    </a:cubicBezTo>
                    <a:cubicBezTo>
                      <a:pt x="451556" y="2686755"/>
                      <a:pt x="448890" y="2769072"/>
                      <a:pt x="474133" y="2844800"/>
                    </a:cubicBezTo>
                    <a:cubicBezTo>
                      <a:pt x="484230" y="2875091"/>
                      <a:pt x="525439" y="2885153"/>
                      <a:pt x="541867" y="2912533"/>
                    </a:cubicBezTo>
                    <a:cubicBezTo>
                      <a:pt x="692110" y="3162937"/>
                      <a:pt x="437916" y="2858793"/>
                      <a:pt x="643467" y="3115733"/>
                    </a:cubicBezTo>
                    <a:cubicBezTo>
                      <a:pt x="663413" y="3140666"/>
                      <a:pt x="691254" y="3158534"/>
                      <a:pt x="711200" y="3183467"/>
                    </a:cubicBezTo>
                    <a:cubicBezTo>
                      <a:pt x="736627" y="3215251"/>
                      <a:pt x="752130" y="3254435"/>
                      <a:pt x="778933" y="3285067"/>
                    </a:cubicBezTo>
                    <a:cubicBezTo>
                      <a:pt x="831498" y="3345141"/>
                      <a:pt x="900372" y="3390540"/>
                      <a:pt x="948267" y="3454400"/>
                    </a:cubicBezTo>
                    <a:cubicBezTo>
                      <a:pt x="982134" y="3499556"/>
                      <a:pt x="1019951" y="3542002"/>
                      <a:pt x="1049867" y="3589867"/>
                    </a:cubicBezTo>
                    <a:cubicBezTo>
                      <a:pt x="1076624" y="3632678"/>
                      <a:pt x="1089596" y="3683327"/>
                      <a:pt x="1117600" y="3725333"/>
                    </a:cubicBezTo>
                    <a:cubicBezTo>
                      <a:pt x="1164328" y="3795425"/>
                      <a:pt x="1222230" y="3809038"/>
                      <a:pt x="1286933" y="3860800"/>
                    </a:cubicBezTo>
                    <a:cubicBezTo>
                      <a:pt x="1311866" y="3880746"/>
                      <a:pt x="1328100" y="3910821"/>
                      <a:pt x="1354667" y="3928533"/>
                    </a:cubicBezTo>
                    <a:cubicBezTo>
                      <a:pt x="1438370" y="3984335"/>
                      <a:pt x="1501418" y="4000029"/>
                      <a:pt x="1591733" y="4030133"/>
                    </a:cubicBezTo>
                    <a:cubicBezTo>
                      <a:pt x="1670755" y="4018844"/>
                      <a:pt x="1753072" y="4021510"/>
                      <a:pt x="1828800" y="3996267"/>
                    </a:cubicBezTo>
                    <a:cubicBezTo>
                      <a:pt x="1947678" y="3956641"/>
                      <a:pt x="1962781" y="3628192"/>
                      <a:pt x="1964267" y="3623733"/>
                    </a:cubicBezTo>
                    <a:cubicBezTo>
                      <a:pt x="1977138" y="3585119"/>
                      <a:pt x="2013797" y="3558539"/>
                      <a:pt x="2032000" y="3522133"/>
                    </a:cubicBezTo>
                    <a:cubicBezTo>
                      <a:pt x="2047965" y="3490203"/>
                      <a:pt x="2054578" y="3454400"/>
                      <a:pt x="2065867" y="3420533"/>
                    </a:cubicBezTo>
                    <a:cubicBezTo>
                      <a:pt x="2054578" y="3318933"/>
                      <a:pt x="2052048" y="3215973"/>
                      <a:pt x="2032000" y="3115733"/>
                    </a:cubicBezTo>
                    <a:cubicBezTo>
                      <a:pt x="2017998" y="3045722"/>
                      <a:pt x="1964267" y="2912533"/>
                      <a:pt x="1964267" y="2912533"/>
                    </a:cubicBezTo>
                    <a:cubicBezTo>
                      <a:pt x="2045473" y="2668911"/>
                      <a:pt x="1946942" y="2973167"/>
                      <a:pt x="2032000" y="2675467"/>
                    </a:cubicBezTo>
                    <a:cubicBezTo>
                      <a:pt x="2041807" y="2641142"/>
                      <a:pt x="2054578" y="2607734"/>
                      <a:pt x="2065867" y="2573867"/>
                    </a:cubicBezTo>
                    <a:cubicBezTo>
                      <a:pt x="1988036" y="2340376"/>
                      <a:pt x="2048618" y="2421153"/>
                      <a:pt x="1930400" y="2302933"/>
                    </a:cubicBezTo>
                    <a:cubicBezTo>
                      <a:pt x="1919111" y="2257778"/>
                      <a:pt x="1909320" y="2212221"/>
                      <a:pt x="1896533" y="2167467"/>
                    </a:cubicBezTo>
                    <a:cubicBezTo>
                      <a:pt x="1886726" y="2133142"/>
                      <a:pt x="1868536" y="2101080"/>
                      <a:pt x="1862667" y="2065867"/>
                    </a:cubicBezTo>
                    <a:cubicBezTo>
                      <a:pt x="1846052" y="1966175"/>
                      <a:pt x="1835554" y="1713597"/>
                      <a:pt x="1794933" y="1591733"/>
                    </a:cubicBezTo>
                    <a:cubicBezTo>
                      <a:pt x="1778968" y="1543839"/>
                      <a:pt x="1753174" y="1499558"/>
                      <a:pt x="1727200" y="1456267"/>
                    </a:cubicBezTo>
                    <a:cubicBezTo>
                      <a:pt x="1685317" y="1386462"/>
                      <a:pt x="1591733" y="1253067"/>
                      <a:pt x="1591733" y="1253067"/>
                    </a:cubicBezTo>
                    <a:cubicBezTo>
                      <a:pt x="1555962" y="1145753"/>
                      <a:pt x="1565165" y="1143657"/>
                      <a:pt x="1490133" y="1049867"/>
                    </a:cubicBezTo>
                    <a:cubicBezTo>
                      <a:pt x="1470187" y="1024934"/>
                      <a:pt x="1442346" y="1007066"/>
                      <a:pt x="1422400" y="982133"/>
                    </a:cubicBezTo>
                    <a:cubicBezTo>
                      <a:pt x="1396973" y="950349"/>
                      <a:pt x="1380094" y="912316"/>
                      <a:pt x="1354667" y="880533"/>
                    </a:cubicBezTo>
                    <a:cubicBezTo>
                      <a:pt x="1334721" y="855600"/>
                      <a:pt x="1306879" y="837733"/>
                      <a:pt x="1286933" y="812800"/>
                    </a:cubicBezTo>
                    <a:cubicBezTo>
                      <a:pt x="1261506" y="781017"/>
                      <a:pt x="1246241" y="741622"/>
                      <a:pt x="1219200" y="711200"/>
                    </a:cubicBezTo>
                    <a:cubicBezTo>
                      <a:pt x="1155561" y="639606"/>
                      <a:pt x="1095702" y="561134"/>
                      <a:pt x="1016000" y="508000"/>
                    </a:cubicBezTo>
                    <a:cubicBezTo>
                      <a:pt x="887833" y="422556"/>
                      <a:pt x="943181" y="469048"/>
                      <a:pt x="846667" y="372533"/>
                    </a:cubicBezTo>
                    <a:cubicBezTo>
                      <a:pt x="835378" y="338666"/>
                      <a:pt x="832602" y="300636"/>
                      <a:pt x="812800" y="270933"/>
                    </a:cubicBezTo>
                    <a:cubicBezTo>
                      <a:pt x="786233" y="231082"/>
                      <a:pt x="749006" y="198737"/>
                      <a:pt x="711200" y="169333"/>
                    </a:cubicBezTo>
                    <a:cubicBezTo>
                      <a:pt x="536524" y="33474"/>
                      <a:pt x="559693" y="51098"/>
                      <a:pt x="406400" y="0"/>
                    </a:cubicBezTo>
                    <a:cubicBezTo>
                      <a:pt x="361244" y="11289"/>
                      <a:pt x="313715" y="15532"/>
                      <a:pt x="270933" y="33867"/>
                    </a:cubicBezTo>
                    <a:cubicBezTo>
                      <a:pt x="53886" y="126887"/>
                      <a:pt x="173770" y="228415"/>
                      <a:pt x="203200" y="508000"/>
                    </a:cubicBezTo>
                    <a:cubicBezTo>
                      <a:pt x="230238" y="764856"/>
                      <a:pt x="168958" y="711013"/>
                      <a:pt x="304800" y="778933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56" name=""/>
              <p:cNvGrpSpPr/>
              <p:nvPr/>
            </p:nvGrpSpPr>
            <p:grpSpPr>
              <a:xfrm>
                <a:off x="16662600" y="2996640"/>
                <a:ext cx="854640" cy="2278440"/>
                <a:chOff x="16662600" y="2996640"/>
                <a:chExt cx="854640" cy="2278440"/>
              </a:xfrm>
            </p:grpSpPr>
            <p:sp>
              <p:nvSpPr>
                <p:cNvPr id="357" name="任意多边形 196"/>
                <p:cNvSpPr/>
                <p:nvPr/>
              </p:nvSpPr>
              <p:spPr>
                <a:xfrm flipH="1" rot="3195600">
                  <a:off x="16655760" y="4707000"/>
                  <a:ext cx="963360" cy="227520"/>
                </a:xfrm>
                <a:custGeom>
                  <a:avLst/>
                  <a:gdLst>
                    <a:gd name="textAreaLeft" fmla="*/ 360 w 963360"/>
                    <a:gd name="textAreaRight" fmla="*/ 964080 w 963360"/>
                    <a:gd name="textAreaTop" fmla="*/ 0 h 227520"/>
                    <a:gd name="textAreaBottom" fmla="*/ 227880 h 227520"/>
                  </a:gdLst>
                  <a:ahLst/>
                  <a:rect l="textAreaLeft" t="textAreaTop" r="textAreaRight" b="textAreaBottom"/>
                  <a:pathLst>
                    <a:path w="2065867" h="4030133">
                      <a:moveTo>
                        <a:pt x="270933" y="677333"/>
                      </a:moveTo>
                      <a:cubicBezTo>
                        <a:pt x="259644" y="733778"/>
                        <a:pt x="257278" y="792770"/>
                        <a:pt x="237067" y="846667"/>
                      </a:cubicBezTo>
                      <a:cubicBezTo>
                        <a:pt x="222775" y="884778"/>
                        <a:pt x="187536" y="911861"/>
                        <a:pt x="169333" y="948267"/>
                      </a:cubicBezTo>
                      <a:cubicBezTo>
                        <a:pt x="153368" y="980197"/>
                        <a:pt x="146756" y="1016000"/>
                        <a:pt x="135467" y="1049867"/>
                      </a:cubicBezTo>
                      <a:cubicBezTo>
                        <a:pt x="124178" y="1128889"/>
                        <a:pt x="124537" y="1210475"/>
                        <a:pt x="101600" y="1286933"/>
                      </a:cubicBezTo>
                      <a:cubicBezTo>
                        <a:pt x="89904" y="1325919"/>
                        <a:pt x="52070" y="1352127"/>
                        <a:pt x="33867" y="1388533"/>
                      </a:cubicBezTo>
                      <a:cubicBezTo>
                        <a:pt x="17902" y="1420463"/>
                        <a:pt x="11289" y="1456266"/>
                        <a:pt x="0" y="1490133"/>
                      </a:cubicBezTo>
                      <a:cubicBezTo>
                        <a:pt x="11289" y="1648178"/>
                        <a:pt x="6331" y="1808231"/>
                        <a:pt x="33867" y="1964267"/>
                      </a:cubicBezTo>
                      <a:cubicBezTo>
                        <a:pt x="40941" y="2004350"/>
                        <a:pt x="77942" y="2032746"/>
                        <a:pt x="101600" y="2065867"/>
                      </a:cubicBezTo>
                      <a:cubicBezTo>
                        <a:pt x="134408" y="2111798"/>
                        <a:pt x="167065" y="2157971"/>
                        <a:pt x="203200" y="2201333"/>
                      </a:cubicBezTo>
                      <a:cubicBezTo>
                        <a:pt x="223641" y="2225862"/>
                        <a:pt x="253221" y="2242500"/>
                        <a:pt x="270933" y="2269067"/>
                      </a:cubicBezTo>
                      <a:cubicBezTo>
                        <a:pt x="298937" y="2311073"/>
                        <a:pt x="313619" y="2360700"/>
                        <a:pt x="338667" y="2404533"/>
                      </a:cubicBezTo>
                      <a:cubicBezTo>
                        <a:pt x="443708" y="2588354"/>
                        <a:pt x="378175" y="2421458"/>
                        <a:pt x="440267" y="2607733"/>
                      </a:cubicBezTo>
                      <a:cubicBezTo>
                        <a:pt x="451556" y="2686755"/>
                        <a:pt x="448890" y="2769072"/>
                        <a:pt x="474133" y="2844800"/>
                      </a:cubicBezTo>
                      <a:cubicBezTo>
                        <a:pt x="484230" y="2875091"/>
                        <a:pt x="525439" y="2885153"/>
                        <a:pt x="541867" y="2912533"/>
                      </a:cubicBezTo>
                      <a:cubicBezTo>
                        <a:pt x="692110" y="3162937"/>
                        <a:pt x="437916" y="2858793"/>
                        <a:pt x="643467" y="3115733"/>
                      </a:cubicBezTo>
                      <a:cubicBezTo>
                        <a:pt x="663413" y="3140666"/>
                        <a:pt x="691254" y="3158534"/>
                        <a:pt x="711200" y="3183467"/>
                      </a:cubicBezTo>
                      <a:cubicBezTo>
                        <a:pt x="736627" y="3215251"/>
                        <a:pt x="752130" y="3254435"/>
                        <a:pt x="778933" y="3285067"/>
                      </a:cubicBezTo>
                      <a:cubicBezTo>
                        <a:pt x="831498" y="3345141"/>
                        <a:pt x="900372" y="3390540"/>
                        <a:pt x="948267" y="3454400"/>
                      </a:cubicBezTo>
                      <a:cubicBezTo>
                        <a:pt x="982134" y="3499556"/>
                        <a:pt x="1019951" y="3542002"/>
                        <a:pt x="1049867" y="3589867"/>
                      </a:cubicBezTo>
                      <a:cubicBezTo>
                        <a:pt x="1076624" y="3632678"/>
                        <a:pt x="1089596" y="3683327"/>
                        <a:pt x="1117600" y="3725333"/>
                      </a:cubicBezTo>
                      <a:cubicBezTo>
                        <a:pt x="1164328" y="3795425"/>
                        <a:pt x="1222230" y="3809038"/>
                        <a:pt x="1286933" y="3860800"/>
                      </a:cubicBezTo>
                      <a:cubicBezTo>
                        <a:pt x="1311866" y="3880746"/>
                        <a:pt x="1328100" y="3910821"/>
                        <a:pt x="1354667" y="3928533"/>
                      </a:cubicBezTo>
                      <a:cubicBezTo>
                        <a:pt x="1438370" y="3984335"/>
                        <a:pt x="1501418" y="4000029"/>
                        <a:pt x="1591733" y="4030133"/>
                      </a:cubicBezTo>
                      <a:cubicBezTo>
                        <a:pt x="1670755" y="4018844"/>
                        <a:pt x="1753072" y="4021510"/>
                        <a:pt x="1828800" y="3996267"/>
                      </a:cubicBezTo>
                      <a:cubicBezTo>
                        <a:pt x="1947678" y="3956641"/>
                        <a:pt x="1962781" y="3628192"/>
                        <a:pt x="1964267" y="3623733"/>
                      </a:cubicBezTo>
                      <a:cubicBezTo>
                        <a:pt x="1977138" y="3585119"/>
                        <a:pt x="2013797" y="3558539"/>
                        <a:pt x="2032000" y="3522133"/>
                      </a:cubicBezTo>
                      <a:cubicBezTo>
                        <a:pt x="2047965" y="3490203"/>
                        <a:pt x="2054578" y="3454400"/>
                        <a:pt x="2065867" y="3420533"/>
                      </a:cubicBezTo>
                      <a:cubicBezTo>
                        <a:pt x="2054578" y="3318933"/>
                        <a:pt x="2052048" y="3215973"/>
                        <a:pt x="2032000" y="3115733"/>
                      </a:cubicBezTo>
                      <a:cubicBezTo>
                        <a:pt x="2017998" y="3045722"/>
                        <a:pt x="1964267" y="2912533"/>
                        <a:pt x="1964267" y="2912533"/>
                      </a:cubicBezTo>
                      <a:cubicBezTo>
                        <a:pt x="2045473" y="2668911"/>
                        <a:pt x="1946942" y="2973167"/>
                        <a:pt x="2032000" y="2675467"/>
                      </a:cubicBezTo>
                      <a:cubicBezTo>
                        <a:pt x="2041807" y="2641142"/>
                        <a:pt x="2054578" y="2607734"/>
                        <a:pt x="2065867" y="2573867"/>
                      </a:cubicBezTo>
                      <a:cubicBezTo>
                        <a:pt x="1988036" y="2340376"/>
                        <a:pt x="2048618" y="2421153"/>
                        <a:pt x="1930400" y="2302933"/>
                      </a:cubicBezTo>
                      <a:cubicBezTo>
                        <a:pt x="1919111" y="2257778"/>
                        <a:pt x="1909320" y="2212221"/>
                        <a:pt x="1896533" y="2167467"/>
                      </a:cubicBezTo>
                      <a:cubicBezTo>
                        <a:pt x="1886726" y="2133142"/>
                        <a:pt x="1868536" y="2101080"/>
                        <a:pt x="1862667" y="2065867"/>
                      </a:cubicBezTo>
                      <a:cubicBezTo>
                        <a:pt x="1846052" y="1966175"/>
                        <a:pt x="1835554" y="1713597"/>
                        <a:pt x="1794933" y="1591733"/>
                      </a:cubicBezTo>
                      <a:cubicBezTo>
                        <a:pt x="1778968" y="1543839"/>
                        <a:pt x="1753174" y="1499558"/>
                        <a:pt x="1727200" y="1456267"/>
                      </a:cubicBezTo>
                      <a:cubicBezTo>
                        <a:pt x="1685317" y="1386462"/>
                        <a:pt x="1591733" y="1253067"/>
                        <a:pt x="1591733" y="1253067"/>
                      </a:cubicBezTo>
                      <a:cubicBezTo>
                        <a:pt x="1555962" y="1145753"/>
                        <a:pt x="1565165" y="1143657"/>
                        <a:pt x="1490133" y="1049867"/>
                      </a:cubicBezTo>
                      <a:cubicBezTo>
                        <a:pt x="1470187" y="1024934"/>
                        <a:pt x="1442346" y="1007066"/>
                        <a:pt x="1422400" y="982133"/>
                      </a:cubicBezTo>
                      <a:cubicBezTo>
                        <a:pt x="1396973" y="950349"/>
                        <a:pt x="1380094" y="912316"/>
                        <a:pt x="1354667" y="880533"/>
                      </a:cubicBezTo>
                      <a:cubicBezTo>
                        <a:pt x="1334721" y="855600"/>
                        <a:pt x="1306879" y="837733"/>
                        <a:pt x="1286933" y="812800"/>
                      </a:cubicBezTo>
                      <a:cubicBezTo>
                        <a:pt x="1261506" y="781017"/>
                        <a:pt x="1246241" y="741622"/>
                        <a:pt x="1219200" y="711200"/>
                      </a:cubicBezTo>
                      <a:cubicBezTo>
                        <a:pt x="1155561" y="639606"/>
                        <a:pt x="1095702" y="561134"/>
                        <a:pt x="1016000" y="508000"/>
                      </a:cubicBezTo>
                      <a:cubicBezTo>
                        <a:pt x="887833" y="422556"/>
                        <a:pt x="943181" y="469048"/>
                        <a:pt x="846667" y="372533"/>
                      </a:cubicBezTo>
                      <a:cubicBezTo>
                        <a:pt x="835378" y="338666"/>
                        <a:pt x="832602" y="300636"/>
                        <a:pt x="812800" y="270933"/>
                      </a:cubicBezTo>
                      <a:cubicBezTo>
                        <a:pt x="786233" y="231082"/>
                        <a:pt x="749006" y="198737"/>
                        <a:pt x="711200" y="169333"/>
                      </a:cubicBezTo>
                      <a:cubicBezTo>
                        <a:pt x="536524" y="33474"/>
                        <a:pt x="559693" y="51098"/>
                        <a:pt x="406400" y="0"/>
                      </a:cubicBezTo>
                      <a:cubicBezTo>
                        <a:pt x="361244" y="11289"/>
                        <a:pt x="313715" y="15532"/>
                        <a:pt x="270933" y="33867"/>
                      </a:cubicBezTo>
                      <a:cubicBezTo>
                        <a:pt x="53886" y="126887"/>
                        <a:pt x="173770" y="228415"/>
                        <a:pt x="203200" y="508000"/>
                      </a:cubicBezTo>
                      <a:cubicBezTo>
                        <a:pt x="230238" y="764856"/>
                        <a:pt x="168958" y="711013"/>
                        <a:pt x="304800" y="778933"/>
                      </a:cubicBez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8" name="任意多边形 197"/>
                <p:cNvSpPr/>
                <p:nvPr/>
              </p:nvSpPr>
              <p:spPr>
                <a:xfrm flipH="1" rot="3282600">
                  <a:off x="16647840" y="3147120"/>
                  <a:ext cx="479880" cy="213840"/>
                </a:xfrm>
                <a:custGeom>
                  <a:avLst/>
                  <a:gdLst>
                    <a:gd name="textAreaLeft" fmla="*/ -360 w 479880"/>
                    <a:gd name="textAreaRight" fmla="*/ 479880 w 479880"/>
                    <a:gd name="textAreaTop" fmla="*/ 0 h 213840"/>
                    <a:gd name="textAreaBottom" fmla="*/ 214200 h 213840"/>
                  </a:gdLst>
                  <a:ahLst/>
                  <a:rect l="textAreaLeft" t="textAreaTop" r="textAreaRight" b="textAreaBottom"/>
                  <a:pathLst>
                    <a:path w="2065867" h="4030133">
                      <a:moveTo>
                        <a:pt x="270933" y="677333"/>
                      </a:moveTo>
                      <a:cubicBezTo>
                        <a:pt x="259644" y="733778"/>
                        <a:pt x="257278" y="792770"/>
                        <a:pt x="237067" y="846667"/>
                      </a:cubicBezTo>
                      <a:cubicBezTo>
                        <a:pt x="222775" y="884778"/>
                        <a:pt x="187536" y="911861"/>
                        <a:pt x="169333" y="948267"/>
                      </a:cubicBezTo>
                      <a:cubicBezTo>
                        <a:pt x="153368" y="980197"/>
                        <a:pt x="146756" y="1016000"/>
                        <a:pt x="135467" y="1049867"/>
                      </a:cubicBezTo>
                      <a:cubicBezTo>
                        <a:pt x="124178" y="1128889"/>
                        <a:pt x="124537" y="1210475"/>
                        <a:pt x="101600" y="1286933"/>
                      </a:cubicBezTo>
                      <a:cubicBezTo>
                        <a:pt x="89904" y="1325919"/>
                        <a:pt x="52070" y="1352127"/>
                        <a:pt x="33867" y="1388533"/>
                      </a:cubicBezTo>
                      <a:cubicBezTo>
                        <a:pt x="17902" y="1420463"/>
                        <a:pt x="11289" y="1456266"/>
                        <a:pt x="0" y="1490133"/>
                      </a:cubicBezTo>
                      <a:cubicBezTo>
                        <a:pt x="11289" y="1648178"/>
                        <a:pt x="6331" y="1808231"/>
                        <a:pt x="33867" y="1964267"/>
                      </a:cubicBezTo>
                      <a:cubicBezTo>
                        <a:pt x="40941" y="2004350"/>
                        <a:pt x="77942" y="2032746"/>
                        <a:pt x="101600" y="2065867"/>
                      </a:cubicBezTo>
                      <a:cubicBezTo>
                        <a:pt x="134408" y="2111798"/>
                        <a:pt x="167065" y="2157971"/>
                        <a:pt x="203200" y="2201333"/>
                      </a:cubicBezTo>
                      <a:cubicBezTo>
                        <a:pt x="223641" y="2225862"/>
                        <a:pt x="253221" y="2242500"/>
                        <a:pt x="270933" y="2269067"/>
                      </a:cubicBezTo>
                      <a:cubicBezTo>
                        <a:pt x="298937" y="2311073"/>
                        <a:pt x="313619" y="2360700"/>
                        <a:pt x="338667" y="2404533"/>
                      </a:cubicBezTo>
                      <a:cubicBezTo>
                        <a:pt x="443708" y="2588354"/>
                        <a:pt x="378175" y="2421458"/>
                        <a:pt x="440267" y="2607733"/>
                      </a:cubicBezTo>
                      <a:cubicBezTo>
                        <a:pt x="451556" y="2686755"/>
                        <a:pt x="448890" y="2769072"/>
                        <a:pt x="474133" y="2844800"/>
                      </a:cubicBezTo>
                      <a:cubicBezTo>
                        <a:pt x="484230" y="2875091"/>
                        <a:pt x="525439" y="2885153"/>
                        <a:pt x="541867" y="2912533"/>
                      </a:cubicBezTo>
                      <a:cubicBezTo>
                        <a:pt x="692110" y="3162937"/>
                        <a:pt x="437916" y="2858793"/>
                        <a:pt x="643467" y="3115733"/>
                      </a:cubicBezTo>
                      <a:cubicBezTo>
                        <a:pt x="663413" y="3140666"/>
                        <a:pt x="691254" y="3158534"/>
                        <a:pt x="711200" y="3183467"/>
                      </a:cubicBezTo>
                      <a:cubicBezTo>
                        <a:pt x="736627" y="3215251"/>
                        <a:pt x="752130" y="3254435"/>
                        <a:pt x="778933" y="3285067"/>
                      </a:cubicBezTo>
                      <a:cubicBezTo>
                        <a:pt x="831498" y="3345141"/>
                        <a:pt x="900372" y="3390540"/>
                        <a:pt x="948267" y="3454400"/>
                      </a:cubicBezTo>
                      <a:cubicBezTo>
                        <a:pt x="982134" y="3499556"/>
                        <a:pt x="1019951" y="3542002"/>
                        <a:pt x="1049867" y="3589867"/>
                      </a:cubicBezTo>
                      <a:cubicBezTo>
                        <a:pt x="1076624" y="3632678"/>
                        <a:pt x="1089596" y="3683327"/>
                        <a:pt x="1117600" y="3725333"/>
                      </a:cubicBezTo>
                      <a:cubicBezTo>
                        <a:pt x="1164328" y="3795425"/>
                        <a:pt x="1222230" y="3809038"/>
                        <a:pt x="1286933" y="3860800"/>
                      </a:cubicBezTo>
                      <a:cubicBezTo>
                        <a:pt x="1311866" y="3880746"/>
                        <a:pt x="1328100" y="3910821"/>
                        <a:pt x="1354667" y="3928533"/>
                      </a:cubicBezTo>
                      <a:cubicBezTo>
                        <a:pt x="1438370" y="3984335"/>
                        <a:pt x="1501418" y="4000029"/>
                        <a:pt x="1591733" y="4030133"/>
                      </a:cubicBezTo>
                      <a:cubicBezTo>
                        <a:pt x="1670755" y="4018844"/>
                        <a:pt x="1753072" y="4021510"/>
                        <a:pt x="1828800" y="3996267"/>
                      </a:cubicBezTo>
                      <a:cubicBezTo>
                        <a:pt x="1947678" y="3956641"/>
                        <a:pt x="1962781" y="3628192"/>
                        <a:pt x="1964267" y="3623733"/>
                      </a:cubicBezTo>
                      <a:cubicBezTo>
                        <a:pt x="1977138" y="3585119"/>
                        <a:pt x="2013797" y="3558539"/>
                        <a:pt x="2032000" y="3522133"/>
                      </a:cubicBezTo>
                      <a:cubicBezTo>
                        <a:pt x="2047965" y="3490203"/>
                        <a:pt x="2054578" y="3454400"/>
                        <a:pt x="2065867" y="3420533"/>
                      </a:cubicBezTo>
                      <a:cubicBezTo>
                        <a:pt x="2054578" y="3318933"/>
                        <a:pt x="2052048" y="3215973"/>
                        <a:pt x="2032000" y="3115733"/>
                      </a:cubicBezTo>
                      <a:cubicBezTo>
                        <a:pt x="2017998" y="3045722"/>
                        <a:pt x="1964267" y="2912533"/>
                        <a:pt x="1964267" y="2912533"/>
                      </a:cubicBezTo>
                      <a:cubicBezTo>
                        <a:pt x="2045473" y="2668911"/>
                        <a:pt x="1946942" y="2973167"/>
                        <a:pt x="2032000" y="2675467"/>
                      </a:cubicBezTo>
                      <a:cubicBezTo>
                        <a:pt x="2041807" y="2641142"/>
                        <a:pt x="2054578" y="2607734"/>
                        <a:pt x="2065867" y="2573867"/>
                      </a:cubicBezTo>
                      <a:cubicBezTo>
                        <a:pt x="1988036" y="2340376"/>
                        <a:pt x="2048618" y="2421153"/>
                        <a:pt x="1930400" y="2302933"/>
                      </a:cubicBezTo>
                      <a:cubicBezTo>
                        <a:pt x="1919111" y="2257778"/>
                        <a:pt x="1909320" y="2212221"/>
                        <a:pt x="1896533" y="2167467"/>
                      </a:cubicBezTo>
                      <a:cubicBezTo>
                        <a:pt x="1886726" y="2133142"/>
                        <a:pt x="1868536" y="2101080"/>
                        <a:pt x="1862667" y="2065867"/>
                      </a:cubicBezTo>
                      <a:cubicBezTo>
                        <a:pt x="1846052" y="1966175"/>
                        <a:pt x="1835554" y="1713597"/>
                        <a:pt x="1794933" y="1591733"/>
                      </a:cubicBezTo>
                      <a:cubicBezTo>
                        <a:pt x="1778968" y="1543839"/>
                        <a:pt x="1753174" y="1499558"/>
                        <a:pt x="1727200" y="1456267"/>
                      </a:cubicBezTo>
                      <a:cubicBezTo>
                        <a:pt x="1685317" y="1386462"/>
                        <a:pt x="1591733" y="1253067"/>
                        <a:pt x="1591733" y="1253067"/>
                      </a:cubicBezTo>
                      <a:cubicBezTo>
                        <a:pt x="1555962" y="1145753"/>
                        <a:pt x="1565165" y="1143657"/>
                        <a:pt x="1490133" y="1049867"/>
                      </a:cubicBezTo>
                      <a:cubicBezTo>
                        <a:pt x="1470187" y="1024934"/>
                        <a:pt x="1442346" y="1007066"/>
                        <a:pt x="1422400" y="982133"/>
                      </a:cubicBezTo>
                      <a:cubicBezTo>
                        <a:pt x="1396973" y="950349"/>
                        <a:pt x="1380094" y="912316"/>
                        <a:pt x="1354667" y="880533"/>
                      </a:cubicBezTo>
                      <a:cubicBezTo>
                        <a:pt x="1334721" y="855600"/>
                        <a:pt x="1306879" y="837733"/>
                        <a:pt x="1286933" y="812800"/>
                      </a:cubicBezTo>
                      <a:cubicBezTo>
                        <a:pt x="1261506" y="781017"/>
                        <a:pt x="1246241" y="741622"/>
                        <a:pt x="1219200" y="711200"/>
                      </a:cubicBezTo>
                      <a:cubicBezTo>
                        <a:pt x="1155561" y="639606"/>
                        <a:pt x="1095702" y="561134"/>
                        <a:pt x="1016000" y="508000"/>
                      </a:cubicBezTo>
                      <a:cubicBezTo>
                        <a:pt x="887833" y="422556"/>
                        <a:pt x="943181" y="469048"/>
                        <a:pt x="846667" y="372533"/>
                      </a:cubicBezTo>
                      <a:cubicBezTo>
                        <a:pt x="835378" y="338666"/>
                        <a:pt x="832602" y="300636"/>
                        <a:pt x="812800" y="270933"/>
                      </a:cubicBezTo>
                      <a:cubicBezTo>
                        <a:pt x="786233" y="231082"/>
                        <a:pt x="749006" y="198737"/>
                        <a:pt x="711200" y="169333"/>
                      </a:cubicBezTo>
                      <a:cubicBezTo>
                        <a:pt x="536524" y="33474"/>
                        <a:pt x="559693" y="51098"/>
                        <a:pt x="406400" y="0"/>
                      </a:cubicBezTo>
                      <a:cubicBezTo>
                        <a:pt x="361244" y="11289"/>
                        <a:pt x="313715" y="15532"/>
                        <a:pt x="270933" y="33867"/>
                      </a:cubicBezTo>
                      <a:cubicBezTo>
                        <a:pt x="53886" y="126887"/>
                        <a:pt x="173770" y="228415"/>
                        <a:pt x="203200" y="508000"/>
                      </a:cubicBezTo>
                      <a:cubicBezTo>
                        <a:pt x="230238" y="764856"/>
                        <a:pt x="168958" y="711013"/>
                        <a:pt x="304800" y="778933"/>
                      </a:cubicBezTo>
                    </a:path>
                  </a:pathLst>
                </a:custGeom>
                <a:solidFill>
                  <a:srgbClr val="f2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9" name="任意多边形 195"/>
              <p:cNvSpPr/>
              <p:nvPr/>
            </p:nvSpPr>
            <p:spPr>
              <a:xfrm flipH="1">
                <a:off x="16282080" y="3415680"/>
                <a:ext cx="307080" cy="264240"/>
              </a:xfrm>
              <a:custGeom>
                <a:avLst/>
                <a:gdLst>
                  <a:gd name="textAreaLeft" fmla="*/ -360 w 307080"/>
                  <a:gd name="textAreaRight" fmla="*/ 307080 w 307080"/>
                  <a:gd name="textAreaTop" fmla="*/ 0 h 264240"/>
                  <a:gd name="textAreaBottom" fmla="*/ 264600 h 264240"/>
                </a:gdLst>
                <a:ahLst/>
                <a:rect l="textAreaLeft" t="textAreaTop" r="textAreaRight" b="textAreaBottom"/>
                <a:pathLst>
                  <a:path w="307238" h="264197">
                    <a:moveTo>
                      <a:pt x="80467" y="849"/>
                    </a:moveTo>
                    <a:cubicBezTo>
                      <a:pt x="98755" y="6945"/>
                      <a:pt x="153179" y="38924"/>
                      <a:pt x="190195" y="66686"/>
                    </a:cubicBezTo>
                    <a:cubicBezTo>
                      <a:pt x="207853" y="79930"/>
                      <a:pt x="205064" y="85272"/>
                      <a:pt x="219456" y="103262"/>
                    </a:cubicBezTo>
                    <a:cubicBezTo>
                      <a:pt x="223764" y="108648"/>
                      <a:pt x="229209" y="113016"/>
                      <a:pt x="234086" y="117893"/>
                    </a:cubicBezTo>
                    <a:cubicBezTo>
                      <a:pt x="246789" y="156003"/>
                      <a:pt x="233080" y="125779"/>
                      <a:pt x="256032" y="154469"/>
                    </a:cubicBezTo>
                    <a:cubicBezTo>
                      <a:pt x="261524" y="161334"/>
                      <a:pt x="263029" y="172052"/>
                      <a:pt x="270662" y="176414"/>
                    </a:cubicBezTo>
                    <a:cubicBezTo>
                      <a:pt x="281457" y="182583"/>
                      <a:pt x="295046" y="181291"/>
                      <a:pt x="307238" y="183729"/>
                    </a:cubicBezTo>
                    <a:cubicBezTo>
                      <a:pt x="299923" y="186168"/>
                      <a:pt x="292189" y="187596"/>
                      <a:pt x="285292" y="191045"/>
                    </a:cubicBezTo>
                    <a:cubicBezTo>
                      <a:pt x="277429" y="194977"/>
                      <a:pt x="271428" y="202212"/>
                      <a:pt x="263347" y="205675"/>
                    </a:cubicBezTo>
                    <a:cubicBezTo>
                      <a:pt x="254106" y="209635"/>
                      <a:pt x="243840" y="210552"/>
                      <a:pt x="234086" y="212990"/>
                    </a:cubicBezTo>
                    <a:cubicBezTo>
                      <a:pt x="178283" y="268793"/>
                      <a:pt x="243125" y="210494"/>
                      <a:pt x="190195" y="242251"/>
                    </a:cubicBezTo>
                    <a:cubicBezTo>
                      <a:pt x="139983" y="272377"/>
                      <a:pt x="215791" y="243470"/>
                      <a:pt x="153619" y="264197"/>
                    </a:cubicBezTo>
                    <a:cubicBezTo>
                      <a:pt x="117043" y="261758"/>
                      <a:pt x="79675" y="264833"/>
                      <a:pt x="43891" y="256881"/>
                    </a:cubicBezTo>
                    <a:cubicBezTo>
                      <a:pt x="33792" y="254637"/>
                      <a:pt x="29892" y="241559"/>
                      <a:pt x="21945" y="234936"/>
                    </a:cubicBezTo>
                    <a:cubicBezTo>
                      <a:pt x="15191" y="229308"/>
                      <a:pt x="7315" y="225182"/>
                      <a:pt x="0" y="220305"/>
                    </a:cubicBezTo>
                    <a:cubicBezTo>
                      <a:pt x="2438" y="198360"/>
                      <a:pt x="1960" y="175890"/>
                      <a:pt x="7315" y="154469"/>
                    </a:cubicBezTo>
                    <a:cubicBezTo>
                      <a:pt x="9447" y="145940"/>
                      <a:pt x="18013" y="140387"/>
                      <a:pt x="21945" y="132523"/>
                    </a:cubicBezTo>
                    <a:cubicBezTo>
                      <a:pt x="40936" y="94540"/>
                      <a:pt x="15315" y="124521"/>
                      <a:pt x="43891" y="95947"/>
                    </a:cubicBezTo>
                    <a:cubicBezTo>
                      <a:pt x="50393" y="76440"/>
                      <a:pt x="53783" y="62820"/>
                      <a:pt x="65836" y="44741"/>
                    </a:cubicBezTo>
                    <a:cubicBezTo>
                      <a:pt x="69662" y="39002"/>
                      <a:pt x="76158" y="35496"/>
                      <a:pt x="80467" y="30110"/>
                    </a:cubicBezTo>
                    <a:cubicBezTo>
                      <a:pt x="85959" y="23245"/>
                      <a:pt x="62179" y="-5247"/>
                      <a:pt x="80467" y="84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60" name="五角星 215"/>
          <p:cNvSpPr/>
          <p:nvPr/>
        </p:nvSpPr>
        <p:spPr>
          <a:xfrm>
            <a:off x="10620360" y="1347840"/>
            <a:ext cx="3102120" cy="2789280"/>
          </a:xfrm>
          <a:prstGeom prst="star5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1" name=""/>
          <p:cNvGrpSpPr/>
          <p:nvPr/>
        </p:nvGrpSpPr>
        <p:grpSpPr>
          <a:xfrm>
            <a:off x="4140360" y="1995480"/>
            <a:ext cx="863280" cy="824040"/>
            <a:chOff x="4140360" y="1995480"/>
            <a:chExt cx="863280" cy="824040"/>
          </a:xfrm>
        </p:grpSpPr>
        <p:sp>
          <p:nvSpPr>
            <p:cNvPr id="362" name="五角星 70"/>
            <p:cNvSpPr/>
            <p:nvPr/>
          </p:nvSpPr>
          <p:spPr>
            <a:xfrm>
              <a:off x="4140360" y="1995480"/>
              <a:ext cx="863280" cy="824040"/>
            </a:xfrm>
            <a:prstGeom prst="star5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3" name=""/>
            <p:cNvGrpSpPr/>
            <p:nvPr/>
          </p:nvGrpSpPr>
          <p:grpSpPr>
            <a:xfrm>
              <a:off x="4339800" y="2210760"/>
              <a:ext cx="481680" cy="469080"/>
              <a:chOff x="4339800" y="2210760"/>
              <a:chExt cx="481680" cy="469080"/>
            </a:xfrm>
          </p:grpSpPr>
          <p:sp>
            <p:nvSpPr>
              <p:cNvPr id="364" name="十字星 100"/>
              <p:cNvSpPr/>
              <p:nvPr/>
            </p:nvSpPr>
            <p:spPr>
              <a:xfrm>
                <a:off x="4436280" y="2299320"/>
                <a:ext cx="289080" cy="290160"/>
              </a:xfrm>
              <a:custGeom>
                <a:avLst/>
                <a:gdLst>
                  <a:gd name="textAreaLeft" fmla="*/ 42840 w 289080"/>
                  <a:gd name="textAreaRight" fmla="*/ 246240 w 289080"/>
                  <a:gd name="textAreaTop" fmla="*/ 42840 h 290160"/>
                  <a:gd name="textAreaBottom" fmla="*/ 247320 h 290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3200" y="3200"/>
                    </a:lnTo>
                    <a:lnTo>
                      <a:pt x="10800" y="0"/>
                    </a:lnTo>
                    <a:lnTo>
                      <a:pt x="18400" y="3200"/>
                    </a:lnTo>
                    <a:lnTo>
                      <a:pt x="21600" y="10800"/>
                    </a:lnTo>
                    <a:lnTo>
                      <a:pt x="18400" y="18400"/>
                    </a:lnTo>
                    <a:lnTo>
                      <a:pt x="10800" y="21600"/>
                    </a:lnTo>
                    <a:lnTo>
                      <a:pt x="3200" y="18400"/>
                    </a:lnTo>
                    <a:lnTo>
                      <a:pt x="0" y="10800"/>
                    </a:lnTo>
                    <a:close/>
                  </a:path>
                </a:pathLst>
              </a:custGeom>
              <a:noFill/>
              <a:ln w="9360">
                <a:solidFill>
                  <a:srgbClr val="ffffff">
                    <a:alpha val="75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十字星 101"/>
              <p:cNvSpPr/>
              <p:nvPr/>
            </p:nvSpPr>
            <p:spPr>
              <a:xfrm>
                <a:off x="4512960" y="2379960"/>
                <a:ext cx="137520" cy="137880"/>
              </a:xfrm>
              <a:custGeom>
                <a:avLst/>
                <a:gdLst>
                  <a:gd name="textAreaLeft" fmla="*/ 20160 w 137520"/>
                  <a:gd name="textAreaRight" fmla="*/ 117360 w 137520"/>
                  <a:gd name="textAreaTop" fmla="*/ 20160 h 137880"/>
                  <a:gd name="textAreaBottom" fmla="*/ 117720 h 137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3200" y="3200"/>
                    </a:lnTo>
                    <a:lnTo>
                      <a:pt x="10800" y="0"/>
                    </a:lnTo>
                    <a:lnTo>
                      <a:pt x="18400" y="3200"/>
                    </a:lnTo>
                    <a:lnTo>
                      <a:pt x="21600" y="10800"/>
                    </a:lnTo>
                    <a:lnTo>
                      <a:pt x="18400" y="18400"/>
                    </a:lnTo>
                    <a:lnTo>
                      <a:pt x="10800" y="21600"/>
                    </a:lnTo>
                    <a:lnTo>
                      <a:pt x="3200" y="18400"/>
                    </a:lnTo>
                    <a:lnTo>
                      <a:pt x="0" y="10800"/>
                    </a:lnTo>
                    <a:close/>
                  </a:path>
                </a:pathLst>
              </a:custGeom>
              <a:noFill/>
              <a:ln w="9360">
                <a:solidFill>
                  <a:srgbClr val="ffffff">
                    <a:alpha val="75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任意多边形 102"/>
              <p:cNvSpPr/>
              <p:nvPr/>
            </p:nvSpPr>
            <p:spPr>
              <a:xfrm>
                <a:off x="4677120" y="2396520"/>
                <a:ext cx="23400" cy="99360"/>
              </a:xfrm>
              <a:custGeom>
                <a:avLst/>
                <a:gdLst>
                  <a:gd name="textAreaLeft" fmla="*/ 0 w 23400"/>
                  <a:gd name="textAreaRight" fmla="*/ 23760 w 23400"/>
                  <a:gd name="textAreaTop" fmla="*/ 0 h 99360"/>
                  <a:gd name="textAreaBottom" fmla="*/ 99720 h 99360"/>
                </a:gdLst>
                <a:ahLst/>
                <a:rect l="textAreaLeft" t="textAreaTop" r="textAreaRight" b="textAreaBottom"/>
                <a:pathLst>
                  <a:path w="105196" h="445062">
                    <a:moveTo>
                      <a:pt x="0" y="0"/>
                    </a:moveTo>
                    <a:lnTo>
                      <a:pt x="105196" y="218485"/>
                    </a:lnTo>
                    <a:lnTo>
                      <a:pt x="8092" y="445062"/>
                    </a:lnTo>
                  </a:path>
                </a:pathLst>
              </a:custGeom>
              <a:noFill/>
              <a:ln w="9360">
                <a:solidFill>
                  <a:srgbClr val="ffffff">
                    <a:alpha val="75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任意多边形 112"/>
              <p:cNvSpPr/>
              <p:nvPr/>
            </p:nvSpPr>
            <p:spPr>
              <a:xfrm flipH="1">
                <a:off x="4467600" y="2396160"/>
                <a:ext cx="23400" cy="9936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99360"/>
                  <a:gd name="textAreaBottom" fmla="*/ 99720 h 99360"/>
                </a:gdLst>
                <a:ahLst/>
                <a:rect l="textAreaLeft" t="textAreaTop" r="textAreaRight" b="textAreaBottom"/>
                <a:pathLst>
                  <a:path w="105196" h="445062">
                    <a:moveTo>
                      <a:pt x="0" y="0"/>
                    </a:moveTo>
                    <a:lnTo>
                      <a:pt x="105196" y="218485"/>
                    </a:lnTo>
                    <a:lnTo>
                      <a:pt x="8092" y="445062"/>
                    </a:lnTo>
                  </a:path>
                </a:pathLst>
              </a:custGeom>
              <a:noFill/>
              <a:ln w="9360">
                <a:solidFill>
                  <a:srgbClr val="ffffff">
                    <a:alpha val="75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任意多边形 113"/>
              <p:cNvSpPr/>
              <p:nvPr/>
            </p:nvSpPr>
            <p:spPr>
              <a:xfrm flipH="1" rot="16200000">
                <a:off x="4570920" y="2495520"/>
                <a:ext cx="23400" cy="9936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99360"/>
                  <a:gd name="textAreaBottom" fmla="*/ 99720 h 99360"/>
                </a:gdLst>
                <a:ahLst/>
                <a:rect l="textAreaLeft" t="textAreaTop" r="textAreaRight" b="textAreaBottom"/>
                <a:pathLst>
                  <a:path w="105196" h="445062">
                    <a:moveTo>
                      <a:pt x="0" y="0"/>
                    </a:moveTo>
                    <a:lnTo>
                      <a:pt x="105196" y="218485"/>
                    </a:lnTo>
                    <a:lnTo>
                      <a:pt x="8092" y="445062"/>
                    </a:lnTo>
                  </a:path>
                </a:pathLst>
              </a:custGeom>
              <a:noFill/>
              <a:ln w="9360">
                <a:solidFill>
                  <a:srgbClr val="ffffff">
                    <a:alpha val="75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任意多边形 114"/>
              <p:cNvSpPr/>
              <p:nvPr/>
            </p:nvSpPr>
            <p:spPr>
              <a:xfrm flipH="1" flipV="1" rot="5400000">
                <a:off x="4572360" y="2296440"/>
                <a:ext cx="23400" cy="9936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360 h 99360"/>
                  <a:gd name="textAreaBottom" fmla="*/ 100080 h 99360"/>
                </a:gdLst>
                <a:ahLst/>
                <a:rect l="textAreaLeft" t="textAreaTop" r="textAreaRight" b="textAreaBottom"/>
                <a:pathLst>
                  <a:path w="105196" h="445062">
                    <a:moveTo>
                      <a:pt x="0" y="0"/>
                    </a:moveTo>
                    <a:lnTo>
                      <a:pt x="105196" y="218485"/>
                    </a:lnTo>
                    <a:lnTo>
                      <a:pt x="8092" y="445062"/>
                    </a:lnTo>
                  </a:path>
                </a:pathLst>
              </a:custGeom>
              <a:noFill/>
              <a:ln w="9360">
                <a:solidFill>
                  <a:srgbClr val="ffffff">
                    <a:alpha val="75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70" name=""/>
              <p:cNvGrpSpPr/>
              <p:nvPr/>
            </p:nvGrpSpPr>
            <p:grpSpPr>
              <a:xfrm>
                <a:off x="4339800" y="2396160"/>
                <a:ext cx="481680" cy="101160"/>
                <a:chOff x="4339800" y="2396160"/>
                <a:chExt cx="481680" cy="101160"/>
              </a:xfrm>
            </p:grpSpPr>
            <p:sp>
              <p:nvSpPr>
                <p:cNvPr id="371" name="直接连接符 125"/>
                <p:cNvSpPr/>
                <p:nvPr/>
              </p:nvSpPr>
              <p:spPr>
                <a:xfrm flipH="1">
                  <a:off x="4344840" y="2444400"/>
                  <a:ext cx="466200" cy="720"/>
                </a:xfrm>
                <a:prstGeom prst="line">
                  <a:avLst/>
                </a:prstGeom>
                <a:ln w="9360">
                  <a:solidFill>
                    <a:srgbClr val="ffffff">
                      <a:alpha val="75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2" name="任意多边形 126"/>
                <p:cNvSpPr/>
                <p:nvPr/>
              </p:nvSpPr>
              <p:spPr>
                <a:xfrm flipH="1">
                  <a:off x="4797720" y="2396160"/>
                  <a:ext cx="23400" cy="9936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99360"/>
                    <a:gd name="textAreaBottom" fmla="*/ 99720 h 99360"/>
                  </a:gdLst>
                  <a:ahLst/>
                  <a:rect l="textAreaLeft" t="textAreaTop" r="textAreaRight" b="textAreaBottom"/>
                  <a:pathLst>
                    <a:path w="105196" h="445062">
                      <a:moveTo>
                        <a:pt x="0" y="0"/>
                      </a:moveTo>
                      <a:lnTo>
                        <a:pt x="105196" y="218485"/>
                      </a:lnTo>
                      <a:lnTo>
                        <a:pt x="8092" y="445062"/>
                      </a:lnTo>
                    </a:path>
                  </a:pathLst>
                </a:custGeom>
                <a:noFill/>
                <a:ln w="9360">
                  <a:solidFill>
                    <a:srgbClr val="ffffff">
                      <a:alpha val="75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3" name="任意多边形 127"/>
                <p:cNvSpPr/>
                <p:nvPr/>
              </p:nvSpPr>
              <p:spPr>
                <a:xfrm>
                  <a:off x="4339800" y="2397960"/>
                  <a:ext cx="23400" cy="99360"/>
                </a:xfrm>
                <a:custGeom>
                  <a:avLst/>
                  <a:gdLst>
                    <a:gd name="textAreaLeft" fmla="*/ 0 w 23400"/>
                    <a:gd name="textAreaRight" fmla="*/ 23760 w 23400"/>
                    <a:gd name="textAreaTop" fmla="*/ 0 h 99360"/>
                    <a:gd name="textAreaBottom" fmla="*/ 99720 h 99360"/>
                  </a:gdLst>
                  <a:ahLst/>
                  <a:rect l="textAreaLeft" t="textAreaTop" r="textAreaRight" b="textAreaBottom"/>
                  <a:pathLst>
                    <a:path w="105196" h="445062">
                      <a:moveTo>
                        <a:pt x="0" y="0"/>
                      </a:moveTo>
                      <a:lnTo>
                        <a:pt x="105196" y="218485"/>
                      </a:lnTo>
                      <a:lnTo>
                        <a:pt x="8092" y="445062"/>
                      </a:lnTo>
                    </a:path>
                  </a:pathLst>
                </a:custGeom>
                <a:noFill/>
                <a:ln w="9360">
                  <a:solidFill>
                    <a:srgbClr val="ffffff">
                      <a:alpha val="75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74" name="六边形 116"/>
              <p:cNvSpPr/>
              <p:nvPr/>
            </p:nvSpPr>
            <p:spPr>
              <a:xfrm>
                <a:off x="4387680" y="2266200"/>
                <a:ext cx="385920" cy="351000"/>
              </a:xfrm>
              <a:prstGeom prst="hexagon">
                <a:avLst>
                  <a:gd name="adj" fmla="val 24937"/>
                  <a:gd name="vf" fmla="val 115470"/>
                </a:avLst>
              </a:prstGeom>
              <a:noFill/>
              <a:ln w="9360">
                <a:solidFill>
                  <a:srgbClr val="ffffff">
                    <a:alpha val="75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75" name=""/>
              <p:cNvGrpSpPr/>
              <p:nvPr/>
            </p:nvGrpSpPr>
            <p:grpSpPr>
              <a:xfrm>
                <a:off x="4412160" y="2212560"/>
                <a:ext cx="329400" cy="467280"/>
                <a:chOff x="4412160" y="2212560"/>
                <a:chExt cx="329400" cy="467280"/>
              </a:xfrm>
            </p:grpSpPr>
            <p:sp>
              <p:nvSpPr>
                <p:cNvPr id="376" name="直接连接符 122"/>
                <p:cNvSpPr/>
                <p:nvPr/>
              </p:nvSpPr>
              <p:spPr>
                <a:xfrm flipH="1" flipV="1">
                  <a:off x="4460040" y="2240640"/>
                  <a:ext cx="234360" cy="404640"/>
                </a:xfrm>
                <a:prstGeom prst="line">
                  <a:avLst/>
                </a:prstGeom>
                <a:ln w="9360">
                  <a:solidFill>
                    <a:srgbClr val="ffffff">
                      <a:alpha val="75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7" name="任意多边形 123"/>
                <p:cNvSpPr/>
                <p:nvPr/>
              </p:nvSpPr>
              <p:spPr>
                <a:xfrm flipH="1" rot="3600000">
                  <a:off x="4680720" y="2594880"/>
                  <a:ext cx="23400" cy="9936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99360"/>
                    <a:gd name="textAreaBottom" fmla="*/ 99720 h 99360"/>
                  </a:gdLst>
                  <a:ahLst/>
                  <a:rect l="textAreaLeft" t="textAreaTop" r="textAreaRight" b="textAreaBottom"/>
                  <a:pathLst>
                    <a:path w="105196" h="445062">
                      <a:moveTo>
                        <a:pt x="0" y="0"/>
                      </a:moveTo>
                      <a:lnTo>
                        <a:pt x="105196" y="218485"/>
                      </a:lnTo>
                      <a:lnTo>
                        <a:pt x="8092" y="445062"/>
                      </a:lnTo>
                    </a:path>
                  </a:pathLst>
                </a:custGeom>
                <a:noFill/>
                <a:ln w="9360">
                  <a:solidFill>
                    <a:srgbClr val="ffffff">
                      <a:alpha val="75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8" name="任意多边形 124"/>
                <p:cNvSpPr/>
                <p:nvPr/>
              </p:nvSpPr>
              <p:spPr>
                <a:xfrm rot="3600000">
                  <a:off x="4449240" y="2197800"/>
                  <a:ext cx="23400" cy="99360"/>
                </a:xfrm>
                <a:custGeom>
                  <a:avLst/>
                  <a:gdLst>
                    <a:gd name="textAreaLeft" fmla="*/ 0 w 23400"/>
                    <a:gd name="textAreaRight" fmla="*/ 23760 w 23400"/>
                    <a:gd name="textAreaTop" fmla="*/ 0 h 99360"/>
                    <a:gd name="textAreaBottom" fmla="*/ 99720 h 99360"/>
                  </a:gdLst>
                  <a:ahLst/>
                  <a:rect l="textAreaLeft" t="textAreaTop" r="textAreaRight" b="textAreaBottom"/>
                  <a:pathLst>
                    <a:path w="105196" h="445062">
                      <a:moveTo>
                        <a:pt x="0" y="0"/>
                      </a:moveTo>
                      <a:lnTo>
                        <a:pt x="105196" y="218485"/>
                      </a:lnTo>
                      <a:lnTo>
                        <a:pt x="8092" y="445062"/>
                      </a:lnTo>
                    </a:path>
                  </a:pathLst>
                </a:custGeom>
                <a:noFill/>
                <a:ln w="9360">
                  <a:solidFill>
                    <a:srgbClr val="ffffff">
                      <a:alpha val="75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79" name=""/>
              <p:cNvGrpSpPr/>
              <p:nvPr/>
            </p:nvGrpSpPr>
            <p:grpSpPr>
              <a:xfrm>
                <a:off x="4419720" y="2210760"/>
                <a:ext cx="329400" cy="468360"/>
                <a:chOff x="4419720" y="2210760"/>
                <a:chExt cx="329400" cy="468360"/>
              </a:xfrm>
            </p:grpSpPr>
            <p:sp>
              <p:nvSpPr>
                <p:cNvPr id="380" name="直接连接符 119"/>
                <p:cNvSpPr/>
                <p:nvPr/>
              </p:nvSpPr>
              <p:spPr>
                <a:xfrm flipV="1">
                  <a:off x="4466880" y="2238840"/>
                  <a:ext cx="234360" cy="404640"/>
                </a:xfrm>
                <a:prstGeom prst="line">
                  <a:avLst/>
                </a:prstGeom>
                <a:ln w="9360">
                  <a:solidFill>
                    <a:srgbClr val="ffffff">
                      <a:alpha val="75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1" name="任意多边形 120"/>
                <p:cNvSpPr/>
                <p:nvPr/>
              </p:nvSpPr>
              <p:spPr>
                <a:xfrm rot="18000000">
                  <a:off x="4456800" y="2593440"/>
                  <a:ext cx="23400" cy="99720"/>
                </a:xfrm>
                <a:custGeom>
                  <a:avLst/>
                  <a:gdLst>
                    <a:gd name="textAreaLeft" fmla="*/ 0 w 23400"/>
                    <a:gd name="textAreaRight" fmla="*/ 23760 w 23400"/>
                    <a:gd name="textAreaTop" fmla="*/ 0 h 99720"/>
                    <a:gd name="textAreaBottom" fmla="*/ 100080 h 99720"/>
                  </a:gdLst>
                  <a:ahLst/>
                  <a:rect l="textAreaLeft" t="textAreaTop" r="textAreaRight" b="textAreaBottom"/>
                  <a:pathLst>
                    <a:path w="105196" h="445062">
                      <a:moveTo>
                        <a:pt x="0" y="0"/>
                      </a:moveTo>
                      <a:lnTo>
                        <a:pt x="105196" y="218485"/>
                      </a:lnTo>
                      <a:lnTo>
                        <a:pt x="8092" y="445062"/>
                      </a:lnTo>
                    </a:path>
                  </a:pathLst>
                </a:custGeom>
                <a:noFill/>
                <a:ln w="9360">
                  <a:solidFill>
                    <a:srgbClr val="ffffff">
                      <a:alpha val="75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2" name="任意多边形 121"/>
                <p:cNvSpPr/>
                <p:nvPr/>
              </p:nvSpPr>
              <p:spPr>
                <a:xfrm flipH="1" rot="18000000">
                  <a:off x="4688280" y="2196000"/>
                  <a:ext cx="23400" cy="9972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99720"/>
                    <a:gd name="textAreaBottom" fmla="*/ 100080 h 99720"/>
                  </a:gdLst>
                  <a:ahLst/>
                  <a:rect l="textAreaLeft" t="textAreaTop" r="textAreaRight" b="textAreaBottom"/>
                  <a:pathLst>
                    <a:path w="105196" h="445062">
                      <a:moveTo>
                        <a:pt x="0" y="0"/>
                      </a:moveTo>
                      <a:lnTo>
                        <a:pt x="105196" y="218485"/>
                      </a:lnTo>
                      <a:lnTo>
                        <a:pt x="8092" y="445062"/>
                      </a:lnTo>
                    </a:path>
                  </a:pathLst>
                </a:custGeom>
                <a:noFill/>
                <a:ln w="9360">
                  <a:solidFill>
                    <a:srgbClr val="ffffff">
                      <a:alpha val="75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83" name="五角星 143"/>
          <p:cNvSpPr/>
          <p:nvPr/>
        </p:nvSpPr>
        <p:spPr>
          <a:xfrm>
            <a:off x="1087560" y="195120"/>
            <a:ext cx="3268440" cy="3113280"/>
          </a:xfrm>
          <a:prstGeom prst="star5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五角星 144"/>
          <p:cNvSpPr/>
          <p:nvPr/>
        </p:nvSpPr>
        <p:spPr>
          <a:xfrm>
            <a:off x="3854520" y="1440000"/>
            <a:ext cx="1869840" cy="1779480"/>
          </a:xfrm>
          <a:prstGeom prst="star5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withEffect" fill="hold" presetClass="emph" presetID="26" repeatCount="200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7" dur="5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8" dur="2500" autoRev="1" fill="hold"/>
                                        <p:tgtEl>
                                          <p:spTgt spid="28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" dur="1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" dur="1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4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xit" presetID="10">
                                  <p:stCondLst>
                                    <p:cond delay="2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9" dur="43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299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path" presetID="0">
                                  <p:stCondLst>
                                    <p:cond delay="4000"/>
                                  </p:stCondLst>
                                  <p:childTnLst>
                                    <p:animMotion origin="layout" path="M 0 0 L -0.64079 0.00031 E">
                                      <p:cBhvr>
                                        <p:cTn id="152" dur="6000" fill="hold"/>
                                        <p:tgtEl>
                                          <p:spTgt spid="2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3" nodeType="withEffect" fill="hold" presetClass="path" presetID="0">
                                  <p:stCondLst>
                                    <p:cond delay="4000"/>
                                  </p:stCondLst>
                                  <p:childTnLst>
                                    <p:animMotion origin="layout" path="M 0 0 L -0.64079 0.00031 E">
                                      <p:cBhvr>
                                        <p:cTn id="154" dur="6000" fill="hold"/>
                                        <p:tgtEl>
                                          <p:spTgt spid="2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5" nodeType="withEffect" fill="hold" presetClass="path" presetID="0">
                                  <p:stCondLst>
                                    <p:cond delay="4000"/>
                                  </p:stCondLst>
                                  <p:childTnLst>
                                    <p:animMotion origin="layout" path="M 1.11111E-006 -9.14145E-007 L -0.96076 0.00124 E">
                                      <p:cBhvr>
                                        <p:cTn id="156" dur="6000" fill="hold"/>
                                        <p:tgtEl>
                                          <p:spTgt spid="2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7" nodeType="withEffect" fill="hold" presetClass="path" presetID="0">
                                  <p:stCondLst>
                                    <p:cond delay="4000"/>
                                  </p:stCondLst>
                                  <p:childTnLst>
                                    <p:animMotion origin="layout" path="M 1.11111E-006 -9.14145E-007 L -0.96076 0.00124 E">
                                      <p:cBhvr>
                                        <p:cTn id="158" dur="6000" fill="hold"/>
                                        <p:tgtEl>
                                          <p:spTgt spid="2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9" nodeType="withEffect" fill="hold" presetClass="path" presetID="0">
                                  <p:stCondLst>
                                    <p:cond delay="4000"/>
                                  </p:stCondLst>
                                  <p:childTnLst>
                                    <p:animMotion origin="layout" path="M 5E-006 -4.23812E-006 L -0.9698 0.05491 E">
                                      <p:cBhvr>
                                        <p:cTn id="160" dur="6000" fill="hold"/>
                                        <p:tgtEl>
                                          <p:spTgt spid="2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1" nodeType="withEffect" fill="hold" presetClass="path" presetID="0">
                                  <p:stCondLst>
                                    <p:cond delay="4000"/>
                                  </p:stCondLst>
                                  <p:childTnLst>
                                    <p:animMotion origin="layout" path="M 4.16667E-006 1.79519E-006 L -1.07934 0.04873 E">
                                      <p:cBhvr>
                                        <p:cTn id="162" dur="6000" fill="hold"/>
                                        <p:tgtEl>
                                          <p:spTgt spid="2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3" nodeType="withEffect" fill="hold" presetClass="path" presetID="0">
                                  <p:stCondLst>
                                    <p:cond delay="4000"/>
                                  </p:stCondLst>
                                  <p:childTnLst>
                                    <p:animMotion origin="layout" path="M 3.05556E-006 -2.14682E-006 L -0.96667 0.07125 E">
                                      <p:cBhvr>
                                        <p:cTn id="164" dur="6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5" nodeType="withEffect" fill="hold" presetClass="path" presetID="0">
                                  <p:stCondLst>
                                    <p:cond delay="4000"/>
                                  </p:stCondLst>
                                  <p:childTnLst>
                                    <p:animMotion origin="layout" path="M 1.11111E-006 -9.14145E-007 L -0.96076 0.00124 E">
                                      <p:cBhvr>
                                        <p:cTn id="166" dur="6000" fill="hold"/>
                                        <p:tgtEl>
                                          <p:spTgt spid="3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8" dur="10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3.13483E-006 L -0.05521 0.04196 L -0.11806 0.05615 C -0.13507 0.05615 -0.14566 0.05122 -0.15747 0.04196 C -0.16927 0.0327 -0.18125 0.01851 -0.18906 3.13483E-006 C -0.19687 -0.01852 -0.20208 -0.0469 -0.20469 -0.07004 C -0.20729 -0.09318 -0.20729 -0.12126 -0.20469 -0.13977 C -0.20208 -0.15829 -0.19826 -0.16785 -0.18906 -0.18174 C -0.17986 -0.19562 -0.16146 -0.2166 -0.14965 -0.2237 C -0.13785 -0.2308 -0.12847 -0.22833 -0.11806 -0.2237 C -0.10764 -0.21907 -0.09583 -0.20766 -0.08663 -0.19593 C -0.07743 -0.18421 -0.07222 -0.17495 -0.06302 -0.15397 C -0.05382 -0.13299 -0.04184 -0.09565 -0.03142 -0.07004 L 0 3.13483E-006 Z">
                                      <p:cBhvr>
                                        <p:cTn id="170" dur="9900" fill="hold"/>
                                        <p:tgtEl>
                                          <p:spTgt spid="3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1" nodeType="withEffect" fill="hold" presetClass="exit" presetID="10">
                                  <p:stCondLst>
                                    <p:cond delay="7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72" dur="2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2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nodeType="withEffect" fill="hold" presetClass="exit" presetID="10">
                                  <p:stCondLst>
                                    <p:cond delay="7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75" dur="2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24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xit" presetID="10">
                                  <p:stCondLst>
                                    <p:cond delay="7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78" dur="2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2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" dur="1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84" dur="1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">
                                  <p:stCondLst>
                                    <p:cond delay="460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0">
                                  <p:stCondLst>
                                    <p:cond delay="460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" dur="1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xit" presetID="10">
                                  <p:stCondLst>
                                    <p:cond delay="74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92" dur="1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" nodeType="withEffect" fill="hold" presetClass="path" presetID="0">
                                  <p:stCondLst>
                                    <p:cond delay="4000"/>
                                  </p:stCondLst>
                                  <p:childTnLst>
                                    <p:animMotion origin="layout" path="M 1.11111E-006 -9.14145E-007 L -0.96076 0.00124 E">
                                      <p:cBhvr>
                                        <p:cTn id="195" dur="6000" fill="hold"/>
                                        <p:tgtEl>
                                          <p:spTgt spid="2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6" nodeType="withEffect" fill="hold" presetClass="path" presetID="0">
                                  <p:stCondLst>
                                    <p:cond delay="4000"/>
                                  </p:stCondLst>
                                  <p:childTnLst>
                                    <p:animMotion origin="layout" path="M 1.11111E-006 -9.14145E-007 L -0.96076 0.00124 E">
                                      <p:cBhvr>
                                        <p:cTn id="197" dur="6000" fill="hold"/>
                                        <p:tgtEl>
                                          <p:spTgt spid="3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8" nodeType="withEffect" fill="hold" presetClass="exit" presetID="10">
                                  <p:stCondLst>
                                    <p:cond delay="9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2" dur="7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26" repeatCount="11300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04" dur="83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5" dur="42" autoRev="1" fill="hold"/>
                                        <p:tgtEl>
                                          <p:spTgt spid="38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06" nodeType="withEffect" fill="hold" presetClass="exit" presetID="31">
                                  <p:stCondLst>
                                    <p:cond delay="79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7" dur="1700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700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700"/>
                                        <p:tgtEl>
                                          <p:spTgt spid="3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10" dur="17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1699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13" dur="7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14" nodeType="withEffect" fill="hold" presetClass="emph" presetID="26" repeatCount="11300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15" dur="83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6" dur="42" autoRev="1" fill="hold"/>
                                        <p:tgtEl>
                                          <p:spTgt spid="38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17" nodeType="withEffect" fill="hold" presetClass="exit" presetID="31">
                                  <p:stCondLst>
                                    <p:cond delay="7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8" dur="1900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900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900"/>
                                        <p:tgtEl>
                                          <p:spTgt spid="3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21" dur="19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1899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5" name=""/>
          <p:cNvGrpSpPr/>
          <p:nvPr/>
        </p:nvGrpSpPr>
        <p:grpSpPr>
          <a:xfrm>
            <a:off x="8731080" y="2349360"/>
            <a:ext cx="12735000" cy="582840"/>
            <a:chOff x="8731080" y="2349360"/>
            <a:chExt cx="12735000" cy="582840"/>
          </a:xfrm>
        </p:grpSpPr>
        <p:sp>
          <p:nvSpPr>
            <p:cNvPr id="386" name="任意多边形 14"/>
            <p:cNvSpPr/>
            <p:nvPr/>
          </p:nvSpPr>
          <p:spPr>
            <a:xfrm>
              <a:off x="8731080" y="2349360"/>
              <a:ext cx="12728880" cy="577440"/>
            </a:xfrm>
            <a:custGeom>
              <a:avLst/>
              <a:gdLst>
                <a:gd name="textAreaLeft" fmla="*/ 0 w 12728880"/>
                <a:gd name="textAreaRight" fmla="*/ 12729240 w 12728880"/>
                <a:gd name="textAreaTop" fmla="*/ 0 h 577440"/>
                <a:gd name="textAreaBottom" fmla="*/ 577800 h 577440"/>
              </a:gdLst>
              <a:ahLst/>
              <a:rect l="textAreaLeft" t="textAreaTop" r="textAreaRight" b="textAreaBottom"/>
              <a:pathLst>
                <a:path w="6683022" h="575734">
                  <a:moveTo>
                    <a:pt x="0" y="575734"/>
                  </a:moveTo>
                  <a:lnTo>
                    <a:pt x="1286933" y="304800"/>
                  </a:lnTo>
                  <a:lnTo>
                    <a:pt x="2381955" y="56445"/>
                  </a:lnTo>
                  <a:lnTo>
                    <a:pt x="3194755" y="0"/>
                  </a:lnTo>
                  <a:lnTo>
                    <a:pt x="4064000" y="22578"/>
                  </a:lnTo>
                  <a:lnTo>
                    <a:pt x="4696178" y="67734"/>
                  </a:lnTo>
                  <a:lnTo>
                    <a:pt x="5734755" y="270934"/>
                  </a:lnTo>
                  <a:lnTo>
                    <a:pt x="6344355" y="361245"/>
                  </a:lnTo>
                  <a:cubicBezTo>
                    <a:pt x="6449695" y="372950"/>
                    <a:pt x="6637658" y="553157"/>
                    <a:pt x="6683022" y="553157"/>
                  </a:cubicBez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任意多边形 278"/>
            <p:cNvSpPr/>
            <p:nvPr/>
          </p:nvSpPr>
          <p:spPr>
            <a:xfrm>
              <a:off x="8737200" y="2354760"/>
              <a:ext cx="12728880" cy="577440"/>
            </a:xfrm>
            <a:custGeom>
              <a:avLst/>
              <a:gdLst>
                <a:gd name="textAreaLeft" fmla="*/ 0 w 12728880"/>
                <a:gd name="textAreaRight" fmla="*/ 12729240 w 12728880"/>
                <a:gd name="textAreaTop" fmla="*/ 0 h 577440"/>
                <a:gd name="textAreaBottom" fmla="*/ 577800 h 577440"/>
              </a:gdLst>
              <a:ahLst/>
              <a:rect l="textAreaLeft" t="textAreaTop" r="textAreaRight" b="textAreaBottom"/>
              <a:pathLst>
                <a:path w="6683022" h="575734">
                  <a:moveTo>
                    <a:pt x="0" y="575734"/>
                  </a:moveTo>
                  <a:lnTo>
                    <a:pt x="1286933" y="304800"/>
                  </a:lnTo>
                  <a:lnTo>
                    <a:pt x="2381955" y="56445"/>
                  </a:lnTo>
                  <a:lnTo>
                    <a:pt x="3194755" y="0"/>
                  </a:lnTo>
                  <a:lnTo>
                    <a:pt x="4064000" y="22578"/>
                  </a:lnTo>
                  <a:lnTo>
                    <a:pt x="4696178" y="67734"/>
                  </a:lnTo>
                  <a:lnTo>
                    <a:pt x="5734755" y="270934"/>
                  </a:lnTo>
                  <a:lnTo>
                    <a:pt x="6344355" y="361245"/>
                  </a:lnTo>
                  <a:cubicBezTo>
                    <a:pt x="6449695" y="372950"/>
                    <a:pt x="6637658" y="553157"/>
                    <a:pt x="6683022" y="553157"/>
                  </a:cubicBezTo>
                </a:path>
              </a:pathLst>
            </a:cu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8" name="五角星 50"/>
          <p:cNvSpPr/>
          <p:nvPr/>
        </p:nvSpPr>
        <p:spPr>
          <a:xfrm>
            <a:off x="-2927520" y="-1058760"/>
            <a:ext cx="5229360" cy="4979880"/>
          </a:xfrm>
          <a:prstGeom prst="star5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矩形 6"/>
          <p:cNvSpPr/>
          <p:nvPr/>
        </p:nvSpPr>
        <p:spPr>
          <a:xfrm>
            <a:off x="19037160" y="0"/>
            <a:ext cx="863640" cy="411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95e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矩形 2"/>
          <p:cNvSpPr/>
          <p:nvPr/>
        </p:nvSpPr>
        <p:spPr>
          <a:xfrm>
            <a:off x="-1689120" y="7827840"/>
            <a:ext cx="19486440" cy="22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矩形 2"/>
          <p:cNvSpPr/>
          <p:nvPr/>
        </p:nvSpPr>
        <p:spPr>
          <a:xfrm>
            <a:off x="-2552760" y="7832880"/>
            <a:ext cx="19513440" cy="229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-15443280" y="2571840"/>
            <a:ext cx="42509880" cy="2751120"/>
            <a:chOff x="-15443280" y="2571840"/>
            <a:chExt cx="42509880" cy="2751120"/>
          </a:xfrm>
        </p:grpSpPr>
        <p:grpSp>
          <p:nvGrpSpPr>
            <p:cNvPr id="393" name=""/>
            <p:cNvGrpSpPr/>
            <p:nvPr/>
          </p:nvGrpSpPr>
          <p:grpSpPr>
            <a:xfrm>
              <a:off x="-15443280" y="2571840"/>
              <a:ext cx="42509880" cy="2679840"/>
              <a:chOff x="-15443280" y="2571840"/>
              <a:chExt cx="42509880" cy="2679840"/>
            </a:xfrm>
          </p:grpSpPr>
          <p:sp>
            <p:nvSpPr>
              <p:cNvPr id="394" name="矩形 8"/>
              <p:cNvSpPr/>
              <p:nvPr/>
            </p:nvSpPr>
            <p:spPr>
              <a:xfrm>
                <a:off x="2413440" y="2782440"/>
                <a:ext cx="7704360" cy="2460600"/>
              </a:xfrm>
              <a:custGeom>
                <a:avLst/>
                <a:gdLst>
                  <a:gd name="textAreaLeft" fmla="*/ 0 w 7704360"/>
                  <a:gd name="textAreaRight" fmla="*/ 7704720 w 7704360"/>
                  <a:gd name="textAreaTop" fmla="*/ 0 h 2460600"/>
                  <a:gd name="textAreaBottom" fmla="*/ 2460960 h 2460600"/>
                </a:gdLst>
                <a:ahLst/>
                <a:rect l="textAreaLeft" t="textAreaTop" r="textAreaRight" b="textAreaBottom"/>
                <a:pathLst>
                  <a:path w="7704856" h="2460008">
                    <a:moveTo>
                      <a:pt x="0" y="114494"/>
                    </a:moveTo>
                    <a:lnTo>
                      <a:pt x="1506010" y="0"/>
                    </a:lnTo>
                    <a:lnTo>
                      <a:pt x="7704856" y="15640"/>
                    </a:lnTo>
                    <a:lnTo>
                      <a:pt x="7704856" y="2460008"/>
                    </a:lnTo>
                    <a:lnTo>
                      <a:pt x="0" y="2460008"/>
                    </a:lnTo>
                    <a:lnTo>
                      <a:pt x="0" y="11449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矩形 8"/>
              <p:cNvSpPr/>
              <p:nvPr/>
            </p:nvSpPr>
            <p:spPr>
              <a:xfrm>
                <a:off x="2394360" y="2784600"/>
                <a:ext cx="7704360" cy="2460600"/>
              </a:xfrm>
              <a:custGeom>
                <a:avLst/>
                <a:gdLst>
                  <a:gd name="textAreaLeft" fmla="*/ 0 w 7704360"/>
                  <a:gd name="textAreaRight" fmla="*/ 7704720 w 7704360"/>
                  <a:gd name="textAreaTop" fmla="*/ 0 h 2460600"/>
                  <a:gd name="textAreaBottom" fmla="*/ 2460960 h 2460600"/>
                </a:gdLst>
                <a:ahLst/>
                <a:rect l="textAreaLeft" t="textAreaTop" r="textAreaRight" b="textAreaBottom"/>
                <a:pathLst>
                  <a:path w="7704856" h="2460008">
                    <a:moveTo>
                      <a:pt x="0" y="114494"/>
                    </a:moveTo>
                    <a:lnTo>
                      <a:pt x="1506010" y="0"/>
                    </a:lnTo>
                    <a:lnTo>
                      <a:pt x="7704856" y="15640"/>
                    </a:lnTo>
                    <a:lnTo>
                      <a:pt x="7704856" y="2460008"/>
                    </a:lnTo>
                    <a:lnTo>
                      <a:pt x="0" y="2460008"/>
                    </a:lnTo>
                    <a:lnTo>
                      <a:pt x="0" y="114494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96" name=""/>
              <p:cNvGrpSpPr/>
              <p:nvPr/>
            </p:nvGrpSpPr>
            <p:grpSpPr>
              <a:xfrm>
                <a:off x="-15443280" y="2571840"/>
                <a:ext cx="42509880" cy="2679840"/>
                <a:chOff x="-15443280" y="2571840"/>
                <a:chExt cx="42509880" cy="2679840"/>
              </a:xfrm>
            </p:grpSpPr>
            <p:grpSp>
              <p:nvGrpSpPr>
                <p:cNvPr id="397" name=""/>
                <p:cNvGrpSpPr/>
                <p:nvPr/>
              </p:nvGrpSpPr>
              <p:grpSpPr>
                <a:xfrm>
                  <a:off x="-15443280" y="2637360"/>
                  <a:ext cx="19566720" cy="2588400"/>
                  <a:chOff x="-15443280" y="2637360"/>
                  <a:chExt cx="19566720" cy="2588400"/>
                </a:xfrm>
              </p:grpSpPr>
              <p:grpSp>
                <p:nvGrpSpPr>
                  <p:cNvPr id="398" name=""/>
                  <p:cNvGrpSpPr/>
                  <p:nvPr/>
                </p:nvGrpSpPr>
                <p:grpSpPr>
                  <a:xfrm>
                    <a:off x="-15442920" y="2637360"/>
                    <a:ext cx="19566360" cy="2588400"/>
                    <a:chOff x="-15442920" y="2637360"/>
                    <a:chExt cx="19566360" cy="2588400"/>
                  </a:xfrm>
                </p:grpSpPr>
                <p:sp>
                  <p:nvSpPr>
                    <p:cNvPr id="399" name="矩形 2"/>
                    <p:cNvSpPr/>
                    <p:nvPr/>
                  </p:nvSpPr>
                  <p:spPr>
                    <a:xfrm>
                      <a:off x="-15442920" y="2658960"/>
                      <a:ext cx="19566360" cy="2566800"/>
                    </a:xfrm>
                    <a:custGeom>
                      <a:avLst/>
                      <a:gdLst>
                        <a:gd name="textAreaLeft" fmla="*/ 0 w 19566360"/>
                        <a:gd name="textAreaRight" fmla="*/ 19566720 w 19566360"/>
                        <a:gd name="textAreaTop" fmla="*/ 0 h 2566800"/>
                        <a:gd name="textAreaBottom" fmla="*/ 2567160 h 2566800"/>
                      </a:gdLst>
                      <a:ahLst/>
                      <a:rect l="textAreaLeft" t="textAreaTop" r="textAreaRight" b="textAreaBottom"/>
                      <a:pathLst>
                        <a:path w="9142760" h="2565930">
                          <a:moveTo>
                            <a:pt x="0" y="154044"/>
                          </a:moveTo>
                          <a:cubicBezTo>
                            <a:pt x="684179" y="151334"/>
                            <a:pt x="1018162" y="2710"/>
                            <a:pt x="1702341" y="0"/>
                          </a:cubicBezTo>
                          <a:cubicBezTo>
                            <a:pt x="3501958" y="48638"/>
                            <a:pt x="5165387" y="223737"/>
                            <a:pt x="6965004" y="272375"/>
                          </a:cubicBezTo>
                          <a:lnTo>
                            <a:pt x="9023829" y="165883"/>
                          </a:lnTo>
                          <a:cubicBezTo>
                            <a:pt x="9065552" y="158537"/>
                            <a:pt x="9056084" y="168048"/>
                            <a:pt x="9097807" y="160702"/>
                          </a:cubicBezTo>
                          <a:cubicBezTo>
                            <a:pt x="9137841" y="156488"/>
                            <a:pt x="8715188" y="514663"/>
                            <a:pt x="8755222" y="510449"/>
                          </a:cubicBezTo>
                          <a:cubicBezTo>
                            <a:pt x="8878605" y="485166"/>
                            <a:pt x="8911420" y="615795"/>
                            <a:pt x="9034803" y="590512"/>
                          </a:cubicBezTo>
                          <a:cubicBezTo>
                            <a:pt x="9089275" y="576466"/>
                            <a:pt x="9037577" y="608319"/>
                            <a:pt x="9092049" y="594273"/>
                          </a:cubicBezTo>
                          <a:cubicBezTo>
                            <a:pt x="9096718" y="600784"/>
                            <a:pt x="9099176" y="613943"/>
                            <a:pt x="9052883" y="656157"/>
                          </a:cubicBezTo>
                          <a:cubicBezTo>
                            <a:pt x="9006590" y="698371"/>
                            <a:pt x="8834381" y="809820"/>
                            <a:pt x="8814289" y="847555"/>
                          </a:cubicBezTo>
                          <a:cubicBezTo>
                            <a:pt x="8875980" y="830700"/>
                            <a:pt x="8880574" y="872838"/>
                            <a:pt x="8942265" y="855983"/>
                          </a:cubicBezTo>
                          <a:cubicBezTo>
                            <a:pt x="8967541" y="863069"/>
                            <a:pt x="8973697" y="895832"/>
                            <a:pt x="8984574" y="913996"/>
                          </a:cubicBezTo>
                          <a:cubicBezTo>
                            <a:pt x="8995451" y="932160"/>
                            <a:pt x="8986840" y="950024"/>
                            <a:pt x="9007529" y="964969"/>
                          </a:cubicBezTo>
                          <a:cubicBezTo>
                            <a:pt x="9036378" y="986497"/>
                            <a:pt x="9069732" y="980444"/>
                            <a:pt x="9090077" y="979742"/>
                          </a:cubicBezTo>
                          <a:cubicBezTo>
                            <a:pt x="9110422" y="979040"/>
                            <a:pt x="9141608" y="974733"/>
                            <a:pt x="9137184" y="982398"/>
                          </a:cubicBezTo>
                          <a:cubicBezTo>
                            <a:pt x="9153470" y="983959"/>
                            <a:pt x="9133113" y="999539"/>
                            <a:pt x="9088813" y="1031143"/>
                          </a:cubicBezTo>
                          <a:cubicBezTo>
                            <a:pt x="9044513" y="1062747"/>
                            <a:pt x="8893250" y="1143381"/>
                            <a:pt x="8871386" y="1172020"/>
                          </a:cubicBezTo>
                          <a:cubicBezTo>
                            <a:pt x="8950797" y="1142523"/>
                            <a:pt x="8902232" y="1197303"/>
                            <a:pt x="8981643" y="1167806"/>
                          </a:cubicBezTo>
                          <a:cubicBezTo>
                            <a:pt x="9003957" y="1160783"/>
                            <a:pt x="8891414" y="1283286"/>
                            <a:pt x="8913728" y="1276263"/>
                          </a:cubicBezTo>
                          <a:cubicBezTo>
                            <a:pt x="8957043" y="1259408"/>
                            <a:pt x="8534708" y="1677678"/>
                            <a:pt x="8578023" y="1660823"/>
                          </a:cubicBezTo>
                          <a:cubicBezTo>
                            <a:pt x="8578032" y="1693480"/>
                            <a:pt x="8865585" y="1503258"/>
                            <a:pt x="8936136" y="1469548"/>
                          </a:cubicBezTo>
                          <a:cubicBezTo>
                            <a:pt x="9006687" y="1435838"/>
                            <a:pt x="9059751" y="1390085"/>
                            <a:pt x="9001332" y="1458560"/>
                          </a:cubicBezTo>
                          <a:cubicBezTo>
                            <a:pt x="9051210" y="1433277"/>
                            <a:pt x="8565554" y="1913653"/>
                            <a:pt x="8615432" y="1888370"/>
                          </a:cubicBezTo>
                          <a:cubicBezTo>
                            <a:pt x="8666623" y="1857469"/>
                            <a:pt x="8700093" y="1898202"/>
                            <a:pt x="8751284" y="1867301"/>
                          </a:cubicBezTo>
                          <a:cubicBezTo>
                            <a:pt x="8791974" y="1842018"/>
                            <a:pt x="8590493" y="2094847"/>
                            <a:pt x="8631183" y="2069564"/>
                          </a:cubicBezTo>
                          <a:cubicBezTo>
                            <a:pt x="8702719" y="2027426"/>
                            <a:pt x="8669904" y="2200193"/>
                            <a:pt x="8741440" y="2158055"/>
                          </a:cubicBezTo>
                          <a:cubicBezTo>
                            <a:pt x="8781474" y="2132772"/>
                            <a:pt x="8589180" y="2381387"/>
                            <a:pt x="8629214" y="2356104"/>
                          </a:cubicBezTo>
                          <a:cubicBezTo>
                            <a:pt x="8718470" y="2295706"/>
                            <a:pt x="8461203" y="2618766"/>
                            <a:pt x="8550459" y="2558368"/>
                          </a:cubicBezTo>
                          <a:lnTo>
                            <a:pt x="0" y="2526760"/>
                          </a:lnTo>
                          <a:lnTo>
                            <a:pt x="0" y="154044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0" name="矩形 2"/>
                    <p:cNvSpPr/>
                    <p:nvPr/>
                  </p:nvSpPr>
                  <p:spPr>
                    <a:xfrm>
                      <a:off x="-15419880" y="2637360"/>
                      <a:ext cx="19499760" cy="2299680"/>
                    </a:xfrm>
                    <a:custGeom>
                      <a:avLst/>
                      <a:gdLst>
                        <a:gd name="textAreaLeft" fmla="*/ 0 w 19499760"/>
                        <a:gd name="textAreaRight" fmla="*/ 19500120 w 19499760"/>
                        <a:gd name="textAreaTop" fmla="*/ 0 h 2299680"/>
                        <a:gd name="textAreaBottom" fmla="*/ 2300040 h 2299680"/>
                      </a:gdLst>
                      <a:ahLst/>
                      <a:rect l="textAreaLeft" t="textAreaTop" r="textAreaRight" b="textAreaBottom"/>
                      <a:pathLst>
                        <a:path w="9114770" h="2526760">
                          <a:moveTo>
                            <a:pt x="0" y="154044"/>
                          </a:moveTo>
                          <a:cubicBezTo>
                            <a:pt x="684179" y="151334"/>
                            <a:pt x="1018162" y="2710"/>
                            <a:pt x="1702341" y="0"/>
                          </a:cubicBezTo>
                          <a:cubicBezTo>
                            <a:pt x="3501958" y="48638"/>
                            <a:pt x="5165387" y="223737"/>
                            <a:pt x="6965004" y="272375"/>
                          </a:cubicBezTo>
                          <a:lnTo>
                            <a:pt x="9068169" y="158895"/>
                          </a:lnTo>
                          <a:lnTo>
                            <a:pt x="9090400" y="197165"/>
                          </a:lnTo>
                          <a:cubicBezTo>
                            <a:pt x="9133249" y="193709"/>
                            <a:pt x="8702156" y="584972"/>
                            <a:pt x="8745005" y="581516"/>
                          </a:cubicBezTo>
                          <a:cubicBezTo>
                            <a:pt x="8844213" y="559403"/>
                            <a:pt x="8855968" y="679920"/>
                            <a:pt x="8955176" y="657807"/>
                          </a:cubicBezTo>
                          <a:cubicBezTo>
                            <a:pt x="9006896" y="645645"/>
                            <a:pt x="9013991" y="678339"/>
                            <a:pt x="9065711" y="666177"/>
                          </a:cubicBezTo>
                          <a:cubicBezTo>
                            <a:pt x="9089438" y="669046"/>
                            <a:pt x="9096104" y="693172"/>
                            <a:pt x="9040387" y="745138"/>
                          </a:cubicBezTo>
                          <a:cubicBezTo>
                            <a:pt x="8984671" y="797104"/>
                            <a:pt x="8812694" y="917741"/>
                            <a:pt x="8787321" y="966285"/>
                          </a:cubicBezTo>
                          <a:cubicBezTo>
                            <a:pt x="8871013" y="937538"/>
                            <a:pt x="8861610" y="995032"/>
                            <a:pt x="8945302" y="966285"/>
                          </a:cubicBezTo>
                          <a:cubicBezTo>
                            <a:pt x="8968341" y="958546"/>
                            <a:pt x="8960347" y="1093436"/>
                            <a:pt x="8983386" y="1085697"/>
                          </a:cubicBezTo>
                          <a:cubicBezTo>
                            <a:pt x="9034166" y="1068006"/>
                            <a:pt x="9063787" y="1119971"/>
                            <a:pt x="9114567" y="1102280"/>
                          </a:cubicBezTo>
                          <a:cubicBezTo>
                            <a:pt x="9123500" y="1097857"/>
                            <a:pt x="8834810" y="1325624"/>
                            <a:pt x="8843743" y="1321201"/>
                          </a:cubicBezTo>
                          <a:cubicBezTo>
                            <a:pt x="8911919" y="1293559"/>
                            <a:pt x="8885589" y="1338891"/>
                            <a:pt x="8953765" y="1311249"/>
                          </a:cubicBezTo>
                          <a:cubicBezTo>
                            <a:pt x="8973983" y="1300193"/>
                            <a:pt x="8929315" y="1438400"/>
                            <a:pt x="8949533" y="1427344"/>
                          </a:cubicBezTo>
                          <a:cubicBezTo>
                            <a:pt x="8982916" y="1411864"/>
                            <a:pt x="8536714" y="1874029"/>
                            <a:pt x="8570097" y="1858549"/>
                          </a:cubicBezTo>
                          <a:cubicBezTo>
                            <a:pt x="8551694" y="1910894"/>
                            <a:pt x="8799805" y="1722810"/>
                            <a:pt x="8856508" y="1697589"/>
                          </a:cubicBezTo>
                          <a:cubicBezTo>
                            <a:pt x="8913211" y="1672368"/>
                            <a:pt x="8951627" y="1646238"/>
                            <a:pt x="8910317" y="1707222"/>
                          </a:cubicBezTo>
                          <a:cubicBezTo>
                            <a:pt x="8955454" y="1684003"/>
                            <a:pt x="8546119" y="2130540"/>
                            <a:pt x="8591256" y="2107321"/>
                          </a:cubicBezTo>
                          <a:cubicBezTo>
                            <a:pt x="8689524" y="2045404"/>
                            <a:pt x="8652379" y="2132752"/>
                            <a:pt x="8750647" y="2070835"/>
                          </a:cubicBezTo>
                          <a:cubicBezTo>
                            <a:pt x="8773216" y="2054250"/>
                            <a:pt x="8585613" y="2322925"/>
                            <a:pt x="8608182" y="2306340"/>
                          </a:cubicBezTo>
                          <a:cubicBezTo>
                            <a:pt x="8698457" y="2245529"/>
                            <a:pt x="8663193" y="2443441"/>
                            <a:pt x="8753468" y="2382630"/>
                          </a:cubicBezTo>
                          <a:cubicBezTo>
                            <a:pt x="8793904" y="2352777"/>
                            <a:pt x="8533893" y="2531894"/>
                            <a:pt x="8574329" y="2502041"/>
                          </a:cubicBezTo>
                          <a:lnTo>
                            <a:pt x="0" y="2526760"/>
                          </a:lnTo>
                          <a:lnTo>
                            <a:pt x="0" y="154044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01" name="矩形 2"/>
                  <p:cNvSpPr/>
                  <p:nvPr/>
                </p:nvSpPr>
                <p:spPr>
                  <a:xfrm>
                    <a:off x="-15443280" y="2658600"/>
                    <a:ext cx="19540080" cy="2233080"/>
                  </a:xfrm>
                  <a:custGeom>
                    <a:avLst/>
                    <a:gdLst>
                      <a:gd name="textAreaLeft" fmla="*/ 0 w 19540080"/>
                      <a:gd name="textAreaRight" fmla="*/ 19540440 w 19540080"/>
                      <a:gd name="textAreaTop" fmla="*/ 0 h 2233080"/>
                      <a:gd name="textAreaBottom" fmla="*/ 2233440 h 2233080"/>
                    </a:gdLst>
                    <a:ahLst/>
                    <a:rect l="textAreaLeft" t="textAreaTop" r="textAreaRight" b="textAreaBottom"/>
                    <a:pathLst>
                      <a:path w="9109418" h="2526760">
                        <a:moveTo>
                          <a:pt x="0" y="154044"/>
                        </a:moveTo>
                        <a:cubicBezTo>
                          <a:pt x="684179" y="151334"/>
                          <a:pt x="1018162" y="2710"/>
                          <a:pt x="1702341" y="0"/>
                        </a:cubicBezTo>
                        <a:cubicBezTo>
                          <a:pt x="3501958" y="48638"/>
                          <a:pt x="5165387" y="223737"/>
                          <a:pt x="6965004" y="272375"/>
                        </a:cubicBezTo>
                        <a:lnTo>
                          <a:pt x="9075998" y="151834"/>
                        </a:lnTo>
                        <a:cubicBezTo>
                          <a:pt x="9162152" y="144451"/>
                          <a:pt x="8666573" y="568334"/>
                          <a:pt x="8752727" y="560951"/>
                        </a:cubicBezTo>
                        <a:cubicBezTo>
                          <a:pt x="8942680" y="522616"/>
                          <a:pt x="8823960" y="685539"/>
                          <a:pt x="9013913" y="647204"/>
                        </a:cubicBezTo>
                        <a:cubicBezTo>
                          <a:pt x="9283013" y="580118"/>
                          <a:pt x="8578604" y="1030553"/>
                          <a:pt x="8847704" y="963467"/>
                        </a:cubicBezTo>
                        <a:cubicBezTo>
                          <a:pt x="9089103" y="896381"/>
                          <a:pt x="8855618" y="1145558"/>
                          <a:pt x="9097017" y="1078472"/>
                        </a:cubicBezTo>
                        <a:cubicBezTo>
                          <a:pt x="9133632" y="1106084"/>
                          <a:pt x="9081874" y="1147501"/>
                          <a:pt x="9036365" y="1190628"/>
                        </a:cubicBezTo>
                        <a:cubicBezTo>
                          <a:pt x="8990856" y="1233755"/>
                          <a:pt x="8878384" y="1245048"/>
                          <a:pt x="8823960" y="1337232"/>
                        </a:cubicBezTo>
                        <a:cubicBezTo>
                          <a:pt x="9037657" y="1231811"/>
                          <a:pt x="9002041" y="1471405"/>
                          <a:pt x="8740855" y="1682246"/>
                        </a:cubicBezTo>
                        <a:cubicBezTo>
                          <a:pt x="8982254" y="1567241"/>
                          <a:pt x="8377798" y="1970896"/>
                          <a:pt x="8619197" y="1855891"/>
                        </a:cubicBezTo>
                        <a:cubicBezTo>
                          <a:pt x="8690429" y="1788805"/>
                          <a:pt x="8744455" y="1793128"/>
                          <a:pt x="8815687" y="1726042"/>
                        </a:cubicBezTo>
                        <a:cubicBezTo>
                          <a:pt x="9227252" y="1467282"/>
                          <a:pt x="8269930" y="2372273"/>
                          <a:pt x="8681495" y="2113513"/>
                        </a:cubicBezTo>
                        <a:cubicBezTo>
                          <a:pt x="8699636" y="2172533"/>
                          <a:pt x="8602113" y="2252050"/>
                          <a:pt x="8620254" y="2311070"/>
                        </a:cubicBezTo>
                        <a:lnTo>
                          <a:pt x="8780703" y="2429776"/>
                        </a:lnTo>
                        <a:lnTo>
                          <a:pt x="0" y="2526760"/>
                        </a:lnTo>
                        <a:lnTo>
                          <a:pt x="0" y="15404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2" name=""/>
                <p:cNvGrpSpPr/>
                <p:nvPr/>
              </p:nvGrpSpPr>
              <p:grpSpPr>
                <a:xfrm>
                  <a:off x="7525440" y="2571840"/>
                  <a:ext cx="19541160" cy="2679840"/>
                  <a:chOff x="7525440" y="2571840"/>
                  <a:chExt cx="19541160" cy="2679840"/>
                </a:xfrm>
              </p:grpSpPr>
              <p:sp>
                <p:nvSpPr>
                  <p:cNvPr id="403" name="矩形 2"/>
                  <p:cNvSpPr/>
                  <p:nvPr/>
                </p:nvSpPr>
                <p:spPr>
                  <a:xfrm flipH="1">
                    <a:off x="7525080" y="2574360"/>
                    <a:ext cx="19541160" cy="2677320"/>
                  </a:xfrm>
                  <a:custGeom>
                    <a:avLst/>
                    <a:gdLst>
                      <a:gd name="textAreaLeft" fmla="*/ -360 w 19541160"/>
                      <a:gd name="textAreaRight" fmla="*/ 19541160 w 19541160"/>
                      <a:gd name="textAreaTop" fmla="*/ 0 h 2677320"/>
                      <a:gd name="textAreaBottom" fmla="*/ 2677680 h 2677320"/>
                    </a:gdLst>
                    <a:ahLst/>
                    <a:rect l="textAreaLeft" t="textAreaTop" r="textAreaRight" b="textAreaBottom"/>
                    <a:pathLst>
                      <a:path w="9130999" h="2565930">
                        <a:moveTo>
                          <a:pt x="0" y="154044"/>
                        </a:moveTo>
                        <a:cubicBezTo>
                          <a:pt x="684179" y="151334"/>
                          <a:pt x="1018162" y="2710"/>
                          <a:pt x="1702341" y="0"/>
                        </a:cubicBezTo>
                        <a:cubicBezTo>
                          <a:pt x="3501958" y="48638"/>
                          <a:pt x="5165387" y="223737"/>
                          <a:pt x="6965004" y="272375"/>
                        </a:cubicBezTo>
                        <a:lnTo>
                          <a:pt x="9023829" y="165883"/>
                        </a:lnTo>
                        <a:cubicBezTo>
                          <a:pt x="9322199" y="205562"/>
                          <a:pt x="8902673" y="351543"/>
                          <a:pt x="8904502" y="422314"/>
                        </a:cubicBezTo>
                        <a:cubicBezTo>
                          <a:pt x="8891746" y="490014"/>
                          <a:pt x="9013939" y="426540"/>
                          <a:pt x="9060536" y="439884"/>
                        </a:cubicBezTo>
                        <a:cubicBezTo>
                          <a:pt x="9107133" y="453228"/>
                          <a:pt x="9056970" y="544601"/>
                          <a:pt x="9034803" y="590512"/>
                        </a:cubicBezTo>
                        <a:cubicBezTo>
                          <a:pt x="9044647" y="646696"/>
                          <a:pt x="8829712" y="803310"/>
                          <a:pt x="8814289" y="847555"/>
                        </a:cubicBezTo>
                        <a:cubicBezTo>
                          <a:pt x="8875980" y="830700"/>
                          <a:pt x="8880574" y="872838"/>
                          <a:pt x="8942265" y="855983"/>
                        </a:cubicBezTo>
                        <a:cubicBezTo>
                          <a:pt x="8969173" y="846151"/>
                          <a:pt x="8980621" y="974801"/>
                          <a:pt x="9007529" y="964969"/>
                        </a:cubicBezTo>
                        <a:cubicBezTo>
                          <a:pt x="9036378" y="986497"/>
                          <a:pt x="9079962" y="961368"/>
                          <a:pt x="9090077" y="979742"/>
                        </a:cubicBezTo>
                        <a:cubicBezTo>
                          <a:pt x="9100193" y="998116"/>
                          <a:pt x="9104670" y="1043165"/>
                          <a:pt x="9068222" y="1075211"/>
                        </a:cubicBezTo>
                        <a:cubicBezTo>
                          <a:pt x="9023922" y="1106815"/>
                          <a:pt x="8893250" y="1143381"/>
                          <a:pt x="8871386" y="1172020"/>
                        </a:cubicBezTo>
                        <a:cubicBezTo>
                          <a:pt x="8950797" y="1142523"/>
                          <a:pt x="8902232" y="1197303"/>
                          <a:pt x="8981643" y="1167806"/>
                        </a:cubicBezTo>
                        <a:cubicBezTo>
                          <a:pt x="9003957" y="1160783"/>
                          <a:pt x="8943578" y="1288602"/>
                          <a:pt x="8965892" y="1281579"/>
                        </a:cubicBezTo>
                        <a:cubicBezTo>
                          <a:pt x="9009207" y="1264724"/>
                          <a:pt x="8822972" y="1446323"/>
                          <a:pt x="8866287" y="1429468"/>
                        </a:cubicBezTo>
                        <a:cubicBezTo>
                          <a:pt x="8836591" y="1507687"/>
                          <a:pt x="8772071" y="1656073"/>
                          <a:pt x="8828896" y="1673774"/>
                        </a:cubicBezTo>
                        <a:cubicBezTo>
                          <a:pt x="8885721" y="1691475"/>
                          <a:pt x="8947686" y="1744119"/>
                          <a:pt x="8918972" y="1767032"/>
                        </a:cubicBezTo>
                        <a:cubicBezTo>
                          <a:pt x="8968850" y="1741749"/>
                          <a:pt x="8565554" y="1913653"/>
                          <a:pt x="8615432" y="1888370"/>
                        </a:cubicBezTo>
                        <a:cubicBezTo>
                          <a:pt x="8666623" y="1857469"/>
                          <a:pt x="8700093" y="1898202"/>
                          <a:pt x="8751284" y="1867301"/>
                        </a:cubicBezTo>
                        <a:cubicBezTo>
                          <a:pt x="8791974" y="1842018"/>
                          <a:pt x="8590493" y="2094847"/>
                          <a:pt x="8631183" y="2069564"/>
                        </a:cubicBezTo>
                        <a:cubicBezTo>
                          <a:pt x="8702719" y="2027426"/>
                          <a:pt x="8669904" y="2200193"/>
                          <a:pt x="8741440" y="2158055"/>
                        </a:cubicBezTo>
                        <a:cubicBezTo>
                          <a:pt x="8781474" y="2132772"/>
                          <a:pt x="8589180" y="2381387"/>
                          <a:pt x="8629214" y="2356104"/>
                        </a:cubicBezTo>
                        <a:cubicBezTo>
                          <a:pt x="8718470" y="2295706"/>
                          <a:pt x="8461203" y="2618766"/>
                          <a:pt x="8550459" y="2558368"/>
                        </a:cubicBezTo>
                        <a:lnTo>
                          <a:pt x="0" y="2526760"/>
                        </a:lnTo>
                        <a:lnTo>
                          <a:pt x="0" y="15404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4" name="矩形 2"/>
                  <p:cNvSpPr/>
                  <p:nvPr/>
                </p:nvSpPr>
                <p:spPr>
                  <a:xfrm flipH="1">
                    <a:off x="7525080" y="2571840"/>
                    <a:ext cx="19541160" cy="2677320"/>
                  </a:xfrm>
                  <a:custGeom>
                    <a:avLst/>
                    <a:gdLst>
                      <a:gd name="textAreaLeft" fmla="*/ -360 w 19541160"/>
                      <a:gd name="textAreaRight" fmla="*/ 19541160 w 19541160"/>
                      <a:gd name="textAreaTop" fmla="*/ 0 h 2677320"/>
                      <a:gd name="textAreaBottom" fmla="*/ 2677680 h 2677320"/>
                    </a:gdLst>
                    <a:ahLst/>
                    <a:rect l="textAreaLeft" t="textAreaTop" r="textAreaRight" b="textAreaBottom"/>
                    <a:pathLst>
                      <a:path w="9130999" h="2565930">
                        <a:moveTo>
                          <a:pt x="0" y="154044"/>
                        </a:moveTo>
                        <a:cubicBezTo>
                          <a:pt x="684179" y="151334"/>
                          <a:pt x="1018162" y="2710"/>
                          <a:pt x="1702341" y="0"/>
                        </a:cubicBezTo>
                        <a:cubicBezTo>
                          <a:pt x="3501958" y="48638"/>
                          <a:pt x="5165387" y="223737"/>
                          <a:pt x="6965004" y="272375"/>
                        </a:cubicBezTo>
                        <a:lnTo>
                          <a:pt x="9023829" y="165883"/>
                        </a:lnTo>
                        <a:cubicBezTo>
                          <a:pt x="9322199" y="205562"/>
                          <a:pt x="8902673" y="351543"/>
                          <a:pt x="8904502" y="422314"/>
                        </a:cubicBezTo>
                        <a:cubicBezTo>
                          <a:pt x="8891746" y="490014"/>
                          <a:pt x="9013939" y="426540"/>
                          <a:pt x="9060536" y="439884"/>
                        </a:cubicBezTo>
                        <a:cubicBezTo>
                          <a:pt x="9107133" y="453228"/>
                          <a:pt x="9056970" y="544601"/>
                          <a:pt x="9034803" y="590512"/>
                        </a:cubicBezTo>
                        <a:cubicBezTo>
                          <a:pt x="9044647" y="646696"/>
                          <a:pt x="8829712" y="803310"/>
                          <a:pt x="8814289" y="847555"/>
                        </a:cubicBezTo>
                        <a:cubicBezTo>
                          <a:pt x="8875980" y="830700"/>
                          <a:pt x="8880574" y="872838"/>
                          <a:pt x="8942265" y="855983"/>
                        </a:cubicBezTo>
                        <a:cubicBezTo>
                          <a:pt x="8969173" y="846151"/>
                          <a:pt x="8980621" y="974801"/>
                          <a:pt x="9007529" y="964969"/>
                        </a:cubicBezTo>
                        <a:cubicBezTo>
                          <a:pt x="9036378" y="986497"/>
                          <a:pt x="9079962" y="961368"/>
                          <a:pt x="9090077" y="979742"/>
                        </a:cubicBezTo>
                        <a:cubicBezTo>
                          <a:pt x="9100193" y="998116"/>
                          <a:pt x="9104670" y="1043165"/>
                          <a:pt x="9068222" y="1075211"/>
                        </a:cubicBezTo>
                        <a:cubicBezTo>
                          <a:pt x="9023922" y="1106815"/>
                          <a:pt x="8893250" y="1143381"/>
                          <a:pt x="8871386" y="1172020"/>
                        </a:cubicBezTo>
                        <a:cubicBezTo>
                          <a:pt x="8950797" y="1142523"/>
                          <a:pt x="8902232" y="1197303"/>
                          <a:pt x="8981643" y="1167806"/>
                        </a:cubicBezTo>
                        <a:cubicBezTo>
                          <a:pt x="9003957" y="1160783"/>
                          <a:pt x="8943578" y="1288602"/>
                          <a:pt x="8965892" y="1281579"/>
                        </a:cubicBezTo>
                        <a:cubicBezTo>
                          <a:pt x="9009207" y="1264724"/>
                          <a:pt x="8822972" y="1446323"/>
                          <a:pt x="8866287" y="1429468"/>
                        </a:cubicBezTo>
                        <a:cubicBezTo>
                          <a:pt x="8836591" y="1507687"/>
                          <a:pt x="8772071" y="1656073"/>
                          <a:pt x="8828896" y="1673774"/>
                        </a:cubicBezTo>
                        <a:cubicBezTo>
                          <a:pt x="8885721" y="1691475"/>
                          <a:pt x="8947686" y="1744119"/>
                          <a:pt x="8918972" y="1767032"/>
                        </a:cubicBezTo>
                        <a:cubicBezTo>
                          <a:pt x="8968850" y="1741749"/>
                          <a:pt x="8565554" y="1913653"/>
                          <a:pt x="8615432" y="1888370"/>
                        </a:cubicBezTo>
                        <a:cubicBezTo>
                          <a:pt x="8666623" y="1857469"/>
                          <a:pt x="8700093" y="1898202"/>
                          <a:pt x="8751284" y="1867301"/>
                        </a:cubicBezTo>
                        <a:cubicBezTo>
                          <a:pt x="8791974" y="1842018"/>
                          <a:pt x="8590493" y="2094847"/>
                          <a:pt x="8631183" y="2069564"/>
                        </a:cubicBezTo>
                        <a:cubicBezTo>
                          <a:pt x="8702719" y="2027426"/>
                          <a:pt x="8669904" y="2200193"/>
                          <a:pt x="8741440" y="2158055"/>
                        </a:cubicBezTo>
                        <a:cubicBezTo>
                          <a:pt x="8781474" y="2132772"/>
                          <a:pt x="8589180" y="2381387"/>
                          <a:pt x="8629214" y="2356104"/>
                        </a:cubicBezTo>
                        <a:cubicBezTo>
                          <a:pt x="8718470" y="2295706"/>
                          <a:pt x="8461203" y="2618766"/>
                          <a:pt x="8550459" y="2558368"/>
                        </a:cubicBezTo>
                        <a:lnTo>
                          <a:pt x="0" y="2526760"/>
                        </a:lnTo>
                        <a:lnTo>
                          <a:pt x="0" y="154044"/>
                        </a:lnTo>
                        <a:close/>
                      </a:path>
                    </a:pathLst>
                  </a:custGeom>
                  <a:blipFill rotWithShape="0">
                    <a:blip r:embed="rId3"/>
                    <a:srcRect/>
                    <a:stretch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5" name="矩形 2"/>
                  <p:cNvSpPr/>
                  <p:nvPr/>
                </p:nvSpPr>
                <p:spPr>
                  <a:xfrm flipH="1">
                    <a:off x="7525080" y="2574360"/>
                    <a:ext cx="19541160" cy="2677320"/>
                  </a:xfrm>
                  <a:custGeom>
                    <a:avLst/>
                    <a:gdLst>
                      <a:gd name="textAreaLeft" fmla="*/ -360 w 19541160"/>
                      <a:gd name="textAreaRight" fmla="*/ 19541160 w 19541160"/>
                      <a:gd name="textAreaTop" fmla="*/ 0 h 2677320"/>
                      <a:gd name="textAreaBottom" fmla="*/ 2677680 h 2677320"/>
                    </a:gdLst>
                    <a:ahLst/>
                    <a:rect l="textAreaLeft" t="textAreaTop" r="textAreaRight" b="textAreaBottom"/>
                    <a:pathLst>
                      <a:path w="9130999" h="2565930">
                        <a:moveTo>
                          <a:pt x="0" y="154044"/>
                        </a:moveTo>
                        <a:cubicBezTo>
                          <a:pt x="684179" y="151334"/>
                          <a:pt x="1018162" y="2710"/>
                          <a:pt x="1702341" y="0"/>
                        </a:cubicBezTo>
                        <a:cubicBezTo>
                          <a:pt x="3501958" y="48638"/>
                          <a:pt x="5165387" y="223737"/>
                          <a:pt x="6965004" y="272375"/>
                        </a:cubicBezTo>
                        <a:lnTo>
                          <a:pt x="9023829" y="165883"/>
                        </a:lnTo>
                        <a:cubicBezTo>
                          <a:pt x="9322199" y="205562"/>
                          <a:pt x="8902673" y="351543"/>
                          <a:pt x="8904502" y="422314"/>
                        </a:cubicBezTo>
                        <a:cubicBezTo>
                          <a:pt x="8891746" y="490014"/>
                          <a:pt x="9013939" y="426540"/>
                          <a:pt x="9060536" y="439884"/>
                        </a:cubicBezTo>
                        <a:cubicBezTo>
                          <a:pt x="9107133" y="453228"/>
                          <a:pt x="9056970" y="544601"/>
                          <a:pt x="9034803" y="590512"/>
                        </a:cubicBezTo>
                        <a:cubicBezTo>
                          <a:pt x="9044647" y="646696"/>
                          <a:pt x="8829712" y="803310"/>
                          <a:pt x="8814289" y="847555"/>
                        </a:cubicBezTo>
                        <a:cubicBezTo>
                          <a:pt x="8875980" y="830700"/>
                          <a:pt x="8880574" y="872838"/>
                          <a:pt x="8942265" y="855983"/>
                        </a:cubicBezTo>
                        <a:cubicBezTo>
                          <a:pt x="8969173" y="846151"/>
                          <a:pt x="8980621" y="974801"/>
                          <a:pt x="9007529" y="964969"/>
                        </a:cubicBezTo>
                        <a:cubicBezTo>
                          <a:pt x="9036378" y="986497"/>
                          <a:pt x="9079962" y="961368"/>
                          <a:pt x="9090077" y="979742"/>
                        </a:cubicBezTo>
                        <a:cubicBezTo>
                          <a:pt x="9100193" y="998116"/>
                          <a:pt x="9104670" y="1043165"/>
                          <a:pt x="9068222" y="1075211"/>
                        </a:cubicBezTo>
                        <a:cubicBezTo>
                          <a:pt x="9023922" y="1106815"/>
                          <a:pt x="8893250" y="1143381"/>
                          <a:pt x="8871386" y="1172020"/>
                        </a:cubicBezTo>
                        <a:cubicBezTo>
                          <a:pt x="8950797" y="1142523"/>
                          <a:pt x="8902232" y="1197303"/>
                          <a:pt x="8981643" y="1167806"/>
                        </a:cubicBezTo>
                        <a:cubicBezTo>
                          <a:pt x="9003957" y="1160783"/>
                          <a:pt x="8943578" y="1288602"/>
                          <a:pt x="8965892" y="1281579"/>
                        </a:cubicBezTo>
                        <a:cubicBezTo>
                          <a:pt x="9009207" y="1264724"/>
                          <a:pt x="8822972" y="1446323"/>
                          <a:pt x="8866287" y="1429468"/>
                        </a:cubicBezTo>
                        <a:cubicBezTo>
                          <a:pt x="8836591" y="1507687"/>
                          <a:pt x="8772071" y="1656073"/>
                          <a:pt x="8828896" y="1673774"/>
                        </a:cubicBezTo>
                        <a:cubicBezTo>
                          <a:pt x="8885721" y="1691475"/>
                          <a:pt x="8947686" y="1744119"/>
                          <a:pt x="8918972" y="1767032"/>
                        </a:cubicBezTo>
                        <a:cubicBezTo>
                          <a:pt x="8968850" y="1741749"/>
                          <a:pt x="8565554" y="1913653"/>
                          <a:pt x="8615432" y="1888370"/>
                        </a:cubicBezTo>
                        <a:cubicBezTo>
                          <a:pt x="8666623" y="1857469"/>
                          <a:pt x="8700093" y="1898202"/>
                          <a:pt x="8751284" y="1867301"/>
                        </a:cubicBezTo>
                        <a:cubicBezTo>
                          <a:pt x="8791974" y="1842018"/>
                          <a:pt x="8590493" y="2094847"/>
                          <a:pt x="8631183" y="2069564"/>
                        </a:cubicBezTo>
                        <a:cubicBezTo>
                          <a:pt x="8702719" y="2027426"/>
                          <a:pt x="8669904" y="2200193"/>
                          <a:pt x="8741440" y="2158055"/>
                        </a:cubicBezTo>
                        <a:cubicBezTo>
                          <a:pt x="8781474" y="2132772"/>
                          <a:pt x="8589180" y="2381387"/>
                          <a:pt x="8629214" y="2356104"/>
                        </a:cubicBezTo>
                        <a:cubicBezTo>
                          <a:pt x="8718470" y="2295706"/>
                          <a:pt x="8461203" y="2618766"/>
                          <a:pt x="8550459" y="2558368"/>
                        </a:cubicBezTo>
                        <a:lnTo>
                          <a:pt x="0" y="2526760"/>
                        </a:lnTo>
                        <a:lnTo>
                          <a:pt x="0" y="154044"/>
                        </a:lnTo>
                        <a:close/>
                      </a:path>
                    </a:pathLst>
                  </a:custGeom>
                  <a:blipFill rotWithShape="0">
                    <a:blip r:embed="rId4"/>
                    <a:srcRect/>
                    <a:stretch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406" name=""/>
            <p:cNvGrpSpPr/>
            <p:nvPr/>
          </p:nvGrpSpPr>
          <p:grpSpPr>
            <a:xfrm>
              <a:off x="2240640" y="2593080"/>
              <a:ext cx="6940800" cy="2729880"/>
              <a:chOff x="2240640" y="2593080"/>
              <a:chExt cx="6940800" cy="2729880"/>
            </a:xfrm>
          </p:grpSpPr>
          <p:grpSp>
            <p:nvGrpSpPr>
              <p:cNvPr id="407" name=""/>
              <p:cNvGrpSpPr/>
              <p:nvPr/>
            </p:nvGrpSpPr>
            <p:grpSpPr>
              <a:xfrm>
                <a:off x="2240640" y="2629080"/>
                <a:ext cx="1983240" cy="2693880"/>
                <a:chOff x="2240640" y="2629080"/>
                <a:chExt cx="1983240" cy="2693880"/>
              </a:xfrm>
            </p:grpSpPr>
            <p:sp>
              <p:nvSpPr>
                <p:cNvPr id="408" name="任意多边形 142"/>
                <p:cNvSpPr/>
                <p:nvPr/>
              </p:nvSpPr>
              <p:spPr>
                <a:xfrm>
                  <a:off x="2240640" y="2783520"/>
                  <a:ext cx="1639800" cy="2485800"/>
                </a:xfrm>
                <a:custGeom>
                  <a:avLst/>
                  <a:gdLst>
                    <a:gd name="textAreaLeft" fmla="*/ 0 w 1639800"/>
                    <a:gd name="textAreaRight" fmla="*/ 1640160 w 1639800"/>
                    <a:gd name="textAreaTop" fmla="*/ 0 h 2485800"/>
                    <a:gd name="textAreaBottom" fmla="*/ 2486160 h 2485800"/>
                  </a:gdLst>
                  <a:ahLst/>
                  <a:rect l="textAreaLeft" t="textAreaTop" r="textAreaRight" b="textAreaBottom"/>
                  <a:pathLst>
                    <a:path w="1639957" h="2484967">
                      <a:moveTo>
                        <a:pt x="1123122" y="30002"/>
                      </a:moveTo>
                      <a:cubicBezTo>
                        <a:pt x="1065144" y="38285"/>
                        <a:pt x="1087699" y="39175"/>
                        <a:pt x="1073426" y="49880"/>
                      </a:cubicBezTo>
                      <a:cubicBezTo>
                        <a:pt x="1060174" y="59819"/>
                        <a:pt x="1055322" y="77924"/>
                        <a:pt x="1043609" y="89637"/>
                      </a:cubicBezTo>
                      <a:cubicBezTo>
                        <a:pt x="1035162" y="98084"/>
                        <a:pt x="1023730" y="102889"/>
                        <a:pt x="1013791" y="109515"/>
                      </a:cubicBezTo>
                      <a:cubicBezTo>
                        <a:pt x="999298" y="128839"/>
                        <a:pt x="983837" y="153357"/>
                        <a:pt x="964096" y="169150"/>
                      </a:cubicBezTo>
                      <a:cubicBezTo>
                        <a:pt x="954768" y="176612"/>
                        <a:pt x="945610" y="185251"/>
                        <a:pt x="934278" y="189028"/>
                      </a:cubicBezTo>
                      <a:cubicBezTo>
                        <a:pt x="915160" y="195401"/>
                        <a:pt x="894521" y="195654"/>
                        <a:pt x="874643" y="198967"/>
                      </a:cubicBezTo>
                      <a:cubicBezTo>
                        <a:pt x="852188" y="266331"/>
                        <a:pt x="886496" y="193040"/>
                        <a:pt x="795130" y="238724"/>
                      </a:cubicBezTo>
                      <a:cubicBezTo>
                        <a:pt x="785759" y="243409"/>
                        <a:pt x="789876" y="259170"/>
                        <a:pt x="785191" y="268541"/>
                      </a:cubicBezTo>
                      <a:cubicBezTo>
                        <a:pt x="760872" y="317179"/>
                        <a:pt x="773165" y="281263"/>
                        <a:pt x="745435" y="318237"/>
                      </a:cubicBezTo>
                      <a:cubicBezTo>
                        <a:pt x="731101" y="337349"/>
                        <a:pt x="718930" y="357993"/>
                        <a:pt x="705678" y="377871"/>
                      </a:cubicBezTo>
                      <a:lnTo>
                        <a:pt x="685800" y="407689"/>
                      </a:lnTo>
                      <a:cubicBezTo>
                        <a:pt x="682487" y="420941"/>
                        <a:pt x="681970" y="435227"/>
                        <a:pt x="675861" y="447445"/>
                      </a:cubicBezTo>
                      <a:cubicBezTo>
                        <a:pt x="671670" y="455827"/>
                        <a:pt x="658256" y="458233"/>
                        <a:pt x="655983" y="467324"/>
                      </a:cubicBezTo>
                      <a:cubicBezTo>
                        <a:pt x="644619" y="512778"/>
                        <a:pt x="650920" y="562022"/>
                        <a:pt x="636104" y="606471"/>
                      </a:cubicBezTo>
                      <a:cubicBezTo>
                        <a:pt x="629478" y="626349"/>
                        <a:pt x="636773" y="661997"/>
                        <a:pt x="616226" y="666106"/>
                      </a:cubicBezTo>
                      <a:cubicBezTo>
                        <a:pt x="543558" y="680639"/>
                        <a:pt x="583254" y="673656"/>
                        <a:pt x="496957" y="685984"/>
                      </a:cubicBezTo>
                      <a:cubicBezTo>
                        <a:pt x="490331" y="692610"/>
                        <a:pt x="481899" y="697827"/>
                        <a:pt x="477078" y="705863"/>
                      </a:cubicBezTo>
                      <a:cubicBezTo>
                        <a:pt x="471688" y="714847"/>
                        <a:pt x="471824" y="726309"/>
                        <a:pt x="467139" y="735680"/>
                      </a:cubicBezTo>
                      <a:cubicBezTo>
                        <a:pt x="461797" y="746364"/>
                        <a:pt x="453887" y="755558"/>
                        <a:pt x="447261" y="765497"/>
                      </a:cubicBezTo>
                      <a:cubicBezTo>
                        <a:pt x="443948" y="845010"/>
                        <a:pt x="445800" y="924908"/>
                        <a:pt x="437322" y="1004037"/>
                      </a:cubicBezTo>
                      <a:cubicBezTo>
                        <a:pt x="435744" y="1018769"/>
                        <a:pt x="423280" y="1030175"/>
                        <a:pt x="417443" y="1043793"/>
                      </a:cubicBezTo>
                      <a:cubicBezTo>
                        <a:pt x="413316" y="1053422"/>
                        <a:pt x="412189" y="1064239"/>
                        <a:pt x="407504" y="1073610"/>
                      </a:cubicBezTo>
                      <a:cubicBezTo>
                        <a:pt x="400236" y="1088147"/>
                        <a:pt x="364566" y="1134175"/>
                        <a:pt x="357809" y="1143184"/>
                      </a:cubicBezTo>
                      <a:cubicBezTo>
                        <a:pt x="331534" y="1222012"/>
                        <a:pt x="371232" y="1117732"/>
                        <a:pt x="318052" y="1202819"/>
                      </a:cubicBezTo>
                      <a:cubicBezTo>
                        <a:pt x="308596" y="1217948"/>
                        <a:pt x="305420" y="1236211"/>
                        <a:pt x="298174" y="1252515"/>
                      </a:cubicBezTo>
                      <a:cubicBezTo>
                        <a:pt x="292157" y="1266054"/>
                        <a:pt x="284132" y="1278653"/>
                        <a:pt x="278296" y="1292271"/>
                      </a:cubicBezTo>
                      <a:cubicBezTo>
                        <a:pt x="274169" y="1301901"/>
                        <a:pt x="273042" y="1312718"/>
                        <a:pt x="268357" y="1322089"/>
                      </a:cubicBezTo>
                      <a:cubicBezTo>
                        <a:pt x="263015" y="1332773"/>
                        <a:pt x="254405" y="1341535"/>
                        <a:pt x="248478" y="1351906"/>
                      </a:cubicBezTo>
                      <a:cubicBezTo>
                        <a:pt x="241127" y="1364770"/>
                        <a:pt x="234436" y="1378044"/>
                        <a:pt x="228600" y="1391663"/>
                      </a:cubicBezTo>
                      <a:cubicBezTo>
                        <a:pt x="224473" y="1401293"/>
                        <a:pt x="224472" y="1412763"/>
                        <a:pt x="218661" y="1421480"/>
                      </a:cubicBezTo>
                      <a:cubicBezTo>
                        <a:pt x="210864" y="1433175"/>
                        <a:pt x="198782" y="1441358"/>
                        <a:pt x="188843" y="1451297"/>
                      </a:cubicBezTo>
                      <a:cubicBezTo>
                        <a:pt x="174622" y="1493962"/>
                        <a:pt x="171023" y="1514129"/>
                        <a:pt x="149087" y="1550689"/>
                      </a:cubicBezTo>
                      <a:cubicBezTo>
                        <a:pt x="136795" y="1571175"/>
                        <a:pt x="109330" y="1610324"/>
                        <a:pt x="109330" y="1610324"/>
                      </a:cubicBezTo>
                      <a:cubicBezTo>
                        <a:pt x="106017" y="1626889"/>
                        <a:pt x="106946" y="1644909"/>
                        <a:pt x="99391" y="1660019"/>
                      </a:cubicBezTo>
                      <a:cubicBezTo>
                        <a:pt x="53203" y="1752395"/>
                        <a:pt x="80699" y="1635397"/>
                        <a:pt x="59635" y="1719654"/>
                      </a:cubicBezTo>
                      <a:cubicBezTo>
                        <a:pt x="55538" y="1736043"/>
                        <a:pt x="54141" y="1753052"/>
                        <a:pt x="49696" y="1769350"/>
                      </a:cubicBezTo>
                      <a:cubicBezTo>
                        <a:pt x="44183" y="1789565"/>
                        <a:pt x="36443" y="1809106"/>
                        <a:pt x="29817" y="1828984"/>
                      </a:cubicBezTo>
                      <a:cubicBezTo>
                        <a:pt x="26504" y="1838923"/>
                        <a:pt x="21933" y="1848529"/>
                        <a:pt x="19878" y="1858802"/>
                      </a:cubicBezTo>
                      <a:cubicBezTo>
                        <a:pt x="7884" y="1918770"/>
                        <a:pt x="15281" y="1892471"/>
                        <a:pt x="0" y="1938315"/>
                      </a:cubicBezTo>
                      <a:cubicBezTo>
                        <a:pt x="3313" y="1994637"/>
                        <a:pt x="4590" y="2051115"/>
                        <a:pt x="9939" y="2107280"/>
                      </a:cubicBezTo>
                      <a:cubicBezTo>
                        <a:pt x="11234" y="2120879"/>
                        <a:pt x="14497" y="2134481"/>
                        <a:pt x="19878" y="2147037"/>
                      </a:cubicBezTo>
                      <a:cubicBezTo>
                        <a:pt x="24584" y="2158017"/>
                        <a:pt x="33131" y="2166915"/>
                        <a:pt x="39757" y="2176854"/>
                      </a:cubicBezTo>
                      <a:cubicBezTo>
                        <a:pt x="63587" y="2248344"/>
                        <a:pt x="34675" y="2159067"/>
                        <a:pt x="59635" y="2246428"/>
                      </a:cubicBezTo>
                      <a:cubicBezTo>
                        <a:pt x="62513" y="2256502"/>
                        <a:pt x="66696" y="2266171"/>
                        <a:pt x="69574" y="2276245"/>
                      </a:cubicBezTo>
                      <a:cubicBezTo>
                        <a:pt x="73327" y="2289380"/>
                        <a:pt x="74132" y="2303446"/>
                        <a:pt x="79513" y="2316002"/>
                      </a:cubicBezTo>
                      <a:cubicBezTo>
                        <a:pt x="84218" y="2326981"/>
                        <a:pt x="93464" y="2335448"/>
                        <a:pt x="99391" y="2345819"/>
                      </a:cubicBezTo>
                      <a:cubicBezTo>
                        <a:pt x="106742" y="2358683"/>
                        <a:pt x="111647" y="2372871"/>
                        <a:pt x="119270" y="2385576"/>
                      </a:cubicBezTo>
                      <a:cubicBezTo>
                        <a:pt x="131562" y="2406062"/>
                        <a:pt x="142133" y="2428317"/>
                        <a:pt x="159026" y="2445210"/>
                      </a:cubicBezTo>
                      <a:lnTo>
                        <a:pt x="198783" y="2484967"/>
                      </a:lnTo>
                      <a:cubicBezTo>
                        <a:pt x="304800" y="2481654"/>
                        <a:pt x="411095" y="2483376"/>
                        <a:pt x="516835" y="2475028"/>
                      </a:cubicBezTo>
                      <a:cubicBezTo>
                        <a:pt x="537724" y="2473379"/>
                        <a:pt x="576470" y="2455150"/>
                        <a:pt x="576470" y="2455150"/>
                      </a:cubicBezTo>
                      <a:cubicBezTo>
                        <a:pt x="647994" y="2407465"/>
                        <a:pt x="559932" y="2474990"/>
                        <a:pt x="626165" y="2375637"/>
                      </a:cubicBezTo>
                      <a:cubicBezTo>
                        <a:pt x="632791" y="2365698"/>
                        <a:pt x="638581" y="2355147"/>
                        <a:pt x="646043" y="2345819"/>
                      </a:cubicBezTo>
                      <a:cubicBezTo>
                        <a:pt x="702699" y="2275000"/>
                        <a:pt x="624611" y="2387907"/>
                        <a:pt x="685800" y="2296124"/>
                      </a:cubicBezTo>
                      <a:cubicBezTo>
                        <a:pt x="687657" y="2288698"/>
                        <a:pt x="699567" y="2236735"/>
                        <a:pt x="705678" y="2226550"/>
                      </a:cubicBezTo>
                      <a:cubicBezTo>
                        <a:pt x="710499" y="2218514"/>
                        <a:pt x="719703" y="2213989"/>
                        <a:pt x="725557" y="2206671"/>
                      </a:cubicBezTo>
                      <a:cubicBezTo>
                        <a:pt x="763534" y="2159200"/>
                        <a:pt x="730881" y="2196024"/>
                        <a:pt x="755374" y="2147037"/>
                      </a:cubicBezTo>
                      <a:cubicBezTo>
                        <a:pt x="784412" y="2088959"/>
                        <a:pt x="768537" y="2145691"/>
                        <a:pt x="785191" y="2087402"/>
                      </a:cubicBezTo>
                      <a:cubicBezTo>
                        <a:pt x="795993" y="2049596"/>
                        <a:pt x="793735" y="2014982"/>
                        <a:pt x="844826" y="1997950"/>
                      </a:cubicBezTo>
                      <a:cubicBezTo>
                        <a:pt x="915623" y="1974349"/>
                        <a:pt x="864197" y="1988814"/>
                        <a:pt x="1003852" y="1978071"/>
                      </a:cubicBezTo>
                      <a:cubicBezTo>
                        <a:pt x="1013791" y="1971445"/>
                        <a:pt x="1022986" y="1963535"/>
                        <a:pt x="1033670" y="1958193"/>
                      </a:cubicBezTo>
                      <a:cubicBezTo>
                        <a:pt x="1043041" y="1953508"/>
                        <a:pt x="1055106" y="1954540"/>
                        <a:pt x="1063487" y="1948254"/>
                      </a:cubicBezTo>
                      <a:cubicBezTo>
                        <a:pt x="1102249" y="1919182"/>
                        <a:pt x="1110070" y="1903227"/>
                        <a:pt x="1133061" y="1868741"/>
                      </a:cubicBezTo>
                      <a:cubicBezTo>
                        <a:pt x="1136210" y="1840400"/>
                        <a:pt x="1136288" y="1782773"/>
                        <a:pt x="1152939" y="1749471"/>
                      </a:cubicBezTo>
                      <a:cubicBezTo>
                        <a:pt x="1160764" y="1733820"/>
                        <a:pt x="1177903" y="1710871"/>
                        <a:pt x="1192696" y="1699776"/>
                      </a:cubicBezTo>
                      <a:cubicBezTo>
                        <a:pt x="1211808" y="1685442"/>
                        <a:pt x="1235437" y="1676912"/>
                        <a:pt x="1252330" y="1660019"/>
                      </a:cubicBezTo>
                      <a:cubicBezTo>
                        <a:pt x="1268895" y="1643454"/>
                        <a:pt x="1282534" y="1623319"/>
                        <a:pt x="1302026" y="1610324"/>
                      </a:cubicBezTo>
                      <a:lnTo>
                        <a:pt x="1361661" y="1570567"/>
                      </a:lnTo>
                      <a:cubicBezTo>
                        <a:pt x="1371600" y="1563941"/>
                        <a:pt x="1383031" y="1559136"/>
                        <a:pt x="1391478" y="1550689"/>
                      </a:cubicBezTo>
                      <a:cubicBezTo>
                        <a:pt x="1398104" y="1544063"/>
                        <a:pt x="1402975" y="1535001"/>
                        <a:pt x="1411357" y="1530810"/>
                      </a:cubicBezTo>
                      <a:cubicBezTo>
                        <a:pt x="1435555" y="1518711"/>
                        <a:pt x="1482214" y="1508126"/>
                        <a:pt x="1510748" y="1500993"/>
                      </a:cubicBezTo>
                      <a:cubicBezTo>
                        <a:pt x="1530626" y="1487741"/>
                        <a:pt x="1562828" y="1483902"/>
                        <a:pt x="1570383" y="1461237"/>
                      </a:cubicBezTo>
                      <a:cubicBezTo>
                        <a:pt x="1573696" y="1451298"/>
                        <a:pt x="1572914" y="1438827"/>
                        <a:pt x="1580322" y="1431419"/>
                      </a:cubicBezTo>
                      <a:cubicBezTo>
                        <a:pt x="1597215" y="1414526"/>
                        <a:pt x="1639957" y="1391663"/>
                        <a:pt x="1639957" y="1391663"/>
                      </a:cubicBezTo>
                      <a:cubicBezTo>
                        <a:pt x="1636644" y="1358532"/>
                        <a:pt x="1635080" y="1325180"/>
                        <a:pt x="1630017" y="1292271"/>
                      </a:cubicBezTo>
                      <a:cubicBezTo>
                        <a:pt x="1628424" y="1281916"/>
                        <a:pt x="1626364" y="1270835"/>
                        <a:pt x="1620078" y="1262454"/>
                      </a:cubicBezTo>
                      <a:cubicBezTo>
                        <a:pt x="1586782" y="1218059"/>
                        <a:pt x="1555923" y="1203118"/>
                        <a:pt x="1510748" y="1173002"/>
                      </a:cubicBezTo>
                      <a:cubicBezTo>
                        <a:pt x="1500809" y="1166376"/>
                        <a:pt x="1489377" y="1161571"/>
                        <a:pt x="1480930" y="1153124"/>
                      </a:cubicBezTo>
                      <a:lnTo>
                        <a:pt x="1461052" y="1133245"/>
                      </a:lnTo>
                      <a:cubicBezTo>
                        <a:pt x="1473590" y="1032938"/>
                        <a:pt x="1462544" y="1079073"/>
                        <a:pt x="1490870" y="994097"/>
                      </a:cubicBezTo>
                      <a:lnTo>
                        <a:pt x="1500809" y="964280"/>
                      </a:lnTo>
                      <a:cubicBezTo>
                        <a:pt x="1497496" y="937776"/>
                        <a:pt x="1495648" y="911047"/>
                        <a:pt x="1490870" y="884767"/>
                      </a:cubicBezTo>
                      <a:cubicBezTo>
                        <a:pt x="1488996" y="874459"/>
                        <a:pt x="1489647" y="860761"/>
                        <a:pt x="1480930" y="854950"/>
                      </a:cubicBezTo>
                      <a:cubicBezTo>
                        <a:pt x="1466874" y="845579"/>
                        <a:pt x="1447800" y="848323"/>
                        <a:pt x="1431235" y="845010"/>
                      </a:cubicBezTo>
                      <a:cubicBezTo>
                        <a:pt x="1441174" y="838384"/>
                        <a:pt x="1454426" y="835071"/>
                        <a:pt x="1461052" y="825132"/>
                      </a:cubicBezTo>
                      <a:cubicBezTo>
                        <a:pt x="1468629" y="813766"/>
                        <a:pt x="1465610" y="797931"/>
                        <a:pt x="1470991" y="785376"/>
                      </a:cubicBezTo>
                      <a:cubicBezTo>
                        <a:pt x="1475697" y="774396"/>
                        <a:pt x="1484244" y="765497"/>
                        <a:pt x="1490870" y="755558"/>
                      </a:cubicBezTo>
                      <a:cubicBezTo>
                        <a:pt x="1494183" y="745619"/>
                        <a:pt x="1502532" y="736075"/>
                        <a:pt x="1500809" y="725741"/>
                      </a:cubicBezTo>
                      <a:cubicBezTo>
                        <a:pt x="1495520" y="694008"/>
                        <a:pt x="1474369" y="693737"/>
                        <a:pt x="1451113" y="685984"/>
                      </a:cubicBezTo>
                      <a:cubicBezTo>
                        <a:pt x="1431235" y="659480"/>
                        <a:pt x="1414905" y="629898"/>
                        <a:pt x="1391478" y="606471"/>
                      </a:cubicBezTo>
                      <a:cubicBezTo>
                        <a:pt x="1353214" y="568207"/>
                        <a:pt x="1369458" y="588349"/>
                        <a:pt x="1341783" y="546837"/>
                      </a:cubicBezTo>
                      <a:cubicBezTo>
                        <a:pt x="1364974" y="477263"/>
                        <a:pt x="1341783" y="493828"/>
                        <a:pt x="1391478" y="477263"/>
                      </a:cubicBezTo>
                      <a:cubicBezTo>
                        <a:pt x="1423970" y="379784"/>
                        <a:pt x="1371292" y="517480"/>
                        <a:pt x="1431235" y="427567"/>
                      </a:cubicBezTo>
                      <a:cubicBezTo>
                        <a:pt x="1438812" y="416201"/>
                        <a:pt x="1437421" y="400945"/>
                        <a:pt x="1441174" y="387810"/>
                      </a:cubicBezTo>
                      <a:cubicBezTo>
                        <a:pt x="1451461" y="351805"/>
                        <a:pt x="1449212" y="360845"/>
                        <a:pt x="1470991" y="328176"/>
                      </a:cubicBezTo>
                      <a:cubicBezTo>
                        <a:pt x="1477617" y="301672"/>
                        <a:pt x="1468138" y="263818"/>
                        <a:pt x="1490870" y="248663"/>
                      </a:cubicBezTo>
                      <a:lnTo>
                        <a:pt x="1550504" y="208906"/>
                      </a:lnTo>
                      <a:cubicBezTo>
                        <a:pt x="1557130" y="198967"/>
                        <a:pt x="1562921" y="188417"/>
                        <a:pt x="1570383" y="179089"/>
                      </a:cubicBezTo>
                      <a:cubicBezTo>
                        <a:pt x="1576237" y="171772"/>
                        <a:pt x="1586570" y="167823"/>
                        <a:pt x="1590261" y="159210"/>
                      </a:cubicBezTo>
                      <a:cubicBezTo>
                        <a:pt x="1596915" y="143683"/>
                        <a:pt x="1596887" y="126080"/>
                        <a:pt x="1600200" y="109515"/>
                      </a:cubicBezTo>
                      <a:cubicBezTo>
                        <a:pt x="1596887" y="86324"/>
                        <a:pt x="1602677" y="59807"/>
                        <a:pt x="1590261" y="39941"/>
                      </a:cubicBezTo>
                      <a:cubicBezTo>
                        <a:pt x="1583021" y="28357"/>
                        <a:pt x="1563060" y="35383"/>
                        <a:pt x="1550504" y="30002"/>
                      </a:cubicBezTo>
                      <a:cubicBezTo>
                        <a:pt x="1466662" y="-5930"/>
                        <a:pt x="1605941" y="4581"/>
                        <a:pt x="1421296" y="184"/>
                      </a:cubicBezTo>
                      <a:cubicBezTo>
                        <a:pt x="1315308" y="-2340"/>
                        <a:pt x="1181100" y="21719"/>
                        <a:pt x="1123122" y="30002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09" name=""/>
                <p:cNvGrpSpPr/>
                <p:nvPr/>
              </p:nvGrpSpPr>
              <p:grpSpPr>
                <a:xfrm>
                  <a:off x="3298320" y="2629080"/>
                  <a:ext cx="804600" cy="620640"/>
                  <a:chOff x="3298320" y="2629080"/>
                  <a:chExt cx="804600" cy="620640"/>
                </a:xfrm>
              </p:grpSpPr>
              <p:sp>
                <p:nvSpPr>
                  <p:cNvPr id="410" name="任意多边形 170"/>
                  <p:cNvSpPr/>
                  <p:nvPr/>
                </p:nvSpPr>
                <p:spPr>
                  <a:xfrm rot="19641000">
                    <a:off x="3290400" y="2833560"/>
                    <a:ext cx="820080" cy="211680"/>
                  </a:xfrm>
                  <a:custGeom>
                    <a:avLst/>
                    <a:gdLst>
                      <a:gd name="textAreaLeft" fmla="*/ 0 w 820080"/>
                      <a:gd name="textAreaRight" fmla="*/ 820440 w 820080"/>
                      <a:gd name="textAreaTop" fmla="*/ 0 h 211680"/>
                      <a:gd name="textAreaBottom" fmla="*/ 212040 h 211680"/>
                    </a:gdLst>
                    <a:ahLst/>
                    <a:rect l="textAreaLeft" t="textAreaTop" r="textAreaRight" b="textAreaBottom"/>
                    <a:pathLst>
                      <a:path w="2065867" h="4030133">
                        <a:moveTo>
                          <a:pt x="270933" y="677333"/>
                        </a:moveTo>
                        <a:cubicBezTo>
                          <a:pt x="259644" y="733778"/>
                          <a:pt x="257278" y="792770"/>
                          <a:pt x="237067" y="846667"/>
                        </a:cubicBezTo>
                        <a:cubicBezTo>
                          <a:pt x="222775" y="884778"/>
                          <a:pt x="187536" y="911861"/>
                          <a:pt x="169333" y="948267"/>
                        </a:cubicBezTo>
                        <a:cubicBezTo>
                          <a:pt x="153368" y="980197"/>
                          <a:pt x="146756" y="1016000"/>
                          <a:pt x="135467" y="1049867"/>
                        </a:cubicBezTo>
                        <a:cubicBezTo>
                          <a:pt x="124178" y="1128889"/>
                          <a:pt x="124537" y="1210475"/>
                          <a:pt x="101600" y="1286933"/>
                        </a:cubicBezTo>
                        <a:cubicBezTo>
                          <a:pt x="89904" y="1325919"/>
                          <a:pt x="52070" y="1352127"/>
                          <a:pt x="33867" y="1388533"/>
                        </a:cubicBezTo>
                        <a:cubicBezTo>
                          <a:pt x="17902" y="1420463"/>
                          <a:pt x="11289" y="1456266"/>
                          <a:pt x="0" y="1490133"/>
                        </a:cubicBezTo>
                        <a:cubicBezTo>
                          <a:pt x="11289" y="1648178"/>
                          <a:pt x="6331" y="1808231"/>
                          <a:pt x="33867" y="1964267"/>
                        </a:cubicBezTo>
                        <a:cubicBezTo>
                          <a:pt x="40941" y="2004350"/>
                          <a:pt x="77942" y="2032746"/>
                          <a:pt x="101600" y="2065867"/>
                        </a:cubicBezTo>
                        <a:cubicBezTo>
                          <a:pt x="134408" y="2111798"/>
                          <a:pt x="167065" y="2157971"/>
                          <a:pt x="203200" y="2201333"/>
                        </a:cubicBezTo>
                        <a:cubicBezTo>
                          <a:pt x="223641" y="2225862"/>
                          <a:pt x="253221" y="2242500"/>
                          <a:pt x="270933" y="2269067"/>
                        </a:cubicBezTo>
                        <a:cubicBezTo>
                          <a:pt x="298937" y="2311073"/>
                          <a:pt x="313619" y="2360700"/>
                          <a:pt x="338667" y="2404533"/>
                        </a:cubicBezTo>
                        <a:cubicBezTo>
                          <a:pt x="443708" y="2588354"/>
                          <a:pt x="378175" y="2421458"/>
                          <a:pt x="440267" y="2607733"/>
                        </a:cubicBezTo>
                        <a:cubicBezTo>
                          <a:pt x="451556" y="2686755"/>
                          <a:pt x="448890" y="2769072"/>
                          <a:pt x="474133" y="2844800"/>
                        </a:cubicBezTo>
                        <a:cubicBezTo>
                          <a:pt x="484230" y="2875091"/>
                          <a:pt x="525439" y="2885153"/>
                          <a:pt x="541867" y="2912533"/>
                        </a:cubicBezTo>
                        <a:cubicBezTo>
                          <a:pt x="692110" y="3162937"/>
                          <a:pt x="437916" y="2858793"/>
                          <a:pt x="643467" y="3115733"/>
                        </a:cubicBezTo>
                        <a:cubicBezTo>
                          <a:pt x="663413" y="3140666"/>
                          <a:pt x="691254" y="3158534"/>
                          <a:pt x="711200" y="3183467"/>
                        </a:cubicBezTo>
                        <a:cubicBezTo>
                          <a:pt x="736627" y="3215251"/>
                          <a:pt x="752130" y="3254435"/>
                          <a:pt x="778933" y="3285067"/>
                        </a:cubicBezTo>
                        <a:cubicBezTo>
                          <a:pt x="831498" y="3345141"/>
                          <a:pt x="900372" y="3390540"/>
                          <a:pt x="948267" y="3454400"/>
                        </a:cubicBezTo>
                        <a:cubicBezTo>
                          <a:pt x="982134" y="3499556"/>
                          <a:pt x="1019951" y="3542002"/>
                          <a:pt x="1049867" y="3589867"/>
                        </a:cubicBezTo>
                        <a:cubicBezTo>
                          <a:pt x="1076624" y="3632678"/>
                          <a:pt x="1089596" y="3683327"/>
                          <a:pt x="1117600" y="3725333"/>
                        </a:cubicBezTo>
                        <a:cubicBezTo>
                          <a:pt x="1164328" y="3795425"/>
                          <a:pt x="1222230" y="3809038"/>
                          <a:pt x="1286933" y="3860800"/>
                        </a:cubicBezTo>
                        <a:cubicBezTo>
                          <a:pt x="1311866" y="3880746"/>
                          <a:pt x="1328100" y="3910821"/>
                          <a:pt x="1354667" y="3928533"/>
                        </a:cubicBezTo>
                        <a:cubicBezTo>
                          <a:pt x="1438370" y="3984335"/>
                          <a:pt x="1501418" y="4000029"/>
                          <a:pt x="1591733" y="4030133"/>
                        </a:cubicBezTo>
                        <a:cubicBezTo>
                          <a:pt x="1670755" y="4018844"/>
                          <a:pt x="1753072" y="4021510"/>
                          <a:pt x="1828800" y="3996267"/>
                        </a:cubicBezTo>
                        <a:cubicBezTo>
                          <a:pt x="1947678" y="3956641"/>
                          <a:pt x="1962781" y="3628192"/>
                          <a:pt x="1964267" y="3623733"/>
                        </a:cubicBezTo>
                        <a:cubicBezTo>
                          <a:pt x="1977138" y="3585119"/>
                          <a:pt x="2013797" y="3558539"/>
                          <a:pt x="2032000" y="3522133"/>
                        </a:cubicBezTo>
                        <a:cubicBezTo>
                          <a:pt x="2047965" y="3490203"/>
                          <a:pt x="2054578" y="3454400"/>
                          <a:pt x="2065867" y="3420533"/>
                        </a:cubicBezTo>
                        <a:cubicBezTo>
                          <a:pt x="2054578" y="3318933"/>
                          <a:pt x="2052048" y="3215973"/>
                          <a:pt x="2032000" y="3115733"/>
                        </a:cubicBezTo>
                        <a:cubicBezTo>
                          <a:pt x="2017998" y="3045722"/>
                          <a:pt x="1964267" y="2912533"/>
                          <a:pt x="1964267" y="2912533"/>
                        </a:cubicBezTo>
                        <a:cubicBezTo>
                          <a:pt x="2045473" y="2668911"/>
                          <a:pt x="1946942" y="2973167"/>
                          <a:pt x="2032000" y="2675467"/>
                        </a:cubicBezTo>
                        <a:cubicBezTo>
                          <a:pt x="2041807" y="2641142"/>
                          <a:pt x="2054578" y="2607734"/>
                          <a:pt x="2065867" y="2573867"/>
                        </a:cubicBezTo>
                        <a:cubicBezTo>
                          <a:pt x="1988036" y="2340376"/>
                          <a:pt x="2048618" y="2421153"/>
                          <a:pt x="1930400" y="2302933"/>
                        </a:cubicBezTo>
                        <a:cubicBezTo>
                          <a:pt x="1919111" y="2257778"/>
                          <a:pt x="1909320" y="2212221"/>
                          <a:pt x="1896533" y="2167467"/>
                        </a:cubicBezTo>
                        <a:cubicBezTo>
                          <a:pt x="1886726" y="2133142"/>
                          <a:pt x="1868536" y="2101080"/>
                          <a:pt x="1862667" y="2065867"/>
                        </a:cubicBezTo>
                        <a:cubicBezTo>
                          <a:pt x="1846052" y="1966175"/>
                          <a:pt x="1835554" y="1713597"/>
                          <a:pt x="1794933" y="1591733"/>
                        </a:cubicBezTo>
                        <a:cubicBezTo>
                          <a:pt x="1778968" y="1543839"/>
                          <a:pt x="1753174" y="1499558"/>
                          <a:pt x="1727200" y="1456267"/>
                        </a:cubicBezTo>
                        <a:cubicBezTo>
                          <a:pt x="1685317" y="1386462"/>
                          <a:pt x="1591733" y="1253067"/>
                          <a:pt x="1591733" y="1253067"/>
                        </a:cubicBezTo>
                        <a:cubicBezTo>
                          <a:pt x="1555962" y="1145753"/>
                          <a:pt x="1565165" y="1143657"/>
                          <a:pt x="1490133" y="1049867"/>
                        </a:cubicBezTo>
                        <a:cubicBezTo>
                          <a:pt x="1470187" y="1024934"/>
                          <a:pt x="1442346" y="1007066"/>
                          <a:pt x="1422400" y="982133"/>
                        </a:cubicBezTo>
                        <a:cubicBezTo>
                          <a:pt x="1396973" y="950349"/>
                          <a:pt x="1380094" y="912316"/>
                          <a:pt x="1354667" y="880533"/>
                        </a:cubicBezTo>
                        <a:cubicBezTo>
                          <a:pt x="1334721" y="855600"/>
                          <a:pt x="1306879" y="837733"/>
                          <a:pt x="1286933" y="812800"/>
                        </a:cubicBezTo>
                        <a:cubicBezTo>
                          <a:pt x="1261506" y="781017"/>
                          <a:pt x="1246241" y="741622"/>
                          <a:pt x="1219200" y="711200"/>
                        </a:cubicBezTo>
                        <a:cubicBezTo>
                          <a:pt x="1155561" y="639606"/>
                          <a:pt x="1095702" y="561134"/>
                          <a:pt x="1016000" y="508000"/>
                        </a:cubicBezTo>
                        <a:cubicBezTo>
                          <a:pt x="887833" y="422556"/>
                          <a:pt x="943181" y="469048"/>
                          <a:pt x="846667" y="372533"/>
                        </a:cubicBezTo>
                        <a:cubicBezTo>
                          <a:pt x="835378" y="338666"/>
                          <a:pt x="832602" y="300636"/>
                          <a:pt x="812800" y="270933"/>
                        </a:cubicBezTo>
                        <a:cubicBezTo>
                          <a:pt x="786233" y="231082"/>
                          <a:pt x="749006" y="198737"/>
                          <a:pt x="711200" y="169333"/>
                        </a:cubicBezTo>
                        <a:cubicBezTo>
                          <a:pt x="536524" y="33474"/>
                          <a:pt x="559693" y="51098"/>
                          <a:pt x="406400" y="0"/>
                        </a:cubicBezTo>
                        <a:cubicBezTo>
                          <a:pt x="361244" y="11289"/>
                          <a:pt x="313715" y="15532"/>
                          <a:pt x="270933" y="33867"/>
                        </a:cubicBezTo>
                        <a:cubicBezTo>
                          <a:pt x="53886" y="126887"/>
                          <a:pt x="173770" y="228415"/>
                          <a:pt x="203200" y="508000"/>
                        </a:cubicBezTo>
                        <a:cubicBezTo>
                          <a:pt x="230238" y="764856"/>
                          <a:pt x="168958" y="711013"/>
                          <a:pt x="304800" y="778933"/>
                        </a:cubicBez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1" name="任意多边形 171"/>
                  <p:cNvSpPr/>
                  <p:nvPr/>
                </p:nvSpPr>
                <p:spPr>
                  <a:xfrm rot="18059400">
                    <a:off x="3701880" y="2776680"/>
                    <a:ext cx="241560" cy="171360"/>
                  </a:xfrm>
                  <a:custGeom>
                    <a:avLst/>
                    <a:gdLst>
                      <a:gd name="textAreaLeft" fmla="*/ 0 w 241560"/>
                      <a:gd name="textAreaRight" fmla="*/ 241920 w 241560"/>
                      <a:gd name="textAreaTop" fmla="*/ 0 h 171360"/>
                      <a:gd name="textAreaBottom" fmla="*/ 171720 h 171360"/>
                    </a:gdLst>
                    <a:ahLst/>
                    <a:rect l="textAreaLeft" t="textAreaTop" r="textAreaRight" b="textAreaBottom"/>
                    <a:pathLst>
                      <a:path w="2065867" h="4030133">
                        <a:moveTo>
                          <a:pt x="270933" y="677333"/>
                        </a:moveTo>
                        <a:cubicBezTo>
                          <a:pt x="259644" y="733778"/>
                          <a:pt x="257278" y="792770"/>
                          <a:pt x="237067" y="846667"/>
                        </a:cubicBezTo>
                        <a:cubicBezTo>
                          <a:pt x="222775" y="884778"/>
                          <a:pt x="187536" y="911861"/>
                          <a:pt x="169333" y="948267"/>
                        </a:cubicBezTo>
                        <a:cubicBezTo>
                          <a:pt x="153368" y="980197"/>
                          <a:pt x="146756" y="1016000"/>
                          <a:pt x="135467" y="1049867"/>
                        </a:cubicBezTo>
                        <a:cubicBezTo>
                          <a:pt x="124178" y="1128889"/>
                          <a:pt x="124537" y="1210475"/>
                          <a:pt x="101600" y="1286933"/>
                        </a:cubicBezTo>
                        <a:cubicBezTo>
                          <a:pt x="89904" y="1325919"/>
                          <a:pt x="52070" y="1352127"/>
                          <a:pt x="33867" y="1388533"/>
                        </a:cubicBezTo>
                        <a:cubicBezTo>
                          <a:pt x="17902" y="1420463"/>
                          <a:pt x="11289" y="1456266"/>
                          <a:pt x="0" y="1490133"/>
                        </a:cubicBezTo>
                        <a:cubicBezTo>
                          <a:pt x="11289" y="1648178"/>
                          <a:pt x="6331" y="1808231"/>
                          <a:pt x="33867" y="1964267"/>
                        </a:cubicBezTo>
                        <a:cubicBezTo>
                          <a:pt x="40941" y="2004350"/>
                          <a:pt x="77942" y="2032746"/>
                          <a:pt x="101600" y="2065867"/>
                        </a:cubicBezTo>
                        <a:cubicBezTo>
                          <a:pt x="134408" y="2111798"/>
                          <a:pt x="167065" y="2157971"/>
                          <a:pt x="203200" y="2201333"/>
                        </a:cubicBezTo>
                        <a:cubicBezTo>
                          <a:pt x="223641" y="2225862"/>
                          <a:pt x="253221" y="2242500"/>
                          <a:pt x="270933" y="2269067"/>
                        </a:cubicBezTo>
                        <a:cubicBezTo>
                          <a:pt x="298937" y="2311073"/>
                          <a:pt x="313619" y="2360700"/>
                          <a:pt x="338667" y="2404533"/>
                        </a:cubicBezTo>
                        <a:cubicBezTo>
                          <a:pt x="443708" y="2588354"/>
                          <a:pt x="378175" y="2421458"/>
                          <a:pt x="440267" y="2607733"/>
                        </a:cubicBezTo>
                        <a:cubicBezTo>
                          <a:pt x="451556" y="2686755"/>
                          <a:pt x="448890" y="2769072"/>
                          <a:pt x="474133" y="2844800"/>
                        </a:cubicBezTo>
                        <a:cubicBezTo>
                          <a:pt x="484230" y="2875091"/>
                          <a:pt x="525439" y="2885153"/>
                          <a:pt x="541867" y="2912533"/>
                        </a:cubicBezTo>
                        <a:cubicBezTo>
                          <a:pt x="692110" y="3162937"/>
                          <a:pt x="437916" y="2858793"/>
                          <a:pt x="643467" y="3115733"/>
                        </a:cubicBezTo>
                        <a:cubicBezTo>
                          <a:pt x="663413" y="3140666"/>
                          <a:pt x="691254" y="3158534"/>
                          <a:pt x="711200" y="3183467"/>
                        </a:cubicBezTo>
                        <a:cubicBezTo>
                          <a:pt x="736627" y="3215251"/>
                          <a:pt x="752130" y="3254435"/>
                          <a:pt x="778933" y="3285067"/>
                        </a:cubicBezTo>
                        <a:cubicBezTo>
                          <a:pt x="831498" y="3345141"/>
                          <a:pt x="900372" y="3390540"/>
                          <a:pt x="948267" y="3454400"/>
                        </a:cubicBezTo>
                        <a:cubicBezTo>
                          <a:pt x="982134" y="3499556"/>
                          <a:pt x="1019951" y="3542002"/>
                          <a:pt x="1049867" y="3589867"/>
                        </a:cubicBezTo>
                        <a:cubicBezTo>
                          <a:pt x="1076624" y="3632678"/>
                          <a:pt x="1089596" y="3683327"/>
                          <a:pt x="1117600" y="3725333"/>
                        </a:cubicBezTo>
                        <a:cubicBezTo>
                          <a:pt x="1164328" y="3795425"/>
                          <a:pt x="1222230" y="3809038"/>
                          <a:pt x="1286933" y="3860800"/>
                        </a:cubicBezTo>
                        <a:cubicBezTo>
                          <a:pt x="1311866" y="3880746"/>
                          <a:pt x="1328100" y="3910821"/>
                          <a:pt x="1354667" y="3928533"/>
                        </a:cubicBezTo>
                        <a:cubicBezTo>
                          <a:pt x="1438370" y="3984335"/>
                          <a:pt x="1501418" y="4000029"/>
                          <a:pt x="1591733" y="4030133"/>
                        </a:cubicBezTo>
                        <a:cubicBezTo>
                          <a:pt x="1670755" y="4018844"/>
                          <a:pt x="1753072" y="4021510"/>
                          <a:pt x="1828800" y="3996267"/>
                        </a:cubicBezTo>
                        <a:cubicBezTo>
                          <a:pt x="1947678" y="3956641"/>
                          <a:pt x="1962781" y="3628192"/>
                          <a:pt x="1964267" y="3623733"/>
                        </a:cubicBezTo>
                        <a:cubicBezTo>
                          <a:pt x="1977138" y="3585119"/>
                          <a:pt x="2013797" y="3558539"/>
                          <a:pt x="2032000" y="3522133"/>
                        </a:cubicBezTo>
                        <a:cubicBezTo>
                          <a:pt x="2047965" y="3490203"/>
                          <a:pt x="2054578" y="3454400"/>
                          <a:pt x="2065867" y="3420533"/>
                        </a:cubicBezTo>
                        <a:cubicBezTo>
                          <a:pt x="2054578" y="3318933"/>
                          <a:pt x="2052048" y="3215973"/>
                          <a:pt x="2032000" y="3115733"/>
                        </a:cubicBezTo>
                        <a:cubicBezTo>
                          <a:pt x="2017998" y="3045722"/>
                          <a:pt x="1964267" y="2912533"/>
                          <a:pt x="1964267" y="2912533"/>
                        </a:cubicBezTo>
                        <a:cubicBezTo>
                          <a:pt x="2045473" y="2668911"/>
                          <a:pt x="1946942" y="2973167"/>
                          <a:pt x="2032000" y="2675467"/>
                        </a:cubicBezTo>
                        <a:cubicBezTo>
                          <a:pt x="2041807" y="2641142"/>
                          <a:pt x="2054578" y="2607734"/>
                          <a:pt x="2065867" y="2573867"/>
                        </a:cubicBezTo>
                        <a:cubicBezTo>
                          <a:pt x="1988036" y="2340376"/>
                          <a:pt x="2048618" y="2421153"/>
                          <a:pt x="1930400" y="2302933"/>
                        </a:cubicBezTo>
                        <a:cubicBezTo>
                          <a:pt x="1919111" y="2257778"/>
                          <a:pt x="1909320" y="2212221"/>
                          <a:pt x="1896533" y="2167467"/>
                        </a:cubicBezTo>
                        <a:cubicBezTo>
                          <a:pt x="1886726" y="2133142"/>
                          <a:pt x="1868536" y="2101080"/>
                          <a:pt x="1862667" y="2065867"/>
                        </a:cubicBezTo>
                        <a:cubicBezTo>
                          <a:pt x="1846052" y="1966175"/>
                          <a:pt x="1835554" y="1713597"/>
                          <a:pt x="1794933" y="1591733"/>
                        </a:cubicBezTo>
                        <a:cubicBezTo>
                          <a:pt x="1778968" y="1543839"/>
                          <a:pt x="1753174" y="1499558"/>
                          <a:pt x="1727200" y="1456267"/>
                        </a:cubicBezTo>
                        <a:cubicBezTo>
                          <a:pt x="1685317" y="1386462"/>
                          <a:pt x="1591733" y="1253067"/>
                          <a:pt x="1591733" y="1253067"/>
                        </a:cubicBezTo>
                        <a:cubicBezTo>
                          <a:pt x="1555962" y="1145753"/>
                          <a:pt x="1565165" y="1143657"/>
                          <a:pt x="1490133" y="1049867"/>
                        </a:cubicBezTo>
                        <a:cubicBezTo>
                          <a:pt x="1470187" y="1024934"/>
                          <a:pt x="1442346" y="1007066"/>
                          <a:pt x="1422400" y="982133"/>
                        </a:cubicBezTo>
                        <a:cubicBezTo>
                          <a:pt x="1396973" y="950349"/>
                          <a:pt x="1380094" y="912316"/>
                          <a:pt x="1354667" y="880533"/>
                        </a:cubicBezTo>
                        <a:cubicBezTo>
                          <a:pt x="1334721" y="855600"/>
                          <a:pt x="1306879" y="837733"/>
                          <a:pt x="1286933" y="812800"/>
                        </a:cubicBezTo>
                        <a:cubicBezTo>
                          <a:pt x="1261506" y="781017"/>
                          <a:pt x="1246241" y="741622"/>
                          <a:pt x="1219200" y="711200"/>
                        </a:cubicBezTo>
                        <a:cubicBezTo>
                          <a:pt x="1155561" y="639606"/>
                          <a:pt x="1095702" y="561134"/>
                          <a:pt x="1016000" y="508000"/>
                        </a:cubicBezTo>
                        <a:cubicBezTo>
                          <a:pt x="887833" y="422556"/>
                          <a:pt x="943181" y="469048"/>
                          <a:pt x="846667" y="372533"/>
                        </a:cubicBezTo>
                        <a:cubicBezTo>
                          <a:pt x="835378" y="338666"/>
                          <a:pt x="832602" y="300636"/>
                          <a:pt x="812800" y="270933"/>
                        </a:cubicBezTo>
                        <a:cubicBezTo>
                          <a:pt x="786233" y="231082"/>
                          <a:pt x="749006" y="198737"/>
                          <a:pt x="711200" y="169333"/>
                        </a:cubicBezTo>
                        <a:cubicBezTo>
                          <a:pt x="536524" y="33474"/>
                          <a:pt x="559693" y="51098"/>
                          <a:pt x="406400" y="0"/>
                        </a:cubicBezTo>
                        <a:cubicBezTo>
                          <a:pt x="361244" y="11289"/>
                          <a:pt x="313715" y="15532"/>
                          <a:pt x="270933" y="33867"/>
                        </a:cubicBezTo>
                        <a:cubicBezTo>
                          <a:pt x="53886" y="126887"/>
                          <a:pt x="173770" y="228415"/>
                          <a:pt x="203200" y="508000"/>
                        </a:cubicBezTo>
                        <a:cubicBezTo>
                          <a:pt x="230238" y="764856"/>
                          <a:pt x="168958" y="711013"/>
                          <a:pt x="304800" y="778933"/>
                        </a:cubicBezTo>
                      </a:path>
                    </a:pathLst>
                  </a:custGeom>
                  <a:solidFill>
                    <a:srgbClr val="f2f2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2" name="任意多边形 172"/>
                  <p:cNvSpPr/>
                  <p:nvPr/>
                </p:nvSpPr>
                <p:spPr>
                  <a:xfrm rot="17366400">
                    <a:off x="3679560" y="2878560"/>
                    <a:ext cx="116280" cy="128880"/>
                  </a:xfrm>
                  <a:custGeom>
                    <a:avLst/>
                    <a:gdLst>
                      <a:gd name="textAreaLeft" fmla="*/ 0 w 116280"/>
                      <a:gd name="textAreaRight" fmla="*/ 116640 w 116280"/>
                      <a:gd name="textAreaTop" fmla="*/ 0 h 128880"/>
                      <a:gd name="textAreaBottom" fmla="*/ 129240 h 128880"/>
                    </a:gdLst>
                    <a:ahLst/>
                    <a:rect l="textAreaLeft" t="textAreaTop" r="textAreaRight" b="textAreaBottom"/>
                    <a:pathLst>
                      <a:path w="2065867" h="4030133">
                        <a:moveTo>
                          <a:pt x="270933" y="677333"/>
                        </a:moveTo>
                        <a:cubicBezTo>
                          <a:pt x="259644" y="733778"/>
                          <a:pt x="257278" y="792770"/>
                          <a:pt x="237067" y="846667"/>
                        </a:cubicBezTo>
                        <a:cubicBezTo>
                          <a:pt x="222775" y="884778"/>
                          <a:pt x="187536" y="911861"/>
                          <a:pt x="169333" y="948267"/>
                        </a:cubicBezTo>
                        <a:cubicBezTo>
                          <a:pt x="153368" y="980197"/>
                          <a:pt x="146756" y="1016000"/>
                          <a:pt x="135467" y="1049867"/>
                        </a:cubicBezTo>
                        <a:cubicBezTo>
                          <a:pt x="124178" y="1128889"/>
                          <a:pt x="124537" y="1210475"/>
                          <a:pt x="101600" y="1286933"/>
                        </a:cubicBezTo>
                        <a:cubicBezTo>
                          <a:pt x="89904" y="1325919"/>
                          <a:pt x="52070" y="1352127"/>
                          <a:pt x="33867" y="1388533"/>
                        </a:cubicBezTo>
                        <a:cubicBezTo>
                          <a:pt x="17902" y="1420463"/>
                          <a:pt x="11289" y="1456266"/>
                          <a:pt x="0" y="1490133"/>
                        </a:cubicBezTo>
                        <a:cubicBezTo>
                          <a:pt x="11289" y="1648178"/>
                          <a:pt x="6331" y="1808231"/>
                          <a:pt x="33867" y="1964267"/>
                        </a:cubicBezTo>
                        <a:cubicBezTo>
                          <a:pt x="40941" y="2004350"/>
                          <a:pt x="77942" y="2032746"/>
                          <a:pt x="101600" y="2065867"/>
                        </a:cubicBezTo>
                        <a:cubicBezTo>
                          <a:pt x="134408" y="2111798"/>
                          <a:pt x="167065" y="2157971"/>
                          <a:pt x="203200" y="2201333"/>
                        </a:cubicBezTo>
                        <a:cubicBezTo>
                          <a:pt x="223641" y="2225862"/>
                          <a:pt x="253221" y="2242500"/>
                          <a:pt x="270933" y="2269067"/>
                        </a:cubicBezTo>
                        <a:cubicBezTo>
                          <a:pt x="298937" y="2311073"/>
                          <a:pt x="313619" y="2360700"/>
                          <a:pt x="338667" y="2404533"/>
                        </a:cubicBezTo>
                        <a:cubicBezTo>
                          <a:pt x="443708" y="2588354"/>
                          <a:pt x="378175" y="2421458"/>
                          <a:pt x="440267" y="2607733"/>
                        </a:cubicBezTo>
                        <a:cubicBezTo>
                          <a:pt x="451556" y="2686755"/>
                          <a:pt x="448890" y="2769072"/>
                          <a:pt x="474133" y="2844800"/>
                        </a:cubicBezTo>
                        <a:cubicBezTo>
                          <a:pt x="484230" y="2875091"/>
                          <a:pt x="525439" y="2885153"/>
                          <a:pt x="541867" y="2912533"/>
                        </a:cubicBezTo>
                        <a:cubicBezTo>
                          <a:pt x="692110" y="3162937"/>
                          <a:pt x="437916" y="2858793"/>
                          <a:pt x="643467" y="3115733"/>
                        </a:cubicBezTo>
                        <a:cubicBezTo>
                          <a:pt x="663413" y="3140666"/>
                          <a:pt x="691254" y="3158534"/>
                          <a:pt x="711200" y="3183467"/>
                        </a:cubicBezTo>
                        <a:cubicBezTo>
                          <a:pt x="736627" y="3215251"/>
                          <a:pt x="752130" y="3254435"/>
                          <a:pt x="778933" y="3285067"/>
                        </a:cubicBezTo>
                        <a:cubicBezTo>
                          <a:pt x="831498" y="3345141"/>
                          <a:pt x="900372" y="3390540"/>
                          <a:pt x="948267" y="3454400"/>
                        </a:cubicBezTo>
                        <a:cubicBezTo>
                          <a:pt x="982134" y="3499556"/>
                          <a:pt x="1019951" y="3542002"/>
                          <a:pt x="1049867" y="3589867"/>
                        </a:cubicBezTo>
                        <a:cubicBezTo>
                          <a:pt x="1076624" y="3632678"/>
                          <a:pt x="1089596" y="3683327"/>
                          <a:pt x="1117600" y="3725333"/>
                        </a:cubicBezTo>
                        <a:cubicBezTo>
                          <a:pt x="1164328" y="3795425"/>
                          <a:pt x="1222230" y="3809038"/>
                          <a:pt x="1286933" y="3860800"/>
                        </a:cubicBezTo>
                        <a:cubicBezTo>
                          <a:pt x="1311866" y="3880746"/>
                          <a:pt x="1328100" y="3910821"/>
                          <a:pt x="1354667" y="3928533"/>
                        </a:cubicBezTo>
                        <a:cubicBezTo>
                          <a:pt x="1438370" y="3984335"/>
                          <a:pt x="1501418" y="4000029"/>
                          <a:pt x="1591733" y="4030133"/>
                        </a:cubicBezTo>
                        <a:cubicBezTo>
                          <a:pt x="1670755" y="4018844"/>
                          <a:pt x="1753072" y="4021510"/>
                          <a:pt x="1828800" y="3996267"/>
                        </a:cubicBezTo>
                        <a:cubicBezTo>
                          <a:pt x="1947678" y="3956641"/>
                          <a:pt x="1962781" y="3628192"/>
                          <a:pt x="1964267" y="3623733"/>
                        </a:cubicBezTo>
                        <a:cubicBezTo>
                          <a:pt x="1977138" y="3585119"/>
                          <a:pt x="2013797" y="3558539"/>
                          <a:pt x="2032000" y="3522133"/>
                        </a:cubicBezTo>
                        <a:cubicBezTo>
                          <a:pt x="2047965" y="3490203"/>
                          <a:pt x="2054578" y="3454400"/>
                          <a:pt x="2065867" y="3420533"/>
                        </a:cubicBezTo>
                        <a:cubicBezTo>
                          <a:pt x="2054578" y="3318933"/>
                          <a:pt x="2052048" y="3215973"/>
                          <a:pt x="2032000" y="3115733"/>
                        </a:cubicBezTo>
                        <a:cubicBezTo>
                          <a:pt x="2017998" y="3045722"/>
                          <a:pt x="1964267" y="2912533"/>
                          <a:pt x="1964267" y="2912533"/>
                        </a:cubicBezTo>
                        <a:cubicBezTo>
                          <a:pt x="2045473" y="2668911"/>
                          <a:pt x="1946942" y="2973167"/>
                          <a:pt x="2032000" y="2675467"/>
                        </a:cubicBezTo>
                        <a:cubicBezTo>
                          <a:pt x="2041807" y="2641142"/>
                          <a:pt x="2054578" y="2607734"/>
                          <a:pt x="2065867" y="2573867"/>
                        </a:cubicBezTo>
                        <a:cubicBezTo>
                          <a:pt x="1988036" y="2340376"/>
                          <a:pt x="2048618" y="2421153"/>
                          <a:pt x="1930400" y="2302933"/>
                        </a:cubicBezTo>
                        <a:cubicBezTo>
                          <a:pt x="1919111" y="2257778"/>
                          <a:pt x="1909320" y="2212221"/>
                          <a:pt x="1896533" y="2167467"/>
                        </a:cubicBezTo>
                        <a:cubicBezTo>
                          <a:pt x="1886726" y="2133142"/>
                          <a:pt x="1868536" y="2101080"/>
                          <a:pt x="1862667" y="2065867"/>
                        </a:cubicBezTo>
                        <a:cubicBezTo>
                          <a:pt x="1846052" y="1966175"/>
                          <a:pt x="1835554" y="1713597"/>
                          <a:pt x="1794933" y="1591733"/>
                        </a:cubicBezTo>
                        <a:cubicBezTo>
                          <a:pt x="1778968" y="1543839"/>
                          <a:pt x="1753174" y="1499558"/>
                          <a:pt x="1727200" y="1456267"/>
                        </a:cubicBezTo>
                        <a:cubicBezTo>
                          <a:pt x="1685317" y="1386462"/>
                          <a:pt x="1591733" y="1253067"/>
                          <a:pt x="1591733" y="1253067"/>
                        </a:cubicBezTo>
                        <a:cubicBezTo>
                          <a:pt x="1555962" y="1145753"/>
                          <a:pt x="1565165" y="1143657"/>
                          <a:pt x="1490133" y="1049867"/>
                        </a:cubicBezTo>
                        <a:cubicBezTo>
                          <a:pt x="1470187" y="1024934"/>
                          <a:pt x="1442346" y="1007066"/>
                          <a:pt x="1422400" y="982133"/>
                        </a:cubicBezTo>
                        <a:cubicBezTo>
                          <a:pt x="1396973" y="950349"/>
                          <a:pt x="1380094" y="912316"/>
                          <a:pt x="1354667" y="880533"/>
                        </a:cubicBezTo>
                        <a:cubicBezTo>
                          <a:pt x="1334721" y="855600"/>
                          <a:pt x="1306879" y="837733"/>
                          <a:pt x="1286933" y="812800"/>
                        </a:cubicBezTo>
                        <a:cubicBezTo>
                          <a:pt x="1261506" y="781017"/>
                          <a:pt x="1246241" y="741622"/>
                          <a:pt x="1219200" y="711200"/>
                        </a:cubicBezTo>
                        <a:cubicBezTo>
                          <a:pt x="1155561" y="639606"/>
                          <a:pt x="1095702" y="561134"/>
                          <a:pt x="1016000" y="508000"/>
                        </a:cubicBezTo>
                        <a:cubicBezTo>
                          <a:pt x="887833" y="422556"/>
                          <a:pt x="943181" y="469048"/>
                          <a:pt x="846667" y="372533"/>
                        </a:cubicBezTo>
                        <a:cubicBezTo>
                          <a:pt x="835378" y="338666"/>
                          <a:pt x="832602" y="300636"/>
                          <a:pt x="812800" y="270933"/>
                        </a:cubicBezTo>
                        <a:cubicBezTo>
                          <a:pt x="786233" y="231082"/>
                          <a:pt x="749006" y="198737"/>
                          <a:pt x="711200" y="169333"/>
                        </a:cubicBezTo>
                        <a:cubicBezTo>
                          <a:pt x="536524" y="33474"/>
                          <a:pt x="559693" y="51098"/>
                          <a:pt x="406400" y="0"/>
                        </a:cubicBezTo>
                        <a:cubicBezTo>
                          <a:pt x="361244" y="11289"/>
                          <a:pt x="313715" y="15532"/>
                          <a:pt x="270933" y="33867"/>
                        </a:cubicBezTo>
                        <a:cubicBezTo>
                          <a:pt x="53886" y="126887"/>
                          <a:pt x="173770" y="228415"/>
                          <a:pt x="203200" y="508000"/>
                        </a:cubicBezTo>
                        <a:cubicBezTo>
                          <a:pt x="230238" y="764856"/>
                          <a:pt x="168958" y="711013"/>
                          <a:pt x="304800" y="778933"/>
                        </a:cubicBezTo>
                      </a:path>
                    </a:pathLst>
                  </a:custGeom>
                  <a:solidFill>
                    <a:srgbClr val="f2f2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3" name=""/>
                <p:cNvGrpSpPr/>
                <p:nvPr/>
              </p:nvGrpSpPr>
              <p:grpSpPr>
                <a:xfrm>
                  <a:off x="3331440" y="3007440"/>
                  <a:ext cx="810000" cy="613440"/>
                  <a:chOff x="3331440" y="3007440"/>
                  <a:chExt cx="810000" cy="613440"/>
                </a:xfrm>
              </p:grpSpPr>
              <p:sp>
                <p:nvSpPr>
                  <p:cNvPr id="414" name="任意多边形 167"/>
                  <p:cNvSpPr/>
                  <p:nvPr/>
                </p:nvSpPr>
                <p:spPr>
                  <a:xfrm rot="19971000">
                    <a:off x="3358800" y="3162960"/>
                    <a:ext cx="755280" cy="302400"/>
                  </a:xfrm>
                  <a:custGeom>
                    <a:avLst/>
                    <a:gdLst>
                      <a:gd name="textAreaLeft" fmla="*/ 0 w 755280"/>
                      <a:gd name="textAreaRight" fmla="*/ 755640 w 755280"/>
                      <a:gd name="textAreaTop" fmla="*/ 0 h 302400"/>
                      <a:gd name="textAreaBottom" fmla="*/ 302760 h 302400"/>
                    </a:gdLst>
                    <a:ahLst/>
                    <a:rect l="textAreaLeft" t="textAreaTop" r="textAreaRight" b="textAreaBottom"/>
                    <a:pathLst>
                      <a:path w="2065867" h="4030133">
                        <a:moveTo>
                          <a:pt x="270933" y="677333"/>
                        </a:moveTo>
                        <a:cubicBezTo>
                          <a:pt x="259644" y="733778"/>
                          <a:pt x="257278" y="792770"/>
                          <a:pt x="237067" y="846667"/>
                        </a:cubicBezTo>
                        <a:cubicBezTo>
                          <a:pt x="222775" y="884778"/>
                          <a:pt x="187536" y="911861"/>
                          <a:pt x="169333" y="948267"/>
                        </a:cubicBezTo>
                        <a:cubicBezTo>
                          <a:pt x="153368" y="980197"/>
                          <a:pt x="146756" y="1016000"/>
                          <a:pt x="135467" y="1049867"/>
                        </a:cubicBezTo>
                        <a:cubicBezTo>
                          <a:pt x="124178" y="1128889"/>
                          <a:pt x="124537" y="1210475"/>
                          <a:pt x="101600" y="1286933"/>
                        </a:cubicBezTo>
                        <a:cubicBezTo>
                          <a:pt x="89904" y="1325919"/>
                          <a:pt x="52070" y="1352127"/>
                          <a:pt x="33867" y="1388533"/>
                        </a:cubicBezTo>
                        <a:cubicBezTo>
                          <a:pt x="17902" y="1420463"/>
                          <a:pt x="11289" y="1456266"/>
                          <a:pt x="0" y="1490133"/>
                        </a:cubicBezTo>
                        <a:cubicBezTo>
                          <a:pt x="11289" y="1648178"/>
                          <a:pt x="6331" y="1808231"/>
                          <a:pt x="33867" y="1964267"/>
                        </a:cubicBezTo>
                        <a:cubicBezTo>
                          <a:pt x="40941" y="2004350"/>
                          <a:pt x="77942" y="2032746"/>
                          <a:pt x="101600" y="2065867"/>
                        </a:cubicBezTo>
                        <a:cubicBezTo>
                          <a:pt x="134408" y="2111798"/>
                          <a:pt x="167065" y="2157971"/>
                          <a:pt x="203200" y="2201333"/>
                        </a:cubicBezTo>
                        <a:cubicBezTo>
                          <a:pt x="223641" y="2225862"/>
                          <a:pt x="253221" y="2242500"/>
                          <a:pt x="270933" y="2269067"/>
                        </a:cubicBezTo>
                        <a:cubicBezTo>
                          <a:pt x="298937" y="2311073"/>
                          <a:pt x="313619" y="2360700"/>
                          <a:pt x="338667" y="2404533"/>
                        </a:cubicBezTo>
                        <a:cubicBezTo>
                          <a:pt x="443708" y="2588354"/>
                          <a:pt x="378175" y="2421458"/>
                          <a:pt x="440267" y="2607733"/>
                        </a:cubicBezTo>
                        <a:cubicBezTo>
                          <a:pt x="451556" y="2686755"/>
                          <a:pt x="448890" y="2769072"/>
                          <a:pt x="474133" y="2844800"/>
                        </a:cubicBezTo>
                        <a:cubicBezTo>
                          <a:pt x="484230" y="2875091"/>
                          <a:pt x="525439" y="2885153"/>
                          <a:pt x="541867" y="2912533"/>
                        </a:cubicBezTo>
                        <a:cubicBezTo>
                          <a:pt x="692110" y="3162937"/>
                          <a:pt x="437916" y="2858793"/>
                          <a:pt x="643467" y="3115733"/>
                        </a:cubicBezTo>
                        <a:cubicBezTo>
                          <a:pt x="663413" y="3140666"/>
                          <a:pt x="691254" y="3158534"/>
                          <a:pt x="711200" y="3183467"/>
                        </a:cubicBezTo>
                        <a:cubicBezTo>
                          <a:pt x="736627" y="3215251"/>
                          <a:pt x="752130" y="3254435"/>
                          <a:pt x="778933" y="3285067"/>
                        </a:cubicBezTo>
                        <a:cubicBezTo>
                          <a:pt x="831498" y="3345141"/>
                          <a:pt x="900372" y="3390540"/>
                          <a:pt x="948267" y="3454400"/>
                        </a:cubicBezTo>
                        <a:cubicBezTo>
                          <a:pt x="982134" y="3499556"/>
                          <a:pt x="1019951" y="3542002"/>
                          <a:pt x="1049867" y="3589867"/>
                        </a:cubicBezTo>
                        <a:cubicBezTo>
                          <a:pt x="1076624" y="3632678"/>
                          <a:pt x="1089596" y="3683327"/>
                          <a:pt x="1117600" y="3725333"/>
                        </a:cubicBezTo>
                        <a:cubicBezTo>
                          <a:pt x="1164328" y="3795425"/>
                          <a:pt x="1222230" y="3809038"/>
                          <a:pt x="1286933" y="3860800"/>
                        </a:cubicBezTo>
                        <a:cubicBezTo>
                          <a:pt x="1311866" y="3880746"/>
                          <a:pt x="1328100" y="3910821"/>
                          <a:pt x="1354667" y="3928533"/>
                        </a:cubicBezTo>
                        <a:cubicBezTo>
                          <a:pt x="1438370" y="3984335"/>
                          <a:pt x="1501418" y="4000029"/>
                          <a:pt x="1591733" y="4030133"/>
                        </a:cubicBezTo>
                        <a:cubicBezTo>
                          <a:pt x="1670755" y="4018844"/>
                          <a:pt x="1753072" y="4021510"/>
                          <a:pt x="1828800" y="3996267"/>
                        </a:cubicBezTo>
                        <a:cubicBezTo>
                          <a:pt x="1947678" y="3956641"/>
                          <a:pt x="1962781" y="3628192"/>
                          <a:pt x="1964267" y="3623733"/>
                        </a:cubicBezTo>
                        <a:cubicBezTo>
                          <a:pt x="1977138" y="3585119"/>
                          <a:pt x="2013797" y="3558539"/>
                          <a:pt x="2032000" y="3522133"/>
                        </a:cubicBezTo>
                        <a:cubicBezTo>
                          <a:pt x="2047965" y="3490203"/>
                          <a:pt x="2054578" y="3454400"/>
                          <a:pt x="2065867" y="3420533"/>
                        </a:cubicBezTo>
                        <a:cubicBezTo>
                          <a:pt x="2054578" y="3318933"/>
                          <a:pt x="2052048" y="3215973"/>
                          <a:pt x="2032000" y="3115733"/>
                        </a:cubicBezTo>
                        <a:cubicBezTo>
                          <a:pt x="2017998" y="3045722"/>
                          <a:pt x="1964267" y="2912533"/>
                          <a:pt x="1964267" y="2912533"/>
                        </a:cubicBezTo>
                        <a:cubicBezTo>
                          <a:pt x="2045473" y="2668911"/>
                          <a:pt x="1946942" y="2973167"/>
                          <a:pt x="2032000" y="2675467"/>
                        </a:cubicBezTo>
                        <a:cubicBezTo>
                          <a:pt x="2041807" y="2641142"/>
                          <a:pt x="2054578" y="2607734"/>
                          <a:pt x="2065867" y="2573867"/>
                        </a:cubicBezTo>
                        <a:cubicBezTo>
                          <a:pt x="1988036" y="2340376"/>
                          <a:pt x="2048618" y="2421153"/>
                          <a:pt x="1930400" y="2302933"/>
                        </a:cubicBezTo>
                        <a:cubicBezTo>
                          <a:pt x="1919111" y="2257778"/>
                          <a:pt x="1909320" y="2212221"/>
                          <a:pt x="1896533" y="2167467"/>
                        </a:cubicBezTo>
                        <a:cubicBezTo>
                          <a:pt x="1886726" y="2133142"/>
                          <a:pt x="1868536" y="2101080"/>
                          <a:pt x="1862667" y="2065867"/>
                        </a:cubicBezTo>
                        <a:cubicBezTo>
                          <a:pt x="1846052" y="1966175"/>
                          <a:pt x="1835554" y="1713597"/>
                          <a:pt x="1794933" y="1591733"/>
                        </a:cubicBezTo>
                        <a:cubicBezTo>
                          <a:pt x="1778968" y="1543839"/>
                          <a:pt x="1753174" y="1499558"/>
                          <a:pt x="1727200" y="1456267"/>
                        </a:cubicBezTo>
                        <a:cubicBezTo>
                          <a:pt x="1685317" y="1386462"/>
                          <a:pt x="1591733" y="1253067"/>
                          <a:pt x="1591733" y="1253067"/>
                        </a:cubicBezTo>
                        <a:cubicBezTo>
                          <a:pt x="1555962" y="1145753"/>
                          <a:pt x="1565165" y="1143657"/>
                          <a:pt x="1490133" y="1049867"/>
                        </a:cubicBezTo>
                        <a:cubicBezTo>
                          <a:pt x="1470187" y="1024934"/>
                          <a:pt x="1442346" y="1007066"/>
                          <a:pt x="1422400" y="982133"/>
                        </a:cubicBezTo>
                        <a:cubicBezTo>
                          <a:pt x="1396973" y="950349"/>
                          <a:pt x="1380094" y="912316"/>
                          <a:pt x="1354667" y="880533"/>
                        </a:cubicBezTo>
                        <a:cubicBezTo>
                          <a:pt x="1334721" y="855600"/>
                          <a:pt x="1306879" y="837733"/>
                          <a:pt x="1286933" y="812800"/>
                        </a:cubicBezTo>
                        <a:cubicBezTo>
                          <a:pt x="1261506" y="781017"/>
                          <a:pt x="1246241" y="741622"/>
                          <a:pt x="1219200" y="711200"/>
                        </a:cubicBezTo>
                        <a:cubicBezTo>
                          <a:pt x="1155561" y="639606"/>
                          <a:pt x="1095702" y="561134"/>
                          <a:pt x="1016000" y="508000"/>
                        </a:cubicBezTo>
                        <a:cubicBezTo>
                          <a:pt x="887833" y="422556"/>
                          <a:pt x="943181" y="469048"/>
                          <a:pt x="846667" y="372533"/>
                        </a:cubicBezTo>
                        <a:cubicBezTo>
                          <a:pt x="835378" y="338666"/>
                          <a:pt x="832602" y="300636"/>
                          <a:pt x="812800" y="270933"/>
                        </a:cubicBezTo>
                        <a:cubicBezTo>
                          <a:pt x="786233" y="231082"/>
                          <a:pt x="749006" y="198737"/>
                          <a:pt x="711200" y="169333"/>
                        </a:cubicBezTo>
                        <a:cubicBezTo>
                          <a:pt x="536524" y="33474"/>
                          <a:pt x="559693" y="51098"/>
                          <a:pt x="406400" y="0"/>
                        </a:cubicBezTo>
                        <a:cubicBezTo>
                          <a:pt x="361244" y="11289"/>
                          <a:pt x="313715" y="15532"/>
                          <a:pt x="270933" y="33867"/>
                        </a:cubicBezTo>
                        <a:cubicBezTo>
                          <a:pt x="53886" y="126887"/>
                          <a:pt x="173770" y="228415"/>
                          <a:pt x="203200" y="508000"/>
                        </a:cubicBezTo>
                        <a:cubicBezTo>
                          <a:pt x="230238" y="764856"/>
                          <a:pt x="168958" y="711013"/>
                          <a:pt x="304800" y="778933"/>
                        </a:cubicBez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5" name="任意多边形 168"/>
                  <p:cNvSpPr/>
                  <p:nvPr/>
                </p:nvSpPr>
                <p:spPr>
                  <a:xfrm rot="18389400">
                    <a:off x="3853080" y="3076200"/>
                    <a:ext cx="187200" cy="334080"/>
                  </a:xfrm>
                  <a:custGeom>
                    <a:avLst/>
                    <a:gdLst>
                      <a:gd name="textAreaLeft" fmla="*/ 0 w 187200"/>
                      <a:gd name="textAreaRight" fmla="*/ 187560 w 187200"/>
                      <a:gd name="textAreaTop" fmla="*/ 0 h 334080"/>
                      <a:gd name="textAreaBottom" fmla="*/ 334440 h 334080"/>
                    </a:gdLst>
                    <a:ahLst/>
                    <a:rect l="textAreaLeft" t="textAreaTop" r="textAreaRight" b="textAreaBottom"/>
                    <a:pathLst>
                      <a:path w="2065867" h="4030133">
                        <a:moveTo>
                          <a:pt x="270933" y="677333"/>
                        </a:moveTo>
                        <a:cubicBezTo>
                          <a:pt x="259644" y="733778"/>
                          <a:pt x="257278" y="792770"/>
                          <a:pt x="237067" y="846667"/>
                        </a:cubicBezTo>
                        <a:cubicBezTo>
                          <a:pt x="222775" y="884778"/>
                          <a:pt x="187536" y="911861"/>
                          <a:pt x="169333" y="948267"/>
                        </a:cubicBezTo>
                        <a:cubicBezTo>
                          <a:pt x="153368" y="980197"/>
                          <a:pt x="146756" y="1016000"/>
                          <a:pt x="135467" y="1049867"/>
                        </a:cubicBezTo>
                        <a:cubicBezTo>
                          <a:pt x="124178" y="1128889"/>
                          <a:pt x="124537" y="1210475"/>
                          <a:pt x="101600" y="1286933"/>
                        </a:cubicBezTo>
                        <a:cubicBezTo>
                          <a:pt x="89904" y="1325919"/>
                          <a:pt x="52070" y="1352127"/>
                          <a:pt x="33867" y="1388533"/>
                        </a:cubicBezTo>
                        <a:cubicBezTo>
                          <a:pt x="17902" y="1420463"/>
                          <a:pt x="11289" y="1456266"/>
                          <a:pt x="0" y="1490133"/>
                        </a:cubicBezTo>
                        <a:cubicBezTo>
                          <a:pt x="11289" y="1648178"/>
                          <a:pt x="6331" y="1808231"/>
                          <a:pt x="33867" y="1964267"/>
                        </a:cubicBezTo>
                        <a:cubicBezTo>
                          <a:pt x="40941" y="2004350"/>
                          <a:pt x="77942" y="2032746"/>
                          <a:pt x="101600" y="2065867"/>
                        </a:cubicBezTo>
                        <a:cubicBezTo>
                          <a:pt x="134408" y="2111798"/>
                          <a:pt x="167065" y="2157971"/>
                          <a:pt x="203200" y="2201333"/>
                        </a:cubicBezTo>
                        <a:cubicBezTo>
                          <a:pt x="223641" y="2225862"/>
                          <a:pt x="253221" y="2242500"/>
                          <a:pt x="270933" y="2269067"/>
                        </a:cubicBezTo>
                        <a:cubicBezTo>
                          <a:pt x="298937" y="2311073"/>
                          <a:pt x="313619" y="2360700"/>
                          <a:pt x="338667" y="2404533"/>
                        </a:cubicBezTo>
                        <a:cubicBezTo>
                          <a:pt x="443708" y="2588354"/>
                          <a:pt x="378175" y="2421458"/>
                          <a:pt x="440267" y="2607733"/>
                        </a:cubicBezTo>
                        <a:cubicBezTo>
                          <a:pt x="451556" y="2686755"/>
                          <a:pt x="448890" y="2769072"/>
                          <a:pt x="474133" y="2844800"/>
                        </a:cubicBezTo>
                        <a:cubicBezTo>
                          <a:pt x="484230" y="2875091"/>
                          <a:pt x="525439" y="2885153"/>
                          <a:pt x="541867" y="2912533"/>
                        </a:cubicBezTo>
                        <a:cubicBezTo>
                          <a:pt x="692110" y="3162937"/>
                          <a:pt x="437916" y="2858793"/>
                          <a:pt x="643467" y="3115733"/>
                        </a:cubicBezTo>
                        <a:cubicBezTo>
                          <a:pt x="663413" y="3140666"/>
                          <a:pt x="691254" y="3158534"/>
                          <a:pt x="711200" y="3183467"/>
                        </a:cubicBezTo>
                        <a:cubicBezTo>
                          <a:pt x="736627" y="3215251"/>
                          <a:pt x="752130" y="3254435"/>
                          <a:pt x="778933" y="3285067"/>
                        </a:cubicBezTo>
                        <a:cubicBezTo>
                          <a:pt x="831498" y="3345141"/>
                          <a:pt x="900372" y="3390540"/>
                          <a:pt x="948267" y="3454400"/>
                        </a:cubicBezTo>
                        <a:cubicBezTo>
                          <a:pt x="982134" y="3499556"/>
                          <a:pt x="1019951" y="3542002"/>
                          <a:pt x="1049867" y="3589867"/>
                        </a:cubicBezTo>
                        <a:cubicBezTo>
                          <a:pt x="1076624" y="3632678"/>
                          <a:pt x="1089596" y="3683327"/>
                          <a:pt x="1117600" y="3725333"/>
                        </a:cubicBezTo>
                        <a:cubicBezTo>
                          <a:pt x="1164328" y="3795425"/>
                          <a:pt x="1222230" y="3809038"/>
                          <a:pt x="1286933" y="3860800"/>
                        </a:cubicBezTo>
                        <a:cubicBezTo>
                          <a:pt x="1311866" y="3880746"/>
                          <a:pt x="1328100" y="3910821"/>
                          <a:pt x="1354667" y="3928533"/>
                        </a:cubicBezTo>
                        <a:cubicBezTo>
                          <a:pt x="1438370" y="3984335"/>
                          <a:pt x="1501418" y="4000029"/>
                          <a:pt x="1591733" y="4030133"/>
                        </a:cubicBezTo>
                        <a:cubicBezTo>
                          <a:pt x="1670755" y="4018844"/>
                          <a:pt x="1753072" y="4021510"/>
                          <a:pt x="1828800" y="3996267"/>
                        </a:cubicBezTo>
                        <a:cubicBezTo>
                          <a:pt x="1947678" y="3956641"/>
                          <a:pt x="1962781" y="3628192"/>
                          <a:pt x="1964267" y="3623733"/>
                        </a:cubicBezTo>
                        <a:cubicBezTo>
                          <a:pt x="1977138" y="3585119"/>
                          <a:pt x="2013797" y="3558539"/>
                          <a:pt x="2032000" y="3522133"/>
                        </a:cubicBezTo>
                        <a:cubicBezTo>
                          <a:pt x="2047965" y="3490203"/>
                          <a:pt x="2054578" y="3454400"/>
                          <a:pt x="2065867" y="3420533"/>
                        </a:cubicBezTo>
                        <a:cubicBezTo>
                          <a:pt x="2054578" y="3318933"/>
                          <a:pt x="2052048" y="3215973"/>
                          <a:pt x="2032000" y="3115733"/>
                        </a:cubicBezTo>
                        <a:cubicBezTo>
                          <a:pt x="2017998" y="3045722"/>
                          <a:pt x="1964267" y="2912533"/>
                          <a:pt x="1964267" y="2912533"/>
                        </a:cubicBezTo>
                        <a:cubicBezTo>
                          <a:pt x="2045473" y="2668911"/>
                          <a:pt x="1946942" y="2973167"/>
                          <a:pt x="2032000" y="2675467"/>
                        </a:cubicBezTo>
                        <a:cubicBezTo>
                          <a:pt x="2041807" y="2641142"/>
                          <a:pt x="2054578" y="2607734"/>
                          <a:pt x="2065867" y="2573867"/>
                        </a:cubicBezTo>
                        <a:cubicBezTo>
                          <a:pt x="1988036" y="2340376"/>
                          <a:pt x="2048618" y="2421153"/>
                          <a:pt x="1930400" y="2302933"/>
                        </a:cubicBezTo>
                        <a:cubicBezTo>
                          <a:pt x="1919111" y="2257778"/>
                          <a:pt x="1909320" y="2212221"/>
                          <a:pt x="1896533" y="2167467"/>
                        </a:cubicBezTo>
                        <a:cubicBezTo>
                          <a:pt x="1886726" y="2133142"/>
                          <a:pt x="1868536" y="2101080"/>
                          <a:pt x="1862667" y="2065867"/>
                        </a:cubicBezTo>
                        <a:cubicBezTo>
                          <a:pt x="1846052" y="1966175"/>
                          <a:pt x="1835554" y="1713597"/>
                          <a:pt x="1794933" y="1591733"/>
                        </a:cubicBezTo>
                        <a:cubicBezTo>
                          <a:pt x="1778968" y="1543839"/>
                          <a:pt x="1753174" y="1499558"/>
                          <a:pt x="1727200" y="1456267"/>
                        </a:cubicBezTo>
                        <a:cubicBezTo>
                          <a:pt x="1685317" y="1386462"/>
                          <a:pt x="1591733" y="1253067"/>
                          <a:pt x="1591733" y="1253067"/>
                        </a:cubicBezTo>
                        <a:cubicBezTo>
                          <a:pt x="1555962" y="1145753"/>
                          <a:pt x="1565165" y="1143657"/>
                          <a:pt x="1490133" y="1049867"/>
                        </a:cubicBezTo>
                        <a:cubicBezTo>
                          <a:pt x="1470187" y="1024934"/>
                          <a:pt x="1442346" y="1007066"/>
                          <a:pt x="1422400" y="982133"/>
                        </a:cubicBezTo>
                        <a:cubicBezTo>
                          <a:pt x="1396973" y="950349"/>
                          <a:pt x="1380094" y="912316"/>
                          <a:pt x="1354667" y="880533"/>
                        </a:cubicBezTo>
                        <a:cubicBezTo>
                          <a:pt x="1334721" y="855600"/>
                          <a:pt x="1306879" y="837733"/>
                          <a:pt x="1286933" y="812800"/>
                        </a:cubicBezTo>
                        <a:cubicBezTo>
                          <a:pt x="1261506" y="781017"/>
                          <a:pt x="1246241" y="741622"/>
                          <a:pt x="1219200" y="711200"/>
                        </a:cubicBezTo>
                        <a:cubicBezTo>
                          <a:pt x="1155561" y="639606"/>
                          <a:pt x="1095702" y="561134"/>
                          <a:pt x="1016000" y="508000"/>
                        </a:cubicBezTo>
                        <a:cubicBezTo>
                          <a:pt x="887833" y="422556"/>
                          <a:pt x="943181" y="469048"/>
                          <a:pt x="846667" y="372533"/>
                        </a:cubicBezTo>
                        <a:cubicBezTo>
                          <a:pt x="835378" y="338666"/>
                          <a:pt x="832602" y="300636"/>
                          <a:pt x="812800" y="270933"/>
                        </a:cubicBezTo>
                        <a:cubicBezTo>
                          <a:pt x="786233" y="231082"/>
                          <a:pt x="749006" y="198737"/>
                          <a:pt x="711200" y="169333"/>
                        </a:cubicBezTo>
                        <a:cubicBezTo>
                          <a:pt x="536524" y="33474"/>
                          <a:pt x="559693" y="51098"/>
                          <a:pt x="406400" y="0"/>
                        </a:cubicBezTo>
                        <a:cubicBezTo>
                          <a:pt x="361244" y="11289"/>
                          <a:pt x="313715" y="15532"/>
                          <a:pt x="270933" y="33867"/>
                        </a:cubicBezTo>
                        <a:cubicBezTo>
                          <a:pt x="53886" y="126887"/>
                          <a:pt x="173770" y="228415"/>
                          <a:pt x="203200" y="508000"/>
                        </a:cubicBezTo>
                        <a:cubicBezTo>
                          <a:pt x="230238" y="764856"/>
                          <a:pt x="168958" y="711013"/>
                          <a:pt x="304800" y="778933"/>
                        </a:cubicBezTo>
                      </a:path>
                    </a:pathLst>
                  </a:custGeom>
                  <a:solidFill>
                    <a:srgbClr val="f2f2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6" name="任意多边形 169"/>
                  <p:cNvSpPr/>
                  <p:nvPr/>
                </p:nvSpPr>
                <p:spPr>
                  <a:xfrm rot="17696400">
                    <a:off x="3582720" y="3186360"/>
                    <a:ext cx="128520" cy="222480"/>
                  </a:xfrm>
                  <a:custGeom>
                    <a:avLst/>
                    <a:gdLst>
                      <a:gd name="textAreaLeft" fmla="*/ 0 w 128520"/>
                      <a:gd name="textAreaRight" fmla="*/ 128880 w 128520"/>
                      <a:gd name="textAreaTop" fmla="*/ 0 h 222480"/>
                      <a:gd name="textAreaBottom" fmla="*/ 222840 h 222480"/>
                    </a:gdLst>
                    <a:ahLst/>
                    <a:rect l="textAreaLeft" t="textAreaTop" r="textAreaRight" b="textAreaBottom"/>
                    <a:pathLst>
                      <a:path w="2065867" h="4030133">
                        <a:moveTo>
                          <a:pt x="270933" y="677333"/>
                        </a:moveTo>
                        <a:cubicBezTo>
                          <a:pt x="259644" y="733778"/>
                          <a:pt x="257278" y="792770"/>
                          <a:pt x="237067" y="846667"/>
                        </a:cubicBezTo>
                        <a:cubicBezTo>
                          <a:pt x="222775" y="884778"/>
                          <a:pt x="187536" y="911861"/>
                          <a:pt x="169333" y="948267"/>
                        </a:cubicBezTo>
                        <a:cubicBezTo>
                          <a:pt x="153368" y="980197"/>
                          <a:pt x="146756" y="1016000"/>
                          <a:pt x="135467" y="1049867"/>
                        </a:cubicBezTo>
                        <a:cubicBezTo>
                          <a:pt x="124178" y="1128889"/>
                          <a:pt x="124537" y="1210475"/>
                          <a:pt x="101600" y="1286933"/>
                        </a:cubicBezTo>
                        <a:cubicBezTo>
                          <a:pt x="89904" y="1325919"/>
                          <a:pt x="52070" y="1352127"/>
                          <a:pt x="33867" y="1388533"/>
                        </a:cubicBezTo>
                        <a:cubicBezTo>
                          <a:pt x="17902" y="1420463"/>
                          <a:pt x="11289" y="1456266"/>
                          <a:pt x="0" y="1490133"/>
                        </a:cubicBezTo>
                        <a:cubicBezTo>
                          <a:pt x="11289" y="1648178"/>
                          <a:pt x="6331" y="1808231"/>
                          <a:pt x="33867" y="1964267"/>
                        </a:cubicBezTo>
                        <a:cubicBezTo>
                          <a:pt x="40941" y="2004350"/>
                          <a:pt x="77942" y="2032746"/>
                          <a:pt x="101600" y="2065867"/>
                        </a:cubicBezTo>
                        <a:cubicBezTo>
                          <a:pt x="134408" y="2111798"/>
                          <a:pt x="167065" y="2157971"/>
                          <a:pt x="203200" y="2201333"/>
                        </a:cubicBezTo>
                        <a:cubicBezTo>
                          <a:pt x="223641" y="2225862"/>
                          <a:pt x="253221" y="2242500"/>
                          <a:pt x="270933" y="2269067"/>
                        </a:cubicBezTo>
                        <a:cubicBezTo>
                          <a:pt x="298937" y="2311073"/>
                          <a:pt x="313619" y="2360700"/>
                          <a:pt x="338667" y="2404533"/>
                        </a:cubicBezTo>
                        <a:cubicBezTo>
                          <a:pt x="443708" y="2588354"/>
                          <a:pt x="378175" y="2421458"/>
                          <a:pt x="440267" y="2607733"/>
                        </a:cubicBezTo>
                        <a:cubicBezTo>
                          <a:pt x="451556" y="2686755"/>
                          <a:pt x="448890" y="2769072"/>
                          <a:pt x="474133" y="2844800"/>
                        </a:cubicBezTo>
                        <a:cubicBezTo>
                          <a:pt x="484230" y="2875091"/>
                          <a:pt x="525439" y="2885153"/>
                          <a:pt x="541867" y="2912533"/>
                        </a:cubicBezTo>
                        <a:cubicBezTo>
                          <a:pt x="692110" y="3162937"/>
                          <a:pt x="437916" y="2858793"/>
                          <a:pt x="643467" y="3115733"/>
                        </a:cubicBezTo>
                        <a:cubicBezTo>
                          <a:pt x="663413" y="3140666"/>
                          <a:pt x="691254" y="3158534"/>
                          <a:pt x="711200" y="3183467"/>
                        </a:cubicBezTo>
                        <a:cubicBezTo>
                          <a:pt x="736627" y="3215251"/>
                          <a:pt x="752130" y="3254435"/>
                          <a:pt x="778933" y="3285067"/>
                        </a:cubicBezTo>
                        <a:cubicBezTo>
                          <a:pt x="831498" y="3345141"/>
                          <a:pt x="900372" y="3390540"/>
                          <a:pt x="948267" y="3454400"/>
                        </a:cubicBezTo>
                        <a:cubicBezTo>
                          <a:pt x="982134" y="3499556"/>
                          <a:pt x="1019951" y="3542002"/>
                          <a:pt x="1049867" y="3589867"/>
                        </a:cubicBezTo>
                        <a:cubicBezTo>
                          <a:pt x="1076624" y="3632678"/>
                          <a:pt x="1089596" y="3683327"/>
                          <a:pt x="1117600" y="3725333"/>
                        </a:cubicBezTo>
                        <a:cubicBezTo>
                          <a:pt x="1164328" y="3795425"/>
                          <a:pt x="1222230" y="3809038"/>
                          <a:pt x="1286933" y="3860800"/>
                        </a:cubicBezTo>
                        <a:cubicBezTo>
                          <a:pt x="1311866" y="3880746"/>
                          <a:pt x="1328100" y="3910821"/>
                          <a:pt x="1354667" y="3928533"/>
                        </a:cubicBezTo>
                        <a:cubicBezTo>
                          <a:pt x="1438370" y="3984335"/>
                          <a:pt x="1501418" y="4000029"/>
                          <a:pt x="1591733" y="4030133"/>
                        </a:cubicBezTo>
                        <a:cubicBezTo>
                          <a:pt x="1670755" y="4018844"/>
                          <a:pt x="1753072" y="4021510"/>
                          <a:pt x="1828800" y="3996267"/>
                        </a:cubicBezTo>
                        <a:cubicBezTo>
                          <a:pt x="1947678" y="3956641"/>
                          <a:pt x="1962781" y="3628192"/>
                          <a:pt x="1964267" y="3623733"/>
                        </a:cubicBezTo>
                        <a:cubicBezTo>
                          <a:pt x="1977138" y="3585119"/>
                          <a:pt x="2013797" y="3558539"/>
                          <a:pt x="2032000" y="3522133"/>
                        </a:cubicBezTo>
                        <a:cubicBezTo>
                          <a:pt x="2047965" y="3490203"/>
                          <a:pt x="2054578" y="3454400"/>
                          <a:pt x="2065867" y="3420533"/>
                        </a:cubicBezTo>
                        <a:cubicBezTo>
                          <a:pt x="2054578" y="3318933"/>
                          <a:pt x="2052048" y="3215973"/>
                          <a:pt x="2032000" y="3115733"/>
                        </a:cubicBezTo>
                        <a:cubicBezTo>
                          <a:pt x="2017998" y="3045722"/>
                          <a:pt x="1964267" y="2912533"/>
                          <a:pt x="1964267" y="2912533"/>
                        </a:cubicBezTo>
                        <a:cubicBezTo>
                          <a:pt x="2045473" y="2668911"/>
                          <a:pt x="1946942" y="2973167"/>
                          <a:pt x="2032000" y="2675467"/>
                        </a:cubicBezTo>
                        <a:cubicBezTo>
                          <a:pt x="2041807" y="2641142"/>
                          <a:pt x="2054578" y="2607734"/>
                          <a:pt x="2065867" y="2573867"/>
                        </a:cubicBezTo>
                        <a:cubicBezTo>
                          <a:pt x="1988036" y="2340376"/>
                          <a:pt x="2048618" y="2421153"/>
                          <a:pt x="1930400" y="2302933"/>
                        </a:cubicBezTo>
                        <a:cubicBezTo>
                          <a:pt x="1919111" y="2257778"/>
                          <a:pt x="1909320" y="2212221"/>
                          <a:pt x="1896533" y="2167467"/>
                        </a:cubicBezTo>
                        <a:cubicBezTo>
                          <a:pt x="1886726" y="2133142"/>
                          <a:pt x="1868536" y="2101080"/>
                          <a:pt x="1862667" y="2065867"/>
                        </a:cubicBezTo>
                        <a:cubicBezTo>
                          <a:pt x="1846052" y="1966175"/>
                          <a:pt x="1835554" y="1713597"/>
                          <a:pt x="1794933" y="1591733"/>
                        </a:cubicBezTo>
                        <a:cubicBezTo>
                          <a:pt x="1778968" y="1543839"/>
                          <a:pt x="1753174" y="1499558"/>
                          <a:pt x="1727200" y="1456267"/>
                        </a:cubicBezTo>
                        <a:cubicBezTo>
                          <a:pt x="1685317" y="1386462"/>
                          <a:pt x="1591733" y="1253067"/>
                          <a:pt x="1591733" y="1253067"/>
                        </a:cubicBezTo>
                        <a:cubicBezTo>
                          <a:pt x="1555962" y="1145753"/>
                          <a:pt x="1565165" y="1143657"/>
                          <a:pt x="1490133" y="1049867"/>
                        </a:cubicBezTo>
                        <a:cubicBezTo>
                          <a:pt x="1470187" y="1024934"/>
                          <a:pt x="1442346" y="1007066"/>
                          <a:pt x="1422400" y="982133"/>
                        </a:cubicBezTo>
                        <a:cubicBezTo>
                          <a:pt x="1396973" y="950349"/>
                          <a:pt x="1380094" y="912316"/>
                          <a:pt x="1354667" y="880533"/>
                        </a:cubicBezTo>
                        <a:cubicBezTo>
                          <a:pt x="1334721" y="855600"/>
                          <a:pt x="1306879" y="837733"/>
                          <a:pt x="1286933" y="812800"/>
                        </a:cubicBezTo>
                        <a:cubicBezTo>
                          <a:pt x="1261506" y="781017"/>
                          <a:pt x="1246241" y="741622"/>
                          <a:pt x="1219200" y="711200"/>
                        </a:cubicBezTo>
                        <a:cubicBezTo>
                          <a:pt x="1155561" y="639606"/>
                          <a:pt x="1095702" y="561134"/>
                          <a:pt x="1016000" y="508000"/>
                        </a:cubicBezTo>
                        <a:cubicBezTo>
                          <a:pt x="887833" y="422556"/>
                          <a:pt x="943181" y="469048"/>
                          <a:pt x="846667" y="372533"/>
                        </a:cubicBezTo>
                        <a:cubicBezTo>
                          <a:pt x="835378" y="338666"/>
                          <a:pt x="832602" y="300636"/>
                          <a:pt x="812800" y="270933"/>
                        </a:cubicBezTo>
                        <a:cubicBezTo>
                          <a:pt x="786233" y="231082"/>
                          <a:pt x="749006" y="198737"/>
                          <a:pt x="711200" y="169333"/>
                        </a:cubicBezTo>
                        <a:cubicBezTo>
                          <a:pt x="536524" y="33474"/>
                          <a:pt x="559693" y="51098"/>
                          <a:pt x="406400" y="0"/>
                        </a:cubicBezTo>
                        <a:cubicBezTo>
                          <a:pt x="361244" y="11289"/>
                          <a:pt x="313715" y="15532"/>
                          <a:pt x="270933" y="33867"/>
                        </a:cubicBezTo>
                        <a:cubicBezTo>
                          <a:pt x="53886" y="126887"/>
                          <a:pt x="173770" y="228415"/>
                          <a:pt x="203200" y="508000"/>
                        </a:cubicBezTo>
                        <a:cubicBezTo>
                          <a:pt x="230238" y="764856"/>
                          <a:pt x="168958" y="711013"/>
                          <a:pt x="304800" y="778933"/>
                        </a:cubicBezTo>
                      </a:path>
                    </a:pathLst>
                  </a:custGeom>
                  <a:solidFill>
                    <a:srgbClr val="f2f2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7" name=""/>
                <p:cNvGrpSpPr/>
                <p:nvPr/>
              </p:nvGrpSpPr>
              <p:grpSpPr>
                <a:xfrm>
                  <a:off x="3641760" y="3480480"/>
                  <a:ext cx="582120" cy="422280"/>
                  <a:chOff x="3641760" y="3480480"/>
                  <a:chExt cx="582120" cy="422280"/>
                </a:xfrm>
              </p:grpSpPr>
              <p:sp>
                <p:nvSpPr>
                  <p:cNvPr id="418" name="任意多边形 164"/>
                  <p:cNvSpPr/>
                  <p:nvPr/>
                </p:nvSpPr>
                <p:spPr>
                  <a:xfrm rot="19971000">
                    <a:off x="3654000" y="3597120"/>
                    <a:ext cx="557640" cy="188640"/>
                  </a:xfrm>
                  <a:custGeom>
                    <a:avLst/>
                    <a:gdLst>
                      <a:gd name="textAreaLeft" fmla="*/ 0 w 557640"/>
                      <a:gd name="textAreaRight" fmla="*/ 558000 w 557640"/>
                      <a:gd name="textAreaTop" fmla="*/ 0 h 188640"/>
                      <a:gd name="textAreaBottom" fmla="*/ 189000 h 188640"/>
                    </a:gdLst>
                    <a:ahLst/>
                    <a:rect l="textAreaLeft" t="textAreaTop" r="textAreaRight" b="textAreaBottom"/>
                    <a:pathLst>
                      <a:path w="2065867" h="4030133">
                        <a:moveTo>
                          <a:pt x="270933" y="677333"/>
                        </a:moveTo>
                        <a:cubicBezTo>
                          <a:pt x="259644" y="733778"/>
                          <a:pt x="257278" y="792770"/>
                          <a:pt x="237067" y="846667"/>
                        </a:cubicBezTo>
                        <a:cubicBezTo>
                          <a:pt x="222775" y="884778"/>
                          <a:pt x="187536" y="911861"/>
                          <a:pt x="169333" y="948267"/>
                        </a:cubicBezTo>
                        <a:cubicBezTo>
                          <a:pt x="153368" y="980197"/>
                          <a:pt x="146756" y="1016000"/>
                          <a:pt x="135467" y="1049867"/>
                        </a:cubicBezTo>
                        <a:cubicBezTo>
                          <a:pt x="124178" y="1128889"/>
                          <a:pt x="124537" y="1210475"/>
                          <a:pt x="101600" y="1286933"/>
                        </a:cubicBezTo>
                        <a:cubicBezTo>
                          <a:pt x="89904" y="1325919"/>
                          <a:pt x="52070" y="1352127"/>
                          <a:pt x="33867" y="1388533"/>
                        </a:cubicBezTo>
                        <a:cubicBezTo>
                          <a:pt x="17902" y="1420463"/>
                          <a:pt x="11289" y="1456266"/>
                          <a:pt x="0" y="1490133"/>
                        </a:cubicBezTo>
                        <a:cubicBezTo>
                          <a:pt x="11289" y="1648178"/>
                          <a:pt x="6331" y="1808231"/>
                          <a:pt x="33867" y="1964267"/>
                        </a:cubicBezTo>
                        <a:cubicBezTo>
                          <a:pt x="40941" y="2004350"/>
                          <a:pt x="77942" y="2032746"/>
                          <a:pt x="101600" y="2065867"/>
                        </a:cubicBezTo>
                        <a:cubicBezTo>
                          <a:pt x="134408" y="2111798"/>
                          <a:pt x="167065" y="2157971"/>
                          <a:pt x="203200" y="2201333"/>
                        </a:cubicBezTo>
                        <a:cubicBezTo>
                          <a:pt x="223641" y="2225862"/>
                          <a:pt x="253221" y="2242500"/>
                          <a:pt x="270933" y="2269067"/>
                        </a:cubicBezTo>
                        <a:cubicBezTo>
                          <a:pt x="298937" y="2311073"/>
                          <a:pt x="313619" y="2360700"/>
                          <a:pt x="338667" y="2404533"/>
                        </a:cubicBezTo>
                        <a:cubicBezTo>
                          <a:pt x="443708" y="2588354"/>
                          <a:pt x="378175" y="2421458"/>
                          <a:pt x="440267" y="2607733"/>
                        </a:cubicBezTo>
                        <a:cubicBezTo>
                          <a:pt x="451556" y="2686755"/>
                          <a:pt x="448890" y="2769072"/>
                          <a:pt x="474133" y="2844800"/>
                        </a:cubicBezTo>
                        <a:cubicBezTo>
                          <a:pt x="484230" y="2875091"/>
                          <a:pt x="525439" y="2885153"/>
                          <a:pt x="541867" y="2912533"/>
                        </a:cubicBezTo>
                        <a:cubicBezTo>
                          <a:pt x="692110" y="3162937"/>
                          <a:pt x="437916" y="2858793"/>
                          <a:pt x="643467" y="3115733"/>
                        </a:cubicBezTo>
                        <a:cubicBezTo>
                          <a:pt x="663413" y="3140666"/>
                          <a:pt x="691254" y="3158534"/>
                          <a:pt x="711200" y="3183467"/>
                        </a:cubicBezTo>
                        <a:cubicBezTo>
                          <a:pt x="736627" y="3215251"/>
                          <a:pt x="752130" y="3254435"/>
                          <a:pt x="778933" y="3285067"/>
                        </a:cubicBezTo>
                        <a:cubicBezTo>
                          <a:pt x="831498" y="3345141"/>
                          <a:pt x="900372" y="3390540"/>
                          <a:pt x="948267" y="3454400"/>
                        </a:cubicBezTo>
                        <a:cubicBezTo>
                          <a:pt x="982134" y="3499556"/>
                          <a:pt x="1019951" y="3542002"/>
                          <a:pt x="1049867" y="3589867"/>
                        </a:cubicBezTo>
                        <a:cubicBezTo>
                          <a:pt x="1076624" y="3632678"/>
                          <a:pt x="1089596" y="3683327"/>
                          <a:pt x="1117600" y="3725333"/>
                        </a:cubicBezTo>
                        <a:cubicBezTo>
                          <a:pt x="1164328" y="3795425"/>
                          <a:pt x="1222230" y="3809038"/>
                          <a:pt x="1286933" y="3860800"/>
                        </a:cubicBezTo>
                        <a:cubicBezTo>
                          <a:pt x="1311866" y="3880746"/>
                          <a:pt x="1328100" y="3910821"/>
                          <a:pt x="1354667" y="3928533"/>
                        </a:cubicBezTo>
                        <a:cubicBezTo>
                          <a:pt x="1438370" y="3984335"/>
                          <a:pt x="1501418" y="4000029"/>
                          <a:pt x="1591733" y="4030133"/>
                        </a:cubicBezTo>
                        <a:cubicBezTo>
                          <a:pt x="1670755" y="4018844"/>
                          <a:pt x="1753072" y="4021510"/>
                          <a:pt x="1828800" y="3996267"/>
                        </a:cubicBezTo>
                        <a:cubicBezTo>
                          <a:pt x="1947678" y="3956641"/>
                          <a:pt x="1962781" y="3628192"/>
                          <a:pt x="1964267" y="3623733"/>
                        </a:cubicBezTo>
                        <a:cubicBezTo>
                          <a:pt x="1977138" y="3585119"/>
                          <a:pt x="2013797" y="3558539"/>
                          <a:pt x="2032000" y="3522133"/>
                        </a:cubicBezTo>
                        <a:cubicBezTo>
                          <a:pt x="2047965" y="3490203"/>
                          <a:pt x="2054578" y="3454400"/>
                          <a:pt x="2065867" y="3420533"/>
                        </a:cubicBezTo>
                        <a:cubicBezTo>
                          <a:pt x="2054578" y="3318933"/>
                          <a:pt x="2052048" y="3215973"/>
                          <a:pt x="2032000" y="3115733"/>
                        </a:cubicBezTo>
                        <a:cubicBezTo>
                          <a:pt x="2017998" y="3045722"/>
                          <a:pt x="1964267" y="2912533"/>
                          <a:pt x="1964267" y="2912533"/>
                        </a:cubicBezTo>
                        <a:cubicBezTo>
                          <a:pt x="2045473" y="2668911"/>
                          <a:pt x="1946942" y="2973167"/>
                          <a:pt x="2032000" y="2675467"/>
                        </a:cubicBezTo>
                        <a:cubicBezTo>
                          <a:pt x="2041807" y="2641142"/>
                          <a:pt x="2054578" y="2607734"/>
                          <a:pt x="2065867" y="2573867"/>
                        </a:cubicBezTo>
                        <a:cubicBezTo>
                          <a:pt x="1988036" y="2340376"/>
                          <a:pt x="2048618" y="2421153"/>
                          <a:pt x="1930400" y="2302933"/>
                        </a:cubicBezTo>
                        <a:cubicBezTo>
                          <a:pt x="1919111" y="2257778"/>
                          <a:pt x="1909320" y="2212221"/>
                          <a:pt x="1896533" y="2167467"/>
                        </a:cubicBezTo>
                        <a:cubicBezTo>
                          <a:pt x="1886726" y="2133142"/>
                          <a:pt x="1868536" y="2101080"/>
                          <a:pt x="1862667" y="2065867"/>
                        </a:cubicBezTo>
                        <a:cubicBezTo>
                          <a:pt x="1846052" y="1966175"/>
                          <a:pt x="1835554" y="1713597"/>
                          <a:pt x="1794933" y="1591733"/>
                        </a:cubicBezTo>
                        <a:cubicBezTo>
                          <a:pt x="1778968" y="1543839"/>
                          <a:pt x="1753174" y="1499558"/>
                          <a:pt x="1727200" y="1456267"/>
                        </a:cubicBezTo>
                        <a:cubicBezTo>
                          <a:pt x="1685317" y="1386462"/>
                          <a:pt x="1591733" y="1253067"/>
                          <a:pt x="1591733" y="1253067"/>
                        </a:cubicBezTo>
                        <a:cubicBezTo>
                          <a:pt x="1555962" y="1145753"/>
                          <a:pt x="1565165" y="1143657"/>
                          <a:pt x="1490133" y="1049867"/>
                        </a:cubicBezTo>
                        <a:cubicBezTo>
                          <a:pt x="1470187" y="1024934"/>
                          <a:pt x="1442346" y="1007066"/>
                          <a:pt x="1422400" y="982133"/>
                        </a:cubicBezTo>
                        <a:cubicBezTo>
                          <a:pt x="1396973" y="950349"/>
                          <a:pt x="1380094" y="912316"/>
                          <a:pt x="1354667" y="880533"/>
                        </a:cubicBezTo>
                        <a:cubicBezTo>
                          <a:pt x="1334721" y="855600"/>
                          <a:pt x="1306879" y="837733"/>
                          <a:pt x="1286933" y="812800"/>
                        </a:cubicBezTo>
                        <a:cubicBezTo>
                          <a:pt x="1261506" y="781017"/>
                          <a:pt x="1246241" y="741622"/>
                          <a:pt x="1219200" y="711200"/>
                        </a:cubicBezTo>
                        <a:cubicBezTo>
                          <a:pt x="1155561" y="639606"/>
                          <a:pt x="1095702" y="561134"/>
                          <a:pt x="1016000" y="508000"/>
                        </a:cubicBezTo>
                        <a:cubicBezTo>
                          <a:pt x="887833" y="422556"/>
                          <a:pt x="943181" y="469048"/>
                          <a:pt x="846667" y="372533"/>
                        </a:cubicBezTo>
                        <a:cubicBezTo>
                          <a:pt x="835378" y="338666"/>
                          <a:pt x="832602" y="300636"/>
                          <a:pt x="812800" y="270933"/>
                        </a:cubicBezTo>
                        <a:cubicBezTo>
                          <a:pt x="786233" y="231082"/>
                          <a:pt x="749006" y="198737"/>
                          <a:pt x="711200" y="169333"/>
                        </a:cubicBezTo>
                        <a:cubicBezTo>
                          <a:pt x="536524" y="33474"/>
                          <a:pt x="559693" y="51098"/>
                          <a:pt x="406400" y="0"/>
                        </a:cubicBezTo>
                        <a:cubicBezTo>
                          <a:pt x="361244" y="11289"/>
                          <a:pt x="313715" y="15532"/>
                          <a:pt x="270933" y="33867"/>
                        </a:cubicBezTo>
                        <a:cubicBezTo>
                          <a:pt x="53886" y="126887"/>
                          <a:pt x="173770" y="228415"/>
                          <a:pt x="203200" y="508000"/>
                        </a:cubicBezTo>
                        <a:cubicBezTo>
                          <a:pt x="230238" y="764856"/>
                          <a:pt x="168958" y="711013"/>
                          <a:pt x="304800" y="778933"/>
                        </a:cubicBez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9" name="任意多边形 165"/>
                  <p:cNvSpPr/>
                  <p:nvPr/>
                </p:nvSpPr>
                <p:spPr>
                  <a:xfrm rot="18389400">
                    <a:off x="3943080" y="3655800"/>
                    <a:ext cx="164160" cy="171360"/>
                  </a:xfrm>
                  <a:custGeom>
                    <a:avLst/>
                    <a:gdLst>
                      <a:gd name="textAreaLeft" fmla="*/ 0 w 164160"/>
                      <a:gd name="textAreaRight" fmla="*/ 164520 w 164160"/>
                      <a:gd name="textAreaTop" fmla="*/ 0 h 171360"/>
                      <a:gd name="textAreaBottom" fmla="*/ 171720 h 171360"/>
                    </a:gdLst>
                    <a:ahLst/>
                    <a:rect l="textAreaLeft" t="textAreaTop" r="textAreaRight" b="textAreaBottom"/>
                    <a:pathLst>
                      <a:path w="2065867" h="4030133">
                        <a:moveTo>
                          <a:pt x="270933" y="677333"/>
                        </a:moveTo>
                        <a:cubicBezTo>
                          <a:pt x="259644" y="733778"/>
                          <a:pt x="257278" y="792770"/>
                          <a:pt x="237067" y="846667"/>
                        </a:cubicBezTo>
                        <a:cubicBezTo>
                          <a:pt x="222775" y="884778"/>
                          <a:pt x="187536" y="911861"/>
                          <a:pt x="169333" y="948267"/>
                        </a:cubicBezTo>
                        <a:cubicBezTo>
                          <a:pt x="153368" y="980197"/>
                          <a:pt x="146756" y="1016000"/>
                          <a:pt x="135467" y="1049867"/>
                        </a:cubicBezTo>
                        <a:cubicBezTo>
                          <a:pt x="124178" y="1128889"/>
                          <a:pt x="124537" y="1210475"/>
                          <a:pt x="101600" y="1286933"/>
                        </a:cubicBezTo>
                        <a:cubicBezTo>
                          <a:pt x="89904" y="1325919"/>
                          <a:pt x="52070" y="1352127"/>
                          <a:pt x="33867" y="1388533"/>
                        </a:cubicBezTo>
                        <a:cubicBezTo>
                          <a:pt x="17902" y="1420463"/>
                          <a:pt x="11289" y="1456266"/>
                          <a:pt x="0" y="1490133"/>
                        </a:cubicBezTo>
                        <a:cubicBezTo>
                          <a:pt x="11289" y="1648178"/>
                          <a:pt x="6331" y="1808231"/>
                          <a:pt x="33867" y="1964267"/>
                        </a:cubicBezTo>
                        <a:cubicBezTo>
                          <a:pt x="40941" y="2004350"/>
                          <a:pt x="77942" y="2032746"/>
                          <a:pt x="101600" y="2065867"/>
                        </a:cubicBezTo>
                        <a:cubicBezTo>
                          <a:pt x="134408" y="2111798"/>
                          <a:pt x="167065" y="2157971"/>
                          <a:pt x="203200" y="2201333"/>
                        </a:cubicBezTo>
                        <a:cubicBezTo>
                          <a:pt x="223641" y="2225862"/>
                          <a:pt x="253221" y="2242500"/>
                          <a:pt x="270933" y="2269067"/>
                        </a:cubicBezTo>
                        <a:cubicBezTo>
                          <a:pt x="298937" y="2311073"/>
                          <a:pt x="313619" y="2360700"/>
                          <a:pt x="338667" y="2404533"/>
                        </a:cubicBezTo>
                        <a:cubicBezTo>
                          <a:pt x="443708" y="2588354"/>
                          <a:pt x="378175" y="2421458"/>
                          <a:pt x="440267" y="2607733"/>
                        </a:cubicBezTo>
                        <a:cubicBezTo>
                          <a:pt x="451556" y="2686755"/>
                          <a:pt x="448890" y="2769072"/>
                          <a:pt x="474133" y="2844800"/>
                        </a:cubicBezTo>
                        <a:cubicBezTo>
                          <a:pt x="484230" y="2875091"/>
                          <a:pt x="525439" y="2885153"/>
                          <a:pt x="541867" y="2912533"/>
                        </a:cubicBezTo>
                        <a:cubicBezTo>
                          <a:pt x="692110" y="3162937"/>
                          <a:pt x="437916" y="2858793"/>
                          <a:pt x="643467" y="3115733"/>
                        </a:cubicBezTo>
                        <a:cubicBezTo>
                          <a:pt x="663413" y="3140666"/>
                          <a:pt x="691254" y="3158534"/>
                          <a:pt x="711200" y="3183467"/>
                        </a:cubicBezTo>
                        <a:cubicBezTo>
                          <a:pt x="736627" y="3215251"/>
                          <a:pt x="752130" y="3254435"/>
                          <a:pt x="778933" y="3285067"/>
                        </a:cubicBezTo>
                        <a:cubicBezTo>
                          <a:pt x="831498" y="3345141"/>
                          <a:pt x="900372" y="3390540"/>
                          <a:pt x="948267" y="3454400"/>
                        </a:cubicBezTo>
                        <a:cubicBezTo>
                          <a:pt x="982134" y="3499556"/>
                          <a:pt x="1019951" y="3542002"/>
                          <a:pt x="1049867" y="3589867"/>
                        </a:cubicBezTo>
                        <a:cubicBezTo>
                          <a:pt x="1076624" y="3632678"/>
                          <a:pt x="1089596" y="3683327"/>
                          <a:pt x="1117600" y="3725333"/>
                        </a:cubicBezTo>
                        <a:cubicBezTo>
                          <a:pt x="1164328" y="3795425"/>
                          <a:pt x="1222230" y="3809038"/>
                          <a:pt x="1286933" y="3860800"/>
                        </a:cubicBezTo>
                        <a:cubicBezTo>
                          <a:pt x="1311866" y="3880746"/>
                          <a:pt x="1328100" y="3910821"/>
                          <a:pt x="1354667" y="3928533"/>
                        </a:cubicBezTo>
                        <a:cubicBezTo>
                          <a:pt x="1438370" y="3984335"/>
                          <a:pt x="1501418" y="4000029"/>
                          <a:pt x="1591733" y="4030133"/>
                        </a:cubicBezTo>
                        <a:cubicBezTo>
                          <a:pt x="1670755" y="4018844"/>
                          <a:pt x="1753072" y="4021510"/>
                          <a:pt x="1828800" y="3996267"/>
                        </a:cubicBezTo>
                        <a:cubicBezTo>
                          <a:pt x="1947678" y="3956641"/>
                          <a:pt x="1962781" y="3628192"/>
                          <a:pt x="1964267" y="3623733"/>
                        </a:cubicBezTo>
                        <a:cubicBezTo>
                          <a:pt x="1977138" y="3585119"/>
                          <a:pt x="2013797" y="3558539"/>
                          <a:pt x="2032000" y="3522133"/>
                        </a:cubicBezTo>
                        <a:cubicBezTo>
                          <a:pt x="2047965" y="3490203"/>
                          <a:pt x="2054578" y="3454400"/>
                          <a:pt x="2065867" y="3420533"/>
                        </a:cubicBezTo>
                        <a:cubicBezTo>
                          <a:pt x="2054578" y="3318933"/>
                          <a:pt x="2052048" y="3215973"/>
                          <a:pt x="2032000" y="3115733"/>
                        </a:cubicBezTo>
                        <a:cubicBezTo>
                          <a:pt x="2017998" y="3045722"/>
                          <a:pt x="1964267" y="2912533"/>
                          <a:pt x="1964267" y="2912533"/>
                        </a:cubicBezTo>
                        <a:cubicBezTo>
                          <a:pt x="2045473" y="2668911"/>
                          <a:pt x="1946942" y="2973167"/>
                          <a:pt x="2032000" y="2675467"/>
                        </a:cubicBezTo>
                        <a:cubicBezTo>
                          <a:pt x="2041807" y="2641142"/>
                          <a:pt x="2054578" y="2607734"/>
                          <a:pt x="2065867" y="2573867"/>
                        </a:cubicBezTo>
                        <a:cubicBezTo>
                          <a:pt x="1988036" y="2340376"/>
                          <a:pt x="2048618" y="2421153"/>
                          <a:pt x="1930400" y="2302933"/>
                        </a:cubicBezTo>
                        <a:cubicBezTo>
                          <a:pt x="1919111" y="2257778"/>
                          <a:pt x="1909320" y="2212221"/>
                          <a:pt x="1896533" y="2167467"/>
                        </a:cubicBezTo>
                        <a:cubicBezTo>
                          <a:pt x="1886726" y="2133142"/>
                          <a:pt x="1868536" y="2101080"/>
                          <a:pt x="1862667" y="2065867"/>
                        </a:cubicBezTo>
                        <a:cubicBezTo>
                          <a:pt x="1846052" y="1966175"/>
                          <a:pt x="1835554" y="1713597"/>
                          <a:pt x="1794933" y="1591733"/>
                        </a:cubicBezTo>
                        <a:cubicBezTo>
                          <a:pt x="1778968" y="1543839"/>
                          <a:pt x="1753174" y="1499558"/>
                          <a:pt x="1727200" y="1456267"/>
                        </a:cubicBezTo>
                        <a:cubicBezTo>
                          <a:pt x="1685317" y="1386462"/>
                          <a:pt x="1591733" y="1253067"/>
                          <a:pt x="1591733" y="1253067"/>
                        </a:cubicBezTo>
                        <a:cubicBezTo>
                          <a:pt x="1555962" y="1145753"/>
                          <a:pt x="1565165" y="1143657"/>
                          <a:pt x="1490133" y="1049867"/>
                        </a:cubicBezTo>
                        <a:cubicBezTo>
                          <a:pt x="1470187" y="1024934"/>
                          <a:pt x="1442346" y="1007066"/>
                          <a:pt x="1422400" y="982133"/>
                        </a:cubicBezTo>
                        <a:cubicBezTo>
                          <a:pt x="1396973" y="950349"/>
                          <a:pt x="1380094" y="912316"/>
                          <a:pt x="1354667" y="880533"/>
                        </a:cubicBezTo>
                        <a:cubicBezTo>
                          <a:pt x="1334721" y="855600"/>
                          <a:pt x="1306879" y="837733"/>
                          <a:pt x="1286933" y="812800"/>
                        </a:cubicBezTo>
                        <a:cubicBezTo>
                          <a:pt x="1261506" y="781017"/>
                          <a:pt x="1246241" y="741622"/>
                          <a:pt x="1219200" y="711200"/>
                        </a:cubicBezTo>
                        <a:cubicBezTo>
                          <a:pt x="1155561" y="639606"/>
                          <a:pt x="1095702" y="561134"/>
                          <a:pt x="1016000" y="508000"/>
                        </a:cubicBezTo>
                        <a:cubicBezTo>
                          <a:pt x="887833" y="422556"/>
                          <a:pt x="943181" y="469048"/>
                          <a:pt x="846667" y="372533"/>
                        </a:cubicBezTo>
                        <a:cubicBezTo>
                          <a:pt x="835378" y="338666"/>
                          <a:pt x="832602" y="300636"/>
                          <a:pt x="812800" y="270933"/>
                        </a:cubicBezTo>
                        <a:cubicBezTo>
                          <a:pt x="786233" y="231082"/>
                          <a:pt x="749006" y="198737"/>
                          <a:pt x="711200" y="169333"/>
                        </a:cubicBezTo>
                        <a:cubicBezTo>
                          <a:pt x="536524" y="33474"/>
                          <a:pt x="559693" y="51098"/>
                          <a:pt x="406400" y="0"/>
                        </a:cubicBezTo>
                        <a:cubicBezTo>
                          <a:pt x="361244" y="11289"/>
                          <a:pt x="313715" y="15532"/>
                          <a:pt x="270933" y="33867"/>
                        </a:cubicBezTo>
                        <a:cubicBezTo>
                          <a:pt x="53886" y="126887"/>
                          <a:pt x="173770" y="228415"/>
                          <a:pt x="203200" y="508000"/>
                        </a:cubicBezTo>
                        <a:cubicBezTo>
                          <a:pt x="230238" y="764856"/>
                          <a:pt x="168958" y="711013"/>
                          <a:pt x="304800" y="778933"/>
                        </a:cubicBezTo>
                      </a:path>
                    </a:pathLst>
                  </a:custGeom>
                  <a:solidFill>
                    <a:srgbClr val="f2f2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0" name="任意多边形 166"/>
                  <p:cNvSpPr/>
                  <p:nvPr/>
                </p:nvSpPr>
                <p:spPr>
                  <a:xfrm rot="17696400">
                    <a:off x="4080600" y="3628080"/>
                    <a:ext cx="112680" cy="114120"/>
                  </a:xfrm>
                  <a:custGeom>
                    <a:avLst/>
                    <a:gdLst>
                      <a:gd name="textAreaLeft" fmla="*/ 0 w 112680"/>
                      <a:gd name="textAreaRight" fmla="*/ 113040 w 112680"/>
                      <a:gd name="textAreaTop" fmla="*/ 0 h 114120"/>
                      <a:gd name="textAreaBottom" fmla="*/ 114480 h 114120"/>
                    </a:gdLst>
                    <a:ahLst/>
                    <a:rect l="textAreaLeft" t="textAreaTop" r="textAreaRight" b="textAreaBottom"/>
                    <a:pathLst>
                      <a:path w="2065867" h="4030133">
                        <a:moveTo>
                          <a:pt x="270933" y="677333"/>
                        </a:moveTo>
                        <a:cubicBezTo>
                          <a:pt x="259644" y="733778"/>
                          <a:pt x="257278" y="792770"/>
                          <a:pt x="237067" y="846667"/>
                        </a:cubicBezTo>
                        <a:cubicBezTo>
                          <a:pt x="222775" y="884778"/>
                          <a:pt x="187536" y="911861"/>
                          <a:pt x="169333" y="948267"/>
                        </a:cubicBezTo>
                        <a:cubicBezTo>
                          <a:pt x="153368" y="980197"/>
                          <a:pt x="146756" y="1016000"/>
                          <a:pt x="135467" y="1049867"/>
                        </a:cubicBezTo>
                        <a:cubicBezTo>
                          <a:pt x="124178" y="1128889"/>
                          <a:pt x="124537" y="1210475"/>
                          <a:pt x="101600" y="1286933"/>
                        </a:cubicBezTo>
                        <a:cubicBezTo>
                          <a:pt x="89904" y="1325919"/>
                          <a:pt x="52070" y="1352127"/>
                          <a:pt x="33867" y="1388533"/>
                        </a:cubicBezTo>
                        <a:cubicBezTo>
                          <a:pt x="17902" y="1420463"/>
                          <a:pt x="11289" y="1456266"/>
                          <a:pt x="0" y="1490133"/>
                        </a:cubicBezTo>
                        <a:cubicBezTo>
                          <a:pt x="11289" y="1648178"/>
                          <a:pt x="6331" y="1808231"/>
                          <a:pt x="33867" y="1964267"/>
                        </a:cubicBezTo>
                        <a:cubicBezTo>
                          <a:pt x="40941" y="2004350"/>
                          <a:pt x="77942" y="2032746"/>
                          <a:pt x="101600" y="2065867"/>
                        </a:cubicBezTo>
                        <a:cubicBezTo>
                          <a:pt x="134408" y="2111798"/>
                          <a:pt x="167065" y="2157971"/>
                          <a:pt x="203200" y="2201333"/>
                        </a:cubicBezTo>
                        <a:cubicBezTo>
                          <a:pt x="223641" y="2225862"/>
                          <a:pt x="253221" y="2242500"/>
                          <a:pt x="270933" y="2269067"/>
                        </a:cubicBezTo>
                        <a:cubicBezTo>
                          <a:pt x="298937" y="2311073"/>
                          <a:pt x="313619" y="2360700"/>
                          <a:pt x="338667" y="2404533"/>
                        </a:cubicBezTo>
                        <a:cubicBezTo>
                          <a:pt x="443708" y="2588354"/>
                          <a:pt x="378175" y="2421458"/>
                          <a:pt x="440267" y="2607733"/>
                        </a:cubicBezTo>
                        <a:cubicBezTo>
                          <a:pt x="451556" y="2686755"/>
                          <a:pt x="448890" y="2769072"/>
                          <a:pt x="474133" y="2844800"/>
                        </a:cubicBezTo>
                        <a:cubicBezTo>
                          <a:pt x="484230" y="2875091"/>
                          <a:pt x="525439" y="2885153"/>
                          <a:pt x="541867" y="2912533"/>
                        </a:cubicBezTo>
                        <a:cubicBezTo>
                          <a:pt x="692110" y="3162937"/>
                          <a:pt x="437916" y="2858793"/>
                          <a:pt x="643467" y="3115733"/>
                        </a:cubicBezTo>
                        <a:cubicBezTo>
                          <a:pt x="663413" y="3140666"/>
                          <a:pt x="691254" y="3158534"/>
                          <a:pt x="711200" y="3183467"/>
                        </a:cubicBezTo>
                        <a:cubicBezTo>
                          <a:pt x="736627" y="3215251"/>
                          <a:pt x="752130" y="3254435"/>
                          <a:pt x="778933" y="3285067"/>
                        </a:cubicBezTo>
                        <a:cubicBezTo>
                          <a:pt x="831498" y="3345141"/>
                          <a:pt x="900372" y="3390540"/>
                          <a:pt x="948267" y="3454400"/>
                        </a:cubicBezTo>
                        <a:cubicBezTo>
                          <a:pt x="982134" y="3499556"/>
                          <a:pt x="1019951" y="3542002"/>
                          <a:pt x="1049867" y="3589867"/>
                        </a:cubicBezTo>
                        <a:cubicBezTo>
                          <a:pt x="1076624" y="3632678"/>
                          <a:pt x="1089596" y="3683327"/>
                          <a:pt x="1117600" y="3725333"/>
                        </a:cubicBezTo>
                        <a:cubicBezTo>
                          <a:pt x="1164328" y="3795425"/>
                          <a:pt x="1222230" y="3809038"/>
                          <a:pt x="1286933" y="3860800"/>
                        </a:cubicBezTo>
                        <a:cubicBezTo>
                          <a:pt x="1311866" y="3880746"/>
                          <a:pt x="1328100" y="3910821"/>
                          <a:pt x="1354667" y="3928533"/>
                        </a:cubicBezTo>
                        <a:cubicBezTo>
                          <a:pt x="1438370" y="3984335"/>
                          <a:pt x="1501418" y="4000029"/>
                          <a:pt x="1591733" y="4030133"/>
                        </a:cubicBezTo>
                        <a:cubicBezTo>
                          <a:pt x="1670755" y="4018844"/>
                          <a:pt x="1753072" y="4021510"/>
                          <a:pt x="1828800" y="3996267"/>
                        </a:cubicBezTo>
                        <a:cubicBezTo>
                          <a:pt x="1947678" y="3956641"/>
                          <a:pt x="1962781" y="3628192"/>
                          <a:pt x="1964267" y="3623733"/>
                        </a:cubicBezTo>
                        <a:cubicBezTo>
                          <a:pt x="1977138" y="3585119"/>
                          <a:pt x="2013797" y="3558539"/>
                          <a:pt x="2032000" y="3522133"/>
                        </a:cubicBezTo>
                        <a:cubicBezTo>
                          <a:pt x="2047965" y="3490203"/>
                          <a:pt x="2054578" y="3454400"/>
                          <a:pt x="2065867" y="3420533"/>
                        </a:cubicBezTo>
                        <a:cubicBezTo>
                          <a:pt x="2054578" y="3318933"/>
                          <a:pt x="2052048" y="3215973"/>
                          <a:pt x="2032000" y="3115733"/>
                        </a:cubicBezTo>
                        <a:cubicBezTo>
                          <a:pt x="2017998" y="3045722"/>
                          <a:pt x="1964267" y="2912533"/>
                          <a:pt x="1964267" y="2912533"/>
                        </a:cubicBezTo>
                        <a:cubicBezTo>
                          <a:pt x="2045473" y="2668911"/>
                          <a:pt x="1946942" y="2973167"/>
                          <a:pt x="2032000" y="2675467"/>
                        </a:cubicBezTo>
                        <a:cubicBezTo>
                          <a:pt x="2041807" y="2641142"/>
                          <a:pt x="2054578" y="2607734"/>
                          <a:pt x="2065867" y="2573867"/>
                        </a:cubicBezTo>
                        <a:cubicBezTo>
                          <a:pt x="1988036" y="2340376"/>
                          <a:pt x="2048618" y="2421153"/>
                          <a:pt x="1930400" y="2302933"/>
                        </a:cubicBezTo>
                        <a:cubicBezTo>
                          <a:pt x="1919111" y="2257778"/>
                          <a:pt x="1909320" y="2212221"/>
                          <a:pt x="1896533" y="2167467"/>
                        </a:cubicBezTo>
                        <a:cubicBezTo>
                          <a:pt x="1886726" y="2133142"/>
                          <a:pt x="1868536" y="2101080"/>
                          <a:pt x="1862667" y="2065867"/>
                        </a:cubicBezTo>
                        <a:cubicBezTo>
                          <a:pt x="1846052" y="1966175"/>
                          <a:pt x="1835554" y="1713597"/>
                          <a:pt x="1794933" y="1591733"/>
                        </a:cubicBezTo>
                        <a:cubicBezTo>
                          <a:pt x="1778968" y="1543839"/>
                          <a:pt x="1753174" y="1499558"/>
                          <a:pt x="1727200" y="1456267"/>
                        </a:cubicBezTo>
                        <a:cubicBezTo>
                          <a:pt x="1685317" y="1386462"/>
                          <a:pt x="1591733" y="1253067"/>
                          <a:pt x="1591733" y="1253067"/>
                        </a:cubicBezTo>
                        <a:cubicBezTo>
                          <a:pt x="1555962" y="1145753"/>
                          <a:pt x="1565165" y="1143657"/>
                          <a:pt x="1490133" y="1049867"/>
                        </a:cubicBezTo>
                        <a:cubicBezTo>
                          <a:pt x="1470187" y="1024934"/>
                          <a:pt x="1442346" y="1007066"/>
                          <a:pt x="1422400" y="982133"/>
                        </a:cubicBezTo>
                        <a:cubicBezTo>
                          <a:pt x="1396973" y="950349"/>
                          <a:pt x="1380094" y="912316"/>
                          <a:pt x="1354667" y="880533"/>
                        </a:cubicBezTo>
                        <a:cubicBezTo>
                          <a:pt x="1334721" y="855600"/>
                          <a:pt x="1306879" y="837733"/>
                          <a:pt x="1286933" y="812800"/>
                        </a:cubicBezTo>
                        <a:cubicBezTo>
                          <a:pt x="1261506" y="781017"/>
                          <a:pt x="1246241" y="741622"/>
                          <a:pt x="1219200" y="711200"/>
                        </a:cubicBezTo>
                        <a:cubicBezTo>
                          <a:pt x="1155561" y="639606"/>
                          <a:pt x="1095702" y="561134"/>
                          <a:pt x="1016000" y="508000"/>
                        </a:cubicBezTo>
                        <a:cubicBezTo>
                          <a:pt x="887833" y="422556"/>
                          <a:pt x="943181" y="469048"/>
                          <a:pt x="846667" y="372533"/>
                        </a:cubicBezTo>
                        <a:cubicBezTo>
                          <a:pt x="835378" y="338666"/>
                          <a:pt x="832602" y="300636"/>
                          <a:pt x="812800" y="270933"/>
                        </a:cubicBezTo>
                        <a:cubicBezTo>
                          <a:pt x="786233" y="231082"/>
                          <a:pt x="749006" y="198737"/>
                          <a:pt x="711200" y="169333"/>
                        </a:cubicBezTo>
                        <a:cubicBezTo>
                          <a:pt x="536524" y="33474"/>
                          <a:pt x="559693" y="51098"/>
                          <a:pt x="406400" y="0"/>
                        </a:cubicBezTo>
                        <a:cubicBezTo>
                          <a:pt x="361244" y="11289"/>
                          <a:pt x="313715" y="15532"/>
                          <a:pt x="270933" y="33867"/>
                        </a:cubicBezTo>
                        <a:cubicBezTo>
                          <a:pt x="53886" y="126887"/>
                          <a:pt x="173770" y="228415"/>
                          <a:pt x="203200" y="508000"/>
                        </a:cubicBezTo>
                        <a:cubicBezTo>
                          <a:pt x="230238" y="764856"/>
                          <a:pt x="168958" y="711013"/>
                          <a:pt x="304800" y="778933"/>
                        </a:cubicBezTo>
                      </a:path>
                    </a:pathLst>
                  </a:custGeom>
                  <a:solidFill>
                    <a:srgbClr val="f2f2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1" name=""/>
                <p:cNvGrpSpPr/>
                <p:nvPr/>
              </p:nvGrpSpPr>
              <p:grpSpPr>
                <a:xfrm>
                  <a:off x="2981160" y="3721680"/>
                  <a:ext cx="940680" cy="682920"/>
                  <a:chOff x="2981160" y="3721680"/>
                  <a:chExt cx="940680" cy="682920"/>
                </a:xfrm>
              </p:grpSpPr>
              <p:sp>
                <p:nvSpPr>
                  <p:cNvPr id="422" name="任意多边形 161"/>
                  <p:cNvSpPr/>
                  <p:nvPr/>
                </p:nvSpPr>
                <p:spPr>
                  <a:xfrm rot="19753800">
                    <a:off x="2970000" y="3952440"/>
                    <a:ext cx="963000" cy="221400"/>
                  </a:xfrm>
                  <a:custGeom>
                    <a:avLst/>
                    <a:gdLst>
                      <a:gd name="textAreaLeft" fmla="*/ 0 w 963000"/>
                      <a:gd name="textAreaRight" fmla="*/ 963360 w 963000"/>
                      <a:gd name="textAreaTop" fmla="*/ 0 h 221400"/>
                      <a:gd name="textAreaBottom" fmla="*/ 221760 h 221400"/>
                    </a:gdLst>
                    <a:ahLst/>
                    <a:rect l="textAreaLeft" t="textAreaTop" r="textAreaRight" b="textAreaBottom"/>
                    <a:pathLst>
                      <a:path w="2065867" h="4030133">
                        <a:moveTo>
                          <a:pt x="270933" y="677333"/>
                        </a:moveTo>
                        <a:cubicBezTo>
                          <a:pt x="259644" y="733778"/>
                          <a:pt x="257278" y="792770"/>
                          <a:pt x="237067" y="846667"/>
                        </a:cubicBezTo>
                        <a:cubicBezTo>
                          <a:pt x="222775" y="884778"/>
                          <a:pt x="187536" y="911861"/>
                          <a:pt x="169333" y="948267"/>
                        </a:cubicBezTo>
                        <a:cubicBezTo>
                          <a:pt x="153368" y="980197"/>
                          <a:pt x="146756" y="1016000"/>
                          <a:pt x="135467" y="1049867"/>
                        </a:cubicBezTo>
                        <a:cubicBezTo>
                          <a:pt x="124178" y="1128889"/>
                          <a:pt x="124537" y="1210475"/>
                          <a:pt x="101600" y="1286933"/>
                        </a:cubicBezTo>
                        <a:cubicBezTo>
                          <a:pt x="89904" y="1325919"/>
                          <a:pt x="52070" y="1352127"/>
                          <a:pt x="33867" y="1388533"/>
                        </a:cubicBezTo>
                        <a:cubicBezTo>
                          <a:pt x="17902" y="1420463"/>
                          <a:pt x="11289" y="1456266"/>
                          <a:pt x="0" y="1490133"/>
                        </a:cubicBezTo>
                        <a:cubicBezTo>
                          <a:pt x="11289" y="1648178"/>
                          <a:pt x="6331" y="1808231"/>
                          <a:pt x="33867" y="1964267"/>
                        </a:cubicBezTo>
                        <a:cubicBezTo>
                          <a:pt x="40941" y="2004350"/>
                          <a:pt x="77942" y="2032746"/>
                          <a:pt x="101600" y="2065867"/>
                        </a:cubicBezTo>
                        <a:cubicBezTo>
                          <a:pt x="134408" y="2111798"/>
                          <a:pt x="167065" y="2157971"/>
                          <a:pt x="203200" y="2201333"/>
                        </a:cubicBezTo>
                        <a:cubicBezTo>
                          <a:pt x="223641" y="2225862"/>
                          <a:pt x="253221" y="2242500"/>
                          <a:pt x="270933" y="2269067"/>
                        </a:cubicBezTo>
                        <a:cubicBezTo>
                          <a:pt x="298937" y="2311073"/>
                          <a:pt x="313619" y="2360700"/>
                          <a:pt x="338667" y="2404533"/>
                        </a:cubicBezTo>
                        <a:cubicBezTo>
                          <a:pt x="443708" y="2588354"/>
                          <a:pt x="378175" y="2421458"/>
                          <a:pt x="440267" y="2607733"/>
                        </a:cubicBezTo>
                        <a:cubicBezTo>
                          <a:pt x="451556" y="2686755"/>
                          <a:pt x="448890" y="2769072"/>
                          <a:pt x="474133" y="2844800"/>
                        </a:cubicBezTo>
                        <a:cubicBezTo>
                          <a:pt x="484230" y="2875091"/>
                          <a:pt x="525439" y="2885153"/>
                          <a:pt x="541867" y="2912533"/>
                        </a:cubicBezTo>
                        <a:cubicBezTo>
                          <a:pt x="692110" y="3162937"/>
                          <a:pt x="437916" y="2858793"/>
                          <a:pt x="643467" y="3115733"/>
                        </a:cubicBezTo>
                        <a:cubicBezTo>
                          <a:pt x="663413" y="3140666"/>
                          <a:pt x="691254" y="3158534"/>
                          <a:pt x="711200" y="3183467"/>
                        </a:cubicBezTo>
                        <a:cubicBezTo>
                          <a:pt x="736627" y="3215251"/>
                          <a:pt x="752130" y="3254435"/>
                          <a:pt x="778933" y="3285067"/>
                        </a:cubicBezTo>
                        <a:cubicBezTo>
                          <a:pt x="831498" y="3345141"/>
                          <a:pt x="900372" y="3390540"/>
                          <a:pt x="948267" y="3454400"/>
                        </a:cubicBezTo>
                        <a:cubicBezTo>
                          <a:pt x="982134" y="3499556"/>
                          <a:pt x="1019951" y="3542002"/>
                          <a:pt x="1049867" y="3589867"/>
                        </a:cubicBezTo>
                        <a:cubicBezTo>
                          <a:pt x="1076624" y="3632678"/>
                          <a:pt x="1089596" y="3683327"/>
                          <a:pt x="1117600" y="3725333"/>
                        </a:cubicBezTo>
                        <a:cubicBezTo>
                          <a:pt x="1164328" y="3795425"/>
                          <a:pt x="1222230" y="3809038"/>
                          <a:pt x="1286933" y="3860800"/>
                        </a:cubicBezTo>
                        <a:cubicBezTo>
                          <a:pt x="1311866" y="3880746"/>
                          <a:pt x="1328100" y="3910821"/>
                          <a:pt x="1354667" y="3928533"/>
                        </a:cubicBezTo>
                        <a:cubicBezTo>
                          <a:pt x="1438370" y="3984335"/>
                          <a:pt x="1501418" y="4000029"/>
                          <a:pt x="1591733" y="4030133"/>
                        </a:cubicBezTo>
                        <a:cubicBezTo>
                          <a:pt x="1670755" y="4018844"/>
                          <a:pt x="1753072" y="4021510"/>
                          <a:pt x="1828800" y="3996267"/>
                        </a:cubicBezTo>
                        <a:cubicBezTo>
                          <a:pt x="1947678" y="3956641"/>
                          <a:pt x="1962781" y="3628192"/>
                          <a:pt x="1964267" y="3623733"/>
                        </a:cubicBezTo>
                        <a:cubicBezTo>
                          <a:pt x="1977138" y="3585119"/>
                          <a:pt x="2013797" y="3558539"/>
                          <a:pt x="2032000" y="3522133"/>
                        </a:cubicBezTo>
                        <a:cubicBezTo>
                          <a:pt x="2047965" y="3490203"/>
                          <a:pt x="2054578" y="3454400"/>
                          <a:pt x="2065867" y="3420533"/>
                        </a:cubicBezTo>
                        <a:cubicBezTo>
                          <a:pt x="2054578" y="3318933"/>
                          <a:pt x="2052048" y="3215973"/>
                          <a:pt x="2032000" y="3115733"/>
                        </a:cubicBezTo>
                        <a:cubicBezTo>
                          <a:pt x="2017998" y="3045722"/>
                          <a:pt x="1964267" y="2912533"/>
                          <a:pt x="1964267" y="2912533"/>
                        </a:cubicBezTo>
                        <a:cubicBezTo>
                          <a:pt x="2045473" y="2668911"/>
                          <a:pt x="1946942" y="2973167"/>
                          <a:pt x="2032000" y="2675467"/>
                        </a:cubicBezTo>
                        <a:cubicBezTo>
                          <a:pt x="2041807" y="2641142"/>
                          <a:pt x="2054578" y="2607734"/>
                          <a:pt x="2065867" y="2573867"/>
                        </a:cubicBezTo>
                        <a:cubicBezTo>
                          <a:pt x="1988036" y="2340376"/>
                          <a:pt x="2048618" y="2421153"/>
                          <a:pt x="1930400" y="2302933"/>
                        </a:cubicBezTo>
                        <a:cubicBezTo>
                          <a:pt x="1919111" y="2257778"/>
                          <a:pt x="1909320" y="2212221"/>
                          <a:pt x="1896533" y="2167467"/>
                        </a:cubicBezTo>
                        <a:cubicBezTo>
                          <a:pt x="1886726" y="2133142"/>
                          <a:pt x="1868536" y="2101080"/>
                          <a:pt x="1862667" y="2065867"/>
                        </a:cubicBezTo>
                        <a:cubicBezTo>
                          <a:pt x="1846052" y="1966175"/>
                          <a:pt x="1835554" y="1713597"/>
                          <a:pt x="1794933" y="1591733"/>
                        </a:cubicBezTo>
                        <a:cubicBezTo>
                          <a:pt x="1778968" y="1543839"/>
                          <a:pt x="1753174" y="1499558"/>
                          <a:pt x="1727200" y="1456267"/>
                        </a:cubicBezTo>
                        <a:cubicBezTo>
                          <a:pt x="1685317" y="1386462"/>
                          <a:pt x="1591733" y="1253067"/>
                          <a:pt x="1591733" y="1253067"/>
                        </a:cubicBezTo>
                        <a:cubicBezTo>
                          <a:pt x="1555962" y="1145753"/>
                          <a:pt x="1565165" y="1143657"/>
                          <a:pt x="1490133" y="1049867"/>
                        </a:cubicBezTo>
                        <a:cubicBezTo>
                          <a:pt x="1470187" y="1024934"/>
                          <a:pt x="1442346" y="1007066"/>
                          <a:pt x="1422400" y="982133"/>
                        </a:cubicBezTo>
                        <a:cubicBezTo>
                          <a:pt x="1396973" y="950349"/>
                          <a:pt x="1380094" y="912316"/>
                          <a:pt x="1354667" y="880533"/>
                        </a:cubicBezTo>
                        <a:cubicBezTo>
                          <a:pt x="1334721" y="855600"/>
                          <a:pt x="1306879" y="837733"/>
                          <a:pt x="1286933" y="812800"/>
                        </a:cubicBezTo>
                        <a:cubicBezTo>
                          <a:pt x="1261506" y="781017"/>
                          <a:pt x="1246241" y="741622"/>
                          <a:pt x="1219200" y="711200"/>
                        </a:cubicBezTo>
                        <a:cubicBezTo>
                          <a:pt x="1155561" y="639606"/>
                          <a:pt x="1095702" y="561134"/>
                          <a:pt x="1016000" y="508000"/>
                        </a:cubicBezTo>
                        <a:cubicBezTo>
                          <a:pt x="887833" y="422556"/>
                          <a:pt x="943181" y="469048"/>
                          <a:pt x="846667" y="372533"/>
                        </a:cubicBezTo>
                        <a:cubicBezTo>
                          <a:pt x="835378" y="338666"/>
                          <a:pt x="832602" y="300636"/>
                          <a:pt x="812800" y="270933"/>
                        </a:cubicBezTo>
                        <a:cubicBezTo>
                          <a:pt x="786233" y="231082"/>
                          <a:pt x="749006" y="198737"/>
                          <a:pt x="711200" y="169333"/>
                        </a:cubicBezTo>
                        <a:cubicBezTo>
                          <a:pt x="536524" y="33474"/>
                          <a:pt x="559693" y="51098"/>
                          <a:pt x="406400" y="0"/>
                        </a:cubicBezTo>
                        <a:cubicBezTo>
                          <a:pt x="361244" y="11289"/>
                          <a:pt x="313715" y="15532"/>
                          <a:pt x="270933" y="33867"/>
                        </a:cubicBezTo>
                        <a:cubicBezTo>
                          <a:pt x="53886" y="126887"/>
                          <a:pt x="173770" y="228415"/>
                          <a:pt x="203200" y="508000"/>
                        </a:cubicBezTo>
                        <a:cubicBezTo>
                          <a:pt x="230238" y="764856"/>
                          <a:pt x="168958" y="711013"/>
                          <a:pt x="304800" y="778933"/>
                        </a:cubicBez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3" name="任意多边形 162"/>
                  <p:cNvSpPr/>
                  <p:nvPr/>
                </p:nvSpPr>
                <p:spPr>
                  <a:xfrm rot="18172200">
                    <a:off x="3312720" y="3964680"/>
                    <a:ext cx="283680" cy="200880"/>
                  </a:xfrm>
                  <a:custGeom>
                    <a:avLst/>
                    <a:gdLst>
                      <a:gd name="textAreaLeft" fmla="*/ 0 w 283680"/>
                      <a:gd name="textAreaRight" fmla="*/ 284040 w 283680"/>
                      <a:gd name="textAreaTop" fmla="*/ 0 h 200880"/>
                      <a:gd name="textAreaBottom" fmla="*/ 201240 h 200880"/>
                    </a:gdLst>
                    <a:ahLst/>
                    <a:rect l="textAreaLeft" t="textAreaTop" r="textAreaRight" b="textAreaBottom"/>
                    <a:pathLst>
                      <a:path w="2065867" h="4030133">
                        <a:moveTo>
                          <a:pt x="270933" y="677333"/>
                        </a:moveTo>
                        <a:cubicBezTo>
                          <a:pt x="259644" y="733778"/>
                          <a:pt x="257278" y="792770"/>
                          <a:pt x="237067" y="846667"/>
                        </a:cubicBezTo>
                        <a:cubicBezTo>
                          <a:pt x="222775" y="884778"/>
                          <a:pt x="187536" y="911861"/>
                          <a:pt x="169333" y="948267"/>
                        </a:cubicBezTo>
                        <a:cubicBezTo>
                          <a:pt x="153368" y="980197"/>
                          <a:pt x="146756" y="1016000"/>
                          <a:pt x="135467" y="1049867"/>
                        </a:cubicBezTo>
                        <a:cubicBezTo>
                          <a:pt x="124178" y="1128889"/>
                          <a:pt x="124537" y="1210475"/>
                          <a:pt x="101600" y="1286933"/>
                        </a:cubicBezTo>
                        <a:cubicBezTo>
                          <a:pt x="89904" y="1325919"/>
                          <a:pt x="52070" y="1352127"/>
                          <a:pt x="33867" y="1388533"/>
                        </a:cubicBezTo>
                        <a:cubicBezTo>
                          <a:pt x="17902" y="1420463"/>
                          <a:pt x="11289" y="1456266"/>
                          <a:pt x="0" y="1490133"/>
                        </a:cubicBezTo>
                        <a:cubicBezTo>
                          <a:pt x="11289" y="1648178"/>
                          <a:pt x="6331" y="1808231"/>
                          <a:pt x="33867" y="1964267"/>
                        </a:cubicBezTo>
                        <a:cubicBezTo>
                          <a:pt x="40941" y="2004350"/>
                          <a:pt x="77942" y="2032746"/>
                          <a:pt x="101600" y="2065867"/>
                        </a:cubicBezTo>
                        <a:cubicBezTo>
                          <a:pt x="134408" y="2111798"/>
                          <a:pt x="167065" y="2157971"/>
                          <a:pt x="203200" y="2201333"/>
                        </a:cubicBezTo>
                        <a:cubicBezTo>
                          <a:pt x="223641" y="2225862"/>
                          <a:pt x="253221" y="2242500"/>
                          <a:pt x="270933" y="2269067"/>
                        </a:cubicBezTo>
                        <a:cubicBezTo>
                          <a:pt x="298937" y="2311073"/>
                          <a:pt x="313619" y="2360700"/>
                          <a:pt x="338667" y="2404533"/>
                        </a:cubicBezTo>
                        <a:cubicBezTo>
                          <a:pt x="443708" y="2588354"/>
                          <a:pt x="378175" y="2421458"/>
                          <a:pt x="440267" y="2607733"/>
                        </a:cubicBezTo>
                        <a:cubicBezTo>
                          <a:pt x="451556" y="2686755"/>
                          <a:pt x="448890" y="2769072"/>
                          <a:pt x="474133" y="2844800"/>
                        </a:cubicBezTo>
                        <a:cubicBezTo>
                          <a:pt x="484230" y="2875091"/>
                          <a:pt x="525439" y="2885153"/>
                          <a:pt x="541867" y="2912533"/>
                        </a:cubicBezTo>
                        <a:cubicBezTo>
                          <a:pt x="692110" y="3162937"/>
                          <a:pt x="437916" y="2858793"/>
                          <a:pt x="643467" y="3115733"/>
                        </a:cubicBezTo>
                        <a:cubicBezTo>
                          <a:pt x="663413" y="3140666"/>
                          <a:pt x="691254" y="3158534"/>
                          <a:pt x="711200" y="3183467"/>
                        </a:cubicBezTo>
                        <a:cubicBezTo>
                          <a:pt x="736627" y="3215251"/>
                          <a:pt x="752130" y="3254435"/>
                          <a:pt x="778933" y="3285067"/>
                        </a:cubicBezTo>
                        <a:cubicBezTo>
                          <a:pt x="831498" y="3345141"/>
                          <a:pt x="900372" y="3390540"/>
                          <a:pt x="948267" y="3454400"/>
                        </a:cubicBezTo>
                        <a:cubicBezTo>
                          <a:pt x="982134" y="3499556"/>
                          <a:pt x="1019951" y="3542002"/>
                          <a:pt x="1049867" y="3589867"/>
                        </a:cubicBezTo>
                        <a:cubicBezTo>
                          <a:pt x="1076624" y="3632678"/>
                          <a:pt x="1089596" y="3683327"/>
                          <a:pt x="1117600" y="3725333"/>
                        </a:cubicBezTo>
                        <a:cubicBezTo>
                          <a:pt x="1164328" y="3795425"/>
                          <a:pt x="1222230" y="3809038"/>
                          <a:pt x="1286933" y="3860800"/>
                        </a:cubicBezTo>
                        <a:cubicBezTo>
                          <a:pt x="1311866" y="3880746"/>
                          <a:pt x="1328100" y="3910821"/>
                          <a:pt x="1354667" y="3928533"/>
                        </a:cubicBezTo>
                        <a:cubicBezTo>
                          <a:pt x="1438370" y="3984335"/>
                          <a:pt x="1501418" y="4000029"/>
                          <a:pt x="1591733" y="4030133"/>
                        </a:cubicBezTo>
                        <a:cubicBezTo>
                          <a:pt x="1670755" y="4018844"/>
                          <a:pt x="1753072" y="4021510"/>
                          <a:pt x="1828800" y="3996267"/>
                        </a:cubicBezTo>
                        <a:cubicBezTo>
                          <a:pt x="1947678" y="3956641"/>
                          <a:pt x="1962781" y="3628192"/>
                          <a:pt x="1964267" y="3623733"/>
                        </a:cubicBezTo>
                        <a:cubicBezTo>
                          <a:pt x="1977138" y="3585119"/>
                          <a:pt x="2013797" y="3558539"/>
                          <a:pt x="2032000" y="3522133"/>
                        </a:cubicBezTo>
                        <a:cubicBezTo>
                          <a:pt x="2047965" y="3490203"/>
                          <a:pt x="2054578" y="3454400"/>
                          <a:pt x="2065867" y="3420533"/>
                        </a:cubicBezTo>
                        <a:cubicBezTo>
                          <a:pt x="2054578" y="3318933"/>
                          <a:pt x="2052048" y="3215973"/>
                          <a:pt x="2032000" y="3115733"/>
                        </a:cubicBezTo>
                        <a:cubicBezTo>
                          <a:pt x="2017998" y="3045722"/>
                          <a:pt x="1964267" y="2912533"/>
                          <a:pt x="1964267" y="2912533"/>
                        </a:cubicBezTo>
                        <a:cubicBezTo>
                          <a:pt x="2045473" y="2668911"/>
                          <a:pt x="1946942" y="2973167"/>
                          <a:pt x="2032000" y="2675467"/>
                        </a:cubicBezTo>
                        <a:cubicBezTo>
                          <a:pt x="2041807" y="2641142"/>
                          <a:pt x="2054578" y="2607734"/>
                          <a:pt x="2065867" y="2573867"/>
                        </a:cubicBezTo>
                        <a:cubicBezTo>
                          <a:pt x="1988036" y="2340376"/>
                          <a:pt x="2048618" y="2421153"/>
                          <a:pt x="1930400" y="2302933"/>
                        </a:cubicBezTo>
                        <a:cubicBezTo>
                          <a:pt x="1919111" y="2257778"/>
                          <a:pt x="1909320" y="2212221"/>
                          <a:pt x="1896533" y="2167467"/>
                        </a:cubicBezTo>
                        <a:cubicBezTo>
                          <a:pt x="1886726" y="2133142"/>
                          <a:pt x="1868536" y="2101080"/>
                          <a:pt x="1862667" y="2065867"/>
                        </a:cubicBezTo>
                        <a:cubicBezTo>
                          <a:pt x="1846052" y="1966175"/>
                          <a:pt x="1835554" y="1713597"/>
                          <a:pt x="1794933" y="1591733"/>
                        </a:cubicBezTo>
                        <a:cubicBezTo>
                          <a:pt x="1778968" y="1543839"/>
                          <a:pt x="1753174" y="1499558"/>
                          <a:pt x="1727200" y="1456267"/>
                        </a:cubicBezTo>
                        <a:cubicBezTo>
                          <a:pt x="1685317" y="1386462"/>
                          <a:pt x="1591733" y="1253067"/>
                          <a:pt x="1591733" y="1253067"/>
                        </a:cubicBezTo>
                        <a:cubicBezTo>
                          <a:pt x="1555962" y="1145753"/>
                          <a:pt x="1565165" y="1143657"/>
                          <a:pt x="1490133" y="1049867"/>
                        </a:cubicBezTo>
                        <a:cubicBezTo>
                          <a:pt x="1470187" y="1024934"/>
                          <a:pt x="1442346" y="1007066"/>
                          <a:pt x="1422400" y="982133"/>
                        </a:cubicBezTo>
                        <a:cubicBezTo>
                          <a:pt x="1396973" y="950349"/>
                          <a:pt x="1380094" y="912316"/>
                          <a:pt x="1354667" y="880533"/>
                        </a:cubicBezTo>
                        <a:cubicBezTo>
                          <a:pt x="1334721" y="855600"/>
                          <a:pt x="1306879" y="837733"/>
                          <a:pt x="1286933" y="812800"/>
                        </a:cubicBezTo>
                        <a:cubicBezTo>
                          <a:pt x="1261506" y="781017"/>
                          <a:pt x="1246241" y="741622"/>
                          <a:pt x="1219200" y="711200"/>
                        </a:cubicBezTo>
                        <a:cubicBezTo>
                          <a:pt x="1155561" y="639606"/>
                          <a:pt x="1095702" y="561134"/>
                          <a:pt x="1016000" y="508000"/>
                        </a:cubicBezTo>
                        <a:cubicBezTo>
                          <a:pt x="887833" y="422556"/>
                          <a:pt x="943181" y="469048"/>
                          <a:pt x="846667" y="372533"/>
                        </a:cubicBezTo>
                        <a:cubicBezTo>
                          <a:pt x="835378" y="338666"/>
                          <a:pt x="832602" y="300636"/>
                          <a:pt x="812800" y="270933"/>
                        </a:cubicBezTo>
                        <a:cubicBezTo>
                          <a:pt x="786233" y="231082"/>
                          <a:pt x="749006" y="198737"/>
                          <a:pt x="711200" y="169333"/>
                        </a:cubicBezTo>
                        <a:cubicBezTo>
                          <a:pt x="536524" y="33474"/>
                          <a:pt x="559693" y="51098"/>
                          <a:pt x="406400" y="0"/>
                        </a:cubicBezTo>
                        <a:cubicBezTo>
                          <a:pt x="361244" y="11289"/>
                          <a:pt x="313715" y="15532"/>
                          <a:pt x="270933" y="33867"/>
                        </a:cubicBezTo>
                        <a:cubicBezTo>
                          <a:pt x="53886" y="126887"/>
                          <a:pt x="173770" y="228415"/>
                          <a:pt x="203200" y="508000"/>
                        </a:cubicBezTo>
                        <a:cubicBezTo>
                          <a:pt x="230238" y="764856"/>
                          <a:pt x="168958" y="711013"/>
                          <a:pt x="304800" y="778933"/>
                        </a:cubicBezTo>
                      </a:path>
                    </a:pathLst>
                  </a:custGeom>
                  <a:solidFill>
                    <a:srgbClr val="f2f2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4" name="任意多边形 163"/>
                  <p:cNvSpPr/>
                  <p:nvPr/>
                </p:nvSpPr>
                <p:spPr>
                  <a:xfrm rot="17479200">
                    <a:off x="3661200" y="3913200"/>
                    <a:ext cx="194760" cy="133920"/>
                  </a:xfrm>
                  <a:custGeom>
                    <a:avLst/>
                    <a:gdLst>
                      <a:gd name="textAreaLeft" fmla="*/ 0 w 194760"/>
                      <a:gd name="textAreaRight" fmla="*/ 195120 w 194760"/>
                      <a:gd name="textAreaTop" fmla="*/ 0 h 133920"/>
                      <a:gd name="textAreaBottom" fmla="*/ 134280 h 133920"/>
                    </a:gdLst>
                    <a:ahLst/>
                    <a:rect l="textAreaLeft" t="textAreaTop" r="textAreaRight" b="textAreaBottom"/>
                    <a:pathLst>
                      <a:path w="2065867" h="4030133">
                        <a:moveTo>
                          <a:pt x="270933" y="677333"/>
                        </a:moveTo>
                        <a:cubicBezTo>
                          <a:pt x="259644" y="733778"/>
                          <a:pt x="257278" y="792770"/>
                          <a:pt x="237067" y="846667"/>
                        </a:cubicBezTo>
                        <a:cubicBezTo>
                          <a:pt x="222775" y="884778"/>
                          <a:pt x="187536" y="911861"/>
                          <a:pt x="169333" y="948267"/>
                        </a:cubicBezTo>
                        <a:cubicBezTo>
                          <a:pt x="153368" y="980197"/>
                          <a:pt x="146756" y="1016000"/>
                          <a:pt x="135467" y="1049867"/>
                        </a:cubicBezTo>
                        <a:cubicBezTo>
                          <a:pt x="124178" y="1128889"/>
                          <a:pt x="124537" y="1210475"/>
                          <a:pt x="101600" y="1286933"/>
                        </a:cubicBezTo>
                        <a:cubicBezTo>
                          <a:pt x="89904" y="1325919"/>
                          <a:pt x="52070" y="1352127"/>
                          <a:pt x="33867" y="1388533"/>
                        </a:cubicBezTo>
                        <a:cubicBezTo>
                          <a:pt x="17902" y="1420463"/>
                          <a:pt x="11289" y="1456266"/>
                          <a:pt x="0" y="1490133"/>
                        </a:cubicBezTo>
                        <a:cubicBezTo>
                          <a:pt x="11289" y="1648178"/>
                          <a:pt x="6331" y="1808231"/>
                          <a:pt x="33867" y="1964267"/>
                        </a:cubicBezTo>
                        <a:cubicBezTo>
                          <a:pt x="40941" y="2004350"/>
                          <a:pt x="77942" y="2032746"/>
                          <a:pt x="101600" y="2065867"/>
                        </a:cubicBezTo>
                        <a:cubicBezTo>
                          <a:pt x="134408" y="2111798"/>
                          <a:pt x="167065" y="2157971"/>
                          <a:pt x="203200" y="2201333"/>
                        </a:cubicBezTo>
                        <a:cubicBezTo>
                          <a:pt x="223641" y="2225862"/>
                          <a:pt x="253221" y="2242500"/>
                          <a:pt x="270933" y="2269067"/>
                        </a:cubicBezTo>
                        <a:cubicBezTo>
                          <a:pt x="298937" y="2311073"/>
                          <a:pt x="313619" y="2360700"/>
                          <a:pt x="338667" y="2404533"/>
                        </a:cubicBezTo>
                        <a:cubicBezTo>
                          <a:pt x="443708" y="2588354"/>
                          <a:pt x="378175" y="2421458"/>
                          <a:pt x="440267" y="2607733"/>
                        </a:cubicBezTo>
                        <a:cubicBezTo>
                          <a:pt x="451556" y="2686755"/>
                          <a:pt x="448890" y="2769072"/>
                          <a:pt x="474133" y="2844800"/>
                        </a:cubicBezTo>
                        <a:cubicBezTo>
                          <a:pt x="484230" y="2875091"/>
                          <a:pt x="525439" y="2885153"/>
                          <a:pt x="541867" y="2912533"/>
                        </a:cubicBezTo>
                        <a:cubicBezTo>
                          <a:pt x="692110" y="3162937"/>
                          <a:pt x="437916" y="2858793"/>
                          <a:pt x="643467" y="3115733"/>
                        </a:cubicBezTo>
                        <a:cubicBezTo>
                          <a:pt x="663413" y="3140666"/>
                          <a:pt x="691254" y="3158534"/>
                          <a:pt x="711200" y="3183467"/>
                        </a:cubicBezTo>
                        <a:cubicBezTo>
                          <a:pt x="736627" y="3215251"/>
                          <a:pt x="752130" y="3254435"/>
                          <a:pt x="778933" y="3285067"/>
                        </a:cubicBezTo>
                        <a:cubicBezTo>
                          <a:pt x="831498" y="3345141"/>
                          <a:pt x="900372" y="3390540"/>
                          <a:pt x="948267" y="3454400"/>
                        </a:cubicBezTo>
                        <a:cubicBezTo>
                          <a:pt x="982134" y="3499556"/>
                          <a:pt x="1019951" y="3542002"/>
                          <a:pt x="1049867" y="3589867"/>
                        </a:cubicBezTo>
                        <a:cubicBezTo>
                          <a:pt x="1076624" y="3632678"/>
                          <a:pt x="1089596" y="3683327"/>
                          <a:pt x="1117600" y="3725333"/>
                        </a:cubicBezTo>
                        <a:cubicBezTo>
                          <a:pt x="1164328" y="3795425"/>
                          <a:pt x="1222230" y="3809038"/>
                          <a:pt x="1286933" y="3860800"/>
                        </a:cubicBezTo>
                        <a:cubicBezTo>
                          <a:pt x="1311866" y="3880746"/>
                          <a:pt x="1328100" y="3910821"/>
                          <a:pt x="1354667" y="3928533"/>
                        </a:cubicBezTo>
                        <a:cubicBezTo>
                          <a:pt x="1438370" y="3984335"/>
                          <a:pt x="1501418" y="4000029"/>
                          <a:pt x="1591733" y="4030133"/>
                        </a:cubicBezTo>
                        <a:cubicBezTo>
                          <a:pt x="1670755" y="4018844"/>
                          <a:pt x="1753072" y="4021510"/>
                          <a:pt x="1828800" y="3996267"/>
                        </a:cubicBezTo>
                        <a:cubicBezTo>
                          <a:pt x="1947678" y="3956641"/>
                          <a:pt x="1962781" y="3628192"/>
                          <a:pt x="1964267" y="3623733"/>
                        </a:cubicBezTo>
                        <a:cubicBezTo>
                          <a:pt x="1977138" y="3585119"/>
                          <a:pt x="2013797" y="3558539"/>
                          <a:pt x="2032000" y="3522133"/>
                        </a:cubicBezTo>
                        <a:cubicBezTo>
                          <a:pt x="2047965" y="3490203"/>
                          <a:pt x="2054578" y="3454400"/>
                          <a:pt x="2065867" y="3420533"/>
                        </a:cubicBezTo>
                        <a:cubicBezTo>
                          <a:pt x="2054578" y="3318933"/>
                          <a:pt x="2052048" y="3215973"/>
                          <a:pt x="2032000" y="3115733"/>
                        </a:cubicBezTo>
                        <a:cubicBezTo>
                          <a:pt x="2017998" y="3045722"/>
                          <a:pt x="1964267" y="2912533"/>
                          <a:pt x="1964267" y="2912533"/>
                        </a:cubicBezTo>
                        <a:cubicBezTo>
                          <a:pt x="2045473" y="2668911"/>
                          <a:pt x="1946942" y="2973167"/>
                          <a:pt x="2032000" y="2675467"/>
                        </a:cubicBezTo>
                        <a:cubicBezTo>
                          <a:pt x="2041807" y="2641142"/>
                          <a:pt x="2054578" y="2607734"/>
                          <a:pt x="2065867" y="2573867"/>
                        </a:cubicBezTo>
                        <a:cubicBezTo>
                          <a:pt x="1988036" y="2340376"/>
                          <a:pt x="2048618" y="2421153"/>
                          <a:pt x="1930400" y="2302933"/>
                        </a:cubicBezTo>
                        <a:cubicBezTo>
                          <a:pt x="1919111" y="2257778"/>
                          <a:pt x="1909320" y="2212221"/>
                          <a:pt x="1896533" y="2167467"/>
                        </a:cubicBezTo>
                        <a:cubicBezTo>
                          <a:pt x="1886726" y="2133142"/>
                          <a:pt x="1868536" y="2101080"/>
                          <a:pt x="1862667" y="2065867"/>
                        </a:cubicBezTo>
                        <a:cubicBezTo>
                          <a:pt x="1846052" y="1966175"/>
                          <a:pt x="1835554" y="1713597"/>
                          <a:pt x="1794933" y="1591733"/>
                        </a:cubicBezTo>
                        <a:cubicBezTo>
                          <a:pt x="1778968" y="1543839"/>
                          <a:pt x="1753174" y="1499558"/>
                          <a:pt x="1727200" y="1456267"/>
                        </a:cubicBezTo>
                        <a:cubicBezTo>
                          <a:pt x="1685317" y="1386462"/>
                          <a:pt x="1591733" y="1253067"/>
                          <a:pt x="1591733" y="1253067"/>
                        </a:cubicBezTo>
                        <a:cubicBezTo>
                          <a:pt x="1555962" y="1145753"/>
                          <a:pt x="1565165" y="1143657"/>
                          <a:pt x="1490133" y="1049867"/>
                        </a:cubicBezTo>
                        <a:cubicBezTo>
                          <a:pt x="1470187" y="1024934"/>
                          <a:pt x="1442346" y="1007066"/>
                          <a:pt x="1422400" y="982133"/>
                        </a:cubicBezTo>
                        <a:cubicBezTo>
                          <a:pt x="1396973" y="950349"/>
                          <a:pt x="1380094" y="912316"/>
                          <a:pt x="1354667" y="880533"/>
                        </a:cubicBezTo>
                        <a:cubicBezTo>
                          <a:pt x="1334721" y="855600"/>
                          <a:pt x="1306879" y="837733"/>
                          <a:pt x="1286933" y="812800"/>
                        </a:cubicBezTo>
                        <a:cubicBezTo>
                          <a:pt x="1261506" y="781017"/>
                          <a:pt x="1246241" y="741622"/>
                          <a:pt x="1219200" y="711200"/>
                        </a:cubicBezTo>
                        <a:cubicBezTo>
                          <a:pt x="1155561" y="639606"/>
                          <a:pt x="1095702" y="561134"/>
                          <a:pt x="1016000" y="508000"/>
                        </a:cubicBezTo>
                        <a:cubicBezTo>
                          <a:pt x="887833" y="422556"/>
                          <a:pt x="943181" y="469048"/>
                          <a:pt x="846667" y="372533"/>
                        </a:cubicBezTo>
                        <a:cubicBezTo>
                          <a:pt x="835378" y="338666"/>
                          <a:pt x="832602" y="300636"/>
                          <a:pt x="812800" y="270933"/>
                        </a:cubicBezTo>
                        <a:cubicBezTo>
                          <a:pt x="786233" y="231082"/>
                          <a:pt x="749006" y="198737"/>
                          <a:pt x="711200" y="169333"/>
                        </a:cubicBezTo>
                        <a:cubicBezTo>
                          <a:pt x="536524" y="33474"/>
                          <a:pt x="559693" y="51098"/>
                          <a:pt x="406400" y="0"/>
                        </a:cubicBezTo>
                        <a:cubicBezTo>
                          <a:pt x="361244" y="11289"/>
                          <a:pt x="313715" y="15532"/>
                          <a:pt x="270933" y="33867"/>
                        </a:cubicBezTo>
                        <a:cubicBezTo>
                          <a:pt x="53886" y="126887"/>
                          <a:pt x="173770" y="228415"/>
                          <a:pt x="203200" y="508000"/>
                        </a:cubicBezTo>
                        <a:cubicBezTo>
                          <a:pt x="230238" y="764856"/>
                          <a:pt x="168958" y="711013"/>
                          <a:pt x="304800" y="778933"/>
                        </a:cubicBezTo>
                      </a:path>
                    </a:pathLst>
                  </a:custGeom>
                  <a:solidFill>
                    <a:srgbClr val="f2f2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5" name=""/>
                <p:cNvGrpSpPr/>
                <p:nvPr/>
              </p:nvGrpSpPr>
              <p:grpSpPr>
                <a:xfrm>
                  <a:off x="3071520" y="3992760"/>
                  <a:ext cx="943920" cy="688680"/>
                  <a:chOff x="3071520" y="3992760"/>
                  <a:chExt cx="943920" cy="688680"/>
                </a:xfrm>
              </p:grpSpPr>
              <p:sp>
                <p:nvSpPr>
                  <p:cNvPr id="426" name="任意多边形 159"/>
                  <p:cNvSpPr/>
                  <p:nvPr/>
                </p:nvSpPr>
                <p:spPr>
                  <a:xfrm rot="19753800">
                    <a:off x="3061800" y="4223160"/>
                    <a:ext cx="963000" cy="227880"/>
                  </a:xfrm>
                  <a:custGeom>
                    <a:avLst/>
                    <a:gdLst>
                      <a:gd name="textAreaLeft" fmla="*/ 0 w 963000"/>
                      <a:gd name="textAreaRight" fmla="*/ 963360 w 963000"/>
                      <a:gd name="textAreaTop" fmla="*/ 0 h 227880"/>
                      <a:gd name="textAreaBottom" fmla="*/ 228240 h 227880"/>
                    </a:gdLst>
                    <a:ahLst/>
                    <a:rect l="textAreaLeft" t="textAreaTop" r="textAreaRight" b="textAreaBottom"/>
                    <a:pathLst>
                      <a:path w="2065867" h="4030133">
                        <a:moveTo>
                          <a:pt x="270933" y="677333"/>
                        </a:moveTo>
                        <a:cubicBezTo>
                          <a:pt x="259644" y="733778"/>
                          <a:pt x="257278" y="792770"/>
                          <a:pt x="237067" y="846667"/>
                        </a:cubicBezTo>
                        <a:cubicBezTo>
                          <a:pt x="222775" y="884778"/>
                          <a:pt x="187536" y="911861"/>
                          <a:pt x="169333" y="948267"/>
                        </a:cubicBezTo>
                        <a:cubicBezTo>
                          <a:pt x="153368" y="980197"/>
                          <a:pt x="146756" y="1016000"/>
                          <a:pt x="135467" y="1049867"/>
                        </a:cubicBezTo>
                        <a:cubicBezTo>
                          <a:pt x="124178" y="1128889"/>
                          <a:pt x="124537" y="1210475"/>
                          <a:pt x="101600" y="1286933"/>
                        </a:cubicBezTo>
                        <a:cubicBezTo>
                          <a:pt x="89904" y="1325919"/>
                          <a:pt x="52070" y="1352127"/>
                          <a:pt x="33867" y="1388533"/>
                        </a:cubicBezTo>
                        <a:cubicBezTo>
                          <a:pt x="17902" y="1420463"/>
                          <a:pt x="11289" y="1456266"/>
                          <a:pt x="0" y="1490133"/>
                        </a:cubicBezTo>
                        <a:cubicBezTo>
                          <a:pt x="11289" y="1648178"/>
                          <a:pt x="6331" y="1808231"/>
                          <a:pt x="33867" y="1964267"/>
                        </a:cubicBezTo>
                        <a:cubicBezTo>
                          <a:pt x="40941" y="2004350"/>
                          <a:pt x="77942" y="2032746"/>
                          <a:pt x="101600" y="2065867"/>
                        </a:cubicBezTo>
                        <a:cubicBezTo>
                          <a:pt x="134408" y="2111798"/>
                          <a:pt x="167065" y="2157971"/>
                          <a:pt x="203200" y="2201333"/>
                        </a:cubicBezTo>
                        <a:cubicBezTo>
                          <a:pt x="223641" y="2225862"/>
                          <a:pt x="253221" y="2242500"/>
                          <a:pt x="270933" y="2269067"/>
                        </a:cubicBezTo>
                        <a:cubicBezTo>
                          <a:pt x="298937" y="2311073"/>
                          <a:pt x="313619" y="2360700"/>
                          <a:pt x="338667" y="2404533"/>
                        </a:cubicBezTo>
                        <a:cubicBezTo>
                          <a:pt x="443708" y="2588354"/>
                          <a:pt x="378175" y="2421458"/>
                          <a:pt x="440267" y="2607733"/>
                        </a:cubicBezTo>
                        <a:cubicBezTo>
                          <a:pt x="451556" y="2686755"/>
                          <a:pt x="448890" y="2769072"/>
                          <a:pt x="474133" y="2844800"/>
                        </a:cubicBezTo>
                        <a:cubicBezTo>
                          <a:pt x="484230" y="2875091"/>
                          <a:pt x="525439" y="2885153"/>
                          <a:pt x="541867" y="2912533"/>
                        </a:cubicBezTo>
                        <a:cubicBezTo>
                          <a:pt x="692110" y="3162937"/>
                          <a:pt x="437916" y="2858793"/>
                          <a:pt x="643467" y="3115733"/>
                        </a:cubicBezTo>
                        <a:cubicBezTo>
                          <a:pt x="663413" y="3140666"/>
                          <a:pt x="691254" y="3158534"/>
                          <a:pt x="711200" y="3183467"/>
                        </a:cubicBezTo>
                        <a:cubicBezTo>
                          <a:pt x="736627" y="3215251"/>
                          <a:pt x="752130" y="3254435"/>
                          <a:pt x="778933" y="3285067"/>
                        </a:cubicBezTo>
                        <a:cubicBezTo>
                          <a:pt x="831498" y="3345141"/>
                          <a:pt x="900372" y="3390540"/>
                          <a:pt x="948267" y="3454400"/>
                        </a:cubicBezTo>
                        <a:cubicBezTo>
                          <a:pt x="982134" y="3499556"/>
                          <a:pt x="1019951" y="3542002"/>
                          <a:pt x="1049867" y="3589867"/>
                        </a:cubicBezTo>
                        <a:cubicBezTo>
                          <a:pt x="1076624" y="3632678"/>
                          <a:pt x="1089596" y="3683327"/>
                          <a:pt x="1117600" y="3725333"/>
                        </a:cubicBezTo>
                        <a:cubicBezTo>
                          <a:pt x="1164328" y="3795425"/>
                          <a:pt x="1222230" y="3809038"/>
                          <a:pt x="1286933" y="3860800"/>
                        </a:cubicBezTo>
                        <a:cubicBezTo>
                          <a:pt x="1311866" y="3880746"/>
                          <a:pt x="1328100" y="3910821"/>
                          <a:pt x="1354667" y="3928533"/>
                        </a:cubicBezTo>
                        <a:cubicBezTo>
                          <a:pt x="1438370" y="3984335"/>
                          <a:pt x="1501418" y="4000029"/>
                          <a:pt x="1591733" y="4030133"/>
                        </a:cubicBezTo>
                        <a:cubicBezTo>
                          <a:pt x="1670755" y="4018844"/>
                          <a:pt x="1753072" y="4021510"/>
                          <a:pt x="1828800" y="3996267"/>
                        </a:cubicBezTo>
                        <a:cubicBezTo>
                          <a:pt x="1947678" y="3956641"/>
                          <a:pt x="1962781" y="3628192"/>
                          <a:pt x="1964267" y="3623733"/>
                        </a:cubicBezTo>
                        <a:cubicBezTo>
                          <a:pt x="1977138" y="3585119"/>
                          <a:pt x="2013797" y="3558539"/>
                          <a:pt x="2032000" y="3522133"/>
                        </a:cubicBezTo>
                        <a:cubicBezTo>
                          <a:pt x="2047965" y="3490203"/>
                          <a:pt x="2054578" y="3454400"/>
                          <a:pt x="2065867" y="3420533"/>
                        </a:cubicBezTo>
                        <a:cubicBezTo>
                          <a:pt x="2054578" y="3318933"/>
                          <a:pt x="2052048" y="3215973"/>
                          <a:pt x="2032000" y="3115733"/>
                        </a:cubicBezTo>
                        <a:cubicBezTo>
                          <a:pt x="2017998" y="3045722"/>
                          <a:pt x="1964267" y="2912533"/>
                          <a:pt x="1964267" y="2912533"/>
                        </a:cubicBezTo>
                        <a:cubicBezTo>
                          <a:pt x="2045473" y="2668911"/>
                          <a:pt x="1946942" y="2973167"/>
                          <a:pt x="2032000" y="2675467"/>
                        </a:cubicBezTo>
                        <a:cubicBezTo>
                          <a:pt x="2041807" y="2641142"/>
                          <a:pt x="2054578" y="2607734"/>
                          <a:pt x="2065867" y="2573867"/>
                        </a:cubicBezTo>
                        <a:cubicBezTo>
                          <a:pt x="1988036" y="2340376"/>
                          <a:pt x="2048618" y="2421153"/>
                          <a:pt x="1930400" y="2302933"/>
                        </a:cubicBezTo>
                        <a:cubicBezTo>
                          <a:pt x="1919111" y="2257778"/>
                          <a:pt x="1909320" y="2212221"/>
                          <a:pt x="1896533" y="2167467"/>
                        </a:cubicBezTo>
                        <a:cubicBezTo>
                          <a:pt x="1886726" y="2133142"/>
                          <a:pt x="1868536" y="2101080"/>
                          <a:pt x="1862667" y="2065867"/>
                        </a:cubicBezTo>
                        <a:cubicBezTo>
                          <a:pt x="1846052" y="1966175"/>
                          <a:pt x="1835554" y="1713597"/>
                          <a:pt x="1794933" y="1591733"/>
                        </a:cubicBezTo>
                        <a:cubicBezTo>
                          <a:pt x="1778968" y="1543839"/>
                          <a:pt x="1753174" y="1499558"/>
                          <a:pt x="1727200" y="1456267"/>
                        </a:cubicBezTo>
                        <a:cubicBezTo>
                          <a:pt x="1685317" y="1386462"/>
                          <a:pt x="1591733" y="1253067"/>
                          <a:pt x="1591733" y="1253067"/>
                        </a:cubicBezTo>
                        <a:cubicBezTo>
                          <a:pt x="1555962" y="1145753"/>
                          <a:pt x="1565165" y="1143657"/>
                          <a:pt x="1490133" y="1049867"/>
                        </a:cubicBezTo>
                        <a:cubicBezTo>
                          <a:pt x="1470187" y="1024934"/>
                          <a:pt x="1442346" y="1007066"/>
                          <a:pt x="1422400" y="982133"/>
                        </a:cubicBezTo>
                        <a:cubicBezTo>
                          <a:pt x="1396973" y="950349"/>
                          <a:pt x="1380094" y="912316"/>
                          <a:pt x="1354667" y="880533"/>
                        </a:cubicBezTo>
                        <a:cubicBezTo>
                          <a:pt x="1334721" y="855600"/>
                          <a:pt x="1306879" y="837733"/>
                          <a:pt x="1286933" y="812800"/>
                        </a:cubicBezTo>
                        <a:cubicBezTo>
                          <a:pt x="1261506" y="781017"/>
                          <a:pt x="1246241" y="741622"/>
                          <a:pt x="1219200" y="711200"/>
                        </a:cubicBezTo>
                        <a:cubicBezTo>
                          <a:pt x="1155561" y="639606"/>
                          <a:pt x="1095702" y="561134"/>
                          <a:pt x="1016000" y="508000"/>
                        </a:cubicBezTo>
                        <a:cubicBezTo>
                          <a:pt x="887833" y="422556"/>
                          <a:pt x="943181" y="469048"/>
                          <a:pt x="846667" y="372533"/>
                        </a:cubicBezTo>
                        <a:cubicBezTo>
                          <a:pt x="835378" y="338666"/>
                          <a:pt x="832602" y="300636"/>
                          <a:pt x="812800" y="270933"/>
                        </a:cubicBezTo>
                        <a:cubicBezTo>
                          <a:pt x="786233" y="231082"/>
                          <a:pt x="749006" y="198737"/>
                          <a:pt x="711200" y="169333"/>
                        </a:cubicBezTo>
                        <a:cubicBezTo>
                          <a:pt x="536524" y="33474"/>
                          <a:pt x="559693" y="51098"/>
                          <a:pt x="406400" y="0"/>
                        </a:cubicBezTo>
                        <a:cubicBezTo>
                          <a:pt x="361244" y="11289"/>
                          <a:pt x="313715" y="15532"/>
                          <a:pt x="270933" y="33867"/>
                        </a:cubicBezTo>
                        <a:cubicBezTo>
                          <a:pt x="53886" y="126887"/>
                          <a:pt x="173770" y="228415"/>
                          <a:pt x="203200" y="508000"/>
                        </a:cubicBezTo>
                        <a:cubicBezTo>
                          <a:pt x="230238" y="764856"/>
                          <a:pt x="168958" y="711013"/>
                          <a:pt x="304800" y="778933"/>
                        </a:cubicBez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7" name="任意多边形 160"/>
                  <p:cNvSpPr/>
                  <p:nvPr/>
                </p:nvSpPr>
                <p:spPr>
                  <a:xfrm rot="19666800">
                    <a:off x="3404520" y="4273200"/>
                    <a:ext cx="479880" cy="213840"/>
                  </a:xfrm>
                  <a:custGeom>
                    <a:avLst/>
                    <a:gdLst>
                      <a:gd name="textAreaLeft" fmla="*/ 0 w 479880"/>
                      <a:gd name="textAreaRight" fmla="*/ 480240 w 479880"/>
                      <a:gd name="textAreaTop" fmla="*/ 0 h 213840"/>
                      <a:gd name="textAreaBottom" fmla="*/ 214200 h 213840"/>
                    </a:gdLst>
                    <a:ahLst/>
                    <a:rect l="textAreaLeft" t="textAreaTop" r="textAreaRight" b="textAreaBottom"/>
                    <a:pathLst>
                      <a:path w="2065867" h="4030133">
                        <a:moveTo>
                          <a:pt x="270933" y="677333"/>
                        </a:moveTo>
                        <a:cubicBezTo>
                          <a:pt x="259644" y="733778"/>
                          <a:pt x="257278" y="792770"/>
                          <a:pt x="237067" y="846667"/>
                        </a:cubicBezTo>
                        <a:cubicBezTo>
                          <a:pt x="222775" y="884778"/>
                          <a:pt x="187536" y="911861"/>
                          <a:pt x="169333" y="948267"/>
                        </a:cubicBezTo>
                        <a:cubicBezTo>
                          <a:pt x="153368" y="980197"/>
                          <a:pt x="146756" y="1016000"/>
                          <a:pt x="135467" y="1049867"/>
                        </a:cubicBezTo>
                        <a:cubicBezTo>
                          <a:pt x="124178" y="1128889"/>
                          <a:pt x="124537" y="1210475"/>
                          <a:pt x="101600" y="1286933"/>
                        </a:cubicBezTo>
                        <a:cubicBezTo>
                          <a:pt x="89904" y="1325919"/>
                          <a:pt x="52070" y="1352127"/>
                          <a:pt x="33867" y="1388533"/>
                        </a:cubicBezTo>
                        <a:cubicBezTo>
                          <a:pt x="17902" y="1420463"/>
                          <a:pt x="11289" y="1456266"/>
                          <a:pt x="0" y="1490133"/>
                        </a:cubicBezTo>
                        <a:cubicBezTo>
                          <a:pt x="11289" y="1648178"/>
                          <a:pt x="6331" y="1808231"/>
                          <a:pt x="33867" y="1964267"/>
                        </a:cubicBezTo>
                        <a:cubicBezTo>
                          <a:pt x="40941" y="2004350"/>
                          <a:pt x="77942" y="2032746"/>
                          <a:pt x="101600" y="2065867"/>
                        </a:cubicBezTo>
                        <a:cubicBezTo>
                          <a:pt x="134408" y="2111798"/>
                          <a:pt x="167065" y="2157971"/>
                          <a:pt x="203200" y="2201333"/>
                        </a:cubicBezTo>
                        <a:cubicBezTo>
                          <a:pt x="223641" y="2225862"/>
                          <a:pt x="253221" y="2242500"/>
                          <a:pt x="270933" y="2269067"/>
                        </a:cubicBezTo>
                        <a:cubicBezTo>
                          <a:pt x="298937" y="2311073"/>
                          <a:pt x="313619" y="2360700"/>
                          <a:pt x="338667" y="2404533"/>
                        </a:cubicBezTo>
                        <a:cubicBezTo>
                          <a:pt x="443708" y="2588354"/>
                          <a:pt x="378175" y="2421458"/>
                          <a:pt x="440267" y="2607733"/>
                        </a:cubicBezTo>
                        <a:cubicBezTo>
                          <a:pt x="451556" y="2686755"/>
                          <a:pt x="448890" y="2769072"/>
                          <a:pt x="474133" y="2844800"/>
                        </a:cubicBezTo>
                        <a:cubicBezTo>
                          <a:pt x="484230" y="2875091"/>
                          <a:pt x="525439" y="2885153"/>
                          <a:pt x="541867" y="2912533"/>
                        </a:cubicBezTo>
                        <a:cubicBezTo>
                          <a:pt x="692110" y="3162937"/>
                          <a:pt x="437916" y="2858793"/>
                          <a:pt x="643467" y="3115733"/>
                        </a:cubicBezTo>
                        <a:cubicBezTo>
                          <a:pt x="663413" y="3140666"/>
                          <a:pt x="691254" y="3158534"/>
                          <a:pt x="711200" y="3183467"/>
                        </a:cubicBezTo>
                        <a:cubicBezTo>
                          <a:pt x="736627" y="3215251"/>
                          <a:pt x="752130" y="3254435"/>
                          <a:pt x="778933" y="3285067"/>
                        </a:cubicBezTo>
                        <a:cubicBezTo>
                          <a:pt x="831498" y="3345141"/>
                          <a:pt x="900372" y="3390540"/>
                          <a:pt x="948267" y="3454400"/>
                        </a:cubicBezTo>
                        <a:cubicBezTo>
                          <a:pt x="982134" y="3499556"/>
                          <a:pt x="1019951" y="3542002"/>
                          <a:pt x="1049867" y="3589867"/>
                        </a:cubicBezTo>
                        <a:cubicBezTo>
                          <a:pt x="1076624" y="3632678"/>
                          <a:pt x="1089596" y="3683327"/>
                          <a:pt x="1117600" y="3725333"/>
                        </a:cubicBezTo>
                        <a:cubicBezTo>
                          <a:pt x="1164328" y="3795425"/>
                          <a:pt x="1222230" y="3809038"/>
                          <a:pt x="1286933" y="3860800"/>
                        </a:cubicBezTo>
                        <a:cubicBezTo>
                          <a:pt x="1311866" y="3880746"/>
                          <a:pt x="1328100" y="3910821"/>
                          <a:pt x="1354667" y="3928533"/>
                        </a:cubicBezTo>
                        <a:cubicBezTo>
                          <a:pt x="1438370" y="3984335"/>
                          <a:pt x="1501418" y="4000029"/>
                          <a:pt x="1591733" y="4030133"/>
                        </a:cubicBezTo>
                        <a:cubicBezTo>
                          <a:pt x="1670755" y="4018844"/>
                          <a:pt x="1753072" y="4021510"/>
                          <a:pt x="1828800" y="3996267"/>
                        </a:cubicBezTo>
                        <a:cubicBezTo>
                          <a:pt x="1947678" y="3956641"/>
                          <a:pt x="1962781" y="3628192"/>
                          <a:pt x="1964267" y="3623733"/>
                        </a:cubicBezTo>
                        <a:cubicBezTo>
                          <a:pt x="1977138" y="3585119"/>
                          <a:pt x="2013797" y="3558539"/>
                          <a:pt x="2032000" y="3522133"/>
                        </a:cubicBezTo>
                        <a:cubicBezTo>
                          <a:pt x="2047965" y="3490203"/>
                          <a:pt x="2054578" y="3454400"/>
                          <a:pt x="2065867" y="3420533"/>
                        </a:cubicBezTo>
                        <a:cubicBezTo>
                          <a:pt x="2054578" y="3318933"/>
                          <a:pt x="2052048" y="3215973"/>
                          <a:pt x="2032000" y="3115733"/>
                        </a:cubicBezTo>
                        <a:cubicBezTo>
                          <a:pt x="2017998" y="3045722"/>
                          <a:pt x="1964267" y="2912533"/>
                          <a:pt x="1964267" y="2912533"/>
                        </a:cubicBezTo>
                        <a:cubicBezTo>
                          <a:pt x="2045473" y="2668911"/>
                          <a:pt x="1946942" y="2973167"/>
                          <a:pt x="2032000" y="2675467"/>
                        </a:cubicBezTo>
                        <a:cubicBezTo>
                          <a:pt x="2041807" y="2641142"/>
                          <a:pt x="2054578" y="2607734"/>
                          <a:pt x="2065867" y="2573867"/>
                        </a:cubicBezTo>
                        <a:cubicBezTo>
                          <a:pt x="1988036" y="2340376"/>
                          <a:pt x="2048618" y="2421153"/>
                          <a:pt x="1930400" y="2302933"/>
                        </a:cubicBezTo>
                        <a:cubicBezTo>
                          <a:pt x="1919111" y="2257778"/>
                          <a:pt x="1909320" y="2212221"/>
                          <a:pt x="1896533" y="2167467"/>
                        </a:cubicBezTo>
                        <a:cubicBezTo>
                          <a:pt x="1886726" y="2133142"/>
                          <a:pt x="1868536" y="2101080"/>
                          <a:pt x="1862667" y="2065867"/>
                        </a:cubicBezTo>
                        <a:cubicBezTo>
                          <a:pt x="1846052" y="1966175"/>
                          <a:pt x="1835554" y="1713597"/>
                          <a:pt x="1794933" y="1591733"/>
                        </a:cubicBezTo>
                        <a:cubicBezTo>
                          <a:pt x="1778968" y="1543839"/>
                          <a:pt x="1753174" y="1499558"/>
                          <a:pt x="1727200" y="1456267"/>
                        </a:cubicBezTo>
                        <a:cubicBezTo>
                          <a:pt x="1685317" y="1386462"/>
                          <a:pt x="1591733" y="1253067"/>
                          <a:pt x="1591733" y="1253067"/>
                        </a:cubicBezTo>
                        <a:cubicBezTo>
                          <a:pt x="1555962" y="1145753"/>
                          <a:pt x="1565165" y="1143657"/>
                          <a:pt x="1490133" y="1049867"/>
                        </a:cubicBezTo>
                        <a:cubicBezTo>
                          <a:pt x="1470187" y="1024934"/>
                          <a:pt x="1442346" y="1007066"/>
                          <a:pt x="1422400" y="982133"/>
                        </a:cubicBezTo>
                        <a:cubicBezTo>
                          <a:pt x="1396973" y="950349"/>
                          <a:pt x="1380094" y="912316"/>
                          <a:pt x="1354667" y="880533"/>
                        </a:cubicBezTo>
                        <a:cubicBezTo>
                          <a:pt x="1334721" y="855600"/>
                          <a:pt x="1306879" y="837733"/>
                          <a:pt x="1286933" y="812800"/>
                        </a:cubicBezTo>
                        <a:cubicBezTo>
                          <a:pt x="1261506" y="781017"/>
                          <a:pt x="1246241" y="741622"/>
                          <a:pt x="1219200" y="711200"/>
                        </a:cubicBezTo>
                        <a:cubicBezTo>
                          <a:pt x="1155561" y="639606"/>
                          <a:pt x="1095702" y="561134"/>
                          <a:pt x="1016000" y="508000"/>
                        </a:cubicBezTo>
                        <a:cubicBezTo>
                          <a:pt x="887833" y="422556"/>
                          <a:pt x="943181" y="469048"/>
                          <a:pt x="846667" y="372533"/>
                        </a:cubicBezTo>
                        <a:cubicBezTo>
                          <a:pt x="835378" y="338666"/>
                          <a:pt x="832602" y="300636"/>
                          <a:pt x="812800" y="270933"/>
                        </a:cubicBezTo>
                        <a:cubicBezTo>
                          <a:pt x="786233" y="231082"/>
                          <a:pt x="749006" y="198737"/>
                          <a:pt x="711200" y="169333"/>
                        </a:cubicBezTo>
                        <a:cubicBezTo>
                          <a:pt x="536524" y="33474"/>
                          <a:pt x="559693" y="51098"/>
                          <a:pt x="406400" y="0"/>
                        </a:cubicBezTo>
                        <a:cubicBezTo>
                          <a:pt x="361244" y="11289"/>
                          <a:pt x="313715" y="15532"/>
                          <a:pt x="270933" y="33867"/>
                        </a:cubicBezTo>
                        <a:cubicBezTo>
                          <a:pt x="53886" y="126887"/>
                          <a:pt x="173770" y="228415"/>
                          <a:pt x="203200" y="508000"/>
                        </a:cubicBezTo>
                        <a:cubicBezTo>
                          <a:pt x="230238" y="764856"/>
                          <a:pt x="168958" y="711013"/>
                          <a:pt x="304800" y="778933"/>
                        </a:cubicBezTo>
                      </a:path>
                    </a:pathLst>
                  </a:custGeom>
                  <a:solidFill>
                    <a:srgbClr val="f2f2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8" name=""/>
                <p:cNvGrpSpPr/>
                <p:nvPr/>
              </p:nvGrpSpPr>
              <p:grpSpPr>
                <a:xfrm>
                  <a:off x="2688840" y="4414680"/>
                  <a:ext cx="758880" cy="908280"/>
                  <a:chOff x="2688840" y="4414680"/>
                  <a:chExt cx="758880" cy="908280"/>
                </a:xfrm>
              </p:grpSpPr>
              <p:sp>
                <p:nvSpPr>
                  <p:cNvPr id="429" name="任意多边形 150"/>
                  <p:cNvSpPr/>
                  <p:nvPr/>
                </p:nvSpPr>
                <p:spPr>
                  <a:xfrm rot="18404400">
                    <a:off x="2586600" y="4754520"/>
                    <a:ext cx="963360" cy="227880"/>
                  </a:xfrm>
                  <a:custGeom>
                    <a:avLst/>
                    <a:gdLst>
                      <a:gd name="textAreaLeft" fmla="*/ 0 w 963360"/>
                      <a:gd name="textAreaRight" fmla="*/ 963720 w 963360"/>
                      <a:gd name="textAreaTop" fmla="*/ 0 h 227880"/>
                      <a:gd name="textAreaBottom" fmla="*/ 228240 h 227880"/>
                    </a:gdLst>
                    <a:ahLst/>
                    <a:rect l="textAreaLeft" t="textAreaTop" r="textAreaRight" b="textAreaBottom"/>
                    <a:pathLst>
                      <a:path w="2065867" h="4030133">
                        <a:moveTo>
                          <a:pt x="270933" y="677333"/>
                        </a:moveTo>
                        <a:cubicBezTo>
                          <a:pt x="259644" y="733778"/>
                          <a:pt x="257278" y="792770"/>
                          <a:pt x="237067" y="846667"/>
                        </a:cubicBezTo>
                        <a:cubicBezTo>
                          <a:pt x="222775" y="884778"/>
                          <a:pt x="187536" y="911861"/>
                          <a:pt x="169333" y="948267"/>
                        </a:cubicBezTo>
                        <a:cubicBezTo>
                          <a:pt x="153368" y="980197"/>
                          <a:pt x="146756" y="1016000"/>
                          <a:pt x="135467" y="1049867"/>
                        </a:cubicBezTo>
                        <a:cubicBezTo>
                          <a:pt x="124178" y="1128889"/>
                          <a:pt x="124537" y="1210475"/>
                          <a:pt x="101600" y="1286933"/>
                        </a:cubicBezTo>
                        <a:cubicBezTo>
                          <a:pt x="89904" y="1325919"/>
                          <a:pt x="52070" y="1352127"/>
                          <a:pt x="33867" y="1388533"/>
                        </a:cubicBezTo>
                        <a:cubicBezTo>
                          <a:pt x="17902" y="1420463"/>
                          <a:pt x="11289" y="1456266"/>
                          <a:pt x="0" y="1490133"/>
                        </a:cubicBezTo>
                        <a:cubicBezTo>
                          <a:pt x="11289" y="1648178"/>
                          <a:pt x="6331" y="1808231"/>
                          <a:pt x="33867" y="1964267"/>
                        </a:cubicBezTo>
                        <a:cubicBezTo>
                          <a:pt x="40941" y="2004350"/>
                          <a:pt x="77942" y="2032746"/>
                          <a:pt x="101600" y="2065867"/>
                        </a:cubicBezTo>
                        <a:cubicBezTo>
                          <a:pt x="134408" y="2111798"/>
                          <a:pt x="167065" y="2157971"/>
                          <a:pt x="203200" y="2201333"/>
                        </a:cubicBezTo>
                        <a:cubicBezTo>
                          <a:pt x="223641" y="2225862"/>
                          <a:pt x="253221" y="2242500"/>
                          <a:pt x="270933" y="2269067"/>
                        </a:cubicBezTo>
                        <a:cubicBezTo>
                          <a:pt x="298937" y="2311073"/>
                          <a:pt x="313619" y="2360700"/>
                          <a:pt x="338667" y="2404533"/>
                        </a:cubicBezTo>
                        <a:cubicBezTo>
                          <a:pt x="443708" y="2588354"/>
                          <a:pt x="378175" y="2421458"/>
                          <a:pt x="440267" y="2607733"/>
                        </a:cubicBezTo>
                        <a:cubicBezTo>
                          <a:pt x="451556" y="2686755"/>
                          <a:pt x="448890" y="2769072"/>
                          <a:pt x="474133" y="2844800"/>
                        </a:cubicBezTo>
                        <a:cubicBezTo>
                          <a:pt x="484230" y="2875091"/>
                          <a:pt x="525439" y="2885153"/>
                          <a:pt x="541867" y="2912533"/>
                        </a:cubicBezTo>
                        <a:cubicBezTo>
                          <a:pt x="692110" y="3162937"/>
                          <a:pt x="437916" y="2858793"/>
                          <a:pt x="643467" y="3115733"/>
                        </a:cubicBezTo>
                        <a:cubicBezTo>
                          <a:pt x="663413" y="3140666"/>
                          <a:pt x="691254" y="3158534"/>
                          <a:pt x="711200" y="3183467"/>
                        </a:cubicBezTo>
                        <a:cubicBezTo>
                          <a:pt x="736627" y="3215251"/>
                          <a:pt x="752130" y="3254435"/>
                          <a:pt x="778933" y="3285067"/>
                        </a:cubicBezTo>
                        <a:cubicBezTo>
                          <a:pt x="831498" y="3345141"/>
                          <a:pt x="900372" y="3390540"/>
                          <a:pt x="948267" y="3454400"/>
                        </a:cubicBezTo>
                        <a:cubicBezTo>
                          <a:pt x="982134" y="3499556"/>
                          <a:pt x="1019951" y="3542002"/>
                          <a:pt x="1049867" y="3589867"/>
                        </a:cubicBezTo>
                        <a:cubicBezTo>
                          <a:pt x="1076624" y="3632678"/>
                          <a:pt x="1089596" y="3683327"/>
                          <a:pt x="1117600" y="3725333"/>
                        </a:cubicBezTo>
                        <a:cubicBezTo>
                          <a:pt x="1164328" y="3795425"/>
                          <a:pt x="1222230" y="3809038"/>
                          <a:pt x="1286933" y="3860800"/>
                        </a:cubicBezTo>
                        <a:cubicBezTo>
                          <a:pt x="1311866" y="3880746"/>
                          <a:pt x="1328100" y="3910821"/>
                          <a:pt x="1354667" y="3928533"/>
                        </a:cubicBezTo>
                        <a:cubicBezTo>
                          <a:pt x="1438370" y="3984335"/>
                          <a:pt x="1501418" y="4000029"/>
                          <a:pt x="1591733" y="4030133"/>
                        </a:cubicBezTo>
                        <a:cubicBezTo>
                          <a:pt x="1670755" y="4018844"/>
                          <a:pt x="1753072" y="4021510"/>
                          <a:pt x="1828800" y="3996267"/>
                        </a:cubicBezTo>
                        <a:cubicBezTo>
                          <a:pt x="1947678" y="3956641"/>
                          <a:pt x="1962781" y="3628192"/>
                          <a:pt x="1964267" y="3623733"/>
                        </a:cubicBezTo>
                        <a:cubicBezTo>
                          <a:pt x="1977138" y="3585119"/>
                          <a:pt x="2013797" y="3558539"/>
                          <a:pt x="2032000" y="3522133"/>
                        </a:cubicBezTo>
                        <a:cubicBezTo>
                          <a:pt x="2047965" y="3490203"/>
                          <a:pt x="2054578" y="3454400"/>
                          <a:pt x="2065867" y="3420533"/>
                        </a:cubicBezTo>
                        <a:cubicBezTo>
                          <a:pt x="2054578" y="3318933"/>
                          <a:pt x="2052048" y="3215973"/>
                          <a:pt x="2032000" y="3115733"/>
                        </a:cubicBezTo>
                        <a:cubicBezTo>
                          <a:pt x="2017998" y="3045722"/>
                          <a:pt x="1964267" y="2912533"/>
                          <a:pt x="1964267" y="2912533"/>
                        </a:cubicBezTo>
                        <a:cubicBezTo>
                          <a:pt x="2045473" y="2668911"/>
                          <a:pt x="1946942" y="2973167"/>
                          <a:pt x="2032000" y="2675467"/>
                        </a:cubicBezTo>
                        <a:cubicBezTo>
                          <a:pt x="2041807" y="2641142"/>
                          <a:pt x="2054578" y="2607734"/>
                          <a:pt x="2065867" y="2573867"/>
                        </a:cubicBezTo>
                        <a:cubicBezTo>
                          <a:pt x="1988036" y="2340376"/>
                          <a:pt x="2048618" y="2421153"/>
                          <a:pt x="1930400" y="2302933"/>
                        </a:cubicBezTo>
                        <a:cubicBezTo>
                          <a:pt x="1919111" y="2257778"/>
                          <a:pt x="1909320" y="2212221"/>
                          <a:pt x="1896533" y="2167467"/>
                        </a:cubicBezTo>
                        <a:cubicBezTo>
                          <a:pt x="1886726" y="2133142"/>
                          <a:pt x="1868536" y="2101080"/>
                          <a:pt x="1862667" y="2065867"/>
                        </a:cubicBezTo>
                        <a:cubicBezTo>
                          <a:pt x="1846052" y="1966175"/>
                          <a:pt x="1835554" y="1713597"/>
                          <a:pt x="1794933" y="1591733"/>
                        </a:cubicBezTo>
                        <a:cubicBezTo>
                          <a:pt x="1778968" y="1543839"/>
                          <a:pt x="1753174" y="1499558"/>
                          <a:pt x="1727200" y="1456267"/>
                        </a:cubicBezTo>
                        <a:cubicBezTo>
                          <a:pt x="1685317" y="1386462"/>
                          <a:pt x="1591733" y="1253067"/>
                          <a:pt x="1591733" y="1253067"/>
                        </a:cubicBezTo>
                        <a:cubicBezTo>
                          <a:pt x="1555962" y="1145753"/>
                          <a:pt x="1565165" y="1143657"/>
                          <a:pt x="1490133" y="1049867"/>
                        </a:cubicBezTo>
                        <a:cubicBezTo>
                          <a:pt x="1470187" y="1024934"/>
                          <a:pt x="1442346" y="1007066"/>
                          <a:pt x="1422400" y="982133"/>
                        </a:cubicBezTo>
                        <a:cubicBezTo>
                          <a:pt x="1396973" y="950349"/>
                          <a:pt x="1380094" y="912316"/>
                          <a:pt x="1354667" y="880533"/>
                        </a:cubicBezTo>
                        <a:cubicBezTo>
                          <a:pt x="1334721" y="855600"/>
                          <a:pt x="1306879" y="837733"/>
                          <a:pt x="1286933" y="812800"/>
                        </a:cubicBezTo>
                        <a:cubicBezTo>
                          <a:pt x="1261506" y="781017"/>
                          <a:pt x="1246241" y="741622"/>
                          <a:pt x="1219200" y="711200"/>
                        </a:cubicBezTo>
                        <a:cubicBezTo>
                          <a:pt x="1155561" y="639606"/>
                          <a:pt x="1095702" y="561134"/>
                          <a:pt x="1016000" y="508000"/>
                        </a:cubicBezTo>
                        <a:cubicBezTo>
                          <a:pt x="887833" y="422556"/>
                          <a:pt x="943181" y="469048"/>
                          <a:pt x="846667" y="372533"/>
                        </a:cubicBezTo>
                        <a:cubicBezTo>
                          <a:pt x="835378" y="338666"/>
                          <a:pt x="832602" y="300636"/>
                          <a:pt x="812800" y="270933"/>
                        </a:cubicBezTo>
                        <a:cubicBezTo>
                          <a:pt x="786233" y="231082"/>
                          <a:pt x="749006" y="198737"/>
                          <a:pt x="711200" y="169333"/>
                        </a:cubicBezTo>
                        <a:cubicBezTo>
                          <a:pt x="536524" y="33474"/>
                          <a:pt x="559693" y="51098"/>
                          <a:pt x="406400" y="0"/>
                        </a:cubicBezTo>
                        <a:cubicBezTo>
                          <a:pt x="361244" y="11289"/>
                          <a:pt x="313715" y="15532"/>
                          <a:pt x="270933" y="33867"/>
                        </a:cubicBezTo>
                        <a:cubicBezTo>
                          <a:pt x="53886" y="126887"/>
                          <a:pt x="173770" y="228415"/>
                          <a:pt x="203200" y="508000"/>
                        </a:cubicBezTo>
                        <a:cubicBezTo>
                          <a:pt x="230238" y="764856"/>
                          <a:pt x="168958" y="711013"/>
                          <a:pt x="304800" y="778933"/>
                        </a:cubicBez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0" name="任意多边形 152"/>
                  <p:cNvSpPr/>
                  <p:nvPr/>
                </p:nvSpPr>
                <p:spPr>
                  <a:xfrm rot="18317400">
                    <a:off x="2937600" y="4763160"/>
                    <a:ext cx="480240" cy="213840"/>
                  </a:xfrm>
                  <a:custGeom>
                    <a:avLst/>
                    <a:gdLst>
                      <a:gd name="textAreaLeft" fmla="*/ 0 w 480240"/>
                      <a:gd name="textAreaRight" fmla="*/ 480600 w 480240"/>
                      <a:gd name="textAreaTop" fmla="*/ 0 h 213840"/>
                      <a:gd name="textAreaBottom" fmla="*/ 214200 h 213840"/>
                    </a:gdLst>
                    <a:ahLst/>
                    <a:rect l="textAreaLeft" t="textAreaTop" r="textAreaRight" b="textAreaBottom"/>
                    <a:pathLst>
                      <a:path w="2065867" h="4030133">
                        <a:moveTo>
                          <a:pt x="270933" y="677333"/>
                        </a:moveTo>
                        <a:cubicBezTo>
                          <a:pt x="259644" y="733778"/>
                          <a:pt x="257278" y="792770"/>
                          <a:pt x="237067" y="846667"/>
                        </a:cubicBezTo>
                        <a:cubicBezTo>
                          <a:pt x="222775" y="884778"/>
                          <a:pt x="187536" y="911861"/>
                          <a:pt x="169333" y="948267"/>
                        </a:cubicBezTo>
                        <a:cubicBezTo>
                          <a:pt x="153368" y="980197"/>
                          <a:pt x="146756" y="1016000"/>
                          <a:pt x="135467" y="1049867"/>
                        </a:cubicBezTo>
                        <a:cubicBezTo>
                          <a:pt x="124178" y="1128889"/>
                          <a:pt x="124537" y="1210475"/>
                          <a:pt x="101600" y="1286933"/>
                        </a:cubicBezTo>
                        <a:cubicBezTo>
                          <a:pt x="89904" y="1325919"/>
                          <a:pt x="52070" y="1352127"/>
                          <a:pt x="33867" y="1388533"/>
                        </a:cubicBezTo>
                        <a:cubicBezTo>
                          <a:pt x="17902" y="1420463"/>
                          <a:pt x="11289" y="1456266"/>
                          <a:pt x="0" y="1490133"/>
                        </a:cubicBezTo>
                        <a:cubicBezTo>
                          <a:pt x="11289" y="1648178"/>
                          <a:pt x="6331" y="1808231"/>
                          <a:pt x="33867" y="1964267"/>
                        </a:cubicBezTo>
                        <a:cubicBezTo>
                          <a:pt x="40941" y="2004350"/>
                          <a:pt x="77942" y="2032746"/>
                          <a:pt x="101600" y="2065867"/>
                        </a:cubicBezTo>
                        <a:cubicBezTo>
                          <a:pt x="134408" y="2111798"/>
                          <a:pt x="167065" y="2157971"/>
                          <a:pt x="203200" y="2201333"/>
                        </a:cubicBezTo>
                        <a:cubicBezTo>
                          <a:pt x="223641" y="2225862"/>
                          <a:pt x="253221" y="2242500"/>
                          <a:pt x="270933" y="2269067"/>
                        </a:cubicBezTo>
                        <a:cubicBezTo>
                          <a:pt x="298937" y="2311073"/>
                          <a:pt x="313619" y="2360700"/>
                          <a:pt x="338667" y="2404533"/>
                        </a:cubicBezTo>
                        <a:cubicBezTo>
                          <a:pt x="443708" y="2588354"/>
                          <a:pt x="378175" y="2421458"/>
                          <a:pt x="440267" y="2607733"/>
                        </a:cubicBezTo>
                        <a:cubicBezTo>
                          <a:pt x="451556" y="2686755"/>
                          <a:pt x="448890" y="2769072"/>
                          <a:pt x="474133" y="2844800"/>
                        </a:cubicBezTo>
                        <a:cubicBezTo>
                          <a:pt x="484230" y="2875091"/>
                          <a:pt x="525439" y="2885153"/>
                          <a:pt x="541867" y="2912533"/>
                        </a:cubicBezTo>
                        <a:cubicBezTo>
                          <a:pt x="692110" y="3162937"/>
                          <a:pt x="437916" y="2858793"/>
                          <a:pt x="643467" y="3115733"/>
                        </a:cubicBezTo>
                        <a:cubicBezTo>
                          <a:pt x="663413" y="3140666"/>
                          <a:pt x="691254" y="3158534"/>
                          <a:pt x="711200" y="3183467"/>
                        </a:cubicBezTo>
                        <a:cubicBezTo>
                          <a:pt x="736627" y="3215251"/>
                          <a:pt x="752130" y="3254435"/>
                          <a:pt x="778933" y="3285067"/>
                        </a:cubicBezTo>
                        <a:cubicBezTo>
                          <a:pt x="831498" y="3345141"/>
                          <a:pt x="900372" y="3390540"/>
                          <a:pt x="948267" y="3454400"/>
                        </a:cubicBezTo>
                        <a:cubicBezTo>
                          <a:pt x="982134" y="3499556"/>
                          <a:pt x="1019951" y="3542002"/>
                          <a:pt x="1049867" y="3589867"/>
                        </a:cubicBezTo>
                        <a:cubicBezTo>
                          <a:pt x="1076624" y="3632678"/>
                          <a:pt x="1089596" y="3683327"/>
                          <a:pt x="1117600" y="3725333"/>
                        </a:cubicBezTo>
                        <a:cubicBezTo>
                          <a:pt x="1164328" y="3795425"/>
                          <a:pt x="1222230" y="3809038"/>
                          <a:pt x="1286933" y="3860800"/>
                        </a:cubicBezTo>
                        <a:cubicBezTo>
                          <a:pt x="1311866" y="3880746"/>
                          <a:pt x="1328100" y="3910821"/>
                          <a:pt x="1354667" y="3928533"/>
                        </a:cubicBezTo>
                        <a:cubicBezTo>
                          <a:pt x="1438370" y="3984335"/>
                          <a:pt x="1501418" y="4000029"/>
                          <a:pt x="1591733" y="4030133"/>
                        </a:cubicBezTo>
                        <a:cubicBezTo>
                          <a:pt x="1670755" y="4018844"/>
                          <a:pt x="1753072" y="4021510"/>
                          <a:pt x="1828800" y="3996267"/>
                        </a:cubicBezTo>
                        <a:cubicBezTo>
                          <a:pt x="1947678" y="3956641"/>
                          <a:pt x="1962781" y="3628192"/>
                          <a:pt x="1964267" y="3623733"/>
                        </a:cubicBezTo>
                        <a:cubicBezTo>
                          <a:pt x="1977138" y="3585119"/>
                          <a:pt x="2013797" y="3558539"/>
                          <a:pt x="2032000" y="3522133"/>
                        </a:cubicBezTo>
                        <a:cubicBezTo>
                          <a:pt x="2047965" y="3490203"/>
                          <a:pt x="2054578" y="3454400"/>
                          <a:pt x="2065867" y="3420533"/>
                        </a:cubicBezTo>
                        <a:cubicBezTo>
                          <a:pt x="2054578" y="3318933"/>
                          <a:pt x="2052048" y="3215973"/>
                          <a:pt x="2032000" y="3115733"/>
                        </a:cubicBezTo>
                        <a:cubicBezTo>
                          <a:pt x="2017998" y="3045722"/>
                          <a:pt x="1964267" y="2912533"/>
                          <a:pt x="1964267" y="2912533"/>
                        </a:cubicBezTo>
                        <a:cubicBezTo>
                          <a:pt x="2045473" y="2668911"/>
                          <a:pt x="1946942" y="2973167"/>
                          <a:pt x="2032000" y="2675467"/>
                        </a:cubicBezTo>
                        <a:cubicBezTo>
                          <a:pt x="2041807" y="2641142"/>
                          <a:pt x="2054578" y="2607734"/>
                          <a:pt x="2065867" y="2573867"/>
                        </a:cubicBezTo>
                        <a:cubicBezTo>
                          <a:pt x="1988036" y="2340376"/>
                          <a:pt x="2048618" y="2421153"/>
                          <a:pt x="1930400" y="2302933"/>
                        </a:cubicBezTo>
                        <a:cubicBezTo>
                          <a:pt x="1919111" y="2257778"/>
                          <a:pt x="1909320" y="2212221"/>
                          <a:pt x="1896533" y="2167467"/>
                        </a:cubicBezTo>
                        <a:cubicBezTo>
                          <a:pt x="1886726" y="2133142"/>
                          <a:pt x="1868536" y="2101080"/>
                          <a:pt x="1862667" y="2065867"/>
                        </a:cubicBezTo>
                        <a:cubicBezTo>
                          <a:pt x="1846052" y="1966175"/>
                          <a:pt x="1835554" y="1713597"/>
                          <a:pt x="1794933" y="1591733"/>
                        </a:cubicBezTo>
                        <a:cubicBezTo>
                          <a:pt x="1778968" y="1543839"/>
                          <a:pt x="1753174" y="1499558"/>
                          <a:pt x="1727200" y="1456267"/>
                        </a:cubicBezTo>
                        <a:cubicBezTo>
                          <a:pt x="1685317" y="1386462"/>
                          <a:pt x="1591733" y="1253067"/>
                          <a:pt x="1591733" y="1253067"/>
                        </a:cubicBezTo>
                        <a:cubicBezTo>
                          <a:pt x="1555962" y="1145753"/>
                          <a:pt x="1565165" y="1143657"/>
                          <a:pt x="1490133" y="1049867"/>
                        </a:cubicBezTo>
                        <a:cubicBezTo>
                          <a:pt x="1470187" y="1024934"/>
                          <a:pt x="1442346" y="1007066"/>
                          <a:pt x="1422400" y="982133"/>
                        </a:cubicBezTo>
                        <a:cubicBezTo>
                          <a:pt x="1396973" y="950349"/>
                          <a:pt x="1380094" y="912316"/>
                          <a:pt x="1354667" y="880533"/>
                        </a:cubicBezTo>
                        <a:cubicBezTo>
                          <a:pt x="1334721" y="855600"/>
                          <a:pt x="1306879" y="837733"/>
                          <a:pt x="1286933" y="812800"/>
                        </a:cubicBezTo>
                        <a:cubicBezTo>
                          <a:pt x="1261506" y="781017"/>
                          <a:pt x="1246241" y="741622"/>
                          <a:pt x="1219200" y="711200"/>
                        </a:cubicBezTo>
                        <a:cubicBezTo>
                          <a:pt x="1155561" y="639606"/>
                          <a:pt x="1095702" y="561134"/>
                          <a:pt x="1016000" y="508000"/>
                        </a:cubicBezTo>
                        <a:cubicBezTo>
                          <a:pt x="887833" y="422556"/>
                          <a:pt x="943181" y="469048"/>
                          <a:pt x="846667" y="372533"/>
                        </a:cubicBezTo>
                        <a:cubicBezTo>
                          <a:pt x="835378" y="338666"/>
                          <a:pt x="832602" y="300636"/>
                          <a:pt x="812800" y="270933"/>
                        </a:cubicBezTo>
                        <a:cubicBezTo>
                          <a:pt x="786233" y="231082"/>
                          <a:pt x="749006" y="198737"/>
                          <a:pt x="711200" y="169333"/>
                        </a:cubicBezTo>
                        <a:cubicBezTo>
                          <a:pt x="536524" y="33474"/>
                          <a:pt x="559693" y="51098"/>
                          <a:pt x="406400" y="0"/>
                        </a:cubicBezTo>
                        <a:cubicBezTo>
                          <a:pt x="361244" y="11289"/>
                          <a:pt x="313715" y="15532"/>
                          <a:pt x="270933" y="33867"/>
                        </a:cubicBezTo>
                        <a:cubicBezTo>
                          <a:pt x="53886" y="126887"/>
                          <a:pt x="173770" y="228415"/>
                          <a:pt x="203200" y="508000"/>
                        </a:cubicBezTo>
                        <a:cubicBezTo>
                          <a:pt x="230238" y="764856"/>
                          <a:pt x="168958" y="711013"/>
                          <a:pt x="304800" y="778933"/>
                        </a:cubicBezTo>
                      </a:path>
                    </a:pathLst>
                  </a:custGeom>
                  <a:solidFill>
                    <a:srgbClr val="f2f2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31" name="任意多边形 149"/>
                <p:cNvSpPr/>
                <p:nvPr/>
              </p:nvSpPr>
              <p:spPr>
                <a:xfrm>
                  <a:off x="3616560" y="3462840"/>
                  <a:ext cx="307080" cy="264240"/>
                </a:xfrm>
                <a:custGeom>
                  <a:avLst/>
                  <a:gdLst>
                    <a:gd name="textAreaLeft" fmla="*/ 0 w 307080"/>
                    <a:gd name="textAreaRight" fmla="*/ 307440 w 307080"/>
                    <a:gd name="textAreaTop" fmla="*/ 0 h 264240"/>
                    <a:gd name="textAreaBottom" fmla="*/ 264600 h 264240"/>
                  </a:gdLst>
                  <a:ahLst/>
                  <a:rect l="textAreaLeft" t="textAreaTop" r="textAreaRight" b="textAreaBottom"/>
                  <a:pathLst>
                    <a:path w="307238" h="264197">
                      <a:moveTo>
                        <a:pt x="80467" y="849"/>
                      </a:moveTo>
                      <a:cubicBezTo>
                        <a:pt x="98755" y="6945"/>
                        <a:pt x="153179" y="38924"/>
                        <a:pt x="190195" y="66686"/>
                      </a:cubicBezTo>
                      <a:cubicBezTo>
                        <a:pt x="207853" y="79930"/>
                        <a:pt x="205064" y="85272"/>
                        <a:pt x="219456" y="103262"/>
                      </a:cubicBezTo>
                      <a:cubicBezTo>
                        <a:pt x="223764" y="108648"/>
                        <a:pt x="229209" y="113016"/>
                        <a:pt x="234086" y="117893"/>
                      </a:cubicBezTo>
                      <a:cubicBezTo>
                        <a:pt x="246789" y="156003"/>
                        <a:pt x="233080" y="125779"/>
                        <a:pt x="256032" y="154469"/>
                      </a:cubicBezTo>
                      <a:cubicBezTo>
                        <a:pt x="261524" y="161334"/>
                        <a:pt x="263029" y="172052"/>
                        <a:pt x="270662" y="176414"/>
                      </a:cubicBezTo>
                      <a:cubicBezTo>
                        <a:pt x="281457" y="182583"/>
                        <a:pt x="295046" y="181291"/>
                        <a:pt x="307238" y="183729"/>
                      </a:cubicBezTo>
                      <a:cubicBezTo>
                        <a:pt x="299923" y="186168"/>
                        <a:pt x="292189" y="187596"/>
                        <a:pt x="285292" y="191045"/>
                      </a:cubicBezTo>
                      <a:cubicBezTo>
                        <a:pt x="277429" y="194977"/>
                        <a:pt x="271428" y="202212"/>
                        <a:pt x="263347" y="205675"/>
                      </a:cubicBezTo>
                      <a:cubicBezTo>
                        <a:pt x="254106" y="209635"/>
                        <a:pt x="243840" y="210552"/>
                        <a:pt x="234086" y="212990"/>
                      </a:cubicBezTo>
                      <a:cubicBezTo>
                        <a:pt x="178283" y="268793"/>
                        <a:pt x="243125" y="210494"/>
                        <a:pt x="190195" y="242251"/>
                      </a:cubicBezTo>
                      <a:cubicBezTo>
                        <a:pt x="139983" y="272377"/>
                        <a:pt x="215791" y="243470"/>
                        <a:pt x="153619" y="264197"/>
                      </a:cubicBezTo>
                      <a:cubicBezTo>
                        <a:pt x="117043" y="261758"/>
                        <a:pt x="79675" y="264833"/>
                        <a:pt x="43891" y="256881"/>
                      </a:cubicBezTo>
                      <a:cubicBezTo>
                        <a:pt x="33792" y="254637"/>
                        <a:pt x="29892" y="241559"/>
                        <a:pt x="21945" y="234936"/>
                      </a:cubicBezTo>
                      <a:cubicBezTo>
                        <a:pt x="15191" y="229308"/>
                        <a:pt x="7315" y="225182"/>
                        <a:pt x="0" y="220305"/>
                      </a:cubicBezTo>
                      <a:cubicBezTo>
                        <a:pt x="2438" y="198360"/>
                        <a:pt x="1960" y="175890"/>
                        <a:pt x="7315" y="154469"/>
                      </a:cubicBezTo>
                      <a:cubicBezTo>
                        <a:pt x="9447" y="145940"/>
                        <a:pt x="18013" y="140387"/>
                        <a:pt x="21945" y="132523"/>
                      </a:cubicBezTo>
                      <a:cubicBezTo>
                        <a:pt x="40936" y="94540"/>
                        <a:pt x="15315" y="124521"/>
                        <a:pt x="43891" y="95947"/>
                      </a:cubicBezTo>
                      <a:cubicBezTo>
                        <a:pt x="50393" y="76440"/>
                        <a:pt x="53783" y="62820"/>
                        <a:pt x="65836" y="44741"/>
                      </a:cubicBezTo>
                      <a:cubicBezTo>
                        <a:pt x="69662" y="39002"/>
                        <a:pt x="76158" y="35496"/>
                        <a:pt x="80467" y="30110"/>
                      </a:cubicBezTo>
                      <a:cubicBezTo>
                        <a:pt x="85959" y="23245"/>
                        <a:pt x="62179" y="-5247"/>
                        <a:pt x="80467" y="8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32" name=""/>
              <p:cNvGrpSpPr/>
              <p:nvPr/>
            </p:nvGrpSpPr>
            <p:grpSpPr>
              <a:xfrm>
                <a:off x="7319160" y="2593080"/>
                <a:ext cx="1862280" cy="2693160"/>
                <a:chOff x="7319160" y="2593080"/>
                <a:chExt cx="1862280" cy="2693160"/>
              </a:xfrm>
            </p:grpSpPr>
            <p:sp>
              <p:nvSpPr>
                <p:cNvPr id="433" name="任意多边形 90"/>
                <p:cNvSpPr/>
                <p:nvPr/>
              </p:nvSpPr>
              <p:spPr>
                <a:xfrm flipH="1">
                  <a:off x="7541280" y="2747520"/>
                  <a:ext cx="1639800" cy="2485800"/>
                </a:xfrm>
                <a:custGeom>
                  <a:avLst/>
                  <a:gdLst>
                    <a:gd name="textAreaLeft" fmla="*/ -360 w 1639800"/>
                    <a:gd name="textAreaRight" fmla="*/ 1639800 w 1639800"/>
                    <a:gd name="textAreaTop" fmla="*/ 0 h 2485800"/>
                    <a:gd name="textAreaBottom" fmla="*/ 2486160 h 2485800"/>
                  </a:gdLst>
                  <a:ahLst/>
                  <a:rect l="textAreaLeft" t="textAreaTop" r="textAreaRight" b="textAreaBottom"/>
                  <a:pathLst>
                    <a:path w="1639957" h="2484967">
                      <a:moveTo>
                        <a:pt x="1123122" y="30002"/>
                      </a:moveTo>
                      <a:cubicBezTo>
                        <a:pt x="1065144" y="38285"/>
                        <a:pt x="1087699" y="39175"/>
                        <a:pt x="1073426" y="49880"/>
                      </a:cubicBezTo>
                      <a:cubicBezTo>
                        <a:pt x="1060174" y="59819"/>
                        <a:pt x="1055322" y="77924"/>
                        <a:pt x="1043609" y="89637"/>
                      </a:cubicBezTo>
                      <a:cubicBezTo>
                        <a:pt x="1035162" y="98084"/>
                        <a:pt x="1023730" y="102889"/>
                        <a:pt x="1013791" y="109515"/>
                      </a:cubicBezTo>
                      <a:cubicBezTo>
                        <a:pt x="999298" y="128839"/>
                        <a:pt x="983837" y="153357"/>
                        <a:pt x="964096" y="169150"/>
                      </a:cubicBezTo>
                      <a:cubicBezTo>
                        <a:pt x="954768" y="176612"/>
                        <a:pt x="945610" y="185251"/>
                        <a:pt x="934278" y="189028"/>
                      </a:cubicBezTo>
                      <a:cubicBezTo>
                        <a:pt x="915160" y="195401"/>
                        <a:pt x="894521" y="195654"/>
                        <a:pt x="874643" y="198967"/>
                      </a:cubicBezTo>
                      <a:cubicBezTo>
                        <a:pt x="852188" y="266331"/>
                        <a:pt x="886496" y="193040"/>
                        <a:pt x="795130" y="238724"/>
                      </a:cubicBezTo>
                      <a:cubicBezTo>
                        <a:pt x="785759" y="243409"/>
                        <a:pt x="789876" y="259170"/>
                        <a:pt x="785191" y="268541"/>
                      </a:cubicBezTo>
                      <a:cubicBezTo>
                        <a:pt x="760872" y="317179"/>
                        <a:pt x="773165" y="281263"/>
                        <a:pt x="745435" y="318237"/>
                      </a:cubicBezTo>
                      <a:cubicBezTo>
                        <a:pt x="731101" y="337349"/>
                        <a:pt x="718930" y="357993"/>
                        <a:pt x="705678" y="377871"/>
                      </a:cubicBezTo>
                      <a:lnTo>
                        <a:pt x="685800" y="407689"/>
                      </a:lnTo>
                      <a:cubicBezTo>
                        <a:pt x="682487" y="420941"/>
                        <a:pt x="681970" y="435227"/>
                        <a:pt x="675861" y="447445"/>
                      </a:cubicBezTo>
                      <a:cubicBezTo>
                        <a:pt x="671670" y="455827"/>
                        <a:pt x="658256" y="458233"/>
                        <a:pt x="655983" y="467324"/>
                      </a:cubicBezTo>
                      <a:cubicBezTo>
                        <a:pt x="644619" y="512778"/>
                        <a:pt x="650920" y="562022"/>
                        <a:pt x="636104" y="606471"/>
                      </a:cubicBezTo>
                      <a:cubicBezTo>
                        <a:pt x="629478" y="626349"/>
                        <a:pt x="636773" y="661997"/>
                        <a:pt x="616226" y="666106"/>
                      </a:cubicBezTo>
                      <a:cubicBezTo>
                        <a:pt x="543558" y="680639"/>
                        <a:pt x="583254" y="673656"/>
                        <a:pt x="496957" y="685984"/>
                      </a:cubicBezTo>
                      <a:cubicBezTo>
                        <a:pt x="490331" y="692610"/>
                        <a:pt x="481899" y="697827"/>
                        <a:pt x="477078" y="705863"/>
                      </a:cubicBezTo>
                      <a:cubicBezTo>
                        <a:pt x="471688" y="714847"/>
                        <a:pt x="471824" y="726309"/>
                        <a:pt x="467139" y="735680"/>
                      </a:cubicBezTo>
                      <a:cubicBezTo>
                        <a:pt x="461797" y="746364"/>
                        <a:pt x="453887" y="755558"/>
                        <a:pt x="447261" y="765497"/>
                      </a:cubicBezTo>
                      <a:cubicBezTo>
                        <a:pt x="443948" y="845010"/>
                        <a:pt x="445800" y="924908"/>
                        <a:pt x="437322" y="1004037"/>
                      </a:cubicBezTo>
                      <a:cubicBezTo>
                        <a:pt x="435744" y="1018769"/>
                        <a:pt x="423280" y="1030175"/>
                        <a:pt x="417443" y="1043793"/>
                      </a:cubicBezTo>
                      <a:cubicBezTo>
                        <a:pt x="413316" y="1053422"/>
                        <a:pt x="412189" y="1064239"/>
                        <a:pt x="407504" y="1073610"/>
                      </a:cubicBezTo>
                      <a:cubicBezTo>
                        <a:pt x="400236" y="1088147"/>
                        <a:pt x="364566" y="1134175"/>
                        <a:pt x="357809" y="1143184"/>
                      </a:cubicBezTo>
                      <a:cubicBezTo>
                        <a:pt x="331534" y="1222012"/>
                        <a:pt x="371232" y="1117732"/>
                        <a:pt x="318052" y="1202819"/>
                      </a:cubicBezTo>
                      <a:cubicBezTo>
                        <a:pt x="308596" y="1217948"/>
                        <a:pt x="305420" y="1236211"/>
                        <a:pt x="298174" y="1252515"/>
                      </a:cubicBezTo>
                      <a:cubicBezTo>
                        <a:pt x="292157" y="1266054"/>
                        <a:pt x="284132" y="1278653"/>
                        <a:pt x="278296" y="1292271"/>
                      </a:cubicBezTo>
                      <a:cubicBezTo>
                        <a:pt x="274169" y="1301901"/>
                        <a:pt x="273042" y="1312718"/>
                        <a:pt x="268357" y="1322089"/>
                      </a:cubicBezTo>
                      <a:cubicBezTo>
                        <a:pt x="263015" y="1332773"/>
                        <a:pt x="254405" y="1341535"/>
                        <a:pt x="248478" y="1351906"/>
                      </a:cubicBezTo>
                      <a:cubicBezTo>
                        <a:pt x="241127" y="1364770"/>
                        <a:pt x="234436" y="1378044"/>
                        <a:pt x="228600" y="1391663"/>
                      </a:cubicBezTo>
                      <a:cubicBezTo>
                        <a:pt x="224473" y="1401293"/>
                        <a:pt x="224472" y="1412763"/>
                        <a:pt x="218661" y="1421480"/>
                      </a:cubicBezTo>
                      <a:cubicBezTo>
                        <a:pt x="210864" y="1433175"/>
                        <a:pt x="198782" y="1441358"/>
                        <a:pt x="188843" y="1451297"/>
                      </a:cubicBezTo>
                      <a:cubicBezTo>
                        <a:pt x="174622" y="1493962"/>
                        <a:pt x="171023" y="1514129"/>
                        <a:pt x="149087" y="1550689"/>
                      </a:cubicBezTo>
                      <a:cubicBezTo>
                        <a:pt x="136795" y="1571175"/>
                        <a:pt x="109330" y="1610324"/>
                        <a:pt x="109330" y="1610324"/>
                      </a:cubicBezTo>
                      <a:cubicBezTo>
                        <a:pt x="106017" y="1626889"/>
                        <a:pt x="106946" y="1644909"/>
                        <a:pt x="99391" y="1660019"/>
                      </a:cubicBezTo>
                      <a:cubicBezTo>
                        <a:pt x="53203" y="1752395"/>
                        <a:pt x="80699" y="1635397"/>
                        <a:pt x="59635" y="1719654"/>
                      </a:cubicBezTo>
                      <a:cubicBezTo>
                        <a:pt x="55538" y="1736043"/>
                        <a:pt x="54141" y="1753052"/>
                        <a:pt x="49696" y="1769350"/>
                      </a:cubicBezTo>
                      <a:cubicBezTo>
                        <a:pt x="44183" y="1789565"/>
                        <a:pt x="36443" y="1809106"/>
                        <a:pt x="29817" y="1828984"/>
                      </a:cubicBezTo>
                      <a:cubicBezTo>
                        <a:pt x="26504" y="1838923"/>
                        <a:pt x="21933" y="1848529"/>
                        <a:pt x="19878" y="1858802"/>
                      </a:cubicBezTo>
                      <a:cubicBezTo>
                        <a:pt x="7884" y="1918770"/>
                        <a:pt x="15281" y="1892471"/>
                        <a:pt x="0" y="1938315"/>
                      </a:cubicBezTo>
                      <a:cubicBezTo>
                        <a:pt x="3313" y="1994637"/>
                        <a:pt x="4590" y="2051115"/>
                        <a:pt x="9939" y="2107280"/>
                      </a:cubicBezTo>
                      <a:cubicBezTo>
                        <a:pt x="11234" y="2120879"/>
                        <a:pt x="14497" y="2134481"/>
                        <a:pt x="19878" y="2147037"/>
                      </a:cubicBezTo>
                      <a:cubicBezTo>
                        <a:pt x="24584" y="2158017"/>
                        <a:pt x="33131" y="2166915"/>
                        <a:pt x="39757" y="2176854"/>
                      </a:cubicBezTo>
                      <a:cubicBezTo>
                        <a:pt x="63587" y="2248344"/>
                        <a:pt x="34675" y="2159067"/>
                        <a:pt x="59635" y="2246428"/>
                      </a:cubicBezTo>
                      <a:cubicBezTo>
                        <a:pt x="62513" y="2256502"/>
                        <a:pt x="66696" y="2266171"/>
                        <a:pt x="69574" y="2276245"/>
                      </a:cubicBezTo>
                      <a:cubicBezTo>
                        <a:pt x="73327" y="2289380"/>
                        <a:pt x="74132" y="2303446"/>
                        <a:pt x="79513" y="2316002"/>
                      </a:cubicBezTo>
                      <a:cubicBezTo>
                        <a:pt x="84218" y="2326981"/>
                        <a:pt x="93464" y="2335448"/>
                        <a:pt x="99391" y="2345819"/>
                      </a:cubicBezTo>
                      <a:cubicBezTo>
                        <a:pt x="106742" y="2358683"/>
                        <a:pt x="111647" y="2372871"/>
                        <a:pt x="119270" y="2385576"/>
                      </a:cubicBezTo>
                      <a:cubicBezTo>
                        <a:pt x="131562" y="2406062"/>
                        <a:pt x="142133" y="2428317"/>
                        <a:pt x="159026" y="2445210"/>
                      </a:cubicBezTo>
                      <a:lnTo>
                        <a:pt x="198783" y="2484967"/>
                      </a:lnTo>
                      <a:cubicBezTo>
                        <a:pt x="304800" y="2481654"/>
                        <a:pt x="411095" y="2483376"/>
                        <a:pt x="516835" y="2475028"/>
                      </a:cubicBezTo>
                      <a:cubicBezTo>
                        <a:pt x="537724" y="2473379"/>
                        <a:pt x="576470" y="2455150"/>
                        <a:pt x="576470" y="2455150"/>
                      </a:cubicBezTo>
                      <a:cubicBezTo>
                        <a:pt x="647994" y="2407465"/>
                        <a:pt x="559932" y="2474990"/>
                        <a:pt x="626165" y="2375637"/>
                      </a:cubicBezTo>
                      <a:cubicBezTo>
                        <a:pt x="632791" y="2365698"/>
                        <a:pt x="638581" y="2355147"/>
                        <a:pt x="646043" y="2345819"/>
                      </a:cubicBezTo>
                      <a:cubicBezTo>
                        <a:pt x="702699" y="2275000"/>
                        <a:pt x="624611" y="2387907"/>
                        <a:pt x="685800" y="2296124"/>
                      </a:cubicBezTo>
                      <a:cubicBezTo>
                        <a:pt x="687657" y="2288698"/>
                        <a:pt x="699567" y="2236735"/>
                        <a:pt x="705678" y="2226550"/>
                      </a:cubicBezTo>
                      <a:cubicBezTo>
                        <a:pt x="710499" y="2218514"/>
                        <a:pt x="719703" y="2213989"/>
                        <a:pt x="725557" y="2206671"/>
                      </a:cubicBezTo>
                      <a:cubicBezTo>
                        <a:pt x="763534" y="2159200"/>
                        <a:pt x="730881" y="2196024"/>
                        <a:pt x="755374" y="2147037"/>
                      </a:cubicBezTo>
                      <a:cubicBezTo>
                        <a:pt x="784412" y="2088959"/>
                        <a:pt x="768537" y="2145691"/>
                        <a:pt x="785191" y="2087402"/>
                      </a:cubicBezTo>
                      <a:cubicBezTo>
                        <a:pt x="795993" y="2049596"/>
                        <a:pt x="793735" y="2014982"/>
                        <a:pt x="844826" y="1997950"/>
                      </a:cubicBezTo>
                      <a:cubicBezTo>
                        <a:pt x="915623" y="1974349"/>
                        <a:pt x="864197" y="1988814"/>
                        <a:pt x="1003852" y="1978071"/>
                      </a:cubicBezTo>
                      <a:cubicBezTo>
                        <a:pt x="1013791" y="1971445"/>
                        <a:pt x="1022986" y="1963535"/>
                        <a:pt x="1033670" y="1958193"/>
                      </a:cubicBezTo>
                      <a:cubicBezTo>
                        <a:pt x="1043041" y="1953508"/>
                        <a:pt x="1055106" y="1954540"/>
                        <a:pt x="1063487" y="1948254"/>
                      </a:cubicBezTo>
                      <a:cubicBezTo>
                        <a:pt x="1102249" y="1919182"/>
                        <a:pt x="1110070" y="1903227"/>
                        <a:pt x="1133061" y="1868741"/>
                      </a:cubicBezTo>
                      <a:cubicBezTo>
                        <a:pt x="1136210" y="1840400"/>
                        <a:pt x="1136288" y="1782773"/>
                        <a:pt x="1152939" y="1749471"/>
                      </a:cubicBezTo>
                      <a:cubicBezTo>
                        <a:pt x="1160764" y="1733820"/>
                        <a:pt x="1177903" y="1710871"/>
                        <a:pt x="1192696" y="1699776"/>
                      </a:cubicBezTo>
                      <a:cubicBezTo>
                        <a:pt x="1211808" y="1685442"/>
                        <a:pt x="1235437" y="1676912"/>
                        <a:pt x="1252330" y="1660019"/>
                      </a:cubicBezTo>
                      <a:cubicBezTo>
                        <a:pt x="1268895" y="1643454"/>
                        <a:pt x="1282534" y="1623319"/>
                        <a:pt x="1302026" y="1610324"/>
                      </a:cubicBezTo>
                      <a:lnTo>
                        <a:pt x="1361661" y="1570567"/>
                      </a:lnTo>
                      <a:cubicBezTo>
                        <a:pt x="1371600" y="1563941"/>
                        <a:pt x="1383031" y="1559136"/>
                        <a:pt x="1391478" y="1550689"/>
                      </a:cubicBezTo>
                      <a:cubicBezTo>
                        <a:pt x="1398104" y="1544063"/>
                        <a:pt x="1402975" y="1535001"/>
                        <a:pt x="1411357" y="1530810"/>
                      </a:cubicBezTo>
                      <a:cubicBezTo>
                        <a:pt x="1435555" y="1518711"/>
                        <a:pt x="1482214" y="1508126"/>
                        <a:pt x="1510748" y="1500993"/>
                      </a:cubicBezTo>
                      <a:cubicBezTo>
                        <a:pt x="1530626" y="1487741"/>
                        <a:pt x="1562828" y="1483902"/>
                        <a:pt x="1570383" y="1461237"/>
                      </a:cubicBezTo>
                      <a:cubicBezTo>
                        <a:pt x="1573696" y="1451298"/>
                        <a:pt x="1572914" y="1438827"/>
                        <a:pt x="1580322" y="1431419"/>
                      </a:cubicBezTo>
                      <a:cubicBezTo>
                        <a:pt x="1597215" y="1414526"/>
                        <a:pt x="1639957" y="1391663"/>
                        <a:pt x="1639957" y="1391663"/>
                      </a:cubicBezTo>
                      <a:cubicBezTo>
                        <a:pt x="1636644" y="1358532"/>
                        <a:pt x="1635080" y="1325180"/>
                        <a:pt x="1630017" y="1292271"/>
                      </a:cubicBezTo>
                      <a:cubicBezTo>
                        <a:pt x="1628424" y="1281916"/>
                        <a:pt x="1626364" y="1270835"/>
                        <a:pt x="1620078" y="1262454"/>
                      </a:cubicBezTo>
                      <a:cubicBezTo>
                        <a:pt x="1586782" y="1218059"/>
                        <a:pt x="1555923" y="1203118"/>
                        <a:pt x="1510748" y="1173002"/>
                      </a:cubicBezTo>
                      <a:cubicBezTo>
                        <a:pt x="1500809" y="1166376"/>
                        <a:pt x="1489377" y="1161571"/>
                        <a:pt x="1480930" y="1153124"/>
                      </a:cubicBezTo>
                      <a:lnTo>
                        <a:pt x="1461052" y="1133245"/>
                      </a:lnTo>
                      <a:cubicBezTo>
                        <a:pt x="1473590" y="1032938"/>
                        <a:pt x="1462544" y="1079073"/>
                        <a:pt x="1490870" y="994097"/>
                      </a:cubicBezTo>
                      <a:lnTo>
                        <a:pt x="1500809" y="964280"/>
                      </a:lnTo>
                      <a:cubicBezTo>
                        <a:pt x="1497496" y="937776"/>
                        <a:pt x="1495648" y="911047"/>
                        <a:pt x="1490870" y="884767"/>
                      </a:cubicBezTo>
                      <a:cubicBezTo>
                        <a:pt x="1488996" y="874459"/>
                        <a:pt x="1489647" y="860761"/>
                        <a:pt x="1480930" y="854950"/>
                      </a:cubicBezTo>
                      <a:cubicBezTo>
                        <a:pt x="1466874" y="845579"/>
                        <a:pt x="1447800" y="848323"/>
                        <a:pt x="1431235" y="845010"/>
                      </a:cubicBezTo>
                      <a:cubicBezTo>
                        <a:pt x="1441174" y="838384"/>
                        <a:pt x="1454426" y="835071"/>
                        <a:pt x="1461052" y="825132"/>
                      </a:cubicBezTo>
                      <a:cubicBezTo>
                        <a:pt x="1468629" y="813766"/>
                        <a:pt x="1465610" y="797931"/>
                        <a:pt x="1470991" y="785376"/>
                      </a:cubicBezTo>
                      <a:cubicBezTo>
                        <a:pt x="1475697" y="774396"/>
                        <a:pt x="1484244" y="765497"/>
                        <a:pt x="1490870" y="755558"/>
                      </a:cubicBezTo>
                      <a:cubicBezTo>
                        <a:pt x="1494183" y="745619"/>
                        <a:pt x="1502532" y="736075"/>
                        <a:pt x="1500809" y="725741"/>
                      </a:cubicBezTo>
                      <a:cubicBezTo>
                        <a:pt x="1495520" y="694008"/>
                        <a:pt x="1474369" y="693737"/>
                        <a:pt x="1451113" y="685984"/>
                      </a:cubicBezTo>
                      <a:cubicBezTo>
                        <a:pt x="1431235" y="659480"/>
                        <a:pt x="1414905" y="629898"/>
                        <a:pt x="1391478" y="606471"/>
                      </a:cubicBezTo>
                      <a:cubicBezTo>
                        <a:pt x="1353214" y="568207"/>
                        <a:pt x="1369458" y="588349"/>
                        <a:pt x="1341783" y="546837"/>
                      </a:cubicBezTo>
                      <a:cubicBezTo>
                        <a:pt x="1364974" y="477263"/>
                        <a:pt x="1341783" y="493828"/>
                        <a:pt x="1391478" y="477263"/>
                      </a:cubicBezTo>
                      <a:cubicBezTo>
                        <a:pt x="1423970" y="379784"/>
                        <a:pt x="1371292" y="517480"/>
                        <a:pt x="1431235" y="427567"/>
                      </a:cubicBezTo>
                      <a:cubicBezTo>
                        <a:pt x="1438812" y="416201"/>
                        <a:pt x="1437421" y="400945"/>
                        <a:pt x="1441174" y="387810"/>
                      </a:cubicBezTo>
                      <a:cubicBezTo>
                        <a:pt x="1451461" y="351805"/>
                        <a:pt x="1449212" y="360845"/>
                        <a:pt x="1470991" y="328176"/>
                      </a:cubicBezTo>
                      <a:cubicBezTo>
                        <a:pt x="1477617" y="301672"/>
                        <a:pt x="1468138" y="263818"/>
                        <a:pt x="1490870" y="248663"/>
                      </a:cubicBezTo>
                      <a:lnTo>
                        <a:pt x="1550504" y="208906"/>
                      </a:lnTo>
                      <a:cubicBezTo>
                        <a:pt x="1557130" y="198967"/>
                        <a:pt x="1562921" y="188417"/>
                        <a:pt x="1570383" y="179089"/>
                      </a:cubicBezTo>
                      <a:cubicBezTo>
                        <a:pt x="1576237" y="171772"/>
                        <a:pt x="1586570" y="167823"/>
                        <a:pt x="1590261" y="159210"/>
                      </a:cubicBezTo>
                      <a:cubicBezTo>
                        <a:pt x="1596915" y="143683"/>
                        <a:pt x="1596887" y="126080"/>
                        <a:pt x="1600200" y="109515"/>
                      </a:cubicBezTo>
                      <a:cubicBezTo>
                        <a:pt x="1596887" y="86324"/>
                        <a:pt x="1602677" y="59807"/>
                        <a:pt x="1590261" y="39941"/>
                      </a:cubicBezTo>
                      <a:cubicBezTo>
                        <a:pt x="1583021" y="28357"/>
                        <a:pt x="1563060" y="35383"/>
                        <a:pt x="1550504" y="30002"/>
                      </a:cubicBezTo>
                      <a:cubicBezTo>
                        <a:pt x="1466662" y="-5930"/>
                        <a:pt x="1605941" y="4581"/>
                        <a:pt x="1421296" y="184"/>
                      </a:cubicBezTo>
                      <a:cubicBezTo>
                        <a:pt x="1315308" y="-2340"/>
                        <a:pt x="1181100" y="21719"/>
                        <a:pt x="1123122" y="30002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34" name=""/>
                <p:cNvGrpSpPr/>
                <p:nvPr/>
              </p:nvGrpSpPr>
              <p:grpSpPr>
                <a:xfrm>
                  <a:off x="7319160" y="2593080"/>
                  <a:ext cx="804600" cy="620640"/>
                  <a:chOff x="7319160" y="2593080"/>
                  <a:chExt cx="804600" cy="620640"/>
                </a:xfrm>
              </p:grpSpPr>
              <p:sp>
                <p:nvSpPr>
                  <p:cNvPr id="435" name="任意多边形 109"/>
                  <p:cNvSpPr/>
                  <p:nvPr/>
                </p:nvSpPr>
                <p:spPr>
                  <a:xfrm flipH="1" rot="1959000">
                    <a:off x="7310880" y="2797560"/>
                    <a:ext cx="820080" cy="211680"/>
                  </a:xfrm>
                  <a:custGeom>
                    <a:avLst/>
                    <a:gdLst>
                      <a:gd name="textAreaLeft" fmla="*/ 360 w 820080"/>
                      <a:gd name="textAreaRight" fmla="*/ 820800 w 820080"/>
                      <a:gd name="textAreaTop" fmla="*/ 0 h 211680"/>
                      <a:gd name="textAreaBottom" fmla="*/ 212040 h 211680"/>
                    </a:gdLst>
                    <a:ahLst/>
                    <a:rect l="textAreaLeft" t="textAreaTop" r="textAreaRight" b="textAreaBottom"/>
                    <a:pathLst>
                      <a:path w="2065867" h="4030133">
                        <a:moveTo>
                          <a:pt x="270933" y="677333"/>
                        </a:moveTo>
                        <a:cubicBezTo>
                          <a:pt x="259644" y="733778"/>
                          <a:pt x="257278" y="792770"/>
                          <a:pt x="237067" y="846667"/>
                        </a:cubicBezTo>
                        <a:cubicBezTo>
                          <a:pt x="222775" y="884778"/>
                          <a:pt x="187536" y="911861"/>
                          <a:pt x="169333" y="948267"/>
                        </a:cubicBezTo>
                        <a:cubicBezTo>
                          <a:pt x="153368" y="980197"/>
                          <a:pt x="146756" y="1016000"/>
                          <a:pt x="135467" y="1049867"/>
                        </a:cubicBezTo>
                        <a:cubicBezTo>
                          <a:pt x="124178" y="1128889"/>
                          <a:pt x="124537" y="1210475"/>
                          <a:pt x="101600" y="1286933"/>
                        </a:cubicBezTo>
                        <a:cubicBezTo>
                          <a:pt x="89904" y="1325919"/>
                          <a:pt x="52070" y="1352127"/>
                          <a:pt x="33867" y="1388533"/>
                        </a:cubicBezTo>
                        <a:cubicBezTo>
                          <a:pt x="17902" y="1420463"/>
                          <a:pt x="11289" y="1456266"/>
                          <a:pt x="0" y="1490133"/>
                        </a:cubicBezTo>
                        <a:cubicBezTo>
                          <a:pt x="11289" y="1648178"/>
                          <a:pt x="6331" y="1808231"/>
                          <a:pt x="33867" y="1964267"/>
                        </a:cubicBezTo>
                        <a:cubicBezTo>
                          <a:pt x="40941" y="2004350"/>
                          <a:pt x="77942" y="2032746"/>
                          <a:pt x="101600" y="2065867"/>
                        </a:cubicBezTo>
                        <a:cubicBezTo>
                          <a:pt x="134408" y="2111798"/>
                          <a:pt x="167065" y="2157971"/>
                          <a:pt x="203200" y="2201333"/>
                        </a:cubicBezTo>
                        <a:cubicBezTo>
                          <a:pt x="223641" y="2225862"/>
                          <a:pt x="253221" y="2242500"/>
                          <a:pt x="270933" y="2269067"/>
                        </a:cubicBezTo>
                        <a:cubicBezTo>
                          <a:pt x="298937" y="2311073"/>
                          <a:pt x="313619" y="2360700"/>
                          <a:pt x="338667" y="2404533"/>
                        </a:cubicBezTo>
                        <a:cubicBezTo>
                          <a:pt x="443708" y="2588354"/>
                          <a:pt x="378175" y="2421458"/>
                          <a:pt x="440267" y="2607733"/>
                        </a:cubicBezTo>
                        <a:cubicBezTo>
                          <a:pt x="451556" y="2686755"/>
                          <a:pt x="448890" y="2769072"/>
                          <a:pt x="474133" y="2844800"/>
                        </a:cubicBezTo>
                        <a:cubicBezTo>
                          <a:pt x="484230" y="2875091"/>
                          <a:pt x="525439" y="2885153"/>
                          <a:pt x="541867" y="2912533"/>
                        </a:cubicBezTo>
                        <a:cubicBezTo>
                          <a:pt x="692110" y="3162937"/>
                          <a:pt x="437916" y="2858793"/>
                          <a:pt x="643467" y="3115733"/>
                        </a:cubicBezTo>
                        <a:cubicBezTo>
                          <a:pt x="663413" y="3140666"/>
                          <a:pt x="691254" y="3158534"/>
                          <a:pt x="711200" y="3183467"/>
                        </a:cubicBezTo>
                        <a:cubicBezTo>
                          <a:pt x="736627" y="3215251"/>
                          <a:pt x="752130" y="3254435"/>
                          <a:pt x="778933" y="3285067"/>
                        </a:cubicBezTo>
                        <a:cubicBezTo>
                          <a:pt x="831498" y="3345141"/>
                          <a:pt x="900372" y="3390540"/>
                          <a:pt x="948267" y="3454400"/>
                        </a:cubicBezTo>
                        <a:cubicBezTo>
                          <a:pt x="982134" y="3499556"/>
                          <a:pt x="1019951" y="3542002"/>
                          <a:pt x="1049867" y="3589867"/>
                        </a:cubicBezTo>
                        <a:cubicBezTo>
                          <a:pt x="1076624" y="3632678"/>
                          <a:pt x="1089596" y="3683327"/>
                          <a:pt x="1117600" y="3725333"/>
                        </a:cubicBezTo>
                        <a:cubicBezTo>
                          <a:pt x="1164328" y="3795425"/>
                          <a:pt x="1222230" y="3809038"/>
                          <a:pt x="1286933" y="3860800"/>
                        </a:cubicBezTo>
                        <a:cubicBezTo>
                          <a:pt x="1311866" y="3880746"/>
                          <a:pt x="1328100" y="3910821"/>
                          <a:pt x="1354667" y="3928533"/>
                        </a:cubicBezTo>
                        <a:cubicBezTo>
                          <a:pt x="1438370" y="3984335"/>
                          <a:pt x="1501418" y="4000029"/>
                          <a:pt x="1591733" y="4030133"/>
                        </a:cubicBezTo>
                        <a:cubicBezTo>
                          <a:pt x="1670755" y="4018844"/>
                          <a:pt x="1753072" y="4021510"/>
                          <a:pt x="1828800" y="3996267"/>
                        </a:cubicBezTo>
                        <a:cubicBezTo>
                          <a:pt x="1947678" y="3956641"/>
                          <a:pt x="1962781" y="3628192"/>
                          <a:pt x="1964267" y="3623733"/>
                        </a:cubicBezTo>
                        <a:cubicBezTo>
                          <a:pt x="1977138" y="3585119"/>
                          <a:pt x="2013797" y="3558539"/>
                          <a:pt x="2032000" y="3522133"/>
                        </a:cubicBezTo>
                        <a:cubicBezTo>
                          <a:pt x="2047965" y="3490203"/>
                          <a:pt x="2054578" y="3454400"/>
                          <a:pt x="2065867" y="3420533"/>
                        </a:cubicBezTo>
                        <a:cubicBezTo>
                          <a:pt x="2054578" y="3318933"/>
                          <a:pt x="2052048" y="3215973"/>
                          <a:pt x="2032000" y="3115733"/>
                        </a:cubicBezTo>
                        <a:cubicBezTo>
                          <a:pt x="2017998" y="3045722"/>
                          <a:pt x="1964267" y="2912533"/>
                          <a:pt x="1964267" y="2912533"/>
                        </a:cubicBezTo>
                        <a:cubicBezTo>
                          <a:pt x="2045473" y="2668911"/>
                          <a:pt x="1946942" y="2973167"/>
                          <a:pt x="2032000" y="2675467"/>
                        </a:cubicBezTo>
                        <a:cubicBezTo>
                          <a:pt x="2041807" y="2641142"/>
                          <a:pt x="2054578" y="2607734"/>
                          <a:pt x="2065867" y="2573867"/>
                        </a:cubicBezTo>
                        <a:cubicBezTo>
                          <a:pt x="1988036" y="2340376"/>
                          <a:pt x="2048618" y="2421153"/>
                          <a:pt x="1930400" y="2302933"/>
                        </a:cubicBezTo>
                        <a:cubicBezTo>
                          <a:pt x="1919111" y="2257778"/>
                          <a:pt x="1909320" y="2212221"/>
                          <a:pt x="1896533" y="2167467"/>
                        </a:cubicBezTo>
                        <a:cubicBezTo>
                          <a:pt x="1886726" y="2133142"/>
                          <a:pt x="1868536" y="2101080"/>
                          <a:pt x="1862667" y="2065867"/>
                        </a:cubicBezTo>
                        <a:cubicBezTo>
                          <a:pt x="1846052" y="1966175"/>
                          <a:pt x="1835554" y="1713597"/>
                          <a:pt x="1794933" y="1591733"/>
                        </a:cubicBezTo>
                        <a:cubicBezTo>
                          <a:pt x="1778968" y="1543839"/>
                          <a:pt x="1753174" y="1499558"/>
                          <a:pt x="1727200" y="1456267"/>
                        </a:cubicBezTo>
                        <a:cubicBezTo>
                          <a:pt x="1685317" y="1386462"/>
                          <a:pt x="1591733" y="1253067"/>
                          <a:pt x="1591733" y="1253067"/>
                        </a:cubicBezTo>
                        <a:cubicBezTo>
                          <a:pt x="1555962" y="1145753"/>
                          <a:pt x="1565165" y="1143657"/>
                          <a:pt x="1490133" y="1049867"/>
                        </a:cubicBezTo>
                        <a:cubicBezTo>
                          <a:pt x="1470187" y="1024934"/>
                          <a:pt x="1442346" y="1007066"/>
                          <a:pt x="1422400" y="982133"/>
                        </a:cubicBezTo>
                        <a:cubicBezTo>
                          <a:pt x="1396973" y="950349"/>
                          <a:pt x="1380094" y="912316"/>
                          <a:pt x="1354667" y="880533"/>
                        </a:cubicBezTo>
                        <a:cubicBezTo>
                          <a:pt x="1334721" y="855600"/>
                          <a:pt x="1306879" y="837733"/>
                          <a:pt x="1286933" y="812800"/>
                        </a:cubicBezTo>
                        <a:cubicBezTo>
                          <a:pt x="1261506" y="781017"/>
                          <a:pt x="1246241" y="741622"/>
                          <a:pt x="1219200" y="711200"/>
                        </a:cubicBezTo>
                        <a:cubicBezTo>
                          <a:pt x="1155561" y="639606"/>
                          <a:pt x="1095702" y="561134"/>
                          <a:pt x="1016000" y="508000"/>
                        </a:cubicBezTo>
                        <a:cubicBezTo>
                          <a:pt x="887833" y="422556"/>
                          <a:pt x="943181" y="469048"/>
                          <a:pt x="846667" y="372533"/>
                        </a:cubicBezTo>
                        <a:cubicBezTo>
                          <a:pt x="835378" y="338666"/>
                          <a:pt x="832602" y="300636"/>
                          <a:pt x="812800" y="270933"/>
                        </a:cubicBezTo>
                        <a:cubicBezTo>
                          <a:pt x="786233" y="231082"/>
                          <a:pt x="749006" y="198737"/>
                          <a:pt x="711200" y="169333"/>
                        </a:cubicBezTo>
                        <a:cubicBezTo>
                          <a:pt x="536524" y="33474"/>
                          <a:pt x="559693" y="51098"/>
                          <a:pt x="406400" y="0"/>
                        </a:cubicBezTo>
                        <a:cubicBezTo>
                          <a:pt x="361244" y="11289"/>
                          <a:pt x="313715" y="15532"/>
                          <a:pt x="270933" y="33867"/>
                        </a:cubicBezTo>
                        <a:cubicBezTo>
                          <a:pt x="53886" y="126887"/>
                          <a:pt x="173770" y="228415"/>
                          <a:pt x="203200" y="508000"/>
                        </a:cubicBezTo>
                        <a:cubicBezTo>
                          <a:pt x="230238" y="764856"/>
                          <a:pt x="168958" y="711013"/>
                          <a:pt x="304800" y="778933"/>
                        </a:cubicBez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6" name="任意多边形 110"/>
                  <p:cNvSpPr/>
                  <p:nvPr/>
                </p:nvSpPr>
                <p:spPr>
                  <a:xfrm flipH="1" rot="3540600">
                    <a:off x="7478280" y="2740680"/>
                    <a:ext cx="241560" cy="171360"/>
                  </a:xfrm>
                  <a:custGeom>
                    <a:avLst/>
                    <a:gdLst>
                      <a:gd name="textAreaLeft" fmla="*/ -360 w 241560"/>
                      <a:gd name="textAreaRight" fmla="*/ 241560 w 241560"/>
                      <a:gd name="textAreaTop" fmla="*/ 0 h 171360"/>
                      <a:gd name="textAreaBottom" fmla="*/ 171720 h 171360"/>
                    </a:gdLst>
                    <a:ahLst/>
                    <a:rect l="textAreaLeft" t="textAreaTop" r="textAreaRight" b="textAreaBottom"/>
                    <a:pathLst>
                      <a:path w="2065867" h="4030133">
                        <a:moveTo>
                          <a:pt x="270933" y="677333"/>
                        </a:moveTo>
                        <a:cubicBezTo>
                          <a:pt x="259644" y="733778"/>
                          <a:pt x="257278" y="792770"/>
                          <a:pt x="237067" y="846667"/>
                        </a:cubicBezTo>
                        <a:cubicBezTo>
                          <a:pt x="222775" y="884778"/>
                          <a:pt x="187536" y="911861"/>
                          <a:pt x="169333" y="948267"/>
                        </a:cubicBezTo>
                        <a:cubicBezTo>
                          <a:pt x="153368" y="980197"/>
                          <a:pt x="146756" y="1016000"/>
                          <a:pt x="135467" y="1049867"/>
                        </a:cubicBezTo>
                        <a:cubicBezTo>
                          <a:pt x="124178" y="1128889"/>
                          <a:pt x="124537" y="1210475"/>
                          <a:pt x="101600" y="1286933"/>
                        </a:cubicBezTo>
                        <a:cubicBezTo>
                          <a:pt x="89904" y="1325919"/>
                          <a:pt x="52070" y="1352127"/>
                          <a:pt x="33867" y="1388533"/>
                        </a:cubicBezTo>
                        <a:cubicBezTo>
                          <a:pt x="17902" y="1420463"/>
                          <a:pt x="11289" y="1456266"/>
                          <a:pt x="0" y="1490133"/>
                        </a:cubicBezTo>
                        <a:cubicBezTo>
                          <a:pt x="11289" y="1648178"/>
                          <a:pt x="6331" y="1808231"/>
                          <a:pt x="33867" y="1964267"/>
                        </a:cubicBezTo>
                        <a:cubicBezTo>
                          <a:pt x="40941" y="2004350"/>
                          <a:pt x="77942" y="2032746"/>
                          <a:pt x="101600" y="2065867"/>
                        </a:cubicBezTo>
                        <a:cubicBezTo>
                          <a:pt x="134408" y="2111798"/>
                          <a:pt x="167065" y="2157971"/>
                          <a:pt x="203200" y="2201333"/>
                        </a:cubicBezTo>
                        <a:cubicBezTo>
                          <a:pt x="223641" y="2225862"/>
                          <a:pt x="253221" y="2242500"/>
                          <a:pt x="270933" y="2269067"/>
                        </a:cubicBezTo>
                        <a:cubicBezTo>
                          <a:pt x="298937" y="2311073"/>
                          <a:pt x="313619" y="2360700"/>
                          <a:pt x="338667" y="2404533"/>
                        </a:cubicBezTo>
                        <a:cubicBezTo>
                          <a:pt x="443708" y="2588354"/>
                          <a:pt x="378175" y="2421458"/>
                          <a:pt x="440267" y="2607733"/>
                        </a:cubicBezTo>
                        <a:cubicBezTo>
                          <a:pt x="451556" y="2686755"/>
                          <a:pt x="448890" y="2769072"/>
                          <a:pt x="474133" y="2844800"/>
                        </a:cubicBezTo>
                        <a:cubicBezTo>
                          <a:pt x="484230" y="2875091"/>
                          <a:pt x="525439" y="2885153"/>
                          <a:pt x="541867" y="2912533"/>
                        </a:cubicBezTo>
                        <a:cubicBezTo>
                          <a:pt x="692110" y="3162937"/>
                          <a:pt x="437916" y="2858793"/>
                          <a:pt x="643467" y="3115733"/>
                        </a:cubicBezTo>
                        <a:cubicBezTo>
                          <a:pt x="663413" y="3140666"/>
                          <a:pt x="691254" y="3158534"/>
                          <a:pt x="711200" y="3183467"/>
                        </a:cubicBezTo>
                        <a:cubicBezTo>
                          <a:pt x="736627" y="3215251"/>
                          <a:pt x="752130" y="3254435"/>
                          <a:pt x="778933" y="3285067"/>
                        </a:cubicBezTo>
                        <a:cubicBezTo>
                          <a:pt x="831498" y="3345141"/>
                          <a:pt x="900372" y="3390540"/>
                          <a:pt x="948267" y="3454400"/>
                        </a:cubicBezTo>
                        <a:cubicBezTo>
                          <a:pt x="982134" y="3499556"/>
                          <a:pt x="1019951" y="3542002"/>
                          <a:pt x="1049867" y="3589867"/>
                        </a:cubicBezTo>
                        <a:cubicBezTo>
                          <a:pt x="1076624" y="3632678"/>
                          <a:pt x="1089596" y="3683327"/>
                          <a:pt x="1117600" y="3725333"/>
                        </a:cubicBezTo>
                        <a:cubicBezTo>
                          <a:pt x="1164328" y="3795425"/>
                          <a:pt x="1222230" y="3809038"/>
                          <a:pt x="1286933" y="3860800"/>
                        </a:cubicBezTo>
                        <a:cubicBezTo>
                          <a:pt x="1311866" y="3880746"/>
                          <a:pt x="1328100" y="3910821"/>
                          <a:pt x="1354667" y="3928533"/>
                        </a:cubicBezTo>
                        <a:cubicBezTo>
                          <a:pt x="1438370" y="3984335"/>
                          <a:pt x="1501418" y="4000029"/>
                          <a:pt x="1591733" y="4030133"/>
                        </a:cubicBezTo>
                        <a:cubicBezTo>
                          <a:pt x="1670755" y="4018844"/>
                          <a:pt x="1753072" y="4021510"/>
                          <a:pt x="1828800" y="3996267"/>
                        </a:cubicBezTo>
                        <a:cubicBezTo>
                          <a:pt x="1947678" y="3956641"/>
                          <a:pt x="1962781" y="3628192"/>
                          <a:pt x="1964267" y="3623733"/>
                        </a:cubicBezTo>
                        <a:cubicBezTo>
                          <a:pt x="1977138" y="3585119"/>
                          <a:pt x="2013797" y="3558539"/>
                          <a:pt x="2032000" y="3522133"/>
                        </a:cubicBezTo>
                        <a:cubicBezTo>
                          <a:pt x="2047965" y="3490203"/>
                          <a:pt x="2054578" y="3454400"/>
                          <a:pt x="2065867" y="3420533"/>
                        </a:cubicBezTo>
                        <a:cubicBezTo>
                          <a:pt x="2054578" y="3318933"/>
                          <a:pt x="2052048" y="3215973"/>
                          <a:pt x="2032000" y="3115733"/>
                        </a:cubicBezTo>
                        <a:cubicBezTo>
                          <a:pt x="2017998" y="3045722"/>
                          <a:pt x="1964267" y="2912533"/>
                          <a:pt x="1964267" y="2912533"/>
                        </a:cubicBezTo>
                        <a:cubicBezTo>
                          <a:pt x="2045473" y="2668911"/>
                          <a:pt x="1946942" y="2973167"/>
                          <a:pt x="2032000" y="2675467"/>
                        </a:cubicBezTo>
                        <a:cubicBezTo>
                          <a:pt x="2041807" y="2641142"/>
                          <a:pt x="2054578" y="2607734"/>
                          <a:pt x="2065867" y="2573867"/>
                        </a:cubicBezTo>
                        <a:cubicBezTo>
                          <a:pt x="1988036" y="2340376"/>
                          <a:pt x="2048618" y="2421153"/>
                          <a:pt x="1930400" y="2302933"/>
                        </a:cubicBezTo>
                        <a:cubicBezTo>
                          <a:pt x="1919111" y="2257778"/>
                          <a:pt x="1909320" y="2212221"/>
                          <a:pt x="1896533" y="2167467"/>
                        </a:cubicBezTo>
                        <a:cubicBezTo>
                          <a:pt x="1886726" y="2133142"/>
                          <a:pt x="1868536" y="2101080"/>
                          <a:pt x="1862667" y="2065867"/>
                        </a:cubicBezTo>
                        <a:cubicBezTo>
                          <a:pt x="1846052" y="1966175"/>
                          <a:pt x="1835554" y="1713597"/>
                          <a:pt x="1794933" y="1591733"/>
                        </a:cubicBezTo>
                        <a:cubicBezTo>
                          <a:pt x="1778968" y="1543839"/>
                          <a:pt x="1753174" y="1499558"/>
                          <a:pt x="1727200" y="1456267"/>
                        </a:cubicBezTo>
                        <a:cubicBezTo>
                          <a:pt x="1685317" y="1386462"/>
                          <a:pt x="1591733" y="1253067"/>
                          <a:pt x="1591733" y="1253067"/>
                        </a:cubicBezTo>
                        <a:cubicBezTo>
                          <a:pt x="1555962" y="1145753"/>
                          <a:pt x="1565165" y="1143657"/>
                          <a:pt x="1490133" y="1049867"/>
                        </a:cubicBezTo>
                        <a:cubicBezTo>
                          <a:pt x="1470187" y="1024934"/>
                          <a:pt x="1442346" y="1007066"/>
                          <a:pt x="1422400" y="982133"/>
                        </a:cubicBezTo>
                        <a:cubicBezTo>
                          <a:pt x="1396973" y="950349"/>
                          <a:pt x="1380094" y="912316"/>
                          <a:pt x="1354667" y="880533"/>
                        </a:cubicBezTo>
                        <a:cubicBezTo>
                          <a:pt x="1334721" y="855600"/>
                          <a:pt x="1306879" y="837733"/>
                          <a:pt x="1286933" y="812800"/>
                        </a:cubicBezTo>
                        <a:cubicBezTo>
                          <a:pt x="1261506" y="781017"/>
                          <a:pt x="1246241" y="741622"/>
                          <a:pt x="1219200" y="711200"/>
                        </a:cubicBezTo>
                        <a:cubicBezTo>
                          <a:pt x="1155561" y="639606"/>
                          <a:pt x="1095702" y="561134"/>
                          <a:pt x="1016000" y="508000"/>
                        </a:cubicBezTo>
                        <a:cubicBezTo>
                          <a:pt x="887833" y="422556"/>
                          <a:pt x="943181" y="469048"/>
                          <a:pt x="846667" y="372533"/>
                        </a:cubicBezTo>
                        <a:cubicBezTo>
                          <a:pt x="835378" y="338666"/>
                          <a:pt x="832602" y="300636"/>
                          <a:pt x="812800" y="270933"/>
                        </a:cubicBezTo>
                        <a:cubicBezTo>
                          <a:pt x="786233" y="231082"/>
                          <a:pt x="749006" y="198737"/>
                          <a:pt x="711200" y="169333"/>
                        </a:cubicBezTo>
                        <a:cubicBezTo>
                          <a:pt x="536524" y="33474"/>
                          <a:pt x="559693" y="51098"/>
                          <a:pt x="406400" y="0"/>
                        </a:cubicBezTo>
                        <a:cubicBezTo>
                          <a:pt x="361244" y="11289"/>
                          <a:pt x="313715" y="15532"/>
                          <a:pt x="270933" y="33867"/>
                        </a:cubicBezTo>
                        <a:cubicBezTo>
                          <a:pt x="53886" y="126887"/>
                          <a:pt x="173770" y="228415"/>
                          <a:pt x="203200" y="508000"/>
                        </a:cubicBezTo>
                        <a:cubicBezTo>
                          <a:pt x="230238" y="764856"/>
                          <a:pt x="168958" y="711013"/>
                          <a:pt x="304800" y="778933"/>
                        </a:cubicBezTo>
                      </a:path>
                    </a:pathLst>
                  </a:custGeom>
                  <a:solidFill>
                    <a:srgbClr val="f2f2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7" name="任意多边形 111"/>
                  <p:cNvSpPr/>
                  <p:nvPr/>
                </p:nvSpPr>
                <p:spPr>
                  <a:xfrm flipH="1" rot="4233600">
                    <a:off x="7625520" y="2842560"/>
                    <a:ext cx="116640" cy="128880"/>
                  </a:xfrm>
                  <a:custGeom>
                    <a:avLst/>
                    <a:gdLst>
                      <a:gd name="textAreaLeft" fmla="*/ 360 w 116640"/>
                      <a:gd name="textAreaRight" fmla="*/ 117360 w 116640"/>
                      <a:gd name="textAreaTop" fmla="*/ 0 h 128880"/>
                      <a:gd name="textAreaBottom" fmla="*/ 129240 h 128880"/>
                    </a:gdLst>
                    <a:ahLst/>
                    <a:rect l="textAreaLeft" t="textAreaTop" r="textAreaRight" b="textAreaBottom"/>
                    <a:pathLst>
                      <a:path w="2065867" h="4030133">
                        <a:moveTo>
                          <a:pt x="270933" y="677333"/>
                        </a:moveTo>
                        <a:cubicBezTo>
                          <a:pt x="259644" y="733778"/>
                          <a:pt x="257278" y="792770"/>
                          <a:pt x="237067" y="846667"/>
                        </a:cubicBezTo>
                        <a:cubicBezTo>
                          <a:pt x="222775" y="884778"/>
                          <a:pt x="187536" y="911861"/>
                          <a:pt x="169333" y="948267"/>
                        </a:cubicBezTo>
                        <a:cubicBezTo>
                          <a:pt x="153368" y="980197"/>
                          <a:pt x="146756" y="1016000"/>
                          <a:pt x="135467" y="1049867"/>
                        </a:cubicBezTo>
                        <a:cubicBezTo>
                          <a:pt x="124178" y="1128889"/>
                          <a:pt x="124537" y="1210475"/>
                          <a:pt x="101600" y="1286933"/>
                        </a:cubicBezTo>
                        <a:cubicBezTo>
                          <a:pt x="89904" y="1325919"/>
                          <a:pt x="52070" y="1352127"/>
                          <a:pt x="33867" y="1388533"/>
                        </a:cubicBezTo>
                        <a:cubicBezTo>
                          <a:pt x="17902" y="1420463"/>
                          <a:pt x="11289" y="1456266"/>
                          <a:pt x="0" y="1490133"/>
                        </a:cubicBezTo>
                        <a:cubicBezTo>
                          <a:pt x="11289" y="1648178"/>
                          <a:pt x="6331" y="1808231"/>
                          <a:pt x="33867" y="1964267"/>
                        </a:cubicBezTo>
                        <a:cubicBezTo>
                          <a:pt x="40941" y="2004350"/>
                          <a:pt x="77942" y="2032746"/>
                          <a:pt x="101600" y="2065867"/>
                        </a:cubicBezTo>
                        <a:cubicBezTo>
                          <a:pt x="134408" y="2111798"/>
                          <a:pt x="167065" y="2157971"/>
                          <a:pt x="203200" y="2201333"/>
                        </a:cubicBezTo>
                        <a:cubicBezTo>
                          <a:pt x="223641" y="2225862"/>
                          <a:pt x="253221" y="2242500"/>
                          <a:pt x="270933" y="2269067"/>
                        </a:cubicBezTo>
                        <a:cubicBezTo>
                          <a:pt x="298937" y="2311073"/>
                          <a:pt x="313619" y="2360700"/>
                          <a:pt x="338667" y="2404533"/>
                        </a:cubicBezTo>
                        <a:cubicBezTo>
                          <a:pt x="443708" y="2588354"/>
                          <a:pt x="378175" y="2421458"/>
                          <a:pt x="440267" y="2607733"/>
                        </a:cubicBezTo>
                        <a:cubicBezTo>
                          <a:pt x="451556" y="2686755"/>
                          <a:pt x="448890" y="2769072"/>
                          <a:pt x="474133" y="2844800"/>
                        </a:cubicBezTo>
                        <a:cubicBezTo>
                          <a:pt x="484230" y="2875091"/>
                          <a:pt x="525439" y="2885153"/>
                          <a:pt x="541867" y="2912533"/>
                        </a:cubicBezTo>
                        <a:cubicBezTo>
                          <a:pt x="692110" y="3162937"/>
                          <a:pt x="437916" y="2858793"/>
                          <a:pt x="643467" y="3115733"/>
                        </a:cubicBezTo>
                        <a:cubicBezTo>
                          <a:pt x="663413" y="3140666"/>
                          <a:pt x="691254" y="3158534"/>
                          <a:pt x="711200" y="3183467"/>
                        </a:cubicBezTo>
                        <a:cubicBezTo>
                          <a:pt x="736627" y="3215251"/>
                          <a:pt x="752130" y="3254435"/>
                          <a:pt x="778933" y="3285067"/>
                        </a:cubicBezTo>
                        <a:cubicBezTo>
                          <a:pt x="831498" y="3345141"/>
                          <a:pt x="900372" y="3390540"/>
                          <a:pt x="948267" y="3454400"/>
                        </a:cubicBezTo>
                        <a:cubicBezTo>
                          <a:pt x="982134" y="3499556"/>
                          <a:pt x="1019951" y="3542002"/>
                          <a:pt x="1049867" y="3589867"/>
                        </a:cubicBezTo>
                        <a:cubicBezTo>
                          <a:pt x="1076624" y="3632678"/>
                          <a:pt x="1089596" y="3683327"/>
                          <a:pt x="1117600" y="3725333"/>
                        </a:cubicBezTo>
                        <a:cubicBezTo>
                          <a:pt x="1164328" y="3795425"/>
                          <a:pt x="1222230" y="3809038"/>
                          <a:pt x="1286933" y="3860800"/>
                        </a:cubicBezTo>
                        <a:cubicBezTo>
                          <a:pt x="1311866" y="3880746"/>
                          <a:pt x="1328100" y="3910821"/>
                          <a:pt x="1354667" y="3928533"/>
                        </a:cubicBezTo>
                        <a:cubicBezTo>
                          <a:pt x="1438370" y="3984335"/>
                          <a:pt x="1501418" y="4000029"/>
                          <a:pt x="1591733" y="4030133"/>
                        </a:cubicBezTo>
                        <a:cubicBezTo>
                          <a:pt x="1670755" y="4018844"/>
                          <a:pt x="1753072" y="4021510"/>
                          <a:pt x="1828800" y="3996267"/>
                        </a:cubicBezTo>
                        <a:cubicBezTo>
                          <a:pt x="1947678" y="3956641"/>
                          <a:pt x="1962781" y="3628192"/>
                          <a:pt x="1964267" y="3623733"/>
                        </a:cubicBezTo>
                        <a:cubicBezTo>
                          <a:pt x="1977138" y="3585119"/>
                          <a:pt x="2013797" y="3558539"/>
                          <a:pt x="2032000" y="3522133"/>
                        </a:cubicBezTo>
                        <a:cubicBezTo>
                          <a:pt x="2047965" y="3490203"/>
                          <a:pt x="2054578" y="3454400"/>
                          <a:pt x="2065867" y="3420533"/>
                        </a:cubicBezTo>
                        <a:cubicBezTo>
                          <a:pt x="2054578" y="3318933"/>
                          <a:pt x="2052048" y="3215973"/>
                          <a:pt x="2032000" y="3115733"/>
                        </a:cubicBezTo>
                        <a:cubicBezTo>
                          <a:pt x="2017998" y="3045722"/>
                          <a:pt x="1964267" y="2912533"/>
                          <a:pt x="1964267" y="2912533"/>
                        </a:cubicBezTo>
                        <a:cubicBezTo>
                          <a:pt x="2045473" y="2668911"/>
                          <a:pt x="1946942" y="2973167"/>
                          <a:pt x="2032000" y="2675467"/>
                        </a:cubicBezTo>
                        <a:cubicBezTo>
                          <a:pt x="2041807" y="2641142"/>
                          <a:pt x="2054578" y="2607734"/>
                          <a:pt x="2065867" y="2573867"/>
                        </a:cubicBezTo>
                        <a:cubicBezTo>
                          <a:pt x="1988036" y="2340376"/>
                          <a:pt x="2048618" y="2421153"/>
                          <a:pt x="1930400" y="2302933"/>
                        </a:cubicBezTo>
                        <a:cubicBezTo>
                          <a:pt x="1919111" y="2257778"/>
                          <a:pt x="1909320" y="2212221"/>
                          <a:pt x="1896533" y="2167467"/>
                        </a:cubicBezTo>
                        <a:cubicBezTo>
                          <a:pt x="1886726" y="2133142"/>
                          <a:pt x="1868536" y="2101080"/>
                          <a:pt x="1862667" y="2065867"/>
                        </a:cubicBezTo>
                        <a:cubicBezTo>
                          <a:pt x="1846052" y="1966175"/>
                          <a:pt x="1835554" y="1713597"/>
                          <a:pt x="1794933" y="1591733"/>
                        </a:cubicBezTo>
                        <a:cubicBezTo>
                          <a:pt x="1778968" y="1543839"/>
                          <a:pt x="1753174" y="1499558"/>
                          <a:pt x="1727200" y="1456267"/>
                        </a:cubicBezTo>
                        <a:cubicBezTo>
                          <a:pt x="1685317" y="1386462"/>
                          <a:pt x="1591733" y="1253067"/>
                          <a:pt x="1591733" y="1253067"/>
                        </a:cubicBezTo>
                        <a:cubicBezTo>
                          <a:pt x="1555962" y="1145753"/>
                          <a:pt x="1565165" y="1143657"/>
                          <a:pt x="1490133" y="1049867"/>
                        </a:cubicBezTo>
                        <a:cubicBezTo>
                          <a:pt x="1470187" y="1024934"/>
                          <a:pt x="1442346" y="1007066"/>
                          <a:pt x="1422400" y="982133"/>
                        </a:cubicBezTo>
                        <a:cubicBezTo>
                          <a:pt x="1396973" y="950349"/>
                          <a:pt x="1380094" y="912316"/>
                          <a:pt x="1354667" y="880533"/>
                        </a:cubicBezTo>
                        <a:cubicBezTo>
                          <a:pt x="1334721" y="855600"/>
                          <a:pt x="1306879" y="837733"/>
                          <a:pt x="1286933" y="812800"/>
                        </a:cubicBezTo>
                        <a:cubicBezTo>
                          <a:pt x="1261506" y="781017"/>
                          <a:pt x="1246241" y="741622"/>
                          <a:pt x="1219200" y="711200"/>
                        </a:cubicBezTo>
                        <a:cubicBezTo>
                          <a:pt x="1155561" y="639606"/>
                          <a:pt x="1095702" y="561134"/>
                          <a:pt x="1016000" y="508000"/>
                        </a:cubicBezTo>
                        <a:cubicBezTo>
                          <a:pt x="887833" y="422556"/>
                          <a:pt x="943181" y="469048"/>
                          <a:pt x="846667" y="372533"/>
                        </a:cubicBezTo>
                        <a:cubicBezTo>
                          <a:pt x="835378" y="338666"/>
                          <a:pt x="832602" y="300636"/>
                          <a:pt x="812800" y="270933"/>
                        </a:cubicBezTo>
                        <a:cubicBezTo>
                          <a:pt x="786233" y="231082"/>
                          <a:pt x="749006" y="198737"/>
                          <a:pt x="711200" y="169333"/>
                        </a:cubicBezTo>
                        <a:cubicBezTo>
                          <a:pt x="536524" y="33474"/>
                          <a:pt x="559693" y="51098"/>
                          <a:pt x="406400" y="0"/>
                        </a:cubicBezTo>
                        <a:cubicBezTo>
                          <a:pt x="361244" y="11289"/>
                          <a:pt x="313715" y="15532"/>
                          <a:pt x="270933" y="33867"/>
                        </a:cubicBezTo>
                        <a:cubicBezTo>
                          <a:pt x="53886" y="126887"/>
                          <a:pt x="173770" y="228415"/>
                          <a:pt x="203200" y="508000"/>
                        </a:cubicBezTo>
                        <a:cubicBezTo>
                          <a:pt x="230238" y="764856"/>
                          <a:pt x="168958" y="711013"/>
                          <a:pt x="304800" y="778933"/>
                        </a:cubicBezTo>
                      </a:path>
                    </a:pathLst>
                  </a:custGeom>
                  <a:solidFill>
                    <a:srgbClr val="f2f2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8" name=""/>
                <p:cNvGrpSpPr/>
                <p:nvPr/>
              </p:nvGrpSpPr>
              <p:grpSpPr>
                <a:xfrm>
                  <a:off x="7476120" y="2870640"/>
                  <a:ext cx="503640" cy="516960"/>
                  <a:chOff x="7476120" y="2870640"/>
                  <a:chExt cx="503640" cy="516960"/>
                </a:xfrm>
              </p:grpSpPr>
              <p:sp>
                <p:nvSpPr>
                  <p:cNvPr id="439" name="任意多边形 106"/>
                  <p:cNvSpPr/>
                  <p:nvPr/>
                </p:nvSpPr>
                <p:spPr>
                  <a:xfrm flipH="1" rot="3210600">
                    <a:off x="7529400" y="2961720"/>
                    <a:ext cx="396000" cy="333720"/>
                  </a:xfrm>
                  <a:custGeom>
                    <a:avLst/>
                    <a:gdLst>
                      <a:gd name="textAreaLeft" fmla="*/ 360 w 396000"/>
                      <a:gd name="textAreaRight" fmla="*/ 396720 w 396000"/>
                      <a:gd name="textAreaTop" fmla="*/ 0 h 333720"/>
                      <a:gd name="textAreaBottom" fmla="*/ 334080 h 333720"/>
                    </a:gdLst>
                    <a:ahLst/>
                    <a:rect l="textAreaLeft" t="textAreaTop" r="textAreaRight" b="textAreaBottom"/>
                    <a:pathLst>
                      <a:path w="2065867" h="4030133">
                        <a:moveTo>
                          <a:pt x="270933" y="677333"/>
                        </a:moveTo>
                        <a:cubicBezTo>
                          <a:pt x="259644" y="733778"/>
                          <a:pt x="257278" y="792770"/>
                          <a:pt x="237067" y="846667"/>
                        </a:cubicBezTo>
                        <a:cubicBezTo>
                          <a:pt x="222775" y="884778"/>
                          <a:pt x="187536" y="911861"/>
                          <a:pt x="169333" y="948267"/>
                        </a:cubicBezTo>
                        <a:cubicBezTo>
                          <a:pt x="153368" y="980197"/>
                          <a:pt x="146756" y="1016000"/>
                          <a:pt x="135467" y="1049867"/>
                        </a:cubicBezTo>
                        <a:cubicBezTo>
                          <a:pt x="124178" y="1128889"/>
                          <a:pt x="124537" y="1210475"/>
                          <a:pt x="101600" y="1286933"/>
                        </a:cubicBezTo>
                        <a:cubicBezTo>
                          <a:pt x="89904" y="1325919"/>
                          <a:pt x="52070" y="1352127"/>
                          <a:pt x="33867" y="1388533"/>
                        </a:cubicBezTo>
                        <a:cubicBezTo>
                          <a:pt x="17902" y="1420463"/>
                          <a:pt x="11289" y="1456266"/>
                          <a:pt x="0" y="1490133"/>
                        </a:cubicBezTo>
                        <a:cubicBezTo>
                          <a:pt x="11289" y="1648178"/>
                          <a:pt x="6331" y="1808231"/>
                          <a:pt x="33867" y="1964267"/>
                        </a:cubicBezTo>
                        <a:cubicBezTo>
                          <a:pt x="40941" y="2004350"/>
                          <a:pt x="77942" y="2032746"/>
                          <a:pt x="101600" y="2065867"/>
                        </a:cubicBezTo>
                        <a:cubicBezTo>
                          <a:pt x="134408" y="2111798"/>
                          <a:pt x="167065" y="2157971"/>
                          <a:pt x="203200" y="2201333"/>
                        </a:cubicBezTo>
                        <a:cubicBezTo>
                          <a:pt x="223641" y="2225862"/>
                          <a:pt x="253221" y="2242500"/>
                          <a:pt x="270933" y="2269067"/>
                        </a:cubicBezTo>
                        <a:cubicBezTo>
                          <a:pt x="298937" y="2311073"/>
                          <a:pt x="313619" y="2360700"/>
                          <a:pt x="338667" y="2404533"/>
                        </a:cubicBezTo>
                        <a:cubicBezTo>
                          <a:pt x="443708" y="2588354"/>
                          <a:pt x="378175" y="2421458"/>
                          <a:pt x="440267" y="2607733"/>
                        </a:cubicBezTo>
                        <a:cubicBezTo>
                          <a:pt x="451556" y="2686755"/>
                          <a:pt x="448890" y="2769072"/>
                          <a:pt x="474133" y="2844800"/>
                        </a:cubicBezTo>
                        <a:cubicBezTo>
                          <a:pt x="484230" y="2875091"/>
                          <a:pt x="525439" y="2885153"/>
                          <a:pt x="541867" y="2912533"/>
                        </a:cubicBezTo>
                        <a:cubicBezTo>
                          <a:pt x="692110" y="3162937"/>
                          <a:pt x="437916" y="2858793"/>
                          <a:pt x="643467" y="3115733"/>
                        </a:cubicBezTo>
                        <a:cubicBezTo>
                          <a:pt x="663413" y="3140666"/>
                          <a:pt x="691254" y="3158534"/>
                          <a:pt x="711200" y="3183467"/>
                        </a:cubicBezTo>
                        <a:cubicBezTo>
                          <a:pt x="736627" y="3215251"/>
                          <a:pt x="752130" y="3254435"/>
                          <a:pt x="778933" y="3285067"/>
                        </a:cubicBezTo>
                        <a:cubicBezTo>
                          <a:pt x="831498" y="3345141"/>
                          <a:pt x="900372" y="3390540"/>
                          <a:pt x="948267" y="3454400"/>
                        </a:cubicBezTo>
                        <a:cubicBezTo>
                          <a:pt x="982134" y="3499556"/>
                          <a:pt x="1019951" y="3542002"/>
                          <a:pt x="1049867" y="3589867"/>
                        </a:cubicBezTo>
                        <a:cubicBezTo>
                          <a:pt x="1076624" y="3632678"/>
                          <a:pt x="1089596" y="3683327"/>
                          <a:pt x="1117600" y="3725333"/>
                        </a:cubicBezTo>
                        <a:cubicBezTo>
                          <a:pt x="1164328" y="3795425"/>
                          <a:pt x="1222230" y="3809038"/>
                          <a:pt x="1286933" y="3860800"/>
                        </a:cubicBezTo>
                        <a:cubicBezTo>
                          <a:pt x="1311866" y="3880746"/>
                          <a:pt x="1328100" y="3910821"/>
                          <a:pt x="1354667" y="3928533"/>
                        </a:cubicBezTo>
                        <a:cubicBezTo>
                          <a:pt x="1438370" y="3984335"/>
                          <a:pt x="1501418" y="4000029"/>
                          <a:pt x="1591733" y="4030133"/>
                        </a:cubicBezTo>
                        <a:cubicBezTo>
                          <a:pt x="1670755" y="4018844"/>
                          <a:pt x="1753072" y="4021510"/>
                          <a:pt x="1828800" y="3996267"/>
                        </a:cubicBezTo>
                        <a:cubicBezTo>
                          <a:pt x="1947678" y="3956641"/>
                          <a:pt x="1962781" y="3628192"/>
                          <a:pt x="1964267" y="3623733"/>
                        </a:cubicBezTo>
                        <a:cubicBezTo>
                          <a:pt x="1977138" y="3585119"/>
                          <a:pt x="2013797" y="3558539"/>
                          <a:pt x="2032000" y="3522133"/>
                        </a:cubicBezTo>
                        <a:cubicBezTo>
                          <a:pt x="2047965" y="3490203"/>
                          <a:pt x="2054578" y="3454400"/>
                          <a:pt x="2065867" y="3420533"/>
                        </a:cubicBezTo>
                        <a:cubicBezTo>
                          <a:pt x="2054578" y="3318933"/>
                          <a:pt x="2052048" y="3215973"/>
                          <a:pt x="2032000" y="3115733"/>
                        </a:cubicBezTo>
                        <a:cubicBezTo>
                          <a:pt x="2017998" y="3045722"/>
                          <a:pt x="1964267" y="2912533"/>
                          <a:pt x="1964267" y="2912533"/>
                        </a:cubicBezTo>
                        <a:cubicBezTo>
                          <a:pt x="2045473" y="2668911"/>
                          <a:pt x="1946942" y="2973167"/>
                          <a:pt x="2032000" y="2675467"/>
                        </a:cubicBezTo>
                        <a:cubicBezTo>
                          <a:pt x="2041807" y="2641142"/>
                          <a:pt x="2054578" y="2607734"/>
                          <a:pt x="2065867" y="2573867"/>
                        </a:cubicBezTo>
                        <a:cubicBezTo>
                          <a:pt x="1988036" y="2340376"/>
                          <a:pt x="2048618" y="2421153"/>
                          <a:pt x="1930400" y="2302933"/>
                        </a:cubicBezTo>
                        <a:cubicBezTo>
                          <a:pt x="1919111" y="2257778"/>
                          <a:pt x="1909320" y="2212221"/>
                          <a:pt x="1896533" y="2167467"/>
                        </a:cubicBezTo>
                        <a:cubicBezTo>
                          <a:pt x="1886726" y="2133142"/>
                          <a:pt x="1868536" y="2101080"/>
                          <a:pt x="1862667" y="2065867"/>
                        </a:cubicBezTo>
                        <a:cubicBezTo>
                          <a:pt x="1846052" y="1966175"/>
                          <a:pt x="1835554" y="1713597"/>
                          <a:pt x="1794933" y="1591733"/>
                        </a:cubicBezTo>
                        <a:cubicBezTo>
                          <a:pt x="1778968" y="1543839"/>
                          <a:pt x="1753174" y="1499558"/>
                          <a:pt x="1727200" y="1456267"/>
                        </a:cubicBezTo>
                        <a:cubicBezTo>
                          <a:pt x="1685317" y="1386462"/>
                          <a:pt x="1591733" y="1253067"/>
                          <a:pt x="1591733" y="1253067"/>
                        </a:cubicBezTo>
                        <a:cubicBezTo>
                          <a:pt x="1555962" y="1145753"/>
                          <a:pt x="1565165" y="1143657"/>
                          <a:pt x="1490133" y="1049867"/>
                        </a:cubicBezTo>
                        <a:cubicBezTo>
                          <a:pt x="1470187" y="1024934"/>
                          <a:pt x="1442346" y="1007066"/>
                          <a:pt x="1422400" y="982133"/>
                        </a:cubicBezTo>
                        <a:cubicBezTo>
                          <a:pt x="1396973" y="950349"/>
                          <a:pt x="1380094" y="912316"/>
                          <a:pt x="1354667" y="880533"/>
                        </a:cubicBezTo>
                        <a:cubicBezTo>
                          <a:pt x="1334721" y="855600"/>
                          <a:pt x="1306879" y="837733"/>
                          <a:pt x="1286933" y="812800"/>
                        </a:cubicBezTo>
                        <a:cubicBezTo>
                          <a:pt x="1261506" y="781017"/>
                          <a:pt x="1246241" y="741622"/>
                          <a:pt x="1219200" y="711200"/>
                        </a:cubicBezTo>
                        <a:cubicBezTo>
                          <a:pt x="1155561" y="639606"/>
                          <a:pt x="1095702" y="561134"/>
                          <a:pt x="1016000" y="508000"/>
                        </a:cubicBezTo>
                        <a:cubicBezTo>
                          <a:pt x="887833" y="422556"/>
                          <a:pt x="943181" y="469048"/>
                          <a:pt x="846667" y="372533"/>
                        </a:cubicBezTo>
                        <a:cubicBezTo>
                          <a:pt x="835378" y="338666"/>
                          <a:pt x="832602" y="300636"/>
                          <a:pt x="812800" y="270933"/>
                        </a:cubicBezTo>
                        <a:cubicBezTo>
                          <a:pt x="786233" y="231082"/>
                          <a:pt x="749006" y="198737"/>
                          <a:pt x="711200" y="169333"/>
                        </a:cubicBezTo>
                        <a:cubicBezTo>
                          <a:pt x="536524" y="33474"/>
                          <a:pt x="559693" y="51098"/>
                          <a:pt x="406400" y="0"/>
                        </a:cubicBezTo>
                        <a:cubicBezTo>
                          <a:pt x="361244" y="11289"/>
                          <a:pt x="313715" y="15532"/>
                          <a:pt x="270933" y="33867"/>
                        </a:cubicBezTo>
                        <a:cubicBezTo>
                          <a:pt x="53886" y="126887"/>
                          <a:pt x="173770" y="228415"/>
                          <a:pt x="203200" y="508000"/>
                        </a:cubicBezTo>
                        <a:cubicBezTo>
                          <a:pt x="230238" y="764856"/>
                          <a:pt x="168958" y="711013"/>
                          <a:pt x="304800" y="778933"/>
                        </a:cubicBezTo>
                      </a:path>
                    </a:pathLst>
                  </a:custGeom>
                  <a:solidFill>
                    <a:srgbClr val="f2f2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0" name="任意多边形 108"/>
                  <p:cNvSpPr/>
                  <p:nvPr/>
                </p:nvSpPr>
                <p:spPr>
                  <a:xfrm flipH="1" rot="3903600">
                    <a:off x="7709400" y="3157560"/>
                    <a:ext cx="128520" cy="222480"/>
                  </a:xfrm>
                  <a:custGeom>
                    <a:avLst/>
                    <a:gdLst>
                      <a:gd name="textAreaLeft" fmla="*/ -360 w 128520"/>
                      <a:gd name="textAreaRight" fmla="*/ 128520 w 128520"/>
                      <a:gd name="textAreaTop" fmla="*/ 0 h 222480"/>
                      <a:gd name="textAreaBottom" fmla="*/ 222840 h 222480"/>
                    </a:gdLst>
                    <a:ahLst/>
                    <a:rect l="textAreaLeft" t="textAreaTop" r="textAreaRight" b="textAreaBottom"/>
                    <a:pathLst>
                      <a:path w="2065867" h="4030133">
                        <a:moveTo>
                          <a:pt x="270933" y="677333"/>
                        </a:moveTo>
                        <a:cubicBezTo>
                          <a:pt x="259644" y="733778"/>
                          <a:pt x="257278" y="792770"/>
                          <a:pt x="237067" y="846667"/>
                        </a:cubicBezTo>
                        <a:cubicBezTo>
                          <a:pt x="222775" y="884778"/>
                          <a:pt x="187536" y="911861"/>
                          <a:pt x="169333" y="948267"/>
                        </a:cubicBezTo>
                        <a:cubicBezTo>
                          <a:pt x="153368" y="980197"/>
                          <a:pt x="146756" y="1016000"/>
                          <a:pt x="135467" y="1049867"/>
                        </a:cubicBezTo>
                        <a:cubicBezTo>
                          <a:pt x="124178" y="1128889"/>
                          <a:pt x="124537" y="1210475"/>
                          <a:pt x="101600" y="1286933"/>
                        </a:cubicBezTo>
                        <a:cubicBezTo>
                          <a:pt x="89904" y="1325919"/>
                          <a:pt x="52070" y="1352127"/>
                          <a:pt x="33867" y="1388533"/>
                        </a:cubicBezTo>
                        <a:cubicBezTo>
                          <a:pt x="17902" y="1420463"/>
                          <a:pt x="11289" y="1456266"/>
                          <a:pt x="0" y="1490133"/>
                        </a:cubicBezTo>
                        <a:cubicBezTo>
                          <a:pt x="11289" y="1648178"/>
                          <a:pt x="6331" y="1808231"/>
                          <a:pt x="33867" y="1964267"/>
                        </a:cubicBezTo>
                        <a:cubicBezTo>
                          <a:pt x="40941" y="2004350"/>
                          <a:pt x="77942" y="2032746"/>
                          <a:pt x="101600" y="2065867"/>
                        </a:cubicBezTo>
                        <a:cubicBezTo>
                          <a:pt x="134408" y="2111798"/>
                          <a:pt x="167065" y="2157971"/>
                          <a:pt x="203200" y="2201333"/>
                        </a:cubicBezTo>
                        <a:cubicBezTo>
                          <a:pt x="223641" y="2225862"/>
                          <a:pt x="253221" y="2242500"/>
                          <a:pt x="270933" y="2269067"/>
                        </a:cubicBezTo>
                        <a:cubicBezTo>
                          <a:pt x="298937" y="2311073"/>
                          <a:pt x="313619" y="2360700"/>
                          <a:pt x="338667" y="2404533"/>
                        </a:cubicBezTo>
                        <a:cubicBezTo>
                          <a:pt x="443708" y="2588354"/>
                          <a:pt x="378175" y="2421458"/>
                          <a:pt x="440267" y="2607733"/>
                        </a:cubicBezTo>
                        <a:cubicBezTo>
                          <a:pt x="451556" y="2686755"/>
                          <a:pt x="448890" y="2769072"/>
                          <a:pt x="474133" y="2844800"/>
                        </a:cubicBezTo>
                        <a:cubicBezTo>
                          <a:pt x="484230" y="2875091"/>
                          <a:pt x="525439" y="2885153"/>
                          <a:pt x="541867" y="2912533"/>
                        </a:cubicBezTo>
                        <a:cubicBezTo>
                          <a:pt x="692110" y="3162937"/>
                          <a:pt x="437916" y="2858793"/>
                          <a:pt x="643467" y="3115733"/>
                        </a:cubicBezTo>
                        <a:cubicBezTo>
                          <a:pt x="663413" y="3140666"/>
                          <a:pt x="691254" y="3158534"/>
                          <a:pt x="711200" y="3183467"/>
                        </a:cubicBezTo>
                        <a:cubicBezTo>
                          <a:pt x="736627" y="3215251"/>
                          <a:pt x="752130" y="3254435"/>
                          <a:pt x="778933" y="3285067"/>
                        </a:cubicBezTo>
                        <a:cubicBezTo>
                          <a:pt x="831498" y="3345141"/>
                          <a:pt x="900372" y="3390540"/>
                          <a:pt x="948267" y="3454400"/>
                        </a:cubicBezTo>
                        <a:cubicBezTo>
                          <a:pt x="982134" y="3499556"/>
                          <a:pt x="1019951" y="3542002"/>
                          <a:pt x="1049867" y="3589867"/>
                        </a:cubicBezTo>
                        <a:cubicBezTo>
                          <a:pt x="1076624" y="3632678"/>
                          <a:pt x="1089596" y="3683327"/>
                          <a:pt x="1117600" y="3725333"/>
                        </a:cubicBezTo>
                        <a:cubicBezTo>
                          <a:pt x="1164328" y="3795425"/>
                          <a:pt x="1222230" y="3809038"/>
                          <a:pt x="1286933" y="3860800"/>
                        </a:cubicBezTo>
                        <a:cubicBezTo>
                          <a:pt x="1311866" y="3880746"/>
                          <a:pt x="1328100" y="3910821"/>
                          <a:pt x="1354667" y="3928533"/>
                        </a:cubicBezTo>
                        <a:cubicBezTo>
                          <a:pt x="1438370" y="3984335"/>
                          <a:pt x="1501418" y="4000029"/>
                          <a:pt x="1591733" y="4030133"/>
                        </a:cubicBezTo>
                        <a:cubicBezTo>
                          <a:pt x="1670755" y="4018844"/>
                          <a:pt x="1753072" y="4021510"/>
                          <a:pt x="1828800" y="3996267"/>
                        </a:cubicBezTo>
                        <a:cubicBezTo>
                          <a:pt x="1947678" y="3956641"/>
                          <a:pt x="1962781" y="3628192"/>
                          <a:pt x="1964267" y="3623733"/>
                        </a:cubicBezTo>
                        <a:cubicBezTo>
                          <a:pt x="1977138" y="3585119"/>
                          <a:pt x="2013797" y="3558539"/>
                          <a:pt x="2032000" y="3522133"/>
                        </a:cubicBezTo>
                        <a:cubicBezTo>
                          <a:pt x="2047965" y="3490203"/>
                          <a:pt x="2054578" y="3454400"/>
                          <a:pt x="2065867" y="3420533"/>
                        </a:cubicBezTo>
                        <a:cubicBezTo>
                          <a:pt x="2054578" y="3318933"/>
                          <a:pt x="2052048" y="3215973"/>
                          <a:pt x="2032000" y="3115733"/>
                        </a:cubicBezTo>
                        <a:cubicBezTo>
                          <a:pt x="2017998" y="3045722"/>
                          <a:pt x="1964267" y="2912533"/>
                          <a:pt x="1964267" y="2912533"/>
                        </a:cubicBezTo>
                        <a:cubicBezTo>
                          <a:pt x="2045473" y="2668911"/>
                          <a:pt x="1946942" y="2973167"/>
                          <a:pt x="2032000" y="2675467"/>
                        </a:cubicBezTo>
                        <a:cubicBezTo>
                          <a:pt x="2041807" y="2641142"/>
                          <a:pt x="2054578" y="2607734"/>
                          <a:pt x="2065867" y="2573867"/>
                        </a:cubicBezTo>
                        <a:cubicBezTo>
                          <a:pt x="1988036" y="2340376"/>
                          <a:pt x="2048618" y="2421153"/>
                          <a:pt x="1930400" y="2302933"/>
                        </a:cubicBezTo>
                        <a:cubicBezTo>
                          <a:pt x="1919111" y="2257778"/>
                          <a:pt x="1909320" y="2212221"/>
                          <a:pt x="1896533" y="2167467"/>
                        </a:cubicBezTo>
                        <a:cubicBezTo>
                          <a:pt x="1886726" y="2133142"/>
                          <a:pt x="1868536" y="2101080"/>
                          <a:pt x="1862667" y="2065867"/>
                        </a:cubicBezTo>
                        <a:cubicBezTo>
                          <a:pt x="1846052" y="1966175"/>
                          <a:pt x="1835554" y="1713597"/>
                          <a:pt x="1794933" y="1591733"/>
                        </a:cubicBezTo>
                        <a:cubicBezTo>
                          <a:pt x="1778968" y="1543839"/>
                          <a:pt x="1753174" y="1499558"/>
                          <a:pt x="1727200" y="1456267"/>
                        </a:cubicBezTo>
                        <a:cubicBezTo>
                          <a:pt x="1685317" y="1386462"/>
                          <a:pt x="1591733" y="1253067"/>
                          <a:pt x="1591733" y="1253067"/>
                        </a:cubicBezTo>
                        <a:cubicBezTo>
                          <a:pt x="1555962" y="1145753"/>
                          <a:pt x="1565165" y="1143657"/>
                          <a:pt x="1490133" y="1049867"/>
                        </a:cubicBezTo>
                        <a:cubicBezTo>
                          <a:pt x="1470187" y="1024934"/>
                          <a:pt x="1442346" y="1007066"/>
                          <a:pt x="1422400" y="982133"/>
                        </a:cubicBezTo>
                        <a:cubicBezTo>
                          <a:pt x="1396973" y="950349"/>
                          <a:pt x="1380094" y="912316"/>
                          <a:pt x="1354667" y="880533"/>
                        </a:cubicBezTo>
                        <a:cubicBezTo>
                          <a:pt x="1334721" y="855600"/>
                          <a:pt x="1306879" y="837733"/>
                          <a:pt x="1286933" y="812800"/>
                        </a:cubicBezTo>
                        <a:cubicBezTo>
                          <a:pt x="1261506" y="781017"/>
                          <a:pt x="1246241" y="741622"/>
                          <a:pt x="1219200" y="711200"/>
                        </a:cubicBezTo>
                        <a:cubicBezTo>
                          <a:pt x="1155561" y="639606"/>
                          <a:pt x="1095702" y="561134"/>
                          <a:pt x="1016000" y="508000"/>
                        </a:cubicBezTo>
                        <a:cubicBezTo>
                          <a:pt x="887833" y="422556"/>
                          <a:pt x="943181" y="469048"/>
                          <a:pt x="846667" y="372533"/>
                        </a:cubicBezTo>
                        <a:cubicBezTo>
                          <a:pt x="835378" y="338666"/>
                          <a:pt x="832602" y="300636"/>
                          <a:pt x="812800" y="270933"/>
                        </a:cubicBezTo>
                        <a:cubicBezTo>
                          <a:pt x="786233" y="231082"/>
                          <a:pt x="749006" y="198737"/>
                          <a:pt x="711200" y="169333"/>
                        </a:cubicBezTo>
                        <a:cubicBezTo>
                          <a:pt x="536524" y="33474"/>
                          <a:pt x="559693" y="51098"/>
                          <a:pt x="406400" y="0"/>
                        </a:cubicBezTo>
                        <a:cubicBezTo>
                          <a:pt x="361244" y="11289"/>
                          <a:pt x="313715" y="15532"/>
                          <a:pt x="270933" y="33867"/>
                        </a:cubicBezTo>
                        <a:cubicBezTo>
                          <a:pt x="53886" y="126887"/>
                          <a:pt x="173770" y="228415"/>
                          <a:pt x="203200" y="508000"/>
                        </a:cubicBezTo>
                        <a:cubicBezTo>
                          <a:pt x="230238" y="764856"/>
                          <a:pt x="168958" y="711013"/>
                          <a:pt x="304800" y="778933"/>
                        </a:cubicBezTo>
                      </a:path>
                    </a:pathLst>
                  </a:custGeom>
                  <a:solidFill>
                    <a:srgbClr val="f2f2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1" name=""/>
                <p:cNvGrpSpPr/>
                <p:nvPr/>
              </p:nvGrpSpPr>
              <p:grpSpPr>
                <a:xfrm>
                  <a:off x="7500240" y="3686040"/>
                  <a:ext cx="1395360" cy="1373040"/>
                  <a:chOff x="7500240" y="3686040"/>
                  <a:chExt cx="1395360" cy="1373040"/>
                </a:xfrm>
              </p:grpSpPr>
              <p:sp>
                <p:nvSpPr>
                  <p:cNvPr id="442" name="任意多边形 103"/>
                  <p:cNvSpPr/>
                  <p:nvPr/>
                </p:nvSpPr>
                <p:spPr>
                  <a:xfrm flipH="1" rot="1846200">
                    <a:off x="7488360" y="3916800"/>
                    <a:ext cx="963360" cy="221040"/>
                  </a:xfrm>
                  <a:custGeom>
                    <a:avLst/>
                    <a:gdLst>
                      <a:gd name="textAreaLeft" fmla="*/ 360 w 963360"/>
                      <a:gd name="textAreaRight" fmla="*/ 964080 w 963360"/>
                      <a:gd name="textAreaTop" fmla="*/ 0 h 221040"/>
                      <a:gd name="textAreaBottom" fmla="*/ 221400 h 221040"/>
                    </a:gdLst>
                    <a:ahLst/>
                    <a:rect l="textAreaLeft" t="textAreaTop" r="textAreaRight" b="textAreaBottom"/>
                    <a:pathLst>
                      <a:path w="2065867" h="4030133">
                        <a:moveTo>
                          <a:pt x="270933" y="677333"/>
                        </a:moveTo>
                        <a:cubicBezTo>
                          <a:pt x="259644" y="733778"/>
                          <a:pt x="257278" y="792770"/>
                          <a:pt x="237067" y="846667"/>
                        </a:cubicBezTo>
                        <a:cubicBezTo>
                          <a:pt x="222775" y="884778"/>
                          <a:pt x="187536" y="911861"/>
                          <a:pt x="169333" y="948267"/>
                        </a:cubicBezTo>
                        <a:cubicBezTo>
                          <a:pt x="153368" y="980197"/>
                          <a:pt x="146756" y="1016000"/>
                          <a:pt x="135467" y="1049867"/>
                        </a:cubicBezTo>
                        <a:cubicBezTo>
                          <a:pt x="124178" y="1128889"/>
                          <a:pt x="124537" y="1210475"/>
                          <a:pt x="101600" y="1286933"/>
                        </a:cubicBezTo>
                        <a:cubicBezTo>
                          <a:pt x="89904" y="1325919"/>
                          <a:pt x="52070" y="1352127"/>
                          <a:pt x="33867" y="1388533"/>
                        </a:cubicBezTo>
                        <a:cubicBezTo>
                          <a:pt x="17902" y="1420463"/>
                          <a:pt x="11289" y="1456266"/>
                          <a:pt x="0" y="1490133"/>
                        </a:cubicBezTo>
                        <a:cubicBezTo>
                          <a:pt x="11289" y="1648178"/>
                          <a:pt x="6331" y="1808231"/>
                          <a:pt x="33867" y="1964267"/>
                        </a:cubicBezTo>
                        <a:cubicBezTo>
                          <a:pt x="40941" y="2004350"/>
                          <a:pt x="77942" y="2032746"/>
                          <a:pt x="101600" y="2065867"/>
                        </a:cubicBezTo>
                        <a:cubicBezTo>
                          <a:pt x="134408" y="2111798"/>
                          <a:pt x="167065" y="2157971"/>
                          <a:pt x="203200" y="2201333"/>
                        </a:cubicBezTo>
                        <a:cubicBezTo>
                          <a:pt x="223641" y="2225862"/>
                          <a:pt x="253221" y="2242500"/>
                          <a:pt x="270933" y="2269067"/>
                        </a:cubicBezTo>
                        <a:cubicBezTo>
                          <a:pt x="298937" y="2311073"/>
                          <a:pt x="313619" y="2360700"/>
                          <a:pt x="338667" y="2404533"/>
                        </a:cubicBezTo>
                        <a:cubicBezTo>
                          <a:pt x="443708" y="2588354"/>
                          <a:pt x="378175" y="2421458"/>
                          <a:pt x="440267" y="2607733"/>
                        </a:cubicBezTo>
                        <a:cubicBezTo>
                          <a:pt x="451556" y="2686755"/>
                          <a:pt x="448890" y="2769072"/>
                          <a:pt x="474133" y="2844800"/>
                        </a:cubicBezTo>
                        <a:cubicBezTo>
                          <a:pt x="484230" y="2875091"/>
                          <a:pt x="525439" y="2885153"/>
                          <a:pt x="541867" y="2912533"/>
                        </a:cubicBezTo>
                        <a:cubicBezTo>
                          <a:pt x="692110" y="3162937"/>
                          <a:pt x="437916" y="2858793"/>
                          <a:pt x="643467" y="3115733"/>
                        </a:cubicBezTo>
                        <a:cubicBezTo>
                          <a:pt x="663413" y="3140666"/>
                          <a:pt x="691254" y="3158534"/>
                          <a:pt x="711200" y="3183467"/>
                        </a:cubicBezTo>
                        <a:cubicBezTo>
                          <a:pt x="736627" y="3215251"/>
                          <a:pt x="752130" y="3254435"/>
                          <a:pt x="778933" y="3285067"/>
                        </a:cubicBezTo>
                        <a:cubicBezTo>
                          <a:pt x="831498" y="3345141"/>
                          <a:pt x="900372" y="3390540"/>
                          <a:pt x="948267" y="3454400"/>
                        </a:cubicBezTo>
                        <a:cubicBezTo>
                          <a:pt x="982134" y="3499556"/>
                          <a:pt x="1019951" y="3542002"/>
                          <a:pt x="1049867" y="3589867"/>
                        </a:cubicBezTo>
                        <a:cubicBezTo>
                          <a:pt x="1076624" y="3632678"/>
                          <a:pt x="1089596" y="3683327"/>
                          <a:pt x="1117600" y="3725333"/>
                        </a:cubicBezTo>
                        <a:cubicBezTo>
                          <a:pt x="1164328" y="3795425"/>
                          <a:pt x="1222230" y="3809038"/>
                          <a:pt x="1286933" y="3860800"/>
                        </a:cubicBezTo>
                        <a:cubicBezTo>
                          <a:pt x="1311866" y="3880746"/>
                          <a:pt x="1328100" y="3910821"/>
                          <a:pt x="1354667" y="3928533"/>
                        </a:cubicBezTo>
                        <a:cubicBezTo>
                          <a:pt x="1438370" y="3984335"/>
                          <a:pt x="1501418" y="4000029"/>
                          <a:pt x="1591733" y="4030133"/>
                        </a:cubicBezTo>
                        <a:cubicBezTo>
                          <a:pt x="1670755" y="4018844"/>
                          <a:pt x="1753072" y="4021510"/>
                          <a:pt x="1828800" y="3996267"/>
                        </a:cubicBezTo>
                        <a:cubicBezTo>
                          <a:pt x="1947678" y="3956641"/>
                          <a:pt x="1962781" y="3628192"/>
                          <a:pt x="1964267" y="3623733"/>
                        </a:cubicBezTo>
                        <a:cubicBezTo>
                          <a:pt x="1977138" y="3585119"/>
                          <a:pt x="2013797" y="3558539"/>
                          <a:pt x="2032000" y="3522133"/>
                        </a:cubicBezTo>
                        <a:cubicBezTo>
                          <a:pt x="2047965" y="3490203"/>
                          <a:pt x="2054578" y="3454400"/>
                          <a:pt x="2065867" y="3420533"/>
                        </a:cubicBezTo>
                        <a:cubicBezTo>
                          <a:pt x="2054578" y="3318933"/>
                          <a:pt x="2052048" y="3215973"/>
                          <a:pt x="2032000" y="3115733"/>
                        </a:cubicBezTo>
                        <a:cubicBezTo>
                          <a:pt x="2017998" y="3045722"/>
                          <a:pt x="1964267" y="2912533"/>
                          <a:pt x="1964267" y="2912533"/>
                        </a:cubicBezTo>
                        <a:cubicBezTo>
                          <a:pt x="2045473" y="2668911"/>
                          <a:pt x="1946942" y="2973167"/>
                          <a:pt x="2032000" y="2675467"/>
                        </a:cubicBezTo>
                        <a:cubicBezTo>
                          <a:pt x="2041807" y="2641142"/>
                          <a:pt x="2054578" y="2607734"/>
                          <a:pt x="2065867" y="2573867"/>
                        </a:cubicBezTo>
                        <a:cubicBezTo>
                          <a:pt x="1988036" y="2340376"/>
                          <a:pt x="2048618" y="2421153"/>
                          <a:pt x="1930400" y="2302933"/>
                        </a:cubicBezTo>
                        <a:cubicBezTo>
                          <a:pt x="1919111" y="2257778"/>
                          <a:pt x="1909320" y="2212221"/>
                          <a:pt x="1896533" y="2167467"/>
                        </a:cubicBezTo>
                        <a:cubicBezTo>
                          <a:pt x="1886726" y="2133142"/>
                          <a:pt x="1868536" y="2101080"/>
                          <a:pt x="1862667" y="2065867"/>
                        </a:cubicBezTo>
                        <a:cubicBezTo>
                          <a:pt x="1846052" y="1966175"/>
                          <a:pt x="1835554" y="1713597"/>
                          <a:pt x="1794933" y="1591733"/>
                        </a:cubicBezTo>
                        <a:cubicBezTo>
                          <a:pt x="1778968" y="1543839"/>
                          <a:pt x="1753174" y="1499558"/>
                          <a:pt x="1727200" y="1456267"/>
                        </a:cubicBezTo>
                        <a:cubicBezTo>
                          <a:pt x="1685317" y="1386462"/>
                          <a:pt x="1591733" y="1253067"/>
                          <a:pt x="1591733" y="1253067"/>
                        </a:cubicBezTo>
                        <a:cubicBezTo>
                          <a:pt x="1555962" y="1145753"/>
                          <a:pt x="1565165" y="1143657"/>
                          <a:pt x="1490133" y="1049867"/>
                        </a:cubicBezTo>
                        <a:cubicBezTo>
                          <a:pt x="1470187" y="1024934"/>
                          <a:pt x="1442346" y="1007066"/>
                          <a:pt x="1422400" y="982133"/>
                        </a:cubicBezTo>
                        <a:cubicBezTo>
                          <a:pt x="1396973" y="950349"/>
                          <a:pt x="1380094" y="912316"/>
                          <a:pt x="1354667" y="880533"/>
                        </a:cubicBezTo>
                        <a:cubicBezTo>
                          <a:pt x="1334721" y="855600"/>
                          <a:pt x="1306879" y="837733"/>
                          <a:pt x="1286933" y="812800"/>
                        </a:cubicBezTo>
                        <a:cubicBezTo>
                          <a:pt x="1261506" y="781017"/>
                          <a:pt x="1246241" y="741622"/>
                          <a:pt x="1219200" y="711200"/>
                        </a:cubicBezTo>
                        <a:cubicBezTo>
                          <a:pt x="1155561" y="639606"/>
                          <a:pt x="1095702" y="561134"/>
                          <a:pt x="1016000" y="508000"/>
                        </a:cubicBezTo>
                        <a:cubicBezTo>
                          <a:pt x="887833" y="422556"/>
                          <a:pt x="943181" y="469048"/>
                          <a:pt x="846667" y="372533"/>
                        </a:cubicBezTo>
                        <a:cubicBezTo>
                          <a:pt x="835378" y="338666"/>
                          <a:pt x="832602" y="300636"/>
                          <a:pt x="812800" y="270933"/>
                        </a:cubicBezTo>
                        <a:cubicBezTo>
                          <a:pt x="786233" y="231082"/>
                          <a:pt x="749006" y="198737"/>
                          <a:pt x="711200" y="169333"/>
                        </a:cubicBezTo>
                        <a:cubicBezTo>
                          <a:pt x="536524" y="33474"/>
                          <a:pt x="559693" y="51098"/>
                          <a:pt x="406400" y="0"/>
                        </a:cubicBezTo>
                        <a:cubicBezTo>
                          <a:pt x="361244" y="11289"/>
                          <a:pt x="313715" y="15532"/>
                          <a:pt x="270933" y="33867"/>
                        </a:cubicBezTo>
                        <a:cubicBezTo>
                          <a:pt x="53886" y="126887"/>
                          <a:pt x="173770" y="228415"/>
                          <a:pt x="203200" y="508000"/>
                        </a:cubicBezTo>
                        <a:cubicBezTo>
                          <a:pt x="230238" y="764856"/>
                          <a:pt x="168958" y="711013"/>
                          <a:pt x="304800" y="778933"/>
                        </a:cubicBez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3" name="任意多边形 104"/>
                  <p:cNvSpPr/>
                  <p:nvPr/>
                </p:nvSpPr>
                <p:spPr>
                  <a:xfrm flipH="1" rot="3427800">
                    <a:off x="8536680" y="4683600"/>
                    <a:ext cx="283680" cy="332280"/>
                  </a:xfrm>
                  <a:custGeom>
                    <a:avLst/>
                    <a:gdLst>
                      <a:gd name="textAreaLeft" fmla="*/ 360 w 283680"/>
                      <a:gd name="textAreaRight" fmla="*/ 284400 w 283680"/>
                      <a:gd name="textAreaTop" fmla="*/ 0 h 332280"/>
                      <a:gd name="textAreaBottom" fmla="*/ 332640 h 332280"/>
                    </a:gdLst>
                    <a:ahLst/>
                    <a:rect l="textAreaLeft" t="textAreaTop" r="textAreaRight" b="textAreaBottom"/>
                    <a:pathLst>
                      <a:path w="2065867" h="4030133">
                        <a:moveTo>
                          <a:pt x="270933" y="677333"/>
                        </a:moveTo>
                        <a:cubicBezTo>
                          <a:pt x="259644" y="733778"/>
                          <a:pt x="257278" y="792770"/>
                          <a:pt x="237067" y="846667"/>
                        </a:cubicBezTo>
                        <a:cubicBezTo>
                          <a:pt x="222775" y="884778"/>
                          <a:pt x="187536" y="911861"/>
                          <a:pt x="169333" y="948267"/>
                        </a:cubicBezTo>
                        <a:cubicBezTo>
                          <a:pt x="153368" y="980197"/>
                          <a:pt x="146756" y="1016000"/>
                          <a:pt x="135467" y="1049867"/>
                        </a:cubicBezTo>
                        <a:cubicBezTo>
                          <a:pt x="124178" y="1128889"/>
                          <a:pt x="124537" y="1210475"/>
                          <a:pt x="101600" y="1286933"/>
                        </a:cubicBezTo>
                        <a:cubicBezTo>
                          <a:pt x="89904" y="1325919"/>
                          <a:pt x="52070" y="1352127"/>
                          <a:pt x="33867" y="1388533"/>
                        </a:cubicBezTo>
                        <a:cubicBezTo>
                          <a:pt x="17902" y="1420463"/>
                          <a:pt x="11289" y="1456266"/>
                          <a:pt x="0" y="1490133"/>
                        </a:cubicBezTo>
                        <a:cubicBezTo>
                          <a:pt x="11289" y="1648178"/>
                          <a:pt x="6331" y="1808231"/>
                          <a:pt x="33867" y="1964267"/>
                        </a:cubicBezTo>
                        <a:cubicBezTo>
                          <a:pt x="40941" y="2004350"/>
                          <a:pt x="77942" y="2032746"/>
                          <a:pt x="101600" y="2065867"/>
                        </a:cubicBezTo>
                        <a:cubicBezTo>
                          <a:pt x="134408" y="2111798"/>
                          <a:pt x="167065" y="2157971"/>
                          <a:pt x="203200" y="2201333"/>
                        </a:cubicBezTo>
                        <a:cubicBezTo>
                          <a:pt x="223641" y="2225862"/>
                          <a:pt x="253221" y="2242500"/>
                          <a:pt x="270933" y="2269067"/>
                        </a:cubicBezTo>
                        <a:cubicBezTo>
                          <a:pt x="298937" y="2311073"/>
                          <a:pt x="313619" y="2360700"/>
                          <a:pt x="338667" y="2404533"/>
                        </a:cubicBezTo>
                        <a:cubicBezTo>
                          <a:pt x="443708" y="2588354"/>
                          <a:pt x="378175" y="2421458"/>
                          <a:pt x="440267" y="2607733"/>
                        </a:cubicBezTo>
                        <a:cubicBezTo>
                          <a:pt x="451556" y="2686755"/>
                          <a:pt x="448890" y="2769072"/>
                          <a:pt x="474133" y="2844800"/>
                        </a:cubicBezTo>
                        <a:cubicBezTo>
                          <a:pt x="484230" y="2875091"/>
                          <a:pt x="525439" y="2885153"/>
                          <a:pt x="541867" y="2912533"/>
                        </a:cubicBezTo>
                        <a:cubicBezTo>
                          <a:pt x="692110" y="3162937"/>
                          <a:pt x="437916" y="2858793"/>
                          <a:pt x="643467" y="3115733"/>
                        </a:cubicBezTo>
                        <a:cubicBezTo>
                          <a:pt x="663413" y="3140666"/>
                          <a:pt x="691254" y="3158534"/>
                          <a:pt x="711200" y="3183467"/>
                        </a:cubicBezTo>
                        <a:cubicBezTo>
                          <a:pt x="736627" y="3215251"/>
                          <a:pt x="752130" y="3254435"/>
                          <a:pt x="778933" y="3285067"/>
                        </a:cubicBezTo>
                        <a:cubicBezTo>
                          <a:pt x="831498" y="3345141"/>
                          <a:pt x="900372" y="3390540"/>
                          <a:pt x="948267" y="3454400"/>
                        </a:cubicBezTo>
                        <a:cubicBezTo>
                          <a:pt x="982134" y="3499556"/>
                          <a:pt x="1019951" y="3542002"/>
                          <a:pt x="1049867" y="3589867"/>
                        </a:cubicBezTo>
                        <a:cubicBezTo>
                          <a:pt x="1076624" y="3632678"/>
                          <a:pt x="1089596" y="3683327"/>
                          <a:pt x="1117600" y="3725333"/>
                        </a:cubicBezTo>
                        <a:cubicBezTo>
                          <a:pt x="1164328" y="3795425"/>
                          <a:pt x="1222230" y="3809038"/>
                          <a:pt x="1286933" y="3860800"/>
                        </a:cubicBezTo>
                        <a:cubicBezTo>
                          <a:pt x="1311866" y="3880746"/>
                          <a:pt x="1328100" y="3910821"/>
                          <a:pt x="1354667" y="3928533"/>
                        </a:cubicBezTo>
                        <a:cubicBezTo>
                          <a:pt x="1438370" y="3984335"/>
                          <a:pt x="1501418" y="4000029"/>
                          <a:pt x="1591733" y="4030133"/>
                        </a:cubicBezTo>
                        <a:cubicBezTo>
                          <a:pt x="1670755" y="4018844"/>
                          <a:pt x="1753072" y="4021510"/>
                          <a:pt x="1828800" y="3996267"/>
                        </a:cubicBezTo>
                        <a:cubicBezTo>
                          <a:pt x="1947678" y="3956641"/>
                          <a:pt x="1962781" y="3628192"/>
                          <a:pt x="1964267" y="3623733"/>
                        </a:cubicBezTo>
                        <a:cubicBezTo>
                          <a:pt x="1977138" y="3585119"/>
                          <a:pt x="2013797" y="3558539"/>
                          <a:pt x="2032000" y="3522133"/>
                        </a:cubicBezTo>
                        <a:cubicBezTo>
                          <a:pt x="2047965" y="3490203"/>
                          <a:pt x="2054578" y="3454400"/>
                          <a:pt x="2065867" y="3420533"/>
                        </a:cubicBezTo>
                        <a:cubicBezTo>
                          <a:pt x="2054578" y="3318933"/>
                          <a:pt x="2052048" y="3215973"/>
                          <a:pt x="2032000" y="3115733"/>
                        </a:cubicBezTo>
                        <a:cubicBezTo>
                          <a:pt x="2017998" y="3045722"/>
                          <a:pt x="1964267" y="2912533"/>
                          <a:pt x="1964267" y="2912533"/>
                        </a:cubicBezTo>
                        <a:cubicBezTo>
                          <a:pt x="2045473" y="2668911"/>
                          <a:pt x="1946942" y="2973167"/>
                          <a:pt x="2032000" y="2675467"/>
                        </a:cubicBezTo>
                        <a:cubicBezTo>
                          <a:pt x="2041807" y="2641142"/>
                          <a:pt x="2054578" y="2607734"/>
                          <a:pt x="2065867" y="2573867"/>
                        </a:cubicBezTo>
                        <a:cubicBezTo>
                          <a:pt x="1988036" y="2340376"/>
                          <a:pt x="2048618" y="2421153"/>
                          <a:pt x="1930400" y="2302933"/>
                        </a:cubicBezTo>
                        <a:cubicBezTo>
                          <a:pt x="1919111" y="2257778"/>
                          <a:pt x="1909320" y="2212221"/>
                          <a:pt x="1896533" y="2167467"/>
                        </a:cubicBezTo>
                        <a:cubicBezTo>
                          <a:pt x="1886726" y="2133142"/>
                          <a:pt x="1868536" y="2101080"/>
                          <a:pt x="1862667" y="2065867"/>
                        </a:cubicBezTo>
                        <a:cubicBezTo>
                          <a:pt x="1846052" y="1966175"/>
                          <a:pt x="1835554" y="1713597"/>
                          <a:pt x="1794933" y="1591733"/>
                        </a:cubicBezTo>
                        <a:cubicBezTo>
                          <a:pt x="1778968" y="1543839"/>
                          <a:pt x="1753174" y="1499558"/>
                          <a:pt x="1727200" y="1456267"/>
                        </a:cubicBezTo>
                        <a:cubicBezTo>
                          <a:pt x="1685317" y="1386462"/>
                          <a:pt x="1591733" y="1253067"/>
                          <a:pt x="1591733" y="1253067"/>
                        </a:cubicBezTo>
                        <a:cubicBezTo>
                          <a:pt x="1555962" y="1145753"/>
                          <a:pt x="1565165" y="1143657"/>
                          <a:pt x="1490133" y="1049867"/>
                        </a:cubicBezTo>
                        <a:cubicBezTo>
                          <a:pt x="1470187" y="1024934"/>
                          <a:pt x="1442346" y="1007066"/>
                          <a:pt x="1422400" y="982133"/>
                        </a:cubicBezTo>
                        <a:cubicBezTo>
                          <a:pt x="1396973" y="950349"/>
                          <a:pt x="1380094" y="912316"/>
                          <a:pt x="1354667" y="880533"/>
                        </a:cubicBezTo>
                        <a:cubicBezTo>
                          <a:pt x="1334721" y="855600"/>
                          <a:pt x="1306879" y="837733"/>
                          <a:pt x="1286933" y="812800"/>
                        </a:cubicBezTo>
                        <a:cubicBezTo>
                          <a:pt x="1261506" y="781017"/>
                          <a:pt x="1246241" y="741622"/>
                          <a:pt x="1219200" y="711200"/>
                        </a:cubicBezTo>
                        <a:cubicBezTo>
                          <a:pt x="1155561" y="639606"/>
                          <a:pt x="1095702" y="561134"/>
                          <a:pt x="1016000" y="508000"/>
                        </a:cubicBezTo>
                        <a:cubicBezTo>
                          <a:pt x="887833" y="422556"/>
                          <a:pt x="943181" y="469048"/>
                          <a:pt x="846667" y="372533"/>
                        </a:cubicBezTo>
                        <a:cubicBezTo>
                          <a:pt x="835378" y="338666"/>
                          <a:pt x="832602" y="300636"/>
                          <a:pt x="812800" y="270933"/>
                        </a:cubicBezTo>
                        <a:cubicBezTo>
                          <a:pt x="786233" y="231082"/>
                          <a:pt x="749006" y="198737"/>
                          <a:pt x="711200" y="169333"/>
                        </a:cubicBezTo>
                        <a:cubicBezTo>
                          <a:pt x="536524" y="33474"/>
                          <a:pt x="559693" y="51098"/>
                          <a:pt x="406400" y="0"/>
                        </a:cubicBezTo>
                        <a:cubicBezTo>
                          <a:pt x="361244" y="11289"/>
                          <a:pt x="313715" y="15532"/>
                          <a:pt x="270933" y="33867"/>
                        </a:cubicBezTo>
                        <a:cubicBezTo>
                          <a:pt x="53886" y="126887"/>
                          <a:pt x="173770" y="228415"/>
                          <a:pt x="203200" y="508000"/>
                        </a:cubicBezTo>
                        <a:cubicBezTo>
                          <a:pt x="230238" y="764856"/>
                          <a:pt x="168958" y="711013"/>
                          <a:pt x="304800" y="778933"/>
                        </a:cubicBezTo>
                      </a:path>
                    </a:pathLst>
                  </a:custGeom>
                  <a:solidFill>
                    <a:srgbClr val="f2f2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4" name="任意多边形 105"/>
                  <p:cNvSpPr/>
                  <p:nvPr/>
                </p:nvSpPr>
                <p:spPr>
                  <a:xfrm flipH="1" rot="4120800">
                    <a:off x="7565400" y="3877560"/>
                    <a:ext cx="194760" cy="133200"/>
                  </a:xfrm>
                  <a:custGeom>
                    <a:avLst/>
                    <a:gdLst>
                      <a:gd name="textAreaLeft" fmla="*/ -360 w 194760"/>
                      <a:gd name="textAreaRight" fmla="*/ 194760 w 194760"/>
                      <a:gd name="textAreaTop" fmla="*/ 0 h 133200"/>
                      <a:gd name="textAreaBottom" fmla="*/ 133560 h 133200"/>
                    </a:gdLst>
                    <a:ahLst/>
                    <a:rect l="textAreaLeft" t="textAreaTop" r="textAreaRight" b="textAreaBottom"/>
                    <a:pathLst>
                      <a:path w="2065867" h="4030133">
                        <a:moveTo>
                          <a:pt x="270933" y="677333"/>
                        </a:moveTo>
                        <a:cubicBezTo>
                          <a:pt x="259644" y="733778"/>
                          <a:pt x="257278" y="792770"/>
                          <a:pt x="237067" y="846667"/>
                        </a:cubicBezTo>
                        <a:cubicBezTo>
                          <a:pt x="222775" y="884778"/>
                          <a:pt x="187536" y="911861"/>
                          <a:pt x="169333" y="948267"/>
                        </a:cubicBezTo>
                        <a:cubicBezTo>
                          <a:pt x="153368" y="980197"/>
                          <a:pt x="146756" y="1016000"/>
                          <a:pt x="135467" y="1049867"/>
                        </a:cubicBezTo>
                        <a:cubicBezTo>
                          <a:pt x="124178" y="1128889"/>
                          <a:pt x="124537" y="1210475"/>
                          <a:pt x="101600" y="1286933"/>
                        </a:cubicBezTo>
                        <a:cubicBezTo>
                          <a:pt x="89904" y="1325919"/>
                          <a:pt x="52070" y="1352127"/>
                          <a:pt x="33867" y="1388533"/>
                        </a:cubicBezTo>
                        <a:cubicBezTo>
                          <a:pt x="17902" y="1420463"/>
                          <a:pt x="11289" y="1456266"/>
                          <a:pt x="0" y="1490133"/>
                        </a:cubicBezTo>
                        <a:cubicBezTo>
                          <a:pt x="11289" y="1648178"/>
                          <a:pt x="6331" y="1808231"/>
                          <a:pt x="33867" y="1964267"/>
                        </a:cubicBezTo>
                        <a:cubicBezTo>
                          <a:pt x="40941" y="2004350"/>
                          <a:pt x="77942" y="2032746"/>
                          <a:pt x="101600" y="2065867"/>
                        </a:cubicBezTo>
                        <a:cubicBezTo>
                          <a:pt x="134408" y="2111798"/>
                          <a:pt x="167065" y="2157971"/>
                          <a:pt x="203200" y="2201333"/>
                        </a:cubicBezTo>
                        <a:cubicBezTo>
                          <a:pt x="223641" y="2225862"/>
                          <a:pt x="253221" y="2242500"/>
                          <a:pt x="270933" y="2269067"/>
                        </a:cubicBezTo>
                        <a:cubicBezTo>
                          <a:pt x="298937" y="2311073"/>
                          <a:pt x="313619" y="2360700"/>
                          <a:pt x="338667" y="2404533"/>
                        </a:cubicBezTo>
                        <a:cubicBezTo>
                          <a:pt x="443708" y="2588354"/>
                          <a:pt x="378175" y="2421458"/>
                          <a:pt x="440267" y="2607733"/>
                        </a:cubicBezTo>
                        <a:cubicBezTo>
                          <a:pt x="451556" y="2686755"/>
                          <a:pt x="448890" y="2769072"/>
                          <a:pt x="474133" y="2844800"/>
                        </a:cubicBezTo>
                        <a:cubicBezTo>
                          <a:pt x="484230" y="2875091"/>
                          <a:pt x="525439" y="2885153"/>
                          <a:pt x="541867" y="2912533"/>
                        </a:cubicBezTo>
                        <a:cubicBezTo>
                          <a:pt x="692110" y="3162937"/>
                          <a:pt x="437916" y="2858793"/>
                          <a:pt x="643467" y="3115733"/>
                        </a:cubicBezTo>
                        <a:cubicBezTo>
                          <a:pt x="663413" y="3140666"/>
                          <a:pt x="691254" y="3158534"/>
                          <a:pt x="711200" y="3183467"/>
                        </a:cubicBezTo>
                        <a:cubicBezTo>
                          <a:pt x="736627" y="3215251"/>
                          <a:pt x="752130" y="3254435"/>
                          <a:pt x="778933" y="3285067"/>
                        </a:cubicBezTo>
                        <a:cubicBezTo>
                          <a:pt x="831498" y="3345141"/>
                          <a:pt x="900372" y="3390540"/>
                          <a:pt x="948267" y="3454400"/>
                        </a:cubicBezTo>
                        <a:cubicBezTo>
                          <a:pt x="982134" y="3499556"/>
                          <a:pt x="1019951" y="3542002"/>
                          <a:pt x="1049867" y="3589867"/>
                        </a:cubicBezTo>
                        <a:cubicBezTo>
                          <a:pt x="1076624" y="3632678"/>
                          <a:pt x="1089596" y="3683327"/>
                          <a:pt x="1117600" y="3725333"/>
                        </a:cubicBezTo>
                        <a:cubicBezTo>
                          <a:pt x="1164328" y="3795425"/>
                          <a:pt x="1222230" y="3809038"/>
                          <a:pt x="1286933" y="3860800"/>
                        </a:cubicBezTo>
                        <a:cubicBezTo>
                          <a:pt x="1311866" y="3880746"/>
                          <a:pt x="1328100" y="3910821"/>
                          <a:pt x="1354667" y="3928533"/>
                        </a:cubicBezTo>
                        <a:cubicBezTo>
                          <a:pt x="1438370" y="3984335"/>
                          <a:pt x="1501418" y="4000029"/>
                          <a:pt x="1591733" y="4030133"/>
                        </a:cubicBezTo>
                        <a:cubicBezTo>
                          <a:pt x="1670755" y="4018844"/>
                          <a:pt x="1753072" y="4021510"/>
                          <a:pt x="1828800" y="3996267"/>
                        </a:cubicBezTo>
                        <a:cubicBezTo>
                          <a:pt x="1947678" y="3956641"/>
                          <a:pt x="1962781" y="3628192"/>
                          <a:pt x="1964267" y="3623733"/>
                        </a:cubicBezTo>
                        <a:cubicBezTo>
                          <a:pt x="1977138" y="3585119"/>
                          <a:pt x="2013797" y="3558539"/>
                          <a:pt x="2032000" y="3522133"/>
                        </a:cubicBezTo>
                        <a:cubicBezTo>
                          <a:pt x="2047965" y="3490203"/>
                          <a:pt x="2054578" y="3454400"/>
                          <a:pt x="2065867" y="3420533"/>
                        </a:cubicBezTo>
                        <a:cubicBezTo>
                          <a:pt x="2054578" y="3318933"/>
                          <a:pt x="2052048" y="3215973"/>
                          <a:pt x="2032000" y="3115733"/>
                        </a:cubicBezTo>
                        <a:cubicBezTo>
                          <a:pt x="2017998" y="3045722"/>
                          <a:pt x="1964267" y="2912533"/>
                          <a:pt x="1964267" y="2912533"/>
                        </a:cubicBezTo>
                        <a:cubicBezTo>
                          <a:pt x="2045473" y="2668911"/>
                          <a:pt x="1946942" y="2973167"/>
                          <a:pt x="2032000" y="2675467"/>
                        </a:cubicBezTo>
                        <a:cubicBezTo>
                          <a:pt x="2041807" y="2641142"/>
                          <a:pt x="2054578" y="2607734"/>
                          <a:pt x="2065867" y="2573867"/>
                        </a:cubicBezTo>
                        <a:cubicBezTo>
                          <a:pt x="1988036" y="2340376"/>
                          <a:pt x="2048618" y="2421153"/>
                          <a:pt x="1930400" y="2302933"/>
                        </a:cubicBezTo>
                        <a:cubicBezTo>
                          <a:pt x="1919111" y="2257778"/>
                          <a:pt x="1909320" y="2212221"/>
                          <a:pt x="1896533" y="2167467"/>
                        </a:cubicBezTo>
                        <a:cubicBezTo>
                          <a:pt x="1886726" y="2133142"/>
                          <a:pt x="1868536" y="2101080"/>
                          <a:pt x="1862667" y="2065867"/>
                        </a:cubicBezTo>
                        <a:cubicBezTo>
                          <a:pt x="1846052" y="1966175"/>
                          <a:pt x="1835554" y="1713597"/>
                          <a:pt x="1794933" y="1591733"/>
                        </a:cubicBezTo>
                        <a:cubicBezTo>
                          <a:pt x="1778968" y="1543839"/>
                          <a:pt x="1753174" y="1499558"/>
                          <a:pt x="1727200" y="1456267"/>
                        </a:cubicBezTo>
                        <a:cubicBezTo>
                          <a:pt x="1685317" y="1386462"/>
                          <a:pt x="1591733" y="1253067"/>
                          <a:pt x="1591733" y="1253067"/>
                        </a:cubicBezTo>
                        <a:cubicBezTo>
                          <a:pt x="1555962" y="1145753"/>
                          <a:pt x="1565165" y="1143657"/>
                          <a:pt x="1490133" y="1049867"/>
                        </a:cubicBezTo>
                        <a:cubicBezTo>
                          <a:pt x="1470187" y="1024934"/>
                          <a:pt x="1442346" y="1007066"/>
                          <a:pt x="1422400" y="982133"/>
                        </a:cubicBezTo>
                        <a:cubicBezTo>
                          <a:pt x="1396973" y="950349"/>
                          <a:pt x="1380094" y="912316"/>
                          <a:pt x="1354667" y="880533"/>
                        </a:cubicBezTo>
                        <a:cubicBezTo>
                          <a:pt x="1334721" y="855600"/>
                          <a:pt x="1306879" y="837733"/>
                          <a:pt x="1286933" y="812800"/>
                        </a:cubicBezTo>
                        <a:cubicBezTo>
                          <a:pt x="1261506" y="781017"/>
                          <a:pt x="1246241" y="741622"/>
                          <a:pt x="1219200" y="711200"/>
                        </a:cubicBezTo>
                        <a:cubicBezTo>
                          <a:pt x="1155561" y="639606"/>
                          <a:pt x="1095702" y="561134"/>
                          <a:pt x="1016000" y="508000"/>
                        </a:cubicBezTo>
                        <a:cubicBezTo>
                          <a:pt x="887833" y="422556"/>
                          <a:pt x="943181" y="469048"/>
                          <a:pt x="846667" y="372533"/>
                        </a:cubicBezTo>
                        <a:cubicBezTo>
                          <a:pt x="835378" y="338666"/>
                          <a:pt x="832602" y="300636"/>
                          <a:pt x="812800" y="270933"/>
                        </a:cubicBezTo>
                        <a:cubicBezTo>
                          <a:pt x="786233" y="231082"/>
                          <a:pt x="749006" y="198737"/>
                          <a:pt x="711200" y="169333"/>
                        </a:cubicBezTo>
                        <a:cubicBezTo>
                          <a:pt x="536524" y="33474"/>
                          <a:pt x="559693" y="51098"/>
                          <a:pt x="406400" y="0"/>
                        </a:cubicBezTo>
                        <a:cubicBezTo>
                          <a:pt x="361244" y="11289"/>
                          <a:pt x="313715" y="15532"/>
                          <a:pt x="270933" y="33867"/>
                        </a:cubicBezTo>
                        <a:cubicBezTo>
                          <a:pt x="53886" y="126887"/>
                          <a:pt x="173770" y="228415"/>
                          <a:pt x="203200" y="508000"/>
                        </a:cubicBezTo>
                        <a:cubicBezTo>
                          <a:pt x="230238" y="764856"/>
                          <a:pt x="168958" y="711013"/>
                          <a:pt x="304800" y="778933"/>
                        </a:cubicBezTo>
                      </a:path>
                    </a:pathLst>
                  </a:custGeom>
                  <a:solidFill>
                    <a:srgbClr val="f2f2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45" name="任意多边形 95"/>
                <p:cNvSpPr/>
                <p:nvPr/>
              </p:nvSpPr>
              <p:spPr>
                <a:xfrm flipH="1" rot="1846800">
                  <a:off x="7396920" y="4186800"/>
                  <a:ext cx="963000" cy="227880"/>
                </a:xfrm>
                <a:custGeom>
                  <a:avLst/>
                  <a:gdLst>
                    <a:gd name="textAreaLeft" fmla="*/ -360 w 963000"/>
                    <a:gd name="textAreaRight" fmla="*/ 963000 w 963000"/>
                    <a:gd name="textAreaTop" fmla="*/ 0 h 227880"/>
                    <a:gd name="textAreaBottom" fmla="*/ 228240 h 227880"/>
                  </a:gdLst>
                  <a:ahLst/>
                  <a:rect l="textAreaLeft" t="textAreaTop" r="textAreaRight" b="textAreaBottom"/>
                  <a:pathLst>
                    <a:path w="2065867" h="4030133">
                      <a:moveTo>
                        <a:pt x="270933" y="677333"/>
                      </a:moveTo>
                      <a:cubicBezTo>
                        <a:pt x="259644" y="733778"/>
                        <a:pt x="257278" y="792770"/>
                        <a:pt x="237067" y="846667"/>
                      </a:cubicBezTo>
                      <a:cubicBezTo>
                        <a:pt x="222775" y="884778"/>
                        <a:pt x="187536" y="911861"/>
                        <a:pt x="169333" y="948267"/>
                      </a:cubicBezTo>
                      <a:cubicBezTo>
                        <a:pt x="153368" y="980197"/>
                        <a:pt x="146756" y="1016000"/>
                        <a:pt x="135467" y="1049867"/>
                      </a:cubicBezTo>
                      <a:cubicBezTo>
                        <a:pt x="124178" y="1128889"/>
                        <a:pt x="124537" y="1210475"/>
                        <a:pt x="101600" y="1286933"/>
                      </a:cubicBezTo>
                      <a:cubicBezTo>
                        <a:pt x="89904" y="1325919"/>
                        <a:pt x="52070" y="1352127"/>
                        <a:pt x="33867" y="1388533"/>
                      </a:cubicBezTo>
                      <a:cubicBezTo>
                        <a:pt x="17902" y="1420463"/>
                        <a:pt x="11289" y="1456266"/>
                        <a:pt x="0" y="1490133"/>
                      </a:cubicBezTo>
                      <a:cubicBezTo>
                        <a:pt x="11289" y="1648178"/>
                        <a:pt x="6331" y="1808231"/>
                        <a:pt x="33867" y="1964267"/>
                      </a:cubicBezTo>
                      <a:cubicBezTo>
                        <a:pt x="40941" y="2004350"/>
                        <a:pt x="77942" y="2032746"/>
                        <a:pt x="101600" y="2065867"/>
                      </a:cubicBezTo>
                      <a:cubicBezTo>
                        <a:pt x="134408" y="2111798"/>
                        <a:pt x="167065" y="2157971"/>
                        <a:pt x="203200" y="2201333"/>
                      </a:cubicBezTo>
                      <a:cubicBezTo>
                        <a:pt x="223641" y="2225862"/>
                        <a:pt x="253221" y="2242500"/>
                        <a:pt x="270933" y="2269067"/>
                      </a:cubicBezTo>
                      <a:cubicBezTo>
                        <a:pt x="298937" y="2311073"/>
                        <a:pt x="313619" y="2360700"/>
                        <a:pt x="338667" y="2404533"/>
                      </a:cubicBezTo>
                      <a:cubicBezTo>
                        <a:pt x="443708" y="2588354"/>
                        <a:pt x="378175" y="2421458"/>
                        <a:pt x="440267" y="2607733"/>
                      </a:cubicBezTo>
                      <a:cubicBezTo>
                        <a:pt x="451556" y="2686755"/>
                        <a:pt x="448890" y="2769072"/>
                        <a:pt x="474133" y="2844800"/>
                      </a:cubicBezTo>
                      <a:cubicBezTo>
                        <a:pt x="484230" y="2875091"/>
                        <a:pt x="525439" y="2885153"/>
                        <a:pt x="541867" y="2912533"/>
                      </a:cubicBezTo>
                      <a:cubicBezTo>
                        <a:pt x="692110" y="3162937"/>
                        <a:pt x="437916" y="2858793"/>
                        <a:pt x="643467" y="3115733"/>
                      </a:cubicBezTo>
                      <a:cubicBezTo>
                        <a:pt x="663413" y="3140666"/>
                        <a:pt x="691254" y="3158534"/>
                        <a:pt x="711200" y="3183467"/>
                      </a:cubicBezTo>
                      <a:cubicBezTo>
                        <a:pt x="736627" y="3215251"/>
                        <a:pt x="752130" y="3254435"/>
                        <a:pt x="778933" y="3285067"/>
                      </a:cubicBezTo>
                      <a:cubicBezTo>
                        <a:pt x="831498" y="3345141"/>
                        <a:pt x="900372" y="3390540"/>
                        <a:pt x="948267" y="3454400"/>
                      </a:cubicBezTo>
                      <a:cubicBezTo>
                        <a:pt x="982134" y="3499556"/>
                        <a:pt x="1019951" y="3542002"/>
                        <a:pt x="1049867" y="3589867"/>
                      </a:cubicBezTo>
                      <a:cubicBezTo>
                        <a:pt x="1076624" y="3632678"/>
                        <a:pt x="1089596" y="3683327"/>
                        <a:pt x="1117600" y="3725333"/>
                      </a:cubicBezTo>
                      <a:cubicBezTo>
                        <a:pt x="1164328" y="3795425"/>
                        <a:pt x="1222230" y="3809038"/>
                        <a:pt x="1286933" y="3860800"/>
                      </a:cubicBezTo>
                      <a:cubicBezTo>
                        <a:pt x="1311866" y="3880746"/>
                        <a:pt x="1328100" y="3910821"/>
                        <a:pt x="1354667" y="3928533"/>
                      </a:cubicBezTo>
                      <a:cubicBezTo>
                        <a:pt x="1438370" y="3984335"/>
                        <a:pt x="1501418" y="4000029"/>
                        <a:pt x="1591733" y="4030133"/>
                      </a:cubicBezTo>
                      <a:cubicBezTo>
                        <a:pt x="1670755" y="4018844"/>
                        <a:pt x="1753072" y="4021510"/>
                        <a:pt x="1828800" y="3996267"/>
                      </a:cubicBezTo>
                      <a:cubicBezTo>
                        <a:pt x="1947678" y="3956641"/>
                        <a:pt x="1962781" y="3628192"/>
                        <a:pt x="1964267" y="3623733"/>
                      </a:cubicBezTo>
                      <a:cubicBezTo>
                        <a:pt x="1977138" y="3585119"/>
                        <a:pt x="2013797" y="3558539"/>
                        <a:pt x="2032000" y="3522133"/>
                      </a:cubicBezTo>
                      <a:cubicBezTo>
                        <a:pt x="2047965" y="3490203"/>
                        <a:pt x="2054578" y="3454400"/>
                        <a:pt x="2065867" y="3420533"/>
                      </a:cubicBezTo>
                      <a:cubicBezTo>
                        <a:pt x="2054578" y="3318933"/>
                        <a:pt x="2052048" y="3215973"/>
                        <a:pt x="2032000" y="3115733"/>
                      </a:cubicBezTo>
                      <a:cubicBezTo>
                        <a:pt x="2017998" y="3045722"/>
                        <a:pt x="1964267" y="2912533"/>
                        <a:pt x="1964267" y="2912533"/>
                      </a:cubicBezTo>
                      <a:cubicBezTo>
                        <a:pt x="2045473" y="2668911"/>
                        <a:pt x="1946942" y="2973167"/>
                        <a:pt x="2032000" y="2675467"/>
                      </a:cubicBezTo>
                      <a:cubicBezTo>
                        <a:pt x="2041807" y="2641142"/>
                        <a:pt x="2054578" y="2607734"/>
                        <a:pt x="2065867" y="2573867"/>
                      </a:cubicBezTo>
                      <a:cubicBezTo>
                        <a:pt x="1988036" y="2340376"/>
                        <a:pt x="2048618" y="2421153"/>
                        <a:pt x="1930400" y="2302933"/>
                      </a:cubicBezTo>
                      <a:cubicBezTo>
                        <a:pt x="1919111" y="2257778"/>
                        <a:pt x="1909320" y="2212221"/>
                        <a:pt x="1896533" y="2167467"/>
                      </a:cubicBezTo>
                      <a:cubicBezTo>
                        <a:pt x="1886726" y="2133142"/>
                        <a:pt x="1868536" y="2101080"/>
                        <a:pt x="1862667" y="2065867"/>
                      </a:cubicBezTo>
                      <a:cubicBezTo>
                        <a:pt x="1846052" y="1966175"/>
                        <a:pt x="1835554" y="1713597"/>
                        <a:pt x="1794933" y="1591733"/>
                      </a:cubicBezTo>
                      <a:cubicBezTo>
                        <a:pt x="1778968" y="1543839"/>
                        <a:pt x="1753174" y="1499558"/>
                        <a:pt x="1727200" y="1456267"/>
                      </a:cubicBezTo>
                      <a:cubicBezTo>
                        <a:pt x="1685317" y="1386462"/>
                        <a:pt x="1591733" y="1253067"/>
                        <a:pt x="1591733" y="1253067"/>
                      </a:cubicBezTo>
                      <a:cubicBezTo>
                        <a:pt x="1555962" y="1145753"/>
                        <a:pt x="1565165" y="1143657"/>
                        <a:pt x="1490133" y="1049867"/>
                      </a:cubicBezTo>
                      <a:cubicBezTo>
                        <a:pt x="1470187" y="1024934"/>
                        <a:pt x="1442346" y="1007066"/>
                        <a:pt x="1422400" y="982133"/>
                      </a:cubicBezTo>
                      <a:cubicBezTo>
                        <a:pt x="1396973" y="950349"/>
                        <a:pt x="1380094" y="912316"/>
                        <a:pt x="1354667" y="880533"/>
                      </a:cubicBezTo>
                      <a:cubicBezTo>
                        <a:pt x="1334721" y="855600"/>
                        <a:pt x="1306879" y="837733"/>
                        <a:pt x="1286933" y="812800"/>
                      </a:cubicBezTo>
                      <a:cubicBezTo>
                        <a:pt x="1261506" y="781017"/>
                        <a:pt x="1246241" y="741622"/>
                        <a:pt x="1219200" y="711200"/>
                      </a:cubicBezTo>
                      <a:cubicBezTo>
                        <a:pt x="1155561" y="639606"/>
                        <a:pt x="1095702" y="561134"/>
                        <a:pt x="1016000" y="508000"/>
                      </a:cubicBezTo>
                      <a:cubicBezTo>
                        <a:pt x="887833" y="422556"/>
                        <a:pt x="943181" y="469048"/>
                        <a:pt x="846667" y="372533"/>
                      </a:cubicBezTo>
                      <a:cubicBezTo>
                        <a:pt x="835378" y="338666"/>
                        <a:pt x="832602" y="300636"/>
                        <a:pt x="812800" y="270933"/>
                      </a:cubicBezTo>
                      <a:cubicBezTo>
                        <a:pt x="786233" y="231082"/>
                        <a:pt x="749006" y="198737"/>
                        <a:pt x="711200" y="169333"/>
                      </a:cubicBezTo>
                      <a:cubicBezTo>
                        <a:pt x="536524" y="33474"/>
                        <a:pt x="559693" y="51098"/>
                        <a:pt x="406400" y="0"/>
                      </a:cubicBezTo>
                      <a:cubicBezTo>
                        <a:pt x="361244" y="11289"/>
                        <a:pt x="313715" y="15532"/>
                        <a:pt x="270933" y="33867"/>
                      </a:cubicBezTo>
                      <a:cubicBezTo>
                        <a:pt x="53886" y="126887"/>
                        <a:pt x="173770" y="228415"/>
                        <a:pt x="203200" y="508000"/>
                      </a:cubicBezTo>
                      <a:cubicBezTo>
                        <a:pt x="230238" y="764856"/>
                        <a:pt x="168958" y="711013"/>
                        <a:pt x="304800" y="778933"/>
                      </a:cubicBez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46" name=""/>
                <p:cNvGrpSpPr/>
                <p:nvPr/>
              </p:nvGrpSpPr>
              <p:grpSpPr>
                <a:xfrm>
                  <a:off x="7878240" y="3007800"/>
                  <a:ext cx="855000" cy="2278440"/>
                  <a:chOff x="7878240" y="3007800"/>
                  <a:chExt cx="855000" cy="2278440"/>
                </a:xfrm>
              </p:grpSpPr>
              <p:sp>
                <p:nvSpPr>
                  <p:cNvPr id="447" name="任意多边形 98"/>
                  <p:cNvSpPr/>
                  <p:nvPr/>
                </p:nvSpPr>
                <p:spPr>
                  <a:xfrm flipH="1" rot="3195600">
                    <a:off x="7871760" y="4718160"/>
                    <a:ext cx="963360" cy="227520"/>
                  </a:xfrm>
                  <a:custGeom>
                    <a:avLst/>
                    <a:gdLst>
                      <a:gd name="textAreaLeft" fmla="*/ 360 w 963360"/>
                      <a:gd name="textAreaRight" fmla="*/ 964080 w 963360"/>
                      <a:gd name="textAreaTop" fmla="*/ 0 h 227520"/>
                      <a:gd name="textAreaBottom" fmla="*/ 227880 h 227520"/>
                    </a:gdLst>
                    <a:ahLst/>
                    <a:rect l="textAreaLeft" t="textAreaTop" r="textAreaRight" b="textAreaBottom"/>
                    <a:pathLst>
                      <a:path w="2065867" h="4030133">
                        <a:moveTo>
                          <a:pt x="270933" y="677333"/>
                        </a:moveTo>
                        <a:cubicBezTo>
                          <a:pt x="259644" y="733778"/>
                          <a:pt x="257278" y="792770"/>
                          <a:pt x="237067" y="846667"/>
                        </a:cubicBezTo>
                        <a:cubicBezTo>
                          <a:pt x="222775" y="884778"/>
                          <a:pt x="187536" y="911861"/>
                          <a:pt x="169333" y="948267"/>
                        </a:cubicBezTo>
                        <a:cubicBezTo>
                          <a:pt x="153368" y="980197"/>
                          <a:pt x="146756" y="1016000"/>
                          <a:pt x="135467" y="1049867"/>
                        </a:cubicBezTo>
                        <a:cubicBezTo>
                          <a:pt x="124178" y="1128889"/>
                          <a:pt x="124537" y="1210475"/>
                          <a:pt x="101600" y="1286933"/>
                        </a:cubicBezTo>
                        <a:cubicBezTo>
                          <a:pt x="89904" y="1325919"/>
                          <a:pt x="52070" y="1352127"/>
                          <a:pt x="33867" y="1388533"/>
                        </a:cubicBezTo>
                        <a:cubicBezTo>
                          <a:pt x="17902" y="1420463"/>
                          <a:pt x="11289" y="1456266"/>
                          <a:pt x="0" y="1490133"/>
                        </a:cubicBezTo>
                        <a:cubicBezTo>
                          <a:pt x="11289" y="1648178"/>
                          <a:pt x="6331" y="1808231"/>
                          <a:pt x="33867" y="1964267"/>
                        </a:cubicBezTo>
                        <a:cubicBezTo>
                          <a:pt x="40941" y="2004350"/>
                          <a:pt x="77942" y="2032746"/>
                          <a:pt x="101600" y="2065867"/>
                        </a:cubicBezTo>
                        <a:cubicBezTo>
                          <a:pt x="134408" y="2111798"/>
                          <a:pt x="167065" y="2157971"/>
                          <a:pt x="203200" y="2201333"/>
                        </a:cubicBezTo>
                        <a:cubicBezTo>
                          <a:pt x="223641" y="2225862"/>
                          <a:pt x="253221" y="2242500"/>
                          <a:pt x="270933" y="2269067"/>
                        </a:cubicBezTo>
                        <a:cubicBezTo>
                          <a:pt x="298937" y="2311073"/>
                          <a:pt x="313619" y="2360700"/>
                          <a:pt x="338667" y="2404533"/>
                        </a:cubicBezTo>
                        <a:cubicBezTo>
                          <a:pt x="443708" y="2588354"/>
                          <a:pt x="378175" y="2421458"/>
                          <a:pt x="440267" y="2607733"/>
                        </a:cubicBezTo>
                        <a:cubicBezTo>
                          <a:pt x="451556" y="2686755"/>
                          <a:pt x="448890" y="2769072"/>
                          <a:pt x="474133" y="2844800"/>
                        </a:cubicBezTo>
                        <a:cubicBezTo>
                          <a:pt x="484230" y="2875091"/>
                          <a:pt x="525439" y="2885153"/>
                          <a:pt x="541867" y="2912533"/>
                        </a:cubicBezTo>
                        <a:cubicBezTo>
                          <a:pt x="692110" y="3162937"/>
                          <a:pt x="437916" y="2858793"/>
                          <a:pt x="643467" y="3115733"/>
                        </a:cubicBezTo>
                        <a:cubicBezTo>
                          <a:pt x="663413" y="3140666"/>
                          <a:pt x="691254" y="3158534"/>
                          <a:pt x="711200" y="3183467"/>
                        </a:cubicBezTo>
                        <a:cubicBezTo>
                          <a:pt x="736627" y="3215251"/>
                          <a:pt x="752130" y="3254435"/>
                          <a:pt x="778933" y="3285067"/>
                        </a:cubicBezTo>
                        <a:cubicBezTo>
                          <a:pt x="831498" y="3345141"/>
                          <a:pt x="900372" y="3390540"/>
                          <a:pt x="948267" y="3454400"/>
                        </a:cubicBezTo>
                        <a:cubicBezTo>
                          <a:pt x="982134" y="3499556"/>
                          <a:pt x="1019951" y="3542002"/>
                          <a:pt x="1049867" y="3589867"/>
                        </a:cubicBezTo>
                        <a:cubicBezTo>
                          <a:pt x="1076624" y="3632678"/>
                          <a:pt x="1089596" y="3683327"/>
                          <a:pt x="1117600" y="3725333"/>
                        </a:cubicBezTo>
                        <a:cubicBezTo>
                          <a:pt x="1164328" y="3795425"/>
                          <a:pt x="1222230" y="3809038"/>
                          <a:pt x="1286933" y="3860800"/>
                        </a:cubicBezTo>
                        <a:cubicBezTo>
                          <a:pt x="1311866" y="3880746"/>
                          <a:pt x="1328100" y="3910821"/>
                          <a:pt x="1354667" y="3928533"/>
                        </a:cubicBezTo>
                        <a:cubicBezTo>
                          <a:pt x="1438370" y="3984335"/>
                          <a:pt x="1501418" y="4000029"/>
                          <a:pt x="1591733" y="4030133"/>
                        </a:cubicBezTo>
                        <a:cubicBezTo>
                          <a:pt x="1670755" y="4018844"/>
                          <a:pt x="1753072" y="4021510"/>
                          <a:pt x="1828800" y="3996267"/>
                        </a:cubicBezTo>
                        <a:cubicBezTo>
                          <a:pt x="1947678" y="3956641"/>
                          <a:pt x="1962781" y="3628192"/>
                          <a:pt x="1964267" y="3623733"/>
                        </a:cubicBezTo>
                        <a:cubicBezTo>
                          <a:pt x="1977138" y="3585119"/>
                          <a:pt x="2013797" y="3558539"/>
                          <a:pt x="2032000" y="3522133"/>
                        </a:cubicBezTo>
                        <a:cubicBezTo>
                          <a:pt x="2047965" y="3490203"/>
                          <a:pt x="2054578" y="3454400"/>
                          <a:pt x="2065867" y="3420533"/>
                        </a:cubicBezTo>
                        <a:cubicBezTo>
                          <a:pt x="2054578" y="3318933"/>
                          <a:pt x="2052048" y="3215973"/>
                          <a:pt x="2032000" y="3115733"/>
                        </a:cubicBezTo>
                        <a:cubicBezTo>
                          <a:pt x="2017998" y="3045722"/>
                          <a:pt x="1964267" y="2912533"/>
                          <a:pt x="1964267" y="2912533"/>
                        </a:cubicBezTo>
                        <a:cubicBezTo>
                          <a:pt x="2045473" y="2668911"/>
                          <a:pt x="1946942" y="2973167"/>
                          <a:pt x="2032000" y="2675467"/>
                        </a:cubicBezTo>
                        <a:cubicBezTo>
                          <a:pt x="2041807" y="2641142"/>
                          <a:pt x="2054578" y="2607734"/>
                          <a:pt x="2065867" y="2573867"/>
                        </a:cubicBezTo>
                        <a:cubicBezTo>
                          <a:pt x="1988036" y="2340376"/>
                          <a:pt x="2048618" y="2421153"/>
                          <a:pt x="1930400" y="2302933"/>
                        </a:cubicBezTo>
                        <a:cubicBezTo>
                          <a:pt x="1919111" y="2257778"/>
                          <a:pt x="1909320" y="2212221"/>
                          <a:pt x="1896533" y="2167467"/>
                        </a:cubicBezTo>
                        <a:cubicBezTo>
                          <a:pt x="1886726" y="2133142"/>
                          <a:pt x="1868536" y="2101080"/>
                          <a:pt x="1862667" y="2065867"/>
                        </a:cubicBezTo>
                        <a:cubicBezTo>
                          <a:pt x="1846052" y="1966175"/>
                          <a:pt x="1835554" y="1713597"/>
                          <a:pt x="1794933" y="1591733"/>
                        </a:cubicBezTo>
                        <a:cubicBezTo>
                          <a:pt x="1778968" y="1543839"/>
                          <a:pt x="1753174" y="1499558"/>
                          <a:pt x="1727200" y="1456267"/>
                        </a:cubicBezTo>
                        <a:cubicBezTo>
                          <a:pt x="1685317" y="1386462"/>
                          <a:pt x="1591733" y="1253067"/>
                          <a:pt x="1591733" y="1253067"/>
                        </a:cubicBezTo>
                        <a:cubicBezTo>
                          <a:pt x="1555962" y="1145753"/>
                          <a:pt x="1565165" y="1143657"/>
                          <a:pt x="1490133" y="1049867"/>
                        </a:cubicBezTo>
                        <a:cubicBezTo>
                          <a:pt x="1470187" y="1024934"/>
                          <a:pt x="1442346" y="1007066"/>
                          <a:pt x="1422400" y="982133"/>
                        </a:cubicBezTo>
                        <a:cubicBezTo>
                          <a:pt x="1396973" y="950349"/>
                          <a:pt x="1380094" y="912316"/>
                          <a:pt x="1354667" y="880533"/>
                        </a:cubicBezTo>
                        <a:cubicBezTo>
                          <a:pt x="1334721" y="855600"/>
                          <a:pt x="1306879" y="837733"/>
                          <a:pt x="1286933" y="812800"/>
                        </a:cubicBezTo>
                        <a:cubicBezTo>
                          <a:pt x="1261506" y="781017"/>
                          <a:pt x="1246241" y="741622"/>
                          <a:pt x="1219200" y="711200"/>
                        </a:cubicBezTo>
                        <a:cubicBezTo>
                          <a:pt x="1155561" y="639606"/>
                          <a:pt x="1095702" y="561134"/>
                          <a:pt x="1016000" y="508000"/>
                        </a:cubicBezTo>
                        <a:cubicBezTo>
                          <a:pt x="887833" y="422556"/>
                          <a:pt x="943181" y="469048"/>
                          <a:pt x="846667" y="372533"/>
                        </a:cubicBezTo>
                        <a:cubicBezTo>
                          <a:pt x="835378" y="338666"/>
                          <a:pt x="832602" y="300636"/>
                          <a:pt x="812800" y="270933"/>
                        </a:cubicBezTo>
                        <a:cubicBezTo>
                          <a:pt x="786233" y="231082"/>
                          <a:pt x="749006" y="198737"/>
                          <a:pt x="711200" y="169333"/>
                        </a:cubicBezTo>
                        <a:cubicBezTo>
                          <a:pt x="536524" y="33474"/>
                          <a:pt x="559693" y="51098"/>
                          <a:pt x="406400" y="0"/>
                        </a:cubicBezTo>
                        <a:cubicBezTo>
                          <a:pt x="361244" y="11289"/>
                          <a:pt x="313715" y="15532"/>
                          <a:pt x="270933" y="33867"/>
                        </a:cubicBezTo>
                        <a:cubicBezTo>
                          <a:pt x="53886" y="126887"/>
                          <a:pt x="173770" y="228415"/>
                          <a:pt x="203200" y="508000"/>
                        </a:cubicBezTo>
                        <a:cubicBezTo>
                          <a:pt x="230238" y="764856"/>
                          <a:pt x="168958" y="711013"/>
                          <a:pt x="304800" y="778933"/>
                        </a:cubicBez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8" name="任意多边形 99"/>
                  <p:cNvSpPr/>
                  <p:nvPr/>
                </p:nvSpPr>
                <p:spPr>
                  <a:xfrm flipH="1" rot="3282600">
                    <a:off x="7863840" y="3158640"/>
                    <a:ext cx="480240" cy="213840"/>
                  </a:xfrm>
                  <a:custGeom>
                    <a:avLst/>
                    <a:gdLst>
                      <a:gd name="textAreaLeft" fmla="*/ 360 w 480240"/>
                      <a:gd name="textAreaRight" fmla="*/ 480960 w 480240"/>
                      <a:gd name="textAreaTop" fmla="*/ 0 h 213840"/>
                      <a:gd name="textAreaBottom" fmla="*/ 214200 h 213840"/>
                    </a:gdLst>
                    <a:ahLst/>
                    <a:rect l="textAreaLeft" t="textAreaTop" r="textAreaRight" b="textAreaBottom"/>
                    <a:pathLst>
                      <a:path w="2065867" h="4030133">
                        <a:moveTo>
                          <a:pt x="270933" y="677333"/>
                        </a:moveTo>
                        <a:cubicBezTo>
                          <a:pt x="259644" y="733778"/>
                          <a:pt x="257278" y="792770"/>
                          <a:pt x="237067" y="846667"/>
                        </a:cubicBezTo>
                        <a:cubicBezTo>
                          <a:pt x="222775" y="884778"/>
                          <a:pt x="187536" y="911861"/>
                          <a:pt x="169333" y="948267"/>
                        </a:cubicBezTo>
                        <a:cubicBezTo>
                          <a:pt x="153368" y="980197"/>
                          <a:pt x="146756" y="1016000"/>
                          <a:pt x="135467" y="1049867"/>
                        </a:cubicBezTo>
                        <a:cubicBezTo>
                          <a:pt x="124178" y="1128889"/>
                          <a:pt x="124537" y="1210475"/>
                          <a:pt x="101600" y="1286933"/>
                        </a:cubicBezTo>
                        <a:cubicBezTo>
                          <a:pt x="89904" y="1325919"/>
                          <a:pt x="52070" y="1352127"/>
                          <a:pt x="33867" y="1388533"/>
                        </a:cubicBezTo>
                        <a:cubicBezTo>
                          <a:pt x="17902" y="1420463"/>
                          <a:pt x="11289" y="1456266"/>
                          <a:pt x="0" y="1490133"/>
                        </a:cubicBezTo>
                        <a:cubicBezTo>
                          <a:pt x="11289" y="1648178"/>
                          <a:pt x="6331" y="1808231"/>
                          <a:pt x="33867" y="1964267"/>
                        </a:cubicBezTo>
                        <a:cubicBezTo>
                          <a:pt x="40941" y="2004350"/>
                          <a:pt x="77942" y="2032746"/>
                          <a:pt x="101600" y="2065867"/>
                        </a:cubicBezTo>
                        <a:cubicBezTo>
                          <a:pt x="134408" y="2111798"/>
                          <a:pt x="167065" y="2157971"/>
                          <a:pt x="203200" y="2201333"/>
                        </a:cubicBezTo>
                        <a:cubicBezTo>
                          <a:pt x="223641" y="2225862"/>
                          <a:pt x="253221" y="2242500"/>
                          <a:pt x="270933" y="2269067"/>
                        </a:cubicBezTo>
                        <a:cubicBezTo>
                          <a:pt x="298937" y="2311073"/>
                          <a:pt x="313619" y="2360700"/>
                          <a:pt x="338667" y="2404533"/>
                        </a:cubicBezTo>
                        <a:cubicBezTo>
                          <a:pt x="443708" y="2588354"/>
                          <a:pt x="378175" y="2421458"/>
                          <a:pt x="440267" y="2607733"/>
                        </a:cubicBezTo>
                        <a:cubicBezTo>
                          <a:pt x="451556" y="2686755"/>
                          <a:pt x="448890" y="2769072"/>
                          <a:pt x="474133" y="2844800"/>
                        </a:cubicBezTo>
                        <a:cubicBezTo>
                          <a:pt x="484230" y="2875091"/>
                          <a:pt x="525439" y="2885153"/>
                          <a:pt x="541867" y="2912533"/>
                        </a:cubicBezTo>
                        <a:cubicBezTo>
                          <a:pt x="692110" y="3162937"/>
                          <a:pt x="437916" y="2858793"/>
                          <a:pt x="643467" y="3115733"/>
                        </a:cubicBezTo>
                        <a:cubicBezTo>
                          <a:pt x="663413" y="3140666"/>
                          <a:pt x="691254" y="3158534"/>
                          <a:pt x="711200" y="3183467"/>
                        </a:cubicBezTo>
                        <a:cubicBezTo>
                          <a:pt x="736627" y="3215251"/>
                          <a:pt x="752130" y="3254435"/>
                          <a:pt x="778933" y="3285067"/>
                        </a:cubicBezTo>
                        <a:cubicBezTo>
                          <a:pt x="831498" y="3345141"/>
                          <a:pt x="900372" y="3390540"/>
                          <a:pt x="948267" y="3454400"/>
                        </a:cubicBezTo>
                        <a:cubicBezTo>
                          <a:pt x="982134" y="3499556"/>
                          <a:pt x="1019951" y="3542002"/>
                          <a:pt x="1049867" y="3589867"/>
                        </a:cubicBezTo>
                        <a:cubicBezTo>
                          <a:pt x="1076624" y="3632678"/>
                          <a:pt x="1089596" y="3683327"/>
                          <a:pt x="1117600" y="3725333"/>
                        </a:cubicBezTo>
                        <a:cubicBezTo>
                          <a:pt x="1164328" y="3795425"/>
                          <a:pt x="1222230" y="3809038"/>
                          <a:pt x="1286933" y="3860800"/>
                        </a:cubicBezTo>
                        <a:cubicBezTo>
                          <a:pt x="1311866" y="3880746"/>
                          <a:pt x="1328100" y="3910821"/>
                          <a:pt x="1354667" y="3928533"/>
                        </a:cubicBezTo>
                        <a:cubicBezTo>
                          <a:pt x="1438370" y="3984335"/>
                          <a:pt x="1501418" y="4000029"/>
                          <a:pt x="1591733" y="4030133"/>
                        </a:cubicBezTo>
                        <a:cubicBezTo>
                          <a:pt x="1670755" y="4018844"/>
                          <a:pt x="1753072" y="4021510"/>
                          <a:pt x="1828800" y="3996267"/>
                        </a:cubicBezTo>
                        <a:cubicBezTo>
                          <a:pt x="1947678" y="3956641"/>
                          <a:pt x="1962781" y="3628192"/>
                          <a:pt x="1964267" y="3623733"/>
                        </a:cubicBezTo>
                        <a:cubicBezTo>
                          <a:pt x="1977138" y="3585119"/>
                          <a:pt x="2013797" y="3558539"/>
                          <a:pt x="2032000" y="3522133"/>
                        </a:cubicBezTo>
                        <a:cubicBezTo>
                          <a:pt x="2047965" y="3490203"/>
                          <a:pt x="2054578" y="3454400"/>
                          <a:pt x="2065867" y="3420533"/>
                        </a:cubicBezTo>
                        <a:cubicBezTo>
                          <a:pt x="2054578" y="3318933"/>
                          <a:pt x="2052048" y="3215973"/>
                          <a:pt x="2032000" y="3115733"/>
                        </a:cubicBezTo>
                        <a:cubicBezTo>
                          <a:pt x="2017998" y="3045722"/>
                          <a:pt x="1964267" y="2912533"/>
                          <a:pt x="1964267" y="2912533"/>
                        </a:cubicBezTo>
                        <a:cubicBezTo>
                          <a:pt x="2045473" y="2668911"/>
                          <a:pt x="1946942" y="2973167"/>
                          <a:pt x="2032000" y="2675467"/>
                        </a:cubicBezTo>
                        <a:cubicBezTo>
                          <a:pt x="2041807" y="2641142"/>
                          <a:pt x="2054578" y="2607734"/>
                          <a:pt x="2065867" y="2573867"/>
                        </a:cubicBezTo>
                        <a:cubicBezTo>
                          <a:pt x="1988036" y="2340376"/>
                          <a:pt x="2048618" y="2421153"/>
                          <a:pt x="1930400" y="2302933"/>
                        </a:cubicBezTo>
                        <a:cubicBezTo>
                          <a:pt x="1919111" y="2257778"/>
                          <a:pt x="1909320" y="2212221"/>
                          <a:pt x="1896533" y="2167467"/>
                        </a:cubicBezTo>
                        <a:cubicBezTo>
                          <a:pt x="1886726" y="2133142"/>
                          <a:pt x="1868536" y="2101080"/>
                          <a:pt x="1862667" y="2065867"/>
                        </a:cubicBezTo>
                        <a:cubicBezTo>
                          <a:pt x="1846052" y="1966175"/>
                          <a:pt x="1835554" y="1713597"/>
                          <a:pt x="1794933" y="1591733"/>
                        </a:cubicBezTo>
                        <a:cubicBezTo>
                          <a:pt x="1778968" y="1543839"/>
                          <a:pt x="1753174" y="1499558"/>
                          <a:pt x="1727200" y="1456267"/>
                        </a:cubicBezTo>
                        <a:cubicBezTo>
                          <a:pt x="1685317" y="1386462"/>
                          <a:pt x="1591733" y="1253067"/>
                          <a:pt x="1591733" y="1253067"/>
                        </a:cubicBezTo>
                        <a:cubicBezTo>
                          <a:pt x="1555962" y="1145753"/>
                          <a:pt x="1565165" y="1143657"/>
                          <a:pt x="1490133" y="1049867"/>
                        </a:cubicBezTo>
                        <a:cubicBezTo>
                          <a:pt x="1470187" y="1024934"/>
                          <a:pt x="1442346" y="1007066"/>
                          <a:pt x="1422400" y="982133"/>
                        </a:cubicBezTo>
                        <a:cubicBezTo>
                          <a:pt x="1396973" y="950349"/>
                          <a:pt x="1380094" y="912316"/>
                          <a:pt x="1354667" y="880533"/>
                        </a:cubicBezTo>
                        <a:cubicBezTo>
                          <a:pt x="1334721" y="855600"/>
                          <a:pt x="1306879" y="837733"/>
                          <a:pt x="1286933" y="812800"/>
                        </a:cubicBezTo>
                        <a:cubicBezTo>
                          <a:pt x="1261506" y="781017"/>
                          <a:pt x="1246241" y="741622"/>
                          <a:pt x="1219200" y="711200"/>
                        </a:cubicBezTo>
                        <a:cubicBezTo>
                          <a:pt x="1155561" y="639606"/>
                          <a:pt x="1095702" y="561134"/>
                          <a:pt x="1016000" y="508000"/>
                        </a:cubicBezTo>
                        <a:cubicBezTo>
                          <a:pt x="887833" y="422556"/>
                          <a:pt x="943181" y="469048"/>
                          <a:pt x="846667" y="372533"/>
                        </a:cubicBezTo>
                        <a:cubicBezTo>
                          <a:pt x="835378" y="338666"/>
                          <a:pt x="832602" y="300636"/>
                          <a:pt x="812800" y="270933"/>
                        </a:cubicBezTo>
                        <a:cubicBezTo>
                          <a:pt x="786233" y="231082"/>
                          <a:pt x="749006" y="198737"/>
                          <a:pt x="711200" y="169333"/>
                        </a:cubicBezTo>
                        <a:cubicBezTo>
                          <a:pt x="536524" y="33474"/>
                          <a:pt x="559693" y="51098"/>
                          <a:pt x="406400" y="0"/>
                        </a:cubicBezTo>
                        <a:cubicBezTo>
                          <a:pt x="361244" y="11289"/>
                          <a:pt x="313715" y="15532"/>
                          <a:pt x="270933" y="33867"/>
                        </a:cubicBezTo>
                        <a:cubicBezTo>
                          <a:pt x="53886" y="126887"/>
                          <a:pt x="173770" y="228415"/>
                          <a:pt x="203200" y="508000"/>
                        </a:cubicBezTo>
                        <a:cubicBezTo>
                          <a:pt x="230238" y="764856"/>
                          <a:pt x="168958" y="711013"/>
                          <a:pt x="304800" y="778933"/>
                        </a:cubicBezTo>
                      </a:path>
                    </a:pathLst>
                  </a:custGeom>
                  <a:solidFill>
                    <a:srgbClr val="f2f2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49" name="任意多边形 97"/>
                <p:cNvSpPr/>
                <p:nvPr/>
              </p:nvSpPr>
              <p:spPr>
                <a:xfrm flipH="1">
                  <a:off x="7498080" y="3426840"/>
                  <a:ext cx="307080" cy="264240"/>
                </a:xfrm>
                <a:custGeom>
                  <a:avLst/>
                  <a:gdLst>
                    <a:gd name="textAreaLeft" fmla="*/ -360 w 307080"/>
                    <a:gd name="textAreaRight" fmla="*/ 307080 w 307080"/>
                    <a:gd name="textAreaTop" fmla="*/ 0 h 264240"/>
                    <a:gd name="textAreaBottom" fmla="*/ 264600 h 264240"/>
                  </a:gdLst>
                  <a:ahLst/>
                  <a:rect l="textAreaLeft" t="textAreaTop" r="textAreaRight" b="textAreaBottom"/>
                  <a:pathLst>
                    <a:path w="307238" h="264197">
                      <a:moveTo>
                        <a:pt x="80467" y="849"/>
                      </a:moveTo>
                      <a:cubicBezTo>
                        <a:pt x="98755" y="6945"/>
                        <a:pt x="153179" y="38924"/>
                        <a:pt x="190195" y="66686"/>
                      </a:cubicBezTo>
                      <a:cubicBezTo>
                        <a:pt x="207853" y="79930"/>
                        <a:pt x="205064" y="85272"/>
                        <a:pt x="219456" y="103262"/>
                      </a:cubicBezTo>
                      <a:cubicBezTo>
                        <a:pt x="223764" y="108648"/>
                        <a:pt x="229209" y="113016"/>
                        <a:pt x="234086" y="117893"/>
                      </a:cubicBezTo>
                      <a:cubicBezTo>
                        <a:pt x="246789" y="156003"/>
                        <a:pt x="233080" y="125779"/>
                        <a:pt x="256032" y="154469"/>
                      </a:cubicBezTo>
                      <a:cubicBezTo>
                        <a:pt x="261524" y="161334"/>
                        <a:pt x="263029" y="172052"/>
                        <a:pt x="270662" y="176414"/>
                      </a:cubicBezTo>
                      <a:cubicBezTo>
                        <a:pt x="281457" y="182583"/>
                        <a:pt x="295046" y="181291"/>
                        <a:pt x="307238" y="183729"/>
                      </a:cubicBezTo>
                      <a:cubicBezTo>
                        <a:pt x="299923" y="186168"/>
                        <a:pt x="292189" y="187596"/>
                        <a:pt x="285292" y="191045"/>
                      </a:cubicBezTo>
                      <a:cubicBezTo>
                        <a:pt x="277429" y="194977"/>
                        <a:pt x="271428" y="202212"/>
                        <a:pt x="263347" y="205675"/>
                      </a:cubicBezTo>
                      <a:cubicBezTo>
                        <a:pt x="254106" y="209635"/>
                        <a:pt x="243840" y="210552"/>
                        <a:pt x="234086" y="212990"/>
                      </a:cubicBezTo>
                      <a:cubicBezTo>
                        <a:pt x="178283" y="268793"/>
                        <a:pt x="243125" y="210494"/>
                        <a:pt x="190195" y="242251"/>
                      </a:cubicBezTo>
                      <a:cubicBezTo>
                        <a:pt x="139983" y="272377"/>
                        <a:pt x="215791" y="243470"/>
                        <a:pt x="153619" y="264197"/>
                      </a:cubicBezTo>
                      <a:cubicBezTo>
                        <a:pt x="117043" y="261758"/>
                        <a:pt x="79675" y="264833"/>
                        <a:pt x="43891" y="256881"/>
                      </a:cubicBezTo>
                      <a:cubicBezTo>
                        <a:pt x="33792" y="254637"/>
                        <a:pt x="29892" y="241559"/>
                        <a:pt x="21945" y="234936"/>
                      </a:cubicBezTo>
                      <a:cubicBezTo>
                        <a:pt x="15191" y="229308"/>
                        <a:pt x="7315" y="225182"/>
                        <a:pt x="0" y="220305"/>
                      </a:cubicBezTo>
                      <a:cubicBezTo>
                        <a:pt x="2438" y="198360"/>
                        <a:pt x="1960" y="175890"/>
                        <a:pt x="7315" y="154469"/>
                      </a:cubicBezTo>
                      <a:cubicBezTo>
                        <a:pt x="9447" y="145940"/>
                        <a:pt x="18013" y="140387"/>
                        <a:pt x="21945" y="132523"/>
                      </a:cubicBezTo>
                      <a:cubicBezTo>
                        <a:pt x="40936" y="94540"/>
                        <a:pt x="15315" y="124521"/>
                        <a:pt x="43891" y="95947"/>
                      </a:cubicBezTo>
                      <a:cubicBezTo>
                        <a:pt x="50393" y="76440"/>
                        <a:pt x="53783" y="62820"/>
                        <a:pt x="65836" y="44741"/>
                      </a:cubicBezTo>
                      <a:cubicBezTo>
                        <a:pt x="69662" y="39002"/>
                        <a:pt x="76158" y="35496"/>
                        <a:pt x="80467" y="30110"/>
                      </a:cubicBezTo>
                      <a:cubicBezTo>
                        <a:pt x="85959" y="23245"/>
                        <a:pt x="62179" y="-5247"/>
                        <a:pt x="80467" y="8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450" name=""/>
          <p:cNvGrpSpPr/>
          <p:nvPr/>
        </p:nvGrpSpPr>
        <p:grpSpPr>
          <a:xfrm>
            <a:off x="4140360" y="1995480"/>
            <a:ext cx="863280" cy="824040"/>
            <a:chOff x="4140360" y="1995480"/>
            <a:chExt cx="863280" cy="824040"/>
          </a:xfrm>
        </p:grpSpPr>
        <p:sp>
          <p:nvSpPr>
            <p:cNvPr id="451" name="五角星 174"/>
            <p:cNvSpPr/>
            <p:nvPr/>
          </p:nvSpPr>
          <p:spPr>
            <a:xfrm>
              <a:off x="4140360" y="1995480"/>
              <a:ext cx="863280" cy="824040"/>
            </a:xfrm>
            <a:prstGeom prst="star5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2" name=""/>
            <p:cNvGrpSpPr/>
            <p:nvPr/>
          </p:nvGrpSpPr>
          <p:grpSpPr>
            <a:xfrm>
              <a:off x="4339800" y="2210760"/>
              <a:ext cx="481680" cy="469080"/>
              <a:chOff x="4339800" y="2210760"/>
              <a:chExt cx="481680" cy="469080"/>
            </a:xfrm>
          </p:grpSpPr>
          <p:sp>
            <p:nvSpPr>
              <p:cNvPr id="453" name="十字星 176"/>
              <p:cNvSpPr/>
              <p:nvPr/>
            </p:nvSpPr>
            <p:spPr>
              <a:xfrm>
                <a:off x="4436280" y="2299320"/>
                <a:ext cx="289080" cy="290160"/>
              </a:xfrm>
              <a:custGeom>
                <a:avLst/>
                <a:gdLst>
                  <a:gd name="textAreaLeft" fmla="*/ 42840 w 289080"/>
                  <a:gd name="textAreaRight" fmla="*/ 246240 w 289080"/>
                  <a:gd name="textAreaTop" fmla="*/ 42840 h 290160"/>
                  <a:gd name="textAreaBottom" fmla="*/ 247320 h 290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3200" y="3200"/>
                    </a:lnTo>
                    <a:lnTo>
                      <a:pt x="10800" y="0"/>
                    </a:lnTo>
                    <a:lnTo>
                      <a:pt x="18400" y="3200"/>
                    </a:lnTo>
                    <a:lnTo>
                      <a:pt x="21600" y="10800"/>
                    </a:lnTo>
                    <a:lnTo>
                      <a:pt x="18400" y="18400"/>
                    </a:lnTo>
                    <a:lnTo>
                      <a:pt x="10800" y="21600"/>
                    </a:lnTo>
                    <a:lnTo>
                      <a:pt x="3200" y="18400"/>
                    </a:lnTo>
                    <a:lnTo>
                      <a:pt x="0" y="10800"/>
                    </a:lnTo>
                    <a:close/>
                  </a:path>
                </a:pathLst>
              </a:custGeom>
              <a:noFill/>
              <a:ln w="9360">
                <a:solidFill>
                  <a:srgbClr val="ffffff">
                    <a:alpha val="75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十字星 177"/>
              <p:cNvSpPr/>
              <p:nvPr/>
            </p:nvSpPr>
            <p:spPr>
              <a:xfrm>
                <a:off x="4512960" y="2379960"/>
                <a:ext cx="137520" cy="137880"/>
              </a:xfrm>
              <a:custGeom>
                <a:avLst/>
                <a:gdLst>
                  <a:gd name="textAreaLeft" fmla="*/ 20160 w 137520"/>
                  <a:gd name="textAreaRight" fmla="*/ 117360 w 137520"/>
                  <a:gd name="textAreaTop" fmla="*/ 20160 h 137880"/>
                  <a:gd name="textAreaBottom" fmla="*/ 117720 h 137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3200" y="3200"/>
                    </a:lnTo>
                    <a:lnTo>
                      <a:pt x="10800" y="0"/>
                    </a:lnTo>
                    <a:lnTo>
                      <a:pt x="18400" y="3200"/>
                    </a:lnTo>
                    <a:lnTo>
                      <a:pt x="21600" y="10800"/>
                    </a:lnTo>
                    <a:lnTo>
                      <a:pt x="18400" y="18400"/>
                    </a:lnTo>
                    <a:lnTo>
                      <a:pt x="10800" y="21600"/>
                    </a:lnTo>
                    <a:lnTo>
                      <a:pt x="3200" y="18400"/>
                    </a:lnTo>
                    <a:lnTo>
                      <a:pt x="0" y="10800"/>
                    </a:lnTo>
                    <a:close/>
                  </a:path>
                </a:pathLst>
              </a:custGeom>
              <a:noFill/>
              <a:ln w="9360">
                <a:solidFill>
                  <a:srgbClr val="ffffff">
                    <a:alpha val="75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任意多边形 178"/>
              <p:cNvSpPr/>
              <p:nvPr/>
            </p:nvSpPr>
            <p:spPr>
              <a:xfrm>
                <a:off x="4677120" y="2396520"/>
                <a:ext cx="23400" cy="99360"/>
              </a:xfrm>
              <a:custGeom>
                <a:avLst/>
                <a:gdLst>
                  <a:gd name="textAreaLeft" fmla="*/ 0 w 23400"/>
                  <a:gd name="textAreaRight" fmla="*/ 23760 w 23400"/>
                  <a:gd name="textAreaTop" fmla="*/ 0 h 99360"/>
                  <a:gd name="textAreaBottom" fmla="*/ 99720 h 99360"/>
                </a:gdLst>
                <a:ahLst/>
                <a:rect l="textAreaLeft" t="textAreaTop" r="textAreaRight" b="textAreaBottom"/>
                <a:pathLst>
                  <a:path w="105196" h="445062">
                    <a:moveTo>
                      <a:pt x="0" y="0"/>
                    </a:moveTo>
                    <a:lnTo>
                      <a:pt x="105196" y="218485"/>
                    </a:lnTo>
                    <a:lnTo>
                      <a:pt x="8092" y="445062"/>
                    </a:lnTo>
                  </a:path>
                </a:pathLst>
              </a:custGeom>
              <a:noFill/>
              <a:ln w="9360">
                <a:solidFill>
                  <a:srgbClr val="ffffff">
                    <a:alpha val="75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任意多边形 179"/>
              <p:cNvSpPr/>
              <p:nvPr/>
            </p:nvSpPr>
            <p:spPr>
              <a:xfrm flipH="1">
                <a:off x="4467600" y="2396160"/>
                <a:ext cx="23400" cy="9936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99360"/>
                  <a:gd name="textAreaBottom" fmla="*/ 99720 h 99360"/>
                </a:gdLst>
                <a:ahLst/>
                <a:rect l="textAreaLeft" t="textAreaTop" r="textAreaRight" b="textAreaBottom"/>
                <a:pathLst>
                  <a:path w="105196" h="445062">
                    <a:moveTo>
                      <a:pt x="0" y="0"/>
                    </a:moveTo>
                    <a:lnTo>
                      <a:pt x="105196" y="218485"/>
                    </a:lnTo>
                    <a:lnTo>
                      <a:pt x="8092" y="445062"/>
                    </a:lnTo>
                  </a:path>
                </a:pathLst>
              </a:custGeom>
              <a:noFill/>
              <a:ln w="9360">
                <a:solidFill>
                  <a:srgbClr val="ffffff">
                    <a:alpha val="75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任意多边形 180"/>
              <p:cNvSpPr/>
              <p:nvPr/>
            </p:nvSpPr>
            <p:spPr>
              <a:xfrm flipH="1" rot="16200000">
                <a:off x="4570920" y="2495520"/>
                <a:ext cx="23400" cy="9936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99360"/>
                  <a:gd name="textAreaBottom" fmla="*/ 99720 h 99360"/>
                </a:gdLst>
                <a:ahLst/>
                <a:rect l="textAreaLeft" t="textAreaTop" r="textAreaRight" b="textAreaBottom"/>
                <a:pathLst>
                  <a:path w="105196" h="445062">
                    <a:moveTo>
                      <a:pt x="0" y="0"/>
                    </a:moveTo>
                    <a:lnTo>
                      <a:pt x="105196" y="218485"/>
                    </a:lnTo>
                    <a:lnTo>
                      <a:pt x="8092" y="445062"/>
                    </a:lnTo>
                  </a:path>
                </a:pathLst>
              </a:custGeom>
              <a:noFill/>
              <a:ln w="9360">
                <a:solidFill>
                  <a:srgbClr val="ffffff">
                    <a:alpha val="75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任意多边形 181"/>
              <p:cNvSpPr/>
              <p:nvPr/>
            </p:nvSpPr>
            <p:spPr>
              <a:xfrm flipH="1" flipV="1" rot="5400000">
                <a:off x="4572360" y="2296440"/>
                <a:ext cx="23400" cy="9936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360 h 99360"/>
                  <a:gd name="textAreaBottom" fmla="*/ 100080 h 99360"/>
                </a:gdLst>
                <a:ahLst/>
                <a:rect l="textAreaLeft" t="textAreaTop" r="textAreaRight" b="textAreaBottom"/>
                <a:pathLst>
                  <a:path w="105196" h="445062">
                    <a:moveTo>
                      <a:pt x="0" y="0"/>
                    </a:moveTo>
                    <a:lnTo>
                      <a:pt x="105196" y="218485"/>
                    </a:lnTo>
                    <a:lnTo>
                      <a:pt x="8092" y="445062"/>
                    </a:lnTo>
                  </a:path>
                </a:pathLst>
              </a:custGeom>
              <a:noFill/>
              <a:ln w="9360">
                <a:solidFill>
                  <a:srgbClr val="ffffff">
                    <a:alpha val="75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59" name=""/>
              <p:cNvGrpSpPr/>
              <p:nvPr/>
            </p:nvGrpSpPr>
            <p:grpSpPr>
              <a:xfrm>
                <a:off x="4339800" y="2396160"/>
                <a:ext cx="481680" cy="101160"/>
                <a:chOff x="4339800" y="2396160"/>
                <a:chExt cx="481680" cy="101160"/>
              </a:xfrm>
            </p:grpSpPr>
            <p:sp>
              <p:nvSpPr>
                <p:cNvPr id="460" name="直接连接符 192"/>
                <p:cNvSpPr/>
                <p:nvPr/>
              </p:nvSpPr>
              <p:spPr>
                <a:xfrm flipH="1">
                  <a:off x="4344840" y="2444400"/>
                  <a:ext cx="466200" cy="720"/>
                </a:xfrm>
                <a:prstGeom prst="line">
                  <a:avLst/>
                </a:prstGeom>
                <a:ln w="9360">
                  <a:solidFill>
                    <a:srgbClr val="ffffff">
                      <a:alpha val="75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1" name="任意多边形 193"/>
                <p:cNvSpPr/>
                <p:nvPr/>
              </p:nvSpPr>
              <p:spPr>
                <a:xfrm flipH="1">
                  <a:off x="4797720" y="2396160"/>
                  <a:ext cx="23400" cy="9936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99360"/>
                    <a:gd name="textAreaBottom" fmla="*/ 99720 h 99360"/>
                  </a:gdLst>
                  <a:ahLst/>
                  <a:rect l="textAreaLeft" t="textAreaTop" r="textAreaRight" b="textAreaBottom"/>
                  <a:pathLst>
                    <a:path w="105196" h="445062">
                      <a:moveTo>
                        <a:pt x="0" y="0"/>
                      </a:moveTo>
                      <a:lnTo>
                        <a:pt x="105196" y="218485"/>
                      </a:lnTo>
                      <a:lnTo>
                        <a:pt x="8092" y="445062"/>
                      </a:lnTo>
                    </a:path>
                  </a:pathLst>
                </a:custGeom>
                <a:noFill/>
                <a:ln w="9360">
                  <a:solidFill>
                    <a:srgbClr val="ffffff">
                      <a:alpha val="75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2" name="任意多边形 194"/>
                <p:cNvSpPr/>
                <p:nvPr/>
              </p:nvSpPr>
              <p:spPr>
                <a:xfrm>
                  <a:off x="4339800" y="2397960"/>
                  <a:ext cx="23400" cy="99360"/>
                </a:xfrm>
                <a:custGeom>
                  <a:avLst/>
                  <a:gdLst>
                    <a:gd name="textAreaLeft" fmla="*/ 0 w 23400"/>
                    <a:gd name="textAreaRight" fmla="*/ 23760 w 23400"/>
                    <a:gd name="textAreaTop" fmla="*/ 0 h 99360"/>
                    <a:gd name="textAreaBottom" fmla="*/ 99720 h 99360"/>
                  </a:gdLst>
                  <a:ahLst/>
                  <a:rect l="textAreaLeft" t="textAreaTop" r="textAreaRight" b="textAreaBottom"/>
                  <a:pathLst>
                    <a:path w="105196" h="445062">
                      <a:moveTo>
                        <a:pt x="0" y="0"/>
                      </a:moveTo>
                      <a:lnTo>
                        <a:pt x="105196" y="218485"/>
                      </a:lnTo>
                      <a:lnTo>
                        <a:pt x="8092" y="445062"/>
                      </a:lnTo>
                    </a:path>
                  </a:pathLst>
                </a:custGeom>
                <a:noFill/>
                <a:ln w="9360">
                  <a:solidFill>
                    <a:srgbClr val="ffffff">
                      <a:alpha val="75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63" name="六边形 183"/>
              <p:cNvSpPr/>
              <p:nvPr/>
            </p:nvSpPr>
            <p:spPr>
              <a:xfrm>
                <a:off x="4387680" y="2266200"/>
                <a:ext cx="385920" cy="351000"/>
              </a:xfrm>
              <a:prstGeom prst="hexagon">
                <a:avLst>
                  <a:gd name="adj" fmla="val 24937"/>
                  <a:gd name="vf" fmla="val 115470"/>
                </a:avLst>
              </a:prstGeom>
              <a:noFill/>
              <a:ln w="9360">
                <a:solidFill>
                  <a:srgbClr val="ffffff">
                    <a:alpha val="75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64" name=""/>
              <p:cNvGrpSpPr/>
              <p:nvPr/>
            </p:nvGrpSpPr>
            <p:grpSpPr>
              <a:xfrm>
                <a:off x="4412160" y="2212560"/>
                <a:ext cx="329400" cy="467280"/>
                <a:chOff x="4412160" y="2212560"/>
                <a:chExt cx="329400" cy="467280"/>
              </a:xfrm>
            </p:grpSpPr>
            <p:sp>
              <p:nvSpPr>
                <p:cNvPr id="465" name="直接连接符 189"/>
                <p:cNvSpPr/>
                <p:nvPr/>
              </p:nvSpPr>
              <p:spPr>
                <a:xfrm flipH="1" flipV="1">
                  <a:off x="4460040" y="2240640"/>
                  <a:ext cx="234360" cy="404640"/>
                </a:xfrm>
                <a:prstGeom prst="line">
                  <a:avLst/>
                </a:prstGeom>
                <a:ln w="9360">
                  <a:solidFill>
                    <a:srgbClr val="ffffff">
                      <a:alpha val="75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6" name="任意多边形 190"/>
                <p:cNvSpPr/>
                <p:nvPr/>
              </p:nvSpPr>
              <p:spPr>
                <a:xfrm flipH="1" rot="3600000">
                  <a:off x="4680720" y="2594880"/>
                  <a:ext cx="23400" cy="9936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99360"/>
                    <a:gd name="textAreaBottom" fmla="*/ 99720 h 99360"/>
                  </a:gdLst>
                  <a:ahLst/>
                  <a:rect l="textAreaLeft" t="textAreaTop" r="textAreaRight" b="textAreaBottom"/>
                  <a:pathLst>
                    <a:path w="105196" h="445062">
                      <a:moveTo>
                        <a:pt x="0" y="0"/>
                      </a:moveTo>
                      <a:lnTo>
                        <a:pt x="105196" y="218485"/>
                      </a:lnTo>
                      <a:lnTo>
                        <a:pt x="8092" y="445062"/>
                      </a:lnTo>
                    </a:path>
                  </a:pathLst>
                </a:custGeom>
                <a:noFill/>
                <a:ln w="9360">
                  <a:solidFill>
                    <a:srgbClr val="ffffff">
                      <a:alpha val="75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7" name="任意多边形 191"/>
                <p:cNvSpPr/>
                <p:nvPr/>
              </p:nvSpPr>
              <p:spPr>
                <a:xfrm rot="3600000">
                  <a:off x="4449240" y="2197800"/>
                  <a:ext cx="23400" cy="99360"/>
                </a:xfrm>
                <a:custGeom>
                  <a:avLst/>
                  <a:gdLst>
                    <a:gd name="textAreaLeft" fmla="*/ 0 w 23400"/>
                    <a:gd name="textAreaRight" fmla="*/ 23760 w 23400"/>
                    <a:gd name="textAreaTop" fmla="*/ 0 h 99360"/>
                    <a:gd name="textAreaBottom" fmla="*/ 99720 h 99360"/>
                  </a:gdLst>
                  <a:ahLst/>
                  <a:rect l="textAreaLeft" t="textAreaTop" r="textAreaRight" b="textAreaBottom"/>
                  <a:pathLst>
                    <a:path w="105196" h="445062">
                      <a:moveTo>
                        <a:pt x="0" y="0"/>
                      </a:moveTo>
                      <a:lnTo>
                        <a:pt x="105196" y="218485"/>
                      </a:lnTo>
                      <a:lnTo>
                        <a:pt x="8092" y="445062"/>
                      </a:lnTo>
                    </a:path>
                  </a:pathLst>
                </a:custGeom>
                <a:noFill/>
                <a:ln w="9360">
                  <a:solidFill>
                    <a:srgbClr val="ffffff">
                      <a:alpha val="75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68" name=""/>
              <p:cNvGrpSpPr/>
              <p:nvPr/>
            </p:nvGrpSpPr>
            <p:grpSpPr>
              <a:xfrm>
                <a:off x="4419720" y="2210760"/>
                <a:ext cx="329400" cy="468360"/>
                <a:chOff x="4419720" y="2210760"/>
                <a:chExt cx="329400" cy="468360"/>
              </a:xfrm>
            </p:grpSpPr>
            <p:sp>
              <p:nvSpPr>
                <p:cNvPr id="469" name="直接连接符 186"/>
                <p:cNvSpPr/>
                <p:nvPr/>
              </p:nvSpPr>
              <p:spPr>
                <a:xfrm flipV="1">
                  <a:off x="4466880" y="2238840"/>
                  <a:ext cx="234360" cy="404640"/>
                </a:xfrm>
                <a:prstGeom prst="line">
                  <a:avLst/>
                </a:prstGeom>
                <a:ln w="9360">
                  <a:solidFill>
                    <a:srgbClr val="ffffff">
                      <a:alpha val="75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0" name="任意多边形 187"/>
                <p:cNvSpPr/>
                <p:nvPr/>
              </p:nvSpPr>
              <p:spPr>
                <a:xfrm rot="18000000">
                  <a:off x="4456800" y="2593440"/>
                  <a:ext cx="23400" cy="99720"/>
                </a:xfrm>
                <a:custGeom>
                  <a:avLst/>
                  <a:gdLst>
                    <a:gd name="textAreaLeft" fmla="*/ 0 w 23400"/>
                    <a:gd name="textAreaRight" fmla="*/ 23760 w 23400"/>
                    <a:gd name="textAreaTop" fmla="*/ 0 h 99720"/>
                    <a:gd name="textAreaBottom" fmla="*/ 100080 h 99720"/>
                  </a:gdLst>
                  <a:ahLst/>
                  <a:rect l="textAreaLeft" t="textAreaTop" r="textAreaRight" b="textAreaBottom"/>
                  <a:pathLst>
                    <a:path w="105196" h="445062">
                      <a:moveTo>
                        <a:pt x="0" y="0"/>
                      </a:moveTo>
                      <a:lnTo>
                        <a:pt x="105196" y="218485"/>
                      </a:lnTo>
                      <a:lnTo>
                        <a:pt x="8092" y="445062"/>
                      </a:lnTo>
                    </a:path>
                  </a:pathLst>
                </a:custGeom>
                <a:noFill/>
                <a:ln w="9360">
                  <a:solidFill>
                    <a:srgbClr val="ffffff">
                      <a:alpha val="75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1" name="任意多边形 188"/>
                <p:cNvSpPr/>
                <p:nvPr/>
              </p:nvSpPr>
              <p:spPr>
                <a:xfrm flipH="1" rot="18000000">
                  <a:off x="4688280" y="2196000"/>
                  <a:ext cx="23400" cy="9972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99720"/>
                    <a:gd name="textAreaBottom" fmla="*/ 100080 h 99720"/>
                  </a:gdLst>
                  <a:ahLst/>
                  <a:rect l="textAreaLeft" t="textAreaTop" r="textAreaRight" b="textAreaBottom"/>
                  <a:pathLst>
                    <a:path w="105196" h="445062">
                      <a:moveTo>
                        <a:pt x="0" y="0"/>
                      </a:moveTo>
                      <a:lnTo>
                        <a:pt x="105196" y="218485"/>
                      </a:lnTo>
                      <a:lnTo>
                        <a:pt x="8092" y="445062"/>
                      </a:lnTo>
                    </a:path>
                  </a:pathLst>
                </a:custGeom>
                <a:noFill/>
                <a:ln w="9360">
                  <a:solidFill>
                    <a:srgbClr val="ffffff">
                      <a:alpha val="75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472" name=""/>
          <p:cNvGrpSpPr/>
          <p:nvPr/>
        </p:nvGrpSpPr>
        <p:grpSpPr>
          <a:xfrm>
            <a:off x="9109080" y="-1298520"/>
            <a:ext cx="5748480" cy="8339040"/>
            <a:chOff x="9109080" y="-1298520"/>
            <a:chExt cx="5748480" cy="8339040"/>
          </a:xfrm>
        </p:grpSpPr>
        <p:grpSp>
          <p:nvGrpSpPr>
            <p:cNvPr id="473" name=""/>
            <p:cNvGrpSpPr/>
            <p:nvPr/>
          </p:nvGrpSpPr>
          <p:grpSpPr>
            <a:xfrm>
              <a:off x="10599840" y="1909800"/>
              <a:ext cx="1476000" cy="1058400"/>
              <a:chOff x="10599840" y="1909800"/>
              <a:chExt cx="1476000" cy="1058400"/>
            </a:xfrm>
          </p:grpSpPr>
          <p:sp>
            <p:nvSpPr>
              <p:cNvPr id="474" name="任意多边形 217"/>
              <p:cNvSpPr/>
              <p:nvPr/>
            </p:nvSpPr>
            <p:spPr>
              <a:xfrm rot="17128200">
                <a:off x="10972800" y="1774080"/>
                <a:ext cx="730080" cy="1329480"/>
              </a:xfrm>
              <a:custGeom>
                <a:avLst/>
                <a:gdLst>
                  <a:gd name="textAreaLeft" fmla="*/ 0 w 730080"/>
                  <a:gd name="textAreaRight" fmla="*/ 730440 w 730080"/>
                  <a:gd name="textAreaTop" fmla="*/ 0 h 1329480"/>
                  <a:gd name="textAreaBottom" fmla="*/ 1329840 h 1329480"/>
                </a:gdLst>
                <a:ahLst/>
                <a:rect l="textAreaLeft" t="textAreaTop" r="textAreaRight" b="textAreaBottom"/>
                <a:pathLst>
                  <a:path w="2065867" h="4030133">
                    <a:moveTo>
                      <a:pt x="270933" y="677333"/>
                    </a:moveTo>
                    <a:cubicBezTo>
                      <a:pt x="259644" y="733778"/>
                      <a:pt x="257278" y="792770"/>
                      <a:pt x="237067" y="846667"/>
                    </a:cubicBezTo>
                    <a:cubicBezTo>
                      <a:pt x="222775" y="884778"/>
                      <a:pt x="187536" y="911861"/>
                      <a:pt x="169333" y="948267"/>
                    </a:cubicBezTo>
                    <a:cubicBezTo>
                      <a:pt x="153368" y="980197"/>
                      <a:pt x="146756" y="1016000"/>
                      <a:pt x="135467" y="1049867"/>
                    </a:cubicBezTo>
                    <a:cubicBezTo>
                      <a:pt x="124178" y="1128889"/>
                      <a:pt x="124537" y="1210475"/>
                      <a:pt x="101600" y="1286933"/>
                    </a:cubicBezTo>
                    <a:cubicBezTo>
                      <a:pt x="89904" y="1325919"/>
                      <a:pt x="52070" y="1352127"/>
                      <a:pt x="33867" y="1388533"/>
                    </a:cubicBezTo>
                    <a:cubicBezTo>
                      <a:pt x="17902" y="1420463"/>
                      <a:pt x="11289" y="1456266"/>
                      <a:pt x="0" y="1490133"/>
                    </a:cubicBezTo>
                    <a:cubicBezTo>
                      <a:pt x="11289" y="1648178"/>
                      <a:pt x="6331" y="1808231"/>
                      <a:pt x="33867" y="1964267"/>
                    </a:cubicBezTo>
                    <a:cubicBezTo>
                      <a:pt x="40941" y="2004350"/>
                      <a:pt x="77942" y="2032746"/>
                      <a:pt x="101600" y="2065867"/>
                    </a:cubicBezTo>
                    <a:cubicBezTo>
                      <a:pt x="134408" y="2111798"/>
                      <a:pt x="167065" y="2157971"/>
                      <a:pt x="203200" y="2201333"/>
                    </a:cubicBezTo>
                    <a:cubicBezTo>
                      <a:pt x="223641" y="2225862"/>
                      <a:pt x="253221" y="2242500"/>
                      <a:pt x="270933" y="2269067"/>
                    </a:cubicBezTo>
                    <a:cubicBezTo>
                      <a:pt x="298937" y="2311073"/>
                      <a:pt x="313619" y="2360700"/>
                      <a:pt x="338667" y="2404533"/>
                    </a:cubicBezTo>
                    <a:cubicBezTo>
                      <a:pt x="443708" y="2588354"/>
                      <a:pt x="378175" y="2421458"/>
                      <a:pt x="440267" y="2607733"/>
                    </a:cubicBezTo>
                    <a:cubicBezTo>
                      <a:pt x="451556" y="2686755"/>
                      <a:pt x="448890" y="2769072"/>
                      <a:pt x="474133" y="2844800"/>
                    </a:cubicBezTo>
                    <a:cubicBezTo>
                      <a:pt x="484230" y="2875091"/>
                      <a:pt x="525439" y="2885153"/>
                      <a:pt x="541867" y="2912533"/>
                    </a:cubicBezTo>
                    <a:cubicBezTo>
                      <a:pt x="692110" y="3162937"/>
                      <a:pt x="437916" y="2858793"/>
                      <a:pt x="643467" y="3115733"/>
                    </a:cubicBezTo>
                    <a:cubicBezTo>
                      <a:pt x="663413" y="3140666"/>
                      <a:pt x="691254" y="3158534"/>
                      <a:pt x="711200" y="3183467"/>
                    </a:cubicBezTo>
                    <a:cubicBezTo>
                      <a:pt x="736627" y="3215251"/>
                      <a:pt x="752130" y="3254435"/>
                      <a:pt x="778933" y="3285067"/>
                    </a:cubicBezTo>
                    <a:cubicBezTo>
                      <a:pt x="831498" y="3345141"/>
                      <a:pt x="900372" y="3390540"/>
                      <a:pt x="948267" y="3454400"/>
                    </a:cubicBezTo>
                    <a:cubicBezTo>
                      <a:pt x="982134" y="3499556"/>
                      <a:pt x="1019951" y="3542002"/>
                      <a:pt x="1049867" y="3589867"/>
                    </a:cubicBezTo>
                    <a:cubicBezTo>
                      <a:pt x="1076624" y="3632678"/>
                      <a:pt x="1089596" y="3683327"/>
                      <a:pt x="1117600" y="3725333"/>
                    </a:cubicBezTo>
                    <a:cubicBezTo>
                      <a:pt x="1164328" y="3795425"/>
                      <a:pt x="1222230" y="3809038"/>
                      <a:pt x="1286933" y="3860800"/>
                    </a:cubicBezTo>
                    <a:cubicBezTo>
                      <a:pt x="1311866" y="3880746"/>
                      <a:pt x="1328100" y="3910821"/>
                      <a:pt x="1354667" y="3928533"/>
                    </a:cubicBezTo>
                    <a:cubicBezTo>
                      <a:pt x="1438370" y="3984335"/>
                      <a:pt x="1501418" y="4000029"/>
                      <a:pt x="1591733" y="4030133"/>
                    </a:cubicBezTo>
                    <a:cubicBezTo>
                      <a:pt x="1670755" y="4018844"/>
                      <a:pt x="1753072" y="4021510"/>
                      <a:pt x="1828800" y="3996267"/>
                    </a:cubicBezTo>
                    <a:cubicBezTo>
                      <a:pt x="1947678" y="3956641"/>
                      <a:pt x="1962781" y="3628192"/>
                      <a:pt x="1964267" y="3623733"/>
                    </a:cubicBezTo>
                    <a:cubicBezTo>
                      <a:pt x="1977138" y="3585119"/>
                      <a:pt x="2013797" y="3558539"/>
                      <a:pt x="2032000" y="3522133"/>
                    </a:cubicBezTo>
                    <a:cubicBezTo>
                      <a:pt x="2047965" y="3490203"/>
                      <a:pt x="2054578" y="3454400"/>
                      <a:pt x="2065867" y="3420533"/>
                    </a:cubicBezTo>
                    <a:cubicBezTo>
                      <a:pt x="2054578" y="3318933"/>
                      <a:pt x="2052048" y="3215973"/>
                      <a:pt x="2032000" y="3115733"/>
                    </a:cubicBezTo>
                    <a:cubicBezTo>
                      <a:pt x="2017998" y="3045722"/>
                      <a:pt x="1964267" y="2912533"/>
                      <a:pt x="1964267" y="2912533"/>
                    </a:cubicBezTo>
                    <a:cubicBezTo>
                      <a:pt x="2045473" y="2668911"/>
                      <a:pt x="1946942" y="2973167"/>
                      <a:pt x="2032000" y="2675467"/>
                    </a:cubicBezTo>
                    <a:cubicBezTo>
                      <a:pt x="2041807" y="2641142"/>
                      <a:pt x="2054578" y="2607734"/>
                      <a:pt x="2065867" y="2573867"/>
                    </a:cubicBezTo>
                    <a:cubicBezTo>
                      <a:pt x="1988036" y="2340376"/>
                      <a:pt x="2048618" y="2421153"/>
                      <a:pt x="1930400" y="2302933"/>
                    </a:cubicBezTo>
                    <a:cubicBezTo>
                      <a:pt x="1919111" y="2257778"/>
                      <a:pt x="1909320" y="2212221"/>
                      <a:pt x="1896533" y="2167467"/>
                    </a:cubicBezTo>
                    <a:cubicBezTo>
                      <a:pt x="1886726" y="2133142"/>
                      <a:pt x="1868536" y="2101080"/>
                      <a:pt x="1862667" y="2065867"/>
                    </a:cubicBezTo>
                    <a:cubicBezTo>
                      <a:pt x="1846052" y="1966175"/>
                      <a:pt x="1835554" y="1713597"/>
                      <a:pt x="1794933" y="1591733"/>
                    </a:cubicBezTo>
                    <a:cubicBezTo>
                      <a:pt x="1778968" y="1543839"/>
                      <a:pt x="1753174" y="1499558"/>
                      <a:pt x="1727200" y="1456267"/>
                    </a:cubicBezTo>
                    <a:cubicBezTo>
                      <a:pt x="1685317" y="1386462"/>
                      <a:pt x="1591733" y="1253067"/>
                      <a:pt x="1591733" y="1253067"/>
                    </a:cubicBezTo>
                    <a:cubicBezTo>
                      <a:pt x="1555962" y="1145753"/>
                      <a:pt x="1565165" y="1143657"/>
                      <a:pt x="1490133" y="1049867"/>
                    </a:cubicBezTo>
                    <a:cubicBezTo>
                      <a:pt x="1470187" y="1024934"/>
                      <a:pt x="1442346" y="1007066"/>
                      <a:pt x="1422400" y="982133"/>
                    </a:cubicBezTo>
                    <a:cubicBezTo>
                      <a:pt x="1396973" y="950349"/>
                      <a:pt x="1380094" y="912316"/>
                      <a:pt x="1354667" y="880533"/>
                    </a:cubicBezTo>
                    <a:cubicBezTo>
                      <a:pt x="1334721" y="855600"/>
                      <a:pt x="1306879" y="837733"/>
                      <a:pt x="1286933" y="812800"/>
                    </a:cubicBezTo>
                    <a:cubicBezTo>
                      <a:pt x="1261506" y="781017"/>
                      <a:pt x="1246241" y="741622"/>
                      <a:pt x="1219200" y="711200"/>
                    </a:cubicBezTo>
                    <a:cubicBezTo>
                      <a:pt x="1155561" y="639606"/>
                      <a:pt x="1095702" y="561134"/>
                      <a:pt x="1016000" y="508000"/>
                    </a:cubicBezTo>
                    <a:cubicBezTo>
                      <a:pt x="887833" y="422556"/>
                      <a:pt x="943181" y="469048"/>
                      <a:pt x="846667" y="372533"/>
                    </a:cubicBezTo>
                    <a:cubicBezTo>
                      <a:pt x="835378" y="338666"/>
                      <a:pt x="832602" y="300636"/>
                      <a:pt x="812800" y="270933"/>
                    </a:cubicBezTo>
                    <a:cubicBezTo>
                      <a:pt x="786233" y="231082"/>
                      <a:pt x="749006" y="198737"/>
                      <a:pt x="711200" y="169333"/>
                    </a:cubicBezTo>
                    <a:cubicBezTo>
                      <a:pt x="536524" y="33474"/>
                      <a:pt x="559693" y="51098"/>
                      <a:pt x="406400" y="0"/>
                    </a:cubicBezTo>
                    <a:cubicBezTo>
                      <a:pt x="361244" y="11289"/>
                      <a:pt x="313715" y="15532"/>
                      <a:pt x="270933" y="33867"/>
                    </a:cubicBezTo>
                    <a:cubicBezTo>
                      <a:pt x="53886" y="126887"/>
                      <a:pt x="173770" y="228415"/>
                      <a:pt x="203200" y="508000"/>
                    </a:cubicBezTo>
                    <a:cubicBezTo>
                      <a:pt x="230238" y="764856"/>
                      <a:pt x="168958" y="711013"/>
                      <a:pt x="304800" y="778933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任意多边形 218"/>
              <p:cNvSpPr/>
              <p:nvPr/>
            </p:nvSpPr>
            <p:spPr>
              <a:xfrm rot="17128200">
                <a:off x="10897560" y="2072880"/>
                <a:ext cx="353160" cy="682200"/>
              </a:xfrm>
              <a:custGeom>
                <a:avLst/>
                <a:gdLst>
                  <a:gd name="textAreaLeft" fmla="*/ 0 w 353160"/>
                  <a:gd name="textAreaRight" fmla="*/ 353520 w 353160"/>
                  <a:gd name="textAreaTop" fmla="*/ 0 h 682200"/>
                  <a:gd name="textAreaBottom" fmla="*/ 682560 h 682200"/>
                </a:gdLst>
                <a:ahLst/>
                <a:rect l="textAreaLeft" t="textAreaTop" r="textAreaRight" b="textAreaBottom"/>
                <a:pathLst>
                  <a:path w="2065867" h="4030133">
                    <a:moveTo>
                      <a:pt x="270933" y="677333"/>
                    </a:moveTo>
                    <a:cubicBezTo>
                      <a:pt x="259644" y="733778"/>
                      <a:pt x="257278" y="792770"/>
                      <a:pt x="237067" y="846667"/>
                    </a:cubicBezTo>
                    <a:cubicBezTo>
                      <a:pt x="222775" y="884778"/>
                      <a:pt x="187536" y="911861"/>
                      <a:pt x="169333" y="948267"/>
                    </a:cubicBezTo>
                    <a:cubicBezTo>
                      <a:pt x="153368" y="980197"/>
                      <a:pt x="146756" y="1016000"/>
                      <a:pt x="135467" y="1049867"/>
                    </a:cubicBezTo>
                    <a:cubicBezTo>
                      <a:pt x="124178" y="1128889"/>
                      <a:pt x="124537" y="1210475"/>
                      <a:pt x="101600" y="1286933"/>
                    </a:cubicBezTo>
                    <a:cubicBezTo>
                      <a:pt x="89904" y="1325919"/>
                      <a:pt x="52070" y="1352127"/>
                      <a:pt x="33867" y="1388533"/>
                    </a:cubicBezTo>
                    <a:cubicBezTo>
                      <a:pt x="17902" y="1420463"/>
                      <a:pt x="11289" y="1456266"/>
                      <a:pt x="0" y="1490133"/>
                    </a:cubicBezTo>
                    <a:cubicBezTo>
                      <a:pt x="11289" y="1648178"/>
                      <a:pt x="6331" y="1808231"/>
                      <a:pt x="33867" y="1964267"/>
                    </a:cubicBezTo>
                    <a:cubicBezTo>
                      <a:pt x="40941" y="2004350"/>
                      <a:pt x="77942" y="2032746"/>
                      <a:pt x="101600" y="2065867"/>
                    </a:cubicBezTo>
                    <a:cubicBezTo>
                      <a:pt x="134408" y="2111798"/>
                      <a:pt x="167065" y="2157971"/>
                      <a:pt x="203200" y="2201333"/>
                    </a:cubicBezTo>
                    <a:cubicBezTo>
                      <a:pt x="223641" y="2225862"/>
                      <a:pt x="253221" y="2242500"/>
                      <a:pt x="270933" y="2269067"/>
                    </a:cubicBezTo>
                    <a:cubicBezTo>
                      <a:pt x="298937" y="2311073"/>
                      <a:pt x="313619" y="2360700"/>
                      <a:pt x="338667" y="2404533"/>
                    </a:cubicBezTo>
                    <a:cubicBezTo>
                      <a:pt x="443708" y="2588354"/>
                      <a:pt x="378175" y="2421458"/>
                      <a:pt x="440267" y="2607733"/>
                    </a:cubicBezTo>
                    <a:cubicBezTo>
                      <a:pt x="451556" y="2686755"/>
                      <a:pt x="448890" y="2769072"/>
                      <a:pt x="474133" y="2844800"/>
                    </a:cubicBezTo>
                    <a:cubicBezTo>
                      <a:pt x="484230" y="2875091"/>
                      <a:pt x="525439" y="2885153"/>
                      <a:pt x="541867" y="2912533"/>
                    </a:cubicBezTo>
                    <a:cubicBezTo>
                      <a:pt x="692110" y="3162937"/>
                      <a:pt x="437916" y="2858793"/>
                      <a:pt x="643467" y="3115733"/>
                    </a:cubicBezTo>
                    <a:cubicBezTo>
                      <a:pt x="663413" y="3140666"/>
                      <a:pt x="691254" y="3158534"/>
                      <a:pt x="711200" y="3183467"/>
                    </a:cubicBezTo>
                    <a:cubicBezTo>
                      <a:pt x="736627" y="3215251"/>
                      <a:pt x="752130" y="3254435"/>
                      <a:pt x="778933" y="3285067"/>
                    </a:cubicBezTo>
                    <a:cubicBezTo>
                      <a:pt x="831498" y="3345141"/>
                      <a:pt x="900372" y="3390540"/>
                      <a:pt x="948267" y="3454400"/>
                    </a:cubicBezTo>
                    <a:cubicBezTo>
                      <a:pt x="982134" y="3499556"/>
                      <a:pt x="1019951" y="3542002"/>
                      <a:pt x="1049867" y="3589867"/>
                    </a:cubicBezTo>
                    <a:cubicBezTo>
                      <a:pt x="1076624" y="3632678"/>
                      <a:pt x="1089596" y="3683327"/>
                      <a:pt x="1117600" y="3725333"/>
                    </a:cubicBezTo>
                    <a:cubicBezTo>
                      <a:pt x="1164328" y="3795425"/>
                      <a:pt x="1222230" y="3809038"/>
                      <a:pt x="1286933" y="3860800"/>
                    </a:cubicBezTo>
                    <a:cubicBezTo>
                      <a:pt x="1311866" y="3880746"/>
                      <a:pt x="1328100" y="3910821"/>
                      <a:pt x="1354667" y="3928533"/>
                    </a:cubicBezTo>
                    <a:cubicBezTo>
                      <a:pt x="1438370" y="3984335"/>
                      <a:pt x="1501418" y="4000029"/>
                      <a:pt x="1591733" y="4030133"/>
                    </a:cubicBezTo>
                    <a:cubicBezTo>
                      <a:pt x="1670755" y="4018844"/>
                      <a:pt x="1753072" y="4021510"/>
                      <a:pt x="1828800" y="3996267"/>
                    </a:cubicBezTo>
                    <a:cubicBezTo>
                      <a:pt x="1947678" y="3956641"/>
                      <a:pt x="1962781" y="3628192"/>
                      <a:pt x="1964267" y="3623733"/>
                    </a:cubicBezTo>
                    <a:cubicBezTo>
                      <a:pt x="1977138" y="3585119"/>
                      <a:pt x="2013797" y="3558539"/>
                      <a:pt x="2032000" y="3522133"/>
                    </a:cubicBezTo>
                    <a:cubicBezTo>
                      <a:pt x="2047965" y="3490203"/>
                      <a:pt x="2054578" y="3454400"/>
                      <a:pt x="2065867" y="3420533"/>
                    </a:cubicBezTo>
                    <a:cubicBezTo>
                      <a:pt x="2054578" y="3318933"/>
                      <a:pt x="2052048" y="3215973"/>
                      <a:pt x="2032000" y="3115733"/>
                    </a:cubicBezTo>
                    <a:cubicBezTo>
                      <a:pt x="2017998" y="3045722"/>
                      <a:pt x="1964267" y="2912533"/>
                      <a:pt x="1964267" y="2912533"/>
                    </a:cubicBezTo>
                    <a:cubicBezTo>
                      <a:pt x="2045473" y="2668911"/>
                      <a:pt x="1946942" y="2973167"/>
                      <a:pt x="2032000" y="2675467"/>
                    </a:cubicBezTo>
                    <a:cubicBezTo>
                      <a:pt x="2041807" y="2641142"/>
                      <a:pt x="2054578" y="2607734"/>
                      <a:pt x="2065867" y="2573867"/>
                    </a:cubicBezTo>
                    <a:cubicBezTo>
                      <a:pt x="1988036" y="2340376"/>
                      <a:pt x="2048618" y="2421153"/>
                      <a:pt x="1930400" y="2302933"/>
                    </a:cubicBezTo>
                    <a:cubicBezTo>
                      <a:pt x="1919111" y="2257778"/>
                      <a:pt x="1909320" y="2212221"/>
                      <a:pt x="1896533" y="2167467"/>
                    </a:cubicBezTo>
                    <a:cubicBezTo>
                      <a:pt x="1886726" y="2133142"/>
                      <a:pt x="1868536" y="2101080"/>
                      <a:pt x="1862667" y="2065867"/>
                    </a:cubicBezTo>
                    <a:cubicBezTo>
                      <a:pt x="1846052" y="1966175"/>
                      <a:pt x="1835554" y="1713597"/>
                      <a:pt x="1794933" y="1591733"/>
                    </a:cubicBezTo>
                    <a:cubicBezTo>
                      <a:pt x="1778968" y="1543839"/>
                      <a:pt x="1753174" y="1499558"/>
                      <a:pt x="1727200" y="1456267"/>
                    </a:cubicBezTo>
                    <a:cubicBezTo>
                      <a:pt x="1685317" y="1386462"/>
                      <a:pt x="1591733" y="1253067"/>
                      <a:pt x="1591733" y="1253067"/>
                    </a:cubicBezTo>
                    <a:cubicBezTo>
                      <a:pt x="1555962" y="1145753"/>
                      <a:pt x="1565165" y="1143657"/>
                      <a:pt x="1490133" y="1049867"/>
                    </a:cubicBezTo>
                    <a:cubicBezTo>
                      <a:pt x="1470187" y="1024934"/>
                      <a:pt x="1442346" y="1007066"/>
                      <a:pt x="1422400" y="982133"/>
                    </a:cubicBezTo>
                    <a:cubicBezTo>
                      <a:pt x="1396973" y="950349"/>
                      <a:pt x="1380094" y="912316"/>
                      <a:pt x="1354667" y="880533"/>
                    </a:cubicBezTo>
                    <a:cubicBezTo>
                      <a:pt x="1334721" y="855600"/>
                      <a:pt x="1306879" y="837733"/>
                      <a:pt x="1286933" y="812800"/>
                    </a:cubicBezTo>
                    <a:cubicBezTo>
                      <a:pt x="1261506" y="781017"/>
                      <a:pt x="1246241" y="741622"/>
                      <a:pt x="1219200" y="711200"/>
                    </a:cubicBezTo>
                    <a:cubicBezTo>
                      <a:pt x="1155561" y="639606"/>
                      <a:pt x="1095702" y="561134"/>
                      <a:pt x="1016000" y="508000"/>
                    </a:cubicBezTo>
                    <a:cubicBezTo>
                      <a:pt x="887833" y="422556"/>
                      <a:pt x="943181" y="469048"/>
                      <a:pt x="846667" y="372533"/>
                    </a:cubicBezTo>
                    <a:cubicBezTo>
                      <a:pt x="835378" y="338666"/>
                      <a:pt x="832602" y="300636"/>
                      <a:pt x="812800" y="270933"/>
                    </a:cubicBezTo>
                    <a:cubicBezTo>
                      <a:pt x="786233" y="231082"/>
                      <a:pt x="749006" y="198737"/>
                      <a:pt x="711200" y="169333"/>
                    </a:cubicBezTo>
                    <a:cubicBezTo>
                      <a:pt x="536524" y="33474"/>
                      <a:pt x="559693" y="51098"/>
                      <a:pt x="406400" y="0"/>
                    </a:cubicBezTo>
                    <a:cubicBezTo>
                      <a:pt x="361244" y="11289"/>
                      <a:pt x="313715" y="15532"/>
                      <a:pt x="270933" y="33867"/>
                    </a:cubicBezTo>
                    <a:cubicBezTo>
                      <a:pt x="53886" y="126887"/>
                      <a:pt x="173770" y="228415"/>
                      <a:pt x="203200" y="508000"/>
                    </a:cubicBezTo>
                    <a:cubicBezTo>
                      <a:pt x="230238" y="764856"/>
                      <a:pt x="168958" y="711013"/>
                      <a:pt x="304800" y="778933"/>
                    </a:cubicBezTo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任意多边形 219"/>
              <p:cNvSpPr/>
              <p:nvPr/>
            </p:nvSpPr>
            <p:spPr>
              <a:xfrm rot="17128200">
                <a:off x="11407320" y="2028240"/>
                <a:ext cx="169920" cy="512640"/>
              </a:xfrm>
              <a:custGeom>
                <a:avLst/>
                <a:gdLst>
                  <a:gd name="textAreaLeft" fmla="*/ 0 w 169920"/>
                  <a:gd name="textAreaRight" fmla="*/ 170280 w 169920"/>
                  <a:gd name="textAreaTop" fmla="*/ 0 h 512640"/>
                  <a:gd name="textAreaBottom" fmla="*/ 513000 h 512640"/>
                </a:gdLst>
                <a:ahLst/>
                <a:rect l="textAreaLeft" t="textAreaTop" r="textAreaRight" b="textAreaBottom"/>
                <a:pathLst>
                  <a:path w="2065867" h="4030133">
                    <a:moveTo>
                      <a:pt x="270933" y="677333"/>
                    </a:moveTo>
                    <a:cubicBezTo>
                      <a:pt x="259644" y="733778"/>
                      <a:pt x="257278" y="792770"/>
                      <a:pt x="237067" y="846667"/>
                    </a:cubicBezTo>
                    <a:cubicBezTo>
                      <a:pt x="222775" y="884778"/>
                      <a:pt x="187536" y="911861"/>
                      <a:pt x="169333" y="948267"/>
                    </a:cubicBezTo>
                    <a:cubicBezTo>
                      <a:pt x="153368" y="980197"/>
                      <a:pt x="146756" y="1016000"/>
                      <a:pt x="135467" y="1049867"/>
                    </a:cubicBezTo>
                    <a:cubicBezTo>
                      <a:pt x="124178" y="1128889"/>
                      <a:pt x="124537" y="1210475"/>
                      <a:pt x="101600" y="1286933"/>
                    </a:cubicBezTo>
                    <a:cubicBezTo>
                      <a:pt x="89904" y="1325919"/>
                      <a:pt x="52070" y="1352127"/>
                      <a:pt x="33867" y="1388533"/>
                    </a:cubicBezTo>
                    <a:cubicBezTo>
                      <a:pt x="17902" y="1420463"/>
                      <a:pt x="11289" y="1456266"/>
                      <a:pt x="0" y="1490133"/>
                    </a:cubicBezTo>
                    <a:cubicBezTo>
                      <a:pt x="11289" y="1648178"/>
                      <a:pt x="6331" y="1808231"/>
                      <a:pt x="33867" y="1964267"/>
                    </a:cubicBezTo>
                    <a:cubicBezTo>
                      <a:pt x="40941" y="2004350"/>
                      <a:pt x="77942" y="2032746"/>
                      <a:pt x="101600" y="2065867"/>
                    </a:cubicBezTo>
                    <a:cubicBezTo>
                      <a:pt x="134408" y="2111798"/>
                      <a:pt x="167065" y="2157971"/>
                      <a:pt x="203200" y="2201333"/>
                    </a:cubicBezTo>
                    <a:cubicBezTo>
                      <a:pt x="223641" y="2225862"/>
                      <a:pt x="253221" y="2242500"/>
                      <a:pt x="270933" y="2269067"/>
                    </a:cubicBezTo>
                    <a:cubicBezTo>
                      <a:pt x="298937" y="2311073"/>
                      <a:pt x="313619" y="2360700"/>
                      <a:pt x="338667" y="2404533"/>
                    </a:cubicBezTo>
                    <a:cubicBezTo>
                      <a:pt x="443708" y="2588354"/>
                      <a:pt x="378175" y="2421458"/>
                      <a:pt x="440267" y="2607733"/>
                    </a:cubicBezTo>
                    <a:cubicBezTo>
                      <a:pt x="451556" y="2686755"/>
                      <a:pt x="448890" y="2769072"/>
                      <a:pt x="474133" y="2844800"/>
                    </a:cubicBezTo>
                    <a:cubicBezTo>
                      <a:pt x="484230" y="2875091"/>
                      <a:pt x="525439" y="2885153"/>
                      <a:pt x="541867" y="2912533"/>
                    </a:cubicBezTo>
                    <a:cubicBezTo>
                      <a:pt x="692110" y="3162937"/>
                      <a:pt x="437916" y="2858793"/>
                      <a:pt x="643467" y="3115733"/>
                    </a:cubicBezTo>
                    <a:cubicBezTo>
                      <a:pt x="663413" y="3140666"/>
                      <a:pt x="691254" y="3158534"/>
                      <a:pt x="711200" y="3183467"/>
                    </a:cubicBezTo>
                    <a:cubicBezTo>
                      <a:pt x="736627" y="3215251"/>
                      <a:pt x="752130" y="3254435"/>
                      <a:pt x="778933" y="3285067"/>
                    </a:cubicBezTo>
                    <a:cubicBezTo>
                      <a:pt x="831498" y="3345141"/>
                      <a:pt x="900372" y="3390540"/>
                      <a:pt x="948267" y="3454400"/>
                    </a:cubicBezTo>
                    <a:cubicBezTo>
                      <a:pt x="982134" y="3499556"/>
                      <a:pt x="1019951" y="3542002"/>
                      <a:pt x="1049867" y="3589867"/>
                    </a:cubicBezTo>
                    <a:cubicBezTo>
                      <a:pt x="1076624" y="3632678"/>
                      <a:pt x="1089596" y="3683327"/>
                      <a:pt x="1117600" y="3725333"/>
                    </a:cubicBezTo>
                    <a:cubicBezTo>
                      <a:pt x="1164328" y="3795425"/>
                      <a:pt x="1222230" y="3809038"/>
                      <a:pt x="1286933" y="3860800"/>
                    </a:cubicBezTo>
                    <a:cubicBezTo>
                      <a:pt x="1311866" y="3880746"/>
                      <a:pt x="1328100" y="3910821"/>
                      <a:pt x="1354667" y="3928533"/>
                    </a:cubicBezTo>
                    <a:cubicBezTo>
                      <a:pt x="1438370" y="3984335"/>
                      <a:pt x="1501418" y="4000029"/>
                      <a:pt x="1591733" y="4030133"/>
                    </a:cubicBezTo>
                    <a:cubicBezTo>
                      <a:pt x="1670755" y="4018844"/>
                      <a:pt x="1753072" y="4021510"/>
                      <a:pt x="1828800" y="3996267"/>
                    </a:cubicBezTo>
                    <a:cubicBezTo>
                      <a:pt x="1947678" y="3956641"/>
                      <a:pt x="1962781" y="3628192"/>
                      <a:pt x="1964267" y="3623733"/>
                    </a:cubicBezTo>
                    <a:cubicBezTo>
                      <a:pt x="1977138" y="3585119"/>
                      <a:pt x="2013797" y="3558539"/>
                      <a:pt x="2032000" y="3522133"/>
                    </a:cubicBezTo>
                    <a:cubicBezTo>
                      <a:pt x="2047965" y="3490203"/>
                      <a:pt x="2054578" y="3454400"/>
                      <a:pt x="2065867" y="3420533"/>
                    </a:cubicBezTo>
                    <a:cubicBezTo>
                      <a:pt x="2054578" y="3318933"/>
                      <a:pt x="2052048" y="3215973"/>
                      <a:pt x="2032000" y="3115733"/>
                    </a:cubicBezTo>
                    <a:cubicBezTo>
                      <a:pt x="2017998" y="3045722"/>
                      <a:pt x="1964267" y="2912533"/>
                      <a:pt x="1964267" y="2912533"/>
                    </a:cubicBezTo>
                    <a:cubicBezTo>
                      <a:pt x="2045473" y="2668911"/>
                      <a:pt x="1946942" y="2973167"/>
                      <a:pt x="2032000" y="2675467"/>
                    </a:cubicBezTo>
                    <a:cubicBezTo>
                      <a:pt x="2041807" y="2641142"/>
                      <a:pt x="2054578" y="2607734"/>
                      <a:pt x="2065867" y="2573867"/>
                    </a:cubicBezTo>
                    <a:cubicBezTo>
                      <a:pt x="1988036" y="2340376"/>
                      <a:pt x="2048618" y="2421153"/>
                      <a:pt x="1930400" y="2302933"/>
                    </a:cubicBezTo>
                    <a:cubicBezTo>
                      <a:pt x="1919111" y="2257778"/>
                      <a:pt x="1909320" y="2212221"/>
                      <a:pt x="1896533" y="2167467"/>
                    </a:cubicBezTo>
                    <a:cubicBezTo>
                      <a:pt x="1886726" y="2133142"/>
                      <a:pt x="1868536" y="2101080"/>
                      <a:pt x="1862667" y="2065867"/>
                    </a:cubicBezTo>
                    <a:cubicBezTo>
                      <a:pt x="1846052" y="1966175"/>
                      <a:pt x="1835554" y="1713597"/>
                      <a:pt x="1794933" y="1591733"/>
                    </a:cubicBezTo>
                    <a:cubicBezTo>
                      <a:pt x="1778968" y="1543839"/>
                      <a:pt x="1753174" y="1499558"/>
                      <a:pt x="1727200" y="1456267"/>
                    </a:cubicBezTo>
                    <a:cubicBezTo>
                      <a:pt x="1685317" y="1386462"/>
                      <a:pt x="1591733" y="1253067"/>
                      <a:pt x="1591733" y="1253067"/>
                    </a:cubicBezTo>
                    <a:cubicBezTo>
                      <a:pt x="1555962" y="1145753"/>
                      <a:pt x="1565165" y="1143657"/>
                      <a:pt x="1490133" y="1049867"/>
                    </a:cubicBezTo>
                    <a:cubicBezTo>
                      <a:pt x="1470187" y="1024934"/>
                      <a:pt x="1442346" y="1007066"/>
                      <a:pt x="1422400" y="982133"/>
                    </a:cubicBezTo>
                    <a:cubicBezTo>
                      <a:pt x="1396973" y="950349"/>
                      <a:pt x="1380094" y="912316"/>
                      <a:pt x="1354667" y="880533"/>
                    </a:cubicBezTo>
                    <a:cubicBezTo>
                      <a:pt x="1334721" y="855600"/>
                      <a:pt x="1306879" y="837733"/>
                      <a:pt x="1286933" y="812800"/>
                    </a:cubicBezTo>
                    <a:cubicBezTo>
                      <a:pt x="1261506" y="781017"/>
                      <a:pt x="1246241" y="741622"/>
                      <a:pt x="1219200" y="711200"/>
                    </a:cubicBezTo>
                    <a:cubicBezTo>
                      <a:pt x="1155561" y="639606"/>
                      <a:pt x="1095702" y="561134"/>
                      <a:pt x="1016000" y="508000"/>
                    </a:cubicBezTo>
                    <a:cubicBezTo>
                      <a:pt x="887833" y="422556"/>
                      <a:pt x="943181" y="469048"/>
                      <a:pt x="846667" y="372533"/>
                    </a:cubicBezTo>
                    <a:cubicBezTo>
                      <a:pt x="835378" y="338666"/>
                      <a:pt x="832602" y="300636"/>
                      <a:pt x="812800" y="270933"/>
                    </a:cubicBezTo>
                    <a:cubicBezTo>
                      <a:pt x="786233" y="231082"/>
                      <a:pt x="749006" y="198737"/>
                      <a:pt x="711200" y="169333"/>
                    </a:cubicBezTo>
                    <a:cubicBezTo>
                      <a:pt x="536524" y="33474"/>
                      <a:pt x="559693" y="51098"/>
                      <a:pt x="406400" y="0"/>
                    </a:cubicBezTo>
                    <a:cubicBezTo>
                      <a:pt x="361244" y="11289"/>
                      <a:pt x="313715" y="15532"/>
                      <a:pt x="270933" y="33867"/>
                    </a:cubicBezTo>
                    <a:cubicBezTo>
                      <a:pt x="53886" y="126887"/>
                      <a:pt x="173770" y="228415"/>
                      <a:pt x="203200" y="508000"/>
                    </a:cubicBezTo>
                    <a:cubicBezTo>
                      <a:pt x="230238" y="764856"/>
                      <a:pt x="168958" y="711013"/>
                      <a:pt x="304800" y="778933"/>
                    </a:cubicBezTo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7" name="任意多边形 197"/>
            <p:cNvSpPr/>
            <p:nvPr/>
          </p:nvSpPr>
          <p:spPr>
            <a:xfrm>
              <a:off x="9109080" y="-1298520"/>
              <a:ext cx="5737680" cy="8339040"/>
            </a:xfrm>
            <a:custGeom>
              <a:avLst/>
              <a:gdLst>
                <a:gd name="textAreaLeft" fmla="*/ 0 w 5737680"/>
                <a:gd name="textAreaRight" fmla="*/ 5738040 w 5737680"/>
                <a:gd name="textAreaTop" fmla="*/ 0 h 8339040"/>
                <a:gd name="textAreaBottom" fmla="*/ 8339400 h 8339040"/>
              </a:gdLst>
              <a:ahLst/>
              <a:rect l="textAreaLeft" t="textAreaTop" r="textAreaRight" b="textAreaBottom"/>
              <a:pathLst>
                <a:path w="5351489" h="7779895">
                  <a:moveTo>
                    <a:pt x="1978702" y="7779895"/>
                  </a:moveTo>
                  <a:lnTo>
                    <a:pt x="1948722" y="5951095"/>
                  </a:lnTo>
                  <a:lnTo>
                    <a:pt x="1873771" y="5051685"/>
                  </a:lnTo>
                  <a:lnTo>
                    <a:pt x="1678899" y="4152275"/>
                  </a:lnTo>
                  <a:lnTo>
                    <a:pt x="1304144" y="3282846"/>
                  </a:lnTo>
                  <a:lnTo>
                    <a:pt x="734518" y="2278505"/>
                  </a:lnTo>
                  <a:lnTo>
                    <a:pt x="224853" y="1573967"/>
                  </a:lnTo>
                  <a:lnTo>
                    <a:pt x="0" y="1049311"/>
                  </a:lnTo>
                  <a:lnTo>
                    <a:pt x="524656" y="1753849"/>
                  </a:lnTo>
                  <a:lnTo>
                    <a:pt x="944381" y="2338466"/>
                  </a:lnTo>
                  <a:lnTo>
                    <a:pt x="1259174" y="3057993"/>
                  </a:lnTo>
                  <a:lnTo>
                    <a:pt x="1259174" y="2443397"/>
                  </a:lnTo>
                  <a:lnTo>
                    <a:pt x="1319135" y="1843790"/>
                  </a:lnTo>
                  <a:lnTo>
                    <a:pt x="1349115" y="2353456"/>
                  </a:lnTo>
                  <a:lnTo>
                    <a:pt x="1364105" y="3043003"/>
                  </a:lnTo>
                  <a:lnTo>
                    <a:pt x="1603948" y="3567659"/>
                  </a:lnTo>
                  <a:lnTo>
                    <a:pt x="1603948" y="2758190"/>
                  </a:lnTo>
                  <a:lnTo>
                    <a:pt x="1528997" y="1484026"/>
                  </a:lnTo>
                  <a:lnTo>
                    <a:pt x="1064302" y="554636"/>
                  </a:lnTo>
                  <a:lnTo>
                    <a:pt x="749508" y="0"/>
                  </a:lnTo>
                  <a:lnTo>
                    <a:pt x="1109272" y="344774"/>
                  </a:lnTo>
                  <a:lnTo>
                    <a:pt x="1588958" y="1364105"/>
                  </a:lnTo>
                  <a:lnTo>
                    <a:pt x="1798820" y="1978702"/>
                  </a:lnTo>
                  <a:lnTo>
                    <a:pt x="1798820" y="2413416"/>
                  </a:lnTo>
                  <a:lnTo>
                    <a:pt x="1843790" y="3013023"/>
                  </a:lnTo>
                  <a:lnTo>
                    <a:pt x="1888761" y="3357797"/>
                  </a:lnTo>
                  <a:lnTo>
                    <a:pt x="1963712" y="2878111"/>
                  </a:lnTo>
                  <a:lnTo>
                    <a:pt x="2098623" y="2518347"/>
                  </a:lnTo>
                  <a:lnTo>
                    <a:pt x="2338466" y="2203554"/>
                  </a:lnTo>
                  <a:lnTo>
                    <a:pt x="2218544" y="2683239"/>
                  </a:lnTo>
                  <a:lnTo>
                    <a:pt x="2098623" y="3192905"/>
                  </a:lnTo>
                  <a:lnTo>
                    <a:pt x="2098623" y="3567659"/>
                  </a:lnTo>
                  <a:lnTo>
                    <a:pt x="2203554" y="3597639"/>
                  </a:lnTo>
                  <a:lnTo>
                    <a:pt x="2458387" y="3072984"/>
                  </a:lnTo>
                  <a:lnTo>
                    <a:pt x="2533338" y="2293495"/>
                  </a:lnTo>
                  <a:lnTo>
                    <a:pt x="3237876" y="1274164"/>
                  </a:lnTo>
                  <a:lnTo>
                    <a:pt x="3207895" y="104931"/>
                  </a:lnTo>
                  <a:lnTo>
                    <a:pt x="3312826" y="1139252"/>
                  </a:lnTo>
                  <a:lnTo>
                    <a:pt x="3972394" y="239843"/>
                  </a:lnTo>
                  <a:lnTo>
                    <a:pt x="3222885" y="1499016"/>
                  </a:lnTo>
                  <a:lnTo>
                    <a:pt x="3987384" y="1124262"/>
                  </a:lnTo>
                  <a:lnTo>
                    <a:pt x="3147935" y="1693888"/>
                  </a:lnTo>
                  <a:lnTo>
                    <a:pt x="2743200" y="2338466"/>
                  </a:lnTo>
                  <a:lnTo>
                    <a:pt x="2638269" y="3028013"/>
                  </a:lnTo>
                  <a:lnTo>
                    <a:pt x="2383436" y="3687580"/>
                  </a:lnTo>
                  <a:lnTo>
                    <a:pt x="2908092" y="3162925"/>
                  </a:lnTo>
                  <a:lnTo>
                    <a:pt x="3222885" y="2398426"/>
                  </a:lnTo>
                  <a:lnTo>
                    <a:pt x="3882453" y="1708879"/>
                  </a:lnTo>
                  <a:lnTo>
                    <a:pt x="3357797" y="2443397"/>
                  </a:lnTo>
                  <a:lnTo>
                    <a:pt x="3117954" y="2953062"/>
                  </a:lnTo>
                  <a:lnTo>
                    <a:pt x="3822492" y="2458387"/>
                  </a:lnTo>
                  <a:lnTo>
                    <a:pt x="3147935" y="3072984"/>
                  </a:lnTo>
                  <a:lnTo>
                    <a:pt x="2713220" y="3627620"/>
                  </a:lnTo>
                  <a:lnTo>
                    <a:pt x="2518348" y="4002374"/>
                  </a:lnTo>
                  <a:lnTo>
                    <a:pt x="2473377" y="4482059"/>
                  </a:lnTo>
                  <a:lnTo>
                    <a:pt x="3582649" y="4197246"/>
                  </a:lnTo>
                  <a:lnTo>
                    <a:pt x="4841823" y="4107305"/>
                  </a:lnTo>
                  <a:lnTo>
                    <a:pt x="5351489" y="3867462"/>
                  </a:lnTo>
                  <a:lnTo>
                    <a:pt x="4901784" y="4152275"/>
                  </a:lnTo>
                  <a:lnTo>
                    <a:pt x="4302177" y="4257206"/>
                  </a:lnTo>
                  <a:lnTo>
                    <a:pt x="5051685" y="4422098"/>
                  </a:lnTo>
                  <a:lnTo>
                    <a:pt x="4092315" y="4272197"/>
                  </a:lnTo>
                  <a:lnTo>
                    <a:pt x="3117954" y="4452079"/>
                  </a:lnTo>
                  <a:lnTo>
                    <a:pt x="2563318" y="4631961"/>
                  </a:lnTo>
                  <a:lnTo>
                    <a:pt x="2443397" y="4916774"/>
                  </a:lnTo>
                  <a:lnTo>
                    <a:pt x="2548328" y="7719934"/>
                  </a:lnTo>
                  <a:lnTo>
                    <a:pt x="2008682" y="7734925"/>
                  </a:lnTo>
                  <a:lnTo>
                    <a:pt x="1948722" y="7704944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任意多边形 198"/>
            <p:cNvSpPr/>
            <p:nvPr/>
          </p:nvSpPr>
          <p:spPr>
            <a:xfrm>
              <a:off x="11278080" y="3697200"/>
              <a:ext cx="119880" cy="2921760"/>
            </a:xfrm>
            <a:custGeom>
              <a:avLst/>
              <a:gdLst>
                <a:gd name="textAreaLeft" fmla="*/ 0 w 119880"/>
                <a:gd name="textAreaRight" fmla="*/ 120240 w 119880"/>
                <a:gd name="textAreaTop" fmla="*/ 0 h 2921760"/>
                <a:gd name="textAreaBottom" fmla="*/ 2922120 h 2921760"/>
              </a:gdLst>
              <a:ahLst/>
              <a:rect l="textAreaLeft" t="textAreaTop" r="textAreaRight" b="textAreaBottom"/>
              <a:pathLst>
                <a:path w="119921" h="2923082">
                  <a:moveTo>
                    <a:pt x="0" y="0"/>
                  </a:moveTo>
                  <a:lnTo>
                    <a:pt x="119921" y="1603947"/>
                  </a:lnTo>
                  <a:lnTo>
                    <a:pt x="119921" y="2923082"/>
                  </a:lnTo>
                </a:path>
              </a:pathLst>
            </a:custGeom>
            <a:noFill/>
            <a:ln w="25560">
              <a:solidFill>
                <a:srgbClr val="5c410c">
                  <a:alpha val="11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任意多边形 199"/>
            <p:cNvSpPr/>
            <p:nvPr/>
          </p:nvSpPr>
          <p:spPr>
            <a:xfrm>
              <a:off x="11509200" y="3121560"/>
              <a:ext cx="119880" cy="2921760"/>
            </a:xfrm>
            <a:custGeom>
              <a:avLst/>
              <a:gdLst>
                <a:gd name="textAreaLeft" fmla="*/ 0 w 119880"/>
                <a:gd name="textAreaRight" fmla="*/ 120240 w 119880"/>
                <a:gd name="textAreaTop" fmla="*/ 0 h 2921760"/>
                <a:gd name="textAreaBottom" fmla="*/ 2922120 h 2921760"/>
              </a:gdLst>
              <a:ahLst/>
              <a:rect l="textAreaLeft" t="textAreaTop" r="textAreaRight" b="textAreaBottom"/>
              <a:pathLst>
                <a:path w="119921" h="2923082">
                  <a:moveTo>
                    <a:pt x="0" y="0"/>
                  </a:moveTo>
                  <a:lnTo>
                    <a:pt x="119921" y="1603947"/>
                  </a:lnTo>
                  <a:lnTo>
                    <a:pt x="119921" y="2923082"/>
                  </a:lnTo>
                </a:path>
              </a:pathLst>
            </a:custGeom>
            <a:noFill/>
            <a:ln w="25560">
              <a:solidFill>
                <a:srgbClr val="5e2e24">
                  <a:alpha val="29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任意多边形 200"/>
            <p:cNvSpPr/>
            <p:nvPr/>
          </p:nvSpPr>
          <p:spPr>
            <a:xfrm>
              <a:off x="9119880" y="-1298520"/>
              <a:ext cx="5737680" cy="8339040"/>
            </a:xfrm>
            <a:custGeom>
              <a:avLst/>
              <a:gdLst>
                <a:gd name="textAreaLeft" fmla="*/ 0 w 5737680"/>
                <a:gd name="textAreaRight" fmla="*/ 5738040 w 5737680"/>
                <a:gd name="textAreaTop" fmla="*/ 0 h 8339040"/>
                <a:gd name="textAreaBottom" fmla="*/ 8339400 h 8339040"/>
              </a:gdLst>
              <a:ahLst/>
              <a:rect l="textAreaLeft" t="textAreaTop" r="textAreaRight" b="textAreaBottom"/>
              <a:pathLst>
                <a:path w="5351489" h="7779895">
                  <a:moveTo>
                    <a:pt x="1978702" y="7779895"/>
                  </a:moveTo>
                  <a:lnTo>
                    <a:pt x="1948722" y="5951095"/>
                  </a:lnTo>
                  <a:lnTo>
                    <a:pt x="1873771" y="5051685"/>
                  </a:lnTo>
                  <a:lnTo>
                    <a:pt x="1678899" y="4152275"/>
                  </a:lnTo>
                  <a:lnTo>
                    <a:pt x="1304144" y="3282846"/>
                  </a:lnTo>
                  <a:lnTo>
                    <a:pt x="734518" y="2278505"/>
                  </a:lnTo>
                  <a:lnTo>
                    <a:pt x="224853" y="1573967"/>
                  </a:lnTo>
                  <a:lnTo>
                    <a:pt x="0" y="1049311"/>
                  </a:lnTo>
                  <a:lnTo>
                    <a:pt x="524656" y="1753849"/>
                  </a:lnTo>
                  <a:lnTo>
                    <a:pt x="944381" y="2338466"/>
                  </a:lnTo>
                  <a:lnTo>
                    <a:pt x="1259174" y="3057993"/>
                  </a:lnTo>
                  <a:lnTo>
                    <a:pt x="1259174" y="2443397"/>
                  </a:lnTo>
                  <a:lnTo>
                    <a:pt x="1319135" y="1843790"/>
                  </a:lnTo>
                  <a:lnTo>
                    <a:pt x="1349115" y="2353456"/>
                  </a:lnTo>
                  <a:lnTo>
                    <a:pt x="1364105" y="3043003"/>
                  </a:lnTo>
                  <a:lnTo>
                    <a:pt x="1603948" y="3567659"/>
                  </a:lnTo>
                  <a:lnTo>
                    <a:pt x="1603948" y="2758190"/>
                  </a:lnTo>
                  <a:lnTo>
                    <a:pt x="1528997" y="1484026"/>
                  </a:lnTo>
                  <a:lnTo>
                    <a:pt x="1064302" y="554636"/>
                  </a:lnTo>
                  <a:lnTo>
                    <a:pt x="749508" y="0"/>
                  </a:lnTo>
                  <a:lnTo>
                    <a:pt x="1109272" y="344774"/>
                  </a:lnTo>
                  <a:lnTo>
                    <a:pt x="1588958" y="1364105"/>
                  </a:lnTo>
                  <a:lnTo>
                    <a:pt x="1798820" y="1978702"/>
                  </a:lnTo>
                  <a:lnTo>
                    <a:pt x="1798820" y="2413416"/>
                  </a:lnTo>
                  <a:lnTo>
                    <a:pt x="1843790" y="3013023"/>
                  </a:lnTo>
                  <a:lnTo>
                    <a:pt x="1888761" y="3357797"/>
                  </a:lnTo>
                  <a:lnTo>
                    <a:pt x="1963712" y="2878111"/>
                  </a:lnTo>
                  <a:lnTo>
                    <a:pt x="2098623" y="2518347"/>
                  </a:lnTo>
                  <a:lnTo>
                    <a:pt x="2338466" y="2203554"/>
                  </a:lnTo>
                  <a:lnTo>
                    <a:pt x="2218544" y="2683239"/>
                  </a:lnTo>
                  <a:lnTo>
                    <a:pt x="2098623" y="3192905"/>
                  </a:lnTo>
                  <a:lnTo>
                    <a:pt x="2098623" y="3567659"/>
                  </a:lnTo>
                  <a:lnTo>
                    <a:pt x="2203554" y="3597639"/>
                  </a:lnTo>
                  <a:lnTo>
                    <a:pt x="2458387" y="3072984"/>
                  </a:lnTo>
                  <a:lnTo>
                    <a:pt x="2533338" y="2293495"/>
                  </a:lnTo>
                  <a:lnTo>
                    <a:pt x="3237876" y="1274164"/>
                  </a:lnTo>
                  <a:lnTo>
                    <a:pt x="3207895" y="104931"/>
                  </a:lnTo>
                  <a:lnTo>
                    <a:pt x="3312826" y="1139252"/>
                  </a:lnTo>
                  <a:lnTo>
                    <a:pt x="3972394" y="239843"/>
                  </a:lnTo>
                  <a:lnTo>
                    <a:pt x="3222885" y="1499016"/>
                  </a:lnTo>
                  <a:lnTo>
                    <a:pt x="3987384" y="1124262"/>
                  </a:lnTo>
                  <a:lnTo>
                    <a:pt x="3147935" y="1693888"/>
                  </a:lnTo>
                  <a:lnTo>
                    <a:pt x="2743200" y="2338466"/>
                  </a:lnTo>
                  <a:lnTo>
                    <a:pt x="2638269" y="3028013"/>
                  </a:lnTo>
                  <a:lnTo>
                    <a:pt x="2383436" y="3687580"/>
                  </a:lnTo>
                  <a:lnTo>
                    <a:pt x="2908092" y="3162925"/>
                  </a:lnTo>
                  <a:lnTo>
                    <a:pt x="3222885" y="2398426"/>
                  </a:lnTo>
                  <a:lnTo>
                    <a:pt x="3882453" y="1708879"/>
                  </a:lnTo>
                  <a:lnTo>
                    <a:pt x="3357797" y="2443397"/>
                  </a:lnTo>
                  <a:lnTo>
                    <a:pt x="3117954" y="2953062"/>
                  </a:lnTo>
                  <a:lnTo>
                    <a:pt x="3822492" y="2458387"/>
                  </a:lnTo>
                  <a:lnTo>
                    <a:pt x="3147935" y="3072984"/>
                  </a:lnTo>
                  <a:lnTo>
                    <a:pt x="2713220" y="3627620"/>
                  </a:lnTo>
                  <a:lnTo>
                    <a:pt x="2518348" y="4002374"/>
                  </a:lnTo>
                  <a:lnTo>
                    <a:pt x="2473377" y="4482059"/>
                  </a:lnTo>
                  <a:lnTo>
                    <a:pt x="3582649" y="4197246"/>
                  </a:lnTo>
                  <a:lnTo>
                    <a:pt x="4841823" y="4107305"/>
                  </a:lnTo>
                  <a:lnTo>
                    <a:pt x="5351489" y="3867462"/>
                  </a:lnTo>
                  <a:lnTo>
                    <a:pt x="4901784" y="4152275"/>
                  </a:lnTo>
                  <a:lnTo>
                    <a:pt x="4302177" y="4257206"/>
                  </a:lnTo>
                  <a:lnTo>
                    <a:pt x="5051685" y="4422098"/>
                  </a:lnTo>
                  <a:lnTo>
                    <a:pt x="4092315" y="4272197"/>
                  </a:lnTo>
                  <a:lnTo>
                    <a:pt x="3117954" y="4452079"/>
                  </a:lnTo>
                  <a:lnTo>
                    <a:pt x="2563318" y="4631961"/>
                  </a:lnTo>
                  <a:lnTo>
                    <a:pt x="2443397" y="4916774"/>
                  </a:lnTo>
                  <a:lnTo>
                    <a:pt x="2548328" y="7719934"/>
                  </a:lnTo>
                  <a:lnTo>
                    <a:pt x="2008682" y="7734925"/>
                  </a:lnTo>
                  <a:lnTo>
                    <a:pt x="1948722" y="7704944"/>
                  </a:lnTo>
                </a:path>
              </a:pathLst>
            </a:custGeom>
            <a:solidFill>
              <a:srgbClr val="000000">
                <a:alpha val="2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1" name=""/>
            <p:cNvGrpSpPr/>
            <p:nvPr/>
          </p:nvGrpSpPr>
          <p:grpSpPr>
            <a:xfrm>
              <a:off x="14028840" y="2724840"/>
              <a:ext cx="739080" cy="513720"/>
              <a:chOff x="14028840" y="2724840"/>
              <a:chExt cx="739080" cy="513720"/>
            </a:xfrm>
          </p:grpSpPr>
          <p:sp>
            <p:nvSpPr>
              <p:cNvPr id="482" name="任意多边形 214"/>
              <p:cNvSpPr/>
              <p:nvPr/>
            </p:nvSpPr>
            <p:spPr>
              <a:xfrm rot="15691800">
                <a:off x="14189400" y="2638800"/>
                <a:ext cx="417600" cy="685080"/>
              </a:xfrm>
              <a:custGeom>
                <a:avLst/>
                <a:gdLst>
                  <a:gd name="textAreaLeft" fmla="*/ 0 w 417600"/>
                  <a:gd name="textAreaRight" fmla="*/ 417960 w 417600"/>
                  <a:gd name="textAreaTop" fmla="*/ 0 h 685080"/>
                  <a:gd name="textAreaBottom" fmla="*/ 685440 h 685080"/>
                </a:gdLst>
                <a:ahLst/>
                <a:rect l="textAreaLeft" t="textAreaTop" r="textAreaRight" b="textAreaBottom"/>
                <a:pathLst>
                  <a:path w="2065867" h="4030133">
                    <a:moveTo>
                      <a:pt x="270933" y="677333"/>
                    </a:moveTo>
                    <a:cubicBezTo>
                      <a:pt x="259644" y="733778"/>
                      <a:pt x="257278" y="792770"/>
                      <a:pt x="237067" y="846667"/>
                    </a:cubicBezTo>
                    <a:cubicBezTo>
                      <a:pt x="222775" y="884778"/>
                      <a:pt x="187536" y="911861"/>
                      <a:pt x="169333" y="948267"/>
                    </a:cubicBezTo>
                    <a:cubicBezTo>
                      <a:pt x="153368" y="980197"/>
                      <a:pt x="146756" y="1016000"/>
                      <a:pt x="135467" y="1049867"/>
                    </a:cubicBezTo>
                    <a:cubicBezTo>
                      <a:pt x="124178" y="1128889"/>
                      <a:pt x="124537" y="1210475"/>
                      <a:pt x="101600" y="1286933"/>
                    </a:cubicBezTo>
                    <a:cubicBezTo>
                      <a:pt x="89904" y="1325919"/>
                      <a:pt x="52070" y="1352127"/>
                      <a:pt x="33867" y="1388533"/>
                    </a:cubicBezTo>
                    <a:cubicBezTo>
                      <a:pt x="17902" y="1420463"/>
                      <a:pt x="11289" y="1456266"/>
                      <a:pt x="0" y="1490133"/>
                    </a:cubicBezTo>
                    <a:cubicBezTo>
                      <a:pt x="11289" y="1648178"/>
                      <a:pt x="6331" y="1808231"/>
                      <a:pt x="33867" y="1964267"/>
                    </a:cubicBezTo>
                    <a:cubicBezTo>
                      <a:pt x="40941" y="2004350"/>
                      <a:pt x="77942" y="2032746"/>
                      <a:pt x="101600" y="2065867"/>
                    </a:cubicBezTo>
                    <a:cubicBezTo>
                      <a:pt x="134408" y="2111798"/>
                      <a:pt x="167065" y="2157971"/>
                      <a:pt x="203200" y="2201333"/>
                    </a:cubicBezTo>
                    <a:cubicBezTo>
                      <a:pt x="223641" y="2225862"/>
                      <a:pt x="253221" y="2242500"/>
                      <a:pt x="270933" y="2269067"/>
                    </a:cubicBezTo>
                    <a:cubicBezTo>
                      <a:pt x="298937" y="2311073"/>
                      <a:pt x="313619" y="2360700"/>
                      <a:pt x="338667" y="2404533"/>
                    </a:cubicBezTo>
                    <a:cubicBezTo>
                      <a:pt x="443708" y="2588354"/>
                      <a:pt x="378175" y="2421458"/>
                      <a:pt x="440267" y="2607733"/>
                    </a:cubicBezTo>
                    <a:cubicBezTo>
                      <a:pt x="451556" y="2686755"/>
                      <a:pt x="448890" y="2769072"/>
                      <a:pt x="474133" y="2844800"/>
                    </a:cubicBezTo>
                    <a:cubicBezTo>
                      <a:pt x="484230" y="2875091"/>
                      <a:pt x="525439" y="2885153"/>
                      <a:pt x="541867" y="2912533"/>
                    </a:cubicBezTo>
                    <a:cubicBezTo>
                      <a:pt x="692110" y="3162937"/>
                      <a:pt x="437916" y="2858793"/>
                      <a:pt x="643467" y="3115733"/>
                    </a:cubicBezTo>
                    <a:cubicBezTo>
                      <a:pt x="663413" y="3140666"/>
                      <a:pt x="691254" y="3158534"/>
                      <a:pt x="711200" y="3183467"/>
                    </a:cubicBezTo>
                    <a:cubicBezTo>
                      <a:pt x="736627" y="3215251"/>
                      <a:pt x="752130" y="3254435"/>
                      <a:pt x="778933" y="3285067"/>
                    </a:cubicBezTo>
                    <a:cubicBezTo>
                      <a:pt x="831498" y="3345141"/>
                      <a:pt x="900372" y="3390540"/>
                      <a:pt x="948267" y="3454400"/>
                    </a:cubicBezTo>
                    <a:cubicBezTo>
                      <a:pt x="982134" y="3499556"/>
                      <a:pt x="1019951" y="3542002"/>
                      <a:pt x="1049867" y="3589867"/>
                    </a:cubicBezTo>
                    <a:cubicBezTo>
                      <a:pt x="1076624" y="3632678"/>
                      <a:pt x="1089596" y="3683327"/>
                      <a:pt x="1117600" y="3725333"/>
                    </a:cubicBezTo>
                    <a:cubicBezTo>
                      <a:pt x="1164328" y="3795425"/>
                      <a:pt x="1222230" y="3809038"/>
                      <a:pt x="1286933" y="3860800"/>
                    </a:cubicBezTo>
                    <a:cubicBezTo>
                      <a:pt x="1311866" y="3880746"/>
                      <a:pt x="1328100" y="3910821"/>
                      <a:pt x="1354667" y="3928533"/>
                    </a:cubicBezTo>
                    <a:cubicBezTo>
                      <a:pt x="1438370" y="3984335"/>
                      <a:pt x="1501418" y="4000029"/>
                      <a:pt x="1591733" y="4030133"/>
                    </a:cubicBezTo>
                    <a:cubicBezTo>
                      <a:pt x="1670755" y="4018844"/>
                      <a:pt x="1753072" y="4021510"/>
                      <a:pt x="1828800" y="3996267"/>
                    </a:cubicBezTo>
                    <a:cubicBezTo>
                      <a:pt x="1947678" y="3956641"/>
                      <a:pt x="1962781" y="3628192"/>
                      <a:pt x="1964267" y="3623733"/>
                    </a:cubicBezTo>
                    <a:cubicBezTo>
                      <a:pt x="1977138" y="3585119"/>
                      <a:pt x="2013797" y="3558539"/>
                      <a:pt x="2032000" y="3522133"/>
                    </a:cubicBezTo>
                    <a:cubicBezTo>
                      <a:pt x="2047965" y="3490203"/>
                      <a:pt x="2054578" y="3454400"/>
                      <a:pt x="2065867" y="3420533"/>
                    </a:cubicBezTo>
                    <a:cubicBezTo>
                      <a:pt x="2054578" y="3318933"/>
                      <a:pt x="2052048" y="3215973"/>
                      <a:pt x="2032000" y="3115733"/>
                    </a:cubicBezTo>
                    <a:cubicBezTo>
                      <a:pt x="2017998" y="3045722"/>
                      <a:pt x="1964267" y="2912533"/>
                      <a:pt x="1964267" y="2912533"/>
                    </a:cubicBezTo>
                    <a:cubicBezTo>
                      <a:pt x="2045473" y="2668911"/>
                      <a:pt x="1946942" y="2973167"/>
                      <a:pt x="2032000" y="2675467"/>
                    </a:cubicBezTo>
                    <a:cubicBezTo>
                      <a:pt x="2041807" y="2641142"/>
                      <a:pt x="2054578" y="2607734"/>
                      <a:pt x="2065867" y="2573867"/>
                    </a:cubicBezTo>
                    <a:cubicBezTo>
                      <a:pt x="1988036" y="2340376"/>
                      <a:pt x="2048618" y="2421153"/>
                      <a:pt x="1930400" y="2302933"/>
                    </a:cubicBezTo>
                    <a:cubicBezTo>
                      <a:pt x="1919111" y="2257778"/>
                      <a:pt x="1909320" y="2212221"/>
                      <a:pt x="1896533" y="2167467"/>
                    </a:cubicBezTo>
                    <a:cubicBezTo>
                      <a:pt x="1886726" y="2133142"/>
                      <a:pt x="1868536" y="2101080"/>
                      <a:pt x="1862667" y="2065867"/>
                    </a:cubicBezTo>
                    <a:cubicBezTo>
                      <a:pt x="1846052" y="1966175"/>
                      <a:pt x="1835554" y="1713597"/>
                      <a:pt x="1794933" y="1591733"/>
                    </a:cubicBezTo>
                    <a:cubicBezTo>
                      <a:pt x="1778968" y="1543839"/>
                      <a:pt x="1753174" y="1499558"/>
                      <a:pt x="1727200" y="1456267"/>
                    </a:cubicBezTo>
                    <a:cubicBezTo>
                      <a:pt x="1685317" y="1386462"/>
                      <a:pt x="1591733" y="1253067"/>
                      <a:pt x="1591733" y="1253067"/>
                    </a:cubicBezTo>
                    <a:cubicBezTo>
                      <a:pt x="1555962" y="1145753"/>
                      <a:pt x="1565165" y="1143657"/>
                      <a:pt x="1490133" y="1049867"/>
                    </a:cubicBezTo>
                    <a:cubicBezTo>
                      <a:pt x="1470187" y="1024934"/>
                      <a:pt x="1442346" y="1007066"/>
                      <a:pt x="1422400" y="982133"/>
                    </a:cubicBezTo>
                    <a:cubicBezTo>
                      <a:pt x="1396973" y="950349"/>
                      <a:pt x="1380094" y="912316"/>
                      <a:pt x="1354667" y="880533"/>
                    </a:cubicBezTo>
                    <a:cubicBezTo>
                      <a:pt x="1334721" y="855600"/>
                      <a:pt x="1306879" y="837733"/>
                      <a:pt x="1286933" y="812800"/>
                    </a:cubicBezTo>
                    <a:cubicBezTo>
                      <a:pt x="1261506" y="781017"/>
                      <a:pt x="1246241" y="741622"/>
                      <a:pt x="1219200" y="711200"/>
                    </a:cubicBezTo>
                    <a:cubicBezTo>
                      <a:pt x="1155561" y="639606"/>
                      <a:pt x="1095702" y="561134"/>
                      <a:pt x="1016000" y="508000"/>
                    </a:cubicBezTo>
                    <a:cubicBezTo>
                      <a:pt x="887833" y="422556"/>
                      <a:pt x="943181" y="469048"/>
                      <a:pt x="846667" y="372533"/>
                    </a:cubicBezTo>
                    <a:cubicBezTo>
                      <a:pt x="835378" y="338666"/>
                      <a:pt x="832602" y="300636"/>
                      <a:pt x="812800" y="270933"/>
                    </a:cubicBezTo>
                    <a:cubicBezTo>
                      <a:pt x="786233" y="231082"/>
                      <a:pt x="749006" y="198737"/>
                      <a:pt x="711200" y="169333"/>
                    </a:cubicBezTo>
                    <a:cubicBezTo>
                      <a:pt x="536524" y="33474"/>
                      <a:pt x="559693" y="51098"/>
                      <a:pt x="406400" y="0"/>
                    </a:cubicBezTo>
                    <a:cubicBezTo>
                      <a:pt x="361244" y="11289"/>
                      <a:pt x="313715" y="15532"/>
                      <a:pt x="270933" y="33867"/>
                    </a:cubicBezTo>
                    <a:cubicBezTo>
                      <a:pt x="53886" y="126887"/>
                      <a:pt x="173770" y="228415"/>
                      <a:pt x="203200" y="508000"/>
                    </a:cubicBezTo>
                    <a:cubicBezTo>
                      <a:pt x="230238" y="764856"/>
                      <a:pt x="168958" y="711013"/>
                      <a:pt x="304800" y="778933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任意多边形 215"/>
              <p:cNvSpPr/>
              <p:nvPr/>
            </p:nvSpPr>
            <p:spPr>
              <a:xfrm rot="15691800">
                <a:off x="14167440" y="2848320"/>
                <a:ext cx="201960" cy="351720"/>
              </a:xfrm>
              <a:custGeom>
                <a:avLst/>
                <a:gdLst>
                  <a:gd name="textAreaLeft" fmla="*/ 0 w 201960"/>
                  <a:gd name="textAreaRight" fmla="*/ 202320 w 201960"/>
                  <a:gd name="textAreaTop" fmla="*/ 0 h 351720"/>
                  <a:gd name="textAreaBottom" fmla="*/ 352080 h 351720"/>
                </a:gdLst>
                <a:ahLst/>
                <a:rect l="textAreaLeft" t="textAreaTop" r="textAreaRight" b="textAreaBottom"/>
                <a:pathLst>
                  <a:path w="2065867" h="4030133">
                    <a:moveTo>
                      <a:pt x="270933" y="677333"/>
                    </a:moveTo>
                    <a:cubicBezTo>
                      <a:pt x="259644" y="733778"/>
                      <a:pt x="257278" y="792770"/>
                      <a:pt x="237067" y="846667"/>
                    </a:cubicBezTo>
                    <a:cubicBezTo>
                      <a:pt x="222775" y="884778"/>
                      <a:pt x="187536" y="911861"/>
                      <a:pt x="169333" y="948267"/>
                    </a:cubicBezTo>
                    <a:cubicBezTo>
                      <a:pt x="153368" y="980197"/>
                      <a:pt x="146756" y="1016000"/>
                      <a:pt x="135467" y="1049867"/>
                    </a:cubicBezTo>
                    <a:cubicBezTo>
                      <a:pt x="124178" y="1128889"/>
                      <a:pt x="124537" y="1210475"/>
                      <a:pt x="101600" y="1286933"/>
                    </a:cubicBezTo>
                    <a:cubicBezTo>
                      <a:pt x="89904" y="1325919"/>
                      <a:pt x="52070" y="1352127"/>
                      <a:pt x="33867" y="1388533"/>
                    </a:cubicBezTo>
                    <a:cubicBezTo>
                      <a:pt x="17902" y="1420463"/>
                      <a:pt x="11289" y="1456266"/>
                      <a:pt x="0" y="1490133"/>
                    </a:cubicBezTo>
                    <a:cubicBezTo>
                      <a:pt x="11289" y="1648178"/>
                      <a:pt x="6331" y="1808231"/>
                      <a:pt x="33867" y="1964267"/>
                    </a:cubicBezTo>
                    <a:cubicBezTo>
                      <a:pt x="40941" y="2004350"/>
                      <a:pt x="77942" y="2032746"/>
                      <a:pt x="101600" y="2065867"/>
                    </a:cubicBezTo>
                    <a:cubicBezTo>
                      <a:pt x="134408" y="2111798"/>
                      <a:pt x="167065" y="2157971"/>
                      <a:pt x="203200" y="2201333"/>
                    </a:cubicBezTo>
                    <a:cubicBezTo>
                      <a:pt x="223641" y="2225862"/>
                      <a:pt x="253221" y="2242500"/>
                      <a:pt x="270933" y="2269067"/>
                    </a:cubicBezTo>
                    <a:cubicBezTo>
                      <a:pt x="298937" y="2311073"/>
                      <a:pt x="313619" y="2360700"/>
                      <a:pt x="338667" y="2404533"/>
                    </a:cubicBezTo>
                    <a:cubicBezTo>
                      <a:pt x="443708" y="2588354"/>
                      <a:pt x="378175" y="2421458"/>
                      <a:pt x="440267" y="2607733"/>
                    </a:cubicBezTo>
                    <a:cubicBezTo>
                      <a:pt x="451556" y="2686755"/>
                      <a:pt x="448890" y="2769072"/>
                      <a:pt x="474133" y="2844800"/>
                    </a:cubicBezTo>
                    <a:cubicBezTo>
                      <a:pt x="484230" y="2875091"/>
                      <a:pt x="525439" y="2885153"/>
                      <a:pt x="541867" y="2912533"/>
                    </a:cubicBezTo>
                    <a:cubicBezTo>
                      <a:pt x="692110" y="3162937"/>
                      <a:pt x="437916" y="2858793"/>
                      <a:pt x="643467" y="3115733"/>
                    </a:cubicBezTo>
                    <a:cubicBezTo>
                      <a:pt x="663413" y="3140666"/>
                      <a:pt x="691254" y="3158534"/>
                      <a:pt x="711200" y="3183467"/>
                    </a:cubicBezTo>
                    <a:cubicBezTo>
                      <a:pt x="736627" y="3215251"/>
                      <a:pt x="752130" y="3254435"/>
                      <a:pt x="778933" y="3285067"/>
                    </a:cubicBezTo>
                    <a:cubicBezTo>
                      <a:pt x="831498" y="3345141"/>
                      <a:pt x="900372" y="3390540"/>
                      <a:pt x="948267" y="3454400"/>
                    </a:cubicBezTo>
                    <a:cubicBezTo>
                      <a:pt x="982134" y="3499556"/>
                      <a:pt x="1019951" y="3542002"/>
                      <a:pt x="1049867" y="3589867"/>
                    </a:cubicBezTo>
                    <a:cubicBezTo>
                      <a:pt x="1076624" y="3632678"/>
                      <a:pt x="1089596" y="3683327"/>
                      <a:pt x="1117600" y="3725333"/>
                    </a:cubicBezTo>
                    <a:cubicBezTo>
                      <a:pt x="1164328" y="3795425"/>
                      <a:pt x="1222230" y="3809038"/>
                      <a:pt x="1286933" y="3860800"/>
                    </a:cubicBezTo>
                    <a:cubicBezTo>
                      <a:pt x="1311866" y="3880746"/>
                      <a:pt x="1328100" y="3910821"/>
                      <a:pt x="1354667" y="3928533"/>
                    </a:cubicBezTo>
                    <a:cubicBezTo>
                      <a:pt x="1438370" y="3984335"/>
                      <a:pt x="1501418" y="4000029"/>
                      <a:pt x="1591733" y="4030133"/>
                    </a:cubicBezTo>
                    <a:cubicBezTo>
                      <a:pt x="1670755" y="4018844"/>
                      <a:pt x="1753072" y="4021510"/>
                      <a:pt x="1828800" y="3996267"/>
                    </a:cubicBezTo>
                    <a:cubicBezTo>
                      <a:pt x="1947678" y="3956641"/>
                      <a:pt x="1962781" y="3628192"/>
                      <a:pt x="1964267" y="3623733"/>
                    </a:cubicBezTo>
                    <a:cubicBezTo>
                      <a:pt x="1977138" y="3585119"/>
                      <a:pt x="2013797" y="3558539"/>
                      <a:pt x="2032000" y="3522133"/>
                    </a:cubicBezTo>
                    <a:cubicBezTo>
                      <a:pt x="2047965" y="3490203"/>
                      <a:pt x="2054578" y="3454400"/>
                      <a:pt x="2065867" y="3420533"/>
                    </a:cubicBezTo>
                    <a:cubicBezTo>
                      <a:pt x="2054578" y="3318933"/>
                      <a:pt x="2052048" y="3215973"/>
                      <a:pt x="2032000" y="3115733"/>
                    </a:cubicBezTo>
                    <a:cubicBezTo>
                      <a:pt x="2017998" y="3045722"/>
                      <a:pt x="1964267" y="2912533"/>
                      <a:pt x="1964267" y="2912533"/>
                    </a:cubicBezTo>
                    <a:cubicBezTo>
                      <a:pt x="2045473" y="2668911"/>
                      <a:pt x="1946942" y="2973167"/>
                      <a:pt x="2032000" y="2675467"/>
                    </a:cubicBezTo>
                    <a:cubicBezTo>
                      <a:pt x="2041807" y="2641142"/>
                      <a:pt x="2054578" y="2607734"/>
                      <a:pt x="2065867" y="2573867"/>
                    </a:cubicBezTo>
                    <a:cubicBezTo>
                      <a:pt x="1988036" y="2340376"/>
                      <a:pt x="2048618" y="2421153"/>
                      <a:pt x="1930400" y="2302933"/>
                    </a:cubicBezTo>
                    <a:cubicBezTo>
                      <a:pt x="1919111" y="2257778"/>
                      <a:pt x="1909320" y="2212221"/>
                      <a:pt x="1896533" y="2167467"/>
                    </a:cubicBezTo>
                    <a:cubicBezTo>
                      <a:pt x="1886726" y="2133142"/>
                      <a:pt x="1868536" y="2101080"/>
                      <a:pt x="1862667" y="2065867"/>
                    </a:cubicBezTo>
                    <a:cubicBezTo>
                      <a:pt x="1846052" y="1966175"/>
                      <a:pt x="1835554" y="1713597"/>
                      <a:pt x="1794933" y="1591733"/>
                    </a:cubicBezTo>
                    <a:cubicBezTo>
                      <a:pt x="1778968" y="1543839"/>
                      <a:pt x="1753174" y="1499558"/>
                      <a:pt x="1727200" y="1456267"/>
                    </a:cubicBezTo>
                    <a:cubicBezTo>
                      <a:pt x="1685317" y="1386462"/>
                      <a:pt x="1591733" y="1253067"/>
                      <a:pt x="1591733" y="1253067"/>
                    </a:cubicBezTo>
                    <a:cubicBezTo>
                      <a:pt x="1555962" y="1145753"/>
                      <a:pt x="1565165" y="1143657"/>
                      <a:pt x="1490133" y="1049867"/>
                    </a:cubicBezTo>
                    <a:cubicBezTo>
                      <a:pt x="1470187" y="1024934"/>
                      <a:pt x="1442346" y="1007066"/>
                      <a:pt x="1422400" y="982133"/>
                    </a:cubicBezTo>
                    <a:cubicBezTo>
                      <a:pt x="1396973" y="950349"/>
                      <a:pt x="1380094" y="912316"/>
                      <a:pt x="1354667" y="880533"/>
                    </a:cubicBezTo>
                    <a:cubicBezTo>
                      <a:pt x="1334721" y="855600"/>
                      <a:pt x="1306879" y="837733"/>
                      <a:pt x="1286933" y="812800"/>
                    </a:cubicBezTo>
                    <a:cubicBezTo>
                      <a:pt x="1261506" y="781017"/>
                      <a:pt x="1246241" y="741622"/>
                      <a:pt x="1219200" y="711200"/>
                    </a:cubicBezTo>
                    <a:cubicBezTo>
                      <a:pt x="1155561" y="639606"/>
                      <a:pt x="1095702" y="561134"/>
                      <a:pt x="1016000" y="508000"/>
                    </a:cubicBezTo>
                    <a:cubicBezTo>
                      <a:pt x="887833" y="422556"/>
                      <a:pt x="943181" y="469048"/>
                      <a:pt x="846667" y="372533"/>
                    </a:cubicBezTo>
                    <a:cubicBezTo>
                      <a:pt x="835378" y="338666"/>
                      <a:pt x="832602" y="300636"/>
                      <a:pt x="812800" y="270933"/>
                    </a:cubicBezTo>
                    <a:cubicBezTo>
                      <a:pt x="786233" y="231082"/>
                      <a:pt x="749006" y="198737"/>
                      <a:pt x="711200" y="169333"/>
                    </a:cubicBezTo>
                    <a:cubicBezTo>
                      <a:pt x="536524" y="33474"/>
                      <a:pt x="559693" y="51098"/>
                      <a:pt x="406400" y="0"/>
                    </a:cubicBezTo>
                    <a:cubicBezTo>
                      <a:pt x="361244" y="11289"/>
                      <a:pt x="313715" y="15532"/>
                      <a:pt x="270933" y="33867"/>
                    </a:cubicBezTo>
                    <a:cubicBezTo>
                      <a:pt x="53886" y="126887"/>
                      <a:pt x="173770" y="228415"/>
                      <a:pt x="203200" y="508000"/>
                    </a:cubicBezTo>
                    <a:cubicBezTo>
                      <a:pt x="230238" y="764856"/>
                      <a:pt x="168958" y="711013"/>
                      <a:pt x="304800" y="778933"/>
                    </a:cubicBezTo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任意多边形 216"/>
              <p:cNvSpPr/>
              <p:nvPr/>
            </p:nvSpPr>
            <p:spPr>
              <a:xfrm rot="15691800">
                <a:off x="14387400" y="2735280"/>
                <a:ext cx="97200" cy="264240"/>
              </a:xfrm>
              <a:custGeom>
                <a:avLst/>
                <a:gdLst>
                  <a:gd name="textAreaLeft" fmla="*/ 0 w 97200"/>
                  <a:gd name="textAreaRight" fmla="*/ 97560 w 97200"/>
                  <a:gd name="textAreaTop" fmla="*/ 0 h 264240"/>
                  <a:gd name="textAreaBottom" fmla="*/ 264600 h 264240"/>
                </a:gdLst>
                <a:ahLst/>
                <a:rect l="textAreaLeft" t="textAreaTop" r="textAreaRight" b="textAreaBottom"/>
                <a:pathLst>
                  <a:path w="2065867" h="4030133">
                    <a:moveTo>
                      <a:pt x="270933" y="677333"/>
                    </a:moveTo>
                    <a:cubicBezTo>
                      <a:pt x="259644" y="733778"/>
                      <a:pt x="257278" y="792770"/>
                      <a:pt x="237067" y="846667"/>
                    </a:cubicBezTo>
                    <a:cubicBezTo>
                      <a:pt x="222775" y="884778"/>
                      <a:pt x="187536" y="911861"/>
                      <a:pt x="169333" y="948267"/>
                    </a:cubicBezTo>
                    <a:cubicBezTo>
                      <a:pt x="153368" y="980197"/>
                      <a:pt x="146756" y="1016000"/>
                      <a:pt x="135467" y="1049867"/>
                    </a:cubicBezTo>
                    <a:cubicBezTo>
                      <a:pt x="124178" y="1128889"/>
                      <a:pt x="124537" y="1210475"/>
                      <a:pt x="101600" y="1286933"/>
                    </a:cubicBezTo>
                    <a:cubicBezTo>
                      <a:pt x="89904" y="1325919"/>
                      <a:pt x="52070" y="1352127"/>
                      <a:pt x="33867" y="1388533"/>
                    </a:cubicBezTo>
                    <a:cubicBezTo>
                      <a:pt x="17902" y="1420463"/>
                      <a:pt x="11289" y="1456266"/>
                      <a:pt x="0" y="1490133"/>
                    </a:cubicBezTo>
                    <a:cubicBezTo>
                      <a:pt x="11289" y="1648178"/>
                      <a:pt x="6331" y="1808231"/>
                      <a:pt x="33867" y="1964267"/>
                    </a:cubicBezTo>
                    <a:cubicBezTo>
                      <a:pt x="40941" y="2004350"/>
                      <a:pt x="77942" y="2032746"/>
                      <a:pt x="101600" y="2065867"/>
                    </a:cubicBezTo>
                    <a:cubicBezTo>
                      <a:pt x="134408" y="2111798"/>
                      <a:pt x="167065" y="2157971"/>
                      <a:pt x="203200" y="2201333"/>
                    </a:cubicBezTo>
                    <a:cubicBezTo>
                      <a:pt x="223641" y="2225862"/>
                      <a:pt x="253221" y="2242500"/>
                      <a:pt x="270933" y="2269067"/>
                    </a:cubicBezTo>
                    <a:cubicBezTo>
                      <a:pt x="298937" y="2311073"/>
                      <a:pt x="313619" y="2360700"/>
                      <a:pt x="338667" y="2404533"/>
                    </a:cubicBezTo>
                    <a:cubicBezTo>
                      <a:pt x="443708" y="2588354"/>
                      <a:pt x="378175" y="2421458"/>
                      <a:pt x="440267" y="2607733"/>
                    </a:cubicBezTo>
                    <a:cubicBezTo>
                      <a:pt x="451556" y="2686755"/>
                      <a:pt x="448890" y="2769072"/>
                      <a:pt x="474133" y="2844800"/>
                    </a:cubicBezTo>
                    <a:cubicBezTo>
                      <a:pt x="484230" y="2875091"/>
                      <a:pt x="525439" y="2885153"/>
                      <a:pt x="541867" y="2912533"/>
                    </a:cubicBezTo>
                    <a:cubicBezTo>
                      <a:pt x="692110" y="3162937"/>
                      <a:pt x="437916" y="2858793"/>
                      <a:pt x="643467" y="3115733"/>
                    </a:cubicBezTo>
                    <a:cubicBezTo>
                      <a:pt x="663413" y="3140666"/>
                      <a:pt x="691254" y="3158534"/>
                      <a:pt x="711200" y="3183467"/>
                    </a:cubicBezTo>
                    <a:cubicBezTo>
                      <a:pt x="736627" y="3215251"/>
                      <a:pt x="752130" y="3254435"/>
                      <a:pt x="778933" y="3285067"/>
                    </a:cubicBezTo>
                    <a:cubicBezTo>
                      <a:pt x="831498" y="3345141"/>
                      <a:pt x="900372" y="3390540"/>
                      <a:pt x="948267" y="3454400"/>
                    </a:cubicBezTo>
                    <a:cubicBezTo>
                      <a:pt x="982134" y="3499556"/>
                      <a:pt x="1019951" y="3542002"/>
                      <a:pt x="1049867" y="3589867"/>
                    </a:cubicBezTo>
                    <a:cubicBezTo>
                      <a:pt x="1076624" y="3632678"/>
                      <a:pt x="1089596" y="3683327"/>
                      <a:pt x="1117600" y="3725333"/>
                    </a:cubicBezTo>
                    <a:cubicBezTo>
                      <a:pt x="1164328" y="3795425"/>
                      <a:pt x="1222230" y="3809038"/>
                      <a:pt x="1286933" y="3860800"/>
                    </a:cubicBezTo>
                    <a:cubicBezTo>
                      <a:pt x="1311866" y="3880746"/>
                      <a:pt x="1328100" y="3910821"/>
                      <a:pt x="1354667" y="3928533"/>
                    </a:cubicBezTo>
                    <a:cubicBezTo>
                      <a:pt x="1438370" y="3984335"/>
                      <a:pt x="1501418" y="4000029"/>
                      <a:pt x="1591733" y="4030133"/>
                    </a:cubicBezTo>
                    <a:cubicBezTo>
                      <a:pt x="1670755" y="4018844"/>
                      <a:pt x="1753072" y="4021510"/>
                      <a:pt x="1828800" y="3996267"/>
                    </a:cubicBezTo>
                    <a:cubicBezTo>
                      <a:pt x="1947678" y="3956641"/>
                      <a:pt x="1962781" y="3628192"/>
                      <a:pt x="1964267" y="3623733"/>
                    </a:cubicBezTo>
                    <a:cubicBezTo>
                      <a:pt x="1977138" y="3585119"/>
                      <a:pt x="2013797" y="3558539"/>
                      <a:pt x="2032000" y="3522133"/>
                    </a:cubicBezTo>
                    <a:cubicBezTo>
                      <a:pt x="2047965" y="3490203"/>
                      <a:pt x="2054578" y="3454400"/>
                      <a:pt x="2065867" y="3420533"/>
                    </a:cubicBezTo>
                    <a:cubicBezTo>
                      <a:pt x="2054578" y="3318933"/>
                      <a:pt x="2052048" y="3215973"/>
                      <a:pt x="2032000" y="3115733"/>
                    </a:cubicBezTo>
                    <a:cubicBezTo>
                      <a:pt x="2017998" y="3045722"/>
                      <a:pt x="1964267" y="2912533"/>
                      <a:pt x="1964267" y="2912533"/>
                    </a:cubicBezTo>
                    <a:cubicBezTo>
                      <a:pt x="2045473" y="2668911"/>
                      <a:pt x="1946942" y="2973167"/>
                      <a:pt x="2032000" y="2675467"/>
                    </a:cubicBezTo>
                    <a:cubicBezTo>
                      <a:pt x="2041807" y="2641142"/>
                      <a:pt x="2054578" y="2607734"/>
                      <a:pt x="2065867" y="2573867"/>
                    </a:cubicBezTo>
                    <a:cubicBezTo>
                      <a:pt x="1988036" y="2340376"/>
                      <a:pt x="2048618" y="2421153"/>
                      <a:pt x="1930400" y="2302933"/>
                    </a:cubicBezTo>
                    <a:cubicBezTo>
                      <a:pt x="1919111" y="2257778"/>
                      <a:pt x="1909320" y="2212221"/>
                      <a:pt x="1896533" y="2167467"/>
                    </a:cubicBezTo>
                    <a:cubicBezTo>
                      <a:pt x="1886726" y="2133142"/>
                      <a:pt x="1868536" y="2101080"/>
                      <a:pt x="1862667" y="2065867"/>
                    </a:cubicBezTo>
                    <a:cubicBezTo>
                      <a:pt x="1846052" y="1966175"/>
                      <a:pt x="1835554" y="1713597"/>
                      <a:pt x="1794933" y="1591733"/>
                    </a:cubicBezTo>
                    <a:cubicBezTo>
                      <a:pt x="1778968" y="1543839"/>
                      <a:pt x="1753174" y="1499558"/>
                      <a:pt x="1727200" y="1456267"/>
                    </a:cubicBezTo>
                    <a:cubicBezTo>
                      <a:pt x="1685317" y="1386462"/>
                      <a:pt x="1591733" y="1253067"/>
                      <a:pt x="1591733" y="1253067"/>
                    </a:cubicBezTo>
                    <a:cubicBezTo>
                      <a:pt x="1555962" y="1145753"/>
                      <a:pt x="1565165" y="1143657"/>
                      <a:pt x="1490133" y="1049867"/>
                    </a:cubicBezTo>
                    <a:cubicBezTo>
                      <a:pt x="1470187" y="1024934"/>
                      <a:pt x="1442346" y="1007066"/>
                      <a:pt x="1422400" y="982133"/>
                    </a:cubicBezTo>
                    <a:cubicBezTo>
                      <a:pt x="1396973" y="950349"/>
                      <a:pt x="1380094" y="912316"/>
                      <a:pt x="1354667" y="880533"/>
                    </a:cubicBezTo>
                    <a:cubicBezTo>
                      <a:pt x="1334721" y="855600"/>
                      <a:pt x="1306879" y="837733"/>
                      <a:pt x="1286933" y="812800"/>
                    </a:cubicBezTo>
                    <a:cubicBezTo>
                      <a:pt x="1261506" y="781017"/>
                      <a:pt x="1246241" y="741622"/>
                      <a:pt x="1219200" y="711200"/>
                    </a:cubicBezTo>
                    <a:cubicBezTo>
                      <a:pt x="1155561" y="639606"/>
                      <a:pt x="1095702" y="561134"/>
                      <a:pt x="1016000" y="508000"/>
                    </a:cubicBezTo>
                    <a:cubicBezTo>
                      <a:pt x="887833" y="422556"/>
                      <a:pt x="943181" y="469048"/>
                      <a:pt x="846667" y="372533"/>
                    </a:cubicBezTo>
                    <a:cubicBezTo>
                      <a:pt x="835378" y="338666"/>
                      <a:pt x="832602" y="300636"/>
                      <a:pt x="812800" y="270933"/>
                    </a:cubicBezTo>
                    <a:cubicBezTo>
                      <a:pt x="786233" y="231082"/>
                      <a:pt x="749006" y="198737"/>
                      <a:pt x="711200" y="169333"/>
                    </a:cubicBezTo>
                    <a:cubicBezTo>
                      <a:pt x="536524" y="33474"/>
                      <a:pt x="559693" y="51098"/>
                      <a:pt x="406400" y="0"/>
                    </a:cubicBezTo>
                    <a:cubicBezTo>
                      <a:pt x="361244" y="11289"/>
                      <a:pt x="313715" y="15532"/>
                      <a:pt x="270933" y="33867"/>
                    </a:cubicBezTo>
                    <a:cubicBezTo>
                      <a:pt x="53886" y="126887"/>
                      <a:pt x="173770" y="228415"/>
                      <a:pt x="203200" y="508000"/>
                    </a:cubicBezTo>
                    <a:cubicBezTo>
                      <a:pt x="230238" y="764856"/>
                      <a:pt x="168958" y="711013"/>
                      <a:pt x="304800" y="778933"/>
                    </a:cubicBezTo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5" name=""/>
            <p:cNvGrpSpPr/>
            <p:nvPr/>
          </p:nvGrpSpPr>
          <p:grpSpPr>
            <a:xfrm>
              <a:off x="12071160" y="1142280"/>
              <a:ext cx="1105560" cy="958680"/>
              <a:chOff x="12071160" y="1142280"/>
              <a:chExt cx="1105560" cy="958680"/>
            </a:xfrm>
          </p:grpSpPr>
          <p:sp>
            <p:nvSpPr>
              <p:cNvPr id="486" name="任意多边形 211"/>
              <p:cNvSpPr/>
              <p:nvPr/>
            </p:nvSpPr>
            <p:spPr>
              <a:xfrm rot="14100600">
                <a:off x="12402000" y="1101960"/>
                <a:ext cx="443160" cy="1038960"/>
              </a:xfrm>
              <a:custGeom>
                <a:avLst/>
                <a:gdLst>
                  <a:gd name="textAreaLeft" fmla="*/ 0 w 443160"/>
                  <a:gd name="textAreaRight" fmla="*/ 443520 w 443160"/>
                  <a:gd name="textAreaTop" fmla="*/ 0 h 1038960"/>
                  <a:gd name="textAreaBottom" fmla="*/ 1039320 h 1038960"/>
                </a:gdLst>
                <a:ahLst/>
                <a:rect l="textAreaLeft" t="textAreaTop" r="textAreaRight" b="textAreaBottom"/>
                <a:pathLst>
                  <a:path w="2065867" h="4030133">
                    <a:moveTo>
                      <a:pt x="270933" y="677333"/>
                    </a:moveTo>
                    <a:cubicBezTo>
                      <a:pt x="259644" y="733778"/>
                      <a:pt x="257278" y="792770"/>
                      <a:pt x="237067" y="846667"/>
                    </a:cubicBezTo>
                    <a:cubicBezTo>
                      <a:pt x="222775" y="884778"/>
                      <a:pt x="187536" y="911861"/>
                      <a:pt x="169333" y="948267"/>
                    </a:cubicBezTo>
                    <a:cubicBezTo>
                      <a:pt x="153368" y="980197"/>
                      <a:pt x="146756" y="1016000"/>
                      <a:pt x="135467" y="1049867"/>
                    </a:cubicBezTo>
                    <a:cubicBezTo>
                      <a:pt x="124178" y="1128889"/>
                      <a:pt x="124537" y="1210475"/>
                      <a:pt x="101600" y="1286933"/>
                    </a:cubicBezTo>
                    <a:cubicBezTo>
                      <a:pt x="89904" y="1325919"/>
                      <a:pt x="52070" y="1352127"/>
                      <a:pt x="33867" y="1388533"/>
                    </a:cubicBezTo>
                    <a:cubicBezTo>
                      <a:pt x="17902" y="1420463"/>
                      <a:pt x="11289" y="1456266"/>
                      <a:pt x="0" y="1490133"/>
                    </a:cubicBezTo>
                    <a:cubicBezTo>
                      <a:pt x="11289" y="1648178"/>
                      <a:pt x="6331" y="1808231"/>
                      <a:pt x="33867" y="1964267"/>
                    </a:cubicBezTo>
                    <a:cubicBezTo>
                      <a:pt x="40941" y="2004350"/>
                      <a:pt x="77942" y="2032746"/>
                      <a:pt x="101600" y="2065867"/>
                    </a:cubicBezTo>
                    <a:cubicBezTo>
                      <a:pt x="134408" y="2111798"/>
                      <a:pt x="167065" y="2157971"/>
                      <a:pt x="203200" y="2201333"/>
                    </a:cubicBezTo>
                    <a:cubicBezTo>
                      <a:pt x="223641" y="2225862"/>
                      <a:pt x="253221" y="2242500"/>
                      <a:pt x="270933" y="2269067"/>
                    </a:cubicBezTo>
                    <a:cubicBezTo>
                      <a:pt x="298937" y="2311073"/>
                      <a:pt x="313619" y="2360700"/>
                      <a:pt x="338667" y="2404533"/>
                    </a:cubicBezTo>
                    <a:cubicBezTo>
                      <a:pt x="443708" y="2588354"/>
                      <a:pt x="378175" y="2421458"/>
                      <a:pt x="440267" y="2607733"/>
                    </a:cubicBezTo>
                    <a:cubicBezTo>
                      <a:pt x="451556" y="2686755"/>
                      <a:pt x="448890" y="2769072"/>
                      <a:pt x="474133" y="2844800"/>
                    </a:cubicBezTo>
                    <a:cubicBezTo>
                      <a:pt x="484230" y="2875091"/>
                      <a:pt x="525439" y="2885153"/>
                      <a:pt x="541867" y="2912533"/>
                    </a:cubicBezTo>
                    <a:cubicBezTo>
                      <a:pt x="692110" y="3162937"/>
                      <a:pt x="437916" y="2858793"/>
                      <a:pt x="643467" y="3115733"/>
                    </a:cubicBezTo>
                    <a:cubicBezTo>
                      <a:pt x="663413" y="3140666"/>
                      <a:pt x="691254" y="3158534"/>
                      <a:pt x="711200" y="3183467"/>
                    </a:cubicBezTo>
                    <a:cubicBezTo>
                      <a:pt x="736627" y="3215251"/>
                      <a:pt x="752130" y="3254435"/>
                      <a:pt x="778933" y="3285067"/>
                    </a:cubicBezTo>
                    <a:cubicBezTo>
                      <a:pt x="831498" y="3345141"/>
                      <a:pt x="900372" y="3390540"/>
                      <a:pt x="948267" y="3454400"/>
                    </a:cubicBezTo>
                    <a:cubicBezTo>
                      <a:pt x="982134" y="3499556"/>
                      <a:pt x="1019951" y="3542002"/>
                      <a:pt x="1049867" y="3589867"/>
                    </a:cubicBezTo>
                    <a:cubicBezTo>
                      <a:pt x="1076624" y="3632678"/>
                      <a:pt x="1089596" y="3683327"/>
                      <a:pt x="1117600" y="3725333"/>
                    </a:cubicBezTo>
                    <a:cubicBezTo>
                      <a:pt x="1164328" y="3795425"/>
                      <a:pt x="1222230" y="3809038"/>
                      <a:pt x="1286933" y="3860800"/>
                    </a:cubicBezTo>
                    <a:cubicBezTo>
                      <a:pt x="1311866" y="3880746"/>
                      <a:pt x="1328100" y="3910821"/>
                      <a:pt x="1354667" y="3928533"/>
                    </a:cubicBezTo>
                    <a:cubicBezTo>
                      <a:pt x="1438370" y="3984335"/>
                      <a:pt x="1501418" y="4000029"/>
                      <a:pt x="1591733" y="4030133"/>
                    </a:cubicBezTo>
                    <a:cubicBezTo>
                      <a:pt x="1670755" y="4018844"/>
                      <a:pt x="1753072" y="4021510"/>
                      <a:pt x="1828800" y="3996267"/>
                    </a:cubicBezTo>
                    <a:cubicBezTo>
                      <a:pt x="1947678" y="3956641"/>
                      <a:pt x="1962781" y="3628192"/>
                      <a:pt x="1964267" y="3623733"/>
                    </a:cubicBezTo>
                    <a:cubicBezTo>
                      <a:pt x="1977138" y="3585119"/>
                      <a:pt x="2013797" y="3558539"/>
                      <a:pt x="2032000" y="3522133"/>
                    </a:cubicBezTo>
                    <a:cubicBezTo>
                      <a:pt x="2047965" y="3490203"/>
                      <a:pt x="2054578" y="3454400"/>
                      <a:pt x="2065867" y="3420533"/>
                    </a:cubicBezTo>
                    <a:cubicBezTo>
                      <a:pt x="2054578" y="3318933"/>
                      <a:pt x="2052048" y="3215973"/>
                      <a:pt x="2032000" y="3115733"/>
                    </a:cubicBezTo>
                    <a:cubicBezTo>
                      <a:pt x="2017998" y="3045722"/>
                      <a:pt x="1964267" y="2912533"/>
                      <a:pt x="1964267" y="2912533"/>
                    </a:cubicBezTo>
                    <a:cubicBezTo>
                      <a:pt x="2045473" y="2668911"/>
                      <a:pt x="1946942" y="2973167"/>
                      <a:pt x="2032000" y="2675467"/>
                    </a:cubicBezTo>
                    <a:cubicBezTo>
                      <a:pt x="2041807" y="2641142"/>
                      <a:pt x="2054578" y="2607734"/>
                      <a:pt x="2065867" y="2573867"/>
                    </a:cubicBezTo>
                    <a:cubicBezTo>
                      <a:pt x="1988036" y="2340376"/>
                      <a:pt x="2048618" y="2421153"/>
                      <a:pt x="1930400" y="2302933"/>
                    </a:cubicBezTo>
                    <a:cubicBezTo>
                      <a:pt x="1919111" y="2257778"/>
                      <a:pt x="1909320" y="2212221"/>
                      <a:pt x="1896533" y="2167467"/>
                    </a:cubicBezTo>
                    <a:cubicBezTo>
                      <a:pt x="1886726" y="2133142"/>
                      <a:pt x="1868536" y="2101080"/>
                      <a:pt x="1862667" y="2065867"/>
                    </a:cubicBezTo>
                    <a:cubicBezTo>
                      <a:pt x="1846052" y="1966175"/>
                      <a:pt x="1835554" y="1713597"/>
                      <a:pt x="1794933" y="1591733"/>
                    </a:cubicBezTo>
                    <a:cubicBezTo>
                      <a:pt x="1778968" y="1543839"/>
                      <a:pt x="1753174" y="1499558"/>
                      <a:pt x="1727200" y="1456267"/>
                    </a:cubicBezTo>
                    <a:cubicBezTo>
                      <a:pt x="1685317" y="1386462"/>
                      <a:pt x="1591733" y="1253067"/>
                      <a:pt x="1591733" y="1253067"/>
                    </a:cubicBezTo>
                    <a:cubicBezTo>
                      <a:pt x="1555962" y="1145753"/>
                      <a:pt x="1565165" y="1143657"/>
                      <a:pt x="1490133" y="1049867"/>
                    </a:cubicBezTo>
                    <a:cubicBezTo>
                      <a:pt x="1470187" y="1024934"/>
                      <a:pt x="1442346" y="1007066"/>
                      <a:pt x="1422400" y="982133"/>
                    </a:cubicBezTo>
                    <a:cubicBezTo>
                      <a:pt x="1396973" y="950349"/>
                      <a:pt x="1380094" y="912316"/>
                      <a:pt x="1354667" y="880533"/>
                    </a:cubicBezTo>
                    <a:cubicBezTo>
                      <a:pt x="1334721" y="855600"/>
                      <a:pt x="1306879" y="837733"/>
                      <a:pt x="1286933" y="812800"/>
                    </a:cubicBezTo>
                    <a:cubicBezTo>
                      <a:pt x="1261506" y="781017"/>
                      <a:pt x="1246241" y="741622"/>
                      <a:pt x="1219200" y="711200"/>
                    </a:cubicBezTo>
                    <a:cubicBezTo>
                      <a:pt x="1155561" y="639606"/>
                      <a:pt x="1095702" y="561134"/>
                      <a:pt x="1016000" y="508000"/>
                    </a:cubicBezTo>
                    <a:cubicBezTo>
                      <a:pt x="887833" y="422556"/>
                      <a:pt x="943181" y="469048"/>
                      <a:pt x="846667" y="372533"/>
                    </a:cubicBezTo>
                    <a:cubicBezTo>
                      <a:pt x="835378" y="338666"/>
                      <a:pt x="832602" y="300636"/>
                      <a:pt x="812800" y="270933"/>
                    </a:cubicBezTo>
                    <a:cubicBezTo>
                      <a:pt x="786233" y="231082"/>
                      <a:pt x="749006" y="198737"/>
                      <a:pt x="711200" y="169333"/>
                    </a:cubicBezTo>
                    <a:cubicBezTo>
                      <a:pt x="536524" y="33474"/>
                      <a:pt x="559693" y="51098"/>
                      <a:pt x="406400" y="0"/>
                    </a:cubicBezTo>
                    <a:cubicBezTo>
                      <a:pt x="361244" y="11289"/>
                      <a:pt x="313715" y="15532"/>
                      <a:pt x="270933" y="33867"/>
                    </a:cubicBezTo>
                    <a:cubicBezTo>
                      <a:pt x="53886" y="126887"/>
                      <a:pt x="173770" y="228415"/>
                      <a:pt x="203200" y="508000"/>
                    </a:cubicBezTo>
                    <a:cubicBezTo>
                      <a:pt x="230238" y="764856"/>
                      <a:pt x="168958" y="711013"/>
                      <a:pt x="304800" y="778933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任意多边形 212"/>
              <p:cNvSpPr/>
              <p:nvPr/>
            </p:nvSpPr>
            <p:spPr>
              <a:xfrm rot="14100600">
                <a:off x="12370680" y="1501920"/>
                <a:ext cx="214200" cy="533160"/>
              </a:xfrm>
              <a:custGeom>
                <a:avLst/>
                <a:gdLst>
                  <a:gd name="textAreaLeft" fmla="*/ 0 w 214200"/>
                  <a:gd name="textAreaRight" fmla="*/ 214560 w 214200"/>
                  <a:gd name="textAreaTop" fmla="*/ 0 h 533160"/>
                  <a:gd name="textAreaBottom" fmla="*/ 533520 h 533160"/>
                </a:gdLst>
                <a:ahLst/>
                <a:rect l="textAreaLeft" t="textAreaTop" r="textAreaRight" b="textAreaBottom"/>
                <a:pathLst>
                  <a:path w="2065867" h="4030133">
                    <a:moveTo>
                      <a:pt x="270933" y="677333"/>
                    </a:moveTo>
                    <a:cubicBezTo>
                      <a:pt x="259644" y="733778"/>
                      <a:pt x="257278" y="792770"/>
                      <a:pt x="237067" y="846667"/>
                    </a:cubicBezTo>
                    <a:cubicBezTo>
                      <a:pt x="222775" y="884778"/>
                      <a:pt x="187536" y="911861"/>
                      <a:pt x="169333" y="948267"/>
                    </a:cubicBezTo>
                    <a:cubicBezTo>
                      <a:pt x="153368" y="980197"/>
                      <a:pt x="146756" y="1016000"/>
                      <a:pt x="135467" y="1049867"/>
                    </a:cubicBezTo>
                    <a:cubicBezTo>
                      <a:pt x="124178" y="1128889"/>
                      <a:pt x="124537" y="1210475"/>
                      <a:pt x="101600" y="1286933"/>
                    </a:cubicBezTo>
                    <a:cubicBezTo>
                      <a:pt x="89904" y="1325919"/>
                      <a:pt x="52070" y="1352127"/>
                      <a:pt x="33867" y="1388533"/>
                    </a:cubicBezTo>
                    <a:cubicBezTo>
                      <a:pt x="17902" y="1420463"/>
                      <a:pt x="11289" y="1456266"/>
                      <a:pt x="0" y="1490133"/>
                    </a:cubicBezTo>
                    <a:cubicBezTo>
                      <a:pt x="11289" y="1648178"/>
                      <a:pt x="6331" y="1808231"/>
                      <a:pt x="33867" y="1964267"/>
                    </a:cubicBezTo>
                    <a:cubicBezTo>
                      <a:pt x="40941" y="2004350"/>
                      <a:pt x="77942" y="2032746"/>
                      <a:pt x="101600" y="2065867"/>
                    </a:cubicBezTo>
                    <a:cubicBezTo>
                      <a:pt x="134408" y="2111798"/>
                      <a:pt x="167065" y="2157971"/>
                      <a:pt x="203200" y="2201333"/>
                    </a:cubicBezTo>
                    <a:cubicBezTo>
                      <a:pt x="223641" y="2225862"/>
                      <a:pt x="253221" y="2242500"/>
                      <a:pt x="270933" y="2269067"/>
                    </a:cubicBezTo>
                    <a:cubicBezTo>
                      <a:pt x="298937" y="2311073"/>
                      <a:pt x="313619" y="2360700"/>
                      <a:pt x="338667" y="2404533"/>
                    </a:cubicBezTo>
                    <a:cubicBezTo>
                      <a:pt x="443708" y="2588354"/>
                      <a:pt x="378175" y="2421458"/>
                      <a:pt x="440267" y="2607733"/>
                    </a:cubicBezTo>
                    <a:cubicBezTo>
                      <a:pt x="451556" y="2686755"/>
                      <a:pt x="448890" y="2769072"/>
                      <a:pt x="474133" y="2844800"/>
                    </a:cubicBezTo>
                    <a:cubicBezTo>
                      <a:pt x="484230" y="2875091"/>
                      <a:pt x="525439" y="2885153"/>
                      <a:pt x="541867" y="2912533"/>
                    </a:cubicBezTo>
                    <a:cubicBezTo>
                      <a:pt x="692110" y="3162937"/>
                      <a:pt x="437916" y="2858793"/>
                      <a:pt x="643467" y="3115733"/>
                    </a:cubicBezTo>
                    <a:cubicBezTo>
                      <a:pt x="663413" y="3140666"/>
                      <a:pt x="691254" y="3158534"/>
                      <a:pt x="711200" y="3183467"/>
                    </a:cubicBezTo>
                    <a:cubicBezTo>
                      <a:pt x="736627" y="3215251"/>
                      <a:pt x="752130" y="3254435"/>
                      <a:pt x="778933" y="3285067"/>
                    </a:cubicBezTo>
                    <a:cubicBezTo>
                      <a:pt x="831498" y="3345141"/>
                      <a:pt x="900372" y="3390540"/>
                      <a:pt x="948267" y="3454400"/>
                    </a:cubicBezTo>
                    <a:cubicBezTo>
                      <a:pt x="982134" y="3499556"/>
                      <a:pt x="1019951" y="3542002"/>
                      <a:pt x="1049867" y="3589867"/>
                    </a:cubicBezTo>
                    <a:cubicBezTo>
                      <a:pt x="1076624" y="3632678"/>
                      <a:pt x="1089596" y="3683327"/>
                      <a:pt x="1117600" y="3725333"/>
                    </a:cubicBezTo>
                    <a:cubicBezTo>
                      <a:pt x="1164328" y="3795425"/>
                      <a:pt x="1222230" y="3809038"/>
                      <a:pt x="1286933" y="3860800"/>
                    </a:cubicBezTo>
                    <a:cubicBezTo>
                      <a:pt x="1311866" y="3880746"/>
                      <a:pt x="1328100" y="3910821"/>
                      <a:pt x="1354667" y="3928533"/>
                    </a:cubicBezTo>
                    <a:cubicBezTo>
                      <a:pt x="1438370" y="3984335"/>
                      <a:pt x="1501418" y="4000029"/>
                      <a:pt x="1591733" y="4030133"/>
                    </a:cubicBezTo>
                    <a:cubicBezTo>
                      <a:pt x="1670755" y="4018844"/>
                      <a:pt x="1753072" y="4021510"/>
                      <a:pt x="1828800" y="3996267"/>
                    </a:cubicBezTo>
                    <a:cubicBezTo>
                      <a:pt x="1947678" y="3956641"/>
                      <a:pt x="1962781" y="3628192"/>
                      <a:pt x="1964267" y="3623733"/>
                    </a:cubicBezTo>
                    <a:cubicBezTo>
                      <a:pt x="1977138" y="3585119"/>
                      <a:pt x="2013797" y="3558539"/>
                      <a:pt x="2032000" y="3522133"/>
                    </a:cubicBezTo>
                    <a:cubicBezTo>
                      <a:pt x="2047965" y="3490203"/>
                      <a:pt x="2054578" y="3454400"/>
                      <a:pt x="2065867" y="3420533"/>
                    </a:cubicBezTo>
                    <a:cubicBezTo>
                      <a:pt x="2054578" y="3318933"/>
                      <a:pt x="2052048" y="3215973"/>
                      <a:pt x="2032000" y="3115733"/>
                    </a:cubicBezTo>
                    <a:cubicBezTo>
                      <a:pt x="2017998" y="3045722"/>
                      <a:pt x="1964267" y="2912533"/>
                      <a:pt x="1964267" y="2912533"/>
                    </a:cubicBezTo>
                    <a:cubicBezTo>
                      <a:pt x="2045473" y="2668911"/>
                      <a:pt x="1946942" y="2973167"/>
                      <a:pt x="2032000" y="2675467"/>
                    </a:cubicBezTo>
                    <a:cubicBezTo>
                      <a:pt x="2041807" y="2641142"/>
                      <a:pt x="2054578" y="2607734"/>
                      <a:pt x="2065867" y="2573867"/>
                    </a:cubicBezTo>
                    <a:cubicBezTo>
                      <a:pt x="1988036" y="2340376"/>
                      <a:pt x="2048618" y="2421153"/>
                      <a:pt x="1930400" y="2302933"/>
                    </a:cubicBezTo>
                    <a:cubicBezTo>
                      <a:pt x="1919111" y="2257778"/>
                      <a:pt x="1909320" y="2212221"/>
                      <a:pt x="1896533" y="2167467"/>
                    </a:cubicBezTo>
                    <a:cubicBezTo>
                      <a:pt x="1886726" y="2133142"/>
                      <a:pt x="1868536" y="2101080"/>
                      <a:pt x="1862667" y="2065867"/>
                    </a:cubicBezTo>
                    <a:cubicBezTo>
                      <a:pt x="1846052" y="1966175"/>
                      <a:pt x="1835554" y="1713597"/>
                      <a:pt x="1794933" y="1591733"/>
                    </a:cubicBezTo>
                    <a:cubicBezTo>
                      <a:pt x="1778968" y="1543839"/>
                      <a:pt x="1753174" y="1499558"/>
                      <a:pt x="1727200" y="1456267"/>
                    </a:cubicBezTo>
                    <a:cubicBezTo>
                      <a:pt x="1685317" y="1386462"/>
                      <a:pt x="1591733" y="1253067"/>
                      <a:pt x="1591733" y="1253067"/>
                    </a:cubicBezTo>
                    <a:cubicBezTo>
                      <a:pt x="1555962" y="1145753"/>
                      <a:pt x="1565165" y="1143657"/>
                      <a:pt x="1490133" y="1049867"/>
                    </a:cubicBezTo>
                    <a:cubicBezTo>
                      <a:pt x="1470187" y="1024934"/>
                      <a:pt x="1442346" y="1007066"/>
                      <a:pt x="1422400" y="982133"/>
                    </a:cubicBezTo>
                    <a:cubicBezTo>
                      <a:pt x="1396973" y="950349"/>
                      <a:pt x="1380094" y="912316"/>
                      <a:pt x="1354667" y="880533"/>
                    </a:cubicBezTo>
                    <a:cubicBezTo>
                      <a:pt x="1334721" y="855600"/>
                      <a:pt x="1306879" y="837733"/>
                      <a:pt x="1286933" y="812800"/>
                    </a:cubicBezTo>
                    <a:cubicBezTo>
                      <a:pt x="1261506" y="781017"/>
                      <a:pt x="1246241" y="741622"/>
                      <a:pt x="1219200" y="711200"/>
                    </a:cubicBezTo>
                    <a:cubicBezTo>
                      <a:pt x="1155561" y="639606"/>
                      <a:pt x="1095702" y="561134"/>
                      <a:pt x="1016000" y="508000"/>
                    </a:cubicBezTo>
                    <a:cubicBezTo>
                      <a:pt x="887833" y="422556"/>
                      <a:pt x="943181" y="469048"/>
                      <a:pt x="846667" y="372533"/>
                    </a:cubicBezTo>
                    <a:cubicBezTo>
                      <a:pt x="835378" y="338666"/>
                      <a:pt x="832602" y="300636"/>
                      <a:pt x="812800" y="270933"/>
                    </a:cubicBezTo>
                    <a:cubicBezTo>
                      <a:pt x="786233" y="231082"/>
                      <a:pt x="749006" y="198737"/>
                      <a:pt x="711200" y="169333"/>
                    </a:cubicBezTo>
                    <a:cubicBezTo>
                      <a:pt x="536524" y="33474"/>
                      <a:pt x="559693" y="51098"/>
                      <a:pt x="406400" y="0"/>
                    </a:cubicBezTo>
                    <a:cubicBezTo>
                      <a:pt x="361244" y="11289"/>
                      <a:pt x="313715" y="15532"/>
                      <a:pt x="270933" y="33867"/>
                    </a:cubicBezTo>
                    <a:cubicBezTo>
                      <a:pt x="53886" y="126887"/>
                      <a:pt x="173770" y="228415"/>
                      <a:pt x="203200" y="508000"/>
                    </a:cubicBezTo>
                    <a:cubicBezTo>
                      <a:pt x="230238" y="764856"/>
                      <a:pt x="168958" y="711013"/>
                      <a:pt x="304800" y="778933"/>
                    </a:cubicBezTo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任意多边形 213"/>
              <p:cNvSpPr/>
              <p:nvPr/>
            </p:nvSpPr>
            <p:spPr>
              <a:xfrm rot="14100600">
                <a:off x="12576960" y="1271880"/>
                <a:ext cx="103320" cy="400680"/>
              </a:xfrm>
              <a:custGeom>
                <a:avLst/>
                <a:gdLst>
                  <a:gd name="textAreaLeft" fmla="*/ 0 w 103320"/>
                  <a:gd name="textAreaRight" fmla="*/ 103680 w 103320"/>
                  <a:gd name="textAreaTop" fmla="*/ 0 h 400680"/>
                  <a:gd name="textAreaBottom" fmla="*/ 401040 h 400680"/>
                </a:gdLst>
                <a:ahLst/>
                <a:rect l="textAreaLeft" t="textAreaTop" r="textAreaRight" b="textAreaBottom"/>
                <a:pathLst>
                  <a:path w="2065867" h="4030133">
                    <a:moveTo>
                      <a:pt x="270933" y="677333"/>
                    </a:moveTo>
                    <a:cubicBezTo>
                      <a:pt x="259644" y="733778"/>
                      <a:pt x="257278" y="792770"/>
                      <a:pt x="237067" y="846667"/>
                    </a:cubicBezTo>
                    <a:cubicBezTo>
                      <a:pt x="222775" y="884778"/>
                      <a:pt x="187536" y="911861"/>
                      <a:pt x="169333" y="948267"/>
                    </a:cubicBezTo>
                    <a:cubicBezTo>
                      <a:pt x="153368" y="980197"/>
                      <a:pt x="146756" y="1016000"/>
                      <a:pt x="135467" y="1049867"/>
                    </a:cubicBezTo>
                    <a:cubicBezTo>
                      <a:pt x="124178" y="1128889"/>
                      <a:pt x="124537" y="1210475"/>
                      <a:pt x="101600" y="1286933"/>
                    </a:cubicBezTo>
                    <a:cubicBezTo>
                      <a:pt x="89904" y="1325919"/>
                      <a:pt x="52070" y="1352127"/>
                      <a:pt x="33867" y="1388533"/>
                    </a:cubicBezTo>
                    <a:cubicBezTo>
                      <a:pt x="17902" y="1420463"/>
                      <a:pt x="11289" y="1456266"/>
                      <a:pt x="0" y="1490133"/>
                    </a:cubicBezTo>
                    <a:cubicBezTo>
                      <a:pt x="11289" y="1648178"/>
                      <a:pt x="6331" y="1808231"/>
                      <a:pt x="33867" y="1964267"/>
                    </a:cubicBezTo>
                    <a:cubicBezTo>
                      <a:pt x="40941" y="2004350"/>
                      <a:pt x="77942" y="2032746"/>
                      <a:pt x="101600" y="2065867"/>
                    </a:cubicBezTo>
                    <a:cubicBezTo>
                      <a:pt x="134408" y="2111798"/>
                      <a:pt x="167065" y="2157971"/>
                      <a:pt x="203200" y="2201333"/>
                    </a:cubicBezTo>
                    <a:cubicBezTo>
                      <a:pt x="223641" y="2225862"/>
                      <a:pt x="253221" y="2242500"/>
                      <a:pt x="270933" y="2269067"/>
                    </a:cubicBezTo>
                    <a:cubicBezTo>
                      <a:pt x="298937" y="2311073"/>
                      <a:pt x="313619" y="2360700"/>
                      <a:pt x="338667" y="2404533"/>
                    </a:cubicBezTo>
                    <a:cubicBezTo>
                      <a:pt x="443708" y="2588354"/>
                      <a:pt x="378175" y="2421458"/>
                      <a:pt x="440267" y="2607733"/>
                    </a:cubicBezTo>
                    <a:cubicBezTo>
                      <a:pt x="451556" y="2686755"/>
                      <a:pt x="448890" y="2769072"/>
                      <a:pt x="474133" y="2844800"/>
                    </a:cubicBezTo>
                    <a:cubicBezTo>
                      <a:pt x="484230" y="2875091"/>
                      <a:pt x="525439" y="2885153"/>
                      <a:pt x="541867" y="2912533"/>
                    </a:cubicBezTo>
                    <a:cubicBezTo>
                      <a:pt x="692110" y="3162937"/>
                      <a:pt x="437916" y="2858793"/>
                      <a:pt x="643467" y="3115733"/>
                    </a:cubicBezTo>
                    <a:cubicBezTo>
                      <a:pt x="663413" y="3140666"/>
                      <a:pt x="691254" y="3158534"/>
                      <a:pt x="711200" y="3183467"/>
                    </a:cubicBezTo>
                    <a:cubicBezTo>
                      <a:pt x="736627" y="3215251"/>
                      <a:pt x="752130" y="3254435"/>
                      <a:pt x="778933" y="3285067"/>
                    </a:cubicBezTo>
                    <a:cubicBezTo>
                      <a:pt x="831498" y="3345141"/>
                      <a:pt x="900372" y="3390540"/>
                      <a:pt x="948267" y="3454400"/>
                    </a:cubicBezTo>
                    <a:cubicBezTo>
                      <a:pt x="982134" y="3499556"/>
                      <a:pt x="1019951" y="3542002"/>
                      <a:pt x="1049867" y="3589867"/>
                    </a:cubicBezTo>
                    <a:cubicBezTo>
                      <a:pt x="1076624" y="3632678"/>
                      <a:pt x="1089596" y="3683327"/>
                      <a:pt x="1117600" y="3725333"/>
                    </a:cubicBezTo>
                    <a:cubicBezTo>
                      <a:pt x="1164328" y="3795425"/>
                      <a:pt x="1222230" y="3809038"/>
                      <a:pt x="1286933" y="3860800"/>
                    </a:cubicBezTo>
                    <a:cubicBezTo>
                      <a:pt x="1311866" y="3880746"/>
                      <a:pt x="1328100" y="3910821"/>
                      <a:pt x="1354667" y="3928533"/>
                    </a:cubicBezTo>
                    <a:cubicBezTo>
                      <a:pt x="1438370" y="3984335"/>
                      <a:pt x="1501418" y="4000029"/>
                      <a:pt x="1591733" y="4030133"/>
                    </a:cubicBezTo>
                    <a:cubicBezTo>
                      <a:pt x="1670755" y="4018844"/>
                      <a:pt x="1753072" y="4021510"/>
                      <a:pt x="1828800" y="3996267"/>
                    </a:cubicBezTo>
                    <a:cubicBezTo>
                      <a:pt x="1947678" y="3956641"/>
                      <a:pt x="1962781" y="3628192"/>
                      <a:pt x="1964267" y="3623733"/>
                    </a:cubicBezTo>
                    <a:cubicBezTo>
                      <a:pt x="1977138" y="3585119"/>
                      <a:pt x="2013797" y="3558539"/>
                      <a:pt x="2032000" y="3522133"/>
                    </a:cubicBezTo>
                    <a:cubicBezTo>
                      <a:pt x="2047965" y="3490203"/>
                      <a:pt x="2054578" y="3454400"/>
                      <a:pt x="2065867" y="3420533"/>
                    </a:cubicBezTo>
                    <a:cubicBezTo>
                      <a:pt x="2054578" y="3318933"/>
                      <a:pt x="2052048" y="3215973"/>
                      <a:pt x="2032000" y="3115733"/>
                    </a:cubicBezTo>
                    <a:cubicBezTo>
                      <a:pt x="2017998" y="3045722"/>
                      <a:pt x="1964267" y="2912533"/>
                      <a:pt x="1964267" y="2912533"/>
                    </a:cubicBezTo>
                    <a:cubicBezTo>
                      <a:pt x="2045473" y="2668911"/>
                      <a:pt x="1946942" y="2973167"/>
                      <a:pt x="2032000" y="2675467"/>
                    </a:cubicBezTo>
                    <a:cubicBezTo>
                      <a:pt x="2041807" y="2641142"/>
                      <a:pt x="2054578" y="2607734"/>
                      <a:pt x="2065867" y="2573867"/>
                    </a:cubicBezTo>
                    <a:cubicBezTo>
                      <a:pt x="1988036" y="2340376"/>
                      <a:pt x="2048618" y="2421153"/>
                      <a:pt x="1930400" y="2302933"/>
                    </a:cubicBezTo>
                    <a:cubicBezTo>
                      <a:pt x="1919111" y="2257778"/>
                      <a:pt x="1909320" y="2212221"/>
                      <a:pt x="1896533" y="2167467"/>
                    </a:cubicBezTo>
                    <a:cubicBezTo>
                      <a:pt x="1886726" y="2133142"/>
                      <a:pt x="1868536" y="2101080"/>
                      <a:pt x="1862667" y="2065867"/>
                    </a:cubicBezTo>
                    <a:cubicBezTo>
                      <a:pt x="1846052" y="1966175"/>
                      <a:pt x="1835554" y="1713597"/>
                      <a:pt x="1794933" y="1591733"/>
                    </a:cubicBezTo>
                    <a:cubicBezTo>
                      <a:pt x="1778968" y="1543839"/>
                      <a:pt x="1753174" y="1499558"/>
                      <a:pt x="1727200" y="1456267"/>
                    </a:cubicBezTo>
                    <a:cubicBezTo>
                      <a:pt x="1685317" y="1386462"/>
                      <a:pt x="1591733" y="1253067"/>
                      <a:pt x="1591733" y="1253067"/>
                    </a:cubicBezTo>
                    <a:cubicBezTo>
                      <a:pt x="1555962" y="1145753"/>
                      <a:pt x="1565165" y="1143657"/>
                      <a:pt x="1490133" y="1049867"/>
                    </a:cubicBezTo>
                    <a:cubicBezTo>
                      <a:pt x="1470187" y="1024934"/>
                      <a:pt x="1442346" y="1007066"/>
                      <a:pt x="1422400" y="982133"/>
                    </a:cubicBezTo>
                    <a:cubicBezTo>
                      <a:pt x="1396973" y="950349"/>
                      <a:pt x="1380094" y="912316"/>
                      <a:pt x="1354667" y="880533"/>
                    </a:cubicBezTo>
                    <a:cubicBezTo>
                      <a:pt x="1334721" y="855600"/>
                      <a:pt x="1306879" y="837733"/>
                      <a:pt x="1286933" y="812800"/>
                    </a:cubicBezTo>
                    <a:cubicBezTo>
                      <a:pt x="1261506" y="781017"/>
                      <a:pt x="1246241" y="741622"/>
                      <a:pt x="1219200" y="711200"/>
                    </a:cubicBezTo>
                    <a:cubicBezTo>
                      <a:pt x="1155561" y="639606"/>
                      <a:pt x="1095702" y="561134"/>
                      <a:pt x="1016000" y="508000"/>
                    </a:cubicBezTo>
                    <a:cubicBezTo>
                      <a:pt x="887833" y="422556"/>
                      <a:pt x="943181" y="469048"/>
                      <a:pt x="846667" y="372533"/>
                    </a:cubicBezTo>
                    <a:cubicBezTo>
                      <a:pt x="835378" y="338666"/>
                      <a:pt x="832602" y="300636"/>
                      <a:pt x="812800" y="270933"/>
                    </a:cubicBezTo>
                    <a:cubicBezTo>
                      <a:pt x="786233" y="231082"/>
                      <a:pt x="749006" y="198737"/>
                      <a:pt x="711200" y="169333"/>
                    </a:cubicBezTo>
                    <a:cubicBezTo>
                      <a:pt x="536524" y="33474"/>
                      <a:pt x="559693" y="51098"/>
                      <a:pt x="406400" y="0"/>
                    </a:cubicBezTo>
                    <a:cubicBezTo>
                      <a:pt x="361244" y="11289"/>
                      <a:pt x="313715" y="15532"/>
                      <a:pt x="270933" y="33867"/>
                    </a:cubicBezTo>
                    <a:cubicBezTo>
                      <a:pt x="53886" y="126887"/>
                      <a:pt x="173770" y="228415"/>
                      <a:pt x="203200" y="508000"/>
                    </a:cubicBezTo>
                    <a:cubicBezTo>
                      <a:pt x="230238" y="764856"/>
                      <a:pt x="168958" y="711013"/>
                      <a:pt x="304800" y="778933"/>
                    </a:cubicBezTo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9" name=""/>
            <p:cNvGrpSpPr/>
            <p:nvPr/>
          </p:nvGrpSpPr>
          <p:grpSpPr>
            <a:xfrm>
              <a:off x="12405240" y="-40680"/>
              <a:ext cx="477360" cy="452160"/>
              <a:chOff x="12405240" y="-40680"/>
              <a:chExt cx="477360" cy="452160"/>
            </a:xfrm>
          </p:grpSpPr>
          <p:sp>
            <p:nvSpPr>
              <p:cNvPr id="490" name="任意多边形 208"/>
              <p:cNvSpPr/>
              <p:nvPr/>
            </p:nvSpPr>
            <p:spPr>
              <a:xfrm rot="5278800">
                <a:off x="12425760" y="-45720"/>
                <a:ext cx="435960" cy="462240"/>
              </a:xfrm>
              <a:custGeom>
                <a:avLst/>
                <a:gdLst>
                  <a:gd name="textAreaLeft" fmla="*/ 0 w 435960"/>
                  <a:gd name="textAreaRight" fmla="*/ 436320 w 435960"/>
                  <a:gd name="textAreaTop" fmla="*/ 0 h 462240"/>
                  <a:gd name="textAreaBottom" fmla="*/ 462600 h 462240"/>
                </a:gdLst>
                <a:ahLst/>
                <a:rect l="textAreaLeft" t="textAreaTop" r="textAreaRight" b="textAreaBottom"/>
                <a:pathLst>
                  <a:path w="2065867" h="4030133">
                    <a:moveTo>
                      <a:pt x="270933" y="677333"/>
                    </a:moveTo>
                    <a:cubicBezTo>
                      <a:pt x="259644" y="733778"/>
                      <a:pt x="257278" y="792770"/>
                      <a:pt x="237067" y="846667"/>
                    </a:cubicBezTo>
                    <a:cubicBezTo>
                      <a:pt x="222775" y="884778"/>
                      <a:pt x="187536" y="911861"/>
                      <a:pt x="169333" y="948267"/>
                    </a:cubicBezTo>
                    <a:cubicBezTo>
                      <a:pt x="153368" y="980197"/>
                      <a:pt x="146756" y="1016000"/>
                      <a:pt x="135467" y="1049867"/>
                    </a:cubicBezTo>
                    <a:cubicBezTo>
                      <a:pt x="124178" y="1128889"/>
                      <a:pt x="124537" y="1210475"/>
                      <a:pt x="101600" y="1286933"/>
                    </a:cubicBezTo>
                    <a:cubicBezTo>
                      <a:pt x="89904" y="1325919"/>
                      <a:pt x="52070" y="1352127"/>
                      <a:pt x="33867" y="1388533"/>
                    </a:cubicBezTo>
                    <a:cubicBezTo>
                      <a:pt x="17902" y="1420463"/>
                      <a:pt x="11289" y="1456266"/>
                      <a:pt x="0" y="1490133"/>
                    </a:cubicBezTo>
                    <a:cubicBezTo>
                      <a:pt x="11289" y="1648178"/>
                      <a:pt x="6331" y="1808231"/>
                      <a:pt x="33867" y="1964267"/>
                    </a:cubicBezTo>
                    <a:cubicBezTo>
                      <a:pt x="40941" y="2004350"/>
                      <a:pt x="77942" y="2032746"/>
                      <a:pt x="101600" y="2065867"/>
                    </a:cubicBezTo>
                    <a:cubicBezTo>
                      <a:pt x="134408" y="2111798"/>
                      <a:pt x="167065" y="2157971"/>
                      <a:pt x="203200" y="2201333"/>
                    </a:cubicBezTo>
                    <a:cubicBezTo>
                      <a:pt x="223641" y="2225862"/>
                      <a:pt x="253221" y="2242500"/>
                      <a:pt x="270933" y="2269067"/>
                    </a:cubicBezTo>
                    <a:cubicBezTo>
                      <a:pt x="298937" y="2311073"/>
                      <a:pt x="313619" y="2360700"/>
                      <a:pt x="338667" y="2404533"/>
                    </a:cubicBezTo>
                    <a:cubicBezTo>
                      <a:pt x="443708" y="2588354"/>
                      <a:pt x="378175" y="2421458"/>
                      <a:pt x="440267" y="2607733"/>
                    </a:cubicBezTo>
                    <a:cubicBezTo>
                      <a:pt x="451556" y="2686755"/>
                      <a:pt x="448890" y="2769072"/>
                      <a:pt x="474133" y="2844800"/>
                    </a:cubicBezTo>
                    <a:cubicBezTo>
                      <a:pt x="484230" y="2875091"/>
                      <a:pt x="525439" y="2885153"/>
                      <a:pt x="541867" y="2912533"/>
                    </a:cubicBezTo>
                    <a:cubicBezTo>
                      <a:pt x="692110" y="3162937"/>
                      <a:pt x="437916" y="2858793"/>
                      <a:pt x="643467" y="3115733"/>
                    </a:cubicBezTo>
                    <a:cubicBezTo>
                      <a:pt x="663413" y="3140666"/>
                      <a:pt x="691254" y="3158534"/>
                      <a:pt x="711200" y="3183467"/>
                    </a:cubicBezTo>
                    <a:cubicBezTo>
                      <a:pt x="736627" y="3215251"/>
                      <a:pt x="752130" y="3254435"/>
                      <a:pt x="778933" y="3285067"/>
                    </a:cubicBezTo>
                    <a:cubicBezTo>
                      <a:pt x="831498" y="3345141"/>
                      <a:pt x="900372" y="3390540"/>
                      <a:pt x="948267" y="3454400"/>
                    </a:cubicBezTo>
                    <a:cubicBezTo>
                      <a:pt x="982134" y="3499556"/>
                      <a:pt x="1019951" y="3542002"/>
                      <a:pt x="1049867" y="3589867"/>
                    </a:cubicBezTo>
                    <a:cubicBezTo>
                      <a:pt x="1076624" y="3632678"/>
                      <a:pt x="1089596" y="3683327"/>
                      <a:pt x="1117600" y="3725333"/>
                    </a:cubicBezTo>
                    <a:cubicBezTo>
                      <a:pt x="1164328" y="3795425"/>
                      <a:pt x="1222230" y="3809038"/>
                      <a:pt x="1286933" y="3860800"/>
                    </a:cubicBezTo>
                    <a:cubicBezTo>
                      <a:pt x="1311866" y="3880746"/>
                      <a:pt x="1328100" y="3910821"/>
                      <a:pt x="1354667" y="3928533"/>
                    </a:cubicBezTo>
                    <a:cubicBezTo>
                      <a:pt x="1438370" y="3984335"/>
                      <a:pt x="1501418" y="4000029"/>
                      <a:pt x="1591733" y="4030133"/>
                    </a:cubicBezTo>
                    <a:cubicBezTo>
                      <a:pt x="1670755" y="4018844"/>
                      <a:pt x="1753072" y="4021510"/>
                      <a:pt x="1828800" y="3996267"/>
                    </a:cubicBezTo>
                    <a:cubicBezTo>
                      <a:pt x="1947678" y="3956641"/>
                      <a:pt x="1962781" y="3628192"/>
                      <a:pt x="1964267" y="3623733"/>
                    </a:cubicBezTo>
                    <a:cubicBezTo>
                      <a:pt x="1977138" y="3585119"/>
                      <a:pt x="2013797" y="3558539"/>
                      <a:pt x="2032000" y="3522133"/>
                    </a:cubicBezTo>
                    <a:cubicBezTo>
                      <a:pt x="2047965" y="3490203"/>
                      <a:pt x="2054578" y="3454400"/>
                      <a:pt x="2065867" y="3420533"/>
                    </a:cubicBezTo>
                    <a:cubicBezTo>
                      <a:pt x="2054578" y="3318933"/>
                      <a:pt x="2052048" y="3215973"/>
                      <a:pt x="2032000" y="3115733"/>
                    </a:cubicBezTo>
                    <a:cubicBezTo>
                      <a:pt x="2017998" y="3045722"/>
                      <a:pt x="1964267" y="2912533"/>
                      <a:pt x="1964267" y="2912533"/>
                    </a:cubicBezTo>
                    <a:cubicBezTo>
                      <a:pt x="2045473" y="2668911"/>
                      <a:pt x="1946942" y="2973167"/>
                      <a:pt x="2032000" y="2675467"/>
                    </a:cubicBezTo>
                    <a:cubicBezTo>
                      <a:pt x="2041807" y="2641142"/>
                      <a:pt x="2054578" y="2607734"/>
                      <a:pt x="2065867" y="2573867"/>
                    </a:cubicBezTo>
                    <a:cubicBezTo>
                      <a:pt x="1988036" y="2340376"/>
                      <a:pt x="2048618" y="2421153"/>
                      <a:pt x="1930400" y="2302933"/>
                    </a:cubicBezTo>
                    <a:cubicBezTo>
                      <a:pt x="1919111" y="2257778"/>
                      <a:pt x="1909320" y="2212221"/>
                      <a:pt x="1896533" y="2167467"/>
                    </a:cubicBezTo>
                    <a:cubicBezTo>
                      <a:pt x="1886726" y="2133142"/>
                      <a:pt x="1868536" y="2101080"/>
                      <a:pt x="1862667" y="2065867"/>
                    </a:cubicBezTo>
                    <a:cubicBezTo>
                      <a:pt x="1846052" y="1966175"/>
                      <a:pt x="1835554" y="1713597"/>
                      <a:pt x="1794933" y="1591733"/>
                    </a:cubicBezTo>
                    <a:cubicBezTo>
                      <a:pt x="1778968" y="1543839"/>
                      <a:pt x="1753174" y="1499558"/>
                      <a:pt x="1727200" y="1456267"/>
                    </a:cubicBezTo>
                    <a:cubicBezTo>
                      <a:pt x="1685317" y="1386462"/>
                      <a:pt x="1591733" y="1253067"/>
                      <a:pt x="1591733" y="1253067"/>
                    </a:cubicBezTo>
                    <a:cubicBezTo>
                      <a:pt x="1555962" y="1145753"/>
                      <a:pt x="1565165" y="1143657"/>
                      <a:pt x="1490133" y="1049867"/>
                    </a:cubicBezTo>
                    <a:cubicBezTo>
                      <a:pt x="1470187" y="1024934"/>
                      <a:pt x="1442346" y="1007066"/>
                      <a:pt x="1422400" y="982133"/>
                    </a:cubicBezTo>
                    <a:cubicBezTo>
                      <a:pt x="1396973" y="950349"/>
                      <a:pt x="1380094" y="912316"/>
                      <a:pt x="1354667" y="880533"/>
                    </a:cubicBezTo>
                    <a:cubicBezTo>
                      <a:pt x="1334721" y="855600"/>
                      <a:pt x="1306879" y="837733"/>
                      <a:pt x="1286933" y="812800"/>
                    </a:cubicBezTo>
                    <a:cubicBezTo>
                      <a:pt x="1261506" y="781017"/>
                      <a:pt x="1246241" y="741622"/>
                      <a:pt x="1219200" y="711200"/>
                    </a:cubicBezTo>
                    <a:cubicBezTo>
                      <a:pt x="1155561" y="639606"/>
                      <a:pt x="1095702" y="561134"/>
                      <a:pt x="1016000" y="508000"/>
                    </a:cubicBezTo>
                    <a:cubicBezTo>
                      <a:pt x="887833" y="422556"/>
                      <a:pt x="943181" y="469048"/>
                      <a:pt x="846667" y="372533"/>
                    </a:cubicBezTo>
                    <a:cubicBezTo>
                      <a:pt x="835378" y="338666"/>
                      <a:pt x="832602" y="300636"/>
                      <a:pt x="812800" y="270933"/>
                    </a:cubicBezTo>
                    <a:cubicBezTo>
                      <a:pt x="786233" y="231082"/>
                      <a:pt x="749006" y="198737"/>
                      <a:pt x="711200" y="169333"/>
                    </a:cubicBezTo>
                    <a:cubicBezTo>
                      <a:pt x="536524" y="33474"/>
                      <a:pt x="559693" y="51098"/>
                      <a:pt x="406400" y="0"/>
                    </a:cubicBezTo>
                    <a:cubicBezTo>
                      <a:pt x="361244" y="11289"/>
                      <a:pt x="313715" y="15532"/>
                      <a:pt x="270933" y="33867"/>
                    </a:cubicBezTo>
                    <a:cubicBezTo>
                      <a:pt x="53886" y="126887"/>
                      <a:pt x="173770" y="228415"/>
                      <a:pt x="203200" y="508000"/>
                    </a:cubicBezTo>
                    <a:cubicBezTo>
                      <a:pt x="230238" y="764856"/>
                      <a:pt x="168958" y="711013"/>
                      <a:pt x="304800" y="778933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任意多边形 209"/>
              <p:cNvSpPr/>
              <p:nvPr/>
            </p:nvSpPr>
            <p:spPr>
              <a:xfrm rot="5278800">
                <a:off x="12628080" y="46800"/>
                <a:ext cx="210960" cy="237240"/>
              </a:xfrm>
              <a:custGeom>
                <a:avLst/>
                <a:gdLst>
                  <a:gd name="textAreaLeft" fmla="*/ 0 w 210960"/>
                  <a:gd name="textAreaRight" fmla="*/ 211320 w 210960"/>
                  <a:gd name="textAreaTop" fmla="*/ 0 h 237240"/>
                  <a:gd name="textAreaBottom" fmla="*/ 237600 h 237240"/>
                </a:gdLst>
                <a:ahLst/>
                <a:rect l="textAreaLeft" t="textAreaTop" r="textAreaRight" b="textAreaBottom"/>
                <a:pathLst>
                  <a:path w="2065867" h="4030133">
                    <a:moveTo>
                      <a:pt x="270933" y="677333"/>
                    </a:moveTo>
                    <a:cubicBezTo>
                      <a:pt x="259644" y="733778"/>
                      <a:pt x="257278" y="792770"/>
                      <a:pt x="237067" y="846667"/>
                    </a:cubicBezTo>
                    <a:cubicBezTo>
                      <a:pt x="222775" y="884778"/>
                      <a:pt x="187536" y="911861"/>
                      <a:pt x="169333" y="948267"/>
                    </a:cubicBezTo>
                    <a:cubicBezTo>
                      <a:pt x="153368" y="980197"/>
                      <a:pt x="146756" y="1016000"/>
                      <a:pt x="135467" y="1049867"/>
                    </a:cubicBezTo>
                    <a:cubicBezTo>
                      <a:pt x="124178" y="1128889"/>
                      <a:pt x="124537" y="1210475"/>
                      <a:pt x="101600" y="1286933"/>
                    </a:cubicBezTo>
                    <a:cubicBezTo>
                      <a:pt x="89904" y="1325919"/>
                      <a:pt x="52070" y="1352127"/>
                      <a:pt x="33867" y="1388533"/>
                    </a:cubicBezTo>
                    <a:cubicBezTo>
                      <a:pt x="17902" y="1420463"/>
                      <a:pt x="11289" y="1456266"/>
                      <a:pt x="0" y="1490133"/>
                    </a:cubicBezTo>
                    <a:cubicBezTo>
                      <a:pt x="11289" y="1648178"/>
                      <a:pt x="6331" y="1808231"/>
                      <a:pt x="33867" y="1964267"/>
                    </a:cubicBezTo>
                    <a:cubicBezTo>
                      <a:pt x="40941" y="2004350"/>
                      <a:pt x="77942" y="2032746"/>
                      <a:pt x="101600" y="2065867"/>
                    </a:cubicBezTo>
                    <a:cubicBezTo>
                      <a:pt x="134408" y="2111798"/>
                      <a:pt x="167065" y="2157971"/>
                      <a:pt x="203200" y="2201333"/>
                    </a:cubicBezTo>
                    <a:cubicBezTo>
                      <a:pt x="223641" y="2225862"/>
                      <a:pt x="253221" y="2242500"/>
                      <a:pt x="270933" y="2269067"/>
                    </a:cubicBezTo>
                    <a:cubicBezTo>
                      <a:pt x="298937" y="2311073"/>
                      <a:pt x="313619" y="2360700"/>
                      <a:pt x="338667" y="2404533"/>
                    </a:cubicBezTo>
                    <a:cubicBezTo>
                      <a:pt x="443708" y="2588354"/>
                      <a:pt x="378175" y="2421458"/>
                      <a:pt x="440267" y="2607733"/>
                    </a:cubicBezTo>
                    <a:cubicBezTo>
                      <a:pt x="451556" y="2686755"/>
                      <a:pt x="448890" y="2769072"/>
                      <a:pt x="474133" y="2844800"/>
                    </a:cubicBezTo>
                    <a:cubicBezTo>
                      <a:pt x="484230" y="2875091"/>
                      <a:pt x="525439" y="2885153"/>
                      <a:pt x="541867" y="2912533"/>
                    </a:cubicBezTo>
                    <a:cubicBezTo>
                      <a:pt x="692110" y="3162937"/>
                      <a:pt x="437916" y="2858793"/>
                      <a:pt x="643467" y="3115733"/>
                    </a:cubicBezTo>
                    <a:cubicBezTo>
                      <a:pt x="663413" y="3140666"/>
                      <a:pt x="691254" y="3158534"/>
                      <a:pt x="711200" y="3183467"/>
                    </a:cubicBezTo>
                    <a:cubicBezTo>
                      <a:pt x="736627" y="3215251"/>
                      <a:pt x="752130" y="3254435"/>
                      <a:pt x="778933" y="3285067"/>
                    </a:cubicBezTo>
                    <a:cubicBezTo>
                      <a:pt x="831498" y="3345141"/>
                      <a:pt x="900372" y="3390540"/>
                      <a:pt x="948267" y="3454400"/>
                    </a:cubicBezTo>
                    <a:cubicBezTo>
                      <a:pt x="982134" y="3499556"/>
                      <a:pt x="1019951" y="3542002"/>
                      <a:pt x="1049867" y="3589867"/>
                    </a:cubicBezTo>
                    <a:cubicBezTo>
                      <a:pt x="1076624" y="3632678"/>
                      <a:pt x="1089596" y="3683327"/>
                      <a:pt x="1117600" y="3725333"/>
                    </a:cubicBezTo>
                    <a:cubicBezTo>
                      <a:pt x="1164328" y="3795425"/>
                      <a:pt x="1222230" y="3809038"/>
                      <a:pt x="1286933" y="3860800"/>
                    </a:cubicBezTo>
                    <a:cubicBezTo>
                      <a:pt x="1311866" y="3880746"/>
                      <a:pt x="1328100" y="3910821"/>
                      <a:pt x="1354667" y="3928533"/>
                    </a:cubicBezTo>
                    <a:cubicBezTo>
                      <a:pt x="1438370" y="3984335"/>
                      <a:pt x="1501418" y="4000029"/>
                      <a:pt x="1591733" y="4030133"/>
                    </a:cubicBezTo>
                    <a:cubicBezTo>
                      <a:pt x="1670755" y="4018844"/>
                      <a:pt x="1753072" y="4021510"/>
                      <a:pt x="1828800" y="3996267"/>
                    </a:cubicBezTo>
                    <a:cubicBezTo>
                      <a:pt x="1947678" y="3956641"/>
                      <a:pt x="1962781" y="3628192"/>
                      <a:pt x="1964267" y="3623733"/>
                    </a:cubicBezTo>
                    <a:cubicBezTo>
                      <a:pt x="1977138" y="3585119"/>
                      <a:pt x="2013797" y="3558539"/>
                      <a:pt x="2032000" y="3522133"/>
                    </a:cubicBezTo>
                    <a:cubicBezTo>
                      <a:pt x="2047965" y="3490203"/>
                      <a:pt x="2054578" y="3454400"/>
                      <a:pt x="2065867" y="3420533"/>
                    </a:cubicBezTo>
                    <a:cubicBezTo>
                      <a:pt x="2054578" y="3318933"/>
                      <a:pt x="2052048" y="3215973"/>
                      <a:pt x="2032000" y="3115733"/>
                    </a:cubicBezTo>
                    <a:cubicBezTo>
                      <a:pt x="2017998" y="3045722"/>
                      <a:pt x="1964267" y="2912533"/>
                      <a:pt x="1964267" y="2912533"/>
                    </a:cubicBezTo>
                    <a:cubicBezTo>
                      <a:pt x="2045473" y="2668911"/>
                      <a:pt x="1946942" y="2973167"/>
                      <a:pt x="2032000" y="2675467"/>
                    </a:cubicBezTo>
                    <a:cubicBezTo>
                      <a:pt x="2041807" y="2641142"/>
                      <a:pt x="2054578" y="2607734"/>
                      <a:pt x="2065867" y="2573867"/>
                    </a:cubicBezTo>
                    <a:cubicBezTo>
                      <a:pt x="1988036" y="2340376"/>
                      <a:pt x="2048618" y="2421153"/>
                      <a:pt x="1930400" y="2302933"/>
                    </a:cubicBezTo>
                    <a:cubicBezTo>
                      <a:pt x="1919111" y="2257778"/>
                      <a:pt x="1909320" y="2212221"/>
                      <a:pt x="1896533" y="2167467"/>
                    </a:cubicBezTo>
                    <a:cubicBezTo>
                      <a:pt x="1886726" y="2133142"/>
                      <a:pt x="1868536" y="2101080"/>
                      <a:pt x="1862667" y="2065867"/>
                    </a:cubicBezTo>
                    <a:cubicBezTo>
                      <a:pt x="1846052" y="1966175"/>
                      <a:pt x="1835554" y="1713597"/>
                      <a:pt x="1794933" y="1591733"/>
                    </a:cubicBezTo>
                    <a:cubicBezTo>
                      <a:pt x="1778968" y="1543839"/>
                      <a:pt x="1753174" y="1499558"/>
                      <a:pt x="1727200" y="1456267"/>
                    </a:cubicBezTo>
                    <a:cubicBezTo>
                      <a:pt x="1685317" y="1386462"/>
                      <a:pt x="1591733" y="1253067"/>
                      <a:pt x="1591733" y="1253067"/>
                    </a:cubicBezTo>
                    <a:cubicBezTo>
                      <a:pt x="1555962" y="1145753"/>
                      <a:pt x="1565165" y="1143657"/>
                      <a:pt x="1490133" y="1049867"/>
                    </a:cubicBezTo>
                    <a:cubicBezTo>
                      <a:pt x="1470187" y="1024934"/>
                      <a:pt x="1442346" y="1007066"/>
                      <a:pt x="1422400" y="982133"/>
                    </a:cubicBezTo>
                    <a:cubicBezTo>
                      <a:pt x="1396973" y="950349"/>
                      <a:pt x="1380094" y="912316"/>
                      <a:pt x="1354667" y="880533"/>
                    </a:cubicBezTo>
                    <a:cubicBezTo>
                      <a:pt x="1334721" y="855600"/>
                      <a:pt x="1306879" y="837733"/>
                      <a:pt x="1286933" y="812800"/>
                    </a:cubicBezTo>
                    <a:cubicBezTo>
                      <a:pt x="1261506" y="781017"/>
                      <a:pt x="1246241" y="741622"/>
                      <a:pt x="1219200" y="711200"/>
                    </a:cubicBezTo>
                    <a:cubicBezTo>
                      <a:pt x="1155561" y="639606"/>
                      <a:pt x="1095702" y="561134"/>
                      <a:pt x="1016000" y="508000"/>
                    </a:cubicBezTo>
                    <a:cubicBezTo>
                      <a:pt x="887833" y="422556"/>
                      <a:pt x="943181" y="469048"/>
                      <a:pt x="846667" y="372533"/>
                    </a:cubicBezTo>
                    <a:cubicBezTo>
                      <a:pt x="835378" y="338666"/>
                      <a:pt x="832602" y="300636"/>
                      <a:pt x="812800" y="270933"/>
                    </a:cubicBezTo>
                    <a:cubicBezTo>
                      <a:pt x="786233" y="231082"/>
                      <a:pt x="749006" y="198737"/>
                      <a:pt x="711200" y="169333"/>
                    </a:cubicBezTo>
                    <a:cubicBezTo>
                      <a:pt x="536524" y="33474"/>
                      <a:pt x="559693" y="51098"/>
                      <a:pt x="406400" y="0"/>
                    </a:cubicBezTo>
                    <a:cubicBezTo>
                      <a:pt x="361244" y="11289"/>
                      <a:pt x="313715" y="15532"/>
                      <a:pt x="270933" y="33867"/>
                    </a:cubicBezTo>
                    <a:cubicBezTo>
                      <a:pt x="53886" y="126887"/>
                      <a:pt x="173770" y="228415"/>
                      <a:pt x="203200" y="508000"/>
                    </a:cubicBezTo>
                    <a:cubicBezTo>
                      <a:pt x="230238" y="764856"/>
                      <a:pt x="168958" y="711013"/>
                      <a:pt x="304800" y="778933"/>
                    </a:cubicBezTo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任意多边形 210"/>
              <p:cNvSpPr/>
              <p:nvPr/>
            </p:nvSpPr>
            <p:spPr>
              <a:xfrm rot="5278800">
                <a:off x="12566160" y="203760"/>
                <a:ext cx="101520" cy="178200"/>
              </a:xfrm>
              <a:custGeom>
                <a:avLst/>
                <a:gdLst>
                  <a:gd name="textAreaLeft" fmla="*/ 0 w 101520"/>
                  <a:gd name="textAreaRight" fmla="*/ 101880 w 101520"/>
                  <a:gd name="textAreaTop" fmla="*/ 0 h 178200"/>
                  <a:gd name="textAreaBottom" fmla="*/ 178560 h 178200"/>
                </a:gdLst>
                <a:ahLst/>
                <a:rect l="textAreaLeft" t="textAreaTop" r="textAreaRight" b="textAreaBottom"/>
                <a:pathLst>
                  <a:path w="2065867" h="4030133">
                    <a:moveTo>
                      <a:pt x="270933" y="677333"/>
                    </a:moveTo>
                    <a:cubicBezTo>
                      <a:pt x="259644" y="733778"/>
                      <a:pt x="257278" y="792770"/>
                      <a:pt x="237067" y="846667"/>
                    </a:cubicBezTo>
                    <a:cubicBezTo>
                      <a:pt x="222775" y="884778"/>
                      <a:pt x="187536" y="911861"/>
                      <a:pt x="169333" y="948267"/>
                    </a:cubicBezTo>
                    <a:cubicBezTo>
                      <a:pt x="153368" y="980197"/>
                      <a:pt x="146756" y="1016000"/>
                      <a:pt x="135467" y="1049867"/>
                    </a:cubicBezTo>
                    <a:cubicBezTo>
                      <a:pt x="124178" y="1128889"/>
                      <a:pt x="124537" y="1210475"/>
                      <a:pt x="101600" y="1286933"/>
                    </a:cubicBezTo>
                    <a:cubicBezTo>
                      <a:pt x="89904" y="1325919"/>
                      <a:pt x="52070" y="1352127"/>
                      <a:pt x="33867" y="1388533"/>
                    </a:cubicBezTo>
                    <a:cubicBezTo>
                      <a:pt x="17902" y="1420463"/>
                      <a:pt x="11289" y="1456266"/>
                      <a:pt x="0" y="1490133"/>
                    </a:cubicBezTo>
                    <a:cubicBezTo>
                      <a:pt x="11289" y="1648178"/>
                      <a:pt x="6331" y="1808231"/>
                      <a:pt x="33867" y="1964267"/>
                    </a:cubicBezTo>
                    <a:cubicBezTo>
                      <a:pt x="40941" y="2004350"/>
                      <a:pt x="77942" y="2032746"/>
                      <a:pt x="101600" y="2065867"/>
                    </a:cubicBezTo>
                    <a:cubicBezTo>
                      <a:pt x="134408" y="2111798"/>
                      <a:pt x="167065" y="2157971"/>
                      <a:pt x="203200" y="2201333"/>
                    </a:cubicBezTo>
                    <a:cubicBezTo>
                      <a:pt x="223641" y="2225862"/>
                      <a:pt x="253221" y="2242500"/>
                      <a:pt x="270933" y="2269067"/>
                    </a:cubicBezTo>
                    <a:cubicBezTo>
                      <a:pt x="298937" y="2311073"/>
                      <a:pt x="313619" y="2360700"/>
                      <a:pt x="338667" y="2404533"/>
                    </a:cubicBezTo>
                    <a:cubicBezTo>
                      <a:pt x="443708" y="2588354"/>
                      <a:pt x="378175" y="2421458"/>
                      <a:pt x="440267" y="2607733"/>
                    </a:cubicBezTo>
                    <a:cubicBezTo>
                      <a:pt x="451556" y="2686755"/>
                      <a:pt x="448890" y="2769072"/>
                      <a:pt x="474133" y="2844800"/>
                    </a:cubicBezTo>
                    <a:cubicBezTo>
                      <a:pt x="484230" y="2875091"/>
                      <a:pt x="525439" y="2885153"/>
                      <a:pt x="541867" y="2912533"/>
                    </a:cubicBezTo>
                    <a:cubicBezTo>
                      <a:pt x="692110" y="3162937"/>
                      <a:pt x="437916" y="2858793"/>
                      <a:pt x="643467" y="3115733"/>
                    </a:cubicBezTo>
                    <a:cubicBezTo>
                      <a:pt x="663413" y="3140666"/>
                      <a:pt x="691254" y="3158534"/>
                      <a:pt x="711200" y="3183467"/>
                    </a:cubicBezTo>
                    <a:cubicBezTo>
                      <a:pt x="736627" y="3215251"/>
                      <a:pt x="752130" y="3254435"/>
                      <a:pt x="778933" y="3285067"/>
                    </a:cubicBezTo>
                    <a:cubicBezTo>
                      <a:pt x="831498" y="3345141"/>
                      <a:pt x="900372" y="3390540"/>
                      <a:pt x="948267" y="3454400"/>
                    </a:cubicBezTo>
                    <a:cubicBezTo>
                      <a:pt x="982134" y="3499556"/>
                      <a:pt x="1019951" y="3542002"/>
                      <a:pt x="1049867" y="3589867"/>
                    </a:cubicBezTo>
                    <a:cubicBezTo>
                      <a:pt x="1076624" y="3632678"/>
                      <a:pt x="1089596" y="3683327"/>
                      <a:pt x="1117600" y="3725333"/>
                    </a:cubicBezTo>
                    <a:cubicBezTo>
                      <a:pt x="1164328" y="3795425"/>
                      <a:pt x="1222230" y="3809038"/>
                      <a:pt x="1286933" y="3860800"/>
                    </a:cubicBezTo>
                    <a:cubicBezTo>
                      <a:pt x="1311866" y="3880746"/>
                      <a:pt x="1328100" y="3910821"/>
                      <a:pt x="1354667" y="3928533"/>
                    </a:cubicBezTo>
                    <a:cubicBezTo>
                      <a:pt x="1438370" y="3984335"/>
                      <a:pt x="1501418" y="4000029"/>
                      <a:pt x="1591733" y="4030133"/>
                    </a:cubicBezTo>
                    <a:cubicBezTo>
                      <a:pt x="1670755" y="4018844"/>
                      <a:pt x="1753072" y="4021510"/>
                      <a:pt x="1828800" y="3996267"/>
                    </a:cubicBezTo>
                    <a:cubicBezTo>
                      <a:pt x="1947678" y="3956641"/>
                      <a:pt x="1962781" y="3628192"/>
                      <a:pt x="1964267" y="3623733"/>
                    </a:cubicBezTo>
                    <a:cubicBezTo>
                      <a:pt x="1977138" y="3585119"/>
                      <a:pt x="2013797" y="3558539"/>
                      <a:pt x="2032000" y="3522133"/>
                    </a:cubicBezTo>
                    <a:cubicBezTo>
                      <a:pt x="2047965" y="3490203"/>
                      <a:pt x="2054578" y="3454400"/>
                      <a:pt x="2065867" y="3420533"/>
                    </a:cubicBezTo>
                    <a:cubicBezTo>
                      <a:pt x="2054578" y="3318933"/>
                      <a:pt x="2052048" y="3215973"/>
                      <a:pt x="2032000" y="3115733"/>
                    </a:cubicBezTo>
                    <a:cubicBezTo>
                      <a:pt x="2017998" y="3045722"/>
                      <a:pt x="1964267" y="2912533"/>
                      <a:pt x="1964267" y="2912533"/>
                    </a:cubicBezTo>
                    <a:cubicBezTo>
                      <a:pt x="2045473" y="2668911"/>
                      <a:pt x="1946942" y="2973167"/>
                      <a:pt x="2032000" y="2675467"/>
                    </a:cubicBezTo>
                    <a:cubicBezTo>
                      <a:pt x="2041807" y="2641142"/>
                      <a:pt x="2054578" y="2607734"/>
                      <a:pt x="2065867" y="2573867"/>
                    </a:cubicBezTo>
                    <a:cubicBezTo>
                      <a:pt x="1988036" y="2340376"/>
                      <a:pt x="2048618" y="2421153"/>
                      <a:pt x="1930400" y="2302933"/>
                    </a:cubicBezTo>
                    <a:cubicBezTo>
                      <a:pt x="1919111" y="2257778"/>
                      <a:pt x="1909320" y="2212221"/>
                      <a:pt x="1896533" y="2167467"/>
                    </a:cubicBezTo>
                    <a:cubicBezTo>
                      <a:pt x="1886726" y="2133142"/>
                      <a:pt x="1868536" y="2101080"/>
                      <a:pt x="1862667" y="2065867"/>
                    </a:cubicBezTo>
                    <a:cubicBezTo>
                      <a:pt x="1846052" y="1966175"/>
                      <a:pt x="1835554" y="1713597"/>
                      <a:pt x="1794933" y="1591733"/>
                    </a:cubicBezTo>
                    <a:cubicBezTo>
                      <a:pt x="1778968" y="1543839"/>
                      <a:pt x="1753174" y="1499558"/>
                      <a:pt x="1727200" y="1456267"/>
                    </a:cubicBezTo>
                    <a:cubicBezTo>
                      <a:pt x="1685317" y="1386462"/>
                      <a:pt x="1591733" y="1253067"/>
                      <a:pt x="1591733" y="1253067"/>
                    </a:cubicBezTo>
                    <a:cubicBezTo>
                      <a:pt x="1555962" y="1145753"/>
                      <a:pt x="1565165" y="1143657"/>
                      <a:pt x="1490133" y="1049867"/>
                    </a:cubicBezTo>
                    <a:cubicBezTo>
                      <a:pt x="1470187" y="1024934"/>
                      <a:pt x="1442346" y="1007066"/>
                      <a:pt x="1422400" y="982133"/>
                    </a:cubicBezTo>
                    <a:cubicBezTo>
                      <a:pt x="1396973" y="950349"/>
                      <a:pt x="1380094" y="912316"/>
                      <a:pt x="1354667" y="880533"/>
                    </a:cubicBezTo>
                    <a:cubicBezTo>
                      <a:pt x="1334721" y="855600"/>
                      <a:pt x="1306879" y="837733"/>
                      <a:pt x="1286933" y="812800"/>
                    </a:cubicBezTo>
                    <a:cubicBezTo>
                      <a:pt x="1261506" y="781017"/>
                      <a:pt x="1246241" y="741622"/>
                      <a:pt x="1219200" y="711200"/>
                    </a:cubicBezTo>
                    <a:cubicBezTo>
                      <a:pt x="1155561" y="639606"/>
                      <a:pt x="1095702" y="561134"/>
                      <a:pt x="1016000" y="508000"/>
                    </a:cubicBezTo>
                    <a:cubicBezTo>
                      <a:pt x="887833" y="422556"/>
                      <a:pt x="943181" y="469048"/>
                      <a:pt x="846667" y="372533"/>
                    </a:cubicBezTo>
                    <a:cubicBezTo>
                      <a:pt x="835378" y="338666"/>
                      <a:pt x="832602" y="300636"/>
                      <a:pt x="812800" y="270933"/>
                    </a:cubicBezTo>
                    <a:cubicBezTo>
                      <a:pt x="786233" y="231082"/>
                      <a:pt x="749006" y="198737"/>
                      <a:pt x="711200" y="169333"/>
                    </a:cubicBezTo>
                    <a:cubicBezTo>
                      <a:pt x="536524" y="33474"/>
                      <a:pt x="559693" y="51098"/>
                      <a:pt x="406400" y="0"/>
                    </a:cubicBezTo>
                    <a:cubicBezTo>
                      <a:pt x="361244" y="11289"/>
                      <a:pt x="313715" y="15532"/>
                      <a:pt x="270933" y="33867"/>
                    </a:cubicBezTo>
                    <a:cubicBezTo>
                      <a:pt x="53886" y="126887"/>
                      <a:pt x="173770" y="228415"/>
                      <a:pt x="203200" y="508000"/>
                    </a:cubicBezTo>
                    <a:cubicBezTo>
                      <a:pt x="230238" y="764856"/>
                      <a:pt x="168958" y="711013"/>
                      <a:pt x="304800" y="778933"/>
                    </a:cubicBezTo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3" name=""/>
            <p:cNvGrpSpPr/>
            <p:nvPr/>
          </p:nvGrpSpPr>
          <p:grpSpPr>
            <a:xfrm>
              <a:off x="10556640" y="2061360"/>
              <a:ext cx="477360" cy="452160"/>
              <a:chOff x="10556640" y="2061360"/>
              <a:chExt cx="477360" cy="452160"/>
            </a:xfrm>
          </p:grpSpPr>
          <p:sp>
            <p:nvSpPr>
              <p:cNvPr id="494" name="任意多边形 205"/>
              <p:cNvSpPr/>
              <p:nvPr/>
            </p:nvSpPr>
            <p:spPr>
              <a:xfrm rot="5278800">
                <a:off x="10577160" y="2055960"/>
                <a:ext cx="435960" cy="462240"/>
              </a:xfrm>
              <a:custGeom>
                <a:avLst/>
                <a:gdLst>
                  <a:gd name="textAreaLeft" fmla="*/ 0 w 435960"/>
                  <a:gd name="textAreaRight" fmla="*/ 436320 w 435960"/>
                  <a:gd name="textAreaTop" fmla="*/ 0 h 462240"/>
                  <a:gd name="textAreaBottom" fmla="*/ 462600 h 462240"/>
                </a:gdLst>
                <a:ahLst/>
                <a:rect l="textAreaLeft" t="textAreaTop" r="textAreaRight" b="textAreaBottom"/>
                <a:pathLst>
                  <a:path w="2065867" h="4030133">
                    <a:moveTo>
                      <a:pt x="270933" y="677333"/>
                    </a:moveTo>
                    <a:cubicBezTo>
                      <a:pt x="259644" y="733778"/>
                      <a:pt x="257278" y="792770"/>
                      <a:pt x="237067" y="846667"/>
                    </a:cubicBezTo>
                    <a:cubicBezTo>
                      <a:pt x="222775" y="884778"/>
                      <a:pt x="187536" y="911861"/>
                      <a:pt x="169333" y="948267"/>
                    </a:cubicBezTo>
                    <a:cubicBezTo>
                      <a:pt x="153368" y="980197"/>
                      <a:pt x="146756" y="1016000"/>
                      <a:pt x="135467" y="1049867"/>
                    </a:cubicBezTo>
                    <a:cubicBezTo>
                      <a:pt x="124178" y="1128889"/>
                      <a:pt x="124537" y="1210475"/>
                      <a:pt x="101600" y="1286933"/>
                    </a:cubicBezTo>
                    <a:cubicBezTo>
                      <a:pt x="89904" y="1325919"/>
                      <a:pt x="52070" y="1352127"/>
                      <a:pt x="33867" y="1388533"/>
                    </a:cubicBezTo>
                    <a:cubicBezTo>
                      <a:pt x="17902" y="1420463"/>
                      <a:pt x="11289" y="1456266"/>
                      <a:pt x="0" y="1490133"/>
                    </a:cubicBezTo>
                    <a:cubicBezTo>
                      <a:pt x="11289" y="1648178"/>
                      <a:pt x="6331" y="1808231"/>
                      <a:pt x="33867" y="1964267"/>
                    </a:cubicBezTo>
                    <a:cubicBezTo>
                      <a:pt x="40941" y="2004350"/>
                      <a:pt x="77942" y="2032746"/>
                      <a:pt x="101600" y="2065867"/>
                    </a:cubicBezTo>
                    <a:cubicBezTo>
                      <a:pt x="134408" y="2111798"/>
                      <a:pt x="167065" y="2157971"/>
                      <a:pt x="203200" y="2201333"/>
                    </a:cubicBezTo>
                    <a:cubicBezTo>
                      <a:pt x="223641" y="2225862"/>
                      <a:pt x="253221" y="2242500"/>
                      <a:pt x="270933" y="2269067"/>
                    </a:cubicBezTo>
                    <a:cubicBezTo>
                      <a:pt x="298937" y="2311073"/>
                      <a:pt x="313619" y="2360700"/>
                      <a:pt x="338667" y="2404533"/>
                    </a:cubicBezTo>
                    <a:cubicBezTo>
                      <a:pt x="443708" y="2588354"/>
                      <a:pt x="378175" y="2421458"/>
                      <a:pt x="440267" y="2607733"/>
                    </a:cubicBezTo>
                    <a:cubicBezTo>
                      <a:pt x="451556" y="2686755"/>
                      <a:pt x="448890" y="2769072"/>
                      <a:pt x="474133" y="2844800"/>
                    </a:cubicBezTo>
                    <a:cubicBezTo>
                      <a:pt x="484230" y="2875091"/>
                      <a:pt x="525439" y="2885153"/>
                      <a:pt x="541867" y="2912533"/>
                    </a:cubicBezTo>
                    <a:cubicBezTo>
                      <a:pt x="692110" y="3162937"/>
                      <a:pt x="437916" y="2858793"/>
                      <a:pt x="643467" y="3115733"/>
                    </a:cubicBezTo>
                    <a:cubicBezTo>
                      <a:pt x="663413" y="3140666"/>
                      <a:pt x="691254" y="3158534"/>
                      <a:pt x="711200" y="3183467"/>
                    </a:cubicBezTo>
                    <a:cubicBezTo>
                      <a:pt x="736627" y="3215251"/>
                      <a:pt x="752130" y="3254435"/>
                      <a:pt x="778933" y="3285067"/>
                    </a:cubicBezTo>
                    <a:cubicBezTo>
                      <a:pt x="831498" y="3345141"/>
                      <a:pt x="900372" y="3390540"/>
                      <a:pt x="948267" y="3454400"/>
                    </a:cubicBezTo>
                    <a:cubicBezTo>
                      <a:pt x="982134" y="3499556"/>
                      <a:pt x="1019951" y="3542002"/>
                      <a:pt x="1049867" y="3589867"/>
                    </a:cubicBezTo>
                    <a:cubicBezTo>
                      <a:pt x="1076624" y="3632678"/>
                      <a:pt x="1089596" y="3683327"/>
                      <a:pt x="1117600" y="3725333"/>
                    </a:cubicBezTo>
                    <a:cubicBezTo>
                      <a:pt x="1164328" y="3795425"/>
                      <a:pt x="1222230" y="3809038"/>
                      <a:pt x="1286933" y="3860800"/>
                    </a:cubicBezTo>
                    <a:cubicBezTo>
                      <a:pt x="1311866" y="3880746"/>
                      <a:pt x="1328100" y="3910821"/>
                      <a:pt x="1354667" y="3928533"/>
                    </a:cubicBezTo>
                    <a:cubicBezTo>
                      <a:pt x="1438370" y="3984335"/>
                      <a:pt x="1501418" y="4000029"/>
                      <a:pt x="1591733" y="4030133"/>
                    </a:cubicBezTo>
                    <a:cubicBezTo>
                      <a:pt x="1670755" y="4018844"/>
                      <a:pt x="1753072" y="4021510"/>
                      <a:pt x="1828800" y="3996267"/>
                    </a:cubicBezTo>
                    <a:cubicBezTo>
                      <a:pt x="1947678" y="3956641"/>
                      <a:pt x="1962781" y="3628192"/>
                      <a:pt x="1964267" y="3623733"/>
                    </a:cubicBezTo>
                    <a:cubicBezTo>
                      <a:pt x="1977138" y="3585119"/>
                      <a:pt x="2013797" y="3558539"/>
                      <a:pt x="2032000" y="3522133"/>
                    </a:cubicBezTo>
                    <a:cubicBezTo>
                      <a:pt x="2047965" y="3490203"/>
                      <a:pt x="2054578" y="3454400"/>
                      <a:pt x="2065867" y="3420533"/>
                    </a:cubicBezTo>
                    <a:cubicBezTo>
                      <a:pt x="2054578" y="3318933"/>
                      <a:pt x="2052048" y="3215973"/>
                      <a:pt x="2032000" y="3115733"/>
                    </a:cubicBezTo>
                    <a:cubicBezTo>
                      <a:pt x="2017998" y="3045722"/>
                      <a:pt x="1964267" y="2912533"/>
                      <a:pt x="1964267" y="2912533"/>
                    </a:cubicBezTo>
                    <a:cubicBezTo>
                      <a:pt x="2045473" y="2668911"/>
                      <a:pt x="1946942" y="2973167"/>
                      <a:pt x="2032000" y="2675467"/>
                    </a:cubicBezTo>
                    <a:cubicBezTo>
                      <a:pt x="2041807" y="2641142"/>
                      <a:pt x="2054578" y="2607734"/>
                      <a:pt x="2065867" y="2573867"/>
                    </a:cubicBezTo>
                    <a:cubicBezTo>
                      <a:pt x="1988036" y="2340376"/>
                      <a:pt x="2048618" y="2421153"/>
                      <a:pt x="1930400" y="2302933"/>
                    </a:cubicBezTo>
                    <a:cubicBezTo>
                      <a:pt x="1919111" y="2257778"/>
                      <a:pt x="1909320" y="2212221"/>
                      <a:pt x="1896533" y="2167467"/>
                    </a:cubicBezTo>
                    <a:cubicBezTo>
                      <a:pt x="1886726" y="2133142"/>
                      <a:pt x="1868536" y="2101080"/>
                      <a:pt x="1862667" y="2065867"/>
                    </a:cubicBezTo>
                    <a:cubicBezTo>
                      <a:pt x="1846052" y="1966175"/>
                      <a:pt x="1835554" y="1713597"/>
                      <a:pt x="1794933" y="1591733"/>
                    </a:cubicBezTo>
                    <a:cubicBezTo>
                      <a:pt x="1778968" y="1543839"/>
                      <a:pt x="1753174" y="1499558"/>
                      <a:pt x="1727200" y="1456267"/>
                    </a:cubicBezTo>
                    <a:cubicBezTo>
                      <a:pt x="1685317" y="1386462"/>
                      <a:pt x="1591733" y="1253067"/>
                      <a:pt x="1591733" y="1253067"/>
                    </a:cubicBezTo>
                    <a:cubicBezTo>
                      <a:pt x="1555962" y="1145753"/>
                      <a:pt x="1565165" y="1143657"/>
                      <a:pt x="1490133" y="1049867"/>
                    </a:cubicBezTo>
                    <a:cubicBezTo>
                      <a:pt x="1470187" y="1024934"/>
                      <a:pt x="1442346" y="1007066"/>
                      <a:pt x="1422400" y="982133"/>
                    </a:cubicBezTo>
                    <a:cubicBezTo>
                      <a:pt x="1396973" y="950349"/>
                      <a:pt x="1380094" y="912316"/>
                      <a:pt x="1354667" y="880533"/>
                    </a:cubicBezTo>
                    <a:cubicBezTo>
                      <a:pt x="1334721" y="855600"/>
                      <a:pt x="1306879" y="837733"/>
                      <a:pt x="1286933" y="812800"/>
                    </a:cubicBezTo>
                    <a:cubicBezTo>
                      <a:pt x="1261506" y="781017"/>
                      <a:pt x="1246241" y="741622"/>
                      <a:pt x="1219200" y="711200"/>
                    </a:cubicBezTo>
                    <a:cubicBezTo>
                      <a:pt x="1155561" y="639606"/>
                      <a:pt x="1095702" y="561134"/>
                      <a:pt x="1016000" y="508000"/>
                    </a:cubicBezTo>
                    <a:cubicBezTo>
                      <a:pt x="887833" y="422556"/>
                      <a:pt x="943181" y="469048"/>
                      <a:pt x="846667" y="372533"/>
                    </a:cubicBezTo>
                    <a:cubicBezTo>
                      <a:pt x="835378" y="338666"/>
                      <a:pt x="832602" y="300636"/>
                      <a:pt x="812800" y="270933"/>
                    </a:cubicBezTo>
                    <a:cubicBezTo>
                      <a:pt x="786233" y="231082"/>
                      <a:pt x="749006" y="198737"/>
                      <a:pt x="711200" y="169333"/>
                    </a:cubicBezTo>
                    <a:cubicBezTo>
                      <a:pt x="536524" y="33474"/>
                      <a:pt x="559693" y="51098"/>
                      <a:pt x="406400" y="0"/>
                    </a:cubicBezTo>
                    <a:cubicBezTo>
                      <a:pt x="361244" y="11289"/>
                      <a:pt x="313715" y="15532"/>
                      <a:pt x="270933" y="33867"/>
                    </a:cubicBezTo>
                    <a:cubicBezTo>
                      <a:pt x="53886" y="126887"/>
                      <a:pt x="173770" y="228415"/>
                      <a:pt x="203200" y="508000"/>
                    </a:cubicBezTo>
                    <a:cubicBezTo>
                      <a:pt x="230238" y="764856"/>
                      <a:pt x="168958" y="711013"/>
                      <a:pt x="304800" y="778933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任意多边形 206"/>
              <p:cNvSpPr/>
              <p:nvPr/>
            </p:nvSpPr>
            <p:spPr>
              <a:xfrm rot="5278800">
                <a:off x="10779480" y="2148840"/>
                <a:ext cx="210960" cy="237240"/>
              </a:xfrm>
              <a:custGeom>
                <a:avLst/>
                <a:gdLst>
                  <a:gd name="textAreaLeft" fmla="*/ 0 w 210960"/>
                  <a:gd name="textAreaRight" fmla="*/ 211320 w 210960"/>
                  <a:gd name="textAreaTop" fmla="*/ 0 h 237240"/>
                  <a:gd name="textAreaBottom" fmla="*/ 237600 h 237240"/>
                </a:gdLst>
                <a:ahLst/>
                <a:rect l="textAreaLeft" t="textAreaTop" r="textAreaRight" b="textAreaBottom"/>
                <a:pathLst>
                  <a:path w="2065867" h="4030133">
                    <a:moveTo>
                      <a:pt x="270933" y="677333"/>
                    </a:moveTo>
                    <a:cubicBezTo>
                      <a:pt x="259644" y="733778"/>
                      <a:pt x="257278" y="792770"/>
                      <a:pt x="237067" y="846667"/>
                    </a:cubicBezTo>
                    <a:cubicBezTo>
                      <a:pt x="222775" y="884778"/>
                      <a:pt x="187536" y="911861"/>
                      <a:pt x="169333" y="948267"/>
                    </a:cubicBezTo>
                    <a:cubicBezTo>
                      <a:pt x="153368" y="980197"/>
                      <a:pt x="146756" y="1016000"/>
                      <a:pt x="135467" y="1049867"/>
                    </a:cubicBezTo>
                    <a:cubicBezTo>
                      <a:pt x="124178" y="1128889"/>
                      <a:pt x="124537" y="1210475"/>
                      <a:pt x="101600" y="1286933"/>
                    </a:cubicBezTo>
                    <a:cubicBezTo>
                      <a:pt x="89904" y="1325919"/>
                      <a:pt x="52070" y="1352127"/>
                      <a:pt x="33867" y="1388533"/>
                    </a:cubicBezTo>
                    <a:cubicBezTo>
                      <a:pt x="17902" y="1420463"/>
                      <a:pt x="11289" y="1456266"/>
                      <a:pt x="0" y="1490133"/>
                    </a:cubicBezTo>
                    <a:cubicBezTo>
                      <a:pt x="11289" y="1648178"/>
                      <a:pt x="6331" y="1808231"/>
                      <a:pt x="33867" y="1964267"/>
                    </a:cubicBezTo>
                    <a:cubicBezTo>
                      <a:pt x="40941" y="2004350"/>
                      <a:pt x="77942" y="2032746"/>
                      <a:pt x="101600" y="2065867"/>
                    </a:cubicBezTo>
                    <a:cubicBezTo>
                      <a:pt x="134408" y="2111798"/>
                      <a:pt x="167065" y="2157971"/>
                      <a:pt x="203200" y="2201333"/>
                    </a:cubicBezTo>
                    <a:cubicBezTo>
                      <a:pt x="223641" y="2225862"/>
                      <a:pt x="253221" y="2242500"/>
                      <a:pt x="270933" y="2269067"/>
                    </a:cubicBezTo>
                    <a:cubicBezTo>
                      <a:pt x="298937" y="2311073"/>
                      <a:pt x="313619" y="2360700"/>
                      <a:pt x="338667" y="2404533"/>
                    </a:cubicBezTo>
                    <a:cubicBezTo>
                      <a:pt x="443708" y="2588354"/>
                      <a:pt x="378175" y="2421458"/>
                      <a:pt x="440267" y="2607733"/>
                    </a:cubicBezTo>
                    <a:cubicBezTo>
                      <a:pt x="451556" y="2686755"/>
                      <a:pt x="448890" y="2769072"/>
                      <a:pt x="474133" y="2844800"/>
                    </a:cubicBezTo>
                    <a:cubicBezTo>
                      <a:pt x="484230" y="2875091"/>
                      <a:pt x="525439" y="2885153"/>
                      <a:pt x="541867" y="2912533"/>
                    </a:cubicBezTo>
                    <a:cubicBezTo>
                      <a:pt x="692110" y="3162937"/>
                      <a:pt x="437916" y="2858793"/>
                      <a:pt x="643467" y="3115733"/>
                    </a:cubicBezTo>
                    <a:cubicBezTo>
                      <a:pt x="663413" y="3140666"/>
                      <a:pt x="691254" y="3158534"/>
                      <a:pt x="711200" y="3183467"/>
                    </a:cubicBezTo>
                    <a:cubicBezTo>
                      <a:pt x="736627" y="3215251"/>
                      <a:pt x="752130" y="3254435"/>
                      <a:pt x="778933" y="3285067"/>
                    </a:cubicBezTo>
                    <a:cubicBezTo>
                      <a:pt x="831498" y="3345141"/>
                      <a:pt x="900372" y="3390540"/>
                      <a:pt x="948267" y="3454400"/>
                    </a:cubicBezTo>
                    <a:cubicBezTo>
                      <a:pt x="982134" y="3499556"/>
                      <a:pt x="1019951" y="3542002"/>
                      <a:pt x="1049867" y="3589867"/>
                    </a:cubicBezTo>
                    <a:cubicBezTo>
                      <a:pt x="1076624" y="3632678"/>
                      <a:pt x="1089596" y="3683327"/>
                      <a:pt x="1117600" y="3725333"/>
                    </a:cubicBezTo>
                    <a:cubicBezTo>
                      <a:pt x="1164328" y="3795425"/>
                      <a:pt x="1222230" y="3809038"/>
                      <a:pt x="1286933" y="3860800"/>
                    </a:cubicBezTo>
                    <a:cubicBezTo>
                      <a:pt x="1311866" y="3880746"/>
                      <a:pt x="1328100" y="3910821"/>
                      <a:pt x="1354667" y="3928533"/>
                    </a:cubicBezTo>
                    <a:cubicBezTo>
                      <a:pt x="1438370" y="3984335"/>
                      <a:pt x="1501418" y="4000029"/>
                      <a:pt x="1591733" y="4030133"/>
                    </a:cubicBezTo>
                    <a:cubicBezTo>
                      <a:pt x="1670755" y="4018844"/>
                      <a:pt x="1753072" y="4021510"/>
                      <a:pt x="1828800" y="3996267"/>
                    </a:cubicBezTo>
                    <a:cubicBezTo>
                      <a:pt x="1947678" y="3956641"/>
                      <a:pt x="1962781" y="3628192"/>
                      <a:pt x="1964267" y="3623733"/>
                    </a:cubicBezTo>
                    <a:cubicBezTo>
                      <a:pt x="1977138" y="3585119"/>
                      <a:pt x="2013797" y="3558539"/>
                      <a:pt x="2032000" y="3522133"/>
                    </a:cubicBezTo>
                    <a:cubicBezTo>
                      <a:pt x="2047965" y="3490203"/>
                      <a:pt x="2054578" y="3454400"/>
                      <a:pt x="2065867" y="3420533"/>
                    </a:cubicBezTo>
                    <a:cubicBezTo>
                      <a:pt x="2054578" y="3318933"/>
                      <a:pt x="2052048" y="3215973"/>
                      <a:pt x="2032000" y="3115733"/>
                    </a:cubicBezTo>
                    <a:cubicBezTo>
                      <a:pt x="2017998" y="3045722"/>
                      <a:pt x="1964267" y="2912533"/>
                      <a:pt x="1964267" y="2912533"/>
                    </a:cubicBezTo>
                    <a:cubicBezTo>
                      <a:pt x="2045473" y="2668911"/>
                      <a:pt x="1946942" y="2973167"/>
                      <a:pt x="2032000" y="2675467"/>
                    </a:cubicBezTo>
                    <a:cubicBezTo>
                      <a:pt x="2041807" y="2641142"/>
                      <a:pt x="2054578" y="2607734"/>
                      <a:pt x="2065867" y="2573867"/>
                    </a:cubicBezTo>
                    <a:cubicBezTo>
                      <a:pt x="1988036" y="2340376"/>
                      <a:pt x="2048618" y="2421153"/>
                      <a:pt x="1930400" y="2302933"/>
                    </a:cubicBezTo>
                    <a:cubicBezTo>
                      <a:pt x="1919111" y="2257778"/>
                      <a:pt x="1909320" y="2212221"/>
                      <a:pt x="1896533" y="2167467"/>
                    </a:cubicBezTo>
                    <a:cubicBezTo>
                      <a:pt x="1886726" y="2133142"/>
                      <a:pt x="1868536" y="2101080"/>
                      <a:pt x="1862667" y="2065867"/>
                    </a:cubicBezTo>
                    <a:cubicBezTo>
                      <a:pt x="1846052" y="1966175"/>
                      <a:pt x="1835554" y="1713597"/>
                      <a:pt x="1794933" y="1591733"/>
                    </a:cubicBezTo>
                    <a:cubicBezTo>
                      <a:pt x="1778968" y="1543839"/>
                      <a:pt x="1753174" y="1499558"/>
                      <a:pt x="1727200" y="1456267"/>
                    </a:cubicBezTo>
                    <a:cubicBezTo>
                      <a:pt x="1685317" y="1386462"/>
                      <a:pt x="1591733" y="1253067"/>
                      <a:pt x="1591733" y="1253067"/>
                    </a:cubicBezTo>
                    <a:cubicBezTo>
                      <a:pt x="1555962" y="1145753"/>
                      <a:pt x="1565165" y="1143657"/>
                      <a:pt x="1490133" y="1049867"/>
                    </a:cubicBezTo>
                    <a:cubicBezTo>
                      <a:pt x="1470187" y="1024934"/>
                      <a:pt x="1442346" y="1007066"/>
                      <a:pt x="1422400" y="982133"/>
                    </a:cubicBezTo>
                    <a:cubicBezTo>
                      <a:pt x="1396973" y="950349"/>
                      <a:pt x="1380094" y="912316"/>
                      <a:pt x="1354667" y="880533"/>
                    </a:cubicBezTo>
                    <a:cubicBezTo>
                      <a:pt x="1334721" y="855600"/>
                      <a:pt x="1306879" y="837733"/>
                      <a:pt x="1286933" y="812800"/>
                    </a:cubicBezTo>
                    <a:cubicBezTo>
                      <a:pt x="1261506" y="781017"/>
                      <a:pt x="1246241" y="741622"/>
                      <a:pt x="1219200" y="711200"/>
                    </a:cubicBezTo>
                    <a:cubicBezTo>
                      <a:pt x="1155561" y="639606"/>
                      <a:pt x="1095702" y="561134"/>
                      <a:pt x="1016000" y="508000"/>
                    </a:cubicBezTo>
                    <a:cubicBezTo>
                      <a:pt x="887833" y="422556"/>
                      <a:pt x="943181" y="469048"/>
                      <a:pt x="846667" y="372533"/>
                    </a:cubicBezTo>
                    <a:cubicBezTo>
                      <a:pt x="835378" y="338666"/>
                      <a:pt x="832602" y="300636"/>
                      <a:pt x="812800" y="270933"/>
                    </a:cubicBezTo>
                    <a:cubicBezTo>
                      <a:pt x="786233" y="231082"/>
                      <a:pt x="749006" y="198737"/>
                      <a:pt x="711200" y="169333"/>
                    </a:cubicBezTo>
                    <a:cubicBezTo>
                      <a:pt x="536524" y="33474"/>
                      <a:pt x="559693" y="51098"/>
                      <a:pt x="406400" y="0"/>
                    </a:cubicBezTo>
                    <a:cubicBezTo>
                      <a:pt x="361244" y="11289"/>
                      <a:pt x="313715" y="15532"/>
                      <a:pt x="270933" y="33867"/>
                    </a:cubicBezTo>
                    <a:cubicBezTo>
                      <a:pt x="53886" y="126887"/>
                      <a:pt x="173770" y="228415"/>
                      <a:pt x="203200" y="508000"/>
                    </a:cubicBezTo>
                    <a:cubicBezTo>
                      <a:pt x="230238" y="764856"/>
                      <a:pt x="168958" y="711013"/>
                      <a:pt x="304800" y="778933"/>
                    </a:cubicBezTo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任意多边形 207"/>
              <p:cNvSpPr/>
              <p:nvPr/>
            </p:nvSpPr>
            <p:spPr>
              <a:xfrm rot="5278800">
                <a:off x="10717560" y="2305800"/>
                <a:ext cx="101520" cy="178200"/>
              </a:xfrm>
              <a:custGeom>
                <a:avLst/>
                <a:gdLst>
                  <a:gd name="textAreaLeft" fmla="*/ 0 w 101520"/>
                  <a:gd name="textAreaRight" fmla="*/ 101880 w 101520"/>
                  <a:gd name="textAreaTop" fmla="*/ 0 h 178200"/>
                  <a:gd name="textAreaBottom" fmla="*/ 178560 h 178200"/>
                </a:gdLst>
                <a:ahLst/>
                <a:rect l="textAreaLeft" t="textAreaTop" r="textAreaRight" b="textAreaBottom"/>
                <a:pathLst>
                  <a:path w="2065867" h="4030133">
                    <a:moveTo>
                      <a:pt x="270933" y="677333"/>
                    </a:moveTo>
                    <a:cubicBezTo>
                      <a:pt x="259644" y="733778"/>
                      <a:pt x="257278" y="792770"/>
                      <a:pt x="237067" y="846667"/>
                    </a:cubicBezTo>
                    <a:cubicBezTo>
                      <a:pt x="222775" y="884778"/>
                      <a:pt x="187536" y="911861"/>
                      <a:pt x="169333" y="948267"/>
                    </a:cubicBezTo>
                    <a:cubicBezTo>
                      <a:pt x="153368" y="980197"/>
                      <a:pt x="146756" y="1016000"/>
                      <a:pt x="135467" y="1049867"/>
                    </a:cubicBezTo>
                    <a:cubicBezTo>
                      <a:pt x="124178" y="1128889"/>
                      <a:pt x="124537" y="1210475"/>
                      <a:pt x="101600" y="1286933"/>
                    </a:cubicBezTo>
                    <a:cubicBezTo>
                      <a:pt x="89904" y="1325919"/>
                      <a:pt x="52070" y="1352127"/>
                      <a:pt x="33867" y="1388533"/>
                    </a:cubicBezTo>
                    <a:cubicBezTo>
                      <a:pt x="17902" y="1420463"/>
                      <a:pt x="11289" y="1456266"/>
                      <a:pt x="0" y="1490133"/>
                    </a:cubicBezTo>
                    <a:cubicBezTo>
                      <a:pt x="11289" y="1648178"/>
                      <a:pt x="6331" y="1808231"/>
                      <a:pt x="33867" y="1964267"/>
                    </a:cubicBezTo>
                    <a:cubicBezTo>
                      <a:pt x="40941" y="2004350"/>
                      <a:pt x="77942" y="2032746"/>
                      <a:pt x="101600" y="2065867"/>
                    </a:cubicBezTo>
                    <a:cubicBezTo>
                      <a:pt x="134408" y="2111798"/>
                      <a:pt x="167065" y="2157971"/>
                      <a:pt x="203200" y="2201333"/>
                    </a:cubicBezTo>
                    <a:cubicBezTo>
                      <a:pt x="223641" y="2225862"/>
                      <a:pt x="253221" y="2242500"/>
                      <a:pt x="270933" y="2269067"/>
                    </a:cubicBezTo>
                    <a:cubicBezTo>
                      <a:pt x="298937" y="2311073"/>
                      <a:pt x="313619" y="2360700"/>
                      <a:pt x="338667" y="2404533"/>
                    </a:cubicBezTo>
                    <a:cubicBezTo>
                      <a:pt x="443708" y="2588354"/>
                      <a:pt x="378175" y="2421458"/>
                      <a:pt x="440267" y="2607733"/>
                    </a:cubicBezTo>
                    <a:cubicBezTo>
                      <a:pt x="451556" y="2686755"/>
                      <a:pt x="448890" y="2769072"/>
                      <a:pt x="474133" y="2844800"/>
                    </a:cubicBezTo>
                    <a:cubicBezTo>
                      <a:pt x="484230" y="2875091"/>
                      <a:pt x="525439" y="2885153"/>
                      <a:pt x="541867" y="2912533"/>
                    </a:cubicBezTo>
                    <a:cubicBezTo>
                      <a:pt x="692110" y="3162937"/>
                      <a:pt x="437916" y="2858793"/>
                      <a:pt x="643467" y="3115733"/>
                    </a:cubicBezTo>
                    <a:cubicBezTo>
                      <a:pt x="663413" y="3140666"/>
                      <a:pt x="691254" y="3158534"/>
                      <a:pt x="711200" y="3183467"/>
                    </a:cubicBezTo>
                    <a:cubicBezTo>
                      <a:pt x="736627" y="3215251"/>
                      <a:pt x="752130" y="3254435"/>
                      <a:pt x="778933" y="3285067"/>
                    </a:cubicBezTo>
                    <a:cubicBezTo>
                      <a:pt x="831498" y="3345141"/>
                      <a:pt x="900372" y="3390540"/>
                      <a:pt x="948267" y="3454400"/>
                    </a:cubicBezTo>
                    <a:cubicBezTo>
                      <a:pt x="982134" y="3499556"/>
                      <a:pt x="1019951" y="3542002"/>
                      <a:pt x="1049867" y="3589867"/>
                    </a:cubicBezTo>
                    <a:cubicBezTo>
                      <a:pt x="1076624" y="3632678"/>
                      <a:pt x="1089596" y="3683327"/>
                      <a:pt x="1117600" y="3725333"/>
                    </a:cubicBezTo>
                    <a:cubicBezTo>
                      <a:pt x="1164328" y="3795425"/>
                      <a:pt x="1222230" y="3809038"/>
                      <a:pt x="1286933" y="3860800"/>
                    </a:cubicBezTo>
                    <a:cubicBezTo>
                      <a:pt x="1311866" y="3880746"/>
                      <a:pt x="1328100" y="3910821"/>
                      <a:pt x="1354667" y="3928533"/>
                    </a:cubicBezTo>
                    <a:cubicBezTo>
                      <a:pt x="1438370" y="3984335"/>
                      <a:pt x="1501418" y="4000029"/>
                      <a:pt x="1591733" y="4030133"/>
                    </a:cubicBezTo>
                    <a:cubicBezTo>
                      <a:pt x="1670755" y="4018844"/>
                      <a:pt x="1753072" y="4021510"/>
                      <a:pt x="1828800" y="3996267"/>
                    </a:cubicBezTo>
                    <a:cubicBezTo>
                      <a:pt x="1947678" y="3956641"/>
                      <a:pt x="1962781" y="3628192"/>
                      <a:pt x="1964267" y="3623733"/>
                    </a:cubicBezTo>
                    <a:cubicBezTo>
                      <a:pt x="1977138" y="3585119"/>
                      <a:pt x="2013797" y="3558539"/>
                      <a:pt x="2032000" y="3522133"/>
                    </a:cubicBezTo>
                    <a:cubicBezTo>
                      <a:pt x="2047965" y="3490203"/>
                      <a:pt x="2054578" y="3454400"/>
                      <a:pt x="2065867" y="3420533"/>
                    </a:cubicBezTo>
                    <a:cubicBezTo>
                      <a:pt x="2054578" y="3318933"/>
                      <a:pt x="2052048" y="3215973"/>
                      <a:pt x="2032000" y="3115733"/>
                    </a:cubicBezTo>
                    <a:cubicBezTo>
                      <a:pt x="2017998" y="3045722"/>
                      <a:pt x="1964267" y="2912533"/>
                      <a:pt x="1964267" y="2912533"/>
                    </a:cubicBezTo>
                    <a:cubicBezTo>
                      <a:pt x="2045473" y="2668911"/>
                      <a:pt x="1946942" y="2973167"/>
                      <a:pt x="2032000" y="2675467"/>
                    </a:cubicBezTo>
                    <a:cubicBezTo>
                      <a:pt x="2041807" y="2641142"/>
                      <a:pt x="2054578" y="2607734"/>
                      <a:pt x="2065867" y="2573867"/>
                    </a:cubicBezTo>
                    <a:cubicBezTo>
                      <a:pt x="1988036" y="2340376"/>
                      <a:pt x="2048618" y="2421153"/>
                      <a:pt x="1930400" y="2302933"/>
                    </a:cubicBezTo>
                    <a:cubicBezTo>
                      <a:pt x="1919111" y="2257778"/>
                      <a:pt x="1909320" y="2212221"/>
                      <a:pt x="1896533" y="2167467"/>
                    </a:cubicBezTo>
                    <a:cubicBezTo>
                      <a:pt x="1886726" y="2133142"/>
                      <a:pt x="1868536" y="2101080"/>
                      <a:pt x="1862667" y="2065867"/>
                    </a:cubicBezTo>
                    <a:cubicBezTo>
                      <a:pt x="1846052" y="1966175"/>
                      <a:pt x="1835554" y="1713597"/>
                      <a:pt x="1794933" y="1591733"/>
                    </a:cubicBezTo>
                    <a:cubicBezTo>
                      <a:pt x="1778968" y="1543839"/>
                      <a:pt x="1753174" y="1499558"/>
                      <a:pt x="1727200" y="1456267"/>
                    </a:cubicBezTo>
                    <a:cubicBezTo>
                      <a:pt x="1685317" y="1386462"/>
                      <a:pt x="1591733" y="1253067"/>
                      <a:pt x="1591733" y="1253067"/>
                    </a:cubicBezTo>
                    <a:cubicBezTo>
                      <a:pt x="1555962" y="1145753"/>
                      <a:pt x="1565165" y="1143657"/>
                      <a:pt x="1490133" y="1049867"/>
                    </a:cubicBezTo>
                    <a:cubicBezTo>
                      <a:pt x="1470187" y="1024934"/>
                      <a:pt x="1442346" y="1007066"/>
                      <a:pt x="1422400" y="982133"/>
                    </a:cubicBezTo>
                    <a:cubicBezTo>
                      <a:pt x="1396973" y="950349"/>
                      <a:pt x="1380094" y="912316"/>
                      <a:pt x="1354667" y="880533"/>
                    </a:cubicBezTo>
                    <a:cubicBezTo>
                      <a:pt x="1334721" y="855600"/>
                      <a:pt x="1306879" y="837733"/>
                      <a:pt x="1286933" y="812800"/>
                    </a:cubicBezTo>
                    <a:cubicBezTo>
                      <a:pt x="1261506" y="781017"/>
                      <a:pt x="1246241" y="741622"/>
                      <a:pt x="1219200" y="711200"/>
                    </a:cubicBezTo>
                    <a:cubicBezTo>
                      <a:pt x="1155561" y="639606"/>
                      <a:pt x="1095702" y="561134"/>
                      <a:pt x="1016000" y="508000"/>
                    </a:cubicBezTo>
                    <a:cubicBezTo>
                      <a:pt x="887833" y="422556"/>
                      <a:pt x="943181" y="469048"/>
                      <a:pt x="846667" y="372533"/>
                    </a:cubicBezTo>
                    <a:cubicBezTo>
                      <a:pt x="835378" y="338666"/>
                      <a:pt x="832602" y="300636"/>
                      <a:pt x="812800" y="270933"/>
                    </a:cubicBezTo>
                    <a:cubicBezTo>
                      <a:pt x="786233" y="231082"/>
                      <a:pt x="749006" y="198737"/>
                      <a:pt x="711200" y="169333"/>
                    </a:cubicBezTo>
                    <a:cubicBezTo>
                      <a:pt x="536524" y="33474"/>
                      <a:pt x="559693" y="51098"/>
                      <a:pt x="406400" y="0"/>
                    </a:cubicBezTo>
                    <a:cubicBezTo>
                      <a:pt x="361244" y="11289"/>
                      <a:pt x="313715" y="15532"/>
                      <a:pt x="270933" y="33867"/>
                    </a:cubicBezTo>
                    <a:cubicBezTo>
                      <a:pt x="53886" y="126887"/>
                      <a:pt x="173770" y="228415"/>
                      <a:pt x="203200" y="508000"/>
                    </a:cubicBezTo>
                    <a:cubicBezTo>
                      <a:pt x="230238" y="764856"/>
                      <a:pt x="168958" y="711013"/>
                      <a:pt x="304800" y="778933"/>
                    </a:cubicBezTo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97" name="五角星 271"/>
          <p:cNvSpPr/>
          <p:nvPr/>
        </p:nvSpPr>
        <p:spPr>
          <a:xfrm>
            <a:off x="8858160" y="-425520"/>
            <a:ext cx="3808440" cy="3422880"/>
          </a:xfrm>
          <a:prstGeom prst="star5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五角星 272"/>
          <p:cNvSpPr/>
          <p:nvPr/>
        </p:nvSpPr>
        <p:spPr>
          <a:xfrm>
            <a:off x="10733040" y="1463760"/>
            <a:ext cx="2050920" cy="1844640"/>
          </a:xfrm>
          <a:prstGeom prst="star5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任意多边形 273"/>
          <p:cNvSpPr/>
          <p:nvPr/>
        </p:nvSpPr>
        <p:spPr>
          <a:xfrm rot="14100600">
            <a:off x="4884120" y="6601680"/>
            <a:ext cx="179640" cy="274680"/>
          </a:xfrm>
          <a:custGeom>
            <a:avLst/>
            <a:gdLst>
              <a:gd name="textAreaLeft" fmla="*/ 0 w 179640"/>
              <a:gd name="textAreaRight" fmla="*/ 180000 w 17964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2065867" h="4030133">
                <a:moveTo>
                  <a:pt x="270933" y="677333"/>
                </a:moveTo>
                <a:cubicBezTo>
                  <a:pt x="259644" y="733778"/>
                  <a:pt x="257278" y="792770"/>
                  <a:pt x="237067" y="846667"/>
                </a:cubicBezTo>
                <a:cubicBezTo>
                  <a:pt x="222775" y="884778"/>
                  <a:pt x="187536" y="911861"/>
                  <a:pt x="169333" y="948267"/>
                </a:cubicBezTo>
                <a:cubicBezTo>
                  <a:pt x="153368" y="980197"/>
                  <a:pt x="146756" y="1016000"/>
                  <a:pt x="135467" y="1049867"/>
                </a:cubicBezTo>
                <a:cubicBezTo>
                  <a:pt x="124178" y="1128889"/>
                  <a:pt x="124537" y="1210475"/>
                  <a:pt x="101600" y="1286933"/>
                </a:cubicBezTo>
                <a:cubicBezTo>
                  <a:pt x="89904" y="1325919"/>
                  <a:pt x="52070" y="1352127"/>
                  <a:pt x="33867" y="1388533"/>
                </a:cubicBezTo>
                <a:cubicBezTo>
                  <a:pt x="17902" y="1420463"/>
                  <a:pt x="11289" y="1456266"/>
                  <a:pt x="0" y="1490133"/>
                </a:cubicBezTo>
                <a:cubicBezTo>
                  <a:pt x="11289" y="1648178"/>
                  <a:pt x="6331" y="1808231"/>
                  <a:pt x="33867" y="1964267"/>
                </a:cubicBezTo>
                <a:cubicBezTo>
                  <a:pt x="40941" y="2004350"/>
                  <a:pt x="77942" y="2032746"/>
                  <a:pt x="101600" y="2065867"/>
                </a:cubicBezTo>
                <a:cubicBezTo>
                  <a:pt x="134408" y="2111798"/>
                  <a:pt x="167065" y="2157971"/>
                  <a:pt x="203200" y="2201333"/>
                </a:cubicBezTo>
                <a:cubicBezTo>
                  <a:pt x="223641" y="2225862"/>
                  <a:pt x="253221" y="2242500"/>
                  <a:pt x="270933" y="2269067"/>
                </a:cubicBezTo>
                <a:cubicBezTo>
                  <a:pt x="298937" y="2311073"/>
                  <a:pt x="313619" y="2360700"/>
                  <a:pt x="338667" y="2404533"/>
                </a:cubicBezTo>
                <a:cubicBezTo>
                  <a:pt x="443708" y="2588354"/>
                  <a:pt x="378175" y="2421458"/>
                  <a:pt x="440267" y="2607733"/>
                </a:cubicBezTo>
                <a:cubicBezTo>
                  <a:pt x="451556" y="2686755"/>
                  <a:pt x="448890" y="2769072"/>
                  <a:pt x="474133" y="2844800"/>
                </a:cubicBezTo>
                <a:cubicBezTo>
                  <a:pt x="484230" y="2875091"/>
                  <a:pt x="525439" y="2885153"/>
                  <a:pt x="541867" y="2912533"/>
                </a:cubicBezTo>
                <a:cubicBezTo>
                  <a:pt x="692110" y="3162937"/>
                  <a:pt x="437916" y="2858793"/>
                  <a:pt x="643467" y="3115733"/>
                </a:cubicBezTo>
                <a:cubicBezTo>
                  <a:pt x="663413" y="3140666"/>
                  <a:pt x="691254" y="3158534"/>
                  <a:pt x="711200" y="3183467"/>
                </a:cubicBezTo>
                <a:cubicBezTo>
                  <a:pt x="736627" y="3215251"/>
                  <a:pt x="752130" y="3254435"/>
                  <a:pt x="778933" y="3285067"/>
                </a:cubicBezTo>
                <a:cubicBezTo>
                  <a:pt x="831498" y="3345141"/>
                  <a:pt x="900372" y="3390540"/>
                  <a:pt x="948267" y="3454400"/>
                </a:cubicBezTo>
                <a:cubicBezTo>
                  <a:pt x="982134" y="3499556"/>
                  <a:pt x="1019951" y="3542002"/>
                  <a:pt x="1049867" y="3589867"/>
                </a:cubicBezTo>
                <a:cubicBezTo>
                  <a:pt x="1076624" y="3632678"/>
                  <a:pt x="1089596" y="3683327"/>
                  <a:pt x="1117600" y="3725333"/>
                </a:cubicBezTo>
                <a:cubicBezTo>
                  <a:pt x="1164328" y="3795425"/>
                  <a:pt x="1222230" y="3809038"/>
                  <a:pt x="1286933" y="3860800"/>
                </a:cubicBezTo>
                <a:cubicBezTo>
                  <a:pt x="1311866" y="3880746"/>
                  <a:pt x="1328100" y="3910821"/>
                  <a:pt x="1354667" y="3928533"/>
                </a:cubicBezTo>
                <a:cubicBezTo>
                  <a:pt x="1438370" y="3984335"/>
                  <a:pt x="1501418" y="4000029"/>
                  <a:pt x="1591733" y="4030133"/>
                </a:cubicBezTo>
                <a:cubicBezTo>
                  <a:pt x="1670755" y="4018844"/>
                  <a:pt x="1753072" y="4021510"/>
                  <a:pt x="1828800" y="3996267"/>
                </a:cubicBezTo>
                <a:cubicBezTo>
                  <a:pt x="1947678" y="3956641"/>
                  <a:pt x="1962781" y="3628192"/>
                  <a:pt x="1964267" y="3623733"/>
                </a:cubicBezTo>
                <a:cubicBezTo>
                  <a:pt x="1977138" y="3585119"/>
                  <a:pt x="2013797" y="3558539"/>
                  <a:pt x="2032000" y="3522133"/>
                </a:cubicBezTo>
                <a:cubicBezTo>
                  <a:pt x="2047965" y="3490203"/>
                  <a:pt x="2054578" y="3454400"/>
                  <a:pt x="2065867" y="3420533"/>
                </a:cubicBezTo>
                <a:cubicBezTo>
                  <a:pt x="2054578" y="3318933"/>
                  <a:pt x="2052048" y="3215973"/>
                  <a:pt x="2032000" y="3115733"/>
                </a:cubicBezTo>
                <a:cubicBezTo>
                  <a:pt x="2017998" y="3045722"/>
                  <a:pt x="1964267" y="2912533"/>
                  <a:pt x="1964267" y="2912533"/>
                </a:cubicBezTo>
                <a:cubicBezTo>
                  <a:pt x="2045473" y="2668911"/>
                  <a:pt x="1946942" y="2973167"/>
                  <a:pt x="2032000" y="2675467"/>
                </a:cubicBezTo>
                <a:cubicBezTo>
                  <a:pt x="2041807" y="2641142"/>
                  <a:pt x="2054578" y="2607734"/>
                  <a:pt x="2065867" y="2573867"/>
                </a:cubicBezTo>
                <a:cubicBezTo>
                  <a:pt x="1988036" y="2340376"/>
                  <a:pt x="2048618" y="2421153"/>
                  <a:pt x="1930400" y="2302933"/>
                </a:cubicBezTo>
                <a:cubicBezTo>
                  <a:pt x="1919111" y="2257778"/>
                  <a:pt x="1909320" y="2212221"/>
                  <a:pt x="1896533" y="2167467"/>
                </a:cubicBezTo>
                <a:cubicBezTo>
                  <a:pt x="1886726" y="2133142"/>
                  <a:pt x="1868536" y="2101080"/>
                  <a:pt x="1862667" y="2065867"/>
                </a:cubicBezTo>
                <a:cubicBezTo>
                  <a:pt x="1846052" y="1966175"/>
                  <a:pt x="1835554" y="1713597"/>
                  <a:pt x="1794933" y="1591733"/>
                </a:cubicBezTo>
                <a:cubicBezTo>
                  <a:pt x="1778968" y="1543839"/>
                  <a:pt x="1753174" y="1499558"/>
                  <a:pt x="1727200" y="1456267"/>
                </a:cubicBezTo>
                <a:cubicBezTo>
                  <a:pt x="1685317" y="1386462"/>
                  <a:pt x="1591733" y="1253067"/>
                  <a:pt x="1591733" y="1253067"/>
                </a:cubicBezTo>
                <a:cubicBezTo>
                  <a:pt x="1555962" y="1145753"/>
                  <a:pt x="1565165" y="1143657"/>
                  <a:pt x="1490133" y="1049867"/>
                </a:cubicBezTo>
                <a:cubicBezTo>
                  <a:pt x="1470187" y="1024934"/>
                  <a:pt x="1442346" y="1007066"/>
                  <a:pt x="1422400" y="982133"/>
                </a:cubicBezTo>
                <a:cubicBezTo>
                  <a:pt x="1396973" y="950349"/>
                  <a:pt x="1380094" y="912316"/>
                  <a:pt x="1354667" y="880533"/>
                </a:cubicBezTo>
                <a:cubicBezTo>
                  <a:pt x="1334721" y="855600"/>
                  <a:pt x="1306879" y="837733"/>
                  <a:pt x="1286933" y="812800"/>
                </a:cubicBezTo>
                <a:cubicBezTo>
                  <a:pt x="1261506" y="781017"/>
                  <a:pt x="1246241" y="741622"/>
                  <a:pt x="1219200" y="711200"/>
                </a:cubicBezTo>
                <a:cubicBezTo>
                  <a:pt x="1155561" y="639606"/>
                  <a:pt x="1095702" y="561134"/>
                  <a:pt x="1016000" y="508000"/>
                </a:cubicBezTo>
                <a:cubicBezTo>
                  <a:pt x="887833" y="422556"/>
                  <a:pt x="943181" y="469048"/>
                  <a:pt x="846667" y="372533"/>
                </a:cubicBezTo>
                <a:cubicBezTo>
                  <a:pt x="835378" y="338666"/>
                  <a:pt x="832602" y="300636"/>
                  <a:pt x="812800" y="270933"/>
                </a:cubicBezTo>
                <a:cubicBezTo>
                  <a:pt x="786233" y="231082"/>
                  <a:pt x="749006" y="198737"/>
                  <a:pt x="711200" y="169333"/>
                </a:cubicBezTo>
                <a:cubicBezTo>
                  <a:pt x="536524" y="33474"/>
                  <a:pt x="559693" y="51098"/>
                  <a:pt x="406400" y="0"/>
                </a:cubicBezTo>
                <a:cubicBezTo>
                  <a:pt x="361244" y="11289"/>
                  <a:pt x="313715" y="15532"/>
                  <a:pt x="270933" y="33867"/>
                </a:cubicBezTo>
                <a:cubicBezTo>
                  <a:pt x="53886" y="126887"/>
                  <a:pt x="173770" y="228415"/>
                  <a:pt x="203200" y="508000"/>
                </a:cubicBezTo>
                <a:cubicBezTo>
                  <a:pt x="230238" y="764856"/>
                  <a:pt x="168958" y="711013"/>
                  <a:pt x="304800" y="778933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任意多边形 274"/>
          <p:cNvSpPr/>
          <p:nvPr/>
        </p:nvSpPr>
        <p:spPr>
          <a:xfrm rot="14100600">
            <a:off x="5113080" y="6587280"/>
            <a:ext cx="88920" cy="136440"/>
          </a:xfrm>
          <a:custGeom>
            <a:avLst/>
            <a:gdLst>
              <a:gd name="textAreaLeft" fmla="*/ 0 w 88920"/>
              <a:gd name="textAreaRight" fmla="*/ 89280 w 88920"/>
              <a:gd name="textAreaTop" fmla="*/ 0 h 136440"/>
              <a:gd name="textAreaBottom" fmla="*/ 136800 h 136440"/>
            </a:gdLst>
            <a:ahLst/>
            <a:rect l="textAreaLeft" t="textAreaTop" r="textAreaRight" b="textAreaBottom"/>
            <a:pathLst>
              <a:path w="2065867" h="4030133">
                <a:moveTo>
                  <a:pt x="270933" y="677333"/>
                </a:moveTo>
                <a:cubicBezTo>
                  <a:pt x="259644" y="733778"/>
                  <a:pt x="257278" y="792770"/>
                  <a:pt x="237067" y="846667"/>
                </a:cubicBezTo>
                <a:cubicBezTo>
                  <a:pt x="222775" y="884778"/>
                  <a:pt x="187536" y="911861"/>
                  <a:pt x="169333" y="948267"/>
                </a:cubicBezTo>
                <a:cubicBezTo>
                  <a:pt x="153368" y="980197"/>
                  <a:pt x="146756" y="1016000"/>
                  <a:pt x="135467" y="1049867"/>
                </a:cubicBezTo>
                <a:cubicBezTo>
                  <a:pt x="124178" y="1128889"/>
                  <a:pt x="124537" y="1210475"/>
                  <a:pt x="101600" y="1286933"/>
                </a:cubicBezTo>
                <a:cubicBezTo>
                  <a:pt x="89904" y="1325919"/>
                  <a:pt x="52070" y="1352127"/>
                  <a:pt x="33867" y="1388533"/>
                </a:cubicBezTo>
                <a:cubicBezTo>
                  <a:pt x="17902" y="1420463"/>
                  <a:pt x="11289" y="1456266"/>
                  <a:pt x="0" y="1490133"/>
                </a:cubicBezTo>
                <a:cubicBezTo>
                  <a:pt x="11289" y="1648178"/>
                  <a:pt x="6331" y="1808231"/>
                  <a:pt x="33867" y="1964267"/>
                </a:cubicBezTo>
                <a:cubicBezTo>
                  <a:pt x="40941" y="2004350"/>
                  <a:pt x="77942" y="2032746"/>
                  <a:pt x="101600" y="2065867"/>
                </a:cubicBezTo>
                <a:cubicBezTo>
                  <a:pt x="134408" y="2111798"/>
                  <a:pt x="167065" y="2157971"/>
                  <a:pt x="203200" y="2201333"/>
                </a:cubicBezTo>
                <a:cubicBezTo>
                  <a:pt x="223641" y="2225862"/>
                  <a:pt x="253221" y="2242500"/>
                  <a:pt x="270933" y="2269067"/>
                </a:cubicBezTo>
                <a:cubicBezTo>
                  <a:pt x="298937" y="2311073"/>
                  <a:pt x="313619" y="2360700"/>
                  <a:pt x="338667" y="2404533"/>
                </a:cubicBezTo>
                <a:cubicBezTo>
                  <a:pt x="443708" y="2588354"/>
                  <a:pt x="378175" y="2421458"/>
                  <a:pt x="440267" y="2607733"/>
                </a:cubicBezTo>
                <a:cubicBezTo>
                  <a:pt x="451556" y="2686755"/>
                  <a:pt x="448890" y="2769072"/>
                  <a:pt x="474133" y="2844800"/>
                </a:cubicBezTo>
                <a:cubicBezTo>
                  <a:pt x="484230" y="2875091"/>
                  <a:pt x="525439" y="2885153"/>
                  <a:pt x="541867" y="2912533"/>
                </a:cubicBezTo>
                <a:cubicBezTo>
                  <a:pt x="692110" y="3162937"/>
                  <a:pt x="437916" y="2858793"/>
                  <a:pt x="643467" y="3115733"/>
                </a:cubicBezTo>
                <a:cubicBezTo>
                  <a:pt x="663413" y="3140666"/>
                  <a:pt x="691254" y="3158534"/>
                  <a:pt x="711200" y="3183467"/>
                </a:cubicBezTo>
                <a:cubicBezTo>
                  <a:pt x="736627" y="3215251"/>
                  <a:pt x="752130" y="3254435"/>
                  <a:pt x="778933" y="3285067"/>
                </a:cubicBezTo>
                <a:cubicBezTo>
                  <a:pt x="831498" y="3345141"/>
                  <a:pt x="900372" y="3390540"/>
                  <a:pt x="948267" y="3454400"/>
                </a:cubicBezTo>
                <a:cubicBezTo>
                  <a:pt x="982134" y="3499556"/>
                  <a:pt x="1019951" y="3542002"/>
                  <a:pt x="1049867" y="3589867"/>
                </a:cubicBezTo>
                <a:cubicBezTo>
                  <a:pt x="1076624" y="3632678"/>
                  <a:pt x="1089596" y="3683327"/>
                  <a:pt x="1117600" y="3725333"/>
                </a:cubicBezTo>
                <a:cubicBezTo>
                  <a:pt x="1164328" y="3795425"/>
                  <a:pt x="1222230" y="3809038"/>
                  <a:pt x="1286933" y="3860800"/>
                </a:cubicBezTo>
                <a:cubicBezTo>
                  <a:pt x="1311866" y="3880746"/>
                  <a:pt x="1328100" y="3910821"/>
                  <a:pt x="1354667" y="3928533"/>
                </a:cubicBezTo>
                <a:cubicBezTo>
                  <a:pt x="1438370" y="3984335"/>
                  <a:pt x="1501418" y="4000029"/>
                  <a:pt x="1591733" y="4030133"/>
                </a:cubicBezTo>
                <a:cubicBezTo>
                  <a:pt x="1670755" y="4018844"/>
                  <a:pt x="1753072" y="4021510"/>
                  <a:pt x="1828800" y="3996267"/>
                </a:cubicBezTo>
                <a:cubicBezTo>
                  <a:pt x="1947678" y="3956641"/>
                  <a:pt x="1962781" y="3628192"/>
                  <a:pt x="1964267" y="3623733"/>
                </a:cubicBezTo>
                <a:cubicBezTo>
                  <a:pt x="1977138" y="3585119"/>
                  <a:pt x="2013797" y="3558539"/>
                  <a:pt x="2032000" y="3522133"/>
                </a:cubicBezTo>
                <a:cubicBezTo>
                  <a:pt x="2047965" y="3490203"/>
                  <a:pt x="2054578" y="3454400"/>
                  <a:pt x="2065867" y="3420533"/>
                </a:cubicBezTo>
                <a:cubicBezTo>
                  <a:pt x="2054578" y="3318933"/>
                  <a:pt x="2052048" y="3215973"/>
                  <a:pt x="2032000" y="3115733"/>
                </a:cubicBezTo>
                <a:cubicBezTo>
                  <a:pt x="2017998" y="3045722"/>
                  <a:pt x="1964267" y="2912533"/>
                  <a:pt x="1964267" y="2912533"/>
                </a:cubicBezTo>
                <a:cubicBezTo>
                  <a:pt x="2045473" y="2668911"/>
                  <a:pt x="1946942" y="2973167"/>
                  <a:pt x="2032000" y="2675467"/>
                </a:cubicBezTo>
                <a:cubicBezTo>
                  <a:pt x="2041807" y="2641142"/>
                  <a:pt x="2054578" y="2607734"/>
                  <a:pt x="2065867" y="2573867"/>
                </a:cubicBezTo>
                <a:cubicBezTo>
                  <a:pt x="1988036" y="2340376"/>
                  <a:pt x="2048618" y="2421153"/>
                  <a:pt x="1930400" y="2302933"/>
                </a:cubicBezTo>
                <a:cubicBezTo>
                  <a:pt x="1919111" y="2257778"/>
                  <a:pt x="1909320" y="2212221"/>
                  <a:pt x="1896533" y="2167467"/>
                </a:cubicBezTo>
                <a:cubicBezTo>
                  <a:pt x="1886726" y="2133142"/>
                  <a:pt x="1868536" y="2101080"/>
                  <a:pt x="1862667" y="2065867"/>
                </a:cubicBezTo>
                <a:cubicBezTo>
                  <a:pt x="1846052" y="1966175"/>
                  <a:pt x="1835554" y="1713597"/>
                  <a:pt x="1794933" y="1591733"/>
                </a:cubicBezTo>
                <a:cubicBezTo>
                  <a:pt x="1778968" y="1543839"/>
                  <a:pt x="1753174" y="1499558"/>
                  <a:pt x="1727200" y="1456267"/>
                </a:cubicBezTo>
                <a:cubicBezTo>
                  <a:pt x="1685317" y="1386462"/>
                  <a:pt x="1591733" y="1253067"/>
                  <a:pt x="1591733" y="1253067"/>
                </a:cubicBezTo>
                <a:cubicBezTo>
                  <a:pt x="1555962" y="1145753"/>
                  <a:pt x="1565165" y="1143657"/>
                  <a:pt x="1490133" y="1049867"/>
                </a:cubicBezTo>
                <a:cubicBezTo>
                  <a:pt x="1470187" y="1024934"/>
                  <a:pt x="1442346" y="1007066"/>
                  <a:pt x="1422400" y="982133"/>
                </a:cubicBezTo>
                <a:cubicBezTo>
                  <a:pt x="1396973" y="950349"/>
                  <a:pt x="1380094" y="912316"/>
                  <a:pt x="1354667" y="880533"/>
                </a:cubicBezTo>
                <a:cubicBezTo>
                  <a:pt x="1334721" y="855600"/>
                  <a:pt x="1306879" y="837733"/>
                  <a:pt x="1286933" y="812800"/>
                </a:cubicBezTo>
                <a:cubicBezTo>
                  <a:pt x="1261506" y="781017"/>
                  <a:pt x="1246241" y="741622"/>
                  <a:pt x="1219200" y="711200"/>
                </a:cubicBezTo>
                <a:cubicBezTo>
                  <a:pt x="1155561" y="639606"/>
                  <a:pt x="1095702" y="561134"/>
                  <a:pt x="1016000" y="508000"/>
                </a:cubicBezTo>
                <a:cubicBezTo>
                  <a:pt x="887833" y="422556"/>
                  <a:pt x="943181" y="469048"/>
                  <a:pt x="846667" y="372533"/>
                </a:cubicBezTo>
                <a:cubicBezTo>
                  <a:pt x="835378" y="338666"/>
                  <a:pt x="832602" y="300636"/>
                  <a:pt x="812800" y="270933"/>
                </a:cubicBezTo>
                <a:cubicBezTo>
                  <a:pt x="786233" y="231082"/>
                  <a:pt x="749006" y="198737"/>
                  <a:pt x="711200" y="169333"/>
                </a:cubicBezTo>
                <a:cubicBezTo>
                  <a:pt x="536524" y="33474"/>
                  <a:pt x="559693" y="51098"/>
                  <a:pt x="406400" y="0"/>
                </a:cubicBezTo>
                <a:cubicBezTo>
                  <a:pt x="361244" y="11289"/>
                  <a:pt x="313715" y="15532"/>
                  <a:pt x="270933" y="33867"/>
                </a:cubicBezTo>
                <a:cubicBezTo>
                  <a:pt x="53886" y="126887"/>
                  <a:pt x="173770" y="228415"/>
                  <a:pt x="203200" y="508000"/>
                </a:cubicBezTo>
                <a:cubicBezTo>
                  <a:pt x="230238" y="764856"/>
                  <a:pt x="168958" y="711013"/>
                  <a:pt x="304800" y="778933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任意多边形 275"/>
          <p:cNvSpPr/>
          <p:nvPr/>
        </p:nvSpPr>
        <p:spPr>
          <a:xfrm rot="14100600">
            <a:off x="4897440" y="6526080"/>
            <a:ext cx="88560" cy="136440"/>
          </a:xfrm>
          <a:custGeom>
            <a:avLst/>
            <a:gdLst>
              <a:gd name="textAreaLeft" fmla="*/ 0 w 88560"/>
              <a:gd name="textAreaRight" fmla="*/ 88920 w 88560"/>
              <a:gd name="textAreaTop" fmla="*/ 0 h 136440"/>
              <a:gd name="textAreaBottom" fmla="*/ 136800 h 136440"/>
            </a:gdLst>
            <a:ahLst/>
            <a:rect l="textAreaLeft" t="textAreaTop" r="textAreaRight" b="textAreaBottom"/>
            <a:pathLst>
              <a:path w="2065867" h="4030133">
                <a:moveTo>
                  <a:pt x="270933" y="677333"/>
                </a:moveTo>
                <a:cubicBezTo>
                  <a:pt x="259644" y="733778"/>
                  <a:pt x="257278" y="792770"/>
                  <a:pt x="237067" y="846667"/>
                </a:cubicBezTo>
                <a:cubicBezTo>
                  <a:pt x="222775" y="884778"/>
                  <a:pt x="187536" y="911861"/>
                  <a:pt x="169333" y="948267"/>
                </a:cubicBezTo>
                <a:cubicBezTo>
                  <a:pt x="153368" y="980197"/>
                  <a:pt x="146756" y="1016000"/>
                  <a:pt x="135467" y="1049867"/>
                </a:cubicBezTo>
                <a:cubicBezTo>
                  <a:pt x="124178" y="1128889"/>
                  <a:pt x="124537" y="1210475"/>
                  <a:pt x="101600" y="1286933"/>
                </a:cubicBezTo>
                <a:cubicBezTo>
                  <a:pt x="89904" y="1325919"/>
                  <a:pt x="52070" y="1352127"/>
                  <a:pt x="33867" y="1388533"/>
                </a:cubicBezTo>
                <a:cubicBezTo>
                  <a:pt x="17902" y="1420463"/>
                  <a:pt x="11289" y="1456266"/>
                  <a:pt x="0" y="1490133"/>
                </a:cubicBezTo>
                <a:cubicBezTo>
                  <a:pt x="11289" y="1648178"/>
                  <a:pt x="6331" y="1808231"/>
                  <a:pt x="33867" y="1964267"/>
                </a:cubicBezTo>
                <a:cubicBezTo>
                  <a:pt x="40941" y="2004350"/>
                  <a:pt x="77942" y="2032746"/>
                  <a:pt x="101600" y="2065867"/>
                </a:cubicBezTo>
                <a:cubicBezTo>
                  <a:pt x="134408" y="2111798"/>
                  <a:pt x="167065" y="2157971"/>
                  <a:pt x="203200" y="2201333"/>
                </a:cubicBezTo>
                <a:cubicBezTo>
                  <a:pt x="223641" y="2225862"/>
                  <a:pt x="253221" y="2242500"/>
                  <a:pt x="270933" y="2269067"/>
                </a:cubicBezTo>
                <a:cubicBezTo>
                  <a:pt x="298937" y="2311073"/>
                  <a:pt x="313619" y="2360700"/>
                  <a:pt x="338667" y="2404533"/>
                </a:cubicBezTo>
                <a:cubicBezTo>
                  <a:pt x="443708" y="2588354"/>
                  <a:pt x="378175" y="2421458"/>
                  <a:pt x="440267" y="2607733"/>
                </a:cubicBezTo>
                <a:cubicBezTo>
                  <a:pt x="451556" y="2686755"/>
                  <a:pt x="448890" y="2769072"/>
                  <a:pt x="474133" y="2844800"/>
                </a:cubicBezTo>
                <a:cubicBezTo>
                  <a:pt x="484230" y="2875091"/>
                  <a:pt x="525439" y="2885153"/>
                  <a:pt x="541867" y="2912533"/>
                </a:cubicBezTo>
                <a:cubicBezTo>
                  <a:pt x="692110" y="3162937"/>
                  <a:pt x="437916" y="2858793"/>
                  <a:pt x="643467" y="3115733"/>
                </a:cubicBezTo>
                <a:cubicBezTo>
                  <a:pt x="663413" y="3140666"/>
                  <a:pt x="691254" y="3158534"/>
                  <a:pt x="711200" y="3183467"/>
                </a:cubicBezTo>
                <a:cubicBezTo>
                  <a:pt x="736627" y="3215251"/>
                  <a:pt x="752130" y="3254435"/>
                  <a:pt x="778933" y="3285067"/>
                </a:cubicBezTo>
                <a:cubicBezTo>
                  <a:pt x="831498" y="3345141"/>
                  <a:pt x="900372" y="3390540"/>
                  <a:pt x="948267" y="3454400"/>
                </a:cubicBezTo>
                <a:cubicBezTo>
                  <a:pt x="982134" y="3499556"/>
                  <a:pt x="1019951" y="3542002"/>
                  <a:pt x="1049867" y="3589867"/>
                </a:cubicBezTo>
                <a:cubicBezTo>
                  <a:pt x="1076624" y="3632678"/>
                  <a:pt x="1089596" y="3683327"/>
                  <a:pt x="1117600" y="3725333"/>
                </a:cubicBezTo>
                <a:cubicBezTo>
                  <a:pt x="1164328" y="3795425"/>
                  <a:pt x="1222230" y="3809038"/>
                  <a:pt x="1286933" y="3860800"/>
                </a:cubicBezTo>
                <a:cubicBezTo>
                  <a:pt x="1311866" y="3880746"/>
                  <a:pt x="1328100" y="3910821"/>
                  <a:pt x="1354667" y="3928533"/>
                </a:cubicBezTo>
                <a:cubicBezTo>
                  <a:pt x="1438370" y="3984335"/>
                  <a:pt x="1501418" y="4000029"/>
                  <a:pt x="1591733" y="4030133"/>
                </a:cubicBezTo>
                <a:cubicBezTo>
                  <a:pt x="1670755" y="4018844"/>
                  <a:pt x="1753072" y="4021510"/>
                  <a:pt x="1828800" y="3996267"/>
                </a:cubicBezTo>
                <a:cubicBezTo>
                  <a:pt x="1947678" y="3956641"/>
                  <a:pt x="1962781" y="3628192"/>
                  <a:pt x="1964267" y="3623733"/>
                </a:cubicBezTo>
                <a:cubicBezTo>
                  <a:pt x="1977138" y="3585119"/>
                  <a:pt x="2013797" y="3558539"/>
                  <a:pt x="2032000" y="3522133"/>
                </a:cubicBezTo>
                <a:cubicBezTo>
                  <a:pt x="2047965" y="3490203"/>
                  <a:pt x="2054578" y="3454400"/>
                  <a:pt x="2065867" y="3420533"/>
                </a:cubicBezTo>
                <a:cubicBezTo>
                  <a:pt x="2054578" y="3318933"/>
                  <a:pt x="2052048" y="3215973"/>
                  <a:pt x="2032000" y="3115733"/>
                </a:cubicBezTo>
                <a:cubicBezTo>
                  <a:pt x="2017998" y="3045722"/>
                  <a:pt x="1964267" y="2912533"/>
                  <a:pt x="1964267" y="2912533"/>
                </a:cubicBezTo>
                <a:cubicBezTo>
                  <a:pt x="2045473" y="2668911"/>
                  <a:pt x="1946942" y="2973167"/>
                  <a:pt x="2032000" y="2675467"/>
                </a:cubicBezTo>
                <a:cubicBezTo>
                  <a:pt x="2041807" y="2641142"/>
                  <a:pt x="2054578" y="2607734"/>
                  <a:pt x="2065867" y="2573867"/>
                </a:cubicBezTo>
                <a:cubicBezTo>
                  <a:pt x="1988036" y="2340376"/>
                  <a:pt x="2048618" y="2421153"/>
                  <a:pt x="1930400" y="2302933"/>
                </a:cubicBezTo>
                <a:cubicBezTo>
                  <a:pt x="1919111" y="2257778"/>
                  <a:pt x="1909320" y="2212221"/>
                  <a:pt x="1896533" y="2167467"/>
                </a:cubicBezTo>
                <a:cubicBezTo>
                  <a:pt x="1886726" y="2133142"/>
                  <a:pt x="1868536" y="2101080"/>
                  <a:pt x="1862667" y="2065867"/>
                </a:cubicBezTo>
                <a:cubicBezTo>
                  <a:pt x="1846052" y="1966175"/>
                  <a:pt x="1835554" y="1713597"/>
                  <a:pt x="1794933" y="1591733"/>
                </a:cubicBezTo>
                <a:cubicBezTo>
                  <a:pt x="1778968" y="1543839"/>
                  <a:pt x="1753174" y="1499558"/>
                  <a:pt x="1727200" y="1456267"/>
                </a:cubicBezTo>
                <a:cubicBezTo>
                  <a:pt x="1685317" y="1386462"/>
                  <a:pt x="1591733" y="1253067"/>
                  <a:pt x="1591733" y="1253067"/>
                </a:cubicBezTo>
                <a:cubicBezTo>
                  <a:pt x="1555962" y="1145753"/>
                  <a:pt x="1565165" y="1143657"/>
                  <a:pt x="1490133" y="1049867"/>
                </a:cubicBezTo>
                <a:cubicBezTo>
                  <a:pt x="1470187" y="1024934"/>
                  <a:pt x="1442346" y="1007066"/>
                  <a:pt x="1422400" y="982133"/>
                </a:cubicBezTo>
                <a:cubicBezTo>
                  <a:pt x="1396973" y="950349"/>
                  <a:pt x="1380094" y="912316"/>
                  <a:pt x="1354667" y="880533"/>
                </a:cubicBezTo>
                <a:cubicBezTo>
                  <a:pt x="1334721" y="855600"/>
                  <a:pt x="1306879" y="837733"/>
                  <a:pt x="1286933" y="812800"/>
                </a:cubicBezTo>
                <a:cubicBezTo>
                  <a:pt x="1261506" y="781017"/>
                  <a:pt x="1246241" y="741622"/>
                  <a:pt x="1219200" y="711200"/>
                </a:cubicBezTo>
                <a:cubicBezTo>
                  <a:pt x="1155561" y="639606"/>
                  <a:pt x="1095702" y="561134"/>
                  <a:pt x="1016000" y="508000"/>
                </a:cubicBezTo>
                <a:cubicBezTo>
                  <a:pt x="887833" y="422556"/>
                  <a:pt x="943181" y="469048"/>
                  <a:pt x="846667" y="372533"/>
                </a:cubicBezTo>
                <a:cubicBezTo>
                  <a:pt x="835378" y="338666"/>
                  <a:pt x="832602" y="300636"/>
                  <a:pt x="812800" y="270933"/>
                </a:cubicBezTo>
                <a:cubicBezTo>
                  <a:pt x="786233" y="231082"/>
                  <a:pt x="749006" y="198737"/>
                  <a:pt x="711200" y="169333"/>
                </a:cubicBezTo>
                <a:cubicBezTo>
                  <a:pt x="536524" y="33474"/>
                  <a:pt x="559693" y="51098"/>
                  <a:pt x="406400" y="0"/>
                </a:cubicBezTo>
                <a:cubicBezTo>
                  <a:pt x="361244" y="11289"/>
                  <a:pt x="313715" y="15532"/>
                  <a:pt x="270933" y="33867"/>
                </a:cubicBezTo>
                <a:cubicBezTo>
                  <a:pt x="53886" y="126887"/>
                  <a:pt x="173770" y="228415"/>
                  <a:pt x="203200" y="508000"/>
                </a:cubicBezTo>
                <a:cubicBezTo>
                  <a:pt x="230238" y="764856"/>
                  <a:pt x="168958" y="711013"/>
                  <a:pt x="304800" y="778933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2" name=""/>
          <p:cNvGrpSpPr/>
          <p:nvPr/>
        </p:nvGrpSpPr>
        <p:grpSpPr>
          <a:xfrm>
            <a:off x="12709440" y="2302200"/>
            <a:ext cx="1943280" cy="1135800"/>
            <a:chOff x="12709440" y="2302200"/>
            <a:chExt cx="1943280" cy="1135800"/>
          </a:xfrm>
        </p:grpSpPr>
        <p:grpSp>
          <p:nvGrpSpPr>
            <p:cNvPr id="503" name=""/>
            <p:cNvGrpSpPr/>
            <p:nvPr/>
          </p:nvGrpSpPr>
          <p:grpSpPr>
            <a:xfrm>
              <a:off x="12709440" y="2302200"/>
              <a:ext cx="1943280" cy="1135800"/>
              <a:chOff x="12709440" y="2302200"/>
              <a:chExt cx="1943280" cy="1135800"/>
            </a:xfrm>
          </p:grpSpPr>
          <p:grpSp>
            <p:nvGrpSpPr>
              <p:cNvPr id="504" name=""/>
              <p:cNvGrpSpPr/>
              <p:nvPr/>
            </p:nvGrpSpPr>
            <p:grpSpPr>
              <a:xfrm>
                <a:off x="12709440" y="2302200"/>
                <a:ext cx="1879920" cy="1130400"/>
                <a:chOff x="12709440" y="2302200"/>
                <a:chExt cx="1879920" cy="1130400"/>
              </a:xfrm>
            </p:grpSpPr>
            <p:sp>
              <p:nvSpPr>
                <p:cNvPr id="505" name="任意多边形 249"/>
                <p:cNvSpPr/>
                <p:nvPr/>
              </p:nvSpPr>
              <p:spPr>
                <a:xfrm>
                  <a:off x="13138920" y="2608200"/>
                  <a:ext cx="1153800" cy="460440"/>
                </a:xfrm>
                <a:custGeom>
                  <a:avLst/>
                  <a:gdLst>
                    <a:gd name="textAreaLeft" fmla="*/ 0 w 1153800"/>
                    <a:gd name="textAreaRight" fmla="*/ 1154160 w 1153800"/>
                    <a:gd name="textAreaTop" fmla="*/ 0 h 460440"/>
                    <a:gd name="textAreaBottom" fmla="*/ 460800 h 460440"/>
                  </a:gdLst>
                  <a:ahLst/>
                  <a:rect l="textAreaLeft" t="textAreaTop" r="textAreaRight" b="textAreaBottom"/>
                  <a:pathLst>
                    <a:path w="1154243" h="464695">
                      <a:moveTo>
                        <a:pt x="0" y="209862"/>
                      </a:moveTo>
                      <a:lnTo>
                        <a:pt x="404735" y="464695"/>
                      </a:lnTo>
                      <a:lnTo>
                        <a:pt x="989351" y="434714"/>
                      </a:lnTo>
                      <a:lnTo>
                        <a:pt x="1154243" y="0"/>
                      </a:lnTo>
                      <a:lnTo>
                        <a:pt x="719528" y="44970"/>
                      </a:lnTo>
                      <a:lnTo>
                        <a:pt x="89941" y="164891"/>
                      </a:lnTo>
                    </a:path>
                  </a:pathLst>
                </a:custGeom>
                <a:solidFill>
                  <a:srgbClr val="a581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06" name=""/>
                <p:cNvGrpSpPr/>
                <p:nvPr/>
              </p:nvGrpSpPr>
              <p:grpSpPr>
                <a:xfrm>
                  <a:off x="12936240" y="2304720"/>
                  <a:ext cx="1653120" cy="1127880"/>
                  <a:chOff x="12936240" y="2304720"/>
                  <a:chExt cx="1653120" cy="1127880"/>
                </a:xfrm>
              </p:grpSpPr>
              <p:sp>
                <p:nvSpPr>
                  <p:cNvPr id="507" name="任意多边形 265"/>
                  <p:cNvSpPr/>
                  <p:nvPr/>
                </p:nvSpPr>
                <p:spPr>
                  <a:xfrm rot="8161800">
                    <a:off x="13240440" y="2705040"/>
                    <a:ext cx="1285920" cy="326880"/>
                  </a:xfrm>
                  <a:custGeom>
                    <a:avLst/>
                    <a:gdLst>
                      <a:gd name="textAreaLeft" fmla="*/ 0 w 1285920"/>
                      <a:gd name="textAreaRight" fmla="*/ 1286280 w 1285920"/>
                      <a:gd name="textAreaTop" fmla="*/ 0 h 326880"/>
                      <a:gd name="textAreaBottom" fmla="*/ 327240 h 326880"/>
                    </a:gdLst>
                    <a:ahLst/>
                    <a:rect l="textAreaLeft" t="textAreaTop" r="textAreaRight" b="textAreaBottom"/>
                    <a:pathLst>
                      <a:path w="1514006" h="164892">
                        <a:moveTo>
                          <a:pt x="0" y="0"/>
                        </a:moveTo>
                        <a:lnTo>
                          <a:pt x="314793" y="134911"/>
                        </a:lnTo>
                        <a:lnTo>
                          <a:pt x="1514006" y="16489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86693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508" name=""/>
                  <p:cNvGrpSpPr/>
                  <p:nvPr/>
                </p:nvGrpSpPr>
                <p:grpSpPr>
                  <a:xfrm>
                    <a:off x="12936240" y="2462400"/>
                    <a:ext cx="1653120" cy="847080"/>
                    <a:chOff x="12936240" y="2462400"/>
                    <a:chExt cx="1653120" cy="847080"/>
                  </a:xfrm>
                </p:grpSpPr>
                <p:sp>
                  <p:nvSpPr>
                    <p:cNvPr id="509" name="任意多边形 267"/>
                    <p:cNvSpPr/>
                    <p:nvPr/>
                  </p:nvSpPr>
                  <p:spPr>
                    <a:xfrm>
                      <a:off x="12936240" y="2933640"/>
                      <a:ext cx="1513800" cy="163440"/>
                    </a:xfrm>
                    <a:custGeom>
                      <a:avLst/>
                      <a:gdLst>
                        <a:gd name="textAreaLeft" fmla="*/ 0 w 1513800"/>
                        <a:gd name="textAreaRight" fmla="*/ 1514160 w 1513800"/>
                        <a:gd name="textAreaTop" fmla="*/ 0 h 163440"/>
                        <a:gd name="textAreaBottom" fmla="*/ 163800 h 163440"/>
                      </a:gdLst>
                      <a:ahLst/>
                      <a:rect l="textAreaLeft" t="textAreaTop" r="textAreaRight" b="textAreaBottom"/>
                      <a:pathLst>
                        <a:path w="1514006" h="164892">
                          <a:moveTo>
                            <a:pt x="0" y="0"/>
                          </a:moveTo>
                          <a:lnTo>
                            <a:pt x="314793" y="134911"/>
                          </a:lnTo>
                          <a:lnTo>
                            <a:pt x="1514006" y="164892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86693e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0" name="任意多边形 268"/>
                    <p:cNvSpPr/>
                    <p:nvPr/>
                  </p:nvSpPr>
                  <p:spPr>
                    <a:xfrm rot="20495400">
                      <a:off x="13088520" y="2910960"/>
                      <a:ext cx="1513800" cy="163440"/>
                    </a:xfrm>
                    <a:custGeom>
                      <a:avLst/>
                      <a:gdLst>
                        <a:gd name="textAreaLeft" fmla="*/ 0 w 1513800"/>
                        <a:gd name="textAreaRight" fmla="*/ 1514160 w 1513800"/>
                        <a:gd name="textAreaTop" fmla="*/ 0 h 163440"/>
                        <a:gd name="textAreaBottom" fmla="*/ 163800 h 163440"/>
                      </a:gdLst>
                      <a:ahLst/>
                      <a:rect l="textAreaLeft" t="textAreaTop" r="textAreaRight" b="textAreaBottom"/>
                      <a:pathLst>
                        <a:path w="1514006" h="164892">
                          <a:moveTo>
                            <a:pt x="0" y="0"/>
                          </a:moveTo>
                          <a:lnTo>
                            <a:pt x="314793" y="134911"/>
                          </a:lnTo>
                          <a:lnTo>
                            <a:pt x="1514006" y="164892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86693e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1" name="任意多边形 269"/>
                    <p:cNvSpPr/>
                    <p:nvPr/>
                  </p:nvSpPr>
                  <p:spPr>
                    <a:xfrm rot="20495400">
                      <a:off x="13132800" y="2656800"/>
                      <a:ext cx="1285920" cy="326880"/>
                    </a:xfrm>
                    <a:custGeom>
                      <a:avLst/>
                      <a:gdLst>
                        <a:gd name="textAreaLeft" fmla="*/ 0 w 1285920"/>
                        <a:gd name="textAreaRight" fmla="*/ 1286280 w 1285920"/>
                        <a:gd name="textAreaTop" fmla="*/ 0 h 326880"/>
                        <a:gd name="textAreaBottom" fmla="*/ 327240 h 326880"/>
                      </a:gdLst>
                      <a:ahLst/>
                      <a:rect l="textAreaLeft" t="textAreaTop" r="textAreaRight" b="textAreaBottom"/>
                      <a:pathLst>
                        <a:path w="1514006" h="164892">
                          <a:moveTo>
                            <a:pt x="0" y="0"/>
                          </a:moveTo>
                          <a:lnTo>
                            <a:pt x="314793" y="134911"/>
                          </a:lnTo>
                          <a:lnTo>
                            <a:pt x="1514006" y="164892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86693e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2" name="任意多边形 270"/>
                    <p:cNvSpPr/>
                    <p:nvPr/>
                  </p:nvSpPr>
                  <p:spPr>
                    <a:xfrm rot="21409200">
                      <a:off x="12973320" y="2642040"/>
                      <a:ext cx="1285920" cy="165960"/>
                    </a:xfrm>
                    <a:custGeom>
                      <a:avLst/>
                      <a:gdLst>
                        <a:gd name="textAreaLeft" fmla="*/ 0 w 1285920"/>
                        <a:gd name="textAreaRight" fmla="*/ 1286280 w 1285920"/>
                        <a:gd name="textAreaTop" fmla="*/ 0 h 165960"/>
                        <a:gd name="textAreaBottom" fmla="*/ 166320 h 165960"/>
                      </a:gdLst>
                      <a:ahLst/>
                      <a:rect l="textAreaLeft" t="textAreaTop" r="textAreaRight" b="textAreaBottom"/>
                      <a:pathLst>
                        <a:path w="1514006" h="164892">
                          <a:moveTo>
                            <a:pt x="0" y="0"/>
                          </a:moveTo>
                          <a:lnTo>
                            <a:pt x="314793" y="134911"/>
                          </a:lnTo>
                          <a:lnTo>
                            <a:pt x="1514006" y="164892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86693e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513" name=""/>
                <p:cNvGrpSpPr/>
                <p:nvPr/>
              </p:nvGrpSpPr>
              <p:grpSpPr>
                <a:xfrm>
                  <a:off x="12709440" y="2312640"/>
                  <a:ext cx="1506960" cy="979560"/>
                  <a:chOff x="12709440" y="2312640"/>
                  <a:chExt cx="1506960" cy="979560"/>
                </a:xfrm>
              </p:grpSpPr>
              <p:sp>
                <p:nvSpPr>
                  <p:cNvPr id="514" name="任意多边形 259"/>
                  <p:cNvSpPr/>
                  <p:nvPr/>
                </p:nvSpPr>
                <p:spPr>
                  <a:xfrm rot="8161800">
                    <a:off x="12987000" y="2689200"/>
                    <a:ext cx="1176840" cy="225720"/>
                  </a:xfrm>
                  <a:custGeom>
                    <a:avLst/>
                    <a:gdLst>
                      <a:gd name="textAreaLeft" fmla="*/ 0 w 1176840"/>
                      <a:gd name="textAreaRight" fmla="*/ 1177200 w 1176840"/>
                      <a:gd name="textAreaTop" fmla="*/ 0 h 225720"/>
                      <a:gd name="textAreaBottom" fmla="*/ 226080 h 225720"/>
                    </a:gdLst>
                    <a:ahLst/>
                    <a:rect l="textAreaLeft" t="textAreaTop" r="textAreaRight" b="textAreaBottom"/>
                    <a:pathLst>
                      <a:path w="1514006" h="164892">
                        <a:moveTo>
                          <a:pt x="0" y="0"/>
                        </a:moveTo>
                        <a:lnTo>
                          <a:pt x="314793" y="134911"/>
                        </a:lnTo>
                        <a:lnTo>
                          <a:pt x="1514006" y="16489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735a3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515" name=""/>
                  <p:cNvGrpSpPr/>
                  <p:nvPr/>
                </p:nvGrpSpPr>
                <p:grpSpPr>
                  <a:xfrm>
                    <a:off x="12709440" y="2476440"/>
                    <a:ext cx="1506960" cy="684360"/>
                    <a:chOff x="12709440" y="2476440"/>
                    <a:chExt cx="1506960" cy="684360"/>
                  </a:xfrm>
                </p:grpSpPr>
                <p:sp>
                  <p:nvSpPr>
                    <p:cNvPr id="516" name="任意多边形 261"/>
                    <p:cNvSpPr/>
                    <p:nvPr/>
                  </p:nvSpPr>
                  <p:spPr>
                    <a:xfrm>
                      <a:off x="12709440" y="2847960"/>
                      <a:ext cx="1385280" cy="112680"/>
                    </a:xfrm>
                    <a:custGeom>
                      <a:avLst/>
                      <a:gdLst>
                        <a:gd name="textAreaLeft" fmla="*/ 0 w 1385280"/>
                        <a:gd name="textAreaRight" fmla="*/ 1385640 w 1385280"/>
                        <a:gd name="textAreaTop" fmla="*/ 0 h 112680"/>
                        <a:gd name="textAreaBottom" fmla="*/ 113040 h 112680"/>
                      </a:gdLst>
                      <a:ahLst/>
                      <a:rect l="textAreaLeft" t="textAreaTop" r="textAreaRight" b="textAreaBottom"/>
                      <a:pathLst>
                        <a:path w="1514006" h="164892">
                          <a:moveTo>
                            <a:pt x="0" y="0"/>
                          </a:moveTo>
                          <a:lnTo>
                            <a:pt x="314793" y="134911"/>
                          </a:lnTo>
                          <a:lnTo>
                            <a:pt x="1514006" y="164892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735a3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7" name="任意多边形 262"/>
                    <p:cNvSpPr/>
                    <p:nvPr/>
                  </p:nvSpPr>
                  <p:spPr>
                    <a:xfrm rot="20495400">
                      <a:off x="12848400" y="2832120"/>
                      <a:ext cx="1385280" cy="112680"/>
                    </a:xfrm>
                    <a:custGeom>
                      <a:avLst/>
                      <a:gdLst>
                        <a:gd name="textAreaLeft" fmla="*/ 0 w 1385280"/>
                        <a:gd name="textAreaRight" fmla="*/ 1385640 w 1385280"/>
                        <a:gd name="textAreaTop" fmla="*/ 0 h 112680"/>
                        <a:gd name="textAreaBottom" fmla="*/ 113040 h 112680"/>
                      </a:gdLst>
                      <a:ahLst/>
                      <a:rect l="textAreaLeft" t="textAreaTop" r="textAreaRight" b="textAreaBottom"/>
                      <a:pathLst>
                        <a:path w="1514006" h="164892">
                          <a:moveTo>
                            <a:pt x="0" y="0"/>
                          </a:moveTo>
                          <a:lnTo>
                            <a:pt x="314793" y="134911"/>
                          </a:lnTo>
                          <a:lnTo>
                            <a:pt x="1514006" y="164892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735a3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8" name="任意多边形 263"/>
                    <p:cNvSpPr/>
                    <p:nvPr/>
                  </p:nvSpPr>
                  <p:spPr>
                    <a:xfrm rot="20495400">
                      <a:off x="12889440" y="2656080"/>
                      <a:ext cx="1176840" cy="225720"/>
                    </a:xfrm>
                    <a:custGeom>
                      <a:avLst/>
                      <a:gdLst>
                        <a:gd name="textAreaLeft" fmla="*/ 0 w 1176840"/>
                        <a:gd name="textAreaRight" fmla="*/ 1177200 w 1176840"/>
                        <a:gd name="textAreaTop" fmla="*/ 0 h 225720"/>
                        <a:gd name="textAreaBottom" fmla="*/ 226080 h 225720"/>
                      </a:gdLst>
                      <a:ahLst/>
                      <a:rect l="textAreaLeft" t="textAreaTop" r="textAreaRight" b="textAreaBottom"/>
                      <a:pathLst>
                        <a:path w="1514006" h="164892">
                          <a:moveTo>
                            <a:pt x="0" y="0"/>
                          </a:moveTo>
                          <a:lnTo>
                            <a:pt x="314793" y="134911"/>
                          </a:lnTo>
                          <a:lnTo>
                            <a:pt x="1514006" y="164892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735a3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9" name="任意多边形 264"/>
                    <p:cNvSpPr/>
                    <p:nvPr/>
                  </p:nvSpPr>
                  <p:spPr>
                    <a:xfrm rot="21409200">
                      <a:off x="12743640" y="2646360"/>
                      <a:ext cx="1176840" cy="114480"/>
                    </a:xfrm>
                    <a:custGeom>
                      <a:avLst/>
                      <a:gdLst>
                        <a:gd name="textAreaLeft" fmla="*/ 0 w 1176840"/>
                        <a:gd name="textAreaRight" fmla="*/ 1177200 w 1176840"/>
                        <a:gd name="textAreaTop" fmla="*/ 0 h 114480"/>
                        <a:gd name="textAreaBottom" fmla="*/ 114840 h 114480"/>
                      </a:gdLst>
                      <a:ahLst/>
                      <a:rect l="textAreaLeft" t="textAreaTop" r="textAreaRight" b="textAreaBottom"/>
                      <a:pathLst>
                        <a:path w="1514006" h="164892">
                          <a:moveTo>
                            <a:pt x="0" y="0"/>
                          </a:moveTo>
                          <a:lnTo>
                            <a:pt x="314793" y="134911"/>
                          </a:lnTo>
                          <a:lnTo>
                            <a:pt x="1514006" y="164892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735a3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520" name=""/>
                <p:cNvGrpSpPr/>
                <p:nvPr/>
              </p:nvGrpSpPr>
              <p:grpSpPr>
                <a:xfrm>
                  <a:off x="12853080" y="2302200"/>
                  <a:ext cx="1644840" cy="1052640"/>
                  <a:chOff x="12853080" y="2302200"/>
                  <a:chExt cx="1644840" cy="1052640"/>
                </a:xfrm>
              </p:grpSpPr>
              <p:sp>
                <p:nvSpPr>
                  <p:cNvPr id="521" name="任意多边形 253"/>
                  <p:cNvSpPr/>
                  <p:nvPr/>
                </p:nvSpPr>
                <p:spPr>
                  <a:xfrm rot="8161800">
                    <a:off x="13156920" y="2717280"/>
                    <a:ext cx="1285920" cy="222120"/>
                  </a:xfrm>
                  <a:custGeom>
                    <a:avLst/>
                    <a:gdLst>
                      <a:gd name="textAreaLeft" fmla="*/ 0 w 1285920"/>
                      <a:gd name="textAreaRight" fmla="*/ 1286280 w 1285920"/>
                      <a:gd name="textAreaTop" fmla="*/ 0 h 222120"/>
                      <a:gd name="textAreaBottom" fmla="*/ 222480 h 222120"/>
                    </a:gdLst>
                    <a:ahLst/>
                    <a:rect l="textAreaLeft" t="textAreaTop" r="textAreaRight" b="textAreaBottom"/>
                    <a:pathLst>
                      <a:path w="1514006" h="164892">
                        <a:moveTo>
                          <a:pt x="0" y="0"/>
                        </a:moveTo>
                        <a:lnTo>
                          <a:pt x="314793" y="134911"/>
                        </a:lnTo>
                        <a:lnTo>
                          <a:pt x="1514006" y="16489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5c410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522" name=""/>
                  <p:cNvGrpSpPr/>
                  <p:nvPr/>
                </p:nvGrpSpPr>
                <p:grpSpPr>
                  <a:xfrm>
                    <a:off x="12853080" y="2487960"/>
                    <a:ext cx="1644840" cy="716760"/>
                    <a:chOff x="12853080" y="2487960"/>
                    <a:chExt cx="1644840" cy="716760"/>
                  </a:xfrm>
                </p:grpSpPr>
                <p:sp>
                  <p:nvSpPr>
                    <p:cNvPr id="523" name="任意多边形 255"/>
                    <p:cNvSpPr/>
                    <p:nvPr/>
                  </p:nvSpPr>
                  <p:spPr>
                    <a:xfrm>
                      <a:off x="12853080" y="2873160"/>
                      <a:ext cx="1513800" cy="110880"/>
                    </a:xfrm>
                    <a:custGeom>
                      <a:avLst/>
                      <a:gdLst>
                        <a:gd name="textAreaLeft" fmla="*/ 0 w 1513800"/>
                        <a:gd name="textAreaRight" fmla="*/ 1514160 w 1513800"/>
                        <a:gd name="textAreaTop" fmla="*/ 0 h 110880"/>
                        <a:gd name="textAreaBottom" fmla="*/ 111240 h 110880"/>
                      </a:gdLst>
                      <a:ahLst/>
                      <a:rect l="textAreaLeft" t="textAreaTop" r="textAreaRight" b="textAreaBottom"/>
                      <a:pathLst>
                        <a:path w="1514006" h="164892">
                          <a:moveTo>
                            <a:pt x="0" y="0"/>
                          </a:moveTo>
                          <a:lnTo>
                            <a:pt x="314793" y="134911"/>
                          </a:lnTo>
                          <a:lnTo>
                            <a:pt x="1514006" y="164892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5c410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4" name="任意多边形 256"/>
                    <p:cNvSpPr/>
                    <p:nvPr/>
                  </p:nvSpPr>
                  <p:spPr>
                    <a:xfrm rot="20495400">
                      <a:off x="13005360" y="2857680"/>
                      <a:ext cx="1513800" cy="110880"/>
                    </a:xfrm>
                    <a:custGeom>
                      <a:avLst/>
                      <a:gdLst>
                        <a:gd name="textAreaLeft" fmla="*/ 0 w 1513800"/>
                        <a:gd name="textAreaRight" fmla="*/ 1514160 w 1513800"/>
                        <a:gd name="textAreaTop" fmla="*/ 0 h 110880"/>
                        <a:gd name="textAreaBottom" fmla="*/ 111240 h 110880"/>
                      </a:gdLst>
                      <a:ahLst/>
                      <a:rect l="textAreaLeft" t="textAreaTop" r="textAreaRight" b="textAreaBottom"/>
                      <a:pathLst>
                        <a:path w="1514006" h="164892">
                          <a:moveTo>
                            <a:pt x="0" y="0"/>
                          </a:moveTo>
                          <a:lnTo>
                            <a:pt x="314793" y="134911"/>
                          </a:lnTo>
                          <a:lnTo>
                            <a:pt x="1514006" y="164892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5c410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5" name="任意多边形 257"/>
                    <p:cNvSpPr/>
                    <p:nvPr/>
                  </p:nvSpPr>
                  <p:spPr>
                    <a:xfrm rot="20495400">
                      <a:off x="13050000" y="2685240"/>
                      <a:ext cx="1285920" cy="222120"/>
                    </a:xfrm>
                    <a:custGeom>
                      <a:avLst/>
                      <a:gdLst>
                        <a:gd name="textAreaLeft" fmla="*/ 0 w 1285920"/>
                        <a:gd name="textAreaRight" fmla="*/ 1286280 w 1285920"/>
                        <a:gd name="textAreaTop" fmla="*/ 0 h 222120"/>
                        <a:gd name="textAreaBottom" fmla="*/ 222480 h 222120"/>
                      </a:gdLst>
                      <a:ahLst/>
                      <a:rect l="textAreaLeft" t="textAreaTop" r="textAreaRight" b="textAreaBottom"/>
                      <a:pathLst>
                        <a:path w="1514006" h="164892">
                          <a:moveTo>
                            <a:pt x="0" y="0"/>
                          </a:moveTo>
                          <a:lnTo>
                            <a:pt x="314793" y="134911"/>
                          </a:lnTo>
                          <a:lnTo>
                            <a:pt x="1514006" y="164892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5c410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6" name="任意多边形 258"/>
                    <p:cNvSpPr/>
                    <p:nvPr/>
                  </p:nvSpPr>
                  <p:spPr>
                    <a:xfrm rot="21409200">
                      <a:off x="12889800" y="2674800"/>
                      <a:ext cx="1285920" cy="112680"/>
                    </a:xfrm>
                    <a:custGeom>
                      <a:avLst/>
                      <a:gdLst>
                        <a:gd name="textAreaLeft" fmla="*/ 0 w 1285920"/>
                        <a:gd name="textAreaRight" fmla="*/ 1286280 w 1285920"/>
                        <a:gd name="textAreaTop" fmla="*/ 0 h 112680"/>
                        <a:gd name="textAreaBottom" fmla="*/ 113040 h 112680"/>
                      </a:gdLst>
                      <a:ahLst/>
                      <a:rect l="textAreaLeft" t="textAreaTop" r="textAreaRight" b="textAreaBottom"/>
                      <a:pathLst>
                        <a:path w="1514006" h="164892">
                          <a:moveTo>
                            <a:pt x="0" y="0"/>
                          </a:moveTo>
                          <a:lnTo>
                            <a:pt x="314793" y="134911"/>
                          </a:lnTo>
                          <a:lnTo>
                            <a:pt x="1514006" y="164892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5c410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527" name=""/>
              <p:cNvGrpSpPr/>
              <p:nvPr/>
            </p:nvGrpSpPr>
            <p:grpSpPr>
              <a:xfrm>
                <a:off x="12772800" y="2307600"/>
                <a:ext cx="1879920" cy="1130400"/>
                <a:chOff x="12772800" y="2307600"/>
                <a:chExt cx="1879920" cy="1130400"/>
              </a:xfrm>
            </p:grpSpPr>
            <p:sp>
              <p:nvSpPr>
                <p:cNvPr id="528" name="任意多边形 227"/>
                <p:cNvSpPr/>
                <p:nvPr/>
              </p:nvSpPr>
              <p:spPr>
                <a:xfrm flipH="1">
                  <a:off x="13069080" y="2613600"/>
                  <a:ext cx="1153800" cy="460440"/>
                </a:xfrm>
                <a:custGeom>
                  <a:avLst/>
                  <a:gdLst>
                    <a:gd name="textAreaLeft" fmla="*/ -360 w 1153800"/>
                    <a:gd name="textAreaRight" fmla="*/ 1153800 w 1153800"/>
                    <a:gd name="textAreaTop" fmla="*/ 0 h 460440"/>
                    <a:gd name="textAreaBottom" fmla="*/ 460800 h 460440"/>
                  </a:gdLst>
                  <a:ahLst/>
                  <a:rect l="textAreaLeft" t="textAreaTop" r="textAreaRight" b="textAreaBottom"/>
                  <a:pathLst>
                    <a:path w="1154243" h="464695">
                      <a:moveTo>
                        <a:pt x="0" y="209862"/>
                      </a:moveTo>
                      <a:lnTo>
                        <a:pt x="404735" y="464695"/>
                      </a:lnTo>
                      <a:lnTo>
                        <a:pt x="989351" y="434714"/>
                      </a:lnTo>
                      <a:lnTo>
                        <a:pt x="1154243" y="0"/>
                      </a:lnTo>
                      <a:lnTo>
                        <a:pt x="719528" y="44970"/>
                      </a:lnTo>
                      <a:lnTo>
                        <a:pt x="89941" y="164891"/>
                      </a:lnTo>
                    </a:path>
                  </a:pathLst>
                </a:custGeom>
                <a:solidFill>
                  <a:srgbClr val="a581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29" name=""/>
                <p:cNvGrpSpPr/>
                <p:nvPr/>
              </p:nvGrpSpPr>
              <p:grpSpPr>
                <a:xfrm>
                  <a:off x="12772800" y="2310120"/>
                  <a:ext cx="1653120" cy="1127880"/>
                  <a:chOff x="12772800" y="2310120"/>
                  <a:chExt cx="1653120" cy="1127880"/>
                </a:xfrm>
              </p:grpSpPr>
              <p:sp>
                <p:nvSpPr>
                  <p:cNvPr id="530" name="任意多边形 243"/>
                  <p:cNvSpPr/>
                  <p:nvPr/>
                </p:nvSpPr>
                <p:spPr>
                  <a:xfrm flipH="1" rot="13438200">
                    <a:off x="12835080" y="2710440"/>
                    <a:ext cx="1285920" cy="326880"/>
                  </a:xfrm>
                  <a:custGeom>
                    <a:avLst/>
                    <a:gdLst>
                      <a:gd name="textAreaLeft" fmla="*/ 360 w 1285920"/>
                      <a:gd name="textAreaRight" fmla="*/ 1286640 w 1285920"/>
                      <a:gd name="textAreaTop" fmla="*/ 0 h 326880"/>
                      <a:gd name="textAreaBottom" fmla="*/ 327240 h 326880"/>
                    </a:gdLst>
                    <a:ahLst/>
                    <a:rect l="textAreaLeft" t="textAreaTop" r="textAreaRight" b="textAreaBottom"/>
                    <a:pathLst>
                      <a:path w="1514006" h="164892">
                        <a:moveTo>
                          <a:pt x="0" y="0"/>
                        </a:moveTo>
                        <a:lnTo>
                          <a:pt x="314793" y="134911"/>
                        </a:lnTo>
                        <a:lnTo>
                          <a:pt x="1514006" y="16489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86693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531" name=""/>
                  <p:cNvGrpSpPr/>
                  <p:nvPr/>
                </p:nvGrpSpPr>
                <p:grpSpPr>
                  <a:xfrm>
                    <a:off x="12772800" y="2467800"/>
                    <a:ext cx="1653120" cy="847080"/>
                    <a:chOff x="12772800" y="2467800"/>
                    <a:chExt cx="1653120" cy="847080"/>
                  </a:xfrm>
                </p:grpSpPr>
                <p:sp>
                  <p:nvSpPr>
                    <p:cNvPr id="532" name="任意多边形 245"/>
                    <p:cNvSpPr/>
                    <p:nvPr/>
                  </p:nvSpPr>
                  <p:spPr>
                    <a:xfrm flipH="1">
                      <a:off x="12911760" y="2939040"/>
                      <a:ext cx="1513800" cy="163440"/>
                    </a:xfrm>
                    <a:custGeom>
                      <a:avLst/>
                      <a:gdLst>
                        <a:gd name="textAreaLeft" fmla="*/ -360 w 1513800"/>
                        <a:gd name="textAreaRight" fmla="*/ 1513800 w 1513800"/>
                        <a:gd name="textAreaTop" fmla="*/ 0 h 163440"/>
                        <a:gd name="textAreaBottom" fmla="*/ 163800 h 163440"/>
                      </a:gdLst>
                      <a:ahLst/>
                      <a:rect l="textAreaLeft" t="textAreaTop" r="textAreaRight" b="textAreaBottom"/>
                      <a:pathLst>
                        <a:path w="1514006" h="164892">
                          <a:moveTo>
                            <a:pt x="0" y="0"/>
                          </a:moveTo>
                          <a:lnTo>
                            <a:pt x="314793" y="134911"/>
                          </a:lnTo>
                          <a:lnTo>
                            <a:pt x="1514006" y="164892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86693e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3" name="任意多边形 246"/>
                    <p:cNvSpPr/>
                    <p:nvPr/>
                  </p:nvSpPr>
                  <p:spPr>
                    <a:xfrm flipH="1" rot="1104600">
                      <a:off x="12759480" y="2916360"/>
                      <a:ext cx="1513800" cy="163440"/>
                    </a:xfrm>
                    <a:custGeom>
                      <a:avLst/>
                      <a:gdLst>
                        <a:gd name="textAreaLeft" fmla="*/ -360 w 1513800"/>
                        <a:gd name="textAreaRight" fmla="*/ 1513800 w 1513800"/>
                        <a:gd name="textAreaTop" fmla="*/ 0 h 163440"/>
                        <a:gd name="textAreaBottom" fmla="*/ 163800 h 163440"/>
                      </a:gdLst>
                      <a:ahLst/>
                      <a:rect l="textAreaLeft" t="textAreaTop" r="textAreaRight" b="textAreaBottom"/>
                      <a:pathLst>
                        <a:path w="1514006" h="164892">
                          <a:moveTo>
                            <a:pt x="0" y="0"/>
                          </a:moveTo>
                          <a:lnTo>
                            <a:pt x="314793" y="134911"/>
                          </a:lnTo>
                          <a:lnTo>
                            <a:pt x="1514006" y="164892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86693e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4" name="任意多边形 247"/>
                    <p:cNvSpPr/>
                    <p:nvPr/>
                  </p:nvSpPr>
                  <p:spPr>
                    <a:xfrm flipH="1" rot="1104600">
                      <a:off x="12942720" y="2662200"/>
                      <a:ext cx="1285920" cy="326880"/>
                    </a:xfrm>
                    <a:custGeom>
                      <a:avLst/>
                      <a:gdLst>
                        <a:gd name="textAreaLeft" fmla="*/ 360 w 1285920"/>
                        <a:gd name="textAreaRight" fmla="*/ 1286640 w 1285920"/>
                        <a:gd name="textAreaTop" fmla="*/ 0 h 326880"/>
                        <a:gd name="textAreaBottom" fmla="*/ 327240 h 326880"/>
                      </a:gdLst>
                      <a:ahLst/>
                      <a:rect l="textAreaLeft" t="textAreaTop" r="textAreaRight" b="textAreaBottom"/>
                      <a:pathLst>
                        <a:path w="1514006" h="164892">
                          <a:moveTo>
                            <a:pt x="0" y="0"/>
                          </a:moveTo>
                          <a:lnTo>
                            <a:pt x="314793" y="134911"/>
                          </a:lnTo>
                          <a:lnTo>
                            <a:pt x="1514006" y="164892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86693e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5" name="任意多边形 248"/>
                    <p:cNvSpPr/>
                    <p:nvPr/>
                  </p:nvSpPr>
                  <p:spPr>
                    <a:xfrm flipH="1" rot="190800">
                      <a:off x="13102920" y="2647440"/>
                      <a:ext cx="1285560" cy="165960"/>
                    </a:xfrm>
                    <a:custGeom>
                      <a:avLst/>
                      <a:gdLst>
                        <a:gd name="textAreaLeft" fmla="*/ -360 w 1285560"/>
                        <a:gd name="textAreaRight" fmla="*/ 1285560 w 1285560"/>
                        <a:gd name="textAreaTop" fmla="*/ 0 h 165960"/>
                        <a:gd name="textAreaBottom" fmla="*/ 166320 h 165960"/>
                      </a:gdLst>
                      <a:ahLst/>
                      <a:rect l="textAreaLeft" t="textAreaTop" r="textAreaRight" b="textAreaBottom"/>
                      <a:pathLst>
                        <a:path w="1514006" h="164892">
                          <a:moveTo>
                            <a:pt x="0" y="0"/>
                          </a:moveTo>
                          <a:lnTo>
                            <a:pt x="314793" y="134911"/>
                          </a:lnTo>
                          <a:lnTo>
                            <a:pt x="1514006" y="164892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86693e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536" name=""/>
                <p:cNvGrpSpPr/>
                <p:nvPr/>
              </p:nvGrpSpPr>
              <p:grpSpPr>
                <a:xfrm>
                  <a:off x="13145760" y="2318040"/>
                  <a:ext cx="1506960" cy="979560"/>
                  <a:chOff x="13145760" y="2318040"/>
                  <a:chExt cx="1506960" cy="979560"/>
                </a:xfrm>
              </p:grpSpPr>
              <p:sp>
                <p:nvSpPr>
                  <p:cNvPr id="537" name="任意多边形 237"/>
                  <p:cNvSpPr/>
                  <p:nvPr/>
                </p:nvSpPr>
                <p:spPr>
                  <a:xfrm flipH="1" rot="13438200">
                    <a:off x="13197960" y="2694600"/>
                    <a:ext cx="1176840" cy="225720"/>
                  </a:xfrm>
                  <a:custGeom>
                    <a:avLst/>
                    <a:gdLst>
                      <a:gd name="textAreaLeft" fmla="*/ -360 w 1176840"/>
                      <a:gd name="textAreaRight" fmla="*/ 1176840 w 1176840"/>
                      <a:gd name="textAreaTop" fmla="*/ 0 h 225720"/>
                      <a:gd name="textAreaBottom" fmla="*/ 226080 h 225720"/>
                    </a:gdLst>
                    <a:ahLst/>
                    <a:rect l="textAreaLeft" t="textAreaTop" r="textAreaRight" b="textAreaBottom"/>
                    <a:pathLst>
                      <a:path w="1514006" h="164892">
                        <a:moveTo>
                          <a:pt x="0" y="0"/>
                        </a:moveTo>
                        <a:lnTo>
                          <a:pt x="314793" y="134911"/>
                        </a:lnTo>
                        <a:lnTo>
                          <a:pt x="1514006" y="16489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735a3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538" name=""/>
                  <p:cNvGrpSpPr/>
                  <p:nvPr/>
                </p:nvGrpSpPr>
                <p:grpSpPr>
                  <a:xfrm>
                    <a:off x="13145760" y="2481840"/>
                    <a:ext cx="1506960" cy="684360"/>
                    <a:chOff x="13145760" y="2481840"/>
                    <a:chExt cx="1506960" cy="684360"/>
                  </a:xfrm>
                </p:grpSpPr>
                <p:sp>
                  <p:nvSpPr>
                    <p:cNvPr id="539" name="任意多边形 239"/>
                    <p:cNvSpPr/>
                    <p:nvPr/>
                  </p:nvSpPr>
                  <p:spPr>
                    <a:xfrm flipH="1">
                      <a:off x="13267440" y="2853360"/>
                      <a:ext cx="1385280" cy="112680"/>
                    </a:xfrm>
                    <a:custGeom>
                      <a:avLst/>
                      <a:gdLst>
                        <a:gd name="textAreaLeft" fmla="*/ 360 w 1385280"/>
                        <a:gd name="textAreaRight" fmla="*/ 1386000 w 1385280"/>
                        <a:gd name="textAreaTop" fmla="*/ 0 h 112680"/>
                        <a:gd name="textAreaBottom" fmla="*/ 113040 h 112680"/>
                      </a:gdLst>
                      <a:ahLst/>
                      <a:rect l="textAreaLeft" t="textAreaTop" r="textAreaRight" b="textAreaBottom"/>
                      <a:pathLst>
                        <a:path w="1514006" h="164892">
                          <a:moveTo>
                            <a:pt x="0" y="0"/>
                          </a:moveTo>
                          <a:lnTo>
                            <a:pt x="314793" y="134911"/>
                          </a:lnTo>
                          <a:lnTo>
                            <a:pt x="1514006" y="164892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735a3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0" name="任意多边形 240"/>
                    <p:cNvSpPr/>
                    <p:nvPr/>
                  </p:nvSpPr>
                  <p:spPr>
                    <a:xfrm flipH="1" rot="1104600">
                      <a:off x="13127760" y="2837520"/>
                      <a:ext cx="1385280" cy="112680"/>
                    </a:xfrm>
                    <a:custGeom>
                      <a:avLst/>
                      <a:gdLst>
                        <a:gd name="textAreaLeft" fmla="*/ 360 w 1385280"/>
                        <a:gd name="textAreaRight" fmla="*/ 1386000 w 1385280"/>
                        <a:gd name="textAreaTop" fmla="*/ 0 h 112680"/>
                        <a:gd name="textAreaBottom" fmla="*/ 113040 h 112680"/>
                      </a:gdLst>
                      <a:ahLst/>
                      <a:rect l="textAreaLeft" t="textAreaTop" r="textAreaRight" b="textAreaBottom"/>
                      <a:pathLst>
                        <a:path w="1514006" h="164892">
                          <a:moveTo>
                            <a:pt x="0" y="0"/>
                          </a:moveTo>
                          <a:lnTo>
                            <a:pt x="314793" y="134911"/>
                          </a:lnTo>
                          <a:lnTo>
                            <a:pt x="1514006" y="164892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735a3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1" name="任意多边形 241"/>
                    <p:cNvSpPr/>
                    <p:nvPr/>
                  </p:nvSpPr>
                  <p:spPr>
                    <a:xfrm flipH="1" rot="1104600">
                      <a:off x="13295520" y="2661840"/>
                      <a:ext cx="1176840" cy="225720"/>
                    </a:xfrm>
                    <a:custGeom>
                      <a:avLst/>
                      <a:gdLst>
                        <a:gd name="textAreaLeft" fmla="*/ -360 w 1176840"/>
                        <a:gd name="textAreaRight" fmla="*/ 1176840 w 1176840"/>
                        <a:gd name="textAreaTop" fmla="*/ 0 h 225720"/>
                        <a:gd name="textAreaBottom" fmla="*/ 226080 h 225720"/>
                      </a:gdLst>
                      <a:ahLst/>
                      <a:rect l="textAreaLeft" t="textAreaTop" r="textAreaRight" b="textAreaBottom"/>
                      <a:pathLst>
                        <a:path w="1514006" h="164892">
                          <a:moveTo>
                            <a:pt x="0" y="0"/>
                          </a:moveTo>
                          <a:lnTo>
                            <a:pt x="314793" y="134911"/>
                          </a:lnTo>
                          <a:lnTo>
                            <a:pt x="1514006" y="164892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735a3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2" name="任意多边形 242"/>
                    <p:cNvSpPr/>
                    <p:nvPr/>
                  </p:nvSpPr>
                  <p:spPr>
                    <a:xfrm flipH="1" rot="190800">
                      <a:off x="13441320" y="2651760"/>
                      <a:ext cx="1176840" cy="114480"/>
                    </a:xfrm>
                    <a:custGeom>
                      <a:avLst/>
                      <a:gdLst>
                        <a:gd name="textAreaLeft" fmla="*/ -360 w 1176840"/>
                        <a:gd name="textAreaRight" fmla="*/ 1176840 w 1176840"/>
                        <a:gd name="textAreaTop" fmla="*/ 0 h 114480"/>
                        <a:gd name="textAreaBottom" fmla="*/ 114840 h 114480"/>
                      </a:gdLst>
                      <a:ahLst/>
                      <a:rect l="textAreaLeft" t="textAreaTop" r="textAreaRight" b="textAreaBottom"/>
                      <a:pathLst>
                        <a:path w="1514006" h="164892">
                          <a:moveTo>
                            <a:pt x="0" y="0"/>
                          </a:moveTo>
                          <a:lnTo>
                            <a:pt x="314793" y="134911"/>
                          </a:lnTo>
                          <a:lnTo>
                            <a:pt x="1514006" y="164892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735a3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543" name=""/>
                <p:cNvGrpSpPr/>
                <p:nvPr/>
              </p:nvGrpSpPr>
              <p:grpSpPr>
                <a:xfrm>
                  <a:off x="12864240" y="2307600"/>
                  <a:ext cx="1644840" cy="1052640"/>
                  <a:chOff x="12864240" y="2307600"/>
                  <a:chExt cx="1644840" cy="1052640"/>
                </a:xfrm>
              </p:grpSpPr>
              <p:sp>
                <p:nvSpPr>
                  <p:cNvPr id="544" name="任意多边形 231"/>
                  <p:cNvSpPr/>
                  <p:nvPr/>
                </p:nvSpPr>
                <p:spPr>
                  <a:xfrm flipH="1" rot="13438200">
                    <a:off x="12918600" y="2722680"/>
                    <a:ext cx="1285920" cy="222120"/>
                  </a:xfrm>
                  <a:custGeom>
                    <a:avLst/>
                    <a:gdLst>
                      <a:gd name="textAreaLeft" fmla="*/ 360 w 1285920"/>
                      <a:gd name="textAreaRight" fmla="*/ 1286640 w 1285920"/>
                      <a:gd name="textAreaTop" fmla="*/ 0 h 222120"/>
                      <a:gd name="textAreaBottom" fmla="*/ 222480 h 222120"/>
                    </a:gdLst>
                    <a:ahLst/>
                    <a:rect l="textAreaLeft" t="textAreaTop" r="textAreaRight" b="textAreaBottom"/>
                    <a:pathLst>
                      <a:path w="1514006" h="164892">
                        <a:moveTo>
                          <a:pt x="0" y="0"/>
                        </a:moveTo>
                        <a:lnTo>
                          <a:pt x="314793" y="134911"/>
                        </a:lnTo>
                        <a:lnTo>
                          <a:pt x="1514006" y="16489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5c410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545" name=""/>
                  <p:cNvGrpSpPr/>
                  <p:nvPr/>
                </p:nvGrpSpPr>
                <p:grpSpPr>
                  <a:xfrm>
                    <a:off x="12864240" y="2493360"/>
                    <a:ext cx="1644840" cy="716760"/>
                    <a:chOff x="12864240" y="2493360"/>
                    <a:chExt cx="1644840" cy="716760"/>
                  </a:xfrm>
                </p:grpSpPr>
                <p:sp>
                  <p:nvSpPr>
                    <p:cNvPr id="546" name="任意多边形 233"/>
                    <p:cNvSpPr/>
                    <p:nvPr/>
                  </p:nvSpPr>
                  <p:spPr>
                    <a:xfrm flipH="1">
                      <a:off x="12994920" y="2878560"/>
                      <a:ext cx="1513800" cy="110880"/>
                    </a:xfrm>
                    <a:custGeom>
                      <a:avLst/>
                      <a:gdLst>
                        <a:gd name="textAreaLeft" fmla="*/ -360 w 1513800"/>
                        <a:gd name="textAreaRight" fmla="*/ 1513800 w 1513800"/>
                        <a:gd name="textAreaTop" fmla="*/ 0 h 110880"/>
                        <a:gd name="textAreaBottom" fmla="*/ 111240 h 110880"/>
                      </a:gdLst>
                      <a:ahLst/>
                      <a:rect l="textAreaLeft" t="textAreaTop" r="textAreaRight" b="textAreaBottom"/>
                      <a:pathLst>
                        <a:path w="1514006" h="164892">
                          <a:moveTo>
                            <a:pt x="0" y="0"/>
                          </a:moveTo>
                          <a:lnTo>
                            <a:pt x="314793" y="134911"/>
                          </a:lnTo>
                          <a:lnTo>
                            <a:pt x="1514006" y="164892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5c410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7" name="任意多边形 234"/>
                    <p:cNvSpPr/>
                    <p:nvPr/>
                  </p:nvSpPr>
                  <p:spPr>
                    <a:xfrm flipH="1" rot="1104600">
                      <a:off x="12842640" y="2863080"/>
                      <a:ext cx="1513800" cy="110880"/>
                    </a:xfrm>
                    <a:custGeom>
                      <a:avLst/>
                      <a:gdLst>
                        <a:gd name="textAreaLeft" fmla="*/ -360 w 1513800"/>
                        <a:gd name="textAreaRight" fmla="*/ 1513800 w 1513800"/>
                        <a:gd name="textAreaTop" fmla="*/ 0 h 110880"/>
                        <a:gd name="textAreaBottom" fmla="*/ 111240 h 110880"/>
                      </a:gdLst>
                      <a:ahLst/>
                      <a:rect l="textAreaLeft" t="textAreaTop" r="textAreaRight" b="textAreaBottom"/>
                      <a:pathLst>
                        <a:path w="1514006" h="164892">
                          <a:moveTo>
                            <a:pt x="0" y="0"/>
                          </a:moveTo>
                          <a:lnTo>
                            <a:pt x="314793" y="134911"/>
                          </a:lnTo>
                          <a:lnTo>
                            <a:pt x="1514006" y="164892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5c410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8" name="任意多边形 235"/>
                    <p:cNvSpPr/>
                    <p:nvPr/>
                  </p:nvSpPr>
                  <p:spPr>
                    <a:xfrm flipH="1" rot="1104600">
                      <a:off x="13026240" y="2690640"/>
                      <a:ext cx="1285920" cy="222120"/>
                    </a:xfrm>
                    <a:custGeom>
                      <a:avLst/>
                      <a:gdLst>
                        <a:gd name="textAreaLeft" fmla="*/ 360 w 1285920"/>
                        <a:gd name="textAreaRight" fmla="*/ 1286640 w 1285920"/>
                        <a:gd name="textAreaTop" fmla="*/ 0 h 222120"/>
                        <a:gd name="textAreaBottom" fmla="*/ 222480 h 222120"/>
                      </a:gdLst>
                      <a:ahLst/>
                      <a:rect l="textAreaLeft" t="textAreaTop" r="textAreaRight" b="textAreaBottom"/>
                      <a:pathLst>
                        <a:path w="1514006" h="164892">
                          <a:moveTo>
                            <a:pt x="0" y="0"/>
                          </a:moveTo>
                          <a:lnTo>
                            <a:pt x="314793" y="134911"/>
                          </a:lnTo>
                          <a:lnTo>
                            <a:pt x="1514006" y="164892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5c410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9" name="任意多边形 236"/>
                    <p:cNvSpPr/>
                    <p:nvPr/>
                  </p:nvSpPr>
                  <p:spPr>
                    <a:xfrm flipH="1" rot="190800">
                      <a:off x="13185720" y="2680200"/>
                      <a:ext cx="1285560" cy="112680"/>
                    </a:xfrm>
                    <a:custGeom>
                      <a:avLst/>
                      <a:gdLst>
                        <a:gd name="textAreaLeft" fmla="*/ -360 w 1285560"/>
                        <a:gd name="textAreaRight" fmla="*/ 1285560 w 1285560"/>
                        <a:gd name="textAreaTop" fmla="*/ 0 h 112680"/>
                        <a:gd name="textAreaBottom" fmla="*/ 113040 h 112680"/>
                      </a:gdLst>
                      <a:ahLst/>
                      <a:rect l="textAreaLeft" t="textAreaTop" r="textAreaRight" b="textAreaBottom"/>
                      <a:pathLst>
                        <a:path w="1514006" h="164892">
                          <a:moveTo>
                            <a:pt x="0" y="0"/>
                          </a:moveTo>
                          <a:lnTo>
                            <a:pt x="314793" y="134911"/>
                          </a:lnTo>
                          <a:lnTo>
                            <a:pt x="1514006" y="164892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5c410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  <p:grpSp>
          <p:nvGrpSpPr>
            <p:cNvPr id="550" name=""/>
            <p:cNvGrpSpPr/>
            <p:nvPr/>
          </p:nvGrpSpPr>
          <p:grpSpPr>
            <a:xfrm>
              <a:off x="13041720" y="2885760"/>
              <a:ext cx="907200" cy="398520"/>
              <a:chOff x="13041720" y="2885760"/>
              <a:chExt cx="907200" cy="398520"/>
            </a:xfrm>
          </p:grpSpPr>
          <p:sp>
            <p:nvSpPr>
              <p:cNvPr id="551" name="任意多边形 223"/>
              <p:cNvSpPr/>
              <p:nvPr/>
            </p:nvSpPr>
            <p:spPr>
              <a:xfrm rot="16722000">
                <a:off x="13360680" y="2646720"/>
                <a:ext cx="268560" cy="876600"/>
              </a:xfrm>
              <a:custGeom>
                <a:avLst/>
                <a:gdLst>
                  <a:gd name="textAreaLeft" fmla="*/ 0 w 268560"/>
                  <a:gd name="textAreaRight" fmla="*/ 268920 w 268560"/>
                  <a:gd name="textAreaTop" fmla="*/ 0 h 876600"/>
                  <a:gd name="textAreaBottom" fmla="*/ 876960 h 876600"/>
                </a:gdLst>
                <a:ahLst/>
                <a:rect l="textAreaLeft" t="textAreaTop" r="textAreaRight" b="textAreaBottom"/>
                <a:pathLst>
                  <a:path w="2065867" h="4030133">
                    <a:moveTo>
                      <a:pt x="270933" y="677333"/>
                    </a:moveTo>
                    <a:cubicBezTo>
                      <a:pt x="259644" y="733778"/>
                      <a:pt x="257278" y="792770"/>
                      <a:pt x="237067" y="846667"/>
                    </a:cubicBezTo>
                    <a:cubicBezTo>
                      <a:pt x="222775" y="884778"/>
                      <a:pt x="187536" y="911861"/>
                      <a:pt x="169333" y="948267"/>
                    </a:cubicBezTo>
                    <a:cubicBezTo>
                      <a:pt x="153368" y="980197"/>
                      <a:pt x="146756" y="1016000"/>
                      <a:pt x="135467" y="1049867"/>
                    </a:cubicBezTo>
                    <a:cubicBezTo>
                      <a:pt x="124178" y="1128889"/>
                      <a:pt x="124537" y="1210475"/>
                      <a:pt x="101600" y="1286933"/>
                    </a:cubicBezTo>
                    <a:cubicBezTo>
                      <a:pt x="89904" y="1325919"/>
                      <a:pt x="52070" y="1352127"/>
                      <a:pt x="33867" y="1388533"/>
                    </a:cubicBezTo>
                    <a:cubicBezTo>
                      <a:pt x="17902" y="1420463"/>
                      <a:pt x="11289" y="1456266"/>
                      <a:pt x="0" y="1490133"/>
                    </a:cubicBezTo>
                    <a:cubicBezTo>
                      <a:pt x="11289" y="1648178"/>
                      <a:pt x="6331" y="1808231"/>
                      <a:pt x="33867" y="1964267"/>
                    </a:cubicBezTo>
                    <a:cubicBezTo>
                      <a:pt x="40941" y="2004350"/>
                      <a:pt x="77942" y="2032746"/>
                      <a:pt x="101600" y="2065867"/>
                    </a:cubicBezTo>
                    <a:cubicBezTo>
                      <a:pt x="134408" y="2111798"/>
                      <a:pt x="167065" y="2157971"/>
                      <a:pt x="203200" y="2201333"/>
                    </a:cubicBezTo>
                    <a:cubicBezTo>
                      <a:pt x="223641" y="2225862"/>
                      <a:pt x="253221" y="2242500"/>
                      <a:pt x="270933" y="2269067"/>
                    </a:cubicBezTo>
                    <a:cubicBezTo>
                      <a:pt x="298937" y="2311073"/>
                      <a:pt x="313619" y="2360700"/>
                      <a:pt x="338667" y="2404533"/>
                    </a:cubicBezTo>
                    <a:cubicBezTo>
                      <a:pt x="443708" y="2588354"/>
                      <a:pt x="378175" y="2421458"/>
                      <a:pt x="440267" y="2607733"/>
                    </a:cubicBezTo>
                    <a:cubicBezTo>
                      <a:pt x="451556" y="2686755"/>
                      <a:pt x="448890" y="2769072"/>
                      <a:pt x="474133" y="2844800"/>
                    </a:cubicBezTo>
                    <a:cubicBezTo>
                      <a:pt x="484230" y="2875091"/>
                      <a:pt x="525439" y="2885153"/>
                      <a:pt x="541867" y="2912533"/>
                    </a:cubicBezTo>
                    <a:cubicBezTo>
                      <a:pt x="692110" y="3162937"/>
                      <a:pt x="437916" y="2858793"/>
                      <a:pt x="643467" y="3115733"/>
                    </a:cubicBezTo>
                    <a:cubicBezTo>
                      <a:pt x="663413" y="3140666"/>
                      <a:pt x="691254" y="3158534"/>
                      <a:pt x="711200" y="3183467"/>
                    </a:cubicBezTo>
                    <a:cubicBezTo>
                      <a:pt x="736627" y="3215251"/>
                      <a:pt x="752130" y="3254435"/>
                      <a:pt x="778933" y="3285067"/>
                    </a:cubicBezTo>
                    <a:cubicBezTo>
                      <a:pt x="831498" y="3345141"/>
                      <a:pt x="900372" y="3390540"/>
                      <a:pt x="948267" y="3454400"/>
                    </a:cubicBezTo>
                    <a:cubicBezTo>
                      <a:pt x="982134" y="3499556"/>
                      <a:pt x="1019951" y="3542002"/>
                      <a:pt x="1049867" y="3589867"/>
                    </a:cubicBezTo>
                    <a:cubicBezTo>
                      <a:pt x="1076624" y="3632678"/>
                      <a:pt x="1089596" y="3683327"/>
                      <a:pt x="1117600" y="3725333"/>
                    </a:cubicBezTo>
                    <a:cubicBezTo>
                      <a:pt x="1164328" y="3795425"/>
                      <a:pt x="1222230" y="3809038"/>
                      <a:pt x="1286933" y="3860800"/>
                    </a:cubicBezTo>
                    <a:cubicBezTo>
                      <a:pt x="1311866" y="3880746"/>
                      <a:pt x="1328100" y="3910821"/>
                      <a:pt x="1354667" y="3928533"/>
                    </a:cubicBezTo>
                    <a:cubicBezTo>
                      <a:pt x="1438370" y="3984335"/>
                      <a:pt x="1501418" y="4000029"/>
                      <a:pt x="1591733" y="4030133"/>
                    </a:cubicBezTo>
                    <a:cubicBezTo>
                      <a:pt x="1670755" y="4018844"/>
                      <a:pt x="1753072" y="4021510"/>
                      <a:pt x="1828800" y="3996267"/>
                    </a:cubicBezTo>
                    <a:cubicBezTo>
                      <a:pt x="1947678" y="3956641"/>
                      <a:pt x="1962781" y="3628192"/>
                      <a:pt x="1964267" y="3623733"/>
                    </a:cubicBezTo>
                    <a:cubicBezTo>
                      <a:pt x="1977138" y="3585119"/>
                      <a:pt x="2013797" y="3558539"/>
                      <a:pt x="2032000" y="3522133"/>
                    </a:cubicBezTo>
                    <a:cubicBezTo>
                      <a:pt x="2047965" y="3490203"/>
                      <a:pt x="2054578" y="3454400"/>
                      <a:pt x="2065867" y="3420533"/>
                    </a:cubicBezTo>
                    <a:cubicBezTo>
                      <a:pt x="2054578" y="3318933"/>
                      <a:pt x="2052048" y="3215973"/>
                      <a:pt x="2032000" y="3115733"/>
                    </a:cubicBezTo>
                    <a:cubicBezTo>
                      <a:pt x="2017998" y="3045722"/>
                      <a:pt x="1964267" y="2912533"/>
                      <a:pt x="1964267" y="2912533"/>
                    </a:cubicBezTo>
                    <a:cubicBezTo>
                      <a:pt x="2045473" y="2668911"/>
                      <a:pt x="1946942" y="2973167"/>
                      <a:pt x="2032000" y="2675467"/>
                    </a:cubicBezTo>
                    <a:cubicBezTo>
                      <a:pt x="2041807" y="2641142"/>
                      <a:pt x="2054578" y="2607734"/>
                      <a:pt x="2065867" y="2573867"/>
                    </a:cubicBezTo>
                    <a:cubicBezTo>
                      <a:pt x="1988036" y="2340376"/>
                      <a:pt x="2048618" y="2421153"/>
                      <a:pt x="1930400" y="2302933"/>
                    </a:cubicBezTo>
                    <a:cubicBezTo>
                      <a:pt x="1919111" y="2257778"/>
                      <a:pt x="1909320" y="2212221"/>
                      <a:pt x="1896533" y="2167467"/>
                    </a:cubicBezTo>
                    <a:cubicBezTo>
                      <a:pt x="1886726" y="2133142"/>
                      <a:pt x="1868536" y="2101080"/>
                      <a:pt x="1862667" y="2065867"/>
                    </a:cubicBezTo>
                    <a:cubicBezTo>
                      <a:pt x="1846052" y="1966175"/>
                      <a:pt x="1835554" y="1713597"/>
                      <a:pt x="1794933" y="1591733"/>
                    </a:cubicBezTo>
                    <a:cubicBezTo>
                      <a:pt x="1778968" y="1543839"/>
                      <a:pt x="1753174" y="1499558"/>
                      <a:pt x="1727200" y="1456267"/>
                    </a:cubicBezTo>
                    <a:cubicBezTo>
                      <a:pt x="1685317" y="1386462"/>
                      <a:pt x="1591733" y="1253067"/>
                      <a:pt x="1591733" y="1253067"/>
                    </a:cubicBezTo>
                    <a:cubicBezTo>
                      <a:pt x="1555962" y="1145753"/>
                      <a:pt x="1565165" y="1143657"/>
                      <a:pt x="1490133" y="1049867"/>
                    </a:cubicBezTo>
                    <a:cubicBezTo>
                      <a:pt x="1470187" y="1024934"/>
                      <a:pt x="1442346" y="1007066"/>
                      <a:pt x="1422400" y="982133"/>
                    </a:cubicBezTo>
                    <a:cubicBezTo>
                      <a:pt x="1396973" y="950349"/>
                      <a:pt x="1380094" y="912316"/>
                      <a:pt x="1354667" y="880533"/>
                    </a:cubicBezTo>
                    <a:cubicBezTo>
                      <a:pt x="1334721" y="855600"/>
                      <a:pt x="1306879" y="837733"/>
                      <a:pt x="1286933" y="812800"/>
                    </a:cubicBezTo>
                    <a:cubicBezTo>
                      <a:pt x="1261506" y="781017"/>
                      <a:pt x="1246241" y="741622"/>
                      <a:pt x="1219200" y="711200"/>
                    </a:cubicBezTo>
                    <a:cubicBezTo>
                      <a:pt x="1155561" y="639606"/>
                      <a:pt x="1095702" y="561134"/>
                      <a:pt x="1016000" y="508000"/>
                    </a:cubicBezTo>
                    <a:cubicBezTo>
                      <a:pt x="887833" y="422556"/>
                      <a:pt x="943181" y="469048"/>
                      <a:pt x="846667" y="372533"/>
                    </a:cubicBezTo>
                    <a:cubicBezTo>
                      <a:pt x="835378" y="338666"/>
                      <a:pt x="832602" y="300636"/>
                      <a:pt x="812800" y="270933"/>
                    </a:cubicBezTo>
                    <a:cubicBezTo>
                      <a:pt x="786233" y="231082"/>
                      <a:pt x="749006" y="198737"/>
                      <a:pt x="711200" y="169333"/>
                    </a:cubicBezTo>
                    <a:cubicBezTo>
                      <a:pt x="536524" y="33474"/>
                      <a:pt x="559693" y="51098"/>
                      <a:pt x="406400" y="0"/>
                    </a:cubicBezTo>
                    <a:cubicBezTo>
                      <a:pt x="361244" y="11289"/>
                      <a:pt x="313715" y="15532"/>
                      <a:pt x="270933" y="33867"/>
                    </a:cubicBezTo>
                    <a:cubicBezTo>
                      <a:pt x="53886" y="126887"/>
                      <a:pt x="173770" y="228415"/>
                      <a:pt x="203200" y="508000"/>
                    </a:cubicBezTo>
                    <a:cubicBezTo>
                      <a:pt x="230238" y="764856"/>
                      <a:pt x="168958" y="711013"/>
                      <a:pt x="304800" y="778933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任意多边形 224"/>
              <p:cNvSpPr/>
              <p:nvPr/>
            </p:nvSpPr>
            <p:spPr>
              <a:xfrm rot="17367600">
                <a:off x="13351680" y="2852280"/>
                <a:ext cx="237960" cy="43596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435960"/>
                  <a:gd name="textAreaBottom" fmla="*/ 436320 h 435960"/>
                </a:gdLst>
                <a:ahLst/>
                <a:rect l="textAreaLeft" t="textAreaTop" r="textAreaRight" b="textAreaBottom"/>
                <a:pathLst>
                  <a:path w="2065867" h="4030133">
                    <a:moveTo>
                      <a:pt x="270933" y="677333"/>
                    </a:moveTo>
                    <a:cubicBezTo>
                      <a:pt x="259644" y="733778"/>
                      <a:pt x="257278" y="792770"/>
                      <a:pt x="237067" y="846667"/>
                    </a:cubicBezTo>
                    <a:cubicBezTo>
                      <a:pt x="222775" y="884778"/>
                      <a:pt x="187536" y="911861"/>
                      <a:pt x="169333" y="948267"/>
                    </a:cubicBezTo>
                    <a:cubicBezTo>
                      <a:pt x="153368" y="980197"/>
                      <a:pt x="146756" y="1016000"/>
                      <a:pt x="135467" y="1049867"/>
                    </a:cubicBezTo>
                    <a:cubicBezTo>
                      <a:pt x="124178" y="1128889"/>
                      <a:pt x="124537" y="1210475"/>
                      <a:pt x="101600" y="1286933"/>
                    </a:cubicBezTo>
                    <a:cubicBezTo>
                      <a:pt x="89904" y="1325919"/>
                      <a:pt x="52070" y="1352127"/>
                      <a:pt x="33867" y="1388533"/>
                    </a:cubicBezTo>
                    <a:cubicBezTo>
                      <a:pt x="17902" y="1420463"/>
                      <a:pt x="11289" y="1456266"/>
                      <a:pt x="0" y="1490133"/>
                    </a:cubicBezTo>
                    <a:cubicBezTo>
                      <a:pt x="11289" y="1648178"/>
                      <a:pt x="6331" y="1808231"/>
                      <a:pt x="33867" y="1964267"/>
                    </a:cubicBezTo>
                    <a:cubicBezTo>
                      <a:pt x="40941" y="2004350"/>
                      <a:pt x="77942" y="2032746"/>
                      <a:pt x="101600" y="2065867"/>
                    </a:cubicBezTo>
                    <a:cubicBezTo>
                      <a:pt x="134408" y="2111798"/>
                      <a:pt x="167065" y="2157971"/>
                      <a:pt x="203200" y="2201333"/>
                    </a:cubicBezTo>
                    <a:cubicBezTo>
                      <a:pt x="223641" y="2225862"/>
                      <a:pt x="253221" y="2242500"/>
                      <a:pt x="270933" y="2269067"/>
                    </a:cubicBezTo>
                    <a:cubicBezTo>
                      <a:pt x="298937" y="2311073"/>
                      <a:pt x="313619" y="2360700"/>
                      <a:pt x="338667" y="2404533"/>
                    </a:cubicBezTo>
                    <a:cubicBezTo>
                      <a:pt x="443708" y="2588354"/>
                      <a:pt x="378175" y="2421458"/>
                      <a:pt x="440267" y="2607733"/>
                    </a:cubicBezTo>
                    <a:cubicBezTo>
                      <a:pt x="451556" y="2686755"/>
                      <a:pt x="448890" y="2769072"/>
                      <a:pt x="474133" y="2844800"/>
                    </a:cubicBezTo>
                    <a:cubicBezTo>
                      <a:pt x="484230" y="2875091"/>
                      <a:pt x="525439" y="2885153"/>
                      <a:pt x="541867" y="2912533"/>
                    </a:cubicBezTo>
                    <a:cubicBezTo>
                      <a:pt x="692110" y="3162937"/>
                      <a:pt x="437916" y="2858793"/>
                      <a:pt x="643467" y="3115733"/>
                    </a:cubicBezTo>
                    <a:cubicBezTo>
                      <a:pt x="663413" y="3140666"/>
                      <a:pt x="691254" y="3158534"/>
                      <a:pt x="711200" y="3183467"/>
                    </a:cubicBezTo>
                    <a:cubicBezTo>
                      <a:pt x="736627" y="3215251"/>
                      <a:pt x="752130" y="3254435"/>
                      <a:pt x="778933" y="3285067"/>
                    </a:cubicBezTo>
                    <a:cubicBezTo>
                      <a:pt x="831498" y="3345141"/>
                      <a:pt x="900372" y="3390540"/>
                      <a:pt x="948267" y="3454400"/>
                    </a:cubicBezTo>
                    <a:cubicBezTo>
                      <a:pt x="982134" y="3499556"/>
                      <a:pt x="1019951" y="3542002"/>
                      <a:pt x="1049867" y="3589867"/>
                    </a:cubicBezTo>
                    <a:cubicBezTo>
                      <a:pt x="1076624" y="3632678"/>
                      <a:pt x="1089596" y="3683327"/>
                      <a:pt x="1117600" y="3725333"/>
                    </a:cubicBezTo>
                    <a:cubicBezTo>
                      <a:pt x="1164328" y="3795425"/>
                      <a:pt x="1222230" y="3809038"/>
                      <a:pt x="1286933" y="3860800"/>
                    </a:cubicBezTo>
                    <a:cubicBezTo>
                      <a:pt x="1311866" y="3880746"/>
                      <a:pt x="1328100" y="3910821"/>
                      <a:pt x="1354667" y="3928533"/>
                    </a:cubicBezTo>
                    <a:cubicBezTo>
                      <a:pt x="1438370" y="3984335"/>
                      <a:pt x="1501418" y="4000029"/>
                      <a:pt x="1591733" y="4030133"/>
                    </a:cubicBezTo>
                    <a:cubicBezTo>
                      <a:pt x="1670755" y="4018844"/>
                      <a:pt x="1753072" y="4021510"/>
                      <a:pt x="1828800" y="3996267"/>
                    </a:cubicBezTo>
                    <a:cubicBezTo>
                      <a:pt x="1947678" y="3956641"/>
                      <a:pt x="1962781" y="3628192"/>
                      <a:pt x="1964267" y="3623733"/>
                    </a:cubicBezTo>
                    <a:cubicBezTo>
                      <a:pt x="1977138" y="3585119"/>
                      <a:pt x="2013797" y="3558539"/>
                      <a:pt x="2032000" y="3522133"/>
                    </a:cubicBezTo>
                    <a:cubicBezTo>
                      <a:pt x="2047965" y="3490203"/>
                      <a:pt x="2054578" y="3454400"/>
                      <a:pt x="2065867" y="3420533"/>
                    </a:cubicBezTo>
                    <a:cubicBezTo>
                      <a:pt x="2054578" y="3318933"/>
                      <a:pt x="2052048" y="3215973"/>
                      <a:pt x="2032000" y="3115733"/>
                    </a:cubicBezTo>
                    <a:cubicBezTo>
                      <a:pt x="2017998" y="3045722"/>
                      <a:pt x="1964267" y="2912533"/>
                      <a:pt x="1964267" y="2912533"/>
                    </a:cubicBezTo>
                    <a:cubicBezTo>
                      <a:pt x="2045473" y="2668911"/>
                      <a:pt x="1946942" y="2973167"/>
                      <a:pt x="2032000" y="2675467"/>
                    </a:cubicBezTo>
                    <a:cubicBezTo>
                      <a:pt x="2041807" y="2641142"/>
                      <a:pt x="2054578" y="2607734"/>
                      <a:pt x="2065867" y="2573867"/>
                    </a:cubicBezTo>
                    <a:cubicBezTo>
                      <a:pt x="1988036" y="2340376"/>
                      <a:pt x="2048618" y="2421153"/>
                      <a:pt x="1930400" y="2302933"/>
                    </a:cubicBezTo>
                    <a:cubicBezTo>
                      <a:pt x="1919111" y="2257778"/>
                      <a:pt x="1909320" y="2212221"/>
                      <a:pt x="1896533" y="2167467"/>
                    </a:cubicBezTo>
                    <a:cubicBezTo>
                      <a:pt x="1886726" y="2133142"/>
                      <a:pt x="1868536" y="2101080"/>
                      <a:pt x="1862667" y="2065867"/>
                    </a:cubicBezTo>
                    <a:cubicBezTo>
                      <a:pt x="1846052" y="1966175"/>
                      <a:pt x="1835554" y="1713597"/>
                      <a:pt x="1794933" y="1591733"/>
                    </a:cubicBezTo>
                    <a:cubicBezTo>
                      <a:pt x="1778968" y="1543839"/>
                      <a:pt x="1753174" y="1499558"/>
                      <a:pt x="1727200" y="1456267"/>
                    </a:cubicBezTo>
                    <a:cubicBezTo>
                      <a:pt x="1685317" y="1386462"/>
                      <a:pt x="1591733" y="1253067"/>
                      <a:pt x="1591733" y="1253067"/>
                    </a:cubicBezTo>
                    <a:cubicBezTo>
                      <a:pt x="1555962" y="1145753"/>
                      <a:pt x="1565165" y="1143657"/>
                      <a:pt x="1490133" y="1049867"/>
                    </a:cubicBezTo>
                    <a:cubicBezTo>
                      <a:pt x="1470187" y="1024934"/>
                      <a:pt x="1442346" y="1007066"/>
                      <a:pt x="1422400" y="982133"/>
                    </a:cubicBezTo>
                    <a:cubicBezTo>
                      <a:pt x="1396973" y="950349"/>
                      <a:pt x="1380094" y="912316"/>
                      <a:pt x="1354667" y="880533"/>
                    </a:cubicBezTo>
                    <a:cubicBezTo>
                      <a:pt x="1334721" y="855600"/>
                      <a:pt x="1306879" y="837733"/>
                      <a:pt x="1286933" y="812800"/>
                    </a:cubicBezTo>
                    <a:cubicBezTo>
                      <a:pt x="1261506" y="781017"/>
                      <a:pt x="1246241" y="741622"/>
                      <a:pt x="1219200" y="711200"/>
                    </a:cubicBezTo>
                    <a:cubicBezTo>
                      <a:pt x="1155561" y="639606"/>
                      <a:pt x="1095702" y="561134"/>
                      <a:pt x="1016000" y="508000"/>
                    </a:cubicBezTo>
                    <a:cubicBezTo>
                      <a:pt x="887833" y="422556"/>
                      <a:pt x="943181" y="469048"/>
                      <a:pt x="846667" y="372533"/>
                    </a:cubicBezTo>
                    <a:cubicBezTo>
                      <a:pt x="835378" y="338666"/>
                      <a:pt x="832602" y="300636"/>
                      <a:pt x="812800" y="270933"/>
                    </a:cubicBezTo>
                    <a:cubicBezTo>
                      <a:pt x="786233" y="231082"/>
                      <a:pt x="749006" y="198737"/>
                      <a:pt x="711200" y="169333"/>
                    </a:cubicBezTo>
                    <a:cubicBezTo>
                      <a:pt x="536524" y="33474"/>
                      <a:pt x="559693" y="51098"/>
                      <a:pt x="406400" y="0"/>
                    </a:cubicBezTo>
                    <a:cubicBezTo>
                      <a:pt x="361244" y="11289"/>
                      <a:pt x="313715" y="15532"/>
                      <a:pt x="270933" y="33867"/>
                    </a:cubicBezTo>
                    <a:cubicBezTo>
                      <a:pt x="53886" y="126887"/>
                      <a:pt x="173770" y="228415"/>
                      <a:pt x="203200" y="508000"/>
                    </a:cubicBezTo>
                    <a:cubicBezTo>
                      <a:pt x="230238" y="764856"/>
                      <a:pt x="168958" y="711013"/>
                      <a:pt x="304800" y="778933"/>
                    </a:cubicBezTo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53" name=""/>
          <p:cNvGrpSpPr/>
          <p:nvPr/>
        </p:nvGrpSpPr>
        <p:grpSpPr>
          <a:xfrm>
            <a:off x="13313520" y="3049560"/>
            <a:ext cx="1198800" cy="472320"/>
            <a:chOff x="13313520" y="3049560"/>
            <a:chExt cx="1198800" cy="472320"/>
          </a:xfrm>
        </p:grpSpPr>
        <p:sp>
          <p:nvSpPr>
            <p:cNvPr id="554" name="任意多边形 276"/>
            <p:cNvSpPr/>
            <p:nvPr/>
          </p:nvSpPr>
          <p:spPr>
            <a:xfrm rot="17083800">
              <a:off x="13825440" y="2688840"/>
              <a:ext cx="174600" cy="119376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1193760"/>
                <a:gd name="textAreaBottom" fmla="*/ 1194120 h 1193760"/>
              </a:gdLst>
              <a:ahLst/>
              <a:rect l="textAreaLeft" t="textAreaTop" r="textAreaRight" b="textAreaBottom"/>
              <a:pathLst>
                <a:path w="2065867" h="4030133">
                  <a:moveTo>
                    <a:pt x="270933" y="677333"/>
                  </a:moveTo>
                  <a:cubicBezTo>
                    <a:pt x="259644" y="733778"/>
                    <a:pt x="257278" y="792770"/>
                    <a:pt x="237067" y="846667"/>
                  </a:cubicBezTo>
                  <a:cubicBezTo>
                    <a:pt x="222775" y="884778"/>
                    <a:pt x="187536" y="911861"/>
                    <a:pt x="169333" y="948267"/>
                  </a:cubicBezTo>
                  <a:cubicBezTo>
                    <a:pt x="153368" y="980197"/>
                    <a:pt x="146756" y="1016000"/>
                    <a:pt x="135467" y="1049867"/>
                  </a:cubicBezTo>
                  <a:cubicBezTo>
                    <a:pt x="124178" y="1128889"/>
                    <a:pt x="124537" y="1210475"/>
                    <a:pt x="101600" y="1286933"/>
                  </a:cubicBezTo>
                  <a:cubicBezTo>
                    <a:pt x="89904" y="1325919"/>
                    <a:pt x="52070" y="1352127"/>
                    <a:pt x="33867" y="1388533"/>
                  </a:cubicBezTo>
                  <a:cubicBezTo>
                    <a:pt x="17902" y="1420463"/>
                    <a:pt x="11289" y="1456266"/>
                    <a:pt x="0" y="1490133"/>
                  </a:cubicBezTo>
                  <a:cubicBezTo>
                    <a:pt x="11289" y="1648178"/>
                    <a:pt x="6331" y="1808231"/>
                    <a:pt x="33867" y="1964267"/>
                  </a:cubicBezTo>
                  <a:cubicBezTo>
                    <a:pt x="40941" y="2004350"/>
                    <a:pt x="77942" y="2032746"/>
                    <a:pt x="101600" y="2065867"/>
                  </a:cubicBezTo>
                  <a:cubicBezTo>
                    <a:pt x="134408" y="2111798"/>
                    <a:pt x="167065" y="2157971"/>
                    <a:pt x="203200" y="2201333"/>
                  </a:cubicBezTo>
                  <a:cubicBezTo>
                    <a:pt x="223641" y="2225862"/>
                    <a:pt x="253221" y="2242500"/>
                    <a:pt x="270933" y="2269067"/>
                  </a:cubicBezTo>
                  <a:cubicBezTo>
                    <a:pt x="298937" y="2311073"/>
                    <a:pt x="313619" y="2360700"/>
                    <a:pt x="338667" y="2404533"/>
                  </a:cubicBezTo>
                  <a:cubicBezTo>
                    <a:pt x="443708" y="2588354"/>
                    <a:pt x="378175" y="2421458"/>
                    <a:pt x="440267" y="2607733"/>
                  </a:cubicBezTo>
                  <a:cubicBezTo>
                    <a:pt x="451556" y="2686755"/>
                    <a:pt x="448890" y="2769072"/>
                    <a:pt x="474133" y="2844800"/>
                  </a:cubicBezTo>
                  <a:cubicBezTo>
                    <a:pt x="484230" y="2875091"/>
                    <a:pt x="525439" y="2885153"/>
                    <a:pt x="541867" y="2912533"/>
                  </a:cubicBezTo>
                  <a:cubicBezTo>
                    <a:pt x="692110" y="3162937"/>
                    <a:pt x="437916" y="2858793"/>
                    <a:pt x="643467" y="3115733"/>
                  </a:cubicBezTo>
                  <a:cubicBezTo>
                    <a:pt x="663413" y="3140666"/>
                    <a:pt x="691254" y="3158534"/>
                    <a:pt x="711200" y="3183467"/>
                  </a:cubicBezTo>
                  <a:cubicBezTo>
                    <a:pt x="736627" y="3215251"/>
                    <a:pt x="752130" y="3254435"/>
                    <a:pt x="778933" y="3285067"/>
                  </a:cubicBezTo>
                  <a:cubicBezTo>
                    <a:pt x="831498" y="3345141"/>
                    <a:pt x="900372" y="3390540"/>
                    <a:pt x="948267" y="3454400"/>
                  </a:cubicBezTo>
                  <a:cubicBezTo>
                    <a:pt x="982134" y="3499556"/>
                    <a:pt x="1019951" y="3542002"/>
                    <a:pt x="1049867" y="3589867"/>
                  </a:cubicBezTo>
                  <a:cubicBezTo>
                    <a:pt x="1076624" y="3632678"/>
                    <a:pt x="1089596" y="3683327"/>
                    <a:pt x="1117600" y="3725333"/>
                  </a:cubicBezTo>
                  <a:cubicBezTo>
                    <a:pt x="1164328" y="3795425"/>
                    <a:pt x="1222230" y="3809038"/>
                    <a:pt x="1286933" y="3860800"/>
                  </a:cubicBezTo>
                  <a:cubicBezTo>
                    <a:pt x="1311866" y="3880746"/>
                    <a:pt x="1328100" y="3910821"/>
                    <a:pt x="1354667" y="3928533"/>
                  </a:cubicBezTo>
                  <a:cubicBezTo>
                    <a:pt x="1438370" y="3984335"/>
                    <a:pt x="1501418" y="4000029"/>
                    <a:pt x="1591733" y="4030133"/>
                  </a:cubicBezTo>
                  <a:cubicBezTo>
                    <a:pt x="1670755" y="4018844"/>
                    <a:pt x="1753072" y="4021510"/>
                    <a:pt x="1828800" y="3996267"/>
                  </a:cubicBezTo>
                  <a:cubicBezTo>
                    <a:pt x="1947678" y="3956641"/>
                    <a:pt x="1962781" y="3628192"/>
                    <a:pt x="1964267" y="3623733"/>
                  </a:cubicBezTo>
                  <a:cubicBezTo>
                    <a:pt x="1977138" y="3585119"/>
                    <a:pt x="2013797" y="3558539"/>
                    <a:pt x="2032000" y="3522133"/>
                  </a:cubicBezTo>
                  <a:cubicBezTo>
                    <a:pt x="2047965" y="3490203"/>
                    <a:pt x="2054578" y="3454400"/>
                    <a:pt x="2065867" y="3420533"/>
                  </a:cubicBezTo>
                  <a:cubicBezTo>
                    <a:pt x="2054578" y="3318933"/>
                    <a:pt x="2052048" y="3215973"/>
                    <a:pt x="2032000" y="3115733"/>
                  </a:cubicBezTo>
                  <a:cubicBezTo>
                    <a:pt x="2017998" y="3045722"/>
                    <a:pt x="1964267" y="2912533"/>
                    <a:pt x="1964267" y="2912533"/>
                  </a:cubicBezTo>
                  <a:cubicBezTo>
                    <a:pt x="2045473" y="2668911"/>
                    <a:pt x="1946942" y="2973167"/>
                    <a:pt x="2032000" y="2675467"/>
                  </a:cubicBezTo>
                  <a:cubicBezTo>
                    <a:pt x="2041807" y="2641142"/>
                    <a:pt x="2054578" y="2607734"/>
                    <a:pt x="2065867" y="2573867"/>
                  </a:cubicBezTo>
                  <a:cubicBezTo>
                    <a:pt x="1988036" y="2340376"/>
                    <a:pt x="2048618" y="2421153"/>
                    <a:pt x="1930400" y="2302933"/>
                  </a:cubicBezTo>
                  <a:cubicBezTo>
                    <a:pt x="1919111" y="2257778"/>
                    <a:pt x="1909320" y="2212221"/>
                    <a:pt x="1896533" y="2167467"/>
                  </a:cubicBezTo>
                  <a:cubicBezTo>
                    <a:pt x="1886726" y="2133142"/>
                    <a:pt x="1868536" y="2101080"/>
                    <a:pt x="1862667" y="2065867"/>
                  </a:cubicBezTo>
                  <a:cubicBezTo>
                    <a:pt x="1846052" y="1966175"/>
                    <a:pt x="1835554" y="1713597"/>
                    <a:pt x="1794933" y="1591733"/>
                  </a:cubicBezTo>
                  <a:cubicBezTo>
                    <a:pt x="1778968" y="1543839"/>
                    <a:pt x="1753174" y="1499558"/>
                    <a:pt x="1727200" y="1456267"/>
                  </a:cubicBezTo>
                  <a:cubicBezTo>
                    <a:pt x="1685317" y="1386462"/>
                    <a:pt x="1591733" y="1253067"/>
                    <a:pt x="1591733" y="1253067"/>
                  </a:cubicBezTo>
                  <a:cubicBezTo>
                    <a:pt x="1555962" y="1145753"/>
                    <a:pt x="1565165" y="1143657"/>
                    <a:pt x="1490133" y="1049867"/>
                  </a:cubicBezTo>
                  <a:cubicBezTo>
                    <a:pt x="1470187" y="1024934"/>
                    <a:pt x="1442346" y="1007066"/>
                    <a:pt x="1422400" y="982133"/>
                  </a:cubicBezTo>
                  <a:cubicBezTo>
                    <a:pt x="1396973" y="950349"/>
                    <a:pt x="1380094" y="912316"/>
                    <a:pt x="1354667" y="880533"/>
                  </a:cubicBezTo>
                  <a:cubicBezTo>
                    <a:pt x="1334721" y="855600"/>
                    <a:pt x="1306879" y="837733"/>
                    <a:pt x="1286933" y="812800"/>
                  </a:cubicBezTo>
                  <a:cubicBezTo>
                    <a:pt x="1261506" y="781017"/>
                    <a:pt x="1246241" y="741622"/>
                    <a:pt x="1219200" y="711200"/>
                  </a:cubicBezTo>
                  <a:cubicBezTo>
                    <a:pt x="1155561" y="639606"/>
                    <a:pt x="1095702" y="561134"/>
                    <a:pt x="1016000" y="508000"/>
                  </a:cubicBezTo>
                  <a:cubicBezTo>
                    <a:pt x="887833" y="422556"/>
                    <a:pt x="943181" y="469048"/>
                    <a:pt x="846667" y="372533"/>
                  </a:cubicBezTo>
                  <a:cubicBezTo>
                    <a:pt x="835378" y="338666"/>
                    <a:pt x="832602" y="300636"/>
                    <a:pt x="812800" y="270933"/>
                  </a:cubicBezTo>
                  <a:cubicBezTo>
                    <a:pt x="786233" y="231082"/>
                    <a:pt x="749006" y="198737"/>
                    <a:pt x="711200" y="169333"/>
                  </a:cubicBezTo>
                  <a:cubicBezTo>
                    <a:pt x="536524" y="33474"/>
                    <a:pt x="559693" y="51098"/>
                    <a:pt x="406400" y="0"/>
                  </a:cubicBezTo>
                  <a:cubicBezTo>
                    <a:pt x="361244" y="11289"/>
                    <a:pt x="313715" y="15532"/>
                    <a:pt x="270933" y="33867"/>
                  </a:cubicBezTo>
                  <a:cubicBezTo>
                    <a:pt x="53886" y="126887"/>
                    <a:pt x="173770" y="228415"/>
                    <a:pt x="203200" y="508000"/>
                  </a:cubicBezTo>
                  <a:cubicBezTo>
                    <a:pt x="230238" y="764856"/>
                    <a:pt x="168958" y="711013"/>
                    <a:pt x="304800" y="778933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任意多边形 277"/>
            <p:cNvSpPr/>
            <p:nvPr/>
          </p:nvSpPr>
          <p:spPr>
            <a:xfrm rot="17729400">
              <a:off x="13736520" y="2973600"/>
              <a:ext cx="154800" cy="594000"/>
            </a:xfrm>
            <a:custGeom>
              <a:avLst/>
              <a:gdLst>
                <a:gd name="textAreaLeft" fmla="*/ 0 w 154800"/>
                <a:gd name="textAreaRight" fmla="*/ 155160 w 154800"/>
                <a:gd name="textAreaTop" fmla="*/ 0 h 594000"/>
                <a:gd name="textAreaBottom" fmla="*/ 594360 h 594000"/>
              </a:gdLst>
              <a:ahLst/>
              <a:rect l="textAreaLeft" t="textAreaTop" r="textAreaRight" b="textAreaBottom"/>
              <a:pathLst>
                <a:path w="2065867" h="4030133">
                  <a:moveTo>
                    <a:pt x="270933" y="677333"/>
                  </a:moveTo>
                  <a:cubicBezTo>
                    <a:pt x="259644" y="733778"/>
                    <a:pt x="257278" y="792770"/>
                    <a:pt x="237067" y="846667"/>
                  </a:cubicBezTo>
                  <a:cubicBezTo>
                    <a:pt x="222775" y="884778"/>
                    <a:pt x="187536" y="911861"/>
                    <a:pt x="169333" y="948267"/>
                  </a:cubicBezTo>
                  <a:cubicBezTo>
                    <a:pt x="153368" y="980197"/>
                    <a:pt x="146756" y="1016000"/>
                    <a:pt x="135467" y="1049867"/>
                  </a:cubicBezTo>
                  <a:cubicBezTo>
                    <a:pt x="124178" y="1128889"/>
                    <a:pt x="124537" y="1210475"/>
                    <a:pt x="101600" y="1286933"/>
                  </a:cubicBezTo>
                  <a:cubicBezTo>
                    <a:pt x="89904" y="1325919"/>
                    <a:pt x="52070" y="1352127"/>
                    <a:pt x="33867" y="1388533"/>
                  </a:cubicBezTo>
                  <a:cubicBezTo>
                    <a:pt x="17902" y="1420463"/>
                    <a:pt x="11289" y="1456266"/>
                    <a:pt x="0" y="1490133"/>
                  </a:cubicBezTo>
                  <a:cubicBezTo>
                    <a:pt x="11289" y="1648178"/>
                    <a:pt x="6331" y="1808231"/>
                    <a:pt x="33867" y="1964267"/>
                  </a:cubicBezTo>
                  <a:cubicBezTo>
                    <a:pt x="40941" y="2004350"/>
                    <a:pt x="77942" y="2032746"/>
                    <a:pt x="101600" y="2065867"/>
                  </a:cubicBezTo>
                  <a:cubicBezTo>
                    <a:pt x="134408" y="2111798"/>
                    <a:pt x="167065" y="2157971"/>
                    <a:pt x="203200" y="2201333"/>
                  </a:cubicBezTo>
                  <a:cubicBezTo>
                    <a:pt x="223641" y="2225862"/>
                    <a:pt x="253221" y="2242500"/>
                    <a:pt x="270933" y="2269067"/>
                  </a:cubicBezTo>
                  <a:cubicBezTo>
                    <a:pt x="298937" y="2311073"/>
                    <a:pt x="313619" y="2360700"/>
                    <a:pt x="338667" y="2404533"/>
                  </a:cubicBezTo>
                  <a:cubicBezTo>
                    <a:pt x="443708" y="2588354"/>
                    <a:pt x="378175" y="2421458"/>
                    <a:pt x="440267" y="2607733"/>
                  </a:cubicBezTo>
                  <a:cubicBezTo>
                    <a:pt x="451556" y="2686755"/>
                    <a:pt x="448890" y="2769072"/>
                    <a:pt x="474133" y="2844800"/>
                  </a:cubicBezTo>
                  <a:cubicBezTo>
                    <a:pt x="484230" y="2875091"/>
                    <a:pt x="525439" y="2885153"/>
                    <a:pt x="541867" y="2912533"/>
                  </a:cubicBezTo>
                  <a:cubicBezTo>
                    <a:pt x="692110" y="3162937"/>
                    <a:pt x="437916" y="2858793"/>
                    <a:pt x="643467" y="3115733"/>
                  </a:cubicBezTo>
                  <a:cubicBezTo>
                    <a:pt x="663413" y="3140666"/>
                    <a:pt x="691254" y="3158534"/>
                    <a:pt x="711200" y="3183467"/>
                  </a:cubicBezTo>
                  <a:cubicBezTo>
                    <a:pt x="736627" y="3215251"/>
                    <a:pt x="752130" y="3254435"/>
                    <a:pt x="778933" y="3285067"/>
                  </a:cubicBezTo>
                  <a:cubicBezTo>
                    <a:pt x="831498" y="3345141"/>
                    <a:pt x="900372" y="3390540"/>
                    <a:pt x="948267" y="3454400"/>
                  </a:cubicBezTo>
                  <a:cubicBezTo>
                    <a:pt x="982134" y="3499556"/>
                    <a:pt x="1019951" y="3542002"/>
                    <a:pt x="1049867" y="3589867"/>
                  </a:cubicBezTo>
                  <a:cubicBezTo>
                    <a:pt x="1076624" y="3632678"/>
                    <a:pt x="1089596" y="3683327"/>
                    <a:pt x="1117600" y="3725333"/>
                  </a:cubicBezTo>
                  <a:cubicBezTo>
                    <a:pt x="1164328" y="3795425"/>
                    <a:pt x="1222230" y="3809038"/>
                    <a:pt x="1286933" y="3860800"/>
                  </a:cubicBezTo>
                  <a:cubicBezTo>
                    <a:pt x="1311866" y="3880746"/>
                    <a:pt x="1328100" y="3910821"/>
                    <a:pt x="1354667" y="3928533"/>
                  </a:cubicBezTo>
                  <a:cubicBezTo>
                    <a:pt x="1438370" y="3984335"/>
                    <a:pt x="1501418" y="4000029"/>
                    <a:pt x="1591733" y="4030133"/>
                  </a:cubicBezTo>
                  <a:cubicBezTo>
                    <a:pt x="1670755" y="4018844"/>
                    <a:pt x="1753072" y="4021510"/>
                    <a:pt x="1828800" y="3996267"/>
                  </a:cubicBezTo>
                  <a:cubicBezTo>
                    <a:pt x="1947678" y="3956641"/>
                    <a:pt x="1962781" y="3628192"/>
                    <a:pt x="1964267" y="3623733"/>
                  </a:cubicBezTo>
                  <a:cubicBezTo>
                    <a:pt x="1977138" y="3585119"/>
                    <a:pt x="2013797" y="3558539"/>
                    <a:pt x="2032000" y="3522133"/>
                  </a:cubicBezTo>
                  <a:cubicBezTo>
                    <a:pt x="2047965" y="3490203"/>
                    <a:pt x="2054578" y="3454400"/>
                    <a:pt x="2065867" y="3420533"/>
                  </a:cubicBezTo>
                  <a:cubicBezTo>
                    <a:pt x="2054578" y="3318933"/>
                    <a:pt x="2052048" y="3215973"/>
                    <a:pt x="2032000" y="3115733"/>
                  </a:cubicBezTo>
                  <a:cubicBezTo>
                    <a:pt x="2017998" y="3045722"/>
                    <a:pt x="1964267" y="2912533"/>
                    <a:pt x="1964267" y="2912533"/>
                  </a:cubicBezTo>
                  <a:cubicBezTo>
                    <a:pt x="2045473" y="2668911"/>
                    <a:pt x="1946942" y="2973167"/>
                    <a:pt x="2032000" y="2675467"/>
                  </a:cubicBezTo>
                  <a:cubicBezTo>
                    <a:pt x="2041807" y="2641142"/>
                    <a:pt x="2054578" y="2607734"/>
                    <a:pt x="2065867" y="2573867"/>
                  </a:cubicBezTo>
                  <a:cubicBezTo>
                    <a:pt x="1988036" y="2340376"/>
                    <a:pt x="2048618" y="2421153"/>
                    <a:pt x="1930400" y="2302933"/>
                  </a:cubicBezTo>
                  <a:cubicBezTo>
                    <a:pt x="1919111" y="2257778"/>
                    <a:pt x="1909320" y="2212221"/>
                    <a:pt x="1896533" y="2167467"/>
                  </a:cubicBezTo>
                  <a:cubicBezTo>
                    <a:pt x="1886726" y="2133142"/>
                    <a:pt x="1868536" y="2101080"/>
                    <a:pt x="1862667" y="2065867"/>
                  </a:cubicBezTo>
                  <a:cubicBezTo>
                    <a:pt x="1846052" y="1966175"/>
                    <a:pt x="1835554" y="1713597"/>
                    <a:pt x="1794933" y="1591733"/>
                  </a:cubicBezTo>
                  <a:cubicBezTo>
                    <a:pt x="1778968" y="1543839"/>
                    <a:pt x="1753174" y="1499558"/>
                    <a:pt x="1727200" y="1456267"/>
                  </a:cubicBezTo>
                  <a:cubicBezTo>
                    <a:pt x="1685317" y="1386462"/>
                    <a:pt x="1591733" y="1253067"/>
                    <a:pt x="1591733" y="1253067"/>
                  </a:cubicBezTo>
                  <a:cubicBezTo>
                    <a:pt x="1555962" y="1145753"/>
                    <a:pt x="1565165" y="1143657"/>
                    <a:pt x="1490133" y="1049867"/>
                  </a:cubicBezTo>
                  <a:cubicBezTo>
                    <a:pt x="1470187" y="1024934"/>
                    <a:pt x="1442346" y="1007066"/>
                    <a:pt x="1422400" y="982133"/>
                  </a:cubicBezTo>
                  <a:cubicBezTo>
                    <a:pt x="1396973" y="950349"/>
                    <a:pt x="1380094" y="912316"/>
                    <a:pt x="1354667" y="880533"/>
                  </a:cubicBezTo>
                  <a:cubicBezTo>
                    <a:pt x="1334721" y="855600"/>
                    <a:pt x="1306879" y="837733"/>
                    <a:pt x="1286933" y="812800"/>
                  </a:cubicBezTo>
                  <a:cubicBezTo>
                    <a:pt x="1261506" y="781017"/>
                    <a:pt x="1246241" y="741622"/>
                    <a:pt x="1219200" y="711200"/>
                  </a:cubicBezTo>
                  <a:cubicBezTo>
                    <a:pt x="1155561" y="639606"/>
                    <a:pt x="1095702" y="561134"/>
                    <a:pt x="1016000" y="508000"/>
                  </a:cubicBezTo>
                  <a:cubicBezTo>
                    <a:pt x="887833" y="422556"/>
                    <a:pt x="943181" y="469048"/>
                    <a:pt x="846667" y="372533"/>
                  </a:cubicBezTo>
                  <a:cubicBezTo>
                    <a:pt x="835378" y="338666"/>
                    <a:pt x="832602" y="300636"/>
                    <a:pt x="812800" y="270933"/>
                  </a:cubicBezTo>
                  <a:cubicBezTo>
                    <a:pt x="786233" y="231082"/>
                    <a:pt x="749006" y="198737"/>
                    <a:pt x="711200" y="169333"/>
                  </a:cubicBezTo>
                  <a:cubicBezTo>
                    <a:pt x="536524" y="33474"/>
                    <a:pt x="559693" y="51098"/>
                    <a:pt x="406400" y="0"/>
                  </a:cubicBezTo>
                  <a:cubicBezTo>
                    <a:pt x="361244" y="11289"/>
                    <a:pt x="313715" y="15532"/>
                    <a:pt x="270933" y="33867"/>
                  </a:cubicBezTo>
                  <a:cubicBezTo>
                    <a:pt x="53886" y="126887"/>
                    <a:pt x="173770" y="228415"/>
                    <a:pt x="203200" y="508000"/>
                  </a:cubicBezTo>
                  <a:cubicBezTo>
                    <a:pt x="230238" y="764856"/>
                    <a:pt x="168958" y="711013"/>
                    <a:pt x="304800" y="778933"/>
                  </a:cubicBez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56" name="Picture 5" descr=""/>
          <p:cNvPicPr/>
          <p:nvPr/>
        </p:nvPicPr>
        <p:blipFill>
          <a:blip r:embed="rId5"/>
          <a:stretch/>
        </p:blipFill>
        <p:spPr>
          <a:xfrm>
            <a:off x="4964040" y="700200"/>
            <a:ext cx="3005280" cy="1139760"/>
          </a:xfrm>
          <a:prstGeom prst="rect">
            <a:avLst/>
          </a:prstGeom>
          <a:ln w="0">
            <a:noFill/>
          </a:ln>
        </p:spPr>
      </p:pic>
      <p:pic>
        <p:nvPicPr>
          <p:cNvPr id="557" name="Picture 6" descr=""/>
          <p:cNvPicPr/>
          <p:nvPr/>
        </p:nvPicPr>
        <p:blipFill>
          <a:blip r:embed="rId6"/>
          <a:stretch/>
        </p:blipFill>
        <p:spPr>
          <a:xfrm>
            <a:off x="4975200" y="704880"/>
            <a:ext cx="2195640" cy="1139760"/>
          </a:xfrm>
          <a:prstGeom prst="rect">
            <a:avLst/>
          </a:prstGeom>
          <a:ln w="0">
            <a:noFill/>
          </a:ln>
        </p:spPr>
      </p:pic>
      <p:grpSp>
        <p:nvGrpSpPr>
          <p:cNvPr id="558" name=""/>
          <p:cNvGrpSpPr/>
          <p:nvPr/>
        </p:nvGrpSpPr>
        <p:grpSpPr>
          <a:xfrm>
            <a:off x="3633840" y="4403880"/>
            <a:ext cx="863640" cy="822240"/>
            <a:chOff x="3633840" y="4403880"/>
            <a:chExt cx="863640" cy="822240"/>
          </a:xfrm>
        </p:grpSpPr>
        <p:sp>
          <p:nvSpPr>
            <p:cNvPr id="559" name="五角星 282"/>
            <p:cNvSpPr/>
            <p:nvPr/>
          </p:nvSpPr>
          <p:spPr>
            <a:xfrm>
              <a:off x="3633840" y="4403880"/>
              <a:ext cx="863640" cy="822240"/>
            </a:xfrm>
            <a:prstGeom prst="star5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0" name=""/>
            <p:cNvGrpSpPr/>
            <p:nvPr/>
          </p:nvGrpSpPr>
          <p:grpSpPr>
            <a:xfrm>
              <a:off x="3833280" y="4618800"/>
              <a:ext cx="482040" cy="468000"/>
              <a:chOff x="3833280" y="4618800"/>
              <a:chExt cx="482040" cy="468000"/>
            </a:xfrm>
          </p:grpSpPr>
          <p:sp>
            <p:nvSpPr>
              <p:cNvPr id="561" name="十字星 284"/>
              <p:cNvSpPr/>
              <p:nvPr/>
            </p:nvSpPr>
            <p:spPr>
              <a:xfrm>
                <a:off x="3929760" y="4707360"/>
                <a:ext cx="289440" cy="289440"/>
              </a:xfrm>
              <a:custGeom>
                <a:avLst/>
                <a:gdLst>
                  <a:gd name="textAreaLeft" fmla="*/ 42840 w 289440"/>
                  <a:gd name="textAreaRight" fmla="*/ 246600 w 289440"/>
                  <a:gd name="textAreaTop" fmla="*/ 42840 h 289440"/>
                  <a:gd name="textAreaBottom" fmla="*/ 246600 h 2894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3200" y="3200"/>
                    </a:lnTo>
                    <a:lnTo>
                      <a:pt x="10800" y="0"/>
                    </a:lnTo>
                    <a:lnTo>
                      <a:pt x="18400" y="3200"/>
                    </a:lnTo>
                    <a:lnTo>
                      <a:pt x="21600" y="10800"/>
                    </a:lnTo>
                    <a:lnTo>
                      <a:pt x="18400" y="18400"/>
                    </a:lnTo>
                    <a:lnTo>
                      <a:pt x="10800" y="21600"/>
                    </a:lnTo>
                    <a:lnTo>
                      <a:pt x="3200" y="18400"/>
                    </a:lnTo>
                    <a:lnTo>
                      <a:pt x="0" y="10800"/>
                    </a:lnTo>
                    <a:close/>
                  </a:path>
                </a:pathLst>
              </a:custGeom>
              <a:noFill/>
              <a:ln w="9360">
                <a:solidFill>
                  <a:srgbClr val="ffffff">
                    <a:alpha val="75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十字星 285"/>
              <p:cNvSpPr/>
              <p:nvPr/>
            </p:nvSpPr>
            <p:spPr>
              <a:xfrm>
                <a:off x="4006440" y="4787640"/>
                <a:ext cx="137520" cy="137520"/>
              </a:xfrm>
              <a:custGeom>
                <a:avLst/>
                <a:gdLst>
                  <a:gd name="textAreaLeft" fmla="*/ 20160 w 137520"/>
                  <a:gd name="textAreaRight" fmla="*/ 117360 w 137520"/>
                  <a:gd name="textAreaTop" fmla="*/ 20160 h 137520"/>
                  <a:gd name="textAreaBottom" fmla="*/ 117360 h 137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3200" y="3200"/>
                    </a:lnTo>
                    <a:lnTo>
                      <a:pt x="10800" y="0"/>
                    </a:lnTo>
                    <a:lnTo>
                      <a:pt x="18400" y="3200"/>
                    </a:lnTo>
                    <a:lnTo>
                      <a:pt x="21600" y="10800"/>
                    </a:lnTo>
                    <a:lnTo>
                      <a:pt x="18400" y="18400"/>
                    </a:lnTo>
                    <a:lnTo>
                      <a:pt x="10800" y="21600"/>
                    </a:lnTo>
                    <a:lnTo>
                      <a:pt x="3200" y="18400"/>
                    </a:lnTo>
                    <a:lnTo>
                      <a:pt x="0" y="10800"/>
                    </a:lnTo>
                    <a:close/>
                  </a:path>
                </a:pathLst>
              </a:custGeom>
              <a:noFill/>
              <a:ln w="9360">
                <a:solidFill>
                  <a:srgbClr val="ffffff">
                    <a:alpha val="75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任意多边形 286"/>
              <p:cNvSpPr/>
              <p:nvPr/>
            </p:nvSpPr>
            <p:spPr>
              <a:xfrm>
                <a:off x="4170960" y="4804200"/>
                <a:ext cx="23400" cy="99360"/>
              </a:xfrm>
              <a:custGeom>
                <a:avLst/>
                <a:gdLst>
                  <a:gd name="textAreaLeft" fmla="*/ 0 w 23400"/>
                  <a:gd name="textAreaRight" fmla="*/ 23760 w 23400"/>
                  <a:gd name="textAreaTop" fmla="*/ 0 h 99360"/>
                  <a:gd name="textAreaBottom" fmla="*/ 99720 h 99360"/>
                </a:gdLst>
                <a:ahLst/>
                <a:rect l="textAreaLeft" t="textAreaTop" r="textAreaRight" b="textAreaBottom"/>
                <a:pathLst>
                  <a:path w="105196" h="445062">
                    <a:moveTo>
                      <a:pt x="0" y="0"/>
                    </a:moveTo>
                    <a:lnTo>
                      <a:pt x="105196" y="218485"/>
                    </a:lnTo>
                    <a:lnTo>
                      <a:pt x="8092" y="445062"/>
                    </a:lnTo>
                  </a:path>
                </a:pathLst>
              </a:custGeom>
              <a:noFill/>
              <a:ln w="9360">
                <a:solidFill>
                  <a:srgbClr val="ffffff">
                    <a:alpha val="75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任意多边形 287"/>
              <p:cNvSpPr/>
              <p:nvPr/>
            </p:nvSpPr>
            <p:spPr>
              <a:xfrm flipH="1">
                <a:off x="3961080" y="4803840"/>
                <a:ext cx="23400" cy="9936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99360"/>
                  <a:gd name="textAreaBottom" fmla="*/ 99720 h 99360"/>
                </a:gdLst>
                <a:ahLst/>
                <a:rect l="textAreaLeft" t="textAreaTop" r="textAreaRight" b="textAreaBottom"/>
                <a:pathLst>
                  <a:path w="105196" h="445062">
                    <a:moveTo>
                      <a:pt x="0" y="0"/>
                    </a:moveTo>
                    <a:lnTo>
                      <a:pt x="105196" y="218485"/>
                    </a:lnTo>
                    <a:lnTo>
                      <a:pt x="8092" y="445062"/>
                    </a:lnTo>
                  </a:path>
                </a:pathLst>
              </a:custGeom>
              <a:noFill/>
              <a:ln w="9360">
                <a:solidFill>
                  <a:srgbClr val="ffffff">
                    <a:alpha val="75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任意多边形 288"/>
              <p:cNvSpPr/>
              <p:nvPr/>
            </p:nvSpPr>
            <p:spPr>
              <a:xfrm flipH="1" rot="16200000">
                <a:off x="4064760" y="4902840"/>
                <a:ext cx="23400" cy="9936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99360"/>
                  <a:gd name="textAreaBottom" fmla="*/ 99720 h 99360"/>
                </a:gdLst>
                <a:ahLst/>
                <a:rect l="textAreaLeft" t="textAreaTop" r="textAreaRight" b="textAreaBottom"/>
                <a:pathLst>
                  <a:path w="105196" h="445062">
                    <a:moveTo>
                      <a:pt x="0" y="0"/>
                    </a:moveTo>
                    <a:lnTo>
                      <a:pt x="105196" y="218485"/>
                    </a:lnTo>
                    <a:lnTo>
                      <a:pt x="8092" y="445062"/>
                    </a:lnTo>
                  </a:path>
                </a:pathLst>
              </a:custGeom>
              <a:noFill/>
              <a:ln w="9360">
                <a:solidFill>
                  <a:srgbClr val="ffffff">
                    <a:alpha val="75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任意多边形 289"/>
              <p:cNvSpPr/>
              <p:nvPr/>
            </p:nvSpPr>
            <p:spPr>
              <a:xfrm flipH="1" flipV="1" rot="5400000">
                <a:off x="4065840" y="4704120"/>
                <a:ext cx="23400" cy="9936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360 h 99360"/>
                  <a:gd name="textAreaBottom" fmla="*/ 100080 h 99360"/>
                </a:gdLst>
                <a:ahLst/>
                <a:rect l="textAreaLeft" t="textAreaTop" r="textAreaRight" b="textAreaBottom"/>
                <a:pathLst>
                  <a:path w="105196" h="445062">
                    <a:moveTo>
                      <a:pt x="0" y="0"/>
                    </a:moveTo>
                    <a:lnTo>
                      <a:pt x="105196" y="218485"/>
                    </a:lnTo>
                    <a:lnTo>
                      <a:pt x="8092" y="445062"/>
                    </a:lnTo>
                  </a:path>
                </a:pathLst>
              </a:custGeom>
              <a:noFill/>
              <a:ln w="9360">
                <a:solidFill>
                  <a:srgbClr val="ffffff">
                    <a:alpha val="75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67" name=""/>
              <p:cNvGrpSpPr/>
              <p:nvPr/>
            </p:nvGrpSpPr>
            <p:grpSpPr>
              <a:xfrm>
                <a:off x="3833280" y="4803840"/>
                <a:ext cx="482040" cy="101160"/>
                <a:chOff x="3833280" y="4803840"/>
                <a:chExt cx="482040" cy="101160"/>
              </a:xfrm>
            </p:grpSpPr>
            <p:sp>
              <p:nvSpPr>
                <p:cNvPr id="568" name="直接连接符 300"/>
                <p:cNvSpPr/>
                <p:nvPr/>
              </p:nvSpPr>
              <p:spPr>
                <a:xfrm flipH="1">
                  <a:off x="3838680" y="4852080"/>
                  <a:ext cx="466560" cy="720"/>
                </a:xfrm>
                <a:prstGeom prst="line">
                  <a:avLst/>
                </a:prstGeom>
                <a:ln w="9360">
                  <a:solidFill>
                    <a:srgbClr val="ffffff">
                      <a:alpha val="75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9" name="任意多边形 301"/>
                <p:cNvSpPr/>
                <p:nvPr/>
              </p:nvSpPr>
              <p:spPr>
                <a:xfrm flipH="1">
                  <a:off x="4291560" y="4803840"/>
                  <a:ext cx="23400" cy="9936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99360"/>
                    <a:gd name="textAreaBottom" fmla="*/ 99720 h 99360"/>
                  </a:gdLst>
                  <a:ahLst/>
                  <a:rect l="textAreaLeft" t="textAreaTop" r="textAreaRight" b="textAreaBottom"/>
                  <a:pathLst>
                    <a:path w="105196" h="445062">
                      <a:moveTo>
                        <a:pt x="0" y="0"/>
                      </a:moveTo>
                      <a:lnTo>
                        <a:pt x="105196" y="218485"/>
                      </a:lnTo>
                      <a:lnTo>
                        <a:pt x="8092" y="445062"/>
                      </a:lnTo>
                    </a:path>
                  </a:pathLst>
                </a:custGeom>
                <a:noFill/>
                <a:ln w="9360">
                  <a:solidFill>
                    <a:srgbClr val="ffffff">
                      <a:alpha val="75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0" name="任意多边形 302"/>
                <p:cNvSpPr/>
                <p:nvPr/>
              </p:nvSpPr>
              <p:spPr>
                <a:xfrm>
                  <a:off x="3833280" y="4805640"/>
                  <a:ext cx="23400" cy="99360"/>
                </a:xfrm>
                <a:custGeom>
                  <a:avLst/>
                  <a:gdLst>
                    <a:gd name="textAreaLeft" fmla="*/ 0 w 23400"/>
                    <a:gd name="textAreaRight" fmla="*/ 23760 w 23400"/>
                    <a:gd name="textAreaTop" fmla="*/ 0 h 99360"/>
                    <a:gd name="textAreaBottom" fmla="*/ 99720 h 99360"/>
                  </a:gdLst>
                  <a:ahLst/>
                  <a:rect l="textAreaLeft" t="textAreaTop" r="textAreaRight" b="textAreaBottom"/>
                  <a:pathLst>
                    <a:path w="105196" h="445062">
                      <a:moveTo>
                        <a:pt x="0" y="0"/>
                      </a:moveTo>
                      <a:lnTo>
                        <a:pt x="105196" y="218485"/>
                      </a:lnTo>
                      <a:lnTo>
                        <a:pt x="8092" y="445062"/>
                      </a:lnTo>
                    </a:path>
                  </a:pathLst>
                </a:custGeom>
                <a:noFill/>
                <a:ln w="9360">
                  <a:solidFill>
                    <a:srgbClr val="ffffff">
                      <a:alpha val="75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1" name="六边形 291"/>
              <p:cNvSpPr/>
              <p:nvPr/>
            </p:nvSpPr>
            <p:spPr>
              <a:xfrm>
                <a:off x="3881160" y="4673880"/>
                <a:ext cx="386280" cy="350280"/>
              </a:xfrm>
              <a:prstGeom prst="hexagon">
                <a:avLst>
                  <a:gd name="adj" fmla="val 25011"/>
                  <a:gd name="vf" fmla="val 115470"/>
                </a:avLst>
              </a:prstGeom>
              <a:noFill/>
              <a:ln w="9360">
                <a:solidFill>
                  <a:srgbClr val="ffffff">
                    <a:alpha val="75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72" name=""/>
              <p:cNvGrpSpPr/>
              <p:nvPr/>
            </p:nvGrpSpPr>
            <p:grpSpPr>
              <a:xfrm>
                <a:off x="3906360" y="4620600"/>
                <a:ext cx="328680" cy="466200"/>
                <a:chOff x="3906360" y="4620600"/>
                <a:chExt cx="328680" cy="466200"/>
              </a:xfrm>
            </p:grpSpPr>
            <p:sp>
              <p:nvSpPr>
                <p:cNvPr id="573" name="直接连接符 297"/>
                <p:cNvSpPr/>
                <p:nvPr/>
              </p:nvSpPr>
              <p:spPr>
                <a:xfrm flipH="1" flipV="1">
                  <a:off x="3954240" y="4649040"/>
                  <a:ext cx="234000" cy="403560"/>
                </a:xfrm>
                <a:prstGeom prst="line">
                  <a:avLst/>
                </a:prstGeom>
                <a:ln w="9360">
                  <a:solidFill>
                    <a:srgbClr val="ffffff">
                      <a:alpha val="75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4" name="任意多边形 298"/>
                <p:cNvSpPr/>
                <p:nvPr/>
              </p:nvSpPr>
              <p:spPr>
                <a:xfrm flipH="1" rot="3600000">
                  <a:off x="4174200" y="5001840"/>
                  <a:ext cx="23400" cy="9936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99360"/>
                    <a:gd name="textAreaBottom" fmla="*/ 99720 h 99360"/>
                  </a:gdLst>
                  <a:ahLst/>
                  <a:rect l="textAreaLeft" t="textAreaTop" r="textAreaRight" b="textAreaBottom"/>
                  <a:pathLst>
                    <a:path w="105196" h="445062">
                      <a:moveTo>
                        <a:pt x="0" y="0"/>
                      </a:moveTo>
                      <a:lnTo>
                        <a:pt x="105196" y="218485"/>
                      </a:lnTo>
                      <a:lnTo>
                        <a:pt x="8092" y="445062"/>
                      </a:lnTo>
                    </a:path>
                  </a:pathLst>
                </a:custGeom>
                <a:noFill/>
                <a:ln w="9360">
                  <a:solidFill>
                    <a:srgbClr val="ffffff">
                      <a:alpha val="75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5" name="任意多边形 299"/>
                <p:cNvSpPr/>
                <p:nvPr/>
              </p:nvSpPr>
              <p:spPr>
                <a:xfrm rot="3600000">
                  <a:off x="3943440" y="4605840"/>
                  <a:ext cx="23400" cy="99360"/>
                </a:xfrm>
                <a:custGeom>
                  <a:avLst/>
                  <a:gdLst>
                    <a:gd name="textAreaLeft" fmla="*/ 0 w 23400"/>
                    <a:gd name="textAreaRight" fmla="*/ 23760 w 23400"/>
                    <a:gd name="textAreaTop" fmla="*/ 0 h 99360"/>
                    <a:gd name="textAreaBottom" fmla="*/ 99720 h 99360"/>
                  </a:gdLst>
                  <a:ahLst/>
                  <a:rect l="textAreaLeft" t="textAreaTop" r="textAreaRight" b="textAreaBottom"/>
                  <a:pathLst>
                    <a:path w="105196" h="445062">
                      <a:moveTo>
                        <a:pt x="0" y="0"/>
                      </a:moveTo>
                      <a:lnTo>
                        <a:pt x="105196" y="218485"/>
                      </a:lnTo>
                      <a:lnTo>
                        <a:pt x="8092" y="445062"/>
                      </a:lnTo>
                    </a:path>
                  </a:pathLst>
                </a:custGeom>
                <a:noFill/>
                <a:ln w="9360">
                  <a:solidFill>
                    <a:srgbClr val="ffffff">
                      <a:alpha val="75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76" name=""/>
              <p:cNvGrpSpPr/>
              <p:nvPr/>
            </p:nvGrpSpPr>
            <p:grpSpPr>
              <a:xfrm>
                <a:off x="3913560" y="4618800"/>
                <a:ext cx="328680" cy="467280"/>
                <a:chOff x="3913560" y="4618800"/>
                <a:chExt cx="328680" cy="467280"/>
              </a:xfrm>
            </p:grpSpPr>
            <p:sp>
              <p:nvSpPr>
                <p:cNvPr id="577" name="直接连接符 294"/>
                <p:cNvSpPr/>
                <p:nvPr/>
              </p:nvSpPr>
              <p:spPr>
                <a:xfrm flipV="1">
                  <a:off x="3960360" y="4647240"/>
                  <a:ext cx="234000" cy="403560"/>
                </a:xfrm>
                <a:prstGeom prst="line">
                  <a:avLst/>
                </a:prstGeom>
                <a:ln w="9360">
                  <a:solidFill>
                    <a:srgbClr val="ffffff">
                      <a:alpha val="75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8" name="任意多边形 295"/>
                <p:cNvSpPr/>
                <p:nvPr/>
              </p:nvSpPr>
              <p:spPr>
                <a:xfrm rot="18000000">
                  <a:off x="3950640" y="5000400"/>
                  <a:ext cx="23400" cy="99720"/>
                </a:xfrm>
                <a:custGeom>
                  <a:avLst/>
                  <a:gdLst>
                    <a:gd name="textAreaLeft" fmla="*/ 0 w 23400"/>
                    <a:gd name="textAreaRight" fmla="*/ 23760 w 23400"/>
                    <a:gd name="textAreaTop" fmla="*/ 0 h 99720"/>
                    <a:gd name="textAreaBottom" fmla="*/ 100080 h 99720"/>
                  </a:gdLst>
                  <a:ahLst/>
                  <a:rect l="textAreaLeft" t="textAreaTop" r="textAreaRight" b="textAreaBottom"/>
                  <a:pathLst>
                    <a:path w="105196" h="445062">
                      <a:moveTo>
                        <a:pt x="0" y="0"/>
                      </a:moveTo>
                      <a:lnTo>
                        <a:pt x="105196" y="218485"/>
                      </a:lnTo>
                      <a:lnTo>
                        <a:pt x="8092" y="445062"/>
                      </a:lnTo>
                    </a:path>
                  </a:pathLst>
                </a:custGeom>
                <a:noFill/>
                <a:ln w="9360">
                  <a:solidFill>
                    <a:srgbClr val="ffffff">
                      <a:alpha val="75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9" name="任意多边形 296"/>
                <p:cNvSpPr/>
                <p:nvPr/>
              </p:nvSpPr>
              <p:spPr>
                <a:xfrm flipH="1" rot="18000000">
                  <a:off x="4181400" y="4604040"/>
                  <a:ext cx="23400" cy="9972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99720"/>
                    <a:gd name="textAreaBottom" fmla="*/ 100080 h 99720"/>
                  </a:gdLst>
                  <a:ahLst/>
                  <a:rect l="textAreaLeft" t="textAreaTop" r="textAreaRight" b="textAreaBottom"/>
                  <a:pathLst>
                    <a:path w="105196" h="445062">
                      <a:moveTo>
                        <a:pt x="0" y="0"/>
                      </a:moveTo>
                      <a:lnTo>
                        <a:pt x="105196" y="218485"/>
                      </a:lnTo>
                      <a:lnTo>
                        <a:pt x="8092" y="445062"/>
                      </a:lnTo>
                    </a:path>
                  </a:pathLst>
                </a:custGeom>
                <a:noFill/>
                <a:ln w="9360">
                  <a:solidFill>
                    <a:srgbClr val="ffffff">
                      <a:alpha val="75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580" name="五角星 279"/>
          <p:cNvSpPr/>
          <p:nvPr/>
        </p:nvSpPr>
        <p:spPr>
          <a:xfrm>
            <a:off x="322200" y="-762120"/>
            <a:ext cx="5256360" cy="5002200"/>
          </a:xfrm>
          <a:prstGeom prst="star5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五角星 280"/>
          <p:cNvSpPr/>
          <p:nvPr/>
        </p:nvSpPr>
        <p:spPr>
          <a:xfrm>
            <a:off x="5024520" y="1573200"/>
            <a:ext cx="1868400" cy="1779480"/>
          </a:xfrm>
          <a:prstGeom prst="star5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090DC-54EC-438B-A84C-80A96B8C80BF}" type="slidenum">
              <a:t>5</a:t>
            </a:fld>
          </a:p>
        </p:txBody>
      </p:sp>
    </p:spTree>
  </p:cSld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0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mph" presetID="26" repeatCount="200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30" dur="5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1" dur="2500" autoRev="1" fill="hold"/>
                                        <p:tgtEl>
                                          <p:spTgt spid="38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1">
                                  <p:stCondLst>
                                    <p:cond delay="460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35" dur="89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4.9337E-007 L -0.97014 0.06414 E">
                                      <p:cBhvr>
                                        <p:cTn id="237" dur="7000" fill="hold"/>
                                        <p:tgtEl>
                                          <p:spTgt spid="3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5.00154E-007 L -1.07882 0.20871 E">
                                      <p:cBhvr>
                                        <p:cTn id="239" dur="7000" fill="hold"/>
                                        <p:tgtEl>
                                          <p:spTgt spid="4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5.00154E-007 L -1.07882 0.20871 E">
                                      <p:cBhvr>
                                        <p:cTn id="241" dur="7000" fill="hold"/>
                                        <p:tgtEl>
                                          <p:spTgt spid="5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5.00154E-007 L -1.07882 0.20871 E">
                                      <p:cBhvr>
                                        <p:cTn id="243" dur="7000" fill="hold"/>
                                        <p:tgtEl>
                                          <p:spTgt spid="4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5.00154E-007 L -1.07882 0.20871 E">
                                      <p:cBhvr>
                                        <p:cTn id="245" dur="7000" fill="hold"/>
                                        <p:tgtEl>
                                          <p:spTgt spid="4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6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47" dur="275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8" dur="1375" autoRev="1" fill="hold"/>
                                        <p:tgtEl>
                                          <p:spTgt spid="49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49" nodeType="withEffect" fill="hold" presetClass="emph" presetID="26" repeatCount="10000">
                                  <p:stCondLst>
                                    <p:cond delay="3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50" dur="3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1" dur="15" autoRev="1" fill="hold"/>
                                        <p:tgtEl>
                                          <p:spTgt spid="49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52" nodeType="withEffect" fill="hold" presetClass="path" presetID="0">
                                  <p:stCondLst>
                                    <p:cond delay="7500"/>
                                  </p:stCondLst>
                                  <p:childTnLst>
                                    <p:animMotion origin="layout" path="M -0.12656 -0.48104 L -0.12639 -0.01943 E">
                                      <p:cBhvr>
                                        <p:cTn id="253" dur="750" fill="hold"/>
                                        <p:tgtEl>
                                          <p:spTgt spid="4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4" nodeType="withEffect" fill="hold" presetClass="emph" presetID="32" repeatCount="4000">
                                  <p:stCondLst>
                                    <p:cond delay="7500"/>
                                  </p:stCondLst>
                                  <p:childTnLst>
                                    <p:animRot by="120000">
                                      <p:cBhvr>
                                        <p:cTn id="255" dur="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819">
                                      <p:cBhvr>
                                        <p:cTn id="256" dur="16" fill="hold">
                                          <p:stCondLst>
                                            <p:cond delay="16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57" dur="16" fill="hold">
                                          <p:stCondLst>
                                            <p:cond delay="32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819">
                                      <p:cBhvr>
                                        <p:cTn id="258" dur="16" fill="hold">
                                          <p:stCondLst>
                                            <p:cond delay="48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59" dur="16" fill="hold">
                                          <p:stCondLst>
                                            <p:cond delay="64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60" nodeType="withEffect" fill="hold" presetClass="path" presetID="0">
                                  <p:stCondLst>
                                    <p:cond delay="7600"/>
                                  </p:stCondLst>
                                  <p:childTnLst>
                                    <p:animMotion origin="layout" path="M -0.12656 -0.48104 L -0.12639 -0.01943 E">
                                      <p:cBhvr>
                                        <p:cTn id="261" dur="75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2" nodeType="withEffect" fill="hold" presetClass="path" presetID="0">
                                  <p:stCondLst>
                                    <p:cond delay="7700"/>
                                  </p:stCondLst>
                                  <p:childTnLst>
                                    <p:animMotion origin="layout" path="M -0.12656 -0.48104 L -0.12639 -0.01943 E">
                                      <p:cBhvr>
                                        <p:cTn id="263" dur="750" fill="hold"/>
                                        <p:tgtEl>
                                          <p:spTgt spid="5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5.00154E-007 L -1.07882 0.20871 E">
                                      <p:cBhvr>
                                        <p:cTn id="265" dur="7000" fill="hold"/>
                                        <p:tgtEl>
                                          <p:spTgt spid="5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4.9337E-007 L -0.97014 0.06414 E">
                                      <p:cBhvr>
                                        <p:cTn id="267" dur="7000" fill="hold"/>
                                        <p:tgtEl>
                                          <p:spTgt spid="3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0" dur="1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72" dur="1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10">
                                  <p:stCondLst>
                                    <p:cond delay="460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6" dur="1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xit" presetID="10">
                                  <p:stCondLst>
                                    <p:cond delay="74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78" dur="1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1.60654E-006 L -0.0158 0.08788 E">
                                      <p:cBhvr>
                                        <p:cTn id="281" dur="7100" fill="hold"/>
                                        <p:tgtEl>
                                          <p:spTgt spid="4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2" nodeType="withEffect" fill="hold" presetClass="path" presetID="0">
                                  <p:stCondLst>
                                    <p:cond delay="6900"/>
                                  </p:stCondLst>
                                  <p:childTnLst>
                                    <p:animMotion origin="layout" path="M -0.0158 0.08788 L -0.05521 0.4798 E">
                                      <p:cBhvr>
                                        <p:cTn id="283" dur="2000" fill="hold"/>
                                        <p:tgtEl>
                                          <p:spTgt spid="4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4" nodeType="withEffect" fill="hold" presetClass="emph" presetID="6">
                                  <p:stCondLst>
                                    <p:cond delay="6900"/>
                                  </p:stCondLst>
                                  <p:childTnLst>
                                    <p:animScale>
                                      <p:cBhvr>
                                        <p:cTn id="285" dur="2000" fill="hold"/>
                                        <p:tgtEl>
                                          <p:spTgt spid="450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286" autoRev="1" nodeType="withEffect" fill="hold" presetClass="emph" presetID="6">
                                  <p:stCondLst>
                                    <p:cond delay="6900"/>
                                  </p:stCondLst>
                                  <p:childTnLst>
                                    <p:animScale>
                                      <p:cBhvr>
                                        <p:cTn id="287" dur="2000" fill="hold"/>
                                        <p:tgtEl>
                                          <p:spTgt spid="558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1">
                                  <p:stCondLst>
                                    <p:cond delay="890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0" nodeType="withEffect" fill="hold" presetClass="exit" presetID="1">
                                  <p:stCondLst>
                                    <p:cond delay="890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2" nodeType="withEffect" fill="hold" presetClass="emph" presetID="8">
                                  <p:stCondLst>
                                    <p:cond delay="8900"/>
                                  </p:stCondLst>
                                  <p:childTnLst>
                                    <p:animRot by="3600000">
                                      <p:cBhvr>
                                        <p:cTn id="293" dur="1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94" nodeType="withEffect" fill="hold" presetClass="path" presetID="0">
                                  <p:stCondLst>
                                    <p:cond delay="8900"/>
                                  </p:stCondLst>
                                  <p:childTnLst>
                                    <p:animMotion origin="layout" path="M -3.61111E-006 -5.90194E-006 L 0.05521 -0.4758 E">
                                      <p:cBhvr>
                                        <p:cTn id="295" dur="2000" fill="hold"/>
                                        <p:tgtEl>
                                          <p:spTgt spid="5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8" dur="1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1" dur="1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03" dur="7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04" nodeType="withEffect" fill="hold" presetClass="emph" presetID="26" repeatCount="11300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05" dur="83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6" dur="42" autoRev="1" fill="hold"/>
                                        <p:tgtEl>
                                          <p:spTgt spid="58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07" nodeType="withEffect" fill="hold" presetClass="exit" presetID="31">
                                  <p:stCondLst>
                                    <p:cond delay="79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8" dur="1700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700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700"/>
                                        <p:tgtEl>
                                          <p:spTgt spid="5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11" dur="17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1699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14" dur="7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15" nodeType="withEffect" fill="hold" presetClass="emph" presetID="26" repeatCount="11300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16" dur="83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7" dur="42" autoRev="1" fill="hold"/>
                                        <p:tgtEl>
                                          <p:spTgt spid="58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18" nodeType="withEffect" fill="hold" presetClass="exit" presetID="31">
                                  <p:stCondLst>
                                    <p:cond delay="7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9" dur="1900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900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900"/>
                                        <p:tgtEl>
                                          <p:spTgt spid="5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22" dur="19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1899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2" name=""/>
          <p:cNvGrpSpPr/>
          <p:nvPr/>
        </p:nvGrpSpPr>
        <p:grpSpPr>
          <a:xfrm>
            <a:off x="-3240" y="2676600"/>
            <a:ext cx="12731760" cy="582480"/>
            <a:chOff x="-3240" y="2676600"/>
            <a:chExt cx="12731760" cy="582480"/>
          </a:xfrm>
        </p:grpSpPr>
        <p:sp>
          <p:nvSpPr>
            <p:cNvPr id="583" name="任意多边形 14"/>
            <p:cNvSpPr/>
            <p:nvPr/>
          </p:nvSpPr>
          <p:spPr>
            <a:xfrm>
              <a:off x="-3240" y="2676600"/>
              <a:ext cx="12725640" cy="577080"/>
            </a:xfrm>
            <a:custGeom>
              <a:avLst/>
              <a:gdLst>
                <a:gd name="textAreaLeft" fmla="*/ 0 w 12725640"/>
                <a:gd name="textAreaRight" fmla="*/ 12726000 w 12725640"/>
                <a:gd name="textAreaTop" fmla="*/ 0 h 577080"/>
                <a:gd name="textAreaBottom" fmla="*/ 577440 h 577080"/>
              </a:gdLst>
              <a:ahLst/>
              <a:rect l="textAreaLeft" t="textAreaTop" r="textAreaRight" b="textAreaBottom"/>
              <a:pathLst>
                <a:path w="6683022" h="575734">
                  <a:moveTo>
                    <a:pt x="0" y="575734"/>
                  </a:moveTo>
                  <a:lnTo>
                    <a:pt x="1286933" y="304800"/>
                  </a:lnTo>
                  <a:lnTo>
                    <a:pt x="2381955" y="56445"/>
                  </a:lnTo>
                  <a:lnTo>
                    <a:pt x="3194755" y="0"/>
                  </a:lnTo>
                  <a:lnTo>
                    <a:pt x="4064000" y="22578"/>
                  </a:lnTo>
                  <a:lnTo>
                    <a:pt x="4696178" y="67734"/>
                  </a:lnTo>
                  <a:lnTo>
                    <a:pt x="5734755" y="270934"/>
                  </a:lnTo>
                  <a:lnTo>
                    <a:pt x="6344355" y="361245"/>
                  </a:lnTo>
                  <a:cubicBezTo>
                    <a:pt x="6449695" y="372950"/>
                    <a:pt x="6637658" y="553157"/>
                    <a:pt x="6683022" y="553157"/>
                  </a:cubicBez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任意多边形 278"/>
            <p:cNvSpPr/>
            <p:nvPr/>
          </p:nvSpPr>
          <p:spPr>
            <a:xfrm>
              <a:off x="2880" y="2682000"/>
              <a:ext cx="12725640" cy="577080"/>
            </a:xfrm>
            <a:custGeom>
              <a:avLst/>
              <a:gdLst>
                <a:gd name="textAreaLeft" fmla="*/ 0 w 12725640"/>
                <a:gd name="textAreaRight" fmla="*/ 12726000 w 12725640"/>
                <a:gd name="textAreaTop" fmla="*/ 0 h 577080"/>
                <a:gd name="textAreaBottom" fmla="*/ 577440 h 577080"/>
              </a:gdLst>
              <a:ahLst/>
              <a:rect l="textAreaLeft" t="textAreaTop" r="textAreaRight" b="textAreaBottom"/>
              <a:pathLst>
                <a:path w="6683022" h="575734">
                  <a:moveTo>
                    <a:pt x="0" y="575734"/>
                  </a:moveTo>
                  <a:lnTo>
                    <a:pt x="1286933" y="304800"/>
                  </a:lnTo>
                  <a:lnTo>
                    <a:pt x="2381955" y="56445"/>
                  </a:lnTo>
                  <a:lnTo>
                    <a:pt x="3194755" y="0"/>
                  </a:lnTo>
                  <a:lnTo>
                    <a:pt x="4064000" y="22578"/>
                  </a:lnTo>
                  <a:lnTo>
                    <a:pt x="4696178" y="67734"/>
                  </a:lnTo>
                  <a:lnTo>
                    <a:pt x="5734755" y="270934"/>
                  </a:lnTo>
                  <a:lnTo>
                    <a:pt x="6344355" y="361245"/>
                  </a:lnTo>
                  <a:cubicBezTo>
                    <a:pt x="6449695" y="372950"/>
                    <a:pt x="6637658" y="553157"/>
                    <a:pt x="6683022" y="553157"/>
                  </a:cubicBezTo>
                </a:path>
              </a:pathLst>
            </a:cu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5" name="五角星 50"/>
          <p:cNvSpPr/>
          <p:nvPr/>
        </p:nvSpPr>
        <p:spPr>
          <a:xfrm>
            <a:off x="-2927520" y="-1058760"/>
            <a:ext cx="5229360" cy="4979880"/>
          </a:xfrm>
          <a:prstGeom prst="star5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矩形 6"/>
          <p:cNvSpPr/>
          <p:nvPr/>
        </p:nvSpPr>
        <p:spPr>
          <a:xfrm>
            <a:off x="19037160" y="0"/>
            <a:ext cx="863640" cy="411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95e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7" name=""/>
          <p:cNvGrpSpPr/>
          <p:nvPr/>
        </p:nvGrpSpPr>
        <p:grpSpPr>
          <a:xfrm>
            <a:off x="-1689120" y="7827840"/>
            <a:ext cx="19520280" cy="2298960"/>
            <a:chOff x="-1689120" y="7827840"/>
            <a:chExt cx="19520280" cy="2298960"/>
          </a:xfrm>
        </p:grpSpPr>
        <p:sp>
          <p:nvSpPr>
            <p:cNvPr id="588" name="矩形 2"/>
            <p:cNvSpPr/>
            <p:nvPr/>
          </p:nvSpPr>
          <p:spPr>
            <a:xfrm>
              <a:off x="-1689120" y="7827840"/>
              <a:ext cx="19485360" cy="223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矩形 2"/>
            <p:cNvSpPr/>
            <p:nvPr/>
          </p:nvSpPr>
          <p:spPr>
            <a:xfrm>
              <a:off x="-1683000" y="7827840"/>
              <a:ext cx="19514160" cy="2298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0" name=""/>
          <p:cNvGrpSpPr/>
          <p:nvPr/>
        </p:nvGrpSpPr>
        <p:grpSpPr>
          <a:xfrm>
            <a:off x="-24304680" y="2905200"/>
            <a:ext cx="42510240" cy="2750760"/>
            <a:chOff x="-24304680" y="2905200"/>
            <a:chExt cx="42510240" cy="2750760"/>
          </a:xfrm>
        </p:grpSpPr>
        <p:grpSp>
          <p:nvGrpSpPr>
            <p:cNvPr id="591" name=""/>
            <p:cNvGrpSpPr/>
            <p:nvPr/>
          </p:nvGrpSpPr>
          <p:grpSpPr>
            <a:xfrm>
              <a:off x="-24304680" y="2905200"/>
              <a:ext cx="42510240" cy="2679840"/>
              <a:chOff x="-24304680" y="2905200"/>
              <a:chExt cx="42510240" cy="2679840"/>
            </a:xfrm>
          </p:grpSpPr>
          <p:sp>
            <p:nvSpPr>
              <p:cNvPr id="592" name="矩形 8"/>
              <p:cNvSpPr/>
              <p:nvPr/>
            </p:nvSpPr>
            <p:spPr>
              <a:xfrm>
                <a:off x="-6447600" y="3115800"/>
                <a:ext cx="7704360" cy="2460600"/>
              </a:xfrm>
              <a:custGeom>
                <a:avLst/>
                <a:gdLst>
                  <a:gd name="textAreaLeft" fmla="*/ 0 w 7704360"/>
                  <a:gd name="textAreaRight" fmla="*/ 7704720 w 7704360"/>
                  <a:gd name="textAreaTop" fmla="*/ 0 h 2460600"/>
                  <a:gd name="textAreaBottom" fmla="*/ 2460960 h 2460600"/>
                </a:gdLst>
                <a:ahLst/>
                <a:rect l="textAreaLeft" t="textAreaTop" r="textAreaRight" b="textAreaBottom"/>
                <a:pathLst>
                  <a:path w="7704856" h="2460008">
                    <a:moveTo>
                      <a:pt x="0" y="114494"/>
                    </a:moveTo>
                    <a:lnTo>
                      <a:pt x="1506010" y="0"/>
                    </a:lnTo>
                    <a:lnTo>
                      <a:pt x="7704856" y="15640"/>
                    </a:lnTo>
                    <a:lnTo>
                      <a:pt x="7704856" y="2460008"/>
                    </a:lnTo>
                    <a:lnTo>
                      <a:pt x="0" y="2460008"/>
                    </a:lnTo>
                    <a:lnTo>
                      <a:pt x="0" y="11449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矩形 8"/>
              <p:cNvSpPr/>
              <p:nvPr/>
            </p:nvSpPr>
            <p:spPr>
              <a:xfrm>
                <a:off x="-6466680" y="3117960"/>
                <a:ext cx="7704360" cy="2460600"/>
              </a:xfrm>
              <a:custGeom>
                <a:avLst/>
                <a:gdLst>
                  <a:gd name="textAreaLeft" fmla="*/ 0 w 7704360"/>
                  <a:gd name="textAreaRight" fmla="*/ 7704720 w 7704360"/>
                  <a:gd name="textAreaTop" fmla="*/ 0 h 2460600"/>
                  <a:gd name="textAreaBottom" fmla="*/ 2460960 h 2460600"/>
                </a:gdLst>
                <a:ahLst/>
                <a:rect l="textAreaLeft" t="textAreaTop" r="textAreaRight" b="textAreaBottom"/>
                <a:pathLst>
                  <a:path w="7704856" h="2460008">
                    <a:moveTo>
                      <a:pt x="0" y="114494"/>
                    </a:moveTo>
                    <a:lnTo>
                      <a:pt x="1506010" y="0"/>
                    </a:lnTo>
                    <a:lnTo>
                      <a:pt x="7704856" y="15640"/>
                    </a:lnTo>
                    <a:lnTo>
                      <a:pt x="7704856" y="2460008"/>
                    </a:lnTo>
                    <a:lnTo>
                      <a:pt x="0" y="2460008"/>
                    </a:lnTo>
                    <a:lnTo>
                      <a:pt x="0" y="114494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94" name=""/>
              <p:cNvGrpSpPr/>
              <p:nvPr/>
            </p:nvGrpSpPr>
            <p:grpSpPr>
              <a:xfrm>
                <a:off x="-24304680" y="2905200"/>
                <a:ext cx="42510240" cy="2679840"/>
                <a:chOff x="-24304680" y="2905200"/>
                <a:chExt cx="42510240" cy="2679840"/>
              </a:xfrm>
            </p:grpSpPr>
            <p:grpSp>
              <p:nvGrpSpPr>
                <p:cNvPr id="595" name=""/>
                <p:cNvGrpSpPr/>
                <p:nvPr/>
              </p:nvGrpSpPr>
              <p:grpSpPr>
                <a:xfrm>
                  <a:off x="-24304680" y="2970720"/>
                  <a:ext cx="19566720" cy="2588400"/>
                  <a:chOff x="-24304680" y="2970720"/>
                  <a:chExt cx="19566720" cy="2588400"/>
                </a:xfrm>
              </p:grpSpPr>
              <p:grpSp>
                <p:nvGrpSpPr>
                  <p:cNvPr id="596" name=""/>
                  <p:cNvGrpSpPr/>
                  <p:nvPr/>
                </p:nvGrpSpPr>
                <p:grpSpPr>
                  <a:xfrm>
                    <a:off x="-24304320" y="2970720"/>
                    <a:ext cx="19566360" cy="2588400"/>
                    <a:chOff x="-24304320" y="2970720"/>
                    <a:chExt cx="19566360" cy="2588400"/>
                  </a:xfrm>
                </p:grpSpPr>
                <p:sp>
                  <p:nvSpPr>
                    <p:cNvPr id="597" name="矩形 2"/>
                    <p:cNvSpPr/>
                    <p:nvPr/>
                  </p:nvSpPr>
                  <p:spPr>
                    <a:xfrm>
                      <a:off x="-24304320" y="2992320"/>
                      <a:ext cx="19566360" cy="2566800"/>
                    </a:xfrm>
                    <a:custGeom>
                      <a:avLst/>
                      <a:gdLst>
                        <a:gd name="textAreaLeft" fmla="*/ 0 w 19566360"/>
                        <a:gd name="textAreaRight" fmla="*/ 19566720 w 19566360"/>
                        <a:gd name="textAreaTop" fmla="*/ 0 h 2566800"/>
                        <a:gd name="textAreaBottom" fmla="*/ 2567160 h 2566800"/>
                      </a:gdLst>
                      <a:ahLst/>
                      <a:rect l="textAreaLeft" t="textAreaTop" r="textAreaRight" b="textAreaBottom"/>
                      <a:pathLst>
                        <a:path w="9142760" h="2565930">
                          <a:moveTo>
                            <a:pt x="0" y="154044"/>
                          </a:moveTo>
                          <a:cubicBezTo>
                            <a:pt x="684179" y="151334"/>
                            <a:pt x="1018162" y="2710"/>
                            <a:pt x="1702341" y="0"/>
                          </a:cubicBezTo>
                          <a:cubicBezTo>
                            <a:pt x="3501958" y="48638"/>
                            <a:pt x="5165387" y="223737"/>
                            <a:pt x="6965004" y="272375"/>
                          </a:cubicBezTo>
                          <a:lnTo>
                            <a:pt x="9023829" y="165883"/>
                          </a:lnTo>
                          <a:cubicBezTo>
                            <a:pt x="9065552" y="158537"/>
                            <a:pt x="9056084" y="168048"/>
                            <a:pt x="9097807" y="160702"/>
                          </a:cubicBezTo>
                          <a:cubicBezTo>
                            <a:pt x="9137841" y="156488"/>
                            <a:pt x="8715188" y="514663"/>
                            <a:pt x="8755222" y="510449"/>
                          </a:cubicBezTo>
                          <a:cubicBezTo>
                            <a:pt x="8878605" y="485166"/>
                            <a:pt x="8911420" y="615795"/>
                            <a:pt x="9034803" y="590512"/>
                          </a:cubicBezTo>
                          <a:cubicBezTo>
                            <a:pt x="9089275" y="576466"/>
                            <a:pt x="9037577" y="608319"/>
                            <a:pt x="9092049" y="594273"/>
                          </a:cubicBezTo>
                          <a:cubicBezTo>
                            <a:pt x="9096718" y="600784"/>
                            <a:pt x="9099176" y="613943"/>
                            <a:pt x="9052883" y="656157"/>
                          </a:cubicBezTo>
                          <a:cubicBezTo>
                            <a:pt x="9006590" y="698371"/>
                            <a:pt x="8834381" y="809820"/>
                            <a:pt x="8814289" y="847555"/>
                          </a:cubicBezTo>
                          <a:cubicBezTo>
                            <a:pt x="8875980" y="830700"/>
                            <a:pt x="8880574" y="872838"/>
                            <a:pt x="8942265" y="855983"/>
                          </a:cubicBezTo>
                          <a:cubicBezTo>
                            <a:pt x="8967541" y="863069"/>
                            <a:pt x="8973697" y="895832"/>
                            <a:pt x="8984574" y="913996"/>
                          </a:cubicBezTo>
                          <a:cubicBezTo>
                            <a:pt x="8995451" y="932160"/>
                            <a:pt x="8986840" y="950024"/>
                            <a:pt x="9007529" y="964969"/>
                          </a:cubicBezTo>
                          <a:cubicBezTo>
                            <a:pt x="9036378" y="986497"/>
                            <a:pt x="9069732" y="980444"/>
                            <a:pt x="9090077" y="979742"/>
                          </a:cubicBezTo>
                          <a:cubicBezTo>
                            <a:pt x="9110422" y="979040"/>
                            <a:pt x="9141608" y="974733"/>
                            <a:pt x="9137184" y="982398"/>
                          </a:cubicBezTo>
                          <a:cubicBezTo>
                            <a:pt x="9153470" y="983959"/>
                            <a:pt x="9133113" y="999539"/>
                            <a:pt x="9088813" y="1031143"/>
                          </a:cubicBezTo>
                          <a:cubicBezTo>
                            <a:pt x="9044513" y="1062747"/>
                            <a:pt x="8893250" y="1143381"/>
                            <a:pt x="8871386" y="1172020"/>
                          </a:cubicBezTo>
                          <a:cubicBezTo>
                            <a:pt x="8950797" y="1142523"/>
                            <a:pt x="8902232" y="1197303"/>
                            <a:pt x="8981643" y="1167806"/>
                          </a:cubicBezTo>
                          <a:cubicBezTo>
                            <a:pt x="9003957" y="1160783"/>
                            <a:pt x="8891414" y="1283286"/>
                            <a:pt x="8913728" y="1276263"/>
                          </a:cubicBezTo>
                          <a:cubicBezTo>
                            <a:pt x="8957043" y="1259408"/>
                            <a:pt x="8534708" y="1677678"/>
                            <a:pt x="8578023" y="1660823"/>
                          </a:cubicBezTo>
                          <a:cubicBezTo>
                            <a:pt x="8578032" y="1693480"/>
                            <a:pt x="8865585" y="1503258"/>
                            <a:pt x="8936136" y="1469548"/>
                          </a:cubicBezTo>
                          <a:cubicBezTo>
                            <a:pt x="9006687" y="1435838"/>
                            <a:pt x="9059751" y="1390085"/>
                            <a:pt x="9001332" y="1458560"/>
                          </a:cubicBezTo>
                          <a:cubicBezTo>
                            <a:pt x="9051210" y="1433277"/>
                            <a:pt x="8565554" y="1913653"/>
                            <a:pt x="8615432" y="1888370"/>
                          </a:cubicBezTo>
                          <a:cubicBezTo>
                            <a:pt x="8666623" y="1857469"/>
                            <a:pt x="8700093" y="1898202"/>
                            <a:pt x="8751284" y="1867301"/>
                          </a:cubicBezTo>
                          <a:cubicBezTo>
                            <a:pt x="8791974" y="1842018"/>
                            <a:pt x="8590493" y="2094847"/>
                            <a:pt x="8631183" y="2069564"/>
                          </a:cubicBezTo>
                          <a:cubicBezTo>
                            <a:pt x="8702719" y="2027426"/>
                            <a:pt x="8669904" y="2200193"/>
                            <a:pt x="8741440" y="2158055"/>
                          </a:cubicBezTo>
                          <a:cubicBezTo>
                            <a:pt x="8781474" y="2132772"/>
                            <a:pt x="8589180" y="2381387"/>
                            <a:pt x="8629214" y="2356104"/>
                          </a:cubicBezTo>
                          <a:cubicBezTo>
                            <a:pt x="8718470" y="2295706"/>
                            <a:pt x="8461203" y="2618766"/>
                            <a:pt x="8550459" y="2558368"/>
                          </a:cubicBezTo>
                          <a:lnTo>
                            <a:pt x="0" y="2526760"/>
                          </a:lnTo>
                          <a:lnTo>
                            <a:pt x="0" y="154044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98" name="矩形 2"/>
                    <p:cNvSpPr/>
                    <p:nvPr/>
                  </p:nvSpPr>
                  <p:spPr>
                    <a:xfrm>
                      <a:off x="-24281280" y="2970720"/>
                      <a:ext cx="19499760" cy="2299680"/>
                    </a:xfrm>
                    <a:custGeom>
                      <a:avLst/>
                      <a:gdLst>
                        <a:gd name="textAreaLeft" fmla="*/ 0 w 19499760"/>
                        <a:gd name="textAreaRight" fmla="*/ 19500120 w 19499760"/>
                        <a:gd name="textAreaTop" fmla="*/ 0 h 2299680"/>
                        <a:gd name="textAreaBottom" fmla="*/ 2300040 h 2299680"/>
                      </a:gdLst>
                      <a:ahLst/>
                      <a:rect l="textAreaLeft" t="textAreaTop" r="textAreaRight" b="textAreaBottom"/>
                      <a:pathLst>
                        <a:path w="9114770" h="2526760">
                          <a:moveTo>
                            <a:pt x="0" y="154044"/>
                          </a:moveTo>
                          <a:cubicBezTo>
                            <a:pt x="684179" y="151334"/>
                            <a:pt x="1018162" y="2710"/>
                            <a:pt x="1702341" y="0"/>
                          </a:cubicBezTo>
                          <a:cubicBezTo>
                            <a:pt x="3501958" y="48638"/>
                            <a:pt x="5165387" y="223737"/>
                            <a:pt x="6965004" y="272375"/>
                          </a:cubicBezTo>
                          <a:lnTo>
                            <a:pt x="9068169" y="158895"/>
                          </a:lnTo>
                          <a:lnTo>
                            <a:pt x="9090400" y="197165"/>
                          </a:lnTo>
                          <a:cubicBezTo>
                            <a:pt x="9133249" y="193709"/>
                            <a:pt x="8702156" y="584972"/>
                            <a:pt x="8745005" y="581516"/>
                          </a:cubicBezTo>
                          <a:cubicBezTo>
                            <a:pt x="8844213" y="559403"/>
                            <a:pt x="8855968" y="679920"/>
                            <a:pt x="8955176" y="657807"/>
                          </a:cubicBezTo>
                          <a:cubicBezTo>
                            <a:pt x="9006896" y="645645"/>
                            <a:pt x="9013991" y="678339"/>
                            <a:pt x="9065711" y="666177"/>
                          </a:cubicBezTo>
                          <a:cubicBezTo>
                            <a:pt x="9089438" y="669046"/>
                            <a:pt x="9096104" y="693172"/>
                            <a:pt x="9040387" y="745138"/>
                          </a:cubicBezTo>
                          <a:cubicBezTo>
                            <a:pt x="8984671" y="797104"/>
                            <a:pt x="8812694" y="917741"/>
                            <a:pt x="8787321" y="966285"/>
                          </a:cubicBezTo>
                          <a:cubicBezTo>
                            <a:pt x="8871013" y="937538"/>
                            <a:pt x="8861610" y="995032"/>
                            <a:pt x="8945302" y="966285"/>
                          </a:cubicBezTo>
                          <a:cubicBezTo>
                            <a:pt x="8968341" y="958546"/>
                            <a:pt x="8960347" y="1093436"/>
                            <a:pt x="8983386" y="1085697"/>
                          </a:cubicBezTo>
                          <a:cubicBezTo>
                            <a:pt x="9034166" y="1068006"/>
                            <a:pt x="9063787" y="1119971"/>
                            <a:pt x="9114567" y="1102280"/>
                          </a:cubicBezTo>
                          <a:cubicBezTo>
                            <a:pt x="9123500" y="1097857"/>
                            <a:pt x="8834810" y="1325624"/>
                            <a:pt x="8843743" y="1321201"/>
                          </a:cubicBezTo>
                          <a:cubicBezTo>
                            <a:pt x="8911919" y="1293559"/>
                            <a:pt x="8885589" y="1338891"/>
                            <a:pt x="8953765" y="1311249"/>
                          </a:cubicBezTo>
                          <a:cubicBezTo>
                            <a:pt x="8973983" y="1300193"/>
                            <a:pt x="8929315" y="1438400"/>
                            <a:pt x="8949533" y="1427344"/>
                          </a:cubicBezTo>
                          <a:cubicBezTo>
                            <a:pt x="8982916" y="1411864"/>
                            <a:pt x="8536714" y="1874029"/>
                            <a:pt x="8570097" y="1858549"/>
                          </a:cubicBezTo>
                          <a:cubicBezTo>
                            <a:pt x="8551694" y="1910894"/>
                            <a:pt x="8799805" y="1722810"/>
                            <a:pt x="8856508" y="1697589"/>
                          </a:cubicBezTo>
                          <a:cubicBezTo>
                            <a:pt x="8913211" y="1672368"/>
                            <a:pt x="8951627" y="1646238"/>
                            <a:pt x="8910317" y="1707222"/>
                          </a:cubicBezTo>
                          <a:cubicBezTo>
                            <a:pt x="8955454" y="1684003"/>
                            <a:pt x="8546119" y="2130540"/>
                            <a:pt x="8591256" y="2107321"/>
                          </a:cubicBezTo>
                          <a:cubicBezTo>
                            <a:pt x="8689524" y="2045404"/>
                            <a:pt x="8652379" y="2132752"/>
                            <a:pt x="8750647" y="2070835"/>
                          </a:cubicBezTo>
                          <a:cubicBezTo>
                            <a:pt x="8773216" y="2054250"/>
                            <a:pt x="8585613" y="2322925"/>
                            <a:pt x="8608182" y="2306340"/>
                          </a:cubicBezTo>
                          <a:cubicBezTo>
                            <a:pt x="8698457" y="2245529"/>
                            <a:pt x="8663193" y="2443441"/>
                            <a:pt x="8753468" y="2382630"/>
                          </a:cubicBezTo>
                          <a:cubicBezTo>
                            <a:pt x="8793904" y="2352777"/>
                            <a:pt x="8533893" y="2531894"/>
                            <a:pt x="8574329" y="2502041"/>
                          </a:cubicBezTo>
                          <a:lnTo>
                            <a:pt x="0" y="2526760"/>
                          </a:lnTo>
                          <a:lnTo>
                            <a:pt x="0" y="154044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99" name="矩形 2"/>
                  <p:cNvSpPr/>
                  <p:nvPr/>
                </p:nvSpPr>
                <p:spPr>
                  <a:xfrm>
                    <a:off x="-24304680" y="2991960"/>
                    <a:ext cx="19540080" cy="2233080"/>
                  </a:xfrm>
                  <a:custGeom>
                    <a:avLst/>
                    <a:gdLst>
                      <a:gd name="textAreaLeft" fmla="*/ 0 w 19540080"/>
                      <a:gd name="textAreaRight" fmla="*/ 19540440 w 19540080"/>
                      <a:gd name="textAreaTop" fmla="*/ 0 h 2233080"/>
                      <a:gd name="textAreaBottom" fmla="*/ 2233440 h 2233080"/>
                    </a:gdLst>
                    <a:ahLst/>
                    <a:rect l="textAreaLeft" t="textAreaTop" r="textAreaRight" b="textAreaBottom"/>
                    <a:pathLst>
                      <a:path w="9109418" h="2526760">
                        <a:moveTo>
                          <a:pt x="0" y="154044"/>
                        </a:moveTo>
                        <a:cubicBezTo>
                          <a:pt x="684179" y="151334"/>
                          <a:pt x="1018162" y="2710"/>
                          <a:pt x="1702341" y="0"/>
                        </a:cubicBezTo>
                        <a:cubicBezTo>
                          <a:pt x="3501958" y="48638"/>
                          <a:pt x="5165387" y="223737"/>
                          <a:pt x="6965004" y="272375"/>
                        </a:cubicBezTo>
                        <a:lnTo>
                          <a:pt x="9075998" y="151834"/>
                        </a:lnTo>
                        <a:cubicBezTo>
                          <a:pt x="9162152" y="144451"/>
                          <a:pt x="8666573" y="568334"/>
                          <a:pt x="8752727" y="560951"/>
                        </a:cubicBezTo>
                        <a:cubicBezTo>
                          <a:pt x="8942680" y="522616"/>
                          <a:pt x="8823960" y="685539"/>
                          <a:pt x="9013913" y="647204"/>
                        </a:cubicBezTo>
                        <a:cubicBezTo>
                          <a:pt x="9283013" y="580118"/>
                          <a:pt x="8578604" y="1030553"/>
                          <a:pt x="8847704" y="963467"/>
                        </a:cubicBezTo>
                        <a:cubicBezTo>
                          <a:pt x="9089103" y="896381"/>
                          <a:pt x="8855618" y="1145558"/>
                          <a:pt x="9097017" y="1078472"/>
                        </a:cubicBezTo>
                        <a:cubicBezTo>
                          <a:pt x="9133632" y="1106084"/>
                          <a:pt x="9081874" y="1147501"/>
                          <a:pt x="9036365" y="1190628"/>
                        </a:cubicBezTo>
                        <a:cubicBezTo>
                          <a:pt x="8990856" y="1233755"/>
                          <a:pt x="8878384" y="1245048"/>
                          <a:pt x="8823960" y="1337232"/>
                        </a:cubicBezTo>
                        <a:cubicBezTo>
                          <a:pt x="9037657" y="1231811"/>
                          <a:pt x="9002041" y="1471405"/>
                          <a:pt x="8740855" y="1682246"/>
                        </a:cubicBezTo>
                        <a:cubicBezTo>
                          <a:pt x="8982254" y="1567241"/>
                          <a:pt x="8377798" y="1970896"/>
                          <a:pt x="8619197" y="1855891"/>
                        </a:cubicBezTo>
                        <a:cubicBezTo>
                          <a:pt x="8690429" y="1788805"/>
                          <a:pt x="8744455" y="1793128"/>
                          <a:pt x="8815687" y="1726042"/>
                        </a:cubicBezTo>
                        <a:cubicBezTo>
                          <a:pt x="9227252" y="1467282"/>
                          <a:pt x="8269930" y="2372273"/>
                          <a:pt x="8681495" y="2113513"/>
                        </a:cubicBezTo>
                        <a:cubicBezTo>
                          <a:pt x="8699636" y="2172533"/>
                          <a:pt x="8602113" y="2252050"/>
                          <a:pt x="8620254" y="2311070"/>
                        </a:cubicBezTo>
                        <a:lnTo>
                          <a:pt x="8780703" y="2429776"/>
                        </a:lnTo>
                        <a:lnTo>
                          <a:pt x="0" y="2526760"/>
                        </a:lnTo>
                        <a:lnTo>
                          <a:pt x="0" y="15404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0" name=""/>
                <p:cNvGrpSpPr/>
                <p:nvPr/>
              </p:nvGrpSpPr>
              <p:grpSpPr>
                <a:xfrm>
                  <a:off x="-1335600" y="2905200"/>
                  <a:ext cx="19541160" cy="2679840"/>
                  <a:chOff x="-1335600" y="2905200"/>
                  <a:chExt cx="19541160" cy="2679840"/>
                </a:xfrm>
              </p:grpSpPr>
              <p:sp>
                <p:nvSpPr>
                  <p:cNvPr id="601" name="矩形 2"/>
                  <p:cNvSpPr/>
                  <p:nvPr/>
                </p:nvSpPr>
                <p:spPr>
                  <a:xfrm flipH="1">
                    <a:off x="-1335960" y="2907720"/>
                    <a:ext cx="19541160" cy="2677320"/>
                  </a:xfrm>
                  <a:custGeom>
                    <a:avLst/>
                    <a:gdLst>
                      <a:gd name="textAreaLeft" fmla="*/ -360 w 19541160"/>
                      <a:gd name="textAreaRight" fmla="*/ 19541160 w 19541160"/>
                      <a:gd name="textAreaTop" fmla="*/ 0 h 2677320"/>
                      <a:gd name="textAreaBottom" fmla="*/ 2677680 h 2677320"/>
                    </a:gdLst>
                    <a:ahLst/>
                    <a:rect l="textAreaLeft" t="textAreaTop" r="textAreaRight" b="textAreaBottom"/>
                    <a:pathLst>
                      <a:path w="9130999" h="2565930">
                        <a:moveTo>
                          <a:pt x="0" y="154044"/>
                        </a:moveTo>
                        <a:cubicBezTo>
                          <a:pt x="684179" y="151334"/>
                          <a:pt x="1018162" y="2710"/>
                          <a:pt x="1702341" y="0"/>
                        </a:cubicBezTo>
                        <a:cubicBezTo>
                          <a:pt x="3501958" y="48638"/>
                          <a:pt x="5165387" y="223737"/>
                          <a:pt x="6965004" y="272375"/>
                        </a:cubicBezTo>
                        <a:lnTo>
                          <a:pt x="9023829" y="165883"/>
                        </a:lnTo>
                        <a:cubicBezTo>
                          <a:pt x="9322199" y="205562"/>
                          <a:pt x="8902673" y="351543"/>
                          <a:pt x="8904502" y="422314"/>
                        </a:cubicBezTo>
                        <a:cubicBezTo>
                          <a:pt x="8891746" y="490014"/>
                          <a:pt x="9013939" y="426540"/>
                          <a:pt x="9060536" y="439884"/>
                        </a:cubicBezTo>
                        <a:cubicBezTo>
                          <a:pt x="9107133" y="453228"/>
                          <a:pt x="9056970" y="544601"/>
                          <a:pt x="9034803" y="590512"/>
                        </a:cubicBezTo>
                        <a:cubicBezTo>
                          <a:pt x="9044647" y="646696"/>
                          <a:pt x="8829712" y="803310"/>
                          <a:pt x="8814289" y="847555"/>
                        </a:cubicBezTo>
                        <a:cubicBezTo>
                          <a:pt x="8875980" y="830700"/>
                          <a:pt x="8880574" y="872838"/>
                          <a:pt x="8942265" y="855983"/>
                        </a:cubicBezTo>
                        <a:cubicBezTo>
                          <a:pt x="8969173" y="846151"/>
                          <a:pt x="8980621" y="974801"/>
                          <a:pt x="9007529" y="964969"/>
                        </a:cubicBezTo>
                        <a:cubicBezTo>
                          <a:pt x="9036378" y="986497"/>
                          <a:pt x="9079962" y="961368"/>
                          <a:pt x="9090077" y="979742"/>
                        </a:cubicBezTo>
                        <a:cubicBezTo>
                          <a:pt x="9100193" y="998116"/>
                          <a:pt x="9104670" y="1043165"/>
                          <a:pt x="9068222" y="1075211"/>
                        </a:cubicBezTo>
                        <a:cubicBezTo>
                          <a:pt x="9023922" y="1106815"/>
                          <a:pt x="8893250" y="1143381"/>
                          <a:pt x="8871386" y="1172020"/>
                        </a:cubicBezTo>
                        <a:cubicBezTo>
                          <a:pt x="8950797" y="1142523"/>
                          <a:pt x="8902232" y="1197303"/>
                          <a:pt x="8981643" y="1167806"/>
                        </a:cubicBezTo>
                        <a:cubicBezTo>
                          <a:pt x="9003957" y="1160783"/>
                          <a:pt x="8943578" y="1288602"/>
                          <a:pt x="8965892" y="1281579"/>
                        </a:cubicBezTo>
                        <a:cubicBezTo>
                          <a:pt x="9009207" y="1264724"/>
                          <a:pt x="8822972" y="1446323"/>
                          <a:pt x="8866287" y="1429468"/>
                        </a:cubicBezTo>
                        <a:cubicBezTo>
                          <a:pt x="8836591" y="1507687"/>
                          <a:pt x="8772071" y="1656073"/>
                          <a:pt x="8828896" y="1673774"/>
                        </a:cubicBezTo>
                        <a:cubicBezTo>
                          <a:pt x="8885721" y="1691475"/>
                          <a:pt x="8947686" y="1744119"/>
                          <a:pt x="8918972" y="1767032"/>
                        </a:cubicBezTo>
                        <a:cubicBezTo>
                          <a:pt x="8968850" y="1741749"/>
                          <a:pt x="8565554" y="1913653"/>
                          <a:pt x="8615432" y="1888370"/>
                        </a:cubicBezTo>
                        <a:cubicBezTo>
                          <a:pt x="8666623" y="1857469"/>
                          <a:pt x="8700093" y="1898202"/>
                          <a:pt x="8751284" y="1867301"/>
                        </a:cubicBezTo>
                        <a:cubicBezTo>
                          <a:pt x="8791974" y="1842018"/>
                          <a:pt x="8590493" y="2094847"/>
                          <a:pt x="8631183" y="2069564"/>
                        </a:cubicBezTo>
                        <a:cubicBezTo>
                          <a:pt x="8702719" y="2027426"/>
                          <a:pt x="8669904" y="2200193"/>
                          <a:pt x="8741440" y="2158055"/>
                        </a:cubicBezTo>
                        <a:cubicBezTo>
                          <a:pt x="8781474" y="2132772"/>
                          <a:pt x="8589180" y="2381387"/>
                          <a:pt x="8629214" y="2356104"/>
                        </a:cubicBezTo>
                        <a:cubicBezTo>
                          <a:pt x="8718470" y="2295706"/>
                          <a:pt x="8461203" y="2618766"/>
                          <a:pt x="8550459" y="2558368"/>
                        </a:cubicBezTo>
                        <a:lnTo>
                          <a:pt x="0" y="2526760"/>
                        </a:lnTo>
                        <a:lnTo>
                          <a:pt x="0" y="15404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2" name="矩形 2"/>
                  <p:cNvSpPr/>
                  <p:nvPr/>
                </p:nvSpPr>
                <p:spPr>
                  <a:xfrm flipH="1">
                    <a:off x="-1335960" y="2905200"/>
                    <a:ext cx="19541160" cy="2677320"/>
                  </a:xfrm>
                  <a:custGeom>
                    <a:avLst/>
                    <a:gdLst>
                      <a:gd name="textAreaLeft" fmla="*/ -360 w 19541160"/>
                      <a:gd name="textAreaRight" fmla="*/ 19541160 w 19541160"/>
                      <a:gd name="textAreaTop" fmla="*/ 0 h 2677320"/>
                      <a:gd name="textAreaBottom" fmla="*/ 2677680 h 2677320"/>
                    </a:gdLst>
                    <a:ahLst/>
                    <a:rect l="textAreaLeft" t="textAreaTop" r="textAreaRight" b="textAreaBottom"/>
                    <a:pathLst>
                      <a:path w="9130999" h="2565930">
                        <a:moveTo>
                          <a:pt x="0" y="154044"/>
                        </a:moveTo>
                        <a:cubicBezTo>
                          <a:pt x="684179" y="151334"/>
                          <a:pt x="1018162" y="2710"/>
                          <a:pt x="1702341" y="0"/>
                        </a:cubicBezTo>
                        <a:cubicBezTo>
                          <a:pt x="3501958" y="48638"/>
                          <a:pt x="5165387" y="223737"/>
                          <a:pt x="6965004" y="272375"/>
                        </a:cubicBezTo>
                        <a:lnTo>
                          <a:pt x="9023829" y="165883"/>
                        </a:lnTo>
                        <a:cubicBezTo>
                          <a:pt x="9322199" y="205562"/>
                          <a:pt x="8902673" y="351543"/>
                          <a:pt x="8904502" y="422314"/>
                        </a:cubicBezTo>
                        <a:cubicBezTo>
                          <a:pt x="8891746" y="490014"/>
                          <a:pt x="9013939" y="426540"/>
                          <a:pt x="9060536" y="439884"/>
                        </a:cubicBezTo>
                        <a:cubicBezTo>
                          <a:pt x="9107133" y="453228"/>
                          <a:pt x="9056970" y="544601"/>
                          <a:pt x="9034803" y="590512"/>
                        </a:cubicBezTo>
                        <a:cubicBezTo>
                          <a:pt x="9044647" y="646696"/>
                          <a:pt x="8829712" y="803310"/>
                          <a:pt x="8814289" y="847555"/>
                        </a:cubicBezTo>
                        <a:cubicBezTo>
                          <a:pt x="8875980" y="830700"/>
                          <a:pt x="8880574" y="872838"/>
                          <a:pt x="8942265" y="855983"/>
                        </a:cubicBezTo>
                        <a:cubicBezTo>
                          <a:pt x="8969173" y="846151"/>
                          <a:pt x="8980621" y="974801"/>
                          <a:pt x="9007529" y="964969"/>
                        </a:cubicBezTo>
                        <a:cubicBezTo>
                          <a:pt x="9036378" y="986497"/>
                          <a:pt x="9079962" y="961368"/>
                          <a:pt x="9090077" y="979742"/>
                        </a:cubicBezTo>
                        <a:cubicBezTo>
                          <a:pt x="9100193" y="998116"/>
                          <a:pt x="9104670" y="1043165"/>
                          <a:pt x="9068222" y="1075211"/>
                        </a:cubicBezTo>
                        <a:cubicBezTo>
                          <a:pt x="9023922" y="1106815"/>
                          <a:pt x="8893250" y="1143381"/>
                          <a:pt x="8871386" y="1172020"/>
                        </a:cubicBezTo>
                        <a:cubicBezTo>
                          <a:pt x="8950797" y="1142523"/>
                          <a:pt x="8902232" y="1197303"/>
                          <a:pt x="8981643" y="1167806"/>
                        </a:cubicBezTo>
                        <a:cubicBezTo>
                          <a:pt x="9003957" y="1160783"/>
                          <a:pt x="8943578" y="1288602"/>
                          <a:pt x="8965892" y="1281579"/>
                        </a:cubicBezTo>
                        <a:cubicBezTo>
                          <a:pt x="9009207" y="1264724"/>
                          <a:pt x="8822972" y="1446323"/>
                          <a:pt x="8866287" y="1429468"/>
                        </a:cubicBezTo>
                        <a:cubicBezTo>
                          <a:pt x="8836591" y="1507687"/>
                          <a:pt x="8772071" y="1656073"/>
                          <a:pt x="8828896" y="1673774"/>
                        </a:cubicBezTo>
                        <a:cubicBezTo>
                          <a:pt x="8885721" y="1691475"/>
                          <a:pt x="8947686" y="1744119"/>
                          <a:pt x="8918972" y="1767032"/>
                        </a:cubicBezTo>
                        <a:cubicBezTo>
                          <a:pt x="8968850" y="1741749"/>
                          <a:pt x="8565554" y="1913653"/>
                          <a:pt x="8615432" y="1888370"/>
                        </a:cubicBezTo>
                        <a:cubicBezTo>
                          <a:pt x="8666623" y="1857469"/>
                          <a:pt x="8700093" y="1898202"/>
                          <a:pt x="8751284" y="1867301"/>
                        </a:cubicBezTo>
                        <a:cubicBezTo>
                          <a:pt x="8791974" y="1842018"/>
                          <a:pt x="8590493" y="2094847"/>
                          <a:pt x="8631183" y="2069564"/>
                        </a:cubicBezTo>
                        <a:cubicBezTo>
                          <a:pt x="8702719" y="2027426"/>
                          <a:pt x="8669904" y="2200193"/>
                          <a:pt x="8741440" y="2158055"/>
                        </a:cubicBezTo>
                        <a:cubicBezTo>
                          <a:pt x="8781474" y="2132772"/>
                          <a:pt x="8589180" y="2381387"/>
                          <a:pt x="8629214" y="2356104"/>
                        </a:cubicBezTo>
                        <a:cubicBezTo>
                          <a:pt x="8718470" y="2295706"/>
                          <a:pt x="8461203" y="2618766"/>
                          <a:pt x="8550459" y="2558368"/>
                        </a:cubicBezTo>
                        <a:lnTo>
                          <a:pt x="0" y="2526760"/>
                        </a:lnTo>
                        <a:lnTo>
                          <a:pt x="0" y="154044"/>
                        </a:lnTo>
                        <a:close/>
                      </a:path>
                    </a:pathLst>
                  </a:custGeom>
                  <a:blipFill rotWithShape="0">
                    <a:blip r:embed="rId3"/>
                    <a:srcRect/>
                    <a:stretch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3" name="矩形 2"/>
                  <p:cNvSpPr/>
                  <p:nvPr/>
                </p:nvSpPr>
                <p:spPr>
                  <a:xfrm flipH="1">
                    <a:off x="-1335960" y="2907720"/>
                    <a:ext cx="19541160" cy="2677320"/>
                  </a:xfrm>
                  <a:custGeom>
                    <a:avLst/>
                    <a:gdLst>
                      <a:gd name="textAreaLeft" fmla="*/ -360 w 19541160"/>
                      <a:gd name="textAreaRight" fmla="*/ 19541160 w 19541160"/>
                      <a:gd name="textAreaTop" fmla="*/ 0 h 2677320"/>
                      <a:gd name="textAreaBottom" fmla="*/ 2677680 h 2677320"/>
                    </a:gdLst>
                    <a:ahLst/>
                    <a:rect l="textAreaLeft" t="textAreaTop" r="textAreaRight" b="textAreaBottom"/>
                    <a:pathLst>
                      <a:path w="9130999" h="2565930">
                        <a:moveTo>
                          <a:pt x="0" y="154044"/>
                        </a:moveTo>
                        <a:cubicBezTo>
                          <a:pt x="684179" y="151334"/>
                          <a:pt x="1018162" y="2710"/>
                          <a:pt x="1702341" y="0"/>
                        </a:cubicBezTo>
                        <a:cubicBezTo>
                          <a:pt x="3501958" y="48638"/>
                          <a:pt x="5165387" y="223737"/>
                          <a:pt x="6965004" y="272375"/>
                        </a:cubicBezTo>
                        <a:lnTo>
                          <a:pt x="9023829" y="165883"/>
                        </a:lnTo>
                        <a:cubicBezTo>
                          <a:pt x="9322199" y="205562"/>
                          <a:pt x="8902673" y="351543"/>
                          <a:pt x="8904502" y="422314"/>
                        </a:cubicBezTo>
                        <a:cubicBezTo>
                          <a:pt x="8891746" y="490014"/>
                          <a:pt x="9013939" y="426540"/>
                          <a:pt x="9060536" y="439884"/>
                        </a:cubicBezTo>
                        <a:cubicBezTo>
                          <a:pt x="9107133" y="453228"/>
                          <a:pt x="9056970" y="544601"/>
                          <a:pt x="9034803" y="590512"/>
                        </a:cubicBezTo>
                        <a:cubicBezTo>
                          <a:pt x="9044647" y="646696"/>
                          <a:pt x="8829712" y="803310"/>
                          <a:pt x="8814289" y="847555"/>
                        </a:cubicBezTo>
                        <a:cubicBezTo>
                          <a:pt x="8875980" y="830700"/>
                          <a:pt x="8880574" y="872838"/>
                          <a:pt x="8942265" y="855983"/>
                        </a:cubicBezTo>
                        <a:cubicBezTo>
                          <a:pt x="8969173" y="846151"/>
                          <a:pt x="8980621" y="974801"/>
                          <a:pt x="9007529" y="964969"/>
                        </a:cubicBezTo>
                        <a:cubicBezTo>
                          <a:pt x="9036378" y="986497"/>
                          <a:pt x="9079962" y="961368"/>
                          <a:pt x="9090077" y="979742"/>
                        </a:cubicBezTo>
                        <a:cubicBezTo>
                          <a:pt x="9100193" y="998116"/>
                          <a:pt x="9104670" y="1043165"/>
                          <a:pt x="9068222" y="1075211"/>
                        </a:cubicBezTo>
                        <a:cubicBezTo>
                          <a:pt x="9023922" y="1106815"/>
                          <a:pt x="8893250" y="1143381"/>
                          <a:pt x="8871386" y="1172020"/>
                        </a:cubicBezTo>
                        <a:cubicBezTo>
                          <a:pt x="8950797" y="1142523"/>
                          <a:pt x="8902232" y="1197303"/>
                          <a:pt x="8981643" y="1167806"/>
                        </a:cubicBezTo>
                        <a:cubicBezTo>
                          <a:pt x="9003957" y="1160783"/>
                          <a:pt x="8943578" y="1288602"/>
                          <a:pt x="8965892" y="1281579"/>
                        </a:cubicBezTo>
                        <a:cubicBezTo>
                          <a:pt x="9009207" y="1264724"/>
                          <a:pt x="8822972" y="1446323"/>
                          <a:pt x="8866287" y="1429468"/>
                        </a:cubicBezTo>
                        <a:cubicBezTo>
                          <a:pt x="8836591" y="1507687"/>
                          <a:pt x="8772071" y="1656073"/>
                          <a:pt x="8828896" y="1673774"/>
                        </a:cubicBezTo>
                        <a:cubicBezTo>
                          <a:pt x="8885721" y="1691475"/>
                          <a:pt x="8947686" y="1744119"/>
                          <a:pt x="8918972" y="1767032"/>
                        </a:cubicBezTo>
                        <a:cubicBezTo>
                          <a:pt x="8968850" y="1741749"/>
                          <a:pt x="8565554" y="1913653"/>
                          <a:pt x="8615432" y="1888370"/>
                        </a:cubicBezTo>
                        <a:cubicBezTo>
                          <a:pt x="8666623" y="1857469"/>
                          <a:pt x="8700093" y="1898202"/>
                          <a:pt x="8751284" y="1867301"/>
                        </a:cubicBezTo>
                        <a:cubicBezTo>
                          <a:pt x="8791974" y="1842018"/>
                          <a:pt x="8590493" y="2094847"/>
                          <a:pt x="8631183" y="2069564"/>
                        </a:cubicBezTo>
                        <a:cubicBezTo>
                          <a:pt x="8702719" y="2027426"/>
                          <a:pt x="8669904" y="2200193"/>
                          <a:pt x="8741440" y="2158055"/>
                        </a:cubicBezTo>
                        <a:cubicBezTo>
                          <a:pt x="8781474" y="2132772"/>
                          <a:pt x="8589180" y="2381387"/>
                          <a:pt x="8629214" y="2356104"/>
                        </a:cubicBezTo>
                        <a:cubicBezTo>
                          <a:pt x="8718470" y="2295706"/>
                          <a:pt x="8461203" y="2618766"/>
                          <a:pt x="8550459" y="2558368"/>
                        </a:cubicBezTo>
                        <a:lnTo>
                          <a:pt x="0" y="2526760"/>
                        </a:lnTo>
                        <a:lnTo>
                          <a:pt x="0" y="154044"/>
                        </a:lnTo>
                        <a:close/>
                      </a:path>
                    </a:pathLst>
                  </a:custGeom>
                  <a:blipFill rotWithShape="0">
                    <a:blip r:embed="rId4"/>
                    <a:srcRect/>
                    <a:stretch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604" name=""/>
            <p:cNvGrpSpPr/>
            <p:nvPr/>
          </p:nvGrpSpPr>
          <p:grpSpPr>
            <a:xfrm>
              <a:off x="-6620400" y="2926080"/>
              <a:ext cx="6941160" cy="2729880"/>
              <a:chOff x="-6620400" y="2926080"/>
              <a:chExt cx="6941160" cy="2729880"/>
            </a:xfrm>
          </p:grpSpPr>
          <p:grpSp>
            <p:nvGrpSpPr>
              <p:cNvPr id="605" name=""/>
              <p:cNvGrpSpPr/>
              <p:nvPr/>
            </p:nvGrpSpPr>
            <p:grpSpPr>
              <a:xfrm>
                <a:off x="-6620400" y="2962080"/>
                <a:ext cx="1983600" cy="2693880"/>
                <a:chOff x="-6620400" y="2962080"/>
                <a:chExt cx="1983600" cy="2693880"/>
              </a:xfrm>
            </p:grpSpPr>
            <p:sp>
              <p:nvSpPr>
                <p:cNvPr id="606" name="任意多边形 142"/>
                <p:cNvSpPr/>
                <p:nvPr/>
              </p:nvSpPr>
              <p:spPr>
                <a:xfrm>
                  <a:off x="-6620400" y="3116880"/>
                  <a:ext cx="1639800" cy="2485800"/>
                </a:xfrm>
                <a:custGeom>
                  <a:avLst/>
                  <a:gdLst>
                    <a:gd name="textAreaLeft" fmla="*/ 0 w 1639800"/>
                    <a:gd name="textAreaRight" fmla="*/ 1640160 w 1639800"/>
                    <a:gd name="textAreaTop" fmla="*/ 0 h 2485800"/>
                    <a:gd name="textAreaBottom" fmla="*/ 2486160 h 2485800"/>
                  </a:gdLst>
                  <a:ahLst/>
                  <a:rect l="textAreaLeft" t="textAreaTop" r="textAreaRight" b="textAreaBottom"/>
                  <a:pathLst>
                    <a:path w="1639957" h="2484967">
                      <a:moveTo>
                        <a:pt x="1123122" y="30002"/>
                      </a:moveTo>
                      <a:cubicBezTo>
                        <a:pt x="1065144" y="38285"/>
                        <a:pt x="1087699" y="39175"/>
                        <a:pt x="1073426" y="49880"/>
                      </a:cubicBezTo>
                      <a:cubicBezTo>
                        <a:pt x="1060174" y="59819"/>
                        <a:pt x="1055322" y="77924"/>
                        <a:pt x="1043609" y="89637"/>
                      </a:cubicBezTo>
                      <a:cubicBezTo>
                        <a:pt x="1035162" y="98084"/>
                        <a:pt x="1023730" y="102889"/>
                        <a:pt x="1013791" y="109515"/>
                      </a:cubicBezTo>
                      <a:cubicBezTo>
                        <a:pt x="999298" y="128839"/>
                        <a:pt x="983837" y="153357"/>
                        <a:pt x="964096" y="169150"/>
                      </a:cubicBezTo>
                      <a:cubicBezTo>
                        <a:pt x="954768" y="176612"/>
                        <a:pt x="945610" y="185251"/>
                        <a:pt x="934278" y="189028"/>
                      </a:cubicBezTo>
                      <a:cubicBezTo>
                        <a:pt x="915160" y="195401"/>
                        <a:pt x="894521" y="195654"/>
                        <a:pt x="874643" y="198967"/>
                      </a:cubicBezTo>
                      <a:cubicBezTo>
                        <a:pt x="852188" y="266331"/>
                        <a:pt x="886496" y="193040"/>
                        <a:pt x="795130" y="238724"/>
                      </a:cubicBezTo>
                      <a:cubicBezTo>
                        <a:pt x="785759" y="243409"/>
                        <a:pt x="789876" y="259170"/>
                        <a:pt x="785191" y="268541"/>
                      </a:cubicBezTo>
                      <a:cubicBezTo>
                        <a:pt x="760872" y="317179"/>
                        <a:pt x="773165" y="281263"/>
                        <a:pt x="745435" y="318237"/>
                      </a:cubicBezTo>
                      <a:cubicBezTo>
                        <a:pt x="731101" y="337349"/>
                        <a:pt x="718930" y="357993"/>
                        <a:pt x="705678" y="377871"/>
                      </a:cubicBezTo>
                      <a:lnTo>
                        <a:pt x="685800" y="407689"/>
                      </a:lnTo>
                      <a:cubicBezTo>
                        <a:pt x="682487" y="420941"/>
                        <a:pt x="681970" y="435227"/>
                        <a:pt x="675861" y="447445"/>
                      </a:cubicBezTo>
                      <a:cubicBezTo>
                        <a:pt x="671670" y="455827"/>
                        <a:pt x="658256" y="458233"/>
                        <a:pt x="655983" y="467324"/>
                      </a:cubicBezTo>
                      <a:cubicBezTo>
                        <a:pt x="644619" y="512778"/>
                        <a:pt x="650920" y="562022"/>
                        <a:pt x="636104" y="606471"/>
                      </a:cubicBezTo>
                      <a:cubicBezTo>
                        <a:pt x="629478" y="626349"/>
                        <a:pt x="636773" y="661997"/>
                        <a:pt x="616226" y="666106"/>
                      </a:cubicBezTo>
                      <a:cubicBezTo>
                        <a:pt x="543558" y="680639"/>
                        <a:pt x="583254" y="673656"/>
                        <a:pt x="496957" y="685984"/>
                      </a:cubicBezTo>
                      <a:cubicBezTo>
                        <a:pt x="490331" y="692610"/>
                        <a:pt x="481899" y="697827"/>
                        <a:pt x="477078" y="705863"/>
                      </a:cubicBezTo>
                      <a:cubicBezTo>
                        <a:pt x="471688" y="714847"/>
                        <a:pt x="471824" y="726309"/>
                        <a:pt x="467139" y="735680"/>
                      </a:cubicBezTo>
                      <a:cubicBezTo>
                        <a:pt x="461797" y="746364"/>
                        <a:pt x="453887" y="755558"/>
                        <a:pt x="447261" y="765497"/>
                      </a:cubicBezTo>
                      <a:cubicBezTo>
                        <a:pt x="443948" y="845010"/>
                        <a:pt x="445800" y="924908"/>
                        <a:pt x="437322" y="1004037"/>
                      </a:cubicBezTo>
                      <a:cubicBezTo>
                        <a:pt x="435744" y="1018769"/>
                        <a:pt x="423280" y="1030175"/>
                        <a:pt x="417443" y="1043793"/>
                      </a:cubicBezTo>
                      <a:cubicBezTo>
                        <a:pt x="413316" y="1053422"/>
                        <a:pt x="412189" y="1064239"/>
                        <a:pt x="407504" y="1073610"/>
                      </a:cubicBezTo>
                      <a:cubicBezTo>
                        <a:pt x="400236" y="1088147"/>
                        <a:pt x="364566" y="1134175"/>
                        <a:pt x="357809" y="1143184"/>
                      </a:cubicBezTo>
                      <a:cubicBezTo>
                        <a:pt x="331534" y="1222012"/>
                        <a:pt x="371232" y="1117732"/>
                        <a:pt x="318052" y="1202819"/>
                      </a:cubicBezTo>
                      <a:cubicBezTo>
                        <a:pt x="308596" y="1217948"/>
                        <a:pt x="305420" y="1236211"/>
                        <a:pt x="298174" y="1252515"/>
                      </a:cubicBezTo>
                      <a:cubicBezTo>
                        <a:pt x="292157" y="1266054"/>
                        <a:pt x="284132" y="1278653"/>
                        <a:pt x="278296" y="1292271"/>
                      </a:cubicBezTo>
                      <a:cubicBezTo>
                        <a:pt x="274169" y="1301901"/>
                        <a:pt x="273042" y="1312718"/>
                        <a:pt x="268357" y="1322089"/>
                      </a:cubicBezTo>
                      <a:cubicBezTo>
                        <a:pt x="263015" y="1332773"/>
                        <a:pt x="254405" y="1341535"/>
                        <a:pt x="248478" y="1351906"/>
                      </a:cubicBezTo>
                      <a:cubicBezTo>
                        <a:pt x="241127" y="1364770"/>
                        <a:pt x="234436" y="1378044"/>
                        <a:pt x="228600" y="1391663"/>
                      </a:cubicBezTo>
                      <a:cubicBezTo>
                        <a:pt x="224473" y="1401293"/>
                        <a:pt x="224472" y="1412763"/>
                        <a:pt x="218661" y="1421480"/>
                      </a:cubicBezTo>
                      <a:cubicBezTo>
                        <a:pt x="210864" y="1433175"/>
                        <a:pt x="198782" y="1441358"/>
                        <a:pt x="188843" y="1451297"/>
                      </a:cubicBezTo>
                      <a:cubicBezTo>
                        <a:pt x="174622" y="1493962"/>
                        <a:pt x="171023" y="1514129"/>
                        <a:pt x="149087" y="1550689"/>
                      </a:cubicBezTo>
                      <a:cubicBezTo>
                        <a:pt x="136795" y="1571175"/>
                        <a:pt x="109330" y="1610324"/>
                        <a:pt x="109330" y="1610324"/>
                      </a:cubicBezTo>
                      <a:cubicBezTo>
                        <a:pt x="106017" y="1626889"/>
                        <a:pt x="106946" y="1644909"/>
                        <a:pt x="99391" y="1660019"/>
                      </a:cubicBezTo>
                      <a:cubicBezTo>
                        <a:pt x="53203" y="1752395"/>
                        <a:pt x="80699" y="1635397"/>
                        <a:pt x="59635" y="1719654"/>
                      </a:cubicBezTo>
                      <a:cubicBezTo>
                        <a:pt x="55538" y="1736043"/>
                        <a:pt x="54141" y="1753052"/>
                        <a:pt x="49696" y="1769350"/>
                      </a:cubicBezTo>
                      <a:cubicBezTo>
                        <a:pt x="44183" y="1789565"/>
                        <a:pt x="36443" y="1809106"/>
                        <a:pt x="29817" y="1828984"/>
                      </a:cubicBezTo>
                      <a:cubicBezTo>
                        <a:pt x="26504" y="1838923"/>
                        <a:pt x="21933" y="1848529"/>
                        <a:pt x="19878" y="1858802"/>
                      </a:cubicBezTo>
                      <a:cubicBezTo>
                        <a:pt x="7884" y="1918770"/>
                        <a:pt x="15281" y="1892471"/>
                        <a:pt x="0" y="1938315"/>
                      </a:cubicBezTo>
                      <a:cubicBezTo>
                        <a:pt x="3313" y="1994637"/>
                        <a:pt x="4590" y="2051115"/>
                        <a:pt x="9939" y="2107280"/>
                      </a:cubicBezTo>
                      <a:cubicBezTo>
                        <a:pt x="11234" y="2120879"/>
                        <a:pt x="14497" y="2134481"/>
                        <a:pt x="19878" y="2147037"/>
                      </a:cubicBezTo>
                      <a:cubicBezTo>
                        <a:pt x="24584" y="2158017"/>
                        <a:pt x="33131" y="2166915"/>
                        <a:pt x="39757" y="2176854"/>
                      </a:cubicBezTo>
                      <a:cubicBezTo>
                        <a:pt x="63587" y="2248344"/>
                        <a:pt x="34675" y="2159067"/>
                        <a:pt x="59635" y="2246428"/>
                      </a:cubicBezTo>
                      <a:cubicBezTo>
                        <a:pt x="62513" y="2256502"/>
                        <a:pt x="66696" y="2266171"/>
                        <a:pt x="69574" y="2276245"/>
                      </a:cubicBezTo>
                      <a:cubicBezTo>
                        <a:pt x="73327" y="2289380"/>
                        <a:pt x="74132" y="2303446"/>
                        <a:pt x="79513" y="2316002"/>
                      </a:cubicBezTo>
                      <a:cubicBezTo>
                        <a:pt x="84218" y="2326981"/>
                        <a:pt x="93464" y="2335448"/>
                        <a:pt x="99391" y="2345819"/>
                      </a:cubicBezTo>
                      <a:cubicBezTo>
                        <a:pt x="106742" y="2358683"/>
                        <a:pt x="111647" y="2372871"/>
                        <a:pt x="119270" y="2385576"/>
                      </a:cubicBezTo>
                      <a:cubicBezTo>
                        <a:pt x="131562" y="2406062"/>
                        <a:pt x="142133" y="2428317"/>
                        <a:pt x="159026" y="2445210"/>
                      </a:cubicBezTo>
                      <a:lnTo>
                        <a:pt x="198783" y="2484967"/>
                      </a:lnTo>
                      <a:cubicBezTo>
                        <a:pt x="304800" y="2481654"/>
                        <a:pt x="411095" y="2483376"/>
                        <a:pt x="516835" y="2475028"/>
                      </a:cubicBezTo>
                      <a:cubicBezTo>
                        <a:pt x="537724" y="2473379"/>
                        <a:pt x="576470" y="2455150"/>
                        <a:pt x="576470" y="2455150"/>
                      </a:cubicBezTo>
                      <a:cubicBezTo>
                        <a:pt x="647994" y="2407465"/>
                        <a:pt x="559932" y="2474990"/>
                        <a:pt x="626165" y="2375637"/>
                      </a:cubicBezTo>
                      <a:cubicBezTo>
                        <a:pt x="632791" y="2365698"/>
                        <a:pt x="638581" y="2355147"/>
                        <a:pt x="646043" y="2345819"/>
                      </a:cubicBezTo>
                      <a:cubicBezTo>
                        <a:pt x="702699" y="2275000"/>
                        <a:pt x="624611" y="2387907"/>
                        <a:pt x="685800" y="2296124"/>
                      </a:cubicBezTo>
                      <a:cubicBezTo>
                        <a:pt x="687657" y="2288698"/>
                        <a:pt x="699567" y="2236735"/>
                        <a:pt x="705678" y="2226550"/>
                      </a:cubicBezTo>
                      <a:cubicBezTo>
                        <a:pt x="710499" y="2218514"/>
                        <a:pt x="719703" y="2213989"/>
                        <a:pt x="725557" y="2206671"/>
                      </a:cubicBezTo>
                      <a:cubicBezTo>
                        <a:pt x="763534" y="2159200"/>
                        <a:pt x="730881" y="2196024"/>
                        <a:pt x="755374" y="2147037"/>
                      </a:cubicBezTo>
                      <a:cubicBezTo>
                        <a:pt x="784412" y="2088959"/>
                        <a:pt x="768537" y="2145691"/>
                        <a:pt x="785191" y="2087402"/>
                      </a:cubicBezTo>
                      <a:cubicBezTo>
                        <a:pt x="795993" y="2049596"/>
                        <a:pt x="793735" y="2014982"/>
                        <a:pt x="844826" y="1997950"/>
                      </a:cubicBezTo>
                      <a:cubicBezTo>
                        <a:pt x="915623" y="1974349"/>
                        <a:pt x="864197" y="1988814"/>
                        <a:pt x="1003852" y="1978071"/>
                      </a:cubicBezTo>
                      <a:cubicBezTo>
                        <a:pt x="1013791" y="1971445"/>
                        <a:pt x="1022986" y="1963535"/>
                        <a:pt x="1033670" y="1958193"/>
                      </a:cubicBezTo>
                      <a:cubicBezTo>
                        <a:pt x="1043041" y="1953508"/>
                        <a:pt x="1055106" y="1954540"/>
                        <a:pt x="1063487" y="1948254"/>
                      </a:cubicBezTo>
                      <a:cubicBezTo>
                        <a:pt x="1102249" y="1919182"/>
                        <a:pt x="1110070" y="1903227"/>
                        <a:pt x="1133061" y="1868741"/>
                      </a:cubicBezTo>
                      <a:cubicBezTo>
                        <a:pt x="1136210" y="1840400"/>
                        <a:pt x="1136288" y="1782773"/>
                        <a:pt x="1152939" y="1749471"/>
                      </a:cubicBezTo>
                      <a:cubicBezTo>
                        <a:pt x="1160764" y="1733820"/>
                        <a:pt x="1177903" y="1710871"/>
                        <a:pt x="1192696" y="1699776"/>
                      </a:cubicBezTo>
                      <a:cubicBezTo>
                        <a:pt x="1211808" y="1685442"/>
                        <a:pt x="1235437" y="1676912"/>
                        <a:pt x="1252330" y="1660019"/>
                      </a:cubicBezTo>
                      <a:cubicBezTo>
                        <a:pt x="1268895" y="1643454"/>
                        <a:pt x="1282534" y="1623319"/>
                        <a:pt x="1302026" y="1610324"/>
                      </a:cubicBezTo>
                      <a:lnTo>
                        <a:pt x="1361661" y="1570567"/>
                      </a:lnTo>
                      <a:cubicBezTo>
                        <a:pt x="1371600" y="1563941"/>
                        <a:pt x="1383031" y="1559136"/>
                        <a:pt x="1391478" y="1550689"/>
                      </a:cubicBezTo>
                      <a:cubicBezTo>
                        <a:pt x="1398104" y="1544063"/>
                        <a:pt x="1402975" y="1535001"/>
                        <a:pt x="1411357" y="1530810"/>
                      </a:cubicBezTo>
                      <a:cubicBezTo>
                        <a:pt x="1435555" y="1518711"/>
                        <a:pt x="1482214" y="1508126"/>
                        <a:pt x="1510748" y="1500993"/>
                      </a:cubicBezTo>
                      <a:cubicBezTo>
                        <a:pt x="1530626" y="1487741"/>
                        <a:pt x="1562828" y="1483902"/>
                        <a:pt x="1570383" y="1461237"/>
                      </a:cubicBezTo>
                      <a:cubicBezTo>
                        <a:pt x="1573696" y="1451298"/>
                        <a:pt x="1572914" y="1438827"/>
                        <a:pt x="1580322" y="1431419"/>
                      </a:cubicBezTo>
                      <a:cubicBezTo>
                        <a:pt x="1597215" y="1414526"/>
                        <a:pt x="1639957" y="1391663"/>
                        <a:pt x="1639957" y="1391663"/>
                      </a:cubicBezTo>
                      <a:cubicBezTo>
                        <a:pt x="1636644" y="1358532"/>
                        <a:pt x="1635080" y="1325180"/>
                        <a:pt x="1630017" y="1292271"/>
                      </a:cubicBezTo>
                      <a:cubicBezTo>
                        <a:pt x="1628424" y="1281916"/>
                        <a:pt x="1626364" y="1270835"/>
                        <a:pt x="1620078" y="1262454"/>
                      </a:cubicBezTo>
                      <a:cubicBezTo>
                        <a:pt x="1586782" y="1218059"/>
                        <a:pt x="1555923" y="1203118"/>
                        <a:pt x="1510748" y="1173002"/>
                      </a:cubicBezTo>
                      <a:cubicBezTo>
                        <a:pt x="1500809" y="1166376"/>
                        <a:pt x="1489377" y="1161571"/>
                        <a:pt x="1480930" y="1153124"/>
                      </a:cubicBezTo>
                      <a:lnTo>
                        <a:pt x="1461052" y="1133245"/>
                      </a:lnTo>
                      <a:cubicBezTo>
                        <a:pt x="1473590" y="1032938"/>
                        <a:pt x="1462544" y="1079073"/>
                        <a:pt x="1490870" y="994097"/>
                      </a:cubicBezTo>
                      <a:lnTo>
                        <a:pt x="1500809" y="964280"/>
                      </a:lnTo>
                      <a:cubicBezTo>
                        <a:pt x="1497496" y="937776"/>
                        <a:pt x="1495648" y="911047"/>
                        <a:pt x="1490870" y="884767"/>
                      </a:cubicBezTo>
                      <a:cubicBezTo>
                        <a:pt x="1488996" y="874459"/>
                        <a:pt x="1489647" y="860761"/>
                        <a:pt x="1480930" y="854950"/>
                      </a:cubicBezTo>
                      <a:cubicBezTo>
                        <a:pt x="1466874" y="845579"/>
                        <a:pt x="1447800" y="848323"/>
                        <a:pt x="1431235" y="845010"/>
                      </a:cubicBezTo>
                      <a:cubicBezTo>
                        <a:pt x="1441174" y="838384"/>
                        <a:pt x="1454426" y="835071"/>
                        <a:pt x="1461052" y="825132"/>
                      </a:cubicBezTo>
                      <a:cubicBezTo>
                        <a:pt x="1468629" y="813766"/>
                        <a:pt x="1465610" y="797931"/>
                        <a:pt x="1470991" y="785376"/>
                      </a:cubicBezTo>
                      <a:cubicBezTo>
                        <a:pt x="1475697" y="774396"/>
                        <a:pt x="1484244" y="765497"/>
                        <a:pt x="1490870" y="755558"/>
                      </a:cubicBezTo>
                      <a:cubicBezTo>
                        <a:pt x="1494183" y="745619"/>
                        <a:pt x="1502532" y="736075"/>
                        <a:pt x="1500809" y="725741"/>
                      </a:cubicBezTo>
                      <a:cubicBezTo>
                        <a:pt x="1495520" y="694008"/>
                        <a:pt x="1474369" y="693737"/>
                        <a:pt x="1451113" y="685984"/>
                      </a:cubicBezTo>
                      <a:cubicBezTo>
                        <a:pt x="1431235" y="659480"/>
                        <a:pt x="1414905" y="629898"/>
                        <a:pt x="1391478" y="606471"/>
                      </a:cubicBezTo>
                      <a:cubicBezTo>
                        <a:pt x="1353214" y="568207"/>
                        <a:pt x="1369458" y="588349"/>
                        <a:pt x="1341783" y="546837"/>
                      </a:cubicBezTo>
                      <a:cubicBezTo>
                        <a:pt x="1364974" y="477263"/>
                        <a:pt x="1341783" y="493828"/>
                        <a:pt x="1391478" y="477263"/>
                      </a:cubicBezTo>
                      <a:cubicBezTo>
                        <a:pt x="1423970" y="379784"/>
                        <a:pt x="1371292" y="517480"/>
                        <a:pt x="1431235" y="427567"/>
                      </a:cubicBezTo>
                      <a:cubicBezTo>
                        <a:pt x="1438812" y="416201"/>
                        <a:pt x="1437421" y="400945"/>
                        <a:pt x="1441174" y="387810"/>
                      </a:cubicBezTo>
                      <a:cubicBezTo>
                        <a:pt x="1451461" y="351805"/>
                        <a:pt x="1449212" y="360845"/>
                        <a:pt x="1470991" y="328176"/>
                      </a:cubicBezTo>
                      <a:cubicBezTo>
                        <a:pt x="1477617" y="301672"/>
                        <a:pt x="1468138" y="263818"/>
                        <a:pt x="1490870" y="248663"/>
                      </a:cubicBezTo>
                      <a:lnTo>
                        <a:pt x="1550504" y="208906"/>
                      </a:lnTo>
                      <a:cubicBezTo>
                        <a:pt x="1557130" y="198967"/>
                        <a:pt x="1562921" y="188417"/>
                        <a:pt x="1570383" y="179089"/>
                      </a:cubicBezTo>
                      <a:cubicBezTo>
                        <a:pt x="1576237" y="171772"/>
                        <a:pt x="1586570" y="167823"/>
                        <a:pt x="1590261" y="159210"/>
                      </a:cubicBezTo>
                      <a:cubicBezTo>
                        <a:pt x="1596915" y="143683"/>
                        <a:pt x="1596887" y="126080"/>
                        <a:pt x="1600200" y="109515"/>
                      </a:cubicBezTo>
                      <a:cubicBezTo>
                        <a:pt x="1596887" y="86324"/>
                        <a:pt x="1602677" y="59807"/>
                        <a:pt x="1590261" y="39941"/>
                      </a:cubicBezTo>
                      <a:cubicBezTo>
                        <a:pt x="1583021" y="28357"/>
                        <a:pt x="1563060" y="35383"/>
                        <a:pt x="1550504" y="30002"/>
                      </a:cubicBezTo>
                      <a:cubicBezTo>
                        <a:pt x="1466662" y="-5930"/>
                        <a:pt x="1605941" y="4581"/>
                        <a:pt x="1421296" y="184"/>
                      </a:cubicBezTo>
                      <a:cubicBezTo>
                        <a:pt x="1315308" y="-2340"/>
                        <a:pt x="1181100" y="21719"/>
                        <a:pt x="1123122" y="30002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07" name=""/>
                <p:cNvGrpSpPr/>
                <p:nvPr/>
              </p:nvGrpSpPr>
              <p:grpSpPr>
                <a:xfrm>
                  <a:off x="-5562360" y="2962080"/>
                  <a:ext cx="804600" cy="620640"/>
                  <a:chOff x="-5562360" y="2962080"/>
                  <a:chExt cx="804600" cy="620640"/>
                </a:xfrm>
              </p:grpSpPr>
              <p:sp>
                <p:nvSpPr>
                  <p:cNvPr id="608" name="任意多边形 170"/>
                  <p:cNvSpPr/>
                  <p:nvPr/>
                </p:nvSpPr>
                <p:spPr>
                  <a:xfrm rot="19641000">
                    <a:off x="-5569920" y="3166560"/>
                    <a:ext cx="820080" cy="211680"/>
                  </a:xfrm>
                  <a:custGeom>
                    <a:avLst/>
                    <a:gdLst>
                      <a:gd name="textAreaLeft" fmla="*/ 0 w 820080"/>
                      <a:gd name="textAreaRight" fmla="*/ 820440 w 820080"/>
                      <a:gd name="textAreaTop" fmla="*/ 0 h 211680"/>
                      <a:gd name="textAreaBottom" fmla="*/ 212040 h 211680"/>
                    </a:gdLst>
                    <a:ahLst/>
                    <a:rect l="textAreaLeft" t="textAreaTop" r="textAreaRight" b="textAreaBottom"/>
                    <a:pathLst>
                      <a:path w="2065867" h="4030133">
                        <a:moveTo>
                          <a:pt x="270933" y="677333"/>
                        </a:moveTo>
                        <a:cubicBezTo>
                          <a:pt x="259644" y="733778"/>
                          <a:pt x="257278" y="792770"/>
                          <a:pt x="237067" y="846667"/>
                        </a:cubicBezTo>
                        <a:cubicBezTo>
                          <a:pt x="222775" y="884778"/>
                          <a:pt x="187536" y="911861"/>
                          <a:pt x="169333" y="948267"/>
                        </a:cubicBezTo>
                        <a:cubicBezTo>
                          <a:pt x="153368" y="980197"/>
                          <a:pt x="146756" y="1016000"/>
                          <a:pt x="135467" y="1049867"/>
                        </a:cubicBezTo>
                        <a:cubicBezTo>
                          <a:pt x="124178" y="1128889"/>
                          <a:pt x="124537" y="1210475"/>
                          <a:pt x="101600" y="1286933"/>
                        </a:cubicBezTo>
                        <a:cubicBezTo>
                          <a:pt x="89904" y="1325919"/>
                          <a:pt x="52070" y="1352127"/>
                          <a:pt x="33867" y="1388533"/>
                        </a:cubicBezTo>
                        <a:cubicBezTo>
                          <a:pt x="17902" y="1420463"/>
                          <a:pt x="11289" y="1456266"/>
                          <a:pt x="0" y="1490133"/>
                        </a:cubicBezTo>
                        <a:cubicBezTo>
                          <a:pt x="11289" y="1648178"/>
                          <a:pt x="6331" y="1808231"/>
                          <a:pt x="33867" y="1964267"/>
                        </a:cubicBezTo>
                        <a:cubicBezTo>
                          <a:pt x="40941" y="2004350"/>
                          <a:pt x="77942" y="2032746"/>
                          <a:pt x="101600" y="2065867"/>
                        </a:cubicBezTo>
                        <a:cubicBezTo>
                          <a:pt x="134408" y="2111798"/>
                          <a:pt x="167065" y="2157971"/>
                          <a:pt x="203200" y="2201333"/>
                        </a:cubicBezTo>
                        <a:cubicBezTo>
                          <a:pt x="223641" y="2225862"/>
                          <a:pt x="253221" y="2242500"/>
                          <a:pt x="270933" y="2269067"/>
                        </a:cubicBezTo>
                        <a:cubicBezTo>
                          <a:pt x="298937" y="2311073"/>
                          <a:pt x="313619" y="2360700"/>
                          <a:pt x="338667" y="2404533"/>
                        </a:cubicBezTo>
                        <a:cubicBezTo>
                          <a:pt x="443708" y="2588354"/>
                          <a:pt x="378175" y="2421458"/>
                          <a:pt x="440267" y="2607733"/>
                        </a:cubicBezTo>
                        <a:cubicBezTo>
                          <a:pt x="451556" y="2686755"/>
                          <a:pt x="448890" y="2769072"/>
                          <a:pt x="474133" y="2844800"/>
                        </a:cubicBezTo>
                        <a:cubicBezTo>
                          <a:pt x="484230" y="2875091"/>
                          <a:pt x="525439" y="2885153"/>
                          <a:pt x="541867" y="2912533"/>
                        </a:cubicBezTo>
                        <a:cubicBezTo>
                          <a:pt x="692110" y="3162937"/>
                          <a:pt x="437916" y="2858793"/>
                          <a:pt x="643467" y="3115733"/>
                        </a:cubicBezTo>
                        <a:cubicBezTo>
                          <a:pt x="663413" y="3140666"/>
                          <a:pt x="691254" y="3158534"/>
                          <a:pt x="711200" y="3183467"/>
                        </a:cubicBezTo>
                        <a:cubicBezTo>
                          <a:pt x="736627" y="3215251"/>
                          <a:pt x="752130" y="3254435"/>
                          <a:pt x="778933" y="3285067"/>
                        </a:cubicBezTo>
                        <a:cubicBezTo>
                          <a:pt x="831498" y="3345141"/>
                          <a:pt x="900372" y="3390540"/>
                          <a:pt x="948267" y="3454400"/>
                        </a:cubicBezTo>
                        <a:cubicBezTo>
                          <a:pt x="982134" y="3499556"/>
                          <a:pt x="1019951" y="3542002"/>
                          <a:pt x="1049867" y="3589867"/>
                        </a:cubicBezTo>
                        <a:cubicBezTo>
                          <a:pt x="1076624" y="3632678"/>
                          <a:pt x="1089596" y="3683327"/>
                          <a:pt x="1117600" y="3725333"/>
                        </a:cubicBezTo>
                        <a:cubicBezTo>
                          <a:pt x="1164328" y="3795425"/>
                          <a:pt x="1222230" y="3809038"/>
                          <a:pt x="1286933" y="3860800"/>
                        </a:cubicBezTo>
                        <a:cubicBezTo>
                          <a:pt x="1311866" y="3880746"/>
                          <a:pt x="1328100" y="3910821"/>
                          <a:pt x="1354667" y="3928533"/>
                        </a:cubicBezTo>
                        <a:cubicBezTo>
                          <a:pt x="1438370" y="3984335"/>
                          <a:pt x="1501418" y="4000029"/>
                          <a:pt x="1591733" y="4030133"/>
                        </a:cubicBezTo>
                        <a:cubicBezTo>
                          <a:pt x="1670755" y="4018844"/>
                          <a:pt x="1753072" y="4021510"/>
                          <a:pt x="1828800" y="3996267"/>
                        </a:cubicBezTo>
                        <a:cubicBezTo>
                          <a:pt x="1947678" y="3956641"/>
                          <a:pt x="1962781" y="3628192"/>
                          <a:pt x="1964267" y="3623733"/>
                        </a:cubicBezTo>
                        <a:cubicBezTo>
                          <a:pt x="1977138" y="3585119"/>
                          <a:pt x="2013797" y="3558539"/>
                          <a:pt x="2032000" y="3522133"/>
                        </a:cubicBezTo>
                        <a:cubicBezTo>
                          <a:pt x="2047965" y="3490203"/>
                          <a:pt x="2054578" y="3454400"/>
                          <a:pt x="2065867" y="3420533"/>
                        </a:cubicBezTo>
                        <a:cubicBezTo>
                          <a:pt x="2054578" y="3318933"/>
                          <a:pt x="2052048" y="3215973"/>
                          <a:pt x="2032000" y="3115733"/>
                        </a:cubicBezTo>
                        <a:cubicBezTo>
                          <a:pt x="2017998" y="3045722"/>
                          <a:pt x="1964267" y="2912533"/>
                          <a:pt x="1964267" y="2912533"/>
                        </a:cubicBezTo>
                        <a:cubicBezTo>
                          <a:pt x="2045473" y="2668911"/>
                          <a:pt x="1946942" y="2973167"/>
                          <a:pt x="2032000" y="2675467"/>
                        </a:cubicBezTo>
                        <a:cubicBezTo>
                          <a:pt x="2041807" y="2641142"/>
                          <a:pt x="2054578" y="2607734"/>
                          <a:pt x="2065867" y="2573867"/>
                        </a:cubicBezTo>
                        <a:cubicBezTo>
                          <a:pt x="1988036" y="2340376"/>
                          <a:pt x="2048618" y="2421153"/>
                          <a:pt x="1930400" y="2302933"/>
                        </a:cubicBezTo>
                        <a:cubicBezTo>
                          <a:pt x="1919111" y="2257778"/>
                          <a:pt x="1909320" y="2212221"/>
                          <a:pt x="1896533" y="2167467"/>
                        </a:cubicBezTo>
                        <a:cubicBezTo>
                          <a:pt x="1886726" y="2133142"/>
                          <a:pt x="1868536" y="2101080"/>
                          <a:pt x="1862667" y="2065867"/>
                        </a:cubicBezTo>
                        <a:cubicBezTo>
                          <a:pt x="1846052" y="1966175"/>
                          <a:pt x="1835554" y="1713597"/>
                          <a:pt x="1794933" y="1591733"/>
                        </a:cubicBezTo>
                        <a:cubicBezTo>
                          <a:pt x="1778968" y="1543839"/>
                          <a:pt x="1753174" y="1499558"/>
                          <a:pt x="1727200" y="1456267"/>
                        </a:cubicBezTo>
                        <a:cubicBezTo>
                          <a:pt x="1685317" y="1386462"/>
                          <a:pt x="1591733" y="1253067"/>
                          <a:pt x="1591733" y="1253067"/>
                        </a:cubicBezTo>
                        <a:cubicBezTo>
                          <a:pt x="1555962" y="1145753"/>
                          <a:pt x="1565165" y="1143657"/>
                          <a:pt x="1490133" y="1049867"/>
                        </a:cubicBezTo>
                        <a:cubicBezTo>
                          <a:pt x="1470187" y="1024934"/>
                          <a:pt x="1442346" y="1007066"/>
                          <a:pt x="1422400" y="982133"/>
                        </a:cubicBezTo>
                        <a:cubicBezTo>
                          <a:pt x="1396973" y="950349"/>
                          <a:pt x="1380094" y="912316"/>
                          <a:pt x="1354667" y="880533"/>
                        </a:cubicBezTo>
                        <a:cubicBezTo>
                          <a:pt x="1334721" y="855600"/>
                          <a:pt x="1306879" y="837733"/>
                          <a:pt x="1286933" y="812800"/>
                        </a:cubicBezTo>
                        <a:cubicBezTo>
                          <a:pt x="1261506" y="781017"/>
                          <a:pt x="1246241" y="741622"/>
                          <a:pt x="1219200" y="711200"/>
                        </a:cubicBezTo>
                        <a:cubicBezTo>
                          <a:pt x="1155561" y="639606"/>
                          <a:pt x="1095702" y="561134"/>
                          <a:pt x="1016000" y="508000"/>
                        </a:cubicBezTo>
                        <a:cubicBezTo>
                          <a:pt x="887833" y="422556"/>
                          <a:pt x="943181" y="469048"/>
                          <a:pt x="846667" y="372533"/>
                        </a:cubicBezTo>
                        <a:cubicBezTo>
                          <a:pt x="835378" y="338666"/>
                          <a:pt x="832602" y="300636"/>
                          <a:pt x="812800" y="270933"/>
                        </a:cubicBezTo>
                        <a:cubicBezTo>
                          <a:pt x="786233" y="231082"/>
                          <a:pt x="749006" y="198737"/>
                          <a:pt x="711200" y="169333"/>
                        </a:cubicBezTo>
                        <a:cubicBezTo>
                          <a:pt x="536524" y="33474"/>
                          <a:pt x="559693" y="51098"/>
                          <a:pt x="406400" y="0"/>
                        </a:cubicBezTo>
                        <a:cubicBezTo>
                          <a:pt x="361244" y="11289"/>
                          <a:pt x="313715" y="15532"/>
                          <a:pt x="270933" y="33867"/>
                        </a:cubicBezTo>
                        <a:cubicBezTo>
                          <a:pt x="53886" y="126887"/>
                          <a:pt x="173770" y="228415"/>
                          <a:pt x="203200" y="508000"/>
                        </a:cubicBezTo>
                        <a:cubicBezTo>
                          <a:pt x="230238" y="764856"/>
                          <a:pt x="168958" y="711013"/>
                          <a:pt x="304800" y="778933"/>
                        </a:cubicBez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9" name="任意多边形 171"/>
                  <p:cNvSpPr/>
                  <p:nvPr/>
                </p:nvSpPr>
                <p:spPr>
                  <a:xfrm rot="18059400">
                    <a:off x="-5157720" y="3110760"/>
                    <a:ext cx="241560" cy="171360"/>
                  </a:xfrm>
                  <a:custGeom>
                    <a:avLst/>
                    <a:gdLst>
                      <a:gd name="textAreaLeft" fmla="*/ 0 w 241560"/>
                      <a:gd name="textAreaRight" fmla="*/ 241920 w 241560"/>
                      <a:gd name="textAreaTop" fmla="*/ 0 h 171360"/>
                      <a:gd name="textAreaBottom" fmla="*/ 171720 h 171360"/>
                    </a:gdLst>
                    <a:ahLst/>
                    <a:rect l="textAreaLeft" t="textAreaTop" r="textAreaRight" b="textAreaBottom"/>
                    <a:pathLst>
                      <a:path w="2065867" h="4030133">
                        <a:moveTo>
                          <a:pt x="270933" y="677333"/>
                        </a:moveTo>
                        <a:cubicBezTo>
                          <a:pt x="259644" y="733778"/>
                          <a:pt x="257278" y="792770"/>
                          <a:pt x="237067" y="846667"/>
                        </a:cubicBezTo>
                        <a:cubicBezTo>
                          <a:pt x="222775" y="884778"/>
                          <a:pt x="187536" y="911861"/>
                          <a:pt x="169333" y="948267"/>
                        </a:cubicBezTo>
                        <a:cubicBezTo>
                          <a:pt x="153368" y="980197"/>
                          <a:pt x="146756" y="1016000"/>
                          <a:pt x="135467" y="1049867"/>
                        </a:cubicBezTo>
                        <a:cubicBezTo>
                          <a:pt x="124178" y="1128889"/>
                          <a:pt x="124537" y="1210475"/>
                          <a:pt x="101600" y="1286933"/>
                        </a:cubicBezTo>
                        <a:cubicBezTo>
                          <a:pt x="89904" y="1325919"/>
                          <a:pt x="52070" y="1352127"/>
                          <a:pt x="33867" y="1388533"/>
                        </a:cubicBezTo>
                        <a:cubicBezTo>
                          <a:pt x="17902" y="1420463"/>
                          <a:pt x="11289" y="1456266"/>
                          <a:pt x="0" y="1490133"/>
                        </a:cubicBezTo>
                        <a:cubicBezTo>
                          <a:pt x="11289" y="1648178"/>
                          <a:pt x="6331" y="1808231"/>
                          <a:pt x="33867" y="1964267"/>
                        </a:cubicBezTo>
                        <a:cubicBezTo>
                          <a:pt x="40941" y="2004350"/>
                          <a:pt x="77942" y="2032746"/>
                          <a:pt x="101600" y="2065867"/>
                        </a:cubicBezTo>
                        <a:cubicBezTo>
                          <a:pt x="134408" y="2111798"/>
                          <a:pt x="167065" y="2157971"/>
                          <a:pt x="203200" y="2201333"/>
                        </a:cubicBezTo>
                        <a:cubicBezTo>
                          <a:pt x="223641" y="2225862"/>
                          <a:pt x="253221" y="2242500"/>
                          <a:pt x="270933" y="2269067"/>
                        </a:cubicBezTo>
                        <a:cubicBezTo>
                          <a:pt x="298937" y="2311073"/>
                          <a:pt x="313619" y="2360700"/>
                          <a:pt x="338667" y="2404533"/>
                        </a:cubicBezTo>
                        <a:cubicBezTo>
                          <a:pt x="443708" y="2588354"/>
                          <a:pt x="378175" y="2421458"/>
                          <a:pt x="440267" y="2607733"/>
                        </a:cubicBezTo>
                        <a:cubicBezTo>
                          <a:pt x="451556" y="2686755"/>
                          <a:pt x="448890" y="2769072"/>
                          <a:pt x="474133" y="2844800"/>
                        </a:cubicBezTo>
                        <a:cubicBezTo>
                          <a:pt x="484230" y="2875091"/>
                          <a:pt x="525439" y="2885153"/>
                          <a:pt x="541867" y="2912533"/>
                        </a:cubicBezTo>
                        <a:cubicBezTo>
                          <a:pt x="692110" y="3162937"/>
                          <a:pt x="437916" y="2858793"/>
                          <a:pt x="643467" y="3115733"/>
                        </a:cubicBezTo>
                        <a:cubicBezTo>
                          <a:pt x="663413" y="3140666"/>
                          <a:pt x="691254" y="3158534"/>
                          <a:pt x="711200" y="3183467"/>
                        </a:cubicBezTo>
                        <a:cubicBezTo>
                          <a:pt x="736627" y="3215251"/>
                          <a:pt x="752130" y="3254435"/>
                          <a:pt x="778933" y="3285067"/>
                        </a:cubicBezTo>
                        <a:cubicBezTo>
                          <a:pt x="831498" y="3345141"/>
                          <a:pt x="900372" y="3390540"/>
                          <a:pt x="948267" y="3454400"/>
                        </a:cubicBezTo>
                        <a:cubicBezTo>
                          <a:pt x="982134" y="3499556"/>
                          <a:pt x="1019951" y="3542002"/>
                          <a:pt x="1049867" y="3589867"/>
                        </a:cubicBezTo>
                        <a:cubicBezTo>
                          <a:pt x="1076624" y="3632678"/>
                          <a:pt x="1089596" y="3683327"/>
                          <a:pt x="1117600" y="3725333"/>
                        </a:cubicBezTo>
                        <a:cubicBezTo>
                          <a:pt x="1164328" y="3795425"/>
                          <a:pt x="1222230" y="3809038"/>
                          <a:pt x="1286933" y="3860800"/>
                        </a:cubicBezTo>
                        <a:cubicBezTo>
                          <a:pt x="1311866" y="3880746"/>
                          <a:pt x="1328100" y="3910821"/>
                          <a:pt x="1354667" y="3928533"/>
                        </a:cubicBezTo>
                        <a:cubicBezTo>
                          <a:pt x="1438370" y="3984335"/>
                          <a:pt x="1501418" y="4000029"/>
                          <a:pt x="1591733" y="4030133"/>
                        </a:cubicBezTo>
                        <a:cubicBezTo>
                          <a:pt x="1670755" y="4018844"/>
                          <a:pt x="1753072" y="4021510"/>
                          <a:pt x="1828800" y="3996267"/>
                        </a:cubicBezTo>
                        <a:cubicBezTo>
                          <a:pt x="1947678" y="3956641"/>
                          <a:pt x="1962781" y="3628192"/>
                          <a:pt x="1964267" y="3623733"/>
                        </a:cubicBezTo>
                        <a:cubicBezTo>
                          <a:pt x="1977138" y="3585119"/>
                          <a:pt x="2013797" y="3558539"/>
                          <a:pt x="2032000" y="3522133"/>
                        </a:cubicBezTo>
                        <a:cubicBezTo>
                          <a:pt x="2047965" y="3490203"/>
                          <a:pt x="2054578" y="3454400"/>
                          <a:pt x="2065867" y="3420533"/>
                        </a:cubicBezTo>
                        <a:cubicBezTo>
                          <a:pt x="2054578" y="3318933"/>
                          <a:pt x="2052048" y="3215973"/>
                          <a:pt x="2032000" y="3115733"/>
                        </a:cubicBezTo>
                        <a:cubicBezTo>
                          <a:pt x="2017998" y="3045722"/>
                          <a:pt x="1964267" y="2912533"/>
                          <a:pt x="1964267" y="2912533"/>
                        </a:cubicBezTo>
                        <a:cubicBezTo>
                          <a:pt x="2045473" y="2668911"/>
                          <a:pt x="1946942" y="2973167"/>
                          <a:pt x="2032000" y="2675467"/>
                        </a:cubicBezTo>
                        <a:cubicBezTo>
                          <a:pt x="2041807" y="2641142"/>
                          <a:pt x="2054578" y="2607734"/>
                          <a:pt x="2065867" y="2573867"/>
                        </a:cubicBezTo>
                        <a:cubicBezTo>
                          <a:pt x="1988036" y="2340376"/>
                          <a:pt x="2048618" y="2421153"/>
                          <a:pt x="1930400" y="2302933"/>
                        </a:cubicBezTo>
                        <a:cubicBezTo>
                          <a:pt x="1919111" y="2257778"/>
                          <a:pt x="1909320" y="2212221"/>
                          <a:pt x="1896533" y="2167467"/>
                        </a:cubicBezTo>
                        <a:cubicBezTo>
                          <a:pt x="1886726" y="2133142"/>
                          <a:pt x="1868536" y="2101080"/>
                          <a:pt x="1862667" y="2065867"/>
                        </a:cubicBezTo>
                        <a:cubicBezTo>
                          <a:pt x="1846052" y="1966175"/>
                          <a:pt x="1835554" y="1713597"/>
                          <a:pt x="1794933" y="1591733"/>
                        </a:cubicBezTo>
                        <a:cubicBezTo>
                          <a:pt x="1778968" y="1543839"/>
                          <a:pt x="1753174" y="1499558"/>
                          <a:pt x="1727200" y="1456267"/>
                        </a:cubicBezTo>
                        <a:cubicBezTo>
                          <a:pt x="1685317" y="1386462"/>
                          <a:pt x="1591733" y="1253067"/>
                          <a:pt x="1591733" y="1253067"/>
                        </a:cubicBezTo>
                        <a:cubicBezTo>
                          <a:pt x="1555962" y="1145753"/>
                          <a:pt x="1565165" y="1143657"/>
                          <a:pt x="1490133" y="1049867"/>
                        </a:cubicBezTo>
                        <a:cubicBezTo>
                          <a:pt x="1470187" y="1024934"/>
                          <a:pt x="1442346" y="1007066"/>
                          <a:pt x="1422400" y="982133"/>
                        </a:cubicBezTo>
                        <a:cubicBezTo>
                          <a:pt x="1396973" y="950349"/>
                          <a:pt x="1380094" y="912316"/>
                          <a:pt x="1354667" y="880533"/>
                        </a:cubicBezTo>
                        <a:cubicBezTo>
                          <a:pt x="1334721" y="855600"/>
                          <a:pt x="1306879" y="837733"/>
                          <a:pt x="1286933" y="812800"/>
                        </a:cubicBezTo>
                        <a:cubicBezTo>
                          <a:pt x="1261506" y="781017"/>
                          <a:pt x="1246241" y="741622"/>
                          <a:pt x="1219200" y="711200"/>
                        </a:cubicBezTo>
                        <a:cubicBezTo>
                          <a:pt x="1155561" y="639606"/>
                          <a:pt x="1095702" y="561134"/>
                          <a:pt x="1016000" y="508000"/>
                        </a:cubicBezTo>
                        <a:cubicBezTo>
                          <a:pt x="887833" y="422556"/>
                          <a:pt x="943181" y="469048"/>
                          <a:pt x="846667" y="372533"/>
                        </a:cubicBezTo>
                        <a:cubicBezTo>
                          <a:pt x="835378" y="338666"/>
                          <a:pt x="832602" y="300636"/>
                          <a:pt x="812800" y="270933"/>
                        </a:cubicBezTo>
                        <a:cubicBezTo>
                          <a:pt x="786233" y="231082"/>
                          <a:pt x="749006" y="198737"/>
                          <a:pt x="711200" y="169333"/>
                        </a:cubicBezTo>
                        <a:cubicBezTo>
                          <a:pt x="536524" y="33474"/>
                          <a:pt x="559693" y="51098"/>
                          <a:pt x="406400" y="0"/>
                        </a:cubicBezTo>
                        <a:cubicBezTo>
                          <a:pt x="361244" y="11289"/>
                          <a:pt x="313715" y="15532"/>
                          <a:pt x="270933" y="33867"/>
                        </a:cubicBezTo>
                        <a:cubicBezTo>
                          <a:pt x="53886" y="126887"/>
                          <a:pt x="173770" y="228415"/>
                          <a:pt x="203200" y="508000"/>
                        </a:cubicBezTo>
                        <a:cubicBezTo>
                          <a:pt x="230238" y="764856"/>
                          <a:pt x="168958" y="711013"/>
                          <a:pt x="304800" y="778933"/>
                        </a:cubicBezTo>
                      </a:path>
                    </a:pathLst>
                  </a:custGeom>
                  <a:solidFill>
                    <a:srgbClr val="f2f2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0" name="任意多边形 172"/>
                  <p:cNvSpPr/>
                  <p:nvPr/>
                </p:nvSpPr>
                <p:spPr>
                  <a:xfrm rot="17366400">
                    <a:off x="-5180400" y="3212640"/>
                    <a:ext cx="116280" cy="128880"/>
                  </a:xfrm>
                  <a:custGeom>
                    <a:avLst/>
                    <a:gdLst>
                      <a:gd name="textAreaLeft" fmla="*/ 0 w 116280"/>
                      <a:gd name="textAreaRight" fmla="*/ 116640 w 116280"/>
                      <a:gd name="textAreaTop" fmla="*/ 0 h 128880"/>
                      <a:gd name="textAreaBottom" fmla="*/ 129240 h 128880"/>
                    </a:gdLst>
                    <a:ahLst/>
                    <a:rect l="textAreaLeft" t="textAreaTop" r="textAreaRight" b="textAreaBottom"/>
                    <a:pathLst>
                      <a:path w="2065867" h="4030133">
                        <a:moveTo>
                          <a:pt x="270933" y="677333"/>
                        </a:moveTo>
                        <a:cubicBezTo>
                          <a:pt x="259644" y="733778"/>
                          <a:pt x="257278" y="792770"/>
                          <a:pt x="237067" y="846667"/>
                        </a:cubicBezTo>
                        <a:cubicBezTo>
                          <a:pt x="222775" y="884778"/>
                          <a:pt x="187536" y="911861"/>
                          <a:pt x="169333" y="948267"/>
                        </a:cubicBezTo>
                        <a:cubicBezTo>
                          <a:pt x="153368" y="980197"/>
                          <a:pt x="146756" y="1016000"/>
                          <a:pt x="135467" y="1049867"/>
                        </a:cubicBezTo>
                        <a:cubicBezTo>
                          <a:pt x="124178" y="1128889"/>
                          <a:pt x="124537" y="1210475"/>
                          <a:pt x="101600" y="1286933"/>
                        </a:cubicBezTo>
                        <a:cubicBezTo>
                          <a:pt x="89904" y="1325919"/>
                          <a:pt x="52070" y="1352127"/>
                          <a:pt x="33867" y="1388533"/>
                        </a:cubicBezTo>
                        <a:cubicBezTo>
                          <a:pt x="17902" y="1420463"/>
                          <a:pt x="11289" y="1456266"/>
                          <a:pt x="0" y="1490133"/>
                        </a:cubicBezTo>
                        <a:cubicBezTo>
                          <a:pt x="11289" y="1648178"/>
                          <a:pt x="6331" y="1808231"/>
                          <a:pt x="33867" y="1964267"/>
                        </a:cubicBezTo>
                        <a:cubicBezTo>
                          <a:pt x="40941" y="2004350"/>
                          <a:pt x="77942" y="2032746"/>
                          <a:pt x="101600" y="2065867"/>
                        </a:cubicBezTo>
                        <a:cubicBezTo>
                          <a:pt x="134408" y="2111798"/>
                          <a:pt x="167065" y="2157971"/>
                          <a:pt x="203200" y="2201333"/>
                        </a:cubicBezTo>
                        <a:cubicBezTo>
                          <a:pt x="223641" y="2225862"/>
                          <a:pt x="253221" y="2242500"/>
                          <a:pt x="270933" y="2269067"/>
                        </a:cubicBezTo>
                        <a:cubicBezTo>
                          <a:pt x="298937" y="2311073"/>
                          <a:pt x="313619" y="2360700"/>
                          <a:pt x="338667" y="2404533"/>
                        </a:cubicBezTo>
                        <a:cubicBezTo>
                          <a:pt x="443708" y="2588354"/>
                          <a:pt x="378175" y="2421458"/>
                          <a:pt x="440267" y="2607733"/>
                        </a:cubicBezTo>
                        <a:cubicBezTo>
                          <a:pt x="451556" y="2686755"/>
                          <a:pt x="448890" y="2769072"/>
                          <a:pt x="474133" y="2844800"/>
                        </a:cubicBezTo>
                        <a:cubicBezTo>
                          <a:pt x="484230" y="2875091"/>
                          <a:pt x="525439" y="2885153"/>
                          <a:pt x="541867" y="2912533"/>
                        </a:cubicBezTo>
                        <a:cubicBezTo>
                          <a:pt x="692110" y="3162937"/>
                          <a:pt x="437916" y="2858793"/>
                          <a:pt x="643467" y="3115733"/>
                        </a:cubicBezTo>
                        <a:cubicBezTo>
                          <a:pt x="663413" y="3140666"/>
                          <a:pt x="691254" y="3158534"/>
                          <a:pt x="711200" y="3183467"/>
                        </a:cubicBezTo>
                        <a:cubicBezTo>
                          <a:pt x="736627" y="3215251"/>
                          <a:pt x="752130" y="3254435"/>
                          <a:pt x="778933" y="3285067"/>
                        </a:cubicBezTo>
                        <a:cubicBezTo>
                          <a:pt x="831498" y="3345141"/>
                          <a:pt x="900372" y="3390540"/>
                          <a:pt x="948267" y="3454400"/>
                        </a:cubicBezTo>
                        <a:cubicBezTo>
                          <a:pt x="982134" y="3499556"/>
                          <a:pt x="1019951" y="3542002"/>
                          <a:pt x="1049867" y="3589867"/>
                        </a:cubicBezTo>
                        <a:cubicBezTo>
                          <a:pt x="1076624" y="3632678"/>
                          <a:pt x="1089596" y="3683327"/>
                          <a:pt x="1117600" y="3725333"/>
                        </a:cubicBezTo>
                        <a:cubicBezTo>
                          <a:pt x="1164328" y="3795425"/>
                          <a:pt x="1222230" y="3809038"/>
                          <a:pt x="1286933" y="3860800"/>
                        </a:cubicBezTo>
                        <a:cubicBezTo>
                          <a:pt x="1311866" y="3880746"/>
                          <a:pt x="1328100" y="3910821"/>
                          <a:pt x="1354667" y="3928533"/>
                        </a:cubicBezTo>
                        <a:cubicBezTo>
                          <a:pt x="1438370" y="3984335"/>
                          <a:pt x="1501418" y="4000029"/>
                          <a:pt x="1591733" y="4030133"/>
                        </a:cubicBezTo>
                        <a:cubicBezTo>
                          <a:pt x="1670755" y="4018844"/>
                          <a:pt x="1753072" y="4021510"/>
                          <a:pt x="1828800" y="3996267"/>
                        </a:cubicBezTo>
                        <a:cubicBezTo>
                          <a:pt x="1947678" y="3956641"/>
                          <a:pt x="1962781" y="3628192"/>
                          <a:pt x="1964267" y="3623733"/>
                        </a:cubicBezTo>
                        <a:cubicBezTo>
                          <a:pt x="1977138" y="3585119"/>
                          <a:pt x="2013797" y="3558539"/>
                          <a:pt x="2032000" y="3522133"/>
                        </a:cubicBezTo>
                        <a:cubicBezTo>
                          <a:pt x="2047965" y="3490203"/>
                          <a:pt x="2054578" y="3454400"/>
                          <a:pt x="2065867" y="3420533"/>
                        </a:cubicBezTo>
                        <a:cubicBezTo>
                          <a:pt x="2054578" y="3318933"/>
                          <a:pt x="2052048" y="3215973"/>
                          <a:pt x="2032000" y="3115733"/>
                        </a:cubicBezTo>
                        <a:cubicBezTo>
                          <a:pt x="2017998" y="3045722"/>
                          <a:pt x="1964267" y="2912533"/>
                          <a:pt x="1964267" y="2912533"/>
                        </a:cubicBezTo>
                        <a:cubicBezTo>
                          <a:pt x="2045473" y="2668911"/>
                          <a:pt x="1946942" y="2973167"/>
                          <a:pt x="2032000" y="2675467"/>
                        </a:cubicBezTo>
                        <a:cubicBezTo>
                          <a:pt x="2041807" y="2641142"/>
                          <a:pt x="2054578" y="2607734"/>
                          <a:pt x="2065867" y="2573867"/>
                        </a:cubicBezTo>
                        <a:cubicBezTo>
                          <a:pt x="1988036" y="2340376"/>
                          <a:pt x="2048618" y="2421153"/>
                          <a:pt x="1930400" y="2302933"/>
                        </a:cubicBezTo>
                        <a:cubicBezTo>
                          <a:pt x="1919111" y="2257778"/>
                          <a:pt x="1909320" y="2212221"/>
                          <a:pt x="1896533" y="2167467"/>
                        </a:cubicBezTo>
                        <a:cubicBezTo>
                          <a:pt x="1886726" y="2133142"/>
                          <a:pt x="1868536" y="2101080"/>
                          <a:pt x="1862667" y="2065867"/>
                        </a:cubicBezTo>
                        <a:cubicBezTo>
                          <a:pt x="1846052" y="1966175"/>
                          <a:pt x="1835554" y="1713597"/>
                          <a:pt x="1794933" y="1591733"/>
                        </a:cubicBezTo>
                        <a:cubicBezTo>
                          <a:pt x="1778968" y="1543839"/>
                          <a:pt x="1753174" y="1499558"/>
                          <a:pt x="1727200" y="1456267"/>
                        </a:cubicBezTo>
                        <a:cubicBezTo>
                          <a:pt x="1685317" y="1386462"/>
                          <a:pt x="1591733" y="1253067"/>
                          <a:pt x="1591733" y="1253067"/>
                        </a:cubicBezTo>
                        <a:cubicBezTo>
                          <a:pt x="1555962" y="1145753"/>
                          <a:pt x="1565165" y="1143657"/>
                          <a:pt x="1490133" y="1049867"/>
                        </a:cubicBezTo>
                        <a:cubicBezTo>
                          <a:pt x="1470187" y="1024934"/>
                          <a:pt x="1442346" y="1007066"/>
                          <a:pt x="1422400" y="982133"/>
                        </a:cubicBezTo>
                        <a:cubicBezTo>
                          <a:pt x="1396973" y="950349"/>
                          <a:pt x="1380094" y="912316"/>
                          <a:pt x="1354667" y="880533"/>
                        </a:cubicBezTo>
                        <a:cubicBezTo>
                          <a:pt x="1334721" y="855600"/>
                          <a:pt x="1306879" y="837733"/>
                          <a:pt x="1286933" y="812800"/>
                        </a:cubicBezTo>
                        <a:cubicBezTo>
                          <a:pt x="1261506" y="781017"/>
                          <a:pt x="1246241" y="741622"/>
                          <a:pt x="1219200" y="711200"/>
                        </a:cubicBezTo>
                        <a:cubicBezTo>
                          <a:pt x="1155561" y="639606"/>
                          <a:pt x="1095702" y="561134"/>
                          <a:pt x="1016000" y="508000"/>
                        </a:cubicBezTo>
                        <a:cubicBezTo>
                          <a:pt x="887833" y="422556"/>
                          <a:pt x="943181" y="469048"/>
                          <a:pt x="846667" y="372533"/>
                        </a:cubicBezTo>
                        <a:cubicBezTo>
                          <a:pt x="835378" y="338666"/>
                          <a:pt x="832602" y="300636"/>
                          <a:pt x="812800" y="270933"/>
                        </a:cubicBezTo>
                        <a:cubicBezTo>
                          <a:pt x="786233" y="231082"/>
                          <a:pt x="749006" y="198737"/>
                          <a:pt x="711200" y="169333"/>
                        </a:cubicBezTo>
                        <a:cubicBezTo>
                          <a:pt x="536524" y="33474"/>
                          <a:pt x="559693" y="51098"/>
                          <a:pt x="406400" y="0"/>
                        </a:cubicBezTo>
                        <a:cubicBezTo>
                          <a:pt x="361244" y="11289"/>
                          <a:pt x="313715" y="15532"/>
                          <a:pt x="270933" y="33867"/>
                        </a:cubicBezTo>
                        <a:cubicBezTo>
                          <a:pt x="53886" y="126887"/>
                          <a:pt x="173770" y="228415"/>
                          <a:pt x="203200" y="508000"/>
                        </a:cubicBezTo>
                        <a:cubicBezTo>
                          <a:pt x="230238" y="764856"/>
                          <a:pt x="168958" y="711013"/>
                          <a:pt x="304800" y="778933"/>
                        </a:cubicBezTo>
                      </a:path>
                    </a:pathLst>
                  </a:custGeom>
                  <a:solidFill>
                    <a:srgbClr val="f2f2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11" name=""/>
                <p:cNvGrpSpPr/>
                <p:nvPr/>
              </p:nvGrpSpPr>
              <p:grpSpPr>
                <a:xfrm>
                  <a:off x="-5528880" y="3341160"/>
                  <a:ext cx="810000" cy="613440"/>
                  <a:chOff x="-5528880" y="3341160"/>
                  <a:chExt cx="810000" cy="613440"/>
                </a:xfrm>
              </p:grpSpPr>
              <p:sp>
                <p:nvSpPr>
                  <p:cNvPr id="612" name="任意多边形 167"/>
                  <p:cNvSpPr/>
                  <p:nvPr/>
                </p:nvSpPr>
                <p:spPr>
                  <a:xfrm rot="19971000">
                    <a:off x="-5501160" y="3496680"/>
                    <a:ext cx="755280" cy="302400"/>
                  </a:xfrm>
                  <a:custGeom>
                    <a:avLst/>
                    <a:gdLst>
                      <a:gd name="textAreaLeft" fmla="*/ 0 w 755280"/>
                      <a:gd name="textAreaRight" fmla="*/ 755640 w 755280"/>
                      <a:gd name="textAreaTop" fmla="*/ 0 h 302400"/>
                      <a:gd name="textAreaBottom" fmla="*/ 302760 h 302400"/>
                    </a:gdLst>
                    <a:ahLst/>
                    <a:rect l="textAreaLeft" t="textAreaTop" r="textAreaRight" b="textAreaBottom"/>
                    <a:pathLst>
                      <a:path w="2065867" h="4030133">
                        <a:moveTo>
                          <a:pt x="270933" y="677333"/>
                        </a:moveTo>
                        <a:cubicBezTo>
                          <a:pt x="259644" y="733778"/>
                          <a:pt x="257278" y="792770"/>
                          <a:pt x="237067" y="846667"/>
                        </a:cubicBezTo>
                        <a:cubicBezTo>
                          <a:pt x="222775" y="884778"/>
                          <a:pt x="187536" y="911861"/>
                          <a:pt x="169333" y="948267"/>
                        </a:cubicBezTo>
                        <a:cubicBezTo>
                          <a:pt x="153368" y="980197"/>
                          <a:pt x="146756" y="1016000"/>
                          <a:pt x="135467" y="1049867"/>
                        </a:cubicBezTo>
                        <a:cubicBezTo>
                          <a:pt x="124178" y="1128889"/>
                          <a:pt x="124537" y="1210475"/>
                          <a:pt x="101600" y="1286933"/>
                        </a:cubicBezTo>
                        <a:cubicBezTo>
                          <a:pt x="89904" y="1325919"/>
                          <a:pt x="52070" y="1352127"/>
                          <a:pt x="33867" y="1388533"/>
                        </a:cubicBezTo>
                        <a:cubicBezTo>
                          <a:pt x="17902" y="1420463"/>
                          <a:pt x="11289" y="1456266"/>
                          <a:pt x="0" y="1490133"/>
                        </a:cubicBezTo>
                        <a:cubicBezTo>
                          <a:pt x="11289" y="1648178"/>
                          <a:pt x="6331" y="1808231"/>
                          <a:pt x="33867" y="1964267"/>
                        </a:cubicBezTo>
                        <a:cubicBezTo>
                          <a:pt x="40941" y="2004350"/>
                          <a:pt x="77942" y="2032746"/>
                          <a:pt x="101600" y="2065867"/>
                        </a:cubicBezTo>
                        <a:cubicBezTo>
                          <a:pt x="134408" y="2111798"/>
                          <a:pt x="167065" y="2157971"/>
                          <a:pt x="203200" y="2201333"/>
                        </a:cubicBezTo>
                        <a:cubicBezTo>
                          <a:pt x="223641" y="2225862"/>
                          <a:pt x="253221" y="2242500"/>
                          <a:pt x="270933" y="2269067"/>
                        </a:cubicBezTo>
                        <a:cubicBezTo>
                          <a:pt x="298937" y="2311073"/>
                          <a:pt x="313619" y="2360700"/>
                          <a:pt x="338667" y="2404533"/>
                        </a:cubicBezTo>
                        <a:cubicBezTo>
                          <a:pt x="443708" y="2588354"/>
                          <a:pt x="378175" y="2421458"/>
                          <a:pt x="440267" y="2607733"/>
                        </a:cubicBezTo>
                        <a:cubicBezTo>
                          <a:pt x="451556" y="2686755"/>
                          <a:pt x="448890" y="2769072"/>
                          <a:pt x="474133" y="2844800"/>
                        </a:cubicBezTo>
                        <a:cubicBezTo>
                          <a:pt x="484230" y="2875091"/>
                          <a:pt x="525439" y="2885153"/>
                          <a:pt x="541867" y="2912533"/>
                        </a:cubicBezTo>
                        <a:cubicBezTo>
                          <a:pt x="692110" y="3162937"/>
                          <a:pt x="437916" y="2858793"/>
                          <a:pt x="643467" y="3115733"/>
                        </a:cubicBezTo>
                        <a:cubicBezTo>
                          <a:pt x="663413" y="3140666"/>
                          <a:pt x="691254" y="3158534"/>
                          <a:pt x="711200" y="3183467"/>
                        </a:cubicBezTo>
                        <a:cubicBezTo>
                          <a:pt x="736627" y="3215251"/>
                          <a:pt x="752130" y="3254435"/>
                          <a:pt x="778933" y="3285067"/>
                        </a:cubicBezTo>
                        <a:cubicBezTo>
                          <a:pt x="831498" y="3345141"/>
                          <a:pt x="900372" y="3390540"/>
                          <a:pt x="948267" y="3454400"/>
                        </a:cubicBezTo>
                        <a:cubicBezTo>
                          <a:pt x="982134" y="3499556"/>
                          <a:pt x="1019951" y="3542002"/>
                          <a:pt x="1049867" y="3589867"/>
                        </a:cubicBezTo>
                        <a:cubicBezTo>
                          <a:pt x="1076624" y="3632678"/>
                          <a:pt x="1089596" y="3683327"/>
                          <a:pt x="1117600" y="3725333"/>
                        </a:cubicBezTo>
                        <a:cubicBezTo>
                          <a:pt x="1164328" y="3795425"/>
                          <a:pt x="1222230" y="3809038"/>
                          <a:pt x="1286933" y="3860800"/>
                        </a:cubicBezTo>
                        <a:cubicBezTo>
                          <a:pt x="1311866" y="3880746"/>
                          <a:pt x="1328100" y="3910821"/>
                          <a:pt x="1354667" y="3928533"/>
                        </a:cubicBezTo>
                        <a:cubicBezTo>
                          <a:pt x="1438370" y="3984335"/>
                          <a:pt x="1501418" y="4000029"/>
                          <a:pt x="1591733" y="4030133"/>
                        </a:cubicBezTo>
                        <a:cubicBezTo>
                          <a:pt x="1670755" y="4018844"/>
                          <a:pt x="1753072" y="4021510"/>
                          <a:pt x="1828800" y="3996267"/>
                        </a:cubicBezTo>
                        <a:cubicBezTo>
                          <a:pt x="1947678" y="3956641"/>
                          <a:pt x="1962781" y="3628192"/>
                          <a:pt x="1964267" y="3623733"/>
                        </a:cubicBezTo>
                        <a:cubicBezTo>
                          <a:pt x="1977138" y="3585119"/>
                          <a:pt x="2013797" y="3558539"/>
                          <a:pt x="2032000" y="3522133"/>
                        </a:cubicBezTo>
                        <a:cubicBezTo>
                          <a:pt x="2047965" y="3490203"/>
                          <a:pt x="2054578" y="3454400"/>
                          <a:pt x="2065867" y="3420533"/>
                        </a:cubicBezTo>
                        <a:cubicBezTo>
                          <a:pt x="2054578" y="3318933"/>
                          <a:pt x="2052048" y="3215973"/>
                          <a:pt x="2032000" y="3115733"/>
                        </a:cubicBezTo>
                        <a:cubicBezTo>
                          <a:pt x="2017998" y="3045722"/>
                          <a:pt x="1964267" y="2912533"/>
                          <a:pt x="1964267" y="2912533"/>
                        </a:cubicBezTo>
                        <a:cubicBezTo>
                          <a:pt x="2045473" y="2668911"/>
                          <a:pt x="1946942" y="2973167"/>
                          <a:pt x="2032000" y="2675467"/>
                        </a:cubicBezTo>
                        <a:cubicBezTo>
                          <a:pt x="2041807" y="2641142"/>
                          <a:pt x="2054578" y="2607734"/>
                          <a:pt x="2065867" y="2573867"/>
                        </a:cubicBezTo>
                        <a:cubicBezTo>
                          <a:pt x="1988036" y="2340376"/>
                          <a:pt x="2048618" y="2421153"/>
                          <a:pt x="1930400" y="2302933"/>
                        </a:cubicBezTo>
                        <a:cubicBezTo>
                          <a:pt x="1919111" y="2257778"/>
                          <a:pt x="1909320" y="2212221"/>
                          <a:pt x="1896533" y="2167467"/>
                        </a:cubicBezTo>
                        <a:cubicBezTo>
                          <a:pt x="1886726" y="2133142"/>
                          <a:pt x="1868536" y="2101080"/>
                          <a:pt x="1862667" y="2065867"/>
                        </a:cubicBezTo>
                        <a:cubicBezTo>
                          <a:pt x="1846052" y="1966175"/>
                          <a:pt x="1835554" y="1713597"/>
                          <a:pt x="1794933" y="1591733"/>
                        </a:cubicBezTo>
                        <a:cubicBezTo>
                          <a:pt x="1778968" y="1543839"/>
                          <a:pt x="1753174" y="1499558"/>
                          <a:pt x="1727200" y="1456267"/>
                        </a:cubicBezTo>
                        <a:cubicBezTo>
                          <a:pt x="1685317" y="1386462"/>
                          <a:pt x="1591733" y="1253067"/>
                          <a:pt x="1591733" y="1253067"/>
                        </a:cubicBezTo>
                        <a:cubicBezTo>
                          <a:pt x="1555962" y="1145753"/>
                          <a:pt x="1565165" y="1143657"/>
                          <a:pt x="1490133" y="1049867"/>
                        </a:cubicBezTo>
                        <a:cubicBezTo>
                          <a:pt x="1470187" y="1024934"/>
                          <a:pt x="1442346" y="1007066"/>
                          <a:pt x="1422400" y="982133"/>
                        </a:cubicBezTo>
                        <a:cubicBezTo>
                          <a:pt x="1396973" y="950349"/>
                          <a:pt x="1380094" y="912316"/>
                          <a:pt x="1354667" y="880533"/>
                        </a:cubicBezTo>
                        <a:cubicBezTo>
                          <a:pt x="1334721" y="855600"/>
                          <a:pt x="1306879" y="837733"/>
                          <a:pt x="1286933" y="812800"/>
                        </a:cubicBezTo>
                        <a:cubicBezTo>
                          <a:pt x="1261506" y="781017"/>
                          <a:pt x="1246241" y="741622"/>
                          <a:pt x="1219200" y="711200"/>
                        </a:cubicBezTo>
                        <a:cubicBezTo>
                          <a:pt x="1155561" y="639606"/>
                          <a:pt x="1095702" y="561134"/>
                          <a:pt x="1016000" y="508000"/>
                        </a:cubicBezTo>
                        <a:cubicBezTo>
                          <a:pt x="887833" y="422556"/>
                          <a:pt x="943181" y="469048"/>
                          <a:pt x="846667" y="372533"/>
                        </a:cubicBezTo>
                        <a:cubicBezTo>
                          <a:pt x="835378" y="338666"/>
                          <a:pt x="832602" y="300636"/>
                          <a:pt x="812800" y="270933"/>
                        </a:cubicBezTo>
                        <a:cubicBezTo>
                          <a:pt x="786233" y="231082"/>
                          <a:pt x="749006" y="198737"/>
                          <a:pt x="711200" y="169333"/>
                        </a:cubicBezTo>
                        <a:cubicBezTo>
                          <a:pt x="536524" y="33474"/>
                          <a:pt x="559693" y="51098"/>
                          <a:pt x="406400" y="0"/>
                        </a:cubicBezTo>
                        <a:cubicBezTo>
                          <a:pt x="361244" y="11289"/>
                          <a:pt x="313715" y="15532"/>
                          <a:pt x="270933" y="33867"/>
                        </a:cubicBezTo>
                        <a:cubicBezTo>
                          <a:pt x="53886" y="126887"/>
                          <a:pt x="173770" y="228415"/>
                          <a:pt x="203200" y="508000"/>
                        </a:cubicBezTo>
                        <a:cubicBezTo>
                          <a:pt x="230238" y="764856"/>
                          <a:pt x="168958" y="711013"/>
                          <a:pt x="304800" y="778933"/>
                        </a:cubicBez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3" name="任意多边形 168"/>
                  <p:cNvSpPr/>
                  <p:nvPr/>
                </p:nvSpPr>
                <p:spPr>
                  <a:xfrm rot="18389400">
                    <a:off x="-5007240" y="3409920"/>
                    <a:ext cx="187200" cy="334080"/>
                  </a:xfrm>
                  <a:custGeom>
                    <a:avLst/>
                    <a:gdLst>
                      <a:gd name="textAreaLeft" fmla="*/ 0 w 187200"/>
                      <a:gd name="textAreaRight" fmla="*/ 187560 w 187200"/>
                      <a:gd name="textAreaTop" fmla="*/ 0 h 334080"/>
                      <a:gd name="textAreaBottom" fmla="*/ 334440 h 334080"/>
                    </a:gdLst>
                    <a:ahLst/>
                    <a:rect l="textAreaLeft" t="textAreaTop" r="textAreaRight" b="textAreaBottom"/>
                    <a:pathLst>
                      <a:path w="2065867" h="4030133">
                        <a:moveTo>
                          <a:pt x="270933" y="677333"/>
                        </a:moveTo>
                        <a:cubicBezTo>
                          <a:pt x="259644" y="733778"/>
                          <a:pt x="257278" y="792770"/>
                          <a:pt x="237067" y="846667"/>
                        </a:cubicBezTo>
                        <a:cubicBezTo>
                          <a:pt x="222775" y="884778"/>
                          <a:pt x="187536" y="911861"/>
                          <a:pt x="169333" y="948267"/>
                        </a:cubicBezTo>
                        <a:cubicBezTo>
                          <a:pt x="153368" y="980197"/>
                          <a:pt x="146756" y="1016000"/>
                          <a:pt x="135467" y="1049867"/>
                        </a:cubicBezTo>
                        <a:cubicBezTo>
                          <a:pt x="124178" y="1128889"/>
                          <a:pt x="124537" y="1210475"/>
                          <a:pt x="101600" y="1286933"/>
                        </a:cubicBezTo>
                        <a:cubicBezTo>
                          <a:pt x="89904" y="1325919"/>
                          <a:pt x="52070" y="1352127"/>
                          <a:pt x="33867" y="1388533"/>
                        </a:cubicBezTo>
                        <a:cubicBezTo>
                          <a:pt x="17902" y="1420463"/>
                          <a:pt x="11289" y="1456266"/>
                          <a:pt x="0" y="1490133"/>
                        </a:cubicBezTo>
                        <a:cubicBezTo>
                          <a:pt x="11289" y="1648178"/>
                          <a:pt x="6331" y="1808231"/>
                          <a:pt x="33867" y="1964267"/>
                        </a:cubicBezTo>
                        <a:cubicBezTo>
                          <a:pt x="40941" y="2004350"/>
                          <a:pt x="77942" y="2032746"/>
                          <a:pt x="101600" y="2065867"/>
                        </a:cubicBezTo>
                        <a:cubicBezTo>
                          <a:pt x="134408" y="2111798"/>
                          <a:pt x="167065" y="2157971"/>
                          <a:pt x="203200" y="2201333"/>
                        </a:cubicBezTo>
                        <a:cubicBezTo>
                          <a:pt x="223641" y="2225862"/>
                          <a:pt x="253221" y="2242500"/>
                          <a:pt x="270933" y="2269067"/>
                        </a:cubicBezTo>
                        <a:cubicBezTo>
                          <a:pt x="298937" y="2311073"/>
                          <a:pt x="313619" y="2360700"/>
                          <a:pt x="338667" y="2404533"/>
                        </a:cubicBezTo>
                        <a:cubicBezTo>
                          <a:pt x="443708" y="2588354"/>
                          <a:pt x="378175" y="2421458"/>
                          <a:pt x="440267" y="2607733"/>
                        </a:cubicBezTo>
                        <a:cubicBezTo>
                          <a:pt x="451556" y="2686755"/>
                          <a:pt x="448890" y="2769072"/>
                          <a:pt x="474133" y="2844800"/>
                        </a:cubicBezTo>
                        <a:cubicBezTo>
                          <a:pt x="484230" y="2875091"/>
                          <a:pt x="525439" y="2885153"/>
                          <a:pt x="541867" y="2912533"/>
                        </a:cubicBezTo>
                        <a:cubicBezTo>
                          <a:pt x="692110" y="3162937"/>
                          <a:pt x="437916" y="2858793"/>
                          <a:pt x="643467" y="3115733"/>
                        </a:cubicBezTo>
                        <a:cubicBezTo>
                          <a:pt x="663413" y="3140666"/>
                          <a:pt x="691254" y="3158534"/>
                          <a:pt x="711200" y="3183467"/>
                        </a:cubicBezTo>
                        <a:cubicBezTo>
                          <a:pt x="736627" y="3215251"/>
                          <a:pt x="752130" y="3254435"/>
                          <a:pt x="778933" y="3285067"/>
                        </a:cubicBezTo>
                        <a:cubicBezTo>
                          <a:pt x="831498" y="3345141"/>
                          <a:pt x="900372" y="3390540"/>
                          <a:pt x="948267" y="3454400"/>
                        </a:cubicBezTo>
                        <a:cubicBezTo>
                          <a:pt x="982134" y="3499556"/>
                          <a:pt x="1019951" y="3542002"/>
                          <a:pt x="1049867" y="3589867"/>
                        </a:cubicBezTo>
                        <a:cubicBezTo>
                          <a:pt x="1076624" y="3632678"/>
                          <a:pt x="1089596" y="3683327"/>
                          <a:pt x="1117600" y="3725333"/>
                        </a:cubicBezTo>
                        <a:cubicBezTo>
                          <a:pt x="1164328" y="3795425"/>
                          <a:pt x="1222230" y="3809038"/>
                          <a:pt x="1286933" y="3860800"/>
                        </a:cubicBezTo>
                        <a:cubicBezTo>
                          <a:pt x="1311866" y="3880746"/>
                          <a:pt x="1328100" y="3910821"/>
                          <a:pt x="1354667" y="3928533"/>
                        </a:cubicBezTo>
                        <a:cubicBezTo>
                          <a:pt x="1438370" y="3984335"/>
                          <a:pt x="1501418" y="4000029"/>
                          <a:pt x="1591733" y="4030133"/>
                        </a:cubicBezTo>
                        <a:cubicBezTo>
                          <a:pt x="1670755" y="4018844"/>
                          <a:pt x="1753072" y="4021510"/>
                          <a:pt x="1828800" y="3996267"/>
                        </a:cubicBezTo>
                        <a:cubicBezTo>
                          <a:pt x="1947678" y="3956641"/>
                          <a:pt x="1962781" y="3628192"/>
                          <a:pt x="1964267" y="3623733"/>
                        </a:cubicBezTo>
                        <a:cubicBezTo>
                          <a:pt x="1977138" y="3585119"/>
                          <a:pt x="2013797" y="3558539"/>
                          <a:pt x="2032000" y="3522133"/>
                        </a:cubicBezTo>
                        <a:cubicBezTo>
                          <a:pt x="2047965" y="3490203"/>
                          <a:pt x="2054578" y="3454400"/>
                          <a:pt x="2065867" y="3420533"/>
                        </a:cubicBezTo>
                        <a:cubicBezTo>
                          <a:pt x="2054578" y="3318933"/>
                          <a:pt x="2052048" y="3215973"/>
                          <a:pt x="2032000" y="3115733"/>
                        </a:cubicBezTo>
                        <a:cubicBezTo>
                          <a:pt x="2017998" y="3045722"/>
                          <a:pt x="1964267" y="2912533"/>
                          <a:pt x="1964267" y="2912533"/>
                        </a:cubicBezTo>
                        <a:cubicBezTo>
                          <a:pt x="2045473" y="2668911"/>
                          <a:pt x="1946942" y="2973167"/>
                          <a:pt x="2032000" y="2675467"/>
                        </a:cubicBezTo>
                        <a:cubicBezTo>
                          <a:pt x="2041807" y="2641142"/>
                          <a:pt x="2054578" y="2607734"/>
                          <a:pt x="2065867" y="2573867"/>
                        </a:cubicBezTo>
                        <a:cubicBezTo>
                          <a:pt x="1988036" y="2340376"/>
                          <a:pt x="2048618" y="2421153"/>
                          <a:pt x="1930400" y="2302933"/>
                        </a:cubicBezTo>
                        <a:cubicBezTo>
                          <a:pt x="1919111" y="2257778"/>
                          <a:pt x="1909320" y="2212221"/>
                          <a:pt x="1896533" y="2167467"/>
                        </a:cubicBezTo>
                        <a:cubicBezTo>
                          <a:pt x="1886726" y="2133142"/>
                          <a:pt x="1868536" y="2101080"/>
                          <a:pt x="1862667" y="2065867"/>
                        </a:cubicBezTo>
                        <a:cubicBezTo>
                          <a:pt x="1846052" y="1966175"/>
                          <a:pt x="1835554" y="1713597"/>
                          <a:pt x="1794933" y="1591733"/>
                        </a:cubicBezTo>
                        <a:cubicBezTo>
                          <a:pt x="1778968" y="1543839"/>
                          <a:pt x="1753174" y="1499558"/>
                          <a:pt x="1727200" y="1456267"/>
                        </a:cubicBezTo>
                        <a:cubicBezTo>
                          <a:pt x="1685317" y="1386462"/>
                          <a:pt x="1591733" y="1253067"/>
                          <a:pt x="1591733" y="1253067"/>
                        </a:cubicBezTo>
                        <a:cubicBezTo>
                          <a:pt x="1555962" y="1145753"/>
                          <a:pt x="1565165" y="1143657"/>
                          <a:pt x="1490133" y="1049867"/>
                        </a:cubicBezTo>
                        <a:cubicBezTo>
                          <a:pt x="1470187" y="1024934"/>
                          <a:pt x="1442346" y="1007066"/>
                          <a:pt x="1422400" y="982133"/>
                        </a:cubicBezTo>
                        <a:cubicBezTo>
                          <a:pt x="1396973" y="950349"/>
                          <a:pt x="1380094" y="912316"/>
                          <a:pt x="1354667" y="880533"/>
                        </a:cubicBezTo>
                        <a:cubicBezTo>
                          <a:pt x="1334721" y="855600"/>
                          <a:pt x="1306879" y="837733"/>
                          <a:pt x="1286933" y="812800"/>
                        </a:cubicBezTo>
                        <a:cubicBezTo>
                          <a:pt x="1261506" y="781017"/>
                          <a:pt x="1246241" y="741622"/>
                          <a:pt x="1219200" y="711200"/>
                        </a:cubicBezTo>
                        <a:cubicBezTo>
                          <a:pt x="1155561" y="639606"/>
                          <a:pt x="1095702" y="561134"/>
                          <a:pt x="1016000" y="508000"/>
                        </a:cubicBezTo>
                        <a:cubicBezTo>
                          <a:pt x="887833" y="422556"/>
                          <a:pt x="943181" y="469048"/>
                          <a:pt x="846667" y="372533"/>
                        </a:cubicBezTo>
                        <a:cubicBezTo>
                          <a:pt x="835378" y="338666"/>
                          <a:pt x="832602" y="300636"/>
                          <a:pt x="812800" y="270933"/>
                        </a:cubicBezTo>
                        <a:cubicBezTo>
                          <a:pt x="786233" y="231082"/>
                          <a:pt x="749006" y="198737"/>
                          <a:pt x="711200" y="169333"/>
                        </a:cubicBezTo>
                        <a:cubicBezTo>
                          <a:pt x="536524" y="33474"/>
                          <a:pt x="559693" y="51098"/>
                          <a:pt x="406400" y="0"/>
                        </a:cubicBezTo>
                        <a:cubicBezTo>
                          <a:pt x="361244" y="11289"/>
                          <a:pt x="313715" y="15532"/>
                          <a:pt x="270933" y="33867"/>
                        </a:cubicBezTo>
                        <a:cubicBezTo>
                          <a:pt x="53886" y="126887"/>
                          <a:pt x="173770" y="228415"/>
                          <a:pt x="203200" y="508000"/>
                        </a:cubicBezTo>
                        <a:cubicBezTo>
                          <a:pt x="230238" y="764856"/>
                          <a:pt x="168958" y="711013"/>
                          <a:pt x="304800" y="778933"/>
                        </a:cubicBezTo>
                      </a:path>
                    </a:pathLst>
                  </a:custGeom>
                  <a:solidFill>
                    <a:srgbClr val="f2f2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4" name="任意多边形 169"/>
                  <p:cNvSpPr/>
                  <p:nvPr/>
                </p:nvSpPr>
                <p:spPr>
                  <a:xfrm rot="17696400">
                    <a:off x="-5277240" y="3520440"/>
                    <a:ext cx="128520" cy="222480"/>
                  </a:xfrm>
                  <a:custGeom>
                    <a:avLst/>
                    <a:gdLst>
                      <a:gd name="textAreaLeft" fmla="*/ 0 w 128520"/>
                      <a:gd name="textAreaRight" fmla="*/ 128880 w 128520"/>
                      <a:gd name="textAreaTop" fmla="*/ 0 h 222480"/>
                      <a:gd name="textAreaBottom" fmla="*/ 222840 h 222480"/>
                    </a:gdLst>
                    <a:ahLst/>
                    <a:rect l="textAreaLeft" t="textAreaTop" r="textAreaRight" b="textAreaBottom"/>
                    <a:pathLst>
                      <a:path w="2065867" h="4030133">
                        <a:moveTo>
                          <a:pt x="270933" y="677333"/>
                        </a:moveTo>
                        <a:cubicBezTo>
                          <a:pt x="259644" y="733778"/>
                          <a:pt x="257278" y="792770"/>
                          <a:pt x="237067" y="846667"/>
                        </a:cubicBezTo>
                        <a:cubicBezTo>
                          <a:pt x="222775" y="884778"/>
                          <a:pt x="187536" y="911861"/>
                          <a:pt x="169333" y="948267"/>
                        </a:cubicBezTo>
                        <a:cubicBezTo>
                          <a:pt x="153368" y="980197"/>
                          <a:pt x="146756" y="1016000"/>
                          <a:pt x="135467" y="1049867"/>
                        </a:cubicBezTo>
                        <a:cubicBezTo>
                          <a:pt x="124178" y="1128889"/>
                          <a:pt x="124537" y="1210475"/>
                          <a:pt x="101600" y="1286933"/>
                        </a:cubicBezTo>
                        <a:cubicBezTo>
                          <a:pt x="89904" y="1325919"/>
                          <a:pt x="52070" y="1352127"/>
                          <a:pt x="33867" y="1388533"/>
                        </a:cubicBezTo>
                        <a:cubicBezTo>
                          <a:pt x="17902" y="1420463"/>
                          <a:pt x="11289" y="1456266"/>
                          <a:pt x="0" y="1490133"/>
                        </a:cubicBezTo>
                        <a:cubicBezTo>
                          <a:pt x="11289" y="1648178"/>
                          <a:pt x="6331" y="1808231"/>
                          <a:pt x="33867" y="1964267"/>
                        </a:cubicBezTo>
                        <a:cubicBezTo>
                          <a:pt x="40941" y="2004350"/>
                          <a:pt x="77942" y="2032746"/>
                          <a:pt x="101600" y="2065867"/>
                        </a:cubicBezTo>
                        <a:cubicBezTo>
                          <a:pt x="134408" y="2111798"/>
                          <a:pt x="167065" y="2157971"/>
                          <a:pt x="203200" y="2201333"/>
                        </a:cubicBezTo>
                        <a:cubicBezTo>
                          <a:pt x="223641" y="2225862"/>
                          <a:pt x="253221" y="2242500"/>
                          <a:pt x="270933" y="2269067"/>
                        </a:cubicBezTo>
                        <a:cubicBezTo>
                          <a:pt x="298937" y="2311073"/>
                          <a:pt x="313619" y="2360700"/>
                          <a:pt x="338667" y="2404533"/>
                        </a:cubicBezTo>
                        <a:cubicBezTo>
                          <a:pt x="443708" y="2588354"/>
                          <a:pt x="378175" y="2421458"/>
                          <a:pt x="440267" y="2607733"/>
                        </a:cubicBezTo>
                        <a:cubicBezTo>
                          <a:pt x="451556" y="2686755"/>
                          <a:pt x="448890" y="2769072"/>
                          <a:pt x="474133" y="2844800"/>
                        </a:cubicBezTo>
                        <a:cubicBezTo>
                          <a:pt x="484230" y="2875091"/>
                          <a:pt x="525439" y="2885153"/>
                          <a:pt x="541867" y="2912533"/>
                        </a:cubicBezTo>
                        <a:cubicBezTo>
                          <a:pt x="692110" y="3162937"/>
                          <a:pt x="437916" y="2858793"/>
                          <a:pt x="643467" y="3115733"/>
                        </a:cubicBezTo>
                        <a:cubicBezTo>
                          <a:pt x="663413" y="3140666"/>
                          <a:pt x="691254" y="3158534"/>
                          <a:pt x="711200" y="3183467"/>
                        </a:cubicBezTo>
                        <a:cubicBezTo>
                          <a:pt x="736627" y="3215251"/>
                          <a:pt x="752130" y="3254435"/>
                          <a:pt x="778933" y="3285067"/>
                        </a:cubicBezTo>
                        <a:cubicBezTo>
                          <a:pt x="831498" y="3345141"/>
                          <a:pt x="900372" y="3390540"/>
                          <a:pt x="948267" y="3454400"/>
                        </a:cubicBezTo>
                        <a:cubicBezTo>
                          <a:pt x="982134" y="3499556"/>
                          <a:pt x="1019951" y="3542002"/>
                          <a:pt x="1049867" y="3589867"/>
                        </a:cubicBezTo>
                        <a:cubicBezTo>
                          <a:pt x="1076624" y="3632678"/>
                          <a:pt x="1089596" y="3683327"/>
                          <a:pt x="1117600" y="3725333"/>
                        </a:cubicBezTo>
                        <a:cubicBezTo>
                          <a:pt x="1164328" y="3795425"/>
                          <a:pt x="1222230" y="3809038"/>
                          <a:pt x="1286933" y="3860800"/>
                        </a:cubicBezTo>
                        <a:cubicBezTo>
                          <a:pt x="1311866" y="3880746"/>
                          <a:pt x="1328100" y="3910821"/>
                          <a:pt x="1354667" y="3928533"/>
                        </a:cubicBezTo>
                        <a:cubicBezTo>
                          <a:pt x="1438370" y="3984335"/>
                          <a:pt x="1501418" y="4000029"/>
                          <a:pt x="1591733" y="4030133"/>
                        </a:cubicBezTo>
                        <a:cubicBezTo>
                          <a:pt x="1670755" y="4018844"/>
                          <a:pt x="1753072" y="4021510"/>
                          <a:pt x="1828800" y="3996267"/>
                        </a:cubicBezTo>
                        <a:cubicBezTo>
                          <a:pt x="1947678" y="3956641"/>
                          <a:pt x="1962781" y="3628192"/>
                          <a:pt x="1964267" y="3623733"/>
                        </a:cubicBezTo>
                        <a:cubicBezTo>
                          <a:pt x="1977138" y="3585119"/>
                          <a:pt x="2013797" y="3558539"/>
                          <a:pt x="2032000" y="3522133"/>
                        </a:cubicBezTo>
                        <a:cubicBezTo>
                          <a:pt x="2047965" y="3490203"/>
                          <a:pt x="2054578" y="3454400"/>
                          <a:pt x="2065867" y="3420533"/>
                        </a:cubicBezTo>
                        <a:cubicBezTo>
                          <a:pt x="2054578" y="3318933"/>
                          <a:pt x="2052048" y="3215973"/>
                          <a:pt x="2032000" y="3115733"/>
                        </a:cubicBezTo>
                        <a:cubicBezTo>
                          <a:pt x="2017998" y="3045722"/>
                          <a:pt x="1964267" y="2912533"/>
                          <a:pt x="1964267" y="2912533"/>
                        </a:cubicBezTo>
                        <a:cubicBezTo>
                          <a:pt x="2045473" y="2668911"/>
                          <a:pt x="1946942" y="2973167"/>
                          <a:pt x="2032000" y="2675467"/>
                        </a:cubicBezTo>
                        <a:cubicBezTo>
                          <a:pt x="2041807" y="2641142"/>
                          <a:pt x="2054578" y="2607734"/>
                          <a:pt x="2065867" y="2573867"/>
                        </a:cubicBezTo>
                        <a:cubicBezTo>
                          <a:pt x="1988036" y="2340376"/>
                          <a:pt x="2048618" y="2421153"/>
                          <a:pt x="1930400" y="2302933"/>
                        </a:cubicBezTo>
                        <a:cubicBezTo>
                          <a:pt x="1919111" y="2257778"/>
                          <a:pt x="1909320" y="2212221"/>
                          <a:pt x="1896533" y="2167467"/>
                        </a:cubicBezTo>
                        <a:cubicBezTo>
                          <a:pt x="1886726" y="2133142"/>
                          <a:pt x="1868536" y="2101080"/>
                          <a:pt x="1862667" y="2065867"/>
                        </a:cubicBezTo>
                        <a:cubicBezTo>
                          <a:pt x="1846052" y="1966175"/>
                          <a:pt x="1835554" y="1713597"/>
                          <a:pt x="1794933" y="1591733"/>
                        </a:cubicBezTo>
                        <a:cubicBezTo>
                          <a:pt x="1778968" y="1543839"/>
                          <a:pt x="1753174" y="1499558"/>
                          <a:pt x="1727200" y="1456267"/>
                        </a:cubicBezTo>
                        <a:cubicBezTo>
                          <a:pt x="1685317" y="1386462"/>
                          <a:pt x="1591733" y="1253067"/>
                          <a:pt x="1591733" y="1253067"/>
                        </a:cubicBezTo>
                        <a:cubicBezTo>
                          <a:pt x="1555962" y="1145753"/>
                          <a:pt x="1565165" y="1143657"/>
                          <a:pt x="1490133" y="1049867"/>
                        </a:cubicBezTo>
                        <a:cubicBezTo>
                          <a:pt x="1470187" y="1024934"/>
                          <a:pt x="1442346" y="1007066"/>
                          <a:pt x="1422400" y="982133"/>
                        </a:cubicBezTo>
                        <a:cubicBezTo>
                          <a:pt x="1396973" y="950349"/>
                          <a:pt x="1380094" y="912316"/>
                          <a:pt x="1354667" y="880533"/>
                        </a:cubicBezTo>
                        <a:cubicBezTo>
                          <a:pt x="1334721" y="855600"/>
                          <a:pt x="1306879" y="837733"/>
                          <a:pt x="1286933" y="812800"/>
                        </a:cubicBezTo>
                        <a:cubicBezTo>
                          <a:pt x="1261506" y="781017"/>
                          <a:pt x="1246241" y="741622"/>
                          <a:pt x="1219200" y="711200"/>
                        </a:cubicBezTo>
                        <a:cubicBezTo>
                          <a:pt x="1155561" y="639606"/>
                          <a:pt x="1095702" y="561134"/>
                          <a:pt x="1016000" y="508000"/>
                        </a:cubicBezTo>
                        <a:cubicBezTo>
                          <a:pt x="887833" y="422556"/>
                          <a:pt x="943181" y="469048"/>
                          <a:pt x="846667" y="372533"/>
                        </a:cubicBezTo>
                        <a:cubicBezTo>
                          <a:pt x="835378" y="338666"/>
                          <a:pt x="832602" y="300636"/>
                          <a:pt x="812800" y="270933"/>
                        </a:cubicBezTo>
                        <a:cubicBezTo>
                          <a:pt x="786233" y="231082"/>
                          <a:pt x="749006" y="198737"/>
                          <a:pt x="711200" y="169333"/>
                        </a:cubicBezTo>
                        <a:cubicBezTo>
                          <a:pt x="536524" y="33474"/>
                          <a:pt x="559693" y="51098"/>
                          <a:pt x="406400" y="0"/>
                        </a:cubicBezTo>
                        <a:cubicBezTo>
                          <a:pt x="361244" y="11289"/>
                          <a:pt x="313715" y="15532"/>
                          <a:pt x="270933" y="33867"/>
                        </a:cubicBezTo>
                        <a:cubicBezTo>
                          <a:pt x="53886" y="126887"/>
                          <a:pt x="173770" y="228415"/>
                          <a:pt x="203200" y="508000"/>
                        </a:cubicBezTo>
                        <a:cubicBezTo>
                          <a:pt x="230238" y="764856"/>
                          <a:pt x="168958" y="711013"/>
                          <a:pt x="304800" y="778933"/>
                        </a:cubicBezTo>
                      </a:path>
                    </a:pathLst>
                  </a:custGeom>
                  <a:solidFill>
                    <a:srgbClr val="f2f2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15" name=""/>
                <p:cNvGrpSpPr/>
                <p:nvPr/>
              </p:nvGrpSpPr>
              <p:grpSpPr>
                <a:xfrm>
                  <a:off x="-5218920" y="3813480"/>
                  <a:ext cx="582120" cy="422280"/>
                  <a:chOff x="-5218920" y="3813480"/>
                  <a:chExt cx="582120" cy="422280"/>
                </a:xfrm>
              </p:grpSpPr>
              <p:sp>
                <p:nvSpPr>
                  <p:cNvPr id="616" name="任意多边形 164"/>
                  <p:cNvSpPr/>
                  <p:nvPr/>
                </p:nvSpPr>
                <p:spPr>
                  <a:xfrm rot="19971000">
                    <a:off x="-5206320" y="3930120"/>
                    <a:ext cx="557640" cy="188640"/>
                  </a:xfrm>
                  <a:custGeom>
                    <a:avLst/>
                    <a:gdLst>
                      <a:gd name="textAreaLeft" fmla="*/ 0 w 557640"/>
                      <a:gd name="textAreaRight" fmla="*/ 558000 w 557640"/>
                      <a:gd name="textAreaTop" fmla="*/ 0 h 188640"/>
                      <a:gd name="textAreaBottom" fmla="*/ 189000 h 188640"/>
                    </a:gdLst>
                    <a:ahLst/>
                    <a:rect l="textAreaLeft" t="textAreaTop" r="textAreaRight" b="textAreaBottom"/>
                    <a:pathLst>
                      <a:path w="2065867" h="4030133">
                        <a:moveTo>
                          <a:pt x="270933" y="677333"/>
                        </a:moveTo>
                        <a:cubicBezTo>
                          <a:pt x="259644" y="733778"/>
                          <a:pt x="257278" y="792770"/>
                          <a:pt x="237067" y="846667"/>
                        </a:cubicBezTo>
                        <a:cubicBezTo>
                          <a:pt x="222775" y="884778"/>
                          <a:pt x="187536" y="911861"/>
                          <a:pt x="169333" y="948267"/>
                        </a:cubicBezTo>
                        <a:cubicBezTo>
                          <a:pt x="153368" y="980197"/>
                          <a:pt x="146756" y="1016000"/>
                          <a:pt x="135467" y="1049867"/>
                        </a:cubicBezTo>
                        <a:cubicBezTo>
                          <a:pt x="124178" y="1128889"/>
                          <a:pt x="124537" y="1210475"/>
                          <a:pt x="101600" y="1286933"/>
                        </a:cubicBezTo>
                        <a:cubicBezTo>
                          <a:pt x="89904" y="1325919"/>
                          <a:pt x="52070" y="1352127"/>
                          <a:pt x="33867" y="1388533"/>
                        </a:cubicBezTo>
                        <a:cubicBezTo>
                          <a:pt x="17902" y="1420463"/>
                          <a:pt x="11289" y="1456266"/>
                          <a:pt x="0" y="1490133"/>
                        </a:cubicBezTo>
                        <a:cubicBezTo>
                          <a:pt x="11289" y="1648178"/>
                          <a:pt x="6331" y="1808231"/>
                          <a:pt x="33867" y="1964267"/>
                        </a:cubicBezTo>
                        <a:cubicBezTo>
                          <a:pt x="40941" y="2004350"/>
                          <a:pt x="77942" y="2032746"/>
                          <a:pt x="101600" y="2065867"/>
                        </a:cubicBezTo>
                        <a:cubicBezTo>
                          <a:pt x="134408" y="2111798"/>
                          <a:pt x="167065" y="2157971"/>
                          <a:pt x="203200" y="2201333"/>
                        </a:cubicBezTo>
                        <a:cubicBezTo>
                          <a:pt x="223641" y="2225862"/>
                          <a:pt x="253221" y="2242500"/>
                          <a:pt x="270933" y="2269067"/>
                        </a:cubicBezTo>
                        <a:cubicBezTo>
                          <a:pt x="298937" y="2311073"/>
                          <a:pt x="313619" y="2360700"/>
                          <a:pt x="338667" y="2404533"/>
                        </a:cubicBezTo>
                        <a:cubicBezTo>
                          <a:pt x="443708" y="2588354"/>
                          <a:pt x="378175" y="2421458"/>
                          <a:pt x="440267" y="2607733"/>
                        </a:cubicBezTo>
                        <a:cubicBezTo>
                          <a:pt x="451556" y="2686755"/>
                          <a:pt x="448890" y="2769072"/>
                          <a:pt x="474133" y="2844800"/>
                        </a:cubicBezTo>
                        <a:cubicBezTo>
                          <a:pt x="484230" y="2875091"/>
                          <a:pt x="525439" y="2885153"/>
                          <a:pt x="541867" y="2912533"/>
                        </a:cubicBezTo>
                        <a:cubicBezTo>
                          <a:pt x="692110" y="3162937"/>
                          <a:pt x="437916" y="2858793"/>
                          <a:pt x="643467" y="3115733"/>
                        </a:cubicBezTo>
                        <a:cubicBezTo>
                          <a:pt x="663413" y="3140666"/>
                          <a:pt x="691254" y="3158534"/>
                          <a:pt x="711200" y="3183467"/>
                        </a:cubicBezTo>
                        <a:cubicBezTo>
                          <a:pt x="736627" y="3215251"/>
                          <a:pt x="752130" y="3254435"/>
                          <a:pt x="778933" y="3285067"/>
                        </a:cubicBezTo>
                        <a:cubicBezTo>
                          <a:pt x="831498" y="3345141"/>
                          <a:pt x="900372" y="3390540"/>
                          <a:pt x="948267" y="3454400"/>
                        </a:cubicBezTo>
                        <a:cubicBezTo>
                          <a:pt x="982134" y="3499556"/>
                          <a:pt x="1019951" y="3542002"/>
                          <a:pt x="1049867" y="3589867"/>
                        </a:cubicBezTo>
                        <a:cubicBezTo>
                          <a:pt x="1076624" y="3632678"/>
                          <a:pt x="1089596" y="3683327"/>
                          <a:pt x="1117600" y="3725333"/>
                        </a:cubicBezTo>
                        <a:cubicBezTo>
                          <a:pt x="1164328" y="3795425"/>
                          <a:pt x="1222230" y="3809038"/>
                          <a:pt x="1286933" y="3860800"/>
                        </a:cubicBezTo>
                        <a:cubicBezTo>
                          <a:pt x="1311866" y="3880746"/>
                          <a:pt x="1328100" y="3910821"/>
                          <a:pt x="1354667" y="3928533"/>
                        </a:cubicBezTo>
                        <a:cubicBezTo>
                          <a:pt x="1438370" y="3984335"/>
                          <a:pt x="1501418" y="4000029"/>
                          <a:pt x="1591733" y="4030133"/>
                        </a:cubicBezTo>
                        <a:cubicBezTo>
                          <a:pt x="1670755" y="4018844"/>
                          <a:pt x="1753072" y="4021510"/>
                          <a:pt x="1828800" y="3996267"/>
                        </a:cubicBezTo>
                        <a:cubicBezTo>
                          <a:pt x="1947678" y="3956641"/>
                          <a:pt x="1962781" y="3628192"/>
                          <a:pt x="1964267" y="3623733"/>
                        </a:cubicBezTo>
                        <a:cubicBezTo>
                          <a:pt x="1977138" y="3585119"/>
                          <a:pt x="2013797" y="3558539"/>
                          <a:pt x="2032000" y="3522133"/>
                        </a:cubicBezTo>
                        <a:cubicBezTo>
                          <a:pt x="2047965" y="3490203"/>
                          <a:pt x="2054578" y="3454400"/>
                          <a:pt x="2065867" y="3420533"/>
                        </a:cubicBezTo>
                        <a:cubicBezTo>
                          <a:pt x="2054578" y="3318933"/>
                          <a:pt x="2052048" y="3215973"/>
                          <a:pt x="2032000" y="3115733"/>
                        </a:cubicBezTo>
                        <a:cubicBezTo>
                          <a:pt x="2017998" y="3045722"/>
                          <a:pt x="1964267" y="2912533"/>
                          <a:pt x="1964267" y="2912533"/>
                        </a:cubicBezTo>
                        <a:cubicBezTo>
                          <a:pt x="2045473" y="2668911"/>
                          <a:pt x="1946942" y="2973167"/>
                          <a:pt x="2032000" y="2675467"/>
                        </a:cubicBezTo>
                        <a:cubicBezTo>
                          <a:pt x="2041807" y="2641142"/>
                          <a:pt x="2054578" y="2607734"/>
                          <a:pt x="2065867" y="2573867"/>
                        </a:cubicBezTo>
                        <a:cubicBezTo>
                          <a:pt x="1988036" y="2340376"/>
                          <a:pt x="2048618" y="2421153"/>
                          <a:pt x="1930400" y="2302933"/>
                        </a:cubicBezTo>
                        <a:cubicBezTo>
                          <a:pt x="1919111" y="2257778"/>
                          <a:pt x="1909320" y="2212221"/>
                          <a:pt x="1896533" y="2167467"/>
                        </a:cubicBezTo>
                        <a:cubicBezTo>
                          <a:pt x="1886726" y="2133142"/>
                          <a:pt x="1868536" y="2101080"/>
                          <a:pt x="1862667" y="2065867"/>
                        </a:cubicBezTo>
                        <a:cubicBezTo>
                          <a:pt x="1846052" y="1966175"/>
                          <a:pt x="1835554" y="1713597"/>
                          <a:pt x="1794933" y="1591733"/>
                        </a:cubicBezTo>
                        <a:cubicBezTo>
                          <a:pt x="1778968" y="1543839"/>
                          <a:pt x="1753174" y="1499558"/>
                          <a:pt x="1727200" y="1456267"/>
                        </a:cubicBezTo>
                        <a:cubicBezTo>
                          <a:pt x="1685317" y="1386462"/>
                          <a:pt x="1591733" y="1253067"/>
                          <a:pt x="1591733" y="1253067"/>
                        </a:cubicBezTo>
                        <a:cubicBezTo>
                          <a:pt x="1555962" y="1145753"/>
                          <a:pt x="1565165" y="1143657"/>
                          <a:pt x="1490133" y="1049867"/>
                        </a:cubicBezTo>
                        <a:cubicBezTo>
                          <a:pt x="1470187" y="1024934"/>
                          <a:pt x="1442346" y="1007066"/>
                          <a:pt x="1422400" y="982133"/>
                        </a:cubicBezTo>
                        <a:cubicBezTo>
                          <a:pt x="1396973" y="950349"/>
                          <a:pt x="1380094" y="912316"/>
                          <a:pt x="1354667" y="880533"/>
                        </a:cubicBezTo>
                        <a:cubicBezTo>
                          <a:pt x="1334721" y="855600"/>
                          <a:pt x="1306879" y="837733"/>
                          <a:pt x="1286933" y="812800"/>
                        </a:cubicBezTo>
                        <a:cubicBezTo>
                          <a:pt x="1261506" y="781017"/>
                          <a:pt x="1246241" y="741622"/>
                          <a:pt x="1219200" y="711200"/>
                        </a:cubicBezTo>
                        <a:cubicBezTo>
                          <a:pt x="1155561" y="639606"/>
                          <a:pt x="1095702" y="561134"/>
                          <a:pt x="1016000" y="508000"/>
                        </a:cubicBezTo>
                        <a:cubicBezTo>
                          <a:pt x="887833" y="422556"/>
                          <a:pt x="943181" y="469048"/>
                          <a:pt x="846667" y="372533"/>
                        </a:cubicBezTo>
                        <a:cubicBezTo>
                          <a:pt x="835378" y="338666"/>
                          <a:pt x="832602" y="300636"/>
                          <a:pt x="812800" y="270933"/>
                        </a:cubicBezTo>
                        <a:cubicBezTo>
                          <a:pt x="786233" y="231082"/>
                          <a:pt x="749006" y="198737"/>
                          <a:pt x="711200" y="169333"/>
                        </a:cubicBezTo>
                        <a:cubicBezTo>
                          <a:pt x="536524" y="33474"/>
                          <a:pt x="559693" y="51098"/>
                          <a:pt x="406400" y="0"/>
                        </a:cubicBezTo>
                        <a:cubicBezTo>
                          <a:pt x="361244" y="11289"/>
                          <a:pt x="313715" y="15532"/>
                          <a:pt x="270933" y="33867"/>
                        </a:cubicBezTo>
                        <a:cubicBezTo>
                          <a:pt x="53886" y="126887"/>
                          <a:pt x="173770" y="228415"/>
                          <a:pt x="203200" y="508000"/>
                        </a:cubicBezTo>
                        <a:cubicBezTo>
                          <a:pt x="230238" y="764856"/>
                          <a:pt x="168958" y="711013"/>
                          <a:pt x="304800" y="778933"/>
                        </a:cubicBez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7" name="任意多边形 165"/>
                  <p:cNvSpPr/>
                  <p:nvPr/>
                </p:nvSpPr>
                <p:spPr>
                  <a:xfrm rot="18389400">
                    <a:off x="-4916880" y="3989160"/>
                    <a:ext cx="164160" cy="171360"/>
                  </a:xfrm>
                  <a:custGeom>
                    <a:avLst/>
                    <a:gdLst>
                      <a:gd name="textAreaLeft" fmla="*/ 0 w 164160"/>
                      <a:gd name="textAreaRight" fmla="*/ 164520 w 164160"/>
                      <a:gd name="textAreaTop" fmla="*/ 0 h 171360"/>
                      <a:gd name="textAreaBottom" fmla="*/ 171720 h 171360"/>
                    </a:gdLst>
                    <a:ahLst/>
                    <a:rect l="textAreaLeft" t="textAreaTop" r="textAreaRight" b="textAreaBottom"/>
                    <a:pathLst>
                      <a:path w="2065867" h="4030133">
                        <a:moveTo>
                          <a:pt x="270933" y="677333"/>
                        </a:moveTo>
                        <a:cubicBezTo>
                          <a:pt x="259644" y="733778"/>
                          <a:pt x="257278" y="792770"/>
                          <a:pt x="237067" y="846667"/>
                        </a:cubicBezTo>
                        <a:cubicBezTo>
                          <a:pt x="222775" y="884778"/>
                          <a:pt x="187536" y="911861"/>
                          <a:pt x="169333" y="948267"/>
                        </a:cubicBezTo>
                        <a:cubicBezTo>
                          <a:pt x="153368" y="980197"/>
                          <a:pt x="146756" y="1016000"/>
                          <a:pt x="135467" y="1049867"/>
                        </a:cubicBezTo>
                        <a:cubicBezTo>
                          <a:pt x="124178" y="1128889"/>
                          <a:pt x="124537" y="1210475"/>
                          <a:pt x="101600" y="1286933"/>
                        </a:cubicBezTo>
                        <a:cubicBezTo>
                          <a:pt x="89904" y="1325919"/>
                          <a:pt x="52070" y="1352127"/>
                          <a:pt x="33867" y="1388533"/>
                        </a:cubicBezTo>
                        <a:cubicBezTo>
                          <a:pt x="17902" y="1420463"/>
                          <a:pt x="11289" y="1456266"/>
                          <a:pt x="0" y="1490133"/>
                        </a:cubicBezTo>
                        <a:cubicBezTo>
                          <a:pt x="11289" y="1648178"/>
                          <a:pt x="6331" y="1808231"/>
                          <a:pt x="33867" y="1964267"/>
                        </a:cubicBezTo>
                        <a:cubicBezTo>
                          <a:pt x="40941" y="2004350"/>
                          <a:pt x="77942" y="2032746"/>
                          <a:pt x="101600" y="2065867"/>
                        </a:cubicBezTo>
                        <a:cubicBezTo>
                          <a:pt x="134408" y="2111798"/>
                          <a:pt x="167065" y="2157971"/>
                          <a:pt x="203200" y="2201333"/>
                        </a:cubicBezTo>
                        <a:cubicBezTo>
                          <a:pt x="223641" y="2225862"/>
                          <a:pt x="253221" y="2242500"/>
                          <a:pt x="270933" y="2269067"/>
                        </a:cubicBezTo>
                        <a:cubicBezTo>
                          <a:pt x="298937" y="2311073"/>
                          <a:pt x="313619" y="2360700"/>
                          <a:pt x="338667" y="2404533"/>
                        </a:cubicBezTo>
                        <a:cubicBezTo>
                          <a:pt x="443708" y="2588354"/>
                          <a:pt x="378175" y="2421458"/>
                          <a:pt x="440267" y="2607733"/>
                        </a:cubicBezTo>
                        <a:cubicBezTo>
                          <a:pt x="451556" y="2686755"/>
                          <a:pt x="448890" y="2769072"/>
                          <a:pt x="474133" y="2844800"/>
                        </a:cubicBezTo>
                        <a:cubicBezTo>
                          <a:pt x="484230" y="2875091"/>
                          <a:pt x="525439" y="2885153"/>
                          <a:pt x="541867" y="2912533"/>
                        </a:cubicBezTo>
                        <a:cubicBezTo>
                          <a:pt x="692110" y="3162937"/>
                          <a:pt x="437916" y="2858793"/>
                          <a:pt x="643467" y="3115733"/>
                        </a:cubicBezTo>
                        <a:cubicBezTo>
                          <a:pt x="663413" y="3140666"/>
                          <a:pt x="691254" y="3158534"/>
                          <a:pt x="711200" y="3183467"/>
                        </a:cubicBezTo>
                        <a:cubicBezTo>
                          <a:pt x="736627" y="3215251"/>
                          <a:pt x="752130" y="3254435"/>
                          <a:pt x="778933" y="3285067"/>
                        </a:cubicBezTo>
                        <a:cubicBezTo>
                          <a:pt x="831498" y="3345141"/>
                          <a:pt x="900372" y="3390540"/>
                          <a:pt x="948267" y="3454400"/>
                        </a:cubicBezTo>
                        <a:cubicBezTo>
                          <a:pt x="982134" y="3499556"/>
                          <a:pt x="1019951" y="3542002"/>
                          <a:pt x="1049867" y="3589867"/>
                        </a:cubicBezTo>
                        <a:cubicBezTo>
                          <a:pt x="1076624" y="3632678"/>
                          <a:pt x="1089596" y="3683327"/>
                          <a:pt x="1117600" y="3725333"/>
                        </a:cubicBezTo>
                        <a:cubicBezTo>
                          <a:pt x="1164328" y="3795425"/>
                          <a:pt x="1222230" y="3809038"/>
                          <a:pt x="1286933" y="3860800"/>
                        </a:cubicBezTo>
                        <a:cubicBezTo>
                          <a:pt x="1311866" y="3880746"/>
                          <a:pt x="1328100" y="3910821"/>
                          <a:pt x="1354667" y="3928533"/>
                        </a:cubicBezTo>
                        <a:cubicBezTo>
                          <a:pt x="1438370" y="3984335"/>
                          <a:pt x="1501418" y="4000029"/>
                          <a:pt x="1591733" y="4030133"/>
                        </a:cubicBezTo>
                        <a:cubicBezTo>
                          <a:pt x="1670755" y="4018844"/>
                          <a:pt x="1753072" y="4021510"/>
                          <a:pt x="1828800" y="3996267"/>
                        </a:cubicBezTo>
                        <a:cubicBezTo>
                          <a:pt x="1947678" y="3956641"/>
                          <a:pt x="1962781" y="3628192"/>
                          <a:pt x="1964267" y="3623733"/>
                        </a:cubicBezTo>
                        <a:cubicBezTo>
                          <a:pt x="1977138" y="3585119"/>
                          <a:pt x="2013797" y="3558539"/>
                          <a:pt x="2032000" y="3522133"/>
                        </a:cubicBezTo>
                        <a:cubicBezTo>
                          <a:pt x="2047965" y="3490203"/>
                          <a:pt x="2054578" y="3454400"/>
                          <a:pt x="2065867" y="3420533"/>
                        </a:cubicBezTo>
                        <a:cubicBezTo>
                          <a:pt x="2054578" y="3318933"/>
                          <a:pt x="2052048" y="3215973"/>
                          <a:pt x="2032000" y="3115733"/>
                        </a:cubicBezTo>
                        <a:cubicBezTo>
                          <a:pt x="2017998" y="3045722"/>
                          <a:pt x="1964267" y="2912533"/>
                          <a:pt x="1964267" y="2912533"/>
                        </a:cubicBezTo>
                        <a:cubicBezTo>
                          <a:pt x="2045473" y="2668911"/>
                          <a:pt x="1946942" y="2973167"/>
                          <a:pt x="2032000" y="2675467"/>
                        </a:cubicBezTo>
                        <a:cubicBezTo>
                          <a:pt x="2041807" y="2641142"/>
                          <a:pt x="2054578" y="2607734"/>
                          <a:pt x="2065867" y="2573867"/>
                        </a:cubicBezTo>
                        <a:cubicBezTo>
                          <a:pt x="1988036" y="2340376"/>
                          <a:pt x="2048618" y="2421153"/>
                          <a:pt x="1930400" y="2302933"/>
                        </a:cubicBezTo>
                        <a:cubicBezTo>
                          <a:pt x="1919111" y="2257778"/>
                          <a:pt x="1909320" y="2212221"/>
                          <a:pt x="1896533" y="2167467"/>
                        </a:cubicBezTo>
                        <a:cubicBezTo>
                          <a:pt x="1886726" y="2133142"/>
                          <a:pt x="1868536" y="2101080"/>
                          <a:pt x="1862667" y="2065867"/>
                        </a:cubicBezTo>
                        <a:cubicBezTo>
                          <a:pt x="1846052" y="1966175"/>
                          <a:pt x="1835554" y="1713597"/>
                          <a:pt x="1794933" y="1591733"/>
                        </a:cubicBezTo>
                        <a:cubicBezTo>
                          <a:pt x="1778968" y="1543839"/>
                          <a:pt x="1753174" y="1499558"/>
                          <a:pt x="1727200" y="1456267"/>
                        </a:cubicBezTo>
                        <a:cubicBezTo>
                          <a:pt x="1685317" y="1386462"/>
                          <a:pt x="1591733" y="1253067"/>
                          <a:pt x="1591733" y="1253067"/>
                        </a:cubicBezTo>
                        <a:cubicBezTo>
                          <a:pt x="1555962" y="1145753"/>
                          <a:pt x="1565165" y="1143657"/>
                          <a:pt x="1490133" y="1049867"/>
                        </a:cubicBezTo>
                        <a:cubicBezTo>
                          <a:pt x="1470187" y="1024934"/>
                          <a:pt x="1442346" y="1007066"/>
                          <a:pt x="1422400" y="982133"/>
                        </a:cubicBezTo>
                        <a:cubicBezTo>
                          <a:pt x="1396973" y="950349"/>
                          <a:pt x="1380094" y="912316"/>
                          <a:pt x="1354667" y="880533"/>
                        </a:cubicBezTo>
                        <a:cubicBezTo>
                          <a:pt x="1334721" y="855600"/>
                          <a:pt x="1306879" y="837733"/>
                          <a:pt x="1286933" y="812800"/>
                        </a:cubicBezTo>
                        <a:cubicBezTo>
                          <a:pt x="1261506" y="781017"/>
                          <a:pt x="1246241" y="741622"/>
                          <a:pt x="1219200" y="711200"/>
                        </a:cubicBezTo>
                        <a:cubicBezTo>
                          <a:pt x="1155561" y="639606"/>
                          <a:pt x="1095702" y="561134"/>
                          <a:pt x="1016000" y="508000"/>
                        </a:cubicBezTo>
                        <a:cubicBezTo>
                          <a:pt x="887833" y="422556"/>
                          <a:pt x="943181" y="469048"/>
                          <a:pt x="846667" y="372533"/>
                        </a:cubicBezTo>
                        <a:cubicBezTo>
                          <a:pt x="835378" y="338666"/>
                          <a:pt x="832602" y="300636"/>
                          <a:pt x="812800" y="270933"/>
                        </a:cubicBezTo>
                        <a:cubicBezTo>
                          <a:pt x="786233" y="231082"/>
                          <a:pt x="749006" y="198737"/>
                          <a:pt x="711200" y="169333"/>
                        </a:cubicBezTo>
                        <a:cubicBezTo>
                          <a:pt x="536524" y="33474"/>
                          <a:pt x="559693" y="51098"/>
                          <a:pt x="406400" y="0"/>
                        </a:cubicBezTo>
                        <a:cubicBezTo>
                          <a:pt x="361244" y="11289"/>
                          <a:pt x="313715" y="15532"/>
                          <a:pt x="270933" y="33867"/>
                        </a:cubicBezTo>
                        <a:cubicBezTo>
                          <a:pt x="53886" y="126887"/>
                          <a:pt x="173770" y="228415"/>
                          <a:pt x="203200" y="508000"/>
                        </a:cubicBezTo>
                        <a:cubicBezTo>
                          <a:pt x="230238" y="764856"/>
                          <a:pt x="168958" y="711013"/>
                          <a:pt x="304800" y="778933"/>
                        </a:cubicBezTo>
                      </a:path>
                    </a:pathLst>
                  </a:custGeom>
                  <a:solidFill>
                    <a:srgbClr val="f2f2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8" name="任意多边形 166"/>
                  <p:cNvSpPr/>
                  <p:nvPr/>
                </p:nvSpPr>
                <p:spPr>
                  <a:xfrm rot="17696400">
                    <a:off x="-4779360" y="3962160"/>
                    <a:ext cx="112680" cy="114120"/>
                  </a:xfrm>
                  <a:custGeom>
                    <a:avLst/>
                    <a:gdLst>
                      <a:gd name="textAreaLeft" fmla="*/ 0 w 112680"/>
                      <a:gd name="textAreaRight" fmla="*/ 113040 w 112680"/>
                      <a:gd name="textAreaTop" fmla="*/ 0 h 114120"/>
                      <a:gd name="textAreaBottom" fmla="*/ 114480 h 114120"/>
                    </a:gdLst>
                    <a:ahLst/>
                    <a:rect l="textAreaLeft" t="textAreaTop" r="textAreaRight" b="textAreaBottom"/>
                    <a:pathLst>
                      <a:path w="2065867" h="4030133">
                        <a:moveTo>
                          <a:pt x="270933" y="677333"/>
                        </a:moveTo>
                        <a:cubicBezTo>
                          <a:pt x="259644" y="733778"/>
                          <a:pt x="257278" y="792770"/>
                          <a:pt x="237067" y="846667"/>
                        </a:cubicBezTo>
                        <a:cubicBezTo>
                          <a:pt x="222775" y="884778"/>
                          <a:pt x="187536" y="911861"/>
                          <a:pt x="169333" y="948267"/>
                        </a:cubicBezTo>
                        <a:cubicBezTo>
                          <a:pt x="153368" y="980197"/>
                          <a:pt x="146756" y="1016000"/>
                          <a:pt x="135467" y="1049867"/>
                        </a:cubicBezTo>
                        <a:cubicBezTo>
                          <a:pt x="124178" y="1128889"/>
                          <a:pt x="124537" y="1210475"/>
                          <a:pt x="101600" y="1286933"/>
                        </a:cubicBezTo>
                        <a:cubicBezTo>
                          <a:pt x="89904" y="1325919"/>
                          <a:pt x="52070" y="1352127"/>
                          <a:pt x="33867" y="1388533"/>
                        </a:cubicBezTo>
                        <a:cubicBezTo>
                          <a:pt x="17902" y="1420463"/>
                          <a:pt x="11289" y="1456266"/>
                          <a:pt x="0" y="1490133"/>
                        </a:cubicBezTo>
                        <a:cubicBezTo>
                          <a:pt x="11289" y="1648178"/>
                          <a:pt x="6331" y="1808231"/>
                          <a:pt x="33867" y="1964267"/>
                        </a:cubicBezTo>
                        <a:cubicBezTo>
                          <a:pt x="40941" y="2004350"/>
                          <a:pt x="77942" y="2032746"/>
                          <a:pt x="101600" y="2065867"/>
                        </a:cubicBezTo>
                        <a:cubicBezTo>
                          <a:pt x="134408" y="2111798"/>
                          <a:pt x="167065" y="2157971"/>
                          <a:pt x="203200" y="2201333"/>
                        </a:cubicBezTo>
                        <a:cubicBezTo>
                          <a:pt x="223641" y="2225862"/>
                          <a:pt x="253221" y="2242500"/>
                          <a:pt x="270933" y="2269067"/>
                        </a:cubicBezTo>
                        <a:cubicBezTo>
                          <a:pt x="298937" y="2311073"/>
                          <a:pt x="313619" y="2360700"/>
                          <a:pt x="338667" y="2404533"/>
                        </a:cubicBezTo>
                        <a:cubicBezTo>
                          <a:pt x="443708" y="2588354"/>
                          <a:pt x="378175" y="2421458"/>
                          <a:pt x="440267" y="2607733"/>
                        </a:cubicBezTo>
                        <a:cubicBezTo>
                          <a:pt x="451556" y="2686755"/>
                          <a:pt x="448890" y="2769072"/>
                          <a:pt x="474133" y="2844800"/>
                        </a:cubicBezTo>
                        <a:cubicBezTo>
                          <a:pt x="484230" y="2875091"/>
                          <a:pt x="525439" y="2885153"/>
                          <a:pt x="541867" y="2912533"/>
                        </a:cubicBezTo>
                        <a:cubicBezTo>
                          <a:pt x="692110" y="3162937"/>
                          <a:pt x="437916" y="2858793"/>
                          <a:pt x="643467" y="3115733"/>
                        </a:cubicBezTo>
                        <a:cubicBezTo>
                          <a:pt x="663413" y="3140666"/>
                          <a:pt x="691254" y="3158534"/>
                          <a:pt x="711200" y="3183467"/>
                        </a:cubicBezTo>
                        <a:cubicBezTo>
                          <a:pt x="736627" y="3215251"/>
                          <a:pt x="752130" y="3254435"/>
                          <a:pt x="778933" y="3285067"/>
                        </a:cubicBezTo>
                        <a:cubicBezTo>
                          <a:pt x="831498" y="3345141"/>
                          <a:pt x="900372" y="3390540"/>
                          <a:pt x="948267" y="3454400"/>
                        </a:cubicBezTo>
                        <a:cubicBezTo>
                          <a:pt x="982134" y="3499556"/>
                          <a:pt x="1019951" y="3542002"/>
                          <a:pt x="1049867" y="3589867"/>
                        </a:cubicBezTo>
                        <a:cubicBezTo>
                          <a:pt x="1076624" y="3632678"/>
                          <a:pt x="1089596" y="3683327"/>
                          <a:pt x="1117600" y="3725333"/>
                        </a:cubicBezTo>
                        <a:cubicBezTo>
                          <a:pt x="1164328" y="3795425"/>
                          <a:pt x="1222230" y="3809038"/>
                          <a:pt x="1286933" y="3860800"/>
                        </a:cubicBezTo>
                        <a:cubicBezTo>
                          <a:pt x="1311866" y="3880746"/>
                          <a:pt x="1328100" y="3910821"/>
                          <a:pt x="1354667" y="3928533"/>
                        </a:cubicBezTo>
                        <a:cubicBezTo>
                          <a:pt x="1438370" y="3984335"/>
                          <a:pt x="1501418" y="4000029"/>
                          <a:pt x="1591733" y="4030133"/>
                        </a:cubicBezTo>
                        <a:cubicBezTo>
                          <a:pt x="1670755" y="4018844"/>
                          <a:pt x="1753072" y="4021510"/>
                          <a:pt x="1828800" y="3996267"/>
                        </a:cubicBezTo>
                        <a:cubicBezTo>
                          <a:pt x="1947678" y="3956641"/>
                          <a:pt x="1962781" y="3628192"/>
                          <a:pt x="1964267" y="3623733"/>
                        </a:cubicBezTo>
                        <a:cubicBezTo>
                          <a:pt x="1977138" y="3585119"/>
                          <a:pt x="2013797" y="3558539"/>
                          <a:pt x="2032000" y="3522133"/>
                        </a:cubicBezTo>
                        <a:cubicBezTo>
                          <a:pt x="2047965" y="3490203"/>
                          <a:pt x="2054578" y="3454400"/>
                          <a:pt x="2065867" y="3420533"/>
                        </a:cubicBezTo>
                        <a:cubicBezTo>
                          <a:pt x="2054578" y="3318933"/>
                          <a:pt x="2052048" y="3215973"/>
                          <a:pt x="2032000" y="3115733"/>
                        </a:cubicBezTo>
                        <a:cubicBezTo>
                          <a:pt x="2017998" y="3045722"/>
                          <a:pt x="1964267" y="2912533"/>
                          <a:pt x="1964267" y="2912533"/>
                        </a:cubicBezTo>
                        <a:cubicBezTo>
                          <a:pt x="2045473" y="2668911"/>
                          <a:pt x="1946942" y="2973167"/>
                          <a:pt x="2032000" y="2675467"/>
                        </a:cubicBezTo>
                        <a:cubicBezTo>
                          <a:pt x="2041807" y="2641142"/>
                          <a:pt x="2054578" y="2607734"/>
                          <a:pt x="2065867" y="2573867"/>
                        </a:cubicBezTo>
                        <a:cubicBezTo>
                          <a:pt x="1988036" y="2340376"/>
                          <a:pt x="2048618" y="2421153"/>
                          <a:pt x="1930400" y="2302933"/>
                        </a:cubicBezTo>
                        <a:cubicBezTo>
                          <a:pt x="1919111" y="2257778"/>
                          <a:pt x="1909320" y="2212221"/>
                          <a:pt x="1896533" y="2167467"/>
                        </a:cubicBezTo>
                        <a:cubicBezTo>
                          <a:pt x="1886726" y="2133142"/>
                          <a:pt x="1868536" y="2101080"/>
                          <a:pt x="1862667" y="2065867"/>
                        </a:cubicBezTo>
                        <a:cubicBezTo>
                          <a:pt x="1846052" y="1966175"/>
                          <a:pt x="1835554" y="1713597"/>
                          <a:pt x="1794933" y="1591733"/>
                        </a:cubicBezTo>
                        <a:cubicBezTo>
                          <a:pt x="1778968" y="1543839"/>
                          <a:pt x="1753174" y="1499558"/>
                          <a:pt x="1727200" y="1456267"/>
                        </a:cubicBezTo>
                        <a:cubicBezTo>
                          <a:pt x="1685317" y="1386462"/>
                          <a:pt x="1591733" y="1253067"/>
                          <a:pt x="1591733" y="1253067"/>
                        </a:cubicBezTo>
                        <a:cubicBezTo>
                          <a:pt x="1555962" y="1145753"/>
                          <a:pt x="1565165" y="1143657"/>
                          <a:pt x="1490133" y="1049867"/>
                        </a:cubicBezTo>
                        <a:cubicBezTo>
                          <a:pt x="1470187" y="1024934"/>
                          <a:pt x="1442346" y="1007066"/>
                          <a:pt x="1422400" y="982133"/>
                        </a:cubicBezTo>
                        <a:cubicBezTo>
                          <a:pt x="1396973" y="950349"/>
                          <a:pt x="1380094" y="912316"/>
                          <a:pt x="1354667" y="880533"/>
                        </a:cubicBezTo>
                        <a:cubicBezTo>
                          <a:pt x="1334721" y="855600"/>
                          <a:pt x="1306879" y="837733"/>
                          <a:pt x="1286933" y="812800"/>
                        </a:cubicBezTo>
                        <a:cubicBezTo>
                          <a:pt x="1261506" y="781017"/>
                          <a:pt x="1246241" y="741622"/>
                          <a:pt x="1219200" y="711200"/>
                        </a:cubicBezTo>
                        <a:cubicBezTo>
                          <a:pt x="1155561" y="639606"/>
                          <a:pt x="1095702" y="561134"/>
                          <a:pt x="1016000" y="508000"/>
                        </a:cubicBezTo>
                        <a:cubicBezTo>
                          <a:pt x="887833" y="422556"/>
                          <a:pt x="943181" y="469048"/>
                          <a:pt x="846667" y="372533"/>
                        </a:cubicBezTo>
                        <a:cubicBezTo>
                          <a:pt x="835378" y="338666"/>
                          <a:pt x="832602" y="300636"/>
                          <a:pt x="812800" y="270933"/>
                        </a:cubicBezTo>
                        <a:cubicBezTo>
                          <a:pt x="786233" y="231082"/>
                          <a:pt x="749006" y="198737"/>
                          <a:pt x="711200" y="169333"/>
                        </a:cubicBezTo>
                        <a:cubicBezTo>
                          <a:pt x="536524" y="33474"/>
                          <a:pt x="559693" y="51098"/>
                          <a:pt x="406400" y="0"/>
                        </a:cubicBezTo>
                        <a:cubicBezTo>
                          <a:pt x="361244" y="11289"/>
                          <a:pt x="313715" y="15532"/>
                          <a:pt x="270933" y="33867"/>
                        </a:cubicBezTo>
                        <a:cubicBezTo>
                          <a:pt x="53886" y="126887"/>
                          <a:pt x="173770" y="228415"/>
                          <a:pt x="203200" y="508000"/>
                        </a:cubicBezTo>
                        <a:cubicBezTo>
                          <a:pt x="230238" y="764856"/>
                          <a:pt x="168958" y="711013"/>
                          <a:pt x="304800" y="778933"/>
                        </a:cubicBezTo>
                      </a:path>
                    </a:pathLst>
                  </a:custGeom>
                  <a:solidFill>
                    <a:srgbClr val="f2f2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19" name=""/>
                <p:cNvGrpSpPr/>
                <p:nvPr/>
              </p:nvGrpSpPr>
              <p:grpSpPr>
                <a:xfrm>
                  <a:off x="-5879520" y="4055400"/>
                  <a:ext cx="940680" cy="682920"/>
                  <a:chOff x="-5879520" y="4055400"/>
                  <a:chExt cx="940680" cy="682920"/>
                </a:xfrm>
              </p:grpSpPr>
              <p:sp>
                <p:nvSpPr>
                  <p:cNvPr id="620" name="任意多边形 161"/>
                  <p:cNvSpPr/>
                  <p:nvPr/>
                </p:nvSpPr>
                <p:spPr>
                  <a:xfrm rot="19753800">
                    <a:off x="-5890320" y="4286160"/>
                    <a:ext cx="963000" cy="221400"/>
                  </a:xfrm>
                  <a:custGeom>
                    <a:avLst/>
                    <a:gdLst>
                      <a:gd name="textAreaLeft" fmla="*/ 0 w 963000"/>
                      <a:gd name="textAreaRight" fmla="*/ 963360 w 963000"/>
                      <a:gd name="textAreaTop" fmla="*/ 0 h 221400"/>
                      <a:gd name="textAreaBottom" fmla="*/ 221760 h 221400"/>
                    </a:gdLst>
                    <a:ahLst/>
                    <a:rect l="textAreaLeft" t="textAreaTop" r="textAreaRight" b="textAreaBottom"/>
                    <a:pathLst>
                      <a:path w="2065867" h="4030133">
                        <a:moveTo>
                          <a:pt x="270933" y="677333"/>
                        </a:moveTo>
                        <a:cubicBezTo>
                          <a:pt x="259644" y="733778"/>
                          <a:pt x="257278" y="792770"/>
                          <a:pt x="237067" y="846667"/>
                        </a:cubicBezTo>
                        <a:cubicBezTo>
                          <a:pt x="222775" y="884778"/>
                          <a:pt x="187536" y="911861"/>
                          <a:pt x="169333" y="948267"/>
                        </a:cubicBezTo>
                        <a:cubicBezTo>
                          <a:pt x="153368" y="980197"/>
                          <a:pt x="146756" y="1016000"/>
                          <a:pt x="135467" y="1049867"/>
                        </a:cubicBezTo>
                        <a:cubicBezTo>
                          <a:pt x="124178" y="1128889"/>
                          <a:pt x="124537" y="1210475"/>
                          <a:pt x="101600" y="1286933"/>
                        </a:cubicBezTo>
                        <a:cubicBezTo>
                          <a:pt x="89904" y="1325919"/>
                          <a:pt x="52070" y="1352127"/>
                          <a:pt x="33867" y="1388533"/>
                        </a:cubicBezTo>
                        <a:cubicBezTo>
                          <a:pt x="17902" y="1420463"/>
                          <a:pt x="11289" y="1456266"/>
                          <a:pt x="0" y="1490133"/>
                        </a:cubicBezTo>
                        <a:cubicBezTo>
                          <a:pt x="11289" y="1648178"/>
                          <a:pt x="6331" y="1808231"/>
                          <a:pt x="33867" y="1964267"/>
                        </a:cubicBezTo>
                        <a:cubicBezTo>
                          <a:pt x="40941" y="2004350"/>
                          <a:pt x="77942" y="2032746"/>
                          <a:pt x="101600" y="2065867"/>
                        </a:cubicBezTo>
                        <a:cubicBezTo>
                          <a:pt x="134408" y="2111798"/>
                          <a:pt x="167065" y="2157971"/>
                          <a:pt x="203200" y="2201333"/>
                        </a:cubicBezTo>
                        <a:cubicBezTo>
                          <a:pt x="223641" y="2225862"/>
                          <a:pt x="253221" y="2242500"/>
                          <a:pt x="270933" y="2269067"/>
                        </a:cubicBezTo>
                        <a:cubicBezTo>
                          <a:pt x="298937" y="2311073"/>
                          <a:pt x="313619" y="2360700"/>
                          <a:pt x="338667" y="2404533"/>
                        </a:cubicBezTo>
                        <a:cubicBezTo>
                          <a:pt x="443708" y="2588354"/>
                          <a:pt x="378175" y="2421458"/>
                          <a:pt x="440267" y="2607733"/>
                        </a:cubicBezTo>
                        <a:cubicBezTo>
                          <a:pt x="451556" y="2686755"/>
                          <a:pt x="448890" y="2769072"/>
                          <a:pt x="474133" y="2844800"/>
                        </a:cubicBezTo>
                        <a:cubicBezTo>
                          <a:pt x="484230" y="2875091"/>
                          <a:pt x="525439" y="2885153"/>
                          <a:pt x="541867" y="2912533"/>
                        </a:cubicBezTo>
                        <a:cubicBezTo>
                          <a:pt x="692110" y="3162937"/>
                          <a:pt x="437916" y="2858793"/>
                          <a:pt x="643467" y="3115733"/>
                        </a:cubicBezTo>
                        <a:cubicBezTo>
                          <a:pt x="663413" y="3140666"/>
                          <a:pt x="691254" y="3158534"/>
                          <a:pt x="711200" y="3183467"/>
                        </a:cubicBezTo>
                        <a:cubicBezTo>
                          <a:pt x="736627" y="3215251"/>
                          <a:pt x="752130" y="3254435"/>
                          <a:pt x="778933" y="3285067"/>
                        </a:cubicBezTo>
                        <a:cubicBezTo>
                          <a:pt x="831498" y="3345141"/>
                          <a:pt x="900372" y="3390540"/>
                          <a:pt x="948267" y="3454400"/>
                        </a:cubicBezTo>
                        <a:cubicBezTo>
                          <a:pt x="982134" y="3499556"/>
                          <a:pt x="1019951" y="3542002"/>
                          <a:pt x="1049867" y="3589867"/>
                        </a:cubicBezTo>
                        <a:cubicBezTo>
                          <a:pt x="1076624" y="3632678"/>
                          <a:pt x="1089596" y="3683327"/>
                          <a:pt x="1117600" y="3725333"/>
                        </a:cubicBezTo>
                        <a:cubicBezTo>
                          <a:pt x="1164328" y="3795425"/>
                          <a:pt x="1222230" y="3809038"/>
                          <a:pt x="1286933" y="3860800"/>
                        </a:cubicBezTo>
                        <a:cubicBezTo>
                          <a:pt x="1311866" y="3880746"/>
                          <a:pt x="1328100" y="3910821"/>
                          <a:pt x="1354667" y="3928533"/>
                        </a:cubicBezTo>
                        <a:cubicBezTo>
                          <a:pt x="1438370" y="3984335"/>
                          <a:pt x="1501418" y="4000029"/>
                          <a:pt x="1591733" y="4030133"/>
                        </a:cubicBezTo>
                        <a:cubicBezTo>
                          <a:pt x="1670755" y="4018844"/>
                          <a:pt x="1753072" y="4021510"/>
                          <a:pt x="1828800" y="3996267"/>
                        </a:cubicBezTo>
                        <a:cubicBezTo>
                          <a:pt x="1947678" y="3956641"/>
                          <a:pt x="1962781" y="3628192"/>
                          <a:pt x="1964267" y="3623733"/>
                        </a:cubicBezTo>
                        <a:cubicBezTo>
                          <a:pt x="1977138" y="3585119"/>
                          <a:pt x="2013797" y="3558539"/>
                          <a:pt x="2032000" y="3522133"/>
                        </a:cubicBezTo>
                        <a:cubicBezTo>
                          <a:pt x="2047965" y="3490203"/>
                          <a:pt x="2054578" y="3454400"/>
                          <a:pt x="2065867" y="3420533"/>
                        </a:cubicBezTo>
                        <a:cubicBezTo>
                          <a:pt x="2054578" y="3318933"/>
                          <a:pt x="2052048" y="3215973"/>
                          <a:pt x="2032000" y="3115733"/>
                        </a:cubicBezTo>
                        <a:cubicBezTo>
                          <a:pt x="2017998" y="3045722"/>
                          <a:pt x="1964267" y="2912533"/>
                          <a:pt x="1964267" y="2912533"/>
                        </a:cubicBezTo>
                        <a:cubicBezTo>
                          <a:pt x="2045473" y="2668911"/>
                          <a:pt x="1946942" y="2973167"/>
                          <a:pt x="2032000" y="2675467"/>
                        </a:cubicBezTo>
                        <a:cubicBezTo>
                          <a:pt x="2041807" y="2641142"/>
                          <a:pt x="2054578" y="2607734"/>
                          <a:pt x="2065867" y="2573867"/>
                        </a:cubicBezTo>
                        <a:cubicBezTo>
                          <a:pt x="1988036" y="2340376"/>
                          <a:pt x="2048618" y="2421153"/>
                          <a:pt x="1930400" y="2302933"/>
                        </a:cubicBezTo>
                        <a:cubicBezTo>
                          <a:pt x="1919111" y="2257778"/>
                          <a:pt x="1909320" y="2212221"/>
                          <a:pt x="1896533" y="2167467"/>
                        </a:cubicBezTo>
                        <a:cubicBezTo>
                          <a:pt x="1886726" y="2133142"/>
                          <a:pt x="1868536" y="2101080"/>
                          <a:pt x="1862667" y="2065867"/>
                        </a:cubicBezTo>
                        <a:cubicBezTo>
                          <a:pt x="1846052" y="1966175"/>
                          <a:pt x="1835554" y="1713597"/>
                          <a:pt x="1794933" y="1591733"/>
                        </a:cubicBezTo>
                        <a:cubicBezTo>
                          <a:pt x="1778968" y="1543839"/>
                          <a:pt x="1753174" y="1499558"/>
                          <a:pt x="1727200" y="1456267"/>
                        </a:cubicBezTo>
                        <a:cubicBezTo>
                          <a:pt x="1685317" y="1386462"/>
                          <a:pt x="1591733" y="1253067"/>
                          <a:pt x="1591733" y="1253067"/>
                        </a:cubicBezTo>
                        <a:cubicBezTo>
                          <a:pt x="1555962" y="1145753"/>
                          <a:pt x="1565165" y="1143657"/>
                          <a:pt x="1490133" y="1049867"/>
                        </a:cubicBezTo>
                        <a:cubicBezTo>
                          <a:pt x="1470187" y="1024934"/>
                          <a:pt x="1442346" y="1007066"/>
                          <a:pt x="1422400" y="982133"/>
                        </a:cubicBezTo>
                        <a:cubicBezTo>
                          <a:pt x="1396973" y="950349"/>
                          <a:pt x="1380094" y="912316"/>
                          <a:pt x="1354667" y="880533"/>
                        </a:cubicBezTo>
                        <a:cubicBezTo>
                          <a:pt x="1334721" y="855600"/>
                          <a:pt x="1306879" y="837733"/>
                          <a:pt x="1286933" y="812800"/>
                        </a:cubicBezTo>
                        <a:cubicBezTo>
                          <a:pt x="1261506" y="781017"/>
                          <a:pt x="1246241" y="741622"/>
                          <a:pt x="1219200" y="711200"/>
                        </a:cubicBezTo>
                        <a:cubicBezTo>
                          <a:pt x="1155561" y="639606"/>
                          <a:pt x="1095702" y="561134"/>
                          <a:pt x="1016000" y="508000"/>
                        </a:cubicBezTo>
                        <a:cubicBezTo>
                          <a:pt x="887833" y="422556"/>
                          <a:pt x="943181" y="469048"/>
                          <a:pt x="846667" y="372533"/>
                        </a:cubicBezTo>
                        <a:cubicBezTo>
                          <a:pt x="835378" y="338666"/>
                          <a:pt x="832602" y="300636"/>
                          <a:pt x="812800" y="270933"/>
                        </a:cubicBezTo>
                        <a:cubicBezTo>
                          <a:pt x="786233" y="231082"/>
                          <a:pt x="749006" y="198737"/>
                          <a:pt x="711200" y="169333"/>
                        </a:cubicBezTo>
                        <a:cubicBezTo>
                          <a:pt x="536524" y="33474"/>
                          <a:pt x="559693" y="51098"/>
                          <a:pt x="406400" y="0"/>
                        </a:cubicBezTo>
                        <a:cubicBezTo>
                          <a:pt x="361244" y="11289"/>
                          <a:pt x="313715" y="15532"/>
                          <a:pt x="270933" y="33867"/>
                        </a:cubicBezTo>
                        <a:cubicBezTo>
                          <a:pt x="53886" y="126887"/>
                          <a:pt x="173770" y="228415"/>
                          <a:pt x="203200" y="508000"/>
                        </a:cubicBezTo>
                        <a:cubicBezTo>
                          <a:pt x="230238" y="764856"/>
                          <a:pt x="168958" y="711013"/>
                          <a:pt x="304800" y="778933"/>
                        </a:cubicBez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1" name="任意多边形 162"/>
                  <p:cNvSpPr/>
                  <p:nvPr/>
                </p:nvSpPr>
                <p:spPr>
                  <a:xfrm rot="18172200">
                    <a:off x="-5547240" y="4298040"/>
                    <a:ext cx="283680" cy="200880"/>
                  </a:xfrm>
                  <a:custGeom>
                    <a:avLst/>
                    <a:gdLst>
                      <a:gd name="textAreaLeft" fmla="*/ 0 w 283680"/>
                      <a:gd name="textAreaRight" fmla="*/ 284040 w 283680"/>
                      <a:gd name="textAreaTop" fmla="*/ 0 h 200880"/>
                      <a:gd name="textAreaBottom" fmla="*/ 201240 h 200880"/>
                    </a:gdLst>
                    <a:ahLst/>
                    <a:rect l="textAreaLeft" t="textAreaTop" r="textAreaRight" b="textAreaBottom"/>
                    <a:pathLst>
                      <a:path w="2065867" h="4030133">
                        <a:moveTo>
                          <a:pt x="270933" y="677333"/>
                        </a:moveTo>
                        <a:cubicBezTo>
                          <a:pt x="259644" y="733778"/>
                          <a:pt x="257278" y="792770"/>
                          <a:pt x="237067" y="846667"/>
                        </a:cubicBezTo>
                        <a:cubicBezTo>
                          <a:pt x="222775" y="884778"/>
                          <a:pt x="187536" y="911861"/>
                          <a:pt x="169333" y="948267"/>
                        </a:cubicBezTo>
                        <a:cubicBezTo>
                          <a:pt x="153368" y="980197"/>
                          <a:pt x="146756" y="1016000"/>
                          <a:pt x="135467" y="1049867"/>
                        </a:cubicBezTo>
                        <a:cubicBezTo>
                          <a:pt x="124178" y="1128889"/>
                          <a:pt x="124537" y="1210475"/>
                          <a:pt x="101600" y="1286933"/>
                        </a:cubicBezTo>
                        <a:cubicBezTo>
                          <a:pt x="89904" y="1325919"/>
                          <a:pt x="52070" y="1352127"/>
                          <a:pt x="33867" y="1388533"/>
                        </a:cubicBezTo>
                        <a:cubicBezTo>
                          <a:pt x="17902" y="1420463"/>
                          <a:pt x="11289" y="1456266"/>
                          <a:pt x="0" y="1490133"/>
                        </a:cubicBezTo>
                        <a:cubicBezTo>
                          <a:pt x="11289" y="1648178"/>
                          <a:pt x="6331" y="1808231"/>
                          <a:pt x="33867" y="1964267"/>
                        </a:cubicBezTo>
                        <a:cubicBezTo>
                          <a:pt x="40941" y="2004350"/>
                          <a:pt x="77942" y="2032746"/>
                          <a:pt x="101600" y="2065867"/>
                        </a:cubicBezTo>
                        <a:cubicBezTo>
                          <a:pt x="134408" y="2111798"/>
                          <a:pt x="167065" y="2157971"/>
                          <a:pt x="203200" y="2201333"/>
                        </a:cubicBezTo>
                        <a:cubicBezTo>
                          <a:pt x="223641" y="2225862"/>
                          <a:pt x="253221" y="2242500"/>
                          <a:pt x="270933" y="2269067"/>
                        </a:cubicBezTo>
                        <a:cubicBezTo>
                          <a:pt x="298937" y="2311073"/>
                          <a:pt x="313619" y="2360700"/>
                          <a:pt x="338667" y="2404533"/>
                        </a:cubicBezTo>
                        <a:cubicBezTo>
                          <a:pt x="443708" y="2588354"/>
                          <a:pt x="378175" y="2421458"/>
                          <a:pt x="440267" y="2607733"/>
                        </a:cubicBezTo>
                        <a:cubicBezTo>
                          <a:pt x="451556" y="2686755"/>
                          <a:pt x="448890" y="2769072"/>
                          <a:pt x="474133" y="2844800"/>
                        </a:cubicBezTo>
                        <a:cubicBezTo>
                          <a:pt x="484230" y="2875091"/>
                          <a:pt x="525439" y="2885153"/>
                          <a:pt x="541867" y="2912533"/>
                        </a:cubicBezTo>
                        <a:cubicBezTo>
                          <a:pt x="692110" y="3162937"/>
                          <a:pt x="437916" y="2858793"/>
                          <a:pt x="643467" y="3115733"/>
                        </a:cubicBezTo>
                        <a:cubicBezTo>
                          <a:pt x="663413" y="3140666"/>
                          <a:pt x="691254" y="3158534"/>
                          <a:pt x="711200" y="3183467"/>
                        </a:cubicBezTo>
                        <a:cubicBezTo>
                          <a:pt x="736627" y="3215251"/>
                          <a:pt x="752130" y="3254435"/>
                          <a:pt x="778933" y="3285067"/>
                        </a:cubicBezTo>
                        <a:cubicBezTo>
                          <a:pt x="831498" y="3345141"/>
                          <a:pt x="900372" y="3390540"/>
                          <a:pt x="948267" y="3454400"/>
                        </a:cubicBezTo>
                        <a:cubicBezTo>
                          <a:pt x="982134" y="3499556"/>
                          <a:pt x="1019951" y="3542002"/>
                          <a:pt x="1049867" y="3589867"/>
                        </a:cubicBezTo>
                        <a:cubicBezTo>
                          <a:pt x="1076624" y="3632678"/>
                          <a:pt x="1089596" y="3683327"/>
                          <a:pt x="1117600" y="3725333"/>
                        </a:cubicBezTo>
                        <a:cubicBezTo>
                          <a:pt x="1164328" y="3795425"/>
                          <a:pt x="1222230" y="3809038"/>
                          <a:pt x="1286933" y="3860800"/>
                        </a:cubicBezTo>
                        <a:cubicBezTo>
                          <a:pt x="1311866" y="3880746"/>
                          <a:pt x="1328100" y="3910821"/>
                          <a:pt x="1354667" y="3928533"/>
                        </a:cubicBezTo>
                        <a:cubicBezTo>
                          <a:pt x="1438370" y="3984335"/>
                          <a:pt x="1501418" y="4000029"/>
                          <a:pt x="1591733" y="4030133"/>
                        </a:cubicBezTo>
                        <a:cubicBezTo>
                          <a:pt x="1670755" y="4018844"/>
                          <a:pt x="1753072" y="4021510"/>
                          <a:pt x="1828800" y="3996267"/>
                        </a:cubicBezTo>
                        <a:cubicBezTo>
                          <a:pt x="1947678" y="3956641"/>
                          <a:pt x="1962781" y="3628192"/>
                          <a:pt x="1964267" y="3623733"/>
                        </a:cubicBezTo>
                        <a:cubicBezTo>
                          <a:pt x="1977138" y="3585119"/>
                          <a:pt x="2013797" y="3558539"/>
                          <a:pt x="2032000" y="3522133"/>
                        </a:cubicBezTo>
                        <a:cubicBezTo>
                          <a:pt x="2047965" y="3490203"/>
                          <a:pt x="2054578" y="3454400"/>
                          <a:pt x="2065867" y="3420533"/>
                        </a:cubicBezTo>
                        <a:cubicBezTo>
                          <a:pt x="2054578" y="3318933"/>
                          <a:pt x="2052048" y="3215973"/>
                          <a:pt x="2032000" y="3115733"/>
                        </a:cubicBezTo>
                        <a:cubicBezTo>
                          <a:pt x="2017998" y="3045722"/>
                          <a:pt x="1964267" y="2912533"/>
                          <a:pt x="1964267" y="2912533"/>
                        </a:cubicBezTo>
                        <a:cubicBezTo>
                          <a:pt x="2045473" y="2668911"/>
                          <a:pt x="1946942" y="2973167"/>
                          <a:pt x="2032000" y="2675467"/>
                        </a:cubicBezTo>
                        <a:cubicBezTo>
                          <a:pt x="2041807" y="2641142"/>
                          <a:pt x="2054578" y="2607734"/>
                          <a:pt x="2065867" y="2573867"/>
                        </a:cubicBezTo>
                        <a:cubicBezTo>
                          <a:pt x="1988036" y="2340376"/>
                          <a:pt x="2048618" y="2421153"/>
                          <a:pt x="1930400" y="2302933"/>
                        </a:cubicBezTo>
                        <a:cubicBezTo>
                          <a:pt x="1919111" y="2257778"/>
                          <a:pt x="1909320" y="2212221"/>
                          <a:pt x="1896533" y="2167467"/>
                        </a:cubicBezTo>
                        <a:cubicBezTo>
                          <a:pt x="1886726" y="2133142"/>
                          <a:pt x="1868536" y="2101080"/>
                          <a:pt x="1862667" y="2065867"/>
                        </a:cubicBezTo>
                        <a:cubicBezTo>
                          <a:pt x="1846052" y="1966175"/>
                          <a:pt x="1835554" y="1713597"/>
                          <a:pt x="1794933" y="1591733"/>
                        </a:cubicBezTo>
                        <a:cubicBezTo>
                          <a:pt x="1778968" y="1543839"/>
                          <a:pt x="1753174" y="1499558"/>
                          <a:pt x="1727200" y="1456267"/>
                        </a:cubicBezTo>
                        <a:cubicBezTo>
                          <a:pt x="1685317" y="1386462"/>
                          <a:pt x="1591733" y="1253067"/>
                          <a:pt x="1591733" y="1253067"/>
                        </a:cubicBezTo>
                        <a:cubicBezTo>
                          <a:pt x="1555962" y="1145753"/>
                          <a:pt x="1565165" y="1143657"/>
                          <a:pt x="1490133" y="1049867"/>
                        </a:cubicBezTo>
                        <a:cubicBezTo>
                          <a:pt x="1470187" y="1024934"/>
                          <a:pt x="1442346" y="1007066"/>
                          <a:pt x="1422400" y="982133"/>
                        </a:cubicBezTo>
                        <a:cubicBezTo>
                          <a:pt x="1396973" y="950349"/>
                          <a:pt x="1380094" y="912316"/>
                          <a:pt x="1354667" y="880533"/>
                        </a:cubicBezTo>
                        <a:cubicBezTo>
                          <a:pt x="1334721" y="855600"/>
                          <a:pt x="1306879" y="837733"/>
                          <a:pt x="1286933" y="812800"/>
                        </a:cubicBezTo>
                        <a:cubicBezTo>
                          <a:pt x="1261506" y="781017"/>
                          <a:pt x="1246241" y="741622"/>
                          <a:pt x="1219200" y="711200"/>
                        </a:cubicBezTo>
                        <a:cubicBezTo>
                          <a:pt x="1155561" y="639606"/>
                          <a:pt x="1095702" y="561134"/>
                          <a:pt x="1016000" y="508000"/>
                        </a:cubicBezTo>
                        <a:cubicBezTo>
                          <a:pt x="887833" y="422556"/>
                          <a:pt x="943181" y="469048"/>
                          <a:pt x="846667" y="372533"/>
                        </a:cubicBezTo>
                        <a:cubicBezTo>
                          <a:pt x="835378" y="338666"/>
                          <a:pt x="832602" y="300636"/>
                          <a:pt x="812800" y="270933"/>
                        </a:cubicBezTo>
                        <a:cubicBezTo>
                          <a:pt x="786233" y="231082"/>
                          <a:pt x="749006" y="198737"/>
                          <a:pt x="711200" y="169333"/>
                        </a:cubicBezTo>
                        <a:cubicBezTo>
                          <a:pt x="536524" y="33474"/>
                          <a:pt x="559693" y="51098"/>
                          <a:pt x="406400" y="0"/>
                        </a:cubicBezTo>
                        <a:cubicBezTo>
                          <a:pt x="361244" y="11289"/>
                          <a:pt x="313715" y="15532"/>
                          <a:pt x="270933" y="33867"/>
                        </a:cubicBezTo>
                        <a:cubicBezTo>
                          <a:pt x="53886" y="126887"/>
                          <a:pt x="173770" y="228415"/>
                          <a:pt x="203200" y="508000"/>
                        </a:cubicBezTo>
                        <a:cubicBezTo>
                          <a:pt x="230238" y="764856"/>
                          <a:pt x="168958" y="711013"/>
                          <a:pt x="304800" y="778933"/>
                        </a:cubicBezTo>
                      </a:path>
                    </a:pathLst>
                  </a:custGeom>
                  <a:solidFill>
                    <a:srgbClr val="f2f2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2" name="任意多边形 163"/>
                  <p:cNvSpPr/>
                  <p:nvPr/>
                </p:nvSpPr>
                <p:spPr>
                  <a:xfrm rot="17479200">
                    <a:off x="-5198760" y="4247280"/>
                    <a:ext cx="194760" cy="133920"/>
                  </a:xfrm>
                  <a:custGeom>
                    <a:avLst/>
                    <a:gdLst>
                      <a:gd name="textAreaLeft" fmla="*/ 0 w 194760"/>
                      <a:gd name="textAreaRight" fmla="*/ 195120 w 194760"/>
                      <a:gd name="textAreaTop" fmla="*/ 0 h 133920"/>
                      <a:gd name="textAreaBottom" fmla="*/ 134280 h 133920"/>
                    </a:gdLst>
                    <a:ahLst/>
                    <a:rect l="textAreaLeft" t="textAreaTop" r="textAreaRight" b="textAreaBottom"/>
                    <a:pathLst>
                      <a:path w="2065867" h="4030133">
                        <a:moveTo>
                          <a:pt x="270933" y="677333"/>
                        </a:moveTo>
                        <a:cubicBezTo>
                          <a:pt x="259644" y="733778"/>
                          <a:pt x="257278" y="792770"/>
                          <a:pt x="237067" y="846667"/>
                        </a:cubicBezTo>
                        <a:cubicBezTo>
                          <a:pt x="222775" y="884778"/>
                          <a:pt x="187536" y="911861"/>
                          <a:pt x="169333" y="948267"/>
                        </a:cubicBezTo>
                        <a:cubicBezTo>
                          <a:pt x="153368" y="980197"/>
                          <a:pt x="146756" y="1016000"/>
                          <a:pt x="135467" y="1049867"/>
                        </a:cubicBezTo>
                        <a:cubicBezTo>
                          <a:pt x="124178" y="1128889"/>
                          <a:pt x="124537" y="1210475"/>
                          <a:pt x="101600" y="1286933"/>
                        </a:cubicBezTo>
                        <a:cubicBezTo>
                          <a:pt x="89904" y="1325919"/>
                          <a:pt x="52070" y="1352127"/>
                          <a:pt x="33867" y="1388533"/>
                        </a:cubicBezTo>
                        <a:cubicBezTo>
                          <a:pt x="17902" y="1420463"/>
                          <a:pt x="11289" y="1456266"/>
                          <a:pt x="0" y="1490133"/>
                        </a:cubicBezTo>
                        <a:cubicBezTo>
                          <a:pt x="11289" y="1648178"/>
                          <a:pt x="6331" y="1808231"/>
                          <a:pt x="33867" y="1964267"/>
                        </a:cubicBezTo>
                        <a:cubicBezTo>
                          <a:pt x="40941" y="2004350"/>
                          <a:pt x="77942" y="2032746"/>
                          <a:pt x="101600" y="2065867"/>
                        </a:cubicBezTo>
                        <a:cubicBezTo>
                          <a:pt x="134408" y="2111798"/>
                          <a:pt x="167065" y="2157971"/>
                          <a:pt x="203200" y="2201333"/>
                        </a:cubicBezTo>
                        <a:cubicBezTo>
                          <a:pt x="223641" y="2225862"/>
                          <a:pt x="253221" y="2242500"/>
                          <a:pt x="270933" y="2269067"/>
                        </a:cubicBezTo>
                        <a:cubicBezTo>
                          <a:pt x="298937" y="2311073"/>
                          <a:pt x="313619" y="2360700"/>
                          <a:pt x="338667" y="2404533"/>
                        </a:cubicBezTo>
                        <a:cubicBezTo>
                          <a:pt x="443708" y="2588354"/>
                          <a:pt x="378175" y="2421458"/>
                          <a:pt x="440267" y="2607733"/>
                        </a:cubicBezTo>
                        <a:cubicBezTo>
                          <a:pt x="451556" y="2686755"/>
                          <a:pt x="448890" y="2769072"/>
                          <a:pt x="474133" y="2844800"/>
                        </a:cubicBezTo>
                        <a:cubicBezTo>
                          <a:pt x="484230" y="2875091"/>
                          <a:pt x="525439" y="2885153"/>
                          <a:pt x="541867" y="2912533"/>
                        </a:cubicBezTo>
                        <a:cubicBezTo>
                          <a:pt x="692110" y="3162937"/>
                          <a:pt x="437916" y="2858793"/>
                          <a:pt x="643467" y="3115733"/>
                        </a:cubicBezTo>
                        <a:cubicBezTo>
                          <a:pt x="663413" y="3140666"/>
                          <a:pt x="691254" y="3158534"/>
                          <a:pt x="711200" y="3183467"/>
                        </a:cubicBezTo>
                        <a:cubicBezTo>
                          <a:pt x="736627" y="3215251"/>
                          <a:pt x="752130" y="3254435"/>
                          <a:pt x="778933" y="3285067"/>
                        </a:cubicBezTo>
                        <a:cubicBezTo>
                          <a:pt x="831498" y="3345141"/>
                          <a:pt x="900372" y="3390540"/>
                          <a:pt x="948267" y="3454400"/>
                        </a:cubicBezTo>
                        <a:cubicBezTo>
                          <a:pt x="982134" y="3499556"/>
                          <a:pt x="1019951" y="3542002"/>
                          <a:pt x="1049867" y="3589867"/>
                        </a:cubicBezTo>
                        <a:cubicBezTo>
                          <a:pt x="1076624" y="3632678"/>
                          <a:pt x="1089596" y="3683327"/>
                          <a:pt x="1117600" y="3725333"/>
                        </a:cubicBezTo>
                        <a:cubicBezTo>
                          <a:pt x="1164328" y="3795425"/>
                          <a:pt x="1222230" y="3809038"/>
                          <a:pt x="1286933" y="3860800"/>
                        </a:cubicBezTo>
                        <a:cubicBezTo>
                          <a:pt x="1311866" y="3880746"/>
                          <a:pt x="1328100" y="3910821"/>
                          <a:pt x="1354667" y="3928533"/>
                        </a:cubicBezTo>
                        <a:cubicBezTo>
                          <a:pt x="1438370" y="3984335"/>
                          <a:pt x="1501418" y="4000029"/>
                          <a:pt x="1591733" y="4030133"/>
                        </a:cubicBezTo>
                        <a:cubicBezTo>
                          <a:pt x="1670755" y="4018844"/>
                          <a:pt x="1753072" y="4021510"/>
                          <a:pt x="1828800" y="3996267"/>
                        </a:cubicBezTo>
                        <a:cubicBezTo>
                          <a:pt x="1947678" y="3956641"/>
                          <a:pt x="1962781" y="3628192"/>
                          <a:pt x="1964267" y="3623733"/>
                        </a:cubicBezTo>
                        <a:cubicBezTo>
                          <a:pt x="1977138" y="3585119"/>
                          <a:pt x="2013797" y="3558539"/>
                          <a:pt x="2032000" y="3522133"/>
                        </a:cubicBezTo>
                        <a:cubicBezTo>
                          <a:pt x="2047965" y="3490203"/>
                          <a:pt x="2054578" y="3454400"/>
                          <a:pt x="2065867" y="3420533"/>
                        </a:cubicBezTo>
                        <a:cubicBezTo>
                          <a:pt x="2054578" y="3318933"/>
                          <a:pt x="2052048" y="3215973"/>
                          <a:pt x="2032000" y="3115733"/>
                        </a:cubicBezTo>
                        <a:cubicBezTo>
                          <a:pt x="2017998" y="3045722"/>
                          <a:pt x="1964267" y="2912533"/>
                          <a:pt x="1964267" y="2912533"/>
                        </a:cubicBezTo>
                        <a:cubicBezTo>
                          <a:pt x="2045473" y="2668911"/>
                          <a:pt x="1946942" y="2973167"/>
                          <a:pt x="2032000" y="2675467"/>
                        </a:cubicBezTo>
                        <a:cubicBezTo>
                          <a:pt x="2041807" y="2641142"/>
                          <a:pt x="2054578" y="2607734"/>
                          <a:pt x="2065867" y="2573867"/>
                        </a:cubicBezTo>
                        <a:cubicBezTo>
                          <a:pt x="1988036" y="2340376"/>
                          <a:pt x="2048618" y="2421153"/>
                          <a:pt x="1930400" y="2302933"/>
                        </a:cubicBezTo>
                        <a:cubicBezTo>
                          <a:pt x="1919111" y="2257778"/>
                          <a:pt x="1909320" y="2212221"/>
                          <a:pt x="1896533" y="2167467"/>
                        </a:cubicBezTo>
                        <a:cubicBezTo>
                          <a:pt x="1886726" y="2133142"/>
                          <a:pt x="1868536" y="2101080"/>
                          <a:pt x="1862667" y="2065867"/>
                        </a:cubicBezTo>
                        <a:cubicBezTo>
                          <a:pt x="1846052" y="1966175"/>
                          <a:pt x="1835554" y="1713597"/>
                          <a:pt x="1794933" y="1591733"/>
                        </a:cubicBezTo>
                        <a:cubicBezTo>
                          <a:pt x="1778968" y="1543839"/>
                          <a:pt x="1753174" y="1499558"/>
                          <a:pt x="1727200" y="1456267"/>
                        </a:cubicBezTo>
                        <a:cubicBezTo>
                          <a:pt x="1685317" y="1386462"/>
                          <a:pt x="1591733" y="1253067"/>
                          <a:pt x="1591733" y="1253067"/>
                        </a:cubicBezTo>
                        <a:cubicBezTo>
                          <a:pt x="1555962" y="1145753"/>
                          <a:pt x="1565165" y="1143657"/>
                          <a:pt x="1490133" y="1049867"/>
                        </a:cubicBezTo>
                        <a:cubicBezTo>
                          <a:pt x="1470187" y="1024934"/>
                          <a:pt x="1442346" y="1007066"/>
                          <a:pt x="1422400" y="982133"/>
                        </a:cubicBezTo>
                        <a:cubicBezTo>
                          <a:pt x="1396973" y="950349"/>
                          <a:pt x="1380094" y="912316"/>
                          <a:pt x="1354667" y="880533"/>
                        </a:cubicBezTo>
                        <a:cubicBezTo>
                          <a:pt x="1334721" y="855600"/>
                          <a:pt x="1306879" y="837733"/>
                          <a:pt x="1286933" y="812800"/>
                        </a:cubicBezTo>
                        <a:cubicBezTo>
                          <a:pt x="1261506" y="781017"/>
                          <a:pt x="1246241" y="741622"/>
                          <a:pt x="1219200" y="711200"/>
                        </a:cubicBezTo>
                        <a:cubicBezTo>
                          <a:pt x="1155561" y="639606"/>
                          <a:pt x="1095702" y="561134"/>
                          <a:pt x="1016000" y="508000"/>
                        </a:cubicBezTo>
                        <a:cubicBezTo>
                          <a:pt x="887833" y="422556"/>
                          <a:pt x="943181" y="469048"/>
                          <a:pt x="846667" y="372533"/>
                        </a:cubicBezTo>
                        <a:cubicBezTo>
                          <a:pt x="835378" y="338666"/>
                          <a:pt x="832602" y="300636"/>
                          <a:pt x="812800" y="270933"/>
                        </a:cubicBezTo>
                        <a:cubicBezTo>
                          <a:pt x="786233" y="231082"/>
                          <a:pt x="749006" y="198737"/>
                          <a:pt x="711200" y="169333"/>
                        </a:cubicBezTo>
                        <a:cubicBezTo>
                          <a:pt x="536524" y="33474"/>
                          <a:pt x="559693" y="51098"/>
                          <a:pt x="406400" y="0"/>
                        </a:cubicBezTo>
                        <a:cubicBezTo>
                          <a:pt x="361244" y="11289"/>
                          <a:pt x="313715" y="15532"/>
                          <a:pt x="270933" y="33867"/>
                        </a:cubicBezTo>
                        <a:cubicBezTo>
                          <a:pt x="53886" y="126887"/>
                          <a:pt x="173770" y="228415"/>
                          <a:pt x="203200" y="508000"/>
                        </a:cubicBezTo>
                        <a:cubicBezTo>
                          <a:pt x="230238" y="764856"/>
                          <a:pt x="168958" y="711013"/>
                          <a:pt x="304800" y="778933"/>
                        </a:cubicBezTo>
                      </a:path>
                    </a:pathLst>
                  </a:custGeom>
                  <a:solidFill>
                    <a:srgbClr val="f2f2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23" name=""/>
                <p:cNvGrpSpPr/>
                <p:nvPr/>
              </p:nvGrpSpPr>
              <p:grpSpPr>
                <a:xfrm>
                  <a:off x="-5788800" y="4326120"/>
                  <a:ext cx="943920" cy="688680"/>
                  <a:chOff x="-5788800" y="4326120"/>
                  <a:chExt cx="943920" cy="688680"/>
                </a:xfrm>
              </p:grpSpPr>
              <p:sp>
                <p:nvSpPr>
                  <p:cNvPr id="624" name="任意多边形 159"/>
                  <p:cNvSpPr/>
                  <p:nvPr/>
                </p:nvSpPr>
                <p:spPr>
                  <a:xfrm rot="19753800">
                    <a:off x="-5798160" y="4556520"/>
                    <a:ext cx="963000" cy="227880"/>
                  </a:xfrm>
                  <a:custGeom>
                    <a:avLst/>
                    <a:gdLst>
                      <a:gd name="textAreaLeft" fmla="*/ 0 w 963000"/>
                      <a:gd name="textAreaRight" fmla="*/ 963360 w 963000"/>
                      <a:gd name="textAreaTop" fmla="*/ 0 h 227880"/>
                      <a:gd name="textAreaBottom" fmla="*/ 228240 h 227880"/>
                    </a:gdLst>
                    <a:ahLst/>
                    <a:rect l="textAreaLeft" t="textAreaTop" r="textAreaRight" b="textAreaBottom"/>
                    <a:pathLst>
                      <a:path w="2065867" h="4030133">
                        <a:moveTo>
                          <a:pt x="270933" y="677333"/>
                        </a:moveTo>
                        <a:cubicBezTo>
                          <a:pt x="259644" y="733778"/>
                          <a:pt x="257278" y="792770"/>
                          <a:pt x="237067" y="846667"/>
                        </a:cubicBezTo>
                        <a:cubicBezTo>
                          <a:pt x="222775" y="884778"/>
                          <a:pt x="187536" y="911861"/>
                          <a:pt x="169333" y="948267"/>
                        </a:cubicBezTo>
                        <a:cubicBezTo>
                          <a:pt x="153368" y="980197"/>
                          <a:pt x="146756" y="1016000"/>
                          <a:pt x="135467" y="1049867"/>
                        </a:cubicBezTo>
                        <a:cubicBezTo>
                          <a:pt x="124178" y="1128889"/>
                          <a:pt x="124537" y="1210475"/>
                          <a:pt x="101600" y="1286933"/>
                        </a:cubicBezTo>
                        <a:cubicBezTo>
                          <a:pt x="89904" y="1325919"/>
                          <a:pt x="52070" y="1352127"/>
                          <a:pt x="33867" y="1388533"/>
                        </a:cubicBezTo>
                        <a:cubicBezTo>
                          <a:pt x="17902" y="1420463"/>
                          <a:pt x="11289" y="1456266"/>
                          <a:pt x="0" y="1490133"/>
                        </a:cubicBezTo>
                        <a:cubicBezTo>
                          <a:pt x="11289" y="1648178"/>
                          <a:pt x="6331" y="1808231"/>
                          <a:pt x="33867" y="1964267"/>
                        </a:cubicBezTo>
                        <a:cubicBezTo>
                          <a:pt x="40941" y="2004350"/>
                          <a:pt x="77942" y="2032746"/>
                          <a:pt x="101600" y="2065867"/>
                        </a:cubicBezTo>
                        <a:cubicBezTo>
                          <a:pt x="134408" y="2111798"/>
                          <a:pt x="167065" y="2157971"/>
                          <a:pt x="203200" y="2201333"/>
                        </a:cubicBezTo>
                        <a:cubicBezTo>
                          <a:pt x="223641" y="2225862"/>
                          <a:pt x="253221" y="2242500"/>
                          <a:pt x="270933" y="2269067"/>
                        </a:cubicBezTo>
                        <a:cubicBezTo>
                          <a:pt x="298937" y="2311073"/>
                          <a:pt x="313619" y="2360700"/>
                          <a:pt x="338667" y="2404533"/>
                        </a:cubicBezTo>
                        <a:cubicBezTo>
                          <a:pt x="443708" y="2588354"/>
                          <a:pt x="378175" y="2421458"/>
                          <a:pt x="440267" y="2607733"/>
                        </a:cubicBezTo>
                        <a:cubicBezTo>
                          <a:pt x="451556" y="2686755"/>
                          <a:pt x="448890" y="2769072"/>
                          <a:pt x="474133" y="2844800"/>
                        </a:cubicBezTo>
                        <a:cubicBezTo>
                          <a:pt x="484230" y="2875091"/>
                          <a:pt x="525439" y="2885153"/>
                          <a:pt x="541867" y="2912533"/>
                        </a:cubicBezTo>
                        <a:cubicBezTo>
                          <a:pt x="692110" y="3162937"/>
                          <a:pt x="437916" y="2858793"/>
                          <a:pt x="643467" y="3115733"/>
                        </a:cubicBezTo>
                        <a:cubicBezTo>
                          <a:pt x="663413" y="3140666"/>
                          <a:pt x="691254" y="3158534"/>
                          <a:pt x="711200" y="3183467"/>
                        </a:cubicBezTo>
                        <a:cubicBezTo>
                          <a:pt x="736627" y="3215251"/>
                          <a:pt x="752130" y="3254435"/>
                          <a:pt x="778933" y="3285067"/>
                        </a:cubicBezTo>
                        <a:cubicBezTo>
                          <a:pt x="831498" y="3345141"/>
                          <a:pt x="900372" y="3390540"/>
                          <a:pt x="948267" y="3454400"/>
                        </a:cubicBezTo>
                        <a:cubicBezTo>
                          <a:pt x="982134" y="3499556"/>
                          <a:pt x="1019951" y="3542002"/>
                          <a:pt x="1049867" y="3589867"/>
                        </a:cubicBezTo>
                        <a:cubicBezTo>
                          <a:pt x="1076624" y="3632678"/>
                          <a:pt x="1089596" y="3683327"/>
                          <a:pt x="1117600" y="3725333"/>
                        </a:cubicBezTo>
                        <a:cubicBezTo>
                          <a:pt x="1164328" y="3795425"/>
                          <a:pt x="1222230" y="3809038"/>
                          <a:pt x="1286933" y="3860800"/>
                        </a:cubicBezTo>
                        <a:cubicBezTo>
                          <a:pt x="1311866" y="3880746"/>
                          <a:pt x="1328100" y="3910821"/>
                          <a:pt x="1354667" y="3928533"/>
                        </a:cubicBezTo>
                        <a:cubicBezTo>
                          <a:pt x="1438370" y="3984335"/>
                          <a:pt x="1501418" y="4000029"/>
                          <a:pt x="1591733" y="4030133"/>
                        </a:cubicBezTo>
                        <a:cubicBezTo>
                          <a:pt x="1670755" y="4018844"/>
                          <a:pt x="1753072" y="4021510"/>
                          <a:pt x="1828800" y="3996267"/>
                        </a:cubicBezTo>
                        <a:cubicBezTo>
                          <a:pt x="1947678" y="3956641"/>
                          <a:pt x="1962781" y="3628192"/>
                          <a:pt x="1964267" y="3623733"/>
                        </a:cubicBezTo>
                        <a:cubicBezTo>
                          <a:pt x="1977138" y="3585119"/>
                          <a:pt x="2013797" y="3558539"/>
                          <a:pt x="2032000" y="3522133"/>
                        </a:cubicBezTo>
                        <a:cubicBezTo>
                          <a:pt x="2047965" y="3490203"/>
                          <a:pt x="2054578" y="3454400"/>
                          <a:pt x="2065867" y="3420533"/>
                        </a:cubicBezTo>
                        <a:cubicBezTo>
                          <a:pt x="2054578" y="3318933"/>
                          <a:pt x="2052048" y="3215973"/>
                          <a:pt x="2032000" y="3115733"/>
                        </a:cubicBezTo>
                        <a:cubicBezTo>
                          <a:pt x="2017998" y="3045722"/>
                          <a:pt x="1964267" y="2912533"/>
                          <a:pt x="1964267" y="2912533"/>
                        </a:cubicBezTo>
                        <a:cubicBezTo>
                          <a:pt x="2045473" y="2668911"/>
                          <a:pt x="1946942" y="2973167"/>
                          <a:pt x="2032000" y="2675467"/>
                        </a:cubicBezTo>
                        <a:cubicBezTo>
                          <a:pt x="2041807" y="2641142"/>
                          <a:pt x="2054578" y="2607734"/>
                          <a:pt x="2065867" y="2573867"/>
                        </a:cubicBezTo>
                        <a:cubicBezTo>
                          <a:pt x="1988036" y="2340376"/>
                          <a:pt x="2048618" y="2421153"/>
                          <a:pt x="1930400" y="2302933"/>
                        </a:cubicBezTo>
                        <a:cubicBezTo>
                          <a:pt x="1919111" y="2257778"/>
                          <a:pt x="1909320" y="2212221"/>
                          <a:pt x="1896533" y="2167467"/>
                        </a:cubicBezTo>
                        <a:cubicBezTo>
                          <a:pt x="1886726" y="2133142"/>
                          <a:pt x="1868536" y="2101080"/>
                          <a:pt x="1862667" y="2065867"/>
                        </a:cubicBezTo>
                        <a:cubicBezTo>
                          <a:pt x="1846052" y="1966175"/>
                          <a:pt x="1835554" y="1713597"/>
                          <a:pt x="1794933" y="1591733"/>
                        </a:cubicBezTo>
                        <a:cubicBezTo>
                          <a:pt x="1778968" y="1543839"/>
                          <a:pt x="1753174" y="1499558"/>
                          <a:pt x="1727200" y="1456267"/>
                        </a:cubicBezTo>
                        <a:cubicBezTo>
                          <a:pt x="1685317" y="1386462"/>
                          <a:pt x="1591733" y="1253067"/>
                          <a:pt x="1591733" y="1253067"/>
                        </a:cubicBezTo>
                        <a:cubicBezTo>
                          <a:pt x="1555962" y="1145753"/>
                          <a:pt x="1565165" y="1143657"/>
                          <a:pt x="1490133" y="1049867"/>
                        </a:cubicBezTo>
                        <a:cubicBezTo>
                          <a:pt x="1470187" y="1024934"/>
                          <a:pt x="1442346" y="1007066"/>
                          <a:pt x="1422400" y="982133"/>
                        </a:cubicBezTo>
                        <a:cubicBezTo>
                          <a:pt x="1396973" y="950349"/>
                          <a:pt x="1380094" y="912316"/>
                          <a:pt x="1354667" y="880533"/>
                        </a:cubicBezTo>
                        <a:cubicBezTo>
                          <a:pt x="1334721" y="855600"/>
                          <a:pt x="1306879" y="837733"/>
                          <a:pt x="1286933" y="812800"/>
                        </a:cubicBezTo>
                        <a:cubicBezTo>
                          <a:pt x="1261506" y="781017"/>
                          <a:pt x="1246241" y="741622"/>
                          <a:pt x="1219200" y="711200"/>
                        </a:cubicBezTo>
                        <a:cubicBezTo>
                          <a:pt x="1155561" y="639606"/>
                          <a:pt x="1095702" y="561134"/>
                          <a:pt x="1016000" y="508000"/>
                        </a:cubicBezTo>
                        <a:cubicBezTo>
                          <a:pt x="887833" y="422556"/>
                          <a:pt x="943181" y="469048"/>
                          <a:pt x="846667" y="372533"/>
                        </a:cubicBezTo>
                        <a:cubicBezTo>
                          <a:pt x="835378" y="338666"/>
                          <a:pt x="832602" y="300636"/>
                          <a:pt x="812800" y="270933"/>
                        </a:cubicBezTo>
                        <a:cubicBezTo>
                          <a:pt x="786233" y="231082"/>
                          <a:pt x="749006" y="198737"/>
                          <a:pt x="711200" y="169333"/>
                        </a:cubicBezTo>
                        <a:cubicBezTo>
                          <a:pt x="536524" y="33474"/>
                          <a:pt x="559693" y="51098"/>
                          <a:pt x="406400" y="0"/>
                        </a:cubicBezTo>
                        <a:cubicBezTo>
                          <a:pt x="361244" y="11289"/>
                          <a:pt x="313715" y="15532"/>
                          <a:pt x="270933" y="33867"/>
                        </a:cubicBezTo>
                        <a:cubicBezTo>
                          <a:pt x="53886" y="126887"/>
                          <a:pt x="173770" y="228415"/>
                          <a:pt x="203200" y="508000"/>
                        </a:cubicBezTo>
                        <a:cubicBezTo>
                          <a:pt x="230238" y="764856"/>
                          <a:pt x="168958" y="711013"/>
                          <a:pt x="304800" y="778933"/>
                        </a:cubicBez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5" name="任意多边形 160"/>
                  <p:cNvSpPr/>
                  <p:nvPr/>
                </p:nvSpPr>
                <p:spPr>
                  <a:xfrm rot="19666800">
                    <a:off x="-5455440" y="4606920"/>
                    <a:ext cx="479880" cy="213840"/>
                  </a:xfrm>
                  <a:custGeom>
                    <a:avLst/>
                    <a:gdLst>
                      <a:gd name="textAreaLeft" fmla="*/ 0 w 479880"/>
                      <a:gd name="textAreaRight" fmla="*/ 480240 w 479880"/>
                      <a:gd name="textAreaTop" fmla="*/ 0 h 213840"/>
                      <a:gd name="textAreaBottom" fmla="*/ 214200 h 213840"/>
                    </a:gdLst>
                    <a:ahLst/>
                    <a:rect l="textAreaLeft" t="textAreaTop" r="textAreaRight" b="textAreaBottom"/>
                    <a:pathLst>
                      <a:path w="2065867" h="4030133">
                        <a:moveTo>
                          <a:pt x="270933" y="677333"/>
                        </a:moveTo>
                        <a:cubicBezTo>
                          <a:pt x="259644" y="733778"/>
                          <a:pt x="257278" y="792770"/>
                          <a:pt x="237067" y="846667"/>
                        </a:cubicBezTo>
                        <a:cubicBezTo>
                          <a:pt x="222775" y="884778"/>
                          <a:pt x="187536" y="911861"/>
                          <a:pt x="169333" y="948267"/>
                        </a:cubicBezTo>
                        <a:cubicBezTo>
                          <a:pt x="153368" y="980197"/>
                          <a:pt x="146756" y="1016000"/>
                          <a:pt x="135467" y="1049867"/>
                        </a:cubicBezTo>
                        <a:cubicBezTo>
                          <a:pt x="124178" y="1128889"/>
                          <a:pt x="124537" y="1210475"/>
                          <a:pt x="101600" y="1286933"/>
                        </a:cubicBezTo>
                        <a:cubicBezTo>
                          <a:pt x="89904" y="1325919"/>
                          <a:pt x="52070" y="1352127"/>
                          <a:pt x="33867" y="1388533"/>
                        </a:cubicBezTo>
                        <a:cubicBezTo>
                          <a:pt x="17902" y="1420463"/>
                          <a:pt x="11289" y="1456266"/>
                          <a:pt x="0" y="1490133"/>
                        </a:cubicBezTo>
                        <a:cubicBezTo>
                          <a:pt x="11289" y="1648178"/>
                          <a:pt x="6331" y="1808231"/>
                          <a:pt x="33867" y="1964267"/>
                        </a:cubicBezTo>
                        <a:cubicBezTo>
                          <a:pt x="40941" y="2004350"/>
                          <a:pt x="77942" y="2032746"/>
                          <a:pt x="101600" y="2065867"/>
                        </a:cubicBezTo>
                        <a:cubicBezTo>
                          <a:pt x="134408" y="2111798"/>
                          <a:pt x="167065" y="2157971"/>
                          <a:pt x="203200" y="2201333"/>
                        </a:cubicBezTo>
                        <a:cubicBezTo>
                          <a:pt x="223641" y="2225862"/>
                          <a:pt x="253221" y="2242500"/>
                          <a:pt x="270933" y="2269067"/>
                        </a:cubicBezTo>
                        <a:cubicBezTo>
                          <a:pt x="298937" y="2311073"/>
                          <a:pt x="313619" y="2360700"/>
                          <a:pt x="338667" y="2404533"/>
                        </a:cubicBezTo>
                        <a:cubicBezTo>
                          <a:pt x="443708" y="2588354"/>
                          <a:pt x="378175" y="2421458"/>
                          <a:pt x="440267" y="2607733"/>
                        </a:cubicBezTo>
                        <a:cubicBezTo>
                          <a:pt x="451556" y="2686755"/>
                          <a:pt x="448890" y="2769072"/>
                          <a:pt x="474133" y="2844800"/>
                        </a:cubicBezTo>
                        <a:cubicBezTo>
                          <a:pt x="484230" y="2875091"/>
                          <a:pt x="525439" y="2885153"/>
                          <a:pt x="541867" y="2912533"/>
                        </a:cubicBezTo>
                        <a:cubicBezTo>
                          <a:pt x="692110" y="3162937"/>
                          <a:pt x="437916" y="2858793"/>
                          <a:pt x="643467" y="3115733"/>
                        </a:cubicBezTo>
                        <a:cubicBezTo>
                          <a:pt x="663413" y="3140666"/>
                          <a:pt x="691254" y="3158534"/>
                          <a:pt x="711200" y="3183467"/>
                        </a:cubicBezTo>
                        <a:cubicBezTo>
                          <a:pt x="736627" y="3215251"/>
                          <a:pt x="752130" y="3254435"/>
                          <a:pt x="778933" y="3285067"/>
                        </a:cubicBezTo>
                        <a:cubicBezTo>
                          <a:pt x="831498" y="3345141"/>
                          <a:pt x="900372" y="3390540"/>
                          <a:pt x="948267" y="3454400"/>
                        </a:cubicBezTo>
                        <a:cubicBezTo>
                          <a:pt x="982134" y="3499556"/>
                          <a:pt x="1019951" y="3542002"/>
                          <a:pt x="1049867" y="3589867"/>
                        </a:cubicBezTo>
                        <a:cubicBezTo>
                          <a:pt x="1076624" y="3632678"/>
                          <a:pt x="1089596" y="3683327"/>
                          <a:pt x="1117600" y="3725333"/>
                        </a:cubicBezTo>
                        <a:cubicBezTo>
                          <a:pt x="1164328" y="3795425"/>
                          <a:pt x="1222230" y="3809038"/>
                          <a:pt x="1286933" y="3860800"/>
                        </a:cubicBezTo>
                        <a:cubicBezTo>
                          <a:pt x="1311866" y="3880746"/>
                          <a:pt x="1328100" y="3910821"/>
                          <a:pt x="1354667" y="3928533"/>
                        </a:cubicBezTo>
                        <a:cubicBezTo>
                          <a:pt x="1438370" y="3984335"/>
                          <a:pt x="1501418" y="4000029"/>
                          <a:pt x="1591733" y="4030133"/>
                        </a:cubicBezTo>
                        <a:cubicBezTo>
                          <a:pt x="1670755" y="4018844"/>
                          <a:pt x="1753072" y="4021510"/>
                          <a:pt x="1828800" y="3996267"/>
                        </a:cubicBezTo>
                        <a:cubicBezTo>
                          <a:pt x="1947678" y="3956641"/>
                          <a:pt x="1962781" y="3628192"/>
                          <a:pt x="1964267" y="3623733"/>
                        </a:cubicBezTo>
                        <a:cubicBezTo>
                          <a:pt x="1977138" y="3585119"/>
                          <a:pt x="2013797" y="3558539"/>
                          <a:pt x="2032000" y="3522133"/>
                        </a:cubicBezTo>
                        <a:cubicBezTo>
                          <a:pt x="2047965" y="3490203"/>
                          <a:pt x="2054578" y="3454400"/>
                          <a:pt x="2065867" y="3420533"/>
                        </a:cubicBezTo>
                        <a:cubicBezTo>
                          <a:pt x="2054578" y="3318933"/>
                          <a:pt x="2052048" y="3215973"/>
                          <a:pt x="2032000" y="3115733"/>
                        </a:cubicBezTo>
                        <a:cubicBezTo>
                          <a:pt x="2017998" y="3045722"/>
                          <a:pt x="1964267" y="2912533"/>
                          <a:pt x="1964267" y="2912533"/>
                        </a:cubicBezTo>
                        <a:cubicBezTo>
                          <a:pt x="2045473" y="2668911"/>
                          <a:pt x="1946942" y="2973167"/>
                          <a:pt x="2032000" y="2675467"/>
                        </a:cubicBezTo>
                        <a:cubicBezTo>
                          <a:pt x="2041807" y="2641142"/>
                          <a:pt x="2054578" y="2607734"/>
                          <a:pt x="2065867" y="2573867"/>
                        </a:cubicBezTo>
                        <a:cubicBezTo>
                          <a:pt x="1988036" y="2340376"/>
                          <a:pt x="2048618" y="2421153"/>
                          <a:pt x="1930400" y="2302933"/>
                        </a:cubicBezTo>
                        <a:cubicBezTo>
                          <a:pt x="1919111" y="2257778"/>
                          <a:pt x="1909320" y="2212221"/>
                          <a:pt x="1896533" y="2167467"/>
                        </a:cubicBezTo>
                        <a:cubicBezTo>
                          <a:pt x="1886726" y="2133142"/>
                          <a:pt x="1868536" y="2101080"/>
                          <a:pt x="1862667" y="2065867"/>
                        </a:cubicBezTo>
                        <a:cubicBezTo>
                          <a:pt x="1846052" y="1966175"/>
                          <a:pt x="1835554" y="1713597"/>
                          <a:pt x="1794933" y="1591733"/>
                        </a:cubicBezTo>
                        <a:cubicBezTo>
                          <a:pt x="1778968" y="1543839"/>
                          <a:pt x="1753174" y="1499558"/>
                          <a:pt x="1727200" y="1456267"/>
                        </a:cubicBezTo>
                        <a:cubicBezTo>
                          <a:pt x="1685317" y="1386462"/>
                          <a:pt x="1591733" y="1253067"/>
                          <a:pt x="1591733" y="1253067"/>
                        </a:cubicBezTo>
                        <a:cubicBezTo>
                          <a:pt x="1555962" y="1145753"/>
                          <a:pt x="1565165" y="1143657"/>
                          <a:pt x="1490133" y="1049867"/>
                        </a:cubicBezTo>
                        <a:cubicBezTo>
                          <a:pt x="1470187" y="1024934"/>
                          <a:pt x="1442346" y="1007066"/>
                          <a:pt x="1422400" y="982133"/>
                        </a:cubicBezTo>
                        <a:cubicBezTo>
                          <a:pt x="1396973" y="950349"/>
                          <a:pt x="1380094" y="912316"/>
                          <a:pt x="1354667" y="880533"/>
                        </a:cubicBezTo>
                        <a:cubicBezTo>
                          <a:pt x="1334721" y="855600"/>
                          <a:pt x="1306879" y="837733"/>
                          <a:pt x="1286933" y="812800"/>
                        </a:cubicBezTo>
                        <a:cubicBezTo>
                          <a:pt x="1261506" y="781017"/>
                          <a:pt x="1246241" y="741622"/>
                          <a:pt x="1219200" y="711200"/>
                        </a:cubicBezTo>
                        <a:cubicBezTo>
                          <a:pt x="1155561" y="639606"/>
                          <a:pt x="1095702" y="561134"/>
                          <a:pt x="1016000" y="508000"/>
                        </a:cubicBezTo>
                        <a:cubicBezTo>
                          <a:pt x="887833" y="422556"/>
                          <a:pt x="943181" y="469048"/>
                          <a:pt x="846667" y="372533"/>
                        </a:cubicBezTo>
                        <a:cubicBezTo>
                          <a:pt x="835378" y="338666"/>
                          <a:pt x="832602" y="300636"/>
                          <a:pt x="812800" y="270933"/>
                        </a:cubicBezTo>
                        <a:cubicBezTo>
                          <a:pt x="786233" y="231082"/>
                          <a:pt x="749006" y="198737"/>
                          <a:pt x="711200" y="169333"/>
                        </a:cubicBezTo>
                        <a:cubicBezTo>
                          <a:pt x="536524" y="33474"/>
                          <a:pt x="559693" y="51098"/>
                          <a:pt x="406400" y="0"/>
                        </a:cubicBezTo>
                        <a:cubicBezTo>
                          <a:pt x="361244" y="11289"/>
                          <a:pt x="313715" y="15532"/>
                          <a:pt x="270933" y="33867"/>
                        </a:cubicBezTo>
                        <a:cubicBezTo>
                          <a:pt x="53886" y="126887"/>
                          <a:pt x="173770" y="228415"/>
                          <a:pt x="203200" y="508000"/>
                        </a:cubicBezTo>
                        <a:cubicBezTo>
                          <a:pt x="230238" y="764856"/>
                          <a:pt x="168958" y="711013"/>
                          <a:pt x="304800" y="778933"/>
                        </a:cubicBezTo>
                      </a:path>
                    </a:pathLst>
                  </a:custGeom>
                  <a:solidFill>
                    <a:srgbClr val="f2f2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26" name=""/>
                <p:cNvGrpSpPr/>
                <p:nvPr/>
              </p:nvGrpSpPr>
              <p:grpSpPr>
                <a:xfrm>
                  <a:off x="-6171840" y="4747680"/>
                  <a:ext cx="758880" cy="908280"/>
                  <a:chOff x="-6171840" y="4747680"/>
                  <a:chExt cx="758880" cy="908280"/>
                </a:xfrm>
              </p:grpSpPr>
              <p:sp>
                <p:nvSpPr>
                  <p:cNvPr id="627" name="任意多边形 150"/>
                  <p:cNvSpPr/>
                  <p:nvPr/>
                </p:nvSpPr>
                <p:spPr>
                  <a:xfrm rot="18404400">
                    <a:off x="-6273720" y="5087520"/>
                    <a:ext cx="963360" cy="227880"/>
                  </a:xfrm>
                  <a:custGeom>
                    <a:avLst/>
                    <a:gdLst>
                      <a:gd name="textAreaLeft" fmla="*/ 0 w 963360"/>
                      <a:gd name="textAreaRight" fmla="*/ 963720 w 963360"/>
                      <a:gd name="textAreaTop" fmla="*/ 0 h 227880"/>
                      <a:gd name="textAreaBottom" fmla="*/ 228240 h 227880"/>
                    </a:gdLst>
                    <a:ahLst/>
                    <a:rect l="textAreaLeft" t="textAreaTop" r="textAreaRight" b="textAreaBottom"/>
                    <a:pathLst>
                      <a:path w="2065867" h="4030133">
                        <a:moveTo>
                          <a:pt x="270933" y="677333"/>
                        </a:moveTo>
                        <a:cubicBezTo>
                          <a:pt x="259644" y="733778"/>
                          <a:pt x="257278" y="792770"/>
                          <a:pt x="237067" y="846667"/>
                        </a:cubicBezTo>
                        <a:cubicBezTo>
                          <a:pt x="222775" y="884778"/>
                          <a:pt x="187536" y="911861"/>
                          <a:pt x="169333" y="948267"/>
                        </a:cubicBezTo>
                        <a:cubicBezTo>
                          <a:pt x="153368" y="980197"/>
                          <a:pt x="146756" y="1016000"/>
                          <a:pt x="135467" y="1049867"/>
                        </a:cubicBezTo>
                        <a:cubicBezTo>
                          <a:pt x="124178" y="1128889"/>
                          <a:pt x="124537" y="1210475"/>
                          <a:pt x="101600" y="1286933"/>
                        </a:cubicBezTo>
                        <a:cubicBezTo>
                          <a:pt x="89904" y="1325919"/>
                          <a:pt x="52070" y="1352127"/>
                          <a:pt x="33867" y="1388533"/>
                        </a:cubicBezTo>
                        <a:cubicBezTo>
                          <a:pt x="17902" y="1420463"/>
                          <a:pt x="11289" y="1456266"/>
                          <a:pt x="0" y="1490133"/>
                        </a:cubicBezTo>
                        <a:cubicBezTo>
                          <a:pt x="11289" y="1648178"/>
                          <a:pt x="6331" y="1808231"/>
                          <a:pt x="33867" y="1964267"/>
                        </a:cubicBezTo>
                        <a:cubicBezTo>
                          <a:pt x="40941" y="2004350"/>
                          <a:pt x="77942" y="2032746"/>
                          <a:pt x="101600" y="2065867"/>
                        </a:cubicBezTo>
                        <a:cubicBezTo>
                          <a:pt x="134408" y="2111798"/>
                          <a:pt x="167065" y="2157971"/>
                          <a:pt x="203200" y="2201333"/>
                        </a:cubicBezTo>
                        <a:cubicBezTo>
                          <a:pt x="223641" y="2225862"/>
                          <a:pt x="253221" y="2242500"/>
                          <a:pt x="270933" y="2269067"/>
                        </a:cubicBezTo>
                        <a:cubicBezTo>
                          <a:pt x="298937" y="2311073"/>
                          <a:pt x="313619" y="2360700"/>
                          <a:pt x="338667" y="2404533"/>
                        </a:cubicBezTo>
                        <a:cubicBezTo>
                          <a:pt x="443708" y="2588354"/>
                          <a:pt x="378175" y="2421458"/>
                          <a:pt x="440267" y="2607733"/>
                        </a:cubicBezTo>
                        <a:cubicBezTo>
                          <a:pt x="451556" y="2686755"/>
                          <a:pt x="448890" y="2769072"/>
                          <a:pt x="474133" y="2844800"/>
                        </a:cubicBezTo>
                        <a:cubicBezTo>
                          <a:pt x="484230" y="2875091"/>
                          <a:pt x="525439" y="2885153"/>
                          <a:pt x="541867" y="2912533"/>
                        </a:cubicBezTo>
                        <a:cubicBezTo>
                          <a:pt x="692110" y="3162937"/>
                          <a:pt x="437916" y="2858793"/>
                          <a:pt x="643467" y="3115733"/>
                        </a:cubicBezTo>
                        <a:cubicBezTo>
                          <a:pt x="663413" y="3140666"/>
                          <a:pt x="691254" y="3158534"/>
                          <a:pt x="711200" y="3183467"/>
                        </a:cubicBezTo>
                        <a:cubicBezTo>
                          <a:pt x="736627" y="3215251"/>
                          <a:pt x="752130" y="3254435"/>
                          <a:pt x="778933" y="3285067"/>
                        </a:cubicBezTo>
                        <a:cubicBezTo>
                          <a:pt x="831498" y="3345141"/>
                          <a:pt x="900372" y="3390540"/>
                          <a:pt x="948267" y="3454400"/>
                        </a:cubicBezTo>
                        <a:cubicBezTo>
                          <a:pt x="982134" y="3499556"/>
                          <a:pt x="1019951" y="3542002"/>
                          <a:pt x="1049867" y="3589867"/>
                        </a:cubicBezTo>
                        <a:cubicBezTo>
                          <a:pt x="1076624" y="3632678"/>
                          <a:pt x="1089596" y="3683327"/>
                          <a:pt x="1117600" y="3725333"/>
                        </a:cubicBezTo>
                        <a:cubicBezTo>
                          <a:pt x="1164328" y="3795425"/>
                          <a:pt x="1222230" y="3809038"/>
                          <a:pt x="1286933" y="3860800"/>
                        </a:cubicBezTo>
                        <a:cubicBezTo>
                          <a:pt x="1311866" y="3880746"/>
                          <a:pt x="1328100" y="3910821"/>
                          <a:pt x="1354667" y="3928533"/>
                        </a:cubicBezTo>
                        <a:cubicBezTo>
                          <a:pt x="1438370" y="3984335"/>
                          <a:pt x="1501418" y="4000029"/>
                          <a:pt x="1591733" y="4030133"/>
                        </a:cubicBezTo>
                        <a:cubicBezTo>
                          <a:pt x="1670755" y="4018844"/>
                          <a:pt x="1753072" y="4021510"/>
                          <a:pt x="1828800" y="3996267"/>
                        </a:cubicBezTo>
                        <a:cubicBezTo>
                          <a:pt x="1947678" y="3956641"/>
                          <a:pt x="1962781" y="3628192"/>
                          <a:pt x="1964267" y="3623733"/>
                        </a:cubicBezTo>
                        <a:cubicBezTo>
                          <a:pt x="1977138" y="3585119"/>
                          <a:pt x="2013797" y="3558539"/>
                          <a:pt x="2032000" y="3522133"/>
                        </a:cubicBezTo>
                        <a:cubicBezTo>
                          <a:pt x="2047965" y="3490203"/>
                          <a:pt x="2054578" y="3454400"/>
                          <a:pt x="2065867" y="3420533"/>
                        </a:cubicBezTo>
                        <a:cubicBezTo>
                          <a:pt x="2054578" y="3318933"/>
                          <a:pt x="2052048" y="3215973"/>
                          <a:pt x="2032000" y="3115733"/>
                        </a:cubicBezTo>
                        <a:cubicBezTo>
                          <a:pt x="2017998" y="3045722"/>
                          <a:pt x="1964267" y="2912533"/>
                          <a:pt x="1964267" y="2912533"/>
                        </a:cubicBezTo>
                        <a:cubicBezTo>
                          <a:pt x="2045473" y="2668911"/>
                          <a:pt x="1946942" y="2973167"/>
                          <a:pt x="2032000" y="2675467"/>
                        </a:cubicBezTo>
                        <a:cubicBezTo>
                          <a:pt x="2041807" y="2641142"/>
                          <a:pt x="2054578" y="2607734"/>
                          <a:pt x="2065867" y="2573867"/>
                        </a:cubicBezTo>
                        <a:cubicBezTo>
                          <a:pt x="1988036" y="2340376"/>
                          <a:pt x="2048618" y="2421153"/>
                          <a:pt x="1930400" y="2302933"/>
                        </a:cubicBezTo>
                        <a:cubicBezTo>
                          <a:pt x="1919111" y="2257778"/>
                          <a:pt x="1909320" y="2212221"/>
                          <a:pt x="1896533" y="2167467"/>
                        </a:cubicBezTo>
                        <a:cubicBezTo>
                          <a:pt x="1886726" y="2133142"/>
                          <a:pt x="1868536" y="2101080"/>
                          <a:pt x="1862667" y="2065867"/>
                        </a:cubicBezTo>
                        <a:cubicBezTo>
                          <a:pt x="1846052" y="1966175"/>
                          <a:pt x="1835554" y="1713597"/>
                          <a:pt x="1794933" y="1591733"/>
                        </a:cubicBezTo>
                        <a:cubicBezTo>
                          <a:pt x="1778968" y="1543839"/>
                          <a:pt x="1753174" y="1499558"/>
                          <a:pt x="1727200" y="1456267"/>
                        </a:cubicBezTo>
                        <a:cubicBezTo>
                          <a:pt x="1685317" y="1386462"/>
                          <a:pt x="1591733" y="1253067"/>
                          <a:pt x="1591733" y="1253067"/>
                        </a:cubicBezTo>
                        <a:cubicBezTo>
                          <a:pt x="1555962" y="1145753"/>
                          <a:pt x="1565165" y="1143657"/>
                          <a:pt x="1490133" y="1049867"/>
                        </a:cubicBezTo>
                        <a:cubicBezTo>
                          <a:pt x="1470187" y="1024934"/>
                          <a:pt x="1442346" y="1007066"/>
                          <a:pt x="1422400" y="982133"/>
                        </a:cubicBezTo>
                        <a:cubicBezTo>
                          <a:pt x="1396973" y="950349"/>
                          <a:pt x="1380094" y="912316"/>
                          <a:pt x="1354667" y="880533"/>
                        </a:cubicBezTo>
                        <a:cubicBezTo>
                          <a:pt x="1334721" y="855600"/>
                          <a:pt x="1306879" y="837733"/>
                          <a:pt x="1286933" y="812800"/>
                        </a:cubicBezTo>
                        <a:cubicBezTo>
                          <a:pt x="1261506" y="781017"/>
                          <a:pt x="1246241" y="741622"/>
                          <a:pt x="1219200" y="711200"/>
                        </a:cubicBezTo>
                        <a:cubicBezTo>
                          <a:pt x="1155561" y="639606"/>
                          <a:pt x="1095702" y="561134"/>
                          <a:pt x="1016000" y="508000"/>
                        </a:cubicBezTo>
                        <a:cubicBezTo>
                          <a:pt x="887833" y="422556"/>
                          <a:pt x="943181" y="469048"/>
                          <a:pt x="846667" y="372533"/>
                        </a:cubicBezTo>
                        <a:cubicBezTo>
                          <a:pt x="835378" y="338666"/>
                          <a:pt x="832602" y="300636"/>
                          <a:pt x="812800" y="270933"/>
                        </a:cubicBezTo>
                        <a:cubicBezTo>
                          <a:pt x="786233" y="231082"/>
                          <a:pt x="749006" y="198737"/>
                          <a:pt x="711200" y="169333"/>
                        </a:cubicBezTo>
                        <a:cubicBezTo>
                          <a:pt x="536524" y="33474"/>
                          <a:pt x="559693" y="51098"/>
                          <a:pt x="406400" y="0"/>
                        </a:cubicBezTo>
                        <a:cubicBezTo>
                          <a:pt x="361244" y="11289"/>
                          <a:pt x="313715" y="15532"/>
                          <a:pt x="270933" y="33867"/>
                        </a:cubicBezTo>
                        <a:cubicBezTo>
                          <a:pt x="53886" y="126887"/>
                          <a:pt x="173770" y="228415"/>
                          <a:pt x="203200" y="508000"/>
                        </a:cubicBezTo>
                        <a:cubicBezTo>
                          <a:pt x="230238" y="764856"/>
                          <a:pt x="168958" y="711013"/>
                          <a:pt x="304800" y="778933"/>
                        </a:cubicBez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8" name="任意多边形 152"/>
                  <p:cNvSpPr/>
                  <p:nvPr/>
                </p:nvSpPr>
                <p:spPr>
                  <a:xfrm rot="18317400">
                    <a:off x="-5922360" y="5096520"/>
                    <a:ext cx="480240" cy="213840"/>
                  </a:xfrm>
                  <a:custGeom>
                    <a:avLst/>
                    <a:gdLst>
                      <a:gd name="textAreaLeft" fmla="*/ 0 w 480240"/>
                      <a:gd name="textAreaRight" fmla="*/ 480600 w 480240"/>
                      <a:gd name="textAreaTop" fmla="*/ 0 h 213840"/>
                      <a:gd name="textAreaBottom" fmla="*/ 214200 h 213840"/>
                    </a:gdLst>
                    <a:ahLst/>
                    <a:rect l="textAreaLeft" t="textAreaTop" r="textAreaRight" b="textAreaBottom"/>
                    <a:pathLst>
                      <a:path w="2065867" h="4030133">
                        <a:moveTo>
                          <a:pt x="270933" y="677333"/>
                        </a:moveTo>
                        <a:cubicBezTo>
                          <a:pt x="259644" y="733778"/>
                          <a:pt x="257278" y="792770"/>
                          <a:pt x="237067" y="846667"/>
                        </a:cubicBezTo>
                        <a:cubicBezTo>
                          <a:pt x="222775" y="884778"/>
                          <a:pt x="187536" y="911861"/>
                          <a:pt x="169333" y="948267"/>
                        </a:cubicBezTo>
                        <a:cubicBezTo>
                          <a:pt x="153368" y="980197"/>
                          <a:pt x="146756" y="1016000"/>
                          <a:pt x="135467" y="1049867"/>
                        </a:cubicBezTo>
                        <a:cubicBezTo>
                          <a:pt x="124178" y="1128889"/>
                          <a:pt x="124537" y="1210475"/>
                          <a:pt x="101600" y="1286933"/>
                        </a:cubicBezTo>
                        <a:cubicBezTo>
                          <a:pt x="89904" y="1325919"/>
                          <a:pt x="52070" y="1352127"/>
                          <a:pt x="33867" y="1388533"/>
                        </a:cubicBezTo>
                        <a:cubicBezTo>
                          <a:pt x="17902" y="1420463"/>
                          <a:pt x="11289" y="1456266"/>
                          <a:pt x="0" y="1490133"/>
                        </a:cubicBezTo>
                        <a:cubicBezTo>
                          <a:pt x="11289" y="1648178"/>
                          <a:pt x="6331" y="1808231"/>
                          <a:pt x="33867" y="1964267"/>
                        </a:cubicBezTo>
                        <a:cubicBezTo>
                          <a:pt x="40941" y="2004350"/>
                          <a:pt x="77942" y="2032746"/>
                          <a:pt x="101600" y="2065867"/>
                        </a:cubicBezTo>
                        <a:cubicBezTo>
                          <a:pt x="134408" y="2111798"/>
                          <a:pt x="167065" y="2157971"/>
                          <a:pt x="203200" y="2201333"/>
                        </a:cubicBezTo>
                        <a:cubicBezTo>
                          <a:pt x="223641" y="2225862"/>
                          <a:pt x="253221" y="2242500"/>
                          <a:pt x="270933" y="2269067"/>
                        </a:cubicBezTo>
                        <a:cubicBezTo>
                          <a:pt x="298937" y="2311073"/>
                          <a:pt x="313619" y="2360700"/>
                          <a:pt x="338667" y="2404533"/>
                        </a:cubicBezTo>
                        <a:cubicBezTo>
                          <a:pt x="443708" y="2588354"/>
                          <a:pt x="378175" y="2421458"/>
                          <a:pt x="440267" y="2607733"/>
                        </a:cubicBezTo>
                        <a:cubicBezTo>
                          <a:pt x="451556" y="2686755"/>
                          <a:pt x="448890" y="2769072"/>
                          <a:pt x="474133" y="2844800"/>
                        </a:cubicBezTo>
                        <a:cubicBezTo>
                          <a:pt x="484230" y="2875091"/>
                          <a:pt x="525439" y="2885153"/>
                          <a:pt x="541867" y="2912533"/>
                        </a:cubicBezTo>
                        <a:cubicBezTo>
                          <a:pt x="692110" y="3162937"/>
                          <a:pt x="437916" y="2858793"/>
                          <a:pt x="643467" y="3115733"/>
                        </a:cubicBezTo>
                        <a:cubicBezTo>
                          <a:pt x="663413" y="3140666"/>
                          <a:pt x="691254" y="3158534"/>
                          <a:pt x="711200" y="3183467"/>
                        </a:cubicBezTo>
                        <a:cubicBezTo>
                          <a:pt x="736627" y="3215251"/>
                          <a:pt x="752130" y="3254435"/>
                          <a:pt x="778933" y="3285067"/>
                        </a:cubicBezTo>
                        <a:cubicBezTo>
                          <a:pt x="831498" y="3345141"/>
                          <a:pt x="900372" y="3390540"/>
                          <a:pt x="948267" y="3454400"/>
                        </a:cubicBezTo>
                        <a:cubicBezTo>
                          <a:pt x="982134" y="3499556"/>
                          <a:pt x="1019951" y="3542002"/>
                          <a:pt x="1049867" y="3589867"/>
                        </a:cubicBezTo>
                        <a:cubicBezTo>
                          <a:pt x="1076624" y="3632678"/>
                          <a:pt x="1089596" y="3683327"/>
                          <a:pt x="1117600" y="3725333"/>
                        </a:cubicBezTo>
                        <a:cubicBezTo>
                          <a:pt x="1164328" y="3795425"/>
                          <a:pt x="1222230" y="3809038"/>
                          <a:pt x="1286933" y="3860800"/>
                        </a:cubicBezTo>
                        <a:cubicBezTo>
                          <a:pt x="1311866" y="3880746"/>
                          <a:pt x="1328100" y="3910821"/>
                          <a:pt x="1354667" y="3928533"/>
                        </a:cubicBezTo>
                        <a:cubicBezTo>
                          <a:pt x="1438370" y="3984335"/>
                          <a:pt x="1501418" y="4000029"/>
                          <a:pt x="1591733" y="4030133"/>
                        </a:cubicBezTo>
                        <a:cubicBezTo>
                          <a:pt x="1670755" y="4018844"/>
                          <a:pt x="1753072" y="4021510"/>
                          <a:pt x="1828800" y="3996267"/>
                        </a:cubicBezTo>
                        <a:cubicBezTo>
                          <a:pt x="1947678" y="3956641"/>
                          <a:pt x="1962781" y="3628192"/>
                          <a:pt x="1964267" y="3623733"/>
                        </a:cubicBezTo>
                        <a:cubicBezTo>
                          <a:pt x="1977138" y="3585119"/>
                          <a:pt x="2013797" y="3558539"/>
                          <a:pt x="2032000" y="3522133"/>
                        </a:cubicBezTo>
                        <a:cubicBezTo>
                          <a:pt x="2047965" y="3490203"/>
                          <a:pt x="2054578" y="3454400"/>
                          <a:pt x="2065867" y="3420533"/>
                        </a:cubicBezTo>
                        <a:cubicBezTo>
                          <a:pt x="2054578" y="3318933"/>
                          <a:pt x="2052048" y="3215973"/>
                          <a:pt x="2032000" y="3115733"/>
                        </a:cubicBezTo>
                        <a:cubicBezTo>
                          <a:pt x="2017998" y="3045722"/>
                          <a:pt x="1964267" y="2912533"/>
                          <a:pt x="1964267" y="2912533"/>
                        </a:cubicBezTo>
                        <a:cubicBezTo>
                          <a:pt x="2045473" y="2668911"/>
                          <a:pt x="1946942" y="2973167"/>
                          <a:pt x="2032000" y="2675467"/>
                        </a:cubicBezTo>
                        <a:cubicBezTo>
                          <a:pt x="2041807" y="2641142"/>
                          <a:pt x="2054578" y="2607734"/>
                          <a:pt x="2065867" y="2573867"/>
                        </a:cubicBezTo>
                        <a:cubicBezTo>
                          <a:pt x="1988036" y="2340376"/>
                          <a:pt x="2048618" y="2421153"/>
                          <a:pt x="1930400" y="2302933"/>
                        </a:cubicBezTo>
                        <a:cubicBezTo>
                          <a:pt x="1919111" y="2257778"/>
                          <a:pt x="1909320" y="2212221"/>
                          <a:pt x="1896533" y="2167467"/>
                        </a:cubicBezTo>
                        <a:cubicBezTo>
                          <a:pt x="1886726" y="2133142"/>
                          <a:pt x="1868536" y="2101080"/>
                          <a:pt x="1862667" y="2065867"/>
                        </a:cubicBezTo>
                        <a:cubicBezTo>
                          <a:pt x="1846052" y="1966175"/>
                          <a:pt x="1835554" y="1713597"/>
                          <a:pt x="1794933" y="1591733"/>
                        </a:cubicBezTo>
                        <a:cubicBezTo>
                          <a:pt x="1778968" y="1543839"/>
                          <a:pt x="1753174" y="1499558"/>
                          <a:pt x="1727200" y="1456267"/>
                        </a:cubicBezTo>
                        <a:cubicBezTo>
                          <a:pt x="1685317" y="1386462"/>
                          <a:pt x="1591733" y="1253067"/>
                          <a:pt x="1591733" y="1253067"/>
                        </a:cubicBezTo>
                        <a:cubicBezTo>
                          <a:pt x="1555962" y="1145753"/>
                          <a:pt x="1565165" y="1143657"/>
                          <a:pt x="1490133" y="1049867"/>
                        </a:cubicBezTo>
                        <a:cubicBezTo>
                          <a:pt x="1470187" y="1024934"/>
                          <a:pt x="1442346" y="1007066"/>
                          <a:pt x="1422400" y="982133"/>
                        </a:cubicBezTo>
                        <a:cubicBezTo>
                          <a:pt x="1396973" y="950349"/>
                          <a:pt x="1380094" y="912316"/>
                          <a:pt x="1354667" y="880533"/>
                        </a:cubicBezTo>
                        <a:cubicBezTo>
                          <a:pt x="1334721" y="855600"/>
                          <a:pt x="1306879" y="837733"/>
                          <a:pt x="1286933" y="812800"/>
                        </a:cubicBezTo>
                        <a:cubicBezTo>
                          <a:pt x="1261506" y="781017"/>
                          <a:pt x="1246241" y="741622"/>
                          <a:pt x="1219200" y="711200"/>
                        </a:cubicBezTo>
                        <a:cubicBezTo>
                          <a:pt x="1155561" y="639606"/>
                          <a:pt x="1095702" y="561134"/>
                          <a:pt x="1016000" y="508000"/>
                        </a:cubicBezTo>
                        <a:cubicBezTo>
                          <a:pt x="887833" y="422556"/>
                          <a:pt x="943181" y="469048"/>
                          <a:pt x="846667" y="372533"/>
                        </a:cubicBezTo>
                        <a:cubicBezTo>
                          <a:pt x="835378" y="338666"/>
                          <a:pt x="832602" y="300636"/>
                          <a:pt x="812800" y="270933"/>
                        </a:cubicBezTo>
                        <a:cubicBezTo>
                          <a:pt x="786233" y="231082"/>
                          <a:pt x="749006" y="198737"/>
                          <a:pt x="711200" y="169333"/>
                        </a:cubicBezTo>
                        <a:cubicBezTo>
                          <a:pt x="536524" y="33474"/>
                          <a:pt x="559693" y="51098"/>
                          <a:pt x="406400" y="0"/>
                        </a:cubicBezTo>
                        <a:cubicBezTo>
                          <a:pt x="361244" y="11289"/>
                          <a:pt x="313715" y="15532"/>
                          <a:pt x="270933" y="33867"/>
                        </a:cubicBezTo>
                        <a:cubicBezTo>
                          <a:pt x="53886" y="126887"/>
                          <a:pt x="173770" y="228415"/>
                          <a:pt x="203200" y="508000"/>
                        </a:cubicBezTo>
                        <a:cubicBezTo>
                          <a:pt x="230238" y="764856"/>
                          <a:pt x="168958" y="711013"/>
                          <a:pt x="304800" y="778933"/>
                        </a:cubicBezTo>
                      </a:path>
                    </a:pathLst>
                  </a:custGeom>
                  <a:solidFill>
                    <a:srgbClr val="f2f2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29" name="任意多边形 149"/>
                <p:cNvSpPr/>
                <p:nvPr/>
              </p:nvSpPr>
              <p:spPr>
                <a:xfrm>
                  <a:off x="-5244120" y="3796200"/>
                  <a:ext cx="307080" cy="264240"/>
                </a:xfrm>
                <a:custGeom>
                  <a:avLst/>
                  <a:gdLst>
                    <a:gd name="textAreaLeft" fmla="*/ 0 w 307080"/>
                    <a:gd name="textAreaRight" fmla="*/ 307440 w 307080"/>
                    <a:gd name="textAreaTop" fmla="*/ 0 h 264240"/>
                    <a:gd name="textAreaBottom" fmla="*/ 264600 h 264240"/>
                  </a:gdLst>
                  <a:ahLst/>
                  <a:rect l="textAreaLeft" t="textAreaTop" r="textAreaRight" b="textAreaBottom"/>
                  <a:pathLst>
                    <a:path w="307238" h="264197">
                      <a:moveTo>
                        <a:pt x="80467" y="849"/>
                      </a:moveTo>
                      <a:cubicBezTo>
                        <a:pt x="98755" y="6945"/>
                        <a:pt x="153179" y="38924"/>
                        <a:pt x="190195" y="66686"/>
                      </a:cubicBezTo>
                      <a:cubicBezTo>
                        <a:pt x="207853" y="79930"/>
                        <a:pt x="205064" y="85272"/>
                        <a:pt x="219456" y="103262"/>
                      </a:cubicBezTo>
                      <a:cubicBezTo>
                        <a:pt x="223764" y="108648"/>
                        <a:pt x="229209" y="113016"/>
                        <a:pt x="234086" y="117893"/>
                      </a:cubicBezTo>
                      <a:cubicBezTo>
                        <a:pt x="246789" y="156003"/>
                        <a:pt x="233080" y="125779"/>
                        <a:pt x="256032" y="154469"/>
                      </a:cubicBezTo>
                      <a:cubicBezTo>
                        <a:pt x="261524" y="161334"/>
                        <a:pt x="263029" y="172052"/>
                        <a:pt x="270662" y="176414"/>
                      </a:cubicBezTo>
                      <a:cubicBezTo>
                        <a:pt x="281457" y="182583"/>
                        <a:pt x="295046" y="181291"/>
                        <a:pt x="307238" y="183729"/>
                      </a:cubicBezTo>
                      <a:cubicBezTo>
                        <a:pt x="299923" y="186168"/>
                        <a:pt x="292189" y="187596"/>
                        <a:pt x="285292" y="191045"/>
                      </a:cubicBezTo>
                      <a:cubicBezTo>
                        <a:pt x="277429" y="194977"/>
                        <a:pt x="271428" y="202212"/>
                        <a:pt x="263347" y="205675"/>
                      </a:cubicBezTo>
                      <a:cubicBezTo>
                        <a:pt x="254106" y="209635"/>
                        <a:pt x="243840" y="210552"/>
                        <a:pt x="234086" y="212990"/>
                      </a:cubicBezTo>
                      <a:cubicBezTo>
                        <a:pt x="178283" y="268793"/>
                        <a:pt x="243125" y="210494"/>
                        <a:pt x="190195" y="242251"/>
                      </a:cubicBezTo>
                      <a:cubicBezTo>
                        <a:pt x="139983" y="272377"/>
                        <a:pt x="215791" y="243470"/>
                        <a:pt x="153619" y="264197"/>
                      </a:cubicBezTo>
                      <a:cubicBezTo>
                        <a:pt x="117043" y="261758"/>
                        <a:pt x="79675" y="264833"/>
                        <a:pt x="43891" y="256881"/>
                      </a:cubicBezTo>
                      <a:cubicBezTo>
                        <a:pt x="33792" y="254637"/>
                        <a:pt x="29892" y="241559"/>
                        <a:pt x="21945" y="234936"/>
                      </a:cubicBezTo>
                      <a:cubicBezTo>
                        <a:pt x="15191" y="229308"/>
                        <a:pt x="7315" y="225182"/>
                        <a:pt x="0" y="220305"/>
                      </a:cubicBezTo>
                      <a:cubicBezTo>
                        <a:pt x="2438" y="198360"/>
                        <a:pt x="1960" y="175890"/>
                        <a:pt x="7315" y="154469"/>
                      </a:cubicBezTo>
                      <a:cubicBezTo>
                        <a:pt x="9447" y="145940"/>
                        <a:pt x="18013" y="140387"/>
                        <a:pt x="21945" y="132523"/>
                      </a:cubicBezTo>
                      <a:cubicBezTo>
                        <a:pt x="40936" y="94540"/>
                        <a:pt x="15315" y="124521"/>
                        <a:pt x="43891" y="95947"/>
                      </a:cubicBezTo>
                      <a:cubicBezTo>
                        <a:pt x="50393" y="76440"/>
                        <a:pt x="53783" y="62820"/>
                        <a:pt x="65836" y="44741"/>
                      </a:cubicBezTo>
                      <a:cubicBezTo>
                        <a:pt x="69662" y="39002"/>
                        <a:pt x="76158" y="35496"/>
                        <a:pt x="80467" y="30110"/>
                      </a:cubicBezTo>
                      <a:cubicBezTo>
                        <a:pt x="85959" y="23245"/>
                        <a:pt x="62179" y="-5247"/>
                        <a:pt x="80467" y="8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30" name=""/>
              <p:cNvGrpSpPr/>
              <p:nvPr/>
            </p:nvGrpSpPr>
            <p:grpSpPr>
              <a:xfrm>
                <a:off x="-1541880" y="2926080"/>
                <a:ext cx="1862640" cy="2693520"/>
                <a:chOff x="-1541880" y="2926080"/>
                <a:chExt cx="1862640" cy="2693520"/>
              </a:xfrm>
            </p:grpSpPr>
            <p:sp>
              <p:nvSpPr>
                <p:cNvPr id="631" name="任意多边形 90"/>
                <p:cNvSpPr/>
                <p:nvPr/>
              </p:nvSpPr>
              <p:spPr>
                <a:xfrm flipH="1">
                  <a:off x="-1319400" y="3080880"/>
                  <a:ext cx="1639800" cy="2485800"/>
                </a:xfrm>
                <a:custGeom>
                  <a:avLst/>
                  <a:gdLst>
                    <a:gd name="textAreaLeft" fmla="*/ 360 w 1639800"/>
                    <a:gd name="textAreaRight" fmla="*/ 1640520 w 1639800"/>
                    <a:gd name="textAreaTop" fmla="*/ 0 h 2485800"/>
                    <a:gd name="textAreaBottom" fmla="*/ 2486160 h 2485800"/>
                  </a:gdLst>
                  <a:ahLst/>
                  <a:rect l="textAreaLeft" t="textAreaTop" r="textAreaRight" b="textAreaBottom"/>
                  <a:pathLst>
                    <a:path w="1639957" h="2484967">
                      <a:moveTo>
                        <a:pt x="1123122" y="30002"/>
                      </a:moveTo>
                      <a:cubicBezTo>
                        <a:pt x="1065144" y="38285"/>
                        <a:pt x="1087699" y="39175"/>
                        <a:pt x="1073426" y="49880"/>
                      </a:cubicBezTo>
                      <a:cubicBezTo>
                        <a:pt x="1060174" y="59819"/>
                        <a:pt x="1055322" y="77924"/>
                        <a:pt x="1043609" y="89637"/>
                      </a:cubicBezTo>
                      <a:cubicBezTo>
                        <a:pt x="1035162" y="98084"/>
                        <a:pt x="1023730" y="102889"/>
                        <a:pt x="1013791" y="109515"/>
                      </a:cubicBezTo>
                      <a:cubicBezTo>
                        <a:pt x="999298" y="128839"/>
                        <a:pt x="983837" y="153357"/>
                        <a:pt x="964096" y="169150"/>
                      </a:cubicBezTo>
                      <a:cubicBezTo>
                        <a:pt x="954768" y="176612"/>
                        <a:pt x="945610" y="185251"/>
                        <a:pt x="934278" y="189028"/>
                      </a:cubicBezTo>
                      <a:cubicBezTo>
                        <a:pt x="915160" y="195401"/>
                        <a:pt x="894521" y="195654"/>
                        <a:pt x="874643" y="198967"/>
                      </a:cubicBezTo>
                      <a:cubicBezTo>
                        <a:pt x="852188" y="266331"/>
                        <a:pt x="886496" y="193040"/>
                        <a:pt x="795130" y="238724"/>
                      </a:cubicBezTo>
                      <a:cubicBezTo>
                        <a:pt x="785759" y="243409"/>
                        <a:pt x="789876" y="259170"/>
                        <a:pt x="785191" y="268541"/>
                      </a:cubicBezTo>
                      <a:cubicBezTo>
                        <a:pt x="760872" y="317179"/>
                        <a:pt x="773165" y="281263"/>
                        <a:pt x="745435" y="318237"/>
                      </a:cubicBezTo>
                      <a:cubicBezTo>
                        <a:pt x="731101" y="337349"/>
                        <a:pt x="718930" y="357993"/>
                        <a:pt x="705678" y="377871"/>
                      </a:cubicBezTo>
                      <a:lnTo>
                        <a:pt x="685800" y="407689"/>
                      </a:lnTo>
                      <a:cubicBezTo>
                        <a:pt x="682487" y="420941"/>
                        <a:pt x="681970" y="435227"/>
                        <a:pt x="675861" y="447445"/>
                      </a:cubicBezTo>
                      <a:cubicBezTo>
                        <a:pt x="671670" y="455827"/>
                        <a:pt x="658256" y="458233"/>
                        <a:pt x="655983" y="467324"/>
                      </a:cubicBezTo>
                      <a:cubicBezTo>
                        <a:pt x="644619" y="512778"/>
                        <a:pt x="650920" y="562022"/>
                        <a:pt x="636104" y="606471"/>
                      </a:cubicBezTo>
                      <a:cubicBezTo>
                        <a:pt x="629478" y="626349"/>
                        <a:pt x="636773" y="661997"/>
                        <a:pt x="616226" y="666106"/>
                      </a:cubicBezTo>
                      <a:cubicBezTo>
                        <a:pt x="543558" y="680639"/>
                        <a:pt x="583254" y="673656"/>
                        <a:pt x="496957" y="685984"/>
                      </a:cubicBezTo>
                      <a:cubicBezTo>
                        <a:pt x="490331" y="692610"/>
                        <a:pt x="481899" y="697827"/>
                        <a:pt x="477078" y="705863"/>
                      </a:cubicBezTo>
                      <a:cubicBezTo>
                        <a:pt x="471688" y="714847"/>
                        <a:pt x="471824" y="726309"/>
                        <a:pt x="467139" y="735680"/>
                      </a:cubicBezTo>
                      <a:cubicBezTo>
                        <a:pt x="461797" y="746364"/>
                        <a:pt x="453887" y="755558"/>
                        <a:pt x="447261" y="765497"/>
                      </a:cubicBezTo>
                      <a:cubicBezTo>
                        <a:pt x="443948" y="845010"/>
                        <a:pt x="445800" y="924908"/>
                        <a:pt x="437322" y="1004037"/>
                      </a:cubicBezTo>
                      <a:cubicBezTo>
                        <a:pt x="435744" y="1018769"/>
                        <a:pt x="423280" y="1030175"/>
                        <a:pt x="417443" y="1043793"/>
                      </a:cubicBezTo>
                      <a:cubicBezTo>
                        <a:pt x="413316" y="1053422"/>
                        <a:pt x="412189" y="1064239"/>
                        <a:pt x="407504" y="1073610"/>
                      </a:cubicBezTo>
                      <a:cubicBezTo>
                        <a:pt x="400236" y="1088147"/>
                        <a:pt x="364566" y="1134175"/>
                        <a:pt x="357809" y="1143184"/>
                      </a:cubicBezTo>
                      <a:cubicBezTo>
                        <a:pt x="331534" y="1222012"/>
                        <a:pt x="371232" y="1117732"/>
                        <a:pt x="318052" y="1202819"/>
                      </a:cubicBezTo>
                      <a:cubicBezTo>
                        <a:pt x="308596" y="1217948"/>
                        <a:pt x="305420" y="1236211"/>
                        <a:pt x="298174" y="1252515"/>
                      </a:cubicBezTo>
                      <a:cubicBezTo>
                        <a:pt x="292157" y="1266054"/>
                        <a:pt x="284132" y="1278653"/>
                        <a:pt x="278296" y="1292271"/>
                      </a:cubicBezTo>
                      <a:cubicBezTo>
                        <a:pt x="274169" y="1301901"/>
                        <a:pt x="273042" y="1312718"/>
                        <a:pt x="268357" y="1322089"/>
                      </a:cubicBezTo>
                      <a:cubicBezTo>
                        <a:pt x="263015" y="1332773"/>
                        <a:pt x="254405" y="1341535"/>
                        <a:pt x="248478" y="1351906"/>
                      </a:cubicBezTo>
                      <a:cubicBezTo>
                        <a:pt x="241127" y="1364770"/>
                        <a:pt x="234436" y="1378044"/>
                        <a:pt x="228600" y="1391663"/>
                      </a:cubicBezTo>
                      <a:cubicBezTo>
                        <a:pt x="224473" y="1401293"/>
                        <a:pt x="224472" y="1412763"/>
                        <a:pt x="218661" y="1421480"/>
                      </a:cubicBezTo>
                      <a:cubicBezTo>
                        <a:pt x="210864" y="1433175"/>
                        <a:pt x="198782" y="1441358"/>
                        <a:pt x="188843" y="1451297"/>
                      </a:cubicBezTo>
                      <a:cubicBezTo>
                        <a:pt x="174622" y="1493962"/>
                        <a:pt x="171023" y="1514129"/>
                        <a:pt x="149087" y="1550689"/>
                      </a:cubicBezTo>
                      <a:cubicBezTo>
                        <a:pt x="136795" y="1571175"/>
                        <a:pt x="109330" y="1610324"/>
                        <a:pt x="109330" y="1610324"/>
                      </a:cubicBezTo>
                      <a:cubicBezTo>
                        <a:pt x="106017" y="1626889"/>
                        <a:pt x="106946" y="1644909"/>
                        <a:pt x="99391" y="1660019"/>
                      </a:cubicBezTo>
                      <a:cubicBezTo>
                        <a:pt x="53203" y="1752395"/>
                        <a:pt x="80699" y="1635397"/>
                        <a:pt x="59635" y="1719654"/>
                      </a:cubicBezTo>
                      <a:cubicBezTo>
                        <a:pt x="55538" y="1736043"/>
                        <a:pt x="54141" y="1753052"/>
                        <a:pt x="49696" y="1769350"/>
                      </a:cubicBezTo>
                      <a:cubicBezTo>
                        <a:pt x="44183" y="1789565"/>
                        <a:pt x="36443" y="1809106"/>
                        <a:pt x="29817" y="1828984"/>
                      </a:cubicBezTo>
                      <a:cubicBezTo>
                        <a:pt x="26504" y="1838923"/>
                        <a:pt x="21933" y="1848529"/>
                        <a:pt x="19878" y="1858802"/>
                      </a:cubicBezTo>
                      <a:cubicBezTo>
                        <a:pt x="7884" y="1918770"/>
                        <a:pt x="15281" y="1892471"/>
                        <a:pt x="0" y="1938315"/>
                      </a:cubicBezTo>
                      <a:cubicBezTo>
                        <a:pt x="3313" y="1994637"/>
                        <a:pt x="4590" y="2051115"/>
                        <a:pt x="9939" y="2107280"/>
                      </a:cubicBezTo>
                      <a:cubicBezTo>
                        <a:pt x="11234" y="2120879"/>
                        <a:pt x="14497" y="2134481"/>
                        <a:pt x="19878" y="2147037"/>
                      </a:cubicBezTo>
                      <a:cubicBezTo>
                        <a:pt x="24584" y="2158017"/>
                        <a:pt x="33131" y="2166915"/>
                        <a:pt x="39757" y="2176854"/>
                      </a:cubicBezTo>
                      <a:cubicBezTo>
                        <a:pt x="63587" y="2248344"/>
                        <a:pt x="34675" y="2159067"/>
                        <a:pt x="59635" y="2246428"/>
                      </a:cubicBezTo>
                      <a:cubicBezTo>
                        <a:pt x="62513" y="2256502"/>
                        <a:pt x="66696" y="2266171"/>
                        <a:pt x="69574" y="2276245"/>
                      </a:cubicBezTo>
                      <a:cubicBezTo>
                        <a:pt x="73327" y="2289380"/>
                        <a:pt x="74132" y="2303446"/>
                        <a:pt x="79513" y="2316002"/>
                      </a:cubicBezTo>
                      <a:cubicBezTo>
                        <a:pt x="84218" y="2326981"/>
                        <a:pt x="93464" y="2335448"/>
                        <a:pt x="99391" y="2345819"/>
                      </a:cubicBezTo>
                      <a:cubicBezTo>
                        <a:pt x="106742" y="2358683"/>
                        <a:pt x="111647" y="2372871"/>
                        <a:pt x="119270" y="2385576"/>
                      </a:cubicBezTo>
                      <a:cubicBezTo>
                        <a:pt x="131562" y="2406062"/>
                        <a:pt x="142133" y="2428317"/>
                        <a:pt x="159026" y="2445210"/>
                      </a:cubicBezTo>
                      <a:lnTo>
                        <a:pt x="198783" y="2484967"/>
                      </a:lnTo>
                      <a:cubicBezTo>
                        <a:pt x="304800" y="2481654"/>
                        <a:pt x="411095" y="2483376"/>
                        <a:pt x="516835" y="2475028"/>
                      </a:cubicBezTo>
                      <a:cubicBezTo>
                        <a:pt x="537724" y="2473379"/>
                        <a:pt x="576470" y="2455150"/>
                        <a:pt x="576470" y="2455150"/>
                      </a:cubicBezTo>
                      <a:cubicBezTo>
                        <a:pt x="647994" y="2407465"/>
                        <a:pt x="559932" y="2474990"/>
                        <a:pt x="626165" y="2375637"/>
                      </a:cubicBezTo>
                      <a:cubicBezTo>
                        <a:pt x="632791" y="2365698"/>
                        <a:pt x="638581" y="2355147"/>
                        <a:pt x="646043" y="2345819"/>
                      </a:cubicBezTo>
                      <a:cubicBezTo>
                        <a:pt x="702699" y="2275000"/>
                        <a:pt x="624611" y="2387907"/>
                        <a:pt x="685800" y="2296124"/>
                      </a:cubicBezTo>
                      <a:cubicBezTo>
                        <a:pt x="687657" y="2288698"/>
                        <a:pt x="699567" y="2236735"/>
                        <a:pt x="705678" y="2226550"/>
                      </a:cubicBezTo>
                      <a:cubicBezTo>
                        <a:pt x="710499" y="2218514"/>
                        <a:pt x="719703" y="2213989"/>
                        <a:pt x="725557" y="2206671"/>
                      </a:cubicBezTo>
                      <a:cubicBezTo>
                        <a:pt x="763534" y="2159200"/>
                        <a:pt x="730881" y="2196024"/>
                        <a:pt x="755374" y="2147037"/>
                      </a:cubicBezTo>
                      <a:cubicBezTo>
                        <a:pt x="784412" y="2088959"/>
                        <a:pt x="768537" y="2145691"/>
                        <a:pt x="785191" y="2087402"/>
                      </a:cubicBezTo>
                      <a:cubicBezTo>
                        <a:pt x="795993" y="2049596"/>
                        <a:pt x="793735" y="2014982"/>
                        <a:pt x="844826" y="1997950"/>
                      </a:cubicBezTo>
                      <a:cubicBezTo>
                        <a:pt x="915623" y="1974349"/>
                        <a:pt x="864197" y="1988814"/>
                        <a:pt x="1003852" y="1978071"/>
                      </a:cubicBezTo>
                      <a:cubicBezTo>
                        <a:pt x="1013791" y="1971445"/>
                        <a:pt x="1022986" y="1963535"/>
                        <a:pt x="1033670" y="1958193"/>
                      </a:cubicBezTo>
                      <a:cubicBezTo>
                        <a:pt x="1043041" y="1953508"/>
                        <a:pt x="1055106" y="1954540"/>
                        <a:pt x="1063487" y="1948254"/>
                      </a:cubicBezTo>
                      <a:cubicBezTo>
                        <a:pt x="1102249" y="1919182"/>
                        <a:pt x="1110070" y="1903227"/>
                        <a:pt x="1133061" y="1868741"/>
                      </a:cubicBezTo>
                      <a:cubicBezTo>
                        <a:pt x="1136210" y="1840400"/>
                        <a:pt x="1136288" y="1782773"/>
                        <a:pt x="1152939" y="1749471"/>
                      </a:cubicBezTo>
                      <a:cubicBezTo>
                        <a:pt x="1160764" y="1733820"/>
                        <a:pt x="1177903" y="1710871"/>
                        <a:pt x="1192696" y="1699776"/>
                      </a:cubicBezTo>
                      <a:cubicBezTo>
                        <a:pt x="1211808" y="1685442"/>
                        <a:pt x="1235437" y="1676912"/>
                        <a:pt x="1252330" y="1660019"/>
                      </a:cubicBezTo>
                      <a:cubicBezTo>
                        <a:pt x="1268895" y="1643454"/>
                        <a:pt x="1282534" y="1623319"/>
                        <a:pt x="1302026" y="1610324"/>
                      </a:cubicBezTo>
                      <a:lnTo>
                        <a:pt x="1361661" y="1570567"/>
                      </a:lnTo>
                      <a:cubicBezTo>
                        <a:pt x="1371600" y="1563941"/>
                        <a:pt x="1383031" y="1559136"/>
                        <a:pt x="1391478" y="1550689"/>
                      </a:cubicBezTo>
                      <a:cubicBezTo>
                        <a:pt x="1398104" y="1544063"/>
                        <a:pt x="1402975" y="1535001"/>
                        <a:pt x="1411357" y="1530810"/>
                      </a:cubicBezTo>
                      <a:cubicBezTo>
                        <a:pt x="1435555" y="1518711"/>
                        <a:pt x="1482214" y="1508126"/>
                        <a:pt x="1510748" y="1500993"/>
                      </a:cubicBezTo>
                      <a:cubicBezTo>
                        <a:pt x="1530626" y="1487741"/>
                        <a:pt x="1562828" y="1483902"/>
                        <a:pt x="1570383" y="1461237"/>
                      </a:cubicBezTo>
                      <a:cubicBezTo>
                        <a:pt x="1573696" y="1451298"/>
                        <a:pt x="1572914" y="1438827"/>
                        <a:pt x="1580322" y="1431419"/>
                      </a:cubicBezTo>
                      <a:cubicBezTo>
                        <a:pt x="1597215" y="1414526"/>
                        <a:pt x="1639957" y="1391663"/>
                        <a:pt x="1639957" y="1391663"/>
                      </a:cubicBezTo>
                      <a:cubicBezTo>
                        <a:pt x="1636644" y="1358532"/>
                        <a:pt x="1635080" y="1325180"/>
                        <a:pt x="1630017" y="1292271"/>
                      </a:cubicBezTo>
                      <a:cubicBezTo>
                        <a:pt x="1628424" y="1281916"/>
                        <a:pt x="1626364" y="1270835"/>
                        <a:pt x="1620078" y="1262454"/>
                      </a:cubicBezTo>
                      <a:cubicBezTo>
                        <a:pt x="1586782" y="1218059"/>
                        <a:pt x="1555923" y="1203118"/>
                        <a:pt x="1510748" y="1173002"/>
                      </a:cubicBezTo>
                      <a:cubicBezTo>
                        <a:pt x="1500809" y="1166376"/>
                        <a:pt x="1489377" y="1161571"/>
                        <a:pt x="1480930" y="1153124"/>
                      </a:cubicBezTo>
                      <a:lnTo>
                        <a:pt x="1461052" y="1133245"/>
                      </a:lnTo>
                      <a:cubicBezTo>
                        <a:pt x="1473590" y="1032938"/>
                        <a:pt x="1462544" y="1079073"/>
                        <a:pt x="1490870" y="994097"/>
                      </a:cubicBezTo>
                      <a:lnTo>
                        <a:pt x="1500809" y="964280"/>
                      </a:lnTo>
                      <a:cubicBezTo>
                        <a:pt x="1497496" y="937776"/>
                        <a:pt x="1495648" y="911047"/>
                        <a:pt x="1490870" y="884767"/>
                      </a:cubicBezTo>
                      <a:cubicBezTo>
                        <a:pt x="1488996" y="874459"/>
                        <a:pt x="1489647" y="860761"/>
                        <a:pt x="1480930" y="854950"/>
                      </a:cubicBezTo>
                      <a:cubicBezTo>
                        <a:pt x="1466874" y="845579"/>
                        <a:pt x="1447800" y="848323"/>
                        <a:pt x="1431235" y="845010"/>
                      </a:cubicBezTo>
                      <a:cubicBezTo>
                        <a:pt x="1441174" y="838384"/>
                        <a:pt x="1454426" y="835071"/>
                        <a:pt x="1461052" y="825132"/>
                      </a:cubicBezTo>
                      <a:cubicBezTo>
                        <a:pt x="1468629" y="813766"/>
                        <a:pt x="1465610" y="797931"/>
                        <a:pt x="1470991" y="785376"/>
                      </a:cubicBezTo>
                      <a:cubicBezTo>
                        <a:pt x="1475697" y="774396"/>
                        <a:pt x="1484244" y="765497"/>
                        <a:pt x="1490870" y="755558"/>
                      </a:cubicBezTo>
                      <a:cubicBezTo>
                        <a:pt x="1494183" y="745619"/>
                        <a:pt x="1502532" y="736075"/>
                        <a:pt x="1500809" y="725741"/>
                      </a:cubicBezTo>
                      <a:cubicBezTo>
                        <a:pt x="1495520" y="694008"/>
                        <a:pt x="1474369" y="693737"/>
                        <a:pt x="1451113" y="685984"/>
                      </a:cubicBezTo>
                      <a:cubicBezTo>
                        <a:pt x="1431235" y="659480"/>
                        <a:pt x="1414905" y="629898"/>
                        <a:pt x="1391478" y="606471"/>
                      </a:cubicBezTo>
                      <a:cubicBezTo>
                        <a:pt x="1353214" y="568207"/>
                        <a:pt x="1369458" y="588349"/>
                        <a:pt x="1341783" y="546837"/>
                      </a:cubicBezTo>
                      <a:cubicBezTo>
                        <a:pt x="1364974" y="477263"/>
                        <a:pt x="1341783" y="493828"/>
                        <a:pt x="1391478" y="477263"/>
                      </a:cubicBezTo>
                      <a:cubicBezTo>
                        <a:pt x="1423970" y="379784"/>
                        <a:pt x="1371292" y="517480"/>
                        <a:pt x="1431235" y="427567"/>
                      </a:cubicBezTo>
                      <a:cubicBezTo>
                        <a:pt x="1438812" y="416201"/>
                        <a:pt x="1437421" y="400945"/>
                        <a:pt x="1441174" y="387810"/>
                      </a:cubicBezTo>
                      <a:cubicBezTo>
                        <a:pt x="1451461" y="351805"/>
                        <a:pt x="1449212" y="360845"/>
                        <a:pt x="1470991" y="328176"/>
                      </a:cubicBezTo>
                      <a:cubicBezTo>
                        <a:pt x="1477617" y="301672"/>
                        <a:pt x="1468138" y="263818"/>
                        <a:pt x="1490870" y="248663"/>
                      </a:cubicBezTo>
                      <a:lnTo>
                        <a:pt x="1550504" y="208906"/>
                      </a:lnTo>
                      <a:cubicBezTo>
                        <a:pt x="1557130" y="198967"/>
                        <a:pt x="1562921" y="188417"/>
                        <a:pt x="1570383" y="179089"/>
                      </a:cubicBezTo>
                      <a:cubicBezTo>
                        <a:pt x="1576237" y="171772"/>
                        <a:pt x="1586570" y="167823"/>
                        <a:pt x="1590261" y="159210"/>
                      </a:cubicBezTo>
                      <a:cubicBezTo>
                        <a:pt x="1596915" y="143683"/>
                        <a:pt x="1596887" y="126080"/>
                        <a:pt x="1600200" y="109515"/>
                      </a:cubicBezTo>
                      <a:cubicBezTo>
                        <a:pt x="1596887" y="86324"/>
                        <a:pt x="1602677" y="59807"/>
                        <a:pt x="1590261" y="39941"/>
                      </a:cubicBezTo>
                      <a:cubicBezTo>
                        <a:pt x="1583021" y="28357"/>
                        <a:pt x="1563060" y="35383"/>
                        <a:pt x="1550504" y="30002"/>
                      </a:cubicBezTo>
                      <a:cubicBezTo>
                        <a:pt x="1466662" y="-5930"/>
                        <a:pt x="1605941" y="4581"/>
                        <a:pt x="1421296" y="184"/>
                      </a:cubicBezTo>
                      <a:cubicBezTo>
                        <a:pt x="1315308" y="-2340"/>
                        <a:pt x="1181100" y="21719"/>
                        <a:pt x="1123122" y="30002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32" name=""/>
                <p:cNvGrpSpPr/>
                <p:nvPr/>
              </p:nvGrpSpPr>
              <p:grpSpPr>
                <a:xfrm>
                  <a:off x="-1541880" y="2926080"/>
                  <a:ext cx="804600" cy="620640"/>
                  <a:chOff x="-1541880" y="2926080"/>
                  <a:chExt cx="804600" cy="620640"/>
                </a:xfrm>
              </p:grpSpPr>
              <p:sp>
                <p:nvSpPr>
                  <p:cNvPr id="633" name="任意多边形 109"/>
                  <p:cNvSpPr/>
                  <p:nvPr/>
                </p:nvSpPr>
                <p:spPr>
                  <a:xfrm flipH="1" rot="1959000">
                    <a:off x="-1549800" y="3130560"/>
                    <a:ext cx="820080" cy="211680"/>
                  </a:xfrm>
                  <a:custGeom>
                    <a:avLst/>
                    <a:gdLst>
                      <a:gd name="textAreaLeft" fmla="*/ -360 w 820080"/>
                      <a:gd name="textAreaRight" fmla="*/ 820080 w 820080"/>
                      <a:gd name="textAreaTop" fmla="*/ 0 h 211680"/>
                      <a:gd name="textAreaBottom" fmla="*/ 212040 h 211680"/>
                    </a:gdLst>
                    <a:ahLst/>
                    <a:rect l="textAreaLeft" t="textAreaTop" r="textAreaRight" b="textAreaBottom"/>
                    <a:pathLst>
                      <a:path w="2065867" h="4030133">
                        <a:moveTo>
                          <a:pt x="270933" y="677333"/>
                        </a:moveTo>
                        <a:cubicBezTo>
                          <a:pt x="259644" y="733778"/>
                          <a:pt x="257278" y="792770"/>
                          <a:pt x="237067" y="846667"/>
                        </a:cubicBezTo>
                        <a:cubicBezTo>
                          <a:pt x="222775" y="884778"/>
                          <a:pt x="187536" y="911861"/>
                          <a:pt x="169333" y="948267"/>
                        </a:cubicBezTo>
                        <a:cubicBezTo>
                          <a:pt x="153368" y="980197"/>
                          <a:pt x="146756" y="1016000"/>
                          <a:pt x="135467" y="1049867"/>
                        </a:cubicBezTo>
                        <a:cubicBezTo>
                          <a:pt x="124178" y="1128889"/>
                          <a:pt x="124537" y="1210475"/>
                          <a:pt x="101600" y="1286933"/>
                        </a:cubicBezTo>
                        <a:cubicBezTo>
                          <a:pt x="89904" y="1325919"/>
                          <a:pt x="52070" y="1352127"/>
                          <a:pt x="33867" y="1388533"/>
                        </a:cubicBezTo>
                        <a:cubicBezTo>
                          <a:pt x="17902" y="1420463"/>
                          <a:pt x="11289" y="1456266"/>
                          <a:pt x="0" y="1490133"/>
                        </a:cubicBezTo>
                        <a:cubicBezTo>
                          <a:pt x="11289" y="1648178"/>
                          <a:pt x="6331" y="1808231"/>
                          <a:pt x="33867" y="1964267"/>
                        </a:cubicBezTo>
                        <a:cubicBezTo>
                          <a:pt x="40941" y="2004350"/>
                          <a:pt x="77942" y="2032746"/>
                          <a:pt x="101600" y="2065867"/>
                        </a:cubicBezTo>
                        <a:cubicBezTo>
                          <a:pt x="134408" y="2111798"/>
                          <a:pt x="167065" y="2157971"/>
                          <a:pt x="203200" y="2201333"/>
                        </a:cubicBezTo>
                        <a:cubicBezTo>
                          <a:pt x="223641" y="2225862"/>
                          <a:pt x="253221" y="2242500"/>
                          <a:pt x="270933" y="2269067"/>
                        </a:cubicBezTo>
                        <a:cubicBezTo>
                          <a:pt x="298937" y="2311073"/>
                          <a:pt x="313619" y="2360700"/>
                          <a:pt x="338667" y="2404533"/>
                        </a:cubicBezTo>
                        <a:cubicBezTo>
                          <a:pt x="443708" y="2588354"/>
                          <a:pt x="378175" y="2421458"/>
                          <a:pt x="440267" y="2607733"/>
                        </a:cubicBezTo>
                        <a:cubicBezTo>
                          <a:pt x="451556" y="2686755"/>
                          <a:pt x="448890" y="2769072"/>
                          <a:pt x="474133" y="2844800"/>
                        </a:cubicBezTo>
                        <a:cubicBezTo>
                          <a:pt x="484230" y="2875091"/>
                          <a:pt x="525439" y="2885153"/>
                          <a:pt x="541867" y="2912533"/>
                        </a:cubicBezTo>
                        <a:cubicBezTo>
                          <a:pt x="692110" y="3162937"/>
                          <a:pt x="437916" y="2858793"/>
                          <a:pt x="643467" y="3115733"/>
                        </a:cubicBezTo>
                        <a:cubicBezTo>
                          <a:pt x="663413" y="3140666"/>
                          <a:pt x="691254" y="3158534"/>
                          <a:pt x="711200" y="3183467"/>
                        </a:cubicBezTo>
                        <a:cubicBezTo>
                          <a:pt x="736627" y="3215251"/>
                          <a:pt x="752130" y="3254435"/>
                          <a:pt x="778933" y="3285067"/>
                        </a:cubicBezTo>
                        <a:cubicBezTo>
                          <a:pt x="831498" y="3345141"/>
                          <a:pt x="900372" y="3390540"/>
                          <a:pt x="948267" y="3454400"/>
                        </a:cubicBezTo>
                        <a:cubicBezTo>
                          <a:pt x="982134" y="3499556"/>
                          <a:pt x="1019951" y="3542002"/>
                          <a:pt x="1049867" y="3589867"/>
                        </a:cubicBezTo>
                        <a:cubicBezTo>
                          <a:pt x="1076624" y="3632678"/>
                          <a:pt x="1089596" y="3683327"/>
                          <a:pt x="1117600" y="3725333"/>
                        </a:cubicBezTo>
                        <a:cubicBezTo>
                          <a:pt x="1164328" y="3795425"/>
                          <a:pt x="1222230" y="3809038"/>
                          <a:pt x="1286933" y="3860800"/>
                        </a:cubicBezTo>
                        <a:cubicBezTo>
                          <a:pt x="1311866" y="3880746"/>
                          <a:pt x="1328100" y="3910821"/>
                          <a:pt x="1354667" y="3928533"/>
                        </a:cubicBezTo>
                        <a:cubicBezTo>
                          <a:pt x="1438370" y="3984335"/>
                          <a:pt x="1501418" y="4000029"/>
                          <a:pt x="1591733" y="4030133"/>
                        </a:cubicBezTo>
                        <a:cubicBezTo>
                          <a:pt x="1670755" y="4018844"/>
                          <a:pt x="1753072" y="4021510"/>
                          <a:pt x="1828800" y="3996267"/>
                        </a:cubicBezTo>
                        <a:cubicBezTo>
                          <a:pt x="1947678" y="3956641"/>
                          <a:pt x="1962781" y="3628192"/>
                          <a:pt x="1964267" y="3623733"/>
                        </a:cubicBezTo>
                        <a:cubicBezTo>
                          <a:pt x="1977138" y="3585119"/>
                          <a:pt x="2013797" y="3558539"/>
                          <a:pt x="2032000" y="3522133"/>
                        </a:cubicBezTo>
                        <a:cubicBezTo>
                          <a:pt x="2047965" y="3490203"/>
                          <a:pt x="2054578" y="3454400"/>
                          <a:pt x="2065867" y="3420533"/>
                        </a:cubicBezTo>
                        <a:cubicBezTo>
                          <a:pt x="2054578" y="3318933"/>
                          <a:pt x="2052048" y="3215973"/>
                          <a:pt x="2032000" y="3115733"/>
                        </a:cubicBezTo>
                        <a:cubicBezTo>
                          <a:pt x="2017998" y="3045722"/>
                          <a:pt x="1964267" y="2912533"/>
                          <a:pt x="1964267" y="2912533"/>
                        </a:cubicBezTo>
                        <a:cubicBezTo>
                          <a:pt x="2045473" y="2668911"/>
                          <a:pt x="1946942" y="2973167"/>
                          <a:pt x="2032000" y="2675467"/>
                        </a:cubicBezTo>
                        <a:cubicBezTo>
                          <a:pt x="2041807" y="2641142"/>
                          <a:pt x="2054578" y="2607734"/>
                          <a:pt x="2065867" y="2573867"/>
                        </a:cubicBezTo>
                        <a:cubicBezTo>
                          <a:pt x="1988036" y="2340376"/>
                          <a:pt x="2048618" y="2421153"/>
                          <a:pt x="1930400" y="2302933"/>
                        </a:cubicBezTo>
                        <a:cubicBezTo>
                          <a:pt x="1919111" y="2257778"/>
                          <a:pt x="1909320" y="2212221"/>
                          <a:pt x="1896533" y="2167467"/>
                        </a:cubicBezTo>
                        <a:cubicBezTo>
                          <a:pt x="1886726" y="2133142"/>
                          <a:pt x="1868536" y="2101080"/>
                          <a:pt x="1862667" y="2065867"/>
                        </a:cubicBezTo>
                        <a:cubicBezTo>
                          <a:pt x="1846052" y="1966175"/>
                          <a:pt x="1835554" y="1713597"/>
                          <a:pt x="1794933" y="1591733"/>
                        </a:cubicBezTo>
                        <a:cubicBezTo>
                          <a:pt x="1778968" y="1543839"/>
                          <a:pt x="1753174" y="1499558"/>
                          <a:pt x="1727200" y="1456267"/>
                        </a:cubicBezTo>
                        <a:cubicBezTo>
                          <a:pt x="1685317" y="1386462"/>
                          <a:pt x="1591733" y="1253067"/>
                          <a:pt x="1591733" y="1253067"/>
                        </a:cubicBezTo>
                        <a:cubicBezTo>
                          <a:pt x="1555962" y="1145753"/>
                          <a:pt x="1565165" y="1143657"/>
                          <a:pt x="1490133" y="1049867"/>
                        </a:cubicBezTo>
                        <a:cubicBezTo>
                          <a:pt x="1470187" y="1024934"/>
                          <a:pt x="1442346" y="1007066"/>
                          <a:pt x="1422400" y="982133"/>
                        </a:cubicBezTo>
                        <a:cubicBezTo>
                          <a:pt x="1396973" y="950349"/>
                          <a:pt x="1380094" y="912316"/>
                          <a:pt x="1354667" y="880533"/>
                        </a:cubicBezTo>
                        <a:cubicBezTo>
                          <a:pt x="1334721" y="855600"/>
                          <a:pt x="1306879" y="837733"/>
                          <a:pt x="1286933" y="812800"/>
                        </a:cubicBezTo>
                        <a:cubicBezTo>
                          <a:pt x="1261506" y="781017"/>
                          <a:pt x="1246241" y="741622"/>
                          <a:pt x="1219200" y="711200"/>
                        </a:cubicBezTo>
                        <a:cubicBezTo>
                          <a:pt x="1155561" y="639606"/>
                          <a:pt x="1095702" y="561134"/>
                          <a:pt x="1016000" y="508000"/>
                        </a:cubicBezTo>
                        <a:cubicBezTo>
                          <a:pt x="887833" y="422556"/>
                          <a:pt x="943181" y="469048"/>
                          <a:pt x="846667" y="372533"/>
                        </a:cubicBezTo>
                        <a:cubicBezTo>
                          <a:pt x="835378" y="338666"/>
                          <a:pt x="832602" y="300636"/>
                          <a:pt x="812800" y="270933"/>
                        </a:cubicBezTo>
                        <a:cubicBezTo>
                          <a:pt x="786233" y="231082"/>
                          <a:pt x="749006" y="198737"/>
                          <a:pt x="711200" y="169333"/>
                        </a:cubicBezTo>
                        <a:cubicBezTo>
                          <a:pt x="536524" y="33474"/>
                          <a:pt x="559693" y="51098"/>
                          <a:pt x="406400" y="0"/>
                        </a:cubicBezTo>
                        <a:cubicBezTo>
                          <a:pt x="361244" y="11289"/>
                          <a:pt x="313715" y="15532"/>
                          <a:pt x="270933" y="33867"/>
                        </a:cubicBezTo>
                        <a:cubicBezTo>
                          <a:pt x="53886" y="126887"/>
                          <a:pt x="173770" y="228415"/>
                          <a:pt x="203200" y="508000"/>
                        </a:cubicBezTo>
                        <a:cubicBezTo>
                          <a:pt x="230238" y="764856"/>
                          <a:pt x="168958" y="711013"/>
                          <a:pt x="304800" y="778933"/>
                        </a:cubicBez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4" name="任意多边形 110"/>
                  <p:cNvSpPr/>
                  <p:nvPr/>
                </p:nvSpPr>
                <p:spPr>
                  <a:xfrm flipH="1" rot="3540600">
                    <a:off x="-1383120" y="3074760"/>
                    <a:ext cx="241560" cy="171360"/>
                  </a:xfrm>
                  <a:custGeom>
                    <a:avLst/>
                    <a:gdLst>
                      <a:gd name="textAreaLeft" fmla="*/ 360 w 241560"/>
                      <a:gd name="textAreaRight" fmla="*/ 242280 w 241560"/>
                      <a:gd name="textAreaTop" fmla="*/ 0 h 171360"/>
                      <a:gd name="textAreaBottom" fmla="*/ 171720 h 171360"/>
                    </a:gdLst>
                    <a:ahLst/>
                    <a:rect l="textAreaLeft" t="textAreaTop" r="textAreaRight" b="textAreaBottom"/>
                    <a:pathLst>
                      <a:path w="2065867" h="4030133">
                        <a:moveTo>
                          <a:pt x="270933" y="677333"/>
                        </a:moveTo>
                        <a:cubicBezTo>
                          <a:pt x="259644" y="733778"/>
                          <a:pt x="257278" y="792770"/>
                          <a:pt x="237067" y="846667"/>
                        </a:cubicBezTo>
                        <a:cubicBezTo>
                          <a:pt x="222775" y="884778"/>
                          <a:pt x="187536" y="911861"/>
                          <a:pt x="169333" y="948267"/>
                        </a:cubicBezTo>
                        <a:cubicBezTo>
                          <a:pt x="153368" y="980197"/>
                          <a:pt x="146756" y="1016000"/>
                          <a:pt x="135467" y="1049867"/>
                        </a:cubicBezTo>
                        <a:cubicBezTo>
                          <a:pt x="124178" y="1128889"/>
                          <a:pt x="124537" y="1210475"/>
                          <a:pt x="101600" y="1286933"/>
                        </a:cubicBezTo>
                        <a:cubicBezTo>
                          <a:pt x="89904" y="1325919"/>
                          <a:pt x="52070" y="1352127"/>
                          <a:pt x="33867" y="1388533"/>
                        </a:cubicBezTo>
                        <a:cubicBezTo>
                          <a:pt x="17902" y="1420463"/>
                          <a:pt x="11289" y="1456266"/>
                          <a:pt x="0" y="1490133"/>
                        </a:cubicBezTo>
                        <a:cubicBezTo>
                          <a:pt x="11289" y="1648178"/>
                          <a:pt x="6331" y="1808231"/>
                          <a:pt x="33867" y="1964267"/>
                        </a:cubicBezTo>
                        <a:cubicBezTo>
                          <a:pt x="40941" y="2004350"/>
                          <a:pt x="77942" y="2032746"/>
                          <a:pt x="101600" y="2065867"/>
                        </a:cubicBezTo>
                        <a:cubicBezTo>
                          <a:pt x="134408" y="2111798"/>
                          <a:pt x="167065" y="2157971"/>
                          <a:pt x="203200" y="2201333"/>
                        </a:cubicBezTo>
                        <a:cubicBezTo>
                          <a:pt x="223641" y="2225862"/>
                          <a:pt x="253221" y="2242500"/>
                          <a:pt x="270933" y="2269067"/>
                        </a:cubicBezTo>
                        <a:cubicBezTo>
                          <a:pt x="298937" y="2311073"/>
                          <a:pt x="313619" y="2360700"/>
                          <a:pt x="338667" y="2404533"/>
                        </a:cubicBezTo>
                        <a:cubicBezTo>
                          <a:pt x="443708" y="2588354"/>
                          <a:pt x="378175" y="2421458"/>
                          <a:pt x="440267" y="2607733"/>
                        </a:cubicBezTo>
                        <a:cubicBezTo>
                          <a:pt x="451556" y="2686755"/>
                          <a:pt x="448890" y="2769072"/>
                          <a:pt x="474133" y="2844800"/>
                        </a:cubicBezTo>
                        <a:cubicBezTo>
                          <a:pt x="484230" y="2875091"/>
                          <a:pt x="525439" y="2885153"/>
                          <a:pt x="541867" y="2912533"/>
                        </a:cubicBezTo>
                        <a:cubicBezTo>
                          <a:pt x="692110" y="3162937"/>
                          <a:pt x="437916" y="2858793"/>
                          <a:pt x="643467" y="3115733"/>
                        </a:cubicBezTo>
                        <a:cubicBezTo>
                          <a:pt x="663413" y="3140666"/>
                          <a:pt x="691254" y="3158534"/>
                          <a:pt x="711200" y="3183467"/>
                        </a:cubicBezTo>
                        <a:cubicBezTo>
                          <a:pt x="736627" y="3215251"/>
                          <a:pt x="752130" y="3254435"/>
                          <a:pt x="778933" y="3285067"/>
                        </a:cubicBezTo>
                        <a:cubicBezTo>
                          <a:pt x="831498" y="3345141"/>
                          <a:pt x="900372" y="3390540"/>
                          <a:pt x="948267" y="3454400"/>
                        </a:cubicBezTo>
                        <a:cubicBezTo>
                          <a:pt x="982134" y="3499556"/>
                          <a:pt x="1019951" y="3542002"/>
                          <a:pt x="1049867" y="3589867"/>
                        </a:cubicBezTo>
                        <a:cubicBezTo>
                          <a:pt x="1076624" y="3632678"/>
                          <a:pt x="1089596" y="3683327"/>
                          <a:pt x="1117600" y="3725333"/>
                        </a:cubicBezTo>
                        <a:cubicBezTo>
                          <a:pt x="1164328" y="3795425"/>
                          <a:pt x="1222230" y="3809038"/>
                          <a:pt x="1286933" y="3860800"/>
                        </a:cubicBezTo>
                        <a:cubicBezTo>
                          <a:pt x="1311866" y="3880746"/>
                          <a:pt x="1328100" y="3910821"/>
                          <a:pt x="1354667" y="3928533"/>
                        </a:cubicBezTo>
                        <a:cubicBezTo>
                          <a:pt x="1438370" y="3984335"/>
                          <a:pt x="1501418" y="4000029"/>
                          <a:pt x="1591733" y="4030133"/>
                        </a:cubicBezTo>
                        <a:cubicBezTo>
                          <a:pt x="1670755" y="4018844"/>
                          <a:pt x="1753072" y="4021510"/>
                          <a:pt x="1828800" y="3996267"/>
                        </a:cubicBezTo>
                        <a:cubicBezTo>
                          <a:pt x="1947678" y="3956641"/>
                          <a:pt x="1962781" y="3628192"/>
                          <a:pt x="1964267" y="3623733"/>
                        </a:cubicBezTo>
                        <a:cubicBezTo>
                          <a:pt x="1977138" y="3585119"/>
                          <a:pt x="2013797" y="3558539"/>
                          <a:pt x="2032000" y="3522133"/>
                        </a:cubicBezTo>
                        <a:cubicBezTo>
                          <a:pt x="2047965" y="3490203"/>
                          <a:pt x="2054578" y="3454400"/>
                          <a:pt x="2065867" y="3420533"/>
                        </a:cubicBezTo>
                        <a:cubicBezTo>
                          <a:pt x="2054578" y="3318933"/>
                          <a:pt x="2052048" y="3215973"/>
                          <a:pt x="2032000" y="3115733"/>
                        </a:cubicBezTo>
                        <a:cubicBezTo>
                          <a:pt x="2017998" y="3045722"/>
                          <a:pt x="1964267" y="2912533"/>
                          <a:pt x="1964267" y="2912533"/>
                        </a:cubicBezTo>
                        <a:cubicBezTo>
                          <a:pt x="2045473" y="2668911"/>
                          <a:pt x="1946942" y="2973167"/>
                          <a:pt x="2032000" y="2675467"/>
                        </a:cubicBezTo>
                        <a:cubicBezTo>
                          <a:pt x="2041807" y="2641142"/>
                          <a:pt x="2054578" y="2607734"/>
                          <a:pt x="2065867" y="2573867"/>
                        </a:cubicBezTo>
                        <a:cubicBezTo>
                          <a:pt x="1988036" y="2340376"/>
                          <a:pt x="2048618" y="2421153"/>
                          <a:pt x="1930400" y="2302933"/>
                        </a:cubicBezTo>
                        <a:cubicBezTo>
                          <a:pt x="1919111" y="2257778"/>
                          <a:pt x="1909320" y="2212221"/>
                          <a:pt x="1896533" y="2167467"/>
                        </a:cubicBezTo>
                        <a:cubicBezTo>
                          <a:pt x="1886726" y="2133142"/>
                          <a:pt x="1868536" y="2101080"/>
                          <a:pt x="1862667" y="2065867"/>
                        </a:cubicBezTo>
                        <a:cubicBezTo>
                          <a:pt x="1846052" y="1966175"/>
                          <a:pt x="1835554" y="1713597"/>
                          <a:pt x="1794933" y="1591733"/>
                        </a:cubicBezTo>
                        <a:cubicBezTo>
                          <a:pt x="1778968" y="1543839"/>
                          <a:pt x="1753174" y="1499558"/>
                          <a:pt x="1727200" y="1456267"/>
                        </a:cubicBezTo>
                        <a:cubicBezTo>
                          <a:pt x="1685317" y="1386462"/>
                          <a:pt x="1591733" y="1253067"/>
                          <a:pt x="1591733" y="1253067"/>
                        </a:cubicBezTo>
                        <a:cubicBezTo>
                          <a:pt x="1555962" y="1145753"/>
                          <a:pt x="1565165" y="1143657"/>
                          <a:pt x="1490133" y="1049867"/>
                        </a:cubicBezTo>
                        <a:cubicBezTo>
                          <a:pt x="1470187" y="1024934"/>
                          <a:pt x="1442346" y="1007066"/>
                          <a:pt x="1422400" y="982133"/>
                        </a:cubicBezTo>
                        <a:cubicBezTo>
                          <a:pt x="1396973" y="950349"/>
                          <a:pt x="1380094" y="912316"/>
                          <a:pt x="1354667" y="880533"/>
                        </a:cubicBezTo>
                        <a:cubicBezTo>
                          <a:pt x="1334721" y="855600"/>
                          <a:pt x="1306879" y="837733"/>
                          <a:pt x="1286933" y="812800"/>
                        </a:cubicBezTo>
                        <a:cubicBezTo>
                          <a:pt x="1261506" y="781017"/>
                          <a:pt x="1246241" y="741622"/>
                          <a:pt x="1219200" y="711200"/>
                        </a:cubicBezTo>
                        <a:cubicBezTo>
                          <a:pt x="1155561" y="639606"/>
                          <a:pt x="1095702" y="561134"/>
                          <a:pt x="1016000" y="508000"/>
                        </a:cubicBezTo>
                        <a:cubicBezTo>
                          <a:pt x="887833" y="422556"/>
                          <a:pt x="943181" y="469048"/>
                          <a:pt x="846667" y="372533"/>
                        </a:cubicBezTo>
                        <a:cubicBezTo>
                          <a:pt x="835378" y="338666"/>
                          <a:pt x="832602" y="300636"/>
                          <a:pt x="812800" y="270933"/>
                        </a:cubicBezTo>
                        <a:cubicBezTo>
                          <a:pt x="786233" y="231082"/>
                          <a:pt x="749006" y="198737"/>
                          <a:pt x="711200" y="169333"/>
                        </a:cubicBezTo>
                        <a:cubicBezTo>
                          <a:pt x="536524" y="33474"/>
                          <a:pt x="559693" y="51098"/>
                          <a:pt x="406400" y="0"/>
                        </a:cubicBezTo>
                        <a:cubicBezTo>
                          <a:pt x="361244" y="11289"/>
                          <a:pt x="313715" y="15532"/>
                          <a:pt x="270933" y="33867"/>
                        </a:cubicBezTo>
                        <a:cubicBezTo>
                          <a:pt x="53886" y="126887"/>
                          <a:pt x="173770" y="228415"/>
                          <a:pt x="203200" y="508000"/>
                        </a:cubicBezTo>
                        <a:cubicBezTo>
                          <a:pt x="230238" y="764856"/>
                          <a:pt x="168958" y="711013"/>
                          <a:pt x="304800" y="778933"/>
                        </a:cubicBezTo>
                      </a:path>
                    </a:pathLst>
                  </a:custGeom>
                  <a:solidFill>
                    <a:srgbClr val="f2f2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5" name="任意多边形 111"/>
                  <p:cNvSpPr/>
                  <p:nvPr/>
                </p:nvSpPr>
                <p:spPr>
                  <a:xfrm flipH="1" rot="4233600">
                    <a:off x="-1235520" y="3176640"/>
                    <a:ext cx="116640" cy="128880"/>
                  </a:xfrm>
                  <a:custGeom>
                    <a:avLst/>
                    <a:gdLst>
                      <a:gd name="textAreaLeft" fmla="*/ -360 w 116640"/>
                      <a:gd name="textAreaRight" fmla="*/ 116640 w 116640"/>
                      <a:gd name="textAreaTop" fmla="*/ 0 h 128880"/>
                      <a:gd name="textAreaBottom" fmla="*/ 129240 h 128880"/>
                    </a:gdLst>
                    <a:ahLst/>
                    <a:rect l="textAreaLeft" t="textAreaTop" r="textAreaRight" b="textAreaBottom"/>
                    <a:pathLst>
                      <a:path w="2065867" h="4030133">
                        <a:moveTo>
                          <a:pt x="270933" y="677333"/>
                        </a:moveTo>
                        <a:cubicBezTo>
                          <a:pt x="259644" y="733778"/>
                          <a:pt x="257278" y="792770"/>
                          <a:pt x="237067" y="846667"/>
                        </a:cubicBezTo>
                        <a:cubicBezTo>
                          <a:pt x="222775" y="884778"/>
                          <a:pt x="187536" y="911861"/>
                          <a:pt x="169333" y="948267"/>
                        </a:cubicBezTo>
                        <a:cubicBezTo>
                          <a:pt x="153368" y="980197"/>
                          <a:pt x="146756" y="1016000"/>
                          <a:pt x="135467" y="1049867"/>
                        </a:cubicBezTo>
                        <a:cubicBezTo>
                          <a:pt x="124178" y="1128889"/>
                          <a:pt x="124537" y="1210475"/>
                          <a:pt x="101600" y="1286933"/>
                        </a:cubicBezTo>
                        <a:cubicBezTo>
                          <a:pt x="89904" y="1325919"/>
                          <a:pt x="52070" y="1352127"/>
                          <a:pt x="33867" y="1388533"/>
                        </a:cubicBezTo>
                        <a:cubicBezTo>
                          <a:pt x="17902" y="1420463"/>
                          <a:pt x="11289" y="1456266"/>
                          <a:pt x="0" y="1490133"/>
                        </a:cubicBezTo>
                        <a:cubicBezTo>
                          <a:pt x="11289" y="1648178"/>
                          <a:pt x="6331" y="1808231"/>
                          <a:pt x="33867" y="1964267"/>
                        </a:cubicBezTo>
                        <a:cubicBezTo>
                          <a:pt x="40941" y="2004350"/>
                          <a:pt x="77942" y="2032746"/>
                          <a:pt x="101600" y="2065867"/>
                        </a:cubicBezTo>
                        <a:cubicBezTo>
                          <a:pt x="134408" y="2111798"/>
                          <a:pt x="167065" y="2157971"/>
                          <a:pt x="203200" y="2201333"/>
                        </a:cubicBezTo>
                        <a:cubicBezTo>
                          <a:pt x="223641" y="2225862"/>
                          <a:pt x="253221" y="2242500"/>
                          <a:pt x="270933" y="2269067"/>
                        </a:cubicBezTo>
                        <a:cubicBezTo>
                          <a:pt x="298937" y="2311073"/>
                          <a:pt x="313619" y="2360700"/>
                          <a:pt x="338667" y="2404533"/>
                        </a:cubicBezTo>
                        <a:cubicBezTo>
                          <a:pt x="443708" y="2588354"/>
                          <a:pt x="378175" y="2421458"/>
                          <a:pt x="440267" y="2607733"/>
                        </a:cubicBezTo>
                        <a:cubicBezTo>
                          <a:pt x="451556" y="2686755"/>
                          <a:pt x="448890" y="2769072"/>
                          <a:pt x="474133" y="2844800"/>
                        </a:cubicBezTo>
                        <a:cubicBezTo>
                          <a:pt x="484230" y="2875091"/>
                          <a:pt x="525439" y="2885153"/>
                          <a:pt x="541867" y="2912533"/>
                        </a:cubicBezTo>
                        <a:cubicBezTo>
                          <a:pt x="692110" y="3162937"/>
                          <a:pt x="437916" y="2858793"/>
                          <a:pt x="643467" y="3115733"/>
                        </a:cubicBezTo>
                        <a:cubicBezTo>
                          <a:pt x="663413" y="3140666"/>
                          <a:pt x="691254" y="3158534"/>
                          <a:pt x="711200" y="3183467"/>
                        </a:cubicBezTo>
                        <a:cubicBezTo>
                          <a:pt x="736627" y="3215251"/>
                          <a:pt x="752130" y="3254435"/>
                          <a:pt x="778933" y="3285067"/>
                        </a:cubicBezTo>
                        <a:cubicBezTo>
                          <a:pt x="831498" y="3345141"/>
                          <a:pt x="900372" y="3390540"/>
                          <a:pt x="948267" y="3454400"/>
                        </a:cubicBezTo>
                        <a:cubicBezTo>
                          <a:pt x="982134" y="3499556"/>
                          <a:pt x="1019951" y="3542002"/>
                          <a:pt x="1049867" y="3589867"/>
                        </a:cubicBezTo>
                        <a:cubicBezTo>
                          <a:pt x="1076624" y="3632678"/>
                          <a:pt x="1089596" y="3683327"/>
                          <a:pt x="1117600" y="3725333"/>
                        </a:cubicBezTo>
                        <a:cubicBezTo>
                          <a:pt x="1164328" y="3795425"/>
                          <a:pt x="1222230" y="3809038"/>
                          <a:pt x="1286933" y="3860800"/>
                        </a:cubicBezTo>
                        <a:cubicBezTo>
                          <a:pt x="1311866" y="3880746"/>
                          <a:pt x="1328100" y="3910821"/>
                          <a:pt x="1354667" y="3928533"/>
                        </a:cubicBezTo>
                        <a:cubicBezTo>
                          <a:pt x="1438370" y="3984335"/>
                          <a:pt x="1501418" y="4000029"/>
                          <a:pt x="1591733" y="4030133"/>
                        </a:cubicBezTo>
                        <a:cubicBezTo>
                          <a:pt x="1670755" y="4018844"/>
                          <a:pt x="1753072" y="4021510"/>
                          <a:pt x="1828800" y="3996267"/>
                        </a:cubicBezTo>
                        <a:cubicBezTo>
                          <a:pt x="1947678" y="3956641"/>
                          <a:pt x="1962781" y="3628192"/>
                          <a:pt x="1964267" y="3623733"/>
                        </a:cubicBezTo>
                        <a:cubicBezTo>
                          <a:pt x="1977138" y="3585119"/>
                          <a:pt x="2013797" y="3558539"/>
                          <a:pt x="2032000" y="3522133"/>
                        </a:cubicBezTo>
                        <a:cubicBezTo>
                          <a:pt x="2047965" y="3490203"/>
                          <a:pt x="2054578" y="3454400"/>
                          <a:pt x="2065867" y="3420533"/>
                        </a:cubicBezTo>
                        <a:cubicBezTo>
                          <a:pt x="2054578" y="3318933"/>
                          <a:pt x="2052048" y="3215973"/>
                          <a:pt x="2032000" y="3115733"/>
                        </a:cubicBezTo>
                        <a:cubicBezTo>
                          <a:pt x="2017998" y="3045722"/>
                          <a:pt x="1964267" y="2912533"/>
                          <a:pt x="1964267" y="2912533"/>
                        </a:cubicBezTo>
                        <a:cubicBezTo>
                          <a:pt x="2045473" y="2668911"/>
                          <a:pt x="1946942" y="2973167"/>
                          <a:pt x="2032000" y="2675467"/>
                        </a:cubicBezTo>
                        <a:cubicBezTo>
                          <a:pt x="2041807" y="2641142"/>
                          <a:pt x="2054578" y="2607734"/>
                          <a:pt x="2065867" y="2573867"/>
                        </a:cubicBezTo>
                        <a:cubicBezTo>
                          <a:pt x="1988036" y="2340376"/>
                          <a:pt x="2048618" y="2421153"/>
                          <a:pt x="1930400" y="2302933"/>
                        </a:cubicBezTo>
                        <a:cubicBezTo>
                          <a:pt x="1919111" y="2257778"/>
                          <a:pt x="1909320" y="2212221"/>
                          <a:pt x="1896533" y="2167467"/>
                        </a:cubicBezTo>
                        <a:cubicBezTo>
                          <a:pt x="1886726" y="2133142"/>
                          <a:pt x="1868536" y="2101080"/>
                          <a:pt x="1862667" y="2065867"/>
                        </a:cubicBezTo>
                        <a:cubicBezTo>
                          <a:pt x="1846052" y="1966175"/>
                          <a:pt x="1835554" y="1713597"/>
                          <a:pt x="1794933" y="1591733"/>
                        </a:cubicBezTo>
                        <a:cubicBezTo>
                          <a:pt x="1778968" y="1543839"/>
                          <a:pt x="1753174" y="1499558"/>
                          <a:pt x="1727200" y="1456267"/>
                        </a:cubicBezTo>
                        <a:cubicBezTo>
                          <a:pt x="1685317" y="1386462"/>
                          <a:pt x="1591733" y="1253067"/>
                          <a:pt x="1591733" y="1253067"/>
                        </a:cubicBezTo>
                        <a:cubicBezTo>
                          <a:pt x="1555962" y="1145753"/>
                          <a:pt x="1565165" y="1143657"/>
                          <a:pt x="1490133" y="1049867"/>
                        </a:cubicBezTo>
                        <a:cubicBezTo>
                          <a:pt x="1470187" y="1024934"/>
                          <a:pt x="1442346" y="1007066"/>
                          <a:pt x="1422400" y="982133"/>
                        </a:cubicBezTo>
                        <a:cubicBezTo>
                          <a:pt x="1396973" y="950349"/>
                          <a:pt x="1380094" y="912316"/>
                          <a:pt x="1354667" y="880533"/>
                        </a:cubicBezTo>
                        <a:cubicBezTo>
                          <a:pt x="1334721" y="855600"/>
                          <a:pt x="1306879" y="837733"/>
                          <a:pt x="1286933" y="812800"/>
                        </a:cubicBezTo>
                        <a:cubicBezTo>
                          <a:pt x="1261506" y="781017"/>
                          <a:pt x="1246241" y="741622"/>
                          <a:pt x="1219200" y="711200"/>
                        </a:cubicBezTo>
                        <a:cubicBezTo>
                          <a:pt x="1155561" y="639606"/>
                          <a:pt x="1095702" y="561134"/>
                          <a:pt x="1016000" y="508000"/>
                        </a:cubicBezTo>
                        <a:cubicBezTo>
                          <a:pt x="887833" y="422556"/>
                          <a:pt x="943181" y="469048"/>
                          <a:pt x="846667" y="372533"/>
                        </a:cubicBezTo>
                        <a:cubicBezTo>
                          <a:pt x="835378" y="338666"/>
                          <a:pt x="832602" y="300636"/>
                          <a:pt x="812800" y="270933"/>
                        </a:cubicBezTo>
                        <a:cubicBezTo>
                          <a:pt x="786233" y="231082"/>
                          <a:pt x="749006" y="198737"/>
                          <a:pt x="711200" y="169333"/>
                        </a:cubicBezTo>
                        <a:cubicBezTo>
                          <a:pt x="536524" y="33474"/>
                          <a:pt x="559693" y="51098"/>
                          <a:pt x="406400" y="0"/>
                        </a:cubicBezTo>
                        <a:cubicBezTo>
                          <a:pt x="361244" y="11289"/>
                          <a:pt x="313715" y="15532"/>
                          <a:pt x="270933" y="33867"/>
                        </a:cubicBezTo>
                        <a:cubicBezTo>
                          <a:pt x="53886" y="126887"/>
                          <a:pt x="173770" y="228415"/>
                          <a:pt x="203200" y="508000"/>
                        </a:cubicBezTo>
                        <a:cubicBezTo>
                          <a:pt x="230238" y="764856"/>
                          <a:pt x="168958" y="711013"/>
                          <a:pt x="304800" y="778933"/>
                        </a:cubicBezTo>
                      </a:path>
                    </a:pathLst>
                  </a:custGeom>
                  <a:solidFill>
                    <a:srgbClr val="f2f2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6" name=""/>
                <p:cNvGrpSpPr/>
                <p:nvPr/>
              </p:nvGrpSpPr>
              <p:grpSpPr>
                <a:xfrm>
                  <a:off x="-1384920" y="3203640"/>
                  <a:ext cx="503640" cy="516960"/>
                  <a:chOff x="-1384920" y="3203640"/>
                  <a:chExt cx="503640" cy="516960"/>
                </a:xfrm>
              </p:grpSpPr>
              <p:sp>
                <p:nvSpPr>
                  <p:cNvPr id="637" name="任意多边形 106"/>
                  <p:cNvSpPr/>
                  <p:nvPr/>
                </p:nvSpPr>
                <p:spPr>
                  <a:xfrm flipH="1" rot="3210600">
                    <a:off x="-1331280" y="3294720"/>
                    <a:ext cx="396000" cy="333720"/>
                  </a:xfrm>
                  <a:custGeom>
                    <a:avLst/>
                    <a:gdLst>
                      <a:gd name="textAreaLeft" fmla="*/ -360 w 396000"/>
                      <a:gd name="textAreaRight" fmla="*/ 396000 w 396000"/>
                      <a:gd name="textAreaTop" fmla="*/ 0 h 333720"/>
                      <a:gd name="textAreaBottom" fmla="*/ 334080 h 333720"/>
                    </a:gdLst>
                    <a:ahLst/>
                    <a:rect l="textAreaLeft" t="textAreaTop" r="textAreaRight" b="textAreaBottom"/>
                    <a:pathLst>
                      <a:path w="2065867" h="4030133">
                        <a:moveTo>
                          <a:pt x="270933" y="677333"/>
                        </a:moveTo>
                        <a:cubicBezTo>
                          <a:pt x="259644" y="733778"/>
                          <a:pt x="257278" y="792770"/>
                          <a:pt x="237067" y="846667"/>
                        </a:cubicBezTo>
                        <a:cubicBezTo>
                          <a:pt x="222775" y="884778"/>
                          <a:pt x="187536" y="911861"/>
                          <a:pt x="169333" y="948267"/>
                        </a:cubicBezTo>
                        <a:cubicBezTo>
                          <a:pt x="153368" y="980197"/>
                          <a:pt x="146756" y="1016000"/>
                          <a:pt x="135467" y="1049867"/>
                        </a:cubicBezTo>
                        <a:cubicBezTo>
                          <a:pt x="124178" y="1128889"/>
                          <a:pt x="124537" y="1210475"/>
                          <a:pt x="101600" y="1286933"/>
                        </a:cubicBezTo>
                        <a:cubicBezTo>
                          <a:pt x="89904" y="1325919"/>
                          <a:pt x="52070" y="1352127"/>
                          <a:pt x="33867" y="1388533"/>
                        </a:cubicBezTo>
                        <a:cubicBezTo>
                          <a:pt x="17902" y="1420463"/>
                          <a:pt x="11289" y="1456266"/>
                          <a:pt x="0" y="1490133"/>
                        </a:cubicBezTo>
                        <a:cubicBezTo>
                          <a:pt x="11289" y="1648178"/>
                          <a:pt x="6331" y="1808231"/>
                          <a:pt x="33867" y="1964267"/>
                        </a:cubicBezTo>
                        <a:cubicBezTo>
                          <a:pt x="40941" y="2004350"/>
                          <a:pt x="77942" y="2032746"/>
                          <a:pt x="101600" y="2065867"/>
                        </a:cubicBezTo>
                        <a:cubicBezTo>
                          <a:pt x="134408" y="2111798"/>
                          <a:pt x="167065" y="2157971"/>
                          <a:pt x="203200" y="2201333"/>
                        </a:cubicBezTo>
                        <a:cubicBezTo>
                          <a:pt x="223641" y="2225862"/>
                          <a:pt x="253221" y="2242500"/>
                          <a:pt x="270933" y="2269067"/>
                        </a:cubicBezTo>
                        <a:cubicBezTo>
                          <a:pt x="298937" y="2311073"/>
                          <a:pt x="313619" y="2360700"/>
                          <a:pt x="338667" y="2404533"/>
                        </a:cubicBezTo>
                        <a:cubicBezTo>
                          <a:pt x="443708" y="2588354"/>
                          <a:pt x="378175" y="2421458"/>
                          <a:pt x="440267" y="2607733"/>
                        </a:cubicBezTo>
                        <a:cubicBezTo>
                          <a:pt x="451556" y="2686755"/>
                          <a:pt x="448890" y="2769072"/>
                          <a:pt x="474133" y="2844800"/>
                        </a:cubicBezTo>
                        <a:cubicBezTo>
                          <a:pt x="484230" y="2875091"/>
                          <a:pt x="525439" y="2885153"/>
                          <a:pt x="541867" y="2912533"/>
                        </a:cubicBezTo>
                        <a:cubicBezTo>
                          <a:pt x="692110" y="3162937"/>
                          <a:pt x="437916" y="2858793"/>
                          <a:pt x="643467" y="3115733"/>
                        </a:cubicBezTo>
                        <a:cubicBezTo>
                          <a:pt x="663413" y="3140666"/>
                          <a:pt x="691254" y="3158534"/>
                          <a:pt x="711200" y="3183467"/>
                        </a:cubicBezTo>
                        <a:cubicBezTo>
                          <a:pt x="736627" y="3215251"/>
                          <a:pt x="752130" y="3254435"/>
                          <a:pt x="778933" y="3285067"/>
                        </a:cubicBezTo>
                        <a:cubicBezTo>
                          <a:pt x="831498" y="3345141"/>
                          <a:pt x="900372" y="3390540"/>
                          <a:pt x="948267" y="3454400"/>
                        </a:cubicBezTo>
                        <a:cubicBezTo>
                          <a:pt x="982134" y="3499556"/>
                          <a:pt x="1019951" y="3542002"/>
                          <a:pt x="1049867" y="3589867"/>
                        </a:cubicBezTo>
                        <a:cubicBezTo>
                          <a:pt x="1076624" y="3632678"/>
                          <a:pt x="1089596" y="3683327"/>
                          <a:pt x="1117600" y="3725333"/>
                        </a:cubicBezTo>
                        <a:cubicBezTo>
                          <a:pt x="1164328" y="3795425"/>
                          <a:pt x="1222230" y="3809038"/>
                          <a:pt x="1286933" y="3860800"/>
                        </a:cubicBezTo>
                        <a:cubicBezTo>
                          <a:pt x="1311866" y="3880746"/>
                          <a:pt x="1328100" y="3910821"/>
                          <a:pt x="1354667" y="3928533"/>
                        </a:cubicBezTo>
                        <a:cubicBezTo>
                          <a:pt x="1438370" y="3984335"/>
                          <a:pt x="1501418" y="4000029"/>
                          <a:pt x="1591733" y="4030133"/>
                        </a:cubicBezTo>
                        <a:cubicBezTo>
                          <a:pt x="1670755" y="4018844"/>
                          <a:pt x="1753072" y="4021510"/>
                          <a:pt x="1828800" y="3996267"/>
                        </a:cubicBezTo>
                        <a:cubicBezTo>
                          <a:pt x="1947678" y="3956641"/>
                          <a:pt x="1962781" y="3628192"/>
                          <a:pt x="1964267" y="3623733"/>
                        </a:cubicBezTo>
                        <a:cubicBezTo>
                          <a:pt x="1977138" y="3585119"/>
                          <a:pt x="2013797" y="3558539"/>
                          <a:pt x="2032000" y="3522133"/>
                        </a:cubicBezTo>
                        <a:cubicBezTo>
                          <a:pt x="2047965" y="3490203"/>
                          <a:pt x="2054578" y="3454400"/>
                          <a:pt x="2065867" y="3420533"/>
                        </a:cubicBezTo>
                        <a:cubicBezTo>
                          <a:pt x="2054578" y="3318933"/>
                          <a:pt x="2052048" y="3215973"/>
                          <a:pt x="2032000" y="3115733"/>
                        </a:cubicBezTo>
                        <a:cubicBezTo>
                          <a:pt x="2017998" y="3045722"/>
                          <a:pt x="1964267" y="2912533"/>
                          <a:pt x="1964267" y="2912533"/>
                        </a:cubicBezTo>
                        <a:cubicBezTo>
                          <a:pt x="2045473" y="2668911"/>
                          <a:pt x="1946942" y="2973167"/>
                          <a:pt x="2032000" y="2675467"/>
                        </a:cubicBezTo>
                        <a:cubicBezTo>
                          <a:pt x="2041807" y="2641142"/>
                          <a:pt x="2054578" y="2607734"/>
                          <a:pt x="2065867" y="2573867"/>
                        </a:cubicBezTo>
                        <a:cubicBezTo>
                          <a:pt x="1988036" y="2340376"/>
                          <a:pt x="2048618" y="2421153"/>
                          <a:pt x="1930400" y="2302933"/>
                        </a:cubicBezTo>
                        <a:cubicBezTo>
                          <a:pt x="1919111" y="2257778"/>
                          <a:pt x="1909320" y="2212221"/>
                          <a:pt x="1896533" y="2167467"/>
                        </a:cubicBezTo>
                        <a:cubicBezTo>
                          <a:pt x="1886726" y="2133142"/>
                          <a:pt x="1868536" y="2101080"/>
                          <a:pt x="1862667" y="2065867"/>
                        </a:cubicBezTo>
                        <a:cubicBezTo>
                          <a:pt x="1846052" y="1966175"/>
                          <a:pt x="1835554" y="1713597"/>
                          <a:pt x="1794933" y="1591733"/>
                        </a:cubicBezTo>
                        <a:cubicBezTo>
                          <a:pt x="1778968" y="1543839"/>
                          <a:pt x="1753174" y="1499558"/>
                          <a:pt x="1727200" y="1456267"/>
                        </a:cubicBezTo>
                        <a:cubicBezTo>
                          <a:pt x="1685317" y="1386462"/>
                          <a:pt x="1591733" y="1253067"/>
                          <a:pt x="1591733" y="1253067"/>
                        </a:cubicBezTo>
                        <a:cubicBezTo>
                          <a:pt x="1555962" y="1145753"/>
                          <a:pt x="1565165" y="1143657"/>
                          <a:pt x="1490133" y="1049867"/>
                        </a:cubicBezTo>
                        <a:cubicBezTo>
                          <a:pt x="1470187" y="1024934"/>
                          <a:pt x="1442346" y="1007066"/>
                          <a:pt x="1422400" y="982133"/>
                        </a:cubicBezTo>
                        <a:cubicBezTo>
                          <a:pt x="1396973" y="950349"/>
                          <a:pt x="1380094" y="912316"/>
                          <a:pt x="1354667" y="880533"/>
                        </a:cubicBezTo>
                        <a:cubicBezTo>
                          <a:pt x="1334721" y="855600"/>
                          <a:pt x="1306879" y="837733"/>
                          <a:pt x="1286933" y="812800"/>
                        </a:cubicBezTo>
                        <a:cubicBezTo>
                          <a:pt x="1261506" y="781017"/>
                          <a:pt x="1246241" y="741622"/>
                          <a:pt x="1219200" y="711200"/>
                        </a:cubicBezTo>
                        <a:cubicBezTo>
                          <a:pt x="1155561" y="639606"/>
                          <a:pt x="1095702" y="561134"/>
                          <a:pt x="1016000" y="508000"/>
                        </a:cubicBezTo>
                        <a:cubicBezTo>
                          <a:pt x="887833" y="422556"/>
                          <a:pt x="943181" y="469048"/>
                          <a:pt x="846667" y="372533"/>
                        </a:cubicBezTo>
                        <a:cubicBezTo>
                          <a:pt x="835378" y="338666"/>
                          <a:pt x="832602" y="300636"/>
                          <a:pt x="812800" y="270933"/>
                        </a:cubicBezTo>
                        <a:cubicBezTo>
                          <a:pt x="786233" y="231082"/>
                          <a:pt x="749006" y="198737"/>
                          <a:pt x="711200" y="169333"/>
                        </a:cubicBezTo>
                        <a:cubicBezTo>
                          <a:pt x="536524" y="33474"/>
                          <a:pt x="559693" y="51098"/>
                          <a:pt x="406400" y="0"/>
                        </a:cubicBezTo>
                        <a:cubicBezTo>
                          <a:pt x="361244" y="11289"/>
                          <a:pt x="313715" y="15532"/>
                          <a:pt x="270933" y="33867"/>
                        </a:cubicBezTo>
                        <a:cubicBezTo>
                          <a:pt x="53886" y="126887"/>
                          <a:pt x="173770" y="228415"/>
                          <a:pt x="203200" y="508000"/>
                        </a:cubicBezTo>
                        <a:cubicBezTo>
                          <a:pt x="230238" y="764856"/>
                          <a:pt x="168958" y="711013"/>
                          <a:pt x="304800" y="778933"/>
                        </a:cubicBezTo>
                      </a:path>
                    </a:pathLst>
                  </a:custGeom>
                  <a:solidFill>
                    <a:srgbClr val="f2f2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8" name="任意多边形 108"/>
                  <p:cNvSpPr/>
                  <p:nvPr/>
                </p:nvSpPr>
                <p:spPr>
                  <a:xfrm flipH="1" rot="3903600">
                    <a:off x="-1152000" y="3491640"/>
                    <a:ext cx="128520" cy="222480"/>
                  </a:xfrm>
                  <a:custGeom>
                    <a:avLst/>
                    <a:gdLst>
                      <a:gd name="textAreaLeft" fmla="*/ 360 w 128520"/>
                      <a:gd name="textAreaRight" fmla="*/ 129240 w 128520"/>
                      <a:gd name="textAreaTop" fmla="*/ 0 h 222480"/>
                      <a:gd name="textAreaBottom" fmla="*/ 222840 h 222480"/>
                    </a:gdLst>
                    <a:ahLst/>
                    <a:rect l="textAreaLeft" t="textAreaTop" r="textAreaRight" b="textAreaBottom"/>
                    <a:pathLst>
                      <a:path w="2065867" h="4030133">
                        <a:moveTo>
                          <a:pt x="270933" y="677333"/>
                        </a:moveTo>
                        <a:cubicBezTo>
                          <a:pt x="259644" y="733778"/>
                          <a:pt x="257278" y="792770"/>
                          <a:pt x="237067" y="846667"/>
                        </a:cubicBezTo>
                        <a:cubicBezTo>
                          <a:pt x="222775" y="884778"/>
                          <a:pt x="187536" y="911861"/>
                          <a:pt x="169333" y="948267"/>
                        </a:cubicBezTo>
                        <a:cubicBezTo>
                          <a:pt x="153368" y="980197"/>
                          <a:pt x="146756" y="1016000"/>
                          <a:pt x="135467" y="1049867"/>
                        </a:cubicBezTo>
                        <a:cubicBezTo>
                          <a:pt x="124178" y="1128889"/>
                          <a:pt x="124537" y="1210475"/>
                          <a:pt x="101600" y="1286933"/>
                        </a:cubicBezTo>
                        <a:cubicBezTo>
                          <a:pt x="89904" y="1325919"/>
                          <a:pt x="52070" y="1352127"/>
                          <a:pt x="33867" y="1388533"/>
                        </a:cubicBezTo>
                        <a:cubicBezTo>
                          <a:pt x="17902" y="1420463"/>
                          <a:pt x="11289" y="1456266"/>
                          <a:pt x="0" y="1490133"/>
                        </a:cubicBezTo>
                        <a:cubicBezTo>
                          <a:pt x="11289" y="1648178"/>
                          <a:pt x="6331" y="1808231"/>
                          <a:pt x="33867" y="1964267"/>
                        </a:cubicBezTo>
                        <a:cubicBezTo>
                          <a:pt x="40941" y="2004350"/>
                          <a:pt x="77942" y="2032746"/>
                          <a:pt x="101600" y="2065867"/>
                        </a:cubicBezTo>
                        <a:cubicBezTo>
                          <a:pt x="134408" y="2111798"/>
                          <a:pt x="167065" y="2157971"/>
                          <a:pt x="203200" y="2201333"/>
                        </a:cubicBezTo>
                        <a:cubicBezTo>
                          <a:pt x="223641" y="2225862"/>
                          <a:pt x="253221" y="2242500"/>
                          <a:pt x="270933" y="2269067"/>
                        </a:cubicBezTo>
                        <a:cubicBezTo>
                          <a:pt x="298937" y="2311073"/>
                          <a:pt x="313619" y="2360700"/>
                          <a:pt x="338667" y="2404533"/>
                        </a:cubicBezTo>
                        <a:cubicBezTo>
                          <a:pt x="443708" y="2588354"/>
                          <a:pt x="378175" y="2421458"/>
                          <a:pt x="440267" y="2607733"/>
                        </a:cubicBezTo>
                        <a:cubicBezTo>
                          <a:pt x="451556" y="2686755"/>
                          <a:pt x="448890" y="2769072"/>
                          <a:pt x="474133" y="2844800"/>
                        </a:cubicBezTo>
                        <a:cubicBezTo>
                          <a:pt x="484230" y="2875091"/>
                          <a:pt x="525439" y="2885153"/>
                          <a:pt x="541867" y="2912533"/>
                        </a:cubicBezTo>
                        <a:cubicBezTo>
                          <a:pt x="692110" y="3162937"/>
                          <a:pt x="437916" y="2858793"/>
                          <a:pt x="643467" y="3115733"/>
                        </a:cubicBezTo>
                        <a:cubicBezTo>
                          <a:pt x="663413" y="3140666"/>
                          <a:pt x="691254" y="3158534"/>
                          <a:pt x="711200" y="3183467"/>
                        </a:cubicBezTo>
                        <a:cubicBezTo>
                          <a:pt x="736627" y="3215251"/>
                          <a:pt x="752130" y="3254435"/>
                          <a:pt x="778933" y="3285067"/>
                        </a:cubicBezTo>
                        <a:cubicBezTo>
                          <a:pt x="831498" y="3345141"/>
                          <a:pt x="900372" y="3390540"/>
                          <a:pt x="948267" y="3454400"/>
                        </a:cubicBezTo>
                        <a:cubicBezTo>
                          <a:pt x="982134" y="3499556"/>
                          <a:pt x="1019951" y="3542002"/>
                          <a:pt x="1049867" y="3589867"/>
                        </a:cubicBezTo>
                        <a:cubicBezTo>
                          <a:pt x="1076624" y="3632678"/>
                          <a:pt x="1089596" y="3683327"/>
                          <a:pt x="1117600" y="3725333"/>
                        </a:cubicBezTo>
                        <a:cubicBezTo>
                          <a:pt x="1164328" y="3795425"/>
                          <a:pt x="1222230" y="3809038"/>
                          <a:pt x="1286933" y="3860800"/>
                        </a:cubicBezTo>
                        <a:cubicBezTo>
                          <a:pt x="1311866" y="3880746"/>
                          <a:pt x="1328100" y="3910821"/>
                          <a:pt x="1354667" y="3928533"/>
                        </a:cubicBezTo>
                        <a:cubicBezTo>
                          <a:pt x="1438370" y="3984335"/>
                          <a:pt x="1501418" y="4000029"/>
                          <a:pt x="1591733" y="4030133"/>
                        </a:cubicBezTo>
                        <a:cubicBezTo>
                          <a:pt x="1670755" y="4018844"/>
                          <a:pt x="1753072" y="4021510"/>
                          <a:pt x="1828800" y="3996267"/>
                        </a:cubicBezTo>
                        <a:cubicBezTo>
                          <a:pt x="1947678" y="3956641"/>
                          <a:pt x="1962781" y="3628192"/>
                          <a:pt x="1964267" y="3623733"/>
                        </a:cubicBezTo>
                        <a:cubicBezTo>
                          <a:pt x="1977138" y="3585119"/>
                          <a:pt x="2013797" y="3558539"/>
                          <a:pt x="2032000" y="3522133"/>
                        </a:cubicBezTo>
                        <a:cubicBezTo>
                          <a:pt x="2047965" y="3490203"/>
                          <a:pt x="2054578" y="3454400"/>
                          <a:pt x="2065867" y="3420533"/>
                        </a:cubicBezTo>
                        <a:cubicBezTo>
                          <a:pt x="2054578" y="3318933"/>
                          <a:pt x="2052048" y="3215973"/>
                          <a:pt x="2032000" y="3115733"/>
                        </a:cubicBezTo>
                        <a:cubicBezTo>
                          <a:pt x="2017998" y="3045722"/>
                          <a:pt x="1964267" y="2912533"/>
                          <a:pt x="1964267" y="2912533"/>
                        </a:cubicBezTo>
                        <a:cubicBezTo>
                          <a:pt x="2045473" y="2668911"/>
                          <a:pt x="1946942" y="2973167"/>
                          <a:pt x="2032000" y="2675467"/>
                        </a:cubicBezTo>
                        <a:cubicBezTo>
                          <a:pt x="2041807" y="2641142"/>
                          <a:pt x="2054578" y="2607734"/>
                          <a:pt x="2065867" y="2573867"/>
                        </a:cubicBezTo>
                        <a:cubicBezTo>
                          <a:pt x="1988036" y="2340376"/>
                          <a:pt x="2048618" y="2421153"/>
                          <a:pt x="1930400" y="2302933"/>
                        </a:cubicBezTo>
                        <a:cubicBezTo>
                          <a:pt x="1919111" y="2257778"/>
                          <a:pt x="1909320" y="2212221"/>
                          <a:pt x="1896533" y="2167467"/>
                        </a:cubicBezTo>
                        <a:cubicBezTo>
                          <a:pt x="1886726" y="2133142"/>
                          <a:pt x="1868536" y="2101080"/>
                          <a:pt x="1862667" y="2065867"/>
                        </a:cubicBezTo>
                        <a:cubicBezTo>
                          <a:pt x="1846052" y="1966175"/>
                          <a:pt x="1835554" y="1713597"/>
                          <a:pt x="1794933" y="1591733"/>
                        </a:cubicBezTo>
                        <a:cubicBezTo>
                          <a:pt x="1778968" y="1543839"/>
                          <a:pt x="1753174" y="1499558"/>
                          <a:pt x="1727200" y="1456267"/>
                        </a:cubicBezTo>
                        <a:cubicBezTo>
                          <a:pt x="1685317" y="1386462"/>
                          <a:pt x="1591733" y="1253067"/>
                          <a:pt x="1591733" y="1253067"/>
                        </a:cubicBezTo>
                        <a:cubicBezTo>
                          <a:pt x="1555962" y="1145753"/>
                          <a:pt x="1565165" y="1143657"/>
                          <a:pt x="1490133" y="1049867"/>
                        </a:cubicBezTo>
                        <a:cubicBezTo>
                          <a:pt x="1470187" y="1024934"/>
                          <a:pt x="1442346" y="1007066"/>
                          <a:pt x="1422400" y="982133"/>
                        </a:cubicBezTo>
                        <a:cubicBezTo>
                          <a:pt x="1396973" y="950349"/>
                          <a:pt x="1380094" y="912316"/>
                          <a:pt x="1354667" y="880533"/>
                        </a:cubicBezTo>
                        <a:cubicBezTo>
                          <a:pt x="1334721" y="855600"/>
                          <a:pt x="1306879" y="837733"/>
                          <a:pt x="1286933" y="812800"/>
                        </a:cubicBezTo>
                        <a:cubicBezTo>
                          <a:pt x="1261506" y="781017"/>
                          <a:pt x="1246241" y="741622"/>
                          <a:pt x="1219200" y="711200"/>
                        </a:cubicBezTo>
                        <a:cubicBezTo>
                          <a:pt x="1155561" y="639606"/>
                          <a:pt x="1095702" y="561134"/>
                          <a:pt x="1016000" y="508000"/>
                        </a:cubicBezTo>
                        <a:cubicBezTo>
                          <a:pt x="887833" y="422556"/>
                          <a:pt x="943181" y="469048"/>
                          <a:pt x="846667" y="372533"/>
                        </a:cubicBezTo>
                        <a:cubicBezTo>
                          <a:pt x="835378" y="338666"/>
                          <a:pt x="832602" y="300636"/>
                          <a:pt x="812800" y="270933"/>
                        </a:cubicBezTo>
                        <a:cubicBezTo>
                          <a:pt x="786233" y="231082"/>
                          <a:pt x="749006" y="198737"/>
                          <a:pt x="711200" y="169333"/>
                        </a:cubicBezTo>
                        <a:cubicBezTo>
                          <a:pt x="536524" y="33474"/>
                          <a:pt x="559693" y="51098"/>
                          <a:pt x="406400" y="0"/>
                        </a:cubicBezTo>
                        <a:cubicBezTo>
                          <a:pt x="361244" y="11289"/>
                          <a:pt x="313715" y="15532"/>
                          <a:pt x="270933" y="33867"/>
                        </a:cubicBezTo>
                        <a:cubicBezTo>
                          <a:pt x="53886" y="126887"/>
                          <a:pt x="173770" y="228415"/>
                          <a:pt x="203200" y="508000"/>
                        </a:cubicBezTo>
                        <a:cubicBezTo>
                          <a:pt x="230238" y="764856"/>
                          <a:pt x="168958" y="711013"/>
                          <a:pt x="304800" y="778933"/>
                        </a:cubicBezTo>
                      </a:path>
                    </a:pathLst>
                  </a:custGeom>
                  <a:solidFill>
                    <a:srgbClr val="f2f2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9" name=""/>
                <p:cNvGrpSpPr/>
                <p:nvPr/>
              </p:nvGrpSpPr>
              <p:grpSpPr>
                <a:xfrm>
                  <a:off x="-1360800" y="4019040"/>
                  <a:ext cx="1395000" cy="1373400"/>
                  <a:chOff x="-1360800" y="4019040"/>
                  <a:chExt cx="1395000" cy="1373400"/>
                </a:xfrm>
              </p:grpSpPr>
              <p:sp>
                <p:nvSpPr>
                  <p:cNvPr id="640" name="任意多边形 103"/>
                  <p:cNvSpPr/>
                  <p:nvPr/>
                </p:nvSpPr>
                <p:spPr>
                  <a:xfrm flipH="1" rot="1846200">
                    <a:off x="-1372320" y="4249800"/>
                    <a:ext cx="963360" cy="221040"/>
                  </a:xfrm>
                  <a:custGeom>
                    <a:avLst/>
                    <a:gdLst>
                      <a:gd name="textAreaLeft" fmla="*/ -360 w 963360"/>
                      <a:gd name="textAreaRight" fmla="*/ 963360 w 963360"/>
                      <a:gd name="textAreaTop" fmla="*/ 0 h 221040"/>
                      <a:gd name="textAreaBottom" fmla="*/ 221400 h 221040"/>
                    </a:gdLst>
                    <a:ahLst/>
                    <a:rect l="textAreaLeft" t="textAreaTop" r="textAreaRight" b="textAreaBottom"/>
                    <a:pathLst>
                      <a:path w="2065867" h="4030133">
                        <a:moveTo>
                          <a:pt x="270933" y="677333"/>
                        </a:moveTo>
                        <a:cubicBezTo>
                          <a:pt x="259644" y="733778"/>
                          <a:pt x="257278" y="792770"/>
                          <a:pt x="237067" y="846667"/>
                        </a:cubicBezTo>
                        <a:cubicBezTo>
                          <a:pt x="222775" y="884778"/>
                          <a:pt x="187536" y="911861"/>
                          <a:pt x="169333" y="948267"/>
                        </a:cubicBezTo>
                        <a:cubicBezTo>
                          <a:pt x="153368" y="980197"/>
                          <a:pt x="146756" y="1016000"/>
                          <a:pt x="135467" y="1049867"/>
                        </a:cubicBezTo>
                        <a:cubicBezTo>
                          <a:pt x="124178" y="1128889"/>
                          <a:pt x="124537" y="1210475"/>
                          <a:pt x="101600" y="1286933"/>
                        </a:cubicBezTo>
                        <a:cubicBezTo>
                          <a:pt x="89904" y="1325919"/>
                          <a:pt x="52070" y="1352127"/>
                          <a:pt x="33867" y="1388533"/>
                        </a:cubicBezTo>
                        <a:cubicBezTo>
                          <a:pt x="17902" y="1420463"/>
                          <a:pt x="11289" y="1456266"/>
                          <a:pt x="0" y="1490133"/>
                        </a:cubicBezTo>
                        <a:cubicBezTo>
                          <a:pt x="11289" y="1648178"/>
                          <a:pt x="6331" y="1808231"/>
                          <a:pt x="33867" y="1964267"/>
                        </a:cubicBezTo>
                        <a:cubicBezTo>
                          <a:pt x="40941" y="2004350"/>
                          <a:pt x="77942" y="2032746"/>
                          <a:pt x="101600" y="2065867"/>
                        </a:cubicBezTo>
                        <a:cubicBezTo>
                          <a:pt x="134408" y="2111798"/>
                          <a:pt x="167065" y="2157971"/>
                          <a:pt x="203200" y="2201333"/>
                        </a:cubicBezTo>
                        <a:cubicBezTo>
                          <a:pt x="223641" y="2225862"/>
                          <a:pt x="253221" y="2242500"/>
                          <a:pt x="270933" y="2269067"/>
                        </a:cubicBezTo>
                        <a:cubicBezTo>
                          <a:pt x="298937" y="2311073"/>
                          <a:pt x="313619" y="2360700"/>
                          <a:pt x="338667" y="2404533"/>
                        </a:cubicBezTo>
                        <a:cubicBezTo>
                          <a:pt x="443708" y="2588354"/>
                          <a:pt x="378175" y="2421458"/>
                          <a:pt x="440267" y="2607733"/>
                        </a:cubicBezTo>
                        <a:cubicBezTo>
                          <a:pt x="451556" y="2686755"/>
                          <a:pt x="448890" y="2769072"/>
                          <a:pt x="474133" y="2844800"/>
                        </a:cubicBezTo>
                        <a:cubicBezTo>
                          <a:pt x="484230" y="2875091"/>
                          <a:pt x="525439" y="2885153"/>
                          <a:pt x="541867" y="2912533"/>
                        </a:cubicBezTo>
                        <a:cubicBezTo>
                          <a:pt x="692110" y="3162937"/>
                          <a:pt x="437916" y="2858793"/>
                          <a:pt x="643467" y="3115733"/>
                        </a:cubicBezTo>
                        <a:cubicBezTo>
                          <a:pt x="663413" y="3140666"/>
                          <a:pt x="691254" y="3158534"/>
                          <a:pt x="711200" y="3183467"/>
                        </a:cubicBezTo>
                        <a:cubicBezTo>
                          <a:pt x="736627" y="3215251"/>
                          <a:pt x="752130" y="3254435"/>
                          <a:pt x="778933" y="3285067"/>
                        </a:cubicBezTo>
                        <a:cubicBezTo>
                          <a:pt x="831498" y="3345141"/>
                          <a:pt x="900372" y="3390540"/>
                          <a:pt x="948267" y="3454400"/>
                        </a:cubicBezTo>
                        <a:cubicBezTo>
                          <a:pt x="982134" y="3499556"/>
                          <a:pt x="1019951" y="3542002"/>
                          <a:pt x="1049867" y="3589867"/>
                        </a:cubicBezTo>
                        <a:cubicBezTo>
                          <a:pt x="1076624" y="3632678"/>
                          <a:pt x="1089596" y="3683327"/>
                          <a:pt x="1117600" y="3725333"/>
                        </a:cubicBezTo>
                        <a:cubicBezTo>
                          <a:pt x="1164328" y="3795425"/>
                          <a:pt x="1222230" y="3809038"/>
                          <a:pt x="1286933" y="3860800"/>
                        </a:cubicBezTo>
                        <a:cubicBezTo>
                          <a:pt x="1311866" y="3880746"/>
                          <a:pt x="1328100" y="3910821"/>
                          <a:pt x="1354667" y="3928533"/>
                        </a:cubicBezTo>
                        <a:cubicBezTo>
                          <a:pt x="1438370" y="3984335"/>
                          <a:pt x="1501418" y="4000029"/>
                          <a:pt x="1591733" y="4030133"/>
                        </a:cubicBezTo>
                        <a:cubicBezTo>
                          <a:pt x="1670755" y="4018844"/>
                          <a:pt x="1753072" y="4021510"/>
                          <a:pt x="1828800" y="3996267"/>
                        </a:cubicBezTo>
                        <a:cubicBezTo>
                          <a:pt x="1947678" y="3956641"/>
                          <a:pt x="1962781" y="3628192"/>
                          <a:pt x="1964267" y="3623733"/>
                        </a:cubicBezTo>
                        <a:cubicBezTo>
                          <a:pt x="1977138" y="3585119"/>
                          <a:pt x="2013797" y="3558539"/>
                          <a:pt x="2032000" y="3522133"/>
                        </a:cubicBezTo>
                        <a:cubicBezTo>
                          <a:pt x="2047965" y="3490203"/>
                          <a:pt x="2054578" y="3454400"/>
                          <a:pt x="2065867" y="3420533"/>
                        </a:cubicBezTo>
                        <a:cubicBezTo>
                          <a:pt x="2054578" y="3318933"/>
                          <a:pt x="2052048" y="3215973"/>
                          <a:pt x="2032000" y="3115733"/>
                        </a:cubicBezTo>
                        <a:cubicBezTo>
                          <a:pt x="2017998" y="3045722"/>
                          <a:pt x="1964267" y="2912533"/>
                          <a:pt x="1964267" y="2912533"/>
                        </a:cubicBezTo>
                        <a:cubicBezTo>
                          <a:pt x="2045473" y="2668911"/>
                          <a:pt x="1946942" y="2973167"/>
                          <a:pt x="2032000" y="2675467"/>
                        </a:cubicBezTo>
                        <a:cubicBezTo>
                          <a:pt x="2041807" y="2641142"/>
                          <a:pt x="2054578" y="2607734"/>
                          <a:pt x="2065867" y="2573867"/>
                        </a:cubicBezTo>
                        <a:cubicBezTo>
                          <a:pt x="1988036" y="2340376"/>
                          <a:pt x="2048618" y="2421153"/>
                          <a:pt x="1930400" y="2302933"/>
                        </a:cubicBezTo>
                        <a:cubicBezTo>
                          <a:pt x="1919111" y="2257778"/>
                          <a:pt x="1909320" y="2212221"/>
                          <a:pt x="1896533" y="2167467"/>
                        </a:cubicBezTo>
                        <a:cubicBezTo>
                          <a:pt x="1886726" y="2133142"/>
                          <a:pt x="1868536" y="2101080"/>
                          <a:pt x="1862667" y="2065867"/>
                        </a:cubicBezTo>
                        <a:cubicBezTo>
                          <a:pt x="1846052" y="1966175"/>
                          <a:pt x="1835554" y="1713597"/>
                          <a:pt x="1794933" y="1591733"/>
                        </a:cubicBezTo>
                        <a:cubicBezTo>
                          <a:pt x="1778968" y="1543839"/>
                          <a:pt x="1753174" y="1499558"/>
                          <a:pt x="1727200" y="1456267"/>
                        </a:cubicBezTo>
                        <a:cubicBezTo>
                          <a:pt x="1685317" y="1386462"/>
                          <a:pt x="1591733" y="1253067"/>
                          <a:pt x="1591733" y="1253067"/>
                        </a:cubicBezTo>
                        <a:cubicBezTo>
                          <a:pt x="1555962" y="1145753"/>
                          <a:pt x="1565165" y="1143657"/>
                          <a:pt x="1490133" y="1049867"/>
                        </a:cubicBezTo>
                        <a:cubicBezTo>
                          <a:pt x="1470187" y="1024934"/>
                          <a:pt x="1442346" y="1007066"/>
                          <a:pt x="1422400" y="982133"/>
                        </a:cubicBezTo>
                        <a:cubicBezTo>
                          <a:pt x="1396973" y="950349"/>
                          <a:pt x="1380094" y="912316"/>
                          <a:pt x="1354667" y="880533"/>
                        </a:cubicBezTo>
                        <a:cubicBezTo>
                          <a:pt x="1334721" y="855600"/>
                          <a:pt x="1306879" y="837733"/>
                          <a:pt x="1286933" y="812800"/>
                        </a:cubicBezTo>
                        <a:cubicBezTo>
                          <a:pt x="1261506" y="781017"/>
                          <a:pt x="1246241" y="741622"/>
                          <a:pt x="1219200" y="711200"/>
                        </a:cubicBezTo>
                        <a:cubicBezTo>
                          <a:pt x="1155561" y="639606"/>
                          <a:pt x="1095702" y="561134"/>
                          <a:pt x="1016000" y="508000"/>
                        </a:cubicBezTo>
                        <a:cubicBezTo>
                          <a:pt x="887833" y="422556"/>
                          <a:pt x="943181" y="469048"/>
                          <a:pt x="846667" y="372533"/>
                        </a:cubicBezTo>
                        <a:cubicBezTo>
                          <a:pt x="835378" y="338666"/>
                          <a:pt x="832602" y="300636"/>
                          <a:pt x="812800" y="270933"/>
                        </a:cubicBezTo>
                        <a:cubicBezTo>
                          <a:pt x="786233" y="231082"/>
                          <a:pt x="749006" y="198737"/>
                          <a:pt x="711200" y="169333"/>
                        </a:cubicBezTo>
                        <a:cubicBezTo>
                          <a:pt x="536524" y="33474"/>
                          <a:pt x="559693" y="51098"/>
                          <a:pt x="406400" y="0"/>
                        </a:cubicBezTo>
                        <a:cubicBezTo>
                          <a:pt x="361244" y="11289"/>
                          <a:pt x="313715" y="15532"/>
                          <a:pt x="270933" y="33867"/>
                        </a:cubicBezTo>
                        <a:cubicBezTo>
                          <a:pt x="53886" y="126887"/>
                          <a:pt x="173770" y="228415"/>
                          <a:pt x="203200" y="508000"/>
                        </a:cubicBezTo>
                        <a:cubicBezTo>
                          <a:pt x="230238" y="764856"/>
                          <a:pt x="168958" y="711013"/>
                          <a:pt x="304800" y="778933"/>
                        </a:cubicBez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1" name="任意多边形 104"/>
                  <p:cNvSpPr/>
                  <p:nvPr/>
                </p:nvSpPr>
                <p:spPr>
                  <a:xfrm flipH="1" rot="3427800">
                    <a:off x="-324360" y="5016960"/>
                    <a:ext cx="283680" cy="332280"/>
                  </a:xfrm>
                  <a:custGeom>
                    <a:avLst/>
                    <a:gdLst>
                      <a:gd name="textAreaLeft" fmla="*/ -360 w 283680"/>
                      <a:gd name="textAreaRight" fmla="*/ 283680 w 283680"/>
                      <a:gd name="textAreaTop" fmla="*/ 0 h 332280"/>
                      <a:gd name="textAreaBottom" fmla="*/ 332640 h 332280"/>
                    </a:gdLst>
                    <a:ahLst/>
                    <a:rect l="textAreaLeft" t="textAreaTop" r="textAreaRight" b="textAreaBottom"/>
                    <a:pathLst>
                      <a:path w="2065867" h="4030133">
                        <a:moveTo>
                          <a:pt x="270933" y="677333"/>
                        </a:moveTo>
                        <a:cubicBezTo>
                          <a:pt x="259644" y="733778"/>
                          <a:pt x="257278" y="792770"/>
                          <a:pt x="237067" y="846667"/>
                        </a:cubicBezTo>
                        <a:cubicBezTo>
                          <a:pt x="222775" y="884778"/>
                          <a:pt x="187536" y="911861"/>
                          <a:pt x="169333" y="948267"/>
                        </a:cubicBezTo>
                        <a:cubicBezTo>
                          <a:pt x="153368" y="980197"/>
                          <a:pt x="146756" y="1016000"/>
                          <a:pt x="135467" y="1049867"/>
                        </a:cubicBezTo>
                        <a:cubicBezTo>
                          <a:pt x="124178" y="1128889"/>
                          <a:pt x="124537" y="1210475"/>
                          <a:pt x="101600" y="1286933"/>
                        </a:cubicBezTo>
                        <a:cubicBezTo>
                          <a:pt x="89904" y="1325919"/>
                          <a:pt x="52070" y="1352127"/>
                          <a:pt x="33867" y="1388533"/>
                        </a:cubicBezTo>
                        <a:cubicBezTo>
                          <a:pt x="17902" y="1420463"/>
                          <a:pt x="11289" y="1456266"/>
                          <a:pt x="0" y="1490133"/>
                        </a:cubicBezTo>
                        <a:cubicBezTo>
                          <a:pt x="11289" y="1648178"/>
                          <a:pt x="6331" y="1808231"/>
                          <a:pt x="33867" y="1964267"/>
                        </a:cubicBezTo>
                        <a:cubicBezTo>
                          <a:pt x="40941" y="2004350"/>
                          <a:pt x="77942" y="2032746"/>
                          <a:pt x="101600" y="2065867"/>
                        </a:cubicBezTo>
                        <a:cubicBezTo>
                          <a:pt x="134408" y="2111798"/>
                          <a:pt x="167065" y="2157971"/>
                          <a:pt x="203200" y="2201333"/>
                        </a:cubicBezTo>
                        <a:cubicBezTo>
                          <a:pt x="223641" y="2225862"/>
                          <a:pt x="253221" y="2242500"/>
                          <a:pt x="270933" y="2269067"/>
                        </a:cubicBezTo>
                        <a:cubicBezTo>
                          <a:pt x="298937" y="2311073"/>
                          <a:pt x="313619" y="2360700"/>
                          <a:pt x="338667" y="2404533"/>
                        </a:cubicBezTo>
                        <a:cubicBezTo>
                          <a:pt x="443708" y="2588354"/>
                          <a:pt x="378175" y="2421458"/>
                          <a:pt x="440267" y="2607733"/>
                        </a:cubicBezTo>
                        <a:cubicBezTo>
                          <a:pt x="451556" y="2686755"/>
                          <a:pt x="448890" y="2769072"/>
                          <a:pt x="474133" y="2844800"/>
                        </a:cubicBezTo>
                        <a:cubicBezTo>
                          <a:pt x="484230" y="2875091"/>
                          <a:pt x="525439" y="2885153"/>
                          <a:pt x="541867" y="2912533"/>
                        </a:cubicBezTo>
                        <a:cubicBezTo>
                          <a:pt x="692110" y="3162937"/>
                          <a:pt x="437916" y="2858793"/>
                          <a:pt x="643467" y="3115733"/>
                        </a:cubicBezTo>
                        <a:cubicBezTo>
                          <a:pt x="663413" y="3140666"/>
                          <a:pt x="691254" y="3158534"/>
                          <a:pt x="711200" y="3183467"/>
                        </a:cubicBezTo>
                        <a:cubicBezTo>
                          <a:pt x="736627" y="3215251"/>
                          <a:pt x="752130" y="3254435"/>
                          <a:pt x="778933" y="3285067"/>
                        </a:cubicBezTo>
                        <a:cubicBezTo>
                          <a:pt x="831498" y="3345141"/>
                          <a:pt x="900372" y="3390540"/>
                          <a:pt x="948267" y="3454400"/>
                        </a:cubicBezTo>
                        <a:cubicBezTo>
                          <a:pt x="982134" y="3499556"/>
                          <a:pt x="1019951" y="3542002"/>
                          <a:pt x="1049867" y="3589867"/>
                        </a:cubicBezTo>
                        <a:cubicBezTo>
                          <a:pt x="1076624" y="3632678"/>
                          <a:pt x="1089596" y="3683327"/>
                          <a:pt x="1117600" y="3725333"/>
                        </a:cubicBezTo>
                        <a:cubicBezTo>
                          <a:pt x="1164328" y="3795425"/>
                          <a:pt x="1222230" y="3809038"/>
                          <a:pt x="1286933" y="3860800"/>
                        </a:cubicBezTo>
                        <a:cubicBezTo>
                          <a:pt x="1311866" y="3880746"/>
                          <a:pt x="1328100" y="3910821"/>
                          <a:pt x="1354667" y="3928533"/>
                        </a:cubicBezTo>
                        <a:cubicBezTo>
                          <a:pt x="1438370" y="3984335"/>
                          <a:pt x="1501418" y="4000029"/>
                          <a:pt x="1591733" y="4030133"/>
                        </a:cubicBezTo>
                        <a:cubicBezTo>
                          <a:pt x="1670755" y="4018844"/>
                          <a:pt x="1753072" y="4021510"/>
                          <a:pt x="1828800" y="3996267"/>
                        </a:cubicBezTo>
                        <a:cubicBezTo>
                          <a:pt x="1947678" y="3956641"/>
                          <a:pt x="1962781" y="3628192"/>
                          <a:pt x="1964267" y="3623733"/>
                        </a:cubicBezTo>
                        <a:cubicBezTo>
                          <a:pt x="1977138" y="3585119"/>
                          <a:pt x="2013797" y="3558539"/>
                          <a:pt x="2032000" y="3522133"/>
                        </a:cubicBezTo>
                        <a:cubicBezTo>
                          <a:pt x="2047965" y="3490203"/>
                          <a:pt x="2054578" y="3454400"/>
                          <a:pt x="2065867" y="3420533"/>
                        </a:cubicBezTo>
                        <a:cubicBezTo>
                          <a:pt x="2054578" y="3318933"/>
                          <a:pt x="2052048" y="3215973"/>
                          <a:pt x="2032000" y="3115733"/>
                        </a:cubicBezTo>
                        <a:cubicBezTo>
                          <a:pt x="2017998" y="3045722"/>
                          <a:pt x="1964267" y="2912533"/>
                          <a:pt x="1964267" y="2912533"/>
                        </a:cubicBezTo>
                        <a:cubicBezTo>
                          <a:pt x="2045473" y="2668911"/>
                          <a:pt x="1946942" y="2973167"/>
                          <a:pt x="2032000" y="2675467"/>
                        </a:cubicBezTo>
                        <a:cubicBezTo>
                          <a:pt x="2041807" y="2641142"/>
                          <a:pt x="2054578" y="2607734"/>
                          <a:pt x="2065867" y="2573867"/>
                        </a:cubicBezTo>
                        <a:cubicBezTo>
                          <a:pt x="1988036" y="2340376"/>
                          <a:pt x="2048618" y="2421153"/>
                          <a:pt x="1930400" y="2302933"/>
                        </a:cubicBezTo>
                        <a:cubicBezTo>
                          <a:pt x="1919111" y="2257778"/>
                          <a:pt x="1909320" y="2212221"/>
                          <a:pt x="1896533" y="2167467"/>
                        </a:cubicBezTo>
                        <a:cubicBezTo>
                          <a:pt x="1886726" y="2133142"/>
                          <a:pt x="1868536" y="2101080"/>
                          <a:pt x="1862667" y="2065867"/>
                        </a:cubicBezTo>
                        <a:cubicBezTo>
                          <a:pt x="1846052" y="1966175"/>
                          <a:pt x="1835554" y="1713597"/>
                          <a:pt x="1794933" y="1591733"/>
                        </a:cubicBezTo>
                        <a:cubicBezTo>
                          <a:pt x="1778968" y="1543839"/>
                          <a:pt x="1753174" y="1499558"/>
                          <a:pt x="1727200" y="1456267"/>
                        </a:cubicBezTo>
                        <a:cubicBezTo>
                          <a:pt x="1685317" y="1386462"/>
                          <a:pt x="1591733" y="1253067"/>
                          <a:pt x="1591733" y="1253067"/>
                        </a:cubicBezTo>
                        <a:cubicBezTo>
                          <a:pt x="1555962" y="1145753"/>
                          <a:pt x="1565165" y="1143657"/>
                          <a:pt x="1490133" y="1049867"/>
                        </a:cubicBezTo>
                        <a:cubicBezTo>
                          <a:pt x="1470187" y="1024934"/>
                          <a:pt x="1442346" y="1007066"/>
                          <a:pt x="1422400" y="982133"/>
                        </a:cubicBezTo>
                        <a:cubicBezTo>
                          <a:pt x="1396973" y="950349"/>
                          <a:pt x="1380094" y="912316"/>
                          <a:pt x="1354667" y="880533"/>
                        </a:cubicBezTo>
                        <a:cubicBezTo>
                          <a:pt x="1334721" y="855600"/>
                          <a:pt x="1306879" y="837733"/>
                          <a:pt x="1286933" y="812800"/>
                        </a:cubicBezTo>
                        <a:cubicBezTo>
                          <a:pt x="1261506" y="781017"/>
                          <a:pt x="1246241" y="741622"/>
                          <a:pt x="1219200" y="711200"/>
                        </a:cubicBezTo>
                        <a:cubicBezTo>
                          <a:pt x="1155561" y="639606"/>
                          <a:pt x="1095702" y="561134"/>
                          <a:pt x="1016000" y="508000"/>
                        </a:cubicBezTo>
                        <a:cubicBezTo>
                          <a:pt x="887833" y="422556"/>
                          <a:pt x="943181" y="469048"/>
                          <a:pt x="846667" y="372533"/>
                        </a:cubicBezTo>
                        <a:cubicBezTo>
                          <a:pt x="835378" y="338666"/>
                          <a:pt x="832602" y="300636"/>
                          <a:pt x="812800" y="270933"/>
                        </a:cubicBezTo>
                        <a:cubicBezTo>
                          <a:pt x="786233" y="231082"/>
                          <a:pt x="749006" y="198737"/>
                          <a:pt x="711200" y="169333"/>
                        </a:cubicBezTo>
                        <a:cubicBezTo>
                          <a:pt x="536524" y="33474"/>
                          <a:pt x="559693" y="51098"/>
                          <a:pt x="406400" y="0"/>
                        </a:cubicBezTo>
                        <a:cubicBezTo>
                          <a:pt x="361244" y="11289"/>
                          <a:pt x="313715" y="15532"/>
                          <a:pt x="270933" y="33867"/>
                        </a:cubicBezTo>
                        <a:cubicBezTo>
                          <a:pt x="53886" y="126887"/>
                          <a:pt x="173770" y="228415"/>
                          <a:pt x="203200" y="508000"/>
                        </a:cubicBezTo>
                        <a:cubicBezTo>
                          <a:pt x="230238" y="764856"/>
                          <a:pt x="168958" y="711013"/>
                          <a:pt x="304800" y="778933"/>
                        </a:cubicBezTo>
                      </a:path>
                    </a:pathLst>
                  </a:custGeom>
                  <a:solidFill>
                    <a:srgbClr val="f2f2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2" name="任意多边形 105"/>
                  <p:cNvSpPr/>
                  <p:nvPr/>
                </p:nvSpPr>
                <p:spPr>
                  <a:xfrm flipH="1" rot="4120800">
                    <a:off x="-1295640" y="4211280"/>
                    <a:ext cx="194760" cy="133200"/>
                  </a:xfrm>
                  <a:custGeom>
                    <a:avLst/>
                    <a:gdLst>
                      <a:gd name="textAreaLeft" fmla="*/ 360 w 194760"/>
                      <a:gd name="textAreaRight" fmla="*/ 195480 w 194760"/>
                      <a:gd name="textAreaTop" fmla="*/ 0 h 133200"/>
                      <a:gd name="textAreaBottom" fmla="*/ 133560 h 133200"/>
                    </a:gdLst>
                    <a:ahLst/>
                    <a:rect l="textAreaLeft" t="textAreaTop" r="textAreaRight" b="textAreaBottom"/>
                    <a:pathLst>
                      <a:path w="2065867" h="4030133">
                        <a:moveTo>
                          <a:pt x="270933" y="677333"/>
                        </a:moveTo>
                        <a:cubicBezTo>
                          <a:pt x="259644" y="733778"/>
                          <a:pt x="257278" y="792770"/>
                          <a:pt x="237067" y="846667"/>
                        </a:cubicBezTo>
                        <a:cubicBezTo>
                          <a:pt x="222775" y="884778"/>
                          <a:pt x="187536" y="911861"/>
                          <a:pt x="169333" y="948267"/>
                        </a:cubicBezTo>
                        <a:cubicBezTo>
                          <a:pt x="153368" y="980197"/>
                          <a:pt x="146756" y="1016000"/>
                          <a:pt x="135467" y="1049867"/>
                        </a:cubicBezTo>
                        <a:cubicBezTo>
                          <a:pt x="124178" y="1128889"/>
                          <a:pt x="124537" y="1210475"/>
                          <a:pt x="101600" y="1286933"/>
                        </a:cubicBezTo>
                        <a:cubicBezTo>
                          <a:pt x="89904" y="1325919"/>
                          <a:pt x="52070" y="1352127"/>
                          <a:pt x="33867" y="1388533"/>
                        </a:cubicBezTo>
                        <a:cubicBezTo>
                          <a:pt x="17902" y="1420463"/>
                          <a:pt x="11289" y="1456266"/>
                          <a:pt x="0" y="1490133"/>
                        </a:cubicBezTo>
                        <a:cubicBezTo>
                          <a:pt x="11289" y="1648178"/>
                          <a:pt x="6331" y="1808231"/>
                          <a:pt x="33867" y="1964267"/>
                        </a:cubicBezTo>
                        <a:cubicBezTo>
                          <a:pt x="40941" y="2004350"/>
                          <a:pt x="77942" y="2032746"/>
                          <a:pt x="101600" y="2065867"/>
                        </a:cubicBezTo>
                        <a:cubicBezTo>
                          <a:pt x="134408" y="2111798"/>
                          <a:pt x="167065" y="2157971"/>
                          <a:pt x="203200" y="2201333"/>
                        </a:cubicBezTo>
                        <a:cubicBezTo>
                          <a:pt x="223641" y="2225862"/>
                          <a:pt x="253221" y="2242500"/>
                          <a:pt x="270933" y="2269067"/>
                        </a:cubicBezTo>
                        <a:cubicBezTo>
                          <a:pt x="298937" y="2311073"/>
                          <a:pt x="313619" y="2360700"/>
                          <a:pt x="338667" y="2404533"/>
                        </a:cubicBezTo>
                        <a:cubicBezTo>
                          <a:pt x="443708" y="2588354"/>
                          <a:pt x="378175" y="2421458"/>
                          <a:pt x="440267" y="2607733"/>
                        </a:cubicBezTo>
                        <a:cubicBezTo>
                          <a:pt x="451556" y="2686755"/>
                          <a:pt x="448890" y="2769072"/>
                          <a:pt x="474133" y="2844800"/>
                        </a:cubicBezTo>
                        <a:cubicBezTo>
                          <a:pt x="484230" y="2875091"/>
                          <a:pt x="525439" y="2885153"/>
                          <a:pt x="541867" y="2912533"/>
                        </a:cubicBezTo>
                        <a:cubicBezTo>
                          <a:pt x="692110" y="3162937"/>
                          <a:pt x="437916" y="2858793"/>
                          <a:pt x="643467" y="3115733"/>
                        </a:cubicBezTo>
                        <a:cubicBezTo>
                          <a:pt x="663413" y="3140666"/>
                          <a:pt x="691254" y="3158534"/>
                          <a:pt x="711200" y="3183467"/>
                        </a:cubicBezTo>
                        <a:cubicBezTo>
                          <a:pt x="736627" y="3215251"/>
                          <a:pt x="752130" y="3254435"/>
                          <a:pt x="778933" y="3285067"/>
                        </a:cubicBezTo>
                        <a:cubicBezTo>
                          <a:pt x="831498" y="3345141"/>
                          <a:pt x="900372" y="3390540"/>
                          <a:pt x="948267" y="3454400"/>
                        </a:cubicBezTo>
                        <a:cubicBezTo>
                          <a:pt x="982134" y="3499556"/>
                          <a:pt x="1019951" y="3542002"/>
                          <a:pt x="1049867" y="3589867"/>
                        </a:cubicBezTo>
                        <a:cubicBezTo>
                          <a:pt x="1076624" y="3632678"/>
                          <a:pt x="1089596" y="3683327"/>
                          <a:pt x="1117600" y="3725333"/>
                        </a:cubicBezTo>
                        <a:cubicBezTo>
                          <a:pt x="1164328" y="3795425"/>
                          <a:pt x="1222230" y="3809038"/>
                          <a:pt x="1286933" y="3860800"/>
                        </a:cubicBezTo>
                        <a:cubicBezTo>
                          <a:pt x="1311866" y="3880746"/>
                          <a:pt x="1328100" y="3910821"/>
                          <a:pt x="1354667" y="3928533"/>
                        </a:cubicBezTo>
                        <a:cubicBezTo>
                          <a:pt x="1438370" y="3984335"/>
                          <a:pt x="1501418" y="4000029"/>
                          <a:pt x="1591733" y="4030133"/>
                        </a:cubicBezTo>
                        <a:cubicBezTo>
                          <a:pt x="1670755" y="4018844"/>
                          <a:pt x="1753072" y="4021510"/>
                          <a:pt x="1828800" y="3996267"/>
                        </a:cubicBezTo>
                        <a:cubicBezTo>
                          <a:pt x="1947678" y="3956641"/>
                          <a:pt x="1962781" y="3628192"/>
                          <a:pt x="1964267" y="3623733"/>
                        </a:cubicBezTo>
                        <a:cubicBezTo>
                          <a:pt x="1977138" y="3585119"/>
                          <a:pt x="2013797" y="3558539"/>
                          <a:pt x="2032000" y="3522133"/>
                        </a:cubicBezTo>
                        <a:cubicBezTo>
                          <a:pt x="2047965" y="3490203"/>
                          <a:pt x="2054578" y="3454400"/>
                          <a:pt x="2065867" y="3420533"/>
                        </a:cubicBezTo>
                        <a:cubicBezTo>
                          <a:pt x="2054578" y="3318933"/>
                          <a:pt x="2052048" y="3215973"/>
                          <a:pt x="2032000" y="3115733"/>
                        </a:cubicBezTo>
                        <a:cubicBezTo>
                          <a:pt x="2017998" y="3045722"/>
                          <a:pt x="1964267" y="2912533"/>
                          <a:pt x="1964267" y="2912533"/>
                        </a:cubicBezTo>
                        <a:cubicBezTo>
                          <a:pt x="2045473" y="2668911"/>
                          <a:pt x="1946942" y="2973167"/>
                          <a:pt x="2032000" y="2675467"/>
                        </a:cubicBezTo>
                        <a:cubicBezTo>
                          <a:pt x="2041807" y="2641142"/>
                          <a:pt x="2054578" y="2607734"/>
                          <a:pt x="2065867" y="2573867"/>
                        </a:cubicBezTo>
                        <a:cubicBezTo>
                          <a:pt x="1988036" y="2340376"/>
                          <a:pt x="2048618" y="2421153"/>
                          <a:pt x="1930400" y="2302933"/>
                        </a:cubicBezTo>
                        <a:cubicBezTo>
                          <a:pt x="1919111" y="2257778"/>
                          <a:pt x="1909320" y="2212221"/>
                          <a:pt x="1896533" y="2167467"/>
                        </a:cubicBezTo>
                        <a:cubicBezTo>
                          <a:pt x="1886726" y="2133142"/>
                          <a:pt x="1868536" y="2101080"/>
                          <a:pt x="1862667" y="2065867"/>
                        </a:cubicBezTo>
                        <a:cubicBezTo>
                          <a:pt x="1846052" y="1966175"/>
                          <a:pt x="1835554" y="1713597"/>
                          <a:pt x="1794933" y="1591733"/>
                        </a:cubicBezTo>
                        <a:cubicBezTo>
                          <a:pt x="1778968" y="1543839"/>
                          <a:pt x="1753174" y="1499558"/>
                          <a:pt x="1727200" y="1456267"/>
                        </a:cubicBezTo>
                        <a:cubicBezTo>
                          <a:pt x="1685317" y="1386462"/>
                          <a:pt x="1591733" y="1253067"/>
                          <a:pt x="1591733" y="1253067"/>
                        </a:cubicBezTo>
                        <a:cubicBezTo>
                          <a:pt x="1555962" y="1145753"/>
                          <a:pt x="1565165" y="1143657"/>
                          <a:pt x="1490133" y="1049867"/>
                        </a:cubicBezTo>
                        <a:cubicBezTo>
                          <a:pt x="1470187" y="1024934"/>
                          <a:pt x="1442346" y="1007066"/>
                          <a:pt x="1422400" y="982133"/>
                        </a:cubicBezTo>
                        <a:cubicBezTo>
                          <a:pt x="1396973" y="950349"/>
                          <a:pt x="1380094" y="912316"/>
                          <a:pt x="1354667" y="880533"/>
                        </a:cubicBezTo>
                        <a:cubicBezTo>
                          <a:pt x="1334721" y="855600"/>
                          <a:pt x="1306879" y="837733"/>
                          <a:pt x="1286933" y="812800"/>
                        </a:cubicBezTo>
                        <a:cubicBezTo>
                          <a:pt x="1261506" y="781017"/>
                          <a:pt x="1246241" y="741622"/>
                          <a:pt x="1219200" y="711200"/>
                        </a:cubicBezTo>
                        <a:cubicBezTo>
                          <a:pt x="1155561" y="639606"/>
                          <a:pt x="1095702" y="561134"/>
                          <a:pt x="1016000" y="508000"/>
                        </a:cubicBezTo>
                        <a:cubicBezTo>
                          <a:pt x="887833" y="422556"/>
                          <a:pt x="943181" y="469048"/>
                          <a:pt x="846667" y="372533"/>
                        </a:cubicBezTo>
                        <a:cubicBezTo>
                          <a:pt x="835378" y="338666"/>
                          <a:pt x="832602" y="300636"/>
                          <a:pt x="812800" y="270933"/>
                        </a:cubicBezTo>
                        <a:cubicBezTo>
                          <a:pt x="786233" y="231082"/>
                          <a:pt x="749006" y="198737"/>
                          <a:pt x="711200" y="169333"/>
                        </a:cubicBezTo>
                        <a:cubicBezTo>
                          <a:pt x="536524" y="33474"/>
                          <a:pt x="559693" y="51098"/>
                          <a:pt x="406400" y="0"/>
                        </a:cubicBezTo>
                        <a:cubicBezTo>
                          <a:pt x="361244" y="11289"/>
                          <a:pt x="313715" y="15532"/>
                          <a:pt x="270933" y="33867"/>
                        </a:cubicBezTo>
                        <a:cubicBezTo>
                          <a:pt x="53886" y="126887"/>
                          <a:pt x="173770" y="228415"/>
                          <a:pt x="203200" y="508000"/>
                        </a:cubicBezTo>
                        <a:cubicBezTo>
                          <a:pt x="230238" y="764856"/>
                          <a:pt x="168958" y="711013"/>
                          <a:pt x="304800" y="778933"/>
                        </a:cubicBezTo>
                      </a:path>
                    </a:pathLst>
                  </a:custGeom>
                  <a:solidFill>
                    <a:srgbClr val="f2f2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43" name="任意多边形 95"/>
                <p:cNvSpPr/>
                <p:nvPr/>
              </p:nvSpPr>
              <p:spPr>
                <a:xfrm flipH="1" rot="1846800">
                  <a:off x="-1463760" y="4520160"/>
                  <a:ext cx="963000" cy="227880"/>
                </a:xfrm>
                <a:custGeom>
                  <a:avLst/>
                  <a:gdLst>
                    <a:gd name="textAreaLeft" fmla="*/ 360 w 963000"/>
                    <a:gd name="textAreaRight" fmla="*/ 963720 w 963000"/>
                    <a:gd name="textAreaTop" fmla="*/ 0 h 227880"/>
                    <a:gd name="textAreaBottom" fmla="*/ 228240 h 227880"/>
                  </a:gdLst>
                  <a:ahLst/>
                  <a:rect l="textAreaLeft" t="textAreaTop" r="textAreaRight" b="textAreaBottom"/>
                  <a:pathLst>
                    <a:path w="2065867" h="4030133">
                      <a:moveTo>
                        <a:pt x="270933" y="677333"/>
                      </a:moveTo>
                      <a:cubicBezTo>
                        <a:pt x="259644" y="733778"/>
                        <a:pt x="257278" y="792770"/>
                        <a:pt x="237067" y="846667"/>
                      </a:cubicBezTo>
                      <a:cubicBezTo>
                        <a:pt x="222775" y="884778"/>
                        <a:pt x="187536" y="911861"/>
                        <a:pt x="169333" y="948267"/>
                      </a:cubicBezTo>
                      <a:cubicBezTo>
                        <a:pt x="153368" y="980197"/>
                        <a:pt x="146756" y="1016000"/>
                        <a:pt x="135467" y="1049867"/>
                      </a:cubicBezTo>
                      <a:cubicBezTo>
                        <a:pt x="124178" y="1128889"/>
                        <a:pt x="124537" y="1210475"/>
                        <a:pt x="101600" y="1286933"/>
                      </a:cubicBezTo>
                      <a:cubicBezTo>
                        <a:pt x="89904" y="1325919"/>
                        <a:pt x="52070" y="1352127"/>
                        <a:pt x="33867" y="1388533"/>
                      </a:cubicBezTo>
                      <a:cubicBezTo>
                        <a:pt x="17902" y="1420463"/>
                        <a:pt x="11289" y="1456266"/>
                        <a:pt x="0" y="1490133"/>
                      </a:cubicBezTo>
                      <a:cubicBezTo>
                        <a:pt x="11289" y="1648178"/>
                        <a:pt x="6331" y="1808231"/>
                        <a:pt x="33867" y="1964267"/>
                      </a:cubicBezTo>
                      <a:cubicBezTo>
                        <a:pt x="40941" y="2004350"/>
                        <a:pt x="77942" y="2032746"/>
                        <a:pt x="101600" y="2065867"/>
                      </a:cubicBezTo>
                      <a:cubicBezTo>
                        <a:pt x="134408" y="2111798"/>
                        <a:pt x="167065" y="2157971"/>
                        <a:pt x="203200" y="2201333"/>
                      </a:cubicBezTo>
                      <a:cubicBezTo>
                        <a:pt x="223641" y="2225862"/>
                        <a:pt x="253221" y="2242500"/>
                        <a:pt x="270933" y="2269067"/>
                      </a:cubicBezTo>
                      <a:cubicBezTo>
                        <a:pt x="298937" y="2311073"/>
                        <a:pt x="313619" y="2360700"/>
                        <a:pt x="338667" y="2404533"/>
                      </a:cubicBezTo>
                      <a:cubicBezTo>
                        <a:pt x="443708" y="2588354"/>
                        <a:pt x="378175" y="2421458"/>
                        <a:pt x="440267" y="2607733"/>
                      </a:cubicBezTo>
                      <a:cubicBezTo>
                        <a:pt x="451556" y="2686755"/>
                        <a:pt x="448890" y="2769072"/>
                        <a:pt x="474133" y="2844800"/>
                      </a:cubicBezTo>
                      <a:cubicBezTo>
                        <a:pt x="484230" y="2875091"/>
                        <a:pt x="525439" y="2885153"/>
                        <a:pt x="541867" y="2912533"/>
                      </a:cubicBezTo>
                      <a:cubicBezTo>
                        <a:pt x="692110" y="3162937"/>
                        <a:pt x="437916" y="2858793"/>
                        <a:pt x="643467" y="3115733"/>
                      </a:cubicBezTo>
                      <a:cubicBezTo>
                        <a:pt x="663413" y="3140666"/>
                        <a:pt x="691254" y="3158534"/>
                        <a:pt x="711200" y="3183467"/>
                      </a:cubicBezTo>
                      <a:cubicBezTo>
                        <a:pt x="736627" y="3215251"/>
                        <a:pt x="752130" y="3254435"/>
                        <a:pt x="778933" y="3285067"/>
                      </a:cubicBezTo>
                      <a:cubicBezTo>
                        <a:pt x="831498" y="3345141"/>
                        <a:pt x="900372" y="3390540"/>
                        <a:pt x="948267" y="3454400"/>
                      </a:cubicBezTo>
                      <a:cubicBezTo>
                        <a:pt x="982134" y="3499556"/>
                        <a:pt x="1019951" y="3542002"/>
                        <a:pt x="1049867" y="3589867"/>
                      </a:cubicBezTo>
                      <a:cubicBezTo>
                        <a:pt x="1076624" y="3632678"/>
                        <a:pt x="1089596" y="3683327"/>
                        <a:pt x="1117600" y="3725333"/>
                      </a:cubicBezTo>
                      <a:cubicBezTo>
                        <a:pt x="1164328" y="3795425"/>
                        <a:pt x="1222230" y="3809038"/>
                        <a:pt x="1286933" y="3860800"/>
                      </a:cubicBezTo>
                      <a:cubicBezTo>
                        <a:pt x="1311866" y="3880746"/>
                        <a:pt x="1328100" y="3910821"/>
                        <a:pt x="1354667" y="3928533"/>
                      </a:cubicBezTo>
                      <a:cubicBezTo>
                        <a:pt x="1438370" y="3984335"/>
                        <a:pt x="1501418" y="4000029"/>
                        <a:pt x="1591733" y="4030133"/>
                      </a:cubicBezTo>
                      <a:cubicBezTo>
                        <a:pt x="1670755" y="4018844"/>
                        <a:pt x="1753072" y="4021510"/>
                        <a:pt x="1828800" y="3996267"/>
                      </a:cubicBezTo>
                      <a:cubicBezTo>
                        <a:pt x="1947678" y="3956641"/>
                        <a:pt x="1962781" y="3628192"/>
                        <a:pt x="1964267" y="3623733"/>
                      </a:cubicBezTo>
                      <a:cubicBezTo>
                        <a:pt x="1977138" y="3585119"/>
                        <a:pt x="2013797" y="3558539"/>
                        <a:pt x="2032000" y="3522133"/>
                      </a:cubicBezTo>
                      <a:cubicBezTo>
                        <a:pt x="2047965" y="3490203"/>
                        <a:pt x="2054578" y="3454400"/>
                        <a:pt x="2065867" y="3420533"/>
                      </a:cubicBezTo>
                      <a:cubicBezTo>
                        <a:pt x="2054578" y="3318933"/>
                        <a:pt x="2052048" y="3215973"/>
                        <a:pt x="2032000" y="3115733"/>
                      </a:cubicBezTo>
                      <a:cubicBezTo>
                        <a:pt x="2017998" y="3045722"/>
                        <a:pt x="1964267" y="2912533"/>
                        <a:pt x="1964267" y="2912533"/>
                      </a:cubicBezTo>
                      <a:cubicBezTo>
                        <a:pt x="2045473" y="2668911"/>
                        <a:pt x="1946942" y="2973167"/>
                        <a:pt x="2032000" y="2675467"/>
                      </a:cubicBezTo>
                      <a:cubicBezTo>
                        <a:pt x="2041807" y="2641142"/>
                        <a:pt x="2054578" y="2607734"/>
                        <a:pt x="2065867" y="2573867"/>
                      </a:cubicBezTo>
                      <a:cubicBezTo>
                        <a:pt x="1988036" y="2340376"/>
                        <a:pt x="2048618" y="2421153"/>
                        <a:pt x="1930400" y="2302933"/>
                      </a:cubicBezTo>
                      <a:cubicBezTo>
                        <a:pt x="1919111" y="2257778"/>
                        <a:pt x="1909320" y="2212221"/>
                        <a:pt x="1896533" y="2167467"/>
                      </a:cubicBezTo>
                      <a:cubicBezTo>
                        <a:pt x="1886726" y="2133142"/>
                        <a:pt x="1868536" y="2101080"/>
                        <a:pt x="1862667" y="2065867"/>
                      </a:cubicBezTo>
                      <a:cubicBezTo>
                        <a:pt x="1846052" y="1966175"/>
                        <a:pt x="1835554" y="1713597"/>
                        <a:pt x="1794933" y="1591733"/>
                      </a:cubicBezTo>
                      <a:cubicBezTo>
                        <a:pt x="1778968" y="1543839"/>
                        <a:pt x="1753174" y="1499558"/>
                        <a:pt x="1727200" y="1456267"/>
                      </a:cubicBezTo>
                      <a:cubicBezTo>
                        <a:pt x="1685317" y="1386462"/>
                        <a:pt x="1591733" y="1253067"/>
                        <a:pt x="1591733" y="1253067"/>
                      </a:cubicBezTo>
                      <a:cubicBezTo>
                        <a:pt x="1555962" y="1145753"/>
                        <a:pt x="1565165" y="1143657"/>
                        <a:pt x="1490133" y="1049867"/>
                      </a:cubicBezTo>
                      <a:cubicBezTo>
                        <a:pt x="1470187" y="1024934"/>
                        <a:pt x="1442346" y="1007066"/>
                        <a:pt x="1422400" y="982133"/>
                      </a:cubicBezTo>
                      <a:cubicBezTo>
                        <a:pt x="1396973" y="950349"/>
                        <a:pt x="1380094" y="912316"/>
                        <a:pt x="1354667" y="880533"/>
                      </a:cubicBezTo>
                      <a:cubicBezTo>
                        <a:pt x="1334721" y="855600"/>
                        <a:pt x="1306879" y="837733"/>
                        <a:pt x="1286933" y="812800"/>
                      </a:cubicBezTo>
                      <a:cubicBezTo>
                        <a:pt x="1261506" y="781017"/>
                        <a:pt x="1246241" y="741622"/>
                        <a:pt x="1219200" y="711200"/>
                      </a:cubicBezTo>
                      <a:cubicBezTo>
                        <a:pt x="1155561" y="639606"/>
                        <a:pt x="1095702" y="561134"/>
                        <a:pt x="1016000" y="508000"/>
                      </a:cubicBezTo>
                      <a:cubicBezTo>
                        <a:pt x="887833" y="422556"/>
                        <a:pt x="943181" y="469048"/>
                        <a:pt x="846667" y="372533"/>
                      </a:cubicBezTo>
                      <a:cubicBezTo>
                        <a:pt x="835378" y="338666"/>
                        <a:pt x="832602" y="300636"/>
                        <a:pt x="812800" y="270933"/>
                      </a:cubicBezTo>
                      <a:cubicBezTo>
                        <a:pt x="786233" y="231082"/>
                        <a:pt x="749006" y="198737"/>
                        <a:pt x="711200" y="169333"/>
                      </a:cubicBezTo>
                      <a:cubicBezTo>
                        <a:pt x="536524" y="33474"/>
                        <a:pt x="559693" y="51098"/>
                        <a:pt x="406400" y="0"/>
                      </a:cubicBezTo>
                      <a:cubicBezTo>
                        <a:pt x="361244" y="11289"/>
                        <a:pt x="313715" y="15532"/>
                        <a:pt x="270933" y="33867"/>
                      </a:cubicBezTo>
                      <a:cubicBezTo>
                        <a:pt x="53886" y="126887"/>
                        <a:pt x="173770" y="228415"/>
                        <a:pt x="203200" y="508000"/>
                      </a:cubicBezTo>
                      <a:cubicBezTo>
                        <a:pt x="230238" y="764856"/>
                        <a:pt x="168958" y="711013"/>
                        <a:pt x="304800" y="778933"/>
                      </a:cubicBez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44" name=""/>
                <p:cNvGrpSpPr/>
                <p:nvPr/>
              </p:nvGrpSpPr>
              <p:grpSpPr>
                <a:xfrm>
                  <a:off x="-982800" y="3340800"/>
                  <a:ext cx="854640" cy="2278800"/>
                  <a:chOff x="-982800" y="3340800"/>
                  <a:chExt cx="854640" cy="2278800"/>
                </a:xfrm>
              </p:grpSpPr>
              <p:sp>
                <p:nvSpPr>
                  <p:cNvPr id="645" name="任意多边形 98"/>
                  <p:cNvSpPr/>
                  <p:nvPr/>
                </p:nvSpPr>
                <p:spPr>
                  <a:xfrm flipH="1" rot="3195600">
                    <a:off x="-989280" y="5051520"/>
                    <a:ext cx="963360" cy="227520"/>
                  </a:xfrm>
                  <a:custGeom>
                    <a:avLst/>
                    <a:gdLst>
                      <a:gd name="textAreaLeft" fmla="*/ -360 w 963360"/>
                      <a:gd name="textAreaRight" fmla="*/ 963360 w 963360"/>
                      <a:gd name="textAreaTop" fmla="*/ 0 h 227520"/>
                      <a:gd name="textAreaBottom" fmla="*/ 227880 h 227520"/>
                    </a:gdLst>
                    <a:ahLst/>
                    <a:rect l="textAreaLeft" t="textAreaTop" r="textAreaRight" b="textAreaBottom"/>
                    <a:pathLst>
                      <a:path w="2065867" h="4030133">
                        <a:moveTo>
                          <a:pt x="270933" y="677333"/>
                        </a:moveTo>
                        <a:cubicBezTo>
                          <a:pt x="259644" y="733778"/>
                          <a:pt x="257278" y="792770"/>
                          <a:pt x="237067" y="846667"/>
                        </a:cubicBezTo>
                        <a:cubicBezTo>
                          <a:pt x="222775" y="884778"/>
                          <a:pt x="187536" y="911861"/>
                          <a:pt x="169333" y="948267"/>
                        </a:cubicBezTo>
                        <a:cubicBezTo>
                          <a:pt x="153368" y="980197"/>
                          <a:pt x="146756" y="1016000"/>
                          <a:pt x="135467" y="1049867"/>
                        </a:cubicBezTo>
                        <a:cubicBezTo>
                          <a:pt x="124178" y="1128889"/>
                          <a:pt x="124537" y="1210475"/>
                          <a:pt x="101600" y="1286933"/>
                        </a:cubicBezTo>
                        <a:cubicBezTo>
                          <a:pt x="89904" y="1325919"/>
                          <a:pt x="52070" y="1352127"/>
                          <a:pt x="33867" y="1388533"/>
                        </a:cubicBezTo>
                        <a:cubicBezTo>
                          <a:pt x="17902" y="1420463"/>
                          <a:pt x="11289" y="1456266"/>
                          <a:pt x="0" y="1490133"/>
                        </a:cubicBezTo>
                        <a:cubicBezTo>
                          <a:pt x="11289" y="1648178"/>
                          <a:pt x="6331" y="1808231"/>
                          <a:pt x="33867" y="1964267"/>
                        </a:cubicBezTo>
                        <a:cubicBezTo>
                          <a:pt x="40941" y="2004350"/>
                          <a:pt x="77942" y="2032746"/>
                          <a:pt x="101600" y="2065867"/>
                        </a:cubicBezTo>
                        <a:cubicBezTo>
                          <a:pt x="134408" y="2111798"/>
                          <a:pt x="167065" y="2157971"/>
                          <a:pt x="203200" y="2201333"/>
                        </a:cubicBezTo>
                        <a:cubicBezTo>
                          <a:pt x="223641" y="2225862"/>
                          <a:pt x="253221" y="2242500"/>
                          <a:pt x="270933" y="2269067"/>
                        </a:cubicBezTo>
                        <a:cubicBezTo>
                          <a:pt x="298937" y="2311073"/>
                          <a:pt x="313619" y="2360700"/>
                          <a:pt x="338667" y="2404533"/>
                        </a:cubicBezTo>
                        <a:cubicBezTo>
                          <a:pt x="443708" y="2588354"/>
                          <a:pt x="378175" y="2421458"/>
                          <a:pt x="440267" y="2607733"/>
                        </a:cubicBezTo>
                        <a:cubicBezTo>
                          <a:pt x="451556" y="2686755"/>
                          <a:pt x="448890" y="2769072"/>
                          <a:pt x="474133" y="2844800"/>
                        </a:cubicBezTo>
                        <a:cubicBezTo>
                          <a:pt x="484230" y="2875091"/>
                          <a:pt x="525439" y="2885153"/>
                          <a:pt x="541867" y="2912533"/>
                        </a:cubicBezTo>
                        <a:cubicBezTo>
                          <a:pt x="692110" y="3162937"/>
                          <a:pt x="437916" y="2858793"/>
                          <a:pt x="643467" y="3115733"/>
                        </a:cubicBezTo>
                        <a:cubicBezTo>
                          <a:pt x="663413" y="3140666"/>
                          <a:pt x="691254" y="3158534"/>
                          <a:pt x="711200" y="3183467"/>
                        </a:cubicBezTo>
                        <a:cubicBezTo>
                          <a:pt x="736627" y="3215251"/>
                          <a:pt x="752130" y="3254435"/>
                          <a:pt x="778933" y="3285067"/>
                        </a:cubicBezTo>
                        <a:cubicBezTo>
                          <a:pt x="831498" y="3345141"/>
                          <a:pt x="900372" y="3390540"/>
                          <a:pt x="948267" y="3454400"/>
                        </a:cubicBezTo>
                        <a:cubicBezTo>
                          <a:pt x="982134" y="3499556"/>
                          <a:pt x="1019951" y="3542002"/>
                          <a:pt x="1049867" y="3589867"/>
                        </a:cubicBezTo>
                        <a:cubicBezTo>
                          <a:pt x="1076624" y="3632678"/>
                          <a:pt x="1089596" y="3683327"/>
                          <a:pt x="1117600" y="3725333"/>
                        </a:cubicBezTo>
                        <a:cubicBezTo>
                          <a:pt x="1164328" y="3795425"/>
                          <a:pt x="1222230" y="3809038"/>
                          <a:pt x="1286933" y="3860800"/>
                        </a:cubicBezTo>
                        <a:cubicBezTo>
                          <a:pt x="1311866" y="3880746"/>
                          <a:pt x="1328100" y="3910821"/>
                          <a:pt x="1354667" y="3928533"/>
                        </a:cubicBezTo>
                        <a:cubicBezTo>
                          <a:pt x="1438370" y="3984335"/>
                          <a:pt x="1501418" y="4000029"/>
                          <a:pt x="1591733" y="4030133"/>
                        </a:cubicBezTo>
                        <a:cubicBezTo>
                          <a:pt x="1670755" y="4018844"/>
                          <a:pt x="1753072" y="4021510"/>
                          <a:pt x="1828800" y="3996267"/>
                        </a:cubicBezTo>
                        <a:cubicBezTo>
                          <a:pt x="1947678" y="3956641"/>
                          <a:pt x="1962781" y="3628192"/>
                          <a:pt x="1964267" y="3623733"/>
                        </a:cubicBezTo>
                        <a:cubicBezTo>
                          <a:pt x="1977138" y="3585119"/>
                          <a:pt x="2013797" y="3558539"/>
                          <a:pt x="2032000" y="3522133"/>
                        </a:cubicBezTo>
                        <a:cubicBezTo>
                          <a:pt x="2047965" y="3490203"/>
                          <a:pt x="2054578" y="3454400"/>
                          <a:pt x="2065867" y="3420533"/>
                        </a:cubicBezTo>
                        <a:cubicBezTo>
                          <a:pt x="2054578" y="3318933"/>
                          <a:pt x="2052048" y="3215973"/>
                          <a:pt x="2032000" y="3115733"/>
                        </a:cubicBezTo>
                        <a:cubicBezTo>
                          <a:pt x="2017998" y="3045722"/>
                          <a:pt x="1964267" y="2912533"/>
                          <a:pt x="1964267" y="2912533"/>
                        </a:cubicBezTo>
                        <a:cubicBezTo>
                          <a:pt x="2045473" y="2668911"/>
                          <a:pt x="1946942" y="2973167"/>
                          <a:pt x="2032000" y="2675467"/>
                        </a:cubicBezTo>
                        <a:cubicBezTo>
                          <a:pt x="2041807" y="2641142"/>
                          <a:pt x="2054578" y="2607734"/>
                          <a:pt x="2065867" y="2573867"/>
                        </a:cubicBezTo>
                        <a:cubicBezTo>
                          <a:pt x="1988036" y="2340376"/>
                          <a:pt x="2048618" y="2421153"/>
                          <a:pt x="1930400" y="2302933"/>
                        </a:cubicBezTo>
                        <a:cubicBezTo>
                          <a:pt x="1919111" y="2257778"/>
                          <a:pt x="1909320" y="2212221"/>
                          <a:pt x="1896533" y="2167467"/>
                        </a:cubicBezTo>
                        <a:cubicBezTo>
                          <a:pt x="1886726" y="2133142"/>
                          <a:pt x="1868536" y="2101080"/>
                          <a:pt x="1862667" y="2065867"/>
                        </a:cubicBezTo>
                        <a:cubicBezTo>
                          <a:pt x="1846052" y="1966175"/>
                          <a:pt x="1835554" y="1713597"/>
                          <a:pt x="1794933" y="1591733"/>
                        </a:cubicBezTo>
                        <a:cubicBezTo>
                          <a:pt x="1778968" y="1543839"/>
                          <a:pt x="1753174" y="1499558"/>
                          <a:pt x="1727200" y="1456267"/>
                        </a:cubicBezTo>
                        <a:cubicBezTo>
                          <a:pt x="1685317" y="1386462"/>
                          <a:pt x="1591733" y="1253067"/>
                          <a:pt x="1591733" y="1253067"/>
                        </a:cubicBezTo>
                        <a:cubicBezTo>
                          <a:pt x="1555962" y="1145753"/>
                          <a:pt x="1565165" y="1143657"/>
                          <a:pt x="1490133" y="1049867"/>
                        </a:cubicBezTo>
                        <a:cubicBezTo>
                          <a:pt x="1470187" y="1024934"/>
                          <a:pt x="1442346" y="1007066"/>
                          <a:pt x="1422400" y="982133"/>
                        </a:cubicBezTo>
                        <a:cubicBezTo>
                          <a:pt x="1396973" y="950349"/>
                          <a:pt x="1380094" y="912316"/>
                          <a:pt x="1354667" y="880533"/>
                        </a:cubicBezTo>
                        <a:cubicBezTo>
                          <a:pt x="1334721" y="855600"/>
                          <a:pt x="1306879" y="837733"/>
                          <a:pt x="1286933" y="812800"/>
                        </a:cubicBezTo>
                        <a:cubicBezTo>
                          <a:pt x="1261506" y="781017"/>
                          <a:pt x="1246241" y="741622"/>
                          <a:pt x="1219200" y="711200"/>
                        </a:cubicBezTo>
                        <a:cubicBezTo>
                          <a:pt x="1155561" y="639606"/>
                          <a:pt x="1095702" y="561134"/>
                          <a:pt x="1016000" y="508000"/>
                        </a:cubicBezTo>
                        <a:cubicBezTo>
                          <a:pt x="887833" y="422556"/>
                          <a:pt x="943181" y="469048"/>
                          <a:pt x="846667" y="372533"/>
                        </a:cubicBezTo>
                        <a:cubicBezTo>
                          <a:pt x="835378" y="338666"/>
                          <a:pt x="832602" y="300636"/>
                          <a:pt x="812800" y="270933"/>
                        </a:cubicBezTo>
                        <a:cubicBezTo>
                          <a:pt x="786233" y="231082"/>
                          <a:pt x="749006" y="198737"/>
                          <a:pt x="711200" y="169333"/>
                        </a:cubicBezTo>
                        <a:cubicBezTo>
                          <a:pt x="536524" y="33474"/>
                          <a:pt x="559693" y="51098"/>
                          <a:pt x="406400" y="0"/>
                        </a:cubicBezTo>
                        <a:cubicBezTo>
                          <a:pt x="361244" y="11289"/>
                          <a:pt x="313715" y="15532"/>
                          <a:pt x="270933" y="33867"/>
                        </a:cubicBezTo>
                        <a:cubicBezTo>
                          <a:pt x="53886" y="126887"/>
                          <a:pt x="173770" y="228415"/>
                          <a:pt x="203200" y="508000"/>
                        </a:cubicBezTo>
                        <a:cubicBezTo>
                          <a:pt x="230238" y="764856"/>
                          <a:pt x="168958" y="711013"/>
                          <a:pt x="304800" y="778933"/>
                        </a:cubicBez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6" name="任意多边形 99"/>
                  <p:cNvSpPr/>
                  <p:nvPr/>
                </p:nvSpPr>
                <p:spPr>
                  <a:xfrm flipH="1" rot="3282600">
                    <a:off x="-996840" y="3491640"/>
                    <a:ext cx="480240" cy="213840"/>
                  </a:xfrm>
                  <a:custGeom>
                    <a:avLst/>
                    <a:gdLst>
                      <a:gd name="textAreaLeft" fmla="*/ -360 w 480240"/>
                      <a:gd name="textAreaRight" fmla="*/ 480240 w 480240"/>
                      <a:gd name="textAreaTop" fmla="*/ 0 h 213840"/>
                      <a:gd name="textAreaBottom" fmla="*/ 214200 h 213840"/>
                    </a:gdLst>
                    <a:ahLst/>
                    <a:rect l="textAreaLeft" t="textAreaTop" r="textAreaRight" b="textAreaBottom"/>
                    <a:pathLst>
                      <a:path w="2065867" h="4030133">
                        <a:moveTo>
                          <a:pt x="270933" y="677333"/>
                        </a:moveTo>
                        <a:cubicBezTo>
                          <a:pt x="259644" y="733778"/>
                          <a:pt x="257278" y="792770"/>
                          <a:pt x="237067" y="846667"/>
                        </a:cubicBezTo>
                        <a:cubicBezTo>
                          <a:pt x="222775" y="884778"/>
                          <a:pt x="187536" y="911861"/>
                          <a:pt x="169333" y="948267"/>
                        </a:cubicBezTo>
                        <a:cubicBezTo>
                          <a:pt x="153368" y="980197"/>
                          <a:pt x="146756" y="1016000"/>
                          <a:pt x="135467" y="1049867"/>
                        </a:cubicBezTo>
                        <a:cubicBezTo>
                          <a:pt x="124178" y="1128889"/>
                          <a:pt x="124537" y="1210475"/>
                          <a:pt x="101600" y="1286933"/>
                        </a:cubicBezTo>
                        <a:cubicBezTo>
                          <a:pt x="89904" y="1325919"/>
                          <a:pt x="52070" y="1352127"/>
                          <a:pt x="33867" y="1388533"/>
                        </a:cubicBezTo>
                        <a:cubicBezTo>
                          <a:pt x="17902" y="1420463"/>
                          <a:pt x="11289" y="1456266"/>
                          <a:pt x="0" y="1490133"/>
                        </a:cubicBezTo>
                        <a:cubicBezTo>
                          <a:pt x="11289" y="1648178"/>
                          <a:pt x="6331" y="1808231"/>
                          <a:pt x="33867" y="1964267"/>
                        </a:cubicBezTo>
                        <a:cubicBezTo>
                          <a:pt x="40941" y="2004350"/>
                          <a:pt x="77942" y="2032746"/>
                          <a:pt x="101600" y="2065867"/>
                        </a:cubicBezTo>
                        <a:cubicBezTo>
                          <a:pt x="134408" y="2111798"/>
                          <a:pt x="167065" y="2157971"/>
                          <a:pt x="203200" y="2201333"/>
                        </a:cubicBezTo>
                        <a:cubicBezTo>
                          <a:pt x="223641" y="2225862"/>
                          <a:pt x="253221" y="2242500"/>
                          <a:pt x="270933" y="2269067"/>
                        </a:cubicBezTo>
                        <a:cubicBezTo>
                          <a:pt x="298937" y="2311073"/>
                          <a:pt x="313619" y="2360700"/>
                          <a:pt x="338667" y="2404533"/>
                        </a:cubicBezTo>
                        <a:cubicBezTo>
                          <a:pt x="443708" y="2588354"/>
                          <a:pt x="378175" y="2421458"/>
                          <a:pt x="440267" y="2607733"/>
                        </a:cubicBezTo>
                        <a:cubicBezTo>
                          <a:pt x="451556" y="2686755"/>
                          <a:pt x="448890" y="2769072"/>
                          <a:pt x="474133" y="2844800"/>
                        </a:cubicBezTo>
                        <a:cubicBezTo>
                          <a:pt x="484230" y="2875091"/>
                          <a:pt x="525439" y="2885153"/>
                          <a:pt x="541867" y="2912533"/>
                        </a:cubicBezTo>
                        <a:cubicBezTo>
                          <a:pt x="692110" y="3162937"/>
                          <a:pt x="437916" y="2858793"/>
                          <a:pt x="643467" y="3115733"/>
                        </a:cubicBezTo>
                        <a:cubicBezTo>
                          <a:pt x="663413" y="3140666"/>
                          <a:pt x="691254" y="3158534"/>
                          <a:pt x="711200" y="3183467"/>
                        </a:cubicBezTo>
                        <a:cubicBezTo>
                          <a:pt x="736627" y="3215251"/>
                          <a:pt x="752130" y="3254435"/>
                          <a:pt x="778933" y="3285067"/>
                        </a:cubicBezTo>
                        <a:cubicBezTo>
                          <a:pt x="831498" y="3345141"/>
                          <a:pt x="900372" y="3390540"/>
                          <a:pt x="948267" y="3454400"/>
                        </a:cubicBezTo>
                        <a:cubicBezTo>
                          <a:pt x="982134" y="3499556"/>
                          <a:pt x="1019951" y="3542002"/>
                          <a:pt x="1049867" y="3589867"/>
                        </a:cubicBezTo>
                        <a:cubicBezTo>
                          <a:pt x="1076624" y="3632678"/>
                          <a:pt x="1089596" y="3683327"/>
                          <a:pt x="1117600" y="3725333"/>
                        </a:cubicBezTo>
                        <a:cubicBezTo>
                          <a:pt x="1164328" y="3795425"/>
                          <a:pt x="1222230" y="3809038"/>
                          <a:pt x="1286933" y="3860800"/>
                        </a:cubicBezTo>
                        <a:cubicBezTo>
                          <a:pt x="1311866" y="3880746"/>
                          <a:pt x="1328100" y="3910821"/>
                          <a:pt x="1354667" y="3928533"/>
                        </a:cubicBezTo>
                        <a:cubicBezTo>
                          <a:pt x="1438370" y="3984335"/>
                          <a:pt x="1501418" y="4000029"/>
                          <a:pt x="1591733" y="4030133"/>
                        </a:cubicBezTo>
                        <a:cubicBezTo>
                          <a:pt x="1670755" y="4018844"/>
                          <a:pt x="1753072" y="4021510"/>
                          <a:pt x="1828800" y="3996267"/>
                        </a:cubicBezTo>
                        <a:cubicBezTo>
                          <a:pt x="1947678" y="3956641"/>
                          <a:pt x="1962781" y="3628192"/>
                          <a:pt x="1964267" y="3623733"/>
                        </a:cubicBezTo>
                        <a:cubicBezTo>
                          <a:pt x="1977138" y="3585119"/>
                          <a:pt x="2013797" y="3558539"/>
                          <a:pt x="2032000" y="3522133"/>
                        </a:cubicBezTo>
                        <a:cubicBezTo>
                          <a:pt x="2047965" y="3490203"/>
                          <a:pt x="2054578" y="3454400"/>
                          <a:pt x="2065867" y="3420533"/>
                        </a:cubicBezTo>
                        <a:cubicBezTo>
                          <a:pt x="2054578" y="3318933"/>
                          <a:pt x="2052048" y="3215973"/>
                          <a:pt x="2032000" y="3115733"/>
                        </a:cubicBezTo>
                        <a:cubicBezTo>
                          <a:pt x="2017998" y="3045722"/>
                          <a:pt x="1964267" y="2912533"/>
                          <a:pt x="1964267" y="2912533"/>
                        </a:cubicBezTo>
                        <a:cubicBezTo>
                          <a:pt x="2045473" y="2668911"/>
                          <a:pt x="1946942" y="2973167"/>
                          <a:pt x="2032000" y="2675467"/>
                        </a:cubicBezTo>
                        <a:cubicBezTo>
                          <a:pt x="2041807" y="2641142"/>
                          <a:pt x="2054578" y="2607734"/>
                          <a:pt x="2065867" y="2573867"/>
                        </a:cubicBezTo>
                        <a:cubicBezTo>
                          <a:pt x="1988036" y="2340376"/>
                          <a:pt x="2048618" y="2421153"/>
                          <a:pt x="1930400" y="2302933"/>
                        </a:cubicBezTo>
                        <a:cubicBezTo>
                          <a:pt x="1919111" y="2257778"/>
                          <a:pt x="1909320" y="2212221"/>
                          <a:pt x="1896533" y="2167467"/>
                        </a:cubicBezTo>
                        <a:cubicBezTo>
                          <a:pt x="1886726" y="2133142"/>
                          <a:pt x="1868536" y="2101080"/>
                          <a:pt x="1862667" y="2065867"/>
                        </a:cubicBezTo>
                        <a:cubicBezTo>
                          <a:pt x="1846052" y="1966175"/>
                          <a:pt x="1835554" y="1713597"/>
                          <a:pt x="1794933" y="1591733"/>
                        </a:cubicBezTo>
                        <a:cubicBezTo>
                          <a:pt x="1778968" y="1543839"/>
                          <a:pt x="1753174" y="1499558"/>
                          <a:pt x="1727200" y="1456267"/>
                        </a:cubicBezTo>
                        <a:cubicBezTo>
                          <a:pt x="1685317" y="1386462"/>
                          <a:pt x="1591733" y="1253067"/>
                          <a:pt x="1591733" y="1253067"/>
                        </a:cubicBezTo>
                        <a:cubicBezTo>
                          <a:pt x="1555962" y="1145753"/>
                          <a:pt x="1565165" y="1143657"/>
                          <a:pt x="1490133" y="1049867"/>
                        </a:cubicBezTo>
                        <a:cubicBezTo>
                          <a:pt x="1470187" y="1024934"/>
                          <a:pt x="1442346" y="1007066"/>
                          <a:pt x="1422400" y="982133"/>
                        </a:cubicBezTo>
                        <a:cubicBezTo>
                          <a:pt x="1396973" y="950349"/>
                          <a:pt x="1380094" y="912316"/>
                          <a:pt x="1354667" y="880533"/>
                        </a:cubicBezTo>
                        <a:cubicBezTo>
                          <a:pt x="1334721" y="855600"/>
                          <a:pt x="1306879" y="837733"/>
                          <a:pt x="1286933" y="812800"/>
                        </a:cubicBezTo>
                        <a:cubicBezTo>
                          <a:pt x="1261506" y="781017"/>
                          <a:pt x="1246241" y="741622"/>
                          <a:pt x="1219200" y="711200"/>
                        </a:cubicBezTo>
                        <a:cubicBezTo>
                          <a:pt x="1155561" y="639606"/>
                          <a:pt x="1095702" y="561134"/>
                          <a:pt x="1016000" y="508000"/>
                        </a:cubicBezTo>
                        <a:cubicBezTo>
                          <a:pt x="887833" y="422556"/>
                          <a:pt x="943181" y="469048"/>
                          <a:pt x="846667" y="372533"/>
                        </a:cubicBezTo>
                        <a:cubicBezTo>
                          <a:pt x="835378" y="338666"/>
                          <a:pt x="832602" y="300636"/>
                          <a:pt x="812800" y="270933"/>
                        </a:cubicBezTo>
                        <a:cubicBezTo>
                          <a:pt x="786233" y="231082"/>
                          <a:pt x="749006" y="198737"/>
                          <a:pt x="711200" y="169333"/>
                        </a:cubicBezTo>
                        <a:cubicBezTo>
                          <a:pt x="536524" y="33474"/>
                          <a:pt x="559693" y="51098"/>
                          <a:pt x="406400" y="0"/>
                        </a:cubicBezTo>
                        <a:cubicBezTo>
                          <a:pt x="361244" y="11289"/>
                          <a:pt x="313715" y="15532"/>
                          <a:pt x="270933" y="33867"/>
                        </a:cubicBezTo>
                        <a:cubicBezTo>
                          <a:pt x="53886" y="126887"/>
                          <a:pt x="173770" y="228415"/>
                          <a:pt x="203200" y="508000"/>
                        </a:cubicBezTo>
                        <a:cubicBezTo>
                          <a:pt x="230238" y="764856"/>
                          <a:pt x="168958" y="711013"/>
                          <a:pt x="304800" y="778933"/>
                        </a:cubicBezTo>
                      </a:path>
                    </a:pathLst>
                  </a:custGeom>
                  <a:solidFill>
                    <a:srgbClr val="f2f2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47" name="任意多边形 97"/>
                <p:cNvSpPr/>
                <p:nvPr/>
              </p:nvSpPr>
              <p:spPr>
                <a:xfrm flipH="1">
                  <a:off x="-1362960" y="3760200"/>
                  <a:ext cx="307080" cy="264240"/>
                </a:xfrm>
                <a:custGeom>
                  <a:avLst/>
                  <a:gdLst>
                    <a:gd name="textAreaLeft" fmla="*/ 360 w 307080"/>
                    <a:gd name="textAreaRight" fmla="*/ 307800 w 307080"/>
                    <a:gd name="textAreaTop" fmla="*/ 0 h 264240"/>
                    <a:gd name="textAreaBottom" fmla="*/ 264600 h 264240"/>
                  </a:gdLst>
                  <a:ahLst/>
                  <a:rect l="textAreaLeft" t="textAreaTop" r="textAreaRight" b="textAreaBottom"/>
                  <a:pathLst>
                    <a:path w="307238" h="264197">
                      <a:moveTo>
                        <a:pt x="80467" y="849"/>
                      </a:moveTo>
                      <a:cubicBezTo>
                        <a:pt x="98755" y="6945"/>
                        <a:pt x="153179" y="38924"/>
                        <a:pt x="190195" y="66686"/>
                      </a:cubicBezTo>
                      <a:cubicBezTo>
                        <a:pt x="207853" y="79930"/>
                        <a:pt x="205064" y="85272"/>
                        <a:pt x="219456" y="103262"/>
                      </a:cubicBezTo>
                      <a:cubicBezTo>
                        <a:pt x="223764" y="108648"/>
                        <a:pt x="229209" y="113016"/>
                        <a:pt x="234086" y="117893"/>
                      </a:cubicBezTo>
                      <a:cubicBezTo>
                        <a:pt x="246789" y="156003"/>
                        <a:pt x="233080" y="125779"/>
                        <a:pt x="256032" y="154469"/>
                      </a:cubicBezTo>
                      <a:cubicBezTo>
                        <a:pt x="261524" y="161334"/>
                        <a:pt x="263029" y="172052"/>
                        <a:pt x="270662" y="176414"/>
                      </a:cubicBezTo>
                      <a:cubicBezTo>
                        <a:pt x="281457" y="182583"/>
                        <a:pt x="295046" y="181291"/>
                        <a:pt x="307238" y="183729"/>
                      </a:cubicBezTo>
                      <a:cubicBezTo>
                        <a:pt x="299923" y="186168"/>
                        <a:pt x="292189" y="187596"/>
                        <a:pt x="285292" y="191045"/>
                      </a:cubicBezTo>
                      <a:cubicBezTo>
                        <a:pt x="277429" y="194977"/>
                        <a:pt x="271428" y="202212"/>
                        <a:pt x="263347" y="205675"/>
                      </a:cubicBezTo>
                      <a:cubicBezTo>
                        <a:pt x="254106" y="209635"/>
                        <a:pt x="243840" y="210552"/>
                        <a:pt x="234086" y="212990"/>
                      </a:cubicBezTo>
                      <a:cubicBezTo>
                        <a:pt x="178283" y="268793"/>
                        <a:pt x="243125" y="210494"/>
                        <a:pt x="190195" y="242251"/>
                      </a:cubicBezTo>
                      <a:cubicBezTo>
                        <a:pt x="139983" y="272377"/>
                        <a:pt x="215791" y="243470"/>
                        <a:pt x="153619" y="264197"/>
                      </a:cubicBezTo>
                      <a:cubicBezTo>
                        <a:pt x="117043" y="261758"/>
                        <a:pt x="79675" y="264833"/>
                        <a:pt x="43891" y="256881"/>
                      </a:cubicBezTo>
                      <a:cubicBezTo>
                        <a:pt x="33792" y="254637"/>
                        <a:pt x="29892" y="241559"/>
                        <a:pt x="21945" y="234936"/>
                      </a:cubicBezTo>
                      <a:cubicBezTo>
                        <a:pt x="15191" y="229308"/>
                        <a:pt x="7315" y="225182"/>
                        <a:pt x="0" y="220305"/>
                      </a:cubicBezTo>
                      <a:cubicBezTo>
                        <a:pt x="2438" y="198360"/>
                        <a:pt x="1960" y="175890"/>
                        <a:pt x="7315" y="154469"/>
                      </a:cubicBezTo>
                      <a:cubicBezTo>
                        <a:pt x="9447" y="145940"/>
                        <a:pt x="18013" y="140387"/>
                        <a:pt x="21945" y="132523"/>
                      </a:cubicBezTo>
                      <a:cubicBezTo>
                        <a:pt x="40936" y="94540"/>
                        <a:pt x="15315" y="124521"/>
                        <a:pt x="43891" y="95947"/>
                      </a:cubicBezTo>
                      <a:cubicBezTo>
                        <a:pt x="50393" y="76440"/>
                        <a:pt x="53783" y="62820"/>
                        <a:pt x="65836" y="44741"/>
                      </a:cubicBezTo>
                      <a:cubicBezTo>
                        <a:pt x="69662" y="39002"/>
                        <a:pt x="76158" y="35496"/>
                        <a:pt x="80467" y="30110"/>
                      </a:cubicBezTo>
                      <a:cubicBezTo>
                        <a:pt x="85959" y="23245"/>
                        <a:pt x="62179" y="-5247"/>
                        <a:pt x="80467" y="8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648" name=""/>
          <p:cNvGrpSpPr/>
          <p:nvPr/>
        </p:nvGrpSpPr>
        <p:grpSpPr>
          <a:xfrm>
            <a:off x="4140360" y="1995480"/>
            <a:ext cx="863280" cy="824040"/>
            <a:chOff x="4140360" y="1995480"/>
            <a:chExt cx="863280" cy="824040"/>
          </a:xfrm>
        </p:grpSpPr>
        <p:sp>
          <p:nvSpPr>
            <p:cNvPr id="649" name="五角星 174"/>
            <p:cNvSpPr/>
            <p:nvPr/>
          </p:nvSpPr>
          <p:spPr>
            <a:xfrm>
              <a:off x="4140360" y="1995480"/>
              <a:ext cx="863280" cy="824040"/>
            </a:xfrm>
            <a:prstGeom prst="star5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0" name=""/>
            <p:cNvGrpSpPr/>
            <p:nvPr/>
          </p:nvGrpSpPr>
          <p:grpSpPr>
            <a:xfrm>
              <a:off x="4339800" y="2210760"/>
              <a:ext cx="481680" cy="469080"/>
              <a:chOff x="4339800" y="2210760"/>
              <a:chExt cx="481680" cy="469080"/>
            </a:xfrm>
          </p:grpSpPr>
          <p:sp>
            <p:nvSpPr>
              <p:cNvPr id="651" name="十字星 176"/>
              <p:cNvSpPr/>
              <p:nvPr/>
            </p:nvSpPr>
            <p:spPr>
              <a:xfrm>
                <a:off x="4436280" y="2299320"/>
                <a:ext cx="289080" cy="290160"/>
              </a:xfrm>
              <a:custGeom>
                <a:avLst/>
                <a:gdLst>
                  <a:gd name="textAreaLeft" fmla="*/ 42840 w 289080"/>
                  <a:gd name="textAreaRight" fmla="*/ 246240 w 289080"/>
                  <a:gd name="textAreaTop" fmla="*/ 42840 h 290160"/>
                  <a:gd name="textAreaBottom" fmla="*/ 247320 h 290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3200" y="3200"/>
                    </a:lnTo>
                    <a:lnTo>
                      <a:pt x="10800" y="0"/>
                    </a:lnTo>
                    <a:lnTo>
                      <a:pt x="18400" y="3200"/>
                    </a:lnTo>
                    <a:lnTo>
                      <a:pt x="21600" y="10800"/>
                    </a:lnTo>
                    <a:lnTo>
                      <a:pt x="18400" y="18400"/>
                    </a:lnTo>
                    <a:lnTo>
                      <a:pt x="10800" y="21600"/>
                    </a:lnTo>
                    <a:lnTo>
                      <a:pt x="3200" y="18400"/>
                    </a:lnTo>
                    <a:lnTo>
                      <a:pt x="0" y="10800"/>
                    </a:lnTo>
                    <a:close/>
                  </a:path>
                </a:pathLst>
              </a:custGeom>
              <a:noFill/>
              <a:ln w="9360">
                <a:solidFill>
                  <a:srgbClr val="ffffff">
                    <a:alpha val="75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" name="十字星 177"/>
              <p:cNvSpPr/>
              <p:nvPr/>
            </p:nvSpPr>
            <p:spPr>
              <a:xfrm>
                <a:off x="4512960" y="2379960"/>
                <a:ext cx="137520" cy="137880"/>
              </a:xfrm>
              <a:custGeom>
                <a:avLst/>
                <a:gdLst>
                  <a:gd name="textAreaLeft" fmla="*/ 20160 w 137520"/>
                  <a:gd name="textAreaRight" fmla="*/ 117360 w 137520"/>
                  <a:gd name="textAreaTop" fmla="*/ 20160 h 137880"/>
                  <a:gd name="textAreaBottom" fmla="*/ 117720 h 137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3200" y="3200"/>
                    </a:lnTo>
                    <a:lnTo>
                      <a:pt x="10800" y="0"/>
                    </a:lnTo>
                    <a:lnTo>
                      <a:pt x="18400" y="3200"/>
                    </a:lnTo>
                    <a:lnTo>
                      <a:pt x="21600" y="10800"/>
                    </a:lnTo>
                    <a:lnTo>
                      <a:pt x="18400" y="18400"/>
                    </a:lnTo>
                    <a:lnTo>
                      <a:pt x="10800" y="21600"/>
                    </a:lnTo>
                    <a:lnTo>
                      <a:pt x="3200" y="18400"/>
                    </a:lnTo>
                    <a:lnTo>
                      <a:pt x="0" y="10800"/>
                    </a:lnTo>
                    <a:close/>
                  </a:path>
                </a:pathLst>
              </a:custGeom>
              <a:noFill/>
              <a:ln w="9360">
                <a:solidFill>
                  <a:srgbClr val="ffffff">
                    <a:alpha val="75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任意多边形 178"/>
              <p:cNvSpPr/>
              <p:nvPr/>
            </p:nvSpPr>
            <p:spPr>
              <a:xfrm>
                <a:off x="4677120" y="2396520"/>
                <a:ext cx="23400" cy="99360"/>
              </a:xfrm>
              <a:custGeom>
                <a:avLst/>
                <a:gdLst>
                  <a:gd name="textAreaLeft" fmla="*/ 0 w 23400"/>
                  <a:gd name="textAreaRight" fmla="*/ 23760 w 23400"/>
                  <a:gd name="textAreaTop" fmla="*/ 0 h 99360"/>
                  <a:gd name="textAreaBottom" fmla="*/ 99720 h 99360"/>
                </a:gdLst>
                <a:ahLst/>
                <a:rect l="textAreaLeft" t="textAreaTop" r="textAreaRight" b="textAreaBottom"/>
                <a:pathLst>
                  <a:path w="105196" h="445062">
                    <a:moveTo>
                      <a:pt x="0" y="0"/>
                    </a:moveTo>
                    <a:lnTo>
                      <a:pt x="105196" y="218485"/>
                    </a:lnTo>
                    <a:lnTo>
                      <a:pt x="8092" y="445062"/>
                    </a:lnTo>
                  </a:path>
                </a:pathLst>
              </a:custGeom>
              <a:noFill/>
              <a:ln w="9360">
                <a:solidFill>
                  <a:srgbClr val="ffffff">
                    <a:alpha val="75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任意多边形 179"/>
              <p:cNvSpPr/>
              <p:nvPr/>
            </p:nvSpPr>
            <p:spPr>
              <a:xfrm flipH="1">
                <a:off x="4467600" y="2396160"/>
                <a:ext cx="23400" cy="9936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99360"/>
                  <a:gd name="textAreaBottom" fmla="*/ 99720 h 99360"/>
                </a:gdLst>
                <a:ahLst/>
                <a:rect l="textAreaLeft" t="textAreaTop" r="textAreaRight" b="textAreaBottom"/>
                <a:pathLst>
                  <a:path w="105196" h="445062">
                    <a:moveTo>
                      <a:pt x="0" y="0"/>
                    </a:moveTo>
                    <a:lnTo>
                      <a:pt x="105196" y="218485"/>
                    </a:lnTo>
                    <a:lnTo>
                      <a:pt x="8092" y="445062"/>
                    </a:lnTo>
                  </a:path>
                </a:pathLst>
              </a:custGeom>
              <a:noFill/>
              <a:ln w="9360">
                <a:solidFill>
                  <a:srgbClr val="ffffff">
                    <a:alpha val="75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任意多边形 180"/>
              <p:cNvSpPr/>
              <p:nvPr/>
            </p:nvSpPr>
            <p:spPr>
              <a:xfrm flipH="1" rot="16200000">
                <a:off x="4570920" y="2495520"/>
                <a:ext cx="23400" cy="9936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99360"/>
                  <a:gd name="textAreaBottom" fmla="*/ 99720 h 99360"/>
                </a:gdLst>
                <a:ahLst/>
                <a:rect l="textAreaLeft" t="textAreaTop" r="textAreaRight" b="textAreaBottom"/>
                <a:pathLst>
                  <a:path w="105196" h="445062">
                    <a:moveTo>
                      <a:pt x="0" y="0"/>
                    </a:moveTo>
                    <a:lnTo>
                      <a:pt x="105196" y="218485"/>
                    </a:lnTo>
                    <a:lnTo>
                      <a:pt x="8092" y="445062"/>
                    </a:lnTo>
                  </a:path>
                </a:pathLst>
              </a:custGeom>
              <a:noFill/>
              <a:ln w="9360">
                <a:solidFill>
                  <a:srgbClr val="ffffff">
                    <a:alpha val="75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任意多边形 181"/>
              <p:cNvSpPr/>
              <p:nvPr/>
            </p:nvSpPr>
            <p:spPr>
              <a:xfrm flipH="1" flipV="1" rot="5400000">
                <a:off x="4572360" y="2296440"/>
                <a:ext cx="23400" cy="9936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360 h 99360"/>
                  <a:gd name="textAreaBottom" fmla="*/ 100080 h 99360"/>
                </a:gdLst>
                <a:ahLst/>
                <a:rect l="textAreaLeft" t="textAreaTop" r="textAreaRight" b="textAreaBottom"/>
                <a:pathLst>
                  <a:path w="105196" h="445062">
                    <a:moveTo>
                      <a:pt x="0" y="0"/>
                    </a:moveTo>
                    <a:lnTo>
                      <a:pt x="105196" y="218485"/>
                    </a:lnTo>
                    <a:lnTo>
                      <a:pt x="8092" y="445062"/>
                    </a:lnTo>
                  </a:path>
                </a:pathLst>
              </a:custGeom>
              <a:noFill/>
              <a:ln w="9360">
                <a:solidFill>
                  <a:srgbClr val="ffffff">
                    <a:alpha val="75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57" name=""/>
              <p:cNvGrpSpPr/>
              <p:nvPr/>
            </p:nvGrpSpPr>
            <p:grpSpPr>
              <a:xfrm>
                <a:off x="4339800" y="2396160"/>
                <a:ext cx="481680" cy="101160"/>
                <a:chOff x="4339800" y="2396160"/>
                <a:chExt cx="481680" cy="101160"/>
              </a:xfrm>
            </p:grpSpPr>
            <p:sp>
              <p:nvSpPr>
                <p:cNvPr id="658" name="直接连接符 192"/>
                <p:cNvSpPr/>
                <p:nvPr/>
              </p:nvSpPr>
              <p:spPr>
                <a:xfrm flipH="1">
                  <a:off x="4344840" y="2444400"/>
                  <a:ext cx="466200" cy="720"/>
                </a:xfrm>
                <a:prstGeom prst="line">
                  <a:avLst/>
                </a:prstGeom>
                <a:ln w="9360">
                  <a:solidFill>
                    <a:srgbClr val="ffffff">
                      <a:alpha val="75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9" name="任意多边形 193"/>
                <p:cNvSpPr/>
                <p:nvPr/>
              </p:nvSpPr>
              <p:spPr>
                <a:xfrm flipH="1">
                  <a:off x="4797720" y="2396160"/>
                  <a:ext cx="23400" cy="9936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99360"/>
                    <a:gd name="textAreaBottom" fmla="*/ 99720 h 99360"/>
                  </a:gdLst>
                  <a:ahLst/>
                  <a:rect l="textAreaLeft" t="textAreaTop" r="textAreaRight" b="textAreaBottom"/>
                  <a:pathLst>
                    <a:path w="105196" h="445062">
                      <a:moveTo>
                        <a:pt x="0" y="0"/>
                      </a:moveTo>
                      <a:lnTo>
                        <a:pt x="105196" y="218485"/>
                      </a:lnTo>
                      <a:lnTo>
                        <a:pt x="8092" y="445062"/>
                      </a:lnTo>
                    </a:path>
                  </a:pathLst>
                </a:custGeom>
                <a:noFill/>
                <a:ln w="9360">
                  <a:solidFill>
                    <a:srgbClr val="ffffff">
                      <a:alpha val="75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0" name="任意多边形 194"/>
                <p:cNvSpPr/>
                <p:nvPr/>
              </p:nvSpPr>
              <p:spPr>
                <a:xfrm>
                  <a:off x="4339800" y="2397960"/>
                  <a:ext cx="23400" cy="99360"/>
                </a:xfrm>
                <a:custGeom>
                  <a:avLst/>
                  <a:gdLst>
                    <a:gd name="textAreaLeft" fmla="*/ 0 w 23400"/>
                    <a:gd name="textAreaRight" fmla="*/ 23760 w 23400"/>
                    <a:gd name="textAreaTop" fmla="*/ 0 h 99360"/>
                    <a:gd name="textAreaBottom" fmla="*/ 99720 h 99360"/>
                  </a:gdLst>
                  <a:ahLst/>
                  <a:rect l="textAreaLeft" t="textAreaTop" r="textAreaRight" b="textAreaBottom"/>
                  <a:pathLst>
                    <a:path w="105196" h="445062">
                      <a:moveTo>
                        <a:pt x="0" y="0"/>
                      </a:moveTo>
                      <a:lnTo>
                        <a:pt x="105196" y="218485"/>
                      </a:lnTo>
                      <a:lnTo>
                        <a:pt x="8092" y="445062"/>
                      </a:lnTo>
                    </a:path>
                  </a:pathLst>
                </a:custGeom>
                <a:noFill/>
                <a:ln w="9360">
                  <a:solidFill>
                    <a:srgbClr val="ffffff">
                      <a:alpha val="75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1" name="六边形 183"/>
              <p:cNvSpPr/>
              <p:nvPr/>
            </p:nvSpPr>
            <p:spPr>
              <a:xfrm>
                <a:off x="4387680" y="2266200"/>
                <a:ext cx="385920" cy="351000"/>
              </a:xfrm>
              <a:prstGeom prst="hexagon">
                <a:avLst>
                  <a:gd name="adj" fmla="val 24937"/>
                  <a:gd name="vf" fmla="val 115470"/>
                </a:avLst>
              </a:prstGeom>
              <a:noFill/>
              <a:ln w="9360">
                <a:solidFill>
                  <a:srgbClr val="ffffff">
                    <a:alpha val="75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62" name=""/>
              <p:cNvGrpSpPr/>
              <p:nvPr/>
            </p:nvGrpSpPr>
            <p:grpSpPr>
              <a:xfrm>
                <a:off x="4412160" y="2212560"/>
                <a:ext cx="329400" cy="467280"/>
                <a:chOff x="4412160" y="2212560"/>
                <a:chExt cx="329400" cy="467280"/>
              </a:xfrm>
            </p:grpSpPr>
            <p:sp>
              <p:nvSpPr>
                <p:cNvPr id="663" name="直接连接符 189"/>
                <p:cNvSpPr/>
                <p:nvPr/>
              </p:nvSpPr>
              <p:spPr>
                <a:xfrm flipH="1" flipV="1">
                  <a:off x="4460040" y="2240640"/>
                  <a:ext cx="234360" cy="404640"/>
                </a:xfrm>
                <a:prstGeom prst="line">
                  <a:avLst/>
                </a:prstGeom>
                <a:ln w="9360">
                  <a:solidFill>
                    <a:srgbClr val="ffffff">
                      <a:alpha val="75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4" name="任意多边形 190"/>
                <p:cNvSpPr/>
                <p:nvPr/>
              </p:nvSpPr>
              <p:spPr>
                <a:xfrm flipH="1" rot="3600000">
                  <a:off x="4680720" y="2594880"/>
                  <a:ext cx="23400" cy="9936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99360"/>
                    <a:gd name="textAreaBottom" fmla="*/ 99720 h 99360"/>
                  </a:gdLst>
                  <a:ahLst/>
                  <a:rect l="textAreaLeft" t="textAreaTop" r="textAreaRight" b="textAreaBottom"/>
                  <a:pathLst>
                    <a:path w="105196" h="445062">
                      <a:moveTo>
                        <a:pt x="0" y="0"/>
                      </a:moveTo>
                      <a:lnTo>
                        <a:pt x="105196" y="218485"/>
                      </a:lnTo>
                      <a:lnTo>
                        <a:pt x="8092" y="445062"/>
                      </a:lnTo>
                    </a:path>
                  </a:pathLst>
                </a:custGeom>
                <a:noFill/>
                <a:ln w="9360">
                  <a:solidFill>
                    <a:srgbClr val="ffffff">
                      <a:alpha val="75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5" name="任意多边形 191"/>
                <p:cNvSpPr/>
                <p:nvPr/>
              </p:nvSpPr>
              <p:spPr>
                <a:xfrm rot="3600000">
                  <a:off x="4449240" y="2197800"/>
                  <a:ext cx="23400" cy="99360"/>
                </a:xfrm>
                <a:custGeom>
                  <a:avLst/>
                  <a:gdLst>
                    <a:gd name="textAreaLeft" fmla="*/ 0 w 23400"/>
                    <a:gd name="textAreaRight" fmla="*/ 23760 w 23400"/>
                    <a:gd name="textAreaTop" fmla="*/ 0 h 99360"/>
                    <a:gd name="textAreaBottom" fmla="*/ 99720 h 99360"/>
                  </a:gdLst>
                  <a:ahLst/>
                  <a:rect l="textAreaLeft" t="textAreaTop" r="textAreaRight" b="textAreaBottom"/>
                  <a:pathLst>
                    <a:path w="105196" h="445062">
                      <a:moveTo>
                        <a:pt x="0" y="0"/>
                      </a:moveTo>
                      <a:lnTo>
                        <a:pt x="105196" y="218485"/>
                      </a:lnTo>
                      <a:lnTo>
                        <a:pt x="8092" y="445062"/>
                      </a:lnTo>
                    </a:path>
                  </a:pathLst>
                </a:custGeom>
                <a:noFill/>
                <a:ln w="9360">
                  <a:solidFill>
                    <a:srgbClr val="ffffff">
                      <a:alpha val="75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66" name=""/>
              <p:cNvGrpSpPr/>
              <p:nvPr/>
            </p:nvGrpSpPr>
            <p:grpSpPr>
              <a:xfrm>
                <a:off x="4419720" y="2210760"/>
                <a:ext cx="329400" cy="468360"/>
                <a:chOff x="4419720" y="2210760"/>
                <a:chExt cx="329400" cy="468360"/>
              </a:xfrm>
            </p:grpSpPr>
            <p:sp>
              <p:nvSpPr>
                <p:cNvPr id="667" name="直接连接符 186"/>
                <p:cNvSpPr/>
                <p:nvPr/>
              </p:nvSpPr>
              <p:spPr>
                <a:xfrm flipV="1">
                  <a:off x="4466880" y="2238840"/>
                  <a:ext cx="234360" cy="404640"/>
                </a:xfrm>
                <a:prstGeom prst="line">
                  <a:avLst/>
                </a:prstGeom>
                <a:ln w="9360">
                  <a:solidFill>
                    <a:srgbClr val="ffffff">
                      <a:alpha val="75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8" name="任意多边形 187"/>
                <p:cNvSpPr/>
                <p:nvPr/>
              </p:nvSpPr>
              <p:spPr>
                <a:xfrm rot="18000000">
                  <a:off x="4456800" y="2593440"/>
                  <a:ext cx="23400" cy="99720"/>
                </a:xfrm>
                <a:custGeom>
                  <a:avLst/>
                  <a:gdLst>
                    <a:gd name="textAreaLeft" fmla="*/ 0 w 23400"/>
                    <a:gd name="textAreaRight" fmla="*/ 23760 w 23400"/>
                    <a:gd name="textAreaTop" fmla="*/ 0 h 99720"/>
                    <a:gd name="textAreaBottom" fmla="*/ 100080 h 99720"/>
                  </a:gdLst>
                  <a:ahLst/>
                  <a:rect l="textAreaLeft" t="textAreaTop" r="textAreaRight" b="textAreaBottom"/>
                  <a:pathLst>
                    <a:path w="105196" h="445062">
                      <a:moveTo>
                        <a:pt x="0" y="0"/>
                      </a:moveTo>
                      <a:lnTo>
                        <a:pt x="105196" y="218485"/>
                      </a:lnTo>
                      <a:lnTo>
                        <a:pt x="8092" y="445062"/>
                      </a:lnTo>
                    </a:path>
                  </a:pathLst>
                </a:custGeom>
                <a:noFill/>
                <a:ln w="9360">
                  <a:solidFill>
                    <a:srgbClr val="ffffff">
                      <a:alpha val="75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9" name="任意多边形 188"/>
                <p:cNvSpPr/>
                <p:nvPr/>
              </p:nvSpPr>
              <p:spPr>
                <a:xfrm flipH="1" rot="18000000">
                  <a:off x="4688280" y="2196000"/>
                  <a:ext cx="23400" cy="9972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99720"/>
                    <a:gd name="textAreaBottom" fmla="*/ 100080 h 99720"/>
                  </a:gdLst>
                  <a:ahLst/>
                  <a:rect l="textAreaLeft" t="textAreaTop" r="textAreaRight" b="textAreaBottom"/>
                  <a:pathLst>
                    <a:path w="105196" h="445062">
                      <a:moveTo>
                        <a:pt x="0" y="0"/>
                      </a:moveTo>
                      <a:lnTo>
                        <a:pt x="105196" y="218485"/>
                      </a:lnTo>
                      <a:lnTo>
                        <a:pt x="8092" y="445062"/>
                      </a:lnTo>
                    </a:path>
                  </a:pathLst>
                </a:custGeom>
                <a:noFill/>
                <a:ln w="9360">
                  <a:solidFill>
                    <a:srgbClr val="ffffff">
                      <a:alpha val="75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670" name=""/>
          <p:cNvGrpSpPr/>
          <p:nvPr/>
        </p:nvGrpSpPr>
        <p:grpSpPr>
          <a:xfrm>
            <a:off x="-1001880" y="-228600"/>
            <a:ext cx="5996880" cy="8340840"/>
            <a:chOff x="-1001880" y="-228600"/>
            <a:chExt cx="5996880" cy="8340840"/>
          </a:xfrm>
        </p:grpSpPr>
        <p:grpSp>
          <p:nvGrpSpPr>
            <p:cNvPr id="671" name=""/>
            <p:cNvGrpSpPr/>
            <p:nvPr/>
          </p:nvGrpSpPr>
          <p:grpSpPr>
            <a:xfrm>
              <a:off x="-751320" y="-228600"/>
              <a:ext cx="5746320" cy="8340840"/>
              <a:chOff x="-751320" y="-228600"/>
              <a:chExt cx="5746320" cy="8340840"/>
            </a:xfrm>
          </p:grpSpPr>
          <p:grpSp>
            <p:nvGrpSpPr>
              <p:cNvPr id="672" name=""/>
              <p:cNvGrpSpPr/>
              <p:nvPr/>
            </p:nvGrpSpPr>
            <p:grpSpPr>
              <a:xfrm>
                <a:off x="738720" y="2980440"/>
                <a:ext cx="1475280" cy="1058400"/>
                <a:chOff x="738720" y="2980440"/>
                <a:chExt cx="1475280" cy="1058400"/>
              </a:xfrm>
            </p:grpSpPr>
            <p:sp>
              <p:nvSpPr>
                <p:cNvPr id="673" name="任意多边形 217"/>
                <p:cNvSpPr/>
                <p:nvPr/>
              </p:nvSpPr>
              <p:spPr>
                <a:xfrm rot="17128200">
                  <a:off x="1111320" y="2845080"/>
                  <a:ext cx="730080" cy="1328760"/>
                </a:xfrm>
                <a:custGeom>
                  <a:avLst/>
                  <a:gdLst>
                    <a:gd name="textAreaLeft" fmla="*/ 0 w 730080"/>
                    <a:gd name="textAreaRight" fmla="*/ 730440 w 730080"/>
                    <a:gd name="textAreaTop" fmla="*/ 0 h 1328760"/>
                    <a:gd name="textAreaBottom" fmla="*/ 1329120 h 1328760"/>
                  </a:gdLst>
                  <a:ahLst/>
                  <a:rect l="textAreaLeft" t="textAreaTop" r="textAreaRight" b="textAreaBottom"/>
                  <a:pathLst>
                    <a:path w="2065867" h="4030133">
                      <a:moveTo>
                        <a:pt x="270933" y="677333"/>
                      </a:moveTo>
                      <a:cubicBezTo>
                        <a:pt x="259644" y="733778"/>
                        <a:pt x="257278" y="792770"/>
                        <a:pt x="237067" y="846667"/>
                      </a:cubicBezTo>
                      <a:cubicBezTo>
                        <a:pt x="222775" y="884778"/>
                        <a:pt x="187536" y="911861"/>
                        <a:pt x="169333" y="948267"/>
                      </a:cubicBezTo>
                      <a:cubicBezTo>
                        <a:pt x="153368" y="980197"/>
                        <a:pt x="146756" y="1016000"/>
                        <a:pt x="135467" y="1049867"/>
                      </a:cubicBezTo>
                      <a:cubicBezTo>
                        <a:pt x="124178" y="1128889"/>
                        <a:pt x="124537" y="1210475"/>
                        <a:pt x="101600" y="1286933"/>
                      </a:cubicBezTo>
                      <a:cubicBezTo>
                        <a:pt x="89904" y="1325919"/>
                        <a:pt x="52070" y="1352127"/>
                        <a:pt x="33867" y="1388533"/>
                      </a:cubicBezTo>
                      <a:cubicBezTo>
                        <a:pt x="17902" y="1420463"/>
                        <a:pt x="11289" y="1456266"/>
                        <a:pt x="0" y="1490133"/>
                      </a:cubicBezTo>
                      <a:cubicBezTo>
                        <a:pt x="11289" y="1648178"/>
                        <a:pt x="6331" y="1808231"/>
                        <a:pt x="33867" y="1964267"/>
                      </a:cubicBezTo>
                      <a:cubicBezTo>
                        <a:pt x="40941" y="2004350"/>
                        <a:pt x="77942" y="2032746"/>
                        <a:pt x="101600" y="2065867"/>
                      </a:cubicBezTo>
                      <a:cubicBezTo>
                        <a:pt x="134408" y="2111798"/>
                        <a:pt x="167065" y="2157971"/>
                        <a:pt x="203200" y="2201333"/>
                      </a:cubicBezTo>
                      <a:cubicBezTo>
                        <a:pt x="223641" y="2225862"/>
                        <a:pt x="253221" y="2242500"/>
                        <a:pt x="270933" y="2269067"/>
                      </a:cubicBezTo>
                      <a:cubicBezTo>
                        <a:pt x="298937" y="2311073"/>
                        <a:pt x="313619" y="2360700"/>
                        <a:pt x="338667" y="2404533"/>
                      </a:cubicBezTo>
                      <a:cubicBezTo>
                        <a:pt x="443708" y="2588354"/>
                        <a:pt x="378175" y="2421458"/>
                        <a:pt x="440267" y="2607733"/>
                      </a:cubicBezTo>
                      <a:cubicBezTo>
                        <a:pt x="451556" y="2686755"/>
                        <a:pt x="448890" y="2769072"/>
                        <a:pt x="474133" y="2844800"/>
                      </a:cubicBezTo>
                      <a:cubicBezTo>
                        <a:pt x="484230" y="2875091"/>
                        <a:pt x="525439" y="2885153"/>
                        <a:pt x="541867" y="2912533"/>
                      </a:cubicBezTo>
                      <a:cubicBezTo>
                        <a:pt x="692110" y="3162937"/>
                        <a:pt x="437916" y="2858793"/>
                        <a:pt x="643467" y="3115733"/>
                      </a:cubicBezTo>
                      <a:cubicBezTo>
                        <a:pt x="663413" y="3140666"/>
                        <a:pt x="691254" y="3158534"/>
                        <a:pt x="711200" y="3183467"/>
                      </a:cubicBezTo>
                      <a:cubicBezTo>
                        <a:pt x="736627" y="3215251"/>
                        <a:pt x="752130" y="3254435"/>
                        <a:pt x="778933" y="3285067"/>
                      </a:cubicBezTo>
                      <a:cubicBezTo>
                        <a:pt x="831498" y="3345141"/>
                        <a:pt x="900372" y="3390540"/>
                        <a:pt x="948267" y="3454400"/>
                      </a:cubicBezTo>
                      <a:cubicBezTo>
                        <a:pt x="982134" y="3499556"/>
                        <a:pt x="1019951" y="3542002"/>
                        <a:pt x="1049867" y="3589867"/>
                      </a:cubicBezTo>
                      <a:cubicBezTo>
                        <a:pt x="1076624" y="3632678"/>
                        <a:pt x="1089596" y="3683327"/>
                        <a:pt x="1117600" y="3725333"/>
                      </a:cubicBezTo>
                      <a:cubicBezTo>
                        <a:pt x="1164328" y="3795425"/>
                        <a:pt x="1222230" y="3809038"/>
                        <a:pt x="1286933" y="3860800"/>
                      </a:cubicBezTo>
                      <a:cubicBezTo>
                        <a:pt x="1311866" y="3880746"/>
                        <a:pt x="1328100" y="3910821"/>
                        <a:pt x="1354667" y="3928533"/>
                      </a:cubicBezTo>
                      <a:cubicBezTo>
                        <a:pt x="1438370" y="3984335"/>
                        <a:pt x="1501418" y="4000029"/>
                        <a:pt x="1591733" y="4030133"/>
                      </a:cubicBezTo>
                      <a:cubicBezTo>
                        <a:pt x="1670755" y="4018844"/>
                        <a:pt x="1753072" y="4021510"/>
                        <a:pt x="1828800" y="3996267"/>
                      </a:cubicBezTo>
                      <a:cubicBezTo>
                        <a:pt x="1947678" y="3956641"/>
                        <a:pt x="1962781" y="3628192"/>
                        <a:pt x="1964267" y="3623733"/>
                      </a:cubicBezTo>
                      <a:cubicBezTo>
                        <a:pt x="1977138" y="3585119"/>
                        <a:pt x="2013797" y="3558539"/>
                        <a:pt x="2032000" y="3522133"/>
                      </a:cubicBezTo>
                      <a:cubicBezTo>
                        <a:pt x="2047965" y="3490203"/>
                        <a:pt x="2054578" y="3454400"/>
                        <a:pt x="2065867" y="3420533"/>
                      </a:cubicBezTo>
                      <a:cubicBezTo>
                        <a:pt x="2054578" y="3318933"/>
                        <a:pt x="2052048" y="3215973"/>
                        <a:pt x="2032000" y="3115733"/>
                      </a:cubicBezTo>
                      <a:cubicBezTo>
                        <a:pt x="2017998" y="3045722"/>
                        <a:pt x="1964267" y="2912533"/>
                        <a:pt x="1964267" y="2912533"/>
                      </a:cubicBezTo>
                      <a:cubicBezTo>
                        <a:pt x="2045473" y="2668911"/>
                        <a:pt x="1946942" y="2973167"/>
                        <a:pt x="2032000" y="2675467"/>
                      </a:cubicBezTo>
                      <a:cubicBezTo>
                        <a:pt x="2041807" y="2641142"/>
                        <a:pt x="2054578" y="2607734"/>
                        <a:pt x="2065867" y="2573867"/>
                      </a:cubicBezTo>
                      <a:cubicBezTo>
                        <a:pt x="1988036" y="2340376"/>
                        <a:pt x="2048618" y="2421153"/>
                        <a:pt x="1930400" y="2302933"/>
                      </a:cubicBezTo>
                      <a:cubicBezTo>
                        <a:pt x="1919111" y="2257778"/>
                        <a:pt x="1909320" y="2212221"/>
                        <a:pt x="1896533" y="2167467"/>
                      </a:cubicBezTo>
                      <a:cubicBezTo>
                        <a:pt x="1886726" y="2133142"/>
                        <a:pt x="1868536" y="2101080"/>
                        <a:pt x="1862667" y="2065867"/>
                      </a:cubicBezTo>
                      <a:cubicBezTo>
                        <a:pt x="1846052" y="1966175"/>
                        <a:pt x="1835554" y="1713597"/>
                        <a:pt x="1794933" y="1591733"/>
                      </a:cubicBezTo>
                      <a:cubicBezTo>
                        <a:pt x="1778968" y="1543839"/>
                        <a:pt x="1753174" y="1499558"/>
                        <a:pt x="1727200" y="1456267"/>
                      </a:cubicBezTo>
                      <a:cubicBezTo>
                        <a:pt x="1685317" y="1386462"/>
                        <a:pt x="1591733" y="1253067"/>
                        <a:pt x="1591733" y="1253067"/>
                      </a:cubicBezTo>
                      <a:cubicBezTo>
                        <a:pt x="1555962" y="1145753"/>
                        <a:pt x="1565165" y="1143657"/>
                        <a:pt x="1490133" y="1049867"/>
                      </a:cubicBezTo>
                      <a:cubicBezTo>
                        <a:pt x="1470187" y="1024934"/>
                        <a:pt x="1442346" y="1007066"/>
                        <a:pt x="1422400" y="982133"/>
                      </a:cubicBezTo>
                      <a:cubicBezTo>
                        <a:pt x="1396973" y="950349"/>
                        <a:pt x="1380094" y="912316"/>
                        <a:pt x="1354667" y="880533"/>
                      </a:cubicBezTo>
                      <a:cubicBezTo>
                        <a:pt x="1334721" y="855600"/>
                        <a:pt x="1306879" y="837733"/>
                        <a:pt x="1286933" y="812800"/>
                      </a:cubicBezTo>
                      <a:cubicBezTo>
                        <a:pt x="1261506" y="781017"/>
                        <a:pt x="1246241" y="741622"/>
                        <a:pt x="1219200" y="711200"/>
                      </a:cubicBezTo>
                      <a:cubicBezTo>
                        <a:pt x="1155561" y="639606"/>
                        <a:pt x="1095702" y="561134"/>
                        <a:pt x="1016000" y="508000"/>
                      </a:cubicBezTo>
                      <a:cubicBezTo>
                        <a:pt x="887833" y="422556"/>
                        <a:pt x="943181" y="469048"/>
                        <a:pt x="846667" y="372533"/>
                      </a:cubicBezTo>
                      <a:cubicBezTo>
                        <a:pt x="835378" y="338666"/>
                        <a:pt x="832602" y="300636"/>
                        <a:pt x="812800" y="270933"/>
                      </a:cubicBezTo>
                      <a:cubicBezTo>
                        <a:pt x="786233" y="231082"/>
                        <a:pt x="749006" y="198737"/>
                        <a:pt x="711200" y="169333"/>
                      </a:cubicBezTo>
                      <a:cubicBezTo>
                        <a:pt x="536524" y="33474"/>
                        <a:pt x="559693" y="51098"/>
                        <a:pt x="406400" y="0"/>
                      </a:cubicBezTo>
                      <a:cubicBezTo>
                        <a:pt x="361244" y="11289"/>
                        <a:pt x="313715" y="15532"/>
                        <a:pt x="270933" y="33867"/>
                      </a:cubicBezTo>
                      <a:cubicBezTo>
                        <a:pt x="53886" y="126887"/>
                        <a:pt x="173770" y="228415"/>
                        <a:pt x="203200" y="508000"/>
                      </a:cubicBezTo>
                      <a:cubicBezTo>
                        <a:pt x="230238" y="764856"/>
                        <a:pt x="168958" y="711013"/>
                        <a:pt x="304800" y="778933"/>
                      </a:cubicBez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4" name="任意多边形 218"/>
                <p:cNvSpPr/>
                <p:nvPr/>
              </p:nvSpPr>
              <p:spPr>
                <a:xfrm rot="17128200">
                  <a:off x="1036440" y="3143520"/>
                  <a:ext cx="353160" cy="681840"/>
                </a:xfrm>
                <a:custGeom>
                  <a:avLst/>
                  <a:gdLst>
                    <a:gd name="textAreaLeft" fmla="*/ 0 w 353160"/>
                    <a:gd name="textAreaRight" fmla="*/ 353520 w 353160"/>
                    <a:gd name="textAreaTop" fmla="*/ 0 h 681840"/>
                    <a:gd name="textAreaBottom" fmla="*/ 682200 h 681840"/>
                  </a:gdLst>
                  <a:ahLst/>
                  <a:rect l="textAreaLeft" t="textAreaTop" r="textAreaRight" b="textAreaBottom"/>
                  <a:pathLst>
                    <a:path w="2065867" h="4030133">
                      <a:moveTo>
                        <a:pt x="270933" y="677333"/>
                      </a:moveTo>
                      <a:cubicBezTo>
                        <a:pt x="259644" y="733778"/>
                        <a:pt x="257278" y="792770"/>
                        <a:pt x="237067" y="846667"/>
                      </a:cubicBezTo>
                      <a:cubicBezTo>
                        <a:pt x="222775" y="884778"/>
                        <a:pt x="187536" y="911861"/>
                        <a:pt x="169333" y="948267"/>
                      </a:cubicBezTo>
                      <a:cubicBezTo>
                        <a:pt x="153368" y="980197"/>
                        <a:pt x="146756" y="1016000"/>
                        <a:pt x="135467" y="1049867"/>
                      </a:cubicBezTo>
                      <a:cubicBezTo>
                        <a:pt x="124178" y="1128889"/>
                        <a:pt x="124537" y="1210475"/>
                        <a:pt x="101600" y="1286933"/>
                      </a:cubicBezTo>
                      <a:cubicBezTo>
                        <a:pt x="89904" y="1325919"/>
                        <a:pt x="52070" y="1352127"/>
                        <a:pt x="33867" y="1388533"/>
                      </a:cubicBezTo>
                      <a:cubicBezTo>
                        <a:pt x="17902" y="1420463"/>
                        <a:pt x="11289" y="1456266"/>
                        <a:pt x="0" y="1490133"/>
                      </a:cubicBezTo>
                      <a:cubicBezTo>
                        <a:pt x="11289" y="1648178"/>
                        <a:pt x="6331" y="1808231"/>
                        <a:pt x="33867" y="1964267"/>
                      </a:cubicBezTo>
                      <a:cubicBezTo>
                        <a:pt x="40941" y="2004350"/>
                        <a:pt x="77942" y="2032746"/>
                        <a:pt x="101600" y="2065867"/>
                      </a:cubicBezTo>
                      <a:cubicBezTo>
                        <a:pt x="134408" y="2111798"/>
                        <a:pt x="167065" y="2157971"/>
                        <a:pt x="203200" y="2201333"/>
                      </a:cubicBezTo>
                      <a:cubicBezTo>
                        <a:pt x="223641" y="2225862"/>
                        <a:pt x="253221" y="2242500"/>
                        <a:pt x="270933" y="2269067"/>
                      </a:cubicBezTo>
                      <a:cubicBezTo>
                        <a:pt x="298937" y="2311073"/>
                        <a:pt x="313619" y="2360700"/>
                        <a:pt x="338667" y="2404533"/>
                      </a:cubicBezTo>
                      <a:cubicBezTo>
                        <a:pt x="443708" y="2588354"/>
                        <a:pt x="378175" y="2421458"/>
                        <a:pt x="440267" y="2607733"/>
                      </a:cubicBezTo>
                      <a:cubicBezTo>
                        <a:pt x="451556" y="2686755"/>
                        <a:pt x="448890" y="2769072"/>
                        <a:pt x="474133" y="2844800"/>
                      </a:cubicBezTo>
                      <a:cubicBezTo>
                        <a:pt x="484230" y="2875091"/>
                        <a:pt x="525439" y="2885153"/>
                        <a:pt x="541867" y="2912533"/>
                      </a:cubicBezTo>
                      <a:cubicBezTo>
                        <a:pt x="692110" y="3162937"/>
                        <a:pt x="437916" y="2858793"/>
                        <a:pt x="643467" y="3115733"/>
                      </a:cubicBezTo>
                      <a:cubicBezTo>
                        <a:pt x="663413" y="3140666"/>
                        <a:pt x="691254" y="3158534"/>
                        <a:pt x="711200" y="3183467"/>
                      </a:cubicBezTo>
                      <a:cubicBezTo>
                        <a:pt x="736627" y="3215251"/>
                        <a:pt x="752130" y="3254435"/>
                        <a:pt x="778933" y="3285067"/>
                      </a:cubicBezTo>
                      <a:cubicBezTo>
                        <a:pt x="831498" y="3345141"/>
                        <a:pt x="900372" y="3390540"/>
                        <a:pt x="948267" y="3454400"/>
                      </a:cubicBezTo>
                      <a:cubicBezTo>
                        <a:pt x="982134" y="3499556"/>
                        <a:pt x="1019951" y="3542002"/>
                        <a:pt x="1049867" y="3589867"/>
                      </a:cubicBezTo>
                      <a:cubicBezTo>
                        <a:pt x="1076624" y="3632678"/>
                        <a:pt x="1089596" y="3683327"/>
                        <a:pt x="1117600" y="3725333"/>
                      </a:cubicBezTo>
                      <a:cubicBezTo>
                        <a:pt x="1164328" y="3795425"/>
                        <a:pt x="1222230" y="3809038"/>
                        <a:pt x="1286933" y="3860800"/>
                      </a:cubicBezTo>
                      <a:cubicBezTo>
                        <a:pt x="1311866" y="3880746"/>
                        <a:pt x="1328100" y="3910821"/>
                        <a:pt x="1354667" y="3928533"/>
                      </a:cubicBezTo>
                      <a:cubicBezTo>
                        <a:pt x="1438370" y="3984335"/>
                        <a:pt x="1501418" y="4000029"/>
                        <a:pt x="1591733" y="4030133"/>
                      </a:cubicBezTo>
                      <a:cubicBezTo>
                        <a:pt x="1670755" y="4018844"/>
                        <a:pt x="1753072" y="4021510"/>
                        <a:pt x="1828800" y="3996267"/>
                      </a:cubicBezTo>
                      <a:cubicBezTo>
                        <a:pt x="1947678" y="3956641"/>
                        <a:pt x="1962781" y="3628192"/>
                        <a:pt x="1964267" y="3623733"/>
                      </a:cubicBezTo>
                      <a:cubicBezTo>
                        <a:pt x="1977138" y="3585119"/>
                        <a:pt x="2013797" y="3558539"/>
                        <a:pt x="2032000" y="3522133"/>
                      </a:cubicBezTo>
                      <a:cubicBezTo>
                        <a:pt x="2047965" y="3490203"/>
                        <a:pt x="2054578" y="3454400"/>
                        <a:pt x="2065867" y="3420533"/>
                      </a:cubicBezTo>
                      <a:cubicBezTo>
                        <a:pt x="2054578" y="3318933"/>
                        <a:pt x="2052048" y="3215973"/>
                        <a:pt x="2032000" y="3115733"/>
                      </a:cubicBezTo>
                      <a:cubicBezTo>
                        <a:pt x="2017998" y="3045722"/>
                        <a:pt x="1964267" y="2912533"/>
                        <a:pt x="1964267" y="2912533"/>
                      </a:cubicBezTo>
                      <a:cubicBezTo>
                        <a:pt x="2045473" y="2668911"/>
                        <a:pt x="1946942" y="2973167"/>
                        <a:pt x="2032000" y="2675467"/>
                      </a:cubicBezTo>
                      <a:cubicBezTo>
                        <a:pt x="2041807" y="2641142"/>
                        <a:pt x="2054578" y="2607734"/>
                        <a:pt x="2065867" y="2573867"/>
                      </a:cubicBezTo>
                      <a:cubicBezTo>
                        <a:pt x="1988036" y="2340376"/>
                        <a:pt x="2048618" y="2421153"/>
                        <a:pt x="1930400" y="2302933"/>
                      </a:cubicBezTo>
                      <a:cubicBezTo>
                        <a:pt x="1919111" y="2257778"/>
                        <a:pt x="1909320" y="2212221"/>
                        <a:pt x="1896533" y="2167467"/>
                      </a:cubicBezTo>
                      <a:cubicBezTo>
                        <a:pt x="1886726" y="2133142"/>
                        <a:pt x="1868536" y="2101080"/>
                        <a:pt x="1862667" y="2065867"/>
                      </a:cubicBezTo>
                      <a:cubicBezTo>
                        <a:pt x="1846052" y="1966175"/>
                        <a:pt x="1835554" y="1713597"/>
                        <a:pt x="1794933" y="1591733"/>
                      </a:cubicBezTo>
                      <a:cubicBezTo>
                        <a:pt x="1778968" y="1543839"/>
                        <a:pt x="1753174" y="1499558"/>
                        <a:pt x="1727200" y="1456267"/>
                      </a:cubicBezTo>
                      <a:cubicBezTo>
                        <a:pt x="1685317" y="1386462"/>
                        <a:pt x="1591733" y="1253067"/>
                        <a:pt x="1591733" y="1253067"/>
                      </a:cubicBezTo>
                      <a:cubicBezTo>
                        <a:pt x="1555962" y="1145753"/>
                        <a:pt x="1565165" y="1143657"/>
                        <a:pt x="1490133" y="1049867"/>
                      </a:cubicBezTo>
                      <a:cubicBezTo>
                        <a:pt x="1470187" y="1024934"/>
                        <a:pt x="1442346" y="1007066"/>
                        <a:pt x="1422400" y="982133"/>
                      </a:cubicBezTo>
                      <a:cubicBezTo>
                        <a:pt x="1396973" y="950349"/>
                        <a:pt x="1380094" y="912316"/>
                        <a:pt x="1354667" y="880533"/>
                      </a:cubicBezTo>
                      <a:cubicBezTo>
                        <a:pt x="1334721" y="855600"/>
                        <a:pt x="1306879" y="837733"/>
                        <a:pt x="1286933" y="812800"/>
                      </a:cubicBezTo>
                      <a:cubicBezTo>
                        <a:pt x="1261506" y="781017"/>
                        <a:pt x="1246241" y="741622"/>
                        <a:pt x="1219200" y="711200"/>
                      </a:cubicBezTo>
                      <a:cubicBezTo>
                        <a:pt x="1155561" y="639606"/>
                        <a:pt x="1095702" y="561134"/>
                        <a:pt x="1016000" y="508000"/>
                      </a:cubicBezTo>
                      <a:cubicBezTo>
                        <a:pt x="887833" y="422556"/>
                        <a:pt x="943181" y="469048"/>
                        <a:pt x="846667" y="372533"/>
                      </a:cubicBezTo>
                      <a:cubicBezTo>
                        <a:pt x="835378" y="338666"/>
                        <a:pt x="832602" y="300636"/>
                        <a:pt x="812800" y="270933"/>
                      </a:cubicBezTo>
                      <a:cubicBezTo>
                        <a:pt x="786233" y="231082"/>
                        <a:pt x="749006" y="198737"/>
                        <a:pt x="711200" y="169333"/>
                      </a:cubicBezTo>
                      <a:cubicBezTo>
                        <a:pt x="536524" y="33474"/>
                        <a:pt x="559693" y="51098"/>
                        <a:pt x="406400" y="0"/>
                      </a:cubicBezTo>
                      <a:cubicBezTo>
                        <a:pt x="361244" y="11289"/>
                        <a:pt x="313715" y="15532"/>
                        <a:pt x="270933" y="33867"/>
                      </a:cubicBezTo>
                      <a:cubicBezTo>
                        <a:pt x="53886" y="126887"/>
                        <a:pt x="173770" y="228415"/>
                        <a:pt x="203200" y="508000"/>
                      </a:cubicBezTo>
                      <a:cubicBezTo>
                        <a:pt x="230238" y="764856"/>
                        <a:pt x="168958" y="711013"/>
                        <a:pt x="304800" y="778933"/>
                      </a:cubicBezTo>
                    </a:path>
                  </a:pathLst>
                </a:custGeom>
                <a:solidFill>
                  <a:srgbClr val="f2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5" name="任意多边形 219"/>
                <p:cNvSpPr/>
                <p:nvPr/>
              </p:nvSpPr>
              <p:spPr>
                <a:xfrm rot="17128200">
                  <a:off x="1545480" y="3098880"/>
                  <a:ext cx="169920" cy="512280"/>
                </a:xfrm>
                <a:custGeom>
                  <a:avLst/>
                  <a:gdLst>
                    <a:gd name="textAreaLeft" fmla="*/ 0 w 169920"/>
                    <a:gd name="textAreaRight" fmla="*/ 170280 w 169920"/>
                    <a:gd name="textAreaTop" fmla="*/ 0 h 512280"/>
                    <a:gd name="textAreaBottom" fmla="*/ 512640 h 512280"/>
                  </a:gdLst>
                  <a:ahLst/>
                  <a:rect l="textAreaLeft" t="textAreaTop" r="textAreaRight" b="textAreaBottom"/>
                  <a:pathLst>
                    <a:path w="2065867" h="4030133">
                      <a:moveTo>
                        <a:pt x="270933" y="677333"/>
                      </a:moveTo>
                      <a:cubicBezTo>
                        <a:pt x="259644" y="733778"/>
                        <a:pt x="257278" y="792770"/>
                        <a:pt x="237067" y="846667"/>
                      </a:cubicBezTo>
                      <a:cubicBezTo>
                        <a:pt x="222775" y="884778"/>
                        <a:pt x="187536" y="911861"/>
                        <a:pt x="169333" y="948267"/>
                      </a:cubicBezTo>
                      <a:cubicBezTo>
                        <a:pt x="153368" y="980197"/>
                        <a:pt x="146756" y="1016000"/>
                        <a:pt x="135467" y="1049867"/>
                      </a:cubicBezTo>
                      <a:cubicBezTo>
                        <a:pt x="124178" y="1128889"/>
                        <a:pt x="124537" y="1210475"/>
                        <a:pt x="101600" y="1286933"/>
                      </a:cubicBezTo>
                      <a:cubicBezTo>
                        <a:pt x="89904" y="1325919"/>
                        <a:pt x="52070" y="1352127"/>
                        <a:pt x="33867" y="1388533"/>
                      </a:cubicBezTo>
                      <a:cubicBezTo>
                        <a:pt x="17902" y="1420463"/>
                        <a:pt x="11289" y="1456266"/>
                        <a:pt x="0" y="1490133"/>
                      </a:cubicBezTo>
                      <a:cubicBezTo>
                        <a:pt x="11289" y="1648178"/>
                        <a:pt x="6331" y="1808231"/>
                        <a:pt x="33867" y="1964267"/>
                      </a:cubicBezTo>
                      <a:cubicBezTo>
                        <a:pt x="40941" y="2004350"/>
                        <a:pt x="77942" y="2032746"/>
                        <a:pt x="101600" y="2065867"/>
                      </a:cubicBezTo>
                      <a:cubicBezTo>
                        <a:pt x="134408" y="2111798"/>
                        <a:pt x="167065" y="2157971"/>
                        <a:pt x="203200" y="2201333"/>
                      </a:cubicBezTo>
                      <a:cubicBezTo>
                        <a:pt x="223641" y="2225862"/>
                        <a:pt x="253221" y="2242500"/>
                        <a:pt x="270933" y="2269067"/>
                      </a:cubicBezTo>
                      <a:cubicBezTo>
                        <a:pt x="298937" y="2311073"/>
                        <a:pt x="313619" y="2360700"/>
                        <a:pt x="338667" y="2404533"/>
                      </a:cubicBezTo>
                      <a:cubicBezTo>
                        <a:pt x="443708" y="2588354"/>
                        <a:pt x="378175" y="2421458"/>
                        <a:pt x="440267" y="2607733"/>
                      </a:cubicBezTo>
                      <a:cubicBezTo>
                        <a:pt x="451556" y="2686755"/>
                        <a:pt x="448890" y="2769072"/>
                        <a:pt x="474133" y="2844800"/>
                      </a:cubicBezTo>
                      <a:cubicBezTo>
                        <a:pt x="484230" y="2875091"/>
                        <a:pt x="525439" y="2885153"/>
                        <a:pt x="541867" y="2912533"/>
                      </a:cubicBezTo>
                      <a:cubicBezTo>
                        <a:pt x="692110" y="3162937"/>
                        <a:pt x="437916" y="2858793"/>
                        <a:pt x="643467" y="3115733"/>
                      </a:cubicBezTo>
                      <a:cubicBezTo>
                        <a:pt x="663413" y="3140666"/>
                        <a:pt x="691254" y="3158534"/>
                        <a:pt x="711200" y="3183467"/>
                      </a:cubicBezTo>
                      <a:cubicBezTo>
                        <a:pt x="736627" y="3215251"/>
                        <a:pt x="752130" y="3254435"/>
                        <a:pt x="778933" y="3285067"/>
                      </a:cubicBezTo>
                      <a:cubicBezTo>
                        <a:pt x="831498" y="3345141"/>
                        <a:pt x="900372" y="3390540"/>
                        <a:pt x="948267" y="3454400"/>
                      </a:cubicBezTo>
                      <a:cubicBezTo>
                        <a:pt x="982134" y="3499556"/>
                        <a:pt x="1019951" y="3542002"/>
                        <a:pt x="1049867" y="3589867"/>
                      </a:cubicBezTo>
                      <a:cubicBezTo>
                        <a:pt x="1076624" y="3632678"/>
                        <a:pt x="1089596" y="3683327"/>
                        <a:pt x="1117600" y="3725333"/>
                      </a:cubicBezTo>
                      <a:cubicBezTo>
                        <a:pt x="1164328" y="3795425"/>
                        <a:pt x="1222230" y="3809038"/>
                        <a:pt x="1286933" y="3860800"/>
                      </a:cubicBezTo>
                      <a:cubicBezTo>
                        <a:pt x="1311866" y="3880746"/>
                        <a:pt x="1328100" y="3910821"/>
                        <a:pt x="1354667" y="3928533"/>
                      </a:cubicBezTo>
                      <a:cubicBezTo>
                        <a:pt x="1438370" y="3984335"/>
                        <a:pt x="1501418" y="4000029"/>
                        <a:pt x="1591733" y="4030133"/>
                      </a:cubicBezTo>
                      <a:cubicBezTo>
                        <a:pt x="1670755" y="4018844"/>
                        <a:pt x="1753072" y="4021510"/>
                        <a:pt x="1828800" y="3996267"/>
                      </a:cubicBezTo>
                      <a:cubicBezTo>
                        <a:pt x="1947678" y="3956641"/>
                        <a:pt x="1962781" y="3628192"/>
                        <a:pt x="1964267" y="3623733"/>
                      </a:cubicBezTo>
                      <a:cubicBezTo>
                        <a:pt x="1977138" y="3585119"/>
                        <a:pt x="2013797" y="3558539"/>
                        <a:pt x="2032000" y="3522133"/>
                      </a:cubicBezTo>
                      <a:cubicBezTo>
                        <a:pt x="2047965" y="3490203"/>
                        <a:pt x="2054578" y="3454400"/>
                        <a:pt x="2065867" y="3420533"/>
                      </a:cubicBezTo>
                      <a:cubicBezTo>
                        <a:pt x="2054578" y="3318933"/>
                        <a:pt x="2052048" y="3215973"/>
                        <a:pt x="2032000" y="3115733"/>
                      </a:cubicBezTo>
                      <a:cubicBezTo>
                        <a:pt x="2017998" y="3045722"/>
                        <a:pt x="1964267" y="2912533"/>
                        <a:pt x="1964267" y="2912533"/>
                      </a:cubicBezTo>
                      <a:cubicBezTo>
                        <a:pt x="2045473" y="2668911"/>
                        <a:pt x="1946942" y="2973167"/>
                        <a:pt x="2032000" y="2675467"/>
                      </a:cubicBezTo>
                      <a:cubicBezTo>
                        <a:pt x="2041807" y="2641142"/>
                        <a:pt x="2054578" y="2607734"/>
                        <a:pt x="2065867" y="2573867"/>
                      </a:cubicBezTo>
                      <a:cubicBezTo>
                        <a:pt x="1988036" y="2340376"/>
                        <a:pt x="2048618" y="2421153"/>
                        <a:pt x="1930400" y="2302933"/>
                      </a:cubicBezTo>
                      <a:cubicBezTo>
                        <a:pt x="1919111" y="2257778"/>
                        <a:pt x="1909320" y="2212221"/>
                        <a:pt x="1896533" y="2167467"/>
                      </a:cubicBezTo>
                      <a:cubicBezTo>
                        <a:pt x="1886726" y="2133142"/>
                        <a:pt x="1868536" y="2101080"/>
                        <a:pt x="1862667" y="2065867"/>
                      </a:cubicBezTo>
                      <a:cubicBezTo>
                        <a:pt x="1846052" y="1966175"/>
                        <a:pt x="1835554" y="1713597"/>
                        <a:pt x="1794933" y="1591733"/>
                      </a:cubicBezTo>
                      <a:cubicBezTo>
                        <a:pt x="1778968" y="1543839"/>
                        <a:pt x="1753174" y="1499558"/>
                        <a:pt x="1727200" y="1456267"/>
                      </a:cubicBezTo>
                      <a:cubicBezTo>
                        <a:pt x="1685317" y="1386462"/>
                        <a:pt x="1591733" y="1253067"/>
                        <a:pt x="1591733" y="1253067"/>
                      </a:cubicBezTo>
                      <a:cubicBezTo>
                        <a:pt x="1555962" y="1145753"/>
                        <a:pt x="1565165" y="1143657"/>
                        <a:pt x="1490133" y="1049867"/>
                      </a:cubicBezTo>
                      <a:cubicBezTo>
                        <a:pt x="1470187" y="1024934"/>
                        <a:pt x="1442346" y="1007066"/>
                        <a:pt x="1422400" y="982133"/>
                      </a:cubicBezTo>
                      <a:cubicBezTo>
                        <a:pt x="1396973" y="950349"/>
                        <a:pt x="1380094" y="912316"/>
                        <a:pt x="1354667" y="880533"/>
                      </a:cubicBezTo>
                      <a:cubicBezTo>
                        <a:pt x="1334721" y="855600"/>
                        <a:pt x="1306879" y="837733"/>
                        <a:pt x="1286933" y="812800"/>
                      </a:cubicBezTo>
                      <a:cubicBezTo>
                        <a:pt x="1261506" y="781017"/>
                        <a:pt x="1246241" y="741622"/>
                        <a:pt x="1219200" y="711200"/>
                      </a:cubicBezTo>
                      <a:cubicBezTo>
                        <a:pt x="1155561" y="639606"/>
                        <a:pt x="1095702" y="561134"/>
                        <a:pt x="1016000" y="508000"/>
                      </a:cubicBezTo>
                      <a:cubicBezTo>
                        <a:pt x="887833" y="422556"/>
                        <a:pt x="943181" y="469048"/>
                        <a:pt x="846667" y="372533"/>
                      </a:cubicBezTo>
                      <a:cubicBezTo>
                        <a:pt x="835378" y="338666"/>
                        <a:pt x="832602" y="300636"/>
                        <a:pt x="812800" y="270933"/>
                      </a:cubicBezTo>
                      <a:cubicBezTo>
                        <a:pt x="786233" y="231082"/>
                        <a:pt x="749006" y="198737"/>
                        <a:pt x="711200" y="169333"/>
                      </a:cubicBezTo>
                      <a:cubicBezTo>
                        <a:pt x="536524" y="33474"/>
                        <a:pt x="559693" y="51098"/>
                        <a:pt x="406400" y="0"/>
                      </a:cubicBezTo>
                      <a:cubicBezTo>
                        <a:pt x="361244" y="11289"/>
                        <a:pt x="313715" y="15532"/>
                        <a:pt x="270933" y="33867"/>
                      </a:cubicBezTo>
                      <a:cubicBezTo>
                        <a:pt x="53886" y="126887"/>
                        <a:pt x="173770" y="228415"/>
                        <a:pt x="203200" y="508000"/>
                      </a:cubicBezTo>
                      <a:cubicBezTo>
                        <a:pt x="230238" y="764856"/>
                        <a:pt x="168958" y="711013"/>
                        <a:pt x="304800" y="778933"/>
                      </a:cubicBezTo>
                    </a:path>
                  </a:pathLst>
                </a:custGeom>
                <a:solidFill>
                  <a:srgbClr val="f2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76" name="任意多边形 197"/>
              <p:cNvSpPr/>
              <p:nvPr/>
            </p:nvSpPr>
            <p:spPr>
              <a:xfrm>
                <a:off x="-751320" y="-228600"/>
                <a:ext cx="5735160" cy="8340840"/>
              </a:xfrm>
              <a:custGeom>
                <a:avLst/>
                <a:gdLst>
                  <a:gd name="textAreaLeft" fmla="*/ 0 w 5735160"/>
                  <a:gd name="textAreaRight" fmla="*/ 5735520 w 5735160"/>
                  <a:gd name="textAreaTop" fmla="*/ 0 h 8340840"/>
                  <a:gd name="textAreaBottom" fmla="*/ 8341200 h 8340840"/>
                </a:gdLst>
                <a:ahLst/>
                <a:rect l="textAreaLeft" t="textAreaTop" r="textAreaRight" b="textAreaBottom"/>
                <a:pathLst>
                  <a:path w="5351489" h="7779895">
                    <a:moveTo>
                      <a:pt x="1978702" y="7779895"/>
                    </a:moveTo>
                    <a:lnTo>
                      <a:pt x="1948722" y="5951095"/>
                    </a:lnTo>
                    <a:lnTo>
                      <a:pt x="1873771" y="5051685"/>
                    </a:lnTo>
                    <a:lnTo>
                      <a:pt x="1678899" y="4152275"/>
                    </a:lnTo>
                    <a:lnTo>
                      <a:pt x="1304144" y="3282846"/>
                    </a:lnTo>
                    <a:lnTo>
                      <a:pt x="734518" y="2278505"/>
                    </a:lnTo>
                    <a:lnTo>
                      <a:pt x="224853" y="1573967"/>
                    </a:lnTo>
                    <a:lnTo>
                      <a:pt x="0" y="1049311"/>
                    </a:lnTo>
                    <a:lnTo>
                      <a:pt x="524656" y="1753849"/>
                    </a:lnTo>
                    <a:lnTo>
                      <a:pt x="944381" y="2338466"/>
                    </a:lnTo>
                    <a:lnTo>
                      <a:pt x="1259174" y="3057993"/>
                    </a:lnTo>
                    <a:lnTo>
                      <a:pt x="1259174" y="2443397"/>
                    </a:lnTo>
                    <a:lnTo>
                      <a:pt x="1319135" y="1843790"/>
                    </a:lnTo>
                    <a:lnTo>
                      <a:pt x="1349115" y="2353456"/>
                    </a:lnTo>
                    <a:lnTo>
                      <a:pt x="1364105" y="3043003"/>
                    </a:lnTo>
                    <a:lnTo>
                      <a:pt x="1603948" y="3567659"/>
                    </a:lnTo>
                    <a:lnTo>
                      <a:pt x="1603948" y="2758190"/>
                    </a:lnTo>
                    <a:lnTo>
                      <a:pt x="1528997" y="1484026"/>
                    </a:lnTo>
                    <a:lnTo>
                      <a:pt x="1064302" y="554636"/>
                    </a:lnTo>
                    <a:lnTo>
                      <a:pt x="749508" y="0"/>
                    </a:lnTo>
                    <a:lnTo>
                      <a:pt x="1109272" y="344774"/>
                    </a:lnTo>
                    <a:lnTo>
                      <a:pt x="1588958" y="1364105"/>
                    </a:lnTo>
                    <a:lnTo>
                      <a:pt x="1798820" y="1978702"/>
                    </a:lnTo>
                    <a:lnTo>
                      <a:pt x="1798820" y="2413416"/>
                    </a:lnTo>
                    <a:lnTo>
                      <a:pt x="1843790" y="3013023"/>
                    </a:lnTo>
                    <a:lnTo>
                      <a:pt x="1888761" y="3357797"/>
                    </a:lnTo>
                    <a:lnTo>
                      <a:pt x="1963712" y="2878111"/>
                    </a:lnTo>
                    <a:lnTo>
                      <a:pt x="2098623" y="2518347"/>
                    </a:lnTo>
                    <a:lnTo>
                      <a:pt x="2338466" y="2203554"/>
                    </a:lnTo>
                    <a:lnTo>
                      <a:pt x="2218544" y="2683239"/>
                    </a:lnTo>
                    <a:lnTo>
                      <a:pt x="2098623" y="3192905"/>
                    </a:lnTo>
                    <a:lnTo>
                      <a:pt x="2098623" y="3567659"/>
                    </a:lnTo>
                    <a:lnTo>
                      <a:pt x="2203554" y="3597639"/>
                    </a:lnTo>
                    <a:lnTo>
                      <a:pt x="2458387" y="3072984"/>
                    </a:lnTo>
                    <a:lnTo>
                      <a:pt x="2533338" y="2293495"/>
                    </a:lnTo>
                    <a:lnTo>
                      <a:pt x="3237876" y="1274164"/>
                    </a:lnTo>
                    <a:lnTo>
                      <a:pt x="3207895" y="104931"/>
                    </a:lnTo>
                    <a:lnTo>
                      <a:pt x="3312826" y="1139252"/>
                    </a:lnTo>
                    <a:lnTo>
                      <a:pt x="3972394" y="239843"/>
                    </a:lnTo>
                    <a:lnTo>
                      <a:pt x="3222885" y="1499016"/>
                    </a:lnTo>
                    <a:lnTo>
                      <a:pt x="3987384" y="1124262"/>
                    </a:lnTo>
                    <a:lnTo>
                      <a:pt x="3147935" y="1693888"/>
                    </a:lnTo>
                    <a:lnTo>
                      <a:pt x="2743200" y="2338466"/>
                    </a:lnTo>
                    <a:lnTo>
                      <a:pt x="2638269" y="3028013"/>
                    </a:lnTo>
                    <a:lnTo>
                      <a:pt x="2383436" y="3687580"/>
                    </a:lnTo>
                    <a:lnTo>
                      <a:pt x="2908092" y="3162925"/>
                    </a:lnTo>
                    <a:lnTo>
                      <a:pt x="3222885" y="2398426"/>
                    </a:lnTo>
                    <a:lnTo>
                      <a:pt x="3882453" y="1708879"/>
                    </a:lnTo>
                    <a:lnTo>
                      <a:pt x="3357797" y="2443397"/>
                    </a:lnTo>
                    <a:lnTo>
                      <a:pt x="3117954" y="2953062"/>
                    </a:lnTo>
                    <a:lnTo>
                      <a:pt x="3822492" y="2458387"/>
                    </a:lnTo>
                    <a:lnTo>
                      <a:pt x="3147935" y="3072984"/>
                    </a:lnTo>
                    <a:lnTo>
                      <a:pt x="2713220" y="3627620"/>
                    </a:lnTo>
                    <a:lnTo>
                      <a:pt x="2518348" y="4002374"/>
                    </a:lnTo>
                    <a:lnTo>
                      <a:pt x="2473377" y="4482059"/>
                    </a:lnTo>
                    <a:lnTo>
                      <a:pt x="3582649" y="4197246"/>
                    </a:lnTo>
                    <a:lnTo>
                      <a:pt x="4841823" y="4107305"/>
                    </a:lnTo>
                    <a:lnTo>
                      <a:pt x="5351489" y="3867462"/>
                    </a:lnTo>
                    <a:lnTo>
                      <a:pt x="4901784" y="4152275"/>
                    </a:lnTo>
                    <a:lnTo>
                      <a:pt x="4302177" y="4257206"/>
                    </a:lnTo>
                    <a:lnTo>
                      <a:pt x="5051685" y="4422098"/>
                    </a:lnTo>
                    <a:lnTo>
                      <a:pt x="4092315" y="4272197"/>
                    </a:lnTo>
                    <a:lnTo>
                      <a:pt x="3117954" y="4452079"/>
                    </a:lnTo>
                    <a:lnTo>
                      <a:pt x="2563318" y="4631961"/>
                    </a:lnTo>
                    <a:lnTo>
                      <a:pt x="2443397" y="4916774"/>
                    </a:lnTo>
                    <a:lnTo>
                      <a:pt x="2548328" y="7719934"/>
                    </a:lnTo>
                    <a:lnTo>
                      <a:pt x="2008682" y="7734925"/>
                    </a:lnTo>
                    <a:lnTo>
                      <a:pt x="1948722" y="7704944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任意多边形 198"/>
              <p:cNvSpPr/>
              <p:nvPr/>
            </p:nvSpPr>
            <p:spPr>
              <a:xfrm>
                <a:off x="1416600" y="4768200"/>
                <a:ext cx="119520" cy="2922480"/>
              </a:xfrm>
              <a:custGeom>
                <a:avLst/>
                <a:gdLst>
                  <a:gd name="textAreaLeft" fmla="*/ 0 w 119520"/>
                  <a:gd name="textAreaRight" fmla="*/ 119880 w 119520"/>
                  <a:gd name="textAreaTop" fmla="*/ 0 h 2922480"/>
                  <a:gd name="textAreaBottom" fmla="*/ 2922840 h 2922480"/>
                </a:gdLst>
                <a:ahLst/>
                <a:rect l="textAreaLeft" t="textAreaTop" r="textAreaRight" b="textAreaBottom"/>
                <a:pathLst>
                  <a:path w="119921" h="2923082">
                    <a:moveTo>
                      <a:pt x="0" y="0"/>
                    </a:moveTo>
                    <a:lnTo>
                      <a:pt x="119921" y="1603947"/>
                    </a:lnTo>
                    <a:lnTo>
                      <a:pt x="119921" y="2923082"/>
                    </a:lnTo>
                  </a:path>
                </a:pathLst>
              </a:custGeom>
              <a:noFill/>
              <a:ln w="25560">
                <a:solidFill>
                  <a:srgbClr val="5c410c">
                    <a:alpha val="11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 199"/>
              <p:cNvSpPr/>
              <p:nvPr/>
            </p:nvSpPr>
            <p:spPr>
              <a:xfrm>
                <a:off x="1647720" y="4192200"/>
                <a:ext cx="119520" cy="2922480"/>
              </a:xfrm>
              <a:custGeom>
                <a:avLst/>
                <a:gdLst>
                  <a:gd name="textAreaLeft" fmla="*/ 0 w 119520"/>
                  <a:gd name="textAreaRight" fmla="*/ 119880 w 119520"/>
                  <a:gd name="textAreaTop" fmla="*/ 0 h 2922480"/>
                  <a:gd name="textAreaBottom" fmla="*/ 2922840 h 2922480"/>
                </a:gdLst>
                <a:ahLst/>
                <a:rect l="textAreaLeft" t="textAreaTop" r="textAreaRight" b="textAreaBottom"/>
                <a:pathLst>
                  <a:path w="119921" h="2923082">
                    <a:moveTo>
                      <a:pt x="0" y="0"/>
                    </a:moveTo>
                    <a:lnTo>
                      <a:pt x="119921" y="1603947"/>
                    </a:lnTo>
                    <a:lnTo>
                      <a:pt x="119921" y="2923082"/>
                    </a:lnTo>
                  </a:path>
                </a:pathLst>
              </a:custGeom>
              <a:noFill/>
              <a:ln w="25560">
                <a:solidFill>
                  <a:srgbClr val="5e2e24">
                    <a:alpha val="29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 200"/>
              <p:cNvSpPr/>
              <p:nvPr/>
            </p:nvSpPr>
            <p:spPr>
              <a:xfrm>
                <a:off x="-740160" y="-228600"/>
                <a:ext cx="5735160" cy="8340840"/>
              </a:xfrm>
              <a:custGeom>
                <a:avLst/>
                <a:gdLst>
                  <a:gd name="textAreaLeft" fmla="*/ 0 w 5735160"/>
                  <a:gd name="textAreaRight" fmla="*/ 5735520 w 5735160"/>
                  <a:gd name="textAreaTop" fmla="*/ 0 h 8340840"/>
                  <a:gd name="textAreaBottom" fmla="*/ 8341200 h 8340840"/>
                </a:gdLst>
                <a:ahLst/>
                <a:rect l="textAreaLeft" t="textAreaTop" r="textAreaRight" b="textAreaBottom"/>
                <a:pathLst>
                  <a:path w="5351489" h="7779895">
                    <a:moveTo>
                      <a:pt x="1978702" y="7779895"/>
                    </a:moveTo>
                    <a:lnTo>
                      <a:pt x="1948722" y="5951095"/>
                    </a:lnTo>
                    <a:lnTo>
                      <a:pt x="1873771" y="5051685"/>
                    </a:lnTo>
                    <a:lnTo>
                      <a:pt x="1678899" y="4152275"/>
                    </a:lnTo>
                    <a:lnTo>
                      <a:pt x="1304144" y="3282846"/>
                    </a:lnTo>
                    <a:lnTo>
                      <a:pt x="734518" y="2278505"/>
                    </a:lnTo>
                    <a:lnTo>
                      <a:pt x="224853" y="1573967"/>
                    </a:lnTo>
                    <a:lnTo>
                      <a:pt x="0" y="1049311"/>
                    </a:lnTo>
                    <a:lnTo>
                      <a:pt x="524656" y="1753849"/>
                    </a:lnTo>
                    <a:lnTo>
                      <a:pt x="944381" y="2338466"/>
                    </a:lnTo>
                    <a:lnTo>
                      <a:pt x="1259174" y="3057993"/>
                    </a:lnTo>
                    <a:lnTo>
                      <a:pt x="1259174" y="2443397"/>
                    </a:lnTo>
                    <a:lnTo>
                      <a:pt x="1319135" y="1843790"/>
                    </a:lnTo>
                    <a:lnTo>
                      <a:pt x="1349115" y="2353456"/>
                    </a:lnTo>
                    <a:lnTo>
                      <a:pt x="1364105" y="3043003"/>
                    </a:lnTo>
                    <a:lnTo>
                      <a:pt x="1603948" y="3567659"/>
                    </a:lnTo>
                    <a:lnTo>
                      <a:pt x="1603948" y="2758190"/>
                    </a:lnTo>
                    <a:lnTo>
                      <a:pt x="1528997" y="1484026"/>
                    </a:lnTo>
                    <a:lnTo>
                      <a:pt x="1064302" y="554636"/>
                    </a:lnTo>
                    <a:lnTo>
                      <a:pt x="749508" y="0"/>
                    </a:lnTo>
                    <a:lnTo>
                      <a:pt x="1109272" y="344774"/>
                    </a:lnTo>
                    <a:lnTo>
                      <a:pt x="1588958" y="1364105"/>
                    </a:lnTo>
                    <a:lnTo>
                      <a:pt x="1798820" y="1978702"/>
                    </a:lnTo>
                    <a:lnTo>
                      <a:pt x="1798820" y="2413416"/>
                    </a:lnTo>
                    <a:lnTo>
                      <a:pt x="1843790" y="3013023"/>
                    </a:lnTo>
                    <a:lnTo>
                      <a:pt x="1888761" y="3357797"/>
                    </a:lnTo>
                    <a:lnTo>
                      <a:pt x="1963712" y="2878111"/>
                    </a:lnTo>
                    <a:lnTo>
                      <a:pt x="2098623" y="2518347"/>
                    </a:lnTo>
                    <a:lnTo>
                      <a:pt x="2338466" y="2203554"/>
                    </a:lnTo>
                    <a:lnTo>
                      <a:pt x="2218544" y="2683239"/>
                    </a:lnTo>
                    <a:lnTo>
                      <a:pt x="2098623" y="3192905"/>
                    </a:lnTo>
                    <a:lnTo>
                      <a:pt x="2098623" y="3567659"/>
                    </a:lnTo>
                    <a:lnTo>
                      <a:pt x="2203554" y="3597639"/>
                    </a:lnTo>
                    <a:lnTo>
                      <a:pt x="2458387" y="3072984"/>
                    </a:lnTo>
                    <a:lnTo>
                      <a:pt x="2533338" y="2293495"/>
                    </a:lnTo>
                    <a:lnTo>
                      <a:pt x="3237876" y="1274164"/>
                    </a:lnTo>
                    <a:lnTo>
                      <a:pt x="3207895" y="104931"/>
                    </a:lnTo>
                    <a:lnTo>
                      <a:pt x="3312826" y="1139252"/>
                    </a:lnTo>
                    <a:lnTo>
                      <a:pt x="3972394" y="239843"/>
                    </a:lnTo>
                    <a:lnTo>
                      <a:pt x="3222885" y="1499016"/>
                    </a:lnTo>
                    <a:lnTo>
                      <a:pt x="3987384" y="1124262"/>
                    </a:lnTo>
                    <a:lnTo>
                      <a:pt x="3147935" y="1693888"/>
                    </a:lnTo>
                    <a:lnTo>
                      <a:pt x="2743200" y="2338466"/>
                    </a:lnTo>
                    <a:lnTo>
                      <a:pt x="2638269" y="3028013"/>
                    </a:lnTo>
                    <a:lnTo>
                      <a:pt x="2383436" y="3687580"/>
                    </a:lnTo>
                    <a:lnTo>
                      <a:pt x="2908092" y="3162925"/>
                    </a:lnTo>
                    <a:lnTo>
                      <a:pt x="3222885" y="2398426"/>
                    </a:lnTo>
                    <a:lnTo>
                      <a:pt x="3882453" y="1708879"/>
                    </a:lnTo>
                    <a:lnTo>
                      <a:pt x="3357797" y="2443397"/>
                    </a:lnTo>
                    <a:lnTo>
                      <a:pt x="3117954" y="2953062"/>
                    </a:lnTo>
                    <a:lnTo>
                      <a:pt x="3822492" y="2458387"/>
                    </a:lnTo>
                    <a:lnTo>
                      <a:pt x="3147935" y="3072984"/>
                    </a:lnTo>
                    <a:lnTo>
                      <a:pt x="2713220" y="3627620"/>
                    </a:lnTo>
                    <a:lnTo>
                      <a:pt x="2518348" y="4002374"/>
                    </a:lnTo>
                    <a:lnTo>
                      <a:pt x="2473377" y="4482059"/>
                    </a:lnTo>
                    <a:lnTo>
                      <a:pt x="3582649" y="4197246"/>
                    </a:lnTo>
                    <a:lnTo>
                      <a:pt x="4841823" y="4107305"/>
                    </a:lnTo>
                    <a:lnTo>
                      <a:pt x="5351489" y="3867462"/>
                    </a:lnTo>
                    <a:lnTo>
                      <a:pt x="4901784" y="4152275"/>
                    </a:lnTo>
                    <a:lnTo>
                      <a:pt x="4302177" y="4257206"/>
                    </a:lnTo>
                    <a:lnTo>
                      <a:pt x="5051685" y="4422098"/>
                    </a:lnTo>
                    <a:lnTo>
                      <a:pt x="4092315" y="4272197"/>
                    </a:lnTo>
                    <a:lnTo>
                      <a:pt x="3117954" y="4452079"/>
                    </a:lnTo>
                    <a:lnTo>
                      <a:pt x="2563318" y="4631961"/>
                    </a:lnTo>
                    <a:lnTo>
                      <a:pt x="2443397" y="4916774"/>
                    </a:lnTo>
                    <a:lnTo>
                      <a:pt x="2548328" y="7719934"/>
                    </a:lnTo>
                    <a:lnTo>
                      <a:pt x="2008682" y="7734925"/>
                    </a:lnTo>
                    <a:lnTo>
                      <a:pt x="1948722" y="7704944"/>
                    </a:lnTo>
                  </a:path>
                </a:pathLst>
              </a:custGeom>
              <a:solidFill>
                <a:srgbClr val="000000">
                  <a:alpha val="2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80" name=""/>
              <p:cNvGrpSpPr/>
              <p:nvPr/>
            </p:nvGrpSpPr>
            <p:grpSpPr>
              <a:xfrm>
                <a:off x="4166280" y="3795480"/>
                <a:ext cx="739080" cy="513720"/>
                <a:chOff x="4166280" y="3795480"/>
                <a:chExt cx="739080" cy="513720"/>
              </a:xfrm>
            </p:grpSpPr>
            <p:sp>
              <p:nvSpPr>
                <p:cNvPr id="681" name="任意多边形 214"/>
                <p:cNvSpPr/>
                <p:nvPr/>
              </p:nvSpPr>
              <p:spPr>
                <a:xfrm rot="15691800">
                  <a:off x="4326840" y="3709440"/>
                  <a:ext cx="417600" cy="685080"/>
                </a:xfrm>
                <a:custGeom>
                  <a:avLst/>
                  <a:gdLst>
                    <a:gd name="textAreaLeft" fmla="*/ 0 w 417600"/>
                    <a:gd name="textAreaRight" fmla="*/ 417960 w 417600"/>
                    <a:gd name="textAreaTop" fmla="*/ 0 h 685080"/>
                    <a:gd name="textAreaBottom" fmla="*/ 685440 h 685080"/>
                  </a:gdLst>
                  <a:ahLst/>
                  <a:rect l="textAreaLeft" t="textAreaTop" r="textAreaRight" b="textAreaBottom"/>
                  <a:pathLst>
                    <a:path w="2065867" h="4030133">
                      <a:moveTo>
                        <a:pt x="270933" y="677333"/>
                      </a:moveTo>
                      <a:cubicBezTo>
                        <a:pt x="259644" y="733778"/>
                        <a:pt x="257278" y="792770"/>
                        <a:pt x="237067" y="846667"/>
                      </a:cubicBezTo>
                      <a:cubicBezTo>
                        <a:pt x="222775" y="884778"/>
                        <a:pt x="187536" y="911861"/>
                        <a:pt x="169333" y="948267"/>
                      </a:cubicBezTo>
                      <a:cubicBezTo>
                        <a:pt x="153368" y="980197"/>
                        <a:pt x="146756" y="1016000"/>
                        <a:pt x="135467" y="1049867"/>
                      </a:cubicBezTo>
                      <a:cubicBezTo>
                        <a:pt x="124178" y="1128889"/>
                        <a:pt x="124537" y="1210475"/>
                        <a:pt x="101600" y="1286933"/>
                      </a:cubicBezTo>
                      <a:cubicBezTo>
                        <a:pt x="89904" y="1325919"/>
                        <a:pt x="52070" y="1352127"/>
                        <a:pt x="33867" y="1388533"/>
                      </a:cubicBezTo>
                      <a:cubicBezTo>
                        <a:pt x="17902" y="1420463"/>
                        <a:pt x="11289" y="1456266"/>
                        <a:pt x="0" y="1490133"/>
                      </a:cubicBezTo>
                      <a:cubicBezTo>
                        <a:pt x="11289" y="1648178"/>
                        <a:pt x="6331" y="1808231"/>
                        <a:pt x="33867" y="1964267"/>
                      </a:cubicBezTo>
                      <a:cubicBezTo>
                        <a:pt x="40941" y="2004350"/>
                        <a:pt x="77942" y="2032746"/>
                        <a:pt x="101600" y="2065867"/>
                      </a:cubicBezTo>
                      <a:cubicBezTo>
                        <a:pt x="134408" y="2111798"/>
                        <a:pt x="167065" y="2157971"/>
                        <a:pt x="203200" y="2201333"/>
                      </a:cubicBezTo>
                      <a:cubicBezTo>
                        <a:pt x="223641" y="2225862"/>
                        <a:pt x="253221" y="2242500"/>
                        <a:pt x="270933" y="2269067"/>
                      </a:cubicBezTo>
                      <a:cubicBezTo>
                        <a:pt x="298937" y="2311073"/>
                        <a:pt x="313619" y="2360700"/>
                        <a:pt x="338667" y="2404533"/>
                      </a:cubicBezTo>
                      <a:cubicBezTo>
                        <a:pt x="443708" y="2588354"/>
                        <a:pt x="378175" y="2421458"/>
                        <a:pt x="440267" y="2607733"/>
                      </a:cubicBezTo>
                      <a:cubicBezTo>
                        <a:pt x="451556" y="2686755"/>
                        <a:pt x="448890" y="2769072"/>
                        <a:pt x="474133" y="2844800"/>
                      </a:cubicBezTo>
                      <a:cubicBezTo>
                        <a:pt x="484230" y="2875091"/>
                        <a:pt x="525439" y="2885153"/>
                        <a:pt x="541867" y="2912533"/>
                      </a:cubicBezTo>
                      <a:cubicBezTo>
                        <a:pt x="692110" y="3162937"/>
                        <a:pt x="437916" y="2858793"/>
                        <a:pt x="643467" y="3115733"/>
                      </a:cubicBezTo>
                      <a:cubicBezTo>
                        <a:pt x="663413" y="3140666"/>
                        <a:pt x="691254" y="3158534"/>
                        <a:pt x="711200" y="3183467"/>
                      </a:cubicBezTo>
                      <a:cubicBezTo>
                        <a:pt x="736627" y="3215251"/>
                        <a:pt x="752130" y="3254435"/>
                        <a:pt x="778933" y="3285067"/>
                      </a:cubicBezTo>
                      <a:cubicBezTo>
                        <a:pt x="831498" y="3345141"/>
                        <a:pt x="900372" y="3390540"/>
                        <a:pt x="948267" y="3454400"/>
                      </a:cubicBezTo>
                      <a:cubicBezTo>
                        <a:pt x="982134" y="3499556"/>
                        <a:pt x="1019951" y="3542002"/>
                        <a:pt x="1049867" y="3589867"/>
                      </a:cubicBezTo>
                      <a:cubicBezTo>
                        <a:pt x="1076624" y="3632678"/>
                        <a:pt x="1089596" y="3683327"/>
                        <a:pt x="1117600" y="3725333"/>
                      </a:cubicBezTo>
                      <a:cubicBezTo>
                        <a:pt x="1164328" y="3795425"/>
                        <a:pt x="1222230" y="3809038"/>
                        <a:pt x="1286933" y="3860800"/>
                      </a:cubicBezTo>
                      <a:cubicBezTo>
                        <a:pt x="1311866" y="3880746"/>
                        <a:pt x="1328100" y="3910821"/>
                        <a:pt x="1354667" y="3928533"/>
                      </a:cubicBezTo>
                      <a:cubicBezTo>
                        <a:pt x="1438370" y="3984335"/>
                        <a:pt x="1501418" y="4000029"/>
                        <a:pt x="1591733" y="4030133"/>
                      </a:cubicBezTo>
                      <a:cubicBezTo>
                        <a:pt x="1670755" y="4018844"/>
                        <a:pt x="1753072" y="4021510"/>
                        <a:pt x="1828800" y="3996267"/>
                      </a:cubicBezTo>
                      <a:cubicBezTo>
                        <a:pt x="1947678" y="3956641"/>
                        <a:pt x="1962781" y="3628192"/>
                        <a:pt x="1964267" y="3623733"/>
                      </a:cubicBezTo>
                      <a:cubicBezTo>
                        <a:pt x="1977138" y="3585119"/>
                        <a:pt x="2013797" y="3558539"/>
                        <a:pt x="2032000" y="3522133"/>
                      </a:cubicBezTo>
                      <a:cubicBezTo>
                        <a:pt x="2047965" y="3490203"/>
                        <a:pt x="2054578" y="3454400"/>
                        <a:pt x="2065867" y="3420533"/>
                      </a:cubicBezTo>
                      <a:cubicBezTo>
                        <a:pt x="2054578" y="3318933"/>
                        <a:pt x="2052048" y="3215973"/>
                        <a:pt x="2032000" y="3115733"/>
                      </a:cubicBezTo>
                      <a:cubicBezTo>
                        <a:pt x="2017998" y="3045722"/>
                        <a:pt x="1964267" y="2912533"/>
                        <a:pt x="1964267" y="2912533"/>
                      </a:cubicBezTo>
                      <a:cubicBezTo>
                        <a:pt x="2045473" y="2668911"/>
                        <a:pt x="1946942" y="2973167"/>
                        <a:pt x="2032000" y="2675467"/>
                      </a:cubicBezTo>
                      <a:cubicBezTo>
                        <a:pt x="2041807" y="2641142"/>
                        <a:pt x="2054578" y="2607734"/>
                        <a:pt x="2065867" y="2573867"/>
                      </a:cubicBezTo>
                      <a:cubicBezTo>
                        <a:pt x="1988036" y="2340376"/>
                        <a:pt x="2048618" y="2421153"/>
                        <a:pt x="1930400" y="2302933"/>
                      </a:cubicBezTo>
                      <a:cubicBezTo>
                        <a:pt x="1919111" y="2257778"/>
                        <a:pt x="1909320" y="2212221"/>
                        <a:pt x="1896533" y="2167467"/>
                      </a:cubicBezTo>
                      <a:cubicBezTo>
                        <a:pt x="1886726" y="2133142"/>
                        <a:pt x="1868536" y="2101080"/>
                        <a:pt x="1862667" y="2065867"/>
                      </a:cubicBezTo>
                      <a:cubicBezTo>
                        <a:pt x="1846052" y="1966175"/>
                        <a:pt x="1835554" y="1713597"/>
                        <a:pt x="1794933" y="1591733"/>
                      </a:cubicBezTo>
                      <a:cubicBezTo>
                        <a:pt x="1778968" y="1543839"/>
                        <a:pt x="1753174" y="1499558"/>
                        <a:pt x="1727200" y="1456267"/>
                      </a:cubicBezTo>
                      <a:cubicBezTo>
                        <a:pt x="1685317" y="1386462"/>
                        <a:pt x="1591733" y="1253067"/>
                        <a:pt x="1591733" y="1253067"/>
                      </a:cubicBezTo>
                      <a:cubicBezTo>
                        <a:pt x="1555962" y="1145753"/>
                        <a:pt x="1565165" y="1143657"/>
                        <a:pt x="1490133" y="1049867"/>
                      </a:cubicBezTo>
                      <a:cubicBezTo>
                        <a:pt x="1470187" y="1024934"/>
                        <a:pt x="1442346" y="1007066"/>
                        <a:pt x="1422400" y="982133"/>
                      </a:cubicBezTo>
                      <a:cubicBezTo>
                        <a:pt x="1396973" y="950349"/>
                        <a:pt x="1380094" y="912316"/>
                        <a:pt x="1354667" y="880533"/>
                      </a:cubicBezTo>
                      <a:cubicBezTo>
                        <a:pt x="1334721" y="855600"/>
                        <a:pt x="1306879" y="837733"/>
                        <a:pt x="1286933" y="812800"/>
                      </a:cubicBezTo>
                      <a:cubicBezTo>
                        <a:pt x="1261506" y="781017"/>
                        <a:pt x="1246241" y="741622"/>
                        <a:pt x="1219200" y="711200"/>
                      </a:cubicBezTo>
                      <a:cubicBezTo>
                        <a:pt x="1155561" y="639606"/>
                        <a:pt x="1095702" y="561134"/>
                        <a:pt x="1016000" y="508000"/>
                      </a:cubicBezTo>
                      <a:cubicBezTo>
                        <a:pt x="887833" y="422556"/>
                        <a:pt x="943181" y="469048"/>
                        <a:pt x="846667" y="372533"/>
                      </a:cubicBezTo>
                      <a:cubicBezTo>
                        <a:pt x="835378" y="338666"/>
                        <a:pt x="832602" y="300636"/>
                        <a:pt x="812800" y="270933"/>
                      </a:cubicBezTo>
                      <a:cubicBezTo>
                        <a:pt x="786233" y="231082"/>
                        <a:pt x="749006" y="198737"/>
                        <a:pt x="711200" y="169333"/>
                      </a:cubicBezTo>
                      <a:cubicBezTo>
                        <a:pt x="536524" y="33474"/>
                        <a:pt x="559693" y="51098"/>
                        <a:pt x="406400" y="0"/>
                      </a:cubicBezTo>
                      <a:cubicBezTo>
                        <a:pt x="361244" y="11289"/>
                        <a:pt x="313715" y="15532"/>
                        <a:pt x="270933" y="33867"/>
                      </a:cubicBezTo>
                      <a:cubicBezTo>
                        <a:pt x="53886" y="126887"/>
                        <a:pt x="173770" y="228415"/>
                        <a:pt x="203200" y="508000"/>
                      </a:cubicBezTo>
                      <a:cubicBezTo>
                        <a:pt x="230238" y="764856"/>
                        <a:pt x="168958" y="711013"/>
                        <a:pt x="304800" y="778933"/>
                      </a:cubicBez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2" name="任意多边形 215"/>
                <p:cNvSpPr/>
                <p:nvPr/>
              </p:nvSpPr>
              <p:spPr>
                <a:xfrm rot="15691800">
                  <a:off x="4304880" y="3918960"/>
                  <a:ext cx="201960" cy="351720"/>
                </a:xfrm>
                <a:custGeom>
                  <a:avLst/>
                  <a:gdLst>
                    <a:gd name="textAreaLeft" fmla="*/ 0 w 201960"/>
                    <a:gd name="textAreaRight" fmla="*/ 202320 w 201960"/>
                    <a:gd name="textAreaTop" fmla="*/ 0 h 351720"/>
                    <a:gd name="textAreaBottom" fmla="*/ 352080 h 351720"/>
                  </a:gdLst>
                  <a:ahLst/>
                  <a:rect l="textAreaLeft" t="textAreaTop" r="textAreaRight" b="textAreaBottom"/>
                  <a:pathLst>
                    <a:path w="2065867" h="4030133">
                      <a:moveTo>
                        <a:pt x="270933" y="677333"/>
                      </a:moveTo>
                      <a:cubicBezTo>
                        <a:pt x="259644" y="733778"/>
                        <a:pt x="257278" y="792770"/>
                        <a:pt x="237067" y="846667"/>
                      </a:cubicBezTo>
                      <a:cubicBezTo>
                        <a:pt x="222775" y="884778"/>
                        <a:pt x="187536" y="911861"/>
                        <a:pt x="169333" y="948267"/>
                      </a:cubicBezTo>
                      <a:cubicBezTo>
                        <a:pt x="153368" y="980197"/>
                        <a:pt x="146756" y="1016000"/>
                        <a:pt x="135467" y="1049867"/>
                      </a:cubicBezTo>
                      <a:cubicBezTo>
                        <a:pt x="124178" y="1128889"/>
                        <a:pt x="124537" y="1210475"/>
                        <a:pt x="101600" y="1286933"/>
                      </a:cubicBezTo>
                      <a:cubicBezTo>
                        <a:pt x="89904" y="1325919"/>
                        <a:pt x="52070" y="1352127"/>
                        <a:pt x="33867" y="1388533"/>
                      </a:cubicBezTo>
                      <a:cubicBezTo>
                        <a:pt x="17902" y="1420463"/>
                        <a:pt x="11289" y="1456266"/>
                        <a:pt x="0" y="1490133"/>
                      </a:cubicBezTo>
                      <a:cubicBezTo>
                        <a:pt x="11289" y="1648178"/>
                        <a:pt x="6331" y="1808231"/>
                        <a:pt x="33867" y="1964267"/>
                      </a:cubicBezTo>
                      <a:cubicBezTo>
                        <a:pt x="40941" y="2004350"/>
                        <a:pt x="77942" y="2032746"/>
                        <a:pt x="101600" y="2065867"/>
                      </a:cubicBezTo>
                      <a:cubicBezTo>
                        <a:pt x="134408" y="2111798"/>
                        <a:pt x="167065" y="2157971"/>
                        <a:pt x="203200" y="2201333"/>
                      </a:cubicBezTo>
                      <a:cubicBezTo>
                        <a:pt x="223641" y="2225862"/>
                        <a:pt x="253221" y="2242500"/>
                        <a:pt x="270933" y="2269067"/>
                      </a:cubicBezTo>
                      <a:cubicBezTo>
                        <a:pt x="298937" y="2311073"/>
                        <a:pt x="313619" y="2360700"/>
                        <a:pt x="338667" y="2404533"/>
                      </a:cubicBezTo>
                      <a:cubicBezTo>
                        <a:pt x="443708" y="2588354"/>
                        <a:pt x="378175" y="2421458"/>
                        <a:pt x="440267" y="2607733"/>
                      </a:cubicBezTo>
                      <a:cubicBezTo>
                        <a:pt x="451556" y="2686755"/>
                        <a:pt x="448890" y="2769072"/>
                        <a:pt x="474133" y="2844800"/>
                      </a:cubicBezTo>
                      <a:cubicBezTo>
                        <a:pt x="484230" y="2875091"/>
                        <a:pt x="525439" y="2885153"/>
                        <a:pt x="541867" y="2912533"/>
                      </a:cubicBezTo>
                      <a:cubicBezTo>
                        <a:pt x="692110" y="3162937"/>
                        <a:pt x="437916" y="2858793"/>
                        <a:pt x="643467" y="3115733"/>
                      </a:cubicBezTo>
                      <a:cubicBezTo>
                        <a:pt x="663413" y="3140666"/>
                        <a:pt x="691254" y="3158534"/>
                        <a:pt x="711200" y="3183467"/>
                      </a:cubicBezTo>
                      <a:cubicBezTo>
                        <a:pt x="736627" y="3215251"/>
                        <a:pt x="752130" y="3254435"/>
                        <a:pt x="778933" y="3285067"/>
                      </a:cubicBezTo>
                      <a:cubicBezTo>
                        <a:pt x="831498" y="3345141"/>
                        <a:pt x="900372" y="3390540"/>
                        <a:pt x="948267" y="3454400"/>
                      </a:cubicBezTo>
                      <a:cubicBezTo>
                        <a:pt x="982134" y="3499556"/>
                        <a:pt x="1019951" y="3542002"/>
                        <a:pt x="1049867" y="3589867"/>
                      </a:cubicBezTo>
                      <a:cubicBezTo>
                        <a:pt x="1076624" y="3632678"/>
                        <a:pt x="1089596" y="3683327"/>
                        <a:pt x="1117600" y="3725333"/>
                      </a:cubicBezTo>
                      <a:cubicBezTo>
                        <a:pt x="1164328" y="3795425"/>
                        <a:pt x="1222230" y="3809038"/>
                        <a:pt x="1286933" y="3860800"/>
                      </a:cubicBezTo>
                      <a:cubicBezTo>
                        <a:pt x="1311866" y="3880746"/>
                        <a:pt x="1328100" y="3910821"/>
                        <a:pt x="1354667" y="3928533"/>
                      </a:cubicBezTo>
                      <a:cubicBezTo>
                        <a:pt x="1438370" y="3984335"/>
                        <a:pt x="1501418" y="4000029"/>
                        <a:pt x="1591733" y="4030133"/>
                      </a:cubicBezTo>
                      <a:cubicBezTo>
                        <a:pt x="1670755" y="4018844"/>
                        <a:pt x="1753072" y="4021510"/>
                        <a:pt x="1828800" y="3996267"/>
                      </a:cubicBezTo>
                      <a:cubicBezTo>
                        <a:pt x="1947678" y="3956641"/>
                        <a:pt x="1962781" y="3628192"/>
                        <a:pt x="1964267" y="3623733"/>
                      </a:cubicBezTo>
                      <a:cubicBezTo>
                        <a:pt x="1977138" y="3585119"/>
                        <a:pt x="2013797" y="3558539"/>
                        <a:pt x="2032000" y="3522133"/>
                      </a:cubicBezTo>
                      <a:cubicBezTo>
                        <a:pt x="2047965" y="3490203"/>
                        <a:pt x="2054578" y="3454400"/>
                        <a:pt x="2065867" y="3420533"/>
                      </a:cubicBezTo>
                      <a:cubicBezTo>
                        <a:pt x="2054578" y="3318933"/>
                        <a:pt x="2052048" y="3215973"/>
                        <a:pt x="2032000" y="3115733"/>
                      </a:cubicBezTo>
                      <a:cubicBezTo>
                        <a:pt x="2017998" y="3045722"/>
                        <a:pt x="1964267" y="2912533"/>
                        <a:pt x="1964267" y="2912533"/>
                      </a:cubicBezTo>
                      <a:cubicBezTo>
                        <a:pt x="2045473" y="2668911"/>
                        <a:pt x="1946942" y="2973167"/>
                        <a:pt x="2032000" y="2675467"/>
                      </a:cubicBezTo>
                      <a:cubicBezTo>
                        <a:pt x="2041807" y="2641142"/>
                        <a:pt x="2054578" y="2607734"/>
                        <a:pt x="2065867" y="2573867"/>
                      </a:cubicBezTo>
                      <a:cubicBezTo>
                        <a:pt x="1988036" y="2340376"/>
                        <a:pt x="2048618" y="2421153"/>
                        <a:pt x="1930400" y="2302933"/>
                      </a:cubicBezTo>
                      <a:cubicBezTo>
                        <a:pt x="1919111" y="2257778"/>
                        <a:pt x="1909320" y="2212221"/>
                        <a:pt x="1896533" y="2167467"/>
                      </a:cubicBezTo>
                      <a:cubicBezTo>
                        <a:pt x="1886726" y="2133142"/>
                        <a:pt x="1868536" y="2101080"/>
                        <a:pt x="1862667" y="2065867"/>
                      </a:cubicBezTo>
                      <a:cubicBezTo>
                        <a:pt x="1846052" y="1966175"/>
                        <a:pt x="1835554" y="1713597"/>
                        <a:pt x="1794933" y="1591733"/>
                      </a:cubicBezTo>
                      <a:cubicBezTo>
                        <a:pt x="1778968" y="1543839"/>
                        <a:pt x="1753174" y="1499558"/>
                        <a:pt x="1727200" y="1456267"/>
                      </a:cubicBezTo>
                      <a:cubicBezTo>
                        <a:pt x="1685317" y="1386462"/>
                        <a:pt x="1591733" y="1253067"/>
                        <a:pt x="1591733" y="1253067"/>
                      </a:cubicBezTo>
                      <a:cubicBezTo>
                        <a:pt x="1555962" y="1145753"/>
                        <a:pt x="1565165" y="1143657"/>
                        <a:pt x="1490133" y="1049867"/>
                      </a:cubicBezTo>
                      <a:cubicBezTo>
                        <a:pt x="1470187" y="1024934"/>
                        <a:pt x="1442346" y="1007066"/>
                        <a:pt x="1422400" y="982133"/>
                      </a:cubicBezTo>
                      <a:cubicBezTo>
                        <a:pt x="1396973" y="950349"/>
                        <a:pt x="1380094" y="912316"/>
                        <a:pt x="1354667" y="880533"/>
                      </a:cubicBezTo>
                      <a:cubicBezTo>
                        <a:pt x="1334721" y="855600"/>
                        <a:pt x="1306879" y="837733"/>
                        <a:pt x="1286933" y="812800"/>
                      </a:cubicBezTo>
                      <a:cubicBezTo>
                        <a:pt x="1261506" y="781017"/>
                        <a:pt x="1246241" y="741622"/>
                        <a:pt x="1219200" y="711200"/>
                      </a:cubicBezTo>
                      <a:cubicBezTo>
                        <a:pt x="1155561" y="639606"/>
                        <a:pt x="1095702" y="561134"/>
                        <a:pt x="1016000" y="508000"/>
                      </a:cubicBezTo>
                      <a:cubicBezTo>
                        <a:pt x="887833" y="422556"/>
                        <a:pt x="943181" y="469048"/>
                        <a:pt x="846667" y="372533"/>
                      </a:cubicBezTo>
                      <a:cubicBezTo>
                        <a:pt x="835378" y="338666"/>
                        <a:pt x="832602" y="300636"/>
                        <a:pt x="812800" y="270933"/>
                      </a:cubicBezTo>
                      <a:cubicBezTo>
                        <a:pt x="786233" y="231082"/>
                        <a:pt x="749006" y="198737"/>
                        <a:pt x="711200" y="169333"/>
                      </a:cubicBezTo>
                      <a:cubicBezTo>
                        <a:pt x="536524" y="33474"/>
                        <a:pt x="559693" y="51098"/>
                        <a:pt x="406400" y="0"/>
                      </a:cubicBezTo>
                      <a:cubicBezTo>
                        <a:pt x="361244" y="11289"/>
                        <a:pt x="313715" y="15532"/>
                        <a:pt x="270933" y="33867"/>
                      </a:cubicBezTo>
                      <a:cubicBezTo>
                        <a:pt x="53886" y="126887"/>
                        <a:pt x="173770" y="228415"/>
                        <a:pt x="203200" y="508000"/>
                      </a:cubicBezTo>
                      <a:cubicBezTo>
                        <a:pt x="230238" y="764856"/>
                        <a:pt x="168958" y="711013"/>
                        <a:pt x="304800" y="778933"/>
                      </a:cubicBezTo>
                    </a:path>
                  </a:pathLst>
                </a:custGeom>
                <a:solidFill>
                  <a:srgbClr val="f2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3" name="任意多边形 216"/>
                <p:cNvSpPr/>
                <p:nvPr/>
              </p:nvSpPr>
              <p:spPr>
                <a:xfrm rot="15691800">
                  <a:off x="4524840" y="3805920"/>
                  <a:ext cx="97200" cy="264240"/>
                </a:xfrm>
                <a:custGeom>
                  <a:avLst/>
                  <a:gdLst>
                    <a:gd name="textAreaLeft" fmla="*/ 0 w 97200"/>
                    <a:gd name="textAreaRight" fmla="*/ 97560 w 97200"/>
                    <a:gd name="textAreaTop" fmla="*/ 0 h 264240"/>
                    <a:gd name="textAreaBottom" fmla="*/ 264600 h 264240"/>
                  </a:gdLst>
                  <a:ahLst/>
                  <a:rect l="textAreaLeft" t="textAreaTop" r="textAreaRight" b="textAreaBottom"/>
                  <a:pathLst>
                    <a:path w="2065867" h="4030133">
                      <a:moveTo>
                        <a:pt x="270933" y="677333"/>
                      </a:moveTo>
                      <a:cubicBezTo>
                        <a:pt x="259644" y="733778"/>
                        <a:pt x="257278" y="792770"/>
                        <a:pt x="237067" y="846667"/>
                      </a:cubicBezTo>
                      <a:cubicBezTo>
                        <a:pt x="222775" y="884778"/>
                        <a:pt x="187536" y="911861"/>
                        <a:pt x="169333" y="948267"/>
                      </a:cubicBezTo>
                      <a:cubicBezTo>
                        <a:pt x="153368" y="980197"/>
                        <a:pt x="146756" y="1016000"/>
                        <a:pt x="135467" y="1049867"/>
                      </a:cubicBezTo>
                      <a:cubicBezTo>
                        <a:pt x="124178" y="1128889"/>
                        <a:pt x="124537" y="1210475"/>
                        <a:pt x="101600" y="1286933"/>
                      </a:cubicBezTo>
                      <a:cubicBezTo>
                        <a:pt x="89904" y="1325919"/>
                        <a:pt x="52070" y="1352127"/>
                        <a:pt x="33867" y="1388533"/>
                      </a:cubicBezTo>
                      <a:cubicBezTo>
                        <a:pt x="17902" y="1420463"/>
                        <a:pt x="11289" y="1456266"/>
                        <a:pt x="0" y="1490133"/>
                      </a:cubicBezTo>
                      <a:cubicBezTo>
                        <a:pt x="11289" y="1648178"/>
                        <a:pt x="6331" y="1808231"/>
                        <a:pt x="33867" y="1964267"/>
                      </a:cubicBezTo>
                      <a:cubicBezTo>
                        <a:pt x="40941" y="2004350"/>
                        <a:pt x="77942" y="2032746"/>
                        <a:pt x="101600" y="2065867"/>
                      </a:cubicBezTo>
                      <a:cubicBezTo>
                        <a:pt x="134408" y="2111798"/>
                        <a:pt x="167065" y="2157971"/>
                        <a:pt x="203200" y="2201333"/>
                      </a:cubicBezTo>
                      <a:cubicBezTo>
                        <a:pt x="223641" y="2225862"/>
                        <a:pt x="253221" y="2242500"/>
                        <a:pt x="270933" y="2269067"/>
                      </a:cubicBezTo>
                      <a:cubicBezTo>
                        <a:pt x="298937" y="2311073"/>
                        <a:pt x="313619" y="2360700"/>
                        <a:pt x="338667" y="2404533"/>
                      </a:cubicBezTo>
                      <a:cubicBezTo>
                        <a:pt x="443708" y="2588354"/>
                        <a:pt x="378175" y="2421458"/>
                        <a:pt x="440267" y="2607733"/>
                      </a:cubicBezTo>
                      <a:cubicBezTo>
                        <a:pt x="451556" y="2686755"/>
                        <a:pt x="448890" y="2769072"/>
                        <a:pt x="474133" y="2844800"/>
                      </a:cubicBezTo>
                      <a:cubicBezTo>
                        <a:pt x="484230" y="2875091"/>
                        <a:pt x="525439" y="2885153"/>
                        <a:pt x="541867" y="2912533"/>
                      </a:cubicBezTo>
                      <a:cubicBezTo>
                        <a:pt x="692110" y="3162937"/>
                        <a:pt x="437916" y="2858793"/>
                        <a:pt x="643467" y="3115733"/>
                      </a:cubicBezTo>
                      <a:cubicBezTo>
                        <a:pt x="663413" y="3140666"/>
                        <a:pt x="691254" y="3158534"/>
                        <a:pt x="711200" y="3183467"/>
                      </a:cubicBezTo>
                      <a:cubicBezTo>
                        <a:pt x="736627" y="3215251"/>
                        <a:pt x="752130" y="3254435"/>
                        <a:pt x="778933" y="3285067"/>
                      </a:cubicBezTo>
                      <a:cubicBezTo>
                        <a:pt x="831498" y="3345141"/>
                        <a:pt x="900372" y="3390540"/>
                        <a:pt x="948267" y="3454400"/>
                      </a:cubicBezTo>
                      <a:cubicBezTo>
                        <a:pt x="982134" y="3499556"/>
                        <a:pt x="1019951" y="3542002"/>
                        <a:pt x="1049867" y="3589867"/>
                      </a:cubicBezTo>
                      <a:cubicBezTo>
                        <a:pt x="1076624" y="3632678"/>
                        <a:pt x="1089596" y="3683327"/>
                        <a:pt x="1117600" y="3725333"/>
                      </a:cubicBezTo>
                      <a:cubicBezTo>
                        <a:pt x="1164328" y="3795425"/>
                        <a:pt x="1222230" y="3809038"/>
                        <a:pt x="1286933" y="3860800"/>
                      </a:cubicBezTo>
                      <a:cubicBezTo>
                        <a:pt x="1311866" y="3880746"/>
                        <a:pt x="1328100" y="3910821"/>
                        <a:pt x="1354667" y="3928533"/>
                      </a:cubicBezTo>
                      <a:cubicBezTo>
                        <a:pt x="1438370" y="3984335"/>
                        <a:pt x="1501418" y="4000029"/>
                        <a:pt x="1591733" y="4030133"/>
                      </a:cubicBezTo>
                      <a:cubicBezTo>
                        <a:pt x="1670755" y="4018844"/>
                        <a:pt x="1753072" y="4021510"/>
                        <a:pt x="1828800" y="3996267"/>
                      </a:cubicBezTo>
                      <a:cubicBezTo>
                        <a:pt x="1947678" y="3956641"/>
                        <a:pt x="1962781" y="3628192"/>
                        <a:pt x="1964267" y="3623733"/>
                      </a:cubicBezTo>
                      <a:cubicBezTo>
                        <a:pt x="1977138" y="3585119"/>
                        <a:pt x="2013797" y="3558539"/>
                        <a:pt x="2032000" y="3522133"/>
                      </a:cubicBezTo>
                      <a:cubicBezTo>
                        <a:pt x="2047965" y="3490203"/>
                        <a:pt x="2054578" y="3454400"/>
                        <a:pt x="2065867" y="3420533"/>
                      </a:cubicBezTo>
                      <a:cubicBezTo>
                        <a:pt x="2054578" y="3318933"/>
                        <a:pt x="2052048" y="3215973"/>
                        <a:pt x="2032000" y="3115733"/>
                      </a:cubicBezTo>
                      <a:cubicBezTo>
                        <a:pt x="2017998" y="3045722"/>
                        <a:pt x="1964267" y="2912533"/>
                        <a:pt x="1964267" y="2912533"/>
                      </a:cubicBezTo>
                      <a:cubicBezTo>
                        <a:pt x="2045473" y="2668911"/>
                        <a:pt x="1946942" y="2973167"/>
                        <a:pt x="2032000" y="2675467"/>
                      </a:cubicBezTo>
                      <a:cubicBezTo>
                        <a:pt x="2041807" y="2641142"/>
                        <a:pt x="2054578" y="2607734"/>
                        <a:pt x="2065867" y="2573867"/>
                      </a:cubicBezTo>
                      <a:cubicBezTo>
                        <a:pt x="1988036" y="2340376"/>
                        <a:pt x="2048618" y="2421153"/>
                        <a:pt x="1930400" y="2302933"/>
                      </a:cubicBezTo>
                      <a:cubicBezTo>
                        <a:pt x="1919111" y="2257778"/>
                        <a:pt x="1909320" y="2212221"/>
                        <a:pt x="1896533" y="2167467"/>
                      </a:cubicBezTo>
                      <a:cubicBezTo>
                        <a:pt x="1886726" y="2133142"/>
                        <a:pt x="1868536" y="2101080"/>
                        <a:pt x="1862667" y="2065867"/>
                      </a:cubicBezTo>
                      <a:cubicBezTo>
                        <a:pt x="1846052" y="1966175"/>
                        <a:pt x="1835554" y="1713597"/>
                        <a:pt x="1794933" y="1591733"/>
                      </a:cubicBezTo>
                      <a:cubicBezTo>
                        <a:pt x="1778968" y="1543839"/>
                        <a:pt x="1753174" y="1499558"/>
                        <a:pt x="1727200" y="1456267"/>
                      </a:cubicBezTo>
                      <a:cubicBezTo>
                        <a:pt x="1685317" y="1386462"/>
                        <a:pt x="1591733" y="1253067"/>
                        <a:pt x="1591733" y="1253067"/>
                      </a:cubicBezTo>
                      <a:cubicBezTo>
                        <a:pt x="1555962" y="1145753"/>
                        <a:pt x="1565165" y="1143657"/>
                        <a:pt x="1490133" y="1049867"/>
                      </a:cubicBezTo>
                      <a:cubicBezTo>
                        <a:pt x="1470187" y="1024934"/>
                        <a:pt x="1442346" y="1007066"/>
                        <a:pt x="1422400" y="982133"/>
                      </a:cubicBezTo>
                      <a:cubicBezTo>
                        <a:pt x="1396973" y="950349"/>
                        <a:pt x="1380094" y="912316"/>
                        <a:pt x="1354667" y="880533"/>
                      </a:cubicBezTo>
                      <a:cubicBezTo>
                        <a:pt x="1334721" y="855600"/>
                        <a:pt x="1306879" y="837733"/>
                        <a:pt x="1286933" y="812800"/>
                      </a:cubicBezTo>
                      <a:cubicBezTo>
                        <a:pt x="1261506" y="781017"/>
                        <a:pt x="1246241" y="741622"/>
                        <a:pt x="1219200" y="711200"/>
                      </a:cubicBezTo>
                      <a:cubicBezTo>
                        <a:pt x="1155561" y="639606"/>
                        <a:pt x="1095702" y="561134"/>
                        <a:pt x="1016000" y="508000"/>
                      </a:cubicBezTo>
                      <a:cubicBezTo>
                        <a:pt x="887833" y="422556"/>
                        <a:pt x="943181" y="469048"/>
                        <a:pt x="846667" y="372533"/>
                      </a:cubicBezTo>
                      <a:cubicBezTo>
                        <a:pt x="835378" y="338666"/>
                        <a:pt x="832602" y="300636"/>
                        <a:pt x="812800" y="270933"/>
                      </a:cubicBezTo>
                      <a:cubicBezTo>
                        <a:pt x="786233" y="231082"/>
                        <a:pt x="749006" y="198737"/>
                        <a:pt x="711200" y="169333"/>
                      </a:cubicBezTo>
                      <a:cubicBezTo>
                        <a:pt x="536524" y="33474"/>
                        <a:pt x="559693" y="51098"/>
                        <a:pt x="406400" y="0"/>
                      </a:cubicBezTo>
                      <a:cubicBezTo>
                        <a:pt x="361244" y="11289"/>
                        <a:pt x="313715" y="15532"/>
                        <a:pt x="270933" y="33867"/>
                      </a:cubicBezTo>
                      <a:cubicBezTo>
                        <a:pt x="53886" y="126887"/>
                        <a:pt x="173770" y="228415"/>
                        <a:pt x="203200" y="508000"/>
                      </a:cubicBezTo>
                      <a:cubicBezTo>
                        <a:pt x="230238" y="764856"/>
                        <a:pt x="168958" y="711013"/>
                        <a:pt x="304800" y="778933"/>
                      </a:cubicBezTo>
                    </a:path>
                  </a:pathLst>
                </a:custGeom>
                <a:solidFill>
                  <a:srgbClr val="f2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84" name=""/>
              <p:cNvGrpSpPr/>
              <p:nvPr/>
            </p:nvGrpSpPr>
            <p:grpSpPr>
              <a:xfrm>
                <a:off x="2209680" y="2212920"/>
                <a:ext cx="1105200" cy="958320"/>
                <a:chOff x="2209680" y="2212920"/>
                <a:chExt cx="1105200" cy="958320"/>
              </a:xfrm>
            </p:grpSpPr>
            <p:sp>
              <p:nvSpPr>
                <p:cNvPr id="685" name="任意多边形 211"/>
                <p:cNvSpPr/>
                <p:nvPr/>
              </p:nvSpPr>
              <p:spPr>
                <a:xfrm rot="14100600">
                  <a:off x="2540520" y="2172240"/>
                  <a:ext cx="442800" cy="1038960"/>
                </a:xfrm>
                <a:custGeom>
                  <a:avLst/>
                  <a:gdLst>
                    <a:gd name="textAreaLeft" fmla="*/ 0 w 442800"/>
                    <a:gd name="textAreaRight" fmla="*/ 443160 w 442800"/>
                    <a:gd name="textAreaTop" fmla="*/ 0 h 1038960"/>
                    <a:gd name="textAreaBottom" fmla="*/ 1039320 h 1038960"/>
                  </a:gdLst>
                  <a:ahLst/>
                  <a:rect l="textAreaLeft" t="textAreaTop" r="textAreaRight" b="textAreaBottom"/>
                  <a:pathLst>
                    <a:path w="2065867" h="4030133">
                      <a:moveTo>
                        <a:pt x="270933" y="677333"/>
                      </a:moveTo>
                      <a:cubicBezTo>
                        <a:pt x="259644" y="733778"/>
                        <a:pt x="257278" y="792770"/>
                        <a:pt x="237067" y="846667"/>
                      </a:cubicBezTo>
                      <a:cubicBezTo>
                        <a:pt x="222775" y="884778"/>
                        <a:pt x="187536" y="911861"/>
                        <a:pt x="169333" y="948267"/>
                      </a:cubicBezTo>
                      <a:cubicBezTo>
                        <a:pt x="153368" y="980197"/>
                        <a:pt x="146756" y="1016000"/>
                        <a:pt x="135467" y="1049867"/>
                      </a:cubicBezTo>
                      <a:cubicBezTo>
                        <a:pt x="124178" y="1128889"/>
                        <a:pt x="124537" y="1210475"/>
                        <a:pt x="101600" y="1286933"/>
                      </a:cubicBezTo>
                      <a:cubicBezTo>
                        <a:pt x="89904" y="1325919"/>
                        <a:pt x="52070" y="1352127"/>
                        <a:pt x="33867" y="1388533"/>
                      </a:cubicBezTo>
                      <a:cubicBezTo>
                        <a:pt x="17902" y="1420463"/>
                        <a:pt x="11289" y="1456266"/>
                        <a:pt x="0" y="1490133"/>
                      </a:cubicBezTo>
                      <a:cubicBezTo>
                        <a:pt x="11289" y="1648178"/>
                        <a:pt x="6331" y="1808231"/>
                        <a:pt x="33867" y="1964267"/>
                      </a:cubicBezTo>
                      <a:cubicBezTo>
                        <a:pt x="40941" y="2004350"/>
                        <a:pt x="77942" y="2032746"/>
                        <a:pt x="101600" y="2065867"/>
                      </a:cubicBezTo>
                      <a:cubicBezTo>
                        <a:pt x="134408" y="2111798"/>
                        <a:pt x="167065" y="2157971"/>
                        <a:pt x="203200" y="2201333"/>
                      </a:cubicBezTo>
                      <a:cubicBezTo>
                        <a:pt x="223641" y="2225862"/>
                        <a:pt x="253221" y="2242500"/>
                        <a:pt x="270933" y="2269067"/>
                      </a:cubicBezTo>
                      <a:cubicBezTo>
                        <a:pt x="298937" y="2311073"/>
                        <a:pt x="313619" y="2360700"/>
                        <a:pt x="338667" y="2404533"/>
                      </a:cubicBezTo>
                      <a:cubicBezTo>
                        <a:pt x="443708" y="2588354"/>
                        <a:pt x="378175" y="2421458"/>
                        <a:pt x="440267" y="2607733"/>
                      </a:cubicBezTo>
                      <a:cubicBezTo>
                        <a:pt x="451556" y="2686755"/>
                        <a:pt x="448890" y="2769072"/>
                        <a:pt x="474133" y="2844800"/>
                      </a:cubicBezTo>
                      <a:cubicBezTo>
                        <a:pt x="484230" y="2875091"/>
                        <a:pt x="525439" y="2885153"/>
                        <a:pt x="541867" y="2912533"/>
                      </a:cubicBezTo>
                      <a:cubicBezTo>
                        <a:pt x="692110" y="3162937"/>
                        <a:pt x="437916" y="2858793"/>
                        <a:pt x="643467" y="3115733"/>
                      </a:cubicBezTo>
                      <a:cubicBezTo>
                        <a:pt x="663413" y="3140666"/>
                        <a:pt x="691254" y="3158534"/>
                        <a:pt x="711200" y="3183467"/>
                      </a:cubicBezTo>
                      <a:cubicBezTo>
                        <a:pt x="736627" y="3215251"/>
                        <a:pt x="752130" y="3254435"/>
                        <a:pt x="778933" y="3285067"/>
                      </a:cubicBezTo>
                      <a:cubicBezTo>
                        <a:pt x="831498" y="3345141"/>
                        <a:pt x="900372" y="3390540"/>
                        <a:pt x="948267" y="3454400"/>
                      </a:cubicBezTo>
                      <a:cubicBezTo>
                        <a:pt x="982134" y="3499556"/>
                        <a:pt x="1019951" y="3542002"/>
                        <a:pt x="1049867" y="3589867"/>
                      </a:cubicBezTo>
                      <a:cubicBezTo>
                        <a:pt x="1076624" y="3632678"/>
                        <a:pt x="1089596" y="3683327"/>
                        <a:pt x="1117600" y="3725333"/>
                      </a:cubicBezTo>
                      <a:cubicBezTo>
                        <a:pt x="1164328" y="3795425"/>
                        <a:pt x="1222230" y="3809038"/>
                        <a:pt x="1286933" y="3860800"/>
                      </a:cubicBezTo>
                      <a:cubicBezTo>
                        <a:pt x="1311866" y="3880746"/>
                        <a:pt x="1328100" y="3910821"/>
                        <a:pt x="1354667" y="3928533"/>
                      </a:cubicBezTo>
                      <a:cubicBezTo>
                        <a:pt x="1438370" y="3984335"/>
                        <a:pt x="1501418" y="4000029"/>
                        <a:pt x="1591733" y="4030133"/>
                      </a:cubicBezTo>
                      <a:cubicBezTo>
                        <a:pt x="1670755" y="4018844"/>
                        <a:pt x="1753072" y="4021510"/>
                        <a:pt x="1828800" y="3996267"/>
                      </a:cubicBezTo>
                      <a:cubicBezTo>
                        <a:pt x="1947678" y="3956641"/>
                        <a:pt x="1962781" y="3628192"/>
                        <a:pt x="1964267" y="3623733"/>
                      </a:cubicBezTo>
                      <a:cubicBezTo>
                        <a:pt x="1977138" y="3585119"/>
                        <a:pt x="2013797" y="3558539"/>
                        <a:pt x="2032000" y="3522133"/>
                      </a:cubicBezTo>
                      <a:cubicBezTo>
                        <a:pt x="2047965" y="3490203"/>
                        <a:pt x="2054578" y="3454400"/>
                        <a:pt x="2065867" y="3420533"/>
                      </a:cubicBezTo>
                      <a:cubicBezTo>
                        <a:pt x="2054578" y="3318933"/>
                        <a:pt x="2052048" y="3215973"/>
                        <a:pt x="2032000" y="3115733"/>
                      </a:cubicBezTo>
                      <a:cubicBezTo>
                        <a:pt x="2017998" y="3045722"/>
                        <a:pt x="1964267" y="2912533"/>
                        <a:pt x="1964267" y="2912533"/>
                      </a:cubicBezTo>
                      <a:cubicBezTo>
                        <a:pt x="2045473" y="2668911"/>
                        <a:pt x="1946942" y="2973167"/>
                        <a:pt x="2032000" y="2675467"/>
                      </a:cubicBezTo>
                      <a:cubicBezTo>
                        <a:pt x="2041807" y="2641142"/>
                        <a:pt x="2054578" y="2607734"/>
                        <a:pt x="2065867" y="2573867"/>
                      </a:cubicBezTo>
                      <a:cubicBezTo>
                        <a:pt x="1988036" y="2340376"/>
                        <a:pt x="2048618" y="2421153"/>
                        <a:pt x="1930400" y="2302933"/>
                      </a:cubicBezTo>
                      <a:cubicBezTo>
                        <a:pt x="1919111" y="2257778"/>
                        <a:pt x="1909320" y="2212221"/>
                        <a:pt x="1896533" y="2167467"/>
                      </a:cubicBezTo>
                      <a:cubicBezTo>
                        <a:pt x="1886726" y="2133142"/>
                        <a:pt x="1868536" y="2101080"/>
                        <a:pt x="1862667" y="2065867"/>
                      </a:cubicBezTo>
                      <a:cubicBezTo>
                        <a:pt x="1846052" y="1966175"/>
                        <a:pt x="1835554" y="1713597"/>
                        <a:pt x="1794933" y="1591733"/>
                      </a:cubicBezTo>
                      <a:cubicBezTo>
                        <a:pt x="1778968" y="1543839"/>
                        <a:pt x="1753174" y="1499558"/>
                        <a:pt x="1727200" y="1456267"/>
                      </a:cubicBezTo>
                      <a:cubicBezTo>
                        <a:pt x="1685317" y="1386462"/>
                        <a:pt x="1591733" y="1253067"/>
                        <a:pt x="1591733" y="1253067"/>
                      </a:cubicBezTo>
                      <a:cubicBezTo>
                        <a:pt x="1555962" y="1145753"/>
                        <a:pt x="1565165" y="1143657"/>
                        <a:pt x="1490133" y="1049867"/>
                      </a:cubicBezTo>
                      <a:cubicBezTo>
                        <a:pt x="1470187" y="1024934"/>
                        <a:pt x="1442346" y="1007066"/>
                        <a:pt x="1422400" y="982133"/>
                      </a:cubicBezTo>
                      <a:cubicBezTo>
                        <a:pt x="1396973" y="950349"/>
                        <a:pt x="1380094" y="912316"/>
                        <a:pt x="1354667" y="880533"/>
                      </a:cubicBezTo>
                      <a:cubicBezTo>
                        <a:pt x="1334721" y="855600"/>
                        <a:pt x="1306879" y="837733"/>
                        <a:pt x="1286933" y="812800"/>
                      </a:cubicBezTo>
                      <a:cubicBezTo>
                        <a:pt x="1261506" y="781017"/>
                        <a:pt x="1246241" y="741622"/>
                        <a:pt x="1219200" y="711200"/>
                      </a:cubicBezTo>
                      <a:cubicBezTo>
                        <a:pt x="1155561" y="639606"/>
                        <a:pt x="1095702" y="561134"/>
                        <a:pt x="1016000" y="508000"/>
                      </a:cubicBezTo>
                      <a:cubicBezTo>
                        <a:pt x="887833" y="422556"/>
                        <a:pt x="943181" y="469048"/>
                        <a:pt x="846667" y="372533"/>
                      </a:cubicBezTo>
                      <a:cubicBezTo>
                        <a:pt x="835378" y="338666"/>
                        <a:pt x="832602" y="300636"/>
                        <a:pt x="812800" y="270933"/>
                      </a:cubicBezTo>
                      <a:cubicBezTo>
                        <a:pt x="786233" y="231082"/>
                        <a:pt x="749006" y="198737"/>
                        <a:pt x="711200" y="169333"/>
                      </a:cubicBezTo>
                      <a:cubicBezTo>
                        <a:pt x="536524" y="33474"/>
                        <a:pt x="559693" y="51098"/>
                        <a:pt x="406400" y="0"/>
                      </a:cubicBezTo>
                      <a:cubicBezTo>
                        <a:pt x="361244" y="11289"/>
                        <a:pt x="313715" y="15532"/>
                        <a:pt x="270933" y="33867"/>
                      </a:cubicBezTo>
                      <a:cubicBezTo>
                        <a:pt x="53886" y="126887"/>
                        <a:pt x="173770" y="228415"/>
                        <a:pt x="203200" y="508000"/>
                      </a:cubicBezTo>
                      <a:cubicBezTo>
                        <a:pt x="230238" y="764856"/>
                        <a:pt x="168958" y="711013"/>
                        <a:pt x="304800" y="778933"/>
                      </a:cubicBez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6" name="任意多边形 212"/>
                <p:cNvSpPr/>
                <p:nvPr/>
              </p:nvSpPr>
              <p:spPr>
                <a:xfrm rot="14100600">
                  <a:off x="2508840" y="2572200"/>
                  <a:ext cx="214200" cy="533160"/>
                </a:xfrm>
                <a:custGeom>
                  <a:avLst/>
                  <a:gdLst>
                    <a:gd name="textAreaLeft" fmla="*/ 0 w 214200"/>
                    <a:gd name="textAreaRight" fmla="*/ 214560 w 214200"/>
                    <a:gd name="textAreaTop" fmla="*/ 0 h 533160"/>
                    <a:gd name="textAreaBottom" fmla="*/ 533520 h 533160"/>
                  </a:gdLst>
                  <a:ahLst/>
                  <a:rect l="textAreaLeft" t="textAreaTop" r="textAreaRight" b="textAreaBottom"/>
                  <a:pathLst>
                    <a:path w="2065867" h="4030133">
                      <a:moveTo>
                        <a:pt x="270933" y="677333"/>
                      </a:moveTo>
                      <a:cubicBezTo>
                        <a:pt x="259644" y="733778"/>
                        <a:pt x="257278" y="792770"/>
                        <a:pt x="237067" y="846667"/>
                      </a:cubicBezTo>
                      <a:cubicBezTo>
                        <a:pt x="222775" y="884778"/>
                        <a:pt x="187536" y="911861"/>
                        <a:pt x="169333" y="948267"/>
                      </a:cubicBezTo>
                      <a:cubicBezTo>
                        <a:pt x="153368" y="980197"/>
                        <a:pt x="146756" y="1016000"/>
                        <a:pt x="135467" y="1049867"/>
                      </a:cubicBezTo>
                      <a:cubicBezTo>
                        <a:pt x="124178" y="1128889"/>
                        <a:pt x="124537" y="1210475"/>
                        <a:pt x="101600" y="1286933"/>
                      </a:cubicBezTo>
                      <a:cubicBezTo>
                        <a:pt x="89904" y="1325919"/>
                        <a:pt x="52070" y="1352127"/>
                        <a:pt x="33867" y="1388533"/>
                      </a:cubicBezTo>
                      <a:cubicBezTo>
                        <a:pt x="17902" y="1420463"/>
                        <a:pt x="11289" y="1456266"/>
                        <a:pt x="0" y="1490133"/>
                      </a:cubicBezTo>
                      <a:cubicBezTo>
                        <a:pt x="11289" y="1648178"/>
                        <a:pt x="6331" y="1808231"/>
                        <a:pt x="33867" y="1964267"/>
                      </a:cubicBezTo>
                      <a:cubicBezTo>
                        <a:pt x="40941" y="2004350"/>
                        <a:pt x="77942" y="2032746"/>
                        <a:pt x="101600" y="2065867"/>
                      </a:cubicBezTo>
                      <a:cubicBezTo>
                        <a:pt x="134408" y="2111798"/>
                        <a:pt x="167065" y="2157971"/>
                        <a:pt x="203200" y="2201333"/>
                      </a:cubicBezTo>
                      <a:cubicBezTo>
                        <a:pt x="223641" y="2225862"/>
                        <a:pt x="253221" y="2242500"/>
                        <a:pt x="270933" y="2269067"/>
                      </a:cubicBezTo>
                      <a:cubicBezTo>
                        <a:pt x="298937" y="2311073"/>
                        <a:pt x="313619" y="2360700"/>
                        <a:pt x="338667" y="2404533"/>
                      </a:cubicBezTo>
                      <a:cubicBezTo>
                        <a:pt x="443708" y="2588354"/>
                        <a:pt x="378175" y="2421458"/>
                        <a:pt x="440267" y="2607733"/>
                      </a:cubicBezTo>
                      <a:cubicBezTo>
                        <a:pt x="451556" y="2686755"/>
                        <a:pt x="448890" y="2769072"/>
                        <a:pt x="474133" y="2844800"/>
                      </a:cubicBezTo>
                      <a:cubicBezTo>
                        <a:pt x="484230" y="2875091"/>
                        <a:pt x="525439" y="2885153"/>
                        <a:pt x="541867" y="2912533"/>
                      </a:cubicBezTo>
                      <a:cubicBezTo>
                        <a:pt x="692110" y="3162937"/>
                        <a:pt x="437916" y="2858793"/>
                        <a:pt x="643467" y="3115733"/>
                      </a:cubicBezTo>
                      <a:cubicBezTo>
                        <a:pt x="663413" y="3140666"/>
                        <a:pt x="691254" y="3158534"/>
                        <a:pt x="711200" y="3183467"/>
                      </a:cubicBezTo>
                      <a:cubicBezTo>
                        <a:pt x="736627" y="3215251"/>
                        <a:pt x="752130" y="3254435"/>
                        <a:pt x="778933" y="3285067"/>
                      </a:cubicBezTo>
                      <a:cubicBezTo>
                        <a:pt x="831498" y="3345141"/>
                        <a:pt x="900372" y="3390540"/>
                        <a:pt x="948267" y="3454400"/>
                      </a:cubicBezTo>
                      <a:cubicBezTo>
                        <a:pt x="982134" y="3499556"/>
                        <a:pt x="1019951" y="3542002"/>
                        <a:pt x="1049867" y="3589867"/>
                      </a:cubicBezTo>
                      <a:cubicBezTo>
                        <a:pt x="1076624" y="3632678"/>
                        <a:pt x="1089596" y="3683327"/>
                        <a:pt x="1117600" y="3725333"/>
                      </a:cubicBezTo>
                      <a:cubicBezTo>
                        <a:pt x="1164328" y="3795425"/>
                        <a:pt x="1222230" y="3809038"/>
                        <a:pt x="1286933" y="3860800"/>
                      </a:cubicBezTo>
                      <a:cubicBezTo>
                        <a:pt x="1311866" y="3880746"/>
                        <a:pt x="1328100" y="3910821"/>
                        <a:pt x="1354667" y="3928533"/>
                      </a:cubicBezTo>
                      <a:cubicBezTo>
                        <a:pt x="1438370" y="3984335"/>
                        <a:pt x="1501418" y="4000029"/>
                        <a:pt x="1591733" y="4030133"/>
                      </a:cubicBezTo>
                      <a:cubicBezTo>
                        <a:pt x="1670755" y="4018844"/>
                        <a:pt x="1753072" y="4021510"/>
                        <a:pt x="1828800" y="3996267"/>
                      </a:cubicBezTo>
                      <a:cubicBezTo>
                        <a:pt x="1947678" y="3956641"/>
                        <a:pt x="1962781" y="3628192"/>
                        <a:pt x="1964267" y="3623733"/>
                      </a:cubicBezTo>
                      <a:cubicBezTo>
                        <a:pt x="1977138" y="3585119"/>
                        <a:pt x="2013797" y="3558539"/>
                        <a:pt x="2032000" y="3522133"/>
                      </a:cubicBezTo>
                      <a:cubicBezTo>
                        <a:pt x="2047965" y="3490203"/>
                        <a:pt x="2054578" y="3454400"/>
                        <a:pt x="2065867" y="3420533"/>
                      </a:cubicBezTo>
                      <a:cubicBezTo>
                        <a:pt x="2054578" y="3318933"/>
                        <a:pt x="2052048" y="3215973"/>
                        <a:pt x="2032000" y="3115733"/>
                      </a:cubicBezTo>
                      <a:cubicBezTo>
                        <a:pt x="2017998" y="3045722"/>
                        <a:pt x="1964267" y="2912533"/>
                        <a:pt x="1964267" y="2912533"/>
                      </a:cubicBezTo>
                      <a:cubicBezTo>
                        <a:pt x="2045473" y="2668911"/>
                        <a:pt x="1946942" y="2973167"/>
                        <a:pt x="2032000" y="2675467"/>
                      </a:cubicBezTo>
                      <a:cubicBezTo>
                        <a:pt x="2041807" y="2641142"/>
                        <a:pt x="2054578" y="2607734"/>
                        <a:pt x="2065867" y="2573867"/>
                      </a:cubicBezTo>
                      <a:cubicBezTo>
                        <a:pt x="1988036" y="2340376"/>
                        <a:pt x="2048618" y="2421153"/>
                        <a:pt x="1930400" y="2302933"/>
                      </a:cubicBezTo>
                      <a:cubicBezTo>
                        <a:pt x="1919111" y="2257778"/>
                        <a:pt x="1909320" y="2212221"/>
                        <a:pt x="1896533" y="2167467"/>
                      </a:cubicBezTo>
                      <a:cubicBezTo>
                        <a:pt x="1886726" y="2133142"/>
                        <a:pt x="1868536" y="2101080"/>
                        <a:pt x="1862667" y="2065867"/>
                      </a:cubicBezTo>
                      <a:cubicBezTo>
                        <a:pt x="1846052" y="1966175"/>
                        <a:pt x="1835554" y="1713597"/>
                        <a:pt x="1794933" y="1591733"/>
                      </a:cubicBezTo>
                      <a:cubicBezTo>
                        <a:pt x="1778968" y="1543839"/>
                        <a:pt x="1753174" y="1499558"/>
                        <a:pt x="1727200" y="1456267"/>
                      </a:cubicBezTo>
                      <a:cubicBezTo>
                        <a:pt x="1685317" y="1386462"/>
                        <a:pt x="1591733" y="1253067"/>
                        <a:pt x="1591733" y="1253067"/>
                      </a:cubicBezTo>
                      <a:cubicBezTo>
                        <a:pt x="1555962" y="1145753"/>
                        <a:pt x="1565165" y="1143657"/>
                        <a:pt x="1490133" y="1049867"/>
                      </a:cubicBezTo>
                      <a:cubicBezTo>
                        <a:pt x="1470187" y="1024934"/>
                        <a:pt x="1442346" y="1007066"/>
                        <a:pt x="1422400" y="982133"/>
                      </a:cubicBezTo>
                      <a:cubicBezTo>
                        <a:pt x="1396973" y="950349"/>
                        <a:pt x="1380094" y="912316"/>
                        <a:pt x="1354667" y="880533"/>
                      </a:cubicBezTo>
                      <a:cubicBezTo>
                        <a:pt x="1334721" y="855600"/>
                        <a:pt x="1306879" y="837733"/>
                        <a:pt x="1286933" y="812800"/>
                      </a:cubicBezTo>
                      <a:cubicBezTo>
                        <a:pt x="1261506" y="781017"/>
                        <a:pt x="1246241" y="741622"/>
                        <a:pt x="1219200" y="711200"/>
                      </a:cubicBezTo>
                      <a:cubicBezTo>
                        <a:pt x="1155561" y="639606"/>
                        <a:pt x="1095702" y="561134"/>
                        <a:pt x="1016000" y="508000"/>
                      </a:cubicBezTo>
                      <a:cubicBezTo>
                        <a:pt x="887833" y="422556"/>
                        <a:pt x="943181" y="469048"/>
                        <a:pt x="846667" y="372533"/>
                      </a:cubicBezTo>
                      <a:cubicBezTo>
                        <a:pt x="835378" y="338666"/>
                        <a:pt x="832602" y="300636"/>
                        <a:pt x="812800" y="270933"/>
                      </a:cubicBezTo>
                      <a:cubicBezTo>
                        <a:pt x="786233" y="231082"/>
                        <a:pt x="749006" y="198737"/>
                        <a:pt x="711200" y="169333"/>
                      </a:cubicBezTo>
                      <a:cubicBezTo>
                        <a:pt x="536524" y="33474"/>
                        <a:pt x="559693" y="51098"/>
                        <a:pt x="406400" y="0"/>
                      </a:cubicBezTo>
                      <a:cubicBezTo>
                        <a:pt x="361244" y="11289"/>
                        <a:pt x="313715" y="15532"/>
                        <a:pt x="270933" y="33867"/>
                      </a:cubicBezTo>
                      <a:cubicBezTo>
                        <a:pt x="53886" y="126887"/>
                        <a:pt x="173770" y="228415"/>
                        <a:pt x="203200" y="508000"/>
                      </a:cubicBezTo>
                      <a:cubicBezTo>
                        <a:pt x="230238" y="764856"/>
                        <a:pt x="168958" y="711013"/>
                        <a:pt x="304800" y="778933"/>
                      </a:cubicBezTo>
                    </a:path>
                  </a:pathLst>
                </a:custGeom>
                <a:solidFill>
                  <a:srgbClr val="f2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7" name="任意多边形 213"/>
                <p:cNvSpPr/>
                <p:nvPr/>
              </p:nvSpPr>
              <p:spPr>
                <a:xfrm rot="14100600">
                  <a:off x="2715120" y="2342520"/>
                  <a:ext cx="102960" cy="400680"/>
                </a:xfrm>
                <a:custGeom>
                  <a:avLst/>
                  <a:gdLst>
                    <a:gd name="textAreaLeft" fmla="*/ 0 w 102960"/>
                    <a:gd name="textAreaRight" fmla="*/ 103320 w 102960"/>
                    <a:gd name="textAreaTop" fmla="*/ 0 h 400680"/>
                    <a:gd name="textAreaBottom" fmla="*/ 401040 h 400680"/>
                  </a:gdLst>
                  <a:ahLst/>
                  <a:rect l="textAreaLeft" t="textAreaTop" r="textAreaRight" b="textAreaBottom"/>
                  <a:pathLst>
                    <a:path w="2065867" h="4030133">
                      <a:moveTo>
                        <a:pt x="270933" y="677333"/>
                      </a:moveTo>
                      <a:cubicBezTo>
                        <a:pt x="259644" y="733778"/>
                        <a:pt x="257278" y="792770"/>
                        <a:pt x="237067" y="846667"/>
                      </a:cubicBezTo>
                      <a:cubicBezTo>
                        <a:pt x="222775" y="884778"/>
                        <a:pt x="187536" y="911861"/>
                        <a:pt x="169333" y="948267"/>
                      </a:cubicBezTo>
                      <a:cubicBezTo>
                        <a:pt x="153368" y="980197"/>
                        <a:pt x="146756" y="1016000"/>
                        <a:pt x="135467" y="1049867"/>
                      </a:cubicBezTo>
                      <a:cubicBezTo>
                        <a:pt x="124178" y="1128889"/>
                        <a:pt x="124537" y="1210475"/>
                        <a:pt x="101600" y="1286933"/>
                      </a:cubicBezTo>
                      <a:cubicBezTo>
                        <a:pt x="89904" y="1325919"/>
                        <a:pt x="52070" y="1352127"/>
                        <a:pt x="33867" y="1388533"/>
                      </a:cubicBezTo>
                      <a:cubicBezTo>
                        <a:pt x="17902" y="1420463"/>
                        <a:pt x="11289" y="1456266"/>
                        <a:pt x="0" y="1490133"/>
                      </a:cubicBezTo>
                      <a:cubicBezTo>
                        <a:pt x="11289" y="1648178"/>
                        <a:pt x="6331" y="1808231"/>
                        <a:pt x="33867" y="1964267"/>
                      </a:cubicBezTo>
                      <a:cubicBezTo>
                        <a:pt x="40941" y="2004350"/>
                        <a:pt x="77942" y="2032746"/>
                        <a:pt x="101600" y="2065867"/>
                      </a:cubicBezTo>
                      <a:cubicBezTo>
                        <a:pt x="134408" y="2111798"/>
                        <a:pt x="167065" y="2157971"/>
                        <a:pt x="203200" y="2201333"/>
                      </a:cubicBezTo>
                      <a:cubicBezTo>
                        <a:pt x="223641" y="2225862"/>
                        <a:pt x="253221" y="2242500"/>
                        <a:pt x="270933" y="2269067"/>
                      </a:cubicBezTo>
                      <a:cubicBezTo>
                        <a:pt x="298937" y="2311073"/>
                        <a:pt x="313619" y="2360700"/>
                        <a:pt x="338667" y="2404533"/>
                      </a:cubicBezTo>
                      <a:cubicBezTo>
                        <a:pt x="443708" y="2588354"/>
                        <a:pt x="378175" y="2421458"/>
                        <a:pt x="440267" y="2607733"/>
                      </a:cubicBezTo>
                      <a:cubicBezTo>
                        <a:pt x="451556" y="2686755"/>
                        <a:pt x="448890" y="2769072"/>
                        <a:pt x="474133" y="2844800"/>
                      </a:cubicBezTo>
                      <a:cubicBezTo>
                        <a:pt x="484230" y="2875091"/>
                        <a:pt x="525439" y="2885153"/>
                        <a:pt x="541867" y="2912533"/>
                      </a:cubicBezTo>
                      <a:cubicBezTo>
                        <a:pt x="692110" y="3162937"/>
                        <a:pt x="437916" y="2858793"/>
                        <a:pt x="643467" y="3115733"/>
                      </a:cubicBezTo>
                      <a:cubicBezTo>
                        <a:pt x="663413" y="3140666"/>
                        <a:pt x="691254" y="3158534"/>
                        <a:pt x="711200" y="3183467"/>
                      </a:cubicBezTo>
                      <a:cubicBezTo>
                        <a:pt x="736627" y="3215251"/>
                        <a:pt x="752130" y="3254435"/>
                        <a:pt x="778933" y="3285067"/>
                      </a:cubicBezTo>
                      <a:cubicBezTo>
                        <a:pt x="831498" y="3345141"/>
                        <a:pt x="900372" y="3390540"/>
                        <a:pt x="948267" y="3454400"/>
                      </a:cubicBezTo>
                      <a:cubicBezTo>
                        <a:pt x="982134" y="3499556"/>
                        <a:pt x="1019951" y="3542002"/>
                        <a:pt x="1049867" y="3589867"/>
                      </a:cubicBezTo>
                      <a:cubicBezTo>
                        <a:pt x="1076624" y="3632678"/>
                        <a:pt x="1089596" y="3683327"/>
                        <a:pt x="1117600" y="3725333"/>
                      </a:cubicBezTo>
                      <a:cubicBezTo>
                        <a:pt x="1164328" y="3795425"/>
                        <a:pt x="1222230" y="3809038"/>
                        <a:pt x="1286933" y="3860800"/>
                      </a:cubicBezTo>
                      <a:cubicBezTo>
                        <a:pt x="1311866" y="3880746"/>
                        <a:pt x="1328100" y="3910821"/>
                        <a:pt x="1354667" y="3928533"/>
                      </a:cubicBezTo>
                      <a:cubicBezTo>
                        <a:pt x="1438370" y="3984335"/>
                        <a:pt x="1501418" y="4000029"/>
                        <a:pt x="1591733" y="4030133"/>
                      </a:cubicBezTo>
                      <a:cubicBezTo>
                        <a:pt x="1670755" y="4018844"/>
                        <a:pt x="1753072" y="4021510"/>
                        <a:pt x="1828800" y="3996267"/>
                      </a:cubicBezTo>
                      <a:cubicBezTo>
                        <a:pt x="1947678" y="3956641"/>
                        <a:pt x="1962781" y="3628192"/>
                        <a:pt x="1964267" y="3623733"/>
                      </a:cubicBezTo>
                      <a:cubicBezTo>
                        <a:pt x="1977138" y="3585119"/>
                        <a:pt x="2013797" y="3558539"/>
                        <a:pt x="2032000" y="3522133"/>
                      </a:cubicBezTo>
                      <a:cubicBezTo>
                        <a:pt x="2047965" y="3490203"/>
                        <a:pt x="2054578" y="3454400"/>
                        <a:pt x="2065867" y="3420533"/>
                      </a:cubicBezTo>
                      <a:cubicBezTo>
                        <a:pt x="2054578" y="3318933"/>
                        <a:pt x="2052048" y="3215973"/>
                        <a:pt x="2032000" y="3115733"/>
                      </a:cubicBezTo>
                      <a:cubicBezTo>
                        <a:pt x="2017998" y="3045722"/>
                        <a:pt x="1964267" y="2912533"/>
                        <a:pt x="1964267" y="2912533"/>
                      </a:cubicBezTo>
                      <a:cubicBezTo>
                        <a:pt x="2045473" y="2668911"/>
                        <a:pt x="1946942" y="2973167"/>
                        <a:pt x="2032000" y="2675467"/>
                      </a:cubicBezTo>
                      <a:cubicBezTo>
                        <a:pt x="2041807" y="2641142"/>
                        <a:pt x="2054578" y="2607734"/>
                        <a:pt x="2065867" y="2573867"/>
                      </a:cubicBezTo>
                      <a:cubicBezTo>
                        <a:pt x="1988036" y="2340376"/>
                        <a:pt x="2048618" y="2421153"/>
                        <a:pt x="1930400" y="2302933"/>
                      </a:cubicBezTo>
                      <a:cubicBezTo>
                        <a:pt x="1919111" y="2257778"/>
                        <a:pt x="1909320" y="2212221"/>
                        <a:pt x="1896533" y="2167467"/>
                      </a:cubicBezTo>
                      <a:cubicBezTo>
                        <a:pt x="1886726" y="2133142"/>
                        <a:pt x="1868536" y="2101080"/>
                        <a:pt x="1862667" y="2065867"/>
                      </a:cubicBezTo>
                      <a:cubicBezTo>
                        <a:pt x="1846052" y="1966175"/>
                        <a:pt x="1835554" y="1713597"/>
                        <a:pt x="1794933" y="1591733"/>
                      </a:cubicBezTo>
                      <a:cubicBezTo>
                        <a:pt x="1778968" y="1543839"/>
                        <a:pt x="1753174" y="1499558"/>
                        <a:pt x="1727200" y="1456267"/>
                      </a:cubicBezTo>
                      <a:cubicBezTo>
                        <a:pt x="1685317" y="1386462"/>
                        <a:pt x="1591733" y="1253067"/>
                        <a:pt x="1591733" y="1253067"/>
                      </a:cubicBezTo>
                      <a:cubicBezTo>
                        <a:pt x="1555962" y="1145753"/>
                        <a:pt x="1565165" y="1143657"/>
                        <a:pt x="1490133" y="1049867"/>
                      </a:cubicBezTo>
                      <a:cubicBezTo>
                        <a:pt x="1470187" y="1024934"/>
                        <a:pt x="1442346" y="1007066"/>
                        <a:pt x="1422400" y="982133"/>
                      </a:cubicBezTo>
                      <a:cubicBezTo>
                        <a:pt x="1396973" y="950349"/>
                        <a:pt x="1380094" y="912316"/>
                        <a:pt x="1354667" y="880533"/>
                      </a:cubicBezTo>
                      <a:cubicBezTo>
                        <a:pt x="1334721" y="855600"/>
                        <a:pt x="1306879" y="837733"/>
                        <a:pt x="1286933" y="812800"/>
                      </a:cubicBezTo>
                      <a:cubicBezTo>
                        <a:pt x="1261506" y="781017"/>
                        <a:pt x="1246241" y="741622"/>
                        <a:pt x="1219200" y="711200"/>
                      </a:cubicBezTo>
                      <a:cubicBezTo>
                        <a:pt x="1155561" y="639606"/>
                        <a:pt x="1095702" y="561134"/>
                        <a:pt x="1016000" y="508000"/>
                      </a:cubicBezTo>
                      <a:cubicBezTo>
                        <a:pt x="887833" y="422556"/>
                        <a:pt x="943181" y="469048"/>
                        <a:pt x="846667" y="372533"/>
                      </a:cubicBezTo>
                      <a:cubicBezTo>
                        <a:pt x="835378" y="338666"/>
                        <a:pt x="832602" y="300636"/>
                        <a:pt x="812800" y="270933"/>
                      </a:cubicBezTo>
                      <a:cubicBezTo>
                        <a:pt x="786233" y="231082"/>
                        <a:pt x="749006" y="198737"/>
                        <a:pt x="711200" y="169333"/>
                      </a:cubicBezTo>
                      <a:cubicBezTo>
                        <a:pt x="536524" y="33474"/>
                        <a:pt x="559693" y="51098"/>
                        <a:pt x="406400" y="0"/>
                      </a:cubicBezTo>
                      <a:cubicBezTo>
                        <a:pt x="361244" y="11289"/>
                        <a:pt x="313715" y="15532"/>
                        <a:pt x="270933" y="33867"/>
                      </a:cubicBezTo>
                      <a:cubicBezTo>
                        <a:pt x="53886" y="126887"/>
                        <a:pt x="173770" y="228415"/>
                        <a:pt x="203200" y="508000"/>
                      </a:cubicBezTo>
                      <a:cubicBezTo>
                        <a:pt x="230238" y="764856"/>
                        <a:pt x="168958" y="711013"/>
                        <a:pt x="304800" y="778933"/>
                      </a:cubicBezTo>
                    </a:path>
                  </a:pathLst>
                </a:custGeom>
                <a:solidFill>
                  <a:srgbClr val="f2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88" name=""/>
              <p:cNvGrpSpPr/>
              <p:nvPr/>
            </p:nvGrpSpPr>
            <p:grpSpPr>
              <a:xfrm>
                <a:off x="2543040" y="1029240"/>
                <a:ext cx="477000" cy="451800"/>
                <a:chOff x="2543040" y="1029240"/>
                <a:chExt cx="477000" cy="451800"/>
              </a:xfrm>
            </p:grpSpPr>
            <p:sp>
              <p:nvSpPr>
                <p:cNvPr id="689" name="任意多边形 208"/>
                <p:cNvSpPr/>
                <p:nvPr/>
              </p:nvSpPr>
              <p:spPr>
                <a:xfrm rot="5278800">
                  <a:off x="2563200" y="1024200"/>
                  <a:ext cx="435960" cy="461880"/>
                </a:xfrm>
                <a:custGeom>
                  <a:avLst/>
                  <a:gdLst>
                    <a:gd name="textAreaLeft" fmla="*/ 0 w 435960"/>
                    <a:gd name="textAreaRight" fmla="*/ 436320 w 435960"/>
                    <a:gd name="textAreaTop" fmla="*/ 0 h 461880"/>
                    <a:gd name="textAreaBottom" fmla="*/ 462240 h 461880"/>
                  </a:gdLst>
                  <a:ahLst/>
                  <a:rect l="textAreaLeft" t="textAreaTop" r="textAreaRight" b="textAreaBottom"/>
                  <a:pathLst>
                    <a:path w="2065867" h="4030133">
                      <a:moveTo>
                        <a:pt x="270933" y="677333"/>
                      </a:moveTo>
                      <a:cubicBezTo>
                        <a:pt x="259644" y="733778"/>
                        <a:pt x="257278" y="792770"/>
                        <a:pt x="237067" y="846667"/>
                      </a:cubicBezTo>
                      <a:cubicBezTo>
                        <a:pt x="222775" y="884778"/>
                        <a:pt x="187536" y="911861"/>
                        <a:pt x="169333" y="948267"/>
                      </a:cubicBezTo>
                      <a:cubicBezTo>
                        <a:pt x="153368" y="980197"/>
                        <a:pt x="146756" y="1016000"/>
                        <a:pt x="135467" y="1049867"/>
                      </a:cubicBezTo>
                      <a:cubicBezTo>
                        <a:pt x="124178" y="1128889"/>
                        <a:pt x="124537" y="1210475"/>
                        <a:pt x="101600" y="1286933"/>
                      </a:cubicBezTo>
                      <a:cubicBezTo>
                        <a:pt x="89904" y="1325919"/>
                        <a:pt x="52070" y="1352127"/>
                        <a:pt x="33867" y="1388533"/>
                      </a:cubicBezTo>
                      <a:cubicBezTo>
                        <a:pt x="17902" y="1420463"/>
                        <a:pt x="11289" y="1456266"/>
                        <a:pt x="0" y="1490133"/>
                      </a:cubicBezTo>
                      <a:cubicBezTo>
                        <a:pt x="11289" y="1648178"/>
                        <a:pt x="6331" y="1808231"/>
                        <a:pt x="33867" y="1964267"/>
                      </a:cubicBezTo>
                      <a:cubicBezTo>
                        <a:pt x="40941" y="2004350"/>
                        <a:pt x="77942" y="2032746"/>
                        <a:pt x="101600" y="2065867"/>
                      </a:cubicBezTo>
                      <a:cubicBezTo>
                        <a:pt x="134408" y="2111798"/>
                        <a:pt x="167065" y="2157971"/>
                        <a:pt x="203200" y="2201333"/>
                      </a:cubicBezTo>
                      <a:cubicBezTo>
                        <a:pt x="223641" y="2225862"/>
                        <a:pt x="253221" y="2242500"/>
                        <a:pt x="270933" y="2269067"/>
                      </a:cubicBezTo>
                      <a:cubicBezTo>
                        <a:pt x="298937" y="2311073"/>
                        <a:pt x="313619" y="2360700"/>
                        <a:pt x="338667" y="2404533"/>
                      </a:cubicBezTo>
                      <a:cubicBezTo>
                        <a:pt x="443708" y="2588354"/>
                        <a:pt x="378175" y="2421458"/>
                        <a:pt x="440267" y="2607733"/>
                      </a:cubicBezTo>
                      <a:cubicBezTo>
                        <a:pt x="451556" y="2686755"/>
                        <a:pt x="448890" y="2769072"/>
                        <a:pt x="474133" y="2844800"/>
                      </a:cubicBezTo>
                      <a:cubicBezTo>
                        <a:pt x="484230" y="2875091"/>
                        <a:pt x="525439" y="2885153"/>
                        <a:pt x="541867" y="2912533"/>
                      </a:cubicBezTo>
                      <a:cubicBezTo>
                        <a:pt x="692110" y="3162937"/>
                        <a:pt x="437916" y="2858793"/>
                        <a:pt x="643467" y="3115733"/>
                      </a:cubicBezTo>
                      <a:cubicBezTo>
                        <a:pt x="663413" y="3140666"/>
                        <a:pt x="691254" y="3158534"/>
                        <a:pt x="711200" y="3183467"/>
                      </a:cubicBezTo>
                      <a:cubicBezTo>
                        <a:pt x="736627" y="3215251"/>
                        <a:pt x="752130" y="3254435"/>
                        <a:pt x="778933" y="3285067"/>
                      </a:cubicBezTo>
                      <a:cubicBezTo>
                        <a:pt x="831498" y="3345141"/>
                        <a:pt x="900372" y="3390540"/>
                        <a:pt x="948267" y="3454400"/>
                      </a:cubicBezTo>
                      <a:cubicBezTo>
                        <a:pt x="982134" y="3499556"/>
                        <a:pt x="1019951" y="3542002"/>
                        <a:pt x="1049867" y="3589867"/>
                      </a:cubicBezTo>
                      <a:cubicBezTo>
                        <a:pt x="1076624" y="3632678"/>
                        <a:pt x="1089596" y="3683327"/>
                        <a:pt x="1117600" y="3725333"/>
                      </a:cubicBezTo>
                      <a:cubicBezTo>
                        <a:pt x="1164328" y="3795425"/>
                        <a:pt x="1222230" y="3809038"/>
                        <a:pt x="1286933" y="3860800"/>
                      </a:cubicBezTo>
                      <a:cubicBezTo>
                        <a:pt x="1311866" y="3880746"/>
                        <a:pt x="1328100" y="3910821"/>
                        <a:pt x="1354667" y="3928533"/>
                      </a:cubicBezTo>
                      <a:cubicBezTo>
                        <a:pt x="1438370" y="3984335"/>
                        <a:pt x="1501418" y="4000029"/>
                        <a:pt x="1591733" y="4030133"/>
                      </a:cubicBezTo>
                      <a:cubicBezTo>
                        <a:pt x="1670755" y="4018844"/>
                        <a:pt x="1753072" y="4021510"/>
                        <a:pt x="1828800" y="3996267"/>
                      </a:cubicBezTo>
                      <a:cubicBezTo>
                        <a:pt x="1947678" y="3956641"/>
                        <a:pt x="1962781" y="3628192"/>
                        <a:pt x="1964267" y="3623733"/>
                      </a:cubicBezTo>
                      <a:cubicBezTo>
                        <a:pt x="1977138" y="3585119"/>
                        <a:pt x="2013797" y="3558539"/>
                        <a:pt x="2032000" y="3522133"/>
                      </a:cubicBezTo>
                      <a:cubicBezTo>
                        <a:pt x="2047965" y="3490203"/>
                        <a:pt x="2054578" y="3454400"/>
                        <a:pt x="2065867" y="3420533"/>
                      </a:cubicBezTo>
                      <a:cubicBezTo>
                        <a:pt x="2054578" y="3318933"/>
                        <a:pt x="2052048" y="3215973"/>
                        <a:pt x="2032000" y="3115733"/>
                      </a:cubicBezTo>
                      <a:cubicBezTo>
                        <a:pt x="2017998" y="3045722"/>
                        <a:pt x="1964267" y="2912533"/>
                        <a:pt x="1964267" y="2912533"/>
                      </a:cubicBezTo>
                      <a:cubicBezTo>
                        <a:pt x="2045473" y="2668911"/>
                        <a:pt x="1946942" y="2973167"/>
                        <a:pt x="2032000" y="2675467"/>
                      </a:cubicBezTo>
                      <a:cubicBezTo>
                        <a:pt x="2041807" y="2641142"/>
                        <a:pt x="2054578" y="2607734"/>
                        <a:pt x="2065867" y="2573867"/>
                      </a:cubicBezTo>
                      <a:cubicBezTo>
                        <a:pt x="1988036" y="2340376"/>
                        <a:pt x="2048618" y="2421153"/>
                        <a:pt x="1930400" y="2302933"/>
                      </a:cubicBezTo>
                      <a:cubicBezTo>
                        <a:pt x="1919111" y="2257778"/>
                        <a:pt x="1909320" y="2212221"/>
                        <a:pt x="1896533" y="2167467"/>
                      </a:cubicBezTo>
                      <a:cubicBezTo>
                        <a:pt x="1886726" y="2133142"/>
                        <a:pt x="1868536" y="2101080"/>
                        <a:pt x="1862667" y="2065867"/>
                      </a:cubicBezTo>
                      <a:cubicBezTo>
                        <a:pt x="1846052" y="1966175"/>
                        <a:pt x="1835554" y="1713597"/>
                        <a:pt x="1794933" y="1591733"/>
                      </a:cubicBezTo>
                      <a:cubicBezTo>
                        <a:pt x="1778968" y="1543839"/>
                        <a:pt x="1753174" y="1499558"/>
                        <a:pt x="1727200" y="1456267"/>
                      </a:cubicBezTo>
                      <a:cubicBezTo>
                        <a:pt x="1685317" y="1386462"/>
                        <a:pt x="1591733" y="1253067"/>
                        <a:pt x="1591733" y="1253067"/>
                      </a:cubicBezTo>
                      <a:cubicBezTo>
                        <a:pt x="1555962" y="1145753"/>
                        <a:pt x="1565165" y="1143657"/>
                        <a:pt x="1490133" y="1049867"/>
                      </a:cubicBezTo>
                      <a:cubicBezTo>
                        <a:pt x="1470187" y="1024934"/>
                        <a:pt x="1442346" y="1007066"/>
                        <a:pt x="1422400" y="982133"/>
                      </a:cubicBezTo>
                      <a:cubicBezTo>
                        <a:pt x="1396973" y="950349"/>
                        <a:pt x="1380094" y="912316"/>
                        <a:pt x="1354667" y="880533"/>
                      </a:cubicBezTo>
                      <a:cubicBezTo>
                        <a:pt x="1334721" y="855600"/>
                        <a:pt x="1306879" y="837733"/>
                        <a:pt x="1286933" y="812800"/>
                      </a:cubicBezTo>
                      <a:cubicBezTo>
                        <a:pt x="1261506" y="781017"/>
                        <a:pt x="1246241" y="741622"/>
                        <a:pt x="1219200" y="711200"/>
                      </a:cubicBezTo>
                      <a:cubicBezTo>
                        <a:pt x="1155561" y="639606"/>
                        <a:pt x="1095702" y="561134"/>
                        <a:pt x="1016000" y="508000"/>
                      </a:cubicBezTo>
                      <a:cubicBezTo>
                        <a:pt x="887833" y="422556"/>
                        <a:pt x="943181" y="469048"/>
                        <a:pt x="846667" y="372533"/>
                      </a:cubicBezTo>
                      <a:cubicBezTo>
                        <a:pt x="835378" y="338666"/>
                        <a:pt x="832602" y="300636"/>
                        <a:pt x="812800" y="270933"/>
                      </a:cubicBezTo>
                      <a:cubicBezTo>
                        <a:pt x="786233" y="231082"/>
                        <a:pt x="749006" y="198737"/>
                        <a:pt x="711200" y="169333"/>
                      </a:cubicBezTo>
                      <a:cubicBezTo>
                        <a:pt x="536524" y="33474"/>
                        <a:pt x="559693" y="51098"/>
                        <a:pt x="406400" y="0"/>
                      </a:cubicBezTo>
                      <a:cubicBezTo>
                        <a:pt x="361244" y="11289"/>
                        <a:pt x="313715" y="15532"/>
                        <a:pt x="270933" y="33867"/>
                      </a:cubicBezTo>
                      <a:cubicBezTo>
                        <a:pt x="53886" y="126887"/>
                        <a:pt x="173770" y="228415"/>
                        <a:pt x="203200" y="508000"/>
                      </a:cubicBezTo>
                      <a:cubicBezTo>
                        <a:pt x="230238" y="764856"/>
                        <a:pt x="168958" y="711013"/>
                        <a:pt x="304800" y="778933"/>
                      </a:cubicBez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0" name="任意多边形 209"/>
                <p:cNvSpPr/>
                <p:nvPr/>
              </p:nvSpPr>
              <p:spPr>
                <a:xfrm rot="5278800">
                  <a:off x="2765520" y="1117080"/>
                  <a:ext cx="210960" cy="236880"/>
                </a:xfrm>
                <a:custGeom>
                  <a:avLst/>
                  <a:gdLst>
                    <a:gd name="textAreaLeft" fmla="*/ 0 w 210960"/>
                    <a:gd name="textAreaRight" fmla="*/ 211320 w 210960"/>
                    <a:gd name="textAreaTop" fmla="*/ 0 h 236880"/>
                    <a:gd name="textAreaBottom" fmla="*/ 237240 h 236880"/>
                  </a:gdLst>
                  <a:ahLst/>
                  <a:rect l="textAreaLeft" t="textAreaTop" r="textAreaRight" b="textAreaBottom"/>
                  <a:pathLst>
                    <a:path w="2065867" h="4030133">
                      <a:moveTo>
                        <a:pt x="270933" y="677333"/>
                      </a:moveTo>
                      <a:cubicBezTo>
                        <a:pt x="259644" y="733778"/>
                        <a:pt x="257278" y="792770"/>
                        <a:pt x="237067" y="846667"/>
                      </a:cubicBezTo>
                      <a:cubicBezTo>
                        <a:pt x="222775" y="884778"/>
                        <a:pt x="187536" y="911861"/>
                        <a:pt x="169333" y="948267"/>
                      </a:cubicBezTo>
                      <a:cubicBezTo>
                        <a:pt x="153368" y="980197"/>
                        <a:pt x="146756" y="1016000"/>
                        <a:pt x="135467" y="1049867"/>
                      </a:cubicBezTo>
                      <a:cubicBezTo>
                        <a:pt x="124178" y="1128889"/>
                        <a:pt x="124537" y="1210475"/>
                        <a:pt x="101600" y="1286933"/>
                      </a:cubicBezTo>
                      <a:cubicBezTo>
                        <a:pt x="89904" y="1325919"/>
                        <a:pt x="52070" y="1352127"/>
                        <a:pt x="33867" y="1388533"/>
                      </a:cubicBezTo>
                      <a:cubicBezTo>
                        <a:pt x="17902" y="1420463"/>
                        <a:pt x="11289" y="1456266"/>
                        <a:pt x="0" y="1490133"/>
                      </a:cubicBezTo>
                      <a:cubicBezTo>
                        <a:pt x="11289" y="1648178"/>
                        <a:pt x="6331" y="1808231"/>
                        <a:pt x="33867" y="1964267"/>
                      </a:cubicBezTo>
                      <a:cubicBezTo>
                        <a:pt x="40941" y="2004350"/>
                        <a:pt x="77942" y="2032746"/>
                        <a:pt x="101600" y="2065867"/>
                      </a:cubicBezTo>
                      <a:cubicBezTo>
                        <a:pt x="134408" y="2111798"/>
                        <a:pt x="167065" y="2157971"/>
                        <a:pt x="203200" y="2201333"/>
                      </a:cubicBezTo>
                      <a:cubicBezTo>
                        <a:pt x="223641" y="2225862"/>
                        <a:pt x="253221" y="2242500"/>
                        <a:pt x="270933" y="2269067"/>
                      </a:cubicBezTo>
                      <a:cubicBezTo>
                        <a:pt x="298937" y="2311073"/>
                        <a:pt x="313619" y="2360700"/>
                        <a:pt x="338667" y="2404533"/>
                      </a:cubicBezTo>
                      <a:cubicBezTo>
                        <a:pt x="443708" y="2588354"/>
                        <a:pt x="378175" y="2421458"/>
                        <a:pt x="440267" y="2607733"/>
                      </a:cubicBezTo>
                      <a:cubicBezTo>
                        <a:pt x="451556" y="2686755"/>
                        <a:pt x="448890" y="2769072"/>
                        <a:pt x="474133" y="2844800"/>
                      </a:cubicBezTo>
                      <a:cubicBezTo>
                        <a:pt x="484230" y="2875091"/>
                        <a:pt x="525439" y="2885153"/>
                        <a:pt x="541867" y="2912533"/>
                      </a:cubicBezTo>
                      <a:cubicBezTo>
                        <a:pt x="692110" y="3162937"/>
                        <a:pt x="437916" y="2858793"/>
                        <a:pt x="643467" y="3115733"/>
                      </a:cubicBezTo>
                      <a:cubicBezTo>
                        <a:pt x="663413" y="3140666"/>
                        <a:pt x="691254" y="3158534"/>
                        <a:pt x="711200" y="3183467"/>
                      </a:cubicBezTo>
                      <a:cubicBezTo>
                        <a:pt x="736627" y="3215251"/>
                        <a:pt x="752130" y="3254435"/>
                        <a:pt x="778933" y="3285067"/>
                      </a:cubicBezTo>
                      <a:cubicBezTo>
                        <a:pt x="831498" y="3345141"/>
                        <a:pt x="900372" y="3390540"/>
                        <a:pt x="948267" y="3454400"/>
                      </a:cubicBezTo>
                      <a:cubicBezTo>
                        <a:pt x="982134" y="3499556"/>
                        <a:pt x="1019951" y="3542002"/>
                        <a:pt x="1049867" y="3589867"/>
                      </a:cubicBezTo>
                      <a:cubicBezTo>
                        <a:pt x="1076624" y="3632678"/>
                        <a:pt x="1089596" y="3683327"/>
                        <a:pt x="1117600" y="3725333"/>
                      </a:cubicBezTo>
                      <a:cubicBezTo>
                        <a:pt x="1164328" y="3795425"/>
                        <a:pt x="1222230" y="3809038"/>
                        <a:pt x="1286933" y="3860800"/>
                      </a:cubicBezTo>
                      <a:cubicBezTo>
                        <a:pt x="1311866" y="3880746"/>
                        <a:pt x="1328100" y="3910821"/>
                        <a:pt x="1354667" y="3928533"/>
                      </a:cubicBezTo>
                      <a:cubicBezTo>
                        <a:pt x="1438370" y="3984335"/>
                        <a:pt x="1501418" y="4000029"/>
                        <a:pt x="1591733" y="4030133"/>
                      </a:cubicBezTo>
                      <a:cubicBezTo>
                        <a:pt x="1670755" y="4018844"/>
                        <a:pt x="1753072" y="4021510"/>
                        <a:pt x="1828800" y="3996267"/>
                      </a:cubicBezTo>
                      <a:cubicBezTo>
                        <a:pt x="1947678" y="3956641"/>
                        <a:pt x="1962781" y="3628192"/>
                        <a:pt x="1964267" y="3623733"/>
                      </a:cubicBezTo>
                      <a:cubicBezTo>
                        <a:pt x="1977138" y="3585119"/>
                        <a:pt x="2013797" y="3558539"/>
                        <a:pt x="2032000" y="3522133"/>
                      </a:cubicBezTo>
                      <a:cubicBezTo>
                        <a:pt x="2047965" y="3490203"/>
                        <a:pt x="2054578" y="3454400"/>
                        <a:pt x="2065867" y="3420533"/>
                      </a:cubicBezTo>
                      <a:cubicBezTo>
                        <a:pt x="2054578" y="3318933"/>
                        <a:pt x="2052048" y="3215973"/>
                        <a:pt x="2032000" y="3115733"/>
                      </a:cubicBezTo>
                      <a:cubicBezTo>
                        <a:pt x="2017998" y="3045722"/>
                        <a:pt x="1964267" y="2912533"/>
                        <a:pt x="1964267" y="2912533"/>
                      </a:cubicBezTo>
                      <a:cubicBezTo>
                        <a:pt x="2045473" y="2668911"/>
                        <a:pt x="1946942" y="2973167"/>
                        <a:pt x="2032000" y="2675467"/>
                      </a:cubicBezTo>
                      <a:cubicBezTo>
                        <a:pt x="2041807" y="2641142"/>
                        <a:pt x="2054578" y="2607734"/>
                        <a:pt x="2065867" y="2573867"/>
                      </a:cubicBezTo>
                      <a:cubicBezTo>
                        <a:pt x="1988036" y="2340376"/>
                        <a:pt x="2048618" y="2421153"/>
                        <a:pt x="1930400" y="2302933"/>
                      </a:cubicBezTo>
                      <a:cubicBezTo>
                        <a:pt x="1919111" y="2257778"/>
                        <a:pt x="1909320" y="2212221"/>
                        <a:pt x="1896533" y="2167467"/>
                      </a:cubicBezTo>
                      <a:cubicBezTo>
                        <a:pt x="1886726" y="2133142"/>
                        <a:pt x="1868536" y="2101080"/>
                        <a:pt x="1862667" y="2065867"/>
                      </a:cubicBezTo>
                      <a:cubicBezTo>
                        <a:pt x="1846052" y="1966175"/>
                        <a:pt x="1835554" y="1713597"/>
                        <a:pt x="1794933" y="1591733"/>
                      </a:cubicBezTo>
                      <a:cubicBezTo>
                        <a:pt x="1778968" y="1543839"/>
                        <a:pt x="1753174" y="1499558"/>
                        <a:pt x="1727200" y="1456267"/>
                      </a:cubicBezTo>
                      <a:cubicBezTo>
                        <a:pt x="1685317" y="1386462"/>
                        <a:pt x="1591733" y="1253067"/>
                        <a:pt x="1591733" y="1253067"/>
                      </a:cubicBezTo>
                      <a:cubicBezTo>
                        <a:pt x="1555962" y="1145753"/>
                        <a:pt x="1565165" y="1143657"/>
                        <a:pt x="1490133" y="1049867"/>
                      </a:cubicBezTo>
                      <a:cubicBezTo>
                        <a:pt x="1470187" y="1024934"/>
                        <a:pt x="1442346" y="1007066"/>
                        <a:pt x="1422400" y="982133"/>
                      </a:cubicBezTo>
                      <a:cubicBezTo>
                        <a:pt x="1396973" y="950349"/>
                        <a:pt x="1380094" y="912316"/>
                        <a:pt x="1354667" y="880533"/>
                      </a:cubicBezTo>
                      <a:cubicBezTo>
                        <a:pt x="1334721" y="855600"/>
                        <a:pt x="1306879" y="837733"/>
                        <a:pt x="1286933" y="812800"/>
                      </a:cubicBezTo>
                      <a:cubicBezTo>
                        <a:pt x="1261506" y="781017"/>
                        <a:pt x="1246241" y="741622"/>
                        <a:pt x="1219200" y="711200"/>
                      </a:cubicBezTo>
                      <a:cubicBezTo>
                        <a:pt x="1155561" y="639606"/>
                        <a:pt x="1095702" y="561134"/>
                        <a:pt x="1016000" y="508000"/>
                      </a:cubicBezTo>
                      <a:cubicBezTo>
                        <a:pt x="887833" y="422556"/>
                        <a:pt x="943181" y="469048"/>
                        <a:pt x="846667" y="372533"/>
                      </a:cubicBezTo>
                      <a:cubicBezTo>
                        <a:pt x="835378" y="338666"/>
                        <a:pt x="832602" y="300636"/>
                        <a:pt x="812800" y="270933"/>
                      </a:cubicBezTo>
                      <a:cubicBezTo>
                        <a:pt x="786233" y="231082"/>
                        <a:pt x="749006" y="198737"/>
                        <a:pt x="711200" y="169333"/>
                      </a:cubicBezTo>
                      <a:cubicBezTo>
                        <a:pt x="536524" y="33474"/>
                        <a:pt x="559693" y="51098"/>
                        <a:pt x="406400" y="0"/>
                      </a:cubicBezTo>
                      <a:cubicBezTo>
                        <a:pt x="361244" y="11289"/>
                        <a:pt x="313715" y="15532"/>
                        <a:pt x="270933" y="33867"/>
                      </a:cubicBezTo>
                      <a:cubicBezTo>
                        <a:pt x="53886" y="126887"/>
                        <a:pt x="173770" y="228415"/>
                        <a:pt x="203200" y="508000"/>
                      </a:cubicBezTo>
                      <a:cubicBezTo>
                        <a:pt x="230238" y="764856"/>
                        <a:pt x="168958" y="711013"/>
                        <a:pt x="304800" y="778933"/>
                      </a:cubicBezTo>
                    </a:path>
                  </a:pathLst>
                </a:custGeom>
                <a:solidFill>
                  <a:srgbClr val="f2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1" name="任意多边形 210"/>
                <p:cNvSpPr/>
                <p:nvPr/>
              </p:nvSpPr>
              <p:spPr>
                <a:xfrm rot="5278800">
                  <a:off x="2703960" y="1273680"/>
                  <a:ext cx="101520" cy="178200"/>
                </a:xfrm>
                <a:custGeom>
                  <a:avLst/>
                  <a:gdLst>
                    <a:gd name="textAreaLeft" fmla="*/ 0 w 101520"/>
                    <a:gd name="textAreaRight" fmla="*/ 101880 w 101520"/>
                    <a:gd name="textAreaTop" fmla="*/ 0 h 178200"/>
                    <a:gd name="textAreaBottom" fmla="*/ 178560 h 178200"/>
                  </a:gdLst>
                  <a:ahLst/>
                  <a:rect l="textAreaLeft" t="textAreaTop" r="textAreaRight" b="textAreaBottom"/>
                  <a:pathLst>
                    <a:path w="2065867" h="4030133">
                      <a:moveTo>
                        <a:pt x="270933" y="677333"/>
                      </a:moveTo>
                      <a:cubicBezTo>
                        <a:pt x="259644" y="733778"/>
                        <a:pt x="257278" y="792770"/>
                        <a:pt x="237067" y="846667"/>
                      </a:cubicBezTo>
                      <a:cubicBezTo>
                        <a:pt x="222775" y="884778"/>
                        <a:pt x="187536" y="911861"/>
                        <a:pt x="169333" y="948267"/>
                      </a:cubicBezTo>
                      <a:cubicBezTo>
                        <a:pt x="153368" y="980197"/>
                        <a:pt x="146756" y="1016000"/>
                        <a:pt x="135467" y="1049867"/>
                      </a:cubicBezTo>
                      <a:cubicBezTo>
                        <a:pt x="124178" y="1128889"/>
                        <a:pt x="124537" y="1210475"/>
                        <a:pt x="101600" y="1286933"/>
                      </a:cubicBezTo>
                      <a:cubicBezTo>
                        <a:pt x="89904" y="1325919"/>
                        <a:pt x="52070" y="1352127"/>
                        <a:pt x="33867" y="1388533"/>
                      </a:cubicBezTo>
                      <a:cubicBezTo>
                        <a:pt x="17902" y="1420463"/>
                        <a:pt x="11289" y="1456266"/>
                        <a:pt x="0" y="1490133"/>
                      </a:cubicBezTo>
                      <a:cubicBezTo>
                        <a:pt x="11289" y="1648178"/>
                        <a:pt x="6331" y="1808231"/>
                        <a:pt x="33867" y="1964267"/>
                      </a:cubicBezTo>
                      <a:cubicBezTo>
                        <a:pt x="40941" y="2004350"/>
                        <a:pt x="77942" y="2032746"/>
                        <a:pt x="101600" y="2065867"/>
                      </a:cubicBezTo>
                      <a:cubicBezTo>
                        <a:pt x="134408" y="2111798"/>
                        <a:pt x="167065" y="2157971"/>
                        <a:pt x="203200" y="2201333"/>
                      </a:cubicBezTo>
                      <a:cubicBezTo>
                        <a:pt x="223641" y="2225862"/>
                        <a:pt x="253221" y="2242500"/>
                        <a:pt x="270933" y="2269067"/>
                      </a:cubicBezTo>
                      <a:cubicBezTo>
                        <a:pt x="298937" y="2311073"/>
                        <a:pt x="313619" y="2360700"/>
                        <a:pt x="338667" y="2404533"/>
                      </a:cubicBezTo>
                      <a:cubicBezTo>
                        <a:pt x="443708" y="2588354"/>
                        <a:pt x="378175" y="2421458"/>
                        <a:pt x="440267" y="2607733"/>
                      </a:cubicBezTo>
                      <a:cubicBezTo>
                        <a:pt x="451556" y="2686755"/>
                        <a:pt x="448890" y="2769072"/>
                        <a:pt x="474133" y="2844800"/>
                      </a:cubicBezTo>
                      <a:cubicBezTo>
                        <a:pt x="484230" y="2875091"/>
                        <a:pt x="525439" y="2885153"/>
                        <a:pt x="541867" y="2912533"/>
                      </a:cubicBezTo>
                      <a:cubicBezTo>
                        <a:pt x="692110" y="3162937"/>
                        <a:pt x="437916" y="2858793"/>
                        <a:pt x="643467" y="3115733"/>
                      </a:cubicBezTo>
                      <a:cubicBezTo>
                        <a:pt x="663413" y="3140666"/>
                        <a:pt x="691254" y="3158534"/>
                        <a:pt x="711200" y="3183467"/>
                      </a:cubicBezTo>
                      <a:cubicBezTo>
                        <a:pt x="736627" y="3215251"/>
                        <a:pt x="752130" y="3254435"/>
                        <a:pt x="778933" y="3285067"/>
                      </a:cubicBezTo>
                      <a:cubicBezTo>
                        <a:pt x="831498" y="3345141"/>
                        <a:pt x="900372" y="3390540"/>
                        <a:pt x="948267" y="3454400"/>
                      </a:cubicBezTo>
                      <a:cubicBezTo>
                        <a:pt x="982134" y="3499556"/>
                        <a:pt x="1019951" y="3542002"/>
                        <a:pt x="1049867" y="3589867"/>
                      </a:cubicBezTo>
                      <a:cubicBezTo>
                        <a:pt x="1076624" y="3632678"/>
                        <a:pt x="1089596" y="3683327"/>
                        <a:pt x="1117600" y="3725333"/>
                      </a:cubicBezTo>
                      <a:cubicBezTo>
                        <a:pt x="1164328" y="3795425"/>
                        <a:pt x="1222230" y="3809038"/>
                        <a:pt x="1286933" y="3860800"/>
                      </a:cubicBezTo>
                      <a:cubicBezTo>
                        <a:pt x="1311866" y="3880746"/>
                        <a:pt x="1328100" y="3910821"/>
                        <a:pt x="1354667" y="3928533"/>
                      </a:cubicBezTo>
                      <a:cubicBezTo>
                        <a:pt x="1438370" y="3984335"/>
                        <a:pt x="1501418" y="4000029"/>
                        <a:pt x="1591733" y="4030133"/>
                      </a:cubicBezTo>
                      <a:cubicBezTo>
                        <a:pt x="1670755" y="4018844"/>
                        <a:pt x="1753072" y="4021510"/>
                        <a:pt x="1828800" y="3996267"/>
                      </a:cubicBezTo>
                      <a:cubicBezTo>
                        <a:pt x="1947678" y="3956641"/>
                        <a:pt x="1962781" y="3628192"/>
                        <a:pt x="1964267" y="3623733"/>
                      </a:cubicBezTo>
                      <a:cubicBezTo>
                        <a:pt x="1977138" y="3585119"/>
                        <a:pt x="2013797" y="3558539"/>
                        <a:pt x="2032000" y="3522133"/>
                      </a:cubicBezTo>
                      <a:cubicBezTo>
                        <a:pt x="2047965" y="3490203"/>
                        <a:pt x="2054578" y="3454400"/>
                        <a:pt x="2065867" y="3420533"/>
                      </a:cubicBezTo>
                      <a:cubicBezTo>
                        <a:pt x="2054578" y="3318933"/>
                        <a:pt x="2052048" y="3215973"/>
                        <a:pt x="2032000" y="3115733"/>
                      </a:cubicBezTo>
                      <a:cubicBezTo>
                        <a:pt x="2017998" y="3045722"/>
                        <a:pt x="1964267" y="2912533"/>
                        <a:pt x="1964267" y="2912533"/>
                      </a:cubicBezTo>
                      <a:cubicBezTo>
                        <a:pt x="2045473" y="2668911"/>
                        <a:pt x="1946942" y="2973167"/>
                        <a:pt x="2032000" y="2675467"/>
                      </a:cubicBezTo>
                      <a:cubicBezTo>
                        <a:pt x="2041807" y="2641142"/>
                        <a:pt x="2054578" y="2607734"/>
                        <a:pt x="2065867" y="2573867"/>
                      </a:cubicBezTo>
                      <a:cubicBezTo>
                        <a:pt x="1988036" y="2340376"/>
                        <a:pt x="2048618" y="2421153"/>
                        <a:pt x="1930400" y="2302933"/>
                      </a:cubicBezTo>
                      <a:cubicBezTo>
                        <a:pt x="1919111" y="2257778"/>
                        <a:pt x="1909320" y="2212221"/>
                        <a:pt x="1896533" y="2167467"/>
                      </a:cubicBezTo>
                      <a:cubicBezTo>
                        <a:pt x="1886726" y="2133142"/>
                        <a:pt x="1868536" y="2101080"/>
                        <a:pt x="1862667" y="2065867"/>
                      </a:cubicBezTo>
                      <a:cubicBezTo>
                        <a:pt x="1846052" y="1966175"/>
                        <a:pt x="1835554" y="1713597"/>
                        <a:pt x="1794933" y="1591733"/>
                      </a:cubicBezTo>
                      <a:cubicBezTo>
                        <a:pt x="1778968" y="1543839"/>
                        <a:pt x="1753174" y="1499558"/>
                        <a:pt x="1727200" y="1456267"/>
                      </a:cubicBezTo>
                      <a:cubicBezTo>
                        <a:pt x="1685317" y="1386462"/>
                        <a:pt x="1591733" y="1253067"/>
                        <a:pt x="1591733" y="1253067"/>
                      </a:cubicBezTo>
                      <a:cubicBezTo>
                        <a:pt x="1555962" y="1145753"/>
                        <a:pt x="1565165" y="1143657"/>
                        <a:pt x="1490133" y="1049867"/>
                      </a:cubicBezTo>
                      <a:cubicBezTo>
                        <a:pt x="1470187" y="1024934"/>
                        <a:pt x="1442346" y="1007066"/>
                        <a:pt x="1422400" y="982133"/>
                      </a:cubicBezTo>
                      <a:cubicBezTo>
                        <a:pt x="1396973" y="950349"/>
                        <a:pt x="1380094" y="912316"/>
                        <a:pt x="1354667" y="880533"/>
                      </a:cubicBezTo>
                      <a:cubicBezTo>
                        <a:pt x="1334721" y="855600"/>
                        <a:pt x="1306879" y="837733"/>
                        <a:pt x="1286933" y="812800"/>
                      </a:cubicBezTo>
                      <a:cubicBezTo>
                        <a:pt x="1261506" y="781017"/>
                        <a:pt x="1246241" y="741622"/>
                        <a:pt x="1219200" y="711200"/>
                      </a:cubicBezTo>
                      <a:cubicBezTo>
                        <a:pt x="1155561" y="639606"/>
                        <a:pt x="1095702" y="561134"/>
                        <a:pt x="1016000" y="508000"/>
                      </a:cubicBezTo>
                      <a:cubicBezTo>
                        <a:pt x="887833" y="422556"/>
                        <a:pt x="943181" y="469048"/>
                        <a:pt x="846667" y="372533"/>
                      </a:cubicBezTo>
                      <a:cubicBezTo>
                        <a:pt x="835378" y="338666"/>
                        <a:pt x="832602" y="300636"/>
                        <a:pt x="812800" y="270933"/>
                      </a:cubicBezTo>
                      <a:cubicBezTo>
                        <a:pt x="786233" y="231082"/>
                        <a:pt x="749006" y="198737"/>
                        <a:pt x="711200" y="169333"/>
                      </a:cubicBezTo>
                      <a:cubicBezTo>
                        <a:pt x="536524" y="33474"/>
                        <a:pt x="559693" y="51098"/>
                        <a:pt x="406400" y="0"/>
                      </a:cubicBezTo>
                      <a:cubicBezTo>
                        <a:pt x="361244" y="11289"/>
                        <a:pt x="313715" y="15532"/>
                        <a:pt x="270933" y="33867"/>
                      </a:cubicBezTo>
                      <a:cubicBezTo>
                        <a:pt x="53886" y="126887"/>
                        <a:pt x="173770" y="228415"/>
                        <a:pt x="203200" y="508000"/>
                      </a:cubicBezTo>
                      <a:cubicBezTo>
                        <a:pt x="230238" y="764856"/>
                        <a:pt x="168958" y="711013"/>
                        <a:pt x="304800" y="778933"/>
                      </a:cubicBezTo>
                    </a:path>
                  </a:pathLst>
                </a:custGeom>
                <a:solidFill>
                  <a:srgbClr val="f2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92" name=""/>
              <p:cNvGrpSpPr/>
              <p:nvPr/>
            </p:nvGrpSpPr>
            <p:grpSpPr>
              <a:xfrm>
                <a:off x="695160" y="3132000"/>
                <a:ext cx="477000" cy="451800"/>
                <a:chOff x="695160" y="3132000"/>
                <a:chExt cx="477000" cy="451800"/>
              </a:xfrm>
            </p:grpSpPr>
            <p:sp>
              <p:nvSpPr>
                <p:cNvPr id="693" name="任意多边形 205"/>
                <p:cNvSpPr/>
                <p:nvPr/>
              </p:nvSpPr>
              <p:spPr>
                <a:xfrm rot="5278800">
                  <a:off x="715320" y="3126960"/>
                  <a:ext cx="435960" cy="461880"/>
                </a:xfrm>
                <a:custGeom>
                  <a:avLst/>
                  <a:gdLst>
                    <a:gd name="textAreaLeft" fmla="*/ 0 w 435960"/>
                    <a:gd name="textAreaRight" fmla="*/ 436320 w 435960"/>
                    <a:gd name="textAreaTop" fmla="*/ 0 h 461880"/>
                    <a:gd name="textAreaBottom" fmla="*/ 462240 h 461880"/>
                  </a:gdLst>
                  <a:ahLst/>
                  <a:rect l="textAreaLeft" t="textAreaTop" r="textAreaRight" b="textAreaBottom"/>
                  <a:pathLst>
                    <a:path w="2065867" h="4030133">
                      <a:moveTo>
                        <a:pt x="270933" y="677333"/>
                      </a:moveTo>
                      <a:cubicBezTo>
                        <a:pt x="259644" y="733778"/>
                        <a:pt x="257278" y="792770"/>
                        <a:pt x="237067" y="846667"/>
                      </a:cubicBezTo>
                      <a:cubicBezTo>
                        <a:pt x="222775" y="884778"/>
                        <a:pt x="187536" y="911861"/>
                        <a:pt x="169333" y="948267"/>
                      </a:cubicBezTo>
                      <a:cubicBezTo>
                        <a:pt x="153368" y="980197"/>
                        <a:pt x="146756" y="1016000"/>
                        <a:pt x="135467" y="1049867"/>
                      </a:cubicBezTo>
                      <a:cubicBezTo>
                        <a:pt x="124178" y="1128889"/>
                        <a:pt x="124537" y="1210475"/>
                        <a:pt x="101600" y="1286933"/>
                      </a:cubicBezTo>
                      <a:cubicBezTo>
                        <a:pt x="89904" y="1325919"/>
                        <a:pt x="52070" y="1352127"/>
                        <a:pt x="33867" y="1388533"/>
                      </a:cubicBezTo>
                      <a:cubicBezTo>
                        <a:pt x="17902" y="1420463"/>
                        <a:pt x="11289" y="1456266"/>
                        <a:pt x="0" y="1490133"/>
                      </a:cubicBezTo>
                      <a:cubicBezTo>
                        <a:pt x="11289" y="1648178"/>
                        <a:pt x="6331" y="1808231"/>
                        <a:pt x="33867" y="1964267"/>
                      </a:cubicBezTo>
                      <a:cubicBezTo>
                        <a:pt x="40941" y="2004350"/>
                        <a:pt x="77942" y="2032746"/>
                        <a:pt x="101600" y="2065867"/>
                      </a:cubicBezTo>
                      <a:cubicBezTo>
                        <a:pt x="134408" y="2111798"/>
                        <a:pt x="167065" y="2157971"/>
                        <a:pt x="203200" y="2201333"/>
                      </a:cubicBezTo>
                      <a:cubicBezTo>
                        <a:pt x="223641" y="2225862"/>
                        <a:pt x="253221" y="2242500"/>
                        <a:pt x="270933" y="2269067"/>
                      </a:cubicBezTo>
                      <a:cubicBezTo>
                        <a:pt x="298937" y="2311073"/>
                        <a:pt x="313619" y="2360700"/>
                        <a:pt x="338667" y="2404533"/>
                      </a:cubicBezTo>
                      <a:cubicBezTo>
                        <a:pt x="443708" y="2588354"/>
                        <a:pt x="378175" y="2421458"/>
                        <a:pt x="440267" y="2607733"/>
                      </a:cubicBezTo>
                      <a:cubicBezTo>
                        <a:pt x="451556" y="2686755"/>
                        <a:pt x="448890" y="2769072"/>
                        <a:pt x="474133" y="2844800"/>
                      </a:cubicBezTo>
                      <a:cubicBezTo>
                        <a:pt x="484230" y="2875091"/>
                        <a:pt x="525439" y="2885153"/>
                        <a:pt x="541867" y="2912533"/>
                      </a:cubicBezTo>
                      <a:cubicBezTo>
                        <a:pt x="692110" y="3162937"/>
                        <a:pt x="437916" y="2858793"/>
                        <a:pt x="643467" y="3115733"/>
                      </a:cubicBezTo>
                      <a:cubicBezTo>
                        <a:pt x="663413" y="3140666"/>
                        <a:pt x="691254" y="3158534"/>
                        <a:pt x="711200" y="3183467"/>
                      </a:cubicBezTo>
                      <a:cubicBezTo>
                        <a:pt x="736627" y="3215251"/>
                        <a:pt x="752130" y="3254435"/>
                        <a:pt x="778933" y="3285067"/>
                      </a:cubicBezTo>
                      <a:cubicBezTo>
                        <a:pt x="831498" y="3345141"/>
                        <a:pt x="900372" y="3390540"/>
                        <a:pt x="948267" y="3454400"/>
                      </a:cubicBezTo>
                      <a:cubicBezTo>
                        <a:pt x="982134" y="3499556"/>
                        <a:pt x="1019951" y="3542002"/>
                        <a:pt x="1049867" y="3589867"/>
                      </a:cubicBezTo>
                      <a:cubicBezTo>
                        <a:pt x="1076624" y="3632678"/>
                        <a:pt x="1089596" y="3683327"/>
                        <a:pt x="1117600" y="3725333"/>
                      </a:cubicBezTo>
                      <a:cubicBezTo>
                        <a:pt x="1164328" y="3795425"/>
                        <a:pt x="1222230" y="3809038"/>
                        <a:pt x="1286933" y="3860800"/>
                      </a:cubicBezTo>
                      <a:cubicBezTo>
                        <a:pt x="1311866" y="3880746"/>
                        <a:pt x="1328100" y="3910821"/>
                        <a:pt x="1354667" y="3928533"/>
                      </a:cubicBezTo>
                      <a:cubicBezTo>
                        <a:pt x="1438370" y="3984335"/>
                        <a:pt x="1501418" y="4000029"/>
                        <a:pt x="1591733" y="4030133"/>
                      </a:cubicBezTo>
                      <a:cubicBezTo>
                        <a:pt x="1670755" y="4018844"/>
                        <a:pt x="1753072" y="4021510"/>
                        <a:pt x="1828800" y="3996267"/>
                      </a:cubicBezTo>
                      <a:cubicBezTo>
                        <a:pt x="1947678" y="3956641"/>
                        <a:pt x="1962781" y="3628192"/>
                        <a:pt x="1964267" y="3623733"/>
                      </a:cubicBezTo>
                      <a:cubicBezTo>
                        <a:pt x="1977138" y="3585119"/>
                        <a:pt x="2013797" y="3558539"/>
                        <a:pt x="2032000" y="3522133"/>
                      </a:cubicBezTo>
                      <a:cubicBezTo>
                        <a:pt x="2047965" y="3490203"/>
                        <a:pt x="2054578" y="3454400"/>
                        <a:pt x="2065867" y="3420533"/>
                      </a:cubicBezTo>
                      <a:cubicBezTo>
                        <a:pt x="2054578" y="3318933"/>
                        <a:pt x="2052048" y="3215973"/>
                        <a:pt x="2032000" y="3115733"/>
                      </a:cubicBezTo>
                      <a:cubicBezTo>
                        <a:pt x="2017998" y="3045722"/>
                        <a:pt x="1964267" y="2912533"/>
                        <a:pt x="1964267" y="2912533"/>
                      </a:cubicBezTo>
                      <a:cubicBezTo>
                        <a:pt x="2045473" y="2668911"/>
                        <a:pt x="1946942" y="2973167"/>
                        <a:pt x="2032000" y="2675467"/>
                      </a:cubicBezTo>
                      <a:cubicBezTo>
                        <a:pt x="2041807" y="2641142"/>
                        <a:pt x="2054578" y="2607734"/>
                        <a:pt x="2065867" y="2573867"/>
                      </a:cubicBezTo>
                      <a:cubicBezTo>
                        <a:pt x="1988036" y="2340376"/>
                        <a:pt x="2048618" y="2421153"/>
                        <a:pt x="1930400" y="2302933"/>
                      </a:cubicBezTo>
                      <a:cubicBezTo>
                        <a:pt x="1919111" y="2257778"/>
                        <a:pt x="1909320" y="2212221"/>
                        <a:pt x="1896533" y="2167467"/>
                      </a:cubicBezTo>
                      <a:cubicBezTo>
                        <a:pt x="1886726" y="2133142"/>
                        <a:pt x="1868536" y="2101080"/>
                        <a:pt x="1862667" y="2065867"/>
                      </a:cubicBezTo>
                      <a:cubicBezTo>
                        <a:pt x="1846052" y="1966175"/>
                        <a:pt x="1835554" y="1713597"/>
                        <a:pt x="1794933" y="1591733"/>
                      </a:cubicBezTo>
                      <a:cubicBezTo>
                        <a:pt x="1778968" y="1543839"/>
                        <a:pt x="1753174" y="1499558"/>
                        <a:pt x="1727200" y="1456267"/>
                      </a:cubicBezTo>
                      <a:cubicBezTo>
                        <a:pt x="1685317" y="1386462"/>
                        <a:pt x="1591733" y="1253067"/>
                        <a:pt x="1591733" y="1253067"/>
                      </a:cubicBezTo>
                      <a:cubicBezTo>
                        <a:pt x="1555962" y="1145753"/>
                        <a:pt x="1565165" y="1143657"/>
                        <a:pt x="1490133" y="1049867"/>
                      </a:cubicBezTo>
                      <a:cubicBezTo>
                        <a:pt x="1470187" y="1024934"/>
                        <a:pt x="1442346" y="1007066"/>
                        <a:pt x="1422400" y="982133"/>
                      </a:cubicBezTo>
                      <a:cubicBezTo>
                        <a:pt x="1396973" y="950349"/>
                        <a:pt x="1380094" y="912316"/>
                        <a:pt x="1354667" y="880533"/>
                      </a:cubicBezTo>
                      <a:cubicBezTo>
                        <a:pt x="1334721" y="855600"/>
                        <a:pt x="1306879" y="837733"/>
                        <a:pt x="1286933" y="812800"/>
                      </a:cubicBezTo>
                      <a:cubicBezTo>
                        <a:pt x="1261506" y="781017"/>
                        <a:pt x="1246241" y="741622"/>
                        <a:pt x="1219200" y="711200"/>
                      </a:cubicBezTo>
                      <a:cubicBezTo>
                        <a:pt x="1155561" y="639606"/>
                        <a:pt x="1095702" y="561134"/>
                        <a:pt x="1016000" y="508000"/>
                      </a:cubicBezTo>
                      <a:cubicBezTo>
                        <a:pt x="887833" y="422556"/>
                        <a:pt x="943181" y="469048"/>
                        <a:pt x="846667" y="372533"/>
                      </a:cubicBezTo>
                      <a:cubicBezTo>
                        <a:pt x="835378" y="338666"/>
                        <a:pt x="832602" y="300636"/>
                        <a:pt x="812800" y="270933"/>
                      </a:cubicBezTo>
                      <a:cubicBezTo>
                        <a:pt x="786233" y="231082"/>
                        <a:pt x="749006" y="198737"/>
                        <a:pt x="711200" y="169333"/>
                      </a:cubicBezTo>
                      <a:cubicBezTo>
                        <a:pt x="536524" y="33474"/>
                        <a:pt x="559693" y="51098"/>
                        <a:pt x="406400" y="0"/>
                      </a:cubicBezTo>
                      <a:cubicBezTo>
                        <a:pt x="361244" y="11289"/>
                        <a:pt x="313715" y="15532"/>
                        <a:pt x="270933" y="33867"/>
                      </a:cubicBezTo>
                      <a:cubicBezTo>
                        <a:pt x="53886" y="126887"/>
                        <a:pt x="173770" y="228415"/>
                        <a:pt x="203200" y="508000"/>
                      </a:cubicBezTo>
                      <a:cubicBezTo>
                        <a:pt x="230238" y="764856"/>
                        <a:pt x="168958" y="711013"/>
                        <a:pt x="304800" y="778933"/>
                      </a:cubicBez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4" name="任意多边形 206"/>
                <p:cNvSpPr/>
                <p:nvPr/>
              </p:nvSpPr>
              <p:spPr>
                <a:xfrm rot="5278800">
                  <a:off x="917640" y="3219840"/>
                  <a:ext cx="210960" cy="236880"/>
                </a:xfrm>
                <a:custGeom>
                  <a:avLst/>
                  <a:gdLst>
                    <a:gd name="textAreaLeft" fmla="*/ 0 w 210960"/>
                    <a:gd name="textAreaRight" fmla="*/ 211320 w 210960"/>
                    <a:gd name="textAreaTop" fmla="*/ 0 h 236880"/>
                    <a:gd name="textAreaBottom" fmla="*/ 237240 h 236880"/>
                  </a:gdLst>
                  <a:ahLst/>
                  <a:rect l="textAreaLeft" t="textAreaTop" r="textAreaRight" b="textAreaBottom"/>
                  <a:pathLst>
                    <a:path w="2065867" h="4030133">
                      <a:moveTo>
                        <a:pt x="270933" y="677333"/>
                      </a:moveTo>
                      <a:cubicBezTo>
                        <a:pt x="259644" y="733778"/>
                        <a:pt x="257278" y="792770"/>
                        <a:pt x="237067" y="846667"/>
                      </a:cubicBezTo>
                      <a:cubicBezTo>
                        <a:pt x="222775" y="884778"/>
                        <a:pt x="187536" y="911861"/>
                        <a:pt x="169333" y="948267"/>
                      </a:cubicBezTo>
                      <a:cubicBezTo>
                        <a:pt x="153368" y="980197"/>
                        <a:pt x="146756" y="1016000"/>
                        <a:pt x="135467" y="1049867"/>
                      </a:cubicBezTo>
                      <a:cubicBezTo>
                        <a:pt x="124178" y="1128889"/>
                        <a:pt x="124537" y="1210475"/>
                        <a:pt x="101600" y="1286933"/>
                      </a:cubicBezTo>
                      <a:cubicBezTo>
                        <a:pt x="89904" y="1325919"/>
                        <a:pt x="52070" y="1352127"/>
                        <a:pt x="33867" y="1388533"/>
                      </a:cubicBezTo>
                      <a:cubicBezTo>
                        <a:pt x="17902" y="1420463"/>
                        <a:pt x="11289" y="1456266"/>
                        <a:pt x="0" y="1490133"/>
                      </a:cubicBezTo>
                      <a:cubicBezTo>
                        <a:pt x="11289" y="1648178"/>
                        <a:pt x="6331" y="1808231"/>
                        <a:pt x="33867" y="1964267"/>
                      </a:cubicBezTo>
                      <a:cubicBezTo>
                        <a:pt x="40941" y="2004350"/>
                        <a:pt x="77942" y="2032746"/>
                        <a:pt x="101600" y="2065867"/>
                      </a:cubicBezTo>
                      <a:cubicBezTo>
                        <a:pt x="134408" y="2111798"/>
                        <a:pt x="167065" y="2157971"/>
                        <a:pt x="203200" y="2201333"/>
                      </a:cubicBezTo>
                      <a:cubicBezTo>
                        <a:pt x="223641" y="2225862"/>
                        <a:pt x="253221" y="2242500"/>
                        <a:pt x="270933" y="2269067"/>
                      </a:cubicBezTo>
                      <a:cubicBezTo>
                        <a:pt x="298937" y="2311073"/>
                        <a:pt x="313619" y="2360700"/>
                        <a:pt x="338667" y="2404533"/>
                      </a:cubicBezTo>
                      <a:cubicBezTo>
                        <a:pt x="443708" y="2588354"/>
                        <a:pt x="378175" y="2421458"/>
                        <a:pt x="440267" y="2607733"/>
                      </a:cubicBezTo>
                      <a:cubicBezTo>
                        <a:pt x="451556" y="2686755"/>
                        <a:pt x="448890" y="2769072"/>
                        <a:pt x="474133" y="2844800"/>
                      </a:cubicBezTo>
                      <a:cubicBezTo>
                        <a:pt x="484230" y="2875091"/>
                        <a:pt x="525439" y="2885153"/>
                        <a:pt x="541867" y="2912533"/>
                      </a:cubicBezTo>
                      <a:cubicBezTo>
                        <a:pt x="692110" y="3162937"/>
                        <a:pt x="437916" y="2858793"/>
                        <a:pt x="643467" y="3115733"/>
                      </a:cubicBezTo>
                      <a:cubicBezTo>
                        <a:pt x="663413" y="3140666"/>
                        <a:pt x="691254" y="3158534"/>
                        <a:pt x="711200" y="3183467"/>
                      </a:cubicBezTo>
                      <a:cubicBezTo>
                        <a:pt x="736627" y="3215251"/>
                        <a:pt x="752130" y="3254435"/>
                        <a:pt x="778933" y="3285067"/>
                      </a:cubicBezTo>
                      <a:cubicBezTo>
                        <a:pt x="831498" y="3345141"/>
                        <a:pt x="900372" y="3390540"/>
                        <a:pt x="948267" y="3454400"/>
                      </a:cubicBezTo>
                      <a:cubicBezTo>
                        <a:pt x="982134" y="3499556"/>
                        <a:pt x="1019951" y="3542002"/>
                        <a:pt x="1049867" y="3589867"/>
                      </a:cubicBezTo>
                      <a:cubicBezTo>
                        <a:pt x="1076624" y="3632678"/>
                        <a:pt x="1089596" y="3683327"/>
                        <a:pt x="1117600" y="3725333"/>
                      </a:cubicBezTo>
                      <a:cubicBezTo>
                        <a:pt x="1164328" y="3795425"/>
                        <a:pt x="1222230" y="3809038"/>
                        <a:pt x="1286933" y="3860800"/>
                      </a:cubicBezTo>
                      <a:cubicBezTo>
                        <a:pt x="1311866" y="3880746"/>
                        <a:pt x="1328100" y="3910821"/>
                        <a:pt x="1354667" y="3928533"/>
                      </a:cubicBezTo>
                      <a:cubicBezTo>
                        <a:pt x="1438370" y="3984335"/>
                        <a:pt x="1501418" y="4000029"/>
                        <a:pt x="1591733" y="4030133"/>
                      </a:cubicBezTo>
                      <a:cubicBezTo>
                        <a:pt x="1670755" y="4018844"/>
                        <a:pt x="1753072" y="4021510"/>
                        <a:pt x="1828800" y="3996267"/>
                      </a:cubicBezTo>
                      <a:cubicBezTo>
                        <a:pt x="1947678" y="3956641"/>
                        <a:pt x="1962781" y="3628192"/>
                        <a:pt x="1964267" y="3623733"/>
                      </a:cubicBezTo>
                      <a:cubicBezTo>
                        <a:pt x="1977138" y="3585119"/>
                        <a:pt x="2013797" y="3558539"/>
                        <a:pt x="2032000" y="3522133"/>
                      </a:cubicBezTo>
                      <a:cubicBezTo>
                        <a:pt x="2047965" y="3490203"/>
                        <a:pt x="2054578" y="3454400"/>
                        <a:pt x="2065867" y="3420533"/>
                      </a:cubicBezTo>
                      <a:cubicBezTo>
                        <a:pt x="2054578" y="3318933"/>
                        <a:pt x="2052048" y="3215973"/>
                        <a:pt x="2032000" y="3115733"/>
                      </a:cubicBezTo>
                      <a:cubicBezTo>
                        <a:pt x="2017998" y="3045722"/>
                        <a:pt x="1964267" y="2912533"/>
                        <a:pt x="1964267" y="2912533"/>
                      </a:cubicBezTo>
                      <a:cubicBezTo>
                        <a:pt x="2045473" y="2668911"/>
                        <a:pt x="1946942" y="2973167"/>
                        <a:pt x="2032000" y="2675467"/>
                      </a:cubicBezTo>
                      <a:cubicBezTo>
                        <a:pt x="2041807" y="2641142"/>
                        <a:pt x="2054578" y="2607734"/>
                        <a:pt x="2065867" y="2573867"/>
                      </a:cubicBezTo>
                      <a:cubicBezTo>
                        <a:pt x="1988036" y="2340376"/>
                        <a:pt x="2048618" y="2421153"/>
                        <a:pt x="1930400" y="2302933"/>
                      </a:cubicBezTo>
                      <a:cubicBezTo>
                        <a:pt x="1919111" y="2257778"/>
                        <a:pt x="1909320" y="2212221"/>
                        <a:pt x="1896533" y="2167467"/>
                      </a:cubicBezTo>
                      <a:cubicBezTo>
                        <a:pt x="1886726" y="2133142"/>
                        <a:pt x="1868536" y="2101080"/>
                        <a:pt x="1862667" y="2065867"/>
                      </a:cubicBezTo>
                      <a:cubicBezTo>
                        <a:pt x="1846052" y="1966175"/>
                        <a:pt x="1835554" y="1713597"/>
                        <a:pt x="1794933" y="1591733"/>
                      </a:cubicBezTo>
                      <a:cubicBezTo>
                        <a:pt x="1778968" y="1543839"/>
                        <a:pt x="1753174" y="1499558"/>
                        <a:pt x="1727200" y="1456267"/>
                      </a:cubicBezTo>
                      <a:cubicBezTo>
                        <a:pt x="1685317" y="1386462"/>
                        <a:pt x="1591733" y="1253067"/>
                        <a:pt x="1591733" y="1253067"/>
                      </a:cubicBezTo>
                      <a:cubicBezTo>
                        <a:pt x="1555962" y="1145753"/>
                        <a:pt x="1565165" y="1143657"/>
                        <a:pt x="1490133" y="1049867"/>
                      </a:cubicBezTo>
                      <a:cubicBezTo>
                        <a:pt x="1470187" y="1024934"/>
                        <a:pt x="1442346" y="1007066"/>
                        <a:pt x="1422400" y="982133"/>
                      </a:cubicBezTo>
                      <a:cubicBezTo>
                        <a:pt x="1396973" y="950349"/>
                        <a:pt x="1380094" y="912316"/>
                        <a:pt x="1354667" y="880533"/>
                      </a:cubicBezTo>
                      <a:cubicBezTo>
                        <a:pt x="1334721" y="855600"/>
                        <a:pt x="1306879" y="837733"/>
                        <a:pt x="1286933" y="812800"/>
                      </a:cubicBezTo>
                      <a:cubicBezTo>
                        <a:pt x="1261506" y="781017"/>
                        <a:pt x="1246241" y="741622"/>
                        <a:pt x="1219200" y="711200"/>
                      </a:cubicBezTo>
                      <a:cubicBezTo>
                        <a:pt x="1155561" y="639606"/>
                        <a:pt x="1095702" y="561134"/>
                        <a:pt x="1016000" y="508000"/>
                      </a:cubicBezTo>
                      <a:cubicBezTo>
                        <a:pt x="887833" y="422556"/>
                        <a:pt x="943181" y="469048"/>
                        <a:pt x="846667" y="372533"/>
                      </a:cubicBezTo>
                      <a:cubicBezTo>
                        <a:pt x="835378" y="338666"/>
                        <a:pt x="832602" y="300636"/>
                        <a:pt x="812800" y="270933"/>
                      </a:cubicBezTo>
                      <a:cubicBezTo>
                        <a:pt x="786233" y="231082"/>
                        <a:pt x="749006" y="198737"/>
                        <a:pt x="711200" y="169333"/>
                      </a:cubicBezTo>
                      <a:cubicBezTo>
                        <a:pt x="536524" y="33474"/>
                        <a:pt x="559693" y="51098"/>
                        <a:pt x="406400" y="0"/>
                      </a:cubicBezTo>
                      <a:cubicBezTo>
                        <a:pt x="361244" y="11289"/>
                        <a:pt x="313715" y="15532"/>
                        <a:pt x="270933" y="33867"/>
                      </a:cubicBezTo>
                      <a:cubicBezTo>
                        <a:pt x="53886" y="126887"/>
                        <a:pt x="173770" y="228415"/>
                        <a:pt x="203200" y="508000"/>
                      </a:cubicBezTo>
                      <a:cubicBezTo>
                        <a:pt x="230238" y="764856"/>
                        <a:pt x="168958" y="711013"/>
                        <a:pt x="304800" y="778933"/>
                      </a:cubicBezTo>
                    </a:path>
                  </a:pathLst>
                </a:custGeom>
                <a:solidFill>
                  <a:srgbClr val="f2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5" name="任意多边形 207"/>
                <p:cNvSpPr/>
                <p:nvPr/>
              </p:nvSpPr>
              <p:spPr>
                <a:xfrm rot="5278800">
                  <a:off x="856080" y="3376440"/>
                  <a:ext cx="101520" cy="178200"/>
                </a:xfrm>
                <a:custGeom>
                  <a:avLst/>
                  <a:gdLst>
                    <a:gd name="textAreaLeft" fmla="*/ 0 w 101520"/>
                    <a:gd name="textAreaRight" fmla="*/ 101880 w 101520"/>
                    <a:gd name="textAreaTop" fmla="*/ 0 h 178200"/>
                    <a:gd name="textAreaBottom" fmla="*/ 178560 h 178200"/>
                  </a:gdLst>
                  <a:ahLst/>
                  <a:rect l="textAreaLeft" t="textAreaTop" r="textAreaRight" b="textAreaBottom"/>
                  <a:pathLst>
                    <a:path w="2065867" h="4030133">
                      <a:moveTo>
                        <a:pt x="270933" y="677333"/>
                      </a:moveTo>
                      <a:cubicBezTo>
                        <a:pt x="259644" y="733778"/>
                        <a:pt x="257278" y="792770"/>
                        <a:pt x="237067" y="846667"/>
                      </a:cubicBezTo>
                      <a:cubicBezTo>
                        <a:pt x="222775" y="884778"/>
                        <a:pt x="187536" y="911861"/>
                        <a:pt x="169333" y="948267"/>
                      </a:cubicBezTo>
                      <a:cubicBezTo>
                        <a:pt x="153368" y="980197"/>
                        <a:pt x="146756" y="1016000"/>
                        <a:pt x="135467" y="1049867"/>
                      </a:cubicBezTo>
                      <a:cubicBezTo>
                        <a:pt x="124178" y="1128889"/>
                        <a:pt x="124537" y="1210475"/>
                        <a:pt x="101600" y="1286933"/>
                      </a:cubicBezTo>
                      <a:cubicBezTo>
                        <a:pt x="89904" y="1325919"/>
                        <a:pt x="52070" y="1352127"/>
                        <a:pt x="33867" y="1388533"/>
                      </a:cubicBezTo>
                      <a:cubicBezTo>
                        <a:pt x="17902" y="1420463"/>
                        <a:pt x="11289" y="1456266"/>
                        <a:pt x="0" y="1490133"/>
                      </a:cubicBezTo>
                      <a:cubicBezTo>
                        <a:pt x="11289" y="1648178"/>
                        <a:pt x="6331" y="1808231"/>
                        <a:pt x="33867" y="1964267"/>
                      </a:cubicBezTo>
                      <a:cubicBezTo>
                        <a:pt x="40941" y="2004350"/>
                        <a:pt x="77942" y="2032746"/>
                        <a:pt x="101600" y="2065867"/>
                      </a:cubicBezTo>
                      <a:cubicBezTo>
                        <a:pt x="134408" y="2111798"/>
                        <a:pt x="167065" y="2157971"/>
                        <a:pt x="203200" y="2201333"/>
                      </a:cubicBezTo>
                      <a:cubicBezTo>
                        <a:pt x="223641" y="2225862"/>
                        <a:pt x="253221" y="2242500"/>
                        <a:pt x="270933" y="2269067"/>
                      </a:cubicBezTo>
                      <a:cubicBezTo>
                        <a:pt x="298937" y="2311073"/>
                        <a:pt x="313619" y="2360700"/>
                        <a:pt x="338667" y="2404533"/>
                      </a:cubicBezTo>
                      <a:cubicBezTo>
                        <a:pt x="443708" y="2588354"/>
                        <a:pt x="378175" y="2421458"/>
                        <a:pt x="440267" y="2607733"/>
                      </a:cubicBezTo>
                      <a:cubicBezTo>
                        <a:pt x="451556" y="2686755"/>
                        <a:pt x="448890" y="2769072"/>
                        <a:pt x="474133" y="2844800"/>
                      </a:cubicBezTo>
                      <a:cubicBezTo>
                        <a:pt x="484230" y="2875091"/>
                        <a:pt x="525439" y="2885153"/>
                        <a:pt x="541867" y="2912533"/>
                      </a:cubicBezTo>
                      <a:cubicBezTo>
                        <a:pt x="692110" y="3162937"/>
                        <a:pt x="437916" y="2858793"/>
                        <a:pt x="643467" y="3115733"/>
                      </a:cubicBezTo>
                      <a:cubicBezTo>
                        <a:pt x="663413" y="3140666"/>
                        <a:pt x="691254" y="3158534"/>
                        <a:pt x="711200" y="3183467"/>
                      </a:cubicBezTo>
                      <a:cubicBezTo>
                        <a:pt x="736627" y="3215251"/>
                        <a:pt x="752130" y="3254435"/>
                        <a:pt x="778933" y="3285067"/>
                      </a:cubicBezTo>
                      <a:cubicBezTo>
                        <a:pt x="831498" y="3345141"/>
                        <a:pt x="900372" y="3390540"/>
                        <a:pt x="948267" y="3454400"/>
                      </a:cubicBezTo>
                      <a:cubicBezTo>
                        <a:pt x="982134" y="3499556"/>
                        <a:pt x="1019951" y="3542002"/>
                        <a:pt x="1049867" y="3589867"/>
                      </a:cubicBezTo>
                      <a:cubicBezTo>
                        <a:pt x="1076624" y="3632678"/>
                        <a:pt x="1089596" y="3683327"/>
                        <a:pt x="1117600" y="3725333"/>
                      </a:cubicBezTo>
                      <a:cubicBezTo>
                        <a:pt x="1164328" y="3795425"/>
                        <a:pt x="1222230" y="3809038"/>
                        <a:pt x="1286933" y="3860800"/>
                      </a:cubicBezTo>
                      <a:cubicBezTo>
                        <a:pt x="1311866" y="3880746"/>
                        <a:pt x="1328100" y="3910821"/>
                        <a:pt x="1354667" y="3928533"/>
                      </a:cubicBezTo>
                      <a:cubicBezTo>
                        <a:pt x="1438370" y="3984335"/>
                        <a:pt x="1501418" y="4000029"/>
                        <a:pt x="1591733" y="4030133"/>
                      </a:cubicBezTo>
                      <a:cubicBezTo>
                        <a:pt x="1670755" y="4018844"/>
                        <a:pt x="1753072" y="4021510"/>
                        <a:pt x="1828800" y="3996267"/>
                      </a:cubicBezTo>
                      <a:cubicBezTo>
                        <a:pt x="1947678" y="3956641"/>
                        <a:pt x="1962781" y="3628192"/>
                        <a:pt x="1964267" y="3623733"/>
                      </a:cubicBezTo>
                      <a:cubicBezTo>
                        <a:pt x="1977138" y="3585119"/>
                        <a:pt x="2013797" y="3558539"/>
                        <a:pt x="2032000" y="3522133"/>
                      </a:cubicBezTo>
                      <a:cubicBezTo>
                        <a:pt x="2047965" y="3490203"/>
                        <a:pt x="2054578" y="3454400"/>
                        <a:pt x="2065867" y="3420533"/>
                      </a:cubicBezTo>
                      <a:cubicBezTo>
                        <a:pt x="2054578" y="3318933"/>
                        <a:pt x="2052048" y="3215973"/>
                        <a:pt x="2032000" y="3115733"/>
                      </a:cubicBezTo>
                      <a:cubicBezTo>
                        <a:pt x="2017998" y="3045722"/>
                        <a:pt x="1964267" y="2912533"/>
                        <a:pt x="1964267" y="2912533"/>
                      </a:cubicBezTo>
                      <a:cubicBezTo>
                        <a:pt x="2045473" y="2668911"/>
                        <a:pt x="1946942" y="2973167"/>
                        <a:pt x="2032000" y="2675467"/>
                      </a:cubicBezTo>
                      <a:cubicBezTo>
                        <a:pt x="2041807" y="2641142"/>
                        <a:pt x="2054578" y="2607734"/>
                        <a:pt x="2065867" y="2573867"/>
                      </a:cubicBezTo>
                      <a:cubicBezTo>
                        <a:pt x="1988036" y="2340376"/>
                        <a:pt x="2048618" y="2421153"/>
                        <a:pt x="1930400" y="2302933"/>
                      </a:cubicBezTo>
                      <a:cubicBezTo>
                        <a:pt x="1919111" y="2257778"/>
                        <a:pt x="1909320" y="2212221"/>
                        <a:pt x="1896533" y="2167467"/>
                      </a:cubicBezTo>
                      <a:cubicBezTo>
                        <a:pt x="1886726" y="2133142"/>
                        <a:pt x="1868536" y="2101080"/>
                        <a:pt x="1862667" y="2065867"/>
                      </a:cubicBezTo>
                      <a:cubicBezTo>
                        <a:pt x="1846052" y="1966175"/>
                        <a:pt x="1835554" y="1713597"/>
                        <a:pt x="1794933" y="1591733"/>
                      </a:cubicBezTo>
                      <a:cubicBezTo>
                        <a:pt x="1778968" y="1543839"/>
                        <a:pt x="1753174" y="1499558"/>
                        <a:pt x="1727200" y="1456267"/>
                      </a:cubicBezTo>
                      <a:cubicBezTo>
                        <a:pt x="1685317" y="1386462"/>
                        <a:pt x="1591733" y="1253067"/>
                        <a:pt x="1591733" y="1253067"/>
                      </a:cubicBezTo>
                      <a:cubicBezTo>
                        <a:pt x="1555962" y="1145753"/>
                        <a:pt x="1565165" y="1143657"/>
                        <a:pt x="1490133" y="1049867"/>
                      </a:cubicBezTo>
                      <a:cubicBezTo>
                        <a:pt x="1470187" y="1024934"/>
                        <a:pt x="1442346" y="1007066"/>
                        <a:pt x="1422400" y="982133"/>
                      </a:cubicBezTo>
                      <a:cubicBezTo>
                        <a:pt x="1396973" y="950349"/>
                        <a:pt x="1380094" y="912316"/>
                        <a:pt x="1354667" y="880533"/>
                      </a:cubicBezTo>
                      <a:cubicBezTo>
                        <a:pt x="1334721" y="855600"/>
                        <a:pt x="1306879" y="837733"/>
                        <a:pt x="1286933" y="812800"/>
                      </a:cubicBezTo>
                      <a:cubicBezTo>
                        <a:pt x="1261506" y="781017"/>
                        <a:pt x="1246241" y="741622"/>
                        <a:pt x="1219200" y="711200"/>
                      </a:cubicBezTo>
                      <a:cubicBezTo>
                        <a:pt x="1155561" y="639606"/>
                        <a:pt x="1095702" y="561134"/>
                        <a:pt x="1016000" y="508000"/>
                      </a:cubicBezTo>
                      <a:cubicBezTo>
                        <a:pt x="887833" y="422556"/>
                        <a:pt x="943181" y="469048"/>
                        <a:pt x="846667" y="372533"/>
                      </a:cubicBezTo>
                      <a:cubicBezTo>
                        <a:pt x="835378" y="338666"/>
                        <a:pt x="832602" y="300636"/>
                        <a:pt x="812800" y="270933"/>
                      </a:cubicBezTo>
                      <a:cubicBezTo>
                        <a:pt x="786233" y="231082"/>
                        <a:pt x="749006" y="198737"/>
                        <a:pt x="711200" y="169333"/>
                      </a:cubicBezTo>
                      <a:cubicBezTo>
                        <a:pt x="536524" y="33474"/>
                        <a:pt x="559693" y="51098"/>
                        <a:pt x="406400" y="0"/>
                      </a:cubicBezTo>
                      <a:cubicBezTo>
                        <a:pt x="361244" y="11289"/>
                        <a:pt x="313715" y="15532"/>
                        <a:pt x="270933" y="33867"/>
                      </a:cubicBezTo>
                      <a:cubicBezTo>
                        <a:pt x="53886" y="126887"/>
                        <a:pt x="173770" y="228415"/>
                        <a:pt x="203200" y="508000"/>
                      </a:cubicBezTo>
                      <a:cubicBezTo>
                        <a:pt x="230238" y="764856"/>
                        <a:pt x="168958" y="711013"/>
                        <a:pt x="304800" y="778933"/>
                      </a:cubicBezTo>
                    </a:path>
                  </a:pathLst>
                </a:custGeom>
                <a:solidFill>
                  <a:srgbClr val="f2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96" name="五角星 271"/>
            <p:cNvSpPr/>
            <p:nvPr/>
          </p:nvSpPr>
          <p:spPr>
            <a:xfrm>
              <a:off x="-1001880" y="645120"/>
              <a:ext cx="3806640" cy="3424680"/>
            </a:xfrm>
            <a:prstGeom prst="star5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五角星 272"/>
            <p:cNvSpPr/>
            <p:nvPr/>
          </p:nvSpPr>
          <p:spPr>
            <a:xfrm>
              <a:off x="871920" y="2538360"/>
              <a:ext cx="2049840" cy="1843920"/>
            </a:xfrm>
            <a:prstGeom prst="star5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98" name=""/>
            <p:cNvGrpSpPr/>
            <p:nvPr/>
          </p:nvGrpSpPr>
          <p:grpSpPr>
            <a:xfrm>
              <a:off x="2846520" y="3376080"/>
              <a:ext cx="1942560" cy="1135440"/>
              <a:chOff x="2846520" y="3376080"/>
              <a:chExt cx="1942560" cy="1135440"/>
            </a:xfrm>
          </p:grpSpPr>
          <p:grpSp>
            <p:nvGrpSpPr>
              <p:cNvPr id="699" name=""/>
              <p:cNvGrpSpPr/>
              <p:nvPr/>
            </p:nvGrpSpPr>
            <p:grpSpPr>
              <a:xfrm>
                <a:off x="2846520" y="3376080"/>
                <a:ext cx="1942560" cy="1135440"/>
                <a:chOff x="2846520" y="3376080"/>
                <a:chExt cx="1942560" cy="1135440"/>
              </a:xfrm>
            </p:grpSpPr>
            <p:grpSp>
              <p:nvGrpSpPr>
                <p:cNvPr id="700" name=""/>
                <p:cNvGrpSpPr/>
                <p:nvPr/>
              </p:nvGrpSpPr>
              <p:grpSpPr>
                <a:xfrm>
                  <a:off x="2846520" y="3376080"/>
                  <a:ext cx="1879560" cy="1130040"/>
                  <a:chOff x="2846520" y="3376080"/>
                  <a:chExt cx="1879560" cy="1130040"/>
                </a:xfrm>
              </p:grpSpPr>
              <p:sp>
                <p:nvSpPr>
                  <p:cNvPr id="701" name="任意多边形 249"/>
                  <p:cNvSpPr/>
                  <p:nvPr/>
                </p:nvSpPr>
                <p:spPr>
                  <a:xfrm>
                    <a:off x="3276000" y="3682080"/>
                    <a:ext cx="1153800" cy="460440"/>
                  </a:xfrm>
                  <a:custGeom>
                    <a:avLst/>
                    <a:gdLst>
                      <a:gd name="textAreaLeft" fmla="*/ 0 w 1153800"/>
                      <a:gd name="textAreaRight" fmla="*/ 1154160 w 1153800"/>
                      <a:gd name="textAreaTop" fmla="*/ 0 h 460440"/>
                      <a:gd name="textAreaBottom" fmla="*/ 460800 h 460440"/>
                    </a:gdLst>
                    <a:ahLst/>
                    <a:rect l="textAreaLeft" t="textAreaTop" r="textAreaRight" b="textAreaBottom"/>
                    <a:pathLst>
                      <a:path w="1154243" h="464695">
                        <a:moveTo>
                          <a:pt x="0" y="209862"/>
                        </a:moveTo>
                        <a:lnTo>
                          <a:pt x="404735" y="464695"/>
                        </a:lnTo>
                        <a:lnTo>
                          <a:pt x="989351" y="434714"/>
                        </a:lnTo>
                        <a:lnTo>
                          <a:pt x="1154243" y="0"/>
                        </a:lnTo>
                        <a:lnTo>
                          <a:pt x="719528" y="44970"/>
                        </a:lnTo>
                        <a:lnTo>
                          <a:pt x="89941" y="164891"/>
                        </a:lnTo>
                      </a:path>
                    </a:pathLst>
                  </a:custGeom>
                  <a:solidFill>
                    <a:srgbClr val="a5814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02" name=""/>
                  <p:cNvGrpSpPr/>
                  <p:nvPr/>
                </p:nvGrpSpPr>
                <p:grpSpPr>
                  <a:xfrm>
                    <a:off x="3073320" y="3378600"/>
                    <a:ext cx="1652760" cy="1127520"/>
                    <a:chOff x="3073320" y="3378600"/>
                    <a:chExt cx="1652760" cy="1127520"/>
                  </a:xfrm>
                </p:grpSpPr>
                <p:sp>
                  <p:nvSpPr>
                    <p:cNvPr id="703" name="任意多边形 265"/>
                    <p:cNvSpPr/>
                    <p:nvPr/>
                  </p:nvSpPr>
                  <p:spPr>
                    <a:xfrm rot="8161800">
                      <a:off x="3377160" y="3778560"/>
                      <a:ext cx="1285560" cy="326880"/>
                    </a:xfrm>
                    <a:custGeom>
                      <a:avLst/>
                      <a:gdLst>
                        <a:gd name="textAreaLeft" fmla="*/ 0 w 1285560"/>
                        <a:gd name="textAreaRight" fmla="*/ 1285920 w 1285560"/>
                        <a:gd name="textAreaTop" fmla="*/ 0 h 326880"/>
                        <a:gd name="textAreaBottom" fmla="*/ 327240 h 326880"/>
                      </a:gdLst>
                      <a:ahLst/>
                      <a:rect l="textAreaLeft" t="textAreaTop" r="textAreaRight" b="textAreaBottom"/>
                      <a:pathLst>
                        <a:path w="1514006" h="164892">
                          <a:moveTo>
                            <a:pt x="0" y="0"/>
                          </a:moveTo>
                          <a:lnTo>
                            <a:pt x="314793" y="134911"/>
                          </a:lnTo>
                          <a:lnTo>
                            <a:pt x="1514006" y="164892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86693e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704" name=""/>
                    <p:cNvGrpSpPr/>
                    <p:nvPr/>
                  </p:nvGrpSpPr>
                  <p:grpSpPr>
                    <a:xfrm>
                      <a:off x="3073320" y="3536280"/>
                      <a:ext cx="1652760" cy="847080"/>
                      <a:chOff x="3073320" y="3536280"/>
                      <a:chExt cx="1652760" cy="847080"/>
                    </a:xfrm>
                  </p:grpSpPr>
                  <p:sp>
                    <p:nvSpPr>
                      <p:cNvPr id="705" name="任意多边形 267"/>
                      <p:cNvSpPr/>
                      <p:nvPr/>
                    </p:nvSpPr>
                    <p:spPr>
                      <a:xfrm>
                        <a:off x="3073320" y="4007520"/>
                        <a:ext cx="1513440" cy="163440"/>
                      </a:xfrm>
                      <a:custGeom>
                        <a:avLst/>
                        <a:gdLst>
                          <a:gd name="textAreaLeft" fmla="*/ 0 w 1513440"/>
                          <a:gd name="textAreaRight" fmla="*/ 1513800 w 1513440"/>
                          <a:gd name="textAreaTop" fmla="*/ 0 h 163440"/>
                          <a:gd name="textAreaBottom" fmla="*/ 163800 h 163440"/>
                        </a:gdLst>
                        <a:ahLst/>
                        <a:rect l="textAreaLeft" t="textAreaTop" r="textAreaRight" b="textAreaBottom"/>
                        <a:pathLst>
                          <a:path w="1514006" h="164892">
                            <a:moveTo>
                              <a:pt x="0" y="0"/>
                            </a:moveTo>
                            <a:lnTo>
                              <a:pt x="314793" y="134911"/>
                            </a:lnTo>
                            <a:lnTo>
                              <a:pt x="1514006" y="164892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86693e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06" name="任意多边形 268"/>
                      <p:cNvSpPr/>
                      <p:nvPr/>
                    </p:nvSpPr>
                    <p:spPr>
                      <a:xfrm rot="20495400">
                        <a:off x="3225600" y="3984840"/>
                        <a:ext cx="1513440" cy="163440"/>
                      </a:xfrm>
                      <a:custGeom>
                        <a:avLst/>
                        <a:gdLst>
                          <a:gd name="textAreaLeft" fmla="*/ 0 w 1513440"/>
                          <a:gd name="textAreaRight" fmla="*/ 1513800 w 1513440"/>
                          <a:gd name="textAreaTop" fmla="*/ 0 h 163440"/>
                          <a:gd name="textAreaBottom" fmla="*/ 163800 h 163440"/>
                        </a:gdLst>
                        <a:ahLst/>
                        <a:rect l="textAreaLeft" t="textAreaTop" r="textAreaRight" b="textAreaBottom"/>
                        <a:pathLst>
                          <a:path w="1514006" h="164892">
                            <a:moveTo>
                              <a:pt x="0" y="0"/>
                            </a:moveTo>
                            <a:lnTo>
                              <a:pt x="314793" y="134911"/>
                            </a:lnTo>
                            <a:lnTo>
                              <a:pt x="1514006" y="164892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86693e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07" name="任意多边形 269"/>
                      <p:cNvSpPr/>
                      <p:nvPr/>
                    </p:nvSpPr>
                    <p:spPr>
                      <a:xfrm rot="20495400">
                        <a:off x="3269520" y="3730680"/>
                        <a:ext cx="1285560" cy="326880"/>
                      </a:xfrm>
                      <a:custGeom>
                        <a:avLst/>
                        <a:gdLst>
                          <a:gd name="textAreaLeft" fmla="*/ 0 w 1285560"/>
                          <a:gd name="textAreaRight" fmla="*/ 1285920 w 1285560"/>
                          <a:gd name="textAreaTop" fmla="*/ 0 h 326880"/>
                          <a:gd name="textAreaBottom" fmla="*/ 327240 h 326880"/>
                        </a:gdLst>
                        <a:ahLst/>
                        <a:rect l="textAreaLeft" t="textAreaTop" r="textAreaRight" b="textAreaBottom"/>
                        <a:pathLst>
                          <a:path w="1514006" h="164892">
                            <a:moveTo>
                              <a:pt x="0" y="0"/>
                            </a:moveTo>
                            <a:lnTo>
                              <a:pt x="314793" y="134911"/>
                            </a:lnTo>
                            <a:lnTo>
                              <a:pt x="1514006" y="164892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86693e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08" name="任意多边形 270"/>
                      <p:cNvSpPr/>
                      <p:nvPr/>
                    </p:nvSpPr>
                    <p:spPr>
                      <a:xfrm rot="21409200">
                        <a:off x="3110400" y="3715920"/>
                        <a:ext cx="1285560" cy="165960"/>
                      </a:xfrm>
                      <a:custGeom>
                        <a:avLst/>
                        <a:gdLst>
                          <a:gd name="textAreaLeft" fmla="*/ 0 w 1285560"/>
                          <a:gd name="textAreaRight" fmla="*/ 1285920 w 1285560"/>
                          <a:gd name="textAreaTop" fmla="*/ 0 h 165960"/>
                          <a:gd name="textAreaBottom" fmla="*/ 166320 h 165960"/>
                        </a:gdLst>
                        <a:ahLst/>
                        <a:rect l="textAreaLeft" t="textAreaTop" r="textAreaRight" b="textAreaBottom"/>
                        <a:pathLst>
                          <a:path w="1514006" h="164892">
                            <a:moveTo>
                              <a:pt x="0" y="0"/>
                            </a:moveTo>
                            <a:lnTo>
                              <a:pt x="314793" y="134911"/>
                            </a:lnTo>
                            <a:lnTo>
                              <a:pt x="1514006" y="164892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86693e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709" name=""/>
                  <p:cNvGrpSpPr/>
                  <p:nvPr/>
                </p:nvGrpSpPr>
                <p:grpSpPr>
                  <a:xfrm>
                    <a:off x="2846520" y="3386520"/>
                    <a:ext cx="1506600" cy="979200"/>
                    <a:chOff x="2846520" y="3386520"/>
                    <a:chExt cx="1506600" cy="979200"/>
                  </a:xfrm>
                </p:grpSpPr>
                <p:sp>
                  <p:nvSpPr>
                    <p:cNvPr id="710" name="任意多边形 259"/>
                    <p:cNvSpPr/>
                    <p:nvPr/>
                  </p:nvSpPr>
                  <p:spPr>
                    <a:xfrm rot="8161800">
                      <a:off x="3124440" y="3763080"/>
                      <a:ext cx="1176480" cy="225720"/>
                    </a:xfrm>
                    <a:custGeom>
                      <a:avLst/>
                      <a:gdLst>
                        <a:gd name="textAreaLeft" fmla="*/ 0 w 1176480"/>
                        <a:gd name="textAreaRight" fmla="*/ 1176480 w 1176480"/>
                        <a:gd name="textAreaTop" fmla="*/ 0 h 225720"/>
                        <a:gd name="textAreaBottom" fmla="*/ 226080 h 225720"/>
                      </a:gdLst>
                      <a:ahLst/>
                      <a:rect l="textAreaLeft" t="textAreaTop" r="textAreaRight" b="textAreaBottom"/>
                      <a:pathLst>
                        <a:path w="1514006" h="164892">
                          <a:moveTo>
                            <a:pt x="0" y="0"/>
                          </a:moveTo>
                          <a:lnTo>
                            <a:pt x="314793" y="134911"/>
                          </a:lnTo>
                          <a:lnTo>
                            <a:pt x="1514006" y="164892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735a3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711" name=""/>
                    <p:cNvGrpSpPr/>
                    <p:nvPr/>
                  </p:nvGrpSpPr>
                  <p:grpSpPr>
                    <a:xfrm>
                      <a:off x="2846520" y="3550320"/>
                      <a:ext cx="1506600" cy="684000"/>
                      <a:chOff x="2846520" y="3550320"/>
                      <a:chExt cx="1506600" cy="684000"/>
                    </a:xfrm>
                  </p:grpSpPr>
                  <p:sp>
                    <p:nvSpPr>
                      <p:cNvPr id="712" name="任意多边形 261"/>
                      <p:cNvSpPr/>
                      <p:nvPr/>
                    </p:nvSpPr>
                    <p:spPr>
                      <a:xfrm>
                        <a:off x="2846520" y="3921840"/>
                        <a:ext cx="1384920" cy="112680"/>
                      </a:xfrm>
                      <a:custGeom>
                        <a:avLst/>
                        <a:gdLst>
                          <a:gd name="textAreaLeft" fmla="*/ 0 w 1384920"/>
                          <a:gd name="textAreaRight" fmla="*/ 1385280 w 1384920"/>
                          <a:gd name="textAreaTop" fmla="*/ 0 h 112680"/>
                          <a:gd name="textAreaBottom" fmla="*/ 113040 h 112680"/>
                        </a:gdLst>
                        <a:ahLst/>
                        <a:rect l="textAreaLeft" t="textAreaTop" r="textAreaRight" b="textAreaBottom"/>
                        <a:pathLst>
                          <a:path w="1514006" h="164892">
                            <a:moveTo>
                              <a:pt x="0" y="0"/>
                            </a:moveTo>
                            <a:lnTo>
                              <a:pt x="314793" y="134911"/>
                            </a:lnTo>
                            <a:lnTo>
                              <a:pt x="1514006" y="164892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735a3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13" name="任意多边形 262"/>
                      <p:cNvSpPr/>
                      <p:nvPr/>
                    </p:nvSpPr>
                    <p:spPr>
                      <a:xfrm rot="20495400">
                        <a:off x="2985480" y="3905640"/>
                        <a:ext cx="1384920" cy="112680"/>
                      </a:xfrm>
                      <a:custGeom>
                        <a:avLst/>
                        <a:gdLst>
                          <a:gd name="textAreaLeft" fmla="*/ 0 w 1384920"/>
                          <a:gd name="textAreaRight" fmla="*/ 1385280 w 1384920"/>
                          <a:gd name="textAreaTop" fmla="*/ 0 h 112680"/>
                          <a:gd name="textAreaBottom" fmla="*/ 113040 h 112680"/>
                        </a:gdLst>
                        <a:ahLst/>
                        <a:rect l="textAreaLeft" t="textAreaTop" r="textAreaRight" b="textAreaBottom"/>
                        <a:pathLst>
                          <a:path w="1514006" h="164892">
                            <a:moveTo>
                              <a:pt x="0" y="0"/>
                            </a:moveTo>
                            <a:lnTo>
                              <a:pt x="314793" y="134911"/>
                            </a:lnTo>
                            <a:lnTo>
                              <a:pt x="1514006" y="164892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735a3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14" name="任意多边形 263"/>
                      <p:cNvSpPr/>
                      <p:nvPr/>
                    </p:nvSpPr>
                    <p:spPr>
                      <a:xfrm rot="20495400">
                        <a:off x="3026520" y="3729960"/>
                        <a:ext cx="1176480" cy="225720"/>
                      </a:xfrm>
                      <a:custGeom>
                        <a:avLst/>
                        <a:gdLst>
                          <a:gd name="textAreaLeft" fmla="*/ 0 w 1176480"/>
                          <a:gd name="textAreaRight" fmla="*/ 1176480 w 1176480"/>
                          <a:gd name="textAreaTop" fmla="*/ 0 h 225720"/>
                          <a:gd name="textAreaBottom" fmla="*/ 226080 h 225720"/>
                        </a:gdLst>
                        <a:ahLst/>
                        <a:rect l="textAreaLeft" t="textAreaTop" r="textAreaRight" b="textAreaBottom"/>
                        <a:pathLst>
                          <a:path w="1514006" h="164892">
                            <a:moveTo>
                              <a:pt x="0" y="0"/>
                            </a:moveTo>
                            <a:lnTo>
                              <a:pt x="314793" y="134911"/>
                            </a:lnTo>
                            <a:lnTo>
                              <a:pt x="1514006" y="164892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735a3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15" name="任意多边形 264"/>
                      <p:cNvSpPr/>
                      <p:nvPr/>
                    </p:nvSpPr>
                    <p:spPr>
                      <a:xfrm rot="21409200">
                        <a:off x="2880720" y="3720240"/>
                        <a:ext cx="1176480" cy="114480"/>
                      </a:xfrm>
                      <a:custGeom>
                        <a:avLst/>
                        <a:gdLst>
                          <a:gd name="textAreaLeft" fmla="*/ 0 w 1176480"/>
                          <a:gd name="textAreaRight" fmla="*/ 1176480 w 1176480"/>
                          <a:gd name="textAreaTop" fmla="*/ 0 h 114480"/>
                          <a:gd name="textAreaBottom" fmla="*/ 114840 h 114480"/>
                        </a:gdLst>
                        <a:ahLst/>
                        <a:rect l="textAreaLeft" t="textAreaTop" r="textAreaRight" b="textAreaBottom"/>
                        <a:pathLst>
                          <a:path w="1514006" h="164892">
                            <a:moveTo>
                              <a:pt x="0" y="0"/>
                            </a:moveTo>
                            <a:lnTo>
                              <a:pt x="314793" y="134911"/>
                            </a:lnTo>
                            <a:lnTo>
                              <a:pt x="1514006" y="164892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735a3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716" name=""/>
                  <p:cNvGrpSpPr/>
                  <p:nvPr/>
                </p:nvGrpSpPr>
                <p:grpSpPr>
                  <a:xfrm>
                    <a:off x="2990160" y="3376080"/>
                    <a:ext cx="1644480" cy="1052280"/>
                    <a:chOff x="2990160" y="3376080"/>
                    <a:chExt cx="1644480" cy="1052280"/>
                  </a:xfrm>
                </p:grpSpPr>
                <p:sp>
                  <p:nvSpPr>
                    <p:cNvPr id="717" name="任意多边形 253"/>
                    <p:cNvSpPr/>
                    <p:nvPr/>
                  </p:nvSpPr>
                  <p:spPr>
                    <a:xfrm rot="8161800">
                      <a:off x="3294000" y="3791160"/>
                      <a:ext cx="1285560" cy="222120"/>
                    </a:xfrm>
                    <a:custGeom>
                      <a:avLst/>
                      <a:gdLst>
                        <a:gd name="textAreaLeft" fmla="*/ 0 w 1285560"/>
                        <a:gd name="textAreaRight" fmla="*/ 1285920 w 1285560"/>
                        <a:gd name="textAreaTop" fmla="*/ 0 h 222120"/>
                        <a:gd name="textAreaBottom" fmla="*/ 222480 h 222120"/>
                      </a:gdLst>
                      <a:ahLst/>
                      <a:rect l="textAreaLeft" t="textAreaTop" r="textAreaRight" b="textAreaBottom"/>
                      <a:pathLst>
                        <a:path w="1514006" h="164892">
                          <a:moveTo>
                            <a:pt x="0" y="0"/>
                          </a:moveTo>
                          <a:lnTo>
                            <a:pt x="314793" y="134911"/>
                          </a:lnTo>
                          <a:lnTo>
                            <a:pt x="1514006" y="164892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5c410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718" name=""/>
                    <p:cNvGrpSpPr/>
                    <p:nvPr/>
                  </p:nvGrpSpPr>
                  <p:grpSpPr>
                    <a:xfrm>
                      <a:off x="2990160" y="3561480"/>
                      <a:ext cx="1644480" cy="717120"/>
                      <a:chOff x="2990160" y="3561480"/>
                      <a:chExt cx="1644480" cy="717120"/>
                    </a:xfrm>
                  </p:grpSpPr>
                  <p:sp>
                    <p:nvSpPr>
                      <p:cNvPr id="719" name="任意多边形 255"/>
                      <p:cNvSpPr/>
                      <p:nvPr/>
                    </p:nvSpPr>
                    <p:spPr>
                      <a:xfrm>
                        <a:off x="2990160" y="3947040"/>
                        <a:ext cx="1513440" cy="110880"/>
                      </a:xfrm>
                      <a:custGeom>
                        <a:avLst/>
                        <a:gdLst>
                          <a:gd name="textAreaLeft" fmla="*/ 0 w 1513440"/>
                          <a:gd name="textAreaRight" fmla="*/ 1513800 w 1513440"/>
                          <a:gd name="textAreaTop" fmla="*/ 0 h 110880"/>
                          <a:gd name="textAreaBottom" fmla="*/ 111240 h 110880"/>
                        </a:gdLst>
                        <a:ahLst/>
                        <a:rect l="textAreaLeft" t="textAreaTop" r="textAreaRight" b="textAreaBottom"/>
                        <a:pathLst>
                          <a:path w="1514006" h="164892">
                            <a:moveTo>
                              <a:pt x="0" y="0"/>
                            </a:moveTo>
                            <a:lnTo>
                              <a:pt x="314793" y="134911"/>
                            </a:lnTo>
                            <a:lnTo>
                              <a:pt x="1514006" y="164892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5c410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20" name="任意多边形 256"/>
                      <p:cNvSpPr/>
                      <p:nvPr/>
                    </p:nvSpPr>
                    <p:spPr>
                      <a:xfrm rot="20495400">
                        <a:off x="3142440" y="3931560"/>
                        <a:ext cx="1513440" cy="110880"/>
                      </a:xfrm>
                      <a:custGeom>
                        <a:avLst/>
                        <a:gdLst>
                          <a:gd name="textAreaLeft" fmla="*/ 0 w 1513440"/>
                          <a:gd name="textAreaRight" fmla="*/ 1513800 w 1513440"/>
                          <a:gd name="textAreaTop" fmla="*/ 0 h 110880"/>
                          <a:gd name="textAreaBottom" fmla="*/ 111240 h 110880"/>
                        </a:gdLst>
                        <a:ahLst/>
                        <a:rect l="textAreaLeft" t="textAreaTop" r="textAreaRight" b="textAreaBottom"/>
                        <a:pathLst>
                          <a:path w="1514006" h="164892">
                            <a:moveTo>
                              <a:pt x="0" y="0"/>
                            </a:moveTo>
                            <a:lnTo>
                              <a:pt x="314793" y="134911"/>
                            </a:lnTo>
                            <a:lnTo>
                              <a:pt x="1514006" y="164892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5c410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21" name="任意多边形 257"/>
                      <p:cNvSpPr/>
                      <p:nvPr/>
                    </p:nvSpPr>
                    <p:spPr>
                      <a:xfrm rot="20495400">
                        <a:off x="3186720" y="3758760"/>
                        <a:ext cx="1285560" cy="222120"/>
                      </a:xfrm>
                      <a:custGeom>
                        <a:avLst/>
                        <a:gdLst>
                          <a:gd name="textAreaLeft" fmla="*/ 0 w 1285560"/>
                          <a:gd name="textAreaRight" fmla="*/ 1285920 w 1285560"/>
                          <a:gd name="textAreaTop" fmla="*/ 0 h 222120"/>
                          <a:gd name="textAreaBottom" fmla="*/ 222480 h 222120"/>
                        </a:gdLst>
                        <a:ahLst/>
                        <a:rect l="textAreaLeft" t="textAreaTop" r="textAreaRight" b="textAreaBottom"/>
                        <a:pathLst>
                          <a:path w="1514006" h="164892">
                            <a:moveTo>
                              <a:pt x="0" y="0"/>
                            </a:moveTo>
                            <a:lnTo>
                              <a:pt x="314793" y="134911"/>
                            </a:lnTo>
                            <a:lnTo>
                              <a:pt x="1514006" y="164892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5c410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22" name="任意多边形 258"/>
                      <p:cNvSpPr/>
                      <p:nvPr/>
                    </p:nvSpPr>
                    <p:spPr>
                      <a:xfrm rot="21409200">
                        <a:off x="3026880" y="3748680"/>
                        <a:ext cx="1285560" cy="112680"/>
                      </a:xfrm>
                      <a:custGeom>
                        <a:avLst/>
                        <a:gdLst>
                          <a:gd name="textAreaLeft" fmla="*/ 0 w 1285560"/>
                          <a:gd name="textAreaRight" fmla="*/ 1285920 w 1285560"/>
                          <a:gd name="textAreaTop" fmla="*/ 0 h 112680"/>
                          <a:gd name="textAreaBottom" fmla="*/ 113040 h 112680"/>
                        </a:gdLst>
                        <a:ahLst/>
                        <a:rect l="textAreaLeft" t="textAreaTop" r="textAreaRight" b="textAreaBottom"/>
                        <a:pathLst>
                          <a:path w="1514006" h="164892">
                            <a:moveTo>
                              <a:pt x="0" y="0"/>
                            </a:moveTo>
                            <a:lnTo>
                              <a:pt x="314793" y="134911"/>
                            </a:lnTo>
                            <a:lnTo>
                              <a:pt x="1514006" y="164892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5c410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723" name=""/>
                <p:cNvGrpSpPr/>
                <p:nvPr/>
              </p:nvGrpSpPr>
              <p:grpSpPr>
                <a:xfrm>
                  <a:off x="2909520" y="3381480"/>
                  <a:ext cx="1879560" cy="1130040"/>
                  <a:chOff x="2909520" y="3381480"/>
                  <a:chExt cx="1879560" cy="1130040"/>
                </a:xfrm>
              </p:grpSpPr>
              <p:sp>
                <p:nvSpPr>
                  <p:cNvPr id="724" name="任意多边形 227"/>
                  <p:cNvSpPr/>
                  <p:nvPr/>
                </p:nvSpPr>
                <p:spPr>
                  <a:xfrm flipH="1">
                    <a:off x="3205440" y="3687480"/>
                    <a:ext cx="1153800" cy="460440"/>
                  </a:xfrm>
                  <a:custGeom>
                    <a:avLst/>
                    <a:gdLst>
                      <a:gd name="textAreaLeft" fmla="*/ -360 w 1153800"/>
                      <a:gd name="textAreaRight" fmla="*/ 1153800 w 1153800"/>
                      <a:gd name="textAreaTop" fmla="*/ 0 h 460440"/>
                      <a:gd name="textAreaBottom" fmla="*/ 460800 h 460440"/>
                    </a:gdLst>
                    <a:ahLst/>
                    <a:rect l="textAreaLeft" t="textAreaTop" r="textAreaRight" b="textAreaBottom"/>
                    <a:pathLst>
                      <a:path w="1154243" h="464695">
                        <a:moveTo>
                          <a:pt x="0" y="209862"/>
                        </a:moveTo>
                        <a:lnTo>
                          <a:pt x="404735" y="464695"/>
                        </a:lnTo>
                        <a:lnTo>
                          <a:pt x="989351" y="434714"/>
                        </a:lnTo>
                        <a:lnTo>
                          <a:pt x="1154243" y="0"/>
                        </a:lnTo>
                        <a:lnTo>
                          <a:pt x="719528" y="44970"/>
                        </a:lnTo>
                        <a:lnTo>
                          <a:pt x="89941" y="164891"/>
                        </a:lnTo>
                      </a:path>
                    </a:pathLst>
                  </a:custGeom>
                  <a:solidFill>
                    <a:srgbClr val="a5814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25" name=""/>
                  <p:cNvGrpSpPr/>
                  <p:nvPr/>
                </p:nvGrpSpPr>
                <p:grpSpPr>
                  <a:xfrm>
                    <a:off x="2909520" y="3384000"/>
                    <a:ext cx="1652760" cy="1127520"/>
                    <a:chOff x="2909520" y="3384000"/>
                    <a:chExt cx="1652760" cy="1127520"/>
                  </a:xfrm>
                </p:grpSpPr>
                <p:sp>
                  <p:nvSpPr>
                    <p:cNvPr id="726" name="任意多边形 243"/>
                    <p:cNvSpPr/>
                    <p:nvPr/>
                  </p:nvSpPr>
                  <p:spPr>
                    <a:xfrm flipH="1" rot="13438200">
                      <a:off x="2972520" y="3784320"/>
                      <a:ext cx="1285560" cy="326520"/>
                    </a:xfrm>
                    <a:custGeom>
                      <a:avLst/>
                      <a:gdLst>
                        <a:gd name="textAreaLeft" fmla="*/ -360 w 1285560"/>
                        <a:gd name="textAreaRight" fmla="*/ 1285560 w 1285560"/>
                        <a:gd name="textAreaTop" fmla="*/ 0 h 326520"/>
                        <a:gd name="textAreaBottom" fmla="*/ 326880 h 326520"/>
                      </a:gdLst>
                      <a:ahLst/>
                      <a:rect l="textAreaLeft" t="textAreaTop" r="textAreaRight" b="textAreaBottom"/>
                      <a:pathLst>
                        <a:path w="1514006" h="164892">
                          <a:moveTo>
                            <a:pt x="0" y="0"/>
                          </a:moveTo>
                          <a:lnTo>
                            <a:pt x="314793" y="134911"/>
                          </a:lnTo>
                          <a:lnTo>
                            <a:pt x="1514006" y="164892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86693e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727" name=""/>
                    <p:cNvGrpSpPr/>
                    <p:nvPr/>
                  </p:nvGrpSpPr>
                  <p:grpSpPr>
                    <a:xfrm>
                      <a:off x="2909520" y="3541680"/>
                      <a:ext cx="1652760" cy="846720"/>
                      <a:chOff x="2909520" y="3541680"/>
                      <a:chExt cx="1652760" cy="846720"/>
                    </a:xfrm>
                  </p:grpSpPr>
                  <p:sp>
                    <p:nvSpPr>
                      <p:cNvPr id="728" name="任意多边形 245"/>
                      <p:cNvSpPr/>
                      <p:nvPr/>
                    </p:nvSpPr>
                    <p:spPr>
                      <a:xfrm flipH="1">
                        <a:off x="3048840" y="4012920"/>
                        <a:ext cx="1513440" cy="163440"/>
                      </a:xfrm>
                      <a:custGeom>
                        <a:avLst/>
                        <a:gdLst>
                          <a:gd name="textAreaLeft" fmla="*/ 360 w 1513440"/>
                          <a:gd name="textAreaRight" fmla="*/ 1514160 w 1513440"/>
                          <a:gd name="textAreaTop" fmla="*/ 0 h 163440"/>
                          <a:gd name="textAreaBottom" fmla="*/ 163800 h 163440"/>
                        </a:gdLst>
                        <a:ahLst/>
                        <a:rect l="textAreaLeft" t="textAreaTop" r="textAreaRight" b="textAreaBottom"/>
                        <a:pathLst>
                          <a:path w="1514006" h="164892">
                            <a:moveTo>
                              <a:pt x="0" y="0"/>
                            </a:moveTo>
                            <a:lnTo>
                              <a:pt x="314793" y="134911"/>
                            </a:lnTo>
                            <a:lnTo>
                              <a:pt x="1514006" y="164892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86693e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29" name="任意多边形 246"/>
                      <p:cNvSpPr/>
                      <p:nvPr/>
                    </p:nvSpPr>
                    <p:spPr>
                      <a:xfrm flipH="1" rot="1104600">
                        <a:off x="2896560" y="3990240"/>
                        <a:ext cx="1513440" cy="163440"/>
                      </a:xfrm>
                      <a:custGeom>
                        <a:avLst/>
                        <a:gdLst>
                          <a:gd name="textAreaLeft" fmla="*/ 360 w 1513440"/>
                          <a:gd name="textAreaRight" fmla="*/ 1514160 w 1513440"/>
                          <a:gd name="textAreaTop" fmla="*/ 0 h 163440"/>
                          <a:gd name="textAreaBottom" fmla="*/ 163800 h 163440"/>
                        </a:gdLst>
                        <a:ahLst/>
                        <a:rect l="textAreaLeft" t="textAreaTop" r="textAreaRight" b="textAreaBottom"/>
                        <a:pathLst>
                          <a:path w="1514006" h="164892">
                            <a:moveTo>
                              <a:pt x="0" y="0"/>
                            </a:moveTo>
                            <a:lnTo>
                              <a:pt x="314793" y="134911"/>
                            </a:lnTo>
                            <a:lnTo>
                              <a:pt x="1514006" y="164892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86693e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30" name="任意多边形 247"/>
                      <p:cNvSpPr/>
                      <p:nvPr/>
                    </p:nvSpPr>
                    <p:spPr>
                      <a:xfrm flipH="1" rot="1104600">
                        <a:off x="3079800" y="3736080"/>
                        <a:ext cx="1285560" cy="327240"/>
                      </a:xfrm>
                      <a:custGeom>
                        <a:avLst/>
                        <a:gdLst>
                          <a:gd name="textAreaLeft" fmla="*/ -360 w 1285560"/>
                          <a:gd name="textAreaRight" fmla="*/ 1285560 w 1285560"/>
                          <a:gd name="textAreaTop" fmla="*/ 0 h 327240"/>
                          <a:gd name="textAreaBottom" fmla="*/ 327600 h 327240"/>
                        </a:gdLst>
                        <a:ahLst/>
                        <a:rect l="textAreaLeft" t="textAreaTop" r="textAreaRight" b="textAreaBottom"/>
                        <a:pathLst>
                          <a:path w="1514006" h="164892">
                            <a:moveTo>
                              <a:pt x="0" y="0"/>
                            </a:moveTo>
                            <a:lnTo>
                              <a:pt x="314793" y="134911"/>
                            </a:lnTo>
                            <a:lnTo>
                              <a:pt x="1514006" y="164892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86693e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31" name="任意多边形 248"/>
                      <p:cNvSpPr/>
                      <p:nvPr/>
                    </p:nvSpPr>
                    <p:spPr>
                      <a:xfrm flipH="1" rot="190800">
                        <a:off x="3239280" y="3721320"/>
                        <a:ext cx="1285560" cy="165960"/>
                      </a:xfrm>
                      <a:custGeom>
                        <a:avLst/>
                        <a:gdLst>
                          <a:gd name="textAreaLeft" fmla="*/ -360 w 1285560"/>
                          <a:gd name="textAreaRight" fmla="*/ 1285560 w 1285560"/>
                          <a:gd name="textAreaTop" fmla="*/ 0 h 165960"/>
                          <a:gd name="textAreaBottom" fmla="*/ 166320 h 165960"/>
                        </a:gdLst>
                        <a:ahLst/>
                        <a:rect l="textAreaLeft" t="textAreaTop" r="textAreaRight" b="textAreaBottom"/>
                        <a:pathLst>
                          <a:path w="1514006" h="164892">
                            <a:moveTo>
                              <a:pt x="0" y="0"/>
                            </a:moveTo>
                            <a:lnTo>
                              <a:pt x="314793" y="134911"/>
                            </a:lnTo>
                            <a:lnTo>
                              <a:pt x="1514006" y="164892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86693e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732" name=""/>
                  <p:cNvGrpSpPr/>
                  <p:nvPr/>
                </p:nvGrpSpPr>
                <p:grpSpPr>
                  <a:xfrm>
                    <a:off x="3282480" y="3391920"/>
                    <a:ext cx="1506600" cy="979200"/>
                    <a:chOff x="3282480" y="3391920"/>
                    <a:chExt cx="1506600" cy="979200"/>
                  </a:xfrm>
                </p:grpSpPr>
                <p:sp>
                  <p:nvSpPr>
                    <p:cNvPr id="733" name="任意多边形 237"/>
                    <p:cNvSpPr/>
                    <p:nvPr/>
                  </p:nvSpPr>
                  <p:spPr>
                    <a:xfrm flipH="1" rot="13438200">
                      <a:off x="3333960" y="3768480"/>
                      <a:ext cx="1176480" cy="225720"/>
                    </a:xfrm>
                    <a:custGeom>
                      <a:avLst/>
                      <a:gdLst>
                        <a:gd name="textAreaLeft" fmla="*/ 0 w 1176480"/>
                        <a:gd name="textAreaRight" fmla="*/ 1176480 w 1176480"/>
                        <a:gd name="textAreaTop" fmla="*/ 0 h 225720"/>
                        <a:gd name="textAreaBottom" fmla="*/ 226080 h 225720"/>
                      </a:gdLst>
                      <a:ahLst/>
                      <a:rect l="textAreaLeft" t="textAreaTop" r="textAreaRight" b="textAreaBottom"/>
                      <a:pathLst>
                        <a:path w="1514006" h="164892">
                          <a:moveTo>
                            <a:pt x="0" y="0"/>
                          </a:moveTo>
                          <a:lnTo>
                            <a:pt x="314793" y="134911"/>
                          </a:lnTo>
                          <a:lnTo>
                            <a:pt x="1514006" y="164892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735a3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734" name=""/>
                    <p:cNvGrpSpPr/>
                    <p:nvPr/>
                  </p:nvGrpSpPr>
                  <p:grpSpPr>
                    <a:xfrm>
                      <a:off x="3282480" y="3555720"/>
                      <a:ext cx="1506600" cy="684000"/>
                      <a:chOff x="3282480" y="3555720"/>
                      <a:chExt cx="1506600" cy="684000"/>
                    </a:xfrm>
                  </p:grpSpPr>
                  <p:sp>
                    <p:nvSpPr>
                      <p:cNvPr id="735" name="任意多边形 239"/>
                      <p:cNvSpPr/>
                      <p:nvPr/>
                    </p:nvSpPr>
                    <p:spPr>
                      <a:xfrm flipH="1">
                        <a:off x="3403800" y="3927240"/>
                        <a:ext cx="1384920" cy="112680"/>
                      </a:xfrm>
                      <a:custGeom>
                        <a:avLst/>
                        <a:gdLst>
                          <a:gd name="textAreaLeft" fmla="*/ -360 w 1384920"/>
                          <a:gd name="textAreaRight" fmla="*/ 1384920 w 1384920"/>
                          <a:gd name="textAreaTop" fmla="*/ 0 h 112680"/>
                          <a:gd name="textAreaBottom" fmla="*/ 113040 h 112680"/>
                        </a:gdLst>
                        <a:ahLst/>
                        <a:rect l="textAreaLeft" t="textAreaTop" r="textAreaRight" b="textAreaBottom"/>
                        <a:pathLst>
                          <a:path w="1514006" h="164892">
                            <a:moveTo>
                              <a:pt x="0" y="0"/>
                            </a:moveTo>
                            <a:lnTo>
                              <a:pt x="314793" y="134911"/>
                            </a:lnTo>
                            <a:lnTo>
                              <a:pt x="1514006" y="164892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735a3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36" name="任意多边形 240"/>
                      <p:cNvSpPr/>
                      <p:nvPr/>
                    </p:nvSpPr>
                    <p:spPr>
                      <a:xfrm flipH="1" rot="1104600">
                        <a:off x="3264120" y="3911040"/>
                        <a:ext cx="1384920" cy="112680"/>
                      </a:xfrm>
                      <a:custGeom>
                        <a:avLst/>
                        <a:gdLst>
                          <a:gd name="textAreaLeft" fmla="*/ -360 w 1384920"/>
                          <a:gd name="textAreaRight" fmla="*/ 1384920 w 1384920"/>
                          <a:gd name="textAreaTop" fmla="*/ 0 h 112680"/>
                          <a:gd name="textAreaBottom" fmla="*/ 113040 h 112680"/>
                        </a:gdLst>
                        <a:ahLst/>
                        <a:rect l="textAreaLeft" t="textAreaTop" r="textAreaRight" b="textAreaBottom"/>
                        <a:pathLst>
                          <a:path w="1514006" h="164892">
                            <a:moveTo>
                              <a:pt x="0" y="0"/>
                            </a:moveTo>
                            <a:lnTo>
                              <a:pt x="314793" y="134911"/>
                            </a:lnTo>
                            <a:lnTo>
                              <a:pt x="1514006" y="164892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735a3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37" name="任意多边形 241"/>
                      <p:cNvSpPr/>
                      <p:nvPr/>
                    </p:nvSpPr>
                    <p:spPr>
                      <a:xfrm flipH="1" rot="1104600">
                        <a:off x="3431880" y="3735360"/>
                        <a:ext cx="1176480" cy="225720"/>
                      </a:xfrm>
                      <a:custGeom>
                        <a:avLst/>
                        <a:gdLst>
                          <a:gd name="textAreaLeft" fmla="*/ 0 w 1176480"/>
                          <a:gd name="textAreaRight" fmla="*/ 1176480 w 1176480"/>
                          <a:gd name="textAreaTop" fmla="*/ 0 h 225720"/>
                          <a:gd name="textAreaBottom" fmla="*/ 226080 h 225720"/>
                        </a:gdLst>
                        <a:ahLst/>
                        <a:rect l="textAreaLeft" t="textAreaTop" r="textAreaRight" b="textAreaBottom"/>
                        <a:pathLst>
                          <a:path w="1514006" h="164892">
                            <a:moveTo>
                              <a:pt x="0" y="0"/>
                            </a:moveTo>
                            <a:lnTo>
                              <a:pt x="314793" y="134911"/>
                            </a:lnTo>
                            <a:lnTo>
                              <a:pt x="1514006" y="164892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735a3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38" name="任意多边形 242"/>
                      <p:cNvSpPr/>
                      <p:nvPr/>
                    </p:nvSpPr>
                    <p:spPr>
                      <a:xfrm flipH="1" rot="190800">
                        <a:off x="3577680" y="3725640"/>
                        <a:ext cx="1176480" cy="114480"/>
                      </a:xfrm>
                      <a:custGeom>
                        <a:avLst/>
                        <a:gdLst>
                          <a:gd name="textAreaLeft" fmla="*/ 0 w 1176480"/>
                          <a:gd name="textAreaRight" fmla="*/ 1176480 w 1176480"/>
                          <a:gd name="textAreaTop" fmla="*/ 0 h 114480"/>
                          <a:gd name="textAreaBottom" fmla="*/ 114840 h 114480"/>
                        </a:gdLst>
                        <a:ahLst/>
                        <a:rect l="textAreaLeft" t="textAreaTop" r="textAreaRight" b="textAreaBottom"/>
                        <a:pathLst>
                          <a:path w="1514006" h="164892">
                            <a:moveTo>
                              <a:pt x="0" y="0"/>
                            </a:moveTo>
                            <a:lnTo>
                              <a:pt x="314793" y="134911"/>
                            </a:lnTo>
                            <a:lnTo>
                              <a:pt x="1514006" y="164892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735a3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739" name=""/>
                  <p:cNvGrpSpPr/>
                  <p:nvPr/>
                </p:nvGrpSpPr>
                <p:grpSpPr>
                  <a:xfrm>
                    <a:off x="3000600" y="3381480"/>
                    <a:ext cx="1644840" cy="1052280"/>
                    <a:chOff x="3000600" y="3381480"/>
                    <a:chExt cx="1644840" cy="1052280"/>
                  </a:xfrm>
                </p:grpSpPr>
                <p:sp>
                  <p:nvSpPr>
                    <p:cNvPr id="740" name="任意多边形 231"/>
                    <p:cNvSpPr/>
                    <p:nvPr/>
                  </p:nvSpPr>
                  <p:spPr>
                    <a:xfrm flipH="1" rot="13438200">
                      <a:off x="3055680" y="3796560"/>
                      <a:ext cx="1285560" cy="222120"/>
                    </a:xfrm>
                    <a:custGeom>
                      <a:avLst/>
                      <a:gdLst>
                        <a:gd name="textAreaLeft" fmla="*/ -360 w 1285560"/>
                        <a:gd name="textAreaRight" fmla="*/ 1285560 w 1285560"/>
                        <a:gd name="textAreaTop" fmla="*/ 0 h 222120"/>
                        <a:gd name="textAreaBottom" fmla="*/ 222480 h 222120"/>
                      </a:gdLst>
                      <a:ahLst/>
                      <a:rect l="textAreaLeft" t="textAreaTop" r="textAreaRight" b="textAreaBottom"/>
                      <a:pathLst>
                        <a:path w="1514006" h="164892">
                          <a:moveTo>
                            <a:pt x="0" y="0"/>
                          </a:moveTo>
                          <a:lnTo>
                            <a:pt x="314793" y="134911"/>
                          </a:lnTo>
                          <a:lnTo>
                            <a:pt x="1514006" y="164892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5c410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741" name=""/>
                    <p:cNvGrpSpPr/>
                    <p:nvPr/>
                  </p:nvGrpSpPr>
                  <p:grpSpPr>
                    <a:xfrm>
                      <a:off x="3000600" y="3566880"/>
                      <a:ext cx="1644840" cy="717480"/>
                      <a:chOff x="3000600" y="3566880"/>
                      <a:chExt cx="1644840" cy="717480"/>
                    </a:xfrm>
                  </p:grpSpPr>
                  <p:sp>
                    <p:nvSpPr>
                      <p:cNvPr id="742" name="任意多边形 233"/>
                      <p:cNvSpPr/>
                      <p:nvPr/>
                    </p:nvSpPr>
                    <p:spPr>
                      <a:xfrm flipH="1">
                        <a:off x="3132000" y="3952440"/>
                        <a:ext cx="1513440" cy="110880"/>
                      </a:xfrm>
                      <a:custGeom>
                        <a:avLst/>
                        <a:gdLst>
                          <a:gd name="textAreaLeft" fmla="*/ 360 w 1513440"/>
                          <a:gd name="textAreaRight" fmla="*/ 1514160 w 1513440"/>
                          <a:gd name="textAreaTop" fmla="*/ 0 h 110880"/>
                          <a:gd name="textAreaBottom" fmla="*/ 111240 h 110880"/>
                        </a:gdLst>
                        <a:ahLst/>
                        <a:rect l="textAreaLeft" t="textAreaTop" r="textAreaRight" b="textAreaBottom"/>
                        <a:pathLst>
                          <a:path w="1514006" h="164892">
                            <a:moveTo>
                              <a:pt x="0" y="0"/>
                            </a:moveTo>
                            <a:lnTo>
                              <a:pt x="314793" y="134911"/>
                            </a:lnTo>
                            <a:lnTo>
                              <a:pt x="1514006" y="164892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5c410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43" name="任意多边形 234"/>
                      <p:cNvSpPr/>
                      <p:nvPr/>
                    </p:nvSpPr>
                    <p:spPr>
                      <a:xfrm flipH="1" rot="1104600">
                        <a:off x="2979000" y="3936960"/>
                        <a:ext cx="1513440" cy="111240"/>
                      </a:xfrm>
                      <a:custGeom>
                        <a:avLst/>
                        <a:gdLst>
                          <a:gd name="textAreaLeft" fmla="*/ 360 w 1513440"/>
                          <a:gd name="textAreaRight" fmla="*/ 1514160 w 1513440"/>
                          <a:gd name="textAreaTop" fmla="*/ 0 h 111240"/>
                          <a:gd name="textAreaBottom" fmla="*/ 111600 h 111240"/>
                        </a:gdLst>
                        <a:ahLst/>
                        <a:rect l="textAreaLeft" t="textAreaTop" r="textAreaRight" b="textAreaBottom"/>
                        <a:pathLst>
                          <a:path w="1514006" h="164892">
                            <a:moveTo>
                              <a:pt x="0" y="0"/>
                            </a:moveTo>
                            <a:lnTo>
                              <a:pt x="314793" y="134911"/>
                            </a:lnTo>
                            <a:lnTo>
                              <a:pt x="1514006" y="164892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5c410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44" name="任意多边形 235"/>
                      <p:cNvSpPr/>
                      <p:nvPr/>
                    </p:nvSpPr>
                    <p:spPr>
                      <a:xfrm flipH="1" rot="1104600">
                        <a:off x="3162960" y="3764160"/>
                        <a:ext cx="1285560" cy="222480"/>
                      </a:xfrm>
                      <a:custGeom>
                        <a:avLst/>
                        <a:gdLst>
                          <a:gd name="textAreaLeft" fmla="*/ -360 w 1285560"/>
                          <a:gd name="textAreaRight" fmla="*/ 1285560 w 1285560"/>
                          <a:gd name="textAreaTop" fmla="*/ 0 h 222480"/>
                          <a:gd name="textAreaBottom" fmla="*/ 222840 h 222480"/>
                        </a:gdLst>
                        <a:ahLst/>
                        <a:rect l="textAreaLeft" t="textAreaTop" r="textAreaRight" b="textAreaBottom"/>
                        <a:pathLst>
                          <a:path w="1514006" h="164892">
                            <a:moveTo>
                              <a:pt x="0" y="0"/>
                            </a:moveTo>
                            <a:lnTo>
                              <a:pt x="314793" y="134911"/>
                            </a:lnTo>
                            <a:lnTo>
                              <a:pt x="1514006" y="164892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5c410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45" name="任意多边形 236"/>
                      <p:cNvSpPr/>
                      <p:nvPr/>
                    </p:nvSpPr>
                    <p:spPr>
                      <a:xfrm flipH="1" rot="190800">
                        <a:off x="3322080" y="3754080"/>
                        <a:ext cx="1285560" cy="112320"/>
                      </a:xfrm>
                      <a:custGeom>
                        <a:avLst/>
                        <a:gdLst>
                          <a:gd name="textAreaLeft" fmla="*/ -360 w 1285560"/>
                          <a:gd name="textAreaRight" fmla="*/ 1285560 w 1285560"/>
                          <a:gd name="textAreaTop" fmla="*/ 0 h 112320"/>
                          <a:gd name="textAreaBottom" fmla="*/ 112680 h 112320"/>
                        </a:gdLst>
                        <a:ahLst/>
                        <a:rect l="textAreaLeft" t="textAreaTop" r="textAreaRight" b="textAreaBottom"/>
                        <a:pathLst>
                          <a:path w="1514006" h="164892">
                            <a:moveTo>
                              <a:pt x="0" y="0"/>
                            </a:moveTo>
                            <a:lnTo>
                              <a:pt x="314793" y="134911"/>
                            </a:lnTo>
                            <a:lnTo>
                              <a:pt x="1514006" y="164892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5c410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</p:grpSp>
          <p:grpSp>
            <p:nvGrpSpPr>
              <p:cNvPr id="746" name=""/>
              <p:cNvGrpSpPr/>
              <p:nvPr/>
            </p:nvGrpSpPr>
            <p:grpSpPr>
              <a:xfrm>
                <a:off x="3178800" y="3959640"/>
                <a:ext cx="906840" cy="398520"/>
                <a:chOff x="3178800" y="3959640"/>
                <a:chExt cx="906840" cy="398520"/>
              </a:xfrm>
            </p:grpSpPr>
            <p:sp>
              <p:nvSpPr>
                <p:cNvPr id="747" name="任意多边形 223"/>
                <p:cNvSpPr/>
                <p:nvPr/>
              </p:nvSpPr>
              <p:spPr>
                <a:xfrm rot="16722000">
                  <a:off x="3497760" y="3720960"/>
                  <a:ext cx="268560" cy="876240"/>
                </a:xfrm>
                <a:custGeom>
                  <a:avLst/>
                  <a:gdLst>
                    <a:gd name="textAreaLeft" fmla="*/ 0 w 268560"/>
                    <a:gd name="textAreaRight" fmla="*/ 268920 w 268560"/>
                    <a:gd name="textAreaTop" fmla="*/ 0 h 876240"/>
                    <a:gd name="textAreaBottom" fmla="*/ 876600 h 876240"/>
                  </a:gdLst>
                  <a:ahLst/>
                  <a:rect l="textAreaLeft" t="textAreaTop" r="textAreaRight" b="textAreaBottom"/>
                  <a:pathLst>
                    <a:path w="2065867" h="4030133">
                      <a:moveTo>
                        <a:pt x="270933" y="677333"/>
                      </a:moveTo>
                      <a:cubicBezTo>
                        <a:pt x="259644" y="733778"/>
                        <a:pt x="257278" y="792770"/>
                        <a:pt x="237067" y="846667"/>
                      </a:cubicBezTo>
                      <a:cubicBezTo>
                        <a:pt x="222775" y="884778"/>
                        <a:pt x="187536" y="911861"/>
                        <a:pt x="169333" y="948267"/>
                      </a:cubicBezTo>
                      <a:cubicBezTo>
                        <a:pt x="153368" y="980197"/>
                        <a:pt x="146756" y="1016000"/>
                        <a:pt x="135467" y="1049867"/>
                      </a:cubicBezTo>
                      <a:cubicBezTo>
                        <a:pt x="124178" y="1128889"/>
                        <a:pt x="124537" y="1210475"/>
                        <a:pt x="101600" y="1286933"/>
                      </a:cubicBezTo>
                      <a:cubicBezTo>
                        <a:pt x="89904" y="1325919"/>
                        <a:pt x="52070" y="1352127"/>
                        <a:pt x="33867" y="1388533"/>
                      </a:cubicBezTo>
                      <a:cubicBezTo>
                        <a:pt x="17902" y="1420463"/>
                        <a:pt x="11289" y="1456266"/>
                        <a:pt x="0" y="1490133"/>
                      </a:cubicBezTo>
                      <a:cubicBezTo>
                        <a:pt x="11289" y="1648178"/>
                        <a:pt x="6331" y="1808231"/>
                        <a:pt x="33867" y="1964267"/>
                      </a:cubicBezTo>
                      <a:cubicBezTo>
                        <a:pt x="40941" y="2004350"/>
                        <a:pt x="77942" y="2032746"/>
                        <a:pt x="101600" y="2065867"/>
                      </a:cubicBezTo>
                      <a:cubicBezTo>
                        <a:pt x="134408" y="2111798"/>
                        <a:pt x="167065" y="2157971"/>
                        <a:pt x="203200" y="2201333"/>
                      </a:cubicBezTo>
                      <a:cubicBezTo>
                        <a:pt x="223641" y="2225862"/>
                        <a:pt x="253221" y="2242500"/>
                        <a:pt x="270933" y="2269067"/>
                      </a:cubicBezTo>
                      <a:cubicBezTo>
                        <a:pt x="298937" y="2311073"/>
                        <a:pt x="313619" y="2360700"/>
                        <a:pt x="338667" y="2404533"/>
                      </a:cubicBezTo>
                      <a:cubicBezTo>
                        <a:pt x="443708" y="2588354"/>
                        <a:pt x="378175" y="2421458"/>
                        <a:pt x="440267" y="2607733"/>
                      </a:cubicBezTo>
                      <a:cubicBezTo>
                        <a:pt x="451556" y="2686755"/>
                        <a:pt x="448890" y="2769072"/>
                        <a:pt x="474133" y="2844800"/>
                      </a:cubicBezTo>
                      <a:cubicBezTo>
                        <a:pt x="484230" y="2875091"/>
                        <a:pt x="525439" y="2885153"/>
                        <a:pt x="541867" y="2912533"/>
                      </a:cubicBezTo>
                      <a:cubicBezTo>
                        <a:pt x="692110" y="3162937"/>
                        <a:pt x="437916" y="2858793"/>
                        <a:pt x="643467" y="3115733"/>
                      </a:cubicBezTo>
                      <a:cubicBezTo>
                        <a:pt x="663413" y="3140666"/>
                        <a:pt x="691254" y="3158534"/>
                        <a:pt x="711200" y="3183467"/>
                      </a:cubicBezTo>
                      <a:cubicBezTo>
                        <a:pt x="736627" y="3215251"/>
                        <a:pt x="752130" y="3254435"/>
                        <a:pt x="778933" y="3285067"/>
                      </a:cubicBezTo>
                      <a:cubicBezTo>
                        <a:pt x="831498" y="3345141"/>
                        <a:pt x="900372" y="3390540"/>
                        <a:pt x="948267" y="3454400"/>
                      </a:cubicBezTo>
                      <a:cubicBezTo>
                        <a:pt x="982134" y="3499556"/>
                        <a:pt x="1019951" y="3542002"/>
                        <a:pt x="1049867" y="3589867"/>
                      </a:cubicBezTo>
                      <a:cubicBezTo>
                        <a:pt x="1076624" y="3632678"/>
                        <a:pt x="1089596" y="3683327"/>
                        <a:pt x="1117600" y="3725333"/>
                      </a:cubicBezTo>
                      <a:cubicBezTo>
                        <a:pt x="1164328" y="3795425"/>
                        <a:pt x="1222230" y="3809038"/>
                        <a:pt x="1286933" y="3860800"/>
                      </a:cubicBezTo>
                      <a:cubicBezTo>
                        <a:pt x="1311866" y="3880746"/>
                        <a:pt x="1328100" y="3910821"/>
                        <a:pt x="1354667" y="3928533"/>
                      </a:cubicBezTo>
                      <a:cubicBezTo>
                        <a:pt x="1438370" y="3984335"/>
                        <a:pt x="1501418" y="4000029"/>
                        <a:pt x="1591733" y="4030133"/>
                      </a:cubicBezTo>
                      <a:cubicBezTo>
                        <a:pt x="1670755" y="4018844"/>
                        <a:pt x="1753072" y="4021510"/>
                        <a:pt x="1828800" y="3996267"/>
                      </a:cubicBezTo>
                      <a:cubicBezTo>
                        <a:pt x="1947678" y="3956641"/>
                        <a:pt x="1962781" y="3628192"/>
                        <a:pt x="1964267" y="3623733"/>
                      </a:cubicBezTo>
                      <a:cubicBezTo>
                        <a:pt x="1977138" y="3585119"/>
                        <a:pt x="2013797" y="3558539"/>
                        <a:pt x="2032000" y="3522133"/>
                      </a:cubicBezTo>
                      <a:cubicBezTo>
                        <a:pt x="2047965" y="3490203"/>
                        <a:pt x="2054578" y="3454400"/>
                        <a:pt x="2065867" y="3420533"/>
                      </a:cubicBezTo>
                      <a:cubicBezTo>
                        <a:pt x="2054578" y="3318933"/>
                        <a:pt x="2052048" y="3215973"/>
                        <a:pt x="2032000" y="3115733"/>
                      </a:cubicBezTo>
                      <a:cubicBezTo>
                        <a:pt x="2017998" y="3045722"/>
                        <a:pt x="1964267" y="2912533"/>
                        <a:pt x="1964267" y="2912533"/>
                      </a:cubicBezTo>
                      <a:cubicBezTo>
                        <a:pt x="2045473" y="2668911"/>
                        <a:pt x="1946942" y="2973167"/>
                        <a:pt x="2032000" y="2675467"/>
                      </a:cubicBezTo>
                      <a:cubicBezTo>
                        <a:pt x="2041807" y="2641142"/>
                        <a:pt x="2054578" y="2607734"/>
                        <a:pt x="2065867" y="2573867"/>
                      </a:cubicBezTo>
                      <a:cubicBezTo>
                        <a:pt x="1988036" y="2340376"/>
                        <a:pt x="2048618" y="2421153"/>
                        <a:pt x="1930400" y="2302933"/>
                      </a:cubicBezTo>
                      <a:cubicBezTo>
                        <a:pt x="1919111" y="2257778"/>
                        <a:pt x="1909320" y="2212221"/>
                        <a:pt x="1896533" y="2167467"/>
                      </a:cubicBezTo>
                      <a:cubicBezTo>
                        <a:pt x="1886726" y="2133142"/>
                        <a:pt x="1868536" y="2101080"/>
                        <a:pt x="1862667" y="2065867"/>
                      </a:cubicBezTo>
                      <a:cubicBezTo>
                        <a:pt x="1846052" y="1966175"/>
                        <a:pt x="1835554" y="1713597"/>
                        <a:pt x="1794933" y="1591733"/>
                      </a:cubicBezTo>
                      <a:cubicBezTo>
                        <a:pt x="1778968" y="1543839"/>
                        <a:pt x="1753174" y="1499558"/>
                        <a:pt x="1727200" y="1456267"/>
                      </a:cubicBezTo>
                      <a:cubicBezTo>
                        <a:pt x="1685317" y="1386462"/>
                        <a:pt x="1591733" y="1253067"/>
                        <a:pt x="1591733" y="1253067"/>
                      </a:cubicBezTo>
                      <a:cubicBezTo>
                        <a:pt x="1555962" y="1145753"/>
                        <a:pt x="1565165" y="1143657"/>
                        <a:pt x="1490133" y="1049867"/>
                      </a:cubicBezTo>
                      <a:cubicBezTo>
                        <a:pt x="1470187" y="1024934"/>
                        <a:pt x="1442346" y="1007066"/>
                        <a:pt x="1422400" y="982133"/>
                      </a:cubicBezTo>
                      <a:cubicBezTo>
                        <a:pt x="1396973" y="950349"/>
                        <a:pt x="1380094" y="912316"/>
                        <a:pt x="1354667" y="880533"/>
                      </a:cubicBezTo>
                      <a:cubicBezTo>
                        <a:pt x="1334721" y="855600"/>
                        <a:pt x="1306879" y="837733"/>
                        <a:pt x="1286933" y="812800"/>
                      </a:cubicBezTo>
                      <a:cubicBezTo>
                        <a:pt x="1261506" y="781017"/>
                        <a:pt x="1246241" y="741622"/>
                        <a:pt x="1219200" y="711200"/>
                      </a:cubicBezTo>
                      <a:cubicBezTo>
                        <a:pt x="1155561" y="639606"/>
                        <a:pt x="1095702" y="561134"/>
                        <a:pt x="1016000" y="508000"/>
                      </a:cubicBezTo>
                      <a:cubicBezTo>
                        <a:pt x="887833" y="422556"/>
                        <a:pt x="943181" y="469048"/>
                        <a:pt x="846667" y="372533"/>
                      </a:cubicBezTo>
                      <a:cubicBezTo>
                        <a:pt x="835378" y="338666"/>
                        <a:pt x="832602" y="300636"/>
                        <a:pt x="812800" y="270933"/>
                      </a:cubicBezTo>
                      <a:cubicBezTo>
                        <a:pt x="786233" y="231082"/>
                        <a:pt x="749006" y="198737"/>
                        <a:pt x="711200" y="169333"/>
                      </a:cubicBezTo>
                      <a:cubicBezTo>
                        <a:pt x="536524" y="33474"/>
                        <a:pt x="559693" y="51098"/>
                        <a:pt x="406400" y="0"/>
                      </a:cubicBezTo>
                      <a:cubicBezTo>
                        <a:pt x="361244" y="11289"/>
                        <a:pt x="313715" y="15532"/>
                        <a:pt x="270933" y="33867"/>
                      </a:cubicBezTo>
                      <a:cubicBezTo>
                        <a:pt x="53886" y="126887"/>
                        <a:pt x="173770" y="228415"/>
                        <a:pt x="203200" y="508000"/>
                      </a:cubicBezTo>
                      <a:cubicBezTo>
                        <a:pt x="230238" y="764856"/>
                        <a:pt x="168958" y="711013"/>
                        <a:pt x="304800" y="778933"/>
                      </a:cubicBez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8" name="任意多边形 224"/>
                <p:cNvSpPr/>
                <p:nvPr/>
              </p:nvSpPr>
              <p:spPr>
                <a:xfrm rot="17367600">
                  <a:off x="3488760" y="3926160"/>
                  <a:ext cx="237960" cy="435960"/>
                </a:xfrm>
                <a:custGeom>
                  <a:avLst/>
                  <a:gdLst>
                    <a:gd name="textAreaLeft" fmla="*/ 0 w 237960"/>
                    <a:gd name="textAreaRight" fmla="*/ 238320 w 237960"/>
                    <a:gd name="textAreaTop" fmla="*/ 0 h 435960"/>
                    <a:gd name="textAreaBottom" fmla="*/ 436320 h 435960"/>
                  </a:gdLst>
                  <a:ahLst/>
                  <a:rect l="textAreaLeft" t="textAreaTop" r="textAreaRight" b="textAreaBottom"/>
                  <a:pathLst>
                    <a:path w="2065867" h="4030133">
                      <a:moveTo>
                        <a:pt x="270933" y="677333"/>
                      </a:moveTo>
                      <a:cubicBezTo>
                        <a:pt x="259644" y="733778"/>
                        <a:pt x="257278" y="792770"/>
                        <a:pt x="237067" y="846667"/>
                      </a:cubicBezTo>
                      <a:cubicBezTo>
                        <a:pt x="222775" y="884778"/>
                        <a:pt x="187536" y="911861"/>
                        <a:pt x="169333" y="948267"/>
                      </a:cubicBezTo>
                      <a:cubicBezTo>
                        <a:pt x="153368" y="980197"/>
                        <a:pt x="146756" y="1016000"/>
                        <a:pt x="135467" y="1049867"/>
                      </a:cubicBezTo>
                      <a:cubicBezTo>
                        <a:pt x="124178" y="1128889"/>
                        <a:pt x="124537" y="1210475"/>
                        <a:pt x="101600" y="1286933"/>
                      </a:cubicBezTo>
                      <a:cubicBezTo>
                        <a:pt x="89904" y="1325919"/>
                        <a:pt x="52070" y="1352127"/>
                        <a:pt x="33867" y="1388533"/>
                      </a:cubicBezTo>
                      <a:cubicBezTo>
                        <a:pt x="17902" y="1420463"/>
                        <a:pt x="11289" y="1456266"/>
                        <a:pt x="0" y="1490133"/>
                      </a:cubicBezTo>
                      <a:cubicBezTo>
                        <a:pt x="11289" y="1648178"/>
                        <a:pt x="6331" y="1808231"/>
                        <a:pt x="33867" y="1964267"/>
                      </a:cubicBezTo>
                      <a:cubicBezTo>
                        <a:pt x="40941" y="2004350"/>
                        <a:pt x="77942" y="2032746"/>
                        <a:pt x="101600" y="2065867"/>
                      </a:cubicBezTo>
                      <a:cubicBezTo>
                        <a:pt x="134408" y="2111798"/>
                        <a:pt x="167065" y="2157971"/>
                        <a:pt x="203200" y="2201333"/>
                      </a:cubicBezTo>
                      <a:cubicBezTo>
                        <a:pt x="223641" y="2225862"/>
                        <a:pt x="253221" y="2242500"/>
                        <a:pt x="270933" y="2269067"/>
                      </a:cubicBezTo>
                      <a:cubicBezTo>
                        <a:pt x="298937" y="2311073"/>
                        <a:pt x="313619" y="2360700"/>
                        <a:pt x="338667" y="2404533"/>
                      </a:cubicBezTo>
                      <a:cubicBezTo>
                        <a:pt x="443708" y="2588354"/>
                        <a:pt x="378175" y="2421458"/>
                        <a:pt x="440267" y="2607733"/>
                      </a:cubicBezTo>
                      <a:cubicBezTo>
                        <a:pt x="451556" y="2686755"/>
                        <a:pt x="448890" y="2769072"/>
                        <a:pt x="474133" y="2844800"/>
                      </a:cubicBezTo>
                      <a:cubicBezTo>
                        <a:pt x="484230" y="2875091"/>
                        <a:pt x="525439" y="2885153"/>
                        <a:pt x="541867" y="2912533"/>
                      </a:cubicBezTo>
                      <a:cubicBezTo>
                        <a:pt x="692110" y="3162937"/>
                        <a:pt x="437916" y="2858793"/>
                        <a:pt x="643467" y="3115733"/>
                      </a:cubicBezTo>
                      <a:cubicBezTo>
                        <a:pt x="663413" y="3140666"/>
                        <a:pt x="691254" y="3158534"/>
                        <a:pt x="711200" y="3183467"/>
                      </a:cubicBezTo>
                      <a:cubicBezTo>
                        <a:pt x="736627" y="3215251"/>
                        <a:pt x="752130" y="3254435"/>
                        <a:pt x="778933" y="3285067"/>
                      </a:cubicBezTo>
                      <a:cubicBezTo>
                        <a:pt x="831498" y="3345141"/>
                        <a:pt x="900372" y="3390540"/>
                        <a:pt x="948267" y="3454400"/>
                      </a:cubicBezTo>
                      <a:cubicBezTo>
                        <a:pt x="982134" y="3499556"/>
                        <a:pt x="1019951" y="3542002"/>
                        <a:pt x="1049867" y="3589867"/>
                      </a:cubicBezTo>
                      <a:cubicBezTo>
                        <a:pt x="1076624" y="3632678"/>
                        <a:pt x="1089596" y="3683327"/>
                        <a:pt x="1117600" y="3725333"/>
                      </a:cubicBezTo>
                      <a:cubicBezTo>
                        <a:pt x="1164328" y="3795425"/>
                        <a:pt x="1222230" y="3809038"/>
                        <a:pt x="1286933" y="3860800"/>
                      </a:cubicBezTo>
                      <a:cubicBezTo>
                        <a:pt x="1311866" y="3880746"/>
                        <a:pt x="1328100" y="3910821"/>
                        <a:pt x="1354667" y="3928533"/>
                      </a:cubicBezTo>
                      <a:cubicBezTo>
                        <a:pt x="1438370" y="3984335"/>
                        <a:pt x="1501418" y="4000029"/>
                        <a:pt x="1591733" y="4030133"/>
                      </a:cubicBezTo>
                      <a:cubicBezTo>
                        <a:pt x="1670755" y="4018844"/>
                        <a:pt x="1753072" y="4021510"/>
                        <a:pt x="1828800" y="3996267"/>
                      </a:cubicBezTo>
                      <a:cubicBezTo>
                        <a:pt x="1947678" y="3956641"/>
                        <a:pt x="1962781" y="3628192"/>
                        <a:pt x="1964267" y="3623733"/>
                      </a:cubicBezTo>
                      <a:cubicBezTo>
                        <a:pt x="1977138" y="3585119"/>
                        <a:pt x="2013797" y="3558539"/>
                        <a:pt x="2032000" y="3522133"/>
                      </a:cubicBezTo>
                      <a:cubicBezTo>
                        <a:pt x="2047965" y="3490203"/>
                        <a:pt x="2054578" y="3454400"/>
                        <a:pt x="2065867" y="3420533"/>
                      </a:cubicBezTo>
                      <a:cubicBezTo>
                        <a:pt x="2054578" y="3318933"/>
                        <a:pt x="2052048" y="3215973"/>
                        <a:pt x="2032000" y="3115733"/>
                      </a:cubicBezTo>
                      <a:cubicBezTo>
                        <a:pt x="2017998" y="3045722"/>
                        <a:pt x="1964267" y="2912533"/>
                        <a:pt x="1964267" y="2912533"/>
                      </a:cubicBezTo>
                      <a:cubicBezTo>
                        <a:pt x="2045473" y="2668911"/>
                        <a:pt x="1946942" y="2973167"/>
                        <a:pt x="2032000" y="2675467"/>
                      </a:cubicBezTo>
                      <a:cubicBezTo>
                        <a:pt x="2041807" y="2641142"/>
                        <a:pt x="2054578" y="2607734"/>
                        <a:pt x="2065867" y="2573867"/>
                      </a:cubicBezTo>
                      <a:cubicBezTo>
                        <a:pt x="1988036" y="2340376"/>
                        <a:pt x="2048618" y="2421153"/>
                        <a:pt x="1930400" y="2302933"/>
                      </a:cubicBezTo>
                      <a:cubicBezTo>
                        <a:pt x="1919111" y="2257778"/>
                        <a:pt x="1909320" y="2212221"/>
                        <a:pt x="1896533" y="2167467"/>
                      </a:cubicBezTo>
                      <a:cubicBezTo>
                        <a:pt x="1886726" y="2133142"/>
                        <a:pt x="1868536" y="2101080"/>
                        <a:pt x="1862667" y="2065867"/>
                      </a:cubicBezTo>
                      <a:cubicBezTo>
                        <a:pt x="1846052" y="1966175"/>
                        <a:pt x="1835554" y="1713597"/>
                        <a:pt x="1794933" y="1591733"/>
                      </a:cubicBezTo>
                      <a:cubicBezTo>
                        <a:pt x="1778968" y="1543839"/>
                        <a:pt x="1753174" y="1499558"/>
                        <a:pt x="1727200" y="1456267"/>
                      </a:cubicBezTo>
                      <a:cubicBezTo>
                        <a:pt x="1685317" y="1386462"/>
                        <a:pt x="1591733" y="1253067"/>
                        <a:pt x="1591733" y="1253067"/>
                      </a:cubicBezTo>
                      <a:cubicBezTo>
                        <a:pt x="1555962" y="1145753"/>
                        <a:pt x="1565165" y="1143657"/>
                        <a:pt x="1490133" y="1049867"/>
                      </a:cubicBezTo>
                      <a:cubicBezTo>
                        <a:pt x="1470187" y="1024934"/>
                        <a:pt x="1442346" y="1007066"/>
                        <a:pt x="1422400" y="982133"/>
                      </a:cubicBezTo>
                      <a:cubicBezTo>
                        <a:pt x="1396973" y="950349"/>
                        <a:pt x="1380094" y="912316"/>
                        <a:pt x="1354667" y="880533"/>
                      </a:cubicBezTo>
                      <a:cubicBezTo>
                        <a:pt x="1334721" y="855600"/>
                        <a:pt x="1306879" y="837733"/>
                        <a:pt x="1286933" y="812800"/>
                      </a:cubicBezTo>
                      <a:cubicBezTo>
                        <a:pt x="1261506" y="781017"/>
                        <a:pt x="1246241" y="741622"/>
                        <a:pt x="1219200" y="711200"/>
                      </a:cubicBezTo>
                      <a:cubicBezTo>
                        <a:pt x="1155561" y="639606"/>
                        <a:pt x="1095702" y="561134"/>
                        <a:pt x="1016000" y="508000"/>
                      </a:cubicBezTo>
                      <a:cubicBezTo>
                        <a:pt x="887833" y="422556"/>
                        <a:pt x="943181" y="469048"/>
                        <a:pt x="846667" y="372533"/>
                      </a:cubicBezTo>
                      <a:cubicBezTo>
                        <a:pt x="835378" y="338666"/>
                        <a:pt x="832602" y="300636"/>
                        <a:pt x="812800" y="270933"/>
                      </a:cubicBezTo>
                      <a:cubicBezTo>
                        <a:pt x="786233" y="231082"/>
                        <a:pt x="749006" y="198737"/>
                        <a:pt x="711200" y="169333"/>
                      </a:cubicBezTo>
                      <a:cubicBezTo>
                        <a:pt x="536524" y="33474"/>
                        <a:pt x="559693" y="51098"/>
                        <a:pt x="406400" y="0"/>
                      </a:cubicBezTo>
                      <a:cubicBezTo>
                        <a:pt x="361244" y="11289"/>
                        <a:pt x="313715" y="15532"/>
                        <a:pt x="270933" y="33867"/>
                      </a:cubicBezTo>
                      <a:cubicBezTo>
                        <a:pt x="53886" y="126887"/>
                        <a:pt x="173770" y="228415"/>
                        <a:pt x="203200" y="508000"/>
                      </a:cubicBezTo>
                      <a:cubicBezTo>
                        <a:pt x="230238" y="764856"/>
                        <a:pt x="168958" y="711013"/>
                        <a:pt x="304800" y="778933"/>
                      </a:cubicBezTo>
                    </a:path>
                  </a:pathLst>
                </a:custGeom>
                <a:solidFill>
                  <a:srgbClr val="f2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49" name=""/>
            <p:cNvGrpSpPr/>
            <p:nvPr/>
          </p:nvGrpSpPr>
          <p:grpSpPr>
            <a:xfrm>
              <a:off x="3449520" y="4124160"/>
              <a:ext cx="1198440" cy="471960"/>
              <a:chOff x="3449520" y="4124160"/>
              <a:chExt cx="1198440" cy="471960"/>
            </a:xfrm>
          </p:grpSpPr>
          <p:sp>
            <p:nvSpPr>
              <p:cNvPr id="750" name="任意多边形 276"/>
              <p:cNvSpPr/>
              <p:nvPr/>
            </p:nvSpPr>
            <p:spPr>
              <a:xfrm rot="17083800">
                <a:off x="3961440" y="3763080"/>
                <a:ext cx="174240" cy="1193400"/>
              </a:xfrm>
              <a:custGeom>
                <a:avLst/>
                <a:gdLst>
                  <a:gd name="textAreaLeft" fmla="*/ 0 w 174240"/>
                  <a:gd name="textAreaRight" fmla="*/ 174600 w 174240"/>
                  <a:gd name="textAreaTop" fmla="*/ 0 h 1193400"/>
                  <a:gd name="textAreaBottom" fmla="*/ 1193760 h 1193400"/>
                </a:gdLst>
                <a:ahLst/>
                <a:rect l="textAreaLeft" t="textAreaTop" r="textAreaRight" b="textAreaBottom"/>
                <a:pathLst>
                  <a:path w="2065867" h="4030133">
                    <a:moveTo>
                      <a:pt x="270933" y="677333"/>
                    </a:moveTo>
                    <a:cubicBezTo>
                      <a:pt x="259644" y="733778"/>
                      <a:pt x="257278" y="792770"/>
                      <a:pt x="237067" y="846667"/>
                    </a:cubicBezTo>
                    <a:cubicBezTo>
                      <a:pt x="222775" y="884778"/>
                      <a:pt x="187536" y="911861"/>
                      <a:pt x="169333" y="948267"/>
                    </a:cubicBezTo>
                    <a:cubicBezTo>
                      <a:pt x="153368" y="980197"/>
                      <a:pt x="146756" y="1016000"/>
                      <a:pt x="135467" y="1049867"/>
                    </a:cubicBezTo>
                    <a:cubicBezTo>
                      <a:pt x="124178" y="1128889"/>
                      <a:pt x="124537" y="1210475"/>
                      <a:pt x="101600" y="1286933"/>
                    </a:cubicBezTo>
                    <a:cubicBezTo>
                      <a:pt x="89904" y="1325919"/>
                      <a:pt x="52070" y="1352127"/>
                      <a:pt x="33867" y="1388533"/>
                    </a:cubicBezTo>
                    <a:cubicBezTo>
                      <a:pt x="17902" y="1420463"/>
                      <a:pt x="11289" y="1456266"/>
                      <a:pt x="0" y="1490133"/>
                    </a:cubicBezTo>
                    <a:cubicBezTo>
                      <a:pt x="11289" y="1648178"/>
                      <a:pt x="6331" y="1808231"/>
                      <a:pt x="33867" y="1964267"/>
                    </a:cubicBezTo>
                    <a:cubicBezTo>
                      <a:pt x="40941" y="2004350"/>
                      <a:pt x="77942" y="2032746"/>
                      <a:pt x="101600" y="2065867"/>
                    </a:cubicBezTo>
                    <a:cubicBezTo>
                      <a:pt x="134408" y="2111798"/>
                      <a:pt x="167065" y="2157971"/>
                      <a:pt x="203200" y="2201333"/>
                    </a:cubicBezTo>
                    <a:cubicBezTo>
                      <a:pt x="223641" y="2225862"/>
                      <a:pt x="253221" y="2242500"/>
                      <a:pt x="270933" y="2269067"/>
                    </a:cubicBezTo>
                    <a:cubicBezTo>
                      <a:pt x="298937" y="2311073"/>
                      <a:pt x="313619" y="2360700"/>
                      <a:pt x="338667" y="2404533"/>
                    </a:cubicBezTo>
                    <a:cubicBezTo>
                      <a:pt x="443708" y="2588354"/>
                      <a:pt x="378175" y="2421458"/>
                      <a:pt x="440267" y="2607733"/>
                    </a:cubicBezTo>
                    <a:cubicBezTo>
                      <a:pt x="451556" y="2686755"/>
                      <a:pt x="448890" y="2769072"/>
                      <a:pt x="474133" y="2844800"/>
                    </a:cubicBezTo>
                    <a:cubicBezTo>
                      <a:pt x="484230" y="2875091"/>
                      <a:pt x="525439" y="2885153"/>
                      <a:pt x="541867" y="2912533"/>
                    </a:cubicBezTo>
                    <a:cubicBezTo>
                      <a:pt x="692110" y="3162937"/>
                      <a:pt x="437916" y="2858793"/>
                      <a:pt x="643467" y="3115733"/>
                    </a:cubicBezTo>
                    <a:cubicBezTo>
                      <a:pt x="663413" y="3140666"/>
                      <a:pt x="691254" y="3158534"/>
                      <a:pt x="711200" y="3183467"/>
                    </a:cubicBezTo>
                    <a:cubicBezTo>
                      <a:pt x="736627" y="3215251"/>
                      <a:pt x="752130" y="3254435"/>
                      <a:pt x="778933" y="3285067"/>
                    </a:cubicBezTo>
                    <a:cubicBezTo>
                      <a:pt x="831498" y="3345141"/>
                      <a:pt x="900372" y="3390540"/>
                      <a:pt x="948267" y="3454400"/>
                    </a:cubicBezTo>
                    <a:cubicBezTo>
                      <a:pt x="982134" y="3499556"/>
                      <a:pt x="1019951" y="3542002"/>
                      <a:pt x="1049867" y="3589867"/>
                    </a:cubicBezTo>
                    <a:cubicBezTo>
                      <a:pt x="1076624" y="3632678"/>
                      <a:pt x="1089596" y="3683327"/>
                      <a:pt x="1117600" y="3725333"/>
                    </a:cubicBezTo>
                    <a:cubicBezTo>
                      <a:pt x="1164328" y="3795425"/>
                      <a:pt x="1222230" y="3809038"/>
                      <a:pt x="1286933" y="3860800"/>
                    </a:cubicBezTo>
                    <a:cubicBezTo>
                      <a:pt x="1311866" y="3880746"/>
                      <a:pt x="1328100" y="3910821"/>
                      <a:pt x="1354667" y="3928533"/>
                    </a:cubicBezTo>
                    <a:cubicBezTo>
                      <a:pt x="1438370" y="3984335"/>
                      <a:pt x="1501418" y="4000029"/>
                      <a:pt x="1591733" y="4030133"/>
                    </a:cubicBezTo>
                    <a:cubicBezTo>
                      <a:pt x="1670755" y="4018844"/>
                      <a:pt x="1753072" y="4021510"/>
                      <a:pt x="1828800" y="3996267"/>
                    </a:cubicBezTo>
                    <a:cubicBezTo>
                      <a:pt x="1947678" y="3956641"/>
                      <a:pt x="1962781" y="3628192"/>
                      <a:pt x="1964267" y="3623733"/>
                    </a:cubicBezTo>
                    <a:cubicBezTo>
                      <a:pt x="1977138" y="3585119"/>
                      <a:pt x="2013797" y="3558539"/>
                      <a:pt x="2032000" y="3522133"/>
                    </a:cubicBezTo>
                    <a:cubicBezTo>
                      <a:pt x="2047965" y="3490203"/>
                      <a:pt x="2054578" y="3454400"/>
                      <a:pt x="2065867" y="3420533"/>
                    </a:cubicBezTo>
                    <a:cubicBezTo>
                      <a:pt x="2054578" y="3318933"/>
                      <a:pt x="2052048" y="3215973"/>
                      <a:pt x="2032000" y="3115733"/>
                    </a:cubicBezTo>
                    <a:cubicBezTo>
                      <a:pt x="2017998" y="3045722"/>
                      <a:pt x="1964267" y="2912533"/>
                      <a:pt x="1964267" y="2912533"/>
                    </a:cubicBezTo>
                    <a:cubicBezTo>
                      <a:pt x="2045473" y="2668911"/>
                      <a:pt x="1946942" y="2973167"/>
                      <a:pt x="2032000" y="2675467"/>
                    </a:cubicBezTo>
                    <a:cubicBezTo>
                      <a:pt x="2041807" y="2641142"/>
                      <a:pt x="2054578" y="2607734"/>
                      <a:pt x="2065867" y="2573867"/>
                    </a:cubicBezTo>
                    <a:cubicBezTo>
                      <a:pt x="1988036" y="2340376"/>
                      <a:pt x="2048618" y="2421153"/>
                      <a:pt x="1930400" y="2302933"/>
                    </a:cubicBezTo>
                    <a:cubicBezTo>
                      <a:pt x="1919111" y="2257778"/>
                      <a:pt x="1909320" y="2212221"/>
                      <a:pt x="1896533" y="2167467"/>
                    </a:cubicBezTo>
                    <a:cubicBezTo>
                      <a:pt x="1886726" y="2133142"/>
                      <a:pt x="1868536" y="2101080"/>
                      <a:pt x="1862667" y="2065867"/>
                    </a:cubicBezTo>
                    <a:cubicBezTo>
                      <a:pt x="1846052" y="1966175"/>
                      <a:pt x="1835554" y="1713597"/>
                      <a:pt x="1794933" y="1591733"/>
                    </a:cubicBezTo>
                    <a:cubicBezTo>
                      <a:pt x="1778968" y="1543839"/>
                      <a:pt x="1753174" y="1499558"/>
                      <a:pt x="1727200" y="1456267"/>
                    </a:cubicBezTo>
                    <a:cubicBezTo>
                      <a:pt x="1685317" y="1386462"/>
                      <a:pt x="1591733" y="1253067"/>
                      <a:pt x="1591733" y="1253067"/>
                    </a:cubicBezTo>
                    <a:cubicBezTo>
                      <a:pt x="1555962" y="1145753"/>
                      <a:pt x="1565165" y="1143657"/>
                      <a:pt x="1490133" y="1049867"/>
                    </a:cubicBezTo>
                    <a:cubicBezTo>
                      <a:pt x="1470187" y="1024934"/>
                      <a:pt x="1442346" y="1007066"/>
                      <a:pt x="1422400" y="982133"/>
                    </a:cubicBezTo>
                    <a:cubicBezTo>
                      <a:pt x="1396973" y="950349"/>
                      <a:pt x="1380094" y="912316"/>
                      <a:pt x="1354667" y="880533"/>
                    </a:cubicBezTo>
                    <a:cubicBezTo>
                      <a:pt x="1334721" y="855600"/>
                      <a:pt x="1306879" y="837733"/>
                      <a:pt x="1286933" y="812800"/>
                    </a:cubicBezTo>
                    <a:cubicBezTo>
                      <a:pt x="1261506" y="781017"/>
                      <a:pt x="1246241" y="741622"/>
                      <a:pt x="1219200" y="711200"/>
                    </a:cubicBezTo>
                    <a:cubicBezTo>
                      <a:pt x="1155561" y="639606"/>
                      <a:pt x="1095702" y="561134"/>
                      <a:pt x="1016000" y="508000"/>
                    </a:cubicBezTo>
                    <a:cubicBezTo>
                      <a:pt x="887833" y="422556"/>
                      <a:pt x="943181" y="469048"/>
                      <a:pt x="846667" y="372533"/>
                    </a:cubicBezTo>
                    <a:cubicBezTo>
                      <a:pt x="835378" y="338666"/>
                      <a:pt x="832602" y="300636"/>
                      <a:pt x="812800" y="270933"/>
                    </a:cubicBezTo>
                    <a:cubicBezTo>
                      <a:pt x="786233" y="231082"/>
                      <a:pt x="749006" y="198737"/>
                      <a:pt x="711200" y="169333"/>
                    </a:cubicBezTo>
                    <a:cubicBezTo>
                      <a:pt x="536524" y="33474"/>
                      <a:pt x="559693" y="51098"/>
                      <a:pt x="406400" y="0"/>
                    </a:cubicBezTo>
                    <a:cubicBezTo>
                      <a:pt x="361244" y="11289"/>
                      <a:pt x="313715" y="15532"/>
                      <a:pt x="270933" y="33867"/>
                    </a:cubicBezTo>
                    <a:cubicBezTo>
                      <a:pt x="53886" y="126887"/>
                      <a:pt x="173770" y="228415"/>
                      <a:pt x="203200" y="508000"/>
                    </a:cubicBezTo>
                    <a:cubicBezTo>
                      <a:pt x="230238" y="764856"/>
                      <a:pt x="168958" y="711013"/>
                      <a:pt x="304800" y="778933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1" name="任意多边形 277"/>
              <p:cNvSpPr/>
              <p:nvPr/>
            </p:nvSpPr>
            <p:spPr>
              <a:xfrm rot="17729400">
                <a:off x="3872880" y="4047120"/>
                <a:ext cx="154440" cy="593640"/>
              </a:xfrm>
              <a:custGeom>
                <a:avLst/>
                <a:gdLst>
                  <a:gd name="textAreaLeft" fmla="*/ 0 w 154440"/>
                  <a:gd name="textAreaRight" fmla="*/ 154800 w 154440"/>
                  <a:gd name="textAreaTop" fmla="*/ 0 h 593640"/>
                  <a:gd name="textAreaBottom" fmla="*/ 594000 h 593640"/>
                </a:gdLst>
                <a:ahLst/>
                <a:rect l="textAreaLeft" t="textAreaTop" r="textAreaRight" b="textAreaBottom"/>
                <a:pathLst>
                  <a:path w="2065867" h="4030133">
                    <a:moveTo>
                      <a:pt x="270933" y="677333"/>
                    </a:moveTo>
                    <a:cubicBezTo>
                      <a:pt x="259644" y="733778"/>
                      <a:pt x="257278" y="792770"/>
                      <a:pt x="237067" y="846667"/>
                    </a:cubicBezTo>
                    <a:cubicBezTo>
                      <a:pt x="222775" y="884778"/>
                      <a:pt x="187536" y="911861"/>
                      <a:pt x="169333" y="948267"/>
                    </a:cubicBezTo>
                    <a:cubicBezTo>
                      <a:pt x="153368" y="980197"/>
                      <a:pt x="146756" y="1016000"/>
                      <a:pt x="135467" y="1049867"/>
                    </a:cubicBezTo>
                    <a:cubicBezTo>
                      <a:pt x="124178" y="1128889"/>
                      <a:pt x="124537" y="1210475"/>
                      <a:pt x="101600" y="1286933"/>
                    </a:cubicBezTo>
                    <a:cubicBezTo>
                      <a:pt x="89904" y="1325919"/>
                      <a:pt x="52070" y="1352127"/>
                      <a:pt x="33867" y="1388533"/>
                    </a:cubicBezTo>
                    <a:cubicBezTo>
                      <a:pt x="17902" y="1420463"/>
                      <a:pt x="11289" y="1456266"/>
                      <a:pt x="0" y="1490133"/>
                    </a:cubicBezTo>
                    <a:cubicBezTo>
                      <a:pt x="11289" y="1648178"/>
                      <a:pt x="6331" y="1808231"/>
                      <a:pt x="33867" y="1964267"/>
                    </a:cubicBezTo>
                    <a:cubicBezTo>
                      <a:pt x="40941" y="2004350"/>
                      <a:pt x="77942" y="2032746"/>
                      <a:pt x="101600" y="2065867"/>
                    </a:cubicBezTo>
                    <a:cubicBezTo>
                      <a:pt x="134408" y="2111798"/>
                      <a:pt x="167065" y="2157971"/>
                      <a:pt x="203200" y="2201333"/>
                    </a:cubicBezTo>
                    <a:cubicBezTo>
                      <a:pt x="223641" y="2225862"/>
                      <a:pt x="253221" y="2242500"/>
                      <a:pt x="270933" y="2269067"/>
                    </a:cubicBezTo>
                    <a:cubicBezTo>
                      <a:pt x="298937" y="2311073"/>
                      <a:pt x="313619" y="2360700"/>
                      <a:pt x="338667" y="2404533"/>
                    </a:cubicBezTo>
                    <a:cubicBezTo>
                      <a:pt x="443708" y="2588354"/>
                      <a:pt x="378175" y="2421458"/>
                      <a:pt x="440267" y="2607733"/>
                    </a:cubicBezTo>
                    <a:cubicBezTo>
                      <a:pt x="451556" y="2686755"/>
                      <a:pt x="448890" y="2769072"/>
                      <a:pt x="474133" y="2844800"/>
                    </a:cubicBezTo>
                    <a:cubicBezTo>
                      <a:pt x="484230" y="2875091"/>
                      <a:pt x="525439" y="2885153"/>
                      <a:pt x="541867" y="2912533"/>
                    </a:cubicBezTo>
                    <a:cubicBezTo>
                      <a:pt x="692110" y="3162937"/>
                      <a:pt x="437916" y="2858793"/>
                      <a:pt x="643467" y="3115733"/>
                    </a:cubicBezTo>
                    <a:cubicBezTo>
                      <a:pt x="663413" y="3140666"/>
                      <a:pt x="691254" y="3158534"/>
                      <a:pt x="711200" y="3183467"/>
                    </a:cubicBezTo>
                    <a:cubicBezTo>
                      <a:pt x="736627" y="3215251"/>
                      <a:pt x="752130" y="3254435"/>
                      <a:pt x="778933" y="3285067"/>
                    </a:cubicBezTo>
                    <a:cubicBezTo>
                      <a:pt x="831498" y="3345141"/>
                      <a:pt x="900372" y="3390540"/>
                      <a:pt x="948267" y="3454400"/>
                    </a:cubicBezTo>
                    <a:cubicBezTo>
                      <a:pt x="982134" y="3499556"/>
                      <a:pt x="1019951" y="3542002"/>
                      <a:pt x="1049867" y="3589867"/>
                    </a:cubicBezTo>
                    <a:cubicBezTo>
                      <a:pt x="1076624" y="3632678"/>
                      <a:pt x="1089596" y="3683327"/>
                      <a:pt x="1117600" y="3725333"/>
                    </a:cubicBezTo>
                    <a:cubicBezTo>
                      <a:pt x="1164328" y="3795425"/>
                      <a:pt x="1222230" y="3809038"/>
                      <a:pt x="1286933" y="3860800"/>
                    </a:cubicBezTo>
                    <a:cubicBezTo>
                      <a:pt x="1311866" y="3880746"/>
                      <a:pt x="1328100" y="3910821"/>
                      <a:pt x="1354667" y="3928533"/>
                    </a:cubicBezTo>
                    <a:cubicBezTo>
                      <a:pt x="1438370" y="3984335"/>
                      <a:pt x="1501418" y="4000029"/>
                      <a:pt x="1591733" y="4030133"/>
                    </a:cubicBezTo>
                    <a:cubicBezTo>
                      <a:pt x="1670755" y="4018844"/>
                      <a:pt x="1753072" y="4021510"/>
                      <a:pt x="1828800" y="3996267"/>
                    </a:cubicBezTo>
                    <a:cubicBezTo>
                      <a:pt x="1947678" y="3956641"/>
                      <a:pt x="1962781" y="3628192"/>
                      <a:pt x="1964267" y="3623733"/>
                    </a:cubicBezTo>
                    <a:cubicBezTo>
                      <a:pt x="1977138" y="3585119"/>
                      <a:pt x="2013797" y="3558539"/>
                      <a:pt x="2032000" y="3522133"/>
                    </a:cubicBezTo>
                    <a:cubicBezTo>
                      <a:pt x="2047965" y="3490203"/>
                      <a:pt x="2054578" y="3454400"/>
                      <a:pt x="2065867" y="3420533"/>
                    </a:cubicBezTo>
                    <a:cubicBezTo>
                      <a:pt x="2054578" y="3318933"/>
                      <a:pt x="2052048" y="3215973"/>
                      <a:pt x="2032000" y="3115733"/>
                    </a:cubicBezTo>
                    <a:cubicBezTo>
                      <a:pt x="2017998" y="3045722"/>
                      <a:pt x="1964267" y="2912533"/>
                      <a:pt x="1964267" y="2912533"/>
                    </a:cubicBezTo>
                    <a:cubicBezTo>
                      <a:pt x="2045473" y="2668911"/>
                      <a:pt x="1946942" y="2973167"/>
                      <a:pt x="2032000" y="2675467"/>
                    </a:cubicBezTo>
                    <a:cubicBezTo>
                      <a:pt x="2041807" y="2641142"/>
                      <a:pt x="2054578" y="2607734"/>
                      <a:pt x="2065867" y="2573867"/>
                    </a:cubicBezTo>
                    <a:cubicBezTo>
                      <a:pt x="1988036" y="2340376"/>
                      <a:pt x="2048618" y="2421153"/>
                      <a:pt x="1930400" y="2302933"/>
                    </a:cubicBezTo>
                    <a:cubicBezTo>
                      <a:pt x="1919111" y="2257778"/>
                      <a:pt x="1909320" y="2212221"/>
                      <a:pt x="1896533" y="2167467"/>
                    </a:cubicBezTo>
                    <a:cubicBezTo>
                      <a:pt x="1886726" y="2133142"/>
                      <a:pt x="1868536" y="2101080"/>
                      <a:pt x="1862667" y="2065867"/>
                    </a:cubicBezTo>
                    <a:cubicBezTo>
                      <a:pt x="1846052" y="1966175"/>
                      <a:pt x="1835554" y="1713597"/>
                      <a:pt x="1794933" y="1591733"/>
                    </a:cubicBezTo>
                    <a:cubicBezTo>
                      <a:pt x="1778968" y="1543839"/>
                      <a:pt x="1753174" y="1499558"/>
                      <a:pt x="1727200" y="1456267"/>
                    </a:cubicBezTo>
                    <a:cubicBezTo>
                      <a:pt x="1685317" y="1386462"/>
                      <a:pt x="1591733" y="1253067"/>
                      <a:pt x="1591733" y="1253067"/>
                    </a:cubicBezTo>
                    <a:cubicBezTo>
                      <a:pt x="1555962" y="1145753"/>
                      <a:pt x="1565165" y="1143657"/>
                      <a:pt x="1490133" y="1049867"/>
                    </a:cubicBezTo>
                    <a:cubicBezTo>
                      <a:pt x="1470187" y="1024934"/>
                      <a:pt x="1442346" y="1007066"/>
                      <a:pt x="1422400" y="982133"/>
                    </a:cubicBezTo>
                    <a:cubicBezTo>
                      <a:pt x="1396973" y="950349"/>
                      <a:pt x="1380094" y="912316"/>
                      <a:pt x="1354667" y="880533"/>
                    </a:cubicBezTo>
                    <a:cubicBezTo>
                      <a:pt x="1334721" y="855600"/>
                      <a:pt x="1306879" y="837733"/>
                      <a:pt x="1286933" y="812800"/>
                    </a:cubicBezTo>
                    <a:cubicBezTo>
                      <a:pt x="1261506" y="781017"/>
                      <a:pt x="1246241" y="741622"/>
                      <a:pt x="1219200" y="711200"/>
                    </a:cubicBezTo>
                    <a:cubicBezTo>
                      <a:pt x="1155561" y="639606"/>
                      <a:pt x="1095702" y="561134"/>
                      <a:pt x="1016000" y="508000"/>
                    </a:cubicBezTo>
                    <a:cubicBezTo>
                      <a:pt x="887833" y="422556"/>
                      <a:pt x="943181" y="469048"/>
                      <a:pt x="846667" y="372533"/>
                    </a:cubicBezTo>
                    <a:cubicBezTo>
                      <a:pt x="835378" y="338666"/>
                      <a:pt x="832602" y="300636"/>
                      <a:pt x="812800" y="270933"/>
                    </a:cubicBezTo>
                    <a:cubicBezTo>
                      <a:pt x="786233" y="231082"/>
                      <a:pt x="749006" y="198737"/>
                      <a:pt x="711200" y="169333"/>
                    </a:cubicBezTo>
                    <a:cubicBezTo>
                      <a:pt x="536524" y="33474"/>
                      <a:pt x="559693" y="51098"/>
                      <a:pt x="406400" y="0"/>
                    </a:cubicBezTo>
                    <a:cubicBezTo>
                      <a:pt x="361244" y="11289"/>
                      <a:pt x="313715" y="15532"/>
                      <a:pt x="270933" y="33867"/>
                    </a:cubicBezTo>
                    <a:cubicBezTo>
                      <a:pt x="53886" y="126887"/>
                      <a:pt x="173770" y="228415"/>
                      <a:pt x="203200" y="508000"/>
                    </a:cubicBezTo>
                    <a:cubicBezTo>
                      <a:pt x="230238" y="764856"/>
                      <a:pt x="168958" y="711013"/>
                      <a:pt x="304800" y="778933"/>
                    </a:cubicBezTo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752" name="Picture 3" descr=""/>
          <p:cNvPicPr/>
          <p:nvPr/>
        </p:nvPicPr>
        <p:blipFill>
          <a:blip r:embed="rId5"/>
          <a:stretch/>
        </p:blipFill>
        <p:spPr>
          <a:xfrm>
            <a:off x="4665600" y="3363840"/>
            <a:ext cx="3005280" cy="1139760"/>
          </a:xfrm>
          <a:prstGeom prst="rect">
            <a:avLst/>
          </a:prstGeom>
          <a:ln w="0">
            <a:noFill/>
          </a:ln>
        </p:spPr>
      </p:pic>
      <p:sp>
        <p:nvSpPr>
          <p:cNvPr id="753" name="五角星 273"/>
          <p:cNvSpPr/>
          <p:nvPr/>
        </p:nvSpPr>
        <p:spPr>
          <a:xfrm>
            <a:off x="1087560" y="195120"/>
            <a:ext cx="3268440" cy="3113280"/>
          </a:xfrm>
          <a:prstGeom prst="star5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五角星 274"/>
          <p:cNvSpPr/>
          <p:nvPr/>
        </p:nvSpPr>
        <p:spPr>
          <a:xfrm>
            <a:off x="3854520" y="1440000"/>
            <a:ext cx="1869840" cy="1779480"/>
          </a:xfrm>
          <a:prstGeom prst="star5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5" name=""/>
          <p:cNvGrpSpPr/>
          <p:nvPr/>
        </p:nvGrpSpPr>
        <p:grpSpPr>
          <a:xfrm>
            <a:off x="9709560" y="4035600"/>
            <a:ext cx="4633560" cy="2773800"/>
            <a:chOff x="9709560" y="4035600"/>
            <a:chExt cx="4633560" cy="2773800"/>
          </a:xfrm>
        </p:grpSpPr>
        <p:sp>
          <p:nvSpPr>
            <p:cNvPr id="756" name="任意多边形 279"/>
            <p:cNvSpPr/>
            <p:nvPr/>
          </p:nvSpPr>
          <p:spPr>
            <a:xfrm flipH="1" rot="17158800">
              <a:off x="11206080" y="3247200"/>
              <a:ext cx="1639440" cy="4350240"/>
            </a:xfrm>
            <a:custGeom>
              <a:avLst/>
              <a:gdLst>
                <a:gd name="textAreaLeft" fmla="*/ 360 w 1639440"/>
                <a:gd name="textAreaRight" fmla="*/ 1640160 w 1639440"/>
                <a:gd name="textAreaTop" fmla="*/ 0 h 4350240"/>
                <a:gd name="textAreaBottom" fmla="*/ 4350600 h 4350240"/>
              </a:gdLst>
              <a:ahLst/>
              <a:rect l="textAreaLeft" t="textAreaTop" r="textAreaRight" b="textAreaBottom"/>
              <a:pathLst>
                <a:path w="1639957" h="2484967">
                  <a:moveTo>
                    <a:pt x="1123122" y="30002"/>
                  </a:moveTo>
                  <a:cubicBezTo>
                    <a:pt x="1065144" y="38285"/>
                    <a:pt x="1087699" y="39175"/>
                    <a:pt x="1073426" y="49880"/>
                  </a:cubicBezTo>
                  <a:cubicBezTo>
                    <a:pt x="1060174" y="59819"/>
                    <a:pt x="1055322" y="77924"/>
                    <a:pt x="1043609" y="89637"/>
                  </a:cubicBezTo>
                  <a:cubicBezTo>
                    <a:pt x="1035162" y="98084"/>
                    <a:pt x="1023730" y="102889"/>
                    <a:pt x="1013791" y="109515"/>
                  </a:cubicBezTo>
                  <a:cubicBezTo>
                    <a:pt x="999298" y="128839"/>
                    <a:pt x="983837" y="153357"/>
                    <a:pt x="964096" y="169150"/>
                  </a:cubicBezTo>
                  <a:cubicBezTo>
                    <a:pt x="954768" y="176612"/>
                    <a:pt x="945610" y="185251"/>
                    <a:pt x="934278" y="189028"/>
                  </a:cubicBezTo>
                  <a:cubicBezTo>
                    <a:pt x="915160" y="195401"/>
                    <a:pt x="894521" y="195654"/>
                    <a:pt x="874643" y="198967"/>
                  </a:cubicBezTo>
                  <a:cubicBezTo>
                    <a:pt x="852188" y="266331"/>
                    <a:pt x="886496" y="193040"/>
                    <a:pt x="795130" y="238724"/>
                  </a:cubicBezTo>
                  <a:cubicBezTo>
                    <a:pt x="785759" y="243409"/>
                    <a:pt x="789876" y="259170"/>
                    <a:pt x="785191" y="268541"/>
                  </a:cubicBezTo>
                  <a:cubicBezTo>
                    <a:pt x="760872" y="317179"/>
                    <a:pt x="773165" y="281263"/>
                    <a:pt x="745435" y="318237"/>
                  </a:cubicBezTo>
                  <a:cubicBezTo>
                    <a:pt x="731101" y="337349"/>
                    <a:pt x="718930" y="357993"/>
                    <a:pt x="705678" y="377871"/>
                  </a:cubicBezTo>
                  <a:lnTo>
                    <a:pt x="685800" y="407689"/>
                  </a:lnTo>
                  <a:cubicBezTo>
                    <a:pt x="682487" y="420941"/>
                    <a:pt x="681970" y="435227"/>
                    <a:pt x="675861" y="447445"/>
                  </a:cubicBezTo>
                  <a:cubicBezTo>
                    <a:pt x="671670" y="455827"/>
                    <a:pt x="658256" y="458233"/>
                    <a:pt x="655983" y="467324"/>
                  </a:cubicBezTo>
                  <a:cubicBezTo>
                    <a:pt x="644619" y="512778"/>
                    <a:pt x="650920" y="562022"/>
                    <a:pt x="636104" y="606471"/>
                  </a:cubicBezTo>
                  <a:cubicBezTo>
                    <a:pt x="629478" y="626349"/>
                    <a:pt x="636773" y="661997"/>
                    <a:pt x="616226" y="666106"/>
                  </a:cubicBezTo>
                  <a:cubicBezTo>
                    <a:pt x="543558" y="680639"/>
                    <a:pt x="583254" y="673656"/>
                    <a:pt x="496957" y="685984"/>
                  </a:cubicBezTo>
                  <a:cubicBezTo>
                    <a:pt x="490331" y="692610"/>
                    <a:pt x="481899" y="697827"/>
                    <a:pt x="477078" y="705863"/>
                  </a:cubicBezTo>
                  <a:cubicBezTo>
                    <a:pt x="471688" y="714847"/>
                    <a:pt x="471824" y="726309"/>
                    <a:pt x="467139" y="735680"/>
                  </a:cubicBezTo>
                  <a:cubicBezTo>
                    <a:pt x="461797" y="746364"/>
                    <a:pt x="453887" y="755558"/>
                    <a:pt x="447261" y="765497"/>
                  </a:cubicBezTo>
                  <a:cubicBezTo>
                    <a:pt x="443948" y="845010"/>
                    <a:pt x="445800" y="924908"/>
                    <a:pt x="437322" y="1004037"/>
                  </a:cubicBezTo>
                  <a:cubicBezTo>
                    <a:pt x="435744" y="1018769"/>
                    <a:pt x="423280" y="1030175"/>
                    <a:pt x="417443" y="1043793"/>
                  </a:cubicBezTo>
                  <a:cubicBezTo>
                    <a:pt x="413316" y="1053422"/>
                    <a:pt x="412189" y="1064239"/>
                    <a:pt x="407504" y="1073610"/>
                  </a:cubicBezTo>
                  <a:cubicBezTo>
                    <a:pt x="400236" y="1088147"/>
                    <a:pt x="364566" y="1134175"/>
                    <a:pt x="357809" y="1143184"/>
                  </a:cubicBezTo>
                  <a:cubicBezTo>
                    <a:pt x="331534" y="1222012"/>
                    <a:pt x="371232" y="1117732"/>
                    <a:pt x="318052" y="1202819"/>
                  </a:cubicBezTo>
                  <a:cubicBezTo>
                    <a:pt x="308596" y="1217948"/>
                    <a:pt x="305420" y="1236211"/>
                    <a:pt x="298174" y="1252515"/>
                  </a:cubicBezTo>
                  <a:cubicBezTo>
                    <a:pt x="292157" y="1266054"/>
                    <a:pt x="284132" y="1278653"/>
                    <a:pt x="278296" y="1292271"/>
                  </a:cubicBezTo>
                  <a:cubicBezTo>
                    <a:pt x="274169" y="1301901"/>
                    <a:pt x="273042" y="1312718"/>
                    <a:pt x="268357" y="1322089"/>
                  </a:cubicBezTo>
                  <a:cubicBezTo>
                    <a:pt x="263015" y="1332773"/>
                    <a:pt x="254405" y="1341535"/>
                    <a:pt x="248478" y="1351906"/>
                  </a:cubicBezTo>
                  <a:cubicBezTo>
                    <a:pt x="241127" y="1364770"/>
                    <a:pt x="234436" y="1378044"/>
                    <a:pt x="228600" y="1391663"/>
                  </a:cubicBezTo>
                  <a:cubicBezTo>
                    <a:pt x="224473" y="1401293"/>
                    <a:pt x="224472" y="1412763"/>
                    <a:pt x="218661" y="1421480"/>
                  </a:cubicBezTo>
                  <a:cubicBezTo>
                    <a:pt x="210864" y="1433175"/>
                    <a:pt x="198782" y="1441358"/>
                    <a:pt x="188843" y="1451297"/>
                  </a:cubicBezTo>
                  <a:cubicBezTo>
                    <a:pt x="174622" y="1493962"/>
                    <a:pt x="171023" y="1514129"/>
                    <a:pt x="149087" y="1550689"/>
                  </a:cubicBezTo>
                  <a:cubicBezTo>
                    <a:pt x="136795" y="1571175"/>
                    <a:pt x="109330" y="1610324"/>
                    <a:pt x="109330" y="1610324"/>
                  </a:cubicBezTo>
                  <a:cubicBezTo>
                    <a:pt x="106017" y="1626889"/>
                    <a:pt x="106946" y="1644909"/>
                    <a:pt x="99391" y="1660019"/>
                  </a:cubicBezTo>
                  <a:cubicBezTo>
                    <a:pt x="53203" y="1752395"/>
                    <a:pt x="80699" y="1635397"/>
                    <a:pt x="59635" y="1719654"/>
                  </a:cubicBezTo>
                  <a:cubicBezTo>
                    <a:pt x="55538" y="1736043"/>
                    <a:pt x="54141" y="1753052"/>
                    <a:pt x="49696" y="1769350"/>
                  </a:cubicBezTo>
                  <a:cubicBezTo>
                    <a:pt x="44183" y="1789565"/>
                    <a:pt x="36443" y="1809106"/>
                    <a:pt x="29817" y="1828984"/>
                  </a:cubicBezTo>
                  <a:cubicBezTo>
                    <a:pt x="26504" y="1838923"/>
                    <a:pt x="21933" y="1848529"/>
                    <a:pt x="19878" y="1858802"/>
                  </a:cubicBezTo>
                  <a:cubicBezTo>
                    <a:pt x="7884" y="1918770"/>
                    <a:pt x="15281" y="1892471"/>
                    <a:pt x="0" y="1938315"/>
                  </a:cubicBezTo>
                  <a:cubicBezTo>
                    <a:pt x="3313" y="1994637"/>
                    <a:pt x="4590" y="2051115"/>
                    <a:pt x="9939" y="2107280"/>
                  </a:cubicBezTo>
                  <a:cubicBezTo>
                    <a:pt x="11234" y="2120879"/>
                    <a:pt x="14497" y="2134481"/>
                    <a:pt x="19878" y="2147037"/>
                  </a:cubicBezTo>
                  <a:cubicBezTo>
                    <a:pt x="24584" y="2158017"/>
                    <a:pt x="33131" y="2166915"/>
                    <a:pt x="39757" y="2176854"/>
                  </a:cubicBezTo>
                  <a:cubicBezTo>
                    <a:pt x="63587" y="2248344"/>
                    <a:pt x="34675" y="2159067"/>
                    <a:pt x="59635" y="2246428"/>
                  </a:cubicBezTo>
                  <a:cubicBezTo>
                    <a:pt x="62513" y="2256502"/>
                    <a:pt x="66696" y="2266171"/>
                    <a:pt x="69574" y="2276245"/>
                  </a:cubicBezTo>
                  <a:cubicBezTo>
                    <a:pt x="73327" y="2289380"/>
                    <a:pt x="74132" y="2303446"/>
                    <a:pt x="79513" y="2316002"/>
                  </a:cubicBezTo>
                  <a:cubicBezTo>
                    <a:pt x="84218" y="2326981"/>
                    <a:pt x="93464" y="2335448"/>
                    <a:pt x="99391" y="2345819"/>
                  </a:cubicBezTo>
                  <a:cubicBezTo>
                    <a:pt x="106742" y="2358683"/>
                    <a:pt x="111647" y="2372871"/>
                    <a:pt x="119270" y="2385576"/>
                  </a:cubicBezTo>
                  <a:cubicBezTo>
                    <a:pt x="131562" y="2406062"/>
                    <a:pt x="142133" y="2428317"/>
                    <a:pt x="159026" y="2445210"/>
                  </a:cubicBezTo>
                  <a:lnTo>
                    <a:pt x="198783" y="2484967"/>
                  </a:lnTo>
                  <a:cubicBezTo>
                    <a:pt x="304800" y="2481654"/>
                    <a:pt x="411095" y="2483376"/>
                    <a:pt x="516835" y="2475028"/>
                  </a:cubicBezTo>
                  <a:cubicBezTo>
                    <a:pt x="537724" y="2473379"/>
                    <a:pt x="576470" y="2455150"/>
                    <a:pt x="576470" y="2455150"/>
                  </a:cubicBezTo>
                  <a:cubicBezTo>
                    <a:pt x="647994" y="2407465"/>
                    <a:pt x="559932" y="2474990"/>
                    <a:pt x="626165" y="2375637"/>
                  </a:cubicBezTo>
                  <a:cubicBezTo>
                    <a:pt x="632791" y="2365698"/>
                    <a:pt x="638581" y="2355147"/>
                    <a:pt x="646043" y="2345819"/>
                  </a:cubicBezTo>
                  <a:cubicBezTo>
                    <a:pt x="702699" y="2275000"/>
                    <a:pt x="624611" y="2387907"/>
                    <a:pt x="685800" y="2296124"/>
                  </a:cubicBezTo>
                  <a:cubicBezTo>
                    <a:pt x="687657" y="2288698"/>
                    <a:pt x="699567" y="2236735"/>
                    <a:pt x="705678" y="2226550"/>
                  </a:cubicBezTo>
                  <a:cubicBezTo>
                    <a:pt x="710499" y="2218514"/>
                    <a:pt x="719703" y="2213989"/>
                    <a:pt x="725557" y="2206671"/>
                  </a:cubicBezTo>
                  <a:cubicBezTo>
                    <a:pt x="763534" y="2159200"/>
                    <a:pt x="730881" y="2196024"/>
                    <a:pt x="755374" y="2147037"/>
                  </a:cubicBezTo>
                  <a:cubicBezTo>
                    <a:pt x="784412" y="2088959"/>
                    <a:pt x="768537" y="2145691"/>
                    <a:pt x="785191" y="2087402"/>
                  </a:cubicBezTo>
                  <a:cubicBezTo>
                    <a:pt x="795993" y="2049596"/>
                    <a:pt x="793735" y="2014982"/>
                    <a:pt x="844826" y="1997950"/>
                  </a:cubicBezTo>
                  <a:cubicBezTo>
                    <a:pt x="915623" y="1974349"/>
                    <a:pt x="864197" y="1988814"/>
                    <a:pt x="1003852" y="1978071"/>
                  </a:cubicBezTo>
                  <a:cubicBezTo>
                    <a:pt x="1013791" y="1971445"/>
                    <a:pt x="1022986" y="1963535"/>
                    <a:pt x="1033670" y="1958193"/>
                  </a:cubicBezTo>
                  <a:cubicBezTo>
                    <a:pt x="1043041" y="1953508"/>
                    <a:pt x="1055106" y="1954540"/>
                    <a:pt x="1063487" y="1948254"/>
                  </a:cubicBezTo>
                  <a:cubicBezTo>
                    <a:pt x="1102249" y="1919182"/>
                    <a:pt x="1110070" y="1903227"/>
                    <a:pt x="1133061" y="1868741"/>
                  </a:cubicBezTo>
                  <a:cubicBezTo>
                    <a:pt x="1136210" y="1840400"/>
                    <a:pt x="1136288" y="1782773"/>
                    <a:pt x="1152939" y="1749471"/>
                  </a:cubicBezTo>
                  <a:cubicBezTo>
                    <a:pt x="1160764" y="1733820"/>
                    <a:pt x="1177903" y="1710871"/>
                    <a:pt x="1192696" y="1699776"/>
                  </a:cubicBezTo>
                  <a:cubicBezTo>
                    <a:pt x="1211808" y="1685442"/>
                    <a:pt x="1235437" y="1676912"/>
                    <a:pt x="1252330" y="1660019"/>
                  </a:cubicBezTo>
                  <a:cubicBezTo>
                    <a:pt x="1268895" y="1643454"/>
                    <a:pt x="1282534" y="1623319"/>
                    <a:pt x="1302026" y="1610324"/>
                  </a:cubicBezTo>
                  <a:lnTo>
                    <a:pt x="1361661" y="1570567"/>
                  </a:lnTo>
                  <a:cubicBezTo>
                    <a:pt x="1371600" y="1563941"/>
                    <a:pt x="1383031" y="1559136"/>
                    <a:pt x="1391478" y="1550689"/>
                  </a:cubicBezTo>
                  <a:cubicBezTo>
                    <a:pt x="1398104" y="1544063"/>
                    <a:pt x="1402975" y="1535001"/>
                    <a:pt x="1411357" y="1530810"/>
                  </a:cubicBezTo>
                  <a:cubicBezTo>
                    <a:pt x="1435555" y="1518711"/>
                    <a:pt x="1482214" y="1508126"/>
                    <a:pt x="1510748" y="1500993"/>
                  </a:cubicBezTo>
                  <a:cubicBezTo>
                    <a:pt x="1530626" y="1487741"/>
                    <a:pt x="1562828" y="1483902"/>
                    <a:pt x="1570383" y="1461237"/>
                  </a:cubicBezTo>
                  <a:cubicBezTo>
                    <a:pt x="1573696" y="1451298"/>
                    <a:pt x="1572914" y="1438827"/>
                    <a:pt x="1580322" y="1431419"/>
                  </a:cubicBezTo>
                  <a:cubicBezTo>
                    <a:pt x="1597215" y="1414526"/>
                    <a:pt x="1639957" y="1391663"/>
                    <a:pt x="1639957" y="1391663"/>
                  </a:cubicBezTo>
                  <a:cubicBezTo>
                    <a:pt x="1636644" y="1358532"/>
                    <a:pt x="1635080" y="1325180"/>
                    <a:pt x="1630017" y="1292271"/>
                  </a:cubicBezTo>
                  <a:cubicBezTo>
                    <a:pt x="1628424" y="1281916"/>
                    <a:pt x="1626364" y="1270835"/>
                    <a:pt x="1620078" y="1262454"/>
                  </a:cubicBezTo>
                  <a:cubicBezTo>
                    <a:pt x="1586782" y="1218059"/>
                    <a:pt x="1555923" y="1203118"/>
                    <a:pt x="1510748" y="1173002"/>
                  </a:cubicBezTo>
                  <a:cubicBezTo>
                    <a:pt x="1500809" y="1166376"/>
                    <a:pt x="1489377" y="1161571"/>
                    <a:pt x="1480930" y="1153124"/>
                  </a:cubicBezTo>
                  <a:lnTo>
                    <a:pt x="1461052" y="1133245"/>
                  </a:lnTo>
                  <a:cubicBezTo>
                    <a:pt x="1473590" y="1032938"/>
                    <a:pt x="1462544" y="1079073"/>
                    <a:pt x="1490870" y="994097"/>
                  </a:cubicBezTo>
                  <a:lnTo>
                    <a:pt x="1500809" y="964280"/>
                  </a:lnTo>
                  <a:cubicBezTo>
                    <a:pt x="1497496" y="937776"/>
                    <a:pt x="1495648" y="911047"/>
                    <a:pt x="1490870" y="884767"/>
                  </a:cubicBezTo>
                  <a:cubicBezTo>
                    <a:pt x="1488996" y="874459"/>
                    <a:pt x="1489647" y="860761"/>
                    <a:pt x="1480930" y="854950"/>
                  </a:cubicBezTo>
                  <a:cubicBezTo>
                    <a:pt x="1466874" y="845579"/>
                    <a:pt x="1447800" y="848323"/>
                    <a:pt x="1431235" y="845010"/>
                  </a:cubicBezTo>
                  <a:cubicBezTo>
                    <a:pt x="1441174" y="838384"/>
                    <a:pt x="1454426" y="835071"/>
                    <a:pt x="1461052" y="825132"/>
                  </a:cubicBezTo>
                  <a:cubicBezTo>
                    <a:pt x="1468629" y="813766"/>
                    <a:pt x="1465610" y="797931"/>
                    <a:pt x="1470991" y="785376"/>
                  </a:cubicBezTo>
                  <a:cubicBezTo>
                    <a:pt x="1475697" y="774396"/>
                    <a:pt x="1484244" y="765497"/>
                    <a:pt x="1490870" y="755558"/>
                  </a:cubicBezTo>
                  <a:cubicBezTo>
                    <a:pt x="1494183" y="745619"/>
                    <a:pt x="1502532" y="736075"/>
                    <a:pt x="1500809" y="725741"/>
                  </a:cubicBezTo>
                  <a:cubicBezTo>
                    <a:pt x="1495520" y="694008"/>
                    <a:pt x="1474369" y="693737"/>
                    <a:pt x="1451113" y="685984"/>
                  </a:cubicBezTo>
                  <a:cubicBezTo>
                    <a:pt x="1431235" y="659480"/>
                    <a:pt x="1414905" y="629898"/>
                    <a:pt x="1391478" y="606471"/>
                  </a:cubicBezTo>
                  <a:cubicBezTo>
                    <a:pt x="1353214" y="568207"/>
                    <a:pt x="1369458" y="588349"/>
                    <a:pt x="1341783" y="546837"/>
                  </a:cubicBezTo>
                  <a:cubicBezTo>
                    <a:pt x="1364974" y="477263"/>
                    <a:pt x="1341783" y="493828"/>
                    <a:pt x="1391478" y="477263"/>
                  </a:cubicBezTo>
                  <a:cubicBezTo>
                    <a:pt x="1423970" y="379784"/>
                    <a:pt x="1371292" y="517480"/>
                    <a:pt x="1431235" y="427567"/>
                  </a:cubicBezTo>
                  <a:cubicBezTo>
                    <a:pt x="1438812" y="416201"/>
                    <a:pt x="1437421" y="400945"/>
                    <a:pt x="1441174" y="387810"/>
                  </a:cubicBezTo>
                  <a:cubicBezTo>
                    <a:pt x="1451461" y="351805"/>
                    <a:pt x="1449212" y="360845"/>
                    <a:pt x="1470991" y="328176"/>
                  </a:cubicBezTo>
                  <a:cubicBezTo>
                    <a:pt x="1477617" y="301672"/>
                    <a:pt x="1468138" y="263818"/>
                    <a:pt x="1490870" y="248663"/>
                  </a:cubicBezTo>
                  <a:lnTo>
                    <a:pt x="1550504" y="208906"/>
                  </a:lnTo>
                  <a:cubicBezTo>
                    <a:pt x="1557130" y="198967"/>
                    <a:pt x="1562921" y="188417"/>
                    <a:pt x="1570383" y="179089"/>
                  </a:cubicBezTo>
                  <a:cubicBezTo>
                    <a:pt x="1576237" y="171772"/>
                    <a:pt x="1586570" y="167823"/>
                    <a:pt x="1590261" y="159210"/>
                  </a:cubicBezTo>
                  <a:cubicBezTo>
                    <a:pt x="1596915" y="143683"/>
                    <a:pt x="1596887" y="126080"/>
                    <a:pt x="1600200" y="109515"/>
                  </a:cubicBezTo>
                  <a:cubicBezTo>
                    <a:pt x="1596887" y="86324"/>
                    <a:pt x="1602677" y="59807"/>
                    <a:pt x="1590261" y="39941"/>
                  </a:cubicBezTo>
                  <a:cubicBezTo>
                    <a:pt x="1583021" y="28357"/>
                    <a:pt x="1563060" y="35383"/>
                    <a:pt x="1550504" y="30002"/>
                  </a:cubicBezTo>
                  <a:cubicBezTo>
                    <a:pt x="1466662" y="-5930"/>
                    <a:pt x="1605941" y="4581"/>
                    <a:pt x="1421296" y="184"/>
                  </a:cubicBezTo>
                  <a:cubicBezTo>
                    <a:pt x="1315308" y="-2340"/>
                    <a:pt x="1181100" y="21719"/>
                    <a:pt x="1123122" y="3000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任意多边形 280"/>
            <p:cNvSpPr/>
            <p:nvPr/>
          </p:nvSpPr>
          <p:spPr>
            <a:xfrm flipH="1" rot="17762400">
              <a:off x="11152440" y="4354920"/>
              <a:ext cx="1172520" cy="1585440"/>
            </a:xfrm>
            <a:custGeom>
              <a:avLst/>
              <a:gdLst>
                <a:gd name="textAreaLeft" fmla="*/ 0 w 1172520"/>
                <a:gd name="textAreaRight" fmla="*/ 1172520 w 1172520"/>
                <a:gd name="textAreaTop" fmla="*/ 0 h 1585440"/>
                <a:gd name="textAreaBottom" fmla="*/ 1585800 h 1585440"/>
              </a:gdLst>
              <a:ahLst/>
              <a:rect l="textAreaLeft" t="textAreaTop" r="textAreaRight" b="textAreaBottom"/>
              <a:pathLst>
                <a:path w="1639957" h="2484967">
                  <a:moveTo>
                    <a:pt x="1123122" y="30002"/>
                  </a:moveTo>
                  <a:cubicBezTo>
                    <a:pt x="1065144" y="38285"/>
                    <a:pt x="1087699" y="39175"/>
                    <a:pt x="1073426" y="49880"/>
                  </a:cubicBezTo>
                  <a:cubicBezTo>
                    <a:pt x="1060174" y="59819"/>
                    <a:pt x="1055322" y="77924"/>
                    <a:pt x="1043609" y="89637"/>
                  </a:cubicBezTo>
                  <a:cubicBezTo>
                    <a:pt x="1035162" y="98084"/>
                    <a:pt x="1023730" y="102889"/>
                    <a:pt x="1013791" y="109515"/>
                  </a:cubicBezTo>
                  <a:cubicBezTo>
                    <a:pt x="999298" y="128839"/>
                    <a:pt x="983837" y="153357"/>
                    <a:pt x="964096" y="169150"/>
                  </a:cubicBezTo>
                  <a:cubicBezTo>
                    <a:pt x="954768" y="176612"/>
                    <a:pt x="945610" y="185251"/>
                    <a:pt x="934278" y="189028"/>
                  </a:cubicBezTo>
                  <a:cubicBezTo>
                    <a:pt x="915160" y="195401"/>
                    <a:pt x="894521" y="195654"/>
                    <a:pt x="874643" y="198967"/>
                  </a:cubicBezTo>
                  <a:cubicBezTo>
                    <a:pt x="852188" y="266331"/>
                    <a:pt x="886496" y="193040"/>
                    <a:pt x="795130" y="238724"/>
                  </a:cubicBezTo>
                  <a:cubicBezTo>
                    <a:pt x="785759" y="243409"/>
                    <a:pt x="789876" y="259170"/>
                    <a:pt x="785191" y="268541"/>
                  </a:cubicBezTo>
                  <a:cubicBezTo>
                    <a:pt x="760872" y="317179"/>
                    <a:pt x="773165" y="281263"/>
                    <a:pt x="745435" y="318237"/>
                  </a:cubicBezTo>
                  <a:cubicBezTo>
                    <a:pt x="731101" y="337349"/>
                    <a:pt x="718930" y="357993"/>
                    <a:pt x="705678" y="377871"/>
                  </a:cubicBezTo>
                  <a:lnTo>
                    <a:pt x="685800" y="407689"/>
                  </a:lnTo>
                  <a:cubicBezTo>
                    <a:pt x="682487" y="420941"/>
                    <a:pt x="681970" y="435227"/>
                    <a:pt x="675861" y="447445"/>
                  </a:cubicBezTo>
                  <a:cubicBezTo>
                    <a:pt x="671670" y="455827"/>
                    <a:pt x="658256" y="458233"/>
                    <a:pt x="655983" y="467324"/>
                  </a:cubicBezTo>
                  <a:cubicBezTo>
                    <a:pt x="644619" y="512778"/>
                    <a:pt x="650920" y="562022"/>
                    <a:pt x="636104" y="606471"/>
                  </a:cubicBezTo>
                  <a:cubicBezTo>
                    <a:pt x="629478" y="626349"/>
                    <a:pt x="636773" y="661997"/>
                    <a:pt x="616226" y="666106"/>
                  </a:cubicBezTo>
                  <a:cubicBezTo>
                    <a:pt x="543558" y="680639"/>
                    <a:pt x="583254" y="673656"/>
                    <a:pt x="496957" y="685984"/>
                  </a:cubicBezTo>
                  <a:cubicBezTo>
                    <a:pt x="490331" y="692610"/>
                    <a:pt x="481899" y="697827"/>
                    <a:pt x="477078" y="705863"/>
                  </a:cubicBezTo>
                  <a:cubicBezTo>
                    <a:pt x="471688" y="714847"/>
                    <a:pt x="471824" y="726309"/>
                    <a:pt x="467139" y="735680"/>
                  </a:cubicBezTo>
                  <a:cubicBezTo>
                    <a:pt x="461797" y="746364"/>
                    <a:pt x="453887" y="755558"/>
                    <a:pt x="447261" y="765497"/>
                  </a:cubicBezTo>
                  <a:cubicBezTo>
                    <a:pt x="443948" y="845010"/>
                    <a:pt x="445800" y="924908"/>
                    <a:pt x="437322" y="1004037"/>
                  </a:cubicBezTo>
                  <a:cubicBezTo>
                    <a:pt x="435744" y="1018769"/>
                    <a:pt x="423280" y="1030175"/>
                    <a:pt x="417443" y="1043793"/>
                  </a:cubicBezTo>
                  <a:cubicBezTo>
                    <a:pt x="413316" y="1053422"/>
                    <a:pt x="412189" y="1064239"/>
                    <a:pt x="407504" y="1073610"/>
                  </a:cubicBezTo>
                  <a:cubicBezTo>
                    <a:pt x="400236" y="1088147"/>
                    <a:pt x="364566" y="1134175"/>
                    <a:pt x="357809" y="1143184"/>
                  </a:cubicBezTo>
                  <a:cubicBezTo>
                    <a:pt x="331534" y="1222012"/>
                    <a:pt x="371232" y="1117732"/>
                    <a:pt x="318052" y="1202819"/>
                  </a:cubicBezTo>
                  <a:cubicBezTo>
                    <a:pt x="308596" y="1217948"/>
                    <a:pt x="305420" y="1236211"/>
                    <a:pt x="298174" y="1252515"/>
                  </a:cubicBezTo>
                  <a:cubicBezTo>
                    <a:pt x="292157" y="1266054"/>
                    <a:pt x="284132" y="1278653"/>
                    <a:pt x="278296" y="1292271"/>
                  </a:cubicBezTo>
                  <a:cubicBezTo>
                    <a:pt x="274169" y="1301901"/>
                    <a:pt x="273042" y="1312718"/>
                    <a:pt x="268357" y="1322089"/>
                  </a:cubicBezTo>
                  <a:cubicBezTo>
                    <a:pt x="263015" y="1332773"/>
                    <a:pt x="254405" y="1341535"/>
                    <a:pt x="248478" y="1351906"/>
                  </a:cubicBezTo>
                  <a:cubicBezTo>
                    <a:pt x="241127" y="1364770"/>
                    <a:pt x="234436" y="1378044"/>
                    <a:pt x="228600" y="1391663"/>
                  </a:cubicBezTo>
                  <a:cubicBezTo>
                    <a:pt x="224473" y="1401293"/>
                    <a:pt x="224472" y="1412763"/>
                    <a:pt x="218661" y="1421480"/>
                  </a:cubicBezTo>
                  <a:cubicBezTo>
                    <a:pt x="210864" y="1433175"/>
                    <a:pt x="198782" y="1441358"/>
                    <a:pt x="188843" y="1451297"/>
                  </a:cubicBezTo>
                  <a:cubicBezTo>
                    <a:pt x="174622" y="1493962"/>
                    <a:pt x="171023" y="1514129"/>
                    <a:pt x="149087" y="1550689"/>
                  </a:cubicBezTo>
                  <a:cubicBezTo>
                    <a:pt x="136795" y="1571175"/>
                    <a:pt x="109330" y="1610324"/>
                    <a:pt x="109330" y="1610324"/>
                  </a:cubicBezTo>
                  <a:cubicBezTo>
                    <a:pt x="106017" y="1626889"/>
                    <a:pt x="106946" y="1644909"/>
                    <a:pt x="99391" y="1660019"/>
                  </a:cubicBezTo>
                  <a:cubicBezTo>
                    <a:pt x="53203" y="1752395"/>
                    <a:pt x="80699" y="1635397"/>
                    <a:pt x="59635" y="1719654"/>
                  </a:cubicBezTo>
                  <a:cubicBezTo>
                    <a:pt x="55538" y="1736043"/>
                    <a:pt x="54141" y="1753052"/>
                    <a:pt x="49696" y="1769350"/>
                  </a:cubicBezTo>
                  <a:cubicBezTo>
                    <a:pt x="44183" y="1789565"/>
                    <a:pt x="36443" y="1809106"/>
                    <a:pt x="29817" y="1828984"/>
                  </a:cubicBezTo>
                  <a:cubicBezTo>
                    <a:pt x="26504" y="1838923"/>
                    <a:pt x="21933" y="1848529"/>
                    <a:pt x="19878" y="1858802"/>
                  </a:cubicBezTo>
                  <a:cubicBezTo>
                    <a:pt x="7884" y="1918770"/>
                    <a:pt x="15281" y="1892471"/>
                    <a:pt x="0" y="1938315"/>
                  </a:cubicBezTo>
                  <a:cubicBezTo>
                    <a:pt x="3313" y="1994637"/>
                    <a:pt x="4590" y="2051115"/>
                    <a:pt x="9939" y="2107280"/>
                  </a:cubicBezTo>
                  <a:cubicBezTo>
                    <a:pt x="11234" y="2120879"/>
                    <a:pt x="14497" y="2134481"/>
                    <a:pt x="19878" y="2147037"/>
                  </a:cubicBezTo>
                  <a:cubicBezTo>
                    <a:pt x="24584" y="2158017"/>
                    <a:pt x="33131" y="2166915"/>
                    <a:pt x="39757" y="2176854"/>
                  </a:cubicBezTo>
                  <a:cubicBezTo>
                    <a:pt x="63587" y="2248344"/>
                    <a:pt x="34675" y="2159067"/>
                    <a:pt x="59635" y="2246428"/>
                  </a:cubicBezTo>
                  <a:cubicBezTo>
                    <a:pt x="62513" y="2256502"/>
                    <a:pt x="66696" y="2266171"/>
                    <a:pt x="69574" y="2276245"/>
                  </a:cubicBezTo>
                  <a:cubicBezTo>
                    <a:pt x="73327" y="2289380"/>
                    <a:pt x="74132" y="2303446"/>
                    <a:pt x="79513" y="2316002"/>
                  </a:cubicBezTo>
                  <a:cubicBezTo>
                    <a:pt x="84218" y="2326981"/>
                    <a:pt x="93464" y="2335448"/>
                    <a:pt x="99391" y="2345819"/>
                  </a:cubicBezTo>
                  <a:cubicBezTo>
                    <a:pt x="106742" y="2358683"/>
                    <a:pt x="111647" y="2372871"/>
                    <a:pt x="119270" y="2385576"/>
                  </a:cubicBezTo>
                  <a:cubicBezTo>
                    <a:pt x="131562" y="2406062"/>
                    <a:pt x="142133" y="2428317"/>
                    <a:pt x="159026" y="2445210"/>
                  </a:cubicBezTo>
                  <a:lnTo>
                    <a:pt x="198783" y="2484967"/>
                  </a:lnTo>
                  <a:cubicBezTo>
                    <a:pt x="304800" y="2481654"/>
                    <a:pt x="411095" y="2483376"/>
                    <a:pt x="516835" y="2475028"/>
                  </a:cubicBezTo>
                  <a:cubicBezTo>
                    <a:pt x="537724" y="2473379"/>
                    <a:pt x="576470" y="2455150"/>
                    <a:pt x="576470" y="2455150"/>
                  </a:cubicBezTo>
                  <a:cubicBezTo>
                    <a:pt x="647994" y="2407465"/>
                    <a:pt x="559932" y="2474990"/>
                    <a:pt x="626165" y="2375637"/>
                  </a:cubicBezTo>
                  <a:cubicBezTo>
                    <a:pt x="632791" y="2365698"/>
                    <a:pt x="638581" y="2355147"/>
                    <a:pt x="646043" y="2345819"/>
                  </a:cubicBezTo>
                  <a:cubicBezTo>
                    <a:pt x="702699" y="2275000"/>
                    <a:pt x="624611" y="2387907"/>
                    <a:pt x="685800" y="2296124"/>
                  </a:cubicBezTo>
                  <a:cubicBezTo>
                    <a:pt x="687657" y="2288698"/>
                    <a:pt x="699567" y="2236735"/>
                    <a:pt x="705678" y="2226550"/>
                  </a:cubicBezTo>
                  <a:cubicBezTo>
                    <a:pt x="710499" y="2218514"/>
                    <a:pt x="719703" y="2213989"/>
                    <a:pt x="725557" y="2206671"/>
                  </a:cubicBezTo>
                  <a:cubicBezTo>
                    <a:pt x="763534" y="2159200"/>
                    <a:pt x="730881" y="2196024"/>
                    <a:pt x="755374" y="2147037"/>
                  </a:cubicBezTo>
                  <a:cubicBezTo>
                    <a:pt x="784412" y="2088959"/>
                    <a:pt x="768537" y="2145691"/>
                    <a:pt x="785191" y="2087402"/>
                  </a:cubicBezTo>
                  <a:cubicBezTo>
                    <a:pt x="795993" y="2049596"/>
                    <a:pt x="793735" y="2014982"/>
                    <a:pt x="844826" y="1997950"/>
                  </a:cubicBezTo>
                  <a:cubicBezTo>
                    <a:pt x="915623" y="1974349"/>
                    <a:pt x="864197" y="1988814"/>
                    <a:pt x="1003852" y="1978071"/>
                  </a:cubicBezTo>
                  <a:cubicBezTo>
                    <a:pt x="1013791" y="1971445"/>
                    <a:pt x="1022986" y="1963535"/>
                    <a:pt x="1033670" y="1958193"/>
                  </a:cubicBezTo>
                  <a:cubicBezTo>
                    <a:pt x="1043041" y="1953508"/>
                    <a:pt x="1055106" y="1954540"/>
                    <a:pt x="1063487" y="1948254"/>
                  </a:cubicBezTo>
                  <a:cubicBezTo>
                    <a:pt x="1102249" y="1919182"/>
                    <a:pt x="1110070" y="1903227"/>
                    <a:pt x="1133061" y="1868741"/>
                  </a:cubicBezTo>
                  <a:cubicBezTo>
                    <a:pt x="1136210" y="1840400"/>
                    <a:pt x="1136288" y="1782773"/>
                    <a:pt x="1152939" y="1749471"/>
                  </a:cubicBezTo>
                  <a:cubicBezTo>
                    <a:pt x="1160764" y="1733820"/>
                    <a:pt x="1177903" y="1710871"/>
                    <a:pt x="1192696" y="1699776"/>
                  </a:cubicBezTo>
                  <a:cubicBezTo>
                    <a:pt x="1211808" y="1685442"/>
                    <a:pt x="1235437" y="1676912"/>
                    <a:pt x="1252330" y="1660019"/>
                  </a:cubicBezTo>
                  <a:cubicBezTo>
                    <a:pt x="1268895" y="1643454"/>
                    <a:pt x="1282534" y="1623319"/>
                    <a:pt x="1302026" y="1610324"/>
                  </a:cubicBezTo>
                  <a:lnTo>
                    <a:pt x="1361661" y="1570567"/>
                  </a:lnTo>
                  <a:cubicBezTo>
                    <a:pt x="1371600" y="1563941"/>
                    <a:pt x="1383031" y="1559136"/>
                    <a:pt x="1391478" y="1550689"/>
                  </a:cubicBezTo>
                  <a:cubicBezTo>
                    <a:pt x="1398104" y="1544063"/>
                    <a:pt x="1402975" y="1535001"/>
                    <a:pt x="1411357" y="1530810"/>
                  </a:cubicBezTo>
                  <a:cubicBezTo>
                    <a:pt x="1435555" y="1518711"/>
                    <a:pt x="1482214" y="1508126"/>
                    <a:pt x="1510748" y="1500993"/>
                  </a:cubicBezTo>
                  <a:cubicBezTo>
                    <a:pt x="1530626" y="1487741"/>
                    <a:pt x="1562828" y="1483902"/>
                    <a:pt x="1570383" y="1461237"/>
                  </a:cubicBezTo>
                  <a:cubicBezTo>
                    <a:pt x="1573696" y="1451298"/>
                    <a:pt x="1572914" y="1438827"/>
                    <a:pt x="1580322" y="1431419"/>
                  </a:cubicBezTo>
                  <a:cubicBezTo>
                    <a:pt x="1597215" y="1414526"/>
                    <a:pt x="1639957" y="1391663"/>
                    <a:pt x="1639957" y="1391663"/>
                  </a:cubicBezTo>
                  <a:cubicBezTo>
                    <a:pt x="1636644" y="1358532"/>
                    <a:pt x="1635080" y="1325180"/>
                    <a:pt x="1630017" y="1292271"/>
                  </a:cubicBezTo>
                  <a:cubicBezTo>
                    <a:pt x="1628424" y="1281916"/>
                    <a:pt x="1626364" y="1270835"/>
                    <a:pt x="1620078" y="1262454"/>
                  </a:cubicBezTo>
                  <a:cubicBezTo>
                    <a:pt x="1586782" y="1218059"/>
                    <a:pt x="1555923" y="1203118"/>
                    <a:pt x="1510748" y="1173002"/>
                  </a:cubicBezTo>
                  <a:cubicBezTo>
                    <a:pt x="1500809" y="1166376"/>
                    <a:pt x="1489377" y="1161571"/>
                    <a:pt x="1480930" y="1153124"/>
                  </a:cubicBezTo>
                  <a:lnTo>
                    <a:pt x="1461052" y="1133245"/>
                  </a:lnTo>
                  <a:cubicBezTo>
                    <a:pt x="1473590" y="1032938"/>
                    <a:pt x="1462544" y="1079073"/>
                    <a:pt x="1490870" y="994097"/>
                  </a:cubicBezTo>
                  <a:lnTo>
                    <a:pt x="1500809" y="964280"/>
                  </a:lnTo>
                  <a:cubicBezTo>
                    <a:pt x="1497496" y="937776"/>
                    <a:pt x="1495648" y="911047"/>
                    <a:pt x="1490870" y="884767"/>
                  </a:cubicBezTo>
                  <a:cubicBezTo>
                    <a:pt x="1488996" y="874459"/>
                    <a:pt x="1489647" y="860761"/>
                    <a:pt x="1480930" y="854950"/>
                  </a:cubicBezTo>
                  <a:cubicBezTo>
                    <a:pt x="1466874" y="845579"/>
                    <a:pt x="1447800" y="848323"/>
                    <a:pt x="1431235" y="845010"/>
                  </a:cubicBezTo>
                  <a:cubicBezTo>
                    <a:pt x="1441174" y="838384"/>
                    <a:pt x="1454426" y="835071"/>
                    <a:pt x="1461052" y="825132"/>
                  </a:cubicBezTo>
                  <a:cubicBezTo>
                    <a:pt x="1468629" y="813766"/>
                    <a:pt x="1465610" y="797931"/>
                    <a:pt x="1470991" y="785376"/>
                  </a:cubicBezTo>
                  <a:cubicBezTo>
                    <a:pt x="1475697" y="774396"/>
                    <a:pt x="1484244" y="765497"/>
                    <a:pt x="1490870" y="755558"/>
                  </a:cubicBezTo>
                  <a:cubicBezTo>
                    <a:pt x="1494183" y="745619"/>
                    <a:pt x="1502532" y="736075"/>
                    <a:pt x="1500809" y="725741"/>
                  </a:cubicBezTo>
                  <a:cubicBezTo>
                    <a:pt x="1495520" y="694008"/>
                    <a:pt x="1474369" y="693737"/>
                    <a:pt x="1451113" y="685984"/>
                  </a:cubicBezTo>
                  <a:cubicBezTo>
                    <a:pt x="1431235" y="659480"/>
                    <a:pt x="1414905" y="629898"/>
                    <a:pt x="1391478" y="606471"/>
                  </a:cubicBezTo>
                  <a:cubicBezTo>
                    <a:pt x="1353214" y="568207"/>
                    <a:pt x="1369458" y="588349"/>
                    <a:pt x="1341783" y="546837"/>
                  </a:cubicBezTo>
                  <a:cubicBezTo>
                    <a:pt x="1364974" y="477263"/>
                    <a:pt x="1341783" y="493828"/>
                    <a:pt x="1391478" y="477263"/>
                  </a:cubicBezTo>
                  <a:cubicBezTo>
                    <a:pt x="1423970" y="379784"/>
                    <a:pt x="1371292" y="517480"/>
                    <a:pt x="1431235" y="427567"/>
                  </a:cubicBezTo>
                  <a:cubicBezTo>
                    <a:pt x="1438812" y="416201"/>
                    <a:pt x="1437421" y="400945"/>
                    <a:pt x="1441174" y="387810"/>
                  </a:cubicBezTo>
                  <a:cubicBezTo>
                    <a:pt x="1451461" y="351805"/>
                    <a:pt x="1449212" y="360845"/>
                    <a:pt x="1470991" y="328176"/>
                  </a:cubicBezTo>
                  <a:cubicBezTo>
                    <a:pt x="1477617" y="301672"/>
                    <a:pt x="1468138" y="263818"/>
                    <a:pt x="1490870" y="248663"/>
                  </a:cubicBezTo>
                  <a:lnTo>
                    <a:pt x="1550504" y="208906"/>
                  </a:lnTo>
                  <a:cubicBezTo>
                    <a:pt x="1557130" y="198967"/>
                    <a:pt x="1562921" y="188417"/>
                    <a:pt x="1570383" y="179089"/>
                  </a:cubicBezTo>
                  <a:cubicBezTo>
                    <a:pt x="1576237" y="171772"/>
                    <a:pt x="1586570" y="167823"/>
                    <a:pt x="1590261" y="159210"/>
                  </a:cubicBezTo>
                  <a:cubicBezTo>
                    <a:pt x="1596915" y="143683"/>
                    <a:pt x="1596887" y="126080"/>
                    <a:pt x="1600200" y="109515"/>
                  </a:cubicBezTo>
                  <a:cubicBezTo>
                    <a:pt x="1596887" y="86324"/>
                    <a:pt x="1602677" y="59807"/>
                    <a:pt x="1590261" y="39941"/>
                  </a:cubicBezTo>
                  <a:cubicBezTo>
                    <a:pt x="1583021" y="28357"/>
                    <a:pt x="1563060" y="35383"/>
                    <a:pt x="1550504" y="30002"/>
                  </a:cubicBezTo>
                  <a:cubicBezTo>
                    <a:pt x="1466662" y="-5930"/>
                    <a:pt x="1605941" y="4581"/>
                    <a:pt x="1421296" y="184"/>
                  </a:cubicBezTo>
                  <a:cubicBezTo>
                    <a:pt x="1315308" y="-2340"/>
                    <a:pt x="1181100" y="21719"/>
                    <a:pt x="1123122" y="30002"/>
                  </a:cubicBez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8" name="五角星 281"/>
          <p:cNvSpPr/>
          <p:nvPr/>
        </p:nvSpPr>
        <p:spPr>
          <a:xfrm>
            <a:off x="9650520" y="1373040"/>
            <a:ext cx="5227560" cy="5329440"/>
          </a:xfrm>
          <a:prstGeom prst="star5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五角星 283"/>
          <p:cNvSpPr/>
          <p:nvPr/>
        </p:nvSpPr>
        <p:spPr>
          <a:xfrm>
            <a:off x="10113840" y="1930320"/>
            <a:ext cx="5227920" cy="5327640"/>
          </a:xfrm>
          <a:prstGeom prst="star5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五角星 284"/>
          <p:cNvSpPr/>
          <p:nvPr/>
        </p:nvSpPr>
        <p:spPr>
          <a:xfrm>
            <a:off x="10771200" y="-219240"/>
            <a:ext cx="7026120" cy="7156440"/>
          </a:xfrm>
          <a:prstGeom prst="star5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五角星 285"/>
          <p:cNvSpPr/>
          <p:nvPr/>
        </p:nvSpPr>
        <p:spPr>
          <a:xfrm>
            <a:off x="10175760" y="1822320"/>
            <a:ext cx="3970440" cy="4048200"/>
          </a:xfrm>
          <a:prstGeom prst="star5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2" name=""/>
          <p:cNvGrpSpPr/>
          <p:nvPr/>
        </p:nvGrpSpPr>
        <p:grpSpPr>
          <a:xfrm>
            <a:off x="-7432560" y="4067280"/>
            <a:ext cx="5750280" cy="8343720"/>
            <a:chOff x="-7432560" y="4067280"/>
            <a:chExt cx="5750280" cy="8343720"/>
          </a:xfrm>
        </p:grpSpPr>
        <p:sp>
          <p:nvSpPr>
            <p:cNvPr id="763" name="任意多边形 346"/>
            <p:cNvSpPr/>
            <p:nvPr/>
          </p:nvSpPr>
          <p:spPr>
            <a:xfrm>
              <a:off x="-7432560" y="4067280"/>
              <a:ext cx="5739120" cy="8343720"/>
            </a:xfrm>
            <a:custGeom>
              <a:avLst/>
              <a:gdLst>
                <a:gd name="textAreaLeft" fmla="*/ 0 w 5739120"/>
                <a:gd name="textAreaRight" fmla="*/ 5739480 w 5739120"/>
                <a:gd name="textAreaTop" fmla="*/ 0 h 8343720"/>
                <a:gd name="textAreaBottom" fmla="*/ 8344080 h 8343720"/>
              </a:gdLst>
              <a:ahLst/>
              <a:rect l="textAreaLeft" t="textAreaTop" r="textAreaRight" b="textAreaBottom"/>
              <a:pathLst>
                <a:path w="5351489" h="7779895">
                  <a:moveTo>
                    <a:pt x="1978702" y="7779895"/>
                  </a:moveTo>
                  <a:lnTo>
                    <a:pt x="1948722" y="5951095"/>
                  </a:lnTo>
                  <a:lnTo>
                    <a:pt x="1873771" y="5051685"/>
                  </a:lnTo>
                  <a:lnTo>
                    <a:pt x="1678899" y="4152275"/>
                  </a:lnTo>
                  <a:lnTo>
                    <a:pt x="1304144" y="3282846"/>
                  </a:lnTo>
                  <a:lnTo>
                    <a:pt x="734518" y="2278505"/>
                  </a:lnTo>
                  <a:lnTo>
                    <a:pt x="224853" y="1573967"/>
                  </a:lnTo>
                  <a:lnTo>
                    <a:pt x="0" y="1049311"/>
                  </a:lnTo>
                  <a:lnTo>
                    <a:pt x="524656" y="1753849"/>
                  </a:lnTo>
                  <a:lnTo>
                    <a:pt x="944381" y="2338466"/>
                  </a:lnTo>
                  <a:lnTo>
                    <a:pt x="1259174" y="3057993"/>
                  </a:lnTo>
                  <a:lnTo>
                    <a:pt x="1259174" y="2443397"/>
                  </a:lnTo>
                  <a:lnTo>
                    <a:pt x="1319135" y="1843790"/>
                  </a:lnTo>
                  <a:lnTo>
                    <a:pt x="1349115" y="2353456"/>
                  </a:lnTo>
                  <a:lnTo>
                    <a:pt x="1364105" y="3043003"/>
                  </a:lnTo>
                  <a:lnTo>
                    <a:pt x="1603948" y="3567659"/>
                  </a:lnTo>
                  <a:lnTo>
                    <a:pt x="1603948" y="2758190"/>
                  </a:lnTo>
                  <a:lnTo>
                    <a:pt x="1528997" y="1484026"/>
                  </a:lnTo>
                  <a:lnTo>
                    <a:pt x="1064302" y="554636"/>
                  </a:lnTo>
                  <a:lnTo>
                    <a:pt x="749508" y="0"/>
                  </a:lnTo>
                  <a:lnTo>
                    <a:pt x="1109272" y="344774"/>
                  </a:lnTo>
                  <a:lnTo>
                    <a:pt x="1588958" y="1364105"/>
                  </a:lnTo>
                  <a:lnTo>
                    <a:pt x="1798820" y="1978702"/>
                  </a:lnTo>
                  <a:lnTo>
                    <a:pt x="1798820" y="2413416"/>
                  </a:lnTo>
                  <a:lnTo>
                    <a:pt x="1843790" y="3013023"/>
                  </a:lnTo>
                  <a:lnTo>
                    <a:pt x="1888761" y="3357797"/>
                  </a:lnTo>
                  <a:lnTo>
                    <a:pt x="1963712" y="2878111"/>
                  </a:lnTo>
                  <a:lnTo>
                    <a:pt x="2098623" y="2518347"/>
                  </a:lnTo>
                  <a:lnTo>
                    <a:pt x="2338466" y="2203554"/>
                  </a:lnTo>
                  <a:lnTo>
                    <a:pt x="2218544" y="2683239"/>
                  </a:lnTo>
                  <a:lnTo>
                    <a:pt x="2098623" y="3192905"/>
                  </a:lnTo>
                  <a:lnTo>
                    <a:pt x="2098623" y="3567659"/>
                  </a:lnTo>
                  <a:lnTo>
                    <a:pt x="2203554" y="3597639"/>
                  </a:lnTo>
                  <a:lnTo>
                    <a:pt x="2458387" y="3072984"/>
                  </a:lnTo>
                  <a:lnTo>
                    <a:pt x="2533338" y="2293495"/>
                  </a:lnTo>
                  <a:lnTo>
                    <a:pt x="3237876" y="1274164"/>
                  </a:lnTo>
                  <a:lnTo>
                    <a:pt x="3207895" y="104931"/>
                  </a:lnTo>
                  <a:lnTo>
                    <a:pt x="3312826" y="1139252"/>
                  </a:lnTo>
                  <a:lnTo>
                    <a:pt x="3972394" y="239843"/>
                  </a:lnTo>
                  <a:lnTo>
                    <a:pt x="3222885" y="1499016"/>
                  </a:lnTo>
                  <a:lnTo>
                    <a:pt x="3987384" y="1124262"/>
                  </a:lnTo>
                  <a:lnTo>
                    <a:pt x="3147935" y="1693888"/>
                  </a:lnTo>
                  <a:lnTo>
                    <a:pt x="2743200" y="2338466"/>
                  </a:lnTo>
                  <a:lnTo>
                    <a:pt x="2638269" y="3028013"/>
                  </a:lnTo>
                  <a:lnTo>
                    <a:pt x="2383436" y="3687580"/>
                  </a:lnTo>
                  <a:lnTo>
                    <a:pt x="2908092" y="3162925"/>
                  </a:lnTo>
                  <a:lnTo>
                    <a:pt x="3222885" y="2398426"/>
                  </a:lnTo>
                  <a:lnTo>
                    <a:pt x="3882453" y="1708879"/>
                  </a:lnTo>
                  <a:lnTo>
                    <a:pt x="3357797" y="2443397"/>
                  </a:lnTo>
                  <a:lnTo>
                    <a:pt x="3117954" y="2953062"/>
                  </a:lnTo>
                  <a:lnTo>
                    <a:pt x="3822492" y="2458387"/>
                  </a:lnTo>
                  <a:lnTo>
                    <a:pt x="3147935" y="3072984"/>
                  </a:lnTo>
                  <a:lnTo>
                    <a:pt x="2713220" y="3627620"/>
                  </a:lnTo>
                  <a:lnTo>
                    <a:pt x="2518348" y="4002374"/>
                  </a:lnTo>
                  <a:lnTo>
                    <a:pt x="2473377" y="4482059"/>
                  </a:lnTo>
                  <a:lnTo>
                    <a:pt x="3582649" y="4197246"/>
                  </a:lnTo>
                  <a:lnTo>
                    <a:pt x="4841823" y="4107305"/>
                  </a:lnTo>
                  <a:lnTo>
                    <a:pt x="5351489" y="3867462"/>
                  </a:lnTo>
                  <a:lnTo>
                    <a:pt x="4901784" y="4152275"/>
                  </a:lnTo>
                  <a:lnTo>
                    <a:pt x="4302177" y="4257206"/>
                  </a:lnTo>
                  <a:lnTo>
                    <a:pt x="5051685" y="4422098"/>
                  </a:lnTo>
                  <a:lnTo>
                    <a:pt x="4092315" y="4272197"/>
                  </a:lnTo>
                  <a:lnTo>
                    <a:pt x="3117954" y="4452079"/>
                  </a:lnTo>
                  <a:lnTo>
                    <a:pt x="2563318" y="4631961"/>
                  </a:lnTo>
                  <a:lnTo>
                    <a:pt x="2443397" y="4916774"/>
                  </a:lnTo>
                  <a:lnTo>
                    <a:pt x="2548328" y="7719934"/>
                  </a:lnTo>
                  <a:lnTo>
                    <a:pt x="2008682" y="7734925"/>
                  </a:lnTo>
                  <a:lnTo>
                    <a:pt x="1948722" y="7704944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任意多边形 347"/>
            <p:cNvSpPr/>
            <p:nvPr/>
          </p:nvSpPr>
          <p:spPr>
            <a:xfrm>
              <a:off x="-5262840" y="9065880"/>
              <a:ext cx="119880" cy="2923560"/>
            </a:xfrm>
            <a:custGeom>
              <a:avLst/>
              <a:gdLst>
                <a:gd name="textAreaLeft" fmla="*/ 0 w 119880"/>
                <a:gd name="textAreaRight" fmla="*/ 120240 w 119880"/>
                <a:gd name="textAreaTop" fmla="*/ 0 h 2923560"/>
                <a:gd name="textAreaBottom" fmla="*/ 2923560 h 2923560"/>
              </a:gdLst>
              <a:ahLst/>
              <a:rect l="textAreaLeft" t="textAreaTop" r="textAreaRight" b="textAreaBottom"/>
              <a:pathLst>
                <a:path w="119921" h="2923082">
                  <a:moveTo>
                    <a:pt x="0" y="0"/>
                  </a:moveTo>
                  <a:lnTo>
                    <a:pt x="119921" y="1603947"/>
                  </a:lnTo>
                  <a:lnTo>
                    <a:pt x="119921" y="2923082"/>
                  </a:lnTo>
                </a:path>
              </a:pathLst>
            </a:custGeom>
            <a:noFill/>
            <a:ln w="25560">
              <a:solidFill>
                <a:srgbClr val="5c410c">
                  <a:alpha val="11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任意多边形 348"/>
            <p:cNvSpPr/>
            <p:nvPr/>
          </p:nvSpPr>
          <p:spPr>
            <a:xfrm>
              <a:off x="-5031720" y="8489520"/>
              <a:ext cx="119880" cy="2923560"/>
            </a:xfrm>
            <a:custGeom>
              <a:avLst/>
              <a:gdLst>
                <a:gd name="textAreaLeft" fmla="*/ 0 w 119880"/>
                <a:gd name="textAreaRight" fmla="*/ 120240 w 119880"/>
                <a:gd name="textAreaTop" fmla="*/ 0 h 2923560"/>
                <a:gd name="textAreaBottom" fmla="*/ 2923560 h 2923560"/>
              </a:gdLst>
              <a:ahLst/>
              <a:rect l="textAreaLeft" t="textAreaTop" r="textAreaRight" b="textAreaBottom"/>
              <a:pathLst>
                <a:path w="119921" h="2923082">
                  <a:moveTo>
                    <a:pt x="0" y="0"/>
                  </a:moveTo>
                  <a:lnTo>
                    <a:pt x="119921" y="1603947"/>
                  </a:lnTo>
                  <a:lnTo>
                    <a:pt x="119921" y="2923082"/>
                  </a:lnTo>
                </a:path>
              </a:pathLst>
            </a:custGeom>
            <a:noFill/>
            <a:ln w="25560">
              <a:solidFill>
                <a:srgbClr val="5e2e24">
                  <a:alpha val="29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任意多边形 349"/>
            <p:cNvSpPr/>
            <p:nvPr/>
          </p:nvSpPr>
          <p:spPr>
            <a:xfrm>
              <a:off x="-7421400" y="4067280"/>
              <a:ext cx="5739120" cy="8343720"/>
            </a:xfrm>
            <a:custGeom>
              <a:avLst/>
              <a:gdLst>
                <a:gd name="textAreaLeft" fmla="*/ 0 w 5739120"/>
                <a:gd name="textAreaRight" fmla="*/ 5739480 w 5739120"/>
                <a:gd name="textAreaTop" fmla="*/ 0 h 8343720"/>
                <a:gd name="textAreaBottom" fmla="*/ 8344080 h 8343720"/>
              </a:gdLst>
              <a:ahLst/>
              <a:rect l="textAreaLeft" t="textAreaTop" r="textAreaRight" b="textAreaBottom"/>
              <a:pathLst>
                <a:path w="5351489" h="7779895">
                  <a:moveTo>
                    <a:pt x="1978702" y="7779895"/>
                  </a:moveTo>
                  <a:lnTo>
                    <a:pt x="1948722" y="5951095"/>
                  </a:lnTo>
                  <a:lnTo>
                    <a:pt x="1873771" y="5051685"/>
                  </a:lnTo>
                  <a:lnTo>
                    <a:pt x="1678899" y="4152275"/>
                  </a:lnTo>
                  <a:lnTo>
                    <a:pt x="1304144" y="3282846"/>
                  </a:lnTo>
                  <a:lnTo>
                    <a:pt x="734518" y="2278505"/>
                  </a:lnTo>
                  <a:lnTo>
                    <a:pt x="224853" y="1573967"/>
                  </a:lnTo>
                  <a:lnTo>
                    <a:pt x="0" y="1049311"/>
                  </a:lnTo>
                  <a:lnTo>
                    <a:pt x="524656" y="1753849"/>
                  </a:lnTo>
                  <a:lnTo>
                    <a:pt x="944381" y="2338466"/>
                  </a:lnTo>
                  <a:lnTo>
                    <a:pt x="1259174" y="3057993"/>
                  </a:lnTo>
                  <a:lnTo>
                    <a:pt x="1259174" y="2443397"/>
                  </a:lnTo>
                  <a:lnTo>
                    <a:pt x="1319135" y="1843790"/>
                  </a:lnTo>
                  <a:lnTo>
                    <a:pt x="1349115" y="2353456"/>
                  </a:lnTo>
                  <a:lnTo>
                    <a:pt x="1364105" y="3043003"/>
                  </a:lnTo>
                  <a:lnTo>
                    <a:pt x="1603948" y="3567659"/>
                  </a:lnTo>
                  <a:lnTo>
                    <a:pt x="1603948" y="2758190"/>
                  </a:lnTo>
                  <a:lnTo>
                    <a:pt x="1528997" y="1484026"/>
                  </a:lnTo>
                  <a:lnTo>
                    <a:pt x="1064302" y="554636"/>
                  </a:lnTo>
                  <a:lnTo>
                    <a:pt x="749508" y="0"/>
                  </a:lnTo>
                  <a:lnTo>
                    <a:pt x="1109272" y="344774"/>
                  </a:lnTo>
                  <a:lnTo>
                    <a:pt x="1588958" y="1364105"/>
                  </a:lnTo>
                  <a:lnTo>
                    <a:pt x="1798820" y="1978702"/>
                  </a:lnTo>
                  <a:lnTo>
                    <a:pt x="1798820" y="2413416"/>
                  </a:lnTo>
                  <a:lnTo>
                    <a:pt x="1843790" y="3013023"/>
                  </a:lnTo>
                  <a:lnTo>
                    <a:pt x="1888761" y="3357797"/>
                  </a:lnTo>
                  <a:lnTo>
                    <a:pt x="1963712" y="2878111"/>
                  </a:lnTo>
                  <a:lnTo>
                    <a:pt x="2098623" y="2518347"/>
                  </a:lnTo>
                  <a:lnTo>
                    <a:pt x="2338466" y="2203554"/>
                  </a:lnTo>
                  <a:lnTo>
                    <a:pt x="2218544" y="2683239"/>
                  </a:lnTo>
                  <a:lnTo>
                    <a:pt x="2098623" y="3192905"/>
                  </a:lnTo>
                  <a:lnTo>
                    <a:pt x="2098623" y="3567659"/>
                  </a:lnTo>
                  <a:lnTo>
                    <a:pt x="2203554" y="3597639"/>
                  </a:lnTo>
                  <a:lnTo>
                    <a:pt x="2458387" y="3072984"/>
                  </a:lnTo>
                  <a:lnTo>
                    <a:pt x="2533338" y="2293495"/>
                  </a:lnTo>
                  <a:lnTo>
                    <a:pt x="3237876" y="1274164"/>
                  </a:lnTo>
                  <a:lnTo>
                    <a:pt x="3207895" y="104931"/>
                  </a:lnTo>
                  <a:lnTo>
                    <a:pt x="3312826" y="1139252"/>
                  </a:lnTo>
                  <a:lnTo>
                    <a:pt x="3972394" y="239843"/>
                  </a:lnTo>
                  <a:lnTo>
                    <a:pt x="3222885" y="1499016"/>
                  </a:lnTo>
                  <a:lnTo>
                    <a:pt x="3987384" y="1124262"/>
                  </a:lnTo>
                  <a:lnTo>
                    <a:pt x="3147935" y="1693888"/>
                  </a:lnTo>
                  <a:lnTo>
                    <a:pt x="2743200" y="2338466"/>
                  </a:lnTo>
                  <a:lnTo>
                    <a:pt x="2638269" y="3028013"/>
                  </a:lnTo>
                  <a:lnTo>
                    <a:pt x="2383436" y="3687580"/>
                  </a:lnTo>
                  <a:lnTo>
                    <a:pt x="2908092" y="3162925"/>
                  </a:lnTo>
                  <a:lnTo>
                    <a:pt x="3222885" y="2398426"/>
                  </a:lnTo>
                  <a:lnTo>
                    <a:pt x="3882453" y="1708879"/>
                  </a:lnTo>
                  <a:lnTo>
                    <a:pt x="3357797" y="2443397"/>
                  </a:lnTo>
                  <a:lnTo>
                    <a:pt x="3117954" y="2953062"/>
                  </a:lnTo>
                  <a:lnTo>
                    <a:pt x="3822492" y="2458387"/>
                  </a:lnTo>
                  <a:lnTo>
                    <a:pt x="3147935" y="3072984"/>
                  </a:lnTo>
                  <a:lnTo>
                    <a:pt x="2713220" y="3627620"/>
                  </a:lnTo>
                  <a:lnTo>
                    <a:pt x="2518348" y="4002374"/>
                  </a:lnTo>
                  <a:lnTo>
                    <a:pt x="2473377" y="4482059"/>
                  </a:lnTo>
                  <a:lnTo>
                    <a:pt x="3582649" y="4197246"/>
                  </a:lnTo>
                  <a:lnTo>
                    <a:pt x="4841823" y="4107305"/>
                  </a:lnTo>
                  <a:lnTo>
                    <a:pt x="5351489" y="3867462"/>
                  </a:lnTo>
                  <a:lnTo>
                    <a:pt x="4901784" y="4152275"/>
                  </a:lnTo>
                  <a:lnTo>
                    <a:pt x="4302177" y="4257206"/>
                  </a:lnTo>
                  <a:lnTo>
                    <a:pt x="5051685" y="4422098"/>
                  </a:lnTo>
                  <a:lnTo>
                    <a:pt x="4092315" y="4272197"/>
                  </a:lnTo>
                  <a:lnTo>
                    <a:pt x="3117954" y="4452079"/>
                  </a:lnTo>
                  <a:lnTo>
                    <a:pt x="2563318" y="4631961"/>
                  </a:lnTo>
                  <a:lnTo>
                    <a:pt x="2443397" y="4916774"/>
                  </a:lnTo>
                  <a:lnTo>
                    <a:pt x="2548328" y="7719934"/>
                  </a:lnTo>
                  <a:lnTo>
                    <a:pt x="2008682" y="7734925"/>
                  </a:lnTo>
                  <a:lnTo>
                    <a:pt x="1948722" y="7704944"/>
                  </a:lnTo>
                </a:path>
              </a:pathLst>
            </a:custGeom>
            <a:solidFill>
              <a:srgbClr val="000000">
                <a:alpha val="2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67" name="Picture 2" descr=""/>
          <p:cNvPicPr/>
          <p:nvPr/>
        </p:nvPicPr>
        <p:blipFill>
          <a:blip r:embed="rId6"/>
          <a:stretch/>
        </p:blipFill>
        <p:spPr>
          <a:xfrm>
            <a:off x="9745560" y="-3773520"/>
            <a:ext cx="12385800" cy="14909760"/>
          </a:xfrm>
          <a:prstGeom prst="rect">
            <a:avLst/>
          </a:prstGeom>
          <a:ln w="0">
            <a:noFill/>
          </a:ln>
        </p:spPr>
      </p:pic>
      <p:pic>
        <p:nvPicPr>
          <p:cNvPr id="768" name="Picture 2" descr=""/>
          <p:cNvPicPr/>
          <p:nvPr/>
        </p:nvPicPr>
        <p:blipFill>
          <a:blip r:embed="rId7"/>
          <a:stretch/>
        </p:blipFill>
        <p:spPr>
          <a:xfrm flipH="1">
            <a:off x="9715680" y="-2590920"/>
            <a:ext cx="12385440" cy="17642160"/>
          </a:xfrm>
          <a:prstGeom prst="rect">
            <a:avLst/>
          </a:prstGeom>
          <a:ln w="0">
            <a:noFill/>
          </a:ln>
        </p:spPr>
      </p:pic>
      <p:pic>
        <p:nvPicPr>
          <p:cNvPr id="769" name="Picture 2" descr=""/>
          <p:cNvPicPr/>
          <p:nvPr/>
        </p:nvPicPr>
        <p:blipFill>
          <a:blip r:embed="rId8"/>
          <a:stretch/>
        </p:blipFill>
        <p:spPr>
          <a:xfrm flipH="1">
            <a:off x="10175400" y="2690640"/>
            <a:ext cx="8426520" cy="12006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55E9A-82BF-418A-A30B-D261E95EBDC6}" type="slidenum">
              <a:t>6</a:t>
            </a:fld>
          </a:p>
        </p:txBody>
      </p:sp>
    </p:spTree>
  </p:cSld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0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withEffect" fill="hold" presetClass="emph" presetID="26" repeatCount="200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29" dur="445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0" dur="2225" autoRev="1" fill="hold"/>
                                        <p:tgtEl>
                                          <p:spTgt spid="58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3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32" dur="89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3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43211E-006 L -0.81215 -0.06526 E">
                                      <p:cBhvr>
                                        <p:cTn id="334" dur="8600" fill="hold"/>
                                        <p:tgtEl>
                                          <p:spTgt spid="5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1.2991E-006 L -1.24584 -0.11197 E">
                                      <p:cBhvr>
                                        <p:cTn id="336" dur="8600" fill="hold"/>
                                        <p:tgtEl>
                                          <p:spTgt spid="6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4.68296E-006 L -0.74688 -0.06558 E">
                                      <p:cBhvr>
                                        <p:cTn id="338" dur="8600" fill="hold"/>
                                        <p:tgtEl>
                                          <p:spTgt spid="5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1" dur="15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43" dur="15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7" dur="1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0" dur="1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52" dur="6769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53" nodeType="withEffect" fill="hold" presetClass="emph" presetID="26" repeatCount="11300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54" dur="77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5" dur="38" autoRev="1" fill="hold"/>
                                        <p:tgtEl>
                                          <p:spTgt spid="75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56" nodeType="withEffect" fill="hold" presetClass="exit" presetID="31">
                                  <p:stCondLst>
                                    <p:cond delay="7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7" dur="1700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700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700"/>
                                        <p:tgtEl>
                                          <p:spTgt spid="7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60" dur="17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1699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63" dur="6846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64" nodeType="withEffect" fill="hold" presetClass="emph" presetID="26" repeatCount="11300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65" dur="79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66" dur="39" autoRev="1" fill="hold"/>
                                        <p:tgtEl>
                                          <p:spTgt spid="75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67" nodeType="withEffect" fill="hold" presetClass="exit" presetID="31">
                                  <p:stCondLst>
                                    <p:cond delay="7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8" dur="1900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900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900"/>
                                        <p:tgtEl>
                                          <p:spTgt spid="7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71" dur="19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1899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nodeType="withEffect" fill="hold" presetClass="path" presetID="0">
                                  <p:stCondLst>
                                    <p:cond delay="3800"/>
                                  </p:stCondLst>
                                  <p:childTnLst>
                                    <p:animMotion origin="layout" path="M -3.88889E-006 7.54017E-006 L -1.77639 -0.00525 E">
                                      <p:cBhvr>
                                        <p:cTn id="374" dur="3300" fill="hold"/>
                                        <p:tgtEl>
                                          <p:spTgt spid="7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5" nodeType="withEffect" fill="hold" presetClass="path" presetID="0">
                                  <p:stCondLst>
                                    <p:cond delay="2700"/>
                                  </p:stCondLst>
                                  <p:childTnLst>
                                    <p:animMotion origin="layout" path="M 4.44444E-006 4.93965E-006 L -1.88872 -0.01888 E">
                                      <p:cBhvr>
                                        <p:cTn id="376" dur="4000" fill="hold"/>
                                        <p:tgtEl>
                                          <p:spTgt spid="7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7" nodeType="withEffect" fill="hold" presetClass="path" presetID="0">
                                  <p:stCondLst>
                                    <p:cond delay="3700"/>
                                  </p:stCondLst>
                                  <p:childTnLst>
                                    <p:animMotion origin="layout" path="M 4.44444E-006 4.93965E-006 L -1.88872 -0.01888 E">
                                      <p:cBhvr>
                                        <p:cTn id="378" dur="4000" fill="hold"/>
                                        <p:tgtEl>
                                          <p:spTgt spid="7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9" nodeType="withEffect" fill="hold" presetClass="path" presetID="0">
                                  <p:stCondLst>
                                    <p:cond delay="4700"/>
                                  </p:stCondLst>
                                  <p:childTnLst>
                                    <p:animMotion origin="layout" path="M 4.72222E-006 9.1922E-007 L -1.95591 -0.02259 E">
                                      <p:cBhvr>
                                        <p:cTn id="380" dur="4000" fill="hold"/>
                                        <p:tgtEl>
                                          <p:spTgt spid="7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81" nodeType="withEffect" fill="hold" presetClass="path" presetID="0">
                                  <p:stCondLst>
                                    <p:cond delay="6000"/>
                                  </p:stCondLst>
                                  <p:childTnLst>
                                    <p:animMotion origin="layout" path="M 4.72222E-006 9.1922E-007 L -1.95591 -0.02259 E">
                                      <p:cBhvr>
                                        <p:cTn id="382" dur="2900" fill="hold"/>
                                        <p:tgtEl>
                                          <p:spTgt spid="7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83" nodeType="withEffect" fill="hold" presetClass="path" presetID="0">
                                  <p:stCondLst>
                                    <p:cond delay="1600"/>
                                  </p:stCondLst>
                                  <p:childTnLst>
                                    <p:animMotion origin="layout" path="M -1.94444E-006 4.83632E-006 L -3.02257 0.02285 E">
                                      <p:cBhvr>
                                        <p:cTn id="384" dur="4800" fill="hold"/>
                                        <p:tgtEl>
                                          <p:spTgt spid="7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85" nodeType="withEffect" fill="hold" presetClass="path" presetID="0">
                                  <p:stCondLst>
                                    <p:cond delay="2600"/>
                                  </p:stCondLst>
                                  <p:childTnLst>
                                    <p:animMotion origin="layout" path="M 3.05556E-006 -3.39716E-007 L -2.80695 0.03119 E">
                                      <p:cBhvr>
                                        <p:cTn id="386" dur="4800" fill="hold"/>
                                        <p:tgtEl>
                                          <p:spTgt spid="7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87" nodeType="withEffect" fill="hold" presetClass="path" presetID="0">
                                  <p:stCondLst>
                                    <p:cond delay="4000"/>
                                  </p:stCondLst>
                                  <p:childTnLst>
                                    <p:animMotion origin="layout" path="M 2.5E-006 2.61272E-006 L -2.43577 0.02779 E">
                                      <p:cBhvr>
                                        <p:cTn id="388" dur="4800" fill="hold"/>
                                        <p:tgtEl>
                                          <p:spTgt spid="7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68360" y="142560"/>
            <a:ext cx="8207280" cy="4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108000" y="952560"/>
            <a:ext cx="8928000" cy="39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2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2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2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2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2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Rectangle 7"/>
          <p:cNvSpPr/>
          <p:nvPr/>
        </p:nvSpPr>
        <p:spPr>
          <a:xfrm>
            <a:off x="7286760" y="250920"/>
            <a:ext cx="1388880" cy="26028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3C351-7D37-4656-B3C3-471FCAFA63A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矩形 17"/>
          <p:cNvSpPr/>
          <p:nvPr/>
        </p:nvSpPr>
        <p:spPr>
          <a:xfrm>
            <a:off x="0" y="-15840"/>
            <a:ext cx="9698040" cy="529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4" name=""/>
          <p:cNvGrpSpPr/>
          <p:nvPr/>
        </p:nvGrpSpPr>
        <p:grpSpPr>
          <a:xfrm>
            <a:off x="2844720" y="-1841400"/>
            <a:ext cx="5232600" cy="4979880"/>
            <a:chOff x="2844720" y="-1841400"/>
            <a:chExt cx="5232600" cy="4979880"/>
          </a:xfrm>
        </p:grpSpPr>
        <p:sp>
          <p:nvSpPr>
            <p:cNvPr id="775" name="椭圆 79"/>
            <p:cNvSpPr/>
            <p:nvPr/>
          </p:nvSpPr>
          <p:spPr>
            <a:xfrm>
              <a:off x="4975920" y="327960"/>
              <a:ext cx="1163880" cy="1163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五角星 80"/>
            <p:cNvSpPr/>
            <p:nvPr/>
          </p:nvSpPr>
          <p:spPr>
            <a:xfrm>
              <a:off x="2844720" y="-1841400"/>
              <a:ext cx="5232600" cy="4979880"/>
            </a:xfrm>
            <a:prstGeom prst="star5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7" name="任意多边形 323"/>
          <p:cNvSpPr/>
          <p:nvPr/>
        </p:nvSpPr>
        <p:spPr>
          <a:xfrm>
            <a:off x="3522600" y="466560"/>
            <a:ext cx="7386840" cy="2681280"/>
          </a:xfrm>
          <a:custGeom>
            <a:avLst/>
            <a:gdLst>
              <a:gd name="textAreaLeft" fmla="*/ 0 w 7386840"/>
              <a:gd name="textAreaRight" fmla="*/ 7387200 w 7386840"/>
              <a:gd name="textAreaTop" fmla="*/ 0 h 2681280"/>
              <a:gd name="textAreaBottom" fmla="*/ 2681640 h 2681280"/>
            </a:gdLst>
            <a:ahLst/>
            <a:rect l="textAreaLeft" t="textAreaTop" r="textAreaRight" b="textAreaBottom"/>
            <a:pathLst>
              <a:path w="7385538" h="2680383">
                <a:moveTo>
                  <a:pt x="0" y="2234906"/>
                </a:moveTo>
                <a:cubicBezTo>
                  <a:pt x="109415" y="2109860"/>
                  <a:pt x="246185" y="1973090"/>
                  <a:pt x="328246" y="1859767"/>
                </a:cubicBezTo>
                <a:cubicBezTo>
                  <a:pt x="410307" y="1746444"/>
                  <a:pt x="449384" y="1656567"/>
                  <a:pt x="492369" y="1554967"/>
                </a:cubicBezTo>
                <a:cubicBezTo>
                  <a:pt x="535354" y="1453367"/>
                  <a:pt x="535354" y="1359582"/>
                  <a:pt x="586154" y="1250167"/>
                </a:cubicBezTo>
                <a:cubicBezTo>
                  <a:pt x="636954" y="1140752"/>
                  <a:pt x="703385" y="988352"/>
                  <a:pt x="797169" y="898475"/>
                </a:cubicBezTo>
                <a:cubicBezTo>
                  <a:pt x="890953" y="808598"/>
                  <a:pt x="1039446" y="773429"/>
                  <a:pt x="1148861" y="710906"/>
                </a:cubicBezTo>
                <a:lnTo>
                  <a:pt x="1453661" y="523336"/>
                </a:lnTo>
                <a:cubicBezTo>
                  <a:pt x="1563076" y="503798"/>
                  <a:pt x="1715477" y="550690"/>
                  <a:pt x="1805354" y="593675"/>
                </a:cubicBezTo>
                <a:cubicBezTo>
                  <a:pt x="1895231" y="636660"/>
                  <a:pt x="1947664" y="698150"/>
                  <a:pt x="1992923" y="781244"/>
                </a:cubicBezTo>
                <a:cubicBezTo>
                  <a:pt x="2038182" y="864338"/>
                  <a:pt x="2046640" y="990795"/>
                  <a:pt x="2076910" y="1092241"/>
                </a:cubicBezTo>
                <a:cubicBezTo>
                  <a:pt x="2107180" y="1193687"/>
                  <a:pt x="2119238" y="1310388"/>
                  <a:pt x="2174546" y="1389923"/>
                </a:cubicBezTo>
                <a:cubicBezTo>
                  <a:pt x="2229854" y="1469458"/>
                  <a:pt x="2342214" y="1531130"/>
                  <a:pt x="2408757" y="1569453"/>
                </a:cubicBezTo>
                <a:cubicBezTo>
                  <a:pt x="2475300" y="1607776"/>
                  <a:pt x="2517614" y="1615969"/>
                  <a:pt x="2573801" y="1619863"/>
                </a:cubicBezTo>
                <a:cubicBezTo>
                  <a:pt x="2629988" y="1623757"/>
                  <a:pt x="2684808" y="1611168"/>
                  <a:pt x="2745880" y="1592816"/>
                </a:cubicBezTo>
                <a:cubicBezTo>
                  <a:pt x="2806952" y="1574464"/>
                  <a:pt x="2877415" y="1542282"/>
                  <a:pt x="2940231" y="1509750"/>
                </a:cubicBezTo>
                <a:cubicBezTo>
                  <a:pt x="3003047" y="1477219"/>
                  <a:pt x="3073553" y="1464337"/>
                  <a:pt x="3122776" y="1397627"/>
                </a:cubicBezTo>
                <a:cubicBezTo>
                  <a:pt x="3171999" y="1330917"/>
                  <a:pt x="3208955" y="1231759"/>
                  <a:pt x="3235569" y="1109490"/>
                </a:cubicBezTo>
                <a:cubicBezTo>
                  <a:pt x="3262183" y="987221"/>
                  <a:pt x="3239476" y="800782"/>
                  <a:pt x="3282461" y="664013"/>
                </a:cubicBezTo>
                <a:cubicBezTo>
                  <a:pt x="3325446" y="527244"/>
                  <a:pt x="3407508" y="390475"/>
                  <a:pt x="3493477" y="288875"/>
                </a:cubicBezTo>
                <a:cubicBezTo>
                  <a:pt x="3579446" y="187275"/>
                  <a:pt x="3720123" y="101305"/>
                  <a:pt x="3798277" y="54413"/>
                </a:cubicBezTo>
                <a:cubicBezTo>
                  <a:pt x="3876431" y="7521"/>
                  <a:pt x="3876431" y="-12017"/>
                  <a:pt x="3962400" y="7521"/>
                </a:cubicBezTo>
                <a:cubicBezTo>
                  <a:pt x="4048369" y="27059"/>
                  <a:pt x="4216400" y="73952"/>
                  <a:pt x="4314092" y="171644"/>
                </a:cubicBezTo>
                <a:cubicBezTo>
                  <a:pt x="4411784" y="269336"/>
                  <a:pt x="4478216" y="433460"/>
                  <a:pt x="4548554" y="593675"/>
                </a:cubicBezTo>
                <a:cubicBezTo>
                  <a:pt x="4618893" y="753890"/>
                  <a:pt x="4657969" y="953182"/>
                  <a:pt x="4736123" y="1132936"/>
                </a:cubicBezTo>
                <a:cubicBezTo>
                  <a:pt x="4814277" y="1312690"/>
                  <a:pt x="4900246" y="1539336"/>
                  <a:pt x="5017477" y="1672198"/>
                </a:cubicBezTo>
                <a:cubicBezTo>
                  <a:pt x="5134708" y="1805060"/>
                  <a:pt x="5255846" y="1879306"/>
                  <a:pt x="5439507" y="1930106"/>
                </a:cubicBezTo>
                <a:cubicBezTo>
                  <a:pt x="5623168" y="1980906"/>
                  <a:pt x="5900615" y="1937921"/>
                  <a:pt x="6119446" y="1976998"/>
                </a:cubicBezTo>
                <a:lnTo>
                  <a:pt x="6752492" y="2164567"/>
                </a:lnTo>
                <a:lnTo>
                  <a:pt x="7385538" y="2258352"/>
                </a:lnTo>
                <a:lnTo>
                  <a:pt x="2438400" y="2680383"/>
                </a:lnTo>
                <a:lnTo>
                  <a:pt x="23446" y="2258352"/>
                </a:lnTo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8" name=""/>
          <p:cNvGrpSpPr/>
          <p:nvPr/>
        </p:nvGrpSpPr>
        <p:grpSpPr>
          <a:xfrm>
            <a:off x="-6932520" y="2336760"/>
            <a:ext cx="12732120" cy="582480"/>
            <a:chOff x="-6932520" y="2336760"/>
            <a:chExt cx="12732120" cy="582480"/>
          </a:xfrm>
        </p:grpSpPr>
        <p:sp>
          <p:nvSpPr>
            <p:cNvPr id="779" name="任意多边形 14"/>
            <p:cNvSpPr/>
            <p:nvPr/>
          </p:nvSpPr>
          <p:spPr>
            <a:xfrm>
              <a:off x="-6932520" y="2336760"/>
              <a:ext cx="12725640" cy="577080"/>
            </a:xfrm>
            <a:custGeom>
              <a:avLst/>
              <a:gdLst>
                <a:gd name="textAreaLeft" fmla="*/ 0 w 12725640"/>
                <a:gd name="textAreaRight" fmla="*/ 12726000 w 12725640"/>
                <a:gd name="textAreaTop" fmla="*/ 0 h 577080"/>
                <a:gd name="textAreaBottom" fmla="*/ 577440 h 577080"/>
              </a:gdLst>
              <a:ahLst/>
              <a:rect l="textAreaLeft" t="textAreaTop" r="textAreaRight" b="textAreaBottom"/>
              <a:pathLst>
                <a:path w="6683022" h="575734">
                  <a:moveTo>
                    <a:pt x="0" y="575734"/>
                  </a:moveTo>
                  <a:lnTo>
                    <a:pt x="1286933" y="304800"/>
                  </a:lnTo>
                  <a:lnTo>
                    <a:pt x="2381955" y="56445"/>
                  </a:lnTo>
                  <a:lnTo>
                    <a:pt x="3194755" y="0"/>
                  </a:lnTo>
                  <a:lnTo>
                    <a:pt x="4064000" y="22578"/>
                  </a:lnTo>
                  <a:lnTo>
                    <a:pt x="4696178" y="67734"/>
                  </a:lnTo>
                  <a:lnTo>
                    <a:pt x="5734755" y="270934"/>
                  </a:lnTo>
                  <a:lnTo>
                    <a:pt x="6344355" y="361245"/>
                  </a:lnTo>
                  <a:cubicBezTo>
                    <a:pt x="6449695" y="372950"/>
                    <a:pt x="6637658" y="553157"/>
                    <a:pt x="6683022" y="553157"/>
                  </a:cubicBez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任意多边形 278"/>
            <p:cNvSpPr/>
            <p:nvPr/>
          </p:nvSpPr>
          <p:spPr>
            <a:xfrm>
              <a:off x="-6926040" y="2342160"/>
              <a:ext cx="12725640" cy="577080"/>
            </a:xfrm>
            <a:custGeom>
              <a:avLst/>
              <a:gdLst>
                <a:gd name="textAreaLeft" fmla="*/ 0 w 12725640"/>
                <a:gd name="textAreaRight" fmla="*/ 12726000 w 12725640"/>
                <a:gd name="textAreaTop" fmla="*/ 0 h 577080"/>
                <a:gd name="textAreaBottom" fmla="*/ 577440 h 577080"/>
              </a:gdLst>
              <a:ahLst/>
              <a:rect l="textAreaLeft" t="textAreaTop" r="textAreaRight" b="textAreaBottom"/>
              <a:pathLst>
                <a:path w="6683022" h="575734">
                  <a:moveTo>
                    <a:pt x="0" y="575734"/>
                  </a:moveTo>
                  <a:lnTo>
                    <a:pt x="1286933" y="304800"/>
                  </a:lnTo>
                  <a:lnTo>
                    <a:pt x="2381955" y="56445"/>
                  </a:lnTo>
                  <a:lnTo>
                    <a:pt x="3194755" y="0"/>
                  </a:lnTo>
                  <a:lnTo>
                    <a:pt x="4064000" y="22578"/>
                  </a:lnTo>
                  <a:lnTo>
                    <a:pt x="4696178" y="67734"/>
                  </a:lnTo>
                  <a:lnTo>
                    <a:pt x="5734755" y="270934"/>
                  </a:lnTo>
                  <a:lnTo>
                    <a:pt x="6344355" y="361245"/>
                  </a:lnTo>
                  <a:cubicBezTo>
                    <a:pt x="6449695" y="372950"/>
                    <a:pt x="6637658" y="553157"/>
                    <a:pt x="6683022" y="553157"/>
                  </a:cubicBezTo>
                </a:path>
              </a:pathLst>
            </a:cu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1" name=""/>
          <p:cNvGrpSpPr/>
          <p:nvPr/>
        </p:nvGrpSpPr>
        <p:grpSpPr>
          <a:xfrm>
            <a:off x="-8674560" y="2427120"/>
            <a:ext cx="36563760" cy="2880000"/>
            <a:chOff x="-8674560" y="2427120"/>
            <a:chExt cx="36563760" cy="2880000"/>
          </a:xfrm>
        </p:grpSpPr>
        <p:sp>
          <p:nvSpPr>
            <p:cNvPr id="782" name="矩形 2"/>
            <p:cNvSpPr/>
            <p:nvPr/>
          </p:nvSpPr>
          <p:spPr>
            <a:xfrm flipH="1">
              <a:off x="-8665920" y="2427120"/>
              <a:ext cx="36554760" cy="2880000"/>
            </a:xfrm>
            <a:custGeom>
              <a:avLst/>
              <a:gdLst>
                <a:gd name="textAreaLeft" fmla="*/ -360 w 36554760"/>
                <a:gd name="textAreaRight" fmla="*/ 36554760 w 36554760"/>
                <a:gd name="textAreaTop" fmla="*/ 0 h 2880000"/>
                <a:gd name="textAreaBottom" fmla="*/ 2880360 h 2880000"/>
              </a:gdLst>
              <a:ahLst/>
              <a:rect l="textAreaLeft" t="textAreaTop" r="textAreaRight" b="textAreaBottom"/>
              <a:pathLst>
                <a:path w="17081127" h="2759936">
                  <a:moveTo>
                    <a:pt x="106255" y="128534"/>
                  </a:moveTo>
                  <a:cubicBezTo>
                    <a:pt x="1443578" y="-252561"/>
                    <a:pt x="6432901" y="334105"/>
                    <a:pt x="8023937" y="345017"/>
                  </a:cubicBezTo>
                  <a:cubicBezTo>
                    <a:pt x="8307660" y="319343"/>
                    <a:pt x="8503937" y="173779"/>
                    <a:pt x="9652469" y="194006"/>
                  </a:cubicBezTo>
                  <a:cubicBezTo>
                    <a:pt x="11452086" y="242644"/>
                    <a:pt x="13115515" y="417743"/>
                    <a:pt x="14915132" y="466381"/>
                  </a:cubicBezTo>
                  <a:lnTo>
                    <a:pt x="16973957" y="359889"/>
                  </a:lnTo>
                  <a:cubicBezTo>
                    <a:pt x="17272327" y="399568"/>
                    <a:pt x="16852801" y="545549"/>
                    <a:pt x="16854630" y="616320"/>
                  </a:cubicBezTo>
                  <a:cubicBezTo>
                    <a:pt x="16841874" y="684020"/>
                    <a:pt x="16964067" y="620546"/>
                    <a:pt x="17010664" y="633890"/>
                  </a:cubicBezTo>
                  <a:cubicBezTo>
                    <a:pt x="17057261" y="647234"/>
                    <a:pt x="17007098" y="738607"/>
                    <a:pt x="16984931" y="784518"/>
                  </a:cubicBezTo>
                  <a:cubicBezTo>
                    <a:pt x="16994775" y="840702"/>
                    <a:pt x="16779840" y="997316"/>
                    <a:pt x="16764417" y="1041561"/>
                  </a:cubicBezTo>
                  <a:cubicBezTo>
                    <a:pt x="16826108" y="1024706"/>
                    <a:pt x="16830702" y="1066844"/>
                    <a:pt x="16892393" y="1049989"/>
                  </a:cubicBezTo>
                  <a:cubicBezTo>
                    <a:pt x="16919301" y="1040157"/>
                    <a:pt x="16930749" y="1168807"/>
                    <a:pt x="16957657" y="1158975"/>
                  </a:cubicBezTo>
                  <a:cubicBezTo>
                    <a:pt x="16986506" y="1180503"/>
                    <a:pt x="17030090" y="1155374"/>
                    <a:pt x="17040205" y="1173748"/>
                  </a:cubicBezTo>
                  <a:cubicBezTo>
                    <a:pt x="17050321" y="1192122"/>
                    <a:pt x="17054798" y="1237171"/>
                    <a:pt x="17018350" y="1269217"/>
                  </a:cubicBezTo>
                  <a:cubicBezTo>
                    <a:pt x="16974050" y="1300821"/>
                    <a:pt x="16843378" y="1337387"/>
                    <a:pt x="16821514" y="1366026"/>
                  </a:cubicBezTo>
                  <a:cubicBezTo>
                    <a:pt x="16900925" y="1336529"/>
                    <a:pt x="16852360" y="1391309"/>
                    <a:pt x="16931771" y="1361812"/>
                  </a:cubicBezTo>
                  <a:cubicBezTo>
                    <a:pt x="16954085" y="1354789"/>
                    <a:pt x="16893706" y="1482608"/>
                    <a:pt x="16916020" y="1475585"/>
                  </a:cubicBezTo>
                  <a:cubicBezTo>
                    <a:pt x="16959335" y="1458730"/>
                    <a:pt x="16773100" y="1640329"/>
                    <a:pt x="16816415" y="1623474"/>
                  </a:cubicBezTo>
                  <a:cubicBezTo>
                    <a:pt x="16786719" y="1701693"/>
                    <a:pt x="16722199" y="1850079"/>
                    <a:pt x="16779024" y="1867780"/>
                  </a:cubicBezTo>
                  <a:cubicBezTo>
                    <a:pt x="16835849" y="1885481"/>
                    <a:pt x="16897814" y="1938125"/>
                    <a:pt x="16869100" y="1961038"/>
                  </a:cubicBezTo>
                  <a:cubicBezTo>
                    <a:pt x="16918978" y="1935755"/>
                    <a:pt x="16515682" y="2107659"/>
                    <a:pt x="16565560" y="2082376"/>
                  </a:cubicBezTo>
                  <a:cubicBezTo>
                    <a:pt x="16616751" y="2051475"/>
                    <a:pt x="16650221" y="2092208"/>
                    <a:pt x="16701412" y="2061307"/>
                  </a:cubicBezTo>
                  <a:cubicBezTo>
                    <a:pt x="16742102" y="2036024"/>
                    <a:pt x="16540621" y="2288853"/>
                    <a:pt x="16581311" y="2263570"/>
                  </a:cubicBezTo>
                  <a:cubicBezTo>
                    <a:pt x="16652847" y="2221432"/>
                    <a:pt x="16620032" y="2394199"/>
                    <a:pt x="16691568" y="2352061"/>
                  </a:cubicBezTo>
                  <a:cubicBezTo>
                    <a:pt x="16731602" y="2326778"/>
                    <a:pt x="16539308" y="2575393"/>
                    <a:pt x="16579342" y="2550110"/>
                  </a:cubicBezTo>
                  <a:cubicBezTo>
                    <a:pt x="16668598" y="2489712"/>
                    <a:pt x="16411331" y="2812772"/>
                    <a:pt x="16500587" y="2752374"/>
                  </a:cubicBezTo>
                  <a:lnTo>
                    <a:pt x="0" y="2631588"/>
                  </a:lnTo>
                  <a:lnTo>
                    <a:pt x="106255" y="1285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矩形 2"/>
            <p:cNvSpPr/>
            <p:nvPr/>
          </p:nvSpPr>
          <p:spPr>
            <a:xfrm flipH="1">
              <a:off x="-8674920" y="2432880"/>
              <a:ext cx="36554760" cy="2715480"/>
            </a:xfrm>
            <a:custGeom>
              <a:avLst/>
              <a:gdLst>
                <a:gd name="textAreaLeft" fmla="*/ -360 w 36554760"/>
                <a:gd name="textAreaRight" fmla="*/ 36554760 w 36554760"/>
                <a:gd name="textAreaTop" fmla="*/ 0 h 2715480"/>
                <a:gd name="textAreaBottom" fmla="*/ 2715840 h 2715480"/>
              </a:gdLst>
              <a:ahLst/>
              <a:rect l="textAreaLeft" t="textAreaTop" r="textAreaRight" b="textAreaBottom"/>
              <a:pathLst>
                <a:path w="17081127" h="2759936">
                  <a:moveTo>
                    <a:pt x="106255" y="128534"/>
                  </a:moveTo>
                  <a:cubicBezTo>
                    <a:pt x="1443578" y="-252561"/>
                    <a:pt x="6432901" y="334105"/>
                    <a:pt x="8023937" y="345017"/>
                  </a:cubicBezTo>
                  <a:cubicBezTo>
                    <a:pt x="8307660" y="319343"/>
                    <a:pt x="8503937" y="173779"/>
                    <a:pt x="9652469" y="194006"/>
                  </a:cubicBezTo>
                  <a:cubicBezTo>
                    <a:pt x="11452086" y="242644"/>
                    <a:pt x="13115515" y="417743"/>
                    <a:pt x="14915132" y="466381"/>
                  </a:cubicBezTo>
                  <a:lnTo>
                    <a:pt x="16973957" y="359889"/>
                  </a:lnTo>
                  <a:cubicBezTo>
                    <a:pt x="17272327" y="399568"/>
                    <a:pt x="16852801" y="545549"/>
                    <a:pt x="16854630" y="616320"/>
                  </a:cubicBezTo>
                  <a:cubicBezTo>
                    <a:pt x="16841874" y="684020"/>
                    <a:pt x="16964067" y="620546"/>
                    <a:pt x="17010664" y="633890"/>
                  </a:cubicBezTo>
                  <a:cubicBezTo>
                    <a:pt x="17057261" y="647234"/>
                    <a:pt x="17007098" y="738607"/>
                    <a:pt x="16984931" y="784518"/>
                  </a:cubicBezTo>
                  <a:cubicBezTo>
                    <a:pt x="16994775" y="840702"/>
                    <a:pt x="16779840" y="997316"/>
                    <a:pt x="16764417" y="1041561"/>
                  </a:cubicBezTo>
                  <a:cubicBezTo>
                    <a:pt x="16826108" y="1024706"/>
                    <a:pt x="16830702" y="1066844"/>
                    <a:pt x="16892393" y="1049989"/>
                  </a:cubicBezTo>
                  <a:cubicBezTo>
                    <a:pt x="16919301" y="1040157"/>
                    <a:pt x="16930749" y="1168807"/>
                    <a:pt x="16957657" y="1158975"/>
                  </a:cubicBezTo>
                  <a:cubicBezTo>
                    <a:pt x="16986506" y="1180503"/>
                    <a:pt x="17030090" y="1155374"/>
                    <a:pt x="17040205" y="1173748"/>
                  </a:cubicBezTo>
                  <a:cubicBezTo>
                    <a:pt x="17050321" y="1192122"/>
                    <a:pt x="17054798" y="1237171"/>
                    <a:pt x="17018350" y="1269217"/>
                  </a:cubicBezTo>
                  <a:cubicBezTo>
                    <a:pt x="16974050" y="1300821"/>
                    <a:pt x="16843378" y="1337387"/>
                    <a:pt x="16821514" y="1366026"/>
                  </a:cubicBezTo>
                  <a:cubicBezTo>
                    <a:pt x="16900925" y="1336529"/>
                    <a:pt x="16852360" y="1391309"/>
                    <a:pt x="16931771" y="1361812"/>
                  </a:cubicBezTo>
                  <a:cubicBezTo>
                    <a:pt x="16954085" y="1354789"/>
                    <a:pt x="16893706" y="1482608"/>
                    <a:pt x="16916020" y="1475585"/>
                  </a:cubicBezTo>
                  <a:cubicBezTo>
                    <a:pt x="16959335" y="1458730"/>
                    <a:pt x="16773100" y="1640329"/>
                    <a:pt x="16816415" y="1623474"/>
                  </a:cubicBezTo>
                  <a:cubicBezTo>
                    <a:pt x="16786719" y="1701693"/>
                    <a:pt x="16722199" y="1850079"/>
                    <a:pt x="16779024" y="1867780"/>
                  </a:cubicBezTo>
                  <a:cubicBezTo>
                    <a:pt x="16835849" y="1885481"/>
                    <a:pt x="16897814" y="1938125"/>
                    <a:pt x="16869100" y="1961038"/>
                  </a:cubicBezTo>
                  <a:cubicBezTo>
                    <a:pt x="16918978" y="1935755"/>
                    <a:pt x="16515682" y="2107659"/>
                    <a:pt x="16565560" y="2082376"/>
                  </a:cubicBezTo>
                  <a:cubicBezTo>
                    <a:pt x="16616751" y="2051475"/>
                    <a:pt x="16650221" y="2092208"/>
                    <a:pt x="16701412" y="2061307"/>
                  </a:cubicBezTo>
                  <a:cubicBezTo>
                    <a:pt x="16742102" y="2036024"/>
                    <a:pt x="16540621" y="2288853"/>
                    <a:pt x="16581311" y="2263570"/>
                  </a:cubicBezTo>
                  <a:cubicBezTo>
                    <a:pt x="16652847" y="2221432"/>
                    <a:pt x="16620032" y="2394199"/>
                    <a:pt x="16691568" y="2352061"/>
                  </a:cubicBezTo>
                  <a:cubicBezTo>
                    <a:pt x="16731602" y="2326778"/>
                    <a:pt x="16539308" y="2575393"/>
                    <a:pt x="16579342" y="2550110"/>
                  </a:cubicBezTo>
                  <a:cubicBezTo>
                    <a:pt x="16668598" y="2489712"/>
                    <a:pt x="16411331" y="2812772"/>
                    <a:pt x="16500587" y="2752374"/>
                  </a:cubicBezTo>
                  <a:lnTo>
                    <a:pt x="0" y="2631588"/>
                  </a:lnTo>
                  <a:lnTo>
                    <a:pt x="106255" y="128534"/>
                  </a:lnTo>
                  <a:close/>
                </a:path>
              </a:pathLst>
            </a:cu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4" name=""/>
          <p:cNvGrpSpPr/>
          <p:nvPr/>
        </p:nvGrpSpPr>
        <p:grpSpPr>
          <a:xfrm>
            <a:off x="-9059760" y="2417760"/>
            <a:ext cx="36563400" cy="2884320"/>
            <a:chOff x="-9059760" y="2417760"/>
            <a:chExt cx="36563400" cy="2884320"/>
          </a:xfrm>
        </p:grpSpPr>
        <p:sp>
          <p:nvSpPr>
            <p:cNvPr id="785" name="矩形 2"/>
            <p:cNvSpPr/>
            <p:nvPr/>
          </p:nvSpPr>
          <p:spPr>
            <a:xfrm flipH="1">
              <a:off x="-9050760" y="2417760"/>
              <a:ext cx="36554400" cy="2884320"/>
            </a:xfrm>
            <a:custGeom>
              <a:avLst/>
              <a:gdLst>
                <a:gd name="textAreaLeft" fmla="*/ 360 w 36554400"/>
                <a:gd name="textAreaRight" fmla="*/ 36555120 w 36554400"/>
                <a:gd name="textAreaTop" fmla="*/ 0 h 2884320"/>
                <a:gd name="textAreaBottom" fmla="*/ 2884680 h 2884320"/>
              </a:gdLst>
              <a:ahLst/>
              <a:rect l="textAreaLeft" t="textAreaTop" r="textAreaRight" b="textAreaBottom"/>
              <a:pathLst>
                <a:path w="17081127" h="2764699">
                  <a:moveTo>
                    <a:pt x="106255" y="133297"/>
                  </a:moveTo>
                  <a:cubicBezTo>
                    <a:pt x="1443578" y="-247798"/>
                    <a:pt x="6438434" y="308292"/>
                    <a:pt x="8029470" y="319204"/>
                  </a:cubicBezTo>
                  <a:cubicBezTo>
                    <a:pt x="8313193" y="293530"/>
                    <a:pt x="8474682" y="124568"/>
                    <a:pt x="9622292" y="149891"/>
                  </a:cubicBezTo>
                  <a:cubicBezTo>
                    <a:pt x="10769902" y="175214"/>
                    <a:pt x="13115515" y="422506"/>
                    <a:pt x="14915132" y="471144"/>
                  </a:cubicBezTo>
                  <a:lnTo>
                    <a:pt x="16973957" y="364652"/>
                  </a:lnTo>
                  <a:cubicBezTo>
                    <a:pt x="17272327" y="404331"/>
                    <a:pt x="16852801" y="550312"/>
                    <a:pt x="16854630" y="621083"/>
                  </a:cubicBezTo>
                  <a:cubicBezTo>
                    <a:pt x="16841874" y="688783"/>
                    <a:pt x="16964067" y="625309"/>
                    <a:pt x="17010664" y="638653"/>
                  </a:cubicBezTo>
                  <a:cubicBezTo>
                    <a:pt x="17057261" y="651997"/>
                    <a:pt x="17007098" y="743370"/>
                    <a:pt x="16984931" y="789281"/>
                  </a:cubicBezTo>
                  <a:cubicBezTo>
                    <a:pt x="16994775" y="845465"/>
                    <a:pt x="16779840" y="1002079"/>
                    <a:pt x="16764417" y="1046324"/>
                  </a:cubicBezTo>
                  <a:cubicBezTo>
                    <a:pt x="16826108" y="1029469"/>
                    <a:pt x="16830702" y="1071607"/>
                    <a:pt x="16892393" y="1054752"/>
                  </a:cubicBezTo>
                  <a:cubicBezTo>
                    <a:pt x="16919301" y="1044920"/>
                    <a:pt x="16930749" y="1173570"/>
                    <a:pt x="16957657" y="1163738"/>
                  </a:cubicBezTo>
                  <a:cubicBezTo>
                    <a:pt x="16986506" y="1185266"/>
                    <a:pt x="17030090" y="1160137"/>
                    <a:pt x="17040205" y="1178511"/>
                  </a:cubicBezTo>
                  <a:cubicBezTo>
                    <a:pt x="17050321" y="1196885"/>
                    <a:pt x="17054798" y="1241934"/>
                    <a:pt x="17018350" y="1273980"/>
                  </a:cubicBezTo>
                  <a:cubicBezTo>
                    <a:pt x="16974050" y="1305584"/>
                    <a:pt x="16843378" y="1342150"/>
                    <a:pt x="16821514" y="1370789"/>
                  </a:cubicBezTo>
                  <a:cubicBezTo>
                    <a:pt x="16900925" y="1341292"/>
                    <a:pt x="16852360" y="1396072"/>
                    <a:pt x="16931771" y="1366575"/>
                  </a:cubicBezTo>
                  <a:cubicBezTo>
                    <a:pt x="16954085" y="1359552"/>
                    <a:pt x="16893706" y="1487371"/>
                    <a:pt x="16916020" y="1480348"/>
                  </a:cubicBezTo>
                  <a:cubicBezTo>
                    <a:pt x="16959335" y="1463493"/>
                    <a:pt x="16773100" y="1645092"/>
                    <a:pt x="16816415" y="1628237"/>
                  </a:cubicBezTo>
                  <a:cubicBezTo>
                    <a:pt x="16786719" y="1706456"/>
                    <a:pt x="16722199" y="1854842"/>
                    <a:pt x="16779024" y="1872543"/>
                  </a:cubicBezTo>
                  <a:cubicBezTo>
                    <a:pt x="16835849" y="1890244"/>
                    <a:pt x="16897814" y="1942888"/>
                    <a:pt x="16869100" y="1965801"/>
                  </a:cubicBezTo>
                  <a:cubicBezTo>
                    <a:pt x="16918978" y="1940518"/>
                    <a:pt x="16515682" y="2112422"/>
                    <a:pt x="16565560" y="2087139"/>
                  </a:cubicBezTo>
                  <a:cubicBezTo>
                    <a:pt x="16616751" y="2056238"/>
                    <a:pt x="16650221" y="2096971"/>
                    <a:pt x="16701412" y="2066070"/>
                  </a:cubicBezTo>
                  <a:cubicBezTo>
                    <a:pt x="16742102" y="2040787"/>
                    <a:pt x="16540621" y="2293616"/>
                    <a:pt x="16581311" y="2268333"/>
                  </a:cubicBezTo>
                  <a:cubicBezTo>
                    <a:pt x="16652847" y="2226195"/>
                    <a:pt x="16620032" y="2398962"/>
                    <a:pt x="16691568" y="2356824"/>
                  </a:cubicBezTo>
                  <a:cubicBezTo>
                    <a:pt x="16731602" y="2331541"/>
                    <a:pt x="16539308" y="2580156"/>
                    <a:pt x="16579342" y="2554873"/>
                  </a:cubicBezTo>
                  <a:cubicBezTo>
                    <a:pt x="16668598" y="2494475"/>
                    <a:pt x="16411331" y="2817535"/>
                    <a:pt x="16500587" y="2757137"/>
                  </a:cubicBezTo>
                  <a:lnTo>
                    <a:pt x="0" y="2636351"/>
                  </a:lnTo>
                  <a:lnTo>
                    <a:pt x="106255" y="13329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矩形 2"/>
            <p:cNvSpPr/>
            <p:nvPr/>
          </p:nvSpPr>
          <p:spPr>
            <a:xfrm flipH="1">
              <a:off x="-9059760" y="2425320"/>
              <a:ext cx="36554400" cy="2718000"/>
            </a:xfrm>
            <a:custGeom>
              <a:avLst/>
              <a:gdLst>
                <a:gd name="textAreaLeft" fmla="*/ 360 w 36554400"/>
                <a:gd name="textAreaRight" fmla="*/ 36555120 w 36554400"/>
                <a:gd name="textAreaTop" fmla="*/ 0 h 2718000"/>
                <a:gd name="textAreaBottom" fmla="*/ 2718360 h 2718000"/>
              </a:gdLst>
              <a:ahLst/>
              <a:rect l="textAreaLeft" t="textAreaTop" r="textAreaRight" b="textAreaBottom"/>
              <a:pathLst>
                <a:path w="17081127" h="2763198">
                  <a:moveTo>
                    <a:pt x="106255" y="131796"/>
                  </a:moveTo>
                  <a:cubicBezTo>
                    <a:pt x="1443578" y="-249299"/>
                    <a:pt x="6415344" y="316186"/>
                    <a:pt x="8006380" y="327098"/>
                  </a:cubicBezTo>
                  <a:cubicBezTo>
                    <a:pt x="8290103" y="301424"/>
                    <a:pt x="8488517" y="135454"/>
                    <a:pt x="9639976" y="159211"/>
                  </a:cubicBezTo>
                  <a:cubicBezTo>
                    <a:pt x="10791435" y="182969"/>
                    <a:pt x="13115515" y="421005"/>
                    <a:pt x="14915132" y="469643"/>
                  </a:cubicBezTo>
                  <a:lnTo>
                    <a:pt x="16973957" y="363151"/>
                  </a:lnTo>
                  <a:cubicBezTo>
                    <a:pt x="17272327" y="402830"/>
                    <a:pt x="16852801" y="548811"/>
                    <a:pt x="16854630" y="619582"/>
                  </a:cubicBezTo>
                  <a:cubicBezTo>
                    <a:pt x="16841874" y="687282"/>
                    <a:pt x="16964067" y="623808"/>
                    <a:pt x="17010664" y="637152"/>
                  </a:cubicBezTo>
                  <a:cubicBezTo>
                    <a:pt x="17057261" y="650496"/>
                    <a:pt x="17007098" y="741869"/>
                    <a:pt x="16984931" y="787780"/>
                  </a:cubicBezTo>
                  <a:cubicBezTo>
                    <a:pt x="16994775" y="843964"/>
                    <a:pt x="16779840" y="1000578"/>
                    <a:pt x="16764417" y="1044823"/>
                  </a:cubicBezTo>
                  <a:cubicBezTo>
                    <a:pt x="16826108" y="1027968"/>
                    <a:pt x="16830702" y="1070106"/>
                    <a:pt x="16892393" y="1053251"/>
                  </a:cubicBezTo>
                  <a:cubicBezTo>
                    <a:pt x="16919301" y="1043419"/>
                    <a:pt x="16930749" y="1172069"/>
                    <a:pt x="16957657" y="1162237"/>
                  </a:cubicBezTo>
                  <a:cubicBezTo>
                    <a:pt x="16986506" y="1183765"/>
                    <a:pt x="17030090" y="1158636"/>
                    <a:pt x="17040205" y="1177010"/>
                  </a:cubicBezTo>
                  <a:cubicBezTo>
                    <a:pt x="17050321" y="1195384"/>
                    <a:pt x="17054798" y="1240433"/>
                    <a:pt x="17018350" y="1272479"/>
                  </a:cubicBezTo>
                  <a:cubicBezTo>
                    <a:pt x="16974050" y="1304083"/>
                    <a:pt x="16843378" y="1340649"/>
                    <a:pt x="16821514" y="1369288"/>
                  </a:cubicBezTo>
                  <a:cubicBezTo>
                    <a:pt x="16900925" y="1339791"/>
                    <a:pt x="16852360" y="1394571"/>
                    <a:pt x="16931771" y="1365074"/>
                  </a:cubicBezTo>
                  <a:cubicBezTo>
                    <a:pt x="16954085" y="1358051"/>
                    <a:pt x="16893706" y="1485870"/>
                    <a:pt x="16916020" y="1478847"/>
                  </a:cubicBezTo>
                  <a:cubicBezTo>
                    <a:pt x="16959335" y="1461992"/>
                    <a:pt x="16773100" y="1643591"/>
                    <a:pt x="16816415" y="1626736"/>
                  </a:cubicBezTo>
                  <a:cubicBezTo>
                    <a:pt x="16786719" y="1704955"/>
                    <a:pt x="16722199" y="1853341"/>
                    <a:pt x="16779024" y="1871042"/>
                  </a:cubicBezTo>
                  <a:cubicBezTo>
                    <a:pt x="16835849" y="1888743"/>
                    <a:pt x="16897814" y="1941387"/>
                    <a:pt x="16869100" y="1964300"/>
                  </a:cubicBezTo>
                  <a:cubicBezTo>
                    <a:pt x="16918978" y="1939017"/>
                    <a:pt x="16515682" y="2110921"/>
                    <a:pt x="16565560" y="2085638"/>
                  </a:cubicBezTo>
                  <a:cubicBezTo>
                    <a:pt x="16616751" y="2054737"/>
                    <a:pt x="16650221" y="2095470"/>
                    <a:pt x="16701412" y="2064569"/>
                  </a:cubicBezTo>
                  <a:cubicBezTo>
                    <a:pt x="16742102" y="2039286"/>
                    <a:pt x="16540621" y="2292115"/>
                    <a:pt x="16581311" y="2266832"/>
                  </a:cubicBezTo>
                  <a:cubicBezTo>
                    <a:pt x="16652847" y="2224694"/>
                    <a:pt x="16620032" y="2397461"/>
                    <a:pt x="16691568" y="2355323"/>
                  </a:cubicBezTo>
                  <a:cubicBezTo>
                    <a:pt x="16731602" y="2330040"/>
                    <a:pt x="16539308" y="2578655"/>
                    <a:pt x="16579342" y="2553372"/>
                  </a:cubicBezTo>
                  <a:cubicBezTo>
                    <a:pt x="16668598" y="2492974"/>
                    <a:pt x="16411331" y="2816034"/>
                    <a:pt x="16500587" y="2755636"/>
                  </a:cubicBezTo>
                  <a:lnTo>
                    <a:pt x="0" y="2634850"/>
                  </a:lnTo>
                  <a:lnTo>
                    <a:pt x="106255" y="131796"/>
                  </a:lnTo>
                  <a:close/>
                </a:path>
              </a:pathLst>
            </a:cu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7" name="矩形 2"/>
          <p:cNvSpPr/>
          <p:nvPr/>
        </p:nvSpPr>
        <p:spPr>
          <a:xfrm flipH="1">
            <a:off x="-7811280" y="2571840"/>
            <a:ext cx="19539000" cy="2676600"/>
          </a:xfrm>
          <a:custGeom>
            <a:avLst/>
            <a:gdLst>
              <a:gd name="textAreaLeft" fmla="*/ -360 w 19539000"/>
              <a:gd name="textAreaRight" fmla="*/ 19539000 w 19539000"/>
              <a:gd name="textAreaTop" fmla="*/ 0 h 2676600"/>
              <a:gd name="textAreaBottom" fmla="*/ 2676960 h 2676600"/>
            </a:gdLst>
            <a:ahLst/>
            <a:rect l="textAreaLeft" t="textAreaTop" r="textAreaRight" b="textAreaBottom"/>
            <a:pathLst>
              <a:path w="9130999" h="2565910">
                <a:moveTo>
                  <a:pt x="0" y="154024"/>
                </a:moveTo>
                <a:cubicBezTo>
                  <a:pt x="169801" y="-231159"/>
                  <a:pt x="735082" y="241313"/>
                  <a:pt x="1018805" y="215639"/>
                </a:cubicBezTo>
                <a:cubicBezTo>
                  <a:pt x="1111223" y="187664"/>
                  <a:pt x="1189628" y="127246"/>
                  <a:pt x="1284698" y="94414"/>
                </a:cubicBezTo>
                <a:cubicBezTo>
                  <a:pt x="1379768" y="61583"/>
                  <a:pt x="1479382" y="48567"/>
                  <a:pt x="1589224" y="18650"/>
                </a:cubicBezTo>
                <a:cubicBezTo>
                  <a:pt x="1626930" y="12427"/>
                  <a:pt x="1679236" y="7751"/>
                  <a:pt x="1718249" y="4643"/>
                </a:cubicBezTo>
                <a:lnTo>
                  <a:pt x="1823301" y="0"/>
                </a:lnTo>
                <a:lnTo>
                  <a:pt x="6965004" y="272355"/>
                </a:lnTo>
                <a:lnTo>
                  <a:pt x="9023829" y="165863"/>
                </a:lnTo>
                <a:cubicBezTo>
                  <a:pt x="9322199" y="205542"/>
                  <a:pt x="8902673" y="351523"/>
                  <a:pt x="8904502" y="422294"/>
                </a:cubicBezTo>
                <a:cubicBezTo>
                  <a:pt x="8891746" y="489994"/>
                  <a:pt x="9013939" y="426520"/>
                  <a:pt x="9060536" y="439864"/>
                </a:cubicBezTo>
                <a:cubicBezTo>
                  <a:pt x="9107133" y="453208"/>
                  <a:pt x="9056970" y="544581"/>
                  <a:pt x="9034803" y="590492"/>
                </a:cubicBezTo>
                <a:cubicBezTo>
                  <a:pt x="9044647" y="646676"/>
                  <a:pt x="8829712" y="803290"/>
                  <a:pt x="8814289" y="847535"/>
                </a:cubicBezTo>
                <a:cubicBezTo>
                  <a:pt x="8875980" y="830680"/>
                  <a:pt x="8880574" y="872818"/>
                  <a:pt x="8942265" y="855963"/>
                </a:cubicBezTo>
                <a:cubicBezTo>
                  <a:pt x="8969173" y="846131"/>
                  <a:pt x="8980621" y="974781"/>
                  <a:pt x="9007529" y="964949"/>
                </a:cubicBezTo>
                <a:cubicBezTo>
                  <a:pt x="9036378" y="986477"/>
                  <a:pt x="9079962" y="961348"/>
                  <a:pt x="9090077" y="979722"/>
                </a:cubicBezTo>
                <a:cubicBezTo>
                  <a:pt x="9100193" y="998096"/>
                  <a:pt x="9104670" y="1043145"/>
                  <a:pt x="9068222" y="1075191"/>
                </a:cubicBezTo>
                <a:cubicBezTo>
                  <a:pt x="9023922" y="1106795"/>
                  <a:pt x="8893250" y="1143361"/>
                  <a:pt x="8871386" y="1172000"/>
                </a:cubicBezTo>
                <a:cubicBezTo>
                  <a:pt x="8950797" y="1142503"/>
                  <a:pt x="8902232" y="1197283"/>
                  <a:pt x="8981643" y="1167786"/>
                </a:cubicBezTo>
                <a:cubicBezTo>
                  <a:pt x="9003957" y="1160763"/>
                  <a:pt x="8943578" y="1288582"/>
                  <a:pt x="8965892" y="1281559"/>
                </a:cubicBezTo>
                <a:cubicBezTo>
                  <a:pt x="9009207" y="1264704"/>
                  <a:pt x="8822972" y="1446303"/>
                  <a:pt x="8866287" y="1429448"/>
                </a:cubicBezTo>
                <a:cubicBezTo>
                  <a:pt x="8836591" y="1507667"/>
                  <a:pt x="8772071" y="1656053"/>
                  <a:pt x="8828896" y="1673754"/>
                </a:cubicBezTo>
                <a:cubicBezTo>
                  <a:pt x="8885721" y="1691455"/>
                  <a:pt x="8947686" y="1744099"/>
                  <a:pt x="8918972" y="1767012"/>
                </a:cubicBezTo>
                <a:cubicBezTo>
                  <a:pt x="8968850" y="1741729"/>
                  <a:pt x="8565554" y="1913633"/>
                  <a:pt x="8615432" y="1888350"/>
                </a:cubicBezTo>
                <a:cubicBezTo>
                  <a:pt x="8666623" y="1857449"/>
                  <a:pt x="8700093" y="1898182"/>
                  <a:pt x="8751284" y="1867281"/>
                </a:cubicBezTo>
                <a:cubicBezTo>
                  <a:pt x="8791974" y="1841998"/>
                  <a:pt x="8590493" y="2094827"/>
                  <a:pt x="8631183" y="2069544"/>
                </a:cubicBezTo>
                <a:cubicBezTo>
                  <a:pt x="8702719" y="2027406"/>
                  <a:pt x="8669904" y="2200173"/>
                  <a:pt x="8741440" y="2158035"/>
                </a:cubicBezTo>
                <a:cubicBezTo>
                  <a:pt x="8781474" y="2132752"/>
                  <a:pt x="8589180" y="2381367"/>
                  <a:pt x="8629214" y="2356084"/>
                </a:cubicBezTo>
                <a:cubicBezTo>
                  <a:pt x="8718470" y="2295686"/>
                  <a:pt x="8461203" y="2618746"/>
                  <a:pt x="8550459" y="2558348"/>
                </a:cubicBezTo>
                <a:lnTo>
                  <a:pt x="0" y="2526740"/>
                </a:lnTo>
                <a:lnTo>
                  <a:pt x="0" y="154024"/>
                </a:lnTo>
                <a:close/>
              </a:path>
            </a:pathLst>
          </a:cu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矩形 2"/>
          <p:cNvSpPr/>
          <p:nvPr/>
        </p:nvSpPr>
        <p:spPr>
          <a:xfrm>
            <a:off x="-1677960" y="7832880"/>
            <a:ext cx="19515240" cy="229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五角星 50"/>
          <p:cNvSpPr/>
          <p:nvPr/>
        </p:nvSpPr>
        <p:spPr>
          <a:xfrm>
            <a:off x="-2927520" y="-1058760"/>
            <a:ext cx="5229360" cy="4979880"/>
          </a:xfrm>
          <a:prstGeom prst="star5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矩形 6"/>
          <p:cNvSpPr/>
          <p:nvPr/>
        </p:nvSpPr>
        <p:spPr>
          <a:xfrm>
            <a:off x="19037160" y="0"/>
            <a:ext cx="863640" cy="411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95e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矩形 2"/>
          <p:cNvSpPr/>
          <p:nvPr/>
        </p:nvSpPr>
        <p:spPr>
          <a:xfrm>
            <a:off x="-1689120" y="7827840"/>
            <a:ext cx="19486440" cy="22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2" name=""/>
          <p:cNvGrpSpPr/>
          <p:nvPr/>
        </p:nvGrpSpPr>
        <p:grpSpPr>
          <a:xfrm>
            <a:off x="4140360" y="1995480"/>
            <a:ext cx="863280" cy="824040"/>
            <a:chOff x="4140360" y="1995480"/>
            <a:chExt cx="863280" cy="824040"/>
          </a:xfrm>
        </p:grpSpPr>
        <p:sp>
          <p:nvSpPr>
            <p:cNvPr id="793" name="五角星 174"/>
            <p:cNvSpPr/>
            <p:nvPr/>
          </p:nvSpPr>
          <p:spPr>
            <a:xfrm>
              <a:off x="4140360" y="1995480"/>
              <a:ext cx="863280" cy="824040"/>
            </a:xfrm>
            <a:prstGeom prst="star5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94" name=""/>
            <p:cNvGrpSpPr/>
            <p:nvPr/>
          </p:nvGrpSpPr>
          <p:grpSpPr>
            <a:xfrm>
              <a:off x="4339800" y="2210760"/>
              <a:ext cx="481680" cy="469080"/>
              <a:chOff x="4339800" y="2210760"/>
              <a:chExt cx="481680" cy="469080"/>
            </a:xfrm>
          </p:grpSpPr>
          <p:sp>
            <p:nvSpPr>
              <p:cNvPr id="795" name="十字星 176"/>
              <p:cNvSpPr/>
              <p:nvPr/>
            </p:nvSpPr>
            <p:spPr>
              <a:xfrm>
                <a:off x="4436280" y="2299320"/>
                <a:ext cx="289080" cy="290160"/>
              </a:xfrm>
              <a:custGeom>
                <a:avLst/>
                <a:gdLst>
                  <a:gd name="textAreaLeft" fmla="*/ 42840 w 289080"/>
                  <a:gd name="textAreaRight" fmla="*/ 246240 w 289080"/>
                  <a:gd name="textAreaTop" fmla="*/ 42840 h 290160"/>
                  <a:gd name="textAreaBottom" fmla="*/ 247320 h 290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3200" y="3200"/>
                    </a:lnTo>
                    <a:lnTo>
                      <a:pt x="10800" y="0"/>
                    </a:lnTo>
                    <a:lnTo>
                      <a:pt x="18400" y="3200"/>
                    </a:lnTo>
                    <a:lnTo>
                      <a:pt x="21600" y="10800"/>
                    </a:lnTo>
                    <a:lnTo>
                      <a:pt x="18400" y="18400"/>
                    </a:lnTo>
                    <a:lnTo>
                      <a:pt x="10800" y="21600"/>
                    </a:lnTo>
                    <a:lnTo>
                      <a:pt x="3200" y="18400"/>
                    </a:lnTo>
                    <a:lnTo>
                      <a:pt x="0" y="10800"/>
                    </a:lnTo>
                    <a:close/>
                  </a:path>
                </a:pathLst>
              </a:custGeom>
              <a:noFill/>
              <a:ln w="9360">
                <a:solidFill>
                  <a:srgbClr val="ffffff">
                    <a:alpha val="75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6" name="十字星 177"/>
              <p:cNvSpPr/>
              <p:nvPr/>
            </p:nvSpPr>
            <p:spPr>
              <a:xfrm>
                <a:off x="4512960" y="2379960"/>
                <a:ext cx="137520" cy="137880"/>
              </a:xfrm>
              <a:custGeom>
                <a:avLst/>
                <a:gdLst>
                  <a:gd name="textAreaLeft" fmla="*/ 20160 w 137520"/>
                  <a:gd name="textAreaRight" fmla="*/ 117360 w 137520"/>
                  <a:gd name="textAreaTop" fmla="*/ 20160 h 137880"/>
                  <a:gd name="textAreaBottom" fmla="*/ 117720 h 137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3200" y="3200"/>
                    </a:lnTo>
                    <a:lnTo>
                      <a:pt x="10800" y="0"/>
                    </a:lnTo>
                    <a:lnTo>
                      <a:pt x="18400" y="3200"/>
                    </a:lnTo>
                    <a:lnTo>
                      <a:pt x="21600" y="10800"/>
                    </a:lnTo>
                    <a:lnTo>
                      <a:pt x="18400" y="18400"/>
                    </a:lnTo>
                    <a:lnTo>
                      <a:pt x="10800" y="21600"/>
                    </a:lnTo>
                    <a:lnTo>
                      <a:pt x="3200" y="18400"/>
                    </a:lnTo>
                    <a:lnTo>
                      <a:pt x="0" y="10800"/>
                    </a:lnTo>
                    <a:close/>
                  </a:path>
                </a:pathLst>
              </a:custGeom>
              <a:noFill/>
              <a:ln w="9360">
                <a:solidFill>
                  <a:srgbClr val="ffffff">
                    <a:alpha val="75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7" name="任意多边形 178"/>
              <p:cNvSpPr/>
              <p:nvPr/>
            </p:nvSpPr>
            <p:spPr>
              <a:xfrm>
                <a:off x="4677120" y="2396520"/>
                <a:ext cx="23400" cy="99360"/>
              </a:xfrm>
              <a:custGeom>
                <a:avLst/>
                <a:gdLst>
                  <a:gd name="textAreaLeft" fmla="*/ 0 w 23400"/>
                  <a:gd name="textAreaRight" fmla="*/ 23760 w 23400"/>
                  <a:gd name="textAreaTop" fmla="*/ 0 h 99360"/>
                  <a:gd name="textAreaBottom" fmla="*/ 99720 h 99360"/>
                </a:gdLst>
                <a:ahLst/>
                <a:rect l="textAreaLeft" t="textAreaTop" r="textAreaRight" b="textAreaBottom"/>
                <a:pathLst>
                  <a:path w="105196" h="445062">
                    <a:moveTo>
                      <a:pt x="0" y="0"/>
                    </a:moveTo>
                    <a:lnTo>
                      <a:pt x="105196" y="218485"/>
                    </a:lnTo>
                    <a:lnTo>
                      <a:pt x="8092" y="445062"/>
                    </a:lnTo>
                  </a:path>
                </a:pathLst>
              </a:custGeom>
              <a:noFill/>
              <a:ln w="9360">
                <a:solidFill>
                  <a:srgbClr val="ffffff">
                    <a:alpha val="75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8" name="任意多边形 179"/>
              <p:cNvSpPr/>
              <p:nvPr/>
            </p:nvSpPr>
            <p:spPr>
              <a:xfrm flipH="1">
                <a:off x="4467600" y="2396160"/>
                <a:ext cx="23400" cy="9936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99360"/>
                  <a:gd name="textAreaBottom" fmla="*/ 99720 h 99360"/>
                </a:gdLst>
                <a:ahLst/>
                <a:rect l="textAreaLeft" t="textAreaTop" r="textAreaRight" b="textAreaBottom"/>
                <a:pathLst>
                  <a:path w="105196" h="445062">
                    <a:moveTo>
                      <a:pt x="0" y="0"/>
                    </a:moveTo>
                    <a:lnTo>
                      <a:pt x="105196" y="218485"/>
                    </a:lnTo>
                    <a:lnTo>
                      <a:pt x="8092" y="445062"/>
                    </a:lnTo>
                  </a:path>
                </a:pathLst>
              </a:custGeom>
              <a:noFill/>
              <a:ln w="9360">
                <a:solidFill>
                  <a:srgbClr val="ffffff">
                    <a:alpha val="75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" name="任意多边形 180"/>
              <p:cNvSpPr/>
              <p:nvPr/>
            </p:nvSpPr>
            <p:spPr>
              <a:xfrm flipH="1" rot="16200000">
                <a:off x="4570920" y="2495520"/>
                <a:ext cx="23400" cy="9936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99360"/>
                  <a:gd name="textAreaBottom" fmla="*/ 99720 h 99360"/>
                </a:gdLst>
                <a:ahLst/>
                <a:rect l="textAreaLeft" t="textAreaTop" r="textAreaRight" b="textAreaBottom"/>
                <a:pathLst>
                  <a:path w="105196" h="445062">
                    <a:moveTo>
                      <a:pt x="0" y="0"/>
                    </a:moveTo>
                    <a:lnTo>
                      <a:pt x="105196" y="218485"/>
                    </a:lnTo>
                    <a:lnTo>
                      <a:pt x="8092" y="445062"/>
                    </a:lnTo>
                  </a:path>
                </a:pathLst>
              </a:custGeom>
              <a:noFill/>
              <a:ln w="9360">
                <a:solidFill>
                  <a:srgbClr val="ffffff">
                    <a:alpha val="75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" name="任意多边形 181"/>
              <p:cNvSpPr/>
              <p:nvPr/>
            </p:nvSpPr>
            <p:spPr>
              <a:xfrm flipH="1" flipV="1" rot="5400000">
                <a:off x="4572360" y="2296440"/>
                <a:ext cx="23400" cy="9936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360 h 99360"/>
                  <a:gd name="textAreaBottom" fmla="*/ 100080 h 99360"/>
                </a:gdLst>
                <a:ahLst/>
                <a:rect l="textAreaLeft" t="textAreaTop" r="textAreaRight" b="textAreaBottom"/>
                <a:pathLst>
                  <a:path w="105196" h="445062">
                    <a:moveTo>
                      <a:pt x="0" y="0"/>
                    </a:moveTo>
                    <a:lnTo>
                      <a:pt x="105196" y="218485"/>
                    </a:lnTo>
                    <a:lnTo>
                      <a:pt x="8092" y="445062"/>
                    </a:lnTo>
                  </a:path>
                </a:pathLst>
              </a:custGeom>
              <a:noFill/>
              <a:ln w="9360">
                <a:solidFill>
                  <a:srgbClr val="ffffff">
                    <a:alpha val="75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01" name=""/>
              <p:cNvGrpSpPr/>
              <p:nvPr/>
            </p:nvGrpSpPr>
            <p:grpSpPr>
              <a:xfrm>
                <a:off x="4339800" y="2396160"/>
                <a:ext cx="481680" cy="101160"/>
                <a:chOff x="4339800" y="2396160"/>
                <a:chExt cx="481680" cy="101160"/>
              </a:xfrm>
            </p:grpSpPr>
            <p:sp>
              <p:nvSpPr>
                <p:cNvPr id="802" name="直接连接符 192"/>
                <p:cNvSpPr/>
                <p:nvPr/>
              </p:nvSpPr>
              <p:spPr>
                <a:xfrm flipH="1">
                  <a:off x="4344840" y="2444400"/>
                  <a:ext cx="466200" cy="720"/>
                </a:xfrm>
                <a:prstGeom prst="line">
                  <a:avLst/>
                </a:prstGeom>
                <a:ln w="9360">
                  <a:solidFill>
                    <a:srgbClr val="ffffff">
                      <a:alpha val="75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3" name="任意多边形 193"/>
                <p:cNvSpPr/>
                <p:nvPr/>
              </p:nvSpPr>
              <p:spPr>
                <a:xfrm flipH="1">
                  <a:off x="4797720" y="2396160"/>
                  <a:ext cx="23400" cy="9936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99360"/>
                    <a:gd name="textAreaBottom" fmla="*/ 99720 h 99360"/>
                  </a:gdLst>
                  <a:ahLst/>
                  <a:rect l="textAreaLeft" t="textAreaTop" r="textAreaRight" b="textAreaBottom"/>
                  <a:pathLst>
                    <a:path w="105196" h="445062">
                      <a:moveTo>
                        <a:pt x="0" y="0"/>
                      </a:moveTo>
                      <a:lnTo>
                        <a:pt x="105196" y="218485"/>
                      </a:lnTo>
                      <a:lnTo>
                        <a:pt x="8092" y="445062"/>
                      </a:lnTo>
                    </a:path>
                  </a:pathLst>
                </a:custGeom>
                <a:noFill/>
                <a:ln w="9360">
                  <a:solidFill>
                    <a:srgbClr val="ffffff">
                      <a:alpha val="75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4" name="任意多边形 194"/>
                <p:cNvSpPr/>
                <p:nvPr/>
              </p:nvSpPr>
              <p:spPr>
                <a:xfrm>
                  <a:off x="4339800" y="2397960"/>
                  <a:ext cx="23400" cy="99360"/>
                </a:xfrm>
                <a:custGeom>
                  <a:avLst/>
                  <a:gdLst>
                    <a:gd name="textAreaLeft" fmla="*/ 0 w 23400"/>
                    <a:gd name="textAreaRight" fmla="*/ 23760 w 23400"/>
                    <a:gd name="textAreaTop" fmla="*/ 0 h 99360"/>
                    <a:gd name="textAreaBottom" fmla="*/ 99720 h 99360"/>
                  </a:gdLst>
                  <a:ahLst/>
                  <a:rect l="textAreaLeft" t="textAreaTop" r="textAreaRight" b="textAreaBottom"/>
                  <a:pathLst>
                    <a:path w="105196" h="445062">
                      <a:moveTo>
                        <a:pt x="0" y="0"/>
                      </a:moveTo>
                      <a:lnTo>
                        <a:pt x="105196" y="218485"/>
                      </a:lnTo>
                      <a:lnTo>
                        <a:pt x="8092" y="445062"/>
                      </a:lnTo>
                    </a:path>
                  </a:pathLst>
                </a:custGeom>
                <a:noFill/>
                <a:ln w="9360">
                  <a:solidFill>
                    <a:srgbClr val="ffffff">
                      <a:alpha val="75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05" name="六边形 183"/>
              <p:cNvSpPr/>
              <p:nvPr/>
            </p:nvSpPr>
            <p:spPr>
              <a:xfrm>
                <a:off x="4387680" y="2266200"/>
                <a:ext cx="385920" cy="351000"/>
              </a:xfrm>
              <a:prstGeom prst="hexagon">
                <a:avLst>
                  <a:gd name="adj" fmla="val 24937"/>
                  <a:gd name="vf" fmla="val 115470"/>
                </a:avLst>
              </a:prstGeom>
              <a:noFill/>
              <a:ln w="9360">
                <a:solidFill>
                  <a:srgbClr val="ffffff">
                    <a:alpha val="75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06" name=""/>
              <p:cNvGrpSpPr/>
              <p:nvPr/>
            </p:nvGrpSpPr>
            <p:grpSpPr>
              <a:xfrm>
                <a:off x="4412160" y="2212560"/>
                <a:ext cx="329400" cy="467280"/>
                <a:chOff x="4412160" y="2212560"/>
                <a:chExt cx="329400" cy="467280"/>
              </a:xfrm>
            </p:grpSpPr>
            <p:sp>
              <p:nvSpPr>
                <p:cNvPr id="807" name="直接连接符 189"/>
                <p:cNvSpPr/>
                <p:nvPr/>
              </p:nvSpPr>
              <p:spPr>
                <a:xfrm flipH="1" flipV="1">
                  <a:off x="4460040" y="2240640"/>
                  <a:ext cx="234360" cy="404640"/>
                </a:xfrm>
                <a:prstGeom prst="line">
                  <a:avLst/>
                </a:prstGeom>
                <a:ln w="9360">
                  <a:solidFill>
                    <a:srgbClr val="ffffff">
                      <a:alpha val="75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8" name="任意多边形 190"/>
                <p:cNvSpPr/>
                <p:nvPr/>
              </p:nvSpPr>
              <p:spPr>
                <a:xfrm flipH="1" rot="3600000">
                  <a:off x="4680720" y="2594880"/>
                  <a:ext cx="23400" cy="9936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99360"/>
                    <a:gd name="textAreaBottom" fmla="*/ 99720 h 99360"/>
                  </a:gdLst>
                  <a:ahLst/>
                  <a:rect l="textAreaLeft" t="textAreaTop" r="textAreaRight" b="textAreaBottom"/>
                  <a:pathLst>
                    <a:path w="105196" h="445062">
                      <a:moveTo>
                        <a:pt x="0" y="0"/>
                      </a:moveTo>
                      <a:lnTo>
                        <a:pt x="105196" y="218485"/>
                      </a:lnTo>
                      <a:lnTo>
                        <a:pt x="8092" y="445062"/>
                      </a:lnTo>
                    </a:path>
                  </a:pathLst>
                </a:custGeom>
                <a:noFill/>
                <a:ln w="9360">
                  <a:solidFill>
                    <a:srgbClr val="ffffff">
                      <a:alpha val="75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9" name="任意多边形 191"/>
                <p:cNvSpPr/>
                <p:nvPr/>
              </p:nvSpPr>
              <p:spPr>
                <a:xfrm rot="3600000">
                  <a:off x="4449240" y="2197800"/>
                  <a:ext cx="23400" cy="99360"/>
                </a:xfrm>
                <a:custGeom>
                  <a:avLst/>
                  <a:gdLst>
                    <a:gd name="textAreaLeft" fmla="*/ 0 w 23400"/>
                    <a:gd name="textAreaRight" fmla="*/ 23760 w 23400"/>
                    <a:gd name="textAreaTop" fmla="*/ 0 h 99360"/>
                    <a:gd name="textAreaBottom" fmla="*/ 99720 h 99360"/>
                  </a:gdLst>
                  <a:ahLst/>
                  <a:rect l="textAreaLeft" t="textAreaTop" r="textAreaRight" b="textAreaBottom"/>
                  <a:pathLst>
                    <a:path w="105196" h="445062">
                      <a:moveTo>
                        <a:pt x="0" y="0"/>
                      </a:moveTo>
                      <a:lnTo>
                        <a:pt x="105196" y="218485"/>
                      </a:lnTo>
                      <a:lnTo>
                        <a:pt x="8092" y="445062"/>
                      </a:lnTo>
                    </a:path>
                  </a:pathLst>
                </a:custGeom>
                <a:noFill/>
                <a:ln w="9360">
                  <a:solidFill>
                    <a:srgbClr val="ffffff">
                      <a:alpha val="75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10" name=""/>
              <p:cNvGrpSpPr/>
              <p:nvPr/>
            </p:nvGrpSpPr>
            <p:grpSpPr>
              <a:xfrm>
                <a:off x="4419720" y="2210760"/>
                <a:ext cx="329400" cy="468360"/>
                <a:chOff x="4419720" y="2210760"/>
                <a:chExt cx="329400" cy="468360"/>
              </a:xfrm>
            </p:grpSpPr>
            <p:sp>
              <p:nvSpPr>
                <p:cNvPr id="811" name="直接连接符 186"/>
                <p:cNvSpPr/>
                <p:nvPr/>
              </p:nvSpPr>
              <p:spPr>
                <a:xfrm flipV="1">
                  <a:off x="4466880" y="2238840"/>
                  <a:ext cx="234360" cy="404640"/>
                </a:xfrm>
                <a:prstGeom prst="line">
                  <a:avLst/>
                </a:prstGeom>
                <a:ln w="9360">
                  <a:solidFill>
                    <a:srgbClr val="ffffff">
                      <a:alpha val="75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2" name="任意多边形 187"/>
                <p:cNvSpPr/>
                <p:nvPr/>
              </p:nvSpPr>
              <p:spPr>
                <a:xfrm rot="18000000">
                  <a:off x="4456800" y="2593440"/>
                  <a:ext cx="23400" cy="99720"/>
                </a:xfrm>
                <a:custGeom>
                  <a:avLst/>
                  <a:gdLst>
                    <a:gd name="textAreaLeft" fmla="*/ 0 w 23400"/>
                    <a:gd name="textAreaRight" fmla="*/ 23760 w 23400"/>
                    <a:gd name="textAreaTop" fmla="*/ 0 h 99720"/>
                    <a:gd name="textAreaBottom" fmla="*/ 100080 h 99720"/>
                  </a:gdLst>
                  <a:ahLst/>
                  <a:rect l="textAreaLeft" t="textAreaTop" r="textAreaRight" b="textAreaBottom"/>
                  <a:pathLst>
                    <a:path w="105196" h="445062">
                      <a:moveTo>
                        <a:pt x="0" y="0"/>
                      </a:moveTo>
                      <a:lnTo>
                        <a:pt x="105196" y="218485"/>
                      </a:lnTo>
                      <a:lnTo>
                        <a:pt x="8092" y="445062"/>
                      </a:lnTo>
                    </a:path>
                  </a:pathLst>
                </a:custGeom>
                <a:noFill/>
                <a:ln w="9360">
                  <a:solidFill>
                    <a:srgbClr val="ffffff">
                      <a:alpha val="75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3" name="任意多边形 188"/>
                <p:cNvSpPr/>
                <p:nvPr/>
              </p:nvSpPr>
              <p:spPr>
                <a:xfrm flipH="1" rot="18000000">
                  <a:off x="4688280" y="2196000"/>
                  <a:ext cx="23400" cy="9972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99720"/>
                    <a:gd name="textAreaBottom" fmla="*/ 100080 h 99720"/>
                  </a:gdLst>
                  <a:ahLst/>
                  <a:rect l="textAreaLeft" t="textAreaTop" r="textAreaRight" b="textAreaBottom"/>
                  <a:pathLst>
                    <a:path w="105196" h="445062">
                      <a:moveTo>
                        <a:pt x="0" y="0"/>
                      </a:moveTo>
                      <a:lnTo>
                        <a:pt x="105196" y="218485"/>
                      </a:lnTo>
                      <a:lnTo>
                        <a:pt x="8092" y="445062"/>
                      </a:lnTo>
                    </a:path>
                  </a:pathLst>
                </a:custGeom>
                <a:noFill/>
                <a:ln w="9360">
                  <a:solidFill>
                    <a:srgbClr val="ffffff">
                      <a:alpha val="75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814" name="Picture 2" descr=""/>
          <p:cNvPicPr/>
          <p:nvPr/>
        </p:nvPicPr>
        <p:blipFill>
          <a:blip r:embed="rId6"/>
          <a:stretch/>
        </p:blipFill>
        <p:spPr>
          <a:xfrm>
            <a:off x="9180360" y="-88920"/>
            <a:ext cx="12817800" cy="5305320"/>
          </a:xfrm>
          <a:prstGeom prst="rect">
            <a:avLst/>
          </a:prstGeom>
          <a:ln w="0">
            <a:noFill/>
          </a:ln>
        </p:spPr>
      </p:pic>
      <p:grpSp>
        <p:nvGrpSpPr>
          <p:cNvPr id="815" name=""/>
          <p:cNvGrpSpPr/>
          <p:nvPr/>
        </p:nvGrpSpPr>
        <p:grpSpPr>
          <a:xfrm>
            <a:off x="9117000" y="-88920"/>
            <a:ext cx="757080" cy="5303880"/>
            <a:chOff x="9117000" y="-88920"/>
            <a:chExt cx="757080" cy="5303880"/>
          </a:xfrm>
        </p:grpSpPr>
        <p:sp>
          <p:nvSpPr>
            <p:cNvPr id="816" name="矩形 284"/>
            <p:cNvSpPr/>
            <p:nvPr/>
          </p:nvSpPr>
          <p:spPr>
            <a:xfrm>
              <a:off x="9117000" y="-88920"/>
              <a:ext cx="757080" cy="5303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矩形 285"/>
            <p:cNvSpPr/>
            <p:nvPr/>
          </p:nvSpPr>
          <p:spPr>
            <a:xfrm>
              <a:off x="9117000" y="-88920"/>
              <a:ext cx="757080" cy="5303880"/>
            </a:xfrm>
            <a:prstGeom prst="rect">
              <a:avLst/>
            </a:prstGeom>
            <a:solidFill>
              <a:srgbClr val="000000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8" name=""/>
          <p:cNvGrpSpPr/>
          <p:nvPr/>
        </p:nvGrpSpPr>
        <p:grpSpPr>
          <a:xfrm>
            <a:off x="21259440" y="-88920"/>
            <a:ext cx="755640" cy="5326200"/>
            <a:chOff x="21259440" y="-88920"/>
            <a:chExt cx="755640" cy="5326200"/>
          </a:xfrm>
        </p:grpSpPr>
        <p:sp>
          <p:nvSpPr>
            <p:cNvPr id="819" name="矩形 287"/>
            <p:cNvSpPr/>
            <p:nvPr/>
          </p:nvSpPr>
          <p:spPr>
            <a:xfrm flipH="1">
              <a:off x="21259080" y="-88920"/>
              <a:ext cx="755640" cy="5326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矩形 288"/>
            <p:cNvSpPr/>
            <p:nvPr/>
          </p:nvSpPr>
          <p:spPr>
            <a:xfrm flipH="1">
              <a:off x="21259080" y="-88920"/>
              <a:ext cx="755640" cy="5326200"/>
            </a:xfrm>
            <a:prstGeom prst="rect">
              <a:avLst/>
            </a:prstGeom>
            <a:solidFill>
              <a:srgbClr val="000000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1" name=""/>
          <p:cNvGrpSpPr/>
          <p:nvPr/>
        </p:nvGrpSpPr>
        <p:grpSpPr>
          <a:xfrm>
            <a:off x="19116720" y="-88920"/>
            <a:ext cx="4416480" cy="5326200"/>
            <a:chOff x="19116720" y="-88920"/>
            <a:chExt cx="4416480" cy="5326200"/>
          </a:xfrm>
        </p:grpSpPr>
        <p:sp>
          <p:nvSpPr>
            <p:cNvPr id="822" name="任意多边形 290"/>
            <p:cNvSpPr/>
            <p:nvPr/>
          </p:nvSpPr>
          <p:spPr>
            <a:xfrm flipH="1">
              <a:off x="19116720" y="-88920"/>
              <a:ext cx="2183760" cy="5326200"/>
            </a:xfrm>
            <a:custGeom>
              <a:avLst/>
              <a:gdLst>
                <a:gd name="textAreaLeft" fmla="*/ 360 w 2183760"/>
                <a:gd name="textAreaRight" fmla="*/ 2184480 w 2183760"/>
                <a:gd name="textAreaTop" fmla="*/ 0 h 5326200"/>
                <a:gd name="textAreaBottom" fmla="*/ 5326560 h 5326200"/>
              </a:gdLst>
              <a:ahLst/>
              <a:rect l="textAreaLeft" t="textAreaTop" r="textAreaRight" b="textAreaBottom"/>
              <a:pathLst>
                <a:path w="1255923" h="5155894">
                  <a:moveTo>
                    <a:pt x="0" y="0"/>
                  </a:moveTo>
                  <a:cubicBezTo>
                    <a:pt x="7344" y="1718631"/>
                    <a:pt x="14689" y="3437263"/>
                    <a:pt x="22033" y="5155894"/>
                  </a:cubicBezTo>
                  <a:lnTo>
                    <a:pt x="1244906" y="5144877"/>
                  </a:lnTo>
                  <a:cubicBezTo>
                    <a:pt x="1248578" y="3653928"/>
                    <a:pt x="1252251" y="2162978"/>
                    <a:pt x="1255923" y="672029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任意多边形 291"/>
            <p:cNvSpPr/>
            <p:nvPr/>
          </p:nvSpPr>
          <p:spPr>
            <a:xfrm flipH="1">
              <a:off x="21349440" y="83520"/>
              <a:ext cx="2183760" cy="5153040"/>
            </a:xfrm>
            <a:custGeom>
              <a:avLst/>
              <a:gdLst>
                <a:gd name="textAreaLeft" fmla="*/ 360 w 2183760"/>
                <a:gd name="textAreaRight" fmla="*/ 2184480 w 2183760"/>
                <a:gd name="textAreaTop" fmla="*/ 0 h 5153040"/>
                <a:gd name="textAreaBottom" fmla="*/ 5153400 h 5153040"/>
              </a:gdLst>
              <a:ahLst/>
              <a:rect l="textAreaLeft" t="textAreaTop" r="textAreaRight" b="textAreaBottom"/>
              <a:pathLst>
                <a:path w="1255923" h="5155894">
                  <a:moveTo>
                    <a:pt x="0" y="0"/>
                  </a:moveTo>
                  <a:cubicBezTo>
                    <a:pt x="7344" y="1718631"/>
                    <a:pt x="14689" y="3437263"/>
                    <a:pt x="22033" y="5155894"/>
                  </a:cubicBezTo>
                  <a:lnTo>
                    <a:pt x="1244906" y="5144877"/>
                  </a:lnTo>
                  <a:cubicBezTo>
                    <a:pt x="1248578" y="3653928"/>
                    <a:pt x="1252251" y="2162978"/>
                    <a:pt x="1255923" y="672029"/>
                  </a:cubicBez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4" name=""/>
          <p:cNvGrpSpPr/>
          <p:nvPr/>
        </p:nvGrpSpPr>
        <p:grpSpPr>
          <a:xfrm>
            <a:off x="9540720" y="-88920"/>
            <a:ext cx="632160" cy="5299560"/>
            <a:chOff x="9540720" y="-88920"/>
            <a:chExt cx="632160" cy="5299560"/>
          </a:xfrm>
        </p:grpSpPr>
        <p:sp>
          <p:nvSpPr>
            <p:cNvPr id="825" name="任意多边形 293"/>
            <p:cNvSpPr/>
            <p:nvPr/>
          </p:nvSpPr>
          <p:spPr>
            <a:xfrm>
              <a:off x="9858960" y="-85680"/>
              <a:ext cx="313920" cy="5296320"/>
            </a:xfrm>
            <a:custGeom>
              <a:avLst/>
              <a:gdLst>
                <a:gd name="textAreaLeft" fmla="*/ 0 w 313920"/>
                <a:gd name="textAreaRight" fmla="*/ 313920 w 313920"/>
                <a:gd name="textAreaTop" fmla="*/ 0 h 5296320"/>
                <a:gd name="textAreaBottom" fmla="*/ 5296680 h 5296320"/>
              </a:gdLst>
              <a:ahLst/>
              <a:rect l="textAreaLeft" t="textAreaTop" r="textAreaRight" b="textAreaBottom"/>
              <a:pathLst>
                <a:path w="1255923" h="5155894">
                  <a:moveTo>
                    <a:pt x="0" y="0"/>
                  </a:moveTo>
                  <a:cubicBezTo>
                    <a:pt x="7344" y="1718631"/>
                    <a:pt x="14689" y="3437263"/>
                    <a:pt x="22033" y="5155894"/>
                  </a:cubicBezTo>
                  <a:lnTo>
                    <a:pt x="1244906" y="5144877"/>
                  </a:lnTo>
                  <a:cubicBezTo>
                    <a:pt x="1248578" y="3653928"/>
                    <a:pt x="1252251" y="2162978"/>
                    <a:pt x="1255923" y="672029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任意多边形 294"/>
            <p:cNvSpPr/>
            <p:nvPr/>
          </p:nvSpPr>
          <p:spPr>
            <a:xfrm>
              <a:off x="9540720" y="-88920"/>
              <a:ext cx="313920" cy="5296320"/>
            </a:xfrm>
            <a:custGeom>
              <a:avLst/>
              <a:gdLst>
                <a:gd name="textAreaLeft" fmla="*/ 0 w 313920"/>
                <a:gd name="textAreaRight" fmla="*/ 313920 w 313920"/>
                <a:gd name="textAreaTop" fmla="*/ 0 h 5296320"/>
                <a:gd name="textAreaBottom" fmla="*/ 5296680 h 5296320"/>
              </a:gdLst>
              <a:ahLst/>
              <a:rect l="textAreaLeft" t="textAreaTop" r="textAreaRight" b="textAreaBottom"/>
              <a:pathLst>
                <a:path w="1255923" h="5155894">
                  <a:moveTo>
                    <a:pt x="0" y="0"/>
                  </a:moveTo>
                  <a:cubicBezTo>
                    <a:pt x="7344" y="1718631"/>
                    <a:pt x="14689" y="3437263"/>
                    <a:pt x="22033" y="5155894"/>
                  </a:cubicBezTo>
                  <a:lnTo>
                    <a:pt x="1244906" y="5144877"/>
                  </a:lnTo>
                  <a:cubicBezTo>
                    <a:pt x="1248578" y="3653928"/>
                    <a:pt x="1252251" y="2162978"/>
                    <a:pt x="1255923" y="672029"/>
                  </a:cubicBez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7" name=""/>
          <p:cNvGrpSpPr/>
          <p:nvPr/>
        </p:nvGrpSpPr>
        <p:grpSpPr>
          <a:xfrm>
            <a:off x="17046720" y="3251160"/>
            <a:ext cx="2417760" cy="3127320"/>
            <a:chOff x="17046720" y="3251160"/>
            <a:chExt cx="2417760" cy="3127320"/>
          </a:xfrm>
        </p:grpSpPr>
        <p:grpSp>
          <p:nvGrpSpPr>
            <p:cNvPr id="828" name=""/>
            <p:cNvGrpSpPr/>
            <p:nvPr/>
          </p:nvGrpSpPr>
          <p:grpSpPr>
            <a:xfrm>
              <a:off x="17046720" y="3251160"/>
              <a:ext cx="2417760" cy="3127320"/>
              <a:chOff x="17046720" y="3251160"/>
              <a:chExt cx="2417760" cy="3127320"/>
            </a:xfrm>
          </p:grpSpPr>
          <p:grpSp>
            <p:nvGrpSpPr>
              <p:cNvPr id="829" name=""/>
              <p:cNvGrpSpPr/>
              <p:nvPr/>
            </p:nvGrpSpPr>
            <p:grpSpPr>
              <a:xfrm>
                <a:off x="17046720" y="3526920"/>
                <a:ext cx="2417760" cy="2851560"/>
                <a:chOff x="17046720" y="3526920"/>
                <a:chExt cx="2417760" cy="2851560"/>
              </a:xfrm>
            </p:grpSpPr>
            <p:sp>
              <p:nvSpPr>
                <p:cNvPr id="830" name="任意多边形 305"/>
                <p:cNvSpPr/>
                <p:nvPr/>
              </p:nvSpPr>
              <p:spPr>
                <a:xfrm>
                  <a:off x="17046720" y="3526920"/>
                  <a:ext cx="2417760" cy="2829960"/>
                </a:xfrm>
                <a:custGeom>
                  <a:avLst/>
                  <a:gdLst>
                    <a:gd name="textAreaLeft" fmla="*/ 0 w 2417760"/>
                    <a:gd name="textAreaRight" fmla="*/ 2418120 w 2417760"/>
                    <a:gd name="textAreaTop" fmla="*/ 0 h 2829960"/>
                    <a:gd name="textAreaBottom" fmla="*/ 2830320 h 2829960"/>
                  </a:gdLst>
                  <a:ahLst/>
                  <a:rect l="textAreaLeft" t="textAreaTop" r="textAreaRight" b="textAreaBottom"/>
                  <a:pathLst>
                    <a:path w="2416629" h="2830286">
                      <a:moveTo>
                        <a:pt x="1197429" y="0"/>
                      </a:moveTo>
                      <a:lnTo>
                        <a:pt x="566057" y="1001486"/>
                      </a:lnTo>
                      <a:lnTo>
                        <a:pt x="827314" y="979714"/>
                      </a:lnTo>
                      <a:lnTo>
                        <a:pt x="391886" y="1698171"/>
                      </a:lnTo>
                      <a:lnTo>
                        <a:pt x="696686" y="1654629"/>
                      </a:lnTo>
                      <a:lnTo>
                        <a:pt x="0" y="2764971"/>
                      </a:lnTo>
                      <a:lnTo>
                        <a:pt x="544286" y="2634343"/>
                      </a:lnTo>
                      <a:lnTo>
                        <a:pt x="1915886" y="2634343"/>
                      </a:lnTo>
                      <a:lnTo>
                        <a:pt x="2416629" y="2830286"/>
                      </a:lnTo>
                      <a:lnTo>
                        <a:pt x="1719943" y="1676400"/>
                      </a:lnTo>
                      <a:lnTo>
                        <a:pt x="2068286" y="1741714"/>
                      </a:lnTo>
                      <a:lnTo>
                        <a:pt x="1589314" y="957943"/>
                      </a:lnTo>
                      <a:lnTo>
                        <a:pt x="1872343" y="1023257"/>
                      </a:lnTo>
                      <a:lnTo>
                        <a:pt x="1197429" y="0"/>
                      </a:lnTo>
                      <a:close/>
                    </a:path>
                  </a:pathLst>
                </a:custGeom>
                <a:solidFill>
                  <a:srgbClr val="4f6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1" name="任意多边形 306"/>
                <p:cNvSpPr/>
                <p:nvPr/>
              </p:nvSpPr>
              <p:spPr>
                <a:xfrm>
                  <a:off x="17607600" y="3548520"/>
                  <a:ext cx="1294560" cy="2829960"/>
                </a:xfrm>
                <a:custGeom>
                  <a:avLst/>
                  <a:gdLst>
                    <a:gd name="textAreaLeft" fmla="*/ 0 w 1294560"/>
                    <a:gd name="textAreaRight" fmla="*/ 1294920 w 1294560"/>
                    <a:gd name="textAreaTop" fmla="*/ 0 h 2829960"/>
                    <a:gd name="textAreaBottom" fmla="*/ 2830320 h 2829960"/>
                  </a:gdLst>
                  <a:ahLst/>
                  <a:rect l="textAreaLeft" t="textAreaTop" r="textAreaRight" b="textAreaBottom"/>
                  <a:pathLst>
                    <a:path w="2416629" h="2830286">
                      <a:moveTo>
                        <a:pt x="1197429" y="0"/>
                      </a:moveTo>
                      <a:lnTo>
                        <a:pt x="566057" y="1001486"/>
                      </a:lnTo>
                      <a:lnTo>
                        <a:pt x="827314" y="979714"/>
                      </a:lnTo>
                      <a:lnTo>
                        <a:pt x="391886" y="1698171"/>
                      </a:lnTo>
                      <a:lnTo>
                        <a:pt x="696686" y="1654629"/>
                      </a:lnTo>
                      <a:lnTo>
                        <a:pt x="0" y="2764971"/>
                      </a:lnTo>
                      <a:lnTo>
                        <a:pt x="544286" y="2634343"/>
                      </a:lnTo>
                      <a:lnTo>
                        <a:pt x="1915886" y="2634343"/>
                      </a:lnTo>
                      <a:lnTo>
                        <a:pt x="2416629" y="2830286"/>
                      </a:lnTo>
                      <a:lnTo>
                        <a:pt x="1719943" y="1676400"/>
                      </a:lnTo>
                      <a:lnTo>
                        <a:pt x="2068286" y="1741714"/>
                      </a:lnTo>
                      <a:lnTo>
                        <a:pt x="1589314" y="957943"/>
                      </a:lnTo>
                      <a:lnTo>
                        <a:pt x="1872343" y="1023257"/>
                      </a:lnTo>
                      <a:lnTo>
                        <a:pt x="1197429" y="0"/>
                      </a:lnTo>
                      <a:close/>
                    </a:path>
                  </a:pathLst>
                </a:custGeom>
                <a:solidFill>
                  <a:srgbClr val="708b3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32" name="五角星 300"/>
              <p:cNvSpPr/>
              <p:nvPr/>
            </p:nvSpPr>
            <p:spPr>
              <a:xfrm>
                <a:off x="18037440" y="3251160"/>
                <a:ext cx="401040" cy="400680"/>
              </a:xfrm>
              <a:prstGeom prst="star5">
                <a:avLst/>
              </a:prstGeom>
              <a:solidFill>
                <a:srgbClr val="ffff00"/>
              </a:solidFill>
              <a:ln w="2556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3" name="椭圆 301"/>
              <p:cNvSpPr/>
              <p:nvPr/>
            </p:nvSpPr>
            <p:spPr>
              <a:xfrm>
                <a:off x="18614160" y="4731840"/>
                <a:ext cx="288000" cy="2876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4" name="椭圆 302"/>
              <p:cNvSpPr/>
              <p:nvPr/>
            </p:nvSpPr>
            <p:spPr>
              <a:xfrm>
                <a:off x="17605440" y="4299840"/>
                <a:ext cx="288000" cy="2876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5" name="椭圆 303"/>
              <p:cNvSpPr/>
              <p:nvPr/>
            </p:nvSpPr>
            <p:spPr>
              <a:xfrm>
                <a:off x="18316080" y="3723840"/>
                <a:ext cx="144000" cy="1436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6" name="任意多边形 304"/>
              <p:cNvSpPr/>
              <p:nvPr/>
            </p:nvSpPr>
            <p:spPr>
              <a:xfrm>
                <a:off x="18117000" y="3548880"/>
                <a:ext cx="271080" cy="2829600"/>
              </a:xfrm>
              <a:custGeom>
                <a:avLst/>
                <a:gdLst>
                  <a:gd name="textAreaLeft" fmla="*/ 0 w 271080"/>
                  <a:gd name="textAreaRight" fmla="*/ 271440 w 271080"/>
                  <a:gd name="textAreaTop" fmla="*/ 0 h 2829600"/>
                  <a:gd name="textAreaBottom" fmla="*/ 2829960 h 2829600"/>
                </a:gdLst>
                <a:ahLst/>
                <a:rect l="textAreaLeft" t="textAreaTop" r="textAreaRight" b="textAreaBottom"/>
                <a:pathLst>
                  <a:path w="2416629" h="2830286">
                    <a:moveTo>
                      <a:pt x="1197429" y="0"/>
                    </a:moveTo>
                    <a:lnTo>
                      <a:pt x="566057" y="1001486"/>
                    </a:lnTo>
                    <a:lnTo>
                      <a:pt x="827314" y="979714"/>
                    </a:lnTo>
                    <a:lnTo>
                      <a:pt x="391886" y="1698171"/>
                    </a:lnTo>
                    <a:lnTo>
                      <a:pt x="696686" y="1654629"/>
                    </a:lnTo>
                    <a:lnTo>
                      <a:pt x="0" y="2764971"/>
                    </a:lnTo>
                    <a:lnTo>
                      <a:pt x="544286" y="2634343"/>
                    </a:lnTo>
                    <a:lnTo>
                      <a:pt x="1915886" y="2634343"/>
                    </a:lnTo>
                    <a:lnTo>
                      <a:pt x="2416629" y="2830286"/>
                    </a:lnTo>
                    <a:lnTo>
                      <a:pt x="1719943" y="1676400"/>
                    </a:lnTo>
                    <a:lnTo>
                      <a:pt x="2068286" y="1741714"/>
                    </a:lnTo>
                    <a:lnTo>
                      <a:pt x="1589314" y="957943"/>
                    </a:lnTo>
                    <a:lnTo>
                      <a:pt x="1872343" y="1023257"/>
                    </a:lnTo>
                    <a:lnTo>
                      <a:pt x="1197429" y="0"/>
                    </a:lnTo>
                    <a:close/>
                  </a:path>
                </a:pathLst>
              </a:custGeom>
              <a:solidFill>
                <a:srgbClr val="7692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37" name="任意多边形 297"/>
            <p:cNvSpPr/>
            <p:nvPr/>
          </p:nvSpPr>
          <p:spPr>
            <a:xfrm>
              <a:off x="17830800" y="4633560"/>
              <a:ext cx="420120" cy="419760"/>
            </a:xfrm>
            <a:custGeom>
              <a:avLst/>
              <a:gdLst>
                <a:gd name="textAreaLeft" fmla="*/ 0 w 420120"/>
                <a:gd name="textAreaRight" fmla="*/ 420480 w 420120"/>
                <a:gd name="textAreaTop" fmla="*/ 0 h 419760"/>
                <a:gd name="textAreaBottom" fmla="*/ 420120 h 419760"/>
              </a:gdLst>
              <a:ahLst/>
              <a:rect l="textAreaLeft" t="textAreaTop" r="textAreaRight" b="textAreaBottom"/>
              <a:pathLst>
                <a:path w="420130" h="420130">
                  <a:moveTo>
                    <a:pt x="420130" y="0"/>
                  </a:moveTo>
                  <a:lnTo>
                    <a:pt x="222422" y="345989"/>
                  </a:lnTo>
                  <a:lnTo>
                    <a:pt x="111211" y="420130"/>
                  </a:lnTo>
                  <a:lnTo>
                    <a:pt x="24714" y="395416"/>
                  </a:lnTo>
                  <a:lnTo>
                    <a:pt x="0" y="321275"/>
                  </a:lnTo>
                  <a:lnTo>
                    <a:pt x="0" y="247135"/>
                  </a:lnTo>
                </a:path>
              </a:pathLst>
            </a:custGeom>
            <a:noFill/>
            <a:ln w="57240">
              <a:solidFill>
                <a:srgbClr val="ffc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任意多边形 298"/>
            <p:cNvSpPr/>
            <p:nvPr/>
          </p:nvSpPr>
          <p:spPr>
            <a:xfrm rot="17709600">
              <a:off x="18421560" y="4209840"/>
              <a:ext cx="200160" cy="20052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200520"/>
                <a:gd name="textAreaBottom" fmla="*/ 200880 h 200520"/>
              </a:gdLst>
              <a:ahLst/>
              <a:rect l="textAreaLeft" t="textAreaTop" r="textAreaRight" b="textAreaBottom"/>
              <a:pathLst>
                <a:path w="420130" h="420130">
                  <a:moveTo>
                    <a:pt x="420130" y="0"/>
                  </a:moveTo>
                  <a:lnTo>
                    <a:pt x="222422" y="345989"/>
                  </a:lnTo>
                  <a:lnTo>
                    <a:pt x="111211" y="420130"/>
                  </a:lnTo>
                  <a:lnTo>
                    <a:pt x="24714" y="395416"/>
                  </a:lnTo>
                  <a:lnTo>
                    <a:pt x="0" y="321275"/>
                  </a:lnTo>
                  <a:lnTo>
                    <a:pt x="0" y="247135"/>
                  </a:lnTo>
                </a:path>
              </a:pathLst>
            </a:custGeom>
            <a:noFill/>
            <a:ln w="5724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9" name=""/>
          <p:cNvGrpSpPr/>
          <p:nvPr/>
        </p:nvGrpSpPr>
        <p:grpSpPr>
          <a:xfrm>
            <a:off x="10607760" y="195120"/>
            <a:ext cx="9877320" cy="1455840"/>
            <a:chOff x="10607760" y="195120"/>
            <a:chExt cx="9877320" cy="1455840"/>
          </a:xfrm>
        </p:grpSpPr>
        <p:sp>
          <p:nvSpPr>
            <p:cNvPr id="840" name="任意多边形 308"/>
            <p:cNvSpPr/>
            <p:nvPr/>
          </p:nvSpPr>
          <p:spPr>
            <a:xfrm>
              <a:off x="10607760" y="195120"/>
              <a:ext cx="9877320" cy="1038960"/>
            </a:xfrm>
            <a:custGeom>
              <a:avLst/>
              <a:gdLst>
                <a:gd name="textAreaLeft" fmla="*/ 0 w 9877320"/>
                <a:gd name="textAreaRight" fmla="*/ 9877680 w 9877320"/>
                <a:gd name="textAreaTop" fmla="*/ 0 h 1038960"/>
                <a:gd name="textAreaBottom" fmla="*/ 1039320 h 1038960"/>
              </a:gdLst>
              <a:ahLst/>
              <a:rect l="textAreaLeft" t="textAreaTop" r="textAreaRight" b="textAreaBottom"/>
              <a:pathLst>
                <a:path w="8859187" h="1366284">
                  <a:moveTo>
                    <a:pt x="0" y="0"/>
                  </a:moveTo>
                  <a:lnTo>
                    <a:pt x="1214203" y="659567"/>
                  </a:lnTo>
                  <a:cubicBezTo>
                    <a:pt x="1603947" y="834452"/>
                    <a:pt x="1946223" y="946878"/>
                    <a:pt x="2338466" y="1049311"/>
                  </a:cubicBezTo>
                  <a:cubicBezTo>
                    <a:pt x="2730709" y="1151744"/>
                    <a:pt x="3197902" y="1224197"/>
                    <a:pt x="3567659" y="1274164"/>
                  </a:cubicBezTo>
                  <a:cubicBezTo>
                    <a:pt x="3937416" y="1324131"/>
                    <a:pt x="4199745" y="1339121"/>
                    <a:pt x="4557010" y="1349114"/>
                  </a:cubicBezTo>
                  <a:cubicBezTo>
                    <a:pt x="4914275" y="1359107"/>
                    <a:pt x="5269042" y="1389088"/>
                    <a:pt x="5711252" y="1334124"/>
                  </a:cubicBezTo>
                  <a:cubicBezTo>
                    <a:pt x="6153462" y="1279160"/>
                    <a:pt x="6815528" y="1136754"/>
                    <a:pt x="7210269" y="1019331"/>
                  </a:cubicBezTo>
                  <a:cubicBezTo>
                    <a:pt x="7605010" y="901908"/>
                    <a:pt x="7804878" y="791980"/>
                    <a:pt x="8079698" y="629587"/>
                  </a:cubicBezTo>
                  <a:lnTo>
                    <a:pt x="8859187" y="44970"/>
                  </a:lnTo>
                </a:path>
              </a:pathLst>
            </a:custGeom>
            <a:noFill/>
            <a:ln w="76320">
              <a:solidFill>
                <a:srgbClr val="e36c0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五角星 309"/>
            <p:cNvSpPr/>
            <p:nvPr/>
          </p:nvSpPr>
          <p:spPr>
            <a:xfrm>
              <a:off x="12071880" y="730080"/>
              <a:ext cx="384480" cy="344880"/>
            </a:xfrm>
            <a:prstGeom prst="star5">
              <a:avLst/>
            </a:prstGeom>
            <a:solidFill>
              <a:srgbClr val="ffff00"/>
            </a:solidFill>
            <a:ln w="25560">
              <a:solidFill>
                <a:srgbClr val="e36c0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五角星 310"/>
            <p:cNvSpPr/>
            <p:nvPr/>
          </p:nvSpPr>
          <p:spPr>
            <a:xfrm>
              <a:off x="13918320" y="1090080"/>
              <a:ext cx="384480" cy="344880"/>
            </a:xfrm>
            <a:prstGeom prst="star5">
              <a:avLst/>
            </a:prstGeom>
            <a:solidFill>
              <a:srgbClr val="ffff00"/>
            </a:solidFill>
            <a:ln w="25560">
              <a:solidFill>
                <a:srgbClr val="e36c0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五角星 311"/>
            <p:cNvSpPr/>
            <p:nvPr/>
          </p:nvSpPr>
          <p:spPr>
            <a:xfrm>
              <a:off x="15845400" y="1306080"/>
              <a:ext cx="384480" cy="344880"/>
            </a:xfrm>
            <a:prstGeom prst="star5">
              <a:avLst/>
            </a:prstGeom>
            <a:solidFill>
              <a:srgbClr val="ffff00"/>
            </a:solidFill>
            <a:ln w="25560">
              <a:solidFill>
                <a:srgbClr val="e36c0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五角星 312"/>
            <p:cNvSpPr/>
            <p:nvPr/>
          </p:nvSpPr>
          <p:spPr>
            <a:xfrm>
              <a:off x="17691840" y="1131120"/>
              <a:ext cx="384480" cy="344880"/>
            </a:xfrm>
            <a:prstGeom prst="star5">
              <a:avLst/>
            </a:prstGeom>
            <a:solidFill>
              <a:srgbClr val="ffff00"/>
            </a:solidFill>
            <a:ln w="25560">
              <a:solidFill>
                <a:srgbClr val="e36c0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五角星 313"/>
            <p:cNvSpPr/>
            <p:nvPr/>
          </p:nvSpPr>
          <p:spPr>
            <a:xfrm>
              <a:off x="19280880" y="771120"/>
              <a:ext cx="384480" cy="344880"/>
            </a:xfrm>
            <a:prstGeom prst="star5">
              <a:avLst/>
            </a:prstGeom>
            <a:solidFill>
              <a:srgbClr val="ffff00"/>
            </a:solidFill>
            <a:ln w="25560">
              <a:solidFill>
                <a:srgbClr val="e36c0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6" name="五角星 314"/>
          <p:cNvSpPr/>
          <p:nvPr/>
        </p:nvSpPr>
        <p:spPr>
          <a:xfrm>
            <a:off x="13128480" y="1521000"/>
            <a:ext cx="3102120" cy="2788920"/>
          </a:xfrm>
          <a:prstGeom prst="star5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7" name="Picture 3" descr=""/>
          <p:cNvPicPr/>
          <p:nvPr/>
        </p:nvPicPr>
        <p:blipFill>
          <a:blip r:embed="rId7"/>
          <a:stretch/>
        </p:blipFill>
        <p:spPr>
          <a:xfrm>
            <a:off x="612720" y="730080"/>
            <a:ext cx="3378240" cy="1140120"/>
          </a:xfrm>
          <a:prstGeom prst="rect">
            <a:avLst/>
          </a:prstGeom>
          <a:ln w="0">
            <a:noFill/>
          </a:ln>
        </p:spPr>
      </p:pic>
      <p:sp>
        <p:nvSpPr>
          <p:cNvPr id="848" name="五角星 78"/>
          <p:cNvSpPr/>
          <p:nvPr/>
        </p:nvSpPr>
        <p:spPr>
          <a:xfrm>
            <a:off x="1765440" y="-412920"/>
            <a:ext cx="5254560" cy="5002560"/>
          </a:xfrm>
          <a:prstGeom prst="star5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F5841-954E-4C83-8AE8-ACD705B8DA65}" type="slidenum">
              <a:t>8</a:t>
            </a:fld>
          </a:p>
        </p:txBody>
      </p:sp>
    </p:spTree>
  </p:cSld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0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withEffect" fill="hold" presetClass="emph" presetID="26" repeatCount="200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94" dur="445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95" dur="2225" autoRev="1" fill="hold"/>
                                        <p:tgtEl>
                                          <p:spTgt spid="78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9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97" dur="122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9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3.7554E-006 L -1.31511 0.00031 E">
                                      <p:cBhvr>
                                        <p:cTn id="399" dur="8250" fill="hold"/>
                                        <p:tgtEl>
                                          <p:spTgt spid="7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0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3.7554E-006 L -1.31511 0.00031 E">
                                      <p:cBhvr>
                                        <p:cTn id="401" dur="8250" fill="hold"/>
                                        <p:tgtEl>
                                          <p:spTgt spid="7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0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2.55729 -0.00432 E">
                                      <p:cBhvr>
                                        <p:cTn id="403" dur="12000" fill="hold"/>
                                        <p:tgtEl>
                                          <p:spTgt spid="8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0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2.55729 -0.00432 E">
                                      <p:cBhvr>
                                        <p:cTn id="405" dur="12000" fill="hold"/>
                                        <p:tgtEl>
                                          <p:spTgt spid="8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0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2.55729 -0.00432 E">
                                      <p:cBhvr>
                                        <p:cTn id="407" dur="12000" fill="hold"/>
                                        <p:tgtEl>
                                          <p:spTgt spid="8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0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2.55729 -0.00432 E">
                                      <p:cBhvr>
                                        <p:cTn id="409" dur="12000" fill="hold"/>
                                        <p:tgtEl>
                                          <p:spTgt spid="8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2.55729 -0.00432 E">
                                      <p:cBhvr>
                                        <p:cTn id="411" dur="12000" fill="hold"/>
                                        <p:tgtEl>
                                          <p:spTgt spid="8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13" dur="12000" fill="hold"/>
                                        <p:tgtEl>
                                          <p:spTgt spid="821"/>
                                        </p:tgtEl>
                                      </p:cBhvr>
                                      <p:to x="1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1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15" dur="12000" fill="hold"/>
                                        <p:tgtEl>
                                          <p:spTgt spid="824"/>
                                        </p:tgtEl>
                                      </p:cBhvr>
                                      <p:to x="6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1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6.85608E-007 L -2.96892 -0.00216 E">
                                      <p:cBhvr>
                                        <p:cTn id="417" dur="12000" fill="hold"/>
                                        <p:tgtEl>
                                          <p:spTgt spid="8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2.55729 -0.00432 E">
                                      <p:cBhvr>
                                        <p:cTn id="419" dur="12000" fill="hold"/>
                                        <p:tgtEl>
                                          <p:spTgt spid="8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2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2.55729 -0.00432 E">
                                      <p:cBhvr>
                                        <p:cTn id="421" dur="12000" fill="hold"/>
                                        <p:tgtEl>
                                          <p:spTgt spid="8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22" nodeType="withEffect" fill="hold" presetClass="emph" presetID="26" repeatCount="800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23" dur="15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24" dur="750" autoRev="1" fill="hold"/>
                                        <p:tgtEl>
                                          <p:spTgt spid="84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10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7" dur="80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path" presetID="0">
                                  <p:stCondLst>
                                    <p:cond delay="1800"/>
                                  </p:stCondLst>
                                  <p:childTnLst>
                                    <p:animMotion origin="layout" path="M 0 0 L -0.64913 1.02347 E">
                                      <p:cBhvr>
                                        <p:cTn id="429" dur="8100" fill="hold"/>
                                        <p:tgtEl>
                                          <p:spTgt spid="7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0" nodeType="withEffect" fill="hold" presetClass="exit" presetID="10">
                                  <p:stCondLst>
                                    <p:cond delay="18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31" dur="81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8099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2" presetSubtype="2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104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4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15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41" dur="15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3.7554E-006 L -1.31511 0.00031 E">
                                      <p:cBhvr>
                                        <p:cTn id="444" dur="8250" fill="hold"/>
                                        <p:tgtEl>
                                          <p:spTgt spid="7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3.7554E-006 L -1.31511 0.00031 E">
                                      <p:cBhvr>
                                        <p:cTn id="446" dur="8250" fill="hold"/>
                                        <p:tgtEl>
                                          <p:spTgt spid="7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xit" presetID="10">
                                  <p:stCondLst>
                                    <p:cond delay="18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48" dur="31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3099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2" dur="2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" nodeType="withEffect" fill="hold" presetClass="exit" presetID="10">
                                  <p:stCondLst>
                                    <p:cond delay="2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54" dur="12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1199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" presetSubtype="2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104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4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矩形 3"/>
          <p:cNvSpPr/>
          <p:nvPr/>
        </p:nvSpPr>
        <p:spPr>
          <a:xfrm>
            <a:off x="0" y="0"/>
            <a:ext cx="9144000" cy="5307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0" name=""/>
          <p:cNvGrpSpPr/>
          <p:nvPr/>
        </p:nvGrpSpPr>
        <p:grpSpPr>
          <a:xfrm>
            <a:off x="-627840" y="-1424160"/>
            <a:ext cx="1204200" cy="1441800"/>
            <a:chOff x="-627840" y="-1424160"/>
            <a:chExt cx="1204200" cy="1441800"/>
          </a:xfrm>
        </p:grpSpPr>
        <p:sp>
          <p:nvSpPr>
            <p:cNvPr id="851" name="任意多边形 55"/>
            <p:cNvSpPr/>
            <p:nvPr/>
          </p:nvSpPr>
          <p:spPr>
            <a:xfrm rot="19275000">
              <a:off x="-162720" y="-1573200"/>
              <a:ext cx="52200" cy="1503720"/>
            </a:xfrm>
            <a:custGeom>
              <a:avLst/>
              <a:gdLst>
                <a:gd name="textAreaLeft" fmla="*/ 0 w 52200"/>
                <a:gd name="textAreaRight" fmla="*/ 52560 w 52200"/>
                <a:gd name="textAreaTop" fmla="*/ 0 h 1503720"/>
                <a:gd name="textAreaBottom" fmla="*/ 1504080 h 1503720"/>
              </a:gdLst>
              <a:ahLst/>
              <a:rect l="textAreaLeft" t="textAreaTop" r="textAreaRight" b="textAreaBottom"/>
              <a:pathLst>
                <a:path w="69449" h="1979271">
                  <a:moveTo>
                    <a:pt x="11575" y="1967696"/>
                  </a:moveTo>
                  <a:cubicBezTo>
                    <a:pt x="7717" y="1311797"/>
                    <a:pt x="3858" y="655899"/>
                    <a:pt x="0" y="0"/>
                  </a:cubicBezTo>
                  <a:lnTo>
                    <a:pt x="69449" y="1979271"/>
                  </a:lnTo>
                  <a:lnTo>
                    <a:pt x="11575" y="196769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十字星 56"/>
            <p:cNvSpPr/>
            <p:nvPr/>
          </p:nvSpPr>
          <p:spPr>
            <a:xfrm rot="19275000">
              <a:off x="146160" y="-413640"/>
              <a:ext cx="357120" cy="359280"/>
            </a:xfrm>
            <a:custGeom>
              <a:avLst/>
              <a:gdLst>
                <a:gd name="textAreaLeft" fmla="*/ 147240 w 357120"/>
                <a:gd name="textAreaRight" fmla="*/ 209880 w 357120"/>
                <a:gd name="textAreaTop" fmla="*/ 147960 h 359280"/>
                <a:gd name="textAreaBottom" fmla="*/ 211320 h 35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3" name=""/>
          <p:cNvGrpSpPr/>
          <p:nvPr/>
        </p:nvGrpSpPr>
        <p:grpSpPr>
          <a:xfrm>
            <a:off x="1751040" y="-1319400"/>
            <a:ext cx="1207080" cy="1444320"/>
            <a:chOff x="1751040" y="-1319400"/>
            <a:chExt cx="1207080" cy="1444320"/>
          </a:xfrm>
        </p:grpSpPr>
        <p:sp>
          <p:nvSpPr>
            <p:cNvPr id="854" name="任意多边形 58"/>
            <p:cNvSpPr/>
            <p:nvPr/>
          </p:nvSpPr>
          <p:spPr>
            <a:xfrm rot="19275000">
              <a:off x="2216160" y="-1468440"/>
              <a:ext cx="52920" cy="1505520"/>
            </a:xfrm>
            <a:custGeom>
              <a:avLst/>
              <a:gdLst>
                <a:gd name="textAreaLeft" fmla="*/ 0 w 52920"/>
                <a:gd name="textAreaRight" fmla="*/ 53280 w 52920"/>
                <a:gd name="textAreaTop" fmla="*/ 0 h 1505520"/>
                <a:gd name="textAreaBottom" fmla="*/ 1505880 h 1505520"/>
              </a:gdLst>
              <a:ahLst/>
              <a:rect l="textAreaLeft" t="textAreaTop" r="textAreaRight" b="textAreaBottom"/>
              <a:pathLst>
                <a:path w="69449" h="1979271">
                  <a:moveTo>
                    <a:pt x="11575" y="1967696"/>
                  </a:moveTo>
                  <a:cubicBezTo>
                    <a:pt x="7717" y="1311797"/>
                    <a:pt x="3858" y="655899"/>
                    <a:pt x="0" y="0"/>
                  </a:cubicBezTo>
                  <a:lnTo>
                    <a:pt x="69449" y="1979271"/>
                  </a:lnTo>
                  <a:lnTo>
                    <a:pt x="11575" y="196769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十字星 59"/>
            <p:cNvSpPr/>
            <p:nvPr/>
          </p:nvSpPr>
          <p:spPr>
            <a:xfrm rot="19275000">
              <a:off x="2524680" y="-307800"/>
              <a:ext cx="360360" cy="359640"/>
            </a:xfrm>
            <a:custGeom>
              <a:avLst/>
              <a:gdLst>
                <a:gd name="textAreaLeft" fmla="*/ 148320 w 360360"/>
                <a:gd name="textAreaRight" fmla="*/ 212040 w 360360"/>
                <a:gd name="textAreaTop" fmla="*/ 148320 h 359640"/>
                <a:gd name="textAreaBottom" fmla="*/ 211320 h 359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6" name=""/>
          <p:cNvGrpSpPr/>
          <p:nvPr/>
        </p:nvGrpSpPr>
        <p:grpSpPr>
          <a:xfrm>
            <a:off x="2844720" y="-1841400"/>
            <a:ext cx="5232600" cy="4979880"/>
            <a:chOff x="2844720" y="-1841400"/>
            <a:chExt cx="5232600" cy="4979880"/>
          </a:xfrm>
        </p:grpSpPr>
        <p:sp>
          <p:nvSpPr>
            <p:cNvPr id="857" name="椭圆 52"/>
            <p:cNvSpPr/>
            <p:nvPr/>
          </p:nvSpPr>
          <p:spPr>
            <a:xfrm>
              <a:off x="4975920" y="327960"/>
              <a:ext cx="1163880" cy="1163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五角星 53"/>
            <p:cNvSpPr/>
            <p:nvPr/>
          </p:nvSpPr>
          <p:spPr>
            <a:xfrm>
              <a:off x="2844720" y="-1841400"/>
              <a:ext cx="5232600" cy="4979880"/>
            </a:xfrm>
            <a:prstGeom prst="star5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9" name="十字星 6"/>
          <p:cNvSpPr/>
          <p:nvPr/>
        </p:nvSpPr>
        <p:spPr>
          <a:xfrm>
            <a:off x="3768840" y="1103400"/>
            <a:ext cx="156960" cy="156960"/>
          </a:xfrm>
          <a:custGeom>
            <a:avLst/>
            <a:gdLst>
              <a:gd name="textAreaLeft" fmla="*/ 64800 w 156960"/>
              <a:gd name="textAreaRight" fmla="*/ 92160 w 156960"/>
              <a:gd name="textAreaTop" fmla="*/ 64800 h 156960"/>
              <a:gd name="textAreaBottom" fmla="*/ 92160 h 1569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十字星 44"/>
          <p:cNvSpPr/>
          <p:nvPr/>
        </p:nvSpPr>
        <p:spPr>
          <a:xfrm rot="1119600">
            <a:off x="4149360" y="1058760"/>
            <a:ext cx="158760" cy="157320"/>
          </a:xfrm>
          <a:custGeom>
            <a:avLst/>
            <a:gdLst>
              <a:gd name="textAreaLeft" fmla="*/ 65520 w 158760"/>
              <a:gd name="textAreaRight" fmla="*/ 93240 w 158760"/>
              <a:gd name="textAreaTop" fmla="*/ 64800 h 157320"/>
              <a:gd name="textAreaBottom" fmla="*/ 92520 h 157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080" bIns="-19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十字星 45"/>
          <p:cNvSpPr/>
          <p:nvPr/>
        </p:nvSpPr>
        <p:spPr>
          <a:xfrm rot="1119600">
            <a:off x="3974760" y="1203480"/>
            <a:ext cx="158760" cy="156960"/>
          </a:xfrm>
          <a:custGeom>
            <a:avLst/>
            <a:gdLst>
              <a:gd name="textAreaLeft" fmla="*/ 65520 w 158760"/>
              <a:gd name="textAreaRight" fmla="*/ 93240 w 158760"/>
              <a:gd name="textAreaTop" fmla="*/ 64800 h 156960"/>
              <a:gd name="textAreaBottom" fmla="*/ 92160 h 1569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十字星 46"/>
          <p:cNvSpPr/>
          <p:nvPr/>
        </p:nvSpPr>
        <p:spPr>
          <a:xfrm rot="1119600">
            <a:off x="4327200" y="1119240"/>
            <a:ext cx="158760" cy="156960"/>
          </a:xfrm>
          <a:custGeom>
            <a:avLst/>
            <a:gdLst>
              <a:gd name="textAreaLeft" fmla="*/ 65520 w 158760"/>
              <a:gd name="textAreaRight" fmla="*/ 93240 w 158760"/>
              <a:gd name="textAreaTop" fmla="*/ 64800 h 156960"/>
              <a:gd name="textAreaBottom" fmla="*/ 92160 h 1569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十字星 47"/>
          <p:cNvSpPr/>
          <p:nvPr/>
        </p:nvSpPr>
        <p:spPr>
          <a:xfrm>
            <a:off x="4449600" y="958680"/>
            <a:ext cx="157320" cy="157320"/>
          </a:xfrm>
          <a:custGeom>
            <a:avLst/>
            <a:gdLst>
              <a:gd name="textAreaLeft" fmla="*/ 64800 w 157320"/>
              <a:gd name="textAreaRight" fmla="*/ 92520 w 157320"/>
              <a:gd name="textAreaTop" fmla="*/ 64800 h 157320"/>
              <a:gd name="textAreaBottom" fmla="*/ 92520 h 157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080" bIns="-19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十字星 48"/>
          <p:cNvSpPr/>
          <p:nvPr/>
        </p:nvSpPr>
        <p:spPr>
          <a:xfrm rot="1119600">
            <a:off x="4679640" y="914400"/>
            <a:ext cx="156960" cy="157320"/>
          </a:xfrm>
          <a:custGeom>
            <a:avLst/>
            <a:gdLst>
              <a:gd name="textAreaLeft" fmla="*/ 64800 w 156960"/>
              <a:gd name="textAreaRight" fmla="*/ 92160 w 156960"/>
              <a:gd name="textAreaTop" fmla="*/ 64800 h 157320"/>
              <a:gd name="textAreaBottom" fmla="*/ 92520 h 157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080" bIns="-19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十字星 49"/>
          <p:cNvSpPr/>
          <p:nvPr/>
        </p:nvSpPr>
        <p:spPr>
          <a:xfrm rot="1119600">
            <a:off x="4578120" y="1058760"/>
            <a:ext cx="156960" cy="157320"/>
          </a:xfrm>
          <a:custGeom>
            <a:avLst/>
            <a:gdLst>
              <a:gd name="textAreaLeft" fmla="*/ 64800 w 156960"/>
              <a:gd name="textAreaRight" fmla="*/ 92160 w 156960"/>
              <a:gd name="textAreaTop" fmla="*/ 64800 h 157320"/>
              <a:gd name="textAreaBottom" fmla="*/ 92520 h 157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080" bIns="-19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十字星 50"/>
          <p:cNvSpPr/>
          <p:nvPr/>
        </p:nvSpPr>
        <p:spPr>
          <a:xfrm rot="1119600">
            <a:off x="4903560" y="974880"/>
            <a:ext cx="156960" cy="158760"/>
          </a:xfrm>
          <a:custGeom>
            <a:avLst/>
            <a:gdLst>
              <a:gd name="textAreaLeft" fmla="*/ 64800 w 156960"/>
              <a:gd name="textAreaRight" fmla="*/ 92160 w 156960"/>
              <a:gd name="textAreaTop" fmla="*/ 65520 h 158760"/>
              <a:gd name="textAreaBottom" fmla="*/ 93240 h 1587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080" bIns="-19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7" name="Picture 7" descr=""/>
          <p:cNvPicPr/>
          <p:nvPr/>
        </p:nvPicPr>
        <p:blipFill>
          <a:blip r:embed="rId2"/>
          <a:stretch/>
        </p:blipFill>
        <p:spPr>
          <a:xfrm rot="412200">
            <a:off x="3360240" y="1087200"/>
            <a:ext cx="476280" cy="255600"/>
          </a:xfrm>
          <a:prstGeom prst="rect">
            <a:avLst/>
          </a:prstGeom>
          <a:ln w="0">
            <a:noFill/>
          </a:ln>
        </p:spPr>
      </p:pic>
      <p:pic>
        <p:nvPicPr>
          <p:cNvPr id="868" name="Picture 8" descr=""/>
          <p:cNvPicPr/>
          <p:nvPr/>
        </p:nvPicPr>
        <p:blipFill>
          <a:blip r:embed="rId3"/>
          <a:stretch/>
        </p:blipFill>
        <p:spPr>
          <a:xfrm rot="412200">
            <a:off x="3360240" y="1087200"/>
            <a:ext cx="476280" cy="255600"/>
          </a:xfrm>
          <a:prstGeom prst="rect">
            <a:avLst/>
          </a:prstGeom>
          <a:ln w="0">
            <a:noFill/>
          </a:ln>
        </p:spPr>
      </p:pic>
      <p:pic>
        <p:nvPicPr>
          <p:cNvPr id="869" name="Picture 9" descr=""/>
          <p:cNvPicPr/>
          <p:nvPr/>
        </p:nvPicPr>
        <p:blipFill>
          <a:blip r:embed="rId4"/>
          <a:stretch/>
        </p:blipFill>
        <p:spPr>
          <a:xfrm rot="412200">
            <a:off x="3366720" y="1087560"/>
            <a:ext cx="469800" cy="255600"/>
          </a:xfrm>
          <a:prstGeom prst="rect">
            <a:avLst/>
          </a:prstGeom>
          <a:ln w="0">
            <a:noFill/>
          </a:ln>
        </p:spPr>
      </p:pic>
      <p:sp>
        <p:nvSpPr>
          <p:cNvPr id="870" name="任意多边形 5"/>
          <p:cNvSpPr/>
          <p:nvPr/>
        </p:nvSpPr>
        <p:spPr>
          <a:xfrm rot="375600">
            <a:off x="3301920" y="1044720"/>
            <a:ext cx="601920" cy="380880"/>
          </a:xfrm>
          <a:custGeom>
            <a:avLst/>
            <a:gdLst>
              <a:gd name="textAreaLeft" fmla="*/ 0 w 601920"/>
              <a:gd name="textAreaRight" fmla="*/ 602280 w 60192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536873" h="276225">
                <a:moveTo>
                  <a:pt x="105520" y="276225"/>
                </a:moveTo>
                <a:lnTo>
                  <a:pt x="305545" y="180975"/>
                </a:lnTo>
                <a:lnTo>
                  <a:pt x="391270" y="161925"/>
                </a:lnTo>
                <a:cubicBezTo>
                  <a:pt x="416756" y="155928"/>
                  <a:pt x="442632" y="151154"/>
                  <a:pt x="467470" y="142875"/>
                </a:cubicBezTo>
                <a:cubicBezTo>
                  <a:pt x="476995" y="139700"/>
                  <a:pt x="487065" y="137840"/>
                  <a:pt x="496045" y="133350"/>
                </a:cubicBezTo>
                <a:cubicBezTo>
                  <a:pt x="506284" y="128230"/>
                  <a:pt x="515095" y="120650"/>
                  <a:pt x="524620" y="114300"/>
                </a:cubicBezTo>
                <a:cubicBezTo>
                  <a:pt x="538648" y="72216"/>
                  <a:pt x="546427" y="65923"/>
                  <a:pt x="515095" y="9525"/>
                </a:cubicBezTo>
                <a:cubicBezTo>
                  <a:pt x="510219" y="748"/>
                  <a:pt x="496045" y="3175"/>
                  <a:pt x="486520" y="0"/>
                </a:cubicBezTo>
                <a:cubicBezTo>
                  <a:pt x="451595" y="3175"/>
                  <a:pt x="416506" y="4890"/>
                  <a:pt x="381745" y="9525"/>
                </a:cubicBezTo>
                <a:cubicBezTo>
                  <a:pt x="343567" y="14615"/>
                  <a:pt x="348654" y="20179"/>
                  <a:pt x="315070" y="28575"/>
                </a:cubicBezTo>
                <a:cubicBezTo>
                  <a:pt x="299364" y="32502"/>
                  <a:pt x="283220" y="34460"/>
                  <a:pt x="267445" y="38100"/>
                </a:cubicBezTo>
                <a:cubicBezTo>
                  <a:pt x="241934" y="43987"/>
                  <a:pt x="217336" y="54976"/>
                  <a:pt x="191245" y="57150"/>
                </a:cubicBezTo>
                <a:lnTo>
                  <a:pt x="76945" y="66675"/>
                </a:lnTo>
                <a:cubicBezTo>
                  <a:pt x="64245" y="69850"/>
                  <a:pt x="50877" y="71043"/>
                  <a:pt x="38845" y="76200"/>
                </a:cubicBezTo>
                <a:cubicBezTo>
                  <a:pt x="-18414" y="100740"/>
                  <a:pt x="-1124" y="136335"/>
                  <a:pt x="19795" y="209550"/>
                </a:cubicBezTo>
                <a:cubicBezTo>
                  <a:pt x="23043" y="220917"/>
                  <a:pt x="67050" y="236603"/>
                  <a:pt x="76945" y="238125"/>
                </a:cubicBezTo>
                <a:cubicBezTo>
                  <a:pt x="108482" y="242977"/>
                  <a:pt x="172195" y="247650"/>
                  <a:pt x="172195" y="247650"/>
                </a:cubicBezTo>
                <a:lnTo>
                  <a:pt x="105520" y="276225"/>
                </a:lnTo>
                <a:close/>
              </a:path>
            </a:pathLst>
          </a:custGeom>
          <a:solidFill>
            <a:srgbClr val="0000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任意多边形 81"/>
          <p:cNvSpPr/>
          <p:nvPr/>
        </p:nvSpPr>
        <p:spPr>
          <a:xfrm>
            <a:off x="3522600" y="466560"/>
            <a:ext cx="7386840" cy="2681280"/>
          </a:xfrm>
          <a:custGeom>
            <a:avLst/>
            <a:gdLst>
              <a:gd name="textAreaLeft" fmla="*/ 0 w 7386840"/>
              <a:gd name="textAreaRight" fmla="*/ 7387200 w 7386840"/>
              <a:gd name="textAreaTop" fmla="*/ 0 h 2681280"/>
              <a:gd name="textAreaBottom" fmla="*/ 2681640 h 2681280"/>
            </a:gdLst>
            <a:ahLst/>
            <a:rect l="textAreaLeft" t="textAreaTop" r="textAreaRight" b="textAreaBottom"/>
            <a:pathLst>
              <a:path w="7385538" h="2680383">
                <a:moveTo>
                  <a:pt x="0" y="2234906"/>
                </a:moveTo>
                <a:cubicBezTo>
                  <a:pt x="109415" y="2109860"/>
                  <a:pt x="246185" y="1973090"/>
                  <a:pt x="328246" y="1859767"/>
                </a:cubicBezTo>
                <a:cubicBezTo>
                  <a:pt x="410307" y="1746444"/>
                  <a:pt x="449384" y="1656567"/>
                  <a:pt x="492369" y="1554967"/>
                </a:cubicBezTo>
                <a:cubicBezTo>
                  <a:pt x="535354" y="1453367"/>
                  <a:pt x="535354" y="1359582"/>
                  <a:pt x="586154" y="1250167"/>
                </a:cubicBezTo>
                <a:cubicBezTo>
                  <a:pt x="636954" y="1140752"/>
                  <a:pt x="703385" y="988352"/>
                  <a:pt x="797169" y="898475"/>
                </a:cubicBezTo>
                <a:cubicBezTo>
                  <a:pt x="890953" y="808598"/>
                  <a:pt x="1039446" y="773429"/>
                  <a:pt x="1148861" y="710906"/>
                </a:cubicBezTo>
                <a:lnTo>
                  <a:pt x="1453661" y="523336"/>
                </a:lnTo>
                <a:cubicBezTo>
                  <a:pt x="1563076" y="503798"/>
                  <a:pt x="1715477" y="550690"/>
                  <a:pt x="1805354" y="593675"/>
                </a:cubicBezTo>
                <a:cubicBezTo>
                  <a:pt x="1895231" y="636660"/>
                  <a:pt x="1947664" y="698150"/>
                  <a:pt x="1992923" y="781244"/>
                </a:cubicBezTo>
                <a:cubicBezTo>
                  <a:pt x="2038182" y="864338"/>
                  <a:pt x="2046640" y="990795"/>
                  <a:pt x="2076910" y="1092241"/>
                </a:cubicBezTo>
                <a:cubicBezTo>
                  <a:pt x="2107180" y="1193687"/>
                  <a:pt x="2119238" y="1310388"/>
                  <a:pt x="2174546" y="1389923"/>
                </a:cubicBezTo>
                <a:cubicBezTo>
                  <a:pt x="2229854" y="1469458"/>
                  <a:pt x="2342214" y="1531130"/>
                  <a:pt x="2408757" y="1569453"/>
                </a:cubicBezTo>
                <a:cubicBezTo>
                  <a:pt x="2475300" y="1607776"/>
                  <a:pt x="2517614" y="1615969"/>
                  <a:pt x="2573801" y="1619863"/>
                </a:cubicBezTo>
                <a:cubicBezTo>
                  <a:pt x="2629988" y="1623757"/>
                  <a:pt x="2684808" y="1611168"/>
                  <a:pt x="2745880" y="1592816"/>
                </a:cubicBezTo>
                <a:cubicBezTo>
                  <a:pt x="2806952" y="1574464"/>
                  <a:pt x="2877415" y="1542282"/>
                  <a:pt x="2940231" y="1509750"/>
                </a:cubicBezTo>
                <a:cubicBezTo>
                  <a:pt x="3003047" y="1477219"/>
                  <a:pt x="3073553" y="1464337"/>
                  <a:pt x="3122776" y="1397627"/>
                </a:cubicBezTo>
                <a:cubicBezTo>
                  <a:pt x="3171999" y="1330917"/>
                  <a:pt x="3208955" y="1231759"/>
                  <a:pt x="3235569" y="1109490"/>
                </a:cubicBezTo>
                <a:cubicBezTo>
                  <a:pt x="3262183" y="987221"/>
                  <a:pt x="3239476" y="800782"/>
                  <a:pt x="3282461" y="664013"/>
                </a:cubicBezTo>
                <a:cubicBezTo>
                  <a:pt x="3325446" y="527244"/>
                  <a:pt x="3407508" y="390475"/>
                  <a:pt x="3493477" y="288875"/>
                </a:cubicBezTo>
                <a:cubicBezTo>
                  <a:pt x="3579446" y="187275"/>
                  <a:pt x="3720123" y="101305"/>
                  <a:pt x="3798277" y="54413"/>
                </a:cubicBezTo>
                <a:cubicBezTo>
                  <a:pt x="3876431" y="7521"/>
                  <a:pt x="3876431" y="-12017"/>
                  <a:pt x="3962400" y="7521"/>
                </a:cubicBezTo>
                <a:cubicBezTo>
                  <a:pt x="4048369" y="27059"/>
                  <a:pt x="4216400" y="73952"/>
                  <a:pt x="4314092" y="171644"/>
                </a:cubicBezTo>
                <a:cubicBezTo>
                  <a:pt x="4411784" y="269336"/>
                  <a:pt x="4478216" y="433460"/>
                  <a:pt x="4548554" y="593675"/>
                </a:cubicBezTo>
                <a:cubicBezTo>
                  <a:pt x="4618893" y="753890"/>
                  <a:pt x="4657969" y="953182"/>
                  <a:pt x="4736123" y="1132936"/>
                </a:cubicBezTo>
                <a:cubicBezTo>
                  <a:pt x="4814277" y="1312690"/>
                  <a:pt x="4900246" y="1539336"/>
                  <a:pt x="5017477" y="1672198"/>
                </a:cubicBezTo>
                <a:cubicBezTo>
                  <a:pt x="5134708" y="1805060"/>
                  <a:pt x="5255846" y="1879306"/>
                  <a:pt x="5439507" y="1930106"/>
                </a:cubicBezTo>
                <a:cubicBezTo>
                  <a:pt x="5623168" y="1980906"/>
                  <a:pt x="5900615" y="1937921"/>
                  <a:pt x="6119446" y="1976998"/>
                </a:cubicBezTo>
                <a:lnTo>
                  <a:pt x="6752492" y="2164567"/>
                </a:lnTo>
                <a:lnTo>
                  <a:pt x="7385538" y="2258352"/>
                </a:lnTo>
                <a:lnTo>
                  <a:pt x="2438400" y="2680383"/>
                </a:lnTo>
                <a:lnTo>
                  <a:pt x="23446" y="2258352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2" name=""/>
          <p:cNvGrpSpPr/>
          <p:nvPr/>
        </p:nvGrpSpPr>
        <p:grpSpPr>
          <a:xfrm>
            <a:off x="-22419000" y="2478240"/>
            <a:ext cx="36563760" cy="2901960"/>
            <a:chOff x="-22419000" y="2478240"/>
            <a:chExt cx="36563760" cy="2901960"/>
          </a:xfrm>
        </p:grpSpPr>
        <p:sp>
          <p:nvSpPr>
            <p:cNvPr id="873" name="矩形 2"/>
            <p:cNvSpPr/>
            <p:nvPr/>
          </p:nvSpPr>
          <p:spPr>
            <a:xfrm flipH="1">
              <a:off x="-22410360" y="2500920"/>
              <a:ext cx="36554760" cy="2879280"/>
            </a:xfrm>
            <a:custGeom>
              <a:avLst/>
              <a:gdLst>
                <a:gd name="textAreaLeft" fmla="*/ 360 w 36554760"/>
                <a:gd name="textAreaRight" fmla="*/ 36555480 w 36554760"/>
                <a:gd name="textAreaTop" fmla="*/ 0 h 2879280"/>
                <a:gd name="textAreaBottom" fmla="*/ 2879640 h 2879280"/>
              </a:gdLst>
              <a:ahLst/>
              <a:rect l="textAreaLeft" t="textAreaTop" r="textAreaRight" b="textAreaBottom"/>
              <a:pathLst>
                <a:path w="17081127" h="2759936">
                  <a:moveTo>
                    <a:pt x="106255" y="128534"/>
                  </a:moveTo>
                  <a:cubicBezTo>
                    <a:pt x="1443578" y="-252561"/>
                    <a:pt x="6432901" y="334105"/>
                    <a:pt x="8023937" y="345017"/>
                  </a:cubicBezTo>
                  <a:cubicBezTo>
                    <a:pt x="8307660" y="319343"/>
                    <a:pt x="8503937" y="173779"/>
                    <a:pt x="9652469" y="194006"/>
                  </a:cubicBezTo>
                  <a:cubicBezTo>
                    <a:pt x="11452086" y="242644"/>
                    <a:pt x="13115515" y="417743"/>
                    <a:pt x="14915132" y="466381"/>
                  </a:cubicBezTo>
                  <a:lnTo>
                    <a:pt x="16973957" y="359889"/>
                  </a:lnTo>
                  <a:cubicBezTo>
                    <a:pt x="17272327" y="399568"/>
                    <a:pt x="16852801" y="545549"/>
                    <a:pt x="16854630" y="616320"/>
                  </a:cubicBezTo>
                  <a:cubicBezTo>
                    <a:pt x="16841874" y="684020"/>
                    <a:pt x="16964067" y="620546"/>
                    <a:pt x="17010664" y="633890"/>
                  </a:cubicBezTo>
                  <a:cubicBezTo>
                    <a:pt x="17057261" y="647234"/>
                    <a:pt x="17007098" y="738607"/>
                    <a:pt x="16984931" y="784518"/>
                  </a:cubicBezTo>
                  <a:cubicBezTo>
                    <a:pt x="16994775" y="840702"/>
                    <a:pt x="16779840" y="997316"/>
                    <a:pt x="16764417" y="1041561"/>
                  </a:cubicBezTo>
                  <a:cubicBezTo>
                    <a:pt x="16826108" y="1024706"/>
                    <a:pt x="16830702" y="1066844"/>
                    <a:pt x="16892393" y="1049989"/>
                  </a:cubicBezTo>
                  <a:cubicBezTo>
                    <a:pt x="16919301" y="1040157"/>
                    <a:pt x="16930749" y="1168807"/>
                    <a:pt x="16957657" y="1158975"/>
                  </a:cubicBezTo>
                  <a:cubicBezTo>
                    <a:pt x="16986506" y="1180503"/>
                    <a:pt x="17030090" y="1155374"/>
                    <a:pt x="17040205" y="1173748"/>
                  </a:cubicBezTo>
                  <a:cubicBezTo>
                    <a:pt x="17050321" y="1192122"/>
                    <a:pt x="17054798" y="1237171"/>
                    <a:pt x="17018350" y="1269217"/>
                  </a:cubicBezTo>
                  <a:cubicBezTo>
                    <a:pt x="16974050" y="1300821"/>
                    <a:pt x="16843378" y="1337387"/>
                    <a:pt x="16821514" y="1366026"/>
                  </a:cubicBezTo>
                  <a:cubicBezTo>
                    <a:pt x="16900925" y="1336529"/>
                    <a:pt x="16852360" y="1391309"/>
                    <a:pt x="16931771" y="1361812"/>
                  </a:cubicBezTo>
                  <a:cubicBezTo>
                    <a:pt x="16954085" y="1354789"/>
                    <a:pt x="16893706" y="1482608"/>
                    <a:pt x="16916020" y="1475585"/>
                  </a:cubicBezTo>
                  <a:cubicBezTo>
                    <a:pt x="16959335" y="1458730"/>
                    <a:pt x="16773100" y="1640329"/>
                    <a:pt x="16816415" y="1623474"/>
                  </a:cubicBezTo>
                  <a:cubicBezTo>
                    <a:pt x="16786719" y="1701693"/>
                    <a:pt x="16722199" y="1850079"/>
                    <a:pt x="16779024" y="1867780"/>
                  </a:cubicBezTo>
                  <a:cubicBezTo>
                    <a:pt x="16835849" y="1885481"/>
                    <a:pt x="16897814" y="1938125"/>
                    <a:pt x="16869100" y="1961038"/>
                  </a:cubicBezTo>
                  <a:cubicBezTo>
                    <a:pt x="16918978" y="1935755"/>
                    <a:pt x="16515682" y="2107659"/>
                    <a:pt x="16565560" y="2082376"/>
                  </a:cubicBezTo>
                  <a:cubicBezTo>
                    <a:pt x="16616751" y="2051475"/>
                    <a:pt x="16650221" y="2092208"/>
                    <a:pt x="16701412" y="2061307"/>
                  </a:cubicBezTo>
                  <a:cubicBezTo>
                    <a:pt x="16742102" y="2036024"/>
                    <a:pt x="16540621" y="2288853"/>
                    <a:pt x="16581311" y="2263570"/>
                  </a:cubicBezTo>
                  <a:cubicBezTo>
                    <a:pt x="16652847" y="2221432"/>
                    <a:pt x="16620032" y="2394199"/>
                    <a:pt x="16691568" y="2352061"/>
                  </a:cubicBezTo>
                  <a:cubicBezTo>
                    <a:pt x="16731602" y="2326778"/>
                    <a:pt x="16539308" y="2575393"/>
                    <a:pt x="16579342" y="2550110"/>
                  </a:cubicBezTo>
                  <a:cubicBezTo>
                    <a:pt x="16668598" y="2489712"/>
                    <a:pt x="16411331" y="2812772"/>
                    <a:pt x="16500587" y="2752374"/>
                  </a:cubicBezTo>
                  <a:lnTo>
                    <a:pt x="0" y="2631588"/>
                  </a:lnTo>
                  <a:lnTo>
                    <a:pt x="106255" y="1285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矩形 2"/>
            <p:cNvSpPr/>
            <p:nvPr/>
          </p:nvSpPr>
          <p:spPr>
            <a:xfrm flipH="1">
              <a:off x="-22419360" y="2478240"/>
              <a:ext cx="36554760" cy="2714760"/>
            </a:xfrm>
            <a:custGeom>
              <a:avLst/>
              <a:gdLst>
                <a:gd name="textAreaLeft" fmla="*/ 360 w 36554760"/>
                <a:gd name="textAreaRight" fmla="*/ 36555480 w 36554760"/>
                <a:gd name="textAreaTop" fmla="*/ 0 h 2714760"/>
                <a:gd name="textAreaBottom" fmla="*/ 2715120 h 2714760"/>
              </a:gdLst>
              <a:ahLst/>
              <a:rect l="textAreaLeft" t="textAreaTop" r="textAreaRight" b="textAreaBottom"/>
              <a:pathLst>
                <a:path w="17081127" h="2759936">
                  <a:moveTo>
                    <a:pt x="106255" y="128534"/>
                  </a:moveTo>
                  <a:cubicBezTo>
                    <a:pt x="1443578" y="-252561"/>
                    <a:pt x="6432901" y="334105"/>
                    <a:pt x="8023937" y="345017"/>
                  </a:cubicBezTo>
                  <a:cubicBezTo>
                    <a:pt x="8307660" y="319343"/>
                    <a:pt x="8503937" y="173779"/>
                    <a:pt x="9652469" y="194006"/>
                  </a:cubicBezTo>
                  <a:cubicBezTo>
                    <a:pt x="11452086" y="242644"/>
                    <a:pt x="13115515" y="417743"/>
                    <a:pt x="14915132" y="466381"/>
                  </a:cubicBezTo>
                  <a:lnTo>
                    <a:pt x="16973957" y="359889"/>
                  </a:lnTo>
                  <a:cubicBezTo>
                    <a:pt x="17272327" y="399568"/>
                    <a:pt x="16852801" y="545549"/>
                    <a:pt x="16854630" y="616320"/>
                  </a:cubicBezTo>
                  <a:cubicBezTo>
                    <a:pt x="16841874" y="684020"/>
                    <a:pt x="16964067" y="620546"/>
                    <a:pt x="17010664" y="633890"/>
                  </a:cubicBezTo>
                  <a:cubicBezTo>
                    <a:pt x="17057261" y="647234"/>
                    <a:pt x="17007098" y="738607"/>
                    <a:pt x="16984931" y="784518"/>
                  </a:cubicBezTo>
                  <a:cubicBezTo>
                    <a:pt x="16994775" y="840702"/>
                    <a:pt x="16779840" y="997316"/>
                    <a:pt x="16764417" y="1041561"/>
                  </a:cubicBezTo>
                  <a:cubicBezTo>
                    <a:pt x="16826108" y="1024706"/>
                    <a:pt x="16830702" y="1066844"/>
                    <a:pt x="16892393" y="1049989"/>
                  </a:cubicBezTo>
                  <a:cubicBezTo>
                    <a:pt x="16919301" y="1040157"/>
                    <a:pt x="16930749" y="1168807"/>
                    <a:pt x="16957657" y="1158975"/>
                  </a:cubicBezTo>
                  <a:cubicBezTo>
                    <a:pt x="16986506" y="1180503"/>
                    <a:pt x="17030090" y="1155374"/>
                    <a:pt x="17040205" y="1173748"/>
                  </a:cubicBezTo>
                  <a:cubicBezTo>
                    <a:pt x="17050321" y="1192122"/>
                    <a:pt x="17054798" y="1237171"/>
                    <a:pt x="17018350" y="1269217"/>
                  </a:cubicBezTo>
                  <a:cubicBezTo>
                    <a:pt x="16974050" y="1300821"/>
                    <a:pt x="16843378" y="1337387"/>
                    <a:pt x="16821514" y="1366026"/>
                  </a:cubicBezTo>
                  <a:cubicBezTo>
                    <a:pt x="16900925" y="1336529"/>
                    <a:pt x="16852360" y="1391309"/>
                    <a:pt x="16931771" y="1361812"/>
                  </a:cubicBezTo>
                  <a:cubicBezTo>
                    <a:pt x="16954085" y="1354789"/>
                    <a:pt x="16893706" y="1482608"/>
                    <a:pt x="16916020" y="1475585"/>
                  </a:cubicBezTo>
                  <a:cubicBezTo>
                    <a:pt x="16959335" y="1458730"/>
                    <a:pt x="16773100" y="1640329"/>
                    <a:pt x="16816415" y="1623474"/>
                  </a:cubicBezTo>
                  <a:cubicBezTo>
                    <a:pt x="16786719" y="1701693"/>
                    <a:pt x="16722199" y="1850079"/>
                    <a:pt x="16779024" y="1867780"/>
                  </a:cubicBezTo>
                  <a:cubicBezTo>
                    <a:pt x="16835849" y="1885481"/>
                    <a:pt x="16897814" y="1938125"/>
                    <a:pt x="16869100" y="1961038"/>
                  </a:cubicBezTo>
                  <a:cubicBezTo>
                    <a:pt x="16918978" y="1935755"/>
                    <a:pt x="16515682" y="2107659"/>
                    <a:pt x="16565560" y="2082376"/>
                  </a:cubicBezTo>
                  <a:cubicBezTo>
                    <a:pt x="16616751" y="2051475"/>
                    <a:pt x="16650221" y="2092208"/>
                    <a:pt x="16701412" y="2061307"/>
                  </a:cubicBezTo>
                  <a:cubicBezTo>
                    <a:pt x="16742102" y="2036024"/>
                    <a:pt x="16540621" y="2288853"/>
                    <a:pt x="16581311" y="2263570"/>
                  </a:cubicBezTo>
                  <a:cubicBezTo>
                    <a:pt x="16652847" y="2221432"/>
                    <a:pt x="16620032" y="2394199"/>
                    <a:pt x="16691568" y="2352061"/>
                  </a:cubicBezTo>
                  <a:cubicBezTo>
                    <a:pt x="16731602" y="2326778"/>
                    <a:pt x="16539308" y="2575393"/>
                    <a:pt x="16579342" y="2550110"/>
                  </a:cubicBezTo>
                  <a:cubicBezTo>
                    <a:pt x="16668598" y="2489712"/>
                    <a:pt x="16411331" y="2812772"/>
                    <a:pt x="16500587" y="2752374"/>
                  </a:cubicBezTo>
                  <a:lnTo>
                    <a:pt x="0" y="2631588"/>
                  </a:lnTo>
                  <a:lnTo>
                    <a:pt x="106255" y="1285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5" name=""/>
          <p:cNvGrpSpPr/>
          <p:nvPr/>
        </p:nvGrpSpPr>
        <p:grpSpPr>
          <a:xfrm>
            <a:off x="-22457160" y="2467080"/>
            <a:ext cx="36592200" cy="3098520"/>
            <a:chOff x="-22457160" y="2467080"/>
            <a:chExt cx="36592200" cy="3098520"/>
          </a:xfrm>
        </p:grpSpPr>
        <p:sp>
          <p:nvSpPr>
            <p:cNvPr id="876" name="矩形 2"/>
            <p:cNvSpPr/>
            <p:nvPr/>
          </p:nvSpPr>
          <p:spPr>
            <a:xfrm flipH="1">
              <a:off x="-22418640" y="2469240"/>
              <a:ext cx="36553320" cy="3096360"/>
            </a:xfrm>
            <a:custGeom>
              <a:avLst/>
              <a:gdLst>
                <a:gd name="textAreaLeft" fmla="*/ 360 w 36553320"/>
                <a:gd name="textAreaRight" fmla="*/ 36554040 w 36553320"/>
                <a:gd name="textAreaTop" fmla="*/ 0 h 3096360"/>
                <a:gd name="textAreaBottom" fmla="*/ 3096720 h 3096360"/>
              </a:gdLst>
              <a:ahLst/>
              <a:rect l="textAreaLeft" t="textAreaTop" r="textAreaRight" b="textAreaBottom"/>
              <a:pathLst>
                <a:path w="17081127" h="2759936">
                  <a:moveTo>
                    <a:pt x="106255" y="128534"/>
                  </a:moveTo>
                  <a:cubicBezTo>
                    <a:pt x="1443578" y="-252561"/>
                    <a:pt x="6432901" y="334105"/>
                    <a:pt x="8023937" y="345017"/>
                  </a:cubicBezTo>
                  <a:cubicBezTo>
                    <a:pt x="8307660" y="319343"/>
                    <a:pt x="8503937" y="173779"/>
                    <a:pt x="9652469" y="194006"/>
                  </a:cubicBezTo>
                  <a:cubicBezTo>
                    <a:pt x="11452086" y="242644"/>
                    <a:pt x="13115515" y="417743"/>
                    <a:pt x="14915132" y="466381"/>
                  </a:cubicBezTo>
                  <a:lnTo>
                    <a:pt x="16973957" y="359889"/>
                  </a:lnTo>
                  <a:cubicBezTo>
                    <a:pt x="17272327" y="399568"/>
                    <a:pt x="16852801" y="545549"/>
                    <a:pt x="16854630" y="616320"/>
                  </a:cubicBezTo>
                  <a:cubicBezTo>
                    <a:pt x="16841874" y="684020"/>
                    <a:pt x="16964067" y="620546"/>
                    <a:pt x="17010664" y="633890"/>
                  </a:cubicBezTo>
                  <a:cubicBezTo>
                    <a:pt x="17057261" y="647234"/>
                    <a:pt x="17007098" y="738607"/>
                    <a:pt x="16984931" y="784518"/>
                  </a:cubicBezTo>
                  <a:cubicBezTo>
                    <a:pt x="16994775" y="840702"/>
                    <a:pt x="16779840" y="997316"/>
                    <a:pt x="16764417" y="1041561"/>
                  </a:cubicBezTo>
                  <a:cubicBezTo>
                    <a:pt x="16826108" y="1024706"/>
                    <a:pt x="16830702" y="1066844"/>
                    <a:pt x="16892393" y="1049989"/>
                  </a:cubicBezTo>
                  <a:cubicBezTo>
                    <a:pt x="16919301" y="1040157"/>
                    <a:pt x="16930749" y="1168807"/>
                    <a:pt x="16957657" y="1158975"/>
                  </a:cubicBezTo>
                  <a:cubicBezTo>
                    <a:pt x="16986506" y="1180503"/>
                    <a:pt x="17030090" y="1155374"/>
                    <a:pt x="17040205" y="1173748"/>
                  </a:cubicBezTo>
                  <a:cubicBezTo>
                    <a:pt x="17050321" y="1192122"/>
                    <a:pt x="17054798" y="1237171"/>
                    <a:pt x="17018350" y="1269217"/>
                  </a:cubicBezTo>
                  <a:cubicBezTo>
                    <a:pt x="16974050" y="1300821"/>
                    <a:pt x="16843378" y="1337387"/>
                    <a:pt x="16821514" y="1366026"/>
                  </a:cubicBezTo>
                  <a:cubicBezTo>
                    <a:pt x="16900925" y="1336529"/>
                    <a:pt x="16852360" y="1391309"/>
                    <a:pt x="16931771" y="1361812"/>
                  </a:cubicBezTo>
                  <a:cubicBezTo>
                    <a:pt x="16954085" y="1354789"/>
                    <a:pt x="16893706" y="1482608"/>
                    <a:pt x="16916020" y="1475585"/>
                  </a:cubicBezTo>
                  <a:cubicBezTo>
                    <a:pt x="16959335" y="1458730"/>
                    <a:pt x="16773100" y="1640329"/>
                    <a:pt x="16816415" y="1623474"/>
                  </a:cubicBezTo>
                  <a:cubicBezTo>
                    <a:pt x="16786719" y="1701693"/>
                    <a:pt x="16722199" y="1850079"/>
                    <a:pt x="16779024" y="1867780"/>
                  </a:cubicBezTo>
                  <a:cubicBezTo>
                    <a:pt x="16835849" y="1885481"/>
                    <a:pt x="16897814" y="1938125"/>
                    <a:pt x="16869100" y="1961038"/>
                  </a:cubicBezTo>
                  <a:cubicBezTo>
                    <a:pt x="16918978" y="1935755"/>
                    <a:pt x="16515682" y="2107659"/>
                    <a:pt x="16565560" y="2082376"/>
                  </a:cubicBezTo>
                  <a:cubicBezTo>
                    <a:pt x="16616751" y="2051475"/>
                    <a:pt x="16650221" y="2092208"/>
                    <a:pt x="16701412" y="2061307"/>
                  </a:cubicBezTo>
                  <a:cubicBezTo>
                    <a:pt x="16742102" y="2036024"/>
                    <a:pt x="16540621" y="2288853"/>
                    <a:pt x="16581311" y="2263570"/>
                  </a:cubicBezTo>
                  <a:cubicBezTo>
                    <a:pt x="16652847" y="2221432"/>
                    <a:pt x="16620032" y="2394199"/>
                    <a:pt x="16691568" y="2352061"/>
                  </a:cubicBezTo>
                  <a:cubicBezTo>
                    <a:pt x="16731602" y="2326778"/>
                    <a:pt x="16539308" y="2575393"/>
                    <a:pt x="16579342" y="2550110"/>
                  </a:cubicBezTo>
                  <a:cubicBezTo>
                    <a:pt x="16668598" y="2489712"/>
                    <a:pt x="16411331" y="2812772"/>
                    <a:pt x="16500587" y="2752374"/>
                  </a:cubicBezTo>
                  <a:lnTo>
                    <a:pt x="0" y="2631588"/>
                  </a:lnTo>
                  <a:lnTo>
                    <a:pt x="106255" y="1285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矩形 2"/>
            <p:cNvSpPr/>
            <p:nvPr/>
          </p:nvSpPr>
          <p:spPr>
            <a:xfrm flipH="1">
              <a:off x="-22457520" y="2467080"/>
              <a:ext cx="36553320" cy="2919600"/>
            </a:xfrm>
            <a:custGeom>
              <a:avLst/>
              <a:gdLst>
                <a:gd name="textAreaLeft" fmla="*/ 360 w 36553320"/>
                <a:gd name="textAreaRight" fmla="*/ 36554040 w 36553320"/>
                <a:gd name="textAreaTop" fmla="*/ 0 h 2919600"/>
                <a:gd name="textAreaBottom" fmla="*/ 2919960 h 2919600"/>
              </a:gdLst>
              <a:ahLst/>
              <a:rect l="textAreaLeft" t="textAreaTop" r="textAreaRight" b="textAreaBottom"/>
              <a:pathLst>
                <a:path w="17081127" h="2759936">
                  <a:moveTo>
                    <a:pt x="106255" y="128534"/>
                  </a:moveTo>
                  <a:cubicBezTo>
                    <a:pt x="1443578" y="-252561"/>
                    <a:pt x="6432901" y="334105"/>
                    <a:pt x="8023937" y="345017"/>
                  </a:cubicBezTo>
                  <a:cubicBezTo>
                    <a:pt x="8307660" y="319343"/>
                    <a:pt x="8503937" y="173779"/>
                    <a:pt x="9652469" y="194006"/>
                  </a:cubicBezTo>
                  <a:cubicBezTo>
                    <a:pt x="11452086" y="242644"/>
                    <a:pt x="13115515" y="417743"/>
                    <a:pt x="14915132" y="466381"/>
                  </a:cubicBezTo>
                  <a:lnTo>
                    <a:pt x="16973957" y="359889"/>
                  </a:lnTo>
                  <a:cubicBezTo>
                    <a:pt x="17272327" y="399568"/>
                    <a:pt x="16852801" y="545549"/>
                    <a:pt x="16854630" y="616320"/>
                  </a:cubicBezTo>
                  <a:cubicBezTo>
                    <a:pt x="16841874" y="684020"/>
                    <a:pt x="16964067" y="620546"/>
                    <a:pt x="17010664" y="633890"/>
                  </a:cubicBezTo>
                  <a:cubicBezTo>
                    <a:pt x="17057261" y="647234"/>
                    <a:pt x="17007098" y="738607"/>
                    <a:pt x="16984931" y="784518"/>
                  </a:cubicBezTo>
                  <a:cubicBezTo>
                    <a:pt x="16994775" y="840702"/>
                    <a:pt x="16779840" y="997316"/>
                    <a:pt x="16764417" y="1041561"/>
                  </a:cubicBezTo>
                  <a:cubicBezTo>
                    <a:pt x="16826108" y="1024706"/>
                    <a:pt x="16830702" y="1066844"/>
                    <a:pt x="16892393" y="1049989"/>
                  </a:cubicBezTo>
                  <a:cubicBezTo>
                    <a:pt x="16919301" y="1040157"/>
                    <a:pt x="16930749" y="1168807"/>
                    <a:pt x="16957657" y="1158975"/>
                  </a:cubicBezTo>
                  <a:cubicBezTo>
                    <a:pt x="16986506" y="1180503"/>
                    <a:pt x="17030090" y="1155374"/>
                    <a:pt x="17040205" y="1173748"/>
                  </a:cubicBezTo>
                  <a:cubicBezTo>
                    <a:pt x="17050321" y="1192122"/>
                    <a:pt x="17054798" y="1237171"/>
                    <a:pt x="17018350" y="1269217"/>
                  </a:cubicBezTo>
                  <a:cubicBezTo>
                    <a:pt x="16974050" y="1300821"/>
                    <a:pt x="16843378" y="1337387"/>
                    <a:pt x="16821514" y="1366026"/>
                  </a:cubicBezTo>
                  <a:cubicBezTo>
                    <a:pt x="16900925" y="1336529"/>
                    <a:pt x="16852360" y="1391309"/>
                    <a:pt x="16931771" y="1361812"/>
                  </a:cubicBezTo>
                  <a:cubicBezTo>
                    <a:pt x="16954085" y="1354789"/>
                    <a:pt x="16893706" y="1482608"/>
                    <a:pt x="16916020" y="1475585"/>
                  </a:cubicBezTo>
                  <a:cubicBezTo>
                    <a:pt x="16959335" y="1458730"/>
                    <a:pt x="16773100" y="1640329"/>
                    <a:pt x="16816415" y="1623474"/>
                  </a:cubicBezTo>
                  <a:cubicBezTo>
                    <a:pt x="16786719" y="1701693"/>
                    <a:pt x="16722199" y="1850079"/>
                    <a:pt x="16779024" y="1867780"/>
                  </a:cubicBezTo>
                  <a:cubicBezTo>
                    <a:pt x="16835849" y="1885481"/>
                    <a:pt x="16897814" y="1938125"/>
                    <a:pt x="16869100" y="1961038"/>
                  </a:cubicBezTo>
                  <a:cubicBezTo>
                    <a:pt x="16918978" y="1935755"/>
                    <a:pt x="16515682" y="2107659"/>
                    <a:pt x="16565560" y="2082376"/>
                  </a:cubicBezTo>
                  <a:cubicBezTo>
                    <a:pt x="16616751" y="2051475"/>
                    <a:pt x="16650221" y="2092208"/>
                    <a:pt x="16701412" y="2061307"/>
                  </a:cubicBezTo>
                  <a:cubicBezTo>
                    <a:pt x="16742102" y="2036024"/>
                    <a:pt x="16540621" y="2288853"/>
                    <a:pt x="16581311" y="2263570"/>
                  </a:cubicBezTo>
                  <a:cubicBezTo>
                    <a:pt x="16652847" y="2221432"/>
                    <a:pt x="16620032" y="2394199"/>
                    <a:pt x="16691568" y="2352061"/>
                  </a:cubicBezTo>
                  <a:cubicBezTo>
                    <a:pt x="16731602" y="2326778"/>
                    <a:pt x="16539308" y="2575393"/>
                    <a:pt x="16579342" y="2550110"/>
                  </a:cubicBezTo>
                  <a:cubicBezTo>
                    <a:pt x="16668598" y="2489712"/>
                    <a:pt x="16411331" y="2812772"/>
                    <a:pt x="16500587" y="2752374"/>
                  </a:cubicBezTo>
                  <a:lnTo>
                    <a:pt x="0" y="2631588"/>
                  </a:lnTo>
                  <a:lnTo>
                    <a:pt x="106255" y="128534"/>
                  </a:lnTo>
                  <a:close/>
                </a:path>
              </a:pathLst>
            </a:cu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8" name="矩形 2"/>
          <p:cNvSpPr/>
          <p:nvPr/>
        </p:nvSpPr>
        <p:spPr>
          <a:xfrm>
            <a:off x="-1677960" y="7832880"/>
            <a:ext cx="19515240" cy="229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矩形 2"/>
          <p:cNvSpPr/>
          <p:nvPr/>
        </p:nvSpPr>
        <p:spPr>
          <a:xfrm>
            <a:off x="-1689120" y="7827840"/>
            <a:ext cx="19486440" cy="22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0" name=""/>
          <p:cNvGrpSpPr/>
          <p:nvPr/>
        </p:nvGrpSpPr>
        <p:grpSpPr>
          <a:xfrm>
            <a:off x="4140360" y="1995480"/>
            <a:ext cx="863280" cy="824040"/>
            <a:chOff x="4140360" y="1995480"/>
            <a:chExt cx="863280" cy="824040"/>
          </a:xfrm>
        </p:grpSpPr>
        <p:sp>
          <p:nvSpPr>
            <p:cNvPr id="881" name="五角星 174"/>
            <p:cNvSpPr/>
            <p:nvPr/>
          </p:nvSpPr>
          <p:spPr>
            <a:xfrm>
              <a:off x="4140360" y="1995480"/>
              <a:ext cx="863280" cy="824040"/>
            </a:xfrm>
            <a:prstGeom prst="star5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82" name=""/>
            <p:cNvGrpSpPr/>
            <p:nvPr/>
          </p:nvGrpSpPr>
          <p:grpSpPr>
            <a:xfrm>
              <a:off x="4339800" y="2210760"/>
              <a:ext cx="481680" cy="469080"/>
              <a:chOff x="4339800" y="2210760"/>
              <a:chExt cx="481680" cy="469080"/>
            </a:xfrm>
          </p:grpSpPr>
          <p:sp>
            <p:nvSpPr>
              <p:cNvPr id="883" name="十字星 176"/>
              <p:cNvSpPr/>
              <p:nvPr/>
            </p:nvSpPr>
            <p:spPr>
              <a:xfrm>
                <a:off x="4436280" y="2299320"/>
                <a:ext cx="289080" cy="290160"/>
              </a:xfrm>
              <a:custGeom>
                <a:avLst/>
                <a:gdLst>
                  <a:gd name="textAreaLeft" fmla="*/ 42840 w 289080"/>
                  <a:gd name="textAreaRight" fmla="*/ 246240 w 289080"/>
                  <a:gd name="textAreaTop" fmla="*/ 42840 h 290160"/>
                  <a:gd name="textAreaBottom" fmla="*/ 247320 h 290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3200" y="3200"/>
                    </a:lnTo>
                    <a:lnTo>
                      <a:pt x="10800" y="0"/>
                    </a:lnTo>
                    <a:lnTo>
                      <a:pt x="18400" y="3200"/>
                    </a:lnTo>
                    <a:lnTo>
                      <a:pt x="21600" y="10800"/>
                    </a:lnTo>
                    <a:lnTo>
                      <a:pt x="18400" y="18400"/>
                    </a:lnTo>
                    <a:lnTo>
                      <a:pt x="10800" y="21600"/>
                    </a:lnTo>
                    <a:lnTo>
                      <a:pt x="3200" y="18400"/>
                    </a:lnTo>
                    <a:lnTo>
                      <a:pt x="0" y="10800"/>
                    </a:lnTo>
                    <a:close/>
                  </a:path>
                </a:pathLst>
              </a:custGeom>
              <a:noFill/>
              <a:ln w="9360">
                <a:solidFill>
                  <a:srgbClr val="ffffff">
                    <a:alpha val="75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4" name="十字星 177"/>
              <p:cNvSpPr/>
              <p:nvPr/>
            </p:nvSpPr>
            <p:spPr>
              <a:xfrm>
                <a:off x="4512960" y="2379960"/>
                <a:ext cx="137520" cy="137880"/>
              </a:xfrm>
              <a:custGeom>
                <a:avLst/>
                <a:gdLst>
                  <a:gd name="textAreaLeft" fmla="*/ 20160 w 137520"/>
                  <a:gd name="textAreaRight" fmla="*/ 117360 w 137520"/>
                  <a:gd name="textAreaTop" fmla="*/ 20160 h 137880"/>
                  <a:gd name="textAreaBottom" fmla="*/ 117720 h 137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3200" y="3200"/>
                    </a:lnTo>
                    <a:lnTo>
                      <a:pt x="10800" y="0"/>
                    </a:lnTo>
                    <a:lnTo>
                      <a:pt x="18400" y="3200"/>
                    </a:lnTo>
                    <a:lnTo>
                      <a:pt x="21600" y="10800"/>
                    </a:lnTo>
                    <a:lnTo>
                      <a:pt x="18400" y="18400"/>
                    </a:lnTo>
                    <a:lnTo>
                      <a:pt x="10800" y="21600"/>
                    </a:lnTo>
                    <a:lnTo>
                      <a:pt x="3200" y="18400"/>
                    </a:lnTo>
                    <a:lnTo>
                      <a:pt x="0" y="10800"/>
                    </a:lnTo>
                    <a:close/>
                  </a:path>
                </a:pathLst>
              </a:custGeom>
              <a:noFill/>
              <a:ln w="9360">
                <a:solidFill>
                  <a:srgbClr val="ffffff">
                    <a:alpha val="75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5" name="任意多边形 178"/>
              <p:cNvSpPr/>
              <p:nvPr/>
            </p:nvSpPr>
            <p:spPr>
              <a:xfrm>
                <a:off x="4677120" y="2396520"/>
                <a:ext cx="23400" cy="99360"/>
              </a:xfrm>
              <a:custGeom>
                <a:avLst/>
                <a:gdLst>
                  <a:gd name="textAreaLeft" fmla="*/ 0 w 23400"/>
                  <a:gd name="textAreaRight" fmla="*/ 23760 w 23400"/>
                  <a:gd name="textAreaTop" fmla="*/ 0 h 99360"/>
                  <a:gd name="textAreaBottom" fmla="*/ 99720 h 99360"/>
                </a:gdLst>
                <a:ahLst/>
                <a:rect l="textAreaLeft" t="textAreaTop" r="textAreaRight" b="textAreaBottom"/>
                <a:pathLst>
                  <a:path w="105196" h="445062">
                    <a:moveTo>
                      <a:pt x="0" y="0"/>
                    </a:moveTo>
                    <a:lnTo>
                      <a:pt x="105196" y="218485"/>
                    </a:lnTo>
                    <a:lnTo>
                      <a:pt x="8092" y="445062"/>
                    </a:lnTo>
                  </a:path>
                </a:pathLst>
              </a:custGeom>
              <a:noFill/>
              <a:ln w="9360">
                <a:solidFill>
                  <a:srgbClr val="ffffff">
                    <a:alpha val="75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6" name="任意多边形 179"/>
              <p:cNvSpPr/>
              <p:nvPr/>
            </p:nvSpPr>
            <p:spPr>
              <a:xfrm flipH="1">
                <a:off x="4467600" y="2396160"/>
                <a:ext cx="23400" cy="9936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99360"/>
                  <a:gd name="textAreaBottom" fmla="*/ 99720 h 99360"/>
                </a:gdLst>
                <a:ahLst/>
                <a:rect l="textAreaLeft" t="textAreaTop" r="textAreaRight" b="textAreaBottom"/>
                <a:pathLst>
                  <a:path w="105196" h="445062">
                    <a:moveTo>
                      <a:pt x="0" y="0"/>
                    </a:moveTo>
                    <a:lnTo>
                      <a:pt x="105196" y="218485"/>
                    </a:lnTo>
                    <a:lnTo>
                      <a:pt x="8092" y="445062"/>
                    </a:lnTo>
                  </a:path>
                </a:pathLst>
              </a:custGeom>
              <a:noFill/>
              <a:ln w="9360">
                <a:solidFill>
                  <a:srgbClr val="ffffff">
                    <a:alpha val="75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7" name="任意多边形 180"/>
              <p:cNvSpPr/>
              <p:nvPr/>
            </p:nvSpPr>
            <p:spPr>
              <a:xfrm flipH="1" rot="16200000">
                <a:off x="4570920" y="2495520"/>
                <a:ext cx="23400" cy="9936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99360"/>
                  <a:gd name="textAreaBottom" fmla="*/ 99720 h 99360"/>
                </a:gdLst>
                <a:ahLst/>
                <a:rect l="textAreaLeft" t="textAreaTop" r="textAreaRight" b="textAreaBottom"/>
                <a:pathLst>
                  <a:path w="105196" h="445062">
                    <a:moveTo>
                      <a:pt x="0" y="0"/>
                    </a:moveTo>
                    <a:lnTo>
                      <a:pt x="105196" y="218485"/>
                    </a:lnTo>
                    <a:lnTo>
                      <a:pt x="8092" y="445062"/>
                    </a:lnTo>
                  </a:path>
                </a:pathLst>
              </a:custGeom>
              <a:noFill/>
              <a:ln w="9360">
                <a:solidFill>
                  <a:srgbClr val="ffffff">
                    <a:alpha val="75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8" name="任意多边形 181"/>
              <p:cNvSpPr/>
              <p:nvPr/>
            </p:nvSpPr>
            <p:spPr>
              <a:xfrm flipH="1" flipV="1" rot="5400000">
                <a:off x="4572360" y="2296440"/>
                <a:ext cx="23400" cy="9936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360 h 99360"/>
                  <a:gd name="textAreaBottom" fmla="*/ 100080 h 99360"/>
                </a:gdLst>
                <a:ahLst/>
                <a:rect l="textAreaLeft" t="textAreaTop" r="textAreaRight" b="textAreaBottom"/>
                <a:pathLst>
                  <a:path w="105196" h="445062">
                    <a:moveTo>
                      <a:pt x="0" y="0"/>
                    </a:moveTo>
                    <a:lnTo>
                      <a:pt x="105196" y="218485"/>
                    </a:lnTo>
                    <a:lnTo>
                      <a:pt x="8092" y="445062"/>
                    </a:lnTo>
                  </a:path>
                </a:pathLst>
              </a:custGeom>
              <a:noFill/>
              <a:ln w="9360">
                <a:solidFill>
                  <a:srgbClr val="ffffff">
                    <a:alpha val="75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89" name=""/>
              <p:cNvGrpSpPr/>
              <p:nvPr/>
            </p:nvGrpSpPr>
            <p:grpSpPr>
              <a:xfrm>
                <a:off x="4339800" y="2396160"/>
                <a:ext cx="481680" cy="101160"/>
                <a:chOff x="4339800" y="2396160"/>
                <a:chExt cx="481680" cy="101160"/>
              </a:xfrm>
            </p:grpSpPr>
            <p:sp>
              <p:nvSpPr>
                <p:cNvPr id="890" name="直接连接符 192"/>
                <p:cNvSpPr/>
                <p:nvPr/>
              </p:nvSpPr>
              <p:spPr>
                <a:xfrm flipH="1">
                  <a:off x="4344840" y="2444400"/>
                  <a:ext cx="466200" cy="720"/>
                </a:xfrm>
                <a:prstGeom prst="line">
                  <a:avLst/>
                </a:prstGeom>
                <a:ln w="9360">
                  <a:solidFill>
                    <a:srgbClr val="ffffff">
                      <a:alpha val="75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1" name="任意多边形 193"/>
                <p:cNvSpPr/>
                <p:nvPr/>
              </p:nvSpPr>
              <p:spPr>
                <a:xfrm flipH="1">
                  <a:off x="4797720" y="2396160"/>
                  <a:ext cx="23400" cy="9936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99360"/>
                    <a:gd name="textAreaBottom" fmla="*/ 99720 h 99360"/>
                  </a:gdLst>
                  <a:ahLst/>
                  <a:rect l="textAreaLeft" t="textAreaTop" r="textAreaRight" b="textAreaBottom"/>
                  <a:pathLst>
                    <a:path w="105196" h="445062">
                      <a:moveTo>
                        <a:pt x="0" y="0"/>
                      </a:moveTo>
                      <a:lnTo>
                        <a:pt x="105196" y="218485"/>
                      </a:lnTo>
                      <a:lnTo>
                        <a:pt x="8092" y="445062"/>
                      </a:lnTo>
                    </a:path>
                  </a:pathLst>
                </a:custGeom>
                <a:noFill/>
                <a:ln w="9360">
                  <a:solidFill>
                    <a:srgbClr val="ffffff">
                      <a:alpha val="75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2" name="任意多边形 194"/>
                <p:cNvSpPr/>
                <p:nvPr/>
              </p:nvSpPr>
              <p:spPr>
                <a:xfrm>
                  <a:off x="4339800" y="2397960"/>
                  <a:ext cx="23400" cy="99360"/>
                </a:xfrm>
                <a:custGeom>
                  <a:avLst/>
                  <a:gdLst>
                    <a:gd name="textAreaLeft" fmla="*/ 0 w 23400"/>
                    <a:gd name="textAreaRight" fmla="*/ 23760 w 23400"/>
                    <a:gd name="textAreaTop" fmla="*/ 0 h 99360"/>
                    <a:gd name="textAreaBottom" fmla="*/ 99720 h 99360"/>
                  </a:gdLst>
                  <a:ahLst/>
                  <a:rect l="textAreaLeft" t="textAreaTop" r="textAreaRight" b="textAreaBottom"/>
                  <a:pathLst>
                    <a:path w="105196" h="445062">
                      <a:moveTo>
                        <a:pt x="0" y="0"/>
                      </a:moveTo>
                      <a:lnTo>
                        <a:pt x="105196" y="218485"/>
                      </a:lnTo>
                      <a:lnTo>
                        <a:pt x="8092" y="445062"/>
                      </a:lnTo>
                    </a:path>
                  </a:pathLst>
                </a:custGeom>
                <a:noFill/>
                <a:ln w="9360">
                  <a:solidFill>
                    <a:srgbClr val="ffffff">
                      <a:alpha val="75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93" name="六边形 183"/>
              <p:cNvSpPr/>
              <p:nvPr/>
            </p:nvSpPr>
            <p:spPr>
              <a:xfrm>
                <a:off x="4387680" y="2266200"/>
                <a:ext cx="385920" cy="351000"/>
              </a:xfrm>
              <a:prstGeom prst="hexagon">
                <a:avLst>
                  <a:gd name="adj" fmla="val 24937"/>
                  <a:gd name="vf" fmla="val 115470"/>
                </a:avLst>
              </a:prstGeom>
              <a:noFill/>
              <a:ln w="9360">
                <a:solidFill>
                  <a:srgbClr val="ffffff">
                    <a:alpha val="75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94" name=""/>
              <p:cNvGrpSpPr/>
              <p:nvPr/>
            </p:nvGrpSpPr>
            <p:grpSpPr>
              <a:xfrm>
                <a:off x="4412160" y="2212560"/>
                <a:ext cx="329400" cy="467280"/>
                <a:chOff x="4412160" y="2212560"/>
                <a:chExt cx="329400" cy="467280"/>
              </a:xfrm>
            </p:grpSpPr>
            <p:sp>
              <p:nvSpPr>
                <p:cNvPr id="895" name="直接连接符 189"/>
                <p:cNvSpPr/>
                <p:nvPr/>
              </p:nvSpPr>
              <p:spPr>
                <a:xfrm flipH="1" flipV="1">
                  <a:off x="4460040" y="2240640"/>
                  <a:ext cx="234360" cy="404640"/>
                </a:xfrm>
                <a:prstGeom prst="line">
                  <a:avLst/>
                </a:prstGeom>
                <a:ln w="9360">
                  <a:solidFill>
                    <a:srgbClr val="ffffff">
                      <a:alpha val="75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6" name="任意多边形 190"/>
                <p:cNvSpPr/>
                <p:nvPr/>
              </p:nvSpPr>
              <p:spPr>
                <a:xfrm flipH="1" rot="3600000">
                  <a:off x="4680720" y="2594880"/>
                  <a:ext cx="23400" cy="9936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99360"/>
                    <a:gd name="textAreaBottom" fmla="*/ 99720 h 99360"/>
                  </a:gdLst>
                  <a:ahLst/>
                  <a:rect l="textAreaLeft" t="textAreaTop" r="textAreaRight" b="textAreaBottom"/>
                  <a:pathLst>
                    <a:path w="105196" h="445062">
                      <a:moveTo>
                        <a:pt x="0" y="0"/>
                      </a:moveTo>
                      <a:lnTo>
                        <a:pt x="105196" y="218485"/>
                      </a:lnTo>
                      <a:lnTo>
                        <a:pt x="8092" y="445062"/>
                      </a:lnTo>
                    </a:path>
                  </a:pathLst>
                </a:custGeom>
                <a:noFill/>
                <a:ln w="9360">
                  <a:solidFill>
                    <a:srgbClr val="ffffff">
                      <a:alpha val="75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7" name="任意多边形 191"/>
                <p:cNvSpPr/>
                <p:nvPr/>
              </p:nvSpPr>
              <p:spPr>
                <a:xfrm rot="3600000">
                  <a:off x="4449240" y="2197800"/>
                  <a:ext cx="23400" cy="99360"/>
                </a:xfrm>
                <a:custGeom>
                  <a:avLst/>
                  <a:gdLst>
                    <a:gd name="textAreaLeft" fmla="*/ 0 w 23400"/>
                    <a:gd name="textAreaRight" fmla="*/ 23760 w 23400"/>
                    <a:gd name="textAreaTop" fmla="*/ 0 h 99360"/>
                    <a:gd name="textAreaBottom" fmla="*/ 99720 h 99360"/>
                  </a:gdLst>
                  <a:ahLst/>
                  <a:rect l="textAreaLeft" t="textAreaTop" r="textAreaRight" b="textAreaBottom"/>
                  <a:pathLst>
                    <a:path w="105196" h="445062">
                      <a:moveTo>
                        <a:pt x="0" y="0"/>
                      </a:moveTo>
                      <a:lnTo>
                        <a:pt x="105196" y="218485"/>
                      </a:lnTo>
                      <a:lnTo>
                        <a:pt x="8092" y="445062"/>
                      </a:lnTo>
                    </a:path>
                  </a:pathLst>
                </a:custGeom>
                <a:noFill/>
                <a:ln w="9360">
                  <a:solidFill>
                    <a:srgbClr val="ffffff">
                      <a:alpha val="75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98" name=""/>
              <p:cNvGrpSpPr/>
              <p:nvPr/>
            </p:nvGrpSpPr>
            <p:grpSpPr>
              <a:xfrm>
                <a:off x="4419720" y="2210760"/>
                <a:ext cx="329400" cy="468360"/>
                <a:chOff x="4419720" y="2210760"/>
                <a:chExt cx="329400" cy="468360"/>
              </a:xfrm>
            </p:grpSpPr>
            <p:sp>
              <p:nvSpPr>
                <p:cNvPr id="899" name="直接连接符 186"/>
                <p:cNvSpPr/>
                <p:nvPr/>
              </p:nvSpPr>
              <p:spPr>
                <a:xfrm flipV="1">
                  <a:off x="4466880" y="2238840"/>
                  <a:ext cx="234360" cy="404640"/>
                </a:xfrm>
                <a:prstGeom prst="line">
                  <a:avLst/>
                </a:prstGeom>
                <a:ln w="9360">
                  <a:solidFill>
                    <a:srgbClr val="ffffff">
                      <a:alpha val="75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0" name="任意多边形 187"/>
                <p:cNvSpPr/>
                <p:nvPr/>
              </p:nvSpPr>
              <p:spPr>
                <a:xfrm rot="18000000">
                  <a:off x="4456800" y="2593440"/>
                  <a:ext cx="23400" cy="99720"/>
                </a:xfrm>
                <a:custGeom>
                  <a:avLst/>
                  <a:gdLst>
                    <a:gd name="textAreaLeft" fmla="*/ 0 w 23400"/>
                    <a:gd name="textAreaRight" fmla="*/ 23760 w 23400"/>
                    <a:gd name="textAreaTop" fmla="*/ 0 h 99720"/>
                    <a:gd name="textAreaBottom" fmla="*/ 100080 h 99720"/>
                  </a:gdLst>
                  <a:ahLst/>
                  <a:rect l="textAreaLeft" t="textAreaTop" r="textAreaRight" b="textAreaBottom"/>
                  <a:pathLst>
                    <a:path w="105196" h="445062">
                      <a:moveTo>
                        <a:pt x="0" y="0"/>
                      </a:moveTo>
                      <a:lnTo>
                        <a:pt x="105196" y="218485"/>
                      </a:lnTo>
                      <a:lnTo>
                        <a:pt x="8092" y="445062"/>
                      </a:lnTo>
                    </a:path>
                  </a:pathLst>
                </a:custGeom>
                <a:noFill/>
                <a:ln w="9360">
                  <a:solidFill>
                    <a:srgbClr val="ffffff">
                      <a:alpha val="75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1" name="任意多边形 188"/>
                <p:cNvSpPr/>
                <p:nvPr/>
              </p:nvSpPr>
              <p:spPr>
                <a:xfrm flipH="1" rot="18000000">
                  <a:off x="4688280" y="2196000"/>
                  <a:ext cx="23400" cy="9972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99720"/>
                    <a:gd name="textAreaBottom" fmla="*/ 100080 h 99720"/>
                  </a:gdLst>
                  <a:ahLst/>
                  <a:rect l="textAreaLeft" t="textAreaTop" r="textAreaRight" b="textAreaBottom"/>
                  <a:pathLst>
                    <a:path w="105196" h="445062">
                      <a:moveTo>
                        <a:pt x="0" y="0"/>
                      </a:moveTo>
                      <a:lnTo>
                        <a:pt x="105196" y="218485"/>
                      </a:lnTo>
                      <a:lnTo>
                        <a:pt x="8092" y="445062"/>
                      </a:lnTo>
                    </a:path>
                  </a:pathLst>
                </a:custGeom>
                <a:noFill/>
                <a:ln w="9360">
                  <a:solidFill>
                    <a:srgbClr val="ffffff">
                      <a:alpha val="75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902" name="矩形 4"/>
          <p:cNvSpPr/>
          <p:nvPr/>
        </p:nvSpPr>
        <p:spPr>
          <a:xfrm>
            <a:off x="0" y="0"/>
            <a:ext cx="9144000" cy="5380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4F9D4-BA56-4111-A3DB-66F23B886371}" type="slidenum">
              <a:t>9</a:t>
            </a:fld>
          </a:p>
        </p:txBody>
      </p:sp>
    </p:spTree>
  </p:cSld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0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65" dur="8900" fill="hold"/>
                                        <p:tgtEl>
                                          <p:spTgt spid="8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6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1.60654E-006 L 0.00781 -0.02775 L 0.01771 -0.05581 L 0.03438 -0.08387 L 0.03733 -0.09775 L 0.03941 -0.11224 L 0.03941 -0.14 L 0.03733 -0.15418 L 0.02951 -0.16806 L 0.02153 -0.19612 L 0.01667 -0.25193 L 0.01962 -0.27999 E">
                                      <p:cBhvr>
                                        <p:cTn id="467" dur="8900" fill="hold"/>
                                        <p:tgtEl>
                                          <p:spTgt spid="8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68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69" dur="9000" fill="hold"/>
                                        <p:tgtEl>
                                          <p:spTgt spid="880"/>
                                        </p:tgtEl>
                                      </p:cBhvr>
                                      <p:to x="0" y="0"/>
                                    </p:animScale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2" dur="5800"/>
                                        <p:tgtEl>
                                          <p:spTgt spid="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3" nodeType="with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74" dur="5900"/>
                                        <p:tgtEl>
                                          <p:spTgt spid="8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5899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1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1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1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1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4" nodeType="withEffect" fill="hold" presetClass="path" presetID="0">
                                  <p:stCondLst>
                                    <p:cond delay="8250"/>
                                  </p:stCondLst>
                                  <p:childTnLst>
                                    <p:animMotion origin="layout" path="M 0 0 L 0.20903 -0.07867 E">
                                      <p:cBhvr>
                                        <p:cTn id="485" dur="6750" fill="hold"/>
                                        <p:tgtEl>
                                          <p:spTgt spid="8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6" nodeType="withEffect" fill="hold" presetClass="path" presetID="0">
                                  <p:stCondLst>
                                    <p:cond delay="8250"/>
                                  </p:stCondLst>
                                  <p:childTnLst>
                                    <p:animMotion origin="layout" path="M 0 0 L 0.20903 -0.07867 E">
                                      <p:cBhvr>
                                        <p:cTn id="487" dur="6750" fill="hold"/>
                                        <p:tgtEl>
                                          <p:spTgt spid="8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8" nodeType="withEffect" fill="hold" presetClass="path" presetID="0">
                                  <p:stCondLst>
                                    <p:cond delay="8250"/>
                                  </p:stCondLst>
                                  <p:childTnLst>
                                    <p:animMotion origin="layout" path="M 0 0 L 0.20903 -0.07867 E">
                                      <p:cBhvr>
                                        <p:cTn id="489" dur="6750" fill="hold"/>
                                        <p:tgtEl>
                                          <p:spTgt spid="8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0" nodeType="withEffect" fill="hold" presetClass="path" presetID="0">
                                  <p:stCondLst>
                                    <p:cond delay="8250"/>
                                  </p:stCondLst>
                                  <p:childTnLst>
                                    <p:animMotion origin="layout" path="M 0 0 L 0.20903 -0.07867 E">
                                      <p:cBhvr>
                                        <p:cTn id="491" dur="6750" fill="hold"/>
                                        <p:tgtEl>
                                          <p:spTgt spid="8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10">
                                  <p:stCondLst>
                                    <p:cond delay="920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1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5" nodeType="withEffect" fill="hold" presetClass="path" presetID="0">
                                  <p:stCondLst>
                                    <p:cond delay="9150"/>
                                  </p:stCondLst>
                                  <p:childTnLst>
                                    <p:animMotion origin="layout" path="M -3.33333E-006 -1.35802E-006 L -0.05937 0.02223 E">
                                      <p:cBhvr>
                                        <p:cTn id="496" dur="1750" fill="hold"/>
                                        <p:tgtEl>
                                          <p:spTgt spid="8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7" nodeType="withEffect" fill="hold" presetClass="exit" presetID="10">
                                  <p:stCondLst>
                                    <p:cond delay="91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98" dur="175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1749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10">
                                  <p:stCondLst>
                                    <p:cond delay="945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2" dur="10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3" nodeType="withEffect" fill="hold" presetClass="path" presetID="0">
                                  <p:stCondLst>
                                    <p:cond delay="9450"/>
                                  </p:stCondLst>
                                  <p:childTnLst>
                                    <p:animMotion origin="layout" path="M -3.33333E-006 -1.35802E-006 L -0.05937 0.02223 E">
                                      <p:cBhvr>
                                        <p:cTn id="504" dur="1750" fill="hold"/>
                                        <p:tgtEl>
                                          <p:spTgt spid="8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05" nodeType="withEffect" fill="hold" presetClass="exit" presetID="10">
                                  <p:stCondLst>
                                    <p:cond delay="94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06" dur="175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1749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10">
                                  <p:stCondLst>
                                    <p:cond delay="970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0" dur="1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path" presetID="0">
                                  <p:stCondLst>
                                    <p:cond delay="9700"/>
                                  </p:stCondLst>
                                  <p:childTnLst>
                                    <p:animMotion origin="layout" path="M -3.33333E-006 -1.35802E-006 L -0.05937 0.02223 E">
                                      <p:cBhvr>
                                        <p:cTn id="512" dur="1750" fill="hold"/>
                                        <p:tgtEl>
                                          <p:spTgt spid="8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3" nodeType="withEffect" fill="hold" presetClass="exit" presetID="10">
                                  <p:stCondLst>
                                    <p:cond delay="97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14" dur="175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1749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10">
                                  <p:stCondLst>
                                    <p:cond delay="995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8" dur="1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path" presetID="0">
                                  <p:stCondLst>
                                    <p:cond delay="9950"/>
                                  </p:stCondLst>
                                  <p:childTnLst>
                                    <p:animMotion origin="layout" path="M -3.33333E-006 -1.35802E-006 L -0.05937 0.02223 E">
                                      <p:cBhvr>
                                        <p:cTn id="520" dur="1750" fill="hold"/>
                                        <p:tgtEl>
                                          <p:spTgt spid="8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21" nodeType="withEffect" fill="hold" presetClass="exit" presetID="10">
                                  <p:stCondLst>
                                    <p:cond delay="99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22" dur="175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1749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10">
                                  <p:stCondLst>
                                    <p:cond delay="1020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6" dur="1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7" nodeType="withEffect" fill="hold" presetClass="path" presetID="0">
                                  <p:stCondLst>
                                    <p:cond delay="10150"/>
                                  </p:stCondLst>
                                  <p:childTnLst>
                                    <p:animMotion origin="layout" path="M -3.33333E-006 -1.35802E-006 L -0.05937 0.02223 E">
                                      <p:cBhvr>
                                        <p:cTn id="528" dur="1750" fill="hold"/>
                                        <p:tgtEl>
                                          <p:spTgt spid="8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29" nodeType="withEffect" fill="hold" presetClass="exit" presetID="10">
                                  <p:stCondLst>
                                    <p:cond delay="101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30" dur="175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1749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10">
                                  <p:stCondLst>
                                    <p:cond delay="1045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4" dur="1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path" presetID="0">
                                  <p:stCondLst>
                                    <p:cond delay="10450"/>
                                  </p:stCondLst>
                                  <p:childTnLst>
                                    <p:animMotion origin="layout" path="M -3.33333E-006 -1.35802E-006 L -0.05937 0.02223 E">
                                      <p:cBhvr>
                                        <p:cTn id="536" dur="1750" fill="hold"/>
                                        <p:tgtEl>
                                          <p:spTgt spid="8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37" nodeType="withEffect" fill="hold" presetClass="exit" presetID="10">
                                  <p:stCondLst>
                                    <p:cond delay="104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38" dur="175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1749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1070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2" dur="1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path" presetID="0">
                                  <p:stCondLst>
                                    <p:cond delay="10700"/>
                                  </p:stCondLst>
                                  <p:childTnLst>
                                    <p:animMotion origin="layout" path="M -3.33333E-006 -1.35802E-006 L -0.05937 0.02223 E">
                                      <p:cBhvr>
                                        <p:cTn id="544" dur="1750" fill="hold"/>
                                        <p:tgtEl>
                                          <p:spTgt spid="8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45" nodeType="withEffect" fill="hold" presetClass="exit" presetID="10">
                                  <p:stCondLst>
                                    <p:cond delay="107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46" dur="175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1749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10">
                                  <p:stCondLst>
                                    <p:cond delay="1095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0" dur="1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1" nodeType="withEffect" fill="hold" presetClass="path" presetID="0">
                                  <p:stCondLst>
                                    <p:cond delay="10950"/>
                                  </p:stCondLst>
                                  <p:childTnLst>
                                    <p:animMotion origin="layout" path="M -3.33333E-006 -1.35802E-006 L -0.05937 0.02223 E">
                                      <p:cBhvr>
                                        <p:cTn id="552" dur="1750" fill="hold"/>
                                        <p:tgtEl>
                                          <p:spTgt spid="8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53" nodeType="withEffect" fill="hold" presetClass="exit" presetID="10">
                                  <p:stCondLst>
                                    <p:cond delay="109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54" dur="175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1749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6" nodeType="withEffect" fill="hold" presetClass="exit" presetID="11" repeatCount="9000">
                                  <p:stCondLst>
                                    <p:cond delay="825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57" dur="850"/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849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9" nodeType="withEffect" fill="hold" presetClass="exit" presetID="10" repeatCount="9000">
                                  <p:stCondLst>
                                    <p:cond delay="79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60" dur="85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849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2" nodeType="withEffect" fill="hold" presetClass="exit" presetID="11" repeatCount="9000">
                                  <p:stCondLst>
                                    <p:cond delay="795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63" dur="850"/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849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5" nodeType="withEffect" fill="hold" presetClass="exit" presetID="10" repeatCount="9000">
                                  <p:stCondLst>
                                    <p:cond delay="76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66" dur="850"/>
                                        <p:tgtEl>
                                          <p:spTgt spid="8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849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8" nodeType="withEffect" fill="hold" presetClass="exit" presetID="11" repeatCount="9000">
                                  <p:stCondLst>
                                    <p:cond delay="765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69" dur="850"/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849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1" nodeType="withEffect" fill="hold" presetClass="exit" presetID="10" repeatCount="9000">
                                  <p:stCondLst>
                                    <p:cond delay="82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72" dur="85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849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10">
                                  <p:stCondLst>
                                    <p:cond delay="1140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6" dur="425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7" nodeType="withEffect" fill="hold" presetClass="path" presetID="0">
                                  <p:stCondLst>
                                    <p:cond delay="600"/>
                                  </p:stCondLst>
                                  <p:childTnLst>
                                    <p:animMotion origin="layout" path="M 0 0 L -0.28698 0.00031 E">
                                      <p:cBhvr>
                                        <p:cTn id="578" dur="5750" fill="hold"/>
                                        <p:tgtEl>
                                          <p:spTgt spid="8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9" nodeType="withEffect" fill="hold" presetClass="path" presetID="0">
                                  <p:stCondLst>
                                    <p:cond delay="600"/>
                                  </p:stCondLst>
                                  <p:childTnLst>
                                    <p:animMotion origin="layout" path="M 0 0 L -0.28698 0.00031 E">
                                      <p:cBhvr>
                                        <p:cTn id="580" dur="5750" fill="hold"/>
                                        <p:tgtEl>
                                          <p:spTgt spid="8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81" nodeType="withEffect" fill="hold" presetClass="path" presetID="0">
                                  <p:stCondLst>
                                    <p:cond delay="600"/>
                                  </p:stCondLst>
                                  <p:childTnLst>
                                    <p:animMotion origin="layout" path="M -2.5E-006 2.10981E-006 L -0.17882 0.00863 E">
                                      <p:cBhvr>
                                        <p:cTn id="582" dur="5750" fill="hold"/>
                                        <p:tgtEl>
                                          <p:spTgt spid="8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83" nodeType="withEffect" fill="hold" presetClass="path" presetID="0">
                                  <p:stCondLst>
                                    <p:cond delay="600"/>
                                  </p:stCondLst>
                                  <p:childTnLst>
                                    <p:animMotion origin="layout" path="M 1.11022E-016 -2.75139E-006 L -0.12656 0.01512 E">
                                      <p:cBhvr>
                                        <p:cTn id="584" dur="5750" fill="hold"/>
                                        <p:tgtEl>
                                          <p:spTgt spid="8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85" nodeType="withEffect" fill="hold" presetClass="path" presetID="0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-8.33333E-006 3.67624E-007 L 0.70868 1.58356 E">
                                      <p:cBhvr>
                                        <p:cTn id="586" dur="5750" fill="hold"/>
                                        <p:tgtEl>
                                          <p:spTgt spid="8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87" nodeType="withEffect" fill="hold" presetClass="path" presetID="0">
                                  <p:stCondLst>
                                    <p:cond delay="2700"/>
                                  </p:stCondLst>
                                  <p:childTnLst>
                                    <p:animMotion origin="layout" path="M -8.33333E-006 3.67624E-007 L 0.70868 1.58356 E">
                                      <p:cBhvr>
                                        <p:cTn id="588" dur="5750" fill="hold"/>
                                        <p:tgtEl>
                                          <p:spTgt spid="8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89" nodeType="withEffect" fill="hold" presetClass="exit" presetID="10">
                                  <p:stCondLst>
                                    <p:cond delay="18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90" dur="5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2" nodeType="with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93" dur="5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2T05:27:00Z</dcterms:created>
  <dc:creator/>
  <dc:description/>
  <cp:keywords>幻灯片之家 http:/www.eeppt.com</cp:keywords>
  <dc:language>en-US</dc:language>
  <cp:lastModifiedBy/>
  <dcterms:modified xsi:type="dcterms:W3CDTF">2015-07-07T09:18:24Z</dcterms:modified>
  <cp:revision>14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