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D58-D839-4691-953C-886CE84A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D36-4472-4BAB-8145-B417C6BF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7EF-44F1-4901-A5DE-6423749C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5F1-9D71-47C9-8DF3-5ABAE97B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641-1D93-41D2-9D8F-8685E8B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FA7-ACA9-4E27-886A-5DA57E47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85F-1BE2-40EA-A8CF-E1DF1CBD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618-2517-4879-B09C-6C2097B7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A34-4874-4284-A4DB-C18E5B51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E4D-45C3-419C-945E-AF138981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DF3-67E5-4E9A-9E54-C1CE53CE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D4B-353A-467D-82EC-E36B4DBB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F039-E2FE-4823-BE74-B800204F47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4474-F75D-431A-A00D-1BBD1EE16B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4760" y="-90360"/>
            <a:ext cx="9356760" cy="5865840"/>
            <a:chOff x="-104760" y="-90360"/>
            <a:chExt cx="9356760" cy="5865840"/>
          </a:xfrm>
        </p:grpSpPr>
        <p:pic>
          <p:nvPicPr>
            <p:cNvPr id="42" name="Picture 3" descr=""/>
            <p:cNvPicPr/>
            <p:nvPr/>
          </p:nvPicPr>
          <p:blipFill>
            <a:blip r:embed="rId1"/>
            <a:srcRect l="0" t="2547" r="1365" b="5946"/>
            <a:stretch/>
          </p:blipFill>
          <p:spPr>
            <a:xfrm>
              <a:off x="-104760" y="-90360"/>
              <a:ext cx="9356760" cy="58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矩形 8"/>
            <p:cNvSpPr/>
            <p:nvPr/>
          </p:nvSpPr>
          <p:spPr>
            <a:xfrm>
              <a:off x="614880" y="2356560"/>
              <a:ext cx="51822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矩形 9"/>
          <p:cNvSpPr/>
          <p:nvPr/>
        </p:nvSpPr>
        <p:spPr>
          <a:xfrm>
            <a:off x="611280" y="1725480"/>
            <a:ext cx="4032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7"/>
          <p:cNvSpPr/>
          <p:nvPr/>
        </p:nvSpPr>
        <p:spPr>
          <a:xfrm>
            <a:off x="826920" y="2641680"/>
            <a:ext cx="518508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971640" y="2928960"/>
            <a:ext cx="4895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50000"/>
              </a:lnSpc>
              <a:buClr>
                <a:srgbClr val="59595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课题策划：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Eric@wang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288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8440" y="13334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淡雅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 rot="13873800">
            <a:off x="1628640" y="2509920"/>
            <a:ext cx="3152880" cy="1838160"/>
          </a:xfrm>
          <a:prstGeom prst="rect">
            <a:avLst/>
          </a:prstGeom>
          <a:ln w="0">
            <a:noFill/>
          </a:ln>
        </p:spPr>
      </p:pic>
      <p:sp>
        <p:nvSpPr>
          <p:cNvPr id="50" name="矩形 20"/>
          <p:cNvSpPr/>
          <p:nvPr/>
        </p:nvSpPr>
        <p:spPr>
          <a:xfrm>
            <a:off x="1835280" y="1994040"/>
            <a:ext cx="3313080" cy="26287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2916360" y="2446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Calibri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3"/>
          <p:cNvSpPr/>
          <p:nvPr/>
        </p:nvSpPr>
        <p:spPr>
          <a:xfrm>
            <a:off x="3708360" y="1501920"/>
            <a:ext cx="0" cy="22795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4356000" y="15019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4356000" y="206064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4356000" y="261936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4356000" y="317808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、单击此处添加文本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8"/>
          <p:cNvSpPr/>
          <p:nvPr/>
        </p:nvSpPr>
        <p:spPr>
          <a:xfrm>
            <a:off x="1547640" y="4622760"/>
            <a:ext cx="4319640" cy="360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529-D494-456D-A79B-B74820BD42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rcRect l="0" t="0" r="20902" b="21843"/>
          <a:stretch/>
        </p:blipFill>
        <p:spPr>
          <a:xfrm>
            <a:off x="5651640" y="3865680"/>
            <a:ext cx="3492360" cy="18493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-31680" y="-19080"/>
            <a:ext cx="5900760" cy="3092400"/>
            <a:chOff x="-31680" y="-19080"/>
            <a:chExt cx="5900760" cy="3092400"/>
          </a:xfrm>
        </p:grpSpPr>
        <p:grpSp>
          <p:nvGrpSpPr>
            <p:cNvPr id="64" name=""/>
            <p:cNvGrpSpPr/>
            <p:nvPr/>
          </p:nvGrpSpPr>
          <p:grpSpPr>
            <a:xfrm>
              <a:off x="-31680" y="-19080"/>
              <a:ext cx="5900760" cy="3092400"/>
              <a:chOff x="-31680" y="-19080"/>
              <a:chExt cx="5900760" cy="3092400"/>
            </a:xfrm>
          </p:grpSpPr>
          <p:pic>
            <p:nvPicPr>
              <p:cNvPr id="65" name="Picture 3" descr=""/>
              <p:cNvPicPr/>
              <p:nvPr/>
            </p:nvPicPr>
            <p:blipFill>
              <a:blip r:embed="rId2"/>
              <a:srcRect l="0" t="2547" r="63994" b="51860"/>
              <a:stretch/>
            </p:blipFill>
            <p:spPr>
              <a:xfrm>
                <a:off x="-31680" y="-19080"/>
                <a:ext cx="3414960" cy="29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矩形 7"/>
              <p:cNvSpPr/>
              <p:nvPr/>
            </p:nvSpPr>
            <p:spPr>
              <a:xfrm>
                <a:off x="687960" y="2426040"/>
                <a:ext cx="5181120" cy="64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矩形 5"/>
            <p:cNvSpPr/>
            <p:nvPr/>
          </p:nvSpPr>
          <p:spPr>
            <a:xfrm>
              <a:off x="687960" y="1886760"/>
              <a:ext cx="237456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6948360" y="3936960"/>
            <a:ext cx="1354320" cy="1346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1671480" y="1665360"/>
            <a:ext cx="6193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Calibri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alibri"/>
                <a:ea typeface="微软雅黑"/>
              </a:rPr>
              <a:t>添加文本内容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3297240"/>
            <a:ext cx="9145440" cy="2560680"/>
          </a:xfrm>
          <a:prstGeom prst="rect">
            <a:avLst/>
          </a:prstGeom>
          <a:ln w="0">
            <a:noFill/>
          </a:ln>
        </p:spPr>
      </p:pic>
      <p:sp>
        <p:nvSpPr>
          <p:cNvPr id="72" name="矩形 4"/>
          <p:cNvSpPr/>
          <p:nvPr/>
        </p:nvSpPr>
        <p:spPr>
          <a:xfrm>
            <a:off x="0" y="3443400"/>
            <a:ext cx="9145440" cy="227160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3297240"/>
            <a:ext cx="91454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-104760" y="-90360"/>
            <a:ext cx="9356760" cy="5865840"/>
            <a:chOff x="-104760" y="-90360"/>
            <a:chExt cx="9356760" cy="5865840"/>
          </a:xfrm>
        </p:grpSpPr>
        <p:pic>
          <p:nvPicPr>
            <p:cNvPr id="75" name="Picture 3" descr=""/>
            <p:cNvPicPr/>
            <p:nvPr/>
          </p:nvPicPr>
          <p:blipFill>
            <a:blip r:embed="rId1"/>
            <a:srcRect l="0" t="2547" r="1365" b="5946"/>
            <a:stretch/>
          </p:blipFill>
          <p:spPr>
            <a:xfrm>
              <a:off x="-104760" y="-90360"/>
              <a:ext cx="9356760" cy="58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8"/>
            <p:cNvSpPr/>
            <p:nvPr/>
          </p:nvSpPr>
          <p:spPr>
            <a:xfrm>
              <a:off x="614880" y="2356560"/>
              <a:ext cx="518220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1"/>
          <p:cNvSpPr/>
          <p:nvPr/>
        </p:nvSpPr>
        <p:spPr>
          <a:xfrm>
            <a:off x="611280" y="1725480"/>
            <a:ext cx="352908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682560" y="2036880"/>
            <a:ext cx="49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诚挚感谢大家的支持与厚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682560" y="2568600"/>
            <a:ext cx="3457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alibri"/>
                <a:ea typeface="微软雅黑"/>
              </a:rPr>
              <a:t>主办单位：红旗小学教导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alibri"/>
                <a:ea typeface="微软雅黑"/>
              </a:rPr>
              <a:t>主办人：</a:t>
            </a:r>
            <a:r>
              <a:rPr b="0" lang="en-US" sz="1400" spc="-1" strike="noStrike">
                <a:solidFill>
                  <a:srgbClr val="7f7f7f"/>
                </a:solidFill>
                <a:latin typeface="Calibri"/>
                <a:ea typeface="微软雅黑"/>
              </a:rPr>
              <a:t>Eric@wang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alibri"/>
                <a:ea typeface="微软雅黑"/>
              </a:rPr>
              <a:t>承办方：北京国通联合广告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8:19:00Z</dcterms:created>
  <dc:creator/>
  <dc:description/>
  <cp:keywords>幻灯片之家 http:/www.eeppt.com</cp:keywords>
  <dc:language>en-US</dc:language>
  <cp:lastModifiedBy/>
  <dcterms:modified xsi:type="dcterms:W3CDTF">2015-07-07T07:30:4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