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586-F258-4FFA-8F19-1C2FE584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891-5C94-45BC-BA0A-A30528F7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0F0-F5D9-4F5A-90C2-D7A3CA44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4C0-A832-45A7-B5F2-15729FEF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D23-777F-4516-A560-23F0C7A4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5C5-CFA8-4101-B8B6-A0D96673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95D-42DC-4683-8609-4FA40FDE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981-255D-4CE7-997B-DDECC62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46D-D290-4C32-8263-0ECBBDDD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1BB-F707-409A-8F2D-986FCC54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76A-E107-43D0-9BFA-AFF9B634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F23-7FD2-4DF1-A37D-A26CA4D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98b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F500-9A42-4435-8EF6-36546B184F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FCE-1A22-4440-87A2-CD06A7F549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-1668600" y="3032280"/>
            <a:ext cx="736560" cy="715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766960" y="-11160"/>
            <a:ext cx="3610080" cy="1739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726360" y="1571760"/>
            <a:ext cx="168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498b"/>
                </a:solidFill>
                <a:latin typeface="方正姚体"/>
                <a:ea typeface="方正姚体"/>
              </a:rPr>
              <a:t>「青花瓷 </a:t>
            </a:r>
            <a:r>
              <a:rPr b="1" lang="en-US" sz="2800" spc="-1" strike="noStrike">
                <a:solidFill>
                  <a:srgbClr val="28498b"/>
                </a:solidFill>
                <a:latin typeface="Arial"/>
                <a:ea typeface="方正姚体"/>
              </a:rPr>
              <a:t>• </a:t>
            </a:r>
            <a:r>
              <a:rPr b="1" lang="zh-CN" sz="4400" spc="-1" strike="noStrike">
                <a:solidFill>
                  <a:srgbClr val="28498b"/>
                </a:solidFill>
                <a:latin typeface="Arial"/>
                <a:ea typeface="方正姚体"/>
              </a:rPr>
              <a:t>系列</a:t>
            </a:r>
            <a:r>
              <a:rPr b="1" lang="zh-CN" sz="4400" spc="-1" strike="noStrike">
                <a:solidFill>
                  <a:srgbClr val="28498b"/>
                </a:solidFill>
                <a:latin typeface="方正姚体"/>
                <a:ea typeface="方正姚体"/>
              </a:rPr>
              <a:t>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0160" y="6407280"/>
            <a:ext cx="41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6360" y="251784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古典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-12600" y="-11160"/>
            <a:ext cx="1417680" cy="68691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4207320" y="1060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7724880" y="-11160"/>
            <a:ext cx="1420560" cy="685476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3933000" y="2098800"/>
            <a:ext cx="127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微软雅黑"/>
                <a:ea typeface="微软雅黑"/>
              </a:rPr>
              <a:t>在此录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338960" y="1892160"/>
            <a:ext cx="1805040" cy="307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 flipH="1">
            <a:off x="-27360" y="1892160"/>
            <a:ext cx="1800360" cy="307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7880" y="5742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A3C-E15D-4BA9-A72B-699DF0CB4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 flipV="1">
            <a:off x="1587600" y="-11160"/>
            <a:ext cx="1420560" cy="292104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rcRect l="0" t="-3289" r="0" b="0"/>
          <a:stretch/>
        </p:blipFill>
        <p:spPr>
          <a:xfrm>
            <a:off x="971640" y="2060640"/>
            <a:ext cx="2522520" cy="2535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037600" y="2778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497d"/>
                </a:solidFill>
                <a:latin typeface="方正姚体"/>
                <a:ea typeface="方正姚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441320" y="3086280"/>
            <a:ext cx="189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微软雅黑"/>
                <a:ea typeface="微软雅黑"/>
              </a:rPr>
              <a:t>青花瓷</a:t>
            </a:r>
            <a:r>
              <a:rPr b="1" lang="en-US" sz="4000" spc="-1" strike="noStrike">
                <a:solidFill>
                  <a:srgbClr val="28498b"/>
                </a:solidFill>
                <a:latin typeface="Arial"/>
                <a:ea typeface="方正姚体"/>
              </a:rPr>
              <a:t>•</a:t>
            </a:r>
            <a:r>
              <a:rPr b="1" lang="zh-CN" sz="4000" spc="-1" strike="noStrike">
                <a:solidFill>
                  <a:srgbClr val="1f497d"/>
                </a:solidFill>
                <a:latin typeface="微软雅黑"/>
                <a:ea typeface="微软雅黑"/>
              </a:rPr>
              <a:t>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186680" y="2641680"/>
            <a:ext cx="738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 flipV="1">
            <a:off x="1587600" y="-11160"/>
            <a:ext cx="1420560" cy="292104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rcRect l="0" t="-3289" r="0" b="0"/>
          <a:stretch/>
        </p:blipFill>
        <p:spPr>
          <a:xfrm>
            <a:off x="971640" y="2060640"/>
            <a:ext cx="2522520" cy="2535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037600" y="2778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f497d"/>
                </a:solidFill>
                <a:latin typeface="方正姚体"/>
                <a:ea typeface="方正姚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584960" y="3086280"/>
            <a:ext cx="189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微软雅黑"/>
                <a:ea typeface="微软雅黑"/>
              </a:rPr>
              <a:t>青花瓷</a:t>
            </a:r>
            <a:r>
              <a:rPr b="1" lang="en-US" sz="4000" spc="-1" strike="noStrike">
                <a:solidFill>
                  <a:srgbClr val="28498b"/>
                </a:solidFill>
                <a:latin typeface="Arial"/>
                <a:ea typeface="方正姚体"/>
              </a:rPr>
              <a:t>•</a:t>
            </a:r>
            <a:r>
              <a:rPr b="1" lang="zh-CN" sz="4000" spc="-1" strike="noStrike">
                <a:solidFill>
                  <a:srgbClr val="1f497d"/>
                </a:solidFill>
                <a:latin typeface="微软雅黑"/>
                <a:ea typeface="微软雅黑"/>
              </a:rPr>
              <a:t>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7186680" y="2641680"/>
            <a:ext cx="7380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 flipV="1">
            <a:off x="0" y="5517720"/>
            <a:ext cx="9144000" cy="89712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rcRect l="0" t="-3276" r="0" b="0"/>
          <a:stretch/>
        </p:blipFill>
        <p:spPr>
          <a:xfrm>
            <a:off x="466560" y="5086440"/>
            <a:ext cx="1659240" cy="1665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64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0" lang="en-US" sz="28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66" name="圆角矩形 5"/>
          <p:cNvSpPr/>
          <p:nvPr/>
        </p:nvSpPr>
        <p:spPr>
          <a:xfrm>
            <a:off x="611280" y="836640"/>
            <a:ext cx="3529080" cy="4105080"/>
          </a:xfrm>
          <a:custGeom>
            <a:avLst/>
            <a:gdLst>
              <a:gd name="textAreaLeft" fmla="*/ 92520 w 3529080"/>
              <a:gd name="textAreaRight" fmla="*/ 3436560 w 3529080"/>
              <a:gd name="textAreaTop" fmla="*/ 92520 h 4105080"/>
              <a:gd name="textAreaBottom" fmla="*/ 4012560 h 4105080"/>
            </a:gdLst>
            <a:ahLst/>
            <a:rect l="textAreaLeft" t="textAreaTop" r="textAreaRight" b="textAreaBottom"/>
            <a:pathLst>
              <a:path w="21600" h="25125">
                <a:moveTo>
                  <a:pt x="1938" y="0"/>
                </a:moveTo>
                <a:arcTo wR="1938" hR="1938" stAng="16200000" swAng="-5400000"/>
                <a:lnTo>
                  <a:pt x="0" y="23187"/>
                </a:lnTo>
                <a:arcTo wR="1938" hR="1938" stAng="10800000" swAng="-5400000"/>
                <a:lnTo>
                  <a:pt x="19662" y="25125"/>
                </a:lnTo>
                <a:arcTo wR="1938" hR="1938" stAng="5400000" swAng="-5400000"/>
                <a:lnTo>
                  <a:pt x="21600" y="1938"/>
                </a:lnTo>
                <a:arcTo wR="1938" hR="1938" stAng="0" swAng="-5400000"/>
                <a:close/>
              </a:path>
            </a:pathLst>
          </a:custGeom>
          <a:noFill/>
          <a:ln w="25560">
            <a:solidFill>
              <a:srgbClr val="2849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6"/>
          <p:cNvSpPr/>
          <p:nvPr/>
        </p:nvSpPr>
        <p:spPr>
          <a:xfrm>
            <a:off x="5076720" y="844560"/>
            <a:ext cx="3527640" cy="4103640"/>
          </a:xfrm>
          <a:custGeom>
            <a:avLst/>
            <a:gdLst>
              <a:gd name="textAreaLeft" fmla="*/ 92520 w 3527640"/>
              <a:gd name="textAreaRight" fmla="*/ 3435120 w 3527640"/>
              <a:gd name="textAreaTop" fmla="*/ 92520 h 4103640"/>
              <a:gd name="textAreaBottom" fmla="*/ 4011120 h 4103640"/>
            </a:gdLst>
            <a:ahLst/>
            <a:rect l="textAreaLeft" t="textAreaTop" r="textAreaRight" b="textAreaBottom"/>
            <a:pathLst>
              <a:path w="21600" h="25127">
                <a:moveTo>
                  <a:pt x="1938" y="0"/>
                </a:moveTo>
                <a:arcTo wR="1938" hR="1938" stAng="16200000" swAng="-5400000"/>
                <a:lnTo>
                  <a:pt x="0" y="23189"/>
                </a:lnTo>
                <a:arcTo wR="1938" hR="1938" stAng="10800000" swAng="-5400000"/>
                <a:lnTo>
                  <a:pt x="19662" y="25127"/>
                </a:lnTo>
                <a:arcTo wR="1938" hR="1938" stAng="5400000" swAng="-5400000"/>
                <a:lnTo>
                  <a:pt x="21600" y="1938"/>
                </a:lnTo>
                <a:arcTo wR="1938" hR="1938" stAng="0" swAng="-5400000"/>
                <a:close/>
              </a:path>
            </a:pathLst>
          </a:custGeom>
          <a:noFill/>
          <a:ln w="25560">
            <a:solidFill>
              <a:srgbClr val="2849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306080" y="1689120"/>
            <a:ext cx="20325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849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849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849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824080" y="1689120"/>
            <a:ext cx="20325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849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849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2849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8498b"/>
                </a:solidFill>
                <a:latin typeface="微软雅黑"/>
                <a:ea typeface="微软雅黑"/>
              </a:rPr>
              <a:t>在此录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600360" y="1844640"/>
            <a:ext cx="19432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8498b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28498b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34E-A6D5-4E8F-B2E3-484669AE5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 flipV="1">
            <a:off x="-20160" y="396360"/>
            <a:ext cx="9164520" cy="897120"/>
          </a:xfrm>
          <a:prstGeom prst="rect">
            <a:avLst/>
          </a:prstGeom>
          <a:solidFill>
            <a:srgbClr val="28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0" t="-3276" r="0" b="0"/>
          <a:stretch/>
        </p:blipFill>
        <p:spPr>
          <a:xfrm>
            <a:off x="442800" y="-31680"/>
            <a:ext cx="1658880" cy="1663560"/>
          </a:xfrm>
          <a:prstGeom prst="rect">
            <a:avLst/>
          </a:prstGeom>
          <a:ln w="0">
            <a:noFill/>
          </a:ln>
        </p:spPr>
      </p:pic>
      <p:sp>
        <p:nvSpPr>
          <p:cNvPr id="76" name="标题 1"/>
          <p:cNvSpPr/>
          <p:nvPr/>
        </p:nvSpPr>
        <p:spPr>
          <a:xfrm>
            <a:off x="1955880" y="252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在此录入文字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46944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22:00Z</dcterms:created>
  <dc:creator/>
  <dc:description/>
  <cp:keywords>幻灯片之家 http:/www.eeppt.com</cp:keywords>
  <dc:language>en-US</dc:language>
  <cp:lastModifiedBy/>
  <dcterms:modified xsi:type="dcterms:W3CDTF">2015-07-13T13:29:3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