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43E-5FB7-4273-A71F-661667B7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B6F-858C-4A4B-9AD8-58AA7106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65D-6E54-460B-B8AA-DBCDC154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38FB-8CD4-4070-837A-9CF723CA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A5F-FCDE-4756-B54F-DCA7E33D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078-7E1C-4BDD-8326-A7B64BBF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470-0F8F-499E-A615-70B3BBE2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B43-5B90-44D9-BA6A-F8189000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924-C395-4A8C-9338-DF033C6A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B60-15BB-457B-A1AE-4FB400BE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C05-7654-492F-B794-2459A2E4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495-EF35-416E-AB03-3B2813D3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0566-3411-414E-BE89-D9D6A73A72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193824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感恩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500280" y="1944720"/>
            <a:ext cx="242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852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38680" y="1701720"/>
            <a:ext cx="21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恩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36406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25689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50695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58550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4720" y="638172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371196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5"/>
          <p:cNvSpPr/>
          <p:nvPr/>
        </p:nvSpPr>
        <p:spPr>
          <a:xfrm>
            <a:off x="58550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6926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1783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42120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9977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1406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83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2837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140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926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3283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49978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4212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640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926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3640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8550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7118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57837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58550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3283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9977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3283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564084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56408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D86-C29F-4533-A6E8-18AB552B55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09T06:17:20Z</dcterms:modified>
  <cp:revision>11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