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F6A29-05C3-49DB-A064-0DDD3CFB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05DB9-4CFC-4D7E-9135-5C2000E6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C6395-1BA0-408E-AFFF-0CE7460C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4D6B1-B1EC-4718-B398-64752462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9AD01-14BD-4581-969D-E057C6A9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03665-6A0E-47CA-B25F-760D4225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202E8-009E-410B-B1BC-DAA9A6E92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2C0F-BAF0-4E1E-B413-2D5C4A95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BCCDA-EC59-49B7-866D-A0B418DD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FE5EF-DF3C-4EF5-A449-184A1636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77666-A763-41AB-8199-A8E0E31B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7C4C14-3405-425C-AAD0-A9462072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F2015-047E-4B75-B538-7E8132C7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9A059-CC94-471E-B01F-0D11C9B1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429D0-E4DC-4827-934D-866883512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473A1-772F-4CB3-BEE9-9D73AE05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FA104-6896-4B04-8447-4DB52A2F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E304E-024C-42BD-A884-7277202A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82329-BA2A-42D3-8C07-B2FE1E95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B7296-B005-48BA-954A-EF6388640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0EE38-E0F4-41DD-A567-EA89217DF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47349-C99B-4427-8B6B-EC23BD850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D5D12-D1EA-4076-9CBB-BE451C6B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8961D-6A6A-4B1A-929B-963EAC3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1E2D7-3D2D-4651-9B96-B4467A5F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6B5C1-327F-4592-B2FE-E3D59490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23F2C-7671-4ABB-B7EC-46AAEA0F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0864B-75CA-4C6B-B9CF-1FCFA8DB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45C46-0B8C-409B-B327-6282BEF1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F97EF-B958-45D2-B2D4-FFF2D2D9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3EFBD-F906-42DF-A475-1392901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2C933-EBD3-44D1-84F4-3ACE998D4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EFDC6A-8A09-40CB-A509-10B3F5C54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DD27-0B1D-4C17-BF9A-BEAD0889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D66-E258-475F-A29C-7E8D4FD6A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E70-6A2E-4243-94B4-5BE78E14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E770-45FD-471E-80F2-63491E4F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6F7C-C6B8-448D-9979-76891369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14ED-5B95-4051-A3AA-8D4B6C39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D7EF-A871-4FA7-9771-44F6E2A9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0BD-3D30-41E9-A074-9E0A49EF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5F65-52A9-4E57-B149-3F6E57DE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23E0-AD7B-4151-B0AD-E8E6BFD4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1BD5-8915-46F9-B0ED-02BBBD84D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B5F6-DA0F-468C-9036-9B592D5CE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D7A8-8DA9-4FB4-9BA4-BD46A2D0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83BD-B648-4241-BF45-9C648CDF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52CE-3516-42E3-BF10-C4B175B2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A091A-7CA2-42C5-9F7F-2610613D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A445-999A-4DBC-B673-E80F96DE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414B-A2E4-4EE0-AD66-056CE3FB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87F4-FCD3-4BEC-AA10-FA000DF5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5EE22-8F1D-465D-A9F0-687CDBB1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DE30-633F-4838-9645-7A390CB0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3FAC5-753E-4F96-AB88-4C41252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9DB6-7251-4954-B41D-A0E226F87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C1B7B-6672-4284-B802-FE23720B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454FE-BF22-4A0B-8E51-A990824D1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644B6-0DE4-488C-8E90-05DEB729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E8E8-232E-4146-82F8-BF01CDB1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8B899-0762-4E05-805E-0AE573FC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4A54E-BCF1-4A51-960A-8588BC1A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FD6E-0D6C-4632-AB4C-F0408CA3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F32B7-93FD-45E6-B5F7-CD5CB14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B4809-3A36-4E60-9693-EE20DF25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1697F-B062-42A5-BC0D-1012880F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B53EE-54B5-476C-914D-E224277D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B1D6-73C3-4A10-B90B-73BC68B2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7FA76-4121-49B3-93D9-76F965198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18C24-B617-44CE-BCB9-5292D8293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A72BC-8616-4697-AECD-79606792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3523D-8FC0-4336-A6A6-57F5B63F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A3F89-4513-4C66-B013-828F672C6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7B53C-7086-44AC-B164-E4AE4A50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2C425-B17F-4366-9A66-4AEE1637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18123-81CA-4F4E-90B9-639E5CA4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522F3-85AE-40BA-9C65-5B3806F4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A3E17-E365-46F3-BEE8-15D57956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5255-E843-4555-A13F-739514CC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E5F4D-CB1C-444F-90F9-B7F8998A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7A2E-8DC7-4903-9FBC-F58C5A9F8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83C5F-F647-4128-9C70-EB2E7340D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CED2CB-74CE-4DB3-AB27-B4FB28968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CFBB-AB8B-404E-9F4D-F859BECD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C9AEF-FBF3-476E-9497-B5F4DE90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87277-4F86-40FC-869F-06B50BA6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9D814-9694-4AAF-B572-DBE61CE7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3BBB-E24B-4A4A-BF5D-6247ECF8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FC199-9121-4DCA-A02B-38F18E11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03591-355C-4AB2-BF0B-6B2AED54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DFD96-4020-42A2-A31F-ACD1FCA3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650BC-00DD-4BC1-8970-565492D8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FDA54-AAFD-432E-815D-569D82DA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0BA2C-B824-44B2-A296-EECE42DE6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6DD07-67C6-4389-BBEA-3BB7995F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E59F0-0141-458E-A86E-0402BFC6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14BD1-D180-4452-8EDD-F70B3703E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92C1EA-4B76-4488-ABC3-C601C86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1B04E-B8DC-4530-B59F-4D6EE7C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38994-3380-4A5D-823F-E2A716C0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FAFAD8-3ED0-48B8-A8C8-107F4D5E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78204-C05C-41E3-AFBA-1C4EDBA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E2073-CEE6-4094-B889-AD31C93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434DF-FC51-435E-9860-A7BCA98A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36754-9C94-46B2-99EA-376FA28C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60181-4D5A-4FEA-8FD3-89737811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65960-F052-419D-B981-9525BFB3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8498C-CD26-4782-9A0D-77EFD369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2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387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E706-8110-46EC-A5AA-ED584782B6C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430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12BE-ECB7-475F-A9CD-39FF4ADF170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44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白色宽屏比例.png"/>
          <p:cNvPicPr/>
          <p:nvPr/>
        </p:nvPicPr>
        <p:blipFill>
          <a:blip r:embed="rId3"/>
          <a:srcRect l="386" t="1000" r="0" b="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86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922C-EBFD-49EE-8C68-867B593B844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129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65AC-576A-4BCF-9E2F-58157D7763F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172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1F84-7656-49EF-B23C-D7DA7711F70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215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BC99-D0E8-4AC0-93DD-56AD50CED861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258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5720-817B-41C8-96F5-B320A7D5E4F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301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01ED-E108-483C-955C-34A8ACF6F79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直接连接符 10"/>
          <p:cNvSpPr/>
          <p:nvPr/>
        </p:nvSpPr>
        <p:spPr>
          <a:xfrm>
            <a:off x="108000" y="411120"/>
            <a:ext cx="8842320" cy="0"/>
          </a:xfrm>
          <a:prstGeom prst="line">
            <a:avLst/>
          </a:prstGeom>
          <a:ln w="19080">
            <a:solidFill>
              <a:srgbClr val="dc28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6" descr="logo png.png"/>
          <p:cNvPicPr/>
          <p:nvPr/>
        </p:nvPicPr>
        <p:blipFill>
          <a:blip r:embed="rId2"/>
          <a:stretch/>
        </p:blipFill>
        <p:spPr>
          <a:xfrm>
            <a:off x="7956720" y="103320"/>
            <a:ext cx="852480" cy="236520"/>
          </a:xfrm>
          <a:prstGeom prst="rect">
            <a:avLst/>
          </a:prstGeom>
          <a:ln w="0">
            <a:noFill/>
          </a:ln>
        </p:spPr>
      </p:pic>
      <p:sp>
        <p:nvSpPr>
          <p:cNvPr id="344" name="矩形 5"/>
          <p:cNvSpPr/>
          <p:nvPr/>
        </p:nvSpPr>
        <p:spPr>
          <a:xfrm>
            <a:off x="0" y="4948200"/>
            <a:ext cx="9144000" cy="19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14"/>
          <p:cNvSpPr/>
          <p:nvPr/>
        </p:nvSpPr>
        <p:spPr>
          <a:xfrm>
            <a:off x="0" y="4927680"/>
            <a:ext cx="22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领先的航空市场专业媒体运营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6E6B-FB01-4DEA-AFF4-1AD03FFD634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qiye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图片 14" descr="封面 移到中间一点 16；9.jpg"/>
          <p:cNvPicPr/>
          <p:nvPr/>
        </p:nvPicPr>
        <p:blipFill>
          <a:blip r:embed="rId1"/>
          <a:srcRect l="1178" t="1000" r="0" b="0"/>
          <a:stretch/>
        </p:blipFill>
        <p:spPr>
          <a:xfrm>
            <a:off x="0" y="0"/>
            <a:ext cx="9144000" cy="5153040"/>
          </a:xfrm>
          <a:prstGeom prst="rect">
            <a:avLst/>
          </a:prstGeom>
          <a:ln w="0">
            <a:noFill/>
          </a:ln>
        </p:spPr>
      </p:pic>
      <p:sp>
        <p:nvSpPr>
          <p:cNvPr id="472" name="矩形 10"/>
          <p:cNvSpPr/>
          <p:nvPr/>
        </p:nvSpPr>
        <p:spPr>
          <a:xfrm>
            <a:off x="71280" y="4321080"/>
            <a:ext cx="1548000" cy="62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标题 5"/>
          <p:cNvSpPr/>
          <p:nvPr/>
        </p:nvSpPr>
        <p:spPr>
          <a:xfrm>
            <a:off x="0" y="3219480"/>
            <a:ext cx="79995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--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**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2"/>
          <p:cNvSpPr/>
          <p:nvPr/>
        </p:nvSpPr>
        <p:spPr>
          <a:xfrm>
            <a:off x="3348000" y="2500200"/>
            <a:ext cx="518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2"/>
          <p:cNvSpPr/>
          <p:nvPr/>
        </p:nvSpPr>
        <p:spPr>
          <a:xfrm>
            <a:off x="7020000" y="415620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2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42274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11840" y="2389320"/>
            <a:ext cx="330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广告公司投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27"/>
          <p:cNvSpPr/>
          <p:nvPr/>
        </p:nvSpPr>
        <p:spPr>
          <a:xfrm>
            <a:off x="1692360" y="1203480"/>
            <a:ext cx="5759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名称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布周期：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*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告形式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Flash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动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2"/>
          <p:cNvSpPr/>
          <p:nvPr/>
        </p:nvSpPr>
        <p:spPr>
          <a:xfrm>
            <a:off x="0" y="57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3"/>
          <p:cNvSpPr/>
          <p:nvPr/>
        </p:nvSpPr>
        <p:spPr>
          <a:xfrm>
            <a:off x="0" y="-144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4495680" y="2495520"/>
            <a:ext cx="152640" cy="15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755640" y="6271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竹节"/>
              </a:rPr>
              <a:t>远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5"/>
          <p:cNvSpPr/>
          <p:nvPr/>
        </p:nvSpPr>
        <p:spPr>
          <a:xfrm>
            <a:off x="4859280" y="1555920"/>
            <a:ext cx="3927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040" rIns="77040" tIns="38520" bIns="38520" anchor="t">
            <a:spAutoFit/>
          </a:bodyPr>
          <a:p>
            <a:pPr marL="230040" indent="-23004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79120" y="62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迷你简竹节"/>
              </a:rPr>
              <a:t>近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5640" y="3508200"/>
            <a:ext cx="5616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矩形 15"/>
          <p:cNvSpPr/>
          <p:nvPr/>
        </p:nvSpPr>
        <p:spPr>
          <a:xfrm>
            <a:off x="0" y="484200"/>
            <a:ext cx="9144000" cy="43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9"/>
          <p:cNvSpPr/>
          <p:nvPr/>
        </p:nvSpPr>
        <p:spPr>
          <a:xfrm>
            <a:off x="866880" y="84312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58ed5"/>
                </a:solidFill>
                <a:latin typeface="微软雅黑"/>
                <a:ea typeface="微软雅黑"/>
              </a:rPr>
              <a:t>广告内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19" descr="111111111111111111111.png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476360" y="1851120"/>
            <a:ext cx="2714760" cy="2114280"/>
          </a:xfrm>
          <a:prstGeom prst="rect">
            <a:avLst/>
          </a:prstGeom>
          <a:ln w="0">
            <a:noFill/>
          </a:ln>
        </p:spPr>
      </p:pic>
      <p:pic>
        <p:nvPicPr>
          <p:cNvPr id="494" name="图片 19" descr="111111111111111111111.png"/>
          <p:cNvPicPr/>
          <p:nvPr/>
        </p:nvPicPr>
        <p:blipFill>
          <a:blip r:embed="rId2">
            <a:lum contrast="14000"/>
          </a:blip>
          <a:stretch/>
        </p:blipFill>
        <p:spPr>
          <a:xfrm>
            <a:off x="4932360" y="1851120"/>
            <a:ext cx="2714760" cy="211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7"/>
          <p:cNvSpPr/>
          <p:nvPr/>
        </p:nvSpPr>
        <p:spPr>
          <a:xfrm>
            <a:off x="250920" y="771480"/>
            <a:ext cx="30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cc0000"/>
                </a:solidFill>
                <a:latin typeface="微软雅黑"/>
                <a:ea typeface="微软雅黑"/>
              </a:rPr>
              <a:t>轮播频次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矩形 6"/>
          <p:cNvSpPr/>
          <p:nvPr/>
        </p:nvSpPr>
        <p:spPr>
          <a:xfrm>
            <a:off x="1692360" y="1563840"/>
            <a:ext cx="66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经典特宋简"/>
                <a:ea typeface="经典特宋简"/>
              </a:rPr>
              <a:t> </a:t>
            </a:r>
            <a:r>
              <a:rPr b="1" lang="zh-CN" sz="9600" spc="-1" strike="noStrike">
                <a:solidFill>
                  <a:srgbClr val="000000"/>
                </a:solidFill>
                <a:latin typeface="经典特宋简"/>
                <a:ea typeface="经典特宋简"/>
              </a:rPr>
              <a:t>谢  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0"/>
          <p:cNvSpPr/>
          <p:nvPr/>
        </p:nvSpPr>
        <p:spPr>
          <a:xfrm>
            <a:off x="2176560" y="-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5"/>
          <p:cNvSpPr/>
          <p:nvPr/>
        </p:nvSpPr>
        <p:spPr>
          <a:xfrm>
            <a:off x="0" y="-87480"/>
            <a:ext cx="17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6"/>
          <p:cNvSpPr/>
          <p:nvPr/>
        </p:nvSpPr>
        <p:spPr>
          <a:xfrm>
            <a:off x="0" y="5724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05:38:09Z</dcterms:created>
  <dc:creator/>
  <dc:description/>
  <cp:keywords>幻灯片之家 http:/www.eeppt.com</cp:keywords>
  <dc:language>en-US</dc:language>
  <cp:lastModifiedBy/>
  <dcterms:modified xsi:type="dcterms:W3CDTF">2015-07-06T12:01:41Z</dcterms:modified>
  <cp:revision>6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