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BA5-A753-44F7-B3E7-180DAFD1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446-723E-46F4-A02C-EA964C51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0DA-880C-4297-BCED-3E44BBBF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AF5-C014-4951-B115-AFD71E22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777080" cy="36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A11-7751-4834-9349-932347D3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40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6920" y="487656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40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6920" y="5155200"/>
            <a:ext cx="262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8C8-25C7-424C-A9DD-F31DFDFD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6EF-3418-4BB0-90DC-AF195619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D5C-198A-4305-9E57-FD884C95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777080" cy="36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CF7-6E17-484B-A79A-96B8C164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EA9-0EEA-4F17-A687-C12DE1D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515520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A3A-4FC4-40D4-865D-AAD7062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4876560"/>
            <a:ext cx="3978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5155200"/>
            <a:ext cx="8153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EEF-6631-408D-85A5-61C108F1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5840" y="289080"/>
            <a:ext cx="9159840" cy="917280"/>
          </a:xfrm>
          <a:custGeom>
            <a:avLst/>
            <a:gdLst/>
            <a:ahLst/>
            <a:rect l="l" t="t" r="r" b="b"/>
            <a:pathLst>
              <a:path w="5770" h="578">
                <a:moveTo>
                  <a:pt x="434" y="356"/>
                </a:moveTo>
                <a:lnTo>
                  <a:pt x="751" y="2"/>
                </a:lnTo>
                <a:lnTo>
                  <a:pt x="2158" y="0"/>
                </a:lnTo>
                <a:lnTo>
                  <a:pt x="2244" y="115"/>
                </a:lnTo>
                <a:lnTo>
                  <a:pt x="5770" y="115"/>
                </a:lnTo>
                <a:lnTo>
                  <a:pt x="5764" y="489"/>
                </a:lnTo>
                <a:lnTo>
                  <a:pt x="4998" y="495"/>
                </a:lnTo>
                <a:lnTo>
                  <a:pt x="4897" y="576"/>
                </a:lnTo>
                <a:lnTo>
                  <a:pt x="0" y="578"/>
                </a:lnTo>
                <a:lnTo>
                  <a:pt x="16" y="369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77353" dir="4837521" blurRad="0" rotWithShape="0">
              <a:srgbClr val="000066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322200"/>
            <a:ext cx="9153360" cy="854280"/>
          </a:xfrm>
          <a:custGeom>
            <a:avLst/>
            <a:gdLst/>
            <a:ahLst/>
            <a:rect l="l" t="t" r="r" b="b"/>
            <a:pathLst>
              <a:path w="5766" h="531">
                <a:moveTo>
                  <a:pt x="433" y="360"/>
                </a:moveTo>
                <a:lnTo>
                  <a:pt x="767" y="3"/>
                </a:lnTo>
                <a:lnTo>
                  <a:pt x="2152" y="0"/>
                </a:lnTo>
                <a:lnTo>
                  <a:pt x="2228" y="113"/>
                </a:lnTo>
                <a:lnTo>
                  <a:pt x="5766" y="113"/>
                </a:lnTo>
                <a:lnTo>
                  <a:pt x="5766" y="442"/>
                </a:lnTo>
                <a:lnTo>
                  <a:pt x="4968" y="442"/>
                </a:lnTo>
                <a:lnTo>
                  <a:pt x="4880" y="531"/>
                </a:lnTo>
                <a:lnTo>
                  <a:pt x="0" y="521"/>
                </a:lnTo>
                <a:lnTo>
                  <a:pt x="0" y="373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7357-8492-4C09-9A82-6C4108866A50}" type="slidenum"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1e2fb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1e2fb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e2f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eeppt.com/moban/guowai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23888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国外公司简介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ba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5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5ae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5ae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75d89"/>
              </a:gs>
              <a:gs pos="50000">
                <a:srgbClr val="85aeff"/>
              </a:gs>
              <a:gs pos="100000">
                <a:srgbClr val="475d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5aeff">
                  <a:alpha val="0"/>
                </a:srgbClr>
              </a:gs>
              <a:gs pos="100000">
                <a:srgbClr val="546e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9b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9b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36389"/>
              </a:gs>
              <a:gs pos="50000">
                <a:srgbClr val="b9b9ff"/>
              </a:gs>
              <a:gs pos="100000">
                <a:srgbClr val="6363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b9b9ff">
                  <a:alpha val="0"/>
                </a:srgbClr>
              </a:gs>
              <a:gs pos="100000">
                <a:srgbClr val="7575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46" name="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38600" y="24728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baaf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4e6f"/>
              </a:gs>
              <a:gs pos="100000">
                <a:srgbClr val="4baaf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85b81"/>
              </a:gs>
              <a:gs pos="50000">
                <a:srgbClr val="4baaf1"/>
              </a:gs>
              <a:gs pos="100000">
                <a:srgbClr val="285b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baaf1">
                  <a:alpha val="0"/>
                </a:srgbClr>
              </a:gs>
              <a:gs pos="100000">
                <a:srgbClr val="2f6b9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56" name="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75320" y="24728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61" name="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21760" y="24728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1d969"/>
              </a:gs>
              <a:gs pos="100000">
                <a:srgbClr val="4baaf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3505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0876400">
            <a:off x="3382920" y="51055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14880" y="38862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35400" y="38955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39117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44840" y="39560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32480" y="45133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0826600">
            <a:off x="1554120" y="44953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77800" y="3505320"/>
            <a:ext cx="1371240" cy="1441080"/>
            <a:chOff x="1477800" y="3505320"/>
            <a:chExt cx="1371240" cy="1441080"/>
          </a:xfrm>
        </p:grpSpPr>
        <p:sp>
          <p:nvSpPr>
            <p:cNvPr id="282" name=""/>
            <p:cNvSpPr/>
            <p:nvPr/>
          </p:nvSpPr>
          <p:spPr>
            <a:xfrm>
              <a:off x="1477800" y="35053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95800" y="35136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08760" y="35269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0400" y="35636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8240" y="40114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92400" y="27399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68360" y="21337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80960" y="21384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92120" y="21495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46120" y="21747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65640" y="2482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97120" y="22096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16765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28880" y="16794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35360" y="16858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71720" y="17049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89720" y="1900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229000" cy="4402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624852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5aeff"/>
                </a:solidFill>
                <a:uFillTx/>
                <a:latin typeface="Arial"/>
                <a:hlinkClick r:id="rId3"/>
              </a:rPr>
              <a:t>外国ppt模板</a:t>
            </a: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24004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23840" y="24084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1480" y="44719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1480" y="24303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35200" y="2092320"/>
            <a:ext cx="642960" cy="642960"/>
            <a:chOff x="1735200" y="2092320"/>
            <a:chExt cx="642960" cy="642960"/>
          </a:xfrm>
        </p:grpSpPr>
        <p:sp>
          <p:nvSpPr>
            <p:cNvPr id="308" name=""/>
            <p:cNvSpPr/>
            <p:nvPr/>
          </p:nvSpPr>
          <p:spPr>
            <a:xfrm>
              <a:off x="1735200" y="2092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1680" y="20970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49600" y="210096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6080" y="21067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9920" y="21222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875240" y="218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2854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4004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240840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65760" y="44719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65760" y="24303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59480" y="2092320"/>
            <a:ext cx="642960" cy="642960"/>
            <a:chOff x="6459480" y="2092320"/>
            <a:chExt cx="642960" cy="642960"/>
          </a:xfrm>
        </p:grpSpPr>
        <p:sp>
          <p:nvSpPr>
            <p:cNvPr id="320" name=""/>
            <p:cNvSpPr/>
            <p:nvPr/>
          </p:nvSpPr>
          <p:spPr>
            <a:xfrm>
              <a:off x="6459480" y="2092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65960" y="20970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3880" y="210096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80360" y="21067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14200" y="21222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599520" y="218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2854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240048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86160" y="24084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03440" y="44719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03440" y="24303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97160" y="20923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03640" y="20970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1560" y="21002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18040" y="210672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52960" y="212256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37560" y="2184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2854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3124080"/>
            <a:ext cx="9144000" cy="152280"/>
            <a:chOff x="0" y="3124080"/>
            <a:chExt cx="9144000" cy="152280"/>
          </a:xfrm>
        </p:grpSpPr>
        <p:sp>
          <p:nvSpPr>
            <p:cNvPr id="340" name=""/>
            <p:cNvSpPr/>
            <p:nvPr/>
          </p:nvSpPr>
          <p:spPr>
            <a:xfrm>
              <a:off x="0" y="3124080"/>
              <a:ext cx="9144000" cy="42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3165120"/>
              <a:ext cx="9144000" cy="111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906080" y="3355560"/>
            <a:ext cx="1703880" cy="2679120"/>
            <a:chOff x="4906080" y="3355560"/>
            <a:chExt cx="1703880" cy="2679120"/>
          </a:xfrm>
        </p:grpSpPr>
        <p:grpSp>
          <p:nvGrpSpPr>
            <p:cNvPr id="343" name=""/>
            <p:cNvGrpSpPr/>
            <p:nvPr/>
          </p:nvGrpSpPr>
          <p:grpSpPr>
            <a:xfrm>
              <a:off x="4906080" y="3534120"/>
              <a:ext cx="1577160" cy="2500560"/>
              <a:chOff x="4906080" y="3534120"/>
              <a:chExt cx="1577160" cy="2500560"/>
            </a:xfrm>
          </p:grpSpPr>
          <p:sp>
            <p:nvSpPr>
              <p:cNvPr id="344" name=""/>
              <p:cNvSpPr/>
              <p:nvPr/>
            </p:nvSpPr>
            <p:spPr>
              <a:xfrm rot="3876600">
                <a:off x="444276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876600">
                <a:off x="5947560" y="54738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347" name="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4427640" y="2433600"/>
            <a:ext cx="1439640" cy="1440000"/>
            <a:chOff x="4427640" y="2433600"/>
            <a:chExt cx="1439640" cy="1440000"/>
          </a:xfrm>
        </p:grpSpPr>
        <p:sp>
          <p:nvSpPr>
            <p:cNvPr id="350" name=""/>
            <p:cNvSpPr/>
            <p:nvPr/>
          </p:nvSpPr>
          <p:spPr>
            <a:xfrm>
              <a:off x="4427640" y="24336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27640" y="24336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22680" y="25272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22680" y="253044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84600" y="259092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601880" y="2608200"/>
              <a:ext cx="1090440" cy="1092240"/>
              <a:chOff x="4601880" y="2608200"/>
              <a:chExt cx="1090440" cy="1092240"/>
            </a:xfrm>
          </p:grpSpPr>
          <p:sp>
            <p:nvSpPr>
              <p:cNvPr id="356" name=""/>
              <p:cNvSpPr/>
              <p:nvPr/>
            </p:nvSpPr>
            <p:spPr>
              <a:xfrm>
                <a:off x="460188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615560" y="261432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2708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8612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138080" y="3428640"/>
            <a:ext cx="1703880" cy="2679120"/>
            <a:chOff x="7138080" y="3428640"/>
            <a:chExt cx="1703880" cy="2679120"/>
          </a:xfrm>
        </p:grpSpPr>
        <p:grpSp>
          <p:nvGrpSpPr>
            <p:cNvPr id="361" name=""/>
            <p:cNvGrpSpPr/>
            <p:nvPr/>
          </p:nvGrpSpPr>
          <p:grpSpPr>
            <a:xfrm>
              <a:off x="7138080" y="3607200"/>
              <a:ext cx="1577160" cy="2500560"/>
              <a:chOff x="7138080" y="3607200"/>
              <a:chExt cx="1577160" cy="2500560"/>
            </a:xfrm>
          </p:grpSpPr>
          <p:sp>
            <p:nvSpPr>
              <p:cNvPr id="362" name=""/>
              <p:cNvSpPr/>
              <p:nvPr/>
            </p:nvSpPr>
            <p:spPr>
              <a:xfrm rot="3876600">
                <a:off x="6674760" y="4578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3876600">
                <a:off x="8179560" y="55468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365" name="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373" name="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69720" y="249156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58760" y="3355200"/>
            <a:ext cx="1703880" cy="2679480"/>
            <a:chOff x="2858760" y="3355200"/>
            <a:chExt cx="1703880" cy="2679480"/>
          </a:xfrm>
        </p:grpSpPr>
        <p:grpSp>
          <p:nvGrpSpPr>
            <p:cNvPr id="378" name="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379" name="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3876600">
                <a:off x="3900240" y="54738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352680" y="3355200"/>
              <a:ext cx="1209960" cy="1918800"/>
              <a:chOff x="3352680" y="3355200"/>
              <a:chExt cx="1209960" cy="1918800"/>
            </a:xfrm>
          </p:grpSpPr>
          <p:sp>
            <p:nvSpPr>
              <p:cNvPr id="382" name=""/>
              <p:cNvSpPr/>
              <p:nvPr/>
            </p:nvSpPr>
            <p:spPr>
              <a:xfrm flipV="1" rot="3876600">
                <a:off x="2997000" y="41007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 rot="3876600">
                <a:off x="4134240" y="48517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2379600" y="2433600"/>
            <a:ext cx="1440000" cy="1440000"/>
            <a:chOff x="2379600" y="2433600"/>
            <a:chExt cx="1440000" cy="1440000"/>
          </a:xfrm>
        </p:grpSpPr>
        <p:sp>
          <p:nvSpPr>
            <p:cNvPr id="385" name=""/>
            <p:cNvSpPr/>
            <p:nvPr/>
          </p:nvSpPr>
          <p:spPr>
            <a:xfrm>
              <a:off x="237960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7960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75000" y="25272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75000" y="253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36920" y="25909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554200" y="2608200"/>
              <a:ext cx="1090800" cy="1092240"/>
              <a:chOff x="2554200" y="2608200"/>
              <a:chExt cx="1090800" cy="1092240"/>
            </a:xfrm>
          </p:grpSpPr>
          <p:sp>
            <p:nvSpPr>
              <p:cNvPr id="391" name=""/>
              <p:cNvSpPr/>
              <p:nvPr/>
            </p:nvSpPr>
            <p:spPr>
              <a:xfrm>
                <a:off x="2554200" y="26082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79400" y="26247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38440" y="26524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875880" y="3355200"/>
            <a:ext cx="1703880" cy="2679480"/>
            <a:chOff x="875880" y="3355200"/>
            <a:chExt cx="1703880" cy="2679480"/>
          </a:xfrm>
        </p:grpSpPr>
        <p:grpSp>
          <p:nvGrpSpPr>
            <p:cNvPr id="396" name="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397" name="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76600">
                <a:off x="1917360" y="54738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1369800" y="3355200"/>
              <a:ext cx="1209960" cy="1918800"/>
              <a:chOff x="1369800" y="3355200"/>
              <a:chExt cx="1209960" cy="1918800"/>
            </a:xfrm>
          </p:grpSpPr>
          <p:sp>
            <p:nvSpPr>
              <p:cNvPr id="400" name=""/>
              <p:cNvSpPr/>
              <p:nvPr/>
            </p:nvSpPr>
            <p:spPr>
              <a:xfrm flipV="1" rot="3876600">
                <a:off x="1014120" y="41007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3876600">
                <a:off x="2151360" y="48517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396720" y="2433600"/>
            <a:ext cx="1440000" cy="1440000"/>
            <a:chOff x="396720" y="2433600"/>
            <a:chExt cx="1440000" cy="1440000"/>
          </a:xfrm>
        </p:grpSpPr>
        <p:sp>
          <p:nvSpPr>
            <p:cNvPr id="403" name=""/>
            <p:cNvSpPr/>
            <p:nvPr/>
          </p:nvSpPr>
          <p:spPr>
            <a:xfrm>
              <a:off x="39672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672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2120" y="25272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2120" y="253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4040" y="25909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71320" y="2608200"/>
              <a:ext cx="1090800" cy="1092240"/>
              <a:chOff x="571320" y="2608200"/>
              <a:chExt cx="1090800" cy="1092240"/>
            </a:xfrm>
          </p:grpSpPr>
          <p:sp>
            <p:nvSpPr>
              <p:cNvPr id="409" name=""/>
              <p:cNvSpPr/>
              <p:nvPr/>
            </p:nvSpPr>
            <p:spPr>
              <a:xfrm>
                <a:off x="571320" y="26082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6520" y="26247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560" y="26524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425" name=""/>
          <p:cNvCxnSpPr>
            <a:stCxn id="421" idx="3"/>
            <a:endCxn id="422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2" idx="3"/>
            <a:endCxn id="423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3" idx="3"/>
            <a:endCxn id="424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2743200"/>
            <a:ext cx="2819520" cy="3124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1d96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9b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274320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baaf1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4baaf1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62480" y="1905120"/>
            <a:ext cx="2057400" cy="533160"/>
          </a:xfrm>
          <a:prstGeom prst="roundRect">
            <a:avLst>
              <a:gd name="adj" fmla="val 50000"/>
            </a:avLst>
          </a:prstGeom>
          <a:solidFill>
            <a:srgbClr val="b9b9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1905120"/>
            <a:ext cx="20574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6430"/>
              </a:gs>
              <a:gs pos="100000">
                <a:srgbClr val="91d9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111680" y="1858680"/>
            <a:ext cx="6436800" cy="1387800"/>
            <a:chOff x="1111680" y="1858680"/>
            <a:chExt cx="6436800" cy="1387800"/>
          </a:xfrm>
        </p:grpSpPr>
        <p:sp>
          <p:nvSpPr>
            <p:cNvPr id="441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286360" y="2255400"/>
              <a:ext cx="932040" cy="131760"/>
              <a:chOff x="2286360" y="2255400"/>
              <a:chExt cx="932040" cy="131760"/>
            </a:xfrm>
          </p:grpSpPr>
          <p:sp>
            <p:nvSpPr>
              <p:cNvPr id="443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7564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7728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252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26430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007520" y="2255400"/>
              <a:ext cx="932040" cy="131760"/>
              <a:chOff x="4007520" y="2255400"/>
              <a:chExt cx="932040" cy="131760"/>
            </a:xfrm>
          </p:grpSpPr>
          <p:sp>
            <p:nvSpPr>
              <p:cNvPr id="449" name=""/>
              <p:cNvSpPr/>
              <p:nvPr/>
            </p:nvSpPr>
            <p:spPr>
              <a:xfrm>
                <a:off x="400752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9680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36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rot="3418800">
              <a:off x="469224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5728680" y="2255400"/>
              <a:ext cx="1218600" cy="131760"/>
              <a:chOff x="5728680" y="2255400"/>
              <a:chExt cx="1218600" cy="131760"/>
            </a:xfrm>
          </p:grpSpPr>
          <p:sp>
            <p:nvSpPr>
              <p:cNvPr id="455" name=""/>
              <p:cNvSpPr/>
              <p:nvPr/>
            </p:nvSpPr>
            <p:spPr>
              <a:xfrm>
                <a:off x="5728680" y="22554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4532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6124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 rot="3418800">
              <a:off x="641340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91d969"/>
                </a:gs>
                <a:gs pos="100000">
                  <a:srgbClr val="426430"/>
                </a:gs>
              </a:gsLst>
              <a:lin ang="198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533520" y="1882800"/>
          <a:ext cx="7924680" cy="3597120"/>
        </p:xfrm>
        <a:graphic>
          <a:graphicData uri="http://schemas.openxmlformats.org/drawingml/2006/table">
            <a:tbl>
              <a:tblPr/>
              <a:tblGrid>
                <a:gridCol w="1787400"/>
                <a:gridCol w="1247760"/>
                <a:gridCol w="1222560"/>
                <a:gridCol w="1220760"/>
                <a:gridCol w="1224000"/>
                <a:gridCol w="1222200"/>
              </a:tblGrid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5"/>
                        </a:gs>
                      </a:gsLst>
                      <a:lin ang="54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74675"/>
                        </a:gs>
                        <a:gs pos="50000">
                          <a:srgbClr val="3399ff"/>
                        </a:gs>
                        <a:gs pos="100000">
                          <a:srgbClr val="17467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74675"/>
                        </a:gs>
                        <a:gs pos="50000">
                          <a:srgbClr val="3399ff"/>
                        </a:gs>
                        <a:gs pos="100000">
                          <a:srgbClr val="17467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174675"/>
                        </a:gs>
                        <a:gs pos="50000">
                          <a:srgbClr val="3399ff"/>
                        </a:gs>
                        <a:gs pos="100000">
                          <a:srgbClr val="174675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1356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95680"/>
            <a:ext cx="5562720" cy="1325520"/>
          </a:xfrm>
          <a:prstGeom prst="ellipse">
            <a:avLst/>
          </a:prstGeom>
          <a:solidFill>
            <a:srgbClr val="020a5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20601600">
            <a:off x="130824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20601600">
            <a:off x="13647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20601600">
            <a:off x="127944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rot="20602200">
            <a:off x="1257840" y="220716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601600">
            <a:off x="128916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rot="20602200">
            <a:off x="127116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20601600">
            <a:off x="282564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4128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0460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2256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48440" y="320364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0539200">
            <a:off x="1283040" y="2205000"/>
            <a:ext cx="625824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48160" y="368460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2256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7008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6496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20601600">
            <a:off x="292752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2456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115640" y="1989000"/>
            <a:ext cx="4183560" cy="4027320"/>
            <a:chOff x="1115640" y="1989000"/>
            <a:chExt cx="4183560" cy="4027320"/>
          </a:xfrm>
        </p:grpSpPr>
        <p:sp>
          <p:nvSpPr>
            <p:cNvPr id="492" name=""/>
            <p:cNvSpPr/>
            <p:nvPr/>
          </p:nvSpPr>
          <p:spPr>
            <a:xfrm flipH="1">
              <a:off x="1115640" y="6014880"/>
              <a:ext cx="185364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116000" y="5203800"/>
              <a:ext cx="239112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116000" y="4362480"/>
              <a:ext cx="280872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115640" y="3533760"/>
              <a:ext cx="328644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116000" y="2700360"/>
              <a:ext cx="37641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116000" y="1989000"/>
              <a:ext cx="418320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53600" y="1989000"/>
              <a:ext cx="1440" cy="71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53600" y="2700360"/>
              <a:ext cx="1440" cy="84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53600" y="3541680"/>
              <a:ext cx="1440" cy="84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53600" y="4383000"/>
              <a:ext cx="1440" cy="84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53600" y="5224320"/>
              <a:ext cx="1440" cy="7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06520" y="21873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06520" y="3009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06520" y="3830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06520" y="4653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06520" y="5475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998800" y="1989000"/>
            <a:ext cx="5078160" cy="4030920"/>
            <a:chOff x="2998800" y="1989000"/>
            <a:chExt cx="5078160" cy="4030920"/>
          </a:xfrm>
        </p:grpSpPr>
        <p:sp>
          <p:nvSpPr>
            <p:cNvPr id="509" name=""/>
            <p:cNvSpPr/>
            <p:nvPr/>
          </p:nvSpPr>
          <p:spPr>
            <a:xfrm>
              <a:off x="7181640" y="4782600"/>
              <a:ext cx="895320" cy="12355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04160" y="4782600"/>
              <a:ext cx="417348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98800" y="5306760"/>
              <a:ext cx="460692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713640" y="4083480"/>
              <a:ext cx="792000" cy="111888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78640" y="4083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81920" y="4475880"/>
              <a:ext cx="3639960" cy="72612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46000" y="3391560"/>
              <a:ext cx="692640" cy="97164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50240" y="3391560"/>
              <a:ext cx="2093040" cy="2620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47040" y="3652560"/>
              <a:ext cx="2708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73320" y="2689560"/>
              <a:ext cx="59652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30120" y="2689560"/>
              <a:ext cx="104436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19000" y="2814840"/>
              <a:ext cx="176364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96320" y="1989000"/>
              <a:ext cx="504000" cy="71640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8080" y="1989000"/>
              <a:ext cx="817920" cy="71640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6760" y="236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6760" y="31244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6760" y="39452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6760" y="47671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6760" y="5589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1981080"/>
            <a:ext cx="762120" cy="665280"/>
            <a:chOff x="1828800" y="1981080"/>
            <a:chExt cx="762120" cy="665280"/>
          </a:xfrm>
        </p:grpSpPr>
        <p:sp>
          <p:nvSpPr>
            <p:cNvPr id="89" name=""/>
            <p:cNvSpPr/>
            <p:nvPr/>
          </p:nvSpPr>
          <p:spPr>
            <a:xfrm>
              <a:off x="1834920" y="19922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8800" y="19810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73080" y="20203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26430"/>
                </a:gs>
                <a:gs pos="50000">
                  <a:srgbClr val="91d969"/>
                </a:gs>
                <a:gs pos="100000">
                  <a:srgbClr val="426430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828800" y="2895480"/>
            <a:ext cx="762120" cy="665280"/>
            <a:chOff x="1828800" y="2895480"/>
            <a:chExt cx="762120" cy="665280"/>
          </a:xfrm>
        </p:grpSpPr>
        <p:sp>
          <p:nvSpPr>
            <p:cNvPr id="93" name=""/>
            <p:cNvSpPr/>
            <p:nvPr/>
          </p:nvSpPr>
          <p:spPr>
            <a:xfrm>
              <a:off x="1834920" y="2906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2895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3080" y="29347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baaf1"/>
                </a:gs>
                <a:gs pos="100000">
                  <a:srgbClr val="224e6f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438280" y="2590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27520" y="207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505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971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27520" y="299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3787920"/>
            <a:ext cx="762120" cy="664920"/>
            <a:chOff x="1828800" y="3787920"/>
            <a:chExt cx="762120" cy="664920"/>
          </a:xfrm>
        </p:grpSpPr>
        <p:sp>
          <p:nvSpPr>
            <p:cNvPr id="103" name=""/>
            <p:cNvSpPr/>
            <p:nvPr/>
          </p:nvSpPr>
          <p:spPr>
            <a:xfrm>
              <a:off x="1834920" y="37990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37879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3080" y="3827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26430"/>
                </a:gs>
                <a:gs pos="50000">
                  <a:srgbClr val="91d969"/>
                </a:gs>
                <a:gs pos="100000">
                  <a:srgbClr val="426430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28800" y="4702320"/>
            <a:ext cx="762120" cy="664920"/>
            <a:chOff x="1828800" y="4702320"/>
            <a:chExt cx="762120" cy="664920"/>
          </a:xfrm>
        </p:grpSpPr>
        <p:sp>
          <p:nvSpPr>
            <p:cNvPr id="107" name=""/>
            <p:cNvSpPr/>
            <p:nvPr/>
          </p:nvSpPr>
          <p:spPr>
            <a:xfrm>
              <a:off x="1834920" y="4713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4702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3080" y="4741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4baaf1"/>
                </a:gs>
                <a:gs pos="100000">
                  <a:srgbClr val="224e6f"/>
                </a:gs>
              </a:gsLst>
              <a:lin ang="13500000"/>
            </a:gradFill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438280" y="43974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86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2752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3118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778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752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638240" y="391428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981080" y="302904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1d969"/>
                    </a:gs>
                    <a:gs pos="100000">
                      <a:srgbClr val="4baaf1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1d969"/>
                  </a:gs>
                  <a:gs pos="100000">
                    <a:srgbClr val="4baaf1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3548160"/>
            <a:ext cx="2057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e3f9"/>
              </a:gs>
              <a:gs pos="100000">
                <a:srgbClr val="4baa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27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0547b"/>
                  </a:gs>
                  <a:gs pos="100000">
                    <a:srgbClr val="85ae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5aeff"/>
                  </a:gs>
                  <a:gs pos="100000">
                    <a:srgbClr val="c8da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baaf1"/>
                </a:gs>
                <a:gs pos="100000">
                  <a:srgbClr val="224e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fe0f9"/>
                </a:gs>
                <a:gs pos="100000">
                  <a:srgbClr val="4baaf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4baaf1">
                    <a:alpha val="48235"/>
                  </a:srgbClr>
                </a:gs>
                <a:gs pos="100000">
                  <a:srgbClr val="3b86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4baaf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4baaf1"/>
              </a:gs>
              <a:gs pos="100000">
                <a:srgbClr val="edf6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056200">
            <a:off x="4571640" y="2437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056200">
            <a:off x="7467120" y="274284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056200">
            <a:off x="2742840" y="583848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056200">
            <a:off x="5714640" y="50288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0056200">
            <a:off x="2057040" y="39621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5aeff"/>
              </a:gs>
              <a:gs pos="100000">
                <a:srgbClr val="2d3b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baaf1"/>
              </a:gs>
              <a:gs pos="100000">
                <a:srgbClr val="1735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78000" y="49737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91d969"/>
              </a:gs>
              <a:gs pos="100000">
                <a:srgbClr val="334d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b9b9ff"/>
              </a:gs>
              <a:gs pos="100000">
                <a:srgbClr val="3f3f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8000" y="373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39640" y="21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71480" y="241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1560" y="4724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6060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153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534600" y="1523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55575"/>
              </a:gs>
              <a:gs pos="50000">
                <a:srgbClr val="b9b9ff"/>
              </a:gs>
              <a:gs pos="100000">
                <a:srgbClr val="555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55575"/>
              </a:gs>
              <a:gs pos="50000">
                <a:srgbClr val="b9b9ff"/>
              </a:gs>
              <a:gs pos="100000">
                <a:srgbClr val="555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55575"/>
              </a:gs>
              <a:gs pos="50000">
                <a:srgbClr val="b9b9ff"/>
              </a:gs>
              <a:gs pos="100000">
                <a:srgbClr val="555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d5075">
                  <a:alpha val="12156"/>
                </a:srgbClr>
              </a:gs>
              <a:gs pos="100000">
                <a:srgbClr val="85a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b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b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85aeff"/>
              </a:gs>
              <a:gs pos="100000">
                <a:srgbClr val="3d507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5aeff"/>
              </a:gs>
              <a:gs pos="100000">
                <a:srgbClr val="b0caf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0cafe">
                  <a:alpha val="12156"/>
                </a:srgbClr>
              </a:gs>
              <a:gs pos="100000">
                <a:srgbClr val="85a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26430"/>
              </a:gs>
              <a:gs pos="50000">
                <a:srgbClr val="91d969"/>
              </a:gs>
              <a:gs pos="100000">
                <a:srgbClr val="4264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26430"/>
              </a:gs>
              <a:gs pos="50000">
                <a:srgbClr val="91d969"/>
              </a:gs>
              <a:gs pos="100000">
                <a:srgbClr val="4264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26430"/>
              </a:gs>
              <a:gs pos="50000">
                <a:srgbClr val="91d969"/>
              </a:gs>
              <a:gs pos="100000">
                <a:srgbClr val="4264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95480" y="2057400"/>
            <a:ext cx="3196800" cy="2841480"/>
            <a:chOff x="2895480" y="2057400"/>
            <a:chExt cx="3196800" cy="2841480"/>
          </a:xfrm>
        </p:grpSpPr>
        <p:sp>
          <p:nvSpPr>
            <p:cNvPr id="182" name=""/>
            <p:cNvSpPr/>
            <p:nvPr/>
          </p:nvSpPr>
          <p:spPr>
            <a:xfrm flipH="1" rot="16200000">
              <a:off x="2813760" y="31726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7dcf8"/>
                </a:gs>
                <a:gs pos="100000">
                  <a:srgbClr val="4baa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5400000">
              <a:off x="5682960" y="311832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7dcf8"/>
                </a:gs>
                <a:gs pos="100000">
                  <a:srgbClr val="4baaf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0800000">
              <a:off x="4249080" y="45720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7dcf8"/>
                </a:gs>
                <a:gs pos="100000">
                  <a:srgbClr val="4baa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2360" y="2057400"/>
              <a:ext cx="25653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68520" y="2201760"/>
              <a:ext cx="227124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2080" y="233676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5ae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2080" y="233676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4200" y="246852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475d89"/>
                </a:gs>
                <a:gs pos="50000">
                  <a:srgbClr val="85aeff"/>
                </a:gs>
                <a:gs pos="100000">
                  <a:srgbClr val="475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4200" y="246852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312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4e6f"/>
              </a:gs>
              <a:gs pos="50000">
                <a:srgbClr val="4baaf1"/>
              </a:gs>
              <a:gs pos="100000">
                <a:srgbClr val="224e6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61240" y="213372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21120" y="213372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43840" y="3108240"/>
            <a:ext cx="612720" cy="97488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36960" y="3098880"/>
            <a:ext cx="3827520" cy="6350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4640" y="407196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10120" y="503856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78000" y="504360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914400" y="601344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914400" y="503856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914400" y="407664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914400" y="311616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914400" y="213984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04840" y="213372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31449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4840" y="409104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4840" y="503856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08360" y="232236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27600" y="2760840"/>
            <a:ext cx="2948040" cy="3520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38760" y="3733920"/>
            <a:ext cx="3211200" cy="34596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59280" y="407196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470376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76560" y="567216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2280" y="25099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2280" y="34671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2280" y="446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2280" y="5403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523880"/>
            <a:ext cx="6019920" cy="4496040"/>
          </a:xfrm>
          <a:prstGeom prst="rightArrow">
            <a:avLst>
              <a:gd name="adj1" fmla="val 79306"/>
              <a:gd name="adj2" fmla="val 33163"/>
            </a:avLst>
          </a:prstGeom>
          <a:gradFill rotWithShape="0">
            <a:gsLst>
              <a:gs pos="0">
                <a:srgbClr val="b1e2fb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9b9ff"/>
              </a:gs>
              <a:gs pos="100000">
                <a:srgbClr val="5555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af1"/>
              </a:gs>
              <a:gs pos="100000">
                <a:srgbClr val="224e6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1d969"/>
              </a:gs>
              <a:gs pos="100000">
                <a:srgbClr val="42643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2:46:24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