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0E5-E0FF-481A-B0D0-0E7E3FE9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007-1D29-4569-A06D-D047B31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EB5-15F8-427B-9344-2344A36B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B7D-BF58-4C6C-9A79-53FC5003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955-4A2A-43BD-9DA6-1BF2FDC9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268-A9E4-4ED0-B31A-A3C3844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0E4-8CA3-4169-B9FE-890C1DD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E38-80AA-486E-AA31-18E4274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255-1BBA-4848-BBB6-5CCE431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462-190C-4386-B4B2-1E6194F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4A6-4EF8-4561-A2BA-B8CAB348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917-AF46-429D-B898-A2F2B053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9F62-D2E2-49AF-B231-682940A2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D131-4098-4B7E-87EA-C0B447C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D8B1-13B6-4C5A-ACB2-5433E704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18BF-E5B8-4C80-B3C2-96A6229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CB25-1969-480B-8EC2-1D7E4363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895C-B32B-4CAF-B566-E7AD366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D4FF-18E9-495B-BED9-DDC879A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1CD5-9AF7-4560-8E54-4F4BA7C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F9D5-5159-489B-AE4A-E3E8625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A65-A31E-46E7-87A5-5B1E01E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6D7-311E-49B4-9F6C-57DC342D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E545-380E-46BE-942C-F2819B70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C5F1-0BFA-4CF3-A5F2-D9C0285F3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12D3-1D66-4843-B917-8295FC4D34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  <a:ea typeface="宋体"/>
              </a:rPr>
              <a:t>EXCHANGE MAT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23720" y="45720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653-F21B-407A-9B77-2E61EA2CC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85800" y="320040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548640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素材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22093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exchange_pizzaz_qx"/>
          <p:cNvPicPr/>
          <p:nvPr/>
        </p:nvPicPr>
        <p:blipFill>
          <a:blip r:embed="rId1"/>
          <a:stretch/>
        </p:blipFill>
        <p:spPr>
          <a:xfrm>
            <a:off x="157788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xchange_pizzaz_prt"/>
          <p:cNvPicPr/>
          <p:nvPr/>
        </p:nvPicPr>
        <p:blipFill>
          <a:blip r:embed="rId2"/>
          <a:stretch/>
        </p:blipFill>
        <p:spPr>
          <a:xfrm>
            <a:off x="576900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xchange_pizzaz_sld"/>
          <p:cNvPicPr/>
          <p:nvPr/>
        </p:nvPicPr>
        <p:blipFill>
          <a:blip r:embed="rId3"/>
          <a:stretch/>
        </p:blipFill>
        <p:spPr>
          <a:xfrm>
            <a:off x="1576440" y="466236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exchange_pizzaz_trs"/>
          <p:cNvPicPr/>
          <p:nvPr/>
        </p:nvPicPr>
        <p:blipFill>
          <a:blip r:embed="rId4"/>
          <a:stretch/>
        </p:blipFill>
        <p:spPr>
          <a:xfrm>
            <a:off x="5767560" y="466236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28:58Z</dcterms:created>
  <dc:creator/>
  <dc:description/>
  <cp:keywords>幻灯片之家 http:/www.eeppt.com</cp:keywords>
  <dc:language>en-US</dc:language>
  <cp:lastModifiedBy/>
  <dcterms:modified xsi:type="dcterms:W3CDTF">2015-07-06T13:30:2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