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EC2-E321-4743-9ACD-F2F48430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115-DAD4-4899-B180-E4543EE3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8D6-5920-459F-9C55-EA8E1200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E10-81D4-4EE4-B18D-BB9D7E86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1F6-E926-4180-A261-55D8FE8E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D97-6F7A-4121-A8D1-D66C5DF2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BDE-CC3B-4D8C-9DB5-223E6B12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369-6171-42AA-A203-C22F1FE6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256-15AD-4643-974F-F2BDF1EB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179-A94B-44FE-A172-C957A2F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12C-F196-498E-BD5B-208CC449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3FC-D500-4BD4-AD27-A8F5642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3CF4-51CC-4C00-A83A-EAAE013E6494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79AB-F1D6-4F75-AB4E-AA34B1742B7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your-first-step-to-the-software-industry-1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65120" y="6416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42400" y="126036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国外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免费下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your-first-step-to-the-software-industry-10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your-first-step-to-the-software-industry-11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your-first-step-to-the-software-industry-12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your-first-step-to-the-software-industry-13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your-first-step-to-the-software-industry-14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your-first-step-to-the-software-industry-15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your-first-step-to-the-software-industry-16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your-first-step-to-the-software-industry-17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your-first-step-to-the-software-industry-18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your-first-step-to-the-software-industry-19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your-first-step-to-the-software-industry-2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your-first-step-to-the-software-industry-20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your-first-step-to-the-software-industry-21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your-first-step-to-the-software-industry-22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your-first-step-to-the-software-industry-23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your-first-step-to-the-software-industry-24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95480" y="51786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your-first-step-to-the-software-industry-25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000-8BC8-43CE-85D1-B08EC4CB23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your-first-step-to-the-software-industry-26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your-first-step-to-the-software-industry-27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your-first-step-to-the-software-industry-28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your-first-step-to-the-software-industry-3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your-first-step-to-the-software-industry-4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your-first-step-to-the-software-industry-5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your-first-step-to-the-software-industry-6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your-first-step-to-the-software-industry-7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your-first-step-to-the-software-industry-8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your-first-step-to-the-software-industry-9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9:11:00Z</dcterms:created>
  <dc:creator/>
  <dc:description/>
  <cp:keywords>幻灯片之家 http:/www.eeppt.com</cp:keywords>
  <dc:language>en-US</dc:language>
  <cp:lastModifiedBy/>
  <dcterms:modified xsi:type="dcterms:W3CDTF">2015-07-06T13:31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