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419CA-B617-4D0D-AD6A-4AA2EF291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98B59-CD01-4A7B-A8BB-98FCD398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7D39-5C37-4A69-8204-C9712E6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8076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3288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864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8076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3288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EB6F-F03F-49C6-BC03-1718155CD5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4F03D-3B85-493F-9E3C-3539B805D4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740C5-EB38-4481-99A1-A7D8BF5C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DBE8F-AF94-4DE5-A963-46C86A85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14DD2-B375-4AD1-9DAA-71EBFB65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622C3-1083-445D-B9CE-0681E5D0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6C4B3-72F6-44FA-94E9-54494B9E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6AD5B-8F4F-46AD-B846-EB602FEB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8D66-9541-4D8A-8D55-C433035D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EECF1-07D1-4F88-AF0F-2CF756D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D8ECE-E8F5-49D7-BFAC-4DE1616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15EB9-7BE0-40E0-BC23-0C7098E3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D4678-CD43-4A72-AE6B-322C6B27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8076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32880" y="426708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2864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518076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32880" y="4506120"/>
            <a:ext cx="166824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85703-C585-4BB1-A717-31E45D70D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23D6-1AE3-4962-B2A4-878E9A5F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C0DD6-6F85-4F49-88A0-2E1B42FB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C43D-7C6C-4CC7-978D-56C0F392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6483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A199-DAC0-4888-836D-EFD4A783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3EC7-5A23-4C37-AC64-35C534C9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83640" y="450612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AA2C7-FEDC-44D5-846C-0D71854C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8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83640" y="4267080"/>
            <a:ext cx="2528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8640" y="4506120"/>
            <a:ext cx="5181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8D742-1AC6-4E75-9E2F-875476C5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79000" y="6514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1498680" y="6514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BF7E-167B-4576-B316-A3D1501B8B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81800" y="632448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553080"/>
            <a:ext cx="57150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7200" y="647676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1828800" y="6476760"/>
            <a:ext cx="838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52C0-30BD-4164-89FB-F62A6B1469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6095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4600" y="6375240"/>
            <a:ext cx="52578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guowai/" TargetMode="External"/><Relationship Id="rId3" Type="http://schemas.openxmlformats.org/officeDocument/2006/relationships/hyperlink" Target="http://www.eeppt.com/moban/guowai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648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国外优秀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5638680"/>
            <a:ext cx="482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557f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10080" y="3505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20876400">
            <a:off x="3230640" y="49276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62240" y="3708360"/>
            <a:ext cx="1704960" cy="17067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82760" y="3718080"/>
            <a:ext cx="166536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00400" y="3733920"/>
            <a:ext cx="1584360" cy="15555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92560" y="37782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0200" y="43354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20826600">
            <a:off x="1447920" y="4343040"/>
            <a:ext cx="113328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371600" y="3352680"/>
            <a:ext cx="1371240" cy="1441080"/>
            <a:chOff x="1371600" y="3352680"/>
            <a:chExt cx="1371240" cy="1441080"/>
          </a:xfrm>
        </p:grpSpPr>
        <p:sp>
          <p:nvSpPr>
            <p:cNvPr id="259" name=""/>
            <p:cNvSpPr/>
            <p:nvPr/>
          </p:nvSpPr>
          <p:spPr>
            <a:xfrm>
              <a:off x="137160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89600" y="336096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2560" y="337428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74200" y="341100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5204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990720" y="2692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2060640"/>
            <a:ext cx="1024200" cy="102384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79640" y="20653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90440" y="207648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44440" y="2101680"/>
            <a:ext cx="847800" cy="757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263960" y="2435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9544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1784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2720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3368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7004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8804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7973000">
            <a:off x="4777560" y="24069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3465600">
            <a:off x="4777200" y="45712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4368800">
            <a:off x="3557880" y="24829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7534800">
            <a:off x="3520080" y="45378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56080" y="35352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0800000">
            <a:off x="2945880" y="35290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f3cc9d"/>
              </a:gs>
              <a:gs pos="100000">
                <a:srgbClr val="d7b48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692440" y="176688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429000" y="1825560"/>
            <a:ext cx="360360" cy="360360"/>
            <a:chOff x="3429000" y="1825560"/>
            <a:chExt cx="360360" cy="360360"/>
          </a:xfrm>
        </p:grpSpPr>
        <p:sp>
          <p:nvSpPr>
            <p:cNvPr id="285" name=""/>
            <p:cNvSpPr/>
            <p:nvPr/>
          </p:nvSpPr>
          <p:spPr>
            <a:xfrm>
              <a:off x="3429000" y="1825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4840" y="1855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484360" y="3481560"/>
            <a:ext cx="360360" cy="360360"/>
            <a:chOff x="2484360" y="3481560"/>
            <a:chExt cx="360360" cy="360360"/>
          </a:xfrm>
        </p:grpSpPr>
        <p:sp>
          <p:nvSpPr>
            <p:cNvPr id="288" name=""/>
            <p:cNvSpPr/>
            <p:nvPr/>
          </p:nvSpPr>
          <p:spPr>
            <a:xfrm>
              <a:off x="248436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020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348000" y="5024520"/>
            <a:ext cx="360360" cy="360360"/>
            <a:chOff x="3348000" y="5024520"/>
            <a:chExt cx="360360" cy="360360"/>
          </a:xfrm>
        </p:grpSpPr>
        <p:sp>
          <p:nvSpPr>
            <p:cNvPr id="291" name=""/>
            <p:cNvSpPr/>
            <p:nvPr/>
          </p:nvSpPr>
          <p:spPr>
            <a:xfrm>
              <a:off x="3348000" y="5024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63840" y="5054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278320" y="1805040"/>
            <a:ext cx="360360" cy="360360"/>
            <a:chOff x="5278320" y="1805040"/>
            <a:chExt cx="360360" cy="360360"/>
          </a:xfrm>
        </p:grpSpPr>
        <p:sp>
          <p:nvSpPr>
            <p:cNvPr id="294" name=""/>
            <p:cNvSpPr/>
            <p:nvPr/>
          </p:nvSpPr>
          <p:spPr>
            <a:xfrm>
              <a:off x="5278320" y="18050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94160" y="18352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27640" y="3481560"/>
            <a:ext cx="360360" cy="360360"/>
            <a:chOff x="6227640" y="3481560"/>
            <a:chExt cx="360360" cy="360360"/>
          </a:xfrm>
        </p:grpSpPr>
        <p:sp>
          <p:nvSpPr>
            <p:cNvPr id="297" name=""/>
            <p:cNvSpPr/>
            <p:nvPr/>
          </p:nvSpPr>
          <p:spPr>
            <a:xfrm>
              <a:off x="6227640" y="3481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3480" y="3511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334120" y="5081760"/>
            <a:ext cx="360360" cy="360360"/>
            <a:chOff x="5334120" y="5081760"/>
            <a:chExt cx="360360" cy="360360"/>
          </a:xfrm>
        </p:grpSpPr>
        <p:sp>
          <p:nvSpPr>
            <p:cNvPr id="300" name=""/>
            <p:cNvSpPr/>
            <p:nvPr/>
          </p:nvSpPr>
          <p:spPr>
            <a:xfrm>
              <a:off x="5334120" y="5081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49960" y="5112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4d3f5"/>
                </a:gs>
                <a:gs pos="100000">
                  <a:srgbClr val="557fe7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624120" y="27194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29160" y="27255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43255c"/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51200" y="28465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28195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835440" y="2930400"/>
            <a:ext cx="1522440" cy="1522440"/>
            <a:chOff x="3835440" y="2930400"/>
            <a:chExt cx="1522440" cy="1522440"/>
          </a:xfrm>
        </p:grpSpPr>
        <p:sp>
          <p:nvSpPr>
            <p:cNvPr id="307" name=""/>
            <p:cNvSpPr/>
            <p:nvPr/>
          </p:nvSpPr>
          <p:spPr>
            <a:xfrm>
              <a:off x="3835440" y="29304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57760" y="29494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75040" y="29588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90880" y="29732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71880" y="30096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64480" y="3419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71752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17000" y="17524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3192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17520" y="51055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02600" y="3505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40680" y="50436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acdf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ddef5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25" name="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2744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337" name="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51720" y="204840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1f0b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cff6d3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88936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94156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4906080" y="3214080"/>
            <a:ext cx="1703880" cy="2679120"/>
            <a:chOff x="4906080" y="3214080"/>
            <a:chExt cx="1703880" cy="2679120"/>
          </a:xfrm>
        </p:grpSpPr>
        <p:grpSp>
          <p:nvGrpSpPr>
            <p:cNvPr id="359" name=""/>
            <p:cNvGrpSpPr/>
            <p:nvPr/>
          </p:nvGrpSpPr>
          <p:grpSpPr>
            <a:xfrm>
              <a:off x="4906080" y="3392640"/>
              <a:ext cx="1577160" cy="2500560"/>
              <a:chOff x="4906080" y="3392640"/>
              <a:chExt cx="1577160" cy="2500560"/>
            </a:xfrm>
          </p:grpSpPr>
          <p:sp>
            <p:nvSpPr>
              <p:cNvPr id="360" name=""/>
              <p:cNvSpPr/>
              <p:nvPr/>
            </p:nvSpPr>
            <p:spPr>
              <a:xfrm rot="3876600">
                <a:off x="44427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3876600">
                <a:off x="594756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00000" y="3214080"/>
              <a:ext cx="1209960" cy="1918800"/>
              <a:chOff x="5400000" y="3214080"/>
              <a:chExt cx="1209960" cy="1918800"/>
            </a:xfrm>
          </p:grpSpPr>
          <p:sp>
            <p:nvSpPr>
              <p:cNvPr id="363" name=""/>
              <p:cNvSpPr/>
              <p:nvPr/>
            </p:nvSpPr>
            <p:spPr>
              <a:xfrm flipV="1" rot="3876600">
                <a:off x="5044320" y="395964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 rot="3876600">
                <a:off x="6181560" y="471060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"/>
          <p:cNvGrpSpPr/>
          <p:nvPr/>
        </p:nvGrpSpPr>
        <p:grpSpPr>
          <a:xfrm>
            <a:off x="4427640" y="2292480"/>
            <a:ext cx="1439640" cy="1439640"/>
            <a:chOff x="4427640" y="2292480"/>
            <a:chExt cx="1439640" cy="1439640"/>
          </a:xfrm>
        </p:grpSpPr>
        <p:sp>
          <p:nvSpPr>
            <p:cNvPr id="366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27640" y="229248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22680" y="238572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22680" y="2388960"/>
              <a:ext cx="124884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84600" y="2449440"/>
              <a:ext cx="112500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601880" y="2466720"/>
              <a:ext cx="1090440" cy="1091880"/>
              <a:chOff x="4601880" y="2466720"/>
              <a:chExt cx="1090440" cy="1091880"/>
            </a:xfrm>
          </p:grpSpPr>
          <p:sp>
            <p:nvSpPr>
              <p:cNvPr id="372" name=""/>
              <p:cNvSpPr/>
              <p:nvPr/>
            </p:nvSpPr>
            <p:spPr>
              <a:xfrm>
                <a:off x="4601880" y="2466720"/>
                <a:ext cx="109044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15560" y="2472840"/>
                <a:ext cx="106416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27080" y="2483280"/>
                <a:ext cx="101196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686120" y="2511000"/>
                <a:ext cx="89964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6" name=""/>
          <p:cNvGrpSpPr/>
          <p:nvPr/>
        </p:nvGrpSpPr>
        <p:grpSpPr>
          <a:xfrm>
            <a:off x="7138080" y="3287160"/>
            <a:ext cx="1703880" cy="2679120"/>
            <a:chOff x="7138080" y="3287160"/>
            <a:chExt cx="1703880" cy="2679120"/>
          </a:xfrm>
        </p:grpSpPr>
        <p:grpSp>
          <p:nvGrpSpPr>
            <p:cNvPr id="377" name=""/>
            <p:cNvGrpSpPr/>
            <p:nvPr/>
          </p:nvGrpSpPr>
          <p:grpSpPr>
            <a:xfrm>
              <a:off x="7138080" y="3465720"/>
              <a:ext cx="1577160" cy="2500560"/>
              <a:chOff x="7138080" y="3465720"/>
              <a:chExt cx="1577160" cy="2500560"/>
            </a:xfrm>
          </p:grpSpPr>
          <p:sp>
            <p:nvSpPr>
              <p:cNvPr id="378" name=""/>
              <p:cNvSpPr/>
              <p:nvPr/>
            </p:nvSpPr>
            <p:spPr>
              <a:xfrm rot="3876600">
                <a:off x="6674760" y="4437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3876600">
                <a:off x="8179560" y="5405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7632000" y="3287160"/>
              <a:ext cx="1209960" cy="1918800"/>
              <a:chOff x="7632000" y="3287160"/>
              <a:chExt cx="1209960" cy="1918800"/>
            </a:xfrm>
          </p:grpSpPr>
          <p:sp>
            <p:nvSpPr>
              <p:cNvPr id="381" name=""/>
              <p:cNvSpPr/>
              <p:nvPr/>
            </p:nvSpPr>
            <p:spPr>
              <a:xfrm flipV="1" rot="3876600">
                <a:off x="7276320" y="4032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 rot="3876600">
                <a:off x="8413560" y="4783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42200" y="2133720"/>
            <a:ext cx="1730160" cy="17269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558120" y="224640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559560" y="224964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632640" y="2322360"/>
            <a:ext cx="1352520" cy="1349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6653160" y="2343240"/>
            <a:ext cx="1311480" cy="1309680"/>
            <a:chOff x="6653160" y="2343240"/>
            <a:chExt cx="1311480" cy="1309680"/>
          </a:xfrm>
        </p:grpSpPr>
        <p:sp>
          <p:nvSpPr>
            <p:cNvPr id="389" name=""/>
            <p:cNvSpPr/>
            <p:nvPr/>
          </p:nvSpPr>
          <p:spPr>
            <a:xfrm>
              <a:off x="6653160" y="234324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69720" y="235044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83400" y="236304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754680" y="239652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858760" y="3213720"/>
            <a:ext cx="1703880" cy="2679480"/>
            <a:chOff x="2858760" y="3213720"/>
            <a:chExt cx="1703880" cy="2679480"/>
          </a:xfrm>
        </p:grpSpPr>
        <p:grpSp>
          <p:nvGrpSpPr>
            <p:cNvPr id="394" name=""/>
            <p:cNvGrpSpPr/>
            <p:nvPr/>
          </p:nvGrpSpPr>
          <p:grpSpPr>
            <a:xfrm>
              <a:off x="2858760" y="3392640"/>
              <a:ext cx="1577160" cy="2500560"/>
              <a:chOff x="2858760" y="3392640"/>
              <a:chExt cx="1577160" cy="2500560"/>
            </a:xfrm>
          </p:grpSpPr>
          <p:sp>
            <p:nvSpPr>
              <p:cNvPr id="395" name=""/>
              <p:cNvSpPr/>
              <p:nvPr/>
            </p:nvSpPr>
            <p:spPr>
              <a:xfrm rot="3876600">
                <a:off x="239544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3876600">
                <a:off x="390024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352680" y="3213720"/>
              <a:ext cx="1209960" cy="1918800"/>
              <a:chOff x="3352680" y="3213720"/>
              <a:chExt cx="1209960" cy="1918800"/>
            </a:xfrm>
          </p:grpSpPr>
          <p:sp>
            <p:nvSpPr>
              <p:cNvPr id="398" name=""/>
              <p:cNvSpPr/>
              <p:nvPr/>
            </p:nvSpPr>
            <p:spPr>
              <a:xfrm flipV="1" rot="3876600">
                <a:off x="2997000" y="395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3876600">
                <a:off x="4134240" y="471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2379600" y="2292480"/>
            <a:ext cx="1440000" cy="1439640"/>
            <a:chOff x="2379600" y="2292480"/>
            <a:chExt cx="1440000" cy="1439640"/>
          </a:xfrm>
        </p:grpSpPr>
        <p:sp>
          <p:nvSpPr>
            <p:cNvPr id="401" name=""/>
            <p:cNvSpPr/>
            <p:nvPr/>
          </p:nvSpPr>
          <p:spPr>
            <a:xfrm>
              <a:off x="237960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7960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75000" y="23857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475000" y="23889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36920" y="24494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554200" y="2466720"/>
              <a:ext cx="1090800" cy="1091880"/>
              <a:chOff x="2554200" y="2466720"/>
              <a:chExt cx="1090800" cy="1091880"/>
            </a:xfrm>
          </p:grpSpPr>
          <p:sp>
            <p:nvSpPr>
              <p:cNvPr id="407" name=""/>
              <p:cNvSpPr/>
              <p:nvPr/>
            </p:nvSpPr>
            <p:spPr>
              <a:xfrm>
                <a:off x="2554200" y="24667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567880" y="24728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579400" y="24832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38440" y="25110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875880" y="3213720"/>
            <a:ext cx="1703880" cy="2679480"/>
            <a:chOff x="875880" y="3213720"/>
            <a:chExt cx="1703880" cy="2679480"/>
          </a:xfrm>
        </p:grpSpPr>
        <p:grpSp>
          <p:nvGrpSpPr>
            <p:cNvPr id="412" name=""/>
            <p:cNvGrpSpPr/>
            <p:nvPr/>
          </p:nvGrpSpPr>
          <p:grpSpPr>
            <a:xfrm>
              <a:off x="875880" y="3392640"/>
              <a:ext cx="1577160" cy="2500560"/>
              <a:chOff x="875880" y="3392640"/>
              <a:chExt cx="1577160" cy="2500560"/>
            </a:xfrm>
          </p:grpSpPr>
          <p:sp>
            <p:nvSpPr>
              <p:cNvPr id="413" name=""/>
              <p:cNvSpPr/>
              <p:nvPr/>
            </p:nvSpPr>
            <p:spPr>
              <a:xfrm rot="3876600">
                <a:off x="412560" y="436392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3876600">
                <a:off x="1917360" y="533232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1369800" y="3213720"/>
              <a:ext cx="1209960" cy="1918800"/>
              <a:chOff x="1369800" y="3213720"/>
              <a:chExt cx="1209960" cy="1918800"/>
            </a:xfrm>
          </p:grpSpPr>
          <p:sp>
            <p:nvSpPr>
              <p:cNvPr id="416" name=""/>
              <p:cNvSpPr/>
              <p:nvPr/>
            </p:nvSpPr>
            <p:spPr>
              <a:xfrm flipV="1" rot="3876600">
                <a:off x="1014120" y="395928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 rot="3876600">
                <a:off x="2151360" y="471024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"/>
          <p:cNvGrpSpPr/>
          <p:nvPr/>
        </p:nvGrpSpPr>
        <p:grpSpPr>
          <a:xfrm>
            <a:off x="396720" y="2292480"/>
            <a:ext cx="1440000" cy="1439640"/>
            <a:chOff x="396720" y="2292480"/>
            <a:chExt cx="1440000" cy="1439640"/>
          </a:xfrm>
        </p:grpSpPr>
        <p:sp>
          <p:nvSpPr>
            <p:cNvPr id="419" name=""/>
            <p:cNvSpPr/>
            <p:nvPr/>
          </p:nvSpPr>
          <p:spPr>
            <a:xfrm>
              <a:off x="39672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6720" y="2292480"/>
              <a:ext cx="1440000" cy="1439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2120" y="238572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2120" y="2388960"/>
              <a:ext cx="1249200" cy="1250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4040" y="2449440"/>
              <a:ext cx="1125360" cy="1125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571320" y="2466720"/>
              <a:ext cx="1090800" cy="1091880"/>
              <a:chOff x="571320" y="2466720"/>
              <a:chExt cx="1090800" cy="1091880"/>
            </a:xfrm>
          </p:grpSpPr>
          <p:sp>
            <p:nvSpPr>
              <p:cNvPr id="425" name=""/>
              <p:cNvSpPr/>
              <p:nvPr/>
            </p:nvSpPr>
            <p:spPr>
              <a:xfrm>
                <a:off x="571320" y="2466720"/>
                <a:ext cx="1090800" cy="10918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5000" y="2472840"/>
                <a:ext cx="1064520" cy="1064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6520" y="2483280"/>
                <a:ext cx="1012320" cy="9950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5560" y="2511000"/>
                <a:ext cx="900000" cy="807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/>
          <p:nvPr/>
        </p:nvSpPr>
        <p:spPr>
          <a:xfrm rot="3925800">
            <a:off x="8964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3925800">
            <a:off x="14022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3925800">
            <a:off x="28728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3925800">
            <a:off x="33786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rot="3925800">
            <a:off x="4930200" y="42364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rot="3925800">
            <a:off x="5436000" y="39481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rot="3925800">
            <a:off x="7144920" y="43952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3925800">
            <a:off x="7650720" y="41068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7796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6840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749840" y="1643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95000" y="1600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41" name=""/>
          <p:cNvCxnSpPr>
            <a:stCxn id="437" idx="3"/>
            <a:endCxn id="438" idx="1"/>
          </p:cNvCxnSpPr>
          <p:nvPr/>
        </p:nvCxnSpPr>
        <p:spPr>
          <a:xfrm>
            <a:off x="1514160" y="182700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38" idx="3"/>
            <a:endCxn id="439" idx="1"/>
          </p:cNvCxnSpPr>
          <p:nvPr/>
        </p:nvCxnSpPr>
        <p:spPr>
          <a:xfrm>
            <a:off x="3504960" y="182700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43" name=""/>
          <p:cNvCxnSpPr>
            <a:stCxn id="439" idx="3"/>
            <a:endCxn id="440" idx="1"/>
          </p:cNvCxnSpPr>
          <p:nvPr/>
        </p:nvCxnSpPr>
        <p:spPr>
          <a:xfrm>
            <a:off x="5486040" y="182736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9351c9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84acc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57fe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557fe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84acc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351c9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5f5f5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ad9e2"/>
              </a:gs>
              <a:gs pos="100000">
                <a:srgbClr val="2969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181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rot="20601600">
            <a:off x="1303200" y="2023920"/>
            <a:ext cx="5701680" cy="2924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879" y="3632"/>
                </a:moveTo>
                <a:arcTo wR="10800" hR="10800" stAng="-2494866" swAng="3865063"/>
                <a:lnTo>
                  <a:pt x="10800" y="10800"/>
                </a:lnTo>
                <a:close/>
              </a:path>
              <a:path fill="none" w="21600" h="21600">
                <a:moveTo>
                  <a:pt x="18879" y="3632"/>
                </a:moveTo>
                <a:arcTo wR="10800" hR="10800" stAng="-2494866" swAng="3865063"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rot="20602200">
            <a:off x="1281600" y="2054880"/>
            <a:ext cx="5753520" cy="288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26" y="7327"/>
                </a:moveTo>
                <a:arcTo wR="10800" hR="10800" stAng="-1125656" swAng="4370252"/>
                <a:lnTo>
                  <a:pt x="10800" y="10800"/>
                </a:lnTo>
                <a:close/>
              </a:path>
              <a:path fill="none" w="21600" h="21600">
                <a:moveTo>
                  <a:pt x="21026" y="7327"/>
                </a:moveTo>
                <a:arcTo wR="10800" hR="10800" stAng="-1125656" swAng="4370252"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ad7f1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rot="20601600">
            <a:off x="1312920" y="2035080"/>
            <a:ext cx="5679000" cy="283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81" y="274"/>
                </a:moveTo>
                <a:arcTo wR="10800" hR="10800" stAng="-6176669" swAng="3779598"/>
                <a:lnTo>
                  <a:pt x="10800" y="10800"/>
                </a:lnTo>
                <a:close/>
              </a:path>
              <a:path fill="none" w="21600" h="21600">
                <a:moveTo>
                  <a:pt x="8381" y="274"/>
                </a:moveTo>
                <a:arcTo wR="10800" hR="10800" stAng="-6176669" swAng="3779598"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e4972"/>
              </a:gs>
            </a:gsLst>
            <a:lin ang="144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rot="20602200">
            <a:off x="1295280" y="2042640"/>
            <a:ext cx="5699880" cy="28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012" y="229"/>
                </a:moveTo>
                <a:arcTo wR="10800" hR="10800" stAng="-4690984" swAng="3835128"/>
                <a:lnTo>
                  <a:pt x="10800" y="10800"/>
                </a:lnTo>
                <a:close/>
              </a:path>
              <a:path fill="none" w="21600" h="21600">
                <a:moveTo>
                  <a:pt x="13012" y="229"/>
                </a:moveTo>
                <a:arcTo wR="10800" hR="10800" stAng="-4690984" swAng="3835128"/>
              </a:path>
            </a:pathLst>
          </a:custGeom>
          <a:gradFill rotWithShape="0">
            <a:gsLst>
              <a:gs pos="0">
                <a:srgbClr val="204e68"/>
              </a:gs>
              <a:gs pos="100000">
                <a:srgbClr val="47abe3"/>
              </a:gs>
            </a:gsLst>
            <a:lin ang="125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0c0c0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88a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20539200">
            <a:off x="1307520" y="2053080"/>
            <a:ext cx="6257520" cy="2978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01" y="14046"/>
                </a:moveTo>
                <a:arcTo wR="10800" hR="10800" stAng="1049521" swAng="2830486"/>
                <a:lnTo>
                  <a:pt x="10800" y="10800"/>
                </a:lnTo>
                <a:close/>
              </a:path>
              <a:path fill="none" w="21600" h="21600">
                <a:moveTo>
                  <a:pt x="21101" y="14046"/>
                </a:moveTo>
                <a:arcTo wR="10800" hR="10800" stAng="1049521" swAng="2830486"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e8dd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2514240" y="4191120"/>
            <a:ext cx="60786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Click to edit subtitle styl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657600" y="480060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f1f53"/>
                    </a:gs>
                    <a:gs pos="100000">
                      <a:srgbClr val="84acca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f1f53"/>
                  </a:gs>
                  <a:gs pos="100000">
                    <a:srgbClr val="84acca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88" name="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81080" y="19479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25360" y="19872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9351c9"/>
                </a:gs>
                <a:gs pos="100000">
                  <a:srgbClr val="43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981080" y="2862360"/>
            <a:ext cx="762120" cy="664920"/>
            <a:chOff x="1981080" y="2862360"/>
            <a:chExt cx="762120" cy="664920"/>
          </a:xfrm>
        </p:grpSpPr>
        <p:sp>
          <p:nvSpPr>
            <p:cNvPr id="92" name=""/>
            <p:cNvSpPr/>
            <p:nvPr/>
          </p:nvSpPr>
          <p:spPr>
            <a:xfrm>
              <a:off x="1987200" y="28735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2862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25360" y="29016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02" name="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81080" y="3754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25360" y="37936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9351c9"/>
                </a:gs>
                <a:gs pos="100000">
                  <a:srgbClr val="43255c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81080" y="4668840"/>
            <a:ext cx="762120" cy="665280"/>
            <a:chOff x="1981080" y="4668840"/>
            <a:chExt cx="762120" cy="665280"/>
          </a:xfrm>
        </p:grpSpPr>
        <p:sp>
          <p:nvSpPr>
            <p:cNvPr id="106" name=""/>
            <p:cNvSpPr/>
            <p:nvPr/>
          </p:nvSpPr>
          <p:spPr>
            <a:xfrm>
              <a:off x="1987200" y="46800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4668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25360" y="470808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557fe7"/>
                </a:gs>
                <a:gs pos="100000">
                  <a:srgbClr val="273a6a"/>
                </a:gs>
              </a:gsLst>
              <a:lin ang="135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20241600">
            <a:off x="123624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84acca"/>
              </a:gs>
              <a:gs pos="100000">
                <a:srgbClr val="f2f6f9"/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0056200">
            <a:off x="4571640" y="243792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0056200">
            <a:off x="7467120" y="2666520"/>
            <a:ext cx="106704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0056200">
            <a:off x="2971440" y="563832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056200">
            <a:off x="5714640" y="5028840"/>
            <a:ext cx="1066680" cy="30492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20056200">
            <a:off x="2057040" y="3962160"/>
            <a:ext cx="1066680" cy="304560"/>
          </a:xfrm>
          <a:prstGeom prst="ellipse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68640" y="160020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351c9"/>
              </a:gs>
              <a:gs pos="100000">
                <a:srgbClr val="321b4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54040" y="312408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557fe7"/>
              </a:gs>
              <a:gs pos="100000">
                <a:srgbClr val="1a2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36760" y="4821120"/>
            <a:ext cx="1282680" cy="127476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2e3d4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11640" y="419112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f3cc9d"/>
              </a:gs>
              <a:gs pos="100000">
                <a:srgbClr val="66564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94044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3eb2ac"/>
              </a:gs>
              <a:gs pos="100000">
                <a:srgbClr val="153d3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06760" y="36576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98400" y="2057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024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4032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19360" y="52722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776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3196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4" name=""/>
          <p:cNvCxnSpPr/>
          <p:nvPr/>
        </p:nvCxnSpPr>
        <p:spPr>
          <a:xfrm flipH="1">
            <a:off x="61560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9336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38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44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50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38080" y="1447920"/>
            <a:ext cx="7383960" cy="4420800"/>
            <a:chOff x="838080" y="1447920"/>
            <a:chExt cx="7383960" cy="4420800"/>
          </a:xfrm>
        </p:grpSpPr>
        <p:grpSp>
          <p:nvGrpSpPr>
            <p:cNvPr id="157" name=""/>
            <p:cNvGrpSpPr/>
            <p:nvPr/>
          </p:nvGrpSpPr>
          <p:grpSpPr>
            <a:xfrm>
              <a:off x="2361960" y="1447920"/>
              <a:ext cx="4419360" cy="4376160"/>
              <a:chOff x="2361960" y="1447920"/>
              <a:chExt cx="4419360" cy="4376160"/>
            </a:xfrm>
          </p:grpSpPr>
          <p:sp>
            <p:nvSpPr>
              <p:cNvPr id="158" name="Puzzle3"/>
              <p:cNvSpPr/>
              <p:nvPr/>
            </p:nvSpPr>
            <p:spPr>
              <a:xfrm>
                <a:off x="4513680" y="14479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355092"/>
                  </a:gs>
                  <a:gs pos="100000">
                    <a:srgbClr val="557fe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Puzzle2"/>
              <p:cNvSpPr/>
              <p:nvPr/>
            </p:nvSpPr>
            <p:spPr>
              <a:xfrm>
                <a:off x="4008960" y="31420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6d8e5"/>
                  </a:gs>
                  <a:gs pos="100000">
                    <a:srgbClr val="84acc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Puzzle4"/>
              <p:cNvSpPr/>
              <p:nvPr/>
            </p:nvSpPr>
            <p:spPr>
              <a:xfrm>
                <a:off x="2935800" y="31161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c6a4e2"/>
                  </a:gs>
                  <a:gs pos="100000">
                    <a:srgbClr val="9351c9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Puzzle1"/>
              <p:cNvSpPr/>
              <p:nvPr/>
            </p:nvSpPr>
            <p:spPr>
              <a:xfrm>
                <a:off x="2361960" y="21513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1c524f"/>
                  </a:gs>
                  <a:gs pos="100000">
                    <a:srgbClr val="3eb2ac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6477840" y="38239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8080" y="32144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90560" y="15238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7080" y="55004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17524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97b0ef">
                  <a:alpha val="12156"/>
                </a:srgbClr>
              </a:gs>
              <a:gs pos="50000">
                <a:srgbClr val="557fe7"/>
              </a:gs>
              <a:gs pos="100000">
                <a:srgbClr val="97b0ef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4acca"/>
              </a:gs>
              <a:gs pos="100000">
                <a:srgbClr val="b8cfe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20829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3200" y="27446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49600" y="34052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83200" y="40654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dfbf8"/>
              </a:gs>
              <a:gs pos="100000">
                <a:srgbClr val="f3cc9d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2720" y="47275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4f6fc"/>
              </a:gs>
              <a:gs pos="100000">
                <a:srgbClr val="557fe7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1f53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720" y="28195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71d"/>
              </a:gs>
              <a:gs pos="50000">
                <a:srgbClr val="00563f"/>
              </a:gs>
              <a:gs pos="100000">
                <a:srgbClr val="00271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20743"/>
              </a:gs>
              <a:gs pos="50000">
                <a:srgbClr val="4b1092"/>
              </a:gs>
              <a:gs pos="100000">
                <a:srgbClr val="2207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21704"/>
              </a:gs>
              <a:gs pos="50000">
                <a:srgbClr val="90330a"/>
              </a:gs>
              <a:gs pos="100000">
                <a:srgbClr val="42170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008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c"/>
              </a:gs>
              <a:gs pos="50000">
                <a:srgbClr val="00906a"/>
              </a:gs>
              <a:gs pos="100000">
                <a:srgbClr val="00684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c2eb8"/>
              </a:gs>
              <a:gs pos="50000">
                <a:srgbClr val="8041ff"/>
              </a:gs>
              <a:gs pos="100000">
                <a:srgbClr val="5c2eb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9e5139"/>
              </a:gs>
              <a:gs pos="50000">
                <a:srgbClr val="dc7150"/>
              </a:gs>
              <a:gs pos="100000">
                <a:srgbClr val="9e513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295280"/>
            <a:ext cx="6095880" cy="4496040"/>
          </a:xfrm>
          <a:prstGeom prst="rightArrow">
            <a:avLst>
              <a:gd name="adj1" fmla="val 79306"/>
              <a:gd name="adj2" fmla="val 33582"/>
            </a:avLst>
          </a:prstGeom>
          <a:gradFill rotWithShape="0">
            <a:gsLst>
              <a:gs pos="0">
                <a:srgbClr val="8a7797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905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57fe7"/>
              </a:gs>
              <a:gs pos="100000">
                <a:srgbClr val="273a6a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3048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51c9"/>
              </a:gs>
              <a:gs pos="100000">
                <a:srgbClr val="43255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1911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4acca"/>
              </a:gs>
              <a:gs pos="100000">
                <a:srgbClr val="3c4f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28954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351c9"/>
                </a:solidFill>
                <a:uFillTx/>
                <a:latin typeface="Arial"/>
                <a:hlinkClick r:id="rId2"/>
              </a:rPr>
              <a:t>国外ppt模板下载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351c9"/>
                </a:solidFill>
                <a:uFillTx/>
                <a:latin typeface="Arial"/>
                <a:hlinkClick r:id="rId3"/>
              </a:rPr>
              <a:t>http://www.eeppt.com/moban/guow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727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agram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57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351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351c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351c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f2b6c"/>
              </a:gs>
              <a:gs pos="50000">
                <a:srgbClr val="9351c9"/>
              </a:gs>
              <a:gs pos="100000">
                <a:srgbClr val="4f2b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9351c9">
                  <a:alpha val="0"/>
                </a:srgbClr>
              </a:gs>
              <a:gs pos="100000">
                <a:srgbClr val="5d33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eb2a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eb2a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15f5c"/>
              </a:gs>
              <a:gs pos="50000">
                <a:srgbClr val="3eb2ac"/>
              </a:gs>
              <a:gs pos="100000">
                <a:srgbClr val="215f5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eb2ac">
                  <a:alpha val="0"/>
                </a:srgbClr>
              </a:gs>
              <a:gs pos="100000">
                <a:srgbClr val="27706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223" name="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3860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57f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273a6a"/>
              </a:gs>
              <a:gs pos="100000">
                <a:srgbClr val="557f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2d447c"/>
              </a:gs>
              <a:gs pos="50000">
                <a:srgbClr val="557fe7"/>
              </a:gs>
              <a:gs pos="100000">
                <a:srgbClr val="2d44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57fe7">
                  <a:alpha val="0"/>
                </a:srgbClr>
              </a:gs>
              <a:gs pos="100000">
                <a:srgbClr val="3550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233" name="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7532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238" name="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1760" y="2396520"/>
              <a:ext cx="159696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/>
  <dc:description/>
  <cp:keywords>幻灯片之家 http:/www.eeppt.com</cp:keywords>
  <dc:language>en-US</dc:language>
  <cp:lastModifiedBy/>
  <dcterms:modified xsi:type="dcterms:W3CDTF">2015-07-05T03:31:23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