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5D80-FD8A-4039-AD4B-69F649FB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F312-4349-4F89-A3FB-20F70298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0A27-0EB2-4A2E-B6D1-3D2E260A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65FE-7DAE-4DC6-A18A-6FEC3BC3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5849-5415-4E58-9506-BC76C78B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2912-67A9-4228-95D1-E59984A6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5A9D-3B2F-45AB-8075-C3B6735C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DAB0-1446-4C31-8075-25F10841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FEF0-CCB9-4580-B69B-102FD7F7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8212-9A4F-49B6-9470-D5CDB5A3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B0A1-43CE-440D-8998-DF06C301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305D-4733-433D-9159-187532CB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822F-1551-4E2B-9D8C-F0CD8B71757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962B-4586-4812-BA99-02070DC899C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eeppt.com/tubiao/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5900760" y="1811160"/>
            <a:ext cx="2992320" cy="3600720"/>
            <a:chOff x="5900760" y="1811160"/>
            <a:chExt cx="2992320" cy="3600720"/>
          </a:xfrm>
        </p:grpSpPr>
        <p:sp>
          <p:nvSpPr>
            <p:cNvPr id="43" name=""/>
            <p:cNvSpPr/>
            <p:nvPr/>
          </p:nvSpPr>
          <p:spPr>
            <a:xfrm rot="4658400">
              <a:off x="6206040" y="4178880"/>
              <a:ext cx="655200" cy="45000"/>
            </a:xfrm>
            <a:custGeom>
              <a:avLst/>
              <a:gdLst>
                <a:gd name="textAreaLeft" fmla="*/ 0 w 655200"/>
                <a:gd name="textAreaRight" fmla="*/ 655560 w 6552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655115" h="46406">
                  <a:moveTo>
                    <a:pt x="0" y="23203"/>
                  </a:moveTo>
                  <a:lnTo>
                    <a:pt x="655115" y="23203"/>
                  </a:lnTo>
                </a:path>
              </a:pathLst>
            </a:custGeom>
            <a:noFill/>
            <a:ln w="9360">
              <a:solidFill>
                <a:srgbClr val="ff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559000">
              <a:off x="6549120" y="4157640"/>
              <a:ext cx="919800" cy="46080"/>
            </a:xfrm>
            <a:custGeom>
              <a:avLst/>
              <a:gdLst>
                <a:gd name="textAreaLeft" fmla="*/ 0 w 919800"/>
                <a:gd name="textAreaRight" fmla="*/ 920160 w 91980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945700" h="46406">
                  <a:moveTo>
                    <a:pt x="0" y="23203"/>
                  </a:moveTo>
                  <a:lnTo>
                    <a:pt x="945700" y="23203"/>
                  </a:lnTo>
                </a:path>
              </a:pathLst>
            </a:custGeom>
            <a:noFill/>
            <a:ln w="9360">
              <a:solidFill>
                <a:srgbClr val="ff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rot="860400">
              <a:off x="6650280" y="3827880"/>
              <a:ext cx="1337760" cy="46080"/>
            </a:xfrm>
            <a:custGeom>
              <a:avLst/>
              <a:gdLst>
                <a:gd name="textAreaLeft" fmla="*/ 0 w 1337760"/>
                <a:gd name="textAreaRight" fmla="*/ 1338120 w 1337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375293" h="46406">
                  <a:moveTo>
                    <a:pt x="0" y="23203"/>
                  </a:moveTo>
                  <a:lnTo>
                    <a:pt x="1375293" y="23203"/>
                  </a:lnTo>
                </a:path>
              </a:pathLst>
            </a:custGeom>
            <a:noFill/>
            <a:ln w="9360">
              <a:solidFill>
                <a:srgbClr val="ff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20748000">
              <a:off x="6650280" y="3351240"/>
              <a:ext cx="1336320" cy="46080"/>
            </a:xfrm>
            <a:custGeom>
              <a:avLst/>
              <a:gdLst>
                <a:gd name="textAreaLeft" fmla="*/ 0 w 1336320"/>
                <a:gd name="textAreaRight" fmla="*/ 1336680 w 13363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373935" h="46406">
                  <a:moveTo>
                    <a:pt x="0" y="23203"/>
                  </a:moveTo>
                  <a:lnTo>
                    <a:pt x="1373935" y="23203"/>
                  </a:lnTo>
                </a:path>
              </a:pathLst>
            </a:custGeom>
            <a:noFill/>
            <a:ln w="9360">
              <a:solidFill>
                <a:srgbClr val="ff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9060800">
              <a:off x="6552000" y="3026880"/>
              <a:ext cx="912240" cy="46080"/>
            </a:xfrm>
            <a:custGeom>
              <a:avLst/>
              <a:gdLst>
                <a:gd name="textAreaLeft" fmla="*/ 0 w 912240"/>
                <a:gd name="textAreaRight" fmla="*/ 912600 w 9122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937838" h="46406">
                  <a:moveTo>
                    <a:pt x="0" y="23203"/>
                  </a:moveTo>
                  <a:lnTo>
                    <a:pt x="937838" y="23203"/>
                  </a:lnTo>
                </a:path>
              </a:pathLst>
            </a:custGeom>
            <a:noFill/>
            <a:ln w="9360">
              <a:solidFill>
                <a:srgbClr val="ff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6941000">
              <a:off x="6206400" y="2998800"/>
              <a:ext cx="655200" cy="45000"/>
            </a:xfrm>
            <a:custGeom>
              <a:avLst/>
              <a:gdLst>
                <a:gd name="textAreaLeft" fmla="*/ 0 w 655200"/>
                <a:gd name="textAreaRight" fmla="*/ 655560 w 6552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655110" h="46406">
                  <a:moveTo>
                    <a:pt x="0" y="23203"/>
                  </a:moveTo>
                  <a:lnTo>
                    <a:pt x="655110" y="23203"/>
                  </a:lnTo>
                </a:path>
              </a:pathLst>
            </a:custGeom>
            <a:noFill/>
            <a:ln w="9360">
              <a:solidFill>
                <a:srgbClr val="ff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900760" y="3089520"/>
              <a:ext cx="1015560" cy="10436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224760" y="1811160"/>
              <a:ext cx="942840" cy="899280"/>
            </a:xfrm>
            <a:prstGeom prst="ellipse">
              <a:avLst/>
            </a:prstGeom>
            <a:solidFill>
              <a:srgbClr val="ff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62640" y="1942560"/>
              <a:ext cx="666720" cy="63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专业知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210800" y="1969560"/>
              <a:ext cx="942840" cy="899280"/>
            </a:xfrm>
            <a:prstGeom prst="ellipse">
              <a:avLst/>
            </a:prstGeom>
            <a:solidFill>
              <a:srgbClr val="ff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349040" y="2101320"/>
              <a:ext cx="666720" cy="63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专业技能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950240" y="2638440"/>
              <a:ext cx="942840" cy="899280"/>
            </a:xfrm>
            <a:prstGeom prst="ellipse">
              <a:avLst/>
            </a:prstGeom>
            <a:solidFill>
              <a:srgbClr val="ff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88480" y="2770200"/>
              <a:ext cx="666720" cy="63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499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90000"/>
                </a:lnSpc>
                <a:spcAft>
                  <a:spcPts val="499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综合能力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通用能力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950240" y="3691440"/>
              <a:ext cx="942840" cy="899280"/>
            </a:xfrm>
            <a:prstGeom prst="ellipse">
              <a:avLst/>
            </a:prstGeom>
            <a:solidFill>
              <a:srgbClr val="ff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88480" y="3823200"/>
              <a:ext cx="666720" cy="63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性特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210800" y="4368240"/>
              <a:ext cx="942840" cy="899280"/>
            </a:xfrm>
            <a:prstGeom prst="ellipse">
              <a:avLst/>
            </a:prstGeom>
            <a:solidFill>
              <a:srgbClr val="ff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49040" y="4500000"/>
              <a:ext cx="666720" cy="63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求职动机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760" y="4512600"/>
              <a:ext cx="942840" cy="899280"/>
            </a:xfrm>
            <a:prstGeom prst="ellipse">
              <a:avLst/>
            </a:prstGeom>
            <a:solidFill>
              <a:srgbClr val="ff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62640" y="4644360"/>
              <a:ext cx="666720" cy="63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价值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30"/>
          <p:cNvGrpSpPr/>
          <p:nvPr/>
        </p:nvGrpSpPr>
        <p:grpSpPr>
          <a:xfrm>
            <a:off x="53280" y="1700280"/>
            <a:ext cx="4390920" cy="4141080"/>
            <a:chOff x="53280" y="1700280"/>
            <a:chExt cx="4390920" cy="4141080"/>
          </a:xfrm>
        </p:grpSpPr>
        <p:grpSp>
          <p:nvGrpSpPr>
            <p:cNvPr id="63" name="组合 31"/>
            <p:cNvGrpSpPr/>
            <p:nvPr/>
          </p:nvGrpSpPr>
          <p:grpSpPr>
            <a:xfrm>
              <a:off x="53280" y="1700280"/>
              <a:ext cx="4390920" cy="4141080"/>
              <a:chOff x="53280" y="1700280"/>
              <a:chExt cx="4390920" cy="4141080"/>
            </a:xfrm>
          </p:grpSpPr>
          <p:sp>
            <p:nvSpPr>
              <p:cNvPr id="64" name="Ellipse 11"/>
              <p:cNvSpPr/>
              <p:nvPr/>
            </p:nvSpPr>
            <p:spPr>
              <a:xfrm>
                <a:off x="1367280" y="2874240"/>
                <a:ext cx="1675800" cy="167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36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决定组织结构的因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" name="Groupe 6"/>
              <p:cNvGrpSpPr/>
              <p:nvPr/>
            </p:nvGrpSpPr>
            <p:grpSpPr>
              <a:xfrm>
                <a:off x="53280" y="1700280"/>
                <a:ext cx="4390920" cy="4141080"/>
                <a:chOff x="53280" y="1700280"/>
                <a:chExt cx="4390920" cy="4141080"/>
              </a:xfrm>
            </p:grpSpPr>
            <p:sp>
              <p:nvSpPr>
                <p:cNvPr id="66" name="Ellipse 1"/>
                <p:cNvSpPr/>
                <p:nvPr/>
              </p:nvSpPr>
              <p:spPr>
                <a:xfrm>
                  <a:off x="1406880" y="1700280"/>
                  <a:ext cx="1602720" cy="13161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Ellipse 2"/>
                <p:cNvSpPr/>
                <p:nvPr/>
              </p:nvSpPr>
              <p:spPr>
                <a:xfrm rot="1602600">
                  <a:off x="2712960" y="2558880"/>
                  <a:ext cx="1449360" cy="1598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1898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Ellipse 4"/>
                <p:cNvSpPr/>
                <p:nvPr/>
              </p:nvSpPr>
              <p:spPr>
                <a:xfrm rot="558000">
                  <a:off x="2147760" y="4040280"/>
                  <a:ext cx="1600200" cy="14810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2942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Ellipse 3"/>
                <p:cNvSpPr/>
                <p:nvPr/>
              </p:nvSpPr>
              <p:spPr>
                <a:xfrm rot="2184000">
                  <a:off x="606600" y="4164480"/>
                  <a:ext cx="1602720" cy="13312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616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Ellipse 5"/>
                <p:cNvSpPr/>
                <p:nvPr/>
              </p:nvSpPr>
              <p:spPr>
                <a:xfrm rot="1111800">
                  <a:off x="273960" y="2493720"/>
                  <a:ext cx="1313640" cy="16023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969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" name="Rectangle 8"/>
            <p:cNvSpPr/>
            <p:nvPr/>
          </p:nvSpPr>
          <p:spPr>
            <a:xfrm>
              <a:off x="1669680" y="2118240"/>
              <a:ext cx="102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战略因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9"/>
            <p:cNvSpPr/>
            <p:nvPr/>
          </p:nvSpPr>
          <p:spPr>
            <a:xfrm>
              <a:off x="3073680" y="3075120"/>
              <a:ext cx="102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环境因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3"/>
            <p:cNvSpPr/>
            <p:nvPr/>
          </p:nvSpPr>
          <p:spPr>
            <a:xfrm>
              <a:off x="237960" y="3075120"/>
              <a:ext cx="124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权利因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4"/>
            <p:cNvSpPr/>
            <p:nvPr/>
          </p:nvSpPr>
          <p:spPr>
            <a:xfrm>
              <a:off x="895680" y="4670280"/>
              <a:ext cx="102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规模因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2568600" y="4608720"/>
              <a:ext cx="102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技术因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直接连接符 44"/>
          <p:cNvSpPr/>
          <p:nvPr/>
        </p:nvSpPr>
        <p:spPr>
          <a:xfrm>
            <a:off x="4848120" y="1760400"/>
            <a:ext cx="0" cy="401004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2720" y="5950080"/>
            <a:ext cx="761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44720" y="1341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0240" y="549360"/>
            <a:ext cx="47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关系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图表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D6A7-0658-44E5-B299-8D5BA36DAE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/>
  <dc:description/>
  <cp:keywords>幻灯片之家 http:/www.eeppt.com</cp:keywords>
  <dc:language>en-US</dc:language>
  <cp:lastModifiedBy/>
  <dcterms:modified xsi:type="dcterms:W3CDTF">2015-07-07T02:59:08Z</dcterms:modified>
  <cp:revision>114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Presentation">
    <vt:lpwstr>锐普图表</vt:lpwstr>
  </property>
</Properties>
</file>