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611-4EE6-4E6C-AF55-B91B4808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4FFE-0E25-4FA4-9916-DD9F67F8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97FF-5EF2-4B64-AEDE-9842CF03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10A-F57A-4389-8E44-D5BD5842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A92-2F4F-477E-91E5-ADC434C2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8CCC-2FD9-4432-B322-AA00CBEA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1B24-4F4B-486F-89E5-21FBAA46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0CE6-AAD1-4613-B16B-CF32367F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25FD-A3F7-4364-82FA-09556F48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9334-440E-41E6-9FED-D2AD78D8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1F38-22CC-4EC8-8909-9EBD712B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E5F-C790-4AE6-8FDA-2749E203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9964-E263-4E61-9D82-C1EF5C0B4A6B}" type="slidenum">
              <a: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638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6E1-DCC8-4C68-B321-A5A4687F06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676520" y="1538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正确、流利朗读课文，想一想： 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990720" y="2130480"/>
            <a:ext cx="7086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☆果园机器人是什么样子的？有什么特点？你认为哪些特点最有趣？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3" name="Picture 8" descr="小学语文(记叙文）03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990720" y="3622680"/>
            <a:ext cx="71625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☆ 如果让你来设计果园机器人，你准备设计成什么样子？向大家介绍一下，或者画下来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6381720"/>
            <a:ext cx="7920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1" lang="en-US" sz="1600" spc="-1" strike="noStrike">
                <a:solidFill>
                  <a:srgbClr val="800080"/>
                </a:solidFill>
                <a:latin typeface="Times New Roman"/>
              </a:rPr>
              <a:t>http://www.eeppt.com/moban/kejian/</a:t>
            </a:r>
            <a:endParaRPr b="1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1143000" y="167328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聪明能干的机器人越来越受到大家的欢迎了，潜入深海寻找宝藏，进入身体查病治病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展开想像，说一说自己想发明什么样的机器人，会有哪些本领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>
            <a:off x="3986280" y="285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3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1676520" y="11872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你认识机器人吗？ 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5" name="Picture 9" descr="机器人1"/>
          <p:cNvPicPr/>
          <p:nvPr/>
        </p:nvPicPr>
        <p:blipFill>
          <a:blip r:embed="rId3"/>
          <a:srcRect l="0" t="0" r="-51" b="-73"/>
          <a:stretch/>
        </p:blipFill>
        <p:spPr>
          <a:xfrm>
            <a:off x="1905120" y="2135160"/>
            <a:ext cx="5486400" cy="38084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"/>
          <p:cNvSpPr/>
          <p:nvPr/>
        </p:nvSpPr>
        <p:spPr>
          <a:xfrm>
            <a:off x="3809880" y="5943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机 器 人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机器人2"/>
          <p:cNvPicPr/>
          <p:nvPr/>
        </p:nvPicPr>
        <p:blipFill>
          <a:blip r:embed="rId3"/>
          <a:stretch/>
        </p:blipFill>
        <p:spPr>
          <a:xfrm>
            <a:off x="1676520" y="1600200"/>
            <a:ext cx="5790960" cy="41911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3809880" y="5943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机 器 人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机器人3"/>
          <p:cNvPicPr/>
          <p:nvPr/>
        </p:nvPicPr>
        <p:blipFill>
          <a:blip r:embed="rId3"/>
          <a:stretch/>
        </p:blipFill>
        <p:spPr>
          <a:xfrm>
            <a:off x="2362320" y="190512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3809880" y="57913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机 器 人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6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9" descr="机器人4"/>
          <p:cNvPicPr/>
          <p:nvPr/>
        </p:nvPicPr>
        <p:blipFill>
          <a:blip r:embed="rId3"/>
          <a:stretch/>
        </p:blipFill>
        <p:spPr>
          <a:xfrm>
            <a:off x="2362320" y="1600200"/>
            <a:ext cx="4497120" cy="4262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30"/>
          <p:cNvSpPr/>
          <p:nvPr/>
        </p:nvSpPr>
        <p:spPr>
          <a:xfrm>
            <a:off x="3809880" y="5943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机 器 人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机器人5"/>
          <p:cNvPicPr/>
          <p:nvPr/>
        </p:nvPicPr>
        <p:blipFill>
          <a:blip r:embed="rId3"/>
          <a:stretch/>
        </p:blipFill>
        <p:spPr>
          <a:xfrm>
            <a:off x="2057400" y="1523880"/>
            <a:ext cx="5181480" cy="4300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3809880" y="5943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机 器 人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1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3809880" y="5943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机 器 人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3" name="Picture 4" descr="机器人6"/>
          <p:cNvPicPr/>
          <p:nvPr/>
        </p:nvPicPr>
        <p:blipFill>
          <a:blip r:embed="rId3"/>
          <a:stretch/>
        </p:blipFill>
        <p:spPr>
          <a:xfrm>
            <a:off x="2286000" y="1604880"/>
            <a:ext cx="44816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1066680" y="16146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机器人技术作为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世纪人类最伟大的发明之一，自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年代初问世以来，经历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余年的发展已取得长足的进步。走向成熟的工业机器人，各种用途的特种机器人的实用化，昭示着机器人技术灿烂的明天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1523880" y="2352600"/>
            <a:ext cx="60962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借助拼音自读课文，我们来看一看果园机器人是什么样的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2:55:00Z</dcterms:created>
  <dc:creator/>
  <dc:description/>
  <cp:keywords>幻灯片之家 http:/www.eeppt.com</cp:keywords>
  <dc:language>en-US</dc:language>
  <cp:lastModifiedBy/>
  <dcterms:modified xsi:type="dcterms:W3CDTF">2015-07-13T08:28:10Z</dcterms:modified>
  <cp:revision>1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