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0.gif" ContentType="image/gif"/>
  <Override PartName="/ppt/media/image13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jpeg" ContentType="image/jpeg"/>
  <Override PartName="/ppt/media/image11.jpeg" ContentType="image/jpeg"/>
  <Override PartName="/ppt/media/image33.gif" ContentType="image/gif"/>
  <Override PartName="/ppt/media/image18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1E1-D8B2-4E93-9A10-43F4ED40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04A-85AE-404D-B171-3CA3AC9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33E-6B5D-4DF7-815C-0413ED3F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115-BC98-4A8B-9AB5-378F53CD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C33-22C8-41AD-864A-9E39CEE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CC1-F91D-4982-B718-E3DB8115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CE8-1632-41B3-8155-0EDAE738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680-E297-49F9-8617-BB2B7E0E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8C1-9A03-4245-8994-4EF159C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133-01BF-4AAB-9ABE-A2F071D9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8AF-0D69-43EC-8D16-2FEA3EC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6EC-FC38-4D75-96F1-0304F50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C88-7745-41DE-A8ED-5DD6D1C9C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219320"/>
            <a:ext cx="921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The  sixth lesson: Determiner</a:t>
            </a:r>
            <a:r>
              <a:rPr b="1" lang="zh-CN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）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33720" y="2590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362320" y="380988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内容：限定词的搭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对象：高中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  作  者： 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/0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47520" y="2286000"/>
            <a:ext cx="42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中英语课件之限定词的搭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６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能与单数名词和不可数名词搭配的限定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内容占位符 12" descr="复件 20070617144656829.gif"/>
          <p:cNvPicPr/>
          <p:nvPr/>
        </p:nvPicPr>
        <p:blipFill>
          <a:blip r:embed="rId2"/>
          <a:stretch/>
        </p:blipFill>
        <p:spPr>
          <a:xfrm rot="19380000">
            <a:off x="-111240" y="188640"/>
            <a:ext cx="1703520" cy="95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143000" y="1143000"/>
            <a:ext cx="6705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, tha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能与单数名词和不可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/that  job                 this/th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ever  had  come up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d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ved a me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 family have liv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t vill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gen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hope to enjo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t fee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微软雅黑"/>
                <a:ea typeface="微软雅黑"/>
              </a:rPr>
              <a:t>７．能与复数名词和不可数名词搭配的限定词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还有些限定词如：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lot of , lots of , plenty of,  enough, more,  most ,  such , other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等可与复数名词和不可数名词搭配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lot of books       a lot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ts of chickens    lot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lenty of chairs    plenty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nough copies     enough 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e  th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ough cak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r everyo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ke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 such stori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that is largely a my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3" descr="20070908212325514.jpg"/>
          <p:cNvPicPr/>
          <p:nvPr/>
        </p:nvPicPr>
        <p:blipFill>
          <a:blip r:embed="rId2"/>
          <a:stretch/>
        </p:blipFill>
        <p:spPr>
          <a:xfrm rot="21206400">
            <a:off x="122400" y="4641840"/>
            <a:ext cx="1191960" cy="19368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Adobe Gothic Std B"/>
              </a:rPr>
              <a:t>Ｅｘｅｒｃｉｓｅ</a:t>
            </a:r>
            <a:r>
              <a:rPr b="0" lang="zh-CN" sz="5400" spc="-1" strike="noStrike">
                <a:solidFill>
                  <a:srgbClr val="6600ff"/>
                </a:solidFill>
                <a:latin typeface="Arial"/>
                <a:ea typeface="Adobe Gothic Std B"/>
              </a:rPr>
              <a:t>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ppropriate determiner to fill in each of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Why  is there __ traffic on the streets in February than in M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less  B. fewer  C. few  D.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On account of the typhoo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 arrive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neither   B. all   C. both   D. th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They paid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_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money 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chine than I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. little                 B. 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much               D. few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" descr="20070908221857174.jpg"/>
          <p:cNvPicPr/>
          <p:nvPr/>
        </p:nvPicPr>
        <p:blipFill>
          <a:blip r:embed="rId2"/>
          <a:stretch/>
        </p:blipFill>
        <p:spPr>
          <a:xfrm>
            <a:off x="228600" y="304920"/>
            <a:ext cx="1650960" cy="990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 rot="930000">
            <a:off x="5057640" y="5572080"/>
            <a:ext cx="18446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还有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20070816235116374.jpg"/>
          <p:cNvPicPr/>
          <p:nvPr/>
        </p:nvPicPr>
        <p:blipFill>
          <a:blip r:embed="rId2"/>
          <a:stretch/>
        </p:blipFill>
        <p:spPr>
          <a:xfrm rot="708600">
            <a:off x="382680" y="115920"/>
            <a:ext cx="1217520" cy="879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05740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Adobe Gothic Std B"/>
              </a:rPr>
              <a:t>Ｅｘｅｒｃｉｓｅ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36520" y="1981080"/>
            <a:ext cx="143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257480" indent="-343080"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0" y="11430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Th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 in the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few   B. a number of   C. plenty of    D.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There i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ron in this mine than in tha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much   B. a great deal of  C. less  D. a lo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 He wrote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ssays on Victorian no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n 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the next B.the most  C.the other  D.the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 He has publishe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＿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ort st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a great amount of B. a number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 another          D. man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BE2-211C-4FE6-BF72-00488BF70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GGGJ.jpg"/>
          <p:cNvPicPr/>
          <p:nvPr/>
        </p:nvPicPr>
        <p:blipFill>
          <a:blip r:embed="rId2"/>
          <a:stretch/>
        </p:blipFill>
        <p:spPr>
          <a:xfrm rot="20258400">
            <a:off x="-140760" y="517320"/>
            <a:ext cx="300024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7" descr=""/>
          <p:cNvPicPr/>
          <p:nvPr/>
        </p:nvPicPr>
        <p:blipFill>
          <a:blip r:embed="rId3"/>
          <a:stretch/>
        </p:blipFill>
        <p:spPr>
          <a:xfrm>
            <a:off x="-130320" y="360360"/>
            <a:ext cx="2946600" cy="18464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44247.jpg"/>
          <p:cNvPicPr/>
          <p:nvPr/>
        </p:nvPicPr>
        <p:blipFill>
          <a:blip r:embed="rId4"/>
          <a:stretch/>
        </p:blipFill>
        <p:spPr>
          <a:xfrm>
            <a:off x="6477120" y="3124080"/>
            <a:ext cx="213336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2819520" y="685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following into English, using appropriate determi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447920" y="16765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凿隧道需要大量劳动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说空话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ty tal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干实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wor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参观展览会的人数比昨天少。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娜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因为没有足够的钱财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烦恼丛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6324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图片 4" descr="20080101002819649.jpg"/>
          <p:cNvPicPr/>
          <p:nvPr/>
        </p:nvPicPr>
        <p:blipFill>
          <a:blip r:embed="rId2"/>
          <a:stretch/>
        </p:blipFill>
        <p:spPr>
          <a:xfrm rot="1235400">
            <a:off x="6857640" y="2282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57200" y="380880"/>
            <a:ext cx="8381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Ｔｈａｔ‘ｓ　ａｌｌ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   ｆｏｒ　ｔｏｄａｙ</a:t>
            </a: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．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Ｈａｖｅ　ａ　ｇｏｏｄ　　ｄａｙ</a:t>
            </a: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云形 6"/>
          <p:cNvSpPr/>
          <p:nvPr/>
        </p:nvSpPr>
        <p:spPr>
          <a:xfrm rot="20482800">
            <a:off x="49320" y="2450880"/>
            <a:ext cx="3809880" cy="236196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dobe Gothic Std B"/>
              </a:rPr>
              <a:t>Ｔｈａｎｋ　ｙｏｕ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示 2" descr=""/>
          <p:cNvPicPr/>
          <p:nvPr/>
        </p:nvPicPr>
        <p:blipFill>
          <a:blip r:embed="rId2"/>
          <a:stretch/>
        </p:blipFill>
        <p:spPr>
          <a:xfrm>
            <a:off x="1504800" y="1390680"/>
            <a:ext cx="6591600" cy="4076640"/>
          </a:xfrm>
          <a:prstGeom prst="rect">
            <a:avLst/>
          </a:prstGeom>
          <a:ln w="0">
            <a:noFill/>
          </a:ln>
        </p:spPr>
      </p:pic>
      <p:sp>
        <p:nvSpPr>
          <p:cNvPr id="47" name="虚尾箭头 4"/>
          <p:cNvSpPr/>
          <p:nvPr/>
        </p:nvSpPr>
        <p:spPr>
          <a:xfrm>
            <a:off x="685800" y="228600"/>
            <a:ext cx="4114800" cy="144792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Teaching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5"/>
          <p:cNvSpPr/>
          <p:nvPr/>
        </p:nvSpPr>
        <p:spPr>
          <a:xfrm rot="972000">
            <a:off x="431280" y="4222800"/>
            <a:ext cx="1371600" cy="13842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2008020117494373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20070908212319203.jpg"/>
          <p:cNvPicPr/>
          <p:nvPr/>
        </p:nvPicPr>
        <p:blipFill>
          <a:blip r:embed="rId2"/>
          <a:stretch/>
        </p:blipFill>
        <p:spPr>
          <a:xfrm>
            <a:off x="0" y="53341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3"/>
          <a:stretch/>
        </p:blipFill>
        <p:spPr>
          <a:xfrm>
            <a:off x="304920" y="-378000"/>
            <a:ext cx="5132160" cy="1643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914400" y="914400"/>
            <a:ext cx="73915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定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termin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是在名词词组中对名词中心词起特指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ecific Reference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类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neric Referenc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表示确定数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finite Quantity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非确定数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finite Quantity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限定作用的词类。名词词组除有词汇意义外，还有其所指意义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ferential Meaning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特指（即指特定的对象），还是类指（即泛指一类人或物）；是有确定的数量，还是没有确定的数量。能在名词词组中表示这种所指意义的词类就是限定词。英语的限定词主要包括：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定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零冠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以及以下几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" descr="20070724231934346.jpg"/>
          <p:cNvPicPr/>
          <p:nvPr/>
        </p:nvPicPr>
        <p:blipFill>
          <a:blip r:embed="rId2"/>
          <a:stretch/>
        </p:blipFill>
        <p:spPr>
          <a:xfrm rot="783600">
            <a:off x="259920" y="-50400"/>
            <a:ext cx="99072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20070724231934346.jpg"/>
          <p:cNvPicPr/>
          <p:nvPr/>
        </p:nvPicPr>
        <p:blipFill>
          <a:blip r:embed="rId3"/>
          <a:stretch/>
        </p:blipFill>
        <p:spPr>
          <a:xfrm rot="930000">
            <a:off x="93240" y="929880"/>
            <a:ext cx="804960" cy="812880"/>
          </a:xfrm>
          <a:prstGeom prst="rect">
            <a:avLst/>
          </a:prstGeom>
          <a:ln w="0">
            <a:noFill/>
          </a:ln>
        </p:spPr>
      </p:pic>
      <p:pic>
        <p:nvPicPr>
          <p:cNvPr id="56" name="图示 3" descr=""/>
          <p:cNvPicPr/>
          <p:nvPr/>
        </p:nvPicPr>
        <p:blipFill>
          <a:blip r:embed="rId4"/>
          <a:stretch/>
        </p:blipFill>
        <p:spPr>
          <a:xfrm>
            <a:off x="1279440" y="231840"/>
            <a:ext cx="7005600" cy="2378160"/>
          </a:xfrm>
          <a:prstGeom prst="rect">
            <a:avLst/>
          </a:prstGeom>
          <a:ln w="0">
            <a:noFill/>
          </a:ln>
        </p:spPr>
      </p:pic>
      <p:pic>
        <p:nvPicPr>
          <p:cNvPr id="57" name="图示 4" descr=""/>
          <p:cNvPicPr/>
          <p:nvPr/>
        </p:nvPicPr>
        <p:blipFill>
          <a:blip r:embed="rId5"/>
          <a:stretch/>
        </p:blipFill>
        <p:spPr>
          <a:xfrm>
            <a:off x="1279440" y="2620800"/>
            <a:ext cx="696924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1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定词与三类名词的搭配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371600"/>
            <a:ext cx="8458200" cy="4952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与三类名词搭配的限定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, some,  any , no,  another, who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, you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物主限定词和名词属格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’s ,  my  friend’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等能与三类名词搭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the book     the  books    the 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 book     my  books     my 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ook  some books  some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book   whose books    whose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stud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to  leave the 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ha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 tim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rite  to you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se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" descr="FHDRHDRHH.jpg"/>
          <p:cNvPicPr/>
          <p:nvPr/>
        </p:nvPicPr>
        <p:blipFill>
          <a:blip r:embed="rId2"/>
          <a:stretch/>
        </p:blipFill>
        <p:spPr>
          <a:xfrm>
            <a:off x="6629400" y="480060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.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与单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a(n), one , another, e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,either, neither, many 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能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worker       every  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 book        neither 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 apple            one  co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 book    many  a   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should be  compulsory reading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 adul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ither accusa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 going to   bu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5720" y="30456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.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与复数名词搭配的限定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：</a:t>
            </a: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wo ,three, another two ,many , (a) few ,  several these, those,  a   (great)  number  o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只能与复数名词搭配。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 workers             (a)  few 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  students        these/those 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number of essays    two/three 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have invited 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ral 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ir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two wee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will be f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w thing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njoy more than  wat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 swimming in the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20070908212338554.jpg"/>
          <p:cNvPicPr/>
          <p:nvPr/>
        </p:nvPicPr>
        <p:blipFill>
          <a:blip r:embed="rId2"/>
          <a:stretch/>
        </p:blipFill>
        <p:spPr>
          <a:xfrm rot="732600">
            <a:off x="7662600" y="5186520"/>
            <a:ext cx="1331640" cy="1547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４</a:t>
            </a:r>
            <a:r>
              <a:rPr b="0" lang="en-US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2d2d8a"/>
                </a:solidFill>
                <a:latin typeface="微软雅黑"/>
                <a:ea typeface="微软雅黑"/>
              </a:rPr>
              <a:t>只能与不可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(little) bit of , a large amount of , a great deal of , (a) little ,  much less,  (the)  lea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只能与不可数名词搭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t of water           a  large amount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oise             (a)  little 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 oil                    (the)  least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ttle doub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e and his accomplices are gui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Square was the  scene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uch figh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’s rev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speak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bit of Fre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derst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能与单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数名词搭配的限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限定词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, the second, the last, the nex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，既可与单数名词搭配，也可与复数名词搭配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rose           the first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man           the last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meeting    the 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y  first re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o hit him, but he was old ,and my second was to r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next 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eard was an insistent knocking on the door of his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ast three ship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rain for West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’t yet 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20070724215215667.jpg"/>
          <p:cNvPicPr/>
          <p:nvPr/>
        </p:nvPicPr>
        <p:blipFill>
          <a:blip r:embed="rId2"/>
          <a:stretch/>
        </p:blipFill>
        <p:spPr>
          <a:xfrm rot="20886600">
            <a:off x="7315200" y="4876920"/>
            <a:ext cx="1549440" cy="1650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4:50:22Z</dcterms:created>
  <dc:creator/>
  <dc:description/>
  <cp:keywords>幻灯片之家 http:/www.eeppt.com</cp:keywords>
  <dc:language>en-US</dc:language>
  <cp:lastModifiedBy/>
  <dcterms:modified xsi:type="dcterms:W3CDTF">2015-07-13T08:51:57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