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9" descr="비즈니스3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5" descr="비즈니스3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7"/>
          <p:cNvSpPr txBox="1"/>
          <p:nvPr/>
        </p:nvSpPr>
        <p:spPr>
          <a:xfrm>
            <a:off x="1336680" y="2421000"/>
            <a:ext cx="29923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</a:rPr>
              <a:t>Presentation SOLUTION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굴림"/>
              <a:ea typeface="굴림"/>
            </a:endParaRPr>
          </a:p>
        </p:txBody>
      </p:sp>
      <p:sp>
        <p:nvSpPr>
          <p:cNvPr id="79" name="WordArt 48"/>
          <p:cNvSpPr txBox="1"/>
          <p:nvPr/>
        </p:nvSpPr>
        <p:spPr>
          <a:xfrm>
            <a:off x="1336680" y="2792520"/>
            <a:ext cx="640404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6000"/>
                    </a:srgbClr>
                  </a:outerShdw>
                </a:effectLst>
                <a:latin typeface="굴림"/>
              </a:rPr>
              <a:t>BIZPPT TEMPLATES</a:t>
            </a:r>
            <a:endParaRPr b="1" lang="en-US" sz="1800" spc="1" strike="noStrike">
              <a:ln w="15840">
                <a:solidFill>
                  <a:srgbClr val="000000">
                    <a:alpha val="50000"/>
                  </a:srgbClr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6000"/>
                  </a:srgbClr>
                </a:outerShdw>
              </a:effectLst>
              <a:latin typeface="굴림"/>
              <a:ea typeface="굴림"/>
            </a:endParaRPr>
          </a:p>
        </p:txBody>
      </p:sp>
      <p:pic>
        <p:nvPicPr>
          <p:cNvPr id="80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95640" y="1773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"/>
          <p:cNvSpPr/>
          <p:nvPr/>
        </p:nvSpPr>
        <p:spPr>
          <a:xfrm>
            <a:off x="1875600" y="83664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ulim"/>
              </a:rPr>
              <a:t>韩国精美</a:t>
            </a: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Gulim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13" descr="비즈니스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14" descr="보고순서 copy"/>
          <p:cNvPicPr/>
          <p:nvPr/>
        </p:nvPicPr>
        <p:blipFill>
          <a:blip r:embed="rId2"/>
          <a:srcRect l="4193" t="10686" r="6021" b="8028"/>
          <a:stretch/>
        </p:blipFill>
        <p:spPr>
          <a:xfrm>
            <a:off x="5299200" y="1125360"/>
            <a:ext cx="2228760" cy="5526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84720" y="5307120"/>
            <a:ext cx="4416120" cy="488880"/>
            <a:chOff x="4284720" y="5307120"/>
            <a:chExt cx="4416120" cy="488880"/>
          </a:xfrm>
        </p:grpSpPr>
        <p:grpSp>
          <p:nvGrpSpPr>
            <p:cNvPr id="86" name=""/>
            <p:cNvGrpSpPr/>
            <p:nvPr/>
          </p:nvGrpSpPr>
          <p:grpSpPr>
            <a:xfrm>
              <a:off x="4284720" y="5307120"/>
              <a:ext cx="4416120" cy="488880"/>
              <a:chOff x="4284720" y="5307120"/>
              <a:chExt cx="4416120" cy="4888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284720" y="5307120"/>
                <a:ext cx="4416120" cy="488880"/>
                <a:chOff x="4284720" y="5307120"/>
                <a:chExt cx="4416120" cy="488880"/>
              </a:xfrm>
            </p:grpSpPr>
            <p:sp>
              <p:nvSpPr>
                <p:cNvPr id="88" name="AutoShape 818"/>
                <p:cNvSpPr/>
                <p:nvPr/>
              </p:nvSpPr>
              <p:spPr>
                <a:xfrm>
                  <a:off x="4561560" y="530964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4284720" y="5307120"/>
                  <a:ext cx="4416120" cy="488880"/>
                  <a:chOff x="4284720" y="5307120"/>
                  <a:chExt cx="4416120" cy="488880"/>
                </a:xfrm>
              </p:grpSpPr>
              <p:sp>
                <p:nvSpPr>
                  <p:cNvPr id="90" name="AutoShape 820"/>
                  <p:cNvSpPr/>
                  <p:nvPr/>
                </p:nvSpPr>
                <p:spPr>
                  <a:xfrm>
                    <a:off x="4284720" y="530712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91" name="Rectangle 821"/>
                  <p:cNvSpPr/>
                  <p:nvPr/>
                </p:nvSpPr>
                <p:spPr>
                  <a:xfrm>
                    <a:off x="4671360" y="576612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92" name="Freeform 822"/>
                  <p:cNvSpPr/>
                  <p:nvPr/>
                </p:nvSpPr>
                <p:spPr>
                  <a:xfrm>
                    <a:off x="4706640" y="531936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93" name="Picture 823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668840" y="53373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AutoShape 824"/>
              <p:cNvSpPr/>
              <p:nvPr/>
            </p:nvSpPr>
            <p:spPr>
              <a:xfrm>
                <a:off x="4300560" y="532152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5" name="Text Box 825"/>
            <p:cNvSpPr/>
            <p:nvPr/>
          </p:nvSpPr>
          <p:spPr>
            <a:xfrm>
              <a:off x="4448160" y="543888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84720" y="4641840"/>
            <a:ext cx="4416120" cy="488880"/>
            <a:chOff x="4284720" y="4641840"/>
            <a:chExt cx="4416120" cy="488880"/>
          </a:xfrm>
        </p:grpSpPr>
        <p:grpSp>
          <p:nvGrpSpPr>
            <p:cNvPr id="97" name=""/>
            <p:cNvGrpSpPr/>
            <p:nvPr/>
          </p:nvGrpSpPr>
          <p:grpSpPr>
            <a:xfrm>
              <a:off x="4284720" y="4641840"/>
              <a:ext cx="4416120" cy="488880"/>
              <a:chOff x="4284720" y="4641840"/>
              <a:chExt cx="4416120" cy="4888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4284720" y="4641840"/>
                <a:ext cx="4416120" cy="488880"/>
                <a:chOff x="4284720" y="4641840"/>
                <a:chExt cx="4416120" cy="488880"/>
              </a:xfrm>
            </p:grpSpPr>
            <p:sp>
              <p:nvSpPr>
                <p:cNvPr id="99" name="AutoShape 829"/>
                <p:cNvSpPr/>
                <p:nvPr/>
              </p:nvSpPr>
              <p:spPr>
                <a:xfrm>
                  <a:off x="4561560" y="46443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4284720" y="4641840"/>
                  <a:ext cx="4416120" cy="488880"/>
                  <a:chOff x="4284720" y="4641840"/>
                  <a:chExt cx="4416120" cy="488880"/>
                </a:xfrm>
              </p:grpSpPr>
              <p:sp>
                <p:nvSpPr>
                  <p:cNvPr id="101" name="AutoShape 831"/>
                  <p:cNvSpPr/>
                  <p:nvPr/>
                </p:nvSpPr>
                <p:spPr>
                  <a:xfrm>
                    <a:off x="4284720" y="46418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" name="Rectangle 832"/>
                  <p:cNvSpPr/>
                  <p:nvPr/>
                </p:nvSpPr>
                <p:spPr>
                  <a:xfrm>
                    <a:off x="4671360" y="510084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" name="Freeform 833"/>
                  <p:cNvSpPr/>
                  <p:nvPr/>
                </p:nvSpPr>
                <p:spPr>
                  <a:xfrm>
                    <a:off x="4706640" y="46540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04" name="Picture 834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668840" y="467532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AutoShape 835"/>
              <p:cNvSpPr/>
              <p:nvPr/>
            </p:nvSpPr>
            <p:spPr>
              <a:xfrm>
                <a:off x="4300560" y="46562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6" name="Text Box 836"/>
            <p:cNvSpPr/>
            <p:nvPr/>
          </p:nvSpPr>
          <p:spPr>
            <a:xfrm>
              <a:off x="4448160" y="47736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284720" y="3978360"/>
            <a:ext cx="4416120" cy="488880"/>
            <a:chOff x="4284720" y="3978360"/>
            <a:chExt cx="4416120" cy="488880"/>
          </a:xfrm>
        </p:grpSpPr>
        <p:grpSp>
          <p:nvGrpSpPr>
            <p:cNvPr id="108" name=""/>
            <p:cNvGrpSpPr/>
            <p:nvPr/>
          </p:nvGrpSpPr>
          <p:grpSpPr>
            <a:xfrm>
              <a:off x="4284720" y="3978360"/>
              <a:ext cx="4416120" cy="488880"/>
              <a:chOff x="4284720" y="3978360"/>
              <a:chExt cx="441612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4284720" y="3978360"/>
                <a:ext cx="4416120" cy="488880"/>
                <a:chOff x="4284720" y="3978360"/>
                <a:chExt cx="4416120" cy="488880"/>
              </a:xfrm>
            </p:grpSpPr>
            <p:sp>
              <p:nvSpPr>
                <p:cNvPr id="110" name="AutoShape 840"/>
                <p:cNvSpPr/>
                <p:nvPr/>
              </p:nvSpPr>
              <p:spPr>
                <a:xfrm>
                  <a:off x="4561560" y="398088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4284720" y="3978360"/>
                  <a:ext cx="4416120" cy="488880"/>
                  <a:chOff x="4284720" y="3978360"/>
                  <a:chExt cx="4416120" cy="488880"/>
                </a:xfrm>
              </p:grpSpPr>
              <p:sp>
                <p:nvSpPr>
                  <p:cNvPr id="112" name="AutoShape 842"/>
                  <p:cNvSpPr/>
                  <p:nvPr/>
                </p:nvSpPr>
                <p:spPr>
                  <a:xfrm>
                    <a:off x="4284720" y="397836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3" name="Rectangle 843"/>
                  <p:cNvSpPr/>
                  <p:nvPr/>
                </p:nvSpPr>
                <p:spPr>
                  <a:xfrm>
                    <a:off x="4671360" y="443736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4" name="Freeform 844"/>
                  <p:cNvSpPr/>
                  <p:nvPr/>
                </p:nvSpPr>
                <p:spPr>
                  <a:xfrm>
                    <a:off x="4706640" y="399060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15" name="Picture 845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668840" y="400212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AutoShape 846"/>
              <p:cNvSpPr/>
              <p:nvPr/>
            </p:nvSpPr>
            <p:spPr>
              <a:xfrm>
                <a:off x="4300560" y="399276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7" name="Text Box 847"/>
            <p:cNvSpPr/>
            <p:nvPr/>
          </p:nvSpPr>
          <p:spPr>
            <a:xfrm>
              <a:off x="4448160" y="411012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84720" y="3314880"/>
            <a:ext cx="4416120" cy="488880"/>
            <a:chOff x="4284720" y="3314880"/>
            <a:chExt cx="4416120" cy="488880"/>
          </a:xfrm>
        </p:grpSpPr>
        <p:grpSp>
          <p:nvGrpSpPr>
            <p:cNvPr id="119" name=""/>
            <p:cNvGrpSpPr/>
            <p:nvPr/>
          </p:nvGrpSpPr>
          <p:grpSpPr>
            <a:xfrm>
              <a:off x="4284720" y="3314880"/>
              <a:ext cx="4416120" cy="488880"/>
              <a:chOff x="4284720" y="3314880"/>
              <a:chExt cx="4416120" cy="4888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4284720" y="3314880"/>
                <a:ext cx="4416120" cy="488880"/>
                <a:chOff x="4284720" y="3314880"/>
                <a:chExt cx="4416120" cy="488880"/>
              </a:xfrm>
            </p:grpSpPr>
            <p:sp>
              <p:nvSpPr>
                <p:cNvPr id="121" name="AutoShape 851"/>
                <p:cNvSpPr/>
                <p:nvPr/>
              </p:nvSpPr>
              <p:spPr>
                <a:xfrm>
                  <a:off x="4561560" y="331740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4284720" y="3314880"/>
                  <a:ext cx="4416120" cy="488880"/>
                  <a:chOff x="4284720" y="3314880"/>
                  <a:chExt cx="4416120" cy="488880"/>
                </a:xfrm>
              </p:grpSpPr>
              <p:sp>
                <p:nvSpPr>
                  <p:cNvPr id="123" name="AutoShape 853"/>
                  <p:cNvSpPr/>
                  <p:nvPr/>
                </p:nvSpPr>
                <p:spPr>
                  <a:xfrm>
                    <a:off x="4284720" y="331488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24" name="Rectangle 854"/>
                  <p:cNvSpPr/>
                  <p:nvPr/>
                </p:nvSpPr>
                <p:spPr>
                  <a:xfrm>
                    <a:off x="4671360" y="377388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25" name="Freeform 855"/>
                  <p:cNvSpPr/>
                  <p:nvPr/>
                </p:nvSpPr>
                <p:spPr>
                  <a:xfrm>
                    <a:off x="4706640" y="332712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26" name="Picture 856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668840" y="33404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AutoShape 857"/>
              <p:cNvSpPr/>
              <p:nvPr/>
            </p:nvSpPr>
            <p:spPr>
              <a:xfrm>
                <a:off x="4300560" y="332928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8" name="Text Box 858"/>
            <p:cNvSpPr/>
            <p:nvPr/>
          </p:nvSpPr>
          <p:spPr>
            <a:xfrm>
              <a:off x="4448160" y="344664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84720" y="1987560"/>
            <a:ext cx="4416120" cy="1152360"/>
            <a:chOff x="4284720" y="1987560"/>
            <a:chExt cx="4416120" cy="1152360"/>
          </a:xfrm>
        </p:grpSpPr>
        <p:grpSp>
          <p:nvGrpSpPr>
            <p:cNvPr id="130" name=""/>
            <p:cNvGrpSpPr/>
            <p:nvPr/>
          </p:nvGrpSpPr>
          <p:grpSpPr>
            <a:xfrm>
              <a:off x="4284720" y="1987560"/>
              <a:ext cx="4416120" cy="488880"/>
              <a:chOff x="4284720" y="1987560"/>
              <a:chExt cx="4416120" cy="4888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284720" y="1987560"/>
                <a:ext cx="4416120" cy="488880"/>
                <a:chOff x="4284720" y="1987560"/>
                <a:chExt cx="4416120" cy="4888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4284720" y="1987560"/>
                  <a:ext cx="4416120" cy="488880"/>
                  <a:chOff x="4284720" y="1987560"/>
                  <a:chExt cx="4416120" cy="488880"/>
                </a:xfrm>
              </p:grpSpPr>
              <p:sp>
                <p:nvSpPr>
                  <p:cNvPr id="133" name="AutoShape 863"/>
                  <p:cNvSpPr/>
                  <p:nvPr/>
                </p:nvSpPr>
                <p:spPr>
                  <a:xfrm>
                    <a:off x="4561560" y="1990080"/>
                    <a:ext cx="4136400" cy="47052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4284720" y="1987560"/>
                    <a:ext cx="4416120" cy="488880"/>
                    <a:chOff x="4284720" y="1987560"/>
                    <a:chExt cx="4416120" cy="488880"/>
                  </a:xfrm>
                </p:grpSpPr>
                <p:sp>
                  <p:nvSpPr>
                    <p:cNvPr id="135" name="AutoShape 865"/>
                    <p:cNvSpPr/>
                    <p:nvPr/>
                  </p:nvSpPr>
                  <p:spPr>
                    <a:xfrm>
                      <a:off x="4284720" y="1987560"/>
                      <a:ext cx="506880" cy="48888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36" name="Rectangle 866"/>
                    <p:cNvSpPr/>
                    <p:nvPr/>
                  </p:nvSpPr>
                  <p:spPr>
                    <a:xfrm>
                      <a:off x="4671360" y="2446560"/>
                      <a:ext cx="4029480" cy="2952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37" name="Freeform 867"/>
                    <p:cNvSpPr/>
                    <p:nvPr/>
                  </p:nvSpPr>
                  <p:spPr>
                    <a:xfrm>
                      <a:off x="4706640" y="1999800"/>
                      <a:ext cx="21744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</p:grpSp>
            <p:pic>
              <p:nvPicPr>
                <p:cNvPr id="138" name="Picture 868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668840" y="20145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AutoShape 869"/>
                <p:cNvSpPr/>
                <p:nvPr/>
              </p:nvSpPr>
              <p:spPr>
                <a:xfrm>
                  <a:off x="4300560" y="2001960"/>
                  <a:ext cx="476280" cy="777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40" name="Text Box 870"/>
              <p:cNvSpPr/>
              <p:nvPr/>
            </p:nvSpPr>
            <p:spPr>
              <a:xfrm>
                <a:off x="4448160" y="2119320"/>
                <a:ext cx="20484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284720" y="2651040"/>
              <a:ext cx="4416120" cy="488880"/>
              <a:chOff x="4284720" y="2651040"/>
              <a:chExt cx="4416120" cy="4888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4284720" y="2651040"/>
                <a:ext cx="4416120" cy="488880"/>
                <a:chOff x="4284720" y="2651040"/>
                <a:chExt cx="4416120" cy="488880"/>
              </a:xfrm>
            </p:grpSpPr>
            <p:sp>
              <p:nvSpPr>
                <p:cNvPr id="143" name="AutoShape 873"/>
                <p:cNvSpPr/>
                <p:nvPr/>
              </p:nvSpPr>
              <p:spPr>
                <a:xfrm>
                  <a:off x="4561560" y="26535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4284720" y="2651040"/>
                  <a:ext cx="4416120" cy="488880"/>
                  <a:chOff x="4284720" y="2651040"/>
                  <a:chExt cx="4416120" cy="488880"/>
                </a:xfrm>
              </p:grpSpPr>
              <p:sp>
                <p:nvSpPr>
                  <p:cNvPr id="145" name="AutoShape 875"/>
                  <p:cNvSpPr/>
                  <p:nvPr/>
                </p:nvSpPr>
                <p:spPr>
                  <a:xfrm>
                    <a:off x="4284720" y="26510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6" name="Rectangle 876"/>
                  <p:cNvSpPr/>
                  <p:nvPr/>
                </p:nvSpPr>
                <p:spPr>
                  <a:xfrm>
                    <a:off x="4671360" y="311004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7" name="Freeform 877"/>
                  <p:cNvSpPr/>
                  <p:nvPr/>
                </p:nvSpPr>
                <p:spPr>
                  <a:xfrm>
                    <a:off x="4706640" y="26632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48" name="Picture 878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668840" y="267660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AutoShape 879"/>
              <p:cNvSpPr/>
              <p:nvPr/>
            </p:nvSpPr>
            <p:spPr>
              <a:xfrm>
                <a:off x="4300560" y="26654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0" name="Text Box 880"/>
            <p:cNvSpPr/>
            <p:nvPr/>
          </p:nvSpPr>
          <p:spPr>
            <a:xfrm>
              <a:off x="4448160" y="27828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1" name="Rectangle 881"/>
          <p:cNvSpPr/>
          <p:nvPr/>
        </p:nvSpPr>
        <p:spPr>
          <a:xfrm>
            <a:off x="4929120" y="20336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Rectangle 882"/>
          <p:cNvSpPr/>
          <p:nvPr/>
        </p:nvSpPr>
        <p:spPr>
          <a:xfrm>
            <a:off x="4929120" y="535320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Rectangle 883"/>
          <p:cNvSpPr/>
          <p:nvPr/>
        </p:nvSpPr>
        <p:spPr>
          <a:xfrm>
            <a:off x="4929120" y="46879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Rectangle 884"/>
          <p:cNvSpPr/>
          <p:nvPr/>
        </p:nvSpPr>
        <p:spPr>
          <a:xfrm>
            <a:off x="4929120" y="40244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Rectangle 885"/>
          <p:cNvSpPr/>
          <p:nvPr/>
        </p:nvSpPr>
        <p:spPr>
          <a:xfrm>
            <a:off x="4929120" y="336060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Rectangle 886"/>
          <p:cNvSpPr/>
          <p:nvPr/>
        </p:nvSpPr>
        <p:spPr>
          <a:xfrm>
            <a:off x="4929120" y="26971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7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6165720"/>
            <a:ext cx="619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精美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模板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8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http://www.eeppt.com/moban/jingpin/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87" descr="비즈니스3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258920" y="2708280"/>
            <a:ext cx="6501960" cy="720720"/>
            <a:chOff x="1258920" y="2708280"/>
            <a:chExt cx="6501960" cy="720720"/>
          </a:xfrm>
        </p:grpSpPr>
        <p:grpSp>
          <p:nvGrpSpPr>
            <p:cNvPr id="164" name=""/>
            <p:cNvGrpSpPr/>
            <p:nvPr/>
          </p:nvGrpSpPr>
          <p:grpSpPr>
            <a:xfrm>
              <a:off x="1258920" y="2708280"/>
              <a:ext cx="6501960" cy="720720"/>
              <a:chOff x="1258920" y="2708280"/>
              <a:chExt cx="6501960" cy="7207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258920" y="2708280"/>
                <a:ext cx="6501960" cy="720720"/>
                <a:chOff x="1258920" y="2708280"/>
                <a:chExt cx="6501960" cy="720720"/>
              </a:xfrm>
            </p:grpSpPr>
            <p:sp>
              <p:nvSpPr>
                <p:cNvPr id="166" name="AutoShape 277"/>
                <p:cNvSpPr/>
                <p:nvPr/>
              </p:nvSpPr>
              <p:spPr>
                <a:xfrm>
                  <a:off x="1666800" y="2711880"/>
                  <a:ext cx="6090120" cy="6937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1258920" y="2708280"/>
                  <a:ext cx="6501960" cy="720720"/>
                  <a:chOff x="1258920" y="2708280"/>
                  <a:chExt cx="6501960" cy="720720"/>
                </a:xfrm>
              </p:grpSpPr>
              <p:sp>
                <p:nvSpPr>
                  <p:cNvPr id="168" name="AutoShape 279"/>
                  <p:cNvSpPr/>
                  <p:nvPr/>
                </p:nvSpPr>
                <p:spPr>
                  <a:xfrm>
                    <a:off x="1258920" y="2708280"/>
                    <a:ext cx="746280" cy="72072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9" name="Rectangle 280"/>
                  <p:cNvSpPr/>
                  <p:nvPr/>
                </p:nvSpPr>
                <p:spPr>
                  <a:xfrm>
                    <a:off x="1828440" y="3384720"/>
                    <a:ext cx="5932440" cy="439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70" name="Freeform 281"/>
                  <p:cNvSpPr/>
                  <p:nvPr/>
                </p:nvSpPr>
                <p:spPr>
                  <a:xfrm>
                    <a:off x="1879920" y="2726280"/>
                    <a:ext cx="3204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71" name="Picture 282" descr="바코드"/>
              <p:cNvPicPr/>
              <p:nvPr/>
            </p:nvPicPr>
            <p:blipFill>
              <a:blip r:embed="rId2"/>
              <a:srcRect l="16802" t="9783" r="20325" b="5978"/>
              <a:stretch/>
            </p:blipFill>
            <p:spPr>
              <a:xfrm>
                <a:off x="1857240" y="2757600"/>
                <a:ext cx="8280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AutoShape 283"/>
              <p:cNvSpPr/>
              <p:nvPr/>
            </p:nvSpPr>
            <p:spPr>
              <a:xfrm>
                <a:off x="1282680" y="2728800"/>
                <a:ext cx="700200" cy="1159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73" name="Text Box 284"/>
            <p:cNvSpPr/>
            <p:nvPr/>
          </p:nvSpPr>
          <p:spPr>
            <a:xfrm>
              <a:off x="1513080" y="2886120"/>
              <a:ext cx="3013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4" name="Rectangle 285"/>
          <p:cNvSpPr/>
          <p:nvPr/>
        </p:nvSpPr>
        <p:spPr>
          <a:xfrm>
            <a:off x="2208240" y="2797200"/>
            <a:ext cx="5522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5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08"/>
          <p:cNvSpPr/>
          <p:nvPr/>
        </p:nvSpPr>
        <p:spPr>
          <a:xfrm>
            <a:off x="684360" y="6048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Text Box 109"/>
          <p:cNvSpPr/>
          <p:nvPr/>
        </p:nvSpPr>
        <p:spPr>
          <a:xfrm>
            <a:off x="324000" y="60480"/>
            <a:ext cx="4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2637000"/>
            <a:ext cx="5075280" cy="9982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/>
  <dc:description/>
  <cp:keywords>幻灯片之家 http:/www.eeppt.com</cp:keywords>
  <dc:language>en-US</dc:language>
  <cp:lastModifiedBy/>
  <dcterms:modified xsi:type="dcterms:W3CDTF">2015-07-06T04:42:22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