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419-D6F0-41CC-ABF9-AD0E279C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443-B788-4D2B-817F-E3F845C7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EA6-B30F-4117-8FDB-7E79B259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5C0-0F4B-411A-8D38-36E95EEA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9D2-77A2-49AA-8AC8-C8BCEC6C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470-5FDF-4C45-8575-242B71F8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CA1-9C97-4288-9FFC-E07BE01A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C6F-0C49-4C5A-A202-8D91BDDF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C82-8861-4B94-A9BE-8A5D8DE6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17A-90EE-47F4-BC9C-991B3790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B9B-3871-492C-AC38-67D93AC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7DD-EB63-496D-8DDF-4F591F2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098-F75F-4352-8E6B-59F6C9D403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360" y="4413240"/>
            <a:ext cx="9144000" cy="3305160"/>
            <a:chOff x="36360" y="4413240"/>
            <a:chExt cx="9144000" cy="3305160"/>
          </a:xfrm>
        </p:grpSpPr>
        <p:sp>
          <p:nvSpPr>
            <p:cNvPr id="42" name="Rectangle 25"/>
            <p:cNvSpPr/>
            <p:nvPr/>
          </p:nvSpPr>
          <p:spPr>
            <a:xfrm>
              <a:off x="2663640" y="4560840"/>
              <a:ext cx="53294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26"/>
            <p:cNvSpPr/>
            <p:nvPr/>
          </p:nvSpPr>
          <p:spPr>
            <a:xfrm flipV="1">
              <a:off x="936360" y="4719960"/>
              <a:ext cx="791712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27"/>
            <p:cNvSpPr/>
            <p:nvPr/>
          </p:nvSpPr>
          <p:spPr>
            <a:xfrm>
              <a:off x="795240" y="4871880"/>
              <a:ext cx="827712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8"/>
            <p:cNvSpPr/>
            <p:nvPr/>
          </p:nvSpPr>
          <p:spPr>
            <a:xfrm flipV="1">
              <a:off x="431640" y="5055120"/>
              <a:ext cx="874872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29"/>
            <p:cNvSpPr/>
            <p:nvPr/>
          </p:nvSpPr>
          <p:spPr>
            <a:xfrm>
              <a:off x="36360" y="54277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30"/>
            <p:cNvSpPr/>
            <p:nvPr/>
          </p:nvSpPr>
          <p:spPr>
            <a:xfrm>
              <a:off x="36360" y="561168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1"/>
            <p:cNvSpPr/>
            <p:nvPr/>
          </p:nvSpPr>
          <p:spPr>
            <a:xfrm>
              <a:off x="36360" y="579744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32"/>
            <p:cNvSpPr/>
            <p:nvPr/>
          </p:nvSpPr>
          <p:spPr>
            <a:xfrm>
              <a:off x="36360" y="59817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3"/>
            <p:cNvSpPr/>
            <p:nvPr/>
          </p:nvSpPr>
          <p:spPr>
            <a:xfrm>
              <a:off x="36360" y="61675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4"/>
            <p:cNvSpPr/>
            <p:nvPr/>
          </p:nvSpPr>
          <p:spPr>
            <a:xfrm>
              <a:off x="36360" y="635148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5"/>
            <p:cNvSpPr/>
            <p:nvPr/>
          </p:nvSpPr>
          <p:spPr>
            <a:xfrm>
              <a:off x="36360" y="653724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6"/>
            <p:cNvSpPr/>
            <p:nvPr/>
          </p:nvSpPr>
          <p:spPr>
            <a:xfrm>
              <a:off x="36360" y="67215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7"/>
            <p:cNvSpPr/>
            <p:nvPr/>
          </p:nvSpPr>
          <p:spPr>
            <a:xfrm>
              <a:off x="36360" y="69073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38"/>
            <p:cNvSpPr/>
            <p:nvPr/>
          </p:nvSpPr>
          <p:spPr>
            <a:xfrm>
              <a:off x="36360" y="709128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39"/>
            <p:cNvSpPr/>
            <p:nvPr/>
          </p:nvSpPr>
          <p:spPr>
            <a:xfrm>
              <a:off x="36360" y="74613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40"/>
            <p:cNvSpPr/>
            <p:nvPr/>
          </p:nvSpPr>
          <p:spPr>
            <a:xfrm>
              <a:off x="36360" y="727704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41"/>
            <p:cNvSpPr/>
            <p:nvPr/>
          </p:nvSpPr>
          <p:spPr>
            <a:xfrm>
              <a:off x="36360" y="76471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42"/>
            <p:cNvSpPr/>
            <p:nvPr/>
          </p:nvSpPr>
          <p:spPr>
            <a:xfrm>
              <a:off x="36360" y="52419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3"/>
            <p:cNvSpPr/>
            <p:nvPr/>
          </p:nvSpPr>
          <p:spPr>
            <a:xfrm>
              <a:off x="2736720" y="4413240"/>
              <a:ext cx="39592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54" descr="图片1.png"/>
          <p:cNvPicPr/>
          <p:nvPr/>
        </p:nvPicPr>
        <p:blipFill>
          <a:blip r:embed="rId2"/>
          <a:stretch/>
        </p:blipFill>
        <p:spPr>
          <a:xfrm>
            <a:off x="0" y="-988920"/>
            <a:ext cx="9144000" cy="7846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4419720" y="5029200"/>
            <a:ext cx="304560" cy="15228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4419720" y="5029200"/>
            <a:ext cx="304560" cy="15228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4267080" y="4876920"/>
            <a:ext cx="533520" cy="38088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4191120" y="4800600"/>
            <a:ext cx="761760" cy="53352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4038480" y="4724280"/>
            <a:ext cx="990720" cy="76212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行星组曲.mp3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94200" y="129528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好看的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300" fill="hold"/>
                                        <p:tgtEl>
                                          <p:spTgt spid="62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" dur="300" fill="hold"/>
                                        <p:tgtEl>
                                          <p:spTgt spid="6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4" dur="3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1" dur="300" fill="hold"/>
                                        <p:tgtEl>
                                          <p:spTgt spid="65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8" dur="300" fill="hold"/>
                                        <p:tgtEl>
                                          <p:spTgt spid="6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autoRev="1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7.08276E-006 L 0 0.01039 E">
                                      <p:cBhvr>
                                        <p:cTn id="4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D9D-6F46-402D-95A2-D7322CC17E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/>
  <dc:description/>
  <cp:keywords>幻灯片之家 http:/www.eeppt.com</cp:keywords>
  <dc:language>en-US</dc:language>
  <cp:lastModifiedBy/>
  <dcterms:modified xsi:type="dcterms:W3CDTF">2015-07-13T13:24:11Z</dcterms:modified>
  <cp:revision>9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