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7AD4-57C1-473A-A8C5-0C59C0452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2972-9013-42CE-AE99-EA7D52DCA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251A-39A6-4259-8D1C-8ADAA8167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6BD9-09F3-4795-8941-B51D86D72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C6B6-7F68-48AB-BABE-D777D2006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4048920"/>
            <a:ext cx="26424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7BD6-1774-433C-AFD2-098E63950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8C0D-3F16-4AE7-A359-1A7FA21C54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B538-3574-4503-8AC8-27020ABCE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882720"/>
            <a:ext cx="519732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E3A1-FCBA-45F3-B699-B756DE789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8B22-6FC6-45C1-8F5C-C22F88F74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404892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9351-1E3F-4B6D-B6CB-05D3C925F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862920"/>
            <a:ext cx="519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600200"/>
            <a:ext cx="400500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048920"/>
            <a:ext cx="8207280" cy="223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1FE-EEA8-4B2A-93D8-13E961F60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564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019616F-711C-4A56-BE30-658EB0769B7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e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80600" y="349380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40" y="654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6800" y="208116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红色母亲节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98F853B-E56E-4FF0-BE60-BAE3CBCDE33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882720"/>
            <a:ext cx="51973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括标题和文本格式（包括字体，字体大小，对齐方式等）的设置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720" y="24764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母亲节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58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11A9-2D2E-4556-8DB1-A447BAC4B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7236000" y="64022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9A923E9-2BE2-404A-8223-75351A2F6A4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bg1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68360" y="2233440"/>
            <a:ext cx="82072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>幻灯片之家 http:/www.eeppt.com</cp:keywords>
  <dc:language>en-US</dc:language>
  <cp:lastModifiedBy/>
  <dcterms:modified xsi:type="dcterms:W3CDTF">2015-07-13T13:18:07Z</dcterms:modified>
  <cp:revision>1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