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339-7459-4F9F-AD25-5131614A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C3A-0758-499E-AA19-1353CDE8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1FF-0408-467E-B197-246034AF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214-012D-4493-90B0-A4633592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8500-0592-44A4-BF3A-605F3188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0166-6E69-4936-987F-689AA5D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69F-7E0E-4FCE-9C07-0C1BEF2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A78-65B4-4C03-9407-5A726431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F21A-7741-4003-8F6B-5D5F92D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AA9-F549-446E-A66E-5513C04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261E-AF36-402C-A0B5-E71A80B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647-01BD-46A2-A8F9-3D7B5A99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D98C-83B0-485F-9012-F571711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211-6C77-4B11-9470-DB181A7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6AB-BA7A-4028-A3EE-9BA8505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56D3-DB21-4C31-BCCB-2D2A79C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E50D-FC28-4629-8BA8-087D455F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602A-37DA-42B9-8A64-99375DB5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940A-77A9-4AAF-8DFD-616E5B6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24E7-9B2D-4E96-9001-0CFA076F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A0A4-747D-4D22-8FA8-A213BC2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4CE3-6084-4647-A5E3-FD819AF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E81-CC3A-433E-8D84-C6581DD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ACC1-DBB8-48D8-B512-8EFBBDA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5F75-C0D6-4385-94E4-537B565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5831-4FE4-4469-B999-C69047D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B4BC-7205-420D-8C1F-E505B53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BE0A-E967-422F-B996-8051738A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56F3-55C6-47F2-A9BD-2451EEED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E2C9-3101-453D-9F25-E2B08187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25E-18FF-4766-A33E-58EC0C9A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BF0-AA0A-4FE9-8713-0975FEC3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4DE-63E8-4625-B123-45D3E67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61D-F213-4260-83C1-2CE81941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87A-5029-4B3A-BA8E-4B5EF42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C85-A0B9-4DB0-8401-77A8531E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24BC-82A7-4744-BA03-F0C97ADF1B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DA4-AE0E-4A13-95B5-62E53831D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446-B50D-4752-A587-04267FF39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21480" y="119700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红色商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141300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FEB1-10B6-491E-A771-C0BE357B8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/>
  <dc:description/>
  <cp:keywords>幻灯片之家 http:/www.eeppt.com</cp:keywords>
  <dc:language>en-US</dc:language>
  <cp:lastModifiedBy/>
  <dcterms:modified xsi:type="dcterms:W3CDTF">2015-07-09T02:03:1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1806000000000001024100</vt:lpwstr>
  </property>
</Properties>
</file>