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C00-5D2C-4744-861E-46D65EC7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2EC-16F2-4D90-89D7-4B374D05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767-E9FA-4E78-9BAC-F8F6181C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0B6-DBFC-4DD6-957B-3B18ED7E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6E4-92E5-4BDC-96A8-CDE103E1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3AD-CA96-4BDD-A776-6AEF1564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A87-5F53-44D2-8709-C2F71AF0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39D-A99C-4D75-AB32-EE89B54F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D14-9ECD-40B6-A0C1-9658DCAB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248-0E34-4947-8D96-6605BB7C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F9E-D0D6-4722-893C-CF72DD47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18E-76DF-4E53-B4F0-02886631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C434-8AF0-4623-A064-227C6D5362D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8FB5-BE6B-4290-9909-FAA45B84D7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143000" y="12859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116000" y="27813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1486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765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韩式小清新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2520" y="6397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451260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415512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79784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208368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-69120" y="6397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308520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3226680" y="463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31550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22668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101196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508392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252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3929040" y="1928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2261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2981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155040" y="5072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252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08376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201204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9410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52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786120" y="1857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44072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9410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252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85716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508392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308376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72612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73800" y="6397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429804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22676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01204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15496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-69120" y="6397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22812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5838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15496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08A-F7B2-4525-82DC-15FB24DC0A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/>
  <cp:keywords>幻灯片之家 http:/www.eeppt.com</cp:keywords>
  <dc:language>en-US</dc:language>
  <cp:lastModifiedBy/>
  <dcterms:modified xsi:type="dcterms:W3CDTF">2015-07-07T11:26:49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