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4B8-E357-4B45-9CE1-C2C2BDE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920-8001-41A7-A69D-7CF82190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28D-473F-4992-95C3-0CD2CB67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950-7818-4A1E-98F5-4CE8861B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953-9B51-470B-B8E2-EC06F2D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D13-F24F-4A00-98BC-F0CF1F0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9880-7F89-492E-9348-61F3B82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4257-FE7C-4F49-B917-3FB8AED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3A0A-9C03-414B-8686-4F54B981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5CF-B881-45EB-9F6C-9DC2F94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12B8-B289-46B1-9788-1FB389F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83A-366D-4FC4-B6A4-56487BE8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81F-6F3A-489A-9FF1-F4063222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E926-3385-47B5-B35E-D90C20D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1D5C-F51F-4030-A497-5AFFE602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5E88-4A57-4D98-A4E3-8D6FE5FF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276-D7A1-476C-BFF1-C4A51A46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4C7-6523-43AD-B33A-2ED4DE0F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504-E53D-4504-AA93-A4D97DD9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99E-8416-41F0-BDEB-C40DBA0C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9DB-5C17-4F26-90B6-90FAD8F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62F-893C-4380-869E-49030FA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43E-5D2F-4479-8D1B-9AE80D7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F04-DC0E-46C5-BA07-5E836EB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1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1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0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3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5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2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8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28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2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4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388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0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3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36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1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86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58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1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0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2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4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0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6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5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6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2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0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4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3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6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7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3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0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080"/>
              <a:ext cx="8280360" cy="1782000"/>
              <a:chOff x="635040" y="325080"/>
              <a:chExt cx="8280360" cy="178200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080"/>
                <a:ext cx="497160" cy="14504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64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69400"/>
                <a:ext cx="1474920" cy="33768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16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FCC2-15A0-4747-96E8-48C477EB88A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5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1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1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0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3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5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2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8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2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2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4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388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0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3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36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1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86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58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1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0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2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4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0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6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5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6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2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0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4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3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6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7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3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0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E23-E37B-4C5E-A5C2-FFE47BC0C58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健康的爱情观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创艺简黑体"/>
              <a:ea typeface="创艺简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一、爱情是什么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爱情是一种个人体验，每个人只能通过自己并为自己得到这种体验。弗洛姆  《爱的艺术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爱情要求所爱的人品质恒久不变，同时又要求这种品质具有可塑性，不断翻新，它崇敬传统、习俗，但又渴望理想的美，渴望生活的完美，渴望双方关系文明化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西列夫  《情爱论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807-4B3E-47F0-8FE6-132BC0DF6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生物性与社会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爱情的生物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爱情的社会性：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包含着理性而有目的的交往 ；爱情是同一社会结构中人的道德意识，是与人的善恶观、对道德和不道德的认识联系在一起的；爱情作为在男女关系上的一种特殊的审美感而发展起来的，爱情创造了美，使人对美有了新的领悟。</a:t>
            </a: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生物性与社会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爱情的社会性：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作为一种社会现象，爱情的力量包括生理的力量与精神的力量，使恋人走到一起。爱情的思想内容和社会——心理内容决定于社会发展的水平，男女之间的相互作用不仅是生物作用，而且是精神作用 ；爱情的社会成分自然也存在于选择性的欲求对象的过程中 ；调节两性关系的手段是动物所不具备的羞耻感。</a:t>
            </a:r>
            <a:r>
              <a:rPr b="0" lang="en-US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种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斯腾伯格的爱情三因论：</a:t>
            </a:r>
            <a:r>
              <a:rPr b="0" lang="en-US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华文细黑"/>
                <a:ea typeface="华文细黑"/>
              </a:rPr>
              <a:t>动机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，爱情动机的重要原因是性的需求，除受性驱力的驱使外，还受异性的外表、情境等因素的诱发</a:t>
            </a:r>
            <a:r>
              <a:rPr b="0" lang="en-US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;2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华文细黑"/>
                <a:ea typeface="华文细黑"/>
              </a:rPr>
              <a:t>情感成分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，两性在一起时感受到的各种情感体验，如相知的亲密感、冲突后的伤心、委屈、高兴、嫉妒和痛苦；</a:t>
            </a:r>
            <a:r>
              <a:rPr b="0" lang="en-US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华文细黑"/>
                <a:ea typeface="华文细黑"/>
              </a:rPr>
              <a:t>认知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，从理智上对双方感情的认知，对情感的评价、对爱情的行为的调节控制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种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喜欢。由于长期相处，异性间产生了相知感，彼此了解对方的经历、兴趣爱好，有一种朋友般的默契感，这种关系只能称作亲密，缺乏激情与承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迷恋，某一特定时空不期而遇，由于强烈的性吸引，既无了解也无承诺，身体上的亲密之后，形同陌路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3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承诺之爱，双方既无生理的吸引，又缺乏相互了解，仅由于某种承诺结合在一起</a:t>
            </a: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种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4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浪漫之爱，性的激情与深刻了解，但不能做出承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5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伴侣之爱，既亲密又有承诺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6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闪电之爱，既无深刻的了解，但由于强烈的性吸引而闪电般地结为夫妻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7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圆满之爱。相知的亲密、生理的吸引对婚姻的追求与承诺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斯宾塞尔论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斯宾塞尔认为：恋爱由九个不同的因素组成：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性冲动、美的感受、亲爱、钦佩与尊敬、喜欢受人赞许的心理、自尊、所有权的感觉、因与人隔阂消除而取得的一种扩大的行为的自由；各种情绪作用的高涨与兴奋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一是大学生恋爱的高纯度，纯净、美丽有时甚至显得单纯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二是大学生恋爱的精神特质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三是大学生恋爱的冲突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四是大学生恋爱表达的自然与随缘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五是大学生恋爱理性与感性并存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六是大学生爱情的多元化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一是偶像化的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二是完美的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宋体"/>
                <a:ea typeface="华文细黑"/>
              </a:rPr>
              <a:t>三是爱的投射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宋体"/>
                <a:ea typeface="华文细黑"/>
              </a:rPr>
              <a:t>四是产生于孤独无助时的爱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990720"/>
            <a:ext cx="6858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3366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真正恋爱时，你对任何别的人都不感兴趣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2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没有什么意义，它就是那么回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33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完全陷入爱情时，就会确信它是现实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44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恋爱决不是你能客观地加以研究的；它是高度情感的状态，不能进行科学观察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五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爱情的非理性观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没有爱情的大学生活是失败的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爱情是靠努力可以争取到，即付出总有回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爱不需要理由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因为相爱而发生的性关系无可非议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恋人是完美的，爱情是至高无上的；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五、爱情的非理性观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6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爱是缘分也是感觉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7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不在乎天长地久，只在乎曾经拥有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8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爱情重在过程不在结果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9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爱情能够改变对方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10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失恋是人生重大的失败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llegro BT"/>
                <a:ea typeface="华文细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单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华文细黑"/>
              </a:rPr>
              <a:t>恋爱中止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一是选择恰当的时机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二是使用策略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三是艺术地说明原因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四是不逃避责任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五是不拖泥带水。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llegro BT"/>
                <a:ea typeface="华文细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失恋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从此无心爱良夜，任他明月下西楼 ；不见去年人，泪湿春衫袖 ；阁道曲直，似我回肠恨怎平 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倾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移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疏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立志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爱是自我成长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学会爱自己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正确的自我认知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珍惜感情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学会说“不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对自己负责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爱是自我成长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学会爱他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）尊重你爱的人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2</a:t>
            </a:r>
            <a:r>
              <a:rPr b="0" lang="zh-CN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）帮助对方积极发展自我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）共同创造美好未来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理解爱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是给予不是得到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责任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尊重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能力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创造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的学习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自爱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是什么？爱是自我成长；爱是一种能力，既认识自己也认识对方的能力；爱是给予，而非获取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只有你自己才能成为你自己，做最好的自己是爱的前提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看到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性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”这个字，你联想到什么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你有关性的态度和信念是从哪里来的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当你听到“性”问题或面对性困惑的人时，你有哪些心理感受？（注意：你对不同性别的反应是否有差异？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第一次了解性是通过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最早的关于性的记忆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从父母那里接受到的言语表达的性信息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从父母那里接受到 非言语表达的性信息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对性的期望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在我成长的过程中，我内化的性禁忌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447920" y="990720"/>
            <a:ext cx="6858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3366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5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和某人恋爱而不结婚是个悲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6 6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有了爱，就知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道这爱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7 7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共同的兴趣实际上是不重要的；只要你俩真正相爱，就会彼此协调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8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只要你知道你们是相爱，虽然彼此认识的时间还很短，马上就结婚也不要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9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只要两个人彼此相爱，即使有宗教差异实际上也不要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性与性别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：性别是生物学意义上的概念，性既包含两性生物学因素，又包含了人们对男性与女性生物学特征的反应的意识，包含个体对性的反应和意识，也包含社会对性的反应的意识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9FF-074E-4EFD-98C3-5E7D9B89BB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爱与性</a:t>
            </a:r>
            <a:r>
              <a:rPr b="0" lang="zh-CN" sz="3600" spc="-1" strike="noStrike">
                <a:solidFill>
                  <a:srgbClr val="003366"/>
                </a:solidFill>
                <a:latin typeface="华文细黑"/>
                <a:ea typeface="华文细黑"/>
              </a:rPr>
              <a:t>。如果听命于羞怯感和性欲，则一方使我们放荡不羁，另一方束缚我们的手脚，克服懵懂的性欲，使我们先与异性分离，筑起一道墙来创造个人的自由空间，克服了羞怯感，便 通往了在自由中与绝无仅有的那一位无拘无束相处的道路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祝愿爱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爱情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生活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自我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人生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600200" y="83808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0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你可以爱一个人，虽然你不喜欢这个人的任何一个朋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1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当你恋爱时，你经常是茫然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2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 一见钟情往往是最深切、最永恒的爱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3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你能真正爱上的、并能在一起幸福地生活的人世界上只有一两个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3880" y="76212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4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 不用管其它因素，如果你确定爱上了另一个人，就可以和这个人结婚了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5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要得到幸福就必须对你要与之结婚的人有爱情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6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当你和爱人分离时，世界其余一切仿佛都暗淡而令人不满意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7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父母不应劝说儿女同谁约会；他们已经忘记恋爱是怎么回事了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295280" y="990720"/>
            <a:ext cx="7315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父母不应劝说儿女同谁约会；他们已经忘记恋爱是怎么回事了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9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被看成是婚姻的主要动机，那是好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爱上一个人时，你就想到和那个人结婚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0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大多数人都会在某些地方有一个理想的对象，问题是怎样去找到那个对象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1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妒忌通常是直接随着爱情而变化的；就是说，你越是爱，就越会有妒忌心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90720" y="1447920"/>
            <a:ext cx="64767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2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与其说爱是平静的事情，不如说爱是激动人心的事情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3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被任何人都爱上的人大约只有少数几个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4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恋爱时，你的判断力通常不是太清楚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5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一生中爱情只有一次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47920" y="1447920"/>
            <a:ext cx="63244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6)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你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不能强使自己爱上某一个人；爱情说来就来，说不来就不来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7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和爱情相比，在选择结婚对象时，社会阶层和宗教信仰的差别是无关紧要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8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幻想往往和恋爱相伴随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9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正在恋爱时，你不必问自己一大堆关于恋爱的问题；你只是知道你正在恋爱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一、爱情是什么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是什么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关关雎鸠，在河之洲。窈窕淑女，君子好逑；参差荇菜，左右采之；窈窕淑女，寤寐求之</a:t>
            </a: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;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求之不得，寤寐思服，优哉游哉，辗转反侧。《诗经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我们对所爱者的生命与成长的主动关切，没有这种关切就没有爱。弗洛姆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37Z</dcterms:created>
  <dc:creator/>
  <dc:description/>
  <cp:keywords>幻灯片之家 http:/www.eeppt.com</cp:keywords>
  <dc:language>en-US</dc:language>
  <cp:lastModifiedBy/>
  <dcterms:modified xsi:type="dcterms:W3CDTF">2015-07-13T09:31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