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076-D359-429B-9A2B-8CB78CE3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CAE-3A6E-47DE-9432-B3D53009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62E-DDAC-4456-8087-5F57F2A8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D25-5094-4121-AED0-9FBFAB5D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C15-F7BB-465A-B7CB-38E1DB7B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B31-929F-435A-ABCE-E4C08F58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98F-B27C-4E9C-9FA5-18DABE3E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60D9-E53B-4B35-9A39-7F2CA72C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37F-7275-4FC7-B7FA-928ADDB5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4CA-D0F6-4E30-987D-119902D1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C67-5F66-412B-8927-5A640076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2BD-B632-4C36-B7BE-342AFEE8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0168-29F6-4C13-B06A-C3B00FEB47F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EB00-9687-40E0-88F9-AB4FA5601DE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928960" y="42148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429000" y="5049720"/>
            <a:ext cx="414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3680" y="836640"/>
            <a:ext cx="50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精美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308376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08376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08376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27008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44096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244080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544104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215496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36976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643720" y="357192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65A0-DC28-4B53-A4B3-055BFF13B4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471492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22676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36916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494100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351216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01212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436968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44080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294084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458388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/>
  <dc:description/>
  <cp:keywords>幻灯片之家 http:/www.eeppt.com</cp:keywords>
  <dc:language>en-US</dc:language>
  <cp:lastModifiedBy/>
  <dcterms:modified xsi:type="dcterms:W3CDTF">2015-07-07T12:12:01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