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3D8-D53D-4A09-81A3-A9F6AEB7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DB2-8FF2-44A0-8769-D130AD38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D65-8009-4CD0-A6A2-8A0FEF53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8B9-04CE-4003-BE88-533AB4B0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6943-C112-4DC0-82D9-5EB7BCD6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43B7-9294-4A57-8695-CA85A986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ECC9-EFCB-442A-B26B-DC8E1D08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32C8-3AA3-458D-90FE-636C571E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08CC-9F8C-4A25-81F4-88053D9B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8C09-B355-431A-8D14-9E18D9BE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6554-140E-4EB9-8905-2B9AC1A0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F43-1948-405D-AA9C-1D2FD047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771F-33C7-4C3C-B83D-A1CAA75A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4330-9F4F-4846-9519-3AF82F19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ECEE-F0D9-4648-93C6-1E21E845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9385-6572-4BDC-A1B5-37A8917B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3F40-ADD0-4CBE-A635-3B1651D5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619-7BB6-44E1-9731-48F167FC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8F7-D73F-41EC-82AE-0F88AD91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2D6-2D58-4451-8B97-5AF64082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B6A-1F81-4170-81BF-C316D666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691-4B01-476D-8151-E035FE6F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789-CBDA-48E2-8FE0-133D2C16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1A6-29C1-454D-A638-42C9347D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200712172109537_2副本"/>
          <p:cNvPicPr/>
          <p:nvPr/>
        </p:nvPicPr>
        <p:blipFill>
          <a:blip r:embed="rId2"/>
          <a:stretch/>
        </p:blipFill>
        <p:spPr>
          <a:xfrm>
            <a:off x="1400040" y="0"/>
            <a:ext cx="7743960" cy="348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2635-2B84-4A67-9B81-67B1DE1AE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200712172109537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795D-3D3D-47D0-80B5-CC2AFD7A2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jingpi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1224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精美韩国彩蝶</a:t>
            </a:r>
            <a:r>
              <a:rPr b="0" lang="en-US" sz="3600" spc="-1" strike="noStrike">
                <a:solidFill>
                  <a:srgbClr val="ff9900"/>
                </a:solidFill>
                <a:latin typeface="黑体"/>
                <a:ea typeface="黑体"/>
              </a:rPr>
              <a:t>PPT</a:t>
            </a:r>
            <a:r>
              <a:rPr b="0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模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638172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C06F-2CF2-4C41-A00B-0E3148971C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8:41:58Z</dcterms:created>
  <dc:creator/>
  <dc:description/>
  <cp:keywords>幻灯片之家 http:/www.eeppt.com</cp:keywords>
  <dc:language>en-US</dc:language>
  <cp:lastModifiedBy/>
  <dcterms:modified xsi:type="dcterms:W3CDTF">2015-07-13T13:36:38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