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E1C-AF72-4ED5-BF79-5BF04A04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562-5938-459E-A4F1-96C3055C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74638-AF7E-4E79-A913-22568217682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613EE-A875-4245-98CB-A21E607327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23BD-BEAF-40B1-A196-932C10B8FC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745C4-E8E8-4C5E-ACF2-9787A81721A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F49FF-8C3D-42B4-84C2-4F173972FF2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5902-A807-40FA-9CC9-39822CEA15C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76C10-AA3F-4136-A935-2D09BF7263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A94C-3F73-4AB1-B6BF-C5C86E5AAEB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C763-1BFE-424E-BEAE-895E0D42262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9FEA4-0899-4D42-BE2E-CB8A2C8B8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E19-9F38-4928-92F0-5473F86E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45FDF-2F3D-469B-B8CC-44AEB6A059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751AD-A01B-46A1-8B34-BB566F35B59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DA892-F173-4C23-B8A7-06F642A8333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885F1-C3F5-4766-B2F8-074CF5DE462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79B50-8E5B-4181-9D90-0CADB44438C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732AF-116E-45C0-929A-25E568DE85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CA3B8-6D00-4774-8976-7DBD2A1B7F3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CFAD1-FC6C-4126-93B1-72AE018B882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07D2D-6856-4088-9D0F-721B93C5D5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AE2CC-2BF5-4A99-8627-8FE158B5B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B3E-D829-4EF0-B148-7BB0A607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FF24D-6404-4BEB-96DC-29BB922C489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E94EC4-FF7B-4B9C-BA56-D9D126A38D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52DDD-1C9D-43E5-85A5-062B3AFA1E7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9A3BD3-713E-43FF-AD75-02A4953CDED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813BAA-1BD4-482E-8E6C-E9741610032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A546A7-FB4B-4EDF-A4C5-75D5FA29545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5E46F7-8870-4052-9546-188FB75A82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CCE501-893C-4DCD-BC3E-1847FB4BEDB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1B7CCB-F684-41DF-8789-7E49F981C30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1644B1-80D7-44EC-83DD-F620BE9E3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91733-5157-4DF0-BB3E-CB73145971F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BBCB2-52BE-4FDA-9072-F19395C5636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96D621-173C-46ED-A296-7298E3C556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8862B2-88AF-451F-90D3-BAF32C1D2A9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566AA-E98B-48B8-991F-DB5917E55DD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E125B-DE31-4E95-AC98-7997491F6D1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EB9B0-739F-4F2F-9C2A-6B75FCDD76E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25BF9-6FD3-4C4F-BE79-2A220C74147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51F1B-C943-48F8-8341-AAE0BF302AC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5718-8FFA-4AA4-93BC-F4AB6C89769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8576-BD65-403B-8619-3D08CCE175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2FC2B-3479-43A5-8859-95822AC9863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13E9E-3F38-41F5-B256-DA7699B4E41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039E2-7214-485C-9B7E-DDBEE70B00A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FD2CD-2D37-439E-B112-C0E91D6DEA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DEB3C-70D2-4606-8EDE-4077BD2DAC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6DBC2-0379-452B-A583-9176FC4A54D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981A2-FF3C-419D-8B7C-318088D4F9F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EB58B-529C-4E2D-AAD4-EDB20CA8DDF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AA81B-3639-45D6-B339-ECF8BDCFF5F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D306B-99D3-45A2-AC54-8690CD18A72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C7777-4886-4DF9-A2E5-E77B4C44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B215C-7373-4220-8BDB-7D1873FE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F21FB-0365-4E16-9293-1A301624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14625-4BD6-493E-91EC-291F5F40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ABCC2-3203-4325-932B-C56A91DD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C985-5E11-4A28-B855-01935FB1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04B91-BEF7-49D5-BD33-F3DCDAD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40472-E564-4C13-BB1A-89A9AD7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C8E78-6B33-47BC-9B2F-8F8CB709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94664-AC85-4C1F-8998-5317A3DFFB9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A8F52-8259-4586-9E61-1855BCC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8D080-F180-4C25-95EB-191D509E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0E37B-68F7-4F6E-A92A-721A3AC0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EA3-5355-4827-9D10-324C44C6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56738-2B6F-4F4E-AD26-C00DC3345DF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60162D-797D-43B9-B412-35D90F4FB7E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76472A-F1EF-45BA-9520-500481EFE7A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0A9845-0FDF-481B-88C5-EF647CA2CC2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26AE2E-2A2D-4DA0-B9A1-313EE7BEE6D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AF3A6-548F-4135-BF4B-37F84EC2AD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C4AE5-5AB6-4AC9-B403-725FCA69633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631A47-8E85-4B2D-8625-F84048ACD4E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EF05C3-2B76-4795-B076-9901EDF3C79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84910-5EF2-46D5-8602-CD4554F4293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5746D-614F-43EB-B390-048E3758EB2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2B79BD-E88D-426C-B442-41C6B06BDEB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E61603-9595-446D-8E1F-D97DDB507A1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C2AF47-28D7-464F-AA67-EA688617D1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562F4-B049-4569-B0B0-CEDF6796A4B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E9820-BFBC-435D-B383-462045BE4A7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CBD1E-7292-4441-B77F-EBADBAD6B5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1BE4C-C600-4BAA-B121-24BFE77B38B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FCD9A-501A-4A1F-832D-37EBC907CAD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C75A2-7C76-41DD-997E-5B8CC6D7D11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D267E-31BA-449A-8C8F-282AFC2944C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A39E8-1275-40E7-9748-CADF732DF7F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BD602-C179-4648-B1DF-FF199FBD774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42FA4-8FEF-4D2B-ADB4-81B4B11B3FF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6CCF4-9F77-4465-802B-0A4899FC92F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2A99E-4991-4E98-91FA-B9883592BE4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049CD-9234-4985-AB37-DE1582682FA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DF32F-F91E-44AF-82A0-9136D1AE393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24319-B0A2-457F-8235-C3C7FCAD4E0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66BE4-DAF9-4B56-8A65-CE965AFEFBA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27EC7-9C6A-49AF-ABBE-25FA0E68B0A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3B7D8-74C7-40FC-91C3-93916E7EEE4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7F4FA-A03A-45E3-B974-AC6DB9B0C29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6E3DB-D4AB-4E23-8FF7-65ADF99C3A8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1F1DB-B313-4DD0-8CB1-0B06557F7D3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0B275-D0F3-497A-B007-85D7A095ACF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E0ADB-B548-41B1-9A3D-93ECF931403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A2BD9-93B8-48F1-ABE5-BBD69C66AB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DE2EF-B3E7-4F79-9954-3E0AD1559B9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816FF-13C3-47EB-95AD-782D240D1E8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7D204-B86A-4AD8-944D-A83982175B1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64878-2301-4AF8-92A2-FC4ED02BC0B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B0268F-E5D4-4EC0-AEB0-5C8B1AEB61A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E3FCC0-56E9-43CB-906E-137A9323CE6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8DFF1F-0F57-4B0C-9D62-88F5848069A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A5CE12-723C-479A-8C3E-06B9AE50FC4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6AEB3E-EBAF-4D82-ACA5-8B2081F3692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B2BCEE-91A4-44E3-8394-856D5EEC9B5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3DDAAB-D5BA-47B2-AE23-5E3ABE7863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D2978-9DD1-4A11-8DE9-7C762881F8E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5F6D2F-239B-4F2C-AD67-3B00BF8A27A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2C1E2D-61B5-429F-A9E4-68AE76B03EB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789BA0-31FB-409E-8DE8-7ED7DCFFDAE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FAAB17-D661-460F-9142-C356B19E5A4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8C3F0D-26B7-4C9D-B1FC-C249C27C404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E4EC1-DEFC-44AB-B6E4-D4271342FBE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4156B-4F71-4914-8787-D5896D40F10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01E22-658F-4A78-84DA-2C9E8B649CE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EF1BA-54BD-47B3-BCBA-A7349CB9ACF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77B35-25D9-46EC-BF86-774EEBE5C5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603B1-8690-4FE4-9C16-9C2933287F8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5E0A2-1656-4A4D-870B-85CE1333D1D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30DD3-6B2B-43DB-A1B1-9727885B371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080B6-A86C-41AA-BA7E-47A7FDD9040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9E926-13DC-4DEA-9927-A53C8767BAE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F0903-C4A5-4A0E-BD13-21E10EAE89D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5A11F-967A-49AF-81CE-F6224882B92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D007E-0898-466F-955E-FF0105954F4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0827D-364B-421D-B3F2-40A87381FDA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A44E4-6899-49F1-91A8-E9395BBDB1D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A9562-F8EE-495F-978F-AB520E7BB5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5CB9A-0311-42B5-9829-B0250EBE917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91556-3F17-4C27-8EDA-27F10CB7AEE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51F8A-20D3-4997-9263-BAD9C6F895D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CCB8F-D755-464A-83D5-F908E70F3BB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BD652-31AF-4592-B7E5-FA41A2C5574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61F69-F705-4620-9171-EF8BD21B274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9CA61-4B07-46E6-8D1E-D4E94BDEC45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5C12F-50A2-49F3-8E3C-440ECFFC607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0B465-9EE1-4187-9F79-11A02384FBA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D4CAB-9C8D-477C-977F-65568981B2A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9692FF-7CA6-4408-9116-B876E3AA57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E1B2F-F111-4982-B4BD-3D91668CC8F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1FE4BC-7923-49F0-90AE-5ABF8A0FED1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A8F792-11FC-4CED-9A7C-C87F2715A21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B4301A-A880-4830-95D1-F20028B963F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587289-E951-46DE-B27E-E9DAF5D0B42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8E194D-9B40-4DEB-9F53-E9235CBC7A2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0249FF-81A6-4B55-BC1E-9FB1FA0482C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1B8496-74A3-48CA-ACCE-DF8CDDA43E4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5B4C1E-480D-4EF8-82CC-C4F862B974C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C6E463-7071-4676-9B62-7CC499FD799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C128B6-9B0B-4AA7-B7F1-7651D0165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48F-776F-44E6-9A99-A1E12170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DFA32-A03A-4549-A36D-ED0C9BA2012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F1BB4E-4187-488D-A89C-071CCC971DC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0B7D8-F2DA-43E3-A55F-7189118EF72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16F61-1F92-4C89-92A5-9B566532EC7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21137-6178-4817-9736-9092E0F07B2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072CA1-ACA1-47D6-8B9F-CCA6990A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EB5950-9A29-4161-9A6E-9C7A5340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F811BB-62A6-4ADD-B2F2-94DD929F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0159B-2B4B-45B9-8B8A-A3A1765E658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B89FD9-8FCC-4905-A4AE-B287D255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F01E1C-5264-4DAB-80A1-B424D64E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CFE065-6A34-4374-AB5B-AEC8D07C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99B69A-690E-49DD-94A1-0529EF7F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597130-DC26-48F3-8D54-56D9405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DECF4A-9F93-48E3-BD7D-719789E7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C0C78C-EACB-49E8-A26E-FF00482F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B76A08-97B6-402D-9819-FF18C0D0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F8F3BB-47D7-4367-9F10-C94DCC58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4FE31-ECE9-420E-B4AD-0FFC71FE76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CD6E9-9FCB-4A21-826A-1BE8D34C5F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8F4-BF2B-4CA4-A2FE-FA62B755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D12B-1975-405A-ADF8-7BE394235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A17-B7F2-48CB-B893-05093CE2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09D3-AB84-46C7-9215-EEA3E5C99C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DFC6-A3E8-4078-B404-935C969C61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BA76-28C6-46C7-9620-A19A4BE89B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0A273-80F4-4D47-AA93-FB691F8960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35E2-4E69-4348-8859-7E1B8E3CA61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598D3-103C-4976-A076-B250EEB2D7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2795-DDD5-49AC-860D-2737929BC48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B83A4-62ED-41CE-8ACB-2277B5F064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9A38-E682-44B8-9A4E-58C8169610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3CDE-E6C7-4EDF-B8F3-D15C3E356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DB5-2B99-4473-872E-D852495E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FB1D-9A31-4FF1-A61F-4A3A30BDA8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924DB-4C0E-4269-ADF9-F88DA5889A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DA225-0B44-4EAD-A3BE-EE1504A7313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BA5E8-CF13-461C-8BA4-347B5C29335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6EEA8-D281-425C-85F5-E6197E2B4C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1B81C-23D3-4490-9C2D-B068D77D83D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4FA2E-4956-41DB-B0A1-A2DB355D43E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33934-3A72-48DF-8A2A-BC842E6E59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7672D-5F18-45F9-9CF4-C87A9622E2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E9D65-97D0-4A0E-BE40-83795AFEC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DD5-A4EF-4D97-87D0-8DA6B4C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4217A-EC69-430D-99C5-F0F94469E4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43494-3F19-4B9B-AB4E-22F90EA80C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20C19-EE02-4568-80C1-7605648E20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0C2-0ED4-4FD8-AC62-754084A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3DBB45-094E-44AA-8DB0-4F53F11B392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F2441E-CE10-4019-8AD9-8157477E84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456F91-AD1B-44D1-904D-166F9F4104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4FD30F-AD50-4286-B7BF-BA691E151EE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B4AC2E-4B04-45CD-9681-88BCE1530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277-AD10-45AA-B2B1-52861824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931E8-BC38-4CA9-9DDD-FA5304C08CA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04DB3B-BB5C-4776-B43E-5E3143BAB8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C726DF-232E-49BC-A94B-93785282E4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3F094F-EF72-47F9-AC69-C3744BE2E8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5DBB54-D1A4-4C21-8D23-B8F2C7EC777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3BDBFF-8C60-453E-B007-27204E2ED5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ED059D-01B4-4E41-954E-A4AD8423B6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5122D-7D2D-4278-BBA2-C74655C11FC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D951F-9BE7-40FB-818D-44A455D25D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53C77-D53C-42A0-AF9F-5DCF0D0B3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C8AD-4CFC-457E-97B5-91D740CC98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3548-1871-4C1D-BF41-6DDE839CF8C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56D-F2EE-450C-80CE-C1DCD9BCD13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5C49-977E-4A3F-971B-3040880EE72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940F-6104-42D4-8AD4-400726C0991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6855-9DE0-4F69-B2D7-2708DB3067C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669F-4340-4A58-A72E-981ECBB1792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E5E7-7664-4984-B119-2B7D9354A2E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D0E3-3B13-4A77-BBC4-0CB965EDFE4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79C2-EBEC-433B-B790-F42EEA511E5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72F4-71CA-4C5A-B05B-35AB07D5894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14FE-8B64-484C-8C5A-F303E0711FB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EFE8-AFBD-4B24-9A73-CE143795158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BF1D-C565-4252-97DC-342988934E8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4689-E189-4D17-A27F-8A60152FAEF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6E02-8934-4A9A-A2B8-5E95019EA03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83D5-78C5-4445-9A82-FFEDA3E149B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1472-3CC5-49D0-A39A-C3DED8CC447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D48A-9498-4FFE-BC00-5D8B83FF014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12"/>
          <p:cNvSpPr/>
          <p:nvPr/>
        </p:nvSpPr>
        <p:spPr>
          <a:xfrm>
            <a:off x="4143240" y="17859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学习的校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11280" y="335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55640" y="227664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卡通幻灯片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学习的校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矩形 5"/>
          <p:cNvSpPr/>
          <p:nvPr/>
        </p:nvSpPr>
        <p:spPr>
          <a:xfrm>
            <a:off x="6308640" y="4218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그룹 27"/>
          <p:cNvGrpSpPr/>
          <p:nvPr/>
        </p:nvGrpSpPr>
        <p:grpSpPr>
          <a:xfrm>
            <a:off x="1981080" y="1558800"/>
            <a:ext cx="5543640" cy="3814920"/>
            <a:chOff x="1981080" y="1558800"/>
            <a:chExt cx="5543640" cy="3814920"/>
          </a:xfrm>
        </p:grpSpPr>
        <p:sp>
          <p:nvSpPr>
            <p:cNvPr id="1185" name="AutoShape 38"/>
            <p:cNvSpPr/>
            <p:nvPr/>
          </p:nvSpPr>
          <p:spPr>
            <a:xfrm>
              <a:off x="1981080" y="15588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AutoShape 39"/>
            <p:cNvSpPr/>
            <p:nvPr/>
          </p:nvSpPr>
          <p:spPr>
            <a:xfrm>
              <a:off x="2022120" y="1607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WordArt 40"/>
            <p:cNvSpPr txBox="1"/>
            <p:nvPr/>
          </p:nvSpPr>
          <p:spPr>
            <a:xfrm>
              <a:off x="2231640" y="174276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8" name="WordArt 41"/>
            <p:cNvSpPr txBox="1"/>
            <p:nvPr/>
          </p:nvSpPr>
          <p:spPr>
            <a:xfrm>
              <a:off x="4147920" y="180468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89" name="Line 42"/>
            <p:cNvSpPr/>
            <p:nvPr/>
          </p:nvSpPr>
          <p:spPr>
            <a:xfrm flipH="1">
              <a:off x="3996720" y="1784160"/>
              <a:ext cx="4680" cy="2044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AutoShape 43"/>
            <p:cNvSpPr/>
            <p:nvPr/>
          </p:nvSpPr>
          <p:spPr>
            <a:xfrm>
              <a:off x="1981080" y="2357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44"/>
            <p:cNvSpPr/>
            <p:nvPr/>
          </p:nvSpPr>
          <p:spPr>
            <a:xfrm>
              <a:off x="2030040" y="24192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WordArt 45"/>
            <p:cNvSpPr txBox="1"/>
            <p:nvPr/>
          </p:nvSpPr>
          <p:spPr>
            <a:xfrm>
              <a:off x="2231640" y="254304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3" name="WordArt 46"/>
            <p:cNvSpPr txBox="1"/>
            <p:nvPr/>
          </p:nvSpPr>
          <p:spPr>
            <a:xfrm>
              <a:off x="4147920" y="260316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4" name="Line 47"/>
            <p:cNvSpPr/>
            <p:nvPr/>
          </p:nvSpPr>
          <p:spPr>
            <a:xfrm>
              <a:off x="3997080" y="254304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utoShape 48"/>
            <p:cNvSpPr/>
            <p:nvPr/>
          </p:nvSpPr>
          <p:spPr>
            <a:xfrm>
              <a:off x="1981080" y="31590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AutoShape 49"/>
            <p:cNvSpPr/>
            <p:nvPr/>
          </p:nvSpPr>
          <p:spPr>
            <a:xfrm>
              <a:off x="2030040" y="322092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WordArt 50"/>
            <p:cNvSpPr txBox="1"/>
            <p:nvPr/>
          </p:nvSpPr>
          <p:spPr>
            <a:xfrm>
              <a:off x="2231640" y="334476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8" name="WordArt 51"/>
            <p:cNvSpPr txBox="1"/>
            <p:nvPr/>
          </p:nvSpPr>
          <p:spPr>
            <a:xfrm>
              <a:off x="4147920" y="340524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9" name="Line 52"/>
            <p:cNvSpPr/>
            <p:nvPr/>
          </p:nvSpPr>
          <p:spPr>
            <a:xfrm>
              <a:off x="3997080" y="334476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53"/>
            <p:cNvSpPr/>
            <p:nvPr/>
          </p:nvSpPr>
          <p:spPr>
            <a:xfrm>
              <a:off x="1981080" y="3959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AutoShape 54"/>
            <p:cNvSpPr/>
            <p:nvPr/>
          </p:nvSpPr>
          <p:spPr>
            <a:xfrm>
              <a:off x="2030040" y="40194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WordArt 55"/>
            <p:cNvSpPr txBox="1"/>
            <p:nvPr/>
          </p:nvSpPr>
          <p:spPr>
            <a:xfrm>
              <a:off x="2231640" y="414360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3" name="WordArt 56"/>
            <p:cNvSpPr txBox="1"/>
            <p:nvPr/>
          </p:nvSpPr>
          <p:spPr>
            <a:xfrm>
              <a:off x="4147920" y="420372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4" name="Line 57"/>
            <p:cNvSpPr/>
            <p:nvPr/>
          </p:nvSpPr>
          <p:spPr>
            <a:xfrm>
              <a:off x="3997080" y="414360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AutoShape 58"/>
            <p:cNvSpPr/>
            <p:nvPr/>
          </p:nvSpPr>
          <p:spPr>
            <a:xfrm>
              <a:off x="1981080" y="475956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AutoShape 59"/>
            <p:cNvSpPr/>
            <p:nvPr/>
          </p:nvSpPr>
          <p:spPr>
            <a:xfrm>
              <a:off x="2030040" y="4784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WordArt 60"/>
            <p:cNvSpPr txBox="1"/>
            <p:nvPr/>
          </p:nvSpPr>
          <p:spPr>
            <a:xfrm>
              <a:off x="2231640" y="494352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8" name="WordArt 61"/>
            <p:cNvSpPr txBox="1"/>
            <p:nvPr/>
          </p:nvSpPr>
          <p:spPr>
            <a:xfrm>
              <a:off x="4147920" y="5005440"/>
              <a:ext cx="1512720" cy="1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9" name="Line 62"/>
            <p:cNvSpPr/>
            <p:nvPr/>
          </p:nvSpPr>
          <p:spPr>
            <a:xfrm>
              <a:off x="3997080" y="494352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54"/>
          <p:cNvGrpSpPr/>
          <p:nvPr/>
        </p:nvGrpSpPr>
        <p:grpSpPr>
          <a:xfrm>
            <a:off x="1052640" y="1558800"/>
            <a:ext cx="785520" cy="3814920"/>
            <a:chOff x="1052640" y="1558800"/>
            <a:chExt cx="785520" cy="3814920"/>
          </a:xfrm>
        </p:grpSpPr>
        <p:sp>
          <p:nvSpPr>
            <p:cNvPr id="1211" name="AutoShape 38"/>
            <p:cNvSpPr/>
            <p:nvPr/>
          </p:nvSpPr>
          <p:spPr>
            <a:xfrm>
              <a:off x="1052640" y="15588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39"/>
            <p:cNvSpPr/>
            <p:nvPr/>
          </p:nvSpPr>
          <p:spPr>
            <a:xfrm>
              <a:off x="1058760" y="1607760"/>
              <a:ext cx="77148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43"/>
            <p:cNvSpPr/>
            <p:nvPr/>
          </p:nvSpPr>
          <p:spPr>
            <a:xfrm>
              <a:off x="1052640" y="2357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44"/>
            <p:cNvSpPr/>
            <p:nvPr/>
          </p:nvSpPr>
          <p:spPr>
            <a:xfrm>
              <a:off x="1058760" y="24192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48"/>
            <p:cNvSpPr/>
            <p:nvPr/>
          </p:nvSpPr>
          <p:spPr>
            <a:xfrm>
              <a:off x="1052640" y="31590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49"/>
            <p:cNvSpPr/>
            <p:nvPr/>
          </p:nvSpPr>
          <p:spPr>
            <a:xfrm>
              <a:off x="1058760" y="322092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utoShape 53"/>
            <p:cNvSpPr/>
            <p:nvPr/>
          </p:nvSpPr>
          <p:spPr>
            <a:xfrm>
              <a:off x="1052640" y="3959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AutoShape 54"/>
            <p:cNvSpPr/>
            <p:nvPr/>
          </p:nvSpPr>
          <p:spPr>
            <a:xfrm>
              <a:off x="1058760" y="40194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AutoShape 58"/>
            <p:cNvSpPr/>
            <p:nvPr/>
          </p:nvSpPr>
          <p:spPr>
            <a:xfrm>
              <a:off x="1052640" y="475956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AutoShape 59"/>
            <p:cNvSpPr/>
            <p:nvPr/>
          </p:nvSpPr>
          <p:spPr>
            <a:xfrm>
              <a:off x="1058760" y="4784760"/>
              <a:ext cx="77292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TextBox 56"/>
          <p:cNvSpPr/>
          <p:nvPr/>
        </p:nvSpPr>
        <p:spPr>
          <a:xfrm>
            <a:off x="1247760" y="1566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57"/>
          <p:cNvSpPr/>
          <p:nvPr/>
        </p:nvSpPr>
        <p:spPr>
          <a:xfrm>
            <a:off x="1247760" y="24004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58"/>
          <p:cNvSpPr/>
          <p:nvPr/>
        </p:nvSpPr>
        <p:spPr>
          <a:xfrm>
            <a:off x="1247760" y="31813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59"/>
          <p:cNvSpPr/>
          <p:nvPr/>
        </p:nvSpPr>
        <p:spPr>
          <a:xfrm>
            <a:off x="1247760" y="3987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Box 60"/>
          <p:cNvSpPr/>
          <p:nvPr/>
        </p:nvSpPr>
        <p:spPr>
          <a:xfrm>
            <a:off x="1247760" y="4775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18C-53FD-4428-94EA-53732F088C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TextBox 1" descr=""/>
          <p:cNvPicPr/>
          <p:nvPr/>
        </p:nvPicPr>
        <p:blipFill>
          <a:blip r:embed="rId2"/>
          <a:stretch/>
        </p:blipFill>
        <p:spPr>
          <a:xfrm>
            <a:off x="2133720" y="2152800"/>
            <a:ext cx="53402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/>
  <dc:description/>
  <cp:keywords>幻灯片之家 http:/www.eeppt.com</cp:keywords>
  <dc:language>en-US</dc:language>
  <cp:lastModifiedBy/>
  <dcterms:modified xsi:type="dcterms:W3CDTF">2015-07-09T07:26:40Z</dcterms:modified>
  <cp:revision>2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