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C8B-92BB-4F2D-86D4-200B141F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E6C-088F-450E-93D2-AE68FDF5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95B-1818-4224-86CE-973CB9F3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66C-0490-4917-A302-1F078577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F48B-CB56-4B8D-92E7-D545C7C0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422-95AE-48B1-9D71-8358551C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AEF6-C2C1-4193-88BF-4114899C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F698-9D56-474E-A9F0-58809125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0CDB-304C-414A-9B01-B436E27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E0EE-19B6-4C7C-9C64-1A3FE4B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1C67-84F5-4B6A-AA48-8E4DD2A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60E-4686-4C34-BFED-AC4A258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B848-2A08-4339-9AE3-D4A3768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805F-C91C-42AA-89E0-CD7E883D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6055-5548-4E63-B303-56AA873E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89F0-3F36-44B4-AE99-A8E7BA5D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6859-B4C4-4723-97D4-A4FCEF5C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00F-6E89-4BB0-AFBA-EB8A91B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130-F8FD-4F5E-BBDF-BB3AE45F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01E-4ED1-42BE-BCB6-83DE6B4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6CE-515C-433D-AAA0-CFC4E615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ED5-6755-4BB9-8B76-C9D89E4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1C2-FE6B-474A-865B-9EB1D19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78D-64FE-4EFD-9E25-F64E88B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2199-C568-4D5E-9C40-4177D365867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D5DE-FFE5-4713-A8E5-CF8B2AF3CF9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6933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660066"/>
                </a:solidFill>
                <a:latin typeface="黑体"/>
                <a:ea typeface="黑体"/>
              </a:rPr>
              <a:t>教师职业道德</a:t>
            </a:r>
            <a:endParaRPr b="0" lang="en-US" sz="8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7920" y="3809520"/>
            <a:ext cx="4419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b4359"/>
                </a:solidFill>
                <a:latin typeface="Impact"/>
                <a:ea typeface="楷体_GB2312"/>
              </a:rPr>
              <a:t>主讲：</a:t>
            </a:r>
            <a:r>
              <a:rPr b="1" lang="en-US" sz="6000" spc="-1" strike="noStrike">
                <a:solidFill>
                  <a:srgbClr val="db4359"/>
                </a:solidFill>
                <a:latin typeface="Impact"/>
                <a:ea typeface="楷体_GB2312"/>
              </a:rPr>
              <a:t>XXX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6019920"/>
            <a:ext cx="50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幼圆"/>
              </a:rPr>
              <a:t>课件制作：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幼圆"/>
              </a:rPr>
              <a:t>XXX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依法执教的要求</a:t>
            </a:r>
            <a:endParaRPr b="0" lang="en-US" sz="4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一）教师要努力学习和宣传马列主义、毛泽东思想和邓小平理论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正确的理论是旗帜、是方向，是系统化了的理性认识。正确的理论是对客观事物本质和规律性的正确反映，是在社会实践的基础上产生并且经过实践检验和证明的理论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43000" y="9140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二）要坚决拥护党的基本路线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党的基本路线是我们党关于一定历史时期的奋斗目标、总任务、总方针、总政策的浓缩语。它是我们党和国家的生命线，是我们国家在一定历史时期长治久安，发展强大的保障，离开了这个基本路线，依法执教就失去了方向和根基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三）要下功夫学习有关教育方面的政策、法律和法规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2952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第三节</a:t>
            </a:r>
            <a:r>
              <a:rPr b="1" i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依法执教的途径和方法</a:t>
            </a:r>
            <a:endParaRPr b="0" lang="en-US" sz="4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、依法执教的途径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一）在“教书”实践中贯彻落实教育法律法规和其它相关的方针和政策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二）在“育人”的实践过程中贯彻落实教育法律法规和其相关的法律法规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52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-15228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依法执教的方法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一）努力学习各种法律、法规，特别是有关教师执教的法律、法规，深刻认识它的强制性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二）要认真、踏实地做以依法管教、依法行教、依法保护教师、学生和学校的合法权益</a:t>
            </a: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首先，要依法管理学生，依法管理教学，依法管理自己的言行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其二，要依法行教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其三，要强化“依法执教”的宣传力度，强化全社会的“依法执教”意识。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76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制作人员：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XX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学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中心）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第八章</a:t>
            </a:r>
            <a:r>
              <a:rPr b="1" lang="en-US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br>
              <a:rPr sz="6600"/>
            </a:br>
            <a:r>
              <a:rPr b="1" lang="zh-CN" sz="9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依法执教</a:t>
            </a:r>
            <a:endParaRPr b="0" lang="en-US" sz="9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8744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幼圆"/>
              </a:rPr>
              <a:t>教师职业道德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第一节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依法执教及其意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依法执教的涵义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所谓依法执教，就是要求教师在教育教学活动中，严格按照教育《宪法》和教育方面的法律、法规以及其他相关的法律、法规，使自己的教育教学活动符合法制化的要求。如：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宪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教育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教师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义务教育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《中华人民共和国未成年人保护法》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 依法执教的重要意义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27080"/>
            <a:ext cx="723888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教师随意批评、责备学生；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教师采用各种方式体罚学生；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教师私拆私扣学生的信件；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教师动不动将学生赶出教室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为此，《中小学教师职业道德规范》中的第一个规范，要求教师做到依法执教。其重要意义是：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（一）依法执教是依法治国的必然要求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9644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可见，依法治国，首先要依法管理国家事务，管理经济文化事业，管理社会事务；其二，要保证国家各项工作都依法进行；其三，是在此基础上，逐步实现社会主义民主的制度化、法律化；其四，要在中国坚决纠正人治代替法制，人治高于法制、大于法制的封建主义的遗瘤，真正做到依法管理社会各项事务，依法治理社会主义国家中的各行各业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cc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3160800"/>
            <a:ext cx="777240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（二）依法执教是依法治教的重要内容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依法治教，是指国家机关以及有关机构依照有关教育的法律规定，在其职权范围内从事有关教育的治理活动，以及各级各类学校及其他教育机构、社会组织和公民依照有关教育的法律规定，从事办学活动、教育教学活动及其他有关教育的活动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454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（三）依法执教是人民教师之必需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B49-8A31-40C4-A921-60166ADBB6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第二节</a:t>
            </a: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br>
              <a:rPr sz="5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依法执教的内容与要求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依法执教的内容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一）要依法贯彻执行党和国家的路线、方针和政策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贯彻执行党的基本路线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贯彻执行党的教育方针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贯彻执行党的各项路线、方针和政策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二）要依法贯彻落实教育教学的各项法律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法规规范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（三）要依法维护学校、教师的合法权益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要维护学校的合法权益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要维护教师的合法权益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190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要维护学生的合法权益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43Z</dcterms:created>
  <dc:creator/>
  <dc:description/>
  <cp:keywords>幻灯片之家 http:/www.eeppt.com</cp:keywords>
  <dc:language>en-US</dc:language>
  <cp:lastModifiedBy/>
  <dcterms:modified xsi:type="dcterms:W3CDTF">2015-07-13T09:38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