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5EC6-6B66-4EFC-9B56-94D86D1E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640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371600" y="4378320"/>
            <a:ext cx="640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E48F-7BA2-4E27-9A9D-6BF3085E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37832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51560" y="437832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DEBC-5B31-4908-85F8-DE25EFC0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35560" y="266688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699880" y="266688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371600" y="437832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535560" y="437832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699880" y="437832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C647-3217-4A3A-984B-87B11945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72DB-F7D9-4D16-BA5F-01243713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7DC7-4804-4FB2-A10F-6F960949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4531-FCE1-4038-9953-6AF2F3D6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31233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2666880"/>
            <a:ext cx="31233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37B4-0C1C-4676-BA5C-3EDEE692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CF57-819E-4C2C-8C5E-1CC6DFCE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1B43-E2BD-4D09-A7CE-6F809213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2666880"/>
            <a:ext cx="31233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37832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F1BC-4696-4820-B928-FD1D6F7F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D88D-750C-43E6-9F6B-6F5C006F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31233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37832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689E-8F8B-484E-9EFE-55444874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378320"/>
            <a:ext cx="640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8E5C-350F-4656-92F6-4A06ABD4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640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378320"/>
            <a:ext cx="640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9D3F-B972-4592-A0DA-BB639F26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37832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37832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6C8E-914D-4546-859F-BB0D003D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266688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266688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37832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37832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37832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9D82-3B4B-4112-9992-4863B125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061B-7A95-410B-9F72-7F6EBBAF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31233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2666880"/>
            <a:ext cx="31233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EFB5-FE25-4D7C-9368-DE51E850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B7E9-938F-4B5C-A9F3-421D5E51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51F1-85D5-43CB-AEBA-EAFFE9DF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2666880"/>
            <a:ext cx="31233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37832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2A46-ECA8-42DD-8867-6D19BAAD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31233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51560" y="437832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6AE3-8BB6-4094-AADA-45562F11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78320"/>
            <a:ext cx="640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7E7A-A5F6-4658-9745-67545686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2209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1907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6B86-4B99-4904-B736-8A96C6D0837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895080" y="5166000"/>
            <a:ext cx="2165040" cy="1350720"/>
            <a:chOff x="6895080" y="5166000"/>
            <a:chExt cx="2165040" cy="1350720"/>
          </a:xfrm>
        </p:grpSpPr>
        <p:sp>
          <p:nvSpPr>
            <p:cNvPr id="6" name=""/>
            <p:cNvSpPr/>
            <p:nvPr/>
          </p:nvSpPr>
          <p:spPr>
            <a:xfrm rot="20940000">
              <a:off x="6934320" y="591984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91400" y="5353200"/>
              <a:ext cx="419400" cy="4190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320000">
              <a:off x="8282160" y="5257800"/>
              <a:ext cx="60948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0940000">
              <a:off x="7062840" y="60199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67720" y="542916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1320000">
              <a:off x="8358480" y="5410080"/>
              <a:ext cx="609480" cy="6098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380880" y="1219320"/>
            <a:ext cx="8305920" cy="380880"/>
            <a:chOff x="380880" y="1219320"/>
            <a:chExt cx="8305920" cy="380880"/>
          </a:xfrm>
        </p:grpSpPr>
        <p:sp>
          <p:nvSpPr>
            <p:cNvPr id="13" name=""/>
            <p:cNvSpPr/>
            <p:nvPr/>
          </p:nvSpPr>
          <p:spPr>
            <a:xfrm>
              <a:off x="609480" y="144792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80880" y="121932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">
            <a:hlinkClick r:id="" action="ppaction://hlinkshowjump?jump=previousslide"/>
          </p:cNvPr>
          <p:cNvSpPr/>
          <p:nvPr/>
        </p:nvSpPr>
        <p:spPr>
          <a:xfrm>
            <a:off x="781200" y="6416640"/>
            <a:ext cx="55692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nextslide"/>
          </p:cNvPr>
          <p:cNvSpPr/>
          <p:nvPr/>
        </p:nvSpPr>
        <p:spPr>
          <a:xfrm>
            <a:off x="1447920" y="6416640"/>
            <a:ext cx="55692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75960" y="6323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5BDD-EDCC-488D-BBDE-6BAB9ED4FC4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828800" y="304920"/>
            <a:ext cx="457200" cy="45720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10000" y="171360"/>
            <a:ext cx="419040" cy="41904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20940000">
            <a:off x="1752480" y="228600"/>
            <a:ext cx="457200" cy="45720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33680" y="19080"/>
            <a:ext cx="419040" cy="41904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95080" y="5089680"/>
            <a:ext cx="2165040" cy="1350720"/>
            <a:chOff x="6895080" y="5089680"/>
            <a:chExt cx="2165040" cy="1350720"/>
          </a:xfrm>
        </p:grpSpPr>
        <p:sp>
          <p:nvSpPr>
            <p:cNvPr id="62" name=""/>
            <p:cNvSpPr/>
            <p:nvPr/>
          </p:nvSpPr>
          <p:spPr>
            <a:xfrm rot="20940000">
              <a:off x="6934320" y="58435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691400" y="5276880"/>
              <a:ext cx="419400" cy="4190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320000">
              <a:off x="8282160" y="5181480"/>
              <a:ext cx="60948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0940000">
              <a:off x="7062840" y="594360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767720" y="535284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320000">
              <a:off x="8358480" y="5333760"/>
              <a:ext cx="609480" cy="6098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 rot="1320000">
            <a:off x="168120" y="244080"/>
            <a:ext cx="882720" cy="882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95280" y="609480"/>
            <a:ext cx="87487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  <a:ea typeface="华文新魏"/>
              </a:rPr>
              <a:t>教务管理系统开发总体思路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      </a:t>
            </a:r>
            <a:r>
              <a:rPr b="1" lang="en-US" sz="2800" spc="-1" strike="noStrike">
                <a:solidFill>
                  <a:srgbClr val="90dbff"/>
                </a:solidFill>
                <a:latin typeface="楷体_GB2312"/>
                <a:ea typeface="楷体_GB2312"/>
              </a:rPr>
              <a:t>XX</a:t>
            </a:r>
            <a:r>
              <a:rPr b="1" lang="en-US" sz="2800" spc="-1" strike="noStrike">
                <a:solidFill>
                  <a:srgbClr val="90dbff"/>
                </a:solidFill>
                <a:latin typeface="楷体_GB2312"/>
                <a:ea typeface="楷体_GB2312"/>
              </a:rPr>
              <a:t>电大  </a:t>
            </a:r>
            <a:r>
              <a:rPr b="1" lang="en-US" sz="2800" spc="-1" strike="noStrike">
                <a:solidFill>
                  <a:srgbClr val="90dbff"/>
                </a:solidFill>
                <a:latin typeface="楷体_GB2312"/>
                <a:ea typeface="楷体_GB2312"/>
              </a:rPr>
              <a:t>XX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0dbff"/>
                </a:solidFill>
                <a:latin typeface="Times New Roman"/>
              </a:rPr>
              <a:t>                                             </a:t>
            </a:r>
            <a:r>
              <a:rPr b="0" lang="en-US" sz="2800" spc="-1" strike="noStrike">
                <a:solidFill>
                  <a:srgbClr val="90db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90dbff"/>
                </a:solidFill>
                <a:latin typeface="Times New Roman"/>
              </a:rPr>
              <a:t>年</a:t>
            </a:r>
            <a:r>
              <a:rPr b="0" lang="en-US" sz="2800" spc="-1" strike="noStrike">
                <a:solidFill>
                  <a:srgbClr val="90db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90dbff"/>
                </a:solidFill>
                <a:latin typeface="Times New Roman"/>
              </a:rPr>
              <a:t>月</a:t>
            </a:r>
            <a:r>
              <a:rPr b="0" lang="en-US" sz="2800" spc="-1" strike="noStrike">
                <a:solidFill>
                  <a:srgbClr val="90db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90dbff"/>
                </a:solidFill>
                <a:latin typeface="Times New Roman"/>
              </a:rPr>
              <a:t>日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38080" y="1484280"/>
            <a:ext cx="769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专业规则编制办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00000" y="907920"/>
            <a:ext cx="8077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90dbff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90dbff"/>
                </a:solidFill>
                <a:latin typeface="黑体"/>
                <a:ea typeface="黑体"/>
              </a:rPr>
              <a:t>两级平台</a:t>
            </a: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90dbff"/>
                </a:solidFill>
                <a:latin typeface="黑体"/>
                <a:ea typeface="黑体"/>
              </a:rPr>
              <a:t>四层管理</a:t>
            </a: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90dbff"/>
                </a:solidFill>
                <a:latin typeface="黑体"/>
                <a:ea typeface="黑体"/>
              </a:rPr>
              <a:t>五类用户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两级平台：中央电大平台   省电大平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四层管理：中央电大   省电大   分校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教学点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工作站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五类用户：中央电大   省电大   分校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教学点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工作站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)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学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两级平台的建设（包括软、硬件的建设和系统的管理维护）类似于网站的技术要求。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34900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三</a:t>
            </a: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)</a:t>
            </a: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以开放教育为主线</a:t>
            </a: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,</a:t>
            </a: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适当考虑其他类型</a:t>
            </a:r>
            <a:br>
              <a:rPr sz="3600"/>
            </a:b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    电大教育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26920" y="17733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90dbff"/>
                </a:solidFill>
                <a:latin typeface="黑体"/>
                <a:ea typeface="黑体"/>
              </a:rPr>
              <a:t>四</a:t>
            </a: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90dbff"/>
                </a:solidFill>
                <a:latin typeface="黑体"/>
                <a:ea typeface="黑体"/>
              </a:rPr>
              <a:t>增加招生模块</a:t>
            </a: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90dbff"/>
                </a:solidFill>
                <a:latin typeface="黑体"/>
                <a:ea typeface="黑体"/>
              </a:rPr>
              <a:t>集中打印证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增加收费模块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增加毕业生追踪模块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取消教材模块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谢谢大家！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114300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Times New Roman"/>
              </a:rPr>
              <a:t>一、对原系统的基本评价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209680"/>
            <a:ext cx="776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db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90dbff"/>
                </a:solidFill>
                <a:latin typeface="黑体"/>
                <a:ea typeface="黑体"/>
              </a:rPr>
              <a:t>、贡献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保证基本需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提高电大系统管理现代化水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为本次开发奠定基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55640" y="1484280"/>
            <a:ext cx="776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db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90dbff"/>
                </a:solidFill>
                <a:latin typeface="黑体"/>
                <a:ea typeface="黑体"/>
              </a:rPr>
              <a:t>、缺陷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主要原因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技术发展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需求发展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人员水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主要表现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不易使用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不易维护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不易升级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数据传送困难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不同步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以教学计划为基础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无法真正课程注册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对分校技术要求和设使要求高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三个平台各自独立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形成信息孤岛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1143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Times New Roman"/>
              </a:rPr>
              <a:t>二、开发设计的重大变化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2209680"/>
            <a:ext cx="79106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开发过程已经征求了部分电大的意见，提出的变化请专家们批评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90dbff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90dbff"/>
                </a:solidFill>
                <a:latin typeface="黑体"/>
                <a:ea typeface="黑体"/>
              </a:rPr>
              <a:t>以专业规则代替教学计划</a:t>
            </a:r>
            <a:r>
              <a:rPr b="1" lang="en-US" sz="3600" spc="-1" strike="noStrike">
                <a:solidFill>
                  <a:srgbClr val="90db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90dbff"/>
                </a:solidFill>
                <a:latin typeface="黑体"/>
                <a:ea typeface="黑体"/>
              </a:rPr>
              <a:t>以统一课程代码实现专业规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专业规则可以实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  “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课程超市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学分银行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的开放教育教学管理理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专业规则就是活的教学计划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专业规则适应学期设置变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imes New Roman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4360" y="404640"/>
            <a:ext cx="7694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课程代码的设计思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课程代码包含元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层次，学科，门类，顺序号，开课单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                       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顺序号可以包含专业信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课程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课程代码，课程名称，学分（学时），教学主要内容，主要教学媒体，与其它课程关系（先修后续，相斥课程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课程代码编制办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统一编码规则，各校自行编码，报中央电大备案，进入课程库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或者统一编码？分校开设课程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26920" y="1052640"/>
            <a:ext cx="7694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专业规则的设计思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专业规则模板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、专业概况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含目标、规格、毕业等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二、课程设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本专业设置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个基本课程教学（环节）模块。各模块最低完成学分（及最高完成学分）分别为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55640" y="549360"/>
            <a:ext cx="7694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模块一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必修下列课程，参加中央电大考试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11543760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11543770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从下列课程中选修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0-1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学分，参加中央电大考试：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115437800-----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从下列课程中选择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0-1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学分，其中中央电大考试学分不少于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*11543****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从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中选择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-5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学分，参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---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考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2BC2-8AA4-457D-ABE7-0F3DBDBFEE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26920" y="1197000"/>
            <a:ext cx="7694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专业补充规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自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日起，凡已经学习并取得了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11543760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课程学分者，该学分有效，未获得该课程学分者，必须（可以）学习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11543790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课程，参加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组织的考试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自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日起，增加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××××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模块，在籍者可以从该模块中选修课程。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3:55:44Z</dcterms:created>
  <dc:creator/>
  <dc:description/>
  <cp:keywords>幻灯片之家 http:/www.eeppt.com</cp:keywords>
  <dc:language>en-US</dc:language>
  <cp:lastModifiedBy/>
  <dcterms:modified xsi:type="dcterms:W3CDTF">2015-07-13T09:20:4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