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projctor.wav" ContentType="audio/x-wav"/>
  <Override PartName="/ppt/media/image13.jpeg" ContentType="image/jpeg"/>
  <Override PartName="/ppt/media/image1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9.jpeg" ContentType="image/jpeg"/>
  <Override PartName="/ppt/media/image11.jpeg" ContentType="image/jpeg"/>
  <Override PartName="/ppt/media/image3.jpeg" ContentType="image/jpeg"/>
  <Override PartName="/ppt/media/image12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EC888-4545-4EFD-B3B4-B4EF63704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990B1-BFCF-4DD2-8F75-1444A3D5E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79147-8478-4B6F-AD7B-F3D3DF54A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401EE-25BE-489F-8F85-2FFBCA8EB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B1496-8D13-47AD-B85A-831009A52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35162-00F0-4DD7-94FF-BE63175DB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B4299-5662-4B13-B69D-F32BBE107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CCDAE-EA36-44D6-ABEB-A08EB85F4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0ECCF-E84B-405A-BCDD-C0F4B5DDE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2EAAE-FA93-4E32-BC2F-7E3D27EDE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18F1B-A40A-4EFD-914F-19CCA9501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22A59-A867-49CE-922A-EA2434CBE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E0A78-A7AA-4010-AB02-1B7BCF93E3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256,3,&#24187;&#28783;&#29255; 3" TargetMode="External"/><Relationship Id="rId3" Type="http://schemas.openxmlformats.org/officeDocument/2006/relationships/hyperlink" Target="256,3,&#24187;&#28783;&#29255; 3" TargetMode="External"/><Relationship Id="rId4" Type="http://schemas.openxmlformats.org/officeDocument/2006/relationships/hyperlink" Target="256,3,&#24187;&#28783;&#29255; 3" TargetMode="External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moban/kejian/" TargetMode="External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708480"/>
            <a:ext cx="777240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500" spc="-1" strike="noStrike">
              <a:solidFill>
                <a:srgbClr val="000000"/>
              </a:solidFill>
              <a:latin typeface="Arial"/>
              <a:ea typeface="楷体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638172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39920" y="1125360"/>
            <a:ext cx="268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敬畏自然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课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2514600" y="563868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3" descr="G:\sha1.jpg"/>
          <p:cNvPicPr/>
          <p:nvPr/>
        </p:nvPicPr>
        <p:blipFill>
          <a:blip r:embed="rId2"/>
          <a:stretch/>
        </p:blipFill>
        <p:spPr>
          <a:xfrm>
            <a:off x="304920" y="228600"/>
            <a:ext cx="8610480" cy="5867280"/>
          </a:xfrm>
          <a:prstGeom prst="rect">
            <a:avLst/>
          </a:prstGeom>
          <a:ln w="0">
            <a:noFill/>
          </a:ln>
        </p:spPr>
      </p:pic>
      <p:sp>
        <p:nvSpPr>
          <p:cNvPr id="64" name="Text Box 4"/>
          <p:cNvSpPr/>
          <p:nvPr/>
        </p:nvSpPr>
        <p:spPr>
          <a:xfrm>
            <a:off x="2743200" y="609588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沙尘暴就在我们身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G:\洪水.jpg"/>
          <p:cNvPicPr/>
          <p:nvPr/>
        </p:nvPicPr>
        <p:blipFill>
          <a:blip r:embed="rId2"/>
          <a:stretch/>
        </p:blipFill>
        <p:spPr>
          <a:xfrm>
            <a:off x="228600" y="228600"/>
            <a:ext cx="8686800" cy="5943600"/>
          </a:xfrm>
          <a:prstGeom prst="rect">
            <a:avLst/>
          </a:prstGeom>
          <a:ln w="0">
            <a:noFill/>
          </a:ln>
        </p:spPr>
      </p:pic>
      <p:sp>
        <p:nvSpPr>
          <p:cNvPr id="66" name="Text Box 3"/>
          <p:cNvSpPr/>
          <p:nvPr/>
        </p:nvSpPr>
        <p:spPr>
          <a:xfrm>
            <a:off x="2895480" y="6172200"/>
            <a:ext cx="3124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洪               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G:\tai1.jpg"/>
          <p:cNvPicPr/>
          <p:nvPr/>
        </p:nvPicPr>
        <p:blipFill>
          <a:blip r:embed="rId2"/>
          <a:stretch/>
        </p:blipFill>
        <p:spPr>
          <a:xfrm>
            <a:off x="228600" y="228600"/>
            <a:ext cx="8686800" cy="5867280"/>
          </a:xfrm>
          <a:prstGeom prst="rect">
            <a:avLst/>
          </a:prstGeom>
          <a:ln w="0">
            <a:noFill/>
          </a:ln>
        </p:spPr>
      </p:pic>
      <p:sp>
        <p:nvSpPr>
          <p:cNvPr id="68" name="Text Box 3"/>
          <p:cNvSpPr/>
          <p:nvPr/>
        </p:nvSpPr>
        <p:spPr>
          <a:xfrm>
            <a:off x="2743200" y="6172200"/>
            <a:ext cx="3581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台               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G:\haixiao2.jpg"/>
          <p:cNvPicPr/>
          <p:nvPr/>
        </p:nvPicPr>
        <p:blipFill>
          <a:blip r:embed="rId2"/>
          <a:stretch/>
        </p:blipFill>
        <p:spPr>
          <a:xfrm>
            <a:off x="304920" y="228600"/>
            <a:ext cx="8610480" cy="5867280"/>
          </a:xfrm>
          <a:prstGeom prst="rect">
            <a:avLst/>
          </a:prstGeom>
          <a:ln w="0">
            <a:noFill/>
          </a:ln>
        </p:spPr>
      </p:pic>
      <p:sp>
        <p:nvSpPr>
          <p:cNvPr id="70" name="Text Box 3"/>
          <p:cNvSpPr/>
          <p:nvPr/>
        </p:nvSpPr>
        <p:spPr>
          <a:xfrm>
            <a:off x="2590920" y="617220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人们在灾难中惊慌失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敬畏自然的含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0" y="999720"/>
            <a:ext cx="9144000" cy="505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两层含义，一是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“敬重”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一是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“畏惧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敬重自然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就是充分认识自然的伟大，充分认识自然界的一切都有存在的意义。自然界的一切生物包括人类都是自然的组成部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畏惧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可以从“爱护自然”一语中找到它的含义。破坏大自然必然遭到大自然的惩罚，大自然的惩罚是无情的，是令人畏惧的。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人类应该与自然求得和谐的发展，要使自然界更美好，从而使人类的生活更美好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楷体"/>
              </a:rPr>
              <a:t>读读记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28760" y="1714680"/>
            <a:ext cx="822960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蓬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蒿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咫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尺           狼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藉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  呐喊        不自量力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相形见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绌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精巧绝伦   美味佳肴    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赋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深邃        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混淆    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鲲鹏          斥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鷃 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狂妄          不可思议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6"/>
          <p:cNvSpPr/>
          <p:nvPr/>
        </p:nvSpPr>
        <p:spPr>
          <a:xfrm>
            <a:off x="1619280" y="2917800"/>
            <a:ext cx="216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整体感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速读课文，思考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"/>
              </a:rPr>
              <a:t>本文写了什么内容？包含了作者怎样的思想感情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找出文中表达作者观点的关键性语句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353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楷体"/>
              </a:rPr>
              <a:t>感知课文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28760" y="12859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楷体"/>
              </a:rPr>
              <a:t>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"/>
              </a:rPr>
              <a:t>本文写了什么内容？包含了作者怎样的思想感情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"/>
              </a:rPr>
              <a:t>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2"/>
          <p:cNvSpPr/>
          <p:nvPr/>
        </p:nvSpPr>
        <p:spPr>
          <a:xfrm>
            <a:off x="285840" y="1764360"/>
            <a:ext cx="8572320" cy="50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本文写了（   ）与（  ）的关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楷体"/>
                <a:ea typeface="楷体"/>
              </a:rPr>
              <a:t>           </a:t>
            </a:r>
            <a:r>
              <a:rPr b="1" lang="zh-CN" sz="4400" spc="-1" strike="noStrike">
                <a:solidFill>
                  <a:srgbClr val="ff0000"/>
                </a:solidFill>
                <a:latin typeface="楷体"/>
                <a:ea typeface="楷体"/>
              </a:rPr>
              <a:t>人     自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作者认为，人类不要再宣（</a:t>
            </a:r>
            <a:r>
              <a:rPr b="1" lang="zh-CN" sz="4400" spc="-1" strike="noStrike">
                <a:solidFill>
                  <a:srgbClr val="ff0000"/>
                </a:solidFill>
                <a:latin typeface="楷体"/>
                <a:ea typeface="楷体"/>
              </a:rPr>
              <a:t>  </a:t>
            </a: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），应该</a:t>
            </a:r>
            <a:r>
              <a:rPr b="1" lang="en-US" sz="4400" spc="-1" strike="noStrike">
                <a:solidFill>
                  <a:srgbClr val="000000"/>
                </a:solidFill>
                <a:latin typeface="楷体"/>
                <a:ea typeface="楷体"/>
              </a:rPr>
              <a:t>(   )</a:t>
            </a: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，“爱护自然”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楷体"/>
                <a:ea typeface="楷体"/>
              </a:rPr>
              <a:t>征服自然   敬畏自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85840" y="1428480"/>
            <a:ext cx="840096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找出文中表达作者观点的关键性语句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228564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2d2d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2d2d8a"/>
                </a:solidFill>
                <a:latin typeface="Arial"/>
              </a:rPr>
              <a:t>我们再也不应该把宇宙的其他部分看作只是我们征服的对象，</a:t>
            </a:r>
            <a:r>
              <a:rPr b="1" lang="en-US" sz="4400" spc="-1" strike="noStrike">
                <a:solidFill>
                  <a:srgbClr val="2d2d8a"/>
                </a:solidFill>
                <a:latin typeface="Arial"/>
              </a:rPr>
              <a:t>……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敬畏它们，就是敬畏宇宙，敬畏自然，就是敬畏我们自己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作者为什么提出要“敬畏自然”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Arial"/>
              </a:rPr>
              <a:t>因为人们常常把人与自然对立起来，宣称要征服自然，这种观点走到极端就会破坏自然，导致自然界的惩罚，只有认识自然的伟大，爱护自然，人类才能求得与自然的和谐发展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2"/>
          <p:cNvSpPr/>
          <p:nvPr/>
        </p:nvSpPr>
        <p:spPr>
          <a:xfrm>
            <a:off x="533520" y="609480"/>
            <a:ext cx="78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议论文知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380880" y="1676520"/>
            <a:ext cx="815364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三要素：论点，论据，论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论点：需要证明什么（</a:t>
            </a:r>
            <a:r>
              <a:rPr b="1" lang="zh-CN" sz="3600" spc="-1" strike="noStrike">
                <a:solidFill>
                  <a:srgbClr val="3333ff"/>
                </a:solidFill>
                <a:latin typeface="Arial"/>
              </a:rPr>
              <a:t>作者的观点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论据：用什么来证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论证：怎样证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5"/>
          <p:cNvSpPr/>
          <p:nvPr/>
        </p:nvSpPr>
        <p:spPr>
          <a:xfrm>
            <a:off x="4500720" y="3286080"/>
            <a:ext cx="434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事实论据　道理论据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152280" y="4876920"/>
            <a:ext cx="870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论证方法：举例论证，引用论证，比喻论证　对比论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楷体"/>
              </a:rPr>
              <a:t>人要敬畏自然，主要是因为</a:t>
            </a:r>
            <a:r>
              <a:rPr b="1" lang="en-US" sz="4000" spc="-1" strike="noStrike">
                <a:solidFill>
                  <a:srgbClr val="ff3300"/>
                </a:solidFill>
                <a:latin typeface="楷体"/>
                <a:ea typeface="楷体"/>
              </a:rPr>
              <a:t>……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0" y="1285560"/>
            <a:ext cx="91440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4400" spc="-1" strike="noStrike">
                <a:solidFill>
                  <a:srgbClr val="660066"/>
                </a:solidFill>
                <a:latin typeface="楷体"/>
                <a:ea typeface="楷体"/>
              </a:rPr>
              <a:t>人类与自然相比（第一自然段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 </a:t>
            </a: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论历史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：“宇宙至少已有</a:t>
            </a:r>
            <a:r>
              <a:rPr b="1" lang="en-US" sz="4000" spc="-1" strike="noStrike">
                <a:solidFill>
                  <a:srgbClr val="000000"/>
                </a:solidFill>
                <a:latin typeface="楷体"/>
                <a:ea typeface="楷体"/>
              </a:rPr>
              <a:t>200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亿年” “人类永远只是一个天真幼稚的孩童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 </a:t>
            </a: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论关系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：人类“只是大自然机体上普通的一部分”</a:t>
            </a:r>
            <a:br>
              <a:rPr sz="4400"/>
            </a:br>
            <a:r>
              <a:rPr b="1" lang="zh-CN" sz="4400" spc="-1" strike="noStrike">
                <a:solidFill>
                  <a:srgbClr val="ff0000"/>
                </a:solidFill>
                <a:latin typeface="楷体"/>
                <a:ea typeface="楷体"/>
              </a:rPr>
              <a:t>论智慧</a:t>
            </a: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：相形见绌自然的智慧是大海，人类小水滴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3"/>
          <p:cNvSpPr/>
          <p:nvPr/>
        </p:nvSpPr>
        <p:spPr>
          <a:xfrm>
            <a:off x="304920" y="285840"/>
            <a:ext cx="8381880" cy="611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全文结构图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一、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）  征服自然，不自量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（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2—7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）人类智慧与大自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             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智慧的比较和关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二、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2—1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8—1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）宇宙生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三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、（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11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）       敬畏自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4"/>
          <p:cNvSpPr/>
          <p:nvPr/>
        </p:nvSpPr>
        <p:spPr>
          <a:xfrm>
            <a:off x="642960" y="164304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6"/>
          <p:cNvSpPr/>
          <p:nvPr/>
        </p:nvSpPr>
        <p:spPr>
          <a:xfrm>
            <a:off x="3000240" y="2428920"/>
            <a:ext cx="228600" cy="1981080"/>
          </a:xfrm>
          <a:custGeom>
            <a:avLst/>
            <a:gdLst>
              <a:gd name="textAreaLeft" fmla="*/ 146160 w 228600"/>
              <a:gd name="textAreaRight" fmla="*/ 228960 w 228600"/>
              <a:gd name="textAreaTop" fmla="*/ 51480 h 1981080"/>
              <a:gd name="textAreaBottom" fmla="*/ 1929600 h 19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836"/>
                </a:lnTo>
                <a:cubicBezTo>
                  <a:pt x="10800" y="9736"/>
                  <a:pt x="5400" y="10636"/>
                  <a:pt x="0" y="10636"/>
                </a:cubicBezTo>
                <a:cubicBezTo>
                  <a:pt x="5400" y="10636"/>
                  <a:pt x="10800" y="11536"/>
                  <a:pt x="10800" y="12436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7"/>
          <p:cNvSpPr/>
          <p:nvPr/>
        </p:nvSpPr>
        <p:spPr>
          <a:xfrm>
            <a:off x="8305920" y="2133720"/>
            <a:ext cx="549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9"/>
          <p:cNvSpPr/>
          <p:nvPr/>
        </p:nvSpPr>
        <p:spPr>
          <a:xfrm>
            <a:off x="642960" y="37861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2"/>
          <p:cNvSpPr/>
          <p:nvPr/>
        </p:nvSpPr>
        <p:spPr>
          <a:xfrm>
            <a:off x="1857240" y="1484280"/>
            <a:ext cx="599148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（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1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）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“征服自然”不自量力（否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定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3"/>
          <p:cNvSpPr/>
          <p:nvPr/>
        </p:nvSpPr>
        <p:spPr>
          <a:xfrm>
            <a:off x="3132000" y="2276640"/>
            <a:ext cx="444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—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人类的智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3203640" y="2924280"/>
            <a:ext cx="373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自然的智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3132000" y="3645000"/>
            <a:ext cx="43214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—7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人类智慧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自然智慧的关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6"/>
          <p:cNvSpPr/>
          <p:nvPr/>
        </p:nvSpPr>
        <p:spPr>
          <a:xfrm>
            <a:off x="1908000" y="5084640"/>
            <a:ext cx="396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8—1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宇宙的生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2050920" y="6021360"/>
            <a:ext cx="282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敬畏自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8"/>
          <p:cNvSpPr/>
          <p:nvPr/>
        </p:nvSpPr>
        <p:spPr>
          <a:xfrm>
            <a:off x="1763640" y="306864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—7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9"/>
          <p:cNvSpPr/>
          <p:nvPr/>
        </p:nvSpPr>
        <p:spPr>
          <a:xfrm>
            <a:off x="1981080" y="3124080"/>
            <a:ext cx="76320" cy="2305080"/>
          </a:xfrm>
          <a:custGeom>
            <a:avLst/>
            <a:gdLst>
              <a:gd name="textAreaLeft" fmla="*/ 22320 w 76320"/>
              <a:gd name="textAreaRight" fmla="*/ 76320 w 76320"/>
              <a:gd name="textAreaTop" fmla="*/ 95760 h 2305080"/>
              <a:gd name="textAreaBottom" fmla="*/ 2209320 h 2305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10"/>
          <p:cNvSpPr/>
          <p:nvPr/>
        </p:nvSpPr>
        <p:spPr>
          <a:xfrm>
            <a:off x="7772400" y="1523880"/>
            <a:ext cx="142920" cy="4896000"/>
          </a:xfrm>
          <a:custGeom>
            <a:avLst/>
            <a:gdLst>
              <a:gd name="textAreaLeft" fmla="*/ 0 w 142920"/>
              <a:gd name="textAreaRight" fmla="*/ 100440 w 142920"/>
              <a:gd name="textAreaTop" fmla="*/ 203760 h 4896000"/>
              <a:gd name="textAreaBottom" fmla="*/ 4692240 h 489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1"/>
          <p:cNvSpPr/>
          <p:nvPr/>
        </p:nvSpPr>
        <p:spPr>
          <a:xfrm>
            <a:off x="7035120" y="2666880"/>
            <a:ext cx="2108880" cy="20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水到渠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层层递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2"/>
          <p:cNvSpPr/>
          <p:nvPr/>
        </p:nvSpPr>
        <p:spPr>
          <a:xfrm>
            <a:off x="1403280" y="2060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13"/>
          <p:cNvSpPr/>
          <p:nvPr/>
        </p:nvSpPr>
        <p:spPr>
          <a:xfrm>
            <a:off x="1403280" y="4149720"/>
            <a:ext cx="0" cy="180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Oval 14"/>
          <p:cNvSpPr/>
          <p:nvPr/>
        </p:nvSpPr>
        <p:spPr>
          <a:xfrm>
            <a:off x="826920" y="1413000"/>
            <a:ext cx="1225800" cy="5760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引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Oval 15"/>
          <p:cNvSpPr/>
          <p:nvPr/>
        </p:nvSpPr>
        <p:spPr>
          <a:xfrm>
            <a:off x="755640" y="3500280"/>
            <a:ext cx="1368360" cy="57636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本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16"/>
          <p:cNvSpPr/>
          <p:nvPr/>
        </p:nvSpPr>
        <p:spPr>
          <a:xfrm>
            <a:off x="755640" y="6093000"/>
            <a:ext cx="1295280" cy="50472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结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17"/>
          <p:cNvSpPr/>
          <p:nvPr/>
        </p:nvSpPr>
        <p:spPr>
          <a:xfrm>
            <a:off x="6858000" y="2286000"/>
            <a:ext cx="6094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18"/>
          <p:cNvSpPr/>
          <p:nvPr/>
        </p:nvSpPr>
        <p:spPr>
          <a:xfrm>
            <a:off x="3355920" y="2644920"/>
            <a:ext cx="73080" cy="2305080"/>
          </a:xfrm>
          <a:custGeom>
            <a:avLst/>
            <a:gdLst>
              <a:gd name="textAreaLeft" fmla="*/ 21240 w 73080"/>
              <a:gd name="textAreaRight" fmla="*/ 73440 w 73080"/>
              <a:gd name="textAreaTop" fmla="*/ 95760 h 2305080"/>
              <a:gd name="textAreaBottom" fmla="*/ 2209320 h 2305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7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5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9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7142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作者为什么说“敬畏自然”就是“敬畏我们自己”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999800"/>
            <a:ext cx="8229600" cy="41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Arial"/>
              </a:rPr>
              <a:t>因为人类与自然都是宇宙智慧的创造物是宇宙生命的组成，尽管生命形式不同但都是平等的，敬畏自然爱护自然就是敬畏自己爱护自己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395280" y="270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2"/>
          <p:cNvSpPr/>
          <p:nvPr/>
        </p:nvSpPr>
        <p:spPr>
          <a:xfrm>
            <a:off x="0" y="282348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楷体"/>
              </a:rPr>
              <a:t>本文许多语句富有哲理性，请找出来仔细体会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55640" y="4581360"/>
            <a:ext cx="6111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pt课件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kejian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3"/>
          <p:cNvSpPr/>
          <p:nvPr/>
        </p:nvSpPr>
        <p:spPr>
          <a:xfrm>
            <a:off x="357120" y="500040"/>
            <a:ext cx="8425080" cy="248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人类为自己取得的这些成就而喜形于色，然而，谁能断言那些狼藉斑斑的矿坑不会是人类自掘的陷阱呢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285840" y="2357280"/>
            <a:ext cx="85723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反问句，语气更强发人深省。（比喻）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掉入陷阱，就是危机。这句话的意思是，人类开采煤炭、石油、天然气以及其他各种矿物，留下了无数矿坑，也就破坏了地貌和地层结构，很可能酿成严重后果，危及人类自身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4"/>
          <p:cNvSpPr/>
          <p:nvPr/>
        </p:nvSpPr>
        <p:spPr>
          <a:xfrm>
            <a:off x="611280" y="620640"/>
            <a:ext cx="784836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人类并不孤独，在宇宙中处处是我们的弟兄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714240" y="2143080"/>
            <a:ext cx="764388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宇宙的一切，包括人类，都是宇宙生命的构成部分，人类之外的一切，也是生命的种种存在形式，所以它们与我们是平等的生命，是我们的弟兄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499680"/>
            <a:ext cx="8501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"/>
              </a:rPr>
              <a:t>宇宙之所以创造智慧生物是为了进行自我认识，为了欣赏她自己壮丽无比的美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Arial"/>
              </a:rPr>
              <a:t>  </a:t>
            </a:r>
            <a:r>
              <a:rPr b="1" lang="zh-CN" sz="4400" spc="-1" strike="noStrike">
                <a:solidFill>
                  <a:srgbClr val="002060"/>
                </a:solidFill>
                <a:latin typeface="Arial"/>
              </a:rPr>
              <a:t>这句话意思是，宇宙创造了人类这种智慧生物，等于宇宙长出了大脑，有了自我认识的工具，人类对宇宙的认识即是宇宙对自己的认识。这句话是把宇宙拟人化，把人类的出现说成是宇宙有目的的创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2"/>
          <p:cNvSpPr/>
          <p:nvPr/>
        </p:nvSpPr>
        <p:spPr>
          <a:xfrm>
            <a:off x="1467360" y="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环保寄语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3"/>
          <p:cNvSpPr/>
          <p:nvPr/>
        </p:nvSpPr>
        <p:spPr>
          <a:xfrm>
            <a:off x="0" y="836640"/>
            <a:ext cx="9144000" cy="53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4400" spc="-1" strike="noStrike">
                <a:solidFill>
                  <a:srgbClr val="333399"/>
                </a:solidFill>
                <a:latin typeface="Times New Roman"/>
              </a:rPr>
              <a:t>保护绿化，人人有责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imes New Roman"/>
              </a:rPr>
              <a:t>   </a:t>
            </a:r>
            <a:r>
              <a:rPr b="1" lang="zh-CN" sz="4400" spc="-1" strike="noStrike">
                <a:solidFill>
                  <a:srgbClr val="333399"/>
                </a:solidFill>
                <a:latin typeface="Times New Roman"/>
              </a:rPr>
              <a:t>绿色让我们快乐，让世界美好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imes New Roman"/>
              </a:rPr>
              <a:t>    </a:t>
            </a:r>
            <a:r>
              <a:rPr b="1" lang="zh-CN" sz="4400" spc="-1" strike="noStrike">
                <a:solidFill>
                  <a:srgbClr val="333399"/>
                </a:solidFill>
                <a:latin typeface="Times New Roman"/>
              </a:rPr>
              <a:t>净化空气，美好环境，从我做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imes New Roman"/>
              </a:rPr>
              <a:t>    </a:t>
            </a:r>
            <a:r>
              <a:rPr b="1" lang="zh-CN" sz="4400" spc="-1" strike="noStrike">
                <a:solidFill>
                  <a:srgbClr val="333399"/>
                </a:solidFill>
                <a:latin typeface="Times New Roman"/>
              </a:rPr>
              <a:t>生命诚可贵，绿色价更高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imes New Roman"/>
              </a:rPr>
              <a:t>    </a:t>
            </a:r>
            <a:r>
              <a:rPr b="1" lang="zh-CN" sz="4400" spc="-1" strike="noStrike">
                <a:solidFill>
                  <a:srgbClr val="333399"/>
                </a:solidFill>
                <a:latin typeface="Times New Roman"/>
              </a:rPr>
              <a:t>环保天天行，陪伴你我他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imes New Roman"/>
              </a:rPr>
              <a:t>     </a:t>
            </a:r>
            <a:r>
              <a:rPr b="1" lang="zh-CN" sz="4400" spc="-1" strike="noStrike">
                <a:solidFill>
                  <a:srgbClr val="333399"/>
                </a:solidFill>
                <a:latin typeface="Times New Roman"/>
              </a:rPr>
              <a:t>东西南北中，绿色在心中 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4" descr="gif0421"/>
          <p:cNvPicPr/>
          <p:nvPr/>
        </p:nvPicPr>
        <p:blipFill>
          <a:blip r:embed="rId2"/>
          <a:stretch/>
        </p:blipFill>
        <p:spPr>
          <a:xfrm>
            <a:off x="0" y="0"/>
            <a:ext cx="890640" cy="64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144360" y="2374560"/>
            <a:ext cx="8820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、课文开头，作者首先举出了人们常有的想法是什么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、作者针锋相对地提出了自己的哪种观点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</a:rPr>
              <a:t>请你欣赏图片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0" y="4286160"/>
            <a:ext cx="914400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注意思考题目的含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285480"/>
            <a:ext cx="8229600" cy="58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、第二自然段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Times New Roman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看着人类这种狂妄的表现，大自然一定会窃笑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Times New Roman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一句中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Times New Roman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这种狂妄的表现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Times New Roman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指的是什么？大自然窃笑的依据是什么？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       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“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狂妄的表现”是指人类宣称要征服自然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窃笑的依据是：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1)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人类打开的空间只不过咫尺之间；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2)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今人也会变为古人；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3)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科学史也是犯错误的历史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3"/>
          <p:cNvSpPr/>
          <p:nvPr/>
        </p:nvSpPr>
        <p:spPr>
          <a:xfrm>
            <a:off x="0" y="189000"/>
            <a:ext cx="860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阅读第</a:t>
            </a:r>
            <a:r>
              <a:rPr b="1" lang="en-US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5</a:t>
            </a:r>
            <a:r>
              <a:rPr b="1" lang="zh-CN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自然段，回答下列问题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179280" y="765000"/>
            <a:ext cx="8137800" cy="40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、请概括这段文字的主要内容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、为什么说“令人厌恶的苍蝇蚊子”也是大自然的“艺术品”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6"/>
          <p:cNvSpPr/>
          <p:nvPr/>
        </p:nvSpPr>
        <p:spPr>
          <a:xfrm>
            <a:off x="500040" y="1857240"/>
            <a:ext cx="7929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大自然的智慧是无与伦比的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7"/>
          <p:cNvSpPr/>
          <p:nvPr/>
        </p:nvSpPr>
        <p:spPr>
          <a:xfrm>
            <a:off x="285840" y="4357800"/>
            <a:ext cx="8215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宋体"/>
              </a:rPr>
              <a:t>苍蝇蚊子固然讨厌，但是它们的身体构造和生理机制十分奇妙，体现了大自然创造的精妙绝伦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928440"/>
            <a:ext cx="8858160" cy="79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、作者从哪些方面具体比较了“相形见绌”？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0" y="192888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500"/>
              </a:spcBef>
              <a:buClr>
                <a:srgbClr val="002060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华文中宋"/>
                <a:ea typeface="华文中宋"/>
              </a:rPr>
              <a:t>1</a:t>
            </a:r>
            <a:r>
              <a:rPr b="1" lang="zh-CN" sz="4000" spc="-1" strike="noStrike">
                <a:solidFill>
                  <a:srgbClr val="002060"/>
                </a:solidFill>
                <a:latin typeface="华文中宋"/>
                <a:ea typeface="华文中宋"/>
              </a:rPr>
              <a:t>、大自然用“死”的物质创造了丰富多彩的生命，而人类却不能制造出一个哪怕是最简单的生物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500"/>
              </a:spcBef>
              <a:buClr>
                <a:srgbClr val="002060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华文中宋"/>
                <a:ea typeface="华文中宋"/>
              </a:rPr>
              <a:t>2</a:t>
            </a:r>
            <a:r>
              <a:rPr b="1" lang="zh-CN" sz="4000" spc="-1" strike="noStrike">
                <a:solidFill>
                  <a:srgbClr val="002060"/>
                </a:solidFill>
                <a:latin typeface="华文中宋"/>
                <a:ea typeface="华文中宋"/>
              </a:rPr>
              <a:t>、人类本身就是自然智慧的最高体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500"/>
              </a:spcBef>
              <a:buClr>
                <a:srgbClr val="002060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华文中宋"/>
                <a:ea typeface="华文中宋"/>
              </a:rPr>
              <a:t>3</a:t>
            </a:r>
            <a:r>
              <a:rPr b="1" lang="zh-CN" sz="4000" spc="-1" strike="noStrike">
                <a:solidFill>
                  <a:srgbClr val="002060"/>
                </a:solidFill>
                <a:latin typeface="华文中宋"/>
                <a:ea typeface="华文中宋"/>
              </a:rPr>
              <a:t>、大自然“懂得”用美学原则创造各种事物以至人体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529272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阅读第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--4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段完成练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-360" y="642960"/>
            <a:ext cx="86425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在这一段中能体现作者观点的是哪句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人类为什么没有理由骄傲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4"/>
          <p:cNvSpPr/>
          <p:nvPr/>
        </p:nvSpPr>
        <p:spPr>
          <a:xfrm>
            <a:off x="3588840" y="1268280"/>
            <a:ext cx="453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人类没有理由过分自傲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8"/>
          <p:cNvSpPr/>
          <p:nvPr/>
        </p:nvSpPr>
        <p:spPr>
          <a:xfrm>
            <a:off x="0" y="23572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一、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拿高科技来说，航天事业的空间，在大宇宙中间，还是非常狭小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二、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人类的认识史也是一部不断纠错的历史，一万年以后看今天，我们的认识还幼稚的很。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三、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矿坑也可能成为人类自掘的陷阱。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四、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在宇宙中，一定存在着远比我们的智慧要高得多的生物，在太空人看来，人类的智慧就算不得什么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57120" y="357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分析反问句“我们有什么理由和资格嘲笑古人，在大自然面前卖弄小聪明呢？”的作用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强调嘲笑古人卖弄小聪明是毫无理由毫无资格的，加强语气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把人类比作赤燕，大自然比作鲲鹏有何用意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7"/>
          <p:cNvSpPr/>
          <p:nvPr/>
        </p:nvSpPr>
        <p:spPr>
          <a:xfrm>
            <a:off x="179280" y="4929120"/>
            <a:ext cx="896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比喻对比表明人类的航天成就在巨大的宇宙中微不足道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3520" y="1142640"/>
            <a:ext cx="77724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  <a:ea typeface="黑体"/>
              </a:rPr>
              <a:t>人类并不孤独，在宇宙中处处是我们的弟兄。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黑体"/>
              </a:rPr>
              <a:t>“我们的弟兄”指什么？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为什么称之为“弟兄”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3755880"/>
            <a:ext cx="8153280" cy="19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Arial"/>
                <a:ea typeface="黑体"/>
              </a:rPr>
              <a:t>宇宙中除了人类之外的一切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Arial"/>
                <a:ea typeface="黑体"/>
              </a:rPr>
              <a:t>它们也是生命的存在形式，与我们是平等的生命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4"/>
          <p:cNvSpPr/>
          <p:nvPr/>
        </p:nvSpPr>
        <p:spPr>
          <a:xfrm>
            <a:off x="0" y="228600"/>
            <a:ext cx="5715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第十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2" name="projctor.wav"/>
      </p:stSnd>
    </p:sndAc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4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9" dur="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从课文中找出几个反问句，并把它们变换成一般陈述句，然后比较一下，这两种句式的表达效果有什么不同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438280"/>
            <a:ext cx="8229600" cy="368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反问句：我们有什么理由和资格嘲笑古人，在大自然面前卖弄小聪明呢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陈述句：我们没有理由和资格嘲笑古人，在大自然面前卖弄小聪明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作用：反问句更有力地强调在大自然面前卖弄小聪明是毫无理由、毫无资格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2" name="projctor.wav"/>
      </p:stSnd>
    </p:sndAc>
  </p:transition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6" dur="5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1" dur="5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70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反问句：谁能断言那些狼藉斑斑的矿坑不会是人类白掘的陷阱呢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2079720"/>
            <a:ext cx="8229600" cy="27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Arial"/>
                <a:ea typeface="黑体"/>
              </a:rPr>
              <a:t>陈述句：谁也不能断言那些狼藉斑斑的矿坑不会是人类自掘的陷阱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Arial"/>
                <a:ea typeface="黑体"/>
              </a:rPr>
              <a:t>作用：反问句语气更强烈，更发人深省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2" name="projctor.wav"/>
      </p:stSnd>
    </p:sndAc>
  </p:transition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8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3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6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反问句：那永恒的运动、那演化的过程，不正是她生命力的体现吗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438280"/>
            <a:ext cx="8229600" cy="368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Arial"/>
                <a:ea typeface="黑体"/>
              </a:rPr>
              <a:t>陈述句：那永恒的运动、那演化的过程，正是她生命力的体现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Arial"/>
                <a:ea typeface="黑体"/>
              </a:rPr>
              <a:t>作用：反问句语气更强烈，更能激发读者的思考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2" name="projctor.wav"/>
      </p:stSnd>
    </p:sndAc>
  </p:transition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反问句：你难道没有听到石头里也有生命的呐喊吗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?</a:t>
            </a:r>
            <a:r>
              <a:rPr b="0" lang="en-US" sz="40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2438280"/>
            <a:ext cx="8229600" cy="368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Arial"/>
                <a:ea typeface="黑体"/>
              </a:rPr>
              <a:t>陈述句：你曾听到石头里也有生命的呐喊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Arial"/>
                <a:ea typeface="黑体"/>
              </a:rPr>
              <a:t>作用：反问句语气更强烈，且有催人深思的效果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2" name="projctor.wav"/>
      </p:stSnd>
    </p:sndAc>
  </p:transition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2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7" dur="5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矩形 3"/>
          <p:cNvSpPr/>
          <p:nvPr/>
        </p:nvSpPr>
        <p:spPr>
          <a:xfrm>
            <a:off x="2843280" y="256536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庐山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FAB67-3661-44F1-A55B-98D71442F5F5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华文彩云"/>
              </a:rPr>
              <a:t>归纳：反问句及其作用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1001"/>
              </a:spcBef>
              <a:buClr>
                <a:srgbClr val="333399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宋体"/>
              </a:rPr>
              <a:t>反问是一种用疑问句式来表达确定意思的修辞方法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1001"/>
              </a:spcBef>
              <a:buClr>
                <a:srgbClr val="333399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宋体"/>
              </a:rPr>
              <a:t>用否定句反问，表达的是肯定的意思；用肯定句反问，表达的是否定的意思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1001"/>
              </a:spcBef>
              <a:buClr>
                <a:srgbClr val="333399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宋体"/>
              </a:rPr>
              <a:t>反问的作用是加强语气，加重语言的力量，给读者造成深刻的印象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2" name="projctor.wav"/>
      </p:stSnd>
    </p:sndAc>
  </p:transition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4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9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4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3"/>
          <p:cNvSpPr/>
          <p:nvPr/>
        </p:nvSpPr>
        <p:spPr>
          <a:xfrm>
            <a:off x="533520" y="1219320"/>
            <a:ext cx="8381880" cy="267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本文是一篇</a:t>
            </a:r>
            <a:r>
              <a:rPr b="1" lang="zh-CN" sz="2800" spc="-1" strike="noStrike" u="sng">
                <a:solidFill>
                  <a:srgbClr val="ff00ff"/>
                </a:solidFill>
                <a:uFillTx/>
                <a:latin typeface="Times New Roman"/>
                <a:ea typeface="华文中宋"/>
              </a:rPr>
              <a:t>议论性的散文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，作者运用了层层推进、水到渠成的论述方法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首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，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Times New Roman"/>
                <a:ea typeface="华文中宋"/>
              </a:rPr>
              <a:t>否定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征服自然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的口号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接着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比较人类的智慧与大自然的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Times New Roman"/>
                <a:ea typeface="华文中宋"/>
              </a:rPr>
              <a:t>智慧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，指出人类的智慧也是大自然所赋予，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华文中宋"/>
              </a:rPr>
              <a:t>人类的智慧也就是大自然的智慧；进而从论智慧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到论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Times New Roman"/>
                <a:ea typeface="华文中宋"/>
              </a:rPr>
              <a:t>生命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，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华文中宋"/>
              </a:rPr>
              <a:t>指出宇宙是有生命的，人类固然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是高级的生命形态，但也只是物质的一种存在方式，人类和大自然中的其他事物实在是兄弟关系；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最后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做出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敬畏自然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的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Times New Roman"/>
                <a:ea typeface="华文中宋"/>
              </a:rPr>
              <a:t>结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文章的最后一段就是表达作者观点的关键语句，即作者思想观点的总结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4"/>
          <p:cNvSpPr/>
          <p:nvPr/>
        </p:nvSpPr>
        <p:spPr>
          <a:xfrm>
            <a:off x="914400" y="304920"/>
            <a:ext cx="8001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</a:rPr>
              <a:t>读完了，我们再回顾一下吧</a:t>
            </a: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5"/>
          <p:cNvSpPr/>
          <p:nvPr/>
        </p:nvSpPr>
        <p:spPr>
          <a:xfrm>
            <a:off x="914400" y="380880"/>
            <a:ext cx="7696080" cy="685800"/>
          </a:xfrm>
          <a:prstGeom prst="rect">
            <a:avLst/>
          </a:prstGeom>
          <a:noFill/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0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500"/>
                            </p:stCondLst>
                            <p:childTnLst>
                              <p:par>
                                <p:cTn id="323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北极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南极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3"/>
          <p:cNvSpPr/>
          <p:nvPr/>
        </p:nvSpPr>
        <p:spPr>
          <a:xfrm>
            <a:off x="3200400" y="6172200"/>
            <a:ext cx="2743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乱   砍   乱   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G:\shu1.jpg"/>
          <p:cNvPicPr/>
          <p:nvPr/>
        </p:nvPicPr>
        <p:blipFill>
          <a:blip r:embed="rId2"/>
          <a:stretch/>
        </p:blipFill>
        <p:spPr>
          <a:xfrm>
            <a:off x="152280" y="228600"/>
            <a:ext cx="8763120" cy="594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G:\fa4.bmp"/>
          <p:cNvPicPr/>
          <p:nvPr/>
        </p:nvPicPr>
        <p:blipFill>
          <a:blip r:embed="rId2"/>
          <a:stretch/>
        </p:blipFill>
        <p:spPr>
          <a:xfrm>
            <a:off x="152280" y="228600"/>
            <a:ext cx="8839440" cy="5923080"/>
          </a:xfrm>
          <a:prstGeom prst="rect">
            <a:avLst/>
          </a:prstGeom>
          <a:ln w="0">
            <a:noFill/>
          </a:ln>
        </p:spPr>
      </p:pic>
      <p:sp>
        <p:nvSpPr>
          <p:cNvPr id="57" name="Text Box 3"/>
          <p:cNvSpPr/>
          <p:nvPr/>
        </p:nvSpPr>
        <p:spPr>
          <a:xfrm>
            <a:off x="3124080" y="6172200"/>
            <a:ext cx="3429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森   林   的   灾   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G:\tian.jpg"/>
          <p:cNvPicPr/>
          <p:nvPr/>
        </p:nvPicPr>
        <p:blipFill>
          <a:blip r:embed="rId2"/>
          <a:stretch/>
        </p:blipFill>
        <p:spPr>
          <a:xfrm>
            <a:off x="228600" y="228600"/>
            <a:ext cx="8610480" cy="5867280"/>
          </a:xfrm>
          <a:prstGeom prst="rect">
            <a:avLst/>
          </a:prstGeom>
          <a:ln w="0">
            <a:noFill/>
          </a:ln>
        </p:spPr>
      </p:pic>
      <p:sp>
        <p:nvSpPr>
          <p:cNvPr id="59" name="Text Box 3"/>
          <p:cNvSpPr/>
          <p:nvPr/>
        </p:nvSpPr>
        <p:spPr>
          <a:xfrm>
            <a:off x="2819520" y="5562720"/>
            <a:ext cx="2819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2438280" y="6172200"/>
            <a:ext cx="3581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围    海    造    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WordArt 5"/>
          <p:cNvSpPr txBox="1"/>
          <p:nvPr/>
        </p:nvSpPr>
        <p:spPr>
          <a:xfrm>
            <a:off x="3581280" y="1219320"/>
            <a:ext cx="1447920" cy="3045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988232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围海造田</a:t>
            </a:r>
            <a:endParaRPr b="1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5T16:06:40Z</dcterms:created>
  <dc:creator/>
  <dc:description/>
  <cp:keywords>幻灯片之家 http:/www.eeppt.com</cp:keywords>
  <dc:language>en-US</dc:language>
  <cp:lastModifiedBy/>
  <dcterms:modified xsi:type="dcterms:W3CDTF">2015-07-13T08:35:29Z</dcterms:modified>
  <cp:revision>243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  <property fmtid="{D5CDD505-2E9C-101B-9397-08002B2CF9AE}" pid="3" name="Version">
    <vt:r8>7</vt:r8>
  </property>
</Properties>
</file>