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B299-73D5-4A7B-9656-C277A397E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F586-DBBC-47C7-8B72-CB47094C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3568-5AE6-4031-8868-F97579D40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8D50-70A0-4715-9D98-66E7059EB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43D1D-1846-4B6C-AC87-F367CBBE2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D947-9F95-4FE8-A89A-F2CCDBCB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9E08-DCC1-4962-8FAE-8C2075D2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6E58B-03EB-4862-A4A4-63588476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1DA3-BDA4-4487-8F6A-E7D154DA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BB7A-BF54-4FD8-8528-5F40743F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339B-C06A-4A13-B2BF-0998322F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65F0-E84E-4417-B367-AA708B6F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2B4F-2887-442E-A867-334320B5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B79E-6560-4BD6-BA49-4F6F2E08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55FB1-2787-4E5B-81A4-DEF303E6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16647-6870-494C-A5BA-345D0A566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EB64-6EAC-4CD0-A683-AFA53547F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CE95-3CD2-4ACA-9808-A073D44D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4837-79DD-47FA-B365-FDB95B05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5F6D-9D69-4AAA-BBEC-57F71863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EED2-FA6D-4B20-B3FD-76ACFCD1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0059-6F1B-42AE-AF36-67D6A608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58F7-479A-478B-8916-DE692C6B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0152-65EC-4A2B-806A-588BC5B7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996600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3320"/>
              <a:ext cx="9142560" cy="378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990066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990066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966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990066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C05F-E116-458D-89B8-0418EE568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D944-ABE7-4FA9-9685-4BC5F364C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680" y="3276720"/>
            <a:ext cx="9137520" cy="152280"/>
            <a:chOff x="4680" y="3276720"/>
            <a:chExt cx="9137520" cy="152280"/>
          </a:xfrm>
        </p:grpSpPr>
        <p:sp>
          <p:nvSpPr>
            <p:cNvPr id="49" name=""/>
            <p:cNvSpPr/>
            <p:nvPr/>
          </p:nvSpPr>
          <p:spPr>
            <a:xfrm>
              <a:off x="4680" y="3276720"/>
              <a:ext cx="9137520" cy="745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996600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80" y="3391200"/>
              <a:ext cx="9137520" cy="378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990066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Monotype Sort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0066"/>
              </a:buClr>
              <a:buSzPct val="8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1980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00"/>
                </a:solidFill>
                <a:latin typeface="Arial"/>
                <a:ea typeface="华文中宋"/>
              </a:rPr>
              <a:t>教育理念和实践概述</a:t>
            </a: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95280" y="4038480"/>
            <a:ext cx="65534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66"/>
                </a:solidFill>
                <a:latin typeface="Arial"/>
              </a:rPr>
              <a:t>讲课人：</a:t>
            </a:r>
            <a:r>
              <a:rPr b="1" lang="en-US" sz="3600" spc="-1" strike="noStrike">
                <a:solidFill>
                  <a:srgbClr val="990066"/>
                </a:solidFill>
                <a:latin typeface="Arial"/>
              </a:rPr>
              <a:t>XX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30F4-A43D-4C7B-819D-8789BBD9511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6</a:t>
            </a:r>
            <a:r>
              <a:rPr b="0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、在职业追求上，我是“教育理想”论</a:t>
            </a:r>
            <a:r>
              <a:rPr b="0" lang="en-US" sz="3200" spc="-1" strike="noStrike">
                <a:solidFill>
                  <a:srgbClr val="996600"/>
                </a:solidFill>
                <a:latin typeface="Times New Roman"/>
              </a:rPr>
              <a:t> 者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▼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经济冲动”与“教育冲动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▼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发动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▼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诗人气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343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B44B-4C4D-462B-93C9-E6932352CF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7</a:t>
            </a:r>
            <a:r>
              <a:rPr b="0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、在教育实践上，我是“动手动笔”论者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楷体_GB2312"/>
              </a:rPr>
              <a:t>   ▼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楷体_GB2312"/>
              </a:rPr>
              <a:t>听和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楷体_GB2312"/>
              </a:rPr>
              <a:t>   ▼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楷体_GB2312"/>
              </a:rPr>
              <a:t>理念和实践（中介、具体化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楷体_GB2312"/>
              </a:rPr>
              <a:t>   ▼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楷体_GB2312"/>
              </a:rPr>
              <a:t>具体化的本领是我们要修炼的最重要的本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楷体_GB2312"/>
              </a:rPr>
              <a:t>   ▼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能手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楷体_GB2312"/>
              </a:rPr>
              <a:t>专家   教育家是“总结”出来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楷体_GB2312"/>
              </a:rPr>
              <a:t>   ▼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楷体_GB2312"/>
              </a:rPr>
              <a:t>几个操作模式（自育自学的，课堂结构的，课外阅读的，个案分析的，教师发展学校的；教学视导，中高考表彰，领导班子会，内部改革，管理水平评估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EB31-0A91-4A76-A14F-F7657D5EA3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☆</a:t>
            </a:r>
            <a:r>
              <a:rPr b="0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从《文选》的“后记”讲起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☆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中宋"/>
              </a:rPr>
              <a:t>几个主要的教育理论观点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13DE-152E-44E8-B18B-C21B363366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1 </a:t>
            </a:r>
            <a:r>
              <a:rPr b="0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、</a:t>
            </a:r>
            <a:r>
              <a:rPr b="1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在教育功能上，我是“教育动力”论者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2133720"/>
            <a:ext cx="8534520" cy="28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▼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教育的超前发展更是硬道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▼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一生产力的内驱力是教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▼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市场经济就是教育经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知识经济就是教育经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752E-ECDC-441E-B2CA-1F89257E46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75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75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2</a:t>
            </a:r>
            <a:r>
              <a:rPr b="0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、在教育管理上，我是“中观指导”论</a:t>
            </a:r>
            <a:r>
              <a:rPr b="0" lang="en-US" sz="3200" spc="-1" strike="noStrike">
                <a:solidFill>
                  <a:srgbClr val="996600"/>
                </a:solidFill>
                <a:latin typeface="Times New Roman"/>
              </a:rPr>
              <a:t> 者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▼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教育教学改革上的“三个出路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▼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教学质量提高上的“四全”、“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以”、“三个抓起”、“三头”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三同等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▼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日常教学管理策略上的“三分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C163-5B65-4CD5-A6FF-F555DC8469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2</a:t>
            </a:r>
            <a:r>
              <a:rPr b="0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、在教育管理上，我是“中观指导”论者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▼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教师校本发展上的“五个一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▼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衡量学校以教学为中心的“八个一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▼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修炼学校内功的“老三篇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▼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素质教育开局上的“四个不得”、“两百战略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1854-E3C6-4698-9A5F-85DA9026F4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3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3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3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3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3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3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3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3</a:t>
            </a:r>
            <a:r>
              <a:rPr b="0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、在课堂教学上，我是“结构改革”论者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▼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学生自学是课堂的主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▼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教师引导是课堂的基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▼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结构改革是课堂的关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▼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使课堂由教师的讲堂变为基本上由学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生自学的学堂，是我孜孜以求的教育理想之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4767-36B8-4269-ABB4-9E395DF8C9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9993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9993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33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999933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33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999933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999933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33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999933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33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999933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33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999933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33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999933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33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999933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33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999933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33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999933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33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999933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33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999933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733F-9B87-4AE0-B8A2-A7CF5D5F35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4</a:t>
            </a:r>
            <a:r>
              <a:rPr b="0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、在教育意义上，我是“自育自学”论者</a:t>
            </a: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▼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教育教育，就是教学生会自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▼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教学教学，就是教学生会自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▼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生者，学会生活之道的人也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活的根本之道是自育自学之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4508-ED6C-468F-87CC-A908898C6F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5</a:t>
            </a:r>
            <a:r>
              <a:rPr b="0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、在教师发展上，我是“自我造就”论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者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▼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不欣赏“蜡烛</a:t>
            </a: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▼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须确立“自我造就”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▼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教师学生互相创造互相崇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8E1B-9626-41F2-97FF-88246352BE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13:55:45Z</dcterms:created>
  <dc:creator/>
  <dc:description/>
  <cp:keywords>幻灯片之家 http:/www.eeppt.com</cp:keywords>
  <dc:language>en-US</dc:language>
  <cp:lastModifiedBy/>
  <dcterms:modified xsi:type="dcterms:W3CDTF">2015-07-13T09:38:4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