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  <p:custShowLst>
    <p:custShow name="自定义放映1" id="0">
      <p:sldLst>
        <p:sld r:id="rId5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97C-B9BB-4B5E-B64C-601E2C26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F25-A564-4164-AEEF-22F71DA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F2A-4592-4627-B7D1-13403AF3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DC7-8B04-463E-8DCC-1B789AB5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8771-788B-4A8D-931E-F32A0AC9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A5F-8359-47A4-8A77-5C00910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C38-1759-464A-B025-FCCA3750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06D-AE9A-4DEC-AAFF-80BF5852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336B-C009-44C0-81BF-1CF08579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4CF-E65D-4374-9B23-E7791B5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8978-CF19-4843-9FBD-97DBB3AE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139-856C-4215-BA9E-5F564D51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D8E4-DECD-4C2F-BBFD-AE5A710D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9E2-25B3-4975-826C-F198D6A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38AD-74C8-479F-B637-18893DC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377-269A-4B94-9B80-DB6D4B53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5C1B-56E0-4A9F-BD36-5DCBF123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681-F973-4EA6-ACCC-C0B2264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1FA-EE84-428B-88AA-A7114ED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C8B-1163-48DD-9886-91B72262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3E2-88B2-476C-B60F-C027C9AE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700-A07F-4060-B46F-D645359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F0B-210E-424F-83BC-F1580A9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5BD-99EE-4F51-92E4-8A7CAE4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1FB-8B86-4548-B6B0-643DD6D1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D4D0-799A-4CE3-9033-1BFCB5CA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建 筑 艺 术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讲者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    间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648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ym01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29160" y="514440"/>
            <a:ext cx="800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28600"/>
            <a:ext cx="3886200" cy="656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近现代建筑艺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聿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香港中国银行的中银大厦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2-199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贝氏所有设计方案中最高的建筑物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" descr=""/>
          <p:cNvPicPr/>
          <p:nvPr/>
        </p:nvPicPr>
        <p:blipFill>
          <a:blip r:embed="rId2"/>
          <a:stretch/>
        </p:blipFill>
        <p:spPr>
          <a:xfrm>
            <a:off x="-33480" y="333360"/>
            <a:ext cx="9142560" cy="62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                谢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47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1" lang="zh-CN" sz="1400" spc="-1" strike="noStrike">
                <a:solidFill>
                  <a:srgbClr val="414de5"/>
                </a:solidFill>
                <a:latin typeface="Times New Roman"/>
              </a:rPr>
              <a:t>中国建筑艺术概述：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伟大的中国，拥有九百六十万平方公里的广袤国土，占世界总数五分之一以上的人口，五十六个民族和超过三千年有文字记载的历史，创造了独具特色的中华文明。中国暄筑艺术是中华文明之树中特别美丽的一枝，作为世界三大建筑体系之一，与西方建筑和伊斯兰建筑并列，自豪地立足于世界文化之林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中国建筑是世界唯一以木结构为主的建筑体系。基干深厚的文化传统，中国建筑艺术的重大特点是：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以宫殿和都城规划的成就最高，突出皇权至上思想和严密的等级观念；</a:t>
            </a: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特别注重群体组合的美，或取中轴对称院落式布局，或为自由式，以前者为主；</a:t>
            </a: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注重与自然的高度协同，尊重自然；</a:t>
            </a: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艺术性格特别重视对中和、平易、合蓄而深沉的美的追求。中国建筑艺术是中国人的伦理观、审美观、价值观和自然观的深刻体现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在漫长的发展过程中，中国建筑始终保持了自身的独特性格。从其全部历史，可分出三个大的阶段：商周到秦汉，是萌芽与成长阶段，秦和西汉是发展的第一个高潮；历魏晋经隋唐而宋，是成熟与高峰阶段，唐代的成就更为辉煌，是第二个高潮；元至明清是充实与总结阶段，明至清前期是第三个高潮。这三个阶段可分别以秦汉、隋唐、明清为代表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中国各少数民族的建筑也鲁具异采，大大丰富了中国建筑体系的整体风貌，其中尤以藏族、雏吾尔族、傣族和侗族建筑更富特色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中国建筑艺术曾对日本、朝鲜、越南和蒙古等国发生过重大影响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4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1800" spc="-1" strike="noStrike">
                <a:solidFill>
                  <a:srgbClr val="ff5050"/>
                </a:solidFill>
                <a:latin typeface="Times New Roman"/>
              </a:rPr>
              <a:t>　</a:t>
            </a:r>
            <a:r>
              <a:rPr b="0" lang="zh-CN" sz="1600" spc="-1" strike="noStrike">
                <a:solidFill>
                  <a:srgbClr val="ff5050"/>
                </a:solidFill>
                <a:latin typeface="Times New Roman"/>
              </a:rPr>
              <a:t>　</a:t>
            </a: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中国建筑的大致分类：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中国的古代建筑，大体上可分为以下十种类型：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一、宫廷府第建筑。如皇宫、衙署、殿堂、宅第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二、防御守卫建筑。如城墙、城楼、堞楼、村堡、关隘、长城、烽火台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三、纪念性和点缀性建筑。如市楼、钟楼、鼓楼、过街楼、牌枋、影壁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四、陵墓建筑。如石阙、石坊、崖墓、祭台、以及帝王陵寝宫殿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五、园囿建筑。如御园、宫囿、花园、别墅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六、祭祀性建筑。如文庙（孔庙）、武庙（关帝庙）祠宇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七、桥梁及水利建筑。如石桥、木桥、堤坝、港口、码头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八、民居建筑。如窑洞、茅屋、草庵、民宅、庭堂、院落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九、宗教建筑。如佛教的寺、庵、堂、院，道教的祠、宫、庙、观，回教的清真寺，基督教的礼拜堂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十、娱乐性建筑。如乐楼、舞楼、戏台、露台、看台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sp>
          <p:nvSpPr>
            <p:cNvPr id="87" name=""/>
            <p:cNvSpPr/>
            <p:nvPr/>
          </p:nvSpPr>
          <p:spPr>
            <a:xfrm>
              <a:off x="0" y="0"/>
              <a:ext cx="9144000" cy="68572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0" y="0"/>
                <a:ext cx="9144000" cy="6855840"/>
                <a:chOff x="0" y="0"/>
                <a:chExt cx="9144000" cy="68558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0" y="0"/>
                  <a:ext cx="9144000" cy="6855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en-US" sz="216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0" y="0"/>
                  <a:ext cx="9144000" cy="6855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0" y="0"/>
                <a:ext cx="9144000" cy="6856560"/>
              </a:xfrm>
              <a:prstGeom prst="rect">
                <a:avLst/>
              </a:prstGeom>
              <a:solidFill>
                <a:srgbClr val="999999"/>
              </a:solidFill>
              <a:ln w="0">
                <a:solidFill>
                  <a:srgbClr val="99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410080" y="498600"/>
            <a:ext cx="327672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国宫殿艺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北京故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87.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又称紫禁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于北京市区中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为明、清两代的皇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皇帝相继在此登基执政。始建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至今已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。故宫是世界上现存规模最大、 最完整的古代木构建筑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占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平方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筑面积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平方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拥有殿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中太和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又称金銮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皇帝举行即位、诞辰节日庆典和出兵征伐等大典的地方。故宫黄瓦红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金扉朱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白玉雕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宫阙重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巍峨壮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中国古建筑的精华。宫内现收藏珍贵历代文物和艺术品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件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gu1" descr=""/>
          <p:cNvPicPr/>
          <p:nvPr/>
        </p:nvPicPr>
        <p:blipFill>
          <a:blip r:embed="rId2"/>
          <a:stretch/>
        </p:blipFill>
        <p:spPr>
          <a:xfrm>
            <a:off x="120600" y="17384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991020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685800"/>
            <a:ext cx="4495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cc"/>
                </a:solidFill>
                <a:latin typeface="Times New Roman"/>
              </a:rPr>
              <a:t>长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cc"/>
                </a:solidFill>
                <a:latin typeface="Times New Roman"/>
              </a:rPr>
              <a:t>作为一种军事建筑的长城，时至今天，其军事实用功能已经不存，而其雄伟壮丽的美却长存了下来，成为中国人民坚忍不拔的民族性格的象征，转化成人的审美观照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9910200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4343400"/>
            <a:ext cx="8382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民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种类繁多的民间公共建筑包括如宗祠、先贤祠、神祠、会馆、书院和景观楼阁等，以明清留存最多，也无不深深浸染传统文比精神。属于居住建筑的王府和各地民居现存者也多是清代所留，其中民居尤其值得注意，不但种类繁多，形式十分多样，而且以其更直接更真切地面对普通人生，所体现的群体文化心态也特别率真而质直，反映的地域特色更加突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991020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04520" y="0"/>
            <a:ext cx="1010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66ff"/>
                </a:solidFill>
                <a:latin typeface="Times New Roman"/>
              </a:rPr>
              <a:t>佛教建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ff"/>
                </a:solidFill>
                <a:latin typeface="Times New Roman"/>
              </a:rPr>
              <a:t>中国佛教建筑包括佛寺、佛塔和石窟。佛教建筑在初期受到印度影响的同时，很快就开始了中国化的过程，体现了中国人的审美观和文化性格，充满了宁静、平和的氛围。道教是中国本土宗教，道观向佛寺学习，同样具有安详的风韵。佛塔在中国建筑艺术史中占有重要地位，类型多样，形式丰富，发展脉络历历可寻，时代特色和地域特色也体现得更加鲜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FE8-8187-454B-BDFB-03D3AB835C40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zzy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3210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中国园林艺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中国的造园艺术与中国的文学和绘画艺术具有深远的历史渊源，特别受到唐宋文人写意山水画的影响，是文人写意山水模拟的典范。中国园林在其发展过程中，形成了包括皇家园林和私家园林在内的两大系列，前者集中在北京一带，后者则以苏州为代表。由于政治、经济、文化地位和自然、地理条件的差异，两者在规模、布局、体量、风格、色彩等方面有明显差别，皇家园林以宏大、严整、堂皇、浓丽称胜，而苏州园林则以小巧、自由、精致、淡雅、写意见长。由于后者更注意文化和艺术的和谐统一，因而发展到晚期的皇家园林，在意境、创作思想、建筑技巧、人文内容上，也大量地汲取了私家花园的“写意”手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70280" y="2743200"/>
            <a:ext cx="8916840" cy="360"/>
            <a:chOff x="3770280" y="2743200"/>
            <a:chExt cx="8916840" cy="360"/>
          </a:xfrm>
        </p:grpSpPr>
        <p:sp>
          <p:nvSpPr>
            <p:cNvPr id="108" name=""/>
            <p:cNvSpPr/>
            <p:nvPr/>
          </p:nvSpPr>
          <p:spPr>
            <a:xfrm>
              <a:off x="3770280" y="2743200"/>
              <a:ext cx="8916840" cy="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0280" y="2743200"/>
              <a:ext cx="8916840" cy="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38Z</dcterms:created>
  <dc:creator/>
  <dc:description/>
  <cp:keywords>幻灯片之家 http:/www.eeppt.com</cp:keywords>
  <dc:language>en-US</dc:language>
  <cp:lastModifiedBy/>
  <dcterms:modified xsi:type="dcterms:W3CDTF">2015-07-13T09:3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