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49F-C0CF-4DE1-B7DB-C5C13631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41F-EDB9-4056-8BA1-E2C30AA7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724-66FB-4B84-A382-BC0F496B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1EF-009A-4744-8009-195E7981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98C-B5CF-4CE0-BF4D-312A084E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ACB-AE5B-4717-B032-294A538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219-5163-4281-B822-0778C1B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6D2-6610-44CC-A5FC-ABB6C350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B88-30DF-411C-85B5-4923701C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E1D-C053-414D-8332-76348B0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F17-35EB-46C5-88F5-6D9A45E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483-8367-4E40-AE16-AFD45A5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350A-5879-4D17-9795-223A582FE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hyperlink" Target="http://www.eeppt.com/dongtai/" TargetMode="External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42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52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55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58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61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64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67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70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73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76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80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83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86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89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92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98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01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04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5000" y="3573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礼花动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16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10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20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23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29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132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135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144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148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151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154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157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160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166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69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72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34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35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B3A-F942-4137-85E2-F8C99F1BA6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79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89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92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95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98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201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204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207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210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213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217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220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223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226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229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235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238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241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51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52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1:52:27Z</dcterms:created>
  <dc:creator/>
  <dc:description/>
  <cp:keywords>幻灯片之家 http:/www.eeppt.com</cp:keywords>
  <dc:language>en-US</dc:language>
  <cp:lastModifiedBy/>
  <dcterms:modified xsi:type="dcterms:W3CDTF">2015-07-13T13:28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