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427-E7B9-48D5-BB0A-289D0472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C1A-9F3A-4033-977F-ABF264F4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239-CFDB-42CC-B3B2-DF985A33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0204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16636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63D-5647-457B-A638-38C1236E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45A2-8C4C-485F-81CE-DEEA43BE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1AFA-64E3-4065-9F4E-FF900ABF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8E00-AA72-48ED-948E-E04863D4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59D4-CBB5-4D55-B14A-EE2EF0CA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5C9F-27DA-48DB-B2C6-BC687CC8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89A5-56B0-4980-A603-82A02FFD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2EF6-413F-4902-8AFC-98411BD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28C-1A04-47D6-831E-C1A34EB0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E73D-0EAD-4289-9005-F8C5CFC2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633-4559-4C92-B7EF-FD5B63D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E955-3D2C-493D-B372-B9E07F76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827C-171C-4BE8-B331-5F3AFA54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00204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16636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02DB-6638-4F4D-BB5A-553A6EB0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604-28BC-473C-BD4D-51DA2426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8F7-1840-4E6F-8BA2-2AF07EA9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4E0-513D-463A-837C-BC04F932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279-1F5C-49E2-89C5-84B82C4C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154-5E7A-4090-94D7-C9DF711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99F-7AF9-48E9-9698-DBD092A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7CA-0AE1-4D42-A902-AA5FF02B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7f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2" name="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B95B-9A0D-4147-9471-664F539CC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7f92"/>
            </a:gs>
            <a:gs pos="100000">
              <a:srgbClr val="1641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B062-A6BF-421A-8A8A-7F0B937C1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584200">
            <a:off x="-141120" y="5376600"/>
            <a:ext cx="2541600" cy="573120"/>
          </a:xfrm>
          <a:prstGeom prst="parallelogram">
            <a:avLst>
              <a:gd name="adj" fmla="val 3005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584200">
            <a:off x="2153880" y="46764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84200">
            <a:off x="4448160" y="39751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584200">
            <a:off x="6751800" y="32731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gradFill rotWithShape="0">
            <a:gsLst>
              <a:gs pos="0">
                <a:srgbClr val="b2b838"/>
              </a:gs>
              <a:gs pos="100000">
                <a:srgbClr val="5254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56386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7f92"/>
            </a:gs>
            <a:gs pos="100000">
              <a:srgbClr val="1641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7bd"/>
                </a:solidFill>
                <a:latin typeface="Arial"/>
                <a:ea typeface="宋体"/>
              </a:rPr>
              <a:t>免费</a:t>
            </a:r>
            <a:r>
              <a:rPr b="1" lang="en-US" sz="4400" spc="-1" strike="noStrike">
                <a:solidFill>
                  <a:srgbClr val="f0f7bd"/>
                </a:solidFill>
                <a:latin typeface="Arial"/>
              </a:rPr>
              <a:t>国外</a:t>
            </a:r>
            <a:r>
              <a:rPr b="1" lang="zh-CN" sz="4400" spc="-1" strike="noStrike">
                <a:solidFill>
                  <a:srgbClr val="f0f7bd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f0f7bd"/>
                </a:solidFill>
                <a:latin typeface="Arial"/>
              </a:rPr>
              <a:t>下载</a:t>
            </a: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906080" y="2985480"/>
            <a:ext cx="1703880" cy="2679120"/>
            <a:chOff x="4906080" y="2985480"/>
            <a:chExt cx="1703880" cy="2679120"/>
          </a:xfrm>
        </p:grpSpPr>
        <p:grpSp>
          <p:nvGrpSpPr>
            <p:cNvPr id="328" name=""/>
            <p:cNvGrpSpPr/>
            <p:nvPr/>
          </p:nvGrpSpPr>
          <p:grpSpPr>
            <a:xfrm>
              <a:off x="4906080" y="3164040"/>
              <a:ext cx="1577160" cy="2500560"/>
              <a:chOff x="4906080" y="3164040"/>
              <a:chExt cx="1577160" cy="2500560"/>
            </a:xfrm>
          </p:grpSpPr>
          <p:sp>
            <p:nvSpPr>
              <p:cNvPr id="329" name=""/>
              <p:cNvSpPr/>
              <p:nvPr/>
            </p:nvSpPr>
            <p:spPr>
              <a:xfrm rot="3876600">
                <a:off x="44427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3876600">
                <a:off x="5947560" y="51037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332" name="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335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22680" y="21571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22680" y="21603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84600" y="22208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01880" y="2238120"/>
              <a:ext cx="1090440" cy="1091880"/>
              <a:chOff x="4601880" y="2238120"/>
              <a:chExt cx="1090440" cy="1091880"/>
            </a:xfrm>
          </p:grpSpPr>
          <p:sp>
            <p:nvSpPr>
              <p:cNvPr id="341" name=""/>
              <p:cNvSpPr/>
              <p:nvPr/>
            </p:nvSpPr>
            <p:spPr>
              <a:xfrm>
                <a:off x="4601880" y="22381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5560" y="22442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27080" y="22546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86120" y="22824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7138080" y="3058560"/>
            <a:ext cx="1703880" cy="2679120"/>
            <a:chOff x="7138080" y="3058560"/>
            <a:chExt cx="1703880" cy="2679120"/>
          </a:xfrm>
        </p:grpSpPr>
        <p:grpSp>
          <p:nvGrpSpPr>
            <p:cNvPr id="346" name=""/>
            <p:cNvGrpSpPr/>
            <p:nvPr/>
          </p:nvGrpSpPr>
          <p:grpSpPr>
            <a:xfrm>
              <a:off x="7138080" y="3237120"/>
              <a:ext cx="1577160" cy="2500560"/>
              <a:chOff x="7138080" y="3237120"/>
              <a:chExt cx="1577160" cy="2500560"/>
            </a:xfrm>
          </p:grpSpPr>
          <p:sp>
            <p:nvSpPr>
              <p:cNvPr id="347" name=""/>
              <p:cNvSpPr/>
              <p:nvPr/>
            </p:nvSpPr>
            <p:spPr>
              <a:xfrm rot="3876600">
                <a:off x="667476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3876600">
                <a:off x="8179560" y="51768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350" name="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358" name="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69720" y="21218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858760" y="2985120"/>
            <a:ext cx="1703880" cy="2679480"/>
            <a:chOff x="2858760" y="2985120"/>
            <a:chExt cx="1703880" cy="2679480"/>
          </a:xfrm>
        </p:grpSpPr>
        <p:grpSp>
          <p:nvGrpSpPr>
            <p:cNvPr id="363" name="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364" name="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3876600">
                <a:off x="3900240" y="51037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352680" y="2985120"/>
              <a:ext cx="1209960" cy="1918800"/>
              <a:chOff x="3352680" y="2985120"/>
              <a:chExt cx="1209960" cy="1918800"/>
            </a:xfrm>
          </p:grpSpPr>
          <p:sp>
            <p:nvSpPr>
              <p:cNvPr id="367" name=""/>
              <p:cNvSpPr/>
              <p:nvPr/>
            </p:nvSpPr>
            <p:spPr>
              <a:xfrm flipV="1" rot="3876600">
                <a:off x="2997000" y="37306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 rot="3876600">
                <a:off x="4134240" y="44816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2379600" y="2063880"/>
            <a:ext cx="1440000" cy="1439640"/>
            <a:chOff x="2379600" y="2063880"/>
            <a:chExt cx="1440000" cy="1439640"/>
          </a:xfrm>
        </p:grpSpPr>
        <p:sp>
          <p:nvSpPr>
            <p:cNvPr id="370" name="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7500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7500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3692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554200" y="2238120"/>
              <a:ext cx="1090800" cy="1091880"/>
              <a:chOff x="2554200" y="2238120"/>
              <a:chExt cx="1090800" cy="1091880"/>
            </a:xfrm>
          </p:grpSpPr>
          <p:sp>
            <p:nvSpPr>
              <p:cNvPr id="376" name=""/>
              <p:cNvSpPr/>
              <p:nvPr/>
            </p:nvSpPr>
            <p:spPr>
              <a:xfrm>
                <a:off x="255420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6788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7940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3844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875880" y="2985120"/>
            <a:ext cx="1703880" cy="2679480"/>
            <a:chOff x="875880" y="2985120"/>
            <a:chExt cx="1703880" cy="2679480"/>
          </a:xfrm>
        </p:grpSpPr>
        <p:grpSp>
          <p:nvGrpSpPr>
            <p:cNvPr id="381" name="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382" name="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3876600">
                <a:off x="1917360" y="51037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1369800" y="2985120"/>
              <a:ext cx="1209960" cy="1918800"/>
              <a:chOff x="1369800" y="2985120"/>
              <a:chExt cx="1209960" cy="1918800"/>
            </a:xfrm>
          </p:grpSpPr>
          <p:sp>
            <p:nvSpPr>
              <p:cNvPr id="385" name=""/>
              <p:cNvSpPr/>
              <p:nvPr/>
            </p:nvSpPr>
            <p:spPr>
              <a:xfrm flipV="1" rot="3876600">
                <a:off x="1014120" y="37306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 rot="3876600">
                <a:off x="2151360" y="44816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396720" y="2063880"/>
            <a:ext cx="1440000" cy="1439640"/>
            <a:chOff x="396720" y="2063880"/>
            <a:chExt cx="1440000" cy="1439640"/>
          </a:xfrm>
        </p:grpSpPr>
        <p:sp>
          <p:nvSpPr>
            <p:cNvPr id="388" name="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212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12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404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571320" y="2238120"/>
              <a:ext cx="1090800" cy="1091880"/>
              <a:chOff x="571320" y="2238120"/>
              <a:chExt cx="1090800" cy="1091880"/>
            </a:xfrm>
          </p:grpSpPr>
          <p:sp>
            <p:nvSpPr>
              <p:cNvPr id="394" name=""/>
              <p:cNvSpPr/>
              <p:nvPr/>
            </p:nvSpPr>
            <p:spPr>
              <a:xfrm>
                <a:off x="57132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500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9652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556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" name=""/>
          <p:cNvCxnSpPr>
            <a:stCxn id="406" idx="3"/>
            <a:endCxn id="407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7" idx="3"/>
            <a:endCxn id="408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8" idx="3"/>
            <a:endCxn id="409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2720" y="25909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25909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8080" y="25909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7524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86160" y="17524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17524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426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428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12600">
                <a:solidFill>
                  <a:srgbClr val="2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434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12600">
                <a:solidFill>
                  <a:srgbClr val="2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440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12600">
                <a:solidFill>
                  <a:srgbClr val="2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85800" y="1946160"/>
          <a:ext cx="7620120" cy="3540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61808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20601600">
            <a:off x="1332000" y="250488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20601600">
            <a:off x="1388880" y="234288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20601600">
            <a:off x="1303200" y="232884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20602200">
            <a:off x="1281240" y="236016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20601600">
            <a:off x="1312920" y="234000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20602200">
            <a:off x="1295280" y="23475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20601600">
            <a:off x="2849400" y="30571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65040" y="327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69800" y="2365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46320" y="28224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72200" y="335592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20539200">
            <a:off x="1307520" y="2358360"/>
            <a:ext cx="625752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71920" y="383688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46320" y="3813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93840" y="4575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887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20601600">
            <a:off x="2951280" y="3309840"/>
            <a:ext cx="2585880" cy="1090800"/>
          </a:xfrm>
          <a:prstGeom prst="ellipse">
            <a:avLst/>
          </a:prstGeom>
          <a:solidFill>
            <a:srgbClr val="2c7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48320" y="4232160"/>
            <a:ext cx="1282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solidFill>
            <a:srgbClr val="2c7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a43"/>
              </a:gs>
              <a:gs pos="50000">
                <a:srgbClr val="2c7f92"/>
              </a:gs>
              <a:gs pos="100000">
                <a:srgbClr val="143a4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3976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80920" y="4481640"/>
            <a:ext cx="1544760" cy="154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1440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1571e"/>
              </a:gs>
              <a:gs pos="100000">
                <a:srgbClr val="e68b30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71640" y="45720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a66422"/>
              </a:gs>
              <a:gs pos="100000">
                <a:srgbClr val="e68b3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23084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488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481640"/>
            <a:ext cx="1544400" cy="1544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5264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77051"/>
              </a:gs>
              <a:gs pos="100000">
                <a:srgbClr val="3fb180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09880" y="45720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d7f5c"/>
              </a:gs>
              <a:gs pos="100000">
                <a:srgbClr val="3fb1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2852640" y="457200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16908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9112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4481640"/>
            <a:ext cx="1544760" cy="154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83408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707423"/>
              </a:gs>
              <a:gs pos="100000">
                <a:srgbClr val="b2b838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90960" y="45720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808428"/>
              </a:gs>
              <a:gs pos="100000">
                <a:srgbClr val="b2b83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4834080" y="45720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515016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1028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81680" y="4481640"/>
            <a:ext cx="1544760" cy="154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1516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98f"/>
              </a:gs>
              <a:gs pos="100000">
                <a:srgbClr val="3ba7e3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72400" y="457200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2a78a4"/>
              </a:gs>
              <a:gs pos="100000">
                <a:srgbClr val="3ba7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6815160" y="45720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713160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7f92"/>
            </a:gs>
            <a:gs pos="100000">
              <a:srgbClr val="1641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762120" y="16002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b180"/>
                    </a:gs>
                    <a:gs pos="100000">
                      <a:srgbClr val="1d513b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b180"/>
                  </a:gs>
                  <a:gs pos="100000">
                    <a:srgbClr val="1d513b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f7bd"/>
                </a:solidFill>
                <a:latin typeface="Arial"/>
              </a:rPr>
              <a:t>Diagram </a:t>
            </a:r>
            <a:r>
              <a:rPr b="1" lang="en-US" sz="2000" spc="-1" strike="noStrike">
                <a:solidFill>
                  <a:srgbClr val="f0f7bd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3fb180"/>
                </a:solidFill>
                <a:latin typeface="Arial"/>
              </a:rPr>
              <a:t>Contents</a:t>
            </a:r>
            <a:endParaRPr b="1" lang="en-US" sz="2000" spc="-1" strike="noStrike">
              <a:solidFill>
                <a:srgbClr val="f0f7bd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438280"/>
            <a:ext cx="762120" cy="665280"/>
            <a:chOff x="1828800" y="2438280"/>
            <a:chExt cx="762120" cy="665280"/>
          </a:xfrm>
        </p:grpSpPr>
        <p:sp>
          <p:nvSpPr>
            <p:cNvPr id="98" name=""/>
            <p:cNvSpPr/>
            <p:nvPr/>
          </p:nvSpPr>
          <p:spPr>
            <a:xfrm>
              <a:off x="1834920" y="2449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24382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73080" y="24775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3352680"/>
            <a:ext cx="762120" cy="665280"/>
            <a:chOff x="1828800" y="3352680"/>
            <a:chExt cx="762120" cy="665280"/>
          </a:xfrm>
        </p:grpSpPr>
        <p:sp>
          <p:nvSpPr>
            <p:cNvPr id="102" name=""/>
            <p:cNvSpPr/>
            <p:nvPr/>
          </p:nvSpPr>
          <p:spPr>
            <a:xfrm>
              <a:off x="1834920" y="3363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3352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3080" y="33919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b838"/>
                </a:gs>
                <a:gs pos="100000">
                  <a:srgbClr val="525419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38280" y="3048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9440" y="25146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7520" y="253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962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9440" y="34290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27520" y="345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28800" y="4245120"/>
            <a:ext cx="762120" cy="664920"/>
            <a:chOff x="1828800" y="4245120"/>
            <a:chExt cx="762120" cy="664920"/>
          </a:xfrm>
        </p:grpSpPr>
        <p:sp>
          <p:nvSpPr>
            <p:cNvPr id="112" name=""/>
            <p:cNvSpPr/>
            <p:nvPr/>
          </p:nvSpPr>
          <p:spPr>
            <a:xfrm>
              <a:off x="1834920" y="42562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451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3080" y="42843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28800" y="5159520"/>
            <a:ext cx="762120" cy="664920"/>
            <a:chOff x="1828800" y="5159520"/>
            <a:chExt cx="762120" cy="664920"/>
          </a:xfrm>
        </p:grpSpPr>
        <p:sp>
          <p:nvSpPr>
            <p:cNvPr id="116" name=""/>
            <p:cNvSpPr/>
            <p:nvPr/>
          </p:nvSpPr>
          <p:spPr>
            <a:xfrm>
              <a:off x="1834920" y="51706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5159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3080" y="51987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b838"/>
                </a:gs>
                <a:gs pos="100000">
                  <a:srgbClr val="525419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440" y="43210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2752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769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9440" y="5235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27520" y="525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d5db"/>
              </a:gs>
              <a:gs pos="100000">
                <a:srgbClr val="2c7f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e7bf"/>
              </a:gs>
              <a:gs pos="100000">
                <a:srgbClr val="b2b83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2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33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e553e"/>
                  </a:gs>
                  <a:gs pos="100000">
                    <a:srgbClr val="3fb1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3fb180"/>
                  </a:gs>
                  <a:gs pos="100000">
                    <a:srgbClr val="a9dbc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b2b838"/>
                </a:gs>
                <a:gs pos="100000">
                  <a:srgbClr val="5254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e3e5b8"/>
                </a:gs>
                <a:gs pos="100000">
                  <a:srgbClr val="b2b83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b2b838">
                    <a:alpha val="48235"/>
                  </a:srgbClr>
                </a:gs>
                <a:gs pos="100000">
                  <a:srgbClr val="8c91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b2b83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rot="20241600">
            <a:off x="1077480" y="27666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ba7e3"/>
              </a:gs>
              <a:gs pos="100000">
                <a:srgbClr val="ebf5fb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056200">
            <a:off x="4495320" y="2666520"/>
            <a:ext cx="1067040" cy="30492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56200">
            <a:off x="7391160" y="2971440"/>
            <a:ext cx="1066680" cy="30492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056200">
            <a:off x="2895120" y="5866920"/>
            <a:ext cx="1067040" cy="30492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056200">
            <a:off x="5638320" y="5333760"/>
            <a:ext cx="1067040" cy="30456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056200">
            <a:off x="1980720" y="4190760"/>
            <a:ext cx="1067040" cy="30456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1905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3fb180"/>
              </a:gs>
              <a:gs pos="100000">
                <a:srgbClr val="153c2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429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2b838"/>
              </a:gs>
              <a:gs pos="100000">
                <a:srgbClr val="3739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78000" y="51260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68b30"/>
              </a:gs>
              <a:gs pos="100000">
                <a:srgbClr val="513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44956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21337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ba7e3"/>
              </a:gs>
              <a:gs pos="100000">
                <a:srgbClr val="14394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8000" y="396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39640" y="2362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71480" y="2639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81560" y="4952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60600" y="55767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8908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3200" y="21924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/>
          <p:nvPr/>
        </p:nvCxnSpPr>
        <p:spPr>
          <a:xfrm flipH="1">
            <a:off x="456840" y="21920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518760" y="1752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1d513b">
                  <a:alpha val="12156"/>
                </a:srgbClr>
              </a:gs>
              <a:gs pos="100000">
                <a:srgbClr val="3fb1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fb180"/>
              </a:gs>
              <a:gs pos="100000">
                <a:srgbClr val="1d513b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43a43"/>
              </a:gs>
              <a:gs pos="50000">
                <a:srgbClr val="2c7f92"/>
              </a:gs>
              <a:gs pos="100000">
                <a:srgbClr val="143a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b180"/>
              </a:gs>
              <a:gs pos="100000">
                <a:srgbClr val="84ccad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4ccad">
                  <a:alpha val="12156"/>
                </a:srgbClr>
              </a:gs>
              <a:gs pos="100000">
                <a:srgbClr val="3fb1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rot="16200000">
            <a:off x="2812680" y="3250080"/>
            <a:ext cx="49032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5400000">
            <a:off x="5683320" y="3196080"/>
            <a:ext cx="49032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rot="10800000">
            <a:off x="4249800" y="4696920"/>
            <a:ext cx="48888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22720" y="2133720"/>
            <a:ext cx="2563560" cy="2563560"/>
            <a:chOff x="3222720" y="2133720"/>
            <a:chExt cx="2563560" cy="2563560"/>
          </a:xfrm>
        </p:grpSpPr>
        <p:sp>
          <p:nvSpPr>
            <p:cNvPr id="186" name=""/>
            <p:cNvSpPr/>
            <p:nvPr/>
          </p:nvSpPr>
          <p:spPr>
            <a:xfrm>
              <a:off x="3222720" y="2133720"/>
              <a:ext cx="2563560" cy="25635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2c7f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68520" y="2277720"/>
              <a:ext cx="2269800" cy="22698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1720" y="2412720"/>
              <a:ext cx="2003040" cy="20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fb1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1720" y="2412720"/>
              <a:ext cx="2003040" cy="20062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3480" y="2544480"/>
              <a:ext cx="1739520" cy="1742760"/>
            </a:xfrm>
            <a:prstGeom prst="ellipse">
              <a:avLst/>
            </a:prstGeom>
            <a:gradFill rotWithShape="0">
              <a:gsLst>
                <a:gs pos="0">
                  <a:srgbClr val="215f45"/>
                </a:gs>
                <a:gs pos="50000">
                  <a:srgbClr val="3fb180"/>
                </a:gs>
                <a:gs pos="100000">
                  <a:srgbClr val="215f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33480" y="2544480"/>
              <a:ext cx="1739520" cy="174276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a43"/>
              </a:gs>
              <a:gs pos="50000">
                <a:srgbClr val="2c7f92"/>
              </a:gs>
              <a:gs pos="100000">
                <a:srgbClr val="143a4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323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2b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323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fb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764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fb1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764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fb18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69120" y="257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f45"/>
              </a:gs>
              <a:gs pos="50000">
                <a:srgbClr val="3fb180"/>
              </a:gs>
              <a:gs pos="100000">
                <a:srgbClr val="215f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5909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3fb180">
                  <a:alpha val="0"/>
                </a:srgbClr>
              </a:gs>
              <a:gs pos="100000">
                <a:srgbClr val="2770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70640" y="26733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24321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a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24321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ba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96760" y="2573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f5a7a"/>
              </a:gs>
              <a:gs pos="50000">
                <a:srgbClr val="3ba7e3"/>
              </a:gs>
              <a:gs pos="100000">
                <a:srgbClr val="1f5a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8560" y="2576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a7e3">
                  <a:alpha val="0"/>
                </a:srgbClr>
              </a:gs>
              <a:gs pos="100000">
                <a:srgbClr val="2569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6668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017720" y="2692440"/>
            <a:ext cx="1636560" cy="1636560"/>
            <a:chOff x="1017720" y="2692440"/>
            <a:chExt cx="1636560" cy="1636560"/>
          </a:xfrm>
        </p:grpSpPr>
        <p:sp>
          <p:nvSpPr>
            <p:cNvPr id="220" name=""/>
            <p:cNvSpPr/>
            <p:nvPr/>
          </p:nvSpPr>
          <p:spPr>
            <a:xfrm>
              <a:off x="1017720" y="26924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38600" y="27014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55520" y="27172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4440" y="27590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49236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b83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3840" y="257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631e"/>
              </a:gs>
              <a:gs pos="50000">
                <a:srgbClr val="b2b838"/>
              </a:gs>
              <a:gs pos="100000">
                <a:srgbClr val="5f63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25830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b838">
                  <a:alpha val="0"/>
                </a:srgbClr>
              </a:gs>
              <a:gs pos="100000">
                <a:srgbClr val="7074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27440" y="26733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754440" y="2692440"/>
            <a:ext cx="1636560" cy="1636560"/>
            <a:chOff x="3754440" y="2692440"/>
            <a:chExt cx="1636560" cy="1636560"/>
          </a:xfrm>
        </p:grpSpPr>
        <p:sp>
          <p:nvSpPr>
            <p:cNvPr id="230" name=""/>
            <p:cNvSpPr/>
            <p:nvPr/>
          </p:nvSpPr>
          <p:spPr>
            <a:xfrm>
              <a:off x="3754440" y="26924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75320" y="27014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92240" y="27172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1160" y="27590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00880" y="2692440"/>
            <a:ext cx="1636560" cy="1636560"/>
            <a:chOff x="6500880" y="2692440"/>
            <a:chExt cx="1636560" cy="1636560"/>
          </a:xfrm>
        </p:grpSpPr>
        <p:sp>
          <p:nvSpPr>
            <p:cNvPr id="235" name=""/>
            <p:cNvSpPr/>
            <p:nvPr/>
          </p:nvSpPr>
          <p:spPr>
            <a:xfrm>
              <a:off x="6500880" y="26924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21760" y="27014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38680" y="27172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7600" y="27590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04960" y="49705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38440" y="49705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91360" y="49705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52240" y="3297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95440" y="3297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8640" y="3297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7973000">
            <a:off x="477756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465600">
            <a:off x="4777200" y="48506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4368800">
            <a:off x="3557880" y="27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7534800">
            <a:off x="3520080" y="48171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56080" y="38149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0800000">
            <a:off x="2945880" y="38084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92440" y="2046240"/>
            <a:ext cx="3743280" cy="3745080"/>
          </a:xfrm>
          <a:prstGeom prst="ellipse">
            <a:avLst/>
          </a:prstGeom>
          <a:noFill/>
          <a:ln w="38160">
            <a:solidFill>
              <a:srgbClr val="f0f7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429000" y="2104920"/>
            <a:ext cx="360360" cy="360360"/>
            <a:chOff x="3429000" y="2104920"/>
            <a:chExt cx="360360" cy="360360"/>
          </a:xfrm>
        </p:grpSpPr>
        <p:sp>
          <p:nvSpPr>
            <p:cNvPr id="254" name=""/>
            <p:cNvSpPr/>
            <p:nvPr/>
          </p:nvSpPr>
          <p:spPr>
            <a:xfrm>
              <a:off x="3429000" y="2104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4840" y="2135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484360" y="3760920"/>
            <a:ext cx="360360" cy="360360"/>
            <a:chOff x="2484360" y="3760920"/>
            <a:chExt cx="360360" cy="360360"/>
          </a:xfrm>
        </p:grpSpPr>
        <p:sp>
          <p:nvSpPr>
            <p:cNvPr id="257" name=""/>
            <p:cNvSpPr/>
            <p:nvPr/>
          </p:nvSpPr>
          <p:spPr>
            <a:xfrm>
              <a:off x="2484360" y="3760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00200" y="3791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48000" y="5303880"/>
            <a:ext cx="360360" cy="360360"/>
            <a:chOff x="3348000" y="5303880"/>
            <a:chExt cx="360360" cy="360360"/>
          </a:xfrm>
        </p:grpSpPr>
        <p:sp>
          <p:nvSpPr>
            <p:cNvPr id="260" name=""/>
            <p:cNvSpPr/>
            <p:nvPr/>
          </p:nvSpPr>
          <p:spPr>
            <a:xfrm>
              <a:off x="3348000" y="53038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3840" y="5334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278320" y="2084400"/>
            <a:ext cx="360360" cy="360360"/>
            <a:chOff x="5278320" y="2084400"/>
            <a:chExt cx="360360" cy="360360"/>
          </a:xfrm>
        </p:grpSpPr>
        <p:sp>
          <p:nvSpPr>
            <p:cNvPr id="263" name=""/>
            <p:cNvSpPr/>
            <p:nvPr/>
          </p:nvSpPr>
          <p:spPr>
            <a:xfrm>
              <a:off x="5278320" y="20844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94160" y="21146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227640" y="3760920"/>
            <a:ext cx="360360" cy="360360"/>
            <a:chOff x="6227640" y="3760920"/>
            <a:chExt cx="360360" cy="360360"/>
          </a:xfrm>
        </p:grpSpPr>
        <p:sp>
          <p:nvSpPr>
            <p:cNvPr id="266" name=""/>
            <p:cNvSpPr/>
            <p:nvPr/>
          </p:nvSpPr>
          <p:spPr>
            <a:xfrm>
              <a:off x="6227640" y="3760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3480" y="3791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334120" y="5361120"/>
            <a:ext cx="360360" cy="360360"/>
            <a:chOff x="5334120" y="5361120"/>
            <a:chExt cx="360360" cy="360360"/>
          </a:xfrm>
        </p:grpSpPr>
        <p:sp>
          <p:nvSpPr>
            <p:cNvPr id="269" name=""/>
            <p:cNvSpPr/>
            <p:nvPr/>
          </p:nvSpPr>
          <p:spPr>
            <a:xfrm>
              <a:off x="5334120" y="5361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49960" y="5391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624120" y="2998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24120" y="2998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51200" y="31258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6d00"/>
              </a:gs>
              <a:gs pos="50000">
                <a:srgbClr val="ffcc00"/>
              </a:gs>
              <a:gs pos="100000">
                <a:srgbClr val="89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3000" y="31431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1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35440" y="32097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7760" y="3228840"/>
            <a:ext cx="1471320" cy="14734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75040" y="323856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90880" y="325296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71880" y="32893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64480" y="3699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7520" y="20318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17000" y="20318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31920" y="3784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17520" y="5384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02600" y="3784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40680" y="53229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fb180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fb180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44520" y="265284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78000" y="266076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472428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268272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989000" y="2344680"/>
            <a:ext cx="642960" cy="642960"/>
            <a:chOff x="1989000" y="2344680"/>
            <a:chExt cx="642960" cy="642960"/>
          </a:xfrm>
        </p:grpSpPr>
        <p:sp>
          <p:nvSpPr>
            <p:cNvPr id="294" name=""/>
            <p:cNvSpPr/>
            <p:nvPr/>
          </p:nvSpPr>
          <p:spPr>
            <a:xfrm>
              <a:off x="1989000" y="234468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95480" y="234936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03400" y="235332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09880" y="235908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43720" y="237456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129040" y="243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20840" y="31068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9160" y="265284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02280" y="266076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472428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268272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713640" y="2344680"/>
            <a:ext cx="642960" cy="642960"/>
            <a:chOff x="6713640" y="2344680"/>
            <a:chExt cx="642960" cy="642960"/>
          </a:xfrm>
        </p:grpSpPr>
        <p:sp>
          <p:nvSpPr>
            <p:cNvPr id="306" name=""/>
            <p:cNvSpPr/>
            <p:nvPr/>
          </p:nvSpPr>
          <p:spPr>
            <a:xfrm>
              <a:off x="6713640" y="234468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20120" y="234936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28040" y="235332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34520" y="235908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68360" y="237456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853680" y="243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45120" y="31068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06840" y="265284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39960" y="266076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57600" y="472428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268272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1320" y="234468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57800" y="2349360"/>
            <a:ext cx="62208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65720" y="235260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71840" y="2359080"/>
            <a:ext cx="57816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06760" y="237492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1360" y="243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83160" y="31068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6:22:07Z</dcterms:created>
  <dc:creator/>
  <dc:description/>
  <cp:keywords>幻灯片之家 http:/www.eeppt.com</cp:keywords>
  <dc:language>en-US</dc:language>
  <cp:lastModifiedBy/>
  <dcterms:modified xsi:type="dcterms:W3CDTF">2015-07-05T03:21:08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