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B476-2D83-432E-8D1A-7CCB038A9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5F81F-4FED-4334-AE18-F9F69FB97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2E685-D17B-4852-B6EC-1DA7FE771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0C44-96CC-473C-A0F6-CC089C7A2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61A16-A7A5-4906-9E2A-2D6862DE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9BFB6-36BC-4DC6-8E8D-63D69344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99AA5-F87D-407A-9D90-FE91D068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3B456-0F69-458B-BF21-E5AF2138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52BB9-77AA-4CFA-ACE6-2BD32F60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36CB5-F6A4-4FA5-A150-CEFFC687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90CB2-DDC3-4A29-AD13-456AD5D7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8329-C7CE-4F11-B7A9-3B93067E8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F6741-9FF4-452A-B916-6A1DC0F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124D8-6990-423F-A4E6-3BEAD0DA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D3083-2767-4485-A3C0-57263414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35457-563D-4B6D-A2FB-1F7B1857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6E4B5-9B28-4E34-B11E-58855817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4EE3A-EDF3-430F-8586-7DC98F60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B7B68-46F9-4CB8-94DA-CE2BBB3A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19040-B353-4A26-B85B-595B102F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E993E-0784-4102-8700-F49AF006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D3B29-25B1-4D71-875D-35159477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AEF1-0156-43A1-AA40-EA200224D5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4F427-49FD-4D41-800A-659004E3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25001-5AB9-40A3-9DFE-DDA3A9D8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5F066-2AF9-4DEE-A0AE-A8A62DFB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5BE49-3F6C-43B9-9EE1-E497E134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1FC1F-A4B9-431D-94FC-F7A8DD90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4A7F5-3D04-4807-A1A1-FCA958A4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70BF1-7166-4685-B010-8A66B328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3A129E-4FC2-42FE-AF40-E3F2709F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521DD-D718-4ABA-A617-D80F8680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6303B2-2CD8-4E6E-9090-CCF9C585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BD59-0FE5-42A0-912E-09C18FDAB7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7D613-0073-4BF9-B068-16D296AC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7A318-F5F4-4F81-B575-3DDA4E9A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372BA-FFEC-4125-8AB4-850E3F0E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804AB-7639-4B6F-9FF6-B80919B5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53265D-F324-47E1-AC97-A13B06F8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20FE4-070E-4AC4-8136-E2EADF80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87F7D-F8D9-456C-B270-B571CD0F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F0B2D-AE62-4224-82F3-93B82523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8F19DD-306E-4784-B9D2-6B8195AA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B86F-0035-477D-A204-5C729D2B1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72B0E-B2E1-4D63-A62C-D9D278730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B1802-B89C-4BF7-A8B5-74CA754B0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A873-0218-4724-940E-96A5A324C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D37D5-A768-4931-9D59-C575CE556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95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Line 3"/>
          <p:cNvSpPr/>
          <p:nvPr/>
        </p:nvSpPr>
        <p:spPr>
          <a:xfrm>
            <a:off x="425520" y="6400800"/>
            <a:ext cx="825012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5867280" y="6509880"/>
            <a:ext cx="28958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3505320" y="650664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16BC-0DF6-4DE9-9C6D-7E314D70530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8"/>
          <p:cNvSpPr/>
          <p:nvPr/>
        </p:nvSpPr>
        <p:spPr>
          <a:xfrm>
            <a:off x="304920" y="109440"/>
            <a:ext cx="739800" cy="73980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7"/>
          <p:cNvSpPr/>
          <p:nvPr/>
        </p:nvSpPr>
        <p:spPr>
          <a:xfrm>
            <a:off x="304920" y="304920"/>
            <a:ext cx="1320840" cy="13208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28760" y="776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宋体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39AE-FF2C-4396-A036-2E502783B018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144000" cy="95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Line 3"/>
          <p:cNvSpPr/>
          <p:nvPr/>
        </p:nvSpPr>
        <p:spPr>
          <a:xfrm>
            <a:off x="425520" y="6400800"/>
            <a:ext cx="825012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304920" y="109440"/>
            <a:ext cx="739800" cy="73980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385920" y="6516720"/>
            <a:ext cx="2133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联素材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3lian.c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5867280" y="6509880"/>
            <a:ext cx="28958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3505320" y="650664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12B4-BC52-4CBA-95C6-419E9F5D973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2"/>
          <p:cNvGraphicFramePr/>
          <p:nvPr/>
        </p:nvGraphicFramePr>
        <p:xfrm>
          <a:off x="0" y="0"/>
          <a:ext cx="9144000" cy="95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Line 3"/>
          <p:cNvSpPr/>
          <p:nvPr/>
        </p:nvSpPr>
        <p:spPr>
          <a:xfrm>
            <a:off x="425520" y="6400800"/>
            <a:ext cx="825012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304920" y="109440"/>
            <a:ext cx="739800" cy="73980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385920" y="6516720"/>
            <a:ext cx="2133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b166e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b166e"/>
                </a:solidFill>
                <a:latin typeface="Times New Roman"/>
                <a:ea typeface="宋体"/>
              </a:rPr>
              <a:t>PPT </a:t>
            </a:r>
            <a:r>
              <a:rPr b="0" lang="zh-CN" sz="2400" spc="-1" strike="noStrike">
                <a:solidFill>
                  <a:srgbClr val="2b166e"/>
                </a:solidFill>
                <a:latin typeface="Times New Roman"/>
                <a:ea typeface="宋体"/>
              </a:rPr>
              <a:t>三联素材（</a:t>
            </a:r>
            <a:r>
              <a:rPr b="0" lang="zh-CN" sz="2400" spc="-1" strike="noStrike">
                <a:solidFill>
                  <a:srgbClr val="2b166e"/>
                </a:solidFill>
                <a:latin typeface="Times New Roman"/>
                <a:ea typeface="宋体"/>
              </a:rPr>
              <a:t>www.3lian.com</a:t>
            </a:r>
            <a:r>
              <a:rPr b="0" lang="zh-CN" sz="2400" spc="-1" strike="noStrike">
                <a:solidFill>
                  <a:srgbClr val="2b166e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5867280" y="6509880"/>
            <a:ext cx="28958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Times New Roman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1"/>
          </p:nvPr>
        </p:nvSpPr>
        <p:spPr>
          <a:xfrm>
            <a:off x="3505320" y="650664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2b166e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2893-0404-478D-A126-41D0A956FF6B}" type="slidenum">
              <a:rPr b="0" lang="zh-CN" sz="1200" spc="-1" strike="noStrike">
                <a:solidFill>
                  <a:srgbClr val="2b166e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3884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cccc00"/>
              </a:solidFill>
              <a:uFillTx/>
              <a:latin typeface="Verdana"/>
              <a:ea typeface="宋体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64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3240" y="1486080"/>
            <a:ext cx="26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漂亮的动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62" name="AutoShape 4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3" name="AutoShape 5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5" name="AutoShape 7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6" name="AutoShape 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7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8" name="Oval 1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9" name="Oval 11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1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50000">
                  <a:srgbClr val="ffffff"/>
                </a:gs>
                <a:gs pos="100000">
                  <a:srgbClr val="6c9b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3" name="Oval 1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c9bbe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4" name="Oval 16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50000">
                  <a:srgbClr val="3a5467"/>
                </a:gs>
                <a:gs pos="100000">
                  <a:srgbClr val="6c9b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5" name="Oval 17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c9bbe">
                    <a:alpha val="0"/>
                  </a:srgbClr>
                </a:gs>
                <a:gs pos="100000">
                  <a:srgbClr val="4562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6" name="Oval 18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78" name="Oval 2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9" name="Oval 21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0" name="Oval 2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1" name="Oval 2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82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58f8f"/>
                </a:gs>
                <a:gs pos="50000">
                  <a:srgbClr val="ffffff"/>
                </a:gs>
                <a:gs pos="100000">
                  <a:srgbClr val="458f8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3" name="Oval 2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04242"/>
                </a:gs>
                <a:gs pos="100000">
                  <a:srgbClr val="458f8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4" name="Oval 26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58f8f"/>
                </a:gs>
                <a:gs pos="50000">
                  <a:srgbClr val="254d4d"/>
                </a:gs>
                <a:gs pos="100000">
                  <a:srgbClr val="458f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5" name="Oval 27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58f8f">
                    <a:alpha val="0"/>
                  </a:srgbClr>
                </a:gs>
                <a:gs pos="100000">
                  <a:srgbClr val="2c5b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6" name="Oval 2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88" name="Oval 30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9" name="Oval 31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0" name="Oval 32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1" name="Oval 3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93" name="Oval 3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4" name="Oval 36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5" name="Oval 3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6" name="Oval 3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97" name="Text Box 3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8" name="Text Box 4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9" name="Text Box 41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页脚占位符 3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52480" y="1447920"/>
            <a:ext cx="5181480" cy="4495680"/>
            <a:chOff x="1752480" y="1447920"/>
            <a:chExt cx="5181480" cy="4495680"/>
          </a:xfrm>
        </p:grpSpPr>
        <p:sp>
          <p:nvSpPr>
            <p:cNvPr id="403" name="Rectangle 4"/>
            <p:cNvSpPr/>
            <p:nvPr/>
          </p:nvSpPr>
          <p:spPr>
            <a:xfrm rot="13770000">
              <a:off x="4808160" y="3623760"/>
              <a:ext cx="857160" cy="177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4" name="Rectangle 5"/>
            <p:cNvSpPr/>
            <p:nvPr/>
          </p:nvSpPr>
          <p:spPr>
            <a:xfrm rot="20856000">
              <a:off x="2937960" y="3223800"/>
              <a:ext cx="93996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 rot="18394200">
              <a:off x="4913280" y="2238120"/>
              <a:ext cx="531720" cy="122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813120" y="2276640"/>
              <a:ext cx="1498680" cy="1420920"/>
              <a:chOff x="3813120" y="2276640"/>
              <a:chExt cx="1498680" cy="142092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3813120" y="2276640"/>
                <a:ext cx="1498680" cy="1420920"/>
                <a:chOff x="3813120" y="2276640"/>
                <a:chExt cx="1498680" cy="1420920"/>
              </a:xfrm>
            </p:grpSpPr>
            <p:sp>
              <p:nvSpPr>
                <p:cNvPr id="408" name="Oval 9"/>
                <p:cNvSpPr/>
                <p:nvPr/>
              </p:nvSpPr>
              <p:spPr>
                <a:xfrm>
                  <a:off x="3813120" y="2276640"/>
                  <a:ext cx="1498680" cy="142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6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09" name="未知"/>
                <p:cNvSpPr/>
                <p:nvPr/>
              </p:nvSpPr>
              <p:spPr>
                <a:xfrm>
                  <a:off x="3984480" y="2300040"/>
                  <a:ext cx="1155960" cy="536040"/>
                </a:xfrm>
                <a:custGeom>
                  <a:avLst/>
                  <a:gdLst>
                    <a:gd name="textAreaLeft" fmla="*/ 0 w 1155960"/>
                    <a:gd name="textAreaRight" fmla="*/ 1156320 w 115596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11"/>
              <p:cNvSpPr/>
              <p:nvPr/>
            </p:nvSpPr>
            <p:spPr>
              <a:xfrm>
                <a:off x="3845520" y="2894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097240" y="1447920"/>
              <a:ext cx="909360" cy="770040"/>
              <a:chOff x="5097240" y="1447920"/>
              <a:chExt cx="909360" cy="77004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5123880" y="1447920"/>
                <a:ext cx="810720" cy="770040"/>
                <a:chOff x="5123880" y="1447920"/>
                <a:chExt cx="810720" cy="770040"/>
              </a:xfrm>
            </p:grpSpPr>
            <p:sp>
              <p:nvSpPr>
                <p:cNvPr id="413" name="Oval 14"/>
                <p:cNvSpPr/>
                <p:nvPr/>
              </p:nvSpPr>
              <p:spPr>
                <a:xfrm>
                  <a:off x="5123880" y="1447920"/>
                  <a:ext cx="810720" cy="77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112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14" name="未知"/>
                <p:cNvSpPr/>
                <p:nvPr/>
              </p:nvSpPr>
              <p:spPr>
                <a:xfrm>
                  <a:off x="5216040" y="1460520"/>
                  <a:ext cx="624960" cy="290520"/>
                </a:xfrm>
                <a:custGeom>
                  <a:avLst/>
                  <a:gdLst>
                    <a:gd name="textAreaLeft" fmla="*/ 0 w 624960"/>
                    <a:gd name="textAreaRight" fmla="*/ 625320 w 624960"/>
                    <a:gd name="textAreaTop" fmla="*/ 0 h 290520"/>
                    <a:gd name="textAreaBottom" fmla="*/ 290880 h 2905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8f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Text Box 16"/>
              <p:cNvSpPr/>
              <p:nvPr/>
            </p:nvSpPr>
            <p:spPr>
              <a:xfrm>
                <a:off x="5097240" y="174528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1752480" y="2571840"/>
              <a:ext cx="1622520" cy="1598760"/>
              <a:chOff x="1752480" y="2571840"/>
              <a:chExt cx="1622520" cy="159876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1752480" y="2571840"/>
                <a:ext cx="1622520" cy="1598760"/>
                <a:chOff x="1752480" y="2571840"/>
                <a:chExt cx="1622520" cy="1598760"/>
              </a:xfrm>
            </p:grpSpPr>
            <p:sp>
              <p:nvSpPr>
                <p:cNvPr id="418" name="Oval 19"/>
                <p:cNvSpPr/>
                <p:nvPr/>
              </p:nvSpPr>
              <p:spPr>
                <a:xfrm>
                  <a:off x="1752480" y="2571840"/>
                  <a:ext cx="1622520" cy="159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828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19" name="未知"/>
                <p:cNvSpPr/>
                <p:nvPr/>
              </p:nvSpPr>
              <p:spPr>
                <a:xfrm>
                  <a:off x="1937880" y="2598120"/>
                  <a:ext cx="1251720" cy="603360"/>
                </a:xfrm>
                <a:custGeom>
                  <a:avLst/>
                  <a:gdLst>
                    <a:gd name="textAreaLeft" fmla="*/ 0 w 1251720"/>
                    <a:gd name="textAreaRight" fmla="*/ 1252080 w 1251720"/>
                    <a:gd name="textAreaTop" fmla="*/ 0 h 603360"/>
                    <a:gd name="textAreaBottom" fmla="*/ 603360 h 6033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21"/>
              <p:cNvSpPr/>
              <p:nvPr/>
            </p:nvSpPr>
            <p:spPr>
              <a:xfrm>
                <a:off x="1785600" y="3283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060880" y="3756240"/>
              <a:ext cx="1873080" cy="1776240"/>
              <a:chOff x="5060880" y="3756240"/>
              <a:chExt cx="1873080" cy="177624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5060880" y="3756240"/>
                <a:ext cx="1873080" cy="1776240"/>
                <a:chOff x="5060880" y="3756240"/>
                <a:chExt cx="1873080" cy="1776240"/>
              </a:xfrm>
            </p:grpSpPr>
            <p:sp>
              <p:nvSpPr>
                <p:cNvPr id="423" name="Oval 24"/>
                <p:cNvSpPr/>
                <p:nvPr/>
              </p:nvSpPr>
              <p:spPr>
                <a:xfrm>
                  <a:off x="5060880" y="3756240"/>
                  <a:ext cx="1873080" cy="177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f4f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24" name="未知"/>
                <p:cNvSpPr/>
                <p:nvPr/>
              </p:nvSpPr>
              <p:spPr>
                <a:xfrm>
                  <a:off x="5274720" y="378684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Text Box 26"/>
              <p:cNvSpPr/>
              <p:nvPr/>
            </p:nvSpPr>
            <p:spPr>
              <a:xfrm>
                <a:off x="5274000" y="45259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26" name="Oval 27"/>
            <p:cNvSpPr/>
            <p:nvPr/>
          </p:nvSpPr>
          <p:spPr>
            <a:xfrm>
              <a:off x="1939680" y="4229280"/>
              <a:ext cx="131940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7" name="Oval 28"/>
            <p:cNvSpPr/>
            <p:nvPr/>
          </p:nvSpPr>
          <p:spPr>
            <a:xfrm>
              <a:off x="3936960" y="3699000"/>
              <a:ext cx="1320840" cy="412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8" name="Oval 29"/>
            <p:cNvSpPr/>
            <p:nvPr/>
          </p:nvSpPr>
          <p:spPr>
            <a:xfrm>
              <a:off x="5373720" y="5532480"/>
              <a:ext cx="1319040" cy="411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248080" y="2276640"/>
              <a:ext cx="60480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33" name="AutoShape 4"/>
            <p:cNvSpPr/>
            <p:nvPr/>
          </p:nvSpPr>
          <p:spPr>
            <a:xfrm rot="17973000">
              <a:off x="4558320" y="2530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4" name="AutoShape 5"/>
            <p:cNvSpPr/>
            <p:nvPr/>
          </p:nvSpPr>
          <p:spPr>
            <a:xfrm rot="3465600">
              <a:off x="4608720" y="46411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5" name="AutoShape 6"/>
            <p:cNvSpPr/>
            <p:nvPr/>
          </p:nvSpPr>
          <p:spPr>
            <a:xfrm rot="14368800">
              <a:off x="3389760" y="25531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6" name="AutoShape 7"/>
            <p:cNvSpPr/>
            <p:nvPr/>
          </p:nvSpPr>
          <p:spPr>
            <a:xfrm rot="7534800">
              <a:off x="3351600" y="46076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7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8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9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0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1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2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4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5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6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7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8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9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0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1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2" name="Oval 23"/>
            <p:cNvSpPr/>
            <p:nvPr/>
          </p:nvSpPr>
          <p:spPr>
            <a:xfrm>
              <a:off x="3544920" y="2895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3" name="Oval 24"/>
            <p:cNvSpPr/>
            <p:nvPr/>
          </p:nvSpPr>
          <p:spPr>
            <a:xfrm>
              <a:off x="3543120" y="289404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4" name="Oval 25"/>
            <p:cNvSpPr/>
            <p:nvPr/>
          </p:nvSpPr>
          <p:spPr>
            <a:xfrm>
              <a:off x="3643200" y="298620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5" name="Oval 26"/>
            <p:cNvSpPr/>
            <p:nvPr/>
          </p:nvSpPr>
          <p:spPr>
            <a:xfrm>
              <a:off x="3695400" y="303372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1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6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58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59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60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61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62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66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7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8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9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0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1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73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4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5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6" name="Oval 14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7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78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9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81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2" name="AutoShape 20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3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4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5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6" name="Oval 24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7" name="Oval 25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8" name="Oval 26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9" name="Oval 27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0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1" name="Text Box 29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2" name="AutoShape 30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3" name="AutoShape 31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95" name="AutoShape 33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6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7" name="AutoShape 35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8" name="AutoShape 36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500" name="Oval 38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1" name="Oval 39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2" name="Oval 40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3" name="Oval 41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4" name="Oval 42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05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6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7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8" name="AutoShape 46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41200" y="2031840"/>
            <a:ext cx="8664480" cy="3985920"/>
            <a:chOff x="241200" y="2031840"/>
            <a:chExt cx="8664480" cy="3985920"/>
          </a:xfrm>
        </p:grpSpPr>
        <p:grpSp>
          <p:nvGrpSpPr>
            <p:cNvPr id="512" name="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513" name="Rectangle 5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4" name="Rectangle 6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761760" y="2685960"/>
              <a:ext cx="1932120" cy="3264840"/>
              <a:chOff x="761760" y="2685960"/>
              <a:chExt cx="1932120" cy="326484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1166040" y="3524040"/>
                <a:ext cx="1527840" cy="2426760"/>
                <a:chOff x="1166040" y="3524040"/>
                <a:chExt cx="1527840" cy="242676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1166040" y="3681720"/>
                  <a:ext cx="1422000" cy="2269080"/>
                  <a:chOff x="1166040" y="3681720"/>
                  <a:chExt cx="1422000" cy="2269080"/>
                </a:xfrm>
              </p:grpSpPr>
              <p:sp>
                <p:nvSpPr>
                  <p:cNvPr id="518" name="未知"/>
                  <p:cNvSpPr/>
                  <p:nvPr/>
                </p:nvSpPr>
                <p:spPr>
                  <a:xfrm rot="3876600">
                    <a:off x="738000" y="4569480"/>
                    <a:ext cx="2277720" cy="492840"/>
                  </a:xfrm>
                  <a:custGeom>
                    <a:avLst/>
                    <a:gdLst>
                      <a:gd name="textAreaLeft" fmla="*/ 0 w 2277720"/>
                      <a:gd name="textAreaRight" fmla="*/ 2278080 w 2277720"/>
                      <a:gd name="textAreaTop" fmla="*/ 0 h 492840"/>
                      <a:gd name="textAreaBottom" fmla="*/ 493200 h 4928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未知"/>
                  <p:cNvSpPr/>
                  <p:nvPr/>
                </p:nvSpPr>
                <p:spPr>
                  <a:xfrm rot="3876600">
                    <a:off x="2106720" y="5449320"/>
                    <a:ext cx="357840" cy="403560"/>
                  </a:xfrm>
                  <a:custGeom>
                    <a:avLst/>
                    <a:gdLst>
                      <a:gd name="textAreaLeft" fmla="*/ 0 w 357840"/>
                      <a:gd name="textAreaRight" fmla="*/ 358200 w 357840"/>
                      <a:gd name="textAreaTop" fmla="*/ 0 h 403560"/>
                      <a:gd name="textAreaBottom" fmla="*/ 403920 h 4035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1602720" y="3524040"/>
                  <a:ext cx="1091160" cy="1740960"/>
                  <a:chOff x="1602720" y="3524040"/>
                  <a:chExt cx="1091160" cy="1740960"/>
                </a:xfrm>
              </p:grpSpPr>
              <p:sp>
                <p:nvSpPr>
                  <p:cNvPr id="521" name="未知"/>
                  <p:cNvSpPr/>
                  <p:nvPr/>
                </p:nvSpPr>
                <p:spPr>
                  <a:xfrm flipV="1" rot="3876600">
                    <a:off x="1274040" y="4205520"/>
                    <a:ext cx="1747800" cy="378000"/>
                  </a:xfrm>
                  <a:custGeom>
                    <a:avLst/>
                    <a:gdLst>
                      <a:gd name="textAreaLeft" fmla="*/ 0 w 1747800"/>
                      <a:gd name="textAreaRight" fmla="*/ 1748160 w 1747800"/>
                      <a:gd name="textAreaTop" fmla="*/ 360 h 378000"/>
                      <a:gd name="textAreaBottom" fmla="*/ 378720 h 3780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未知"/>
                  <p:cNvSpPr/>
                  <p:nvPr/>
                </p:nvSpPr>
                <p:spPr>
                  <a:xfrm flipV="1" rot="3876600">
                    <a:off x="2309040" y="4887360"/>
                    <a:ext cx="274680" cy="309600"/>
                  </a:xfrm>
                  <a:custGeom>
                    <a:avLst/>
                    <a:gdLst>
                      <a:gd name="textAreaLeft" fmla="*/ 0 w 274680"/>
                      <a:gd name="textAreaRight" fmla="*/ 275040 w 274680"/>
                      <a:gd name="textAreaTop" fmla="*/ 360 h 309600"/>
                      <a:gd name="textAreaBottom" fmla="*/ 310320 h 30960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3" name=""/>
              <p:cNvGrpSpPr/>
              <p:nvPr/>
            </p:nvGrpSpPr>
            <p:grpSpPr>
              <a:xfrm>
                <a:off x="761760" y="2685960"/>
                <a:ext cx="1272960" cy="1310400"/>
                <a:chOff x="761760" y="2685960"/>
                <a:chExt cx="1272960" cy="1310400"/>
              </a:xfrm>
            </p:grpSpPr>
            <p:sp>
              <p:nvSpPr>
                <p:cNvPr id="524" name="Oval 16"/>
                <p:cNvSpPr/>
                <p:nvPr/>
              </p:nvSpPr>
              <p:spPr>
                <a:xfrm>
                  <a:off x="761760" y="2685960"/>
                  <a:ext cx="127296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25" name="Oval 17"/>
                <p:cNvSpPr/>
                <p:nvPr/>
              </p:nvSpPr>
              <p:spPr>
                <a:xfrm>
                  <a:off x="761760" y="2685960"/>
                  <a:ext cx="127296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26" name="Oval 18"/>
                <p:cNvSpPr/>
                <p:nvPr/>
              </p:nvSpPr>
              <p:spPr>
                <a:xfrm>
                  <a:off x="846000" y="2770920"/>
                  <a:ext cx="1104120" cy="113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27" name="Oval 19"/>
                <p:cNvSpPr/>
                <p:nvPr/>
              </p:nvSpPr>
              <p:spPr>
                <a:xfrm>
                  <a:off x="846000" y="2773800"/>
                  <a:ext cx="1104120" cy="113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28" name="Oval 20"/>
                <p:cNvSpPr/>
                <p:nvPr/>
              </p:nvSpPr>
              <p:spPr>
                <a:xfrm>
                  <a:off x="900720" y="282888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529" name=""/>
                <p:cNvGrpSpPr/>
                <p:nvPr/>
              </p:nvGrpSpPr>
              <p:grpSpPr>
                <a:xfrm>
                  <a:off x="915840" y="2844720"/>
                  <a:ext cx="964080" cy="993960"/>
                  <a:chOff x="915840" y="2844720"/>
                  <a:chExt cx="964080" cy="993960"/>
                </a:xfrm>
              </p:grpSpPr>
              <p:sp>
                <p:nvSpPr>
                  <p:cNvPr id="530" name="Oval 22"/>
                  <p:cNvSpPr/>
                  <p:nvPr/>
                </p:nvSpPr>
                <p:spPr>
                  <a:xfrm>
                    <a:off x="915840" y="2844720"/>
                    <a:ext cx="96408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Oval 23"/>
                  <p:cNvSpPr/>
                  <p:nvPr/>
                </p:nvSpPr>
                <p:spPr>
                  <a:xfrm>
                    <a:off x="928080" y="2850120"/>
                    <a:ext cx="94068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Oval 24"/>
                  <p:cNvSpPr/>
                  <p:nvPr/>
                </p:nvSpPr>
                <p:spPr>
                  <a:xfrm>
                    <a:off x="938160" y="2859840"/>
                    <a:ext cx="89460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Oval 25"/>
                  <p:cNvSpPr/>
                  <p:nvPr/>
                </p:nvSpPr>
                <p:spPr>
                  <a:xfrm>
                    <a:off x="990360" y="2885040"/>
                    <a:ext cx="79524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4" name="Text Box 26"/>
              <p:cNvSpPr/>
              <p:nvPr/>
            </p:nvSpPr>
            <p:spPr>
              <a:xfrm rot="3925800">
                <a:off x="113076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5" name="Text Box 27"/>
              <p:cNvSpPr/>
              <p:nvPr/>
            </p:nvSpPr>
            <p:spPr>
              <a:xfrm rot="3925800">
                <a:off x="158976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2509560" y="2685960"/>
              <a:ext cx="1930320" cy="3264840"/>
              <a:chOff x="2509560" y="2685960"/>
              <a:chExt cx="1930320" cy="326484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2911680" y="3523680"/>
                <a:ext cx="1528200" cy="2427120"/>
                <a:chOff x="2911680" y="3523680"/>
                <a:chExt cx="1528200" cy="242712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2911680" y="3681720"/>
                  <a:ext cx="1422360" cy="2269080"/>
                  <a:chOff x="2911680" y="3681720"/>
                  <a:chExt cx="1422360" cy="2269080"/>
                </a:xfrm>
              </p:grpSpPr>
              <p:sp>
                <p:nvSpPr>
                  <p:cNvPr id="539" name="未知"/>
                  <p:cNvSpPr/>
                  <p:nvPr/>
                </p:nvSpPr>
                <p:spPr>
                  <a:xfrm rot="3876600">
                    <a:off x="2484000" y="4569480"/>
                    <a:ext cx="2277720" cy="493200"/>
                  </a:xfrm>
                  <a:custGeom>
                    <a:avLst/>
                    <a:gdLst>
                      <a:gd name="textAreaLeft" fmla="*/ 0 w 2277720"/>
                      <a:gd name="textAreaRight" fmla="*/ 2278080 w 2277720"/>
                      <a:gd name="textAreaTop" fmla="*/ 0 h 493200"/>
                      <a:gd name="textAreaBottom" fmla="*/ 493560 h 4932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未知"/>
                  <p:cNvSpPr/>
                  <p:nvPr/>
                </p:nvSpPr>
                <p:spPr>
                  <a:xfrm rot="3876600">
                    <a:off x="3852720" y="5449320"/>
                    <a:ext cx="357840" cy="403560"/>
                  </a:xfrm>
                  <a:custGeom>
                    <a:avLst/>
                    <a:gdLst>
                      <a:gd name="textAreaLeft" fmla="*/ 0 w 357840"/>
                      <a:gd name="textAreaRight" fmla="*/ 358200 w 357840"/>
                      <a:gd name="textAreaTop" fmla="*/ 0 h 403560"/>
                      <a:gd name="textAreaBottom" fmla="*/ 403920 h 4035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3348720" y="3523680"/>
                  <a:ext cx="1091160" cy="1741320"/>
                  <a:chOff x="3348720" y="3523680"/>
                  <a:chExt cx="1091160" cy="1741320"/>
                </a:xfrm>
              </p:grpSpPr>
              <p:sp>
                <p:nvSpPr>
                  <p:cNvPr id="542" name="未知"/>
                  <p:cNvSpPr/>
                  <p:nvPr/>
                </p:nvSpPr>
                <p:spPr>
                  <a:xfrm flipV="1" rot="3876600">
                    <a:off x="3020400" y="4204440"/>
                    <a:ext cx="1747800" cy="378360"/>
                  </a:xfrm>
                  <a:custGeom>
                    <a:avLst/>
                    <a:gdLst>
                      <a:gd name="textAreaLeft" fmla="*/ 0 w 1747800"/>
                      <a:gd name="textAreaRight" fmla="*/ 1748160 w 1747800"/>
                      <a:gd name="textAreaTop" fmla="*/ -360 h 378360"/>
                      <a:gd name="textAreaBottom" fmla="*/ 378360 h 3783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未知"/>
                  <p:cNvSpPr/>
                  <p:nvPr/>
                </p:nvSpPr>
                <p:spPr>
                  <a:xfrm flipV="1" rot="3876600">
                    <a:off x="4055040" y="4887360"/>
                    <a:ext cx="274680" cy="309600"/>
                  </a:xfrm>
                  <a:custGeom>
                    <a:avLst/>
                    <a:gdLst>
                      <a:gd name="textAreaLeft" fmla="*/ 0 w 274680"/>
                      <a:gd name="textAreaRight" fmla="*/ 275040 w 274680"/>
                      <a:gd name="textAreaTop" fmla="*/ 360 h 309600"/>
                      <a:gd name="textAreaBottom" fmla="*/ 310320 h 30960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4" name=""/>
              <p:cNvGrpSpPr/>
              <p:nvPr/>
            </p:nvGrpSpPr>
            <p:grpSpPr>
              <a:xfrm>
                <a:off x="2509560" y="2685960"/>
                <a:ext cx="1272960" cy="1310400"/>
                <a:chOff x="2509560" y="2685960"/>
                <a:chExt cx="1272960" cy="1310400"/>
              </a:xfrm>
            </p:grpSpPr>
            <p:sp>
              <p:nvSpPr>
                <p:cNvPr id="545" name="Oval 37"/>
                <p:cNvSpPr/>
                <p:nvPr/>
              </p:nvSpPr>
              <p:spPr>
                <a:xfrm>
                  <a:off x="2509560" y="2685960"/>
                  <a:ext cx="127296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46" name="Oval 38"/>
                <p:cNvSpPr/>
                <p:nvPr/>
              </p:nvSpPr>
              <p:spPr>
                <a:xfrm>
                  <a:off x="2509560" y="2685960"/>
                  <a:ext cx="127296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47" name="Oval 39"/>
                <p:cNvSpPr/>
                <p:nvPr/>
              </p:nvSpPr>
              <p:spPr>
                <a:xfrm>
                  <a:off x="2593800" y="2770920"/>
                  <a:ext cx="1104120" cy="113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0"/>
                <p:cNvSpPr/>
                <p:nvPr/>
              </p:nvSpPr>
              <p:spPr>
                <a:xfrm>
                  <a:off x="2593800" y="2773800"/>
                  <a:ext cx="1104120" cy="113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1"/>
                <p:cNvSpPr/>
                <p:nvPr/>
              </p:nvSpPr>
              <p:spPr>
                <a:xfrm>
                  <a:off x="2648520" y="282888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2663640" y="2844720"/>
                  <a:ext cx="964080" cy="993960"/>
                  <a:chOff x="2663640" y="2844720"/>
                  <a:chExt cx="964080" cy="993960"/>
                </a:xfrm>
              </p:grpSpPr>
              <p:sp>
                <p:nvSpPr>
                  <p:cNvPr id="551" name="Oval 43"/>
                  <p:cNvSpPr/>
                  <p:nvPr/>
                </p:nvSpPr>
                <p:spPr>
                  <a:xfrm>
                    <a:off x="2663640" y="2844720"/>
                    <a:ext cx="96408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Oval 44"/>
                  <p:cNvSpPr/>
                  <p:nvPr/>
                </p:nvSpPr>
                <p:spPr>
                  <a:xfrm>
                    <a:off x="2675880" y="2850120"/>
                    <a:ext cx="94068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Oval 45"/>
                  <p:cNvSpPr/>
                  <p:nvPr/>
                </p:nvSpPr>
                <p:spPr>
                  <a:xfrm>
                    <a:off x="2685960" y="2859840"/>
                    <a:ext cx="89460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46"/>
                  <p:cNvSpPr/>
                  <p:nvPr/>
                </p:nvSpPr>
                <p:spPr>
                  <a:xfrm>
                    <a:off x="2738160" y="2885040"/>
                    <a:ext cx="79524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5" name="Text Box 47"/>
              <p:cNvSpPr/>
              <p:nvPr/>
            </p:nvSpPr>
            <p:spPr>
              <a:xfrm rot="3925800">
                <a:off x="287208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6" name="Text Box 48"/>
              <p:cNvSpPr/>
              <p:nvPr/>
            </p:nvSpPr>
            <p:spPr>
              <a:xfrm rot="3925800">
                <a:off x="333180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4313160" y="2685960"/>
              <a:ext cx="1932120" cy="3264840"/>
              <a:chOff x="4313160" y="2685960"/>
              <a:chExt cx="1932120" cy="326484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4717440" y="3524040"/>
                <a:ext cx="1527840" cy="2426760"/>
                <a:chOff x="4717440" y="3524040"/>
                <a:chExt cx="1527840" cy="2426760"/>
              </a:xfrm>
            </p:grpSpPr>
            <p:grpSp>
              <p:nvGrpSpPr>
                <p:cNvPr id="559" name=""/>
                <p:cNvGrpSpPr/>
                <p:nvPr/>
              </p:nvGrpSpPr>
              <p:grpSpPr>
                <a:xfrm>
                  <a:off x="4717440" y="3681720"/>
                  <a:ext cx="1422000" cy="2269080"/>
                  <a:chOff x="4717440" y="3681720"/>
                  <a:chExt cx="1422000" cy="2269080"/>
                </a:xfrm>
              </p:grpSpPr>
              <p:sp>
                <p:nvSpPr>
                  <p:cNvPr id="560" name="未知"/>
                  <p:cNvSpPr/>
                  <p:nvPr/>
                </p:nvSpPr>
                <p:spPr>
                  <a:xfrm rot="3876600">
                    <a:off x="4289400" y="4569480"/>
                    <a:ext cx="2277720" cy="492840"/>
                  </a:xfrm>
                  <a:custGeom>
                    <a:avLst/>
                    <a:gdLst>
                      <a:gd name="textAreaLeft" fmla="*/ 0 w 2277720"/>
                      <a:gd name="textAreaRight" fmla="*/ 2278080 w 2277720"/>
                      <a:gd name="textAreaTop" fmla="*/ 0 h 492840"/>
                      <a:gd name="textAreaBottom" fmla="*/ 493200 h 4928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未知"/>
                  <p:cNvSpPr/>
                  <p:nvPr/>
                </p:nvSpPr>
                <p:spPr>
                  <a:xfrm rot="3876600">
                    <a:off x="5658120" y="5449320"/>
                    <a:ext cx="357840" cy="403560"/>
                  </a:xfrm>
                  <a:custGeom>
                    <a:avLst/>
                    <a:gdLst>
                      <a:gd name="textAreaLeft" fmla="*/ 0 w 357840"/>
                      <a:gd name="textAreaRight" fmla="*/ 358200 w 357840"/>
                      <a:gd name="textAreaTop" fmla="*/ 0 h 403560"/>
                      <a:gd name="textAreaBottom" fmla="*/ 403920 h 4035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5154120" y="3524040"/>
                  <a:ext cx="1091160" cy="1740960"/>
                  <a:chOff x="5154120" y="3524040"/>
                  <a:chExt cx="1091160" cy="1740960"/>
                </a:xfrm>
              </p:grpSpPr>
              <p:sp>
                <p:nvSpPr>
                  <p:cNvPr id="563" name="未知"/>
                  <p:cNvSpPr/>
                  <p:nvPr/>
                </p:nvSpPr>
                <p:spPr>
                  <a:xfrm flipV="1" rot="3876600">
                    <a:off x="4825440" y="4205520"/>
                    <a:ext cx="1747800" cy="378000"/>
                  </a:xfrm>
                  <a:custGeom>
                    <a:avLst/>
                    <a:gdLst>
                      <a:gd name="textAreaLeft" fmla="*/ 0 w 1747800"/>
                      <a:gd name="textAreaRight" fmla="*/ 1748160 w 1747800"/>
                      <a:gd name="textAreaTop" fmla="*/ 360 h 378000"/>
                      <a:gd name="textAreaBottom" fmla="*/ 378720 h 3780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未知"/>
                  <p:cNvSpPr/>
                  <p:nvPr/>
                </p:nvSpPr>
                <p:spPr>
                  <a:xfrm flipV="1" rot="3876600">
                    <a:off x="5860440" y="4887360"/>
                    <a:ext cx="274680" cy="309600"/>
                  </a:xfrm>
                  <a:custGeom>
                    <a:avLst/>
                    <a:gdLst>
                      <a:gd name="textAreaLeft" fmla="*/ 0 w 274680"/>
                      <a:gd name="textAreaRight" fmla="*/ 275040 w 274680"/>
                      <a:gd name="textAreaTop" fmla="*/ 360 h 309600"/>
                      <a:gd name="textAreaBottom" fmla="*/ 310320 h 30960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5" name=""/>
              <p:cNvGrpSpPr/>
              <p:nvPr/>
            </p:nvGrpSpPr>
            <p:grpSpPr>
              <a:xfrm>
                <a:off x="4313160" y="2685960"/>
                <a:ext cx="1274760" cy="1310400"/>
                <a:chOff x="4313160" y="2685960"/>
                <a:chExt cx="1274760" cy="1310400"/>
              </a:xfrm>
            </p:grpSpPr>
            <p:sp>
              <p:nvSpPr>
                <p:cNvPr id="566" name="Oval 58"/>
                <p:cNvSpPr/>
                <p:nvPr/>
              </p:nvSpPr>
              <p:spPr>
                <a:xfrm>
                  <a:off x="4313160" y="2685960"/>
                  <a:ext cx="127476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67" name="Oval 59"/>
                <p:cNvSpPr/>
                <p:nvPr/>
              </p:nvSpPr>
              <p:spPr>
                <a:xfrm>
                  <a:off x="4313160" y="2685960"/>
                  <a:ext cx="127476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68" name="Oval 60"/>
                <p:cNvSpPr/>
                <p:nvPr/>
              </p:nvSpPr>
              <p:spPr>
                <a:xfrm>
                  <a:off x="4397400" y="2770920"/>
                  <a:ext cx="1105560" cy="113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69" name="Oval 61"/>
                <p:cNvSpPr/>
                <p:nvPr/>
              </p:nvSpPr>
              <p:spPr>
                <a:xfrm>
                  <a:off x="4397400" y="2773800"/>
                  <a:ext cx="1105560" cy="113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70" name="Oval 62"/>
                <p:cNvSpPr/>
                <p:nvPr/>
              </p:nvSpPr>
              <p:spPr>
                <a:xfrm>
                  <a:off x="4452120" y="2828880"/>
                  <a:ext cx="99612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4467600" y="2844720"/>
                  <a:ext cx="965520" cy="993960"/>
                  <a:chOff x="4467600" y="2844720"/>
                  <a:chExt cx="965520" cy="993960"/>
                </a:xfrm>
              </p:grpSpPr>
              <p:sp>
                <p:nvSpPr>
                  <p:cNvPr id="572" name="Oval 64"/>
                  <p:cNvSpPr/>
                  <p:nvPr/>
                </p:nvSpPr>
                <p:spPr>
                  <a:xfrm>
                    <a:off x="4467600" y="2844720"/>
                    <a:ext cx="96552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Oval 65"/>
                  <p:cNvSpPr/>
                  <p:nvPr/>
                </p:nvSpPr>
                <p:spPr>
                  <a:xfrm>
                    <a:off x="4479840" y="2850120"/>
                    <a:ext cx="94212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Oval 66"/>
                  <p:cNvSpPr/>
                  <p:nvPr/>
                </p:nvSpPr>
                <p:spPr>
                  <a:xfrm>
                    <a:off x="4489920" y="2859840"/>
                    <a:ext cx="89604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67"/>
                  <p:cNvSpPr/>
                  <p:nvPr/>
                </p:nvSpPr>
                <p:spPr>
                  <a:xfrm>
                    <a:off x="4542120" y="2885040"/>
                    <a:ext cx="79668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6" name="Text Box 68"/>
              <p:cNvSpPr/>
              <p:nvPr/>
            </p:nvSpPr>
            <p:spPr>
              <a:xfrm rot="3925800">
                <a:off x="468540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77" name="Text Box 69"/>
              <p:cNvSpPr/>
              <p:nvPr/>
            </p:nvSpPr>
            <p:spPr>
              <a:xfrm rot="3925800">
                <a:off x="514440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6089400" y="2541600"/>
              <a:ext cx="2122920" cy="3476160"/>
              <a:chOff x="6089400" y="2541600"/>
              <a:chExt cx="2122920" cy="347616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6684480" y="3591360"/>
                <a:ext cx="1527840" cy="2426400"/>
                <a:chOff x="6684480" y="3591360"/>
                <a:chExt cx="1527840" cy="2426400"/>
              </a:xfrm>
            </p:grpSpPr>
            <p:grpSp>
              <p:nvGrpSpPr>
                <p:cNvPr id="580" name=""/>
                <p:cNvGrpSpPr/>
                <p:nvPr/>
              </p:nvGrpSpPr>
              <p:grpSpPr>
                <a:xfrm>
                  <a:off x="6684480" y="3749040"/>
                  <a:ext cx="1421640" cy="2268720"/>
                  <a:chOff x="6684480" y="3749040"/>
                  <a:chExt cx="1421640" cy="2268720"/>
                </a:xfrm>
              </p:grpSpPr>
              <p:sp>
                <p:nvSpPr>
                  <p:cNvPr id="581" name="未知"/>
                  <p:cNvSpPr/>
                  <p:nvPr/>
                </p:nvSpPr>
                <p:spPr>
                  <a:xfrm rot="3876600">
                    <a:off x="6256440" y="4636800"/>
                    <a:ext cx="2277360" cy="492840"/>
                  </a:xfrm>
                  <a:custGeom>
                    <a:avLst/>
                    <a:gdLst>
                      <a:gd name="textAreaLeft" fmla="*/ 0 w 2277360"/>
                      <a:gd name="textAreaRight" fmla="*/ 2277720 w 2277360"/>
                      <a:gd name="textAreaTop" fmla="*/ 0 h 492840"/>
                      <a:gd name="textAreaBottom" fmla="*/ 493200 h 4928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未知"/>
                  <p:cNvSpPr/>
                  <p:nvPr/>
                </p:nvSpPr>
                <p:spPr>
                  <a:xfrm rot="3876600">
                    <a:off x="7624800" y="5516280"/>
                    <a:ext cx="357840" cy="403560"/>
                  </a:xfrm>
                  <a:custGeom>
                    <a:avLst/>
                    <a:gdLst>
                      <a:gd name="textAreaLeft" fmla="*/ 0 w 357840"/>
                      <a:gd name="textAreaRight" fmla="*/ 358200 w 357840"/>
                      <a:gd name="textAreaTop" fmla="*/ 0 h 403560"/>
                      <a:gd name="textAreaBottom" fmla="*/ 403920 h 4035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7121520" y="3591360"/>
                  <a:ext cx="1090800" cy="1740600"/>
                  <a:chOff x="7121520" y="3591360"/>
                  <a:chExt cx="1090800" cy="1740600"/>
                </a:xfrm>
              </p:grpSpPr>
              <p:sp>
                <p:nvSpPr>
                  <p:cNvPr id="584" name="未知"/>
                  <p:cNvSpPr/>
                  <p:nvPr/>
                </p:nvSpPr>
                <p:spPr>
                  <a:xfrm flipV="1" rot="3876600">
                    <a:off x="6792840" y="4272120"/>
                    <a:ext cx="1747440" cy="378000"/>
                  </a:xfrm>
                  <a:custGeom>
                    <a:avLst/>
                    <a:gdLst>
                      <a:gd name="textAreaLeft" fmla="*/ 0 w 1747440"/>
                      <a:gd name="textAreaRight" fmla="*/ 1747800 w 1747440"/>
                      <a:gd name="textAreaTop" fmla="*/ 360 h 378000"/>
                      <a:gd name="textAreaBottom" fmla="*/ 378720 h 3780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未知"/>
                  <p:cNvSpPr/>
                  <p:nvPr/>
                </p:nvSpPr>
                <p:spPr>
                  <a:xfrm flipV="1" rot="3876600">
                    <a:off x="7827480" y="4954320"/>
                    <a:ext cx="274680" cy="309600"/>
                  </a:xfrm>
                  <a:custGeom>
                    <a:avLst/>
                    <a:gdLst>
                      <a:gd name="textAreaLeft" fmla="*/ 0 w 274680"/>
                      <a:gd name="textAreaRight" fmla="*/ 275040 w 274680"/>
                      <a:gd name="textAreaTop" fmla="*/ 360 h 309600"/>
                      <a:gd name="textAreaBottom" fmla="*/ 310320 h 30960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6" name="Oval 78"/>
              <p:cNvSpPr/>
              <p:nvPr/>
            </p:nvSpPr>
            <p:spPr>
              <a:xfrm>
                <a:off x="6089400" y="2541600"/>
                <a:ext cx="1528920" cy="157140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7" name="Oval 79"/>
              <p:cNvSpPr/>
              <p:nvPr/>
            </p:nvSpPr>
            <p:spPr>
              <a:xfrm>
                <a:off x="6089400" y="2541600"/>
                <a:ext cx="1528920" cy="1571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8" name="Oval 80"/>
              <p:cNvSpPr/>
              <p:nvPr/>
            </p:nvSpPr>
            <p:spPr>
              <a:xfrm>
                <a:off x="6190920" y="2644920"/>
                <a:ext cx="1328400" cy="136440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9" name="Oval 81"/>
              <p:cNvSpPr/>
              <p:nvPr/>
            </p:nvSpPr>
            <p:spPr>
              <a:xfrm>
                <a:off x="6192720" y="2647800"/>
                <a:ext cx="1328040" cy="13647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0" name="Oval 82"/>
              <p:cNvSpPr/>
              <p:nvPr/>
            </p:nvSpPr>
            <p:spPr>
              <a:xfrm>
                <a:off x="6256440" y="2712960"/>
                <a:ext cx="1196280" cy="1227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6275520" y="2732400"/>
                <a:ext cx="1159200" cy="1191240"/>
                <a:chOff x="6275520" y="2732400"/>
                <a:chExt cx="1159200" cy="1191240"/>
              </a:xfrm>
            </p:grpSpPr>
            <p:sp>
              <p:nvSpPr>
                <p:cNvPr id="592" name="Oval 84"/>
                <p:cNvSpPr/>
                <p:nvPr/>
              </p:nvSpPr>
              <p:spPr>
                <a:xfrm>
                  <a:off x="6275520" y="2732400"/>
                  <a:ext cx="1159200" cy="119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93" name="Oval 85"/>
                <p:cNvSpPr/>
                <p:nvPr/>
              </p:nvSpPr>
              <p:spPr>
                <a:xfrm>
                  <a:off x="6290280" y="2738880"/>
                  <a:ext cx="1131120" cy="116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94" name="Oval 86"/>
                <p:cNvSpPr/>
                <p:nvPr/>
              </p:nvSpPr>
              <p:spPr>
                <a:xfrm>
                  <a:off x="6302160" y="2750400"/>
                  <a:ext cx="1075680" cy="108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95" name="Oval 87"/>
                <p:cNvSpPr/>
                <p:nvPr/>
              </p:nvSpPr>
              <p:spPr>
                <a:xfrm>
                  <a:off x="6365160" y="2780640"/>
                  <a:ext cx="956160" cy="88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Text Box 88"/>
              <p:cNvSpPr/>
              <p:nvPr/>
            </p:nvSpPr>
            <p:spPr>
              <a:xfrm rot="3925800">
                <a:off x="6638040" y="4648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7" name="Text Box 89"/>
              <p:cNvSpPr/>
              <p:nvPr/>
            </p:nvSpPr>
            <p:spPr>
              <a:xfrm rot="3925800">
                <a:off x="7095240" y="4365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599" name="Text Box 91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b166e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00" name="Text Box 92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b166e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01" name="Text Box 93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b166e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02" name="Text Box 94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b166e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cxnSp>
            <p:nvCxnSpPr>
              <p:cNvPr id="603" name="AutoShape 95"/>
              <p:cNvCxnSpPr>
                <a:stCxn id="599" idx="3"/>
                <a:endCxn id="600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604" name="AutoShape 96"/>
              <p:cNvCxnSpPr>
                <a:stCxn id="600" idx="3"/>
                <a:endCxn id="601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605" name="AutoShape 97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609" name="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610" name="AutoShape 5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3f3f3"/>
                  </a:gs>
                  <a:gs pos="50000">
                    <a:srgbClr val="dddddd"/>
                  </a:gs>
                  <a:gs pos="100000">
                    <a:srgbClr val="f3f3f3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1801080" y="1638360"/>
                <a:ext cx="1101240" cy="1020600"/>
                <a:chOff x="1801080" y="1638360"/>
                <a:chExt cx="1101240" cy="1020600"/>
              </a:xfrm>
            </p:grpSpPr>
            <p:sp>
              <p:nvSpPr>
                <p:cNvPr id="612" name="AutoShape 7"/>
                <p:cNvSpPr/>
                <p:nvPr/>
              </p:nvSpPr>
              <p:spPr>
                <a:xfrm>
                  <a:off x="1801080" y="1638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306464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13" name="未知"/>
                <p:cNvSpPr/>
                <p:nvPr/>
              </p:nvSpPr>
              <p:spPr>
                <a:xfrm>
                  <a:off x="1869840" y="170244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58f8f">
                        <a:alpha val="0"/>
                      </a:srgbClr>
                    </a:gs>
                    <a:gs pos="50000">
                      <a:srgbClr val="9ac2c2"/>
                    </a:gs>
                    <a:gs pos="100000">
                      <a:srgbClr val="458f8f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14" name="Text Box 9"/>
                <p:cNvSpPr/>
                <p:nvPr/>
              </p:nvSpPr>
              <p:spPr>
                <a:xfrm>
                  <a:off x="1914840" y="1915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Text Box 10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1676520" y="2990880"/>
              <a:ext cx="5715000" cy="1247760"/>
              <a:chOff x="1676520" y="2990880"/>
              <a:chExt cx="5715000" cy="1247760"/>
            </a:xfrm>
          </p:grpSpPr>
          <p:sp>
            <p:nvSpPr>
              <p:cNvPr id="617" name="AutoShape 12"/>
              <p:cNvSpPr/>
              <p:nvPr/>
            </p:nvSpPr>
            <p:spPr>
              <a:xfrm>
                <a:off x="1676520" y="2990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2f2f2"/>
                  </a:gs>
                  <a:gs pos="50000">
                    <a:srgbClr val="dddddd"/>
                  </a:gs>
                  <a:gs pos="100000">
                    <a:srgbClr val="f2f2f2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1801080" y="3105360"/>
                <a:ext cx="1101240" cy="1020600"/>
                <a:chOff x="1801080" y="3105360"/>
                <a:chExt cx="1101240" cy="1020600"/>
              </a:xfrm>
            </p:grpSpPr>
            <p:sp>
              <p:nvSpPr>
                <p:cNvPr id="619" name="AutoShape 14"/>
                <p:cNvSpPr/>
                <p:nvPr/>
              </p:nvSpPr>
              <p:spPr>
                <a:xfrm>
                  <a:off x="1801080" y="3105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5b5ff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0" name="未知"/>
                <p:cNvSpPr/>
                <p:nvPr/>
              </p:nvSpPr>
              <p:spPr>
                <a:xfrm>
                  <a:off x="1869840" y="317052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99ff">
                        <a:alpha val="0"/>
                      </a:srgbClr>
                    </a:gs>
                    <a:gs pos="100000">
                      <a:srgbClr val="d4d4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16"/>
                <p:cNvSpPr/>
                <p:nvPr/>
              </p:nvSpPr>
              <p:spPr>
                <a:xfrm>
                  <a:off x="1914840" y="33858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Text Box 17"/>
              <p:cNvSpPr/>
              <p:nvPr/>
            </p:nvSpPr>
            <p:spPr>
              <a:xfrm>
                <a:off x="3052080" y="3161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624" name="AutoShape 19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eeeee"/>
                  </a:gs>
                  <a:gs pos="50000">
                    <a:srgbClr val="dddddd"/>
                  </a:gs>
                  <a:gs pos="100000">
                    <a:srgbClr val="eeeeee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1801080" y="4581360"/>
                <a:ext cx="1101240" cy="1020600"/>
                <a:chOff x="1801080" y="4581360"/>
                <a:chExt cx="1101240" cy="1020600"/>
              </a:xfrm>
            </p:grpSpPr>
            <p:sp>
              <p:nvSpPr>
                <p:cNvPr id="626" name="AutoShape 21"/>
                <p:cNvSpPr/>
                <p:nvPr/>
              </p:nvSpPr>
              <p:spPr>
                <a:xfrm>
                  <a:off x="1801080" y="4581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a2bfd6"/>
                    </a:gs>
                    <a:gs pos="100000">
                      <a:srgbClr val="6c9bbe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7" name="未知"/>
                <p:cNvSpPr/>
                <p:nvPr/>
              </p:nvSpPr>
              <p:spPr>
                <a:xfrm>
                  <a:off x="1869840" y="464544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c9bbe">
                        <a:alpha val="0"/>
                      </a:srgbClr>
                    </a:gs>
                    <a:gs pos="100000">
                      <a:srgbClr val="b8ce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8" name="Text Box 23"/>
                <p:cNvSpPr/>
                <p:nvPr/>
              </p:nvSpPr>
              <p:spPr>
                <a:xfrm>
                  <a:off x="191484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" name="Text Box 24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页脚占位符 3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3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3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3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127880" y="1863720"/>
            <a:ext cx="6214680" cy="1324080"/>
            <a:chOff x="1127880" y="1863720"/>
            <a:chExt cx="6214680" cy="1324080"/>
          </a:xfrm>
        </p:grpSpPr>
        <p:sp>
          <p:nvSpPr>
            <p:cNvPr id="637" name="Rectangle 8"/>
            <p:cNvSpPr/>
            <p:nvPr/>
          </p:nvSpPr>
          <p:spPr>
            <a:xfrm rot="3418800">
              <a:off x="1335960" y="2071440"/>
              <a:ext cx="87300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2258280" y="2245680"/>
              <a:ext cx="901080" cy="124200"/>
              <a:chOff x="2258280" y="2245680"/>
              <a:chExt cx="901080" cy="124200"/>
            </a:xfrm>
          </p:grpSpPr>
          <p:sp>
            <p:nvSpPr>
              <p:cNvPr id="639" name="Oval 10"/>
              <p:cNvSpPr/>
              <p:nvPr/>
            </p:nvSpPr>
            <p:spPr>
              <a:xfrm>
                <a:off x="2258280" y="2245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40" name="Rectangle 11"/>
              <p:cNvSpPr/>
              <p:nvPr/>
            </p:nvSpPr>
            <p:spPr>
              <a:xfrm>
                <a:off x="2344680" y="2246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41" name="Oval 12"/>
              <p:cNvSpPr/>
              <p:nvPr/>
            </p:nvSpPr>
            <p:spPr>
              <a:xfrm>
                <a:off x="3022920" y="224712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42" name="Oval 13"/>
              <p:cNvSpPr/>
              <p:nvPr/>
            </p:nvSpPr>
            <p:spPr>
              <a:xfrm>
                <a:off x="3096000" y="22870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43" name="Rectangle 14"/>
            <p:cNvSpPr/>
            <p:nvPr/>
          </p:nvSpPr>
          <p:spPr>
            <a:xfrm rot="3418800">
              <a:off x="3000600" y="2009160"/>
              <a:ext cx="873000" cy="97092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3922920" y="2245680"/>
              <a:ext cx="901080" cy="124200"/>
              <a:chOff x="3922920" y="2245680"/>
              <a:chExt cx="901080" cy="124200"/>
            </a:xfrm>
          </p:grpSpPr>
          <p:sp>
            <p:nvSpPr>
              <p:cNvPr id="645" name="Oval 16"/>
              <p:cNvSpPr/>
              <p:nvPr/>
            </p:nvSpPr>
            <p:spPr>
              <a:xfrm>
                <a:off x="3922920" y="2245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46" name="Rectangle 17"/>
              <p:cNvSpPr/>
              <p:nvPr/>
            </p:nvSpPr>
            <p:spPr>
              <a:xfrm>
                <a:off x="4009320" y="2246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47" name="Oval 18"/>
              <p:cNvSpPr/>
              <p:nvPr/>
            </p:nvSpPr>
            <p:spPr>
              <a:xfrm>
                <a:off x="4687560" y="224712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48" name="Oval 19"/>
              <p:cNvSpPr/>
              <p:nvPr/>
            </p:nvSpPr>
            <p:spPr>
              <a:xfrm>
                <a:off x="4760640" y="22870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49" name="Rectangle 20"/>
            <p:cNvSpPr/>
            <p:nvPr/>
          </p:nvSpPr>
          <p:spPr>
            <a:xfrm rot="3418800">
              <a:off x="4590720" y="2008800"/>
              <a:ext cx="873000" cy="969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587560" y="2245680"/>
              <a:ext cx="1178640" cy="124200"/>
              <a:chOff x="5587560" y="2245680"/>
              <a:chExt cx="1178640" cy="124200"/>
            </a:xfrm>
          </p:grpSpPr>
          <p:sp>
            <p:nvSpPr>
              <p:cNvPr id="651" name="Oval 22"/>
              <p:cNvSpPr/>
              <p:nvPr/>
            </p:nvSpPr>
            <p:spPr>
              <a:xfrm>
                <a:off x="5587560" y="2245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2" name="Rectangle 23"/>
              <p:cNvSpPr/>
              <p:nvPr/>
            </p:nvSpPr>
            <p:spPr>
              <a:xfrm>
                <a:off x="5700600" y="22464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3" name="Oval 24"/>
              <p:cNvSpPr/>
              <p:nvPr/>
            </p:nvSpPr>
            <p:spPr>
              <a:xfrm>
                <a:off x="6587640" y="224712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4" name="Oval 25"/>
              <p:cNvSpPr/>
              <p:nvPr/>
            </p:nvSpPr>
            <p:spPr>
              <a:xfrm>
                <a:off x="6683040" y="228708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55" name="Rectangle 26"/>
            <p:cNvSpPr/>
            <p:nvPr/>
          </p:nvSpPr>
          <p:spPr>
            <a:xfrm rot="3418800">
              <a:off x="6261120" y="2009160"/>
              <a:ext cx="873000" cy="97128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65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5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5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5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838080" y="2284560"/>
          <a:ext cx="7315200" cy="2898720"/>
        </p:xfrm>
        <a:graphic>
          <a:graphicData uri="http://schemas.openxmlformats.org/drawingml/2006/table">
            <a:tbl>
              <a:tblPr/>
              <a:tblGrid>
                <a:gridCol w="1649520"/>
                <a:gridCol w="1150920"/>
                <a:gridCol w="1128600"/>
                <a:gridCol w="1127160"/>
                <a:gridCol w="1133640"/>
                <a:gridCol w="11253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b166e"/>
                      </a:solidFill>
                    </a:lnR>
                    <a:lnT>
                      <a:noFill/>
                    </a:lnT>
                    <a:lnB w="576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页脚占位符 3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349280" y="1509480"/>
            <a:ext cx="6575400" cy="4665960"/>
            <a:chOff x="1349280" y="1509480"/>
            <a:chExt cx="6575400" cy="4665960"/>
          </a:xfrm>
        </p:grpSpPr>
        <p:sp>
          <p:nvSpPr>
            <p:cNvPr id="670" name="Oval 4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1" name="Oval 5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575757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2" name="Oval 6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3" name="Arc 7"/>
            <p:cNvSpPr/>
            <p:nvPr/>
          </p:nvSpPr>
          <p:spPr>
            <a:xfrm rot="20601600">
              <a:off x="4349520" y="21337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bbbbff"/>
                </a:gs>
                <a:gs pos="100000">
                  <a:srgbClr val="9999ff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4" name="Arc 8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>
                <a:gd name="textAreaLeft" fmla="*/ -360 w 3281400"/>
                <a:gd name="textAreaRight" fmla="*/ 3281400 w 328140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15b2d"/>
                </a:gs>
                <a:gs pos="100000">
                  <a:srgbClr val="d4964a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5" name="Arc 9"/>
            <p:cNvSpPr/>
            <p:nvPr/>
          </p:nvSpPr>
          <p:spPr>
            <a:xfrm rot="20601600">
              <a:off x="2824200" y="2224080"/>
              <a:ext cx="3184560" cy="141624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1b3650"/>
                </a:gs>
                <a:gs pos="100000">
                  <a:srgbClr val="336699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6" name="Arc 10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6f6f00"/>
                </a:gs>
                <a:gs pos="100000">
                  <a:srgbClr val="cccc00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7" name="Oval 11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50000">
                  <a:srgbClr val="dddddd"/>
                </a:gs>
                <a:gs pos="100000">
                  <a:srgbClr val="f7f7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9" name="Text Box 13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80" name="Text Box 14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4514400" y="2695320"/>
              <a:ext cx="3164400" cy="2769120"/>
              <a:chOff x="4514400" y="2695320"/>
              <a:chExt cx="3164400" cy="2769120"/>
            </a:xfrm>
          </p:grpSpPr>
          <p:sp>
            <p:nvSpPr>
              <p:cNvPr id="682" name="未知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c9bbe"/>
                  </a:gs>
                  <a:gs pos="100000">
                    <a:srgbClr val="425e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3" name="Arc 17"/>
              <p:cNvSpPr/>
              <p:nvPr/>
            </p:nvSpPr>
            <p:spPr>
              <a:xfrm rot="20539200">
                <a:off x="4732200" y="30657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4858"/>
                  </a:gs>
                  <a:gs pos="100000">
                    <a:srgbClr val="6c9bbe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4" name="未知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4858"/>
                  </a:gs>
                  <a:gs pos="100000">
                    <a:srgbClr val="6c9b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5" name="Text Box 19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86" name="Text Box 20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88" name="Oval 22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55640" y="1413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2b166e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597CE-AE89-488F-81DD-2F43883686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83" name="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84" name="AutoShape 5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5" name="AutoShape 6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6" name="AutoShape 7"/>
              <p:cNvSpPr/>
              <p:nvPr/>
            </p:nvSpPr>
            <p:spPr>
              <a:xfrm>
                <a:off x="1873080" y="2063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74776"/>
                  </a:gs>
                </a:gsLst>
                <a:lin ang="810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87" name="Line 8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33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9" name="Text Box 10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91" name="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192" name="AutoShape 13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3" name="AutoShape 14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4" name="AutoShape 15"/>
              <p:cNvSpPr/>
              <p:nvPr/>
            </p:nvSpPr>
            <p:spPr>
              <a:xfrm>
                <a:off x="1873080" y="29779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204242"/>
                  </a:gs>
                </a:gsLst>
                <a:lin ang="810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95" name="Line 16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33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6" name="Text Box 17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99" name="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200" name="AutoShape 21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01" name="AutoShape 22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02" name="AutoShape 23"/>
              <p:cNvSpPr/>
              <p:nvPr/>
            </p:nvSpPr>
            <p:spPr>
              <a:xfrm>
                <a:off x="1873080" y="387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74776"/>
                  </a:gs>
                </a:gsLst>
                <a:lin ang="810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03" name="Line 24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33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207" name="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208" name="AutoShape 29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09" name="AutoShape 30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0" name="AutoShape 31"/>
              <p:cNvSpPr/>
              <p:nvPr/>
            </p:nvSpPr>
            <p:spPr>
              <a:xfrm>
                <a:off x="1873080" y="47847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204242"/>
                  </a:gs>
                </a:gsLst>
                <a:lin ang="810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11" name="Line 32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33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2" name="Text Box 33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3" name="Text Box 34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14" name="Text Box 35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页脚占位符 3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696" name="AutoShape 4"/>
            <p:cNvSpPr/>
            <p:nvPr/>
          </p:nvSpPr>
          <p:spPr>
            <a:xfrm>
              <a:off x="2129400" y="2440800"/>
              <a:ext cx="5072760" cy="247608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97" name="AutoShape 5"/>
            <p:cNvSpPr/>
            <p:nvPr/>
          </p:nvSpPr>
          <p:spPr>
            <a:xfrm>
              <a:off x="1918440" y="1752480"/>
              <a:ext cx="53146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bdff"/>
                </a:gs>
                <a:gs pos="50000">
                  <a:srgbClr val="9999ff"/>
                </a:gs>
                <a:gs pos="100000">
                  <a:srgbClr val="bdbd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98" name="Text Box 6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1219320" y="4132800"/>
              <a:ext cx="1363320" cy="1796400"/>
              <a:chOff x="1219320" y="4132800"/>
              <a:chExt cx="1363320" cy="179640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1219320" y="4132800"/>
                <a:ext cx="1363320" cy="1368000"/>
                <a:chOff x="1219320" y="4132800"/>
                <a:chExt cx="1363320" cy="136800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1219320" y="4132800"/>
                  <a:ext cx="1363320" cy="1368000"/>
                  <a:chOff x="1219320" y="4132800"/>
                  <a:chExt cx="1363320" cy="1368000"/>
                </a:xfrm>
              </p:grpSpPr>
              <p:sp>
                <p:nvSpPr>
                  <p:cNvPr id="702" name="Oval 10"/>
                  <p:cNvSpPr/>
                  <p:nvPr/>
                </p:nvSpPr>
                <p:spPr>
                  <a:xfrm>
                    <a:off x="1219320" y="413280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00"/>
                      </a:gs>
                      <a:gs pos="100000">
                        <a:srgbClr val="8282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未知"/>
                  <p:cNvSpPr/>
                  <p:nvPr/>
                </p:nvSpPr>
                <p:spPr>
                  <a:xfrm>
                    <a:off x="1375200" y="4156200"/>
                    <a:ext cx="1051560" cy="515880"/>
                  </a:xfrm>
                  <a:custGeom>
                    <a:avLst/>
                    <a:gdLst>
                      <a:gd name="textAreaLeft" fmla="*/ 0 w 1051560"/>
                      <a:gd name="textAreaRight" fmla="*/ 1051920 w 1051560"/>
                      <a:gd name="textAreaTop" fmla="*/ 0 h 515880"/>
                      <a:gd name="textAreaBottom" fmla="*/ 516240 h 51588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" name="Text Box 12"/>
                <p:cNvSpPr/>
                <p:nvPr/>
              </p:nvSpPr>
              <p:spPr>
                <a:xfrm>
                  <a:off x="1316880" y="4827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Oval 13"/>
              <p:cNvSpPr/>
              <p:nvPr/>
            </p:nvSpPr>
            <p:spPr>
              <a:xfrm>
                <a:off x="1359000" y="5578200"/>
                <a:ext cx="110808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602400" y="4092840"/>
              <a:ext cx="1398240" cy="1866240"/>
              <a:chOff x="6602400" y="4092840"/>
              <a:chExt cx="1398240" cy="186624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6602400" y="4092840"/>
                <a:ext cx="1398240" cy="1383120"/>
                <a:chOff x="6602400" y="4092840"/>
                <a:chExt cx="1398240" cy="138312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6602400" y="4092840"/>
                  <a:ext cx="1398240" cy="1383120"/>
                  <a:chOff x="6602400" y="4092840"/>
                  <a:chExt cx="1398240" cy="1383120"/>
                </a:xfrm>
              </p:grpSpPr>
              <p:sp>
                <p:nvSpPr>
                  <p:cNvPr id="709" name="Oval 17"/>
                  <p:cNvSpPr/>
                  <p:nvPr/>
                </p:nvSpPr>
                <p:spPr>
                  <a:xfrm>
                    <a:off x="6602400" y="409284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9bbe"/>
                      </a:gs>
                      <a:gs pos="100000">
                        <a:srgbClr val="1a262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未知"/>
                  <p:cNvSpPr/>
                  <p:nvPr/>
                </p:nvSpPr>
                <p:spPr>
                  <a:xfrm>
                    <a:off x="6762240" y="4115520"/>
                    <a:ext cx="1078560" cy="521640"/>
                  </a:xfrm>
                  <a:custGeom>
                    <a:avLst/>
                    <a:gdLst>
                      <a:gd name="textAreaLeft" fmla="*/ 0 w 1078560"/>
                      <a:gd name="textAreaRight" fmla="*/ 1078920 w 1078560"/>
                      <a:gd name="textAreaTop" fmla="*/ 0 h 521640"/>
                      <a:gd name="textAreaBottom" fmla="*/ 522000 h 52164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c9bb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1" name="Text Box 19"/>
                <p:cNvSpPr/>
                <p:nvPr/>
              </p:nvSpPr>
              <p:spPr>
                <a:xfrm>
                  <a:off x="6683040" y="47376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Oval 20"/>
              <p:cNvSpPr/>
              <p:nvPr/>
            </p:nvSpPr>
            <p:spPr>
              <a:xfrm>
                <a:off x="6641640" y="551952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2967120" y="4132800"/>
              <a:ext cx="1397880" cy="1886400"/>
              <a:chOff x="2967120" y="4132800"/>
              <a:chExt cx="1397880" cy="188640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2967120" y="4132800"/>
                <a:ext cx="1397880" cy="1373400"/>
                <a:chOff x="2967120" y="4132800"/>
                <a:chExt cx="1397880" cy="1373400"/>
              </a:xfrm>
            </p:grpSpPr>
            <p:sp>
              <p:nvSpPr>
                <p:cNvPr id="715" name="Oval 23"/>
                <p:cNvSpPr/>
                <p:nvPr/>
              </p:nvSpPr>
              <p:spPr>
                <a:xfrm>
                  <a:off x="2967120" y="41328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f4f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716" name="未知"/>
                <p:cNvSpPr/>
                <p:nvPr/>
              </p:nvSpPr>
              <p:spPr>
                <a:xfrm>
                  <a:off x="3127680" y="4154760"/>
                  <a:ext cx="1077480" cy="518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Text Box 25"/>
              <p:cNvSpPr/>
              <p:nvPr/>
            </p:nvSpPr>
            <p:spPr>
              <a:xfrm>
                <a:off x="3036960" y="47919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18" name="Oval 26"/>
              <p:cNvSpPr/>
              <p:nvPr/>
            </p:nvSpPr>
            <p:spPr>
              <a:xfrm>
                <a:off x="2967120" y="5577840"/>
                <a:ext cx="133524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4854600" y="4092840"/>
              <a:ext cx="1397880" cy="1886400"/>
              <a:chOff x="4854600" y="4092840"/>
              <a:chExt cx="1397880" cy="188640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4854600" y="4092840"/>
                <a:ext cx="1397880" cy="1372320"/>
                <a:chOff x="4854600" y="4092840"/>
                <a:chExt cx="1397880" cy="1372320"/>
              </a:xfrm>
            </p:grpSpPr>
            <p:sp>
              <p:nvSpPr>
                <p:cNvPr id="721" name="Oval 29"/>
                <p:cNvSpPr/>
                <p:nvPr/>
              </p:nvSpPr>
              <p:spPr>
                <a:xfrm>
                  <a:off x="4854600" y="4092840"/>
                  <a:ext cx="1397880" cy="137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2349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722" name="未知"/>
                <p:cNvSpPr/>
                <p:nvPr/>
              </p:nvSpPr>
              <p:spPr>
                <a:xfrm>
                  <a:off x="5014440" y="4114800"/>
                  <a:ext cx="107748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8f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Text Box 31"/>
              <p:cNvSpPr/>
              <p:nvPr/>
            </p:nvSpPr>
            <p:spPr>
              <a:xfrm>
                <a:off x="4924440" y="475308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24" name="Oval 32"/>
              <p:cNvSpPr/>
              <p:nvPr/>
            </p:nvSpPr>
            <p:spPr>
              <a:xfrm>
                <a:off x="4854600" y="5537880"/>
                <a:ext cx="133524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WordArt 2"/>
          <p:cNvSpPr txBox="1"/>
          <p:nvPr/>
        </p:nvSpPr>
        <p:spPr>
          <a:xfrm>
            <a:off x="2286000" y="24382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58f8f"/>
                    </a:gs>
                    <a:gs pos="100000">
                      <a:srgbClr val="3366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2b166e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58f8f"/>
                  </a:gs>
                  <a:gs pos="100000">
                    <a:srgbClr val="336699"/>
                  </a:gs>
                </a:gsLst>
                <a:lin ang="10800000"/>
              </a:gradFill>
              <a:effectLst>
                <a:outerShdw dist="53966" dir="2700000" blurRad="0" rotWithShape="0">
                  <a:srgbClr val="2b166e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8f8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458f8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58f8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458f8f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458f8f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458f8f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458f8f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221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2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23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df5d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226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228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c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2d2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58f8f"/>
                  </a:gs>
                  <a:gs pos="100000">
                    <a:srgbClr val="20424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1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ed8d8"/>
                  </a:gs>
                  <a:gs pos="100000">
                    <a:srgbClr val="458f8f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2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48235"/>
                    </a:srgbClr>
                  </a:gs>
                  <a:gs pos="100000">
                    <a:srgbClr val="37717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3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34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236" name="AutoShape 19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7" name="Text Box 20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38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d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3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242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5f5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3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4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58f8f"/>
                </a:gs>
                <a:gs pos="100000">
                  <a:srgbClr val="162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5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6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7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100000">
                  <a:srgbClr val="2535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8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0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2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3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b166e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4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cxnSp>
          <p:nvCxnSpPr>
            <p:cNvPr id="255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2b166e"/>
              </a:solidFill>
              <a:miter/>
            </a:ln>
          </p:spPr>
        </p:cxnSp>
        <p:sp>
          <p:nvSpPr>
            <p:cNvPr id="256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60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8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9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0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2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58f8f"/>
                </a:gs>
                <a:gs pos="50000">
                  <a:srgbClr val="204242"/>
                </a:gs>
                <a:gs pos="100000">
                  <a:srgbClr val="458f8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3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5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474776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7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81" name=""/>
            <p:cNvGrpSpPr/>
            <p:nvPr/>
          </p:nvGrpSpPr>
          <p:grpSpPr>
            <a:xfrm>
              <a:off x="3009240" y="2209680"/>
              <a:ext cx="2899800" cy="2706120"/>
              <a:chOff x="3009240" y="2209680"/>
              <a:chExt cx="2899800" cy="2706120"/>
            </a:xfrm>
          </p:grpSpPr>
          <p:sp>
            <p:nvSpPr>
              <p:cNvPr id="282" name="AutoShape 5"/>
              <p:cNvSpPr/>
              <p:nvPr/>
            </p:nvSpPr>
            <p:spPr>
              <a:xfrm flipH="1" rot="16200000">
                <a:off x="2928240" y="3253320"/>
                <a:ext cx="45900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c3d7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3" name="AutoShape 6"/>
              <p:cNvSpPr/>
              <p:nvPr/>
            </p:nvSpPr>
            <p:spPr>
              <a:xfrm flipH="1" rot="5400000">
                <a:off x="5530680" y="320292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c3d7"/>
                  </a:gs>
                  <a:gs pos="100000">
                    <a:srgbClr val="336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4" name="AutoShape 7"/>
              <p:cNvSpPr/>
              <p:nvPr/>
            </p:nvSpPr>
            <p:spPr>
              <a:xfrm flipH="1" rot="10800000">
                <a:off x="4237200" y="4609800"/>
                <a:ext cx="4446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c3d7"/>
                  </a:gs>
                  <a:gs pos="100000">
                    <a:srgbClr val="33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5" name="Oval 8"/>
              <p:cNvSpPr/>
              <p:nvPr/>
            </p:nvSpPr>
            <p:spPr>
              <a:xfrm>
                <a:off x="3304800" y="2209680"/>
                <a:ext cx="23302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6" name="Oval 9"/>
              <p:cNvSpPr/>
              <p:nvPr/>
            </p:nvSpPr>
            <p:spPr>
              <a:xfrm>
                <a:off x="3437640" y="2344680"/>
                <a:ext cx="206316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7" name="Oval 10"/>
              <p:cNvSpPr/>
              <p:nvPr/>
            </p:nvSpPr>
            <p:spPr>
              <a:xfrm>
                <a:off x="3560400" y="2471040"/>
                <a:ext cx="1819440" cy="18784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50000">
                    <a:srgbClr val="ffffff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8" name="Oval 11"/>
              <p:cNvSpPr/>
              <p:nvPr/>
            </p:nvSpPr>
            <p:spPr>
              <a:xfrm>
                <a:off x="355896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9" name="Oval 12"/>
              <p:cNvSpPr/>
              <p:nvPr/>
            </p:nvSpPr>
            <p:spPr>
              <a:xfrm>
                <a:off x="3678840" y="2595960"/>
                <a:ext cx="1581480" cy="16315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50000">
                    <a:srgbClr val="53538a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0" name="Oval 13"/>
              <p:cNvSpPr/>
              <p:nvPr/>
            </p:nvSpPr>
            <p:spPr>
              <a:xfrm>
                <a:off x="367884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9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2" name="AutoShape 15"/>
            <p:cNvSpPr/>
            <p:nvPr/>
          </p:nvSpPr>
          <p:spPr>
            <a:xfrm>
              <a:off x="1143000" y="3208320"/>
              <a:ext cx="16588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8f8f"/>
                </a:gs>
                <a:gs pos="50000">
                  <a:srgbClr val="204242"/>
                </a:gs>
                <a:gs pos="100000">
                  <a:srgbClr val="458f8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5" name="AutoShape 18"/>
            <p:cNvSpPr/>
            <p:nvPr/>
          </p:nvSpPr>
          <p:spPr>
            <a:xfrm>
              <a:off x="6120360" y="3208320"/>
              <a:ext cx="172836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8f8f"/>
                </a:gs>
                <a:gs pos="50000">
                  <a:srgbClr val="204242"/>
                </a:gs>
                <a:gs pos="100000">
                  <a:srgbClr val="458f8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8f8f"/>
                </a:gs>
                <a:gs pos="50000">
                  <a:srgbClr val="204242"/>
                </a:gs>
                <a:gs pos="100000">
                  <a:srgbClr val="458f8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8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3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4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308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9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0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2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4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5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6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7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9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0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322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50000">
                    <a:srgbClr val="5e5e00"/>
                  </a:gs>
                  <a:gs pos="100000">
                    <a:srgbClr val="cc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>
                  <a:gd name="textAreaLeft" fmla="*/ 0 w 3343320"/>
                  <a:gd name="textAreaRight" fmla="*/ 3343680 w 3343320"/>
                  <a:gd name="textAreaTop" fmla="*/ 0 h 541440"/>
                  <a:gd name="textAreaBottom" fmla="*/ 541800 h 541440"/>
                </a:gdLst>
                <a:ahLst/>
                <a:rect l="textAreaLeft" t="textAreaTop" r="textAreaRight" b="textAreaBottom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99ff"/>
                  </a:gs>
                  <a:gs pos="50000">
                    <a:srgbClr val="474776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>
                  <a:gd name="textAreaLeft" fmla="*/ 0 w 3593880"/>
                  <a:gd name="textAreaRight" fmla="*/ 3594240 w 35938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9bbe"/>
                  </a:gs>
                  <a:gs pos="50000">
                    <a:srgbClr val="324858"/>
                  </a:gs>
                  <a:gs pos="100000">
                    <a:srgbClr val="6c9bb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8f8f"/>
                  </a:gs>
                  <a:gs pos="50000">
                    <a:srgbClr val="204242"/>
                  </a:gs>
                  <a:gs pos="100000">
                    <a:srgbClr val="458f8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>
                  <a:gd name="textAreaLeft" fmla="*/ 0 w 4081680"/>
                  <a:gd name="textAreaRight" fmla="*/ 4082040 w 40816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5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9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>
                  <a:gd name="textAreaLeft" fmla="*/ 0 w 1838520"/>
                  <a:gd name="textAreaRight" fmla="*/ 1838880 w 1838520"/>
                  <a:gd name="textAreaTop" fmla="*/ 0 h 2722320"/>
                  <a:gd name="textAreaBottom" fmla="*/ 2722680 h 2722320"/>
                </a:gdLst>
                <a:ahLst/>
                <a:rect l="textAreaLeft" t="textAreaTop" r="textAreaRight" b="textAreaBottom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0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cccc00"/>
                  </a:gs>
                  <a:gs pos="50000">
                    <a:srgbClr val="949400"/>
                  </a:gs>
                  <a:gs pos="100000">
                    <a:srgbClr val="cc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1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9999ff"/>
                  </a:gs>
                  <a:gs pos="50000">
                    <a:srgbClr val="6f6fb9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>
                  <a:gd name="textAreaLeft" fmla="*/ 0 w 3833640"/>
                  <a:gd name="textAreaRight" fmla="*/ 3834000 w 3833640"/>
                  <a:gd name="textAreaTop" fmla="*/ 0 h 544680"/>
                  <a:gd name="textAreaBottom" fmla="*/ 545040 h 544680"/>
                </a:gdLst>
                <a:ahLst/>
                <a:rect l="textAreaLeft" t="textAreaTop" r="textAreaRight" b="textAreaBottom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c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3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c9bbe"/>
                  </a:gs>
                  <a:gs pos="50000">
                    <a:srgbClr val="4e708a"/>
                  </a:gs>
                  <a:gs pos="100000">
                    <a:srgbClr val="6c9bb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4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458f8f"/>
                  </a:gs>
                  <a:gs pos="50000">
                    <a:srgbClr val="326868"/>
                  </a:gs>
                  <a:gs pos="100000">
                    <a:srgbClr val="458f8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338" name="未知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a2a2f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9" name="AutoShape 5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0" name="AutoShape 6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2" name="AutoShape 8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3" name="AutoShape 9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4" name="AutoShape 10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5" name="AutoShape 11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6" name="AutoShape 12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382840" y="1857240"/>
              <a:ext cx="143640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c9bbe"/>
                </a:gs>
                <a:gs pos="100000">
                  <a:srgbClr val="aac5da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8" name="Text Box 14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9" name="Text Box 15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351" name="AutoShape 17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c9b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52" name="AutoShape 18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a3c4a"/>
                  </a:gs>
                  <a:gs pos="50000">
                    <a:srgbClr val="6c9bbe"/>
                  </a:gs>
                  <a:gs pos="100000">
                    <a:srgbClr val="2a3c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53" name="AutoShape 19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54" name="AutoShape 20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55" name="Text Box 21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56" name="Text Box 22"/>
              <p:cNvSpPr/>
              <p:nvPr/>
            </p:nvSpPr>
            <p:spPr>
              <a:xfrm>
                <a:off x="912600" y="3374280"/>
                <a:ext cx="2089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57" name="Text Box 23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8" name="Text Box 24"/>
            <p:cNvSpPr/>
            <p:nvPr/>
          </p:nvSpPr>
          <p:spPr>
            <a:xfrm>
              <a:off x="583704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5:20:34Z</dcterms:created>
  <dc:creator/>
  <dc:description/>
  <cp:keywords>幻灯片之家 http:/www.eeppt.com</cp:keywords>
  <dc:language>en-US</dc:language>
  <cp:lastModifiedBy/>
  <dcterms:modified xsi:type="dcterms:W3CDTF">2015-07-08T01:30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720b000000000001024140</vt:lpwstr>
  </property>
</Properties>
</file>