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439A-2132-4114-BAE9-86CB25BD1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55A4-18EB-479A-BEC1-99D71B46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4B08-650E-4220-ACB5-59FAEB3FA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EA1D-2BA0-4A8D-B5EF-6CFF67CBF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3BF5-12E4-4302-A72D-6636BADE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CF27-3A26-43B2-89F6-FF2A7486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1DBC-233B-4235-A99C-22677BFD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1AD6-00ED-4242-B1A5-44E0E41E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F160-2C26-4823-B700-B30A35E0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35AF-AA7B-4A21-BCA4-0E7AFC6C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71A4-3931-43A0-822F-0A7C47C1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15BB-F5D4-4BB4-BC13-28176127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4F18-3B9B-4E45-8B8F-014CE7A24F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04.png"/>
          <p:cNvPicPr/>
          <p:nvPr/>
        </p:nvPicPr>
        <p:blipFill>
          <a:blip r:embed="rId1"/>
          <a:stretch/>
        </p:blipFill>
        <p:spPr>
          <a:xfrm>
            <a:off x="2244600" y="0"/>
            <a:ext cx="5340600" cy="4235400"/>
          </a:xfrm>
          <a:prstGeom prst="rect">
            <a:avLst/>
          </a:prstGeom>
          <a:ln w="0">
            <a:noFill/>
          </a:ln>
        </p:spPr>
      </p:pic>
      <p:sp>
        <p:nvSpPr>
          <p:cNvPr id="42" name="矩形 16"/>
          <p:cNvSpPr/>
          <p:nvPr/>
        </p:nvSpPr>
        <p:spPr>
          <a:xfrm>
            <a:off x="0" y="6572160"/>
            <a:ext cx="4643280" cy="285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9"/>
          <p:cNvSpPr/>
          <p:nvPr/>
        </p:nvSpPr>
        <p:spPr>
          <a:xfrm>
            <a:off x="2381400" y="4357800"/>
            <a:ext cx="59292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小动作让你拥有超人般的记忆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9286920" y="214200"/>
            <a:ext cx="619200" cy="360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DE07-648B-439E-A5A0-99D71F6EF268}" type="slidenum">
              <a:rPr b="1" lang="zh-CN" sz="1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8136000" y="214200"/>
            <a:ext cx="1073160" cy="36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Pag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23"/>
          <p:cNvSpPr/>
          <p:nvPr/>
        </p:nvSpPr>
        <p:spPr>
          <a:xfrm>
            <a:off x="4721400" y="6572160"/>
            <a:ext cx="5184720" cy="285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344520" y="3933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712800" y="2709720"/>
            <a:ext cx="23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素材图片手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17"/>
          <p:cNvSpPr/>
          <p:nvPr/>
        </p:nvSpPr>
        <p:spPr>
          <a:xfrm>
            <a:off x="0" y="6500880"/>
            <a:ext cx="3017880" cy="357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18"/>
          <p:cNvSpPr/>
          <p:nvPr/>
        </p:nvSpPr>
        <p:spPr>
          <a:xfrm>
            <a:off x="3095640" y="6500880"/>
            <a:ext cx="6810480" cy="357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图片 8" descr="04.png"/>
          <p:cNvPicPr/>
          <p:nvPr/>
        </p:nvPicPr>
        <p:blipFill>
          <a:blip r:embed="rId1"/>
          <a:stretch/>
        </p:blipFill>
        <p:spPr>
          <a:xfrm>
            <a:off x="77760" y="0"/>
            <a:ext cx="3102120" cy="328608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2452680" y="3286080"/>
            <a:ext cx="43578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当桌上满是食物时就闭上眼睛吃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经常用手指分辨硬币（或象棋子也不错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1"/>
          <p:cNvSpPr/>
          <p:nvPr/>
        </p:nvSpPr>
        <p:spPr>
          <a:xfrm>
            <a:off x="8772480" y="4000680"/>
            <a:ext cx="185760" cy="5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9286920" y="214200"/>
            <a:ext cx="619200" cy="360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2099-6F33-46B1-ACC3-1EDD920543CC}" type="slidenum">
              <a:rPr b="1" lang="zh-CN" sz="1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8136000" y="214200"/>
            <a:ext cx="1073160" cy="36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Pag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16"/>
          <p:cNvSpPr/>
          <p:nvPr/>
        </p:nvSpPr>
        <p:spPr>
          <a:xfrm>
            <a:off x="0" y="6500880"/>
            <a:ext cx="3946680" cy="357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3"/>
          <p:cNvSpPr/>
          <p:nvPr/>
        </p:nvSpPr>
        <p:spPr>
          <a:xfrm rot="20998200">
            <a:off x="6230520" y="2571840"/>
            <a:ext cx="184320" cy="5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图片 18" descr="04.png"/>
          <p:cNvPicPr/>
          <p:nvPr/>
        </p:nvPicPr>
        <p:blipFill>
          <a:blip r:embed="rId1"/>
          <a:stretch/>
        </p:blipFill>
        <p:spPr>
          <a:xfrm>
            <a:off x="541440" y="0"/>
            <a:ext cx="3636720" cy="3078000"/>
          </a:xfrm>
          <a:prstGeom prst="rect">
            <a:avLst/>
          </a:prstGeom>
          <a:ln w="0">
            <a:noFill/>
          </a:ln>
        </p:spPr>
      </p:pic>
      <p:sp>
        <p:nvSpPr>
          <p:cNvPr id="59" name="矩形 19"/>
          <p:cNvSpPr/>
          <p:nvPr/>
        </p:nvSpPr>
        <p:spPr>
          <a:xfrm>
            <a:off x="4024440" y="6500880"/>
            <a:ext cx="5881680" cy="357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9286920" y="214200"/>
            <a:ext cx="619200" cy="360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3E49-C2DF-4CCB-9171-1646CF06040B}" type="slidenum">
              <a:rPr b="1" lang="zh-CN" sz="1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8136000" y="214200"/>
            <a:ext cx="1073160" cy="36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Pag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3"/>
          <p:cNvSpPr/>
          <p:nvPr/>
        </p:nvSpPr>
        <p:spPr>
          <a:xfrm rot="21243000">
            <a:off x="1679040" y="3795840"/>
            <a:ext cx="4332600" cy="5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4"/>
          <p:cNvSpPr/>
          <p:nvPr/>
        </p:nvSpPr>
        <p:spPr>
          <a:xfrm>
            <a:off x="3166920" y="335772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戴上耳机上下楼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到餐馆点没吃过的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放开嗓子大声朗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16"/>
          <p:cNvSpPr/>
          <p:nvPr/>
        </p:nvSpPr>
        <p:spPr>
          <a:xfrm>
            <a:off x="0" y="6500880"/>
            <a:ext cx="3559320" cy="357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3"/>
          <p:cNvSpPr/>
          <p:nvPr/>
        </p:nvSpPr>
        <p:spPr>
          <a:xfrm>
            <a:off x="6524640" y="571680"/>
            <a:ext cx="615960" cy="9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5"/>
          <p:cNvSpPr/>
          <p:nvPr/>
        </p:nvSpPr>
        <p:spPr>
          <a:xfrm>
            <a:off x="3940560" y="5429160"/>
            <a:ext cx="738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图片 18" descr="04.png"/>
          <p:cNvPicPr/>
          <p:nvPr/>
        </p:nvPicPr>
        <p:blipFill>
          <a:blip r:embed="rId1"/>
          <a:stretch/>
        </p:blipFill>
        <p:spPr>
          <a:xfrm>
            <a:off x="231840" y="0"/>
            <a:ext cx="3560760" cy="3000240"/>
          </a:xfrm>
          <a:prstGeom prst="rect">
            <a:avLst/>
          </a:prstGeom>
          <a:ln w="0">
            <a:noFill/>
          </a:ln>
        </p:spPr>
      </p:pic>
      <p:sp>
        <p:nvSpPr>
          <p:cNvPr id="68" name="矩形 19"/>
          <p:cNvSpPr/>
          <p:nvPr/>
        </p:nvSpPr>
        <p:spPr>
          <a:xfrm>
            <a:off x="3637080" y="6500880"/>
            <a:ext cx="6269040" cy="357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9286920" y="214200"/>
            <a:ext cx="619200" cy="360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CC66-AF6F-4163-9C0B-E778F4CD1DA7}" type="slidenum">
              <a:rPr b="1" lang="zh-CN" sz="1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8136000" y="214200"/>
            <a:ext cx="1073160" cy="36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Pag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3"/>
          <p:cNvSpPr/>
          <p:nvPr/>
        </p:nvSpPr>
        <p:spPr>
          <a:xfrm>
            <a:off x="3422160" y="3143160"/>
            <a:ext cx="22071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左手拿咖啡杯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听不同类型的歌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每天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23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前睡觉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.  5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起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7600" y="189000"/>
            <a:ext cx="889164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360" y="1269720"/>
            <a:ext cx="9671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894800" y="333360"/>
            <a:ext cx="150480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3BC2-2328-4DD4-9474-999BAF2F62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6"/>
          <p:cNvSpPr/>
          <p:nvPr/>
        </p:nvSpPr>
        <p:spPr>
          <a:xfrm>
            <a:off x="0" y="6500880"/>
            <a:ext cx="4875120" cy="357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3"/>
          <p:cNvSpPr/>
          <p:nvPr/>
        </p:nvSpPr>
        <p:spPr>
          <a:xfrm>
            <a:off x="1452600" y="3714840"/>
            <a:ext cx="615960" cy="9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5"/>
          <p:cNvSpPr/>
          <p:nvPr/>
        </p:nvSpPr>
        <p:spPr>
          <a:xfrm rot="524400">
            <a:off x="5195520" y="965160"/>
            <a:ext cx="459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图片 18" descr="04.png"/>
          <p:cNvPicPr/>
          <p:nvPr/>
        </p:nvPicPr>
        <p:blipFill>
          <a:blip r:embed="rId1"/>
          <a:stretch/>
        </p:blipFill>
        <p:spPr>
          <a:xfrm>
            <a:off x="77760" y="0"/>
            <a:ext cx="3619440" cy="3500280"/>
          </a:xfrm>
          <a:prstGeom prst="rect">
            <a:avLst/>
          </a:prstGeom>
          <a:ln w="0">
            <a:noFill/>
          </a:ln>
        </p:spPr>
      </p:pic>
      <p:sp>
        <p:nvSpPr>
          <p:cNvPr id="79" name="矩形 19"/>
          <p:cNvSpPr/>
          <p:nvPr/>
        </p:nvSpPr>
        <p:spPr>
          <a:xfrm>
            <a:off x="5030640" y="6500880"/>
            <a:ext cx="4875480" cy="357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9286920" y="214200"/>
            <a:ext cx="619200" cy="360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29A9-337B-431E-883C-6DB9F831A735}" type="slidenum">
              <a:rPr b="1" lang="zh-CN" sz="1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8136000" y="214200"/>
            <a:ext cx="1073160" cy="36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Pag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4"/>
          <p:cNvSpPr/>
          <p:nvPr/>
        </p:nvSpPr>
        <p:spPr>
          <a:xfrm>
            <a:off x="3258360" y="3575160"/>
            <a:ext cx="1278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吃早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每天吃点甜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陌生的地方散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3584520" y="2709720"/>
            <a:ext cx="496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6"/>
          <p:cNvSpPr/>
          <p:nvPr/>
        </p:nvSpPr>
        <p:spPr>
          <a:xfrm>
            <a:off x="0" y="6500880"/>
            <a:ext cx="4411800" cy="357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5"/>
          <p:cNvSpPr/>
          <p:nvPr/>
        </p:nvSpPr>
        <p:spPr>
          <a:xfrm rot="21213600">
            <a:off x="2030040" y="5005080"/>
            <a:ext cx="184320" cy="52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19"/>
          <p:cNvSpPr/>
          <p:nvPr/>
        </p:nvSpPr>
        <p:spPr>
          <a:xfrm>
            <a:off x="4565520" y="6500880"/>
            <a:ext cx="5340600" cy="357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9286920" y="214200"/>
            <a:ext cx="619200" cy="360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0405-1DC2-4E9C-BBA2-F6B591C0D7CF}" type="slidenum">
              <a:rPr b="1" lang="zh-CN" sz="1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8136000" y="214200"/>
            <a:ext cx="1073160" cy="36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Pag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21"/>
          <p:cNvSpPr/>
          <p:nvPr/>
        </p:nvSpPr>
        <p:spPr>
          <a:xfrm>
            <a:off x="7070760" y="835200"/>
            <a:ext cx="615960" cy="9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图片 18" descr="04.png"/>
          <p:cNvPicPr/>
          <p:nvPr/>
        </p:nvPicPr>
        <p:blipFill>
          <a:blip r:embed="rId1"/>
          <a:stretch/>
        </p:blipFill>
        <p:spPr>
          <a:xfrm>
            <a:off x="0" y="0"/>
            <a:ext cx="3767040" cy="3643200"/>
          </a:xfrm>
          <a:prstGeom prst="rect">
            <a:avLst/>
          </a:prstGeom>
          <a:ln w="0">
            <a:noFill/>
          </a:ln>
        </p:spPr>
      </p:pic>
      <p:sp>
        <p:nvSpPr>
          <p:cNvPr id="91" name="直角三角形 12"/>
          <p:cNvSpPr/>
          <p:nvPr/>
        </p:nvSpPr>
        <p:spPr>
          <a:xfrm flipH="1">
            <a:off x="8435880" y="4929120"/>
            <a:ext cx="463680" cy="500040"/>
          </a:xfrm>
          <a:prstGeom prst="rtTriangl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024360" y="3786120"/>
            <a:ext cx="3357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多咀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每天快走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一天十次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..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手指操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记录成功的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每季度学一项新运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每天出门前对着镜子微笑并对自己说：我一定能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16"/>
          <p:cNvSpPr/>
          <p:nvPr/>
        </p:nvSpPr>
        <p:spPr>
          <a:xfrm>
            <a:off x="0" y="6500880"/>
            <a:ext cx="3017880" cy="357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19"/>
          <p:cNvSpPr/>
          <p:nvPr/>
        </p:nvSpPr>
        <p:spPr>
          <a:xfrm>
            <a:off x="3173400" y="6500880"/>
            <a:ext cx="6732720" cy="357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9286920" y="214200"/>
            <a:ext cx="619200" cy="360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1DC2-4142-446F-9E9D-5B7DC129B89E}" type="slidenum">
              <a:rPr b="1" lang="zh-CN" sz="1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8136000" y="214200"/>
            <a:ext cx="1073160" cy="36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de-DE" sz="1800" spc="-1" strike="noStrike">
                <a:solidFill>
                  <a:srgbClr val="ffffff"/>
                </a:solidFill>
                <a:latin typeface="Arial Black"/>
              </a:rPr>
              <a:t>Pag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1"/>
          <p:cNvSpPr/>
          <p:nvPr/>
        </p:nvSpPr>
        <p:spPr>
          <a:xfrm>
            <a:off x="3309840" y="2786040"/>
            <a:ext cx="578664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写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100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个自己喜欢的东西，每天拿出来看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每天找些时间专门背一些东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每周给自己半小时的无聊时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每周看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到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次自己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看过的节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做个聆听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图片 18" descr="04.png"/>
          <p:cNvPicPr/>
          <p:nvPr/>
        </p:nvPicPr>
        <p:blipFill>
          <a:blip r:embed="rId1"/>
          <a:stretch/>
        </p:blipFill>
        <p:spPr>
          <a:xfrm>
            <a:off x="-333360" y="0"/>
            <a:ext cx="34830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02:37:58Z</dcterms:created>
  <dc:creator/>
  <dc:description/>
  <cp:keywords>幻灯片之家 http:/www.eeppt.com</cp:keywords>
  <dc:language>en-US</dc:language>
  <cp:lastModifiedBy/>
  <dcterms:modified xsi:type="dcterms:W3CDTF">2015-07-10T02:14:57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