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6A6-1475-40CC-88F8-096D9788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F54-BC62-4125-8BC7-1495B4C2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6F3-B66F-4546-AE4C-39F3C25A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209-9D62-43B0-8351-3BFB0259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D29-75DF-4BC3-BE44-B1D2F947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8D6-63DF-45D9-8848-96CB913F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021-0EC6-4566-A2EF-C2DD5206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D67-0E44-4348-9D97-E12897A3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6EA-E7DB-497E-B415-759B47AB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25E-792B-4FE8-8203-00099BE6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09E-74B0-4349-9BEC-4FC7C522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649-E27E-484A-9217-C4085A70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4AF2-5E44-413D-97EA-C5186F0FD94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E5CF-1D55-4F2D-853D-EB08118EF3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34920" y="44280"/>
            <a:ext cx="1393920" cy="2160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5661000" y="44280"/>
            <a:ext cx="124632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"/>
          <p:cNvPicPr/>
          <p:nvPr/>
        </p:nvPicPr>
        <p:blipFill>
          <a:blip r:embed="rId3"/>
          <a:stretch/>
        </p:blipFill>
        <p:spPr>
          <a:xfrm>
            <a:off x="1959120" y="44280"/>
            <a:ext cx="1428480" cy="21607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"/>
          <p:cNvPicPr/>
          <p:nvPr/>
        </p:nvPicPr>
        <p:blipFill>
          <a:blip r:embed="rId4"/>
          <a:stretch/>
        </p:blipFill>
        <p:spPr>
          <a:xfrm>
            <a:off x="3919680" y="44280"/>
            <a:ext cx="120960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"/>
          <p:cNvPicPr/>
          <p:nvPr/>
        </p:nvPicPr>
        <p:blipFill>
          <a:blip r:embed="rId5"/>
          <a:stretch/>
        </p:blipFill>
        <p:spPr>
          <a:xfrm>
            <a:off x="7201080" y="4654440"/>
            <a:ext cx="1841400" cy="21592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"/>
          <p:cNvPicPr/>
          <p:nvPr/>
        </p:nvPicPr>
        <p:blipFill>
          <a:blip r:embed="rId6"/>
          <a:stretch/>
        </p:blipFill>
        <p:spPr>
          <a:xfrm>
            <a:off x="7439040" y="44280"/>
            <a:ext cx="1601640" cy="21607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7" descr=""/>
          <p:cNvPicPr/>
          <p:nvPr/>
        </p:nvPicPr>
        <p:blipFill>
          <a:blip r:embed="rId7"/>
          <a:stretch/>
        </p:blipFill>
        <p:spPr>
          <a:xfrm>
            <a:off x="4578480" y="4654440"/>
            <a:ext cx="1877760" cy="21592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"/>
          <p:cNvPicPr/>
          <p:nvPr/>
        </p:nvPicPr>
        <p:blipFill>
          <a:blip r:embed="rId8"/>
          <a:stretch/>
        </p:blipFill>
        <p:spPr>
          <a:xfrm>
            <a:off x="3873600" y="2349360"/>
            <a:ext cx="1452600" cy="21592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9" descr=""/>
          <p:cNvPicPr/>
          <p:nvPr/>
        </p:nvPicPr>
        <p:blipFill>
          <a:blip r:embed="rId9"/>
          <a:stretch/>
        </p:blipFill>
        <p:spPr>
          <a:xfrm>
            <a:off x="235080" y="2349360"/>
            <a:ext cx="1193760" cy="21592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" descr=""/>
          <p:cNvPicPr/>
          <p:nvPr/>
        </p:nvPicPr>
        <p:blipFill>
          <a:blip r:embed="rId10"/>
          <a:stretch/>
        </p:blipFill>
        <p:spPr>
          <a:xfrm>
            <a:off x="235080" y="4654440"/>
            <a:ext cx="1511280" cy="21592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"/>
          <p:cNvPicPr/>
          <p:nvPr/>
        </p:nvPicPr>
        <p:blipFill>
          <a:blip r:embed="rId11"/>
          <a:stretch/>
        </p:blipFill>
        <p:spPr>
          <a:xfrm>
            <a:off x="2013120" y="2349360"/>
            <a:ext cx="1274760" cy="21592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12"/>
          <a:stretch/>
        </p:blipFill>
        <p:spPr>
          <a:xfrm>
            <a:off x="7740720" y="2349360"/>
            <a:ext cx="1146240" cy="21592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13"/>
          <a:stretch/>
        </p:blipFill>
        <p:spPr>
          <a:xfrm>
            <a:off x="2490840" y="4654440"/>
            <a:ext cx="1342800" cy="21592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"/>
          <p:cNvPicPr/>
          <p:nvPr/>
        </p:nvPicPr>
        <p:blipFill>
          <a:blip r:embed="rId14"/>
          <a:stretch/>
        </p:blipFill>
        <p:spPr>
          <a:xfrm>
            <a:off x="5911920" y="2349360"/>
            <a:ext cx="12430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F6B-160C-4F35-A8C9-44D9AF13AF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9:53:00Z</dcterms:created>
  <dc:creator/>
  <dc:description/>
  <cp:keywords>幻灯片之家 http:/www.eeppt.com</cp:keywords>
  <dc:language>en-US</dc:language>
  <cp:lastModifiedBy/>
  <dcterms:modified xsi:type="dcterms:W3CDTF">2015-07-13T09:34:54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PowerPoint 演示文稿</vt:lpwstr>
  </property>
</Properties>
</file>