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E3E-3125-475C-BADB-D5082763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52B-F499-4E1A-9E8D-24534B4C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BB2-8713-451D-841A-57178B55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146-1727-4D44-A4B6-95F3A13E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401-BF07-48FB-A759-0B13DAA7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B27-1B6D-43D1-BC67-E15FC089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5EF-A374-4A6E-88CC-578BFB79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D19-EA86-4058-9A11-F6A95F5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882-9C6E-4497-98A8-EE2C069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623-0041-4147-8906-673F21F5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84B-E834-491C-ADD0-E6771E50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799-CCDE-44D8-BEE5-93899BE3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4859280" y="242568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" descr="E:\矢量图素材\中国风\莲\33¹.png"/>
          <p:cNvPicPr/>
          <p:nvPr/>
        </p:nvPicPr>
        <p:blipFill>
          <a:blip r:embed="rId4"/>
          <a:srcRect l="22381" t="0" r="15558" b="23436"/>
          <a:stretch/>
        </p:blipFill>
        <p:spPr>
          <a:xfrm>
            <a:off x="2046240" y="-3240"/>
            <a:ext cx="5675400" cy="4372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C:\Documents and Settings\Administrator\桌面\å¢¨è¿¹.png"/>
          <p:cNvPicPr/>
          <p:nvPr/>
        </p:nvPicPr>
        <p:blipFill>
          <a:blip r:embed="rId5"/>
          <a:stretch/>
        </p:blipFill>
        <p:spPr>
          <a:xfrm>
            <a:off x="1363680" y="-3240"/>
            <a:ext cx="5356080" cy="5713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575316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826920" y="-49320"/>
            <a:ext cx="792360" cy="790560"/>
            <a:chOff x="826920" y="-49320"/>
            <a:chExt cx="792360" cy="790560"/>
          </a:xfrm>
        </p:grpSpPr>
        <p:pic>
          <p:nvPicPr>
            <p:cNvPr id="48" name="Picture 4" descr="E:\矢量图素材\中国风\莲\33¹.png"/>
            <p:cNvPicPr/>
            <p:nvPr/>
          </p:nvPicPr>
          <p:blipFill>
            <a:blip r:embed="rId4"/>
            <a:stretch/>
          </p:blipFill>
          <p:spPr>
            <a:xfrm>
              <a:off x="835200" y="-49320"/>
              <a:ext cx="78408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" descr="C:\Documents and Settings\Administrator\桌面\å¢¨è¿¹.png"/>
            <p:cNvPicPr/>
            <p:nvPr/>
          </p:nvPicPr>
          <p:blipFill>
            <a:blip r:embed="rId5"/>
            <a:stretch/>
          </p:blipFill>
          <p:spPr>
            <a:xfrm>
              <a:off x="826920" y="50400"/>
              <a:ext cx="648360" cy="6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3099-9CA1-46F8-BFBD-AC14C4E2EF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1080" y="2570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6592320" y="2782800"/>
            <a:ext cx="17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素材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5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0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5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0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30384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7AA-A463-47ED-A310-480BF79996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矩形 2" descr=""/>
          <p:cNvPicPr/>
          <p:nvPr/>
        </p:nvPicPr>
        <p:blipFill>
          <a:blip r:embed="rId1"/>
          <a:stretch/>
        </p:blipFill>
        <p:spPr>
          <a:xfrm>
            <a:off x="4737240" y="2266920"/>
            <a:ext cx="4833720" cy="16891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6372360" y="326880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/>
  <dc:description/>
  <cp:keywords>幻灯片之家 http:/www.eeppt.com</cp:keywords>
  <dc:language>en-US</dc:language>
  <cp:lastModifiedBy/>
  <dcterms:modified xsi:type="dcterms:W3CDTF">2015-07-10T02:17:32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