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4EB0-D35D-4EBC-86EB-DBD28F09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9337-E1FB-4125-9AAA-55350DF7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81FD-ED7B-4226-B134-488EEC22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7090-B8AB-49C6-A2E2-B6AE3471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0FC6-1BD5-48AC-B183-D4F3A133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64CF-0D98-414B-968F-82092D78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5342-AFDA-4CB9-9F08-2F79846D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1905-B490-43F1-8A1F-90462DF7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16D-BAED-4B49-AE8A-DF84BB13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4BDE-397D-40F2-B45C-685413EF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D5B-764A-444C-ACD7-D1AEE163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0B5F-6DE7-4DFD-9797-E5B09446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E162-7B80-4AB3-A745-ABCA903CCF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11.png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2.png"/><Relationship Id="rId14" Type="http://schemas.openxmlformats.org/officeDocument/2006/relationships/image" Target="../media/image5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hyperlink" Target="http://www.eeppt.com/dongtai/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2.png"/><Relationship Id="rId14" Type="http://schemas.openxmlformats.org/officeDocument/2006/relationships/image" Target="../media/image5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331920" y="6165720"/>
            <a:ext cx="47656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网，情人节幻灯片模板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jieri/qingrenji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9" descr="1.1.1.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0" descr="1.1.1.3.png"/>
          <p:cNvPicPr/>
          <p:nvPr/>
        </p:nvPicPr>
        <p:blipFill>
          <a:blip r:embed="rId2"/>
          <a:srcRect l="0" t="43057" r="0" b="0"/>
          <a:stretch/>
        </p:blipFill>
        <p:spPr>
          <a:xfrm>
            <a:off x="0" y="30718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31" descr="1.1.1.3.png"/>
          <p:cNvPicPr/>
          <p:nvPr/>
        </p:nvPicPr>
        <p:blipFill>
          <a:blip r:embed="rId3"/>
          <a:srcRect l="0" t="0" r="79689" b="76391"/>
          <a:stretch/>
        </p:blipFill>
        <p:spPr>
          <a:xfrm>
            <a:off x="0" y="857160"/>
            <a:ext cx="1857240" cy="12146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2" descr="1.1.1.4.png"/>
          <p:cNvPicPr/>
          <p:nvPr/>
        </p:nvPicPr>
        <p:blipFill>
          <a:blip r:embed="rId4"/>
          <a:srcRect l="30469" t="33333" r="46094" b="25002"/>
          <a:stretch/>
        </p:blipFill>
        <p:spPr>
          <a:xfrm>
            <a:off x="2786040" y="25718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3" descr="1.1.1.5.png"/>
          <p:cNvPicPr/>
          <p:nvPr/>
        </p:nvPicPr>
        <p:blipFill>
          <a:blip r:embed="rId5"/>
          <a:srcRect l="50001" t="51389" r="30469" b="5557"/>
          <a:stretch/>
        </p:blipFill>
        <p:spPr>
          <a:xfrm>
            <a:off x="4572000" y="3500280"/>
            <a:ext cx="1785960" cy="22147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34" descr="1.1.1.5.png"/>
          <p:cNvPicPr/>
          <p:nvPr/>
        </p:nvPicPr>
        <p:blipFill>
          <a:blip r:embed="rId6"/>
          <a:srcRect l="67188" t="51389" r="0" b="0"/>
          <a:stretch/>
        </p:blipFill>
        <p:spPr>
          <a:xfrm>
            <a:off x="6143760" y="3500280"/>
            <a:ext cx="3000240" cy="2500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5" descr="1.1.1.7.png"/>
          <p:cNvPicPr/>
          <p:nvPr/>
        </p:nvPicPr>
        <p:blipFill>
          <a:blip r:embed="rId7"/>
          <a:srcRect l="90628" t="0" r="-2" b="54167"/>
          <a:stretch/>
        </p:blipFill>
        <p:spPr>
          <a:xfrm>
            <a:off x="8286840" y="857160"/>
            <a:ext cx="857160" cy="23576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36" descr="1.1.1.8.png"/>
          <p:cNvPicPr/>
          <p:nvPr/>
        </p:nvPicPr>
        <p:blipFill>
          <a:blip r:embed="rId8"/>
          <a:srcRect l="41407" t="81947" r="53906" b="9721"/>
          <a:stretch/>
        </p:blipFill>
        <p:spPr>
          <a:xfrm>
            <a:off x="5143680" y="5072040"/>
            <a:ext cx="428400" cy="428760"/>
          </a:xfrm>
          <a:prstGeom prst="rect">
            <a:avLst/>
          </a:prstGeom>
          <a:ln w="0">
            <a:noFill/>
          </a:ln>
        </p:spPr>
      </p:pic>
      <p:pic>
        <p:nvPicPr>
          <p:cNvPr id="50" name="锐得PPT1" descr="1.1.1.9.png"/>
          <p:cNvPicPr/>
          <p:nvPr/>
        </p:nvPicPr>
        <p:blipFill>
          <a:blip r:embed="rId9"/>
          <a:srcRect l="36719" t="44447" r="36719" b="20834"/>
          <a:stretch/>
        </p:blipFill>
        <p:spPr>
          <a:xfrm>
            <a:off x="3357720" y="3143160"/>
            <a:ext cx="2428560" cy="1785960"/>
          </a:xfrm>
          <a:prstGeom prst="rect">
            <a:avLst/>
          </a:prstGeom>
          <a:ln w="0">
            <a:noFill/>
          </a:ln>
        </p:spPr>
      </p:pic>
      <p:pic>
        <p:nvPicPr>
          <p:cNvPr id="51" name="锐得PPT" descr="1.1.2.2.png"/>
          <p:cNvPicPr/>
          <p:nvPr/>
        </p:nvPicPr>
        <p:blipFill>
          <a:blip r:embed="rId10"/>
          <a:srcRect l="37500" t="38890" r="35937" b="18056"/>
          <a:stretch/>
        </p:blipFill>
        <p:spPr>
          <a:xfrm>
            <a:off x="3429000" y="2857680"/>
            <a:ext cx="2428920" cy="22143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9" descr="1.1.2.1.png"/>
          <p:cNvPicPr/>
          <p:nvPr/>
        </p:nvPicPr>
        <p:blipFill>
          <a:blip r:embed="rId11"/>
          <a:srcRect l="36719" t="52778" r="56250" b="31944"/>
          <a:stretch/>
        </p:blipFill>
        <p:spPr>
          <a:xfrm>
            <a:off x="3357720" y="3571920"/>
            <a:ext cx="642960" cy="78588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0" descr="1.1.1.7.png"/>
          <p:cNvPicPr/>
          <p:nvPr/>
        </p:nvPicPr>
        <p:blipFill>
          <a:blip r:embed="rId12"/>
          <a:srcRect l="0" t="0" r="89064" b="43057"/>
          <a:stretch/>
        </p:blipFill>
        <p:spPr>
          <a:xfrm>
            <a:off x="0" y="857160"/>
            <a:ext cx="1000080" cy="29289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1" descr="1.1.1.7.png"/>
          <p:cNvPicPr/>
          <p:nvPr/>
        </p:nvPicPr>
        <p:blipFill>
          <a:blip r:embed="rId13"/>
          <a:srcRect l="11719" t="0" r="78907" b="59724"/>
          <a:stretch/>
        </p:blipFill>
        <p:spPr>
          <a:xfrm>
            <a:off x="1071720" y="857160"/>
            <a:ext cx="857160" cy="20718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42" descr="1.1.1.7.png"/>
          <p:cNvPicPr/>
          <p:nvPr/>
        </p:nvPicPr>
        <p:blipFill>
          <a:blip r:embed="rId14"/>
          <a:srcRect l="25000" t="0" r="65627" b="52781"/>
          <a:stretch/>
        </p:blipFill>
        <p:spPr>
          <a:xfrm>
            <a:off x="2286000" y="857160"/>
            <a:ext cx="857160" cy="24289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43" descr="1.1.1.7.png"/>
          <p:cNvPicPr/>
          <p:nvPr/>
        </p:nvPicPr>
        <p:blipFill>
          <a:blip r:embed="rId15"/>
          <a:srcRect l="36719" t="0" r="53128" b="62502"/>
          <a:stretch/>
        </p:blipFill>
        <p:spPr>
          <a:xfrm>
            <a:off x="3357720" y="857160"/>
            <a:ext cx="928440" cy="19288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4" descr="1.1.1.7.png"/>
          <p:cNvPicPr/>
          <p:nvPr/>
        </p:nvPicPr>
        <p:blipFill>
          <a:blip r:embed="rId16"/>
          <a:srcRect l="49999" t="0" r="43751" b="59724"/>
          <a:stretch/>
        </p:blipFill>
        <p:spPr>
          <a:xfrm>
            <a:off x="4572000" y="857160"/>
            <a:ext cx="571680" cy="20718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45" descr="1.1.1.7.png"/>
          <p:cNvPicPr/>
          <p:nvPr/>
        </p:nvPicPr>
        <p:blipFill>
          <a:blip r:embed="rId17"/>
          <a:srcRect l="60939" t="0" r="30469" b="55557"/>
          <a:stretch/>
        </p:blipFill>
        <p:spPr>
          <a:xfrm>
            <a:off x="5572080" y="857160"/>
            <a:ext cx="78588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6" descr="1.1.1.7.png"/>
          <p:cNvPicPr/>
          <p:nvPr/>
        </p:nvPicPr>
        <p:blipFill>
          <a:blip r:embed="rId18"/>
          <a:srcRect l="71095" t="0" r="22657" b="66670"/>
          <a:stretch/>
        </p:blipFill>
        <p:spPr>
          <a:xfrm>
            <a:off x="6500880" y="857160"/>
            <a:ext cx="571320" cy="17146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7" descr="1.1.1.7.png"/>
          <p:cNvPicPr/>
          <p:nvPr/>
        </p:nvPicPr>
        <p:blipFill>
          <a:blip r:embed="rId19"/>
          <a:srcRect l="79689" t="0" r="11717" b="56946"/>
          <a:stretch/>
        </p:blipFill>
        <p:spPr>
          <a:xfrm>
            <a:off x="7286760" y="857160"/>
            <a:ext cx="785520" cy="22147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48" descr="1.1.1.8.png"/>
          <p:cNvPicPr/>
          <p:nvPr/>
        </p:nvPicPr>
        <p:blipFill>
          <a:blip r:embed="rId20"/>
          <a:srcRect l="5468" t="66670" r="89845" b="22223"/>
          <a:stretch/>
        </p:blipFill>
        <p:spPr>
          <a:xfrm>
            <a:off x="500040" y="4286160"/>
            <a:ext cx="428760" cy="5716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9" descr="1.1.1.8.png"/>
          <p:cNvPicPr/>
          <p:nvPr/>
        </p:nvPicPr>
        <p:blipFill>
          <a:blip r:embed="rId21"/>
          <a:srcRect l="75789" t="45836" r="19524" b="45833"/>
          <a:stretch/>
        </p:blipFill>
        <p:spPr>
          <a:xfrm>
            <a:off x="3786120" y="5072040"/>
            <a:ext cx="428760" cy="4287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50" descr="1.1.1.8.png"/>
          <p:cNvPicPr/>
          <p:nvPr/>
        </p:nvPicPr>
        <p:blipFill>
          <a:blip r:embed="rId22"/>
          <a:srcRect l="80477" t="66670" r="15617" b="26391"/>
          <a:stretch/>
        </p:blipFill>
        <p:spPr>
          <a:xfrm>
            <a:off x="7358040" y="42861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51" descr="1.1.1.8.png"/>
          <p:cNvPicPr/>
          <p:nvPr/>
        </p:nvPicPr>
        <p:blipFill>
          <a:blip r:embed="rId23"/>
          <a:srcRect l="22652" t="81947" r="71880" b="9721"/>
          <a:stretch/>
        </p:blipFill>
        <p:spPr>
          <a:xfrm>
            <a:off x="2071800" y="5072040"/>
            <a:ext cx="500040" cy="428760"/>
          </a:xfrm>
          <a:prstGeom prst="rect">
            <a:avLst/>
          </a:prstGeom>
          <a:ln w="0">
            <a:noFill/>
          </a:ln>
        </p:spPr>
      </p:pic>
      <p:pic>
        <p:nvPicPr>
          <p:cNvPr id="65" name="图片 52" descr="1.1.1.8.png"/>
          <p:cNvPicPr/>
          <p:nvPr/>
        </p:nvPicPr>
        <p:blipFill>
          <a:blip r:embed="rId24"/>
          <a:srcRect l="5468" t="66670" r="89845" b="22223"/>
          <a:stretch/>
        </p:blipFill>
        <p:spPr>
          <a:xfrm>
            <a:off x="1557360" y="5140440"/>
            <a:ext cx="503280" cy="6714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53" descr="1.1.1.8.png"/>
          <p:cNvPicPr/>
          <p:nvPr/>
        </p:nvPicPr>
        <p:blipFill>
          <a:blip r:embed="rId25"/>
          <a:srcRect l="22652" t="81947" r="71880" b="9721"/>
          <a:stretch/>
        </p:blipFill>
        <p:spPr>
          <a:xfrm>
            <a:off x="8448840" y="4540320"/>
            <a:ext cx="539640" cy="463320"/>
          </a:xfrm>
          <a:prstGeom prst="rect">
            <a:avLst/>
          </a:prstGeom>
          <a:ln w="0">
            <a:noFill/>
          </a:ln>
        </p:spPr>
      </p:pic>
      <p:pic>
        <p:nvPicPr>
          <p:cNvPr id="67" name="TextBox 55" descr=""/>
          <p:cNvPicPr/>
          <p:nvPr/>
        </p:nvPicPr>
        <p:blipFill>
          <a:blip r:embed="rId26"/>
          <a:stretch/>
        </p:blipFill>
        <p:spPr>
          <a:xfrm>
            <a:off x="3786120" y="3382920"/>
            <a:ext cx="1650960" cy="1165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4000" y="638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72880" y="1628640"/>
            <a:ext cx="389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情人节动态</a:t>
            </a: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模板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9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9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9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9" presetSubtype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9" presetSubtype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9" presetSubtype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27552 -0.64662 C -0.24306 -0.60823 -0.21059 -0.56961 -0.19393 -0.50809 C -0.17726 -0.44658 -0.19115 -0.33927 -0.17552 -0.27706 C -0.1599 -0.21508 -0.129 -0.18987 -0.1 -0.13575 C -0.07101 -0.08164 -0.02188 0.00948 -0.00139 0.04764 E">
                                      <p:cBhvr>
                                        <p:cTn id="57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20608 -0.54068 C 0.21337 -0.50069 0.22066 -0.46047 0.20608 -0.40199 C 0.19149 -0.3435 0.14635 -0.25774 0.1184 -0.19024 C 0.09045 -0.12274 0.05851 -0.02889 0.03872 0.00278 C 0.01892 0.03445 0.00938 0.01711 4.44444E-006 -6.14887E-007 E">
                                      <p:cBhvr>
                                        <p:cTn id="63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03889 -0.31753 C 0.03767 -0.32401 0.03646 -0.35384 0.03177 -0.35615 C 0.02708 -0.35846 0.01927 -0.33973 0.01024 -0.33094 C 0.00122 -0.32216 -0.01424 -0.31845 -0.0224 -0.30389 C -0.03056 -0.28932 -0.04149 -0.27613 -0.03872 -0.24399 C -0.03594 -0.21207 -0.01215 -0.14986 -0.00608 -0.11101 C 5.55111512312578E-017 -0.07216 -0.00104 -0.0414 -0.00191 -0.01041 E">
                                      <p:cBhvr>
                                        <p:cTn id="69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0.3019 -0.47272 C -0.30017 -0.38627 -0.29843 -0.29958 -0.28558 -0.24988 C -0.27274 -0.20018 -0.24322 -0.20897 -0.22447 -0.17383 C -0.20572 -0.13892 -0.19444 -0.07004 -0.17343 -0.04068 C -0.15242 -0.01132 -0.12673 -0.00393 -0.09791 0.00278 C -0.06909 0.00948 -0.03454 0.00463 6.38889E-006 -4.43828E-007 E">
                                      <p:cBhvr>
                                        <p:cTn id="7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16128 -0.64678 C 0.16684 -0.59292 0.17239 -0.53906 0.1592 -0.47827 C 0.14601 -0.41747 0.10104 -0.34188 0.0816 -0.28248 C 0.06215 -0.22307 0.05642 -0.16944 0.04288 -0.12228 C 0.02934 -0.07512 0.01458 -0.03768 1.38889E-006 1.33148E-006 E">
                                      <p:cBhvr>
                                        <p:cTn id="8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3 -0.6864 C 0.29098 -0.62257 0.28212 -0.55805 0.25591 -0.49769 C 0.22952 -0.43756 0.16858 -0.38529 0.14219 -0.32539 C 0.11563 -0.26619 0.12101 -0.19334 0.09723 -0.13899 C 0.07344 -0.08464 0.02032 -0.02914 -3.05556E-006 -1.07308E-006 E">
                                      <p:cBhvr>
                                        <p:cTn id="87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46336 -0.55456 C -0.41632 -0.49608 -0.36909 -0.43759 -0.33264 -0.36686 C -0.29618 -0.29612 -0.28402 -0.18863 -0.24496 -0.13061 C -0.2059 -0.07259 -0.13889 -0.04092 -0.09809 -0.01919 C -0.05729 0.00254 -0.02864 0.00115 -2.22222E-006 -7.40638E-006 E">
                                      <p:cBhvr>
                                        <p:cTn id="9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6" presetSubtype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43" descr="1.1.1.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71" name="图片 64" descr="1.1.1.3.png"/>
          <p:cNvPicPr/>
          <p:nvPr/>
        </p:nvPicPr>
        <p:blipFill>
          <a:blip r:embed="rId2"/>
          <a:srcRect l="0" t="43057" r="0" b="0"/>
          <a:stretch/>
        </p:blipFill>
        <p:spPr>
          <a:xfrm>
            <a:off x="0" y="30718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65" descr="1.1.1.3.png"/>
          <p:cNvPicPr/>
          <p:nvPr/>
        </p:nvPicPr>
        <p:blipFill>
          <a:blip r:embed="rId3"/>
          <a:srcRect l="0" t="0" r="79689" b="76391"/>
          <a:stretch/>
        </p:blipFill>
        <p:spPr>
          <a:xfrm>
            <a:off x="0" y="857160"/>
            <a:ext cx="1857240" cy="1214640"/>
          </a:xfrm>
          <a:prstGeom prst="rect">
            <a:avLst/>
          </a:prstGeom>
          <a:ln w="0">
            <a:noFill/>
          </a:ln>
        </p:spPr>
      </p:pic>
      <p:pic>
        <p:nvPicPr>
          <p:cNvPr id="73" name="图片 55" descr="1.1.1.7.png"/>
          <p:cNvPicPr/>
          <p:nvPr/>
        </p:nvPicPr>
        <p:blipFill>
          <a:blip r:embed="rId4"/>
          <a:srcRect l="90628" t="0" r="-2" b="54167"/>
          <a:stretch/>
        </p:blipFill>
        <p:spPr>
          <a:xfrm>
            <a:off x="8286840" y="857160"/>
            <a:ext cx="857160" cy="23576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56" descr="1.1.1.7.png"/>
          <p:cNvPicPr/>
          <p:nvPr/>
        </p:nvPicPr>
        <p:blipFill>
          <a:blip r:embed="rId5"/>
          <a:srcRect l="0" t="0" r="89064" b="43057"/>
          <a:stretch/>
        </p:blipFill>
        <p:spPr>
          <a:xfrm>
            <a:off x="0" y="857160"/>
            <a:ext cx="1000080" cy="29289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57" descr="1.1.1.7.png"/>
          <p:cNvPicPr/>
          <p:nvPr/>
        </p:nvPicPr>
        <p:blipFill>
          <a:blip r:embed="rId6"/>
          <a:srcRect l="11719" t="0" r="78907" b="59724"/>
          <a:stretch/>
        </p:blipFill>
        <p:spPr>
          <a:xfrm>
            <a:off x="1071720" y="857160"/>
            <a:ext cx="857160" cy="20718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58" descr="1.1.1.7.png"/>
          <p:cNvPicPr/>
          <p:nvPr/>
        </p:nvPicPr>
        <p:blipFill>
          <a:blip r:embed="rId7"/>
          <a:srcRect l="25000" t="0" r="65627" b="52781"/>
          <a:stretch/>
        </p:blipFill>
        <p:spPr>
          <a:xfrm>
            <a:off x="2286000" y="857160"/>
            <a:ext cx="857160" cy="24289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59" descr="1.1.1.7.png"/>
          <p:cNvPicPr/>
          <p:nvPr/>
        </p:nvPicPr>
        <p:blipFill>
          <a:blip r:embed="rId8"/>
          <a:srcRect l="36719" t="0" r="53128" b="62502"/>
          <a:stretch/>
        </p:blipFill>
        <p:spPr>
          <a:xfrm>
            <a:off x="3357720" y="857160"/>
            <a:ext cx="928440" cy="19288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60" descr="1.1.1.7.png"/>
          <p:cNvPicPr/>
          <p:nvPr/>
        </p:nvPicPr>
        <p:blipFill>
          <a:blip r:embed="rId9"/>
          <a:srcRect l="49999" t="0" r="43751" b="59724"/>
          <a:stretch/>
        </p:blipFill>
        <p:spPr>
          <a:xfrm>
            <a:off x="4572000" y="857160"/>
            <a:ext cx="571680" cy="20718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61" descr="1.1.1.7.png"/>
          <p:cNvPicPr/>
          <p:nvPr/>
        </p:nvPicPr>
        <p:blipFill>
          <a:blip r:embed="rId10"/>
          <a:srcRect l="60939" t="0" r="30469" b="55557"/>
          <a:stretch/>
        </p:blipFill>
        <p:spPr>
          <a:xfrm>
            <a:off x="5572080" y="857160"/>
            <a:ext cx="78588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62" descr="1.1.1.7.png"/>
          <p:cNvPicPr/>
          <p:nvPr/>
        </p:nvPicPr>
        <p:blipFill>
          <a:blip r:embed="rId11"/>
          <a:srcRect l="71095" t="0" r="22657" b="66670"/>
          <a:stretch/>
        </p:blipFill>
        <p:spPr>
          <a:xfrm>
            <a:off x="6500880" y="857160"/>
            <a:ext cx="571320" cy="17146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63" descr="1.1.1.7.png"/>
          <p:cNvPicPr/>
          <p:nvPr/>
        </p:nvPicPr>
        <p:blipFill>
          <a:blip r:embed="rId12"/>
          <a:srcRect l="79689" t="0" r="11717" b="56946"/>
          <a:stretch/>
        </p:blipFill>
        <p:spPr>
          <a:xfrm>
            <a:off x="7286760" y="857160"/>
            <a:ext cx="785520" cy="22147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44" descr="1.1.1.3.png"/>
          <p:cNvPicPr/>
          <p:nvPr/>
        </p:nvPicPr>
        <p:blipFill>
          <a:blip r:embed="rId13"/>
          <a:srcRect l="0" t="43057" r="0" b="0"/>
          <a:stretch/>
        </p:blipFill>
        <p:spPr>
          <a:xfrm>
            <a:off x="0" y="30700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" descr="1.1.1.6.png"/>
          <p:cNvPicPr/>
          <p:nvPr/>
        </p:nvPicPr>
        <p:blipFill>
          <a:blip r:embed="rId14"/>
          <a:srcRect l="67188" t="52781" r="0" b="0"/>
          <a:stretch/>
        </p:blipFill>
        <p:spPr>
          <a:xfrm>
            <a:off x="6143760" y="3571920"/>
            <a:ext cx="3000240" cy="24289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4" descr="2.1.1.2.png"/>
          <p:cNvPicPr/>
          <p:nvPr/>
        </p:nvPicPr>
        <p:blipFill>
          <a:blip r:embed="rId15"/>
          <a:srcRect l="92193" t="33336" r="-4" b="52778"/>
          <a:stretch/>
        </p:blipFill>
        <p:spPr>
          <a:xfrm>
            <a:off x="8474040" y="26384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9" descr="2.1.1.2.png"/>
          <p:cNvPicPr/>
          <p:nvPr/>
        </p:nvPicPr>
        <p:blipFill>
          <a:blip r:embed="rId16"/>
          <a:srcRect l="2344" t="43057" r="91408" b="48614"/>
          <a:stretch/>
        </p:blipFill>
        <p:spPr>
          <a:xfrm>
            <a:off x="299880" y="3110040"/>
            <a:ext cx="397080" cy="3967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20" descr="2.1.1.2.png"/>
          <p:cNvPicPr/>
          <p:nvPr/>
        </p:nvPicPr>
        <p:blipFill>
          <a:blip r:embed="rId17"/>
          <a:srcRect l="14063" t="29169" r="80470" b="61113"/>
          <a:stretch/>
        </p:blipFill>
        <p:spPr>
          <a:xfrm>
            <a:off x="1324080" y="239868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1" descr="2.1.1.2.png"/>
          <p:cNvPicPr/>
          <p:nvPr/>
        </p:nvPicPr>
        <p:blipFill>
          <a:blip r:embed="rId18"/>
          <a:srcRect l="25781" t="34722" r="68751" b="54167"/>
          <a:stretch/>
        </p:blipFill>
        <p:spPr>
          <a:xfrm>
            <a:off x="2455920" y="2787480"/>
            <a:ext cx="342720" cy="3416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2" descr="2.1.1.2.png"/>
          <p:cNvPicPr/>
          <p:nvPr/>
        </p:nvPicPr>
        <p:blipFill>
          <a:blip r:embed="rId19"/>
          <a:srcRect l="61722" t="37504" r="32812" b="54167"/>
          <a:stretch/>
        </p:blipFill>
        <p:spPr>
          <a:xfrm>
            <a:off x="5722920" y="2633760"/>
            <a:ext cx="345960" cy="3459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3" descr="2.1.1.2.png"/>
          <p:cNvPicPr/>
          <p:nvPr/>
        </p:nvPicPr>
        <p:blipFill>
          <a:blip r:embed="rId20"/>
          <a:srcRect l="71878" t="27780" r="23437" b="63888"/>
          <a:stretch/>
        </p:blipFill>
        <p:spPr>
          <a:xfrm>
            <a:off x="6572160" y="207180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4" descr="2.1.1.2.png"/>
          <p:cNvPicPr/>
          <p:nvPr/>
        </p:nvPicPr>
        <p:blipFill>
          <a:blip r:embed="rId21"/>
          <a:srcRect l="82035" t="31947" r="13280" b="61110"/>
          <a:stretch/>
        </p:blipFill>
        <p:spPr>
          <a:xfrm>
            <a:off x="7512120" y="2503440"/>
            <a:ext cx="396720" cy="39708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2387520" y="2259000"/>
            <a:ext cx="4229280" cy="3643200"/>
            <a:chOff x="2387520" y="2259000"/>
            <a:chExt cx="4229280" cy="3643200"/>
          </a:xfrm>
        </p:grpSpPr>
        <p:pic>
          <p:nvPicPr>
            <p:cNvPr id="92" name="Picture 2" descr="D:\Backup\我的文档\My Pictures\1791507_123936051_2.jpg"/>
            <p:cNvPicPr/>
            <p:nvPr/>
          </p:nvPicPr>
          <p:blipFill>
            <a:blip r:embed="rId22"/>
            <a:stretch/>
          </p:blipFill>
          <p:spPr>
            <a:xfrm>
              <a:off x="2700360" y="2688120"/>
              <a:ext cx="3584880" cy="30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图片 8" descr="2.1.1.5.png"/>
            <p:cNvPicPr/>
            <p:nvPr/>
          </p:nvPicPr>
          <p:blipFill>
            <a:blip r:embed="rId23"/>
            <a:srcRect l="24220" t="22223" r="25001" b="0"/>
            <a:stretch/>
          </p:blipFill>
          <p:spPr>
            <a:xfrm>
              <a:off x="2387520" y="2259000"/>
              <a:ext cx="4229280" cy="364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TextBox 67" descr=""/>
          <p:cNvPicPr/>
          <p:nvPr/>
        </p:nvPicPr>
        <p:blipFill>
          <a:blip r:embed="rId24"/>
          <a:stretch/>
        </p:blipFill>
        <p:spPr>
          <a:xfrm>
            <a:off x="2925720" y="1500120"/>
            <a:ext cx="3432240" cy="1084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4360" y="77796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5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1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44958E-006 C -0.00955 0.01203 -0.01893 0.02429 -0.01841 0.04094 C -0.01789 0.05759 0.00538 0.07655 0.00312 0.10037 C 0.00086 0.1242 -0.02796 0.15588 -0.0323 0.18432 C -0.03664 0.21277 -0.02066 0.24561 -0.02257 0.27082 C -0.02448 0.29603 -0.03959 0.32262 -0.0441 0.33627 E">
                                      <p:cBhvr>
                                        <p:cTn id="163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61111E-006 -1.06383E-006 C 0.00191 0.01249 0.00555 0.04232 0.01111 0.07539 C 0.01666 0.10847 0.03645 0.15773 0.03385 0.19866 C 0.03125 0.23959 0.01406 0.28053 -0.00469 0.32169 E">
                                      <p:cBhvr>
                                        <p:cTn id="165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3.88889E-006 -1.14709E-006 C 0.01042 0.02475 0.02101 0.04949 0.01997 0.07378 C 0.01893 0.09806 -0.00972 0.11448 -0.00607 0.14547 C -0.00243 0.17646 0.03125 0.22317 0.04167 0.26041 C 0.05209 0.29764 0.0533 0.34621 0.05625 0.36864 E">
                                      <p:cBhvr>
                                        <p:cTn id="167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66667E-006 -6.6605E-007 C -0.00521 0.01411 -0.02916 0.05805 -0.0309 0.08511 C -0.03264 0.11217 -0.0118 0.13182 -0.01094 0.16281 C -0.01007 0.1938 -0.02986 0.23427 -0.02621 0.27058 C -0.02257 0.30689 0.00295 0.35731 0.01059 0.3802 E">
                                      <p:cBhvr>
                                        <p:cTn id="169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8.33333E-007 2.97872E-006 C -0.00434 0.01526 -0.02899 0.05666 -0.02639 0.09204 C -0.02379 0.12743 0.01649 0.17622 0.01528 0.21299 C 0.01406 0.24977 -0.02448 0.27891 -0.03403 0.31336 C -0.04358 0.34782 -0.0401 0.39778 -0.04167 0.41998 E">
                                      <p:cBhvr>
                                        <p:cTn id="171" dur="5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5E-006 8.51064E-007 C -0.0073 0.02313 -0.01442 0.04648 -0.01077 0.06961 C -0.00713 0.09274 0.01719 0.11286 0.02153 0.13945 C 0.02587 0.16605 0.02066 0.19773 0.01545 0.22965 E">
                                      <p:cBhvr>
                                        <p:cTn id="173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1D73-C975-4F66-B1BD-B4857D228F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43" descr="1.1.1.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64" descr="1.1.1.3.png"/>
          <p:cNvPicPr/>
          <p:nvPr/>
        </p:nvPicPr>
        <p:blipFill>
          <a:blip r:embed="rId2"/>
          <a:srcRect l="0" t="43057" r="0" b="0"/>
          <a:stretch/>
        </p:blipFill>
        <p:spPr>
          <a:xfrm>
            <a:off x="0" y="30718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65" descr="1.1.1.3.png"/>
          <p:cNvPicPr/>
          <p:nvPr/>
        </p:nvPicPr>
        <p:blipFill>
          <a:blip r:embed="rId3"/>
          <a:srcRect l="0" t="0" r="79689" b="76391"/>
          <a:stretch/>
        </p:blipFill>
        <p:spPr>
          <a:xfrm>
            <a:off x="0" y="857160"/>
            <a:ext cx="1857240" cy="12146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55" descr="1.1.1.7.png"/>
          <p:cNvPicPr/>
          <p:nvPr/>
        </p:nvPicPr>
        <p:blipFill>
          <a:blip r:embed="rId4"/>
          <a:srcRect l="90628" t="0" r="-2" b="54167"/>
          <a:stretch/>
        </p:blipFill>
        <p:spPr>
          <a:xfrm>
            <a:off x="8286840" y="857160"/>
            <a:ext cx="857160" cy="235764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56" descr="1.1.1.7.png"/>
          <p:cNvPicPr/>
          <p:nvPr/>
        </p:nvPicPr>
        <p:blipFill>
          <a:blip r:embed="rId5"/>
          <a:srcRect l="0" t="0" r="89064" b="43057"/>
          <a:stretch/>
        </p:blipFill>
        <p:spPr>
          <a:xfrm>
            <a:off x="0" y="857160"/>
            <a:ext cx="1000080" cy="292896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57" descr="1.1.1.7.png"/>
          <p:cNvPicPr/>
          <p:nvPr/>
        </p:nvPicPr>
        <p:blipFill>
          <a:blip r:embed="rId6"/>
          <a:srcRect l="11719" t="0" r="78907" b="59724"/>
          <a:stretch/>
        </p:blipFill>
        <p:spPr>
          <a:xfrm>
            <a:off x="1071720" y="857160"/>
            <a:ext cx="857160" cy="20718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58" descr="1.1.1.7.png"/>
          <p:cNvPicPr/>
          <p:nvPr/>
        </p:nvPicPr>
        <p:blipFill>
          <a:blip r:embed="rId7"/>
          <a:srcRect l="25000" t="0" r="65627" b="52781"/>
          <a:stretch/>
        </p:blipFill>
        <p:spPr>
          <a:xfrm>
            <a:off x="2286000" y="857160"/>
            <a:ext cx="857160" cy="242892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59" descr="1.1.1.7.png"/>
          <p:cNvPicPr/>
          <p:nvPr/>
        </p:nvPicPr>
        <p:blipFill>
          <a:blip r:embed="rId8"/>
          <a:srcRect l="36719" t="0" r="53128" b="62502"/>
          <a:stretch/>
        </p:blipFill>
        <p:spPr>
          <a:xfrm>
            <a:off x="3357720" y="857160"/>
            <a:ext cx="928440" cy="192888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60" descr="1.1.1.7.png"/>
          <p:cNvPicPr/>
          <p:nvPr/>
        </p:nvPicPr>
        <p:blipFill>
          <a:blip r:embed="rId9"/>
          <a:srcRect l="49999" t="0" r="43751" b="59724"/>
          <a:stretch/>
        </p:blipFill>
        <p:spPr>
          <a:xfrm>
            <a:off x="4572000" y="857160"/>
            <a:ext cx="571680" cy="20718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61" descr="1.1.1.7.png"/>
          <p:cNvPicPr/>
          <p:nvPr/>
        </p:nvPicPr>
        <p:blipFill>
          <a:blip r:embed="rId10"/>
          <a:srcRect l="60939" t="0" r="30469" b="55557"/>
          <a:stretch/>
        </p:blipFill>
        <p:spPr>
          <a:xfrm>
            <a:off x="5572080" y="857160"/>
            <a:ext cx="78588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62" descr="1.1.1.7.png"/>
          <p:cNvPicPr/>
          <p:nvPr/>
        </p:nvPicPr>
        <p:blipFill>
          <a:blip r:embed="rId11"/>
          <a:srcRect l="71095" t="0" r="22657" b="66670"/>
          <a:stretch/>
        </p:blipFill>
        <p:spPr>
          <a:xfrm>
            <a:off x="6500880" y="857160"/>
            <a:ext cx="57132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63" descr="1.1.1.7.png"/>
          <p:cNvPicPr/>
          <p:nvPr/>
        </p:nvPicPr>
        <p:blipFill>
          <a:blip r:embed="rId12"/>
          <a:srcRect l="79689" t="0" r="11717" b="56946"/>
          <a:stretch/>
        </p:blipFill>
        <p:spPr>
          <a:xfrm>
            <a:off x="7286760" y="857160"/>
            <a:ext cx="785520" cy="221472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44" descr="1.1.1.3.png"/>
          <p:cNvPicPr/>
          <p:nvPr/>
        </p:nvPicPr>
        <p:blipFill>
          <a:blip r:embed="rId13"/>
          <a:srcRect l="0" t="43057" r="0" b="0"/>
          <a:stretch/>
        </p:blipFill>
        <p:spPr>
          <a:xfrm>
            <a:off x="0" y="30700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2" descr="1.1.1.6.png"/>
          <p:cNvPicPr/>
          <p:nvPr/>
        </p:nvPicPr>
        <p:blipFill>
          <a:blip r:embed="rId14"/>
          <a:srcRect l="67188" t="52781" r="0" b="0"/>
          <a:stretch/>
        </p:blipFill>
        <p:spPr>
          <a:xfrm>
            <a:off x="6143760" y="3571920"/>
            <a:ext cx="3000240" cy="2428920"/>
          </a:xfrm>
          <a:prstGeom prst="rect">
            <a:avLst/>
          </a:prstGeom>
          <a:ln w="0">
            <a:noFill/>
          </a:ln>
        </p:spPr>
      </p:pic>
      <p:pic>
        <p:nvPicPr>
          <p:cNvPr id="113" name="锐得PPT" descr="2.1.1.2.png"/>
          <p:cNvPicPr/>
          <p:nvPr/>
        </p:nvPicPr>
        <p:blipFill>
          <a:blip r:embed="rId15"/>
          <a:srcRect l="92193" t="33336" r="-4" b="52778"/>
          <a:stretch/>
        </p:blipFill>
        <p:spPr>
          <a:xfrm>
            <a:off x="8474040" y="26384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9" descr="2.1.1.2.png"/>
          <p:cNvPicPr/>
          <p:nvPr/>
        </p:nvPicPr>
        <p:blipFill>
          <a:blip r:embed="rId16"/>
          <a:srcRect l="2344" t="43057" r="91408" b="48614"/>
          <a:stretch/>
        </p:blipFill>
        <p:spPr>
          <a:xfrm>
            <a:off x="299880" y="3110040"/>
            <a:ext cx="397080" cy="39672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20" descr="2.1.1.2.png"/>
          <p:cNvPicPr/>
          <p:nvPr/>
        </p:nvPicPr>
        <p:blipFill>
          <a:blip r:embed="rId17"/>
          <a:srcRect l="14063" t="29169" r="80470" b="61113"/>
          <a:stretch/>
        </p:blipFill>
        <p:spPr>
          <a:xfrm>
            <a:off x="1324080" y="239868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21" descr="2.1.1.2.png"/>
          <p:cNvPicPr/>
          <p:nvPr/>
        </p:nvPicPr>
        <p:blipFill>
          <a:blip r:embed="rId18"/>
          <a:srcRect l="25781" t="34722" r="68751" b="54167"/>
          <a:stretch/>
        </p:blipFill>
        <p:spPr>
          <a:xfrm>
            <a:off x="2455920" y="2787480"/>
            <a:ext cx="342720" cy="34164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22" descr="2.1.1.2.png"/>
          <p:cNvPicPr/>
          <p:nvPr/>
        </p:nvPicPr>
        <p:blipFill>
          <a:blip r:embed="rId19"/>
          <a:srcRect l="61722" t="37504" r="32812" b="54167"/>
          <a:stretch/>
        </p:blipFill>
        <p:spPr>
          <a:xfrm>
            <a:off x="5722920" y="2633760"/>
            <a:ext cx="345960" cy="3459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23" descr="2.1.1.2.png"/>
          <p:cNvPicPr/>
          <p:nvPr/>
        </p:nvPicPr>
        <p:blipFill>
          <a:blip r:embed="rId20"/>
          <a:srcRect l="71878" t="27780" r="23437" b="63888"/>
          <a:stretch/>
        </p:blipFill>
        <p:spPr>
          <a:xfrm>
            <a:off x="6572160" y="207180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24" descr="2.1.1.2.png"/>
          <p:cNvPicPr/>
          <p:nvPr/>
        </p:nvPicPr>
        <p:blipFill>
          <a:blip r:embed="rId21"/>
          <a:srcRect l="82035" t="31947" r="13280" b="61110"/>
          <a:stretch/>
        </p:blipFill>
        <p:spPr>
          <a:xfrm>
            <a:off x="7512120" y="2503440"/>
            <a:ext cx="396720" cy="39708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28" descr="2.1.1.2.png"/>
          <p:cNvPicPr/>
          <p:nvPr/>
        </p:nvPicPr>
        <p:blipFill>
          <a:blip r:embed="rId22"/>
          <a:srcRect l="92193" t="33336" r="-4" b="52778"/>
          <a:stretch/>
        </p:blipFill>
        <p:spPr>
          <a:xfrm>
            <a:off x="8523360" y="259236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29" descr="2.1.1.2.png"/>
          <p:cNvPicPr/>
          <p:nvPr/>
        </p:nvPicPr>
        <p:blipFill>
          <a:blip r:embed="rId23"/>
          <a:srcRect l="2344" t="43057" r="91408" b="48614"/>
          <a:stretch/>
        </p:blipFill>
        <p:spPr>
          <a:xfrm>
            <a:off x="301680" y="3078000"/>
            <a:ext cx="396720" cy="3970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30" descr="2.1.1.2.png"/>
          <p:cNvPicPr/>
          <p:nvPr/>
        </p:nvPicPr>
        <p:blipFill>
          <a:blip r:embed="rId24"/>
          <a:srcRect l="14063" t="29169" r="80470" b="61113"/>
          <a:stretch/>
        </p:blipFill>
        <p:spPr>
          <a:xfrm>
            <a:off x="1347840" y="23716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31" descr="2.1.1.2.png"/>
          <p:cNvPicPr/>
          <p:nvPr/>
        </p:nvPicPr>
        <p:blipFill>
          <a:blip r:embed="rId25"/>
          <a:srcRect l="25781" t="34722" r="68751" b="54167"/>
          <a:stretch/>
        </p:blipFill>
        <p:spPr>
          <a:xfrm>
            <a:off x="2468520" y="2754360"/>
            <a:ext cx="341280" cy="34128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32" descr="2.1.1.2.png"/>
          <p:cNvPicPr/>
          <p:nvPr/>
        </p:nvPicPr>
        <p:blipFill>
          <a:blip r:embed="rId26"/>
          <a:srcRect l="61722" t="37504" r="32812" b="54167"/>
          <a:stretch/>
        </p:blipFill>
        <p:spPr>
          <a:xfrm>
            <a:off x="5729400" y="2637000"/>
            <a:ext cx="344520" cy="3441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3" descr="2.1.1.2.png"/>
          <p:cNvPicPr/>
          <p:nvPr/>
        </p:nvPicPr>
        <p:blipFill>
          <a:blip r:embed="rId27"/>
          <a:srcRect l="82035" t="31947" r="13280" b="61110"/>
          <a:stretch/>
        </p:blipFill>
        <p:spPr>
          <a:xfrm>
            <a:off x="7521480" y="2492280"/>
            <a:ext cx="395280" cy="397080"/>
          </a:xfrm>
          <a:prstGeom prst="rect">
            <a:avLst/>
          </a:prstGeom>
          <a:ln w="0">
            <a:noFill/>
          </a:ln>
        </p:spPr>
      </p:pic>
      <p:sp>
        <p:nvSpPr>
          <p:cNvPr id="126" name="矩形 34"/>
          <p:cNvSpPr/>
          <p:nvPr/>
        </p:nvSpPr>
        <p:spPr>
          <a:xfrm>
            <a:off x="331920" y="6165720"/>
            <a:ext cx="47656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网，情人节幻灯片模板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1ppt.com/jieri/qingrenji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44958E-006 C -0.00955 0.01203 -0.01893 0.02429 -0.01841 0.04094 C -0.01789 0.05759 0.00538 0.07655 0.00312 0.10037 C 0.00086 0.1242 -0.02796 0.15588 -0.0323 0.18432 C -0.03664 0.21277 -0.02066 0.24561 -0.02257 0.27082 C -0.02448 0.29603 -0.03959 0.32262 -0.0441 0.33627 E">
                                      <p:cBhvr>
                                        <p:cTn id="206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61111E-006 -1.06383E-006 C 0.00191 0.01249 0.00555 0.04232 0.01111 0.07539 C 0.01666 0.10847 0.03645 0.15773 0.03385 0.19866 C 0.03125 0.23959 0.01406 0.28053 -0.00469 0.32169 E">
                                      <p:cBhvr>
                                        <p:cTn id="208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3.88889E-006 -1.14709E-006 C 0.01042 0.02475 0.02101 0.04949 0.01997 0.07378 C 0.01893 0.09806 -0.00972 0.11448 -0.00607 0.14547 C -0.00243 0.17646 0.03125 0.22317 0.04167 0.26041 C 0.05209 0.29764 0.0533 0.34621 0.05625 0.36864 E">
                                      <p:cBhvr>
                                        <p:cTn id="210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66667E-006 -6.6605E-007 C -0.00521 0.01411 -0.02916 0.05805 -0.0309 0.08511 C -0.03264 0.11217 -0.0118 0.13182 -0.01094 0.16281 C -0.01007 0.1938 -0.02986 0.23427 -0.02621 0.27058 C -0.02257 0.30689 0.00295 0.35731 0.01059 0.3802 E">
                                      <p:cBhvr>
                                        <p:cTn id="212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8.33333E-007 2.97872E-006 C -0.00434 0.01526 -0.02899 0.05666 -0.02639 0.09204 C -0.02379 0.12743 0.01649 0.17622 0.01528 0.21299 C 0.01406 0.24977 -0.02448 0.27891 -0.03403 0.31336 C -0.04358 0.34782 -0.0401 0.39778 -0.04167 0.41998 E">
                                      <p:cBhvr>
                                        <p:cTn id="214" dur="5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5E-006 8.51064E-007 C -0.0073 0.02313 -0.01442 0.04648 -0.01077 0.06961 C -0.00713 0.09274 0.01719 0.11286 0.02153 0.13945 C 0.02587 0.16605 0.02066 0.19773 0.01545 0.22965 E">
                                      <p:cBhvr>
                                        <p:cTn id="21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2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2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5T18:32:37Z</dcterms:created>
  <dc:creator>An</dc:creator>
  <dc:description/>
  <cp:keywords>幻灯片之家 http:/www.eeppt.com</cp:keywords>
  <dc:language>en-US</dc:language>
  <cp:lastModifiedBy/>
  <dcterms:modified xsi:type="dcterms:W3CDTF">2015-07-15T15:55:25Z</dcterms:modified>
  <cp:revision>6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