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4C7-8820-4B9A-B223-1880D69D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FA8-2655-4554-99B9-D729AF85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5CD-7E29-4E71-9B78-16E259E0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5A1-00A9-44A4-8899-CA637DC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81B-49CB-4500-A88A-7C6894AB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3D2-6DA7-4F12-80C3-74DAF831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4A0-04B7-403F-902C-96458D3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A9A-417D-4657-B6CD-1EFD185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6D3-C1C5-40E6-946B-7553AAC6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61E-4686-4E5C-A51C-81DA6DF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180-EB27-42FC-BE5B-35D1252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EC6-3C06-4A05-A4E6-2E71FD9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B9C-25CF-49FC-AC7E-D4282F7EC6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3"/>
          <p:cNvSpPr/>
          <p:nvPr/>
        </p:nvSpPr>
        <p:spPr>
          <a:xfrm>
            <a:off x="4824360" y="3778200"/>
            <a:ext cx="2160720" cy="216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4"/>
          <p:cNvSpPr/>
          <p:nvPr/>
        </p:nvSpPr>
        <p:spPr>
          <a:xfrm>
            <a:off x="4032360" y="3346560"/>
            <a:ext cx="1512720" cy="1512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5"/>
          <p:cNvSpPr/>
          <p:nvPr/>
        </p:nvSpPr>
        <p:spPr>
          <a:xfrm>
            <a:off x="6877080" y="1414440"/>
            <a:ext cx="1722240" cy="59040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激趣引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9"/>
          <p:cNvSpPr/>
          <p:nvPr/>
        </p:nvSpPr>
        <p:spPr>
          <a:xfrm>
            <a:off x="6877080" y="2349360"/>
            <a:ext cx="1722240" cy="59076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探究新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0"/>
          <p:cNvSpPr/>
          <p:nvPr/>
        </p:nvSpPr>
        <p:spPr>
          <a:xfrm>
            <a:off x="6877080" y="3343320"/>
            <a:ext cx="1722240" cy="590400"/>
          </a:xfrm>
          <a:prstGeom prst="ellipse">
            <a:avLst/>
          </a:prstGeom>
          <a:gradFill rotWithShape="0">
            <a:gsLst>
              <a:gs pos="0">
                <a:srgbClr val="4d9a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践应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240" y="1773360"/>
            <a:ext cx="23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认识圆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0"/>
          <p:cNvGrpSpPr/>
          <p:nvPr/>
        </p:nvGrpSpPr>
        <p:grpSpPr>
          <a:xfrm>
            <a:off x="2627280" y="1341360"/>
            <a:ext cx="3457440" cy="3456000"/>
            <a:chOff x="2627280" y="1341360"/>
            <a:chExt cx="3457440" cy="3456000"/>
          </a:xfrm>
        </p:grpSpPr>
        <p:grpSp>
          <p:nvGrpSpPr>
            <p:cNvPr id="180" name="Group 48"/>
            <p:cNvGrpSpPr/>
            <p:nvPr/>
          </p:nvGrpSpPr>
          <p:grpSpPr>
            <a:xfrm>
              <a:off x="2627280" y="1341360"/>
              <a:ext cx="2305080" cy="3456000"/>
              <a:chOff x="2627280" y="1341360"/>
              <a:chExt cx="2305080" cy="3456000"/>
            </a:xfrm>
          </p:grpSpPr>
          <p:grpSp>
            <p:nvGrpSpPr>
              <p:cNvPr id="181" name="Group 46"/>
              <p:cNvGrpSpPr/>
              <p:nvPr/>
            </p:nvGrpSpPr>
            <p:grpSpPr>
              <a:xfrm>
                <a:off x="2627280" y="1341360"/>
                <a:ext cx="2305080" cy="3456000"/>
                <a:chOff x="2627280" y="1341360"/>
                <a:chExt cx="2305080" cy="3456000"/>
              </a:xfrm>
            </p:grpSpPr>
            <p:grpSp>
              <p:nvGrpSpPr>
                <p:cNvPr id="182" name="Group 44"/>
                <p:cNvGrpSpPr/>
                <p:nvPr/>
              </p:nvGrpSpPr>
              <p:grpSpPr>
                <a:xfrm>
                  <a:off x="2627280" y="1341360"/>
                  <a:ext cx="2305080" cy="3456000"/>
                  <a:chOff x="2627280" y="1341360"/>
                  <a:chExt cx="2305080" cy="3456000"/>
                </a:xfrm>
              </p:grpSpPr>
              <p:sp>
                <p:nvSpPr>
                  <p:cNvPr id="183" name="Line 35"/>
                  <p:cNvSpPr/>
                  <p:nvPr/>
                </p:nvSpPr>
                <p:spPr>
                  <a:xfrm flipH="1" flipV="1">
                    <a:off x="2832480" y="2153160"/>
                    <a:ext cx="1528920" cy="949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4" name="Group 42"/>
                  <p:cNvGrpSpPr/>
                  <p:nvPr/>
                </p:nvGrpSpPr>
                <p:grpSpPr>
                  <a:xfrm>
                    <a:off x="2627280" y="1341360"/>
                    <a:ext cx="1728720" cy="2879640"/>
                    <a:chOff x="2627280" y="1341360"/>
                    <a:chExt cx="1728720" cy="2879640"/>
                  </a:xfrm>
                </p:grpSpPr>
                <p:grpSp>
                  <p:nvGrpSpPr>
                    <p:cNvPr id="185" name="Group 40"/>
                    <p:cNvGrpSpPr/>
                    <p:nvPr/>
                  </p:nvGrpSpPr>
                  <p:grpSpPr>
                    <a:xfrm>
                      <a:off x="2627280" y="1341360"/>
                      <a:ext cx="1728720" cy="1727280"/>
                      <a:chOff x="2627280" y="1341360"/>
                      <a:chExt cx="1728720" cy="1727280"/>
                    </a:xfrm>
                  </p:grpSpPr>
                  <p:sp>
                    <p:nvSpPr>
                      <p:cNvPr id="186" name="Line 38"/>
                      <p:cNvSpPr/>
                      <p:nvPr/>
                    </p:nvSpPr>
                    <p:spPr>
                      <a:xfrm flipH="1" flipV="1">
                        <a:off x="3779280" y="1341360"/>
                        <a:ext cx="576360" cy="17272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9"/>
                      <p:cNvSpPr/>
                      <p:nvPr/>
                    </p:nvSpPr>
                    <p:spPr>
                      <a:xfrm flipH="1" flipV="1">
                        <a:off x="2627280" y="2565360"/>
                        <a:ext cx="1728720" cy="5032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8" name="Line 41"/>
                    <p:cNvSpPr/>
                    <p:nvPr/>
                  </p:nvSpPr>
                  <p:spPr>
                    <a:xfrm flipH="1">
                      <a:off x="2987280" y="3068640"/>
                      <a:ext cx="1368360" cy="11523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Line 43"/>
                  <p:cNvSpPr/>
                  <p:nvPr/>
                </p:nvSpPr>
                <p:spPr>
                  <a:xfrm>
                    <a:off x="4356000" y="3068640"/>
                    <a:ext cx="576360" cy="17287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Line 45"/>
                <p:cNvSpPr/>
                <p:nvPr/>
              </p:nvSpPr>
              <p:spPr>
                <a:xfrm flipV="1">
                  <a:off x="4356000" y="1341360"/>
                  <a:ext cx="576360" cy="172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47"/>
              <p:cNvSpPr/>
              <p:nvPr/>
            </p:nvSpPr>
            <p:spPr>
              <a:xfrm flipH="1">
                <a:off x="3851280" y="3068640"/>
                <a:ext cx="504720" cy="172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Line 49"/>
            <p:cNvSpPr/>
            <p:nvPr/>
          </p:nvSpPr>
          <p:spPr>
            <a:xfrm>
              <a:off x="4356000" y="3068640"/>
              <a:ext cx="172872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33"/>
          <p:cNvSpPr/>
          <p:nvPr/>
        </p:nvSpPr>
        <p:spPr>
          <a:xfrm flipV="1">
            <a:off x="4385520" y="1855440"/>
            <a:ext cx="1307520" cy="12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4356000" y="3068640"/>
            <a:ext cx="158436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4356000" y="2420640"/>
            <a:ext cx="165600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4356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435600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255600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270000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 flipH="1">
            <a:off x="3348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3276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435600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想一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V="1">
            <a:off x="4356000" y="2420640"/>
            <a:ext cx="165600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435600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255600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270000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H="1">
            <a:off x="3348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H="1" flipV="1">
            <a:off x="3276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>
            <a:off x="435600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5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2"/>
          <p:cNvGrpSpPr/>
          <p:nvPr/>
        </p:nvGrpSpPr>
        <p:grpSpPr>
          <a:xfrm>
            <a:off x="755640" y="5300640"/>
            <a:ext cx="6788160" cy="1033560"/>
            <a:chOff x="755640" y="5300640"/>
            <a:chExt cx="6788160" cy="1033560"/>
          </a:xfrm>
        </p:grpSpPr>
        <p:sp>
          <p:nvSpPr>
            <p:cNvPr id="214" name="WordArt 28"/>
            <p:cNvSpPr txBox="1"/>
            <p:nvPr/>
          </p:nvSpPr>
          <p:spPr>
            <a:xfrm>
              <a:off x="755640" y="5300640"/>
              <a:ext cx="466560" cy="96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7600"/>
                      </a:gs>
                      <a:gs pos="50000">
                        <a:srgbClr val="ffff00"/>
                      </a:gs>
                      <a:gs pos="100000">
                        <a:srgbClr val="767600"/>
                      </a:gs>
                    </a:gsLst>
                    <a:lin ang="5400000"/>
                  </a:gradFill>
                  <a:latin typeface="华文新魏"/>
                </a:rPr>
                <a:t>？</a:t>
              </a: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华文新魏"/>
                <a:ea typeface="华文新魏"/>
              </a:endParaRPr>
            </a:p>
          </p:txBody>
        </p:sp>
        <p:sp>
          <p:nvSpPr>
            <p:cNvPr id="215" name="WordArt 30"/>
            <p:cNvSpPr txBox="1"/>
            <p:nvPr/>
          </p:nvSpPr>
          <p:spPr>
            <a:xfrm>
              <a:off x="1476360" y="5300640"/>
              <a:ext cx="6067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6000"/>
                      </a:srgbClr>
                    </a:outerShdw>
                  </a:effectLst>
                  <a:latin typeface="华文新魏"/>
                </a:rPr>
                <a:t>在同一个圆里有多少条半径？</a:t>
              </a:r>
              <a:endParaRPr b="1" i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216" name="WordArt 31"/>
            <p:cNvSpPr txBox="1"/>
            <p:nvPr/>
          </p:nvSpPr>
          <p:spPr>
            <a:xfrm>
              <a:off x="1403280" y="5877000"/>
              <a:ext cx="5473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6000"/>
                      </a:srgbClr>
                    </a:outerShdw>
                  </a:effectLst>
                  <a:latin typeface="华文新魏"/>
                </a:rPr>
                <a:t>所有的半径都相等吗？</a:t>
              </a:r>
              <a:endParaRPr b="1" i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217" name="WordArt 26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8" name="Text Box 51"/>
          <p:cNvSpPr/>
          <p:nvPr/>
        </p:nvSpPr>
        <p:spPr>
          <a:xfrm rot="18316800">
            <a:off x="47296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 rot="18291600">
            <a:off x="5232960" y="17852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3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想一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7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2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6" name="Text Box 43"/>
          <p:cNvSpPr/>
          <p:nvPr/>
        </p:nvSpPr>
        <p:spPr>
          <a:xfrm rot="18316800">
            <a:off x="47440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4"/>
          <p:cNvSpPr/>
          <p:nvPr/>
        </p:nvSpPr>
        <p:spPr>
          <a:xfrm rot="18291600">
            <a:off x="5177160" y="17852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5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6"/>
          <p:cNvSpPr/>
          <p:nvPr/>
        </p:nvSpPr>
        <p:spPr>
          <a:xfrm>
            <a:off x="468360" y="5516640"/>
            <a:ext cx="828036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圆心并且两端都在圆上的线段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7"/>
          <p:cNvSpPr/>
          <p:nvPr/>
        </p:nvSpPr>
        <p:spPr>
          <a:xfrm>
            <a:off x="2556000" y="3068640"/>
            <a:ext cx="36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3578760" y="306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 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9"/>
          <p:cNvSpPr/>
          <p:nvPr/>
        </p:nvSpPr>
        <p:spPr>
          <a:xfrm>
            <a:off x="4501080" y="30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3"/>
          <p:cNvSpPr/>
          <p:nvPr/>
        </p:nvSpPr>
        <p:spPr>
          <a:xfrm>
            <a:off x="468360" y="5589720"/>
            <a:ext cx="1727280" cy="647640"/>
          </a:xfrm>
          <a:prstGeom prst="ellipse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4"/>
          <p:cNvSpPr/>
          <p:nvPr/>
        </p:nvSpPr>
        <p:spPr>
          <a:xfrm>
            <a:off x="2916360" y="5589720"/>
            <a:ext cx="2592360" cy="647640"/>
          </a:xfrm>
          <a:prstGeom prst="ellipse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2700360" y="2421000"/>
            <a:ext cx="331164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 flipH="1">
            <a:off x="4211640" y="1268280"/>
            <a:ext cx="21600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 flipH="1">
            <a:off x="2771640" y="2276640"/>
            <a:ext cx="3168720" cy="15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5"/>
          <p:cNvSpPr/>
          <p:nvPr/>
        </p:nvSpPr>
        <p:spPr>
          <a:xfrm>
            <a:off x="3348000" y="1557360"/>
            <a:ext cx="201600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想一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7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8"/>
          <p:cNvGrpSpPr/>
          <p:nvPr/>
        </p:nvGrpSpPr>
        <p:grpSpPr>
          <a:xfrm>
            <a:off x="755640" y="5300640"/>
            <a:ext cx="6788160" cy="1033560"/>
            <a:chOff x="755640" y="5300640"/>
            <a:chExt cx="6788160" cy="1033560"/>
          </a:xfrm>
        </p:grpSpPr>
        <p:sp>
          <p:nvSpPr>
            <p:cNvPr id="245" name="WordArt 39"/>
            <p:cNvSpPr txBox="1"/>
            <p:nvPr/>
          </p:nvSpPr>
          <p:spPr>
            <a:xfrm>
              <a:off x="755640" y="5300640"/>
              <a:ext cx="466560" cy="96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7600"/>
                      </a:gs>
                      <a:gs pos="50000">
                        <a:srgbClr val="ffff00"/>
                      </a:gs>
                      <a:gs pos="100000">
                        <a:srgbClr val="767600"/>
                      </a:gs>
                    </a:gsLst>
                    <a:lin ang="5400000"/>
                  </a:gradFill>
                  <a:latin typeface="华文新魏"/>
                </a:rPr>
                <a:t>？</a:t>
              </a:r>
              <a:endParaRPr b="1" lang="en-US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华文新魏"/>
                <a:ea typeface="华文新魏"/>
              </a:endParaRPr>
            </a:p>
          </p:txBody>
        </p:sp>
        <p:sp>
          <p:nvSpPr>
            <p:cNvPr id="246" name="WordArt 40"/>
            <p:cNvSpPr txBox="1"/>
            <p:nvPr/>
          </p:nvSpPr>
          <p:spPr>
            <a:xfrm>
              <a:off x="1476360" y="5300640"/>
              <a:ext cx="6067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6000"/>
                      </a:srgbClr>
                    </a:outerShdw>
                  </a:effectLst>
                  <a:latin typeface="华文新魏"/>
                </a:rPr>
                <a:t>在同一个圆里有多少条直径？</a:t>
              </a:r>
              <a:endParaRPr b="1" i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247" name="WordArt 41"/>
            <p:cNvSpPr txBox="1"/>
            <p:nvPr/>
          </p:nvSpPr>
          <p:spPr>
            <a:xfrm>
              <a:off x="1403280" y="5877000"/>
              <a:ext cx="5473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76000"/>
                      </a:srgbClr>
                    </a:outerShdw>
                  </a:effectLst>
                  <a:latin typeface="华文新魏"/>
                </a:rPr>
                <a:t>所有的直径都相等吗？</a:t>
              </a:r>
              <a:endParaRPr b="1" i="1" lang="en-US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248" name="WordArt 42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9" name="Text Box 43"/>
          <p:cNvSpPr/>
          <p:nvPr/>
        </p:nvSpPr>
        <p:spPr>
          <a:xfrm rot="18316800">
            <a:off x="47296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4"/>
          <p:cNvSpPr/>
          <p:nvPr/>
        </p:nvSpPr>
        <p:spPr>
          <a:xfrm rot="18291600">
            <a:off x="5232960" y="17852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5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2556000" y="3068640"/>
            <a:ext cx="36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7"/>
          <p:cNvSpPr/>
          <p:nvPr/>
        </p:nvSpPr>
        <p:spPr>
          <a:xfrm>
            <a:off x="3578760" y="306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 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8"/>
          <p:cNvSpPr/>
          <p:nvPr/>
        </p:nvSpPr>
        <p:spPr>
          <a:xfrm>
            <a:off x="4501080" y="30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60040" y="981000"/>
            <a:ext cx="91224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新发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3780000" y="261144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60" name="Text Box 7"/>
          <p:cNvSpPr/>
          <p:nvPr/>
        </p:nvSpPr>
        <p:spPr>
          <a:xfrm rot="18316800">
            <a:off x="474408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 rot="18291600">
            <a:off x="5177160" y="17852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2556000" y="3068640"/>
            <a:ext cx="36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578760" y="306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 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4501080" y="30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1403280" y="5084640"/>
            <a:ext cx="6335640" cy="1224000"/>
          </a:xfrm>
          <a:prstGeom prst="cloudCallout">
            <a:avLst>
              <a:gd name="adj1" fmla="val -64935"/>
              <a:gd name="adj2" fmla="val 486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同一个圆里，直径的长度与半径有什么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6" descr=""/>
          <p:cNvPicPr/>
          <p:nvPr/>
        </p:nvPicPr>
        <p:blipFill>
          <a:blip r:embed="rId2"/>
          <a:stretch/>
        </p:blipFill>
        <p:spPr>
          <a:xfrm>
            <a:off x="96840" y="4869000"/>
            <a:ext cx="1306440" cy="1800000"/>
          </a:xfrm>
          <a:prstGeom prst="rect">
            <a:avLst/>
          </a:prstGeom>
          <a:ln w="0">
            <a:noFill/>
          </a:ln>
        </p:spPr>
      </p:pic>
      <p:sp>
        <p:nvSpPr>
          <p:cNvPr id="268" name="Line 18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2122560" y="5300640"/>
            <a:ext cx="1944720" cy="792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9"/>
          <p:cNvGrpSpPr/>
          <p:nvPr/>
        </p:nvGrpSpPr>
        <p:grpSpPr>
          <a:xfrm>
            <a:off x="4714920" y="5157720"/>
            <a:ext cx="1944720" cy="1010160"/>
            <a:chOff x="4714920" y="5157720"/>
            <a:chExt cx="1944720" cy="1010160"/>
          </a:xfrm>
        </p:grpSpPr>
        <p:sp>
          <p:nvSpPr>
            <p:cNvPr id="273" name="Rectangle 23"/>
            <p:cNvSpPr/>
            <p:nvPr/>
          </p:nvSpPr>
          <p:spPr>
            <a:xfrm>
              <a:off x="4714920" y="5300640"/>
              <a:ext cx="1944720" cy="793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8"/>
            <p:cNvGrpSpPr/>
            <p:nvPr/>
          </p:nvGrpSpPr>
          <p:grpSpPr>
            <a:xfrm>
              <a:off x="5867280" y="5157720"/>
              <a:ext cx="459000" cy="1010160"/>
              <a:chOff x="5867280" y="5157720"/>
              <a:chExt cx="459000" cy="1010160"/>
            </a:xfrm>
          </p:grpSpPr>
          <p:sp>
            <p:nvSpPr>
              <p:cNvPr id="275" name="Line 25"/>
              <p:cNvSpPr/>
              <p:nvPr/>
            </p:nvSpPr>
            <p:spPr>
              <a:xfrm>
                <a:off x="5938560" y="5662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6"/>
              <p:cNvSpPr/>
              <p:nvPr/>
            </p:nvSpPr>
            <p:spPr>
              <a:xfrm>
                <a:off x="5867280" y="5157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27"/>
              <p:cNvSpPr/>
              <p:nvPr/>
            </p:nvSpPr>
            <p:spPr>
              <a:xfrm>
                <a:off x="5919840" y="55864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 Box 30"/>
          <p:cNvSpPr/>
          <p:nvPr/>
        </p:nvSpPr>
        <p:spPr>
          <a:xfrm>
            <a:off x="4177080" y="5430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19688 -3.7037E-006 E">
                                      <p:cBhvr>
                                        <p:cTn id="63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444"/>
          <p:cNvPicPr/>
          <p:nvPr/>
        </p:nvPicPr>
        <p:blipFill>
          <a:blip r:embed="rId2"/>
          <a:stretch/>
        </p:blipFill>
        <p:spPr>
          <a:xfrm>
            <a:off x="200160" y="619200"/>
            <a:ext cx="8743680" cy="5905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"/>
          <p:cNvPicPr/>
          <p:nvPr/>
        </p:nvPicPr>
        <p:blipFill>
          <a:blip r:embed="rId3"/>
          <a:stretch/>
        </p:blipFill>
        <p:spPr>
          <a:xfrm>
            <a:off x="1208160" y="981000"/>
            <a:ext cx="3925800" cy="55101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500720" y="981000"/>
            <a:ext cx="43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什么车轮都要做成圆的？车轴要装在哪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6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6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450"/>
                            </p:stCondLst>
                            <p:childTnLst>
                              <p:par>
                                <p:cTn id="67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95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52" descr="TO076s"/>
          <p:cNvPicPr/>
          <p:nvPr/>
        </p:nvPicPr>
        <p:blipFill>
          <a:blip r:embed="rId2"/>
          <a:stretch/>
        </p:blipFill>
        <p:spPr>
          <a:xfrm rot="2325600">
            <a:off x="6516360" y="3652560"/>
            <a:ext cx="1620720" cy="2944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3" descr="TO008s"/>
          <p:cNvPicPr/>
          <p:nvPr/>
        </p:nvPicPr>
        <p:blipFill>
          <a:blip r:embed="rId3"/>
          <a:stretch/>
        </p:blipFill>
        <p:spPr>
          <a:xfrm>
            <a:off x="649440" y="1557360"/>
            <a:ext cx="2193840" cy="2513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54" descr="TO049s"/>
          <p:cNvPicPr/>
          <p:nvPr/>
        </p:nvPicPr>
        <p:blipFill>
          <a:blip r:embed="rId4"/>
          <a:stretch/>
        </p:blipFill>
        <p:spPr>
          <a:xfrm>
            <a:off x="2195640" y="3357720"/>
            <a:ext cx="1733400" cy="2944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55" descr="OT060s"/>
          <p:cNvPicPr/>
          <p:nvPr/>
        </p:nvPicPr>
        <p:blipFill>
          <a:blip r:embed="rId5"/>
          <a:stretch/>
        </p:blipFill>
        <p:spPr>
          <a:xfrm>
            <a:off x="5796000" y="1268280"/>
            <a:ext cx="1278000" cy="272916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56"/>
          <p:cNvSpPr/>
          <p:nvPr/>
        </p:nvSpPr>
        <p:spPr>
          <a:xfrm>
            <a:off x="3851280" y="1413000"/>
            <a:ext cx="1152360" cy="439236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9966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063 -0.03982 C -0.43299 0.04838 -0.40608 0.11643 -0.38264 0.11875 C -0.36059 0.12106 -0.34063 0.05879 -0.33594 -0.02639 C -0.33056 -0.11111 -0.34289 -0.1838 -0.36511 -0.18681 C -0.38907 -0.18889 -0.39966 -0.11551 -0.38803 -0.02871 C -0.37431 0.05694 -0.34792 0.12222 -0.32657 0.1243 C -0.30365 0.12639 -0.28247 0.06319 -0.27778 -0.02061 C -0.27292 -0.10556 -0.28664 -0.17894 -0.30955 -0.18079 C -0.33125 -0.18334 -0.34132 -0.10973 -0.33004 -0.02431 C -0.31875 0.0625 -0.29202 0.12777 -0.26997 0.12963 C -0.24497 0.1324 -0.22362 0.06898 -0.21806 -0.01598 C -0.21459 -0.09977 -0.22865 -0.17338 -0.25296 -0.17523 C -0.27292 -0.17778 -0.28299 -0.10394 -0.27344 -0.01875 C -0.26233 0.06643 -0.23386 0.13356 -0.21129 0.13564 C -0.18924 0.13796 -0.16771 0.07314 -0.16302 -0.01042 C -0.15816 -0.09699 -0.17223 -0.16713 -0.19427 -0.16991 C -0.21598 -0.17199 -0.22639 -0.09977 -0.21563 -0.01436 C -0.20417 0.07106 -0.17726 0.13865 -0.15487 0.1412 C -0.13143 0.14375 -0.11129 0.0787 -0.10712 -0.00625 C -0.10209 -0.09121 -0.11632 -0.16227 -0.1382 -0.16436 C -0.16025 -0.16644 -0.17049 -0.09422 -0.15921 -0.0088 C -0.1474 0.07662 -0.11841 0.1449 -0.09862 0.14699 C -0.07691 0.14907 -0.05521 0.0831 -0.05052 -0.0007 C -0.04584 -0.08588 -0.0599 -0.15648 -0.0816 -0.1588 C -0.10209 -0.16065 -0.11198 -0.08959 -0.10243 -0.00324 C -0.09115 0.08217 -0.06285 0.15046 -0.0408 0.15231 C -0.02032 0.15463 0.00277 0.08842 0.00746 0.00347 C 0.01163 -0.08172 -0.00157 -0.1507 -0.02379 -0.15301 C -0.04584 -0.1551 -0.05573 -0.08403 -0.04427 0.00115 C -0.03247 0.08657 -0.00695 0.1574 0.01527 0.1581 C 0.03732 0.15926 0.05711 0.09352 0.0618 0.00833 C 0.06632 -0.07616 0.05156 -0.14537 0.0302 -0.14769 C 0.01007 -0.14954 0.00034 -0.08125 0.01354 0.00416 E">
                                      <p:cBhvr>
                                        <p:cTn id="69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552 1.48148E-006 C 0.37084 -0.02523 0.36493 -0.04931 0.35278 -0.04931 C 0.33924 -0.04931 0.33472 -0.02523 0.33004 1.48148E-006 C 0.32413 0.02801 0.31979 0.05602 0.30469 0.05602 C 0.29097 0.05602 0.28663 0.02801 0.28073 1.48148E-006 C 0.27778 -0.02523 0.27188 -0.04931 0.25816 -0.04931 C 0.24618 -0.04931 0.24028 -0.02523 0.23542 1.48148E-006 C 0.23108 0.02801 0.22518 0.05602 0.21146 0.05602 C 0.19792 0.05602 0.18768 1.48147999999999E-006 0.18768 0.00023 C 0.18316 -0.02523 0.17847 -0.04931 0.16493 -0.04931 C 0.15157 -0.04931 0.14688 -0.02523 0.14236 1.48148E-006 C 0.13646 0.02801 0.13212 0.05602 0.11702 0.05602 C 0.1033 0.05602 0.09896 0.02801 0.09427 1.48148E-006 C 0.08837 -0.02523 0.08403 -0.04931 0.07032 -0.04931 C 0.05851 -0.04931 0.05261 -0.02523 0.04775 1.48148E-006 C 0.04341 0.02801 0.03733 0.05602 0.02361 0.05602 C 0.01025 0.05602 0.00591 0.02801 -2.5E-006 1.48148E-006 E">
                                      <p:cBhvr>
                                        <p:cTn id="70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500"/>
                            </p:stCondLst>
                            <p:childTnLst>
                              <p:par>
                                <p:cTn id="7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0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1"/>
          <p:cNvSpPr/>
          <p:nvPr/>
        </p:nvSpPr>
        <p:spPr>
          <a:xfrm>
            <a:off x="324000" y="1628640"/>
            <a:ext cx="3673440" cy="2305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826920" y="4005360"/>
            <a:ext cx="7813800" cy="2087640"/>
          </a:xfrm>
          <a:prstGeom prst="parallelogram">
            <a:avLst>
              <a:gd name="adj" fmla="val -91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4065480" y="5013360"/>
            <a:ext cx="7994520" cy="1471320"/>
            <a:chOff x="4065480" y="5013360"/>
            <a:chExt cx="7994520" cy="1471320"/>
          </a:xfrm>
        </p:grpSpPr>
        <p:grpSp>
          <p:nvGrpSpPr>
            <p:cNvPr id="291" name="Group 5"/>
            <p:cNvGrpSpPr/>
            <p:nvPr/>
          </p:nvGrpSpPr>
          <p:grpSpPr>
            <a:xfrm>
              <a:off x="4065480" y="5013360"/>
              <a:ext cx="7994520" cy="1471320"/>
              <a:chOff x="4065480" y="5013360"/>
              <a:chExt cx="7994520" cy="1471320"/>
            </a:xfrm>
          </p:grpSpPr>
          <p:pic>
            <p:nvPicPr>
              <p:cNvPr id="292" name="Object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5480" y="5013360"/>
                <a:ext cx="7944120" cy="1334160"/>
              </a:xfrm>
              <a:prstGeom prst="rect">
                <a:avLst/>
              </a:prstGeom>
              <a:ln w="0">
                <a:noFill/>
              </a:ln>
              <a:effectLst>
                <a:outerShdw dist="107932" dir="81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93" name="Rectangle 7"/>
              <p:cNvSpPr/>
              <p:nvPr/>
            </p:nvSpPr>
            <p:spPr>
              <a:xfrm>
                <a:off x="11782440" y="6344280"/>
                <a:ext cx="277560" cy="14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8"/>
            <p:cNvSpPr/>
            <p:nvPr/>
          </p:nvSpPr>
          <p:spPr>
            <a:xfrm>
              <a:off x="4065840" y="534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496980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87376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67672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76744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947988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031184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121940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8575560" y="536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8"/>
          <p:cNvSpPr/>
          <p:nvPr/>
        </p:nvSpPr>
        <p:spPr>
          <a:xfrm>
            <a:off x="1762200" y="81108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画一个半径为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2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方正姚体"/>
                <a:ea typeface="方正姚体"/>
              </a:rPr>
              <a:t>厘米的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2"/>
          <p:cNvGrpSpPr/>
          <p:nvPr/>
        </p:nvGrpSpPr>
        <p:grpSpPr>
          <a:xfrm>
            <a:off x="4134960" y="612720"/>
            <a:ext cx="4456800" cy="5193360"/>
            <a:chOff x="4134960" y="612720"/>
            <a:chExt cx="4456800" cy="5193360"/>
          </a:xfrm>
        </p:grpSpPr>
        <p:pic>
          <p:nvPicPr>
            <p:cNvPr id="305" name="Picture 22" descr="TO076 拷贝5"/>
            <p:cNvPicPr/>
            <p:nvPr/>
          </p:nvPicPr>
          <p:blipFill>
            <a:blip r:embed="rId3"/>
            <a:stretch/>
          </p:blipFill>
          <p:spPr>
            <a:xfrm rot="2132400">
              <a:off x="5167800" y="1206360"/>
              <a:ext cx="2368440" cy="43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23" descr="TO076 拷贝"/>
            <p:cNvPicPr/>
            <p:nvPr/>
          </p:nvPicPr>
          <p:blipFill>
            <a:blip r:embed="rId4"/>
            <a:stretch/>
          </p:blipFill>
          <p:spPr>
            <a:xfrm rot="2132400">
              <a:off x="5190480" y="899280"/>
              <a:ext cx="2368440" cy="431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Text Box 27"/>
          <p:cNvSpPr/>
          <p:nvPr/>
        </p:nvSpPr>
        <p:spPr>
          <a:xfrm>
            <a:off x="1798200" y="186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一、定长（半径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1815480" y="2478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二、定点（圆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1101240" y="3054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三、一只脚旋转一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4727520" y="450864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厘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4643280" y="4941720"/>
            <a:ext cx="21600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41"/>
          <p:cNvGrpSpPr/>
          <p:nvPr/>
        </p:nvGrpSpPr>
        <p:grpSpPr>
          <a:xfrm>
            <a:off x="2970360" y="714240"/>
            <a:ext cx="3770280" cy="5149440"/>
            <a:chOff x="2970360" y="714240"/>
            <a:chExt cx="3770280" cy="5149440"/>
          </a:xfrm>
        </p:grpSpPr>
        <p:pic>
          <p:nvPicPr>
            <p:cNvPr id="313" name="Picture 42" descr="TO076 拷贝5"/>
            <p:cNvPicPr/>
            <p:nvPr/>
          </p:nvPicPr>
          <p:blipFill>
            <a:blip r:embed="rId5"/>
            <a:stretch/>
          </p:blipFill>
          <p:spPr>
            <a:xfrm flipH="1" rot="20403600">
              <a:off x="3634560" y="127620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3" descr="TO076 拷贝"/>
            <p:cNvPicPr/>
            <p:nvPr/>
          </p:nvPicPr>
          <p:blipFill>
            <a:blip r:embed="rId6"/>
            <a:stretch/>
          </p:blipFill>
          <p:spPr>
            <a:xfrm flipH="1" rot="20403600">
              <a:off x="3707640" y="98892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Oval 45"/>
          <p:cNvSpPr/>
          <p:nvPr/>
        </p:nvSpPr>
        <p:spPr>
          <a:xfrm>
            <a:off x="2700360" y="4221000"/>
            <a:ext cx="4176720" cy="1584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0"/>
          <p:cNvGrpSpPr/>
          <p:nvPr/>
        </p:nvGrpSpPr>
        <p:grpSpPr>
          <a:xfrm>
            <a:off x="2488320" y="570600"/>
            <a:ext cx="4592160" cy="5132520"/>
            <a:chOff x="2488320" y="570600"/>
            <a:chExt cx="4592160" cy="5132520"/>
          </a:xfrm>
        </p:grpSpPr>
        <p:pic>
          <p:nvPicPr>
            <p:cNvPr id="317" name="Picture 38" descr="TO076 拷贝5"/>
            <p:cNvPicPr/>
            <p:nvPr/>
          </p:nvPicPr>
          <p:blipFill>
            <a:blip r:embed="rId7"/>
            <a:stretch/>
          </p:blipFill>
          <p:spPr>
            <a:xfrm flipH="1" rot="19240200">
              <a:off x="3613320" y="1127880"/>
              <a:ext cx="2368440" cy="43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39" descr="TO076 拷贝"/>
            <p:cNvPicPr/>
            <p:nvPr/>
          </p:nvPicPr>
          <p:blipFill>
            <a:blip r:embed="rId8"/>
            <a:stretch/>
          </p:blipFill>
          <p:spPr>
            <a:xfrm flipH="1" rot="19240200">
              <a:off x="3586680" y="832680"/>
              <a:ext cx="2368440" cy="4312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1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21 -0.03218 L 0.00034 0.00995 E">
                                      <p:cBhvr>
                                        <p:cTn id="738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"/>
                            </p:stCondLst>
                            <p:childTnLst>
                              <p:par>
                                <p:cTn id="7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00047 L -3.61111E-006 -2.22222E-006 E">
                                      <p:cBhvr>
                                        <p:cTn id="770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9" descr=""/>
          <p:cNvPicPr/>
          <p:nvPr/>
        </p:nvPicPr>
        <p:blipFill>
          <a:blip r:embed="rId2"/>
          <a:stretch/>
        </p:blipFill>
        <p:spPr>
          <a:xfrm>
            <a:off x="165240" y="608040"/>
            <a:ext cx="8820000" cy="59022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4"/>
          <p:cNvGrpSpPr/>
          <p:nvPr/>
        </p:nvGrpSpPr>
        <p:grpSpPr>
          <a:xfrm>
            <a:off x="4067280" y="5516640"/>
            <a:ext cx="3529080" cy="1010520"/>
            <a:chOff x="4067280" y="5516640"/>
            <a:chExt cx="3529080" cy="1010520"/>
          </a:xfrm>
        </p:grpSpPr>
        <p:sp>
          <p:nvSpPr>
            <p:cNvPr id="321" name="Freeform 43"/>
            <p:cNvSpPr/>
            <p:nvPr/>
          </p:nvSpPr>
          <p:spPr>
            <a:xfrm>
              <a:off x="4067280" y="5516640"/>
              <a:ext cx="331308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ff66cc"/>
                </a:gs>
                <a:gs pos="100000">
                  <a:srgbClr val="762f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1"/>
            <p:cNvSpPr/>
            <p:nvPr/>
          </p:nvSpPr>
          <p:spPr>
            <a:xfrm>
              <a:off x="4427640" y="576288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ff99"/>
                  </a:solidFill>
                  <a:latin typeface="Arial"/>
                  <a:ea typeface="华文新魏"/>
                </a:rPr>
                <a:t>我的收获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45"/>
          <p:cNvSpPr/>
          <p:nvPr/>
        </p:nvSpPr>
        <p:spPr>
          <a:xfrm>
            <a:off x="1332000" y="141300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今天我学习了圆的知识。我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道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表示（      ），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表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     ），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表示（     ）。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径和半径的关系是（            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6"/>
          <p:cNvSpPr/>
          <p:nvPr/>
        </p:nvSpPr>
        <p:spPr>
          <a:xfrm>
            <a:off x="3132000" y="3537000"/>
            <a:ext cx="51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）我还学会了画圆。画圆时圆规两脚分开的距离是（     ），针尖一脚固定的一点是（     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6"/>
          <p:cNvGrpSpPr/>
          <p:nvPr/>
        </p:nvGrpSpPr>
        <p:grpSpPr>
          <a:xfrm>
            <a:off x="250560" y="3571920"/>
            <a:ext cx="2881440" cy="2881440"/>
            <a:chOff x="250560" y="3571920"/>
            <a:chExt cx="2881440" cy="2881440"/>
          </a:xfrm>
        </p:grpSpPr>
        <p:sp>
          <p:nvSpPr>
            <p:cNvPr id="326" name="Oval 47"/>
            <p:cNvSpPr/>
            <p:nvPr/>
          </p:nvSpPr>
          <p:spPr>
            <a:xfrm rot="5400000">
              <a:off x="249480" y="3572640"/>
              <a:ext cx="2881440" cy="2879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8"/>
            <p:cNvSpPr/>
            <p:nvPr/>
          </p:nvSpPr>
          <p:spPr>
            <a:xfrm>
              <a:off x="1634040" y="4956480"/>
              <a:ext cx="115200" cy="11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WordArt 49"/>
            <p:cNvSpPr txBox="1"/>
            <p:nvPr/>
          </p:nvSpPr>
          <p:spPr>
            <a:xfrm>
              <a:off x="1230120" y="4647960"/>
              <a:ext cx="325080" cy="36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ln w="0">
                    <a:noFill/>
                  </a:ln>
                  <a:solidFill>
                    <a:srgbClr val="ff3300"/>
                  </a:solidFill>
                  <a:effectLst>
                    <a:outerShdw dist="17819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楷体_GB2312"/>
                </a:rPr>
                <a:t>o</a:t>
              </a:r>
              <a:endPara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329" name="Text Box 50"/>
            <p:cNvSpPr/>
            <p:nvPr/>
          </p:nvSpPr>
          <p:spPr>
            <a:xfrm rot="18316800">
              <a:off x="2050200" y="433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半径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1"/>
            <p:cNvSpPr/>
            <p:nvPr/>
          </p:nvSpPr>
          <p:spPr>
            <a:xfrm rot="18291600">
              <a:off x="2370960" y="39308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2"/>
            <p:cNvSpPr/>
            <p:nvPr/>
          </p:nvSpPr>
          <p:spPr>
            <a:xfrm flipV="1">
              <a:off x="1691640" y="3861000"/>
              <a:ext cx="863640" cy="1152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250920" y="5013720"/>
              <a:ext cx="2881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54"/>
            <p:cNvSpPr/>
            <p:nvPr/>
          </p:nvSpPr>
          <p:spPr>
            <a:xfrm>
              <a:off x="1074600" y="5065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直 径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55"/>
            <p:cNvSpPr/>
            <p:nvPr/>
          </p:nvSpPr>
          <p:spPr>
            <a:xfrm>
              <a:off x="1806840" y="5014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57"/>
          <p:cNvSpPr/>
          <p:nvPr/>
        </p:nvSpPr>
        <p:spPr>
          <a:xfrm>
            <a:off x="3842280" y="186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9"/>
          <p:cNvSpPr/>
          <p:nvPr/>
        </p:nvSpPr>
        <p:spPr>
          <a:xfrm>
            <a:off x="214200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半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0"/>
          <p:cNvSpPr/>
          <p:nvPr/>
        </p:nvSpPr>
        <p:spPr>
          <a:xfrm>
            <a:off x="571392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直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1"/>
          <p:cNvSpPr/>
          <p:nvPr/>
        </p:nvSpPr>
        <p:spPr>
          <a:xfrm>
            <a:off x="5354640" y="292428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r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71"/>
          <p:cNvGrpSpPr/>
          <p:nvPr/>
        </p:nvGrpSpPr>
        <p:grpSpPr>
          <a:xfrm>
            <a:off x="6437160" y="2781360"/>
            <a:ext cx="1158840" cy="779400"/>
            <a:chOff x="6437160" y="2781360"/>
            <a:chExt cx="1158840" cy="779400"/>
          </a:xfrm>
        </p:grpSpPr>
        <p:sp>
          <p:nvSpPr>
            <p:cNvPr id="340" name="Rectangle 68"/>
            <p:cNvSpPr/>
            <p:nvPr/>
          </p:nvSpPr>
          <p:spPr>
            <a:xfrm>
              <a:off x="6437160" y="2919240"/>
              <a:ext cx="1009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r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70"/>
            <p:cNvGrpSpPr/>
            <p:nvPr/>
          </p:nvGrpSpPr>
          <p:grpSpPr>
            <a:xfrm>
              <a:off x="7229160" y="2781360"/>
              <a:ext cx="366840" cy="779400"/>
              <a:chOff x="7229160" y="2781360"/>
              <a:chExt cx="366840" cy="779400"/>
            </a:xfrm>
          </p:grpSpPr>
          <p:sp>
            <p:nvSpPr>
              <p:cNvPr id="342" name="Line 65"/>
              <p:cNvSpPr/>
              <p:nvPr/>
            </p:nvSpPr>
            <p:spPr>
              <a:xfrm>
                <a:off x="7235640" y="3167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67"/>
              <p:cNvSpPr/>
              <p:nvPr/>
            </p:nvSpPr>
            <p:spPr>
              <a:xfrm>
                <a:off x="7245000" y="3101040"/>
                <a:ext cx="35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9"/>
              <p:cNvSpPr/>
              <p:nvPr/>
            </p:nvSpPr>
            <p:spPr>
              <a:xfrm>
                <a:off x="7229160" y="2781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Text Box 72"/>
          <p:cNvSpPr/>
          <p:nvPr/>
        </p:nvSpPr>
        <p:spPr>
          <a:xfrm>
            <a:off x="5526720" y="4950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3"/>
          <p:cNvSpPr/>
          <p:nvPr/>
        </p:nvSpPr>
        <p:spPr>
          <a:xfrm>
            <a:off x="3871080" y="444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半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4"/>
          <p:cNvSpPr/>
          <p:nvPr/>
        </p:nvSpPr>
        <p:spPr>
          <a:xfrm>
            <a:off x="7740720" y="6021360"/>
            <a:ext cx="1187280" cy="433440"/>
          </a:xfrm>
          <a:custGeom>
            <a:avLst/>
            <a:gdLst>
              <a:gd name="textAreaLeft" fmla="*/ 27000 w 1187280"/>
              <a:gd name="textAreaRight" fmla="*/ 1160280 w 118728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59136" h="21600">
                <a:moveTo>
                  <a:pt x="0" y="0"/>
                </a:moveTo>
                <a:lnTo>
                  <a:pt x="59136" y="0"/>
                </a:lnTo>
                <a:lnTo>
                  <a:pt x="59136" y="21600"/>
                </a:lnTo>
                <a:lnTo>
                  <a:pt x="0" y="21600"/>
                </a:lnTo>
                <a:close/>
              </a:path>
              <a:path fill="lightenLess" w="59136" h="21600">
                <a:moveTo>
                  <a:pt x="0" y="0"/>
                </a:moveTo>
                <a:lnTo>
                  <a:pt x="59136" y="0"/>
                </a:lnTo>
                <a:lnTo>
                  <a:pt x="57786" y="1350"/>
                </a:lnTo>
                <a:lnTo>
                  <a:pt x="1350" y="1350"/>
                </a:lnTo>
                <a:close/>
              </a:path>
              <a:path fill="darken" w="59136" h="21600">
                <a:moveTo>
                  <a:pt x="59136" y="0"/>
                </a:moveTo>
                <a:lnTo>
                  <a:pt x="59136" y="21600"/>
                </a:lnTo>
                <a:lnTo>
                  <a:pt x="57786" y="20250"/>
                </a:lnTo>
                <a:lnTo>
                  <a:pt x="57786" y="1350"/>
                </a:lnTo>
                <a:close/>
              </a:path>
              <a:path fill="darkenLess" w="59136" h="21600">
                <a:moveTo>
                  <a:pt x="591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7786" y="20250"/>
                </a:lnTo>
                <a:close/>
              </a:path>
              <a:path fill="lighten" w="591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136" h="21600">
                <a:moveTo>
                  <a:pt x="26050" y="10800"/>
                </a:moveTo>
                <a:lnTo>
                  <a:pt x="36612" y="3756"/>
                </a:lnTo>
                <a:lnTo>
                  <a:pt x="36612" y="17844"/>
                </a:lnTo>
                <a:close/>
              </a:path>
              <a:path fill="darken" w="59136" h="21600">
                <a:moveTo>
                  <a:pt x="22524" y="3756"/>
                </a:moveTo>
                <a:lnTo>
                  <a:pt x="24195" y="3756"/>
                </a:lnTo>
                <a:lnTo>
                  <a:pt x="24195" y="17844"/>
                </a:lnTo>
                <a:lnTo>
                  <a:pt x="22524" y="17844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返  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645336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07" descr="uu"/>
          <p:cNvPicPr/>
          <p:nvPr/>
        </p:nvPicPr>
        <p:blipFill>
          <a:blip r:embed="rId2"/>
          <a:stretch/>
        </p:blipFill>
        <p:spPr>
          <a:xfrm>
            <a:off x="181080" y="623880"/>
            <a:ext cx="8783640" cy="590076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76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7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48240 w 144360"/>
              <a:gd name="textAreaRight" fmla="*/ 96480 w 14436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8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48240 w 144360"/>
              <a:gd name="textAreaRight" fmla="*/ 9648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9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48240 w 144720"/>
              <a:gd name="textAreaRight" fmla="*/ 96480 w 14472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0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91" descr=""/>
          <p:cNvPicPr/>
          <p:nvPr/>
        </p:nvPicPr>
        <p:blipFill>
          <a:blip r:embed="rId3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2" descr=""/>
          <p:cNvPicPr/>
          <p:nvPr/>
        </p:nvPicPr>
        <p:blipFill>
          <a:blip r:embed="rId4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57" name="AutoShape 20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0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47880 w 144360"/>
              <a:gd name="textAreaRight" fmla="*/ 9612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2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48240 w 144720"/>
              <a:gd name="textAreaRight" fmla="*/ 96480 w 14472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03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007-bg023"/>
          <p:cNvPicPr/>
          <p:nvPr/>
        </p:nvPicPr>
        <p:blipFill>
          <a:blip r:embed="rId2"/>
          <a:stretch/>
        </p:blipFill>
        <p:spPr>
          <a:xfrm>
            <a:off x="179280" y="641520"/>
            <a:ext cx="8785440" cy="58831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1568520" y="8366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流行体简体"/>
              </a:rPr>
              <a:t>你能用圆的知识解释下列现象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5148360" y="3141720"/>
            <a:ext cx="2663640" cy="2670120"/>
            <a:chOff x="5148360" y="3141720"/>
            <a:chExt cx="2663640" cy="2670120"/>
          </a:xfrm>
        </p:grpSpPr>
        <p:pic>
          <p:nvPicPr>
            <p:cNvPr id="364" name="Picture 5" descr=""/>
            <p:cNvPicPr/>
            <p:nvPr/>
          </p:nvPicPr>
          <p:blipFill>
            <a:blip r:embed="rId3"/>
            <a:stretch/>
          </p:blipFill>
          <p:spPr>
            <a:xfrm>
              <a:off x="5219280" y="3141720"/>
              <a:ext cx="236196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6"/>
            <p:cNvSpPr/>
            <p:nvPr/>
          </p:nvSpPr>
          <p:spPr>
            <a:xfrm>
              <a:off x="5148360" y="52304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井盖为什么是圆的呢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7"/>
          <p:cNvGrpSpPr/>
          <p:nvPr/>
        </p:nvGrpSpPr>
        <p:grpSpPr>
          <a:xfrm>
            <a:off x="179280" y="1989000"/>
            <a:ext cx="4392720" cy="3242160"/>
            <a:chOff x="179280" y="1989000"/>
            <a:chExt cx="4392720" cy="3242160"/>
          </a:xfrm>
        </p:grpSpPr>
        <p:pic>
          <p:nvPicPr>
            <p:cNvPr id="367" name="Picture 8" descr=""/>
            <p:cNvPicPr/>
            <p:nvPr/>
          </p:nvPicPr>
          <p:blipFill>
            <a:blip r:embed="rId4"/>
            <a:stretch/>
          </p:blipFill>
          <p:spPr>
            <a:xfrm>
              <a:off x="900000" y="1989000"/>
              <a:ext cx="27241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Rectangle 9"/>
            <p:cNvSpPr/>
            <p:nvPr/>
          </p:nvSpPr>
          <p:spPr>
            <a:xfrm>
              <a:off x="179280" y="4162320"/>
              <a:ext cx="4392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人们在围观时，为什么会自然地围成圆形呢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AutoShape 10"/>
          <p:cNvSpPr/>
          <p:nvPr/>
        </p:nvSpPr>
        <p:spPr>
          <a:xfrm>
            <a:off x="7740720" y="6021360"/>
            <a:ext cx="1187280" cy="433440"/>
          </a:xfrm>
          <a:custGeom>
            <a:avLst/>
            <a:gdLst>
              <a:gd name="textAreaLeft" fmla="*/ 27000 w 1187280"/>
              <a:gd name="textAreaRight" fmla="*/ 1160280 w 118728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59136" h="21600">
                <a:moveTo>
                  <a:pt x="0" y="0"/>
                </a:moveTo>
                <a:lnTo>
                  <a:pt x="59136" y="0"/>
                </a:lnTo>
                <a:lnTo>
                  <a:pt x="59136" y="21600"/>
                </a:lnTo>
                <a:lnTo>
                  <a:pt x="0" y="21600"/>
                </a:lnTo>
                <a:close/>
              </a:path>
              <a:path fill="lightenLess" w="59136" h="21600">
                <a:moveTo>
                  <a:pt x="0" y="0"/>
                </a:moveTo>
                <a:lnTo>
                  <a:pt x="59136" y="0"/>
                </a:lnTo>
                <a:lnTo>
                  <a:pt x="57786" y="1350"/>
                </a:lnTo>
                <a:lnTo>
                  <a:pt x="1350" y="1350"/>
                </a:lnTo>
                <a:close/>
              </a:path>
              <a:path fill="darken" w="59136" h="21600">
                <a:moveTo>
                  <a:pt x="59136" y="0"/>
                </a:moveTo>
                <a:lnTo>
                  <a:pt x="59136" y="21600"/>
                </a:lnTo>
                <a:lnTo>
                  <a:pt x="57786" y="20250"/>
                </a:lnTo>
                <a:lnTo>
                  <a:pt x="57786" y="1350"/>
                </a:lnTo>
                <a:close/>
              </a:path>
              <a:path fill="darkenLess" w="59136" h="21600">
                <a:moveTo>
                  <a:pt x="591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7786" y="20250"/>
                </a:lnTo>
                <a:close/>
              </a:path>
              <a:path fill="lighten" w="591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136" h="21600">
                <a:moveTo>
                  <a:pt x="26050" y="10800"/>
                </a:moveTo>
                <a:lnTo>
                  <a:pt x="36612" y="3756"/>
                </a:lnTo>
                <a:lnTo>
                  <a:pt x="36612" y="17844"/>
                </a:lnTo>
                <a:close/>
              </a:path>
              <a:path fill="darken" w="59136" h="21600">
                <a:moveTo>
                  <a:pt x="22524" y="3756"/>
                </a:moveTo>
                <a:lnTo>
                  <a:pt x="24195" y="3756"/>
                </a:lnTo>
                <a:lnTo>
                  <a:pt x="24195" y="17844"/>
                </a:lnTo>
                <a:lnTo>
                  <a:pt x="22524" y="17844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返  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7" descr="图片6"/>
          <p:cNvPicPr/>
          <p:nvPr/>
        </p:nvPicPr>
        <p:blipFill>
          <a:blip r:embed="rId2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5" descr="20051021212447270 拷贝"/>
          <p:cNvPicPr/>
          <p:nvPr/>
        </p:nvPicPr>
        <p:blipFill>
          <a:blip r:embed="rId3"/>
          <a:stretch/>
        </p:blipFill>
        <p:spPr>
          <a:xfrm>
            <a:off x="6229440" y="2671920"/>
            <a:ext cx="1295280" cy="126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7" descr="1128767721 拷贝"/>
          <p:cNvPicPr/>
          <p:nvPr/>
        </p:nvPicPr>
        <p:blipFill>
          <a:blip r:embed="rId4"/>
          <a:stretch/>
        </p:blipFill>
        <p:spPr>
          <a:xfrm rot="1483800">
            <a:off x="971280" y="2060280"/>
            <a:ext cx="1685880" cy="20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1103813189 拷贝"/>
          <p:cNvPicPr/>
          <p:nvPr/>
        </p:nvPicPr>
        <p:blipFill>
          <a:blip r:embed="rId5"/>
          <a:stretch/>
        </p:blipFill>
        <p:spPr>
          <a:xfrm>
            <a:off x="1476360" y="2523960"/>
            <a:ext cx="4267080" cy="4505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6" descr="无标题 拷贝"/>
          <p:cNvPicPr/>
          <p:nvPr/>
        </p:nvPicPr>
        <p:blipFill>
          <a:blip r:embed="rId6"/>
          <a:stretch/>
        </p:blipFill>
        <p:spPr>
          <a:xfrm>
            <a:off x="3564000" y="1557360"/>
            <a:ext cx="22255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8" descr="2862005625120957 拷贝"/>
          <p:cNvPicPr/>
          <p:nvPr/>
        </p:nvPicPr>
        <p:blipFill>
          <a:blip r:embed="rId7"/>
          <a:stretch/>
        </p:blipFill>
        <p:spPr>
          <a:xfrm>
            <a:off x="3635280" y="3794040"/>
            <a:ext cx="3025800" cy="2371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1"/>
          <p:cNvSpPr/>
          <p:nvPr/>
        </p:nvSpPr>
        <p:spPr>
          <a:xfrm>
            <a:off x="1619280" y="1057320"/>
            <a:ext cx="4465440" cy="500040"/>
          </a:xfrm>
          <a:prstGeom prst="borderCallout1">
            <a:avLst>
              <a:gd name="adj1" fmla="val 18750"/>
              <a:gd name="adj2" fmla="val -8333"/>
              <a:gd name="adj3" fmla="val 115236"/>
              <a:gd name="adj4" fmla="val 3199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的面是什么形状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54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32"/>
          <p:cNvSpPr/>
          <p:nvPr/>
        </p:nvSpPr>
        <p:spPr>
          <a:xfrm>
            <a:off x="826920" y="2421000"/>
            <a:ext cx="2881440" cy="28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6"/>
          <p:cNvSpPr/>
          <p:nvPr/>
        </p:nvSpPr>
        <p:spPr>
          <a:xfrm>
            <a:off x="3525840" y="800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指出下面各圆的半径和直径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3"/>
          <p:cNvSpPr/>
          <p:nvPr/>
        </p:nvSpPr>
        <p:spPr>
          <a:xfrm rot="5400000">
            <a:off x="4929840" y="2421360"/>
            <a:ext cx="2881080" cy="28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9"/>
          <p:cNvSpPr/>
          <p:nvPr/>
        </p:nvSpPr>
        <p:spPr>
          <a:xfrm>
            <a:off x="826920" y="3860640"/>
            <a:ext cx="288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30"/>
          <p:cNvSpPr/>
          <p:nvPr/>
        </p:nvSpPr>
        <p:spPr>
          <a:xfrm>
            <a:off x="2268360" y="3860640"/>
            <a:ext cx="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1"/>
          <p:cNvSpPr/>
          <p:nvPr/>
        </p:nvSpPr>
        <p:spPr>
          <a:xfrm flipH="1" flipV="1">
            <a:off x="1476000" y="2637000"/>
            <a:ext cx="215892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15"/>
          <p:cNvSpPr/>
          <p:nvPr/>
        </p:nvSpPr>
        <p:spPr>
          <a:xfrm>
            <a:off x="2209680" y="3801960"/>
            <a:ext cx="11592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116"/>
          <p:cNvSpPr txBox="1"/>
          <p:nvPr/>
        </p:nvSpPr>
        <p:spPr>
          <a:xfrm>
            <a:off x="2484360" y="3571920"/>
            <a:ext cx="257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79" name="Line 133"/>
          <p:cNvSpPr/>
          <p:nvPr/>
        </p:nvSpPr>
        <p:spPr>
          <a:xfrm flipH="1">
            <a:off x="5076360" y="3860640"/>
            <a:ext cx="129564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 flipV="1">
            <a:off x="5076720" y="4292640"/>
            <a:ext cx="26640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6"/>
          <p:cNvSpPr/>
          <p:nvPr/>
        </p:nvSpPr>
        <p:spPr>
          <a:xfrm flipV="1">
            <a:off x="6372360" y="2565360"/>
            <a:ext cx="64764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26"/>
          <p:cNvSpPr/>
          <p:nvPr/>
        </p:nvSpPr>
        <p:spPr>
          <a:xfrm>
            <a:off x="6313320" y="3803760"/>
            <a:ext cx="115920" cy="115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27"/>
          <p:cNvSpPr txBox="1"/>
          <p:nvPr/>
        </p:nvSpPr>
        <p:spPr>
          <a:xfrm>
            <a:off x="6588000" y="3573360"/>
            <a:ext cx="257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84" name="Line 137"/>
          <p:cNvSpPr/>
          <p:nvPr/>
        </p:nvSpPr>
        <p:spPr>
          <a:xfrm>
            <a:off x="826920" y="3860640"/>
            <a:ext cx="2881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42"/>
          <p:cNvSpPr/>
          <p:nvPr/>
        </p:nvSpPr>
        <p:spPr>
          <a:xfrm>
            <a:off x="1922400" y="537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半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6"/>
          <p:cNvSpPr/>
          <p:nvPr/>
        </p:nvSpPr>
        <p:spPr>
          <a:xfrm>
            <a:off x="3684240" y="364644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49"/>
          <p:cNvSpPr/>
          <p:nvPr/>
        </p:nvSpPr>
        <p:spPr>
          <a:xfrm>
            <a:off x="2268360" y="3860640"/>
            <a:ext cx="0" cy="1440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0"/>
          <p:cNvSpPr/>
          <p:nvPr/>
        </p:nvSpPr>
        <p:spPr>
          <a:xfrm flipH="1">
            <a:off x="5076360" y="3860640"/>
            <a:ext cx="1295640" cy="64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51"/>
          <p:cNvSpPr/>
          <p:nvPr/>
        </p:nvSpPr>
        <p:spPr>
          <a:xfrm rot="20059200">
            <a:off x="5235840" y="378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半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2"/>
          <p:cNvSpPr/>
          <p:nvPr/>
        </p:nvSpPr>
        <p:spPr>
          <a:xfrm flipV="1">
            <a:off x="6372360" y="2565360"/>
            <a:ext cx="64764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3"/>
          <p:cNvSpPr/>
          <p:nvPr/>
        </p:nvSpPr>
        <p:spPr>
          <a:xfrm rot="18042600">
            <a:off x="6073920" y="286344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半径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1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324000" y="692280"/>
            <a:ext cx="2061720" cy="1122120"/>
            <a:chOff x="324000" y="692280"/>
            <a:chExt cx="2061720" cy="1122120"/>
          </a:xfrm>
        </p:grpSpPr>
        <p:pic>
          <p:nvPicPr>
            <p:cNvPr id="394" name="Picture 5" descr="CO076s"/>
            <p:cNvPicPr/>
            <p:nvPr/>
          </p:nvPicPr>
          <p:blipFill>
            <a:blip r:embed="rId2"/>
            <a:stretch/>
          </p:blipFill>
          <p:spPr>
            <a:xfrm>
              <a:off x="324000" y="692280"/>
              <a:ext cx="12063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6"/>
            <p:cNvSpPr/>
            <p:nvPr/>
          </p:nvSpPr>
          <p:spPr>
            <a:xfrm>
              <a:off x="1697400" y="8805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d60093"/>
                  </a:solidFill>
                  <a:latin typeface="Arial"/>
                  <a:ea typeface="华文彩云"/>
                </a:rPr>
                <a:t>填一填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826920" y="2421000"/>
            <a:ext cx="2881440" cy="2881080"/>
            <a:chOff x="826920" y="2421000"/>
            <a:chExt cx="2881440" cy="2881080"/>
          </a:xfrm>
        </p:grpSpPr>
        <p:sp>
          <p:nvSpPr>
            <p:cNvPr id="397" name="Oval 7"/>
            <p:cNvSpPr/>
            <p:nvPr/>
          </p:nvSpPr>
          <p:spPr>
            <a:xfrm>
              <a:off x="826920" y="2421000"/>
              <a:ext cx="2881440" cy="28810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>
              <a:off x="826920" y="3860640"/>
              <a:ext cx="288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2268360" y="3860640"/>
              <a:ext cx="1079640" cy="93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1"/>
            <p:cNvSpPr/>
            <p:nvPr/>
          </p:nvSpPr>
          <p:spPr>
            <a:xfrm>
              <a:off x="2209680" y="3801600"/>
              <a:ext cx="115920" cy="115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900000" y="2565000"/>
              <a:ext cx="194292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20"/>
          <p:cNvSpPr/>
          <p:nvPr/>
        </p:nvSpPr>
        <p:spPr>
          <a:xfrm>
            <a:off x="1800720" y="281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1746720" y="3414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26820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7"/>
          <p:cNvGrpSpPr/>
          <p:nvPr/>
        </p:nvGrpSpPr>
        <p:grpSpPr>
          <a:xfrm>
            <a:off x="4134600" y="1916280"/>
            <a:ext cx="4493520" cy="3026520"/>
            <a:chOff x="4134600" y="1916280"/>
            <a:chExt cx="4493520" cy="3026520"/>
          </a:xfrm>
        </p:grpSpPr>
        <p:sp>
          <p:nvSpPr>
            <p:cNvPr id="406" name="Text Box 24"/>
            <p:cNvSpPr/>
            <p:nvPr/>
          </p:nvSpPr>
          <p:spPr>
            <a:xfrm>
              <a:off x="4508280" y="1916280"/>
              <a:ext cx="371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（    ）号线段表示直径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5"/>
            <p:cNvSpPr/>
            <p:nvPr/>
          </p:nvSpPr>
          <p:spPr>
            <a:xfrm>
              <a:off x="4508280" y="2914560"/>
              <a:ext cx="371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（    ）号线段表示半径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6"/>
            <p:cNvSpPr/>
            <p:nvPr/>
          </p:nvSpPr>
          <p:spPr>
            <a:xfrm>
              <a:off x="4134600" y="3995640"/>
              <a:ext cx="449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两端都在圆上的线段中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）最长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28"/>
          <p:cNvSpPr/>
          <p:nvPr/>
        </p:nvSpPr>
        <p:spPr>
          <a:xfrm>
            <a:off x="5185440" y="18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9"/>
          <p:cNvSpPr/>
          <p:nvPr/>
        </p:nvSpPr>
        <p:spPr>
          <a:xfrm>
            <a:off x="5202720" y="2903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5147640" y="4402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直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40" descr="图片8"/>
          <p:cNvPicPr/>
          <p:nvPr/>
        </p:nvPicPr>
        <p:blipFill>
          <a:blip r:embed="rId2"/>
          <a:stretch/>
        </p:blipFill>
        <p:spPr>
          <a:xfrm>
            <a:off x="177840" y="620640"/>
            <a:ext cx="8790120" cy="59151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93"/>
          <p:cNvSpPr/>
          <p:nvPr/>
        </p:nvSpPr>
        <p:spPr>
          <a:xfrm>
            <a:off x="2268360" y="765000"/>
            <a:ext cx="6551640" cy="41054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5"/>
          <p:cNvSpPr/>
          <p:nvPr/>
        </p:nvSpPr>
        <p:spPr>
          <a:xfrm>
            <a:off x="2517840" y="1330200"/>
            <a:ext cx="66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半径是射线，直径是直线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39"/>
          <p:cNvGrpSpPr/>
          <p:nvPr/>
        </p:nvGrpSpPr>
        <p:grpSpPr>
          <a:xfrm>
            <a:off x="33480" y="3214800"/>
            <a:ext cx="2522520" cy="3527280"/>
            <a:chOff x="33480" y="3214800"/>
            <a:chExt cx="2522520" cy="3527280"/>
          </a:xfrm>
        </p:grpSpPr>
        <p:grpSp>
          <p:nvGrpSpPr>
            <p:cNvPr id="416" name="Group 91"/>
            <p:cNvGrpSpPr/>
            <p:nvPr/>
          </p:nvGrpSpPr>
          <p:grpSpPr>
            <a:xfrm>
              <a:off x="252720" y="3214800"/>
              <a:ext cx="2303280" cy="2664000"/>
              <a:chOff x="252720" y="3214800"/>
              <a:chExt cx="2303280" cy="2664000"/>
            </a:xfrm>
          </p:grpSpPr>
          <p:sp>
            <p:nvSpPr>
              <p:cNvPr id="417" name="Rectangle 89"/>
              <p:cNvSpPr/>
              <p:nvPr/>
            </p:nvSpPr>
            <p:spPr>
              <a:xfrm>
                <a:off x="252720" y="3214800"/>
                <a:ext cx="2303280" cy="1295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对的打“√”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错的打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×”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90"/>
              <p:cNvSpPr/>
              <p:nvPr/>
            </p:nvSpPr>
            <p:spPr>
              <a:xfrm>
                <a:off x="1187280" y="4438800"/>
                <a:ext cx="431640" cy="14400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9" name="Picture 88" descr="图片10"/>
            <p:cNvPicPr/>
            <p:nvPr/>
          </p:nvPicPr>
          <p:blipFill>
            <a:blip r:embed="rId3"/>
            <a:stretch/>
          </p:blipFill>
          <p:spPr>
            <a:xfrm>
              <a:off x="33480" y="5143680"/>
              <a:ext cx="2162160" cy="159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Rectangle 129"/>
          <p:cNvSpPr/>
          <p:nvPr/>
        </p:nvSpPr>
        <p:spPr>
          <a:xfrm>
            <a:off x="7950960" y="1268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1"/>
          <p:cNvSpPr/>
          <p:nvPr/>
        </p:nvSpPr>
        <p:spPr>
          <a:xfrm>
            <a:off x="2519280" y="1973160"/>
            <a:ext cx="66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圆的直径都相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2"/>
          <p:cNvSpPr/>
          <p:nvPr/>
        </p:nvSpPr>
        <p:spPr>
          <a:xfrm>
            <a:off x="6511320" y="1922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33"/>
          <p:cNvSpPr/>
          <p:nvPr/>
        </p:nvSpPr>
        <p:spPr>
          <a:xfrm>
            <a:off x="2519280" y="2693880"/>
            <a:ext cx="66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直径是圆内最长的线段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4"/>
          <p:cNvSpPr/>
          <p:nvPr/>
        </p:nvSpPr>
        <p:spPr>
          <a:xfrm>
            <a:off x="2519280" y="341316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圆心决定圆的位置，半径决定圆的大小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35"/>
          <p:cNvSpPr/>
          <p:nvPr/>
        </p:nvSpPr>
        <p:spPr>
          <a:xfrm>
            <a:off x="7640640" y="274176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6"/>
          <p:cNvSpPr/>
          <p:nvPr/>
        </p:nvSpPr>
        <p:spPr>
          <a:xfrm>
            <a:off x="4221360" y="38448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0.00185 C -0.25277 -0.02338 -0.24878 -0.04746 -0.2408 -0.04746 C -0.23177 -0.04746 -0.22864 -0.02338 -0.22569 0.00185 C -0.2217 0.02986 -0.21875 0.05787 -0.20868 0.05787 C -0.19965 0.05787 -0.19652 0.02986 -0.19271 0.00185 C -0.19062 -0.02338 -0.1868 -0.04746 -0.17777 -0.04746 C -0.16979 -0.04746 -0.1658 -0.02338 -0.16267 0.00185 C -0.15972 0.02986 -0.15573 0.05787 -0.1467 0.05787 C -0.13732 0.05787 -0.13073 0.00185 -0.13073 0.00208 C -0.12569 -0.02338 -0.12465 -0.04746 -0.1158 -0.04746 C -0.10677 -0.04746 -0.10225 -0.02338 -0.10069 0.00185 C -0.0967 0.02986 -0.09375 0.05787 -0.08368 0.05787 C -0.07465 0.05787 -0.0717 0.02986 -0.06875 0.00185 C -0.06475 -0.02338 -0.0618 -0.04746 -0.05277 -0.04746 C -0.04479 -0.04746 -0.0408 -0.02338 -0.03767 0.00185 C -0.03472 0.02986 -0.03073 0.05787 -0.0217 0.05787 C -0.01267 0.05787 -0.00972 0.02986 -0.00573 0.00185 E">
                                      <p:cBhvr>
                                        <p:cTn id="1025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82" descr="图片8"/>
          <p:cNvPicPr/>
          <p:nvPr/>
        </p:nvPicPr>
        <p:blipFill>
          <a:blip r:embed="rId2"/>
          <a:stretch/>
        </p:blipFill>
        <p:spPr>
          <a:xfrm>
            <a:off x="177840" y="620640"/>
            <a:ext cx="8790120" cy="5915160"/>
          </a:xfrm>
          <a:prstGeom prst="rect">
            <a:avLst/>
          </a:prstGeom>
          <a:ln w="0">
            <a:noFill/>
          </a:ln>
        </p:spPr>
      </p:pic>
      <p:sp>
        <p:nvSpPr>
          <p:cNvPr id="428" name="WordArt 184"/>
          <p:cNvSpPr txBox="1"/>
          <p:nvPr/>
        </p:nvSpPr>
        <p:spPr>
          <a:xfrm>
            <a:off x="971640" y="5300640"/>
            <a:ext cx="21589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6000"/>
                    </a:srgbClr>
                  </a:outerShdw>
                </a:effectLst>
                <a:latin typeface="华文新魏"/>
              </a:rPr>
              <a:t>对口令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9" name="AutoShape 185"/>
          <p:cNvSpPr/>
          <p:nvPr/>
        </p:nvSpPr>
        <p:spPr>
          <a:xfrm>
            <a:off x="611280" y="2852640"/>
            <a:ext cx="2519280" cy="792360"/>
          </a:xfrm>
          <a:prstGeom prst="cloudCallout">
            <a:avLst>
              <a:gd name="adj1" fmla="val -17865"/>
              <a:gd name="adj2" fmla="val 153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78" descr="elephant003s"/>
          <p:cNvPicPr/>
          <p:nvPr/>
        </p:nvPicPr>
        <p:blipFill>
          <a:blip r:embed="rId5"/>
          <a:stretch/>
        </p:blipFill>
        <p:spPr>
          <a:xfrm>
            <a:off x="250920" y="3797280"/>
            <a:ext cx="1471680" cy="164772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186"/>
          <p:cNvSpPr/>
          <p:nvPr/>
        </p:nvSpPr>
        <p:spPr>
          <a:xfrm>
            <a:off x="1258920" y="1881360"/>
            <a:ext cx="2808360" cy="792000"/>
          </a:xfrm>
          <a:prstGeom prst="cloudCallout">
            <a:avLst>
              <a:gd name="adj1" fmla="val -5569"/>
              <a:gd name="adj2" fmla="val -940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4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81" descr="bird046s"/>
          <p:cNvPicPr/>
          <p:nvPr/>
        </p:nvPicPr>
        <p:blipFill>
          <a:blip r:embed="rId6"/>
          <a:stretch/>
        </p:blipFill>
        <p:spPr>
          <a:xfrm flipH="1" rot="19889400">
            <a:off x="2272680" y="980640"/>
            <a:ext cx="1504800" cy="9712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187"/>
          <p:cNvSpPr/>
          <p:nvPr/>
        </p:nvSpPr>
        <p:spPr>
          <a:xfrm>
            <a:off x="3348000" y="4965840"/>
            <a:ext cx="2519280" cy="792000"/>
          </a:xfrm>
          <a:prstGeom prst="cloudCallout">
            <a:avLst>
              <a:gd name="adj1" fmla="val -33740"/>
              <a:gd name="adj2" fmla="val -700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77" descr="frog009s"/>
          <p:cNvPicPr/>
          <p:nvPr/>
        </p:nvPicPr>
        <p:blipFill>
          <a:blip r:embed="rId7"/>
          <a:stretch/>
        </p:blipFill>
        <p:spPr>
          <a:xfrm>
            <a:off x="3132000" y="4005360"/>
            <a:ext cx="1505160" cy="124776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188"/>
          <p:cNvSpPr/>
          <p:nvPr/>
        </p:nvSpPr>
        <p:spPr>
          <a:xfrm>
            <a:off x="4356000" y="5734080"/>
            <a:ext cx="2808360" cy="792000"/>
          </a:xfrm>
          <a:prstGeom prst="cloudCallout">
            <a:avLst>
              <a:gd name="adj1" fmla="val 56162"/>
              <a:gd name="adj2" fmla="val -4118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79" descr="bird010s"/>
          <p:cNvPicPr/>
          <p:nvPr/>
        </p:nvPicPr>
        <p:blipFill>
          <a:blip r:embed="rId8"/>
          <a:stretch/>
        </p:blipFill>
        <p:spPr>
          <a:xfrm>
            <a:off x="6443640" y="5445000"/>
            <a:ext cx="1504800" cy="79056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189"/>
          <p:cNvSpPr/>
          <p:nvPr/>
        </p:nvSpPr>
        <p:spPr>
          <a:xfrm>
            <a:off x="6302520" y="2852640"/>
            <a:ext cx="2806560" cy="792360"/>
          </a:xfrm>
          <a:prstGeom prst="cloudCallout">
            <a:avLst>
              <a:gd name="adj1" fmla="val -49662"/>
              <a:gd name="adj2" fmla="val 982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9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76" descr="mouse012s"/>
          <p:cNvPicPr/>
          <p:nvPr/>
        </p:nvPicPr>
        <p:blipFill>
          <a:blip r:embed="rId9"/>
          <a:stretch/>
        </p:blipFill>
        <p:spPr>
          <a:xfrm>
            <a:off x="5148360" y="3357720"/>
            <a:ext cx="1428480" cy="150480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90"/>
          <p:cNvSpPr/>
          <p:nvPr/>
        </p:nvSpPr>
        <p:spPr>
          <a:xfrm>
            <a:off x="5581800" y="2133720"/>
            <a:ext cx="2808000" cy="792000"/>
          </a:xfrm>
          <a:prstGeom prst="cloudCallout">
            <a:avLst>
              <a:gd name="adj1" fmla="val 56162"/>
              <a:gd name="adj2" fmla="val -4118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80" descr="bird024s"/>
          <p:cNvPicPr/>
          <p:nvPr/>
        </p:nvPicPr>
        <p:blipFill>
          <a:blip r:embed="rId10"/>
          <a:stretch/>
        </p:blipFill>
        <p:spPr>
          <a:xfrm rot="20047800">
            <a:off x="7616880" y="1341360"/>
            <a:ext cx="1276200" cy="1505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564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pt课件模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3" dur="250" autoRev="1" fill="hold"/>
                                        <p:tgtEl>
                                          <p:spTgt spid="4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0.03148 L -1.11111E-006 4.07407E-006 E">
                                      <p:cBhvr>
                                        <p:cTn id="1089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243 3.33333E-006 C 0.75243 -0.04676 0.66788 -0.08264 0.56528 -0.08264 C 0.4599 -0.08264 0.37622 -0.04676 0.37622 3.33333E-006 C 0.37622 0.04676 0.29167 0.08264 0.18629 0.08264 C 0.08368 0.08264 -1.94444E-006 0.04676 -1.94444E-006 3.33333E-006 E">
                                      <p:cBhvr>
                                        <p:cTn id="109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917 -4.44444E-006 C 0.57222 -0.02523 0.56302 -0.0493 0.54444 -0.0493 C 0.52361 -0.0493 0.51632 -0.02523 0.50937 -4.44444E-006 C 0.50017 0.02801 0.4934 0.05602 0.46996 0.05602 C 0.44913 0.05602 0.44219 0.02801 0.43316 -4.44444E-006 C 0.42864 -0.02523 0.41927 -0.0493 0.39844 -0.0493 C 0.37986 -0.0493 0.37066 -0.02523 0.36337 -4.44444E-006 C 0.35642 0.02801 0.34739 0.05602 0.32656 0.05602 C 0.30538 0.05602 0.28923 -4.44443999999999E-006 0.28923 0.00024 C 0.28246 -0.02523 0.27552 -0.0493 0.25469 -0.0493 C 0.23385 -0.0493 0.22656 -0.02523 0.21996 -4.44444E-006 C 0.21042 0.02801 0.20347 0.05602 0.18055 0.05602 C 0.15937 0.05602 0.15278 0.02801 0.14583 -4.44444E-006 C 0.1368 -0.02523 0.12986 -0.0493 0.10868 -0.0493 C 0.09045 -0.0493 0.0809 -0.02523 0.07396 -4.44444E-006 C 0.06701 0.02801 0.05798 0.05602 0.0368 0.05602 C 0.01597 0.05602 0.00903 0.02801 1.38889E-006 -4.44444E-006 E">
                                      <p:cBhvr>
                                        <p:cTn id="1109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52 4.44444E-006 C 0.25052 0.04675 0.2224 0.08263 0.18837 0.08263 C 0.15313 0.08263 0.12517 0.04675 0.12517 4.44444E-006 C 0.12517 -0.04676 0.09722 -0.08264 0.06198 -0.08264 C 0.02795 -0.08264 -5.55556E-007 -0.04676 -5.55556E-007 4.44444E-006 E">
                                      <p:cBhvr>
                                        <p:cTn id="111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 -0.00186 C -0.71857 0.08217 -0.69757 0.14213 -0.67621 0.14213 C -0.65573 0.14213 -0.6375 0.08217 -0.63107 -0.00186 C -0.6217 0.08217 -0.60434 0.14213 -0.58281 0.14213 C -0.5618 0.14213 -0.5434 0.08217 -0.53767 -0.00186 C -0.52882 0.08217 -0.51041 0.14213 -0.48941 0.14213 C -0.46788 0.14213 -0.44687 0.08217 -0.44114 -0.00186 C -0.43472 0.08217 -0.41649 0.14213 -0.39236 0.14213 C -0.37448 0.14213 -0.35347 0.08217 -0.34705 -0.00186 C -0.3408 0.08217 -0.31979 0.14213 -0.29878 0.14213 C -0.27777 0.14213 -0.25955 0.08217 -0.25312 -0.00186 C -0.24427 0.08217 -0.22639 0.14213 -0.20486 0.14213 C -0.18385 0.14213 -0.16545 0.08217 -0.15659 -0.00186 C -0.15086 0.08217 -0.13246 0.14213 -0.11145 0.14213 C -0.08993 0.14213 -0.06892 0.08217 -0.06319 -0.00186 C -0.05677 0.08217 -0.03854 0.14213 -0.01441 0.14213 C 0.0066 0.14213 0.02448 0.08217 0.03091 -0.00186 E">
                                      <p:cBhvr>
                                        <p:cTn id="112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2.96296E-006 L 0.16615 0.05324 C 0.15348 0.06527 0.13438 0.07199 0.11441 0.07199 C 0.09184 0.07199 0.07344 0.06527 0.06077 0.05324 L -3.05556E-006 2.96296E-006 E">
                                      <p:cBhvr>
                                        <p:cTn id="1139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9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8"/>
          <p:cNvSpPr/>
          <p:nvPr/>
        </p:nvSpPr>
        <p:spPr>
          <a:xfrm>
            <a:off x="755640" y="2276640"/>
            <a:ext cx="2735280" cy="27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1"/>
          <p:cNvSpPr/>
          <p:nvPr/>
        </p:nvSpPr>
        <p:spPr>
          <a:xfrm>
            <a:off x="3924360" y="162864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边长为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厘米的正方形里画出一个最大的圆，可以怎样确定它的圆心和半径？快试一试吧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2" descr="OT060s"/>
          <p:cNvPicPr/>
          <p:nvPr/>
        </p:nvPicPr>
        <p:blipFill>
          <a:blip r:embed="rId2"/>
          <a:stretch/>
        </p:blipFill>
        <p:spPr>
          <a:xfrm>
            <a:off x="2212920" y="1606680"/>
            <a:ext cx="1278000" cy="272880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86"/>
          <p:cNvSpPr/>
          <p:nvPr/>
        </p:nvSpPr>
        <p:spPr>
          <a:xfrm>
            <a:off x="7740720" y="6021360"/>
            <a:ext cx="1187280" cy="433440"/>
          </a:xfrm>
          <a:custGeom>
            <a:avLst/>
            <a:gdLst>
              <a:gd name="textAreaLeft" fmla="*/ 27000 w 1187280"/>
              <a:gd name="textAreaRight" fmla="*/ 1160280 w 118728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59136" h="21600">
                <a:moveTo>
                  <a:pt x="0" y="0"/>
                </a:moveTo>
                <a:lnTo>
                  <a:pt x="59136" y="0"/>
                </a:lnTo>
                <a:lnTo>
                  <a:pt x="59136" y="21600"/>
                </a:lnTo>
                <a:lnTo>
                  <a:pt x="0" y="21600"/>
                </a:lnTo>
                <a:close/>
              </a:path>
              <a:path fill="lightenLess" w="59136" h="21600">
                <a:moveTo>
                  <a:pt x="0" y="0"/>
                </a:moveTo>
                <a:lnTo>
                  <a:pt x="59136" y="0"/>
                </a:lnTo>
                <a:lnTo>
                  <a:pt x="57786" y="1350"/>
                </a:lnTo>
                <a:lnTo>
                  <a:pt x="1350" y="1350"/>
                </a:lnTo>
                <a:close/>
              </a:path>
              <a:path fill="darken" w="59136" h="21600">
                <a:moveTo>
                  <a:pt x="59136" y="0"/>
                </a:moveTo>
                <a:lnTo>
                  <a:pt x="59136" y="21600"/>
                </a:lnTo>
                <a:lnTo>
                  <a:pt x="57786" y="20250"/>
                </a:lnTo>
                <a:lnTo>
                  <a:pt x="57786" y="1350"/>
                </a:lnTo>
                <a:close/>
              </a:path>
              <a:path fill="darkenLess" w="59136" h="21600">
                <a:moveTo>
                  <a:pt x="591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7786" y="20250"/>
                </a:lnTo>
                <a:close/>
              </a:path>
              <a:path fill="lighten" w="591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136" h="21600">
                <a:moveTo>
                  <a:pt x="26050" y="10800"/>
                </a:moveTo>
                <a:lnTo>
                  <a:pt x="36612" y="3756"/>
                </a:lnTo>
                <a:lnTo>
                  <a:pt x="36612" y="17844"/>
                </a:lnTo>
                <a:close/>
              </a:path>
              <a:path fill="darken" w="59136" h="21600">
                <a:moveTo>
                  <a:pt x="22524" y="3756"/>
                </a:moveTo>
                <a:lnTo>
                  <a:pt x="24195" y="3756"/>
                </a:lnTo>
                <a:lnTo>
                  <a:pt x="24195" y="17844"/>
                </a:lnTo>
                <a:lnTo>
                  <a:pt x="22524" y="17844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返  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200610309554127119"/>
          <p:cNvPicPr/>
          <p:nvPr/>
        </p:nvPicPr>
        <p:blipFill>
          <a:blip r:embed="rId2"/>
          <a:stretch/>
        </p:blipFill>
        <p:spPr>
          <a:xfrm>
            <a:off x="0" y="48096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-541440" y="244944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99"/>
                </a:solidFill>
                <a:latin typeface="汉仪柏青体简"/>
                <a:ea typeface="汉仪柏青体简"/>
              </a:rPr>
              <a:t>谢 谢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7076880" y="5891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华文新魏"/>
              </a:rPr>
              <a:t>制作：刘昱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075-0C55-4AFE-A167-538B751246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3" descr="["/>
          <p:cNvPicPr/>
          <p:nvPr/>
        </p:nvPicPr>
        <p:blipFill>
          <a:blip r:embed="rId2"/>
          <a:stretch/>
        </p:blipFill>
        <p:spPr>
          <a:xfrm>
            <a:off x="179280" y="608040"/>
            <a:ext cx="8785440" cy="591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未标题-1 拷贝"/>
          <p:cNvPicPr/>
          <p:nvPr/>
        </p:nvPicPr>
        <p:blipFill>
          <a:blip r:embed="rId3"/>
          <a:stretch/>
        </p:blipFill>
        <p:spPr>
          <a:xfrm>
            <a:off x="5796000" y="422100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u=2931448675,3433279420&amp;gp=3"/>
          <p:cNvPicPr/>
          <p:nvPr/>
        </p:nvPicPr>
        <p:blipFill>
          <a:blip r:embed="rId4"/>
          <a:stretch/>
        </p:blipFill>
        <p:spPr>
          <a:xfrm>
            <a:off x="6156360" y="2852640"/>
            <a:ext cx="820800" cy="74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u=97013585,3984990650&amp;gp=3"/>
          <p:cNvPicPr/>
          <p:nvPr/>
        </p:nvPicPr>
        <p:blipFill>
          <a:blip r:embed="rId5"/>
          <a:stretch/>
        </p:blipFill>
        <p:spPr>
          <a:xfrm>
            <a:off x="3708360" y="4111560"/>
            <a:ext cx="40320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1115529661"/>
          <p:cNvPicPr/>
          <p:nvPr/>
        </p:nvPicPr>
        <p:blipFill>
          <a:blip r:embed="rId6"/>
          <a:stretch/>
        </p:blipFill>
        <p:spPr>
          <a:xfrm>
            <a:off x="3851280" y="1268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"/>
          <p:cNvPicPr/>
          <p:nvPr/>
        </p:nvPicPr>
        <p:blipFill>
          <a:blip r:embed="rId7"/>
          <a:stretch/>
        </p:blipFill>
        <p:spPr>
          <a:xfrm>
            <a:off x="1403280" y="6021360"/>
            <a:ext cx="56988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10"/>
          <p:cNvSpPr/>
          <p:nvPr/>
        </p:nvSpPr>
        <p:spPr>
          <a:xfrm>
            <a:off x="2050920" y="5805360"/>
            <a:ext cx="3959280" cy="648000"/>
          </a:xfrm>
          <a:prstGeom prst="cloudCallout">
            <a:avLst>
              <a:gd name="adj1" fmla="val 60185"/>
              <a:gd name="adj2" fmla="val -69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能找出哪些圆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3"/>
          <p:cNvSpPr/>
          <p:nvPr/>
        </p:nvSpPr>
        <p:spPr>
          <a:xfrm>
            <a:off x="1042920" y="5013360"/>
            <a:ext cx="4967280" cy="1440000"/>
          </a:xfrm>
          <a:prstGeom prst="cloudCallout">
            <a:avLst>
              <a:gd name="adj1" fmla="val 71925"/>
              <a:gd name="adj2" fmla="val -2497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形是由封闭曲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组成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面图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9" descr=""/>
          <p:cNvPicPr/>
          <p:nvPr/>
        </p:nvPicPr>
        <p:blipFill>
          <a:blip r:embed="rId8"/>
          <a:stretch/>
        </p:blipFill>
        <p:spPr>
          <a:xfrm>
            <a:off x="5867280" y="4653000"/>
            <a:ext cx="162108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1115529661 拷贝"/>
          <p:cNvPicPr/>
          <p:nvPr/>
        </p:nvPicPr>
        <p:blipFill>
          <a:blip r:embed="rId9"/>
          <a:stretch/>
        </p:blipFill>
        <p:spPr>
          <a:xfrm>
            <a:off x="2411280" y="62064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68" name="Oval 112"/>
          <p:cNvSpPr/>
          <p:nvPr/>
        </p:nvSpPr>
        <p:spPr>
          <a:xfrm>
            <a:off x="5148360" y="620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7"/>
          <p:cNvSpPr/>
          <p:nvPr/>
        </p:nvSpPr>
        <p:spPr>
          <a:xfrm>
            <a:off x="7740720" y="6021360"/>
            <a:ext cx="1187280" cy="433440"/>
          </a:xfrm>
          <a:custGeom>
            <a:avLst/>
            <a:gdLst>
              <a:gd name="textAreaLeft" fmla="*/ 27000 w 1187280"/>
              <a:gd name="textAreaRight" fmla="*/ 1160280 w 118728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59136" h="21600">
                <a:moveTo>
                  <a:pt x="0" y="0"/>
                </a:moveTo>
                <a:lnTo>
                  <a:pt x="59136" y="0"/>
                </a:lnTo>
                <a:lnTo>
                  <a:pt x="59136" y="21600"/>
                </a:lnTo>
                <a:lnTo>
                  <a:pt x="0" y="21600"/>
                </a:lnTo>
                <a:close/>
              </a:path>
              <a:path fill="lightenLess" w="59136" h="21600">
                <a:moveTo>
                  <a:pt x="0" y="0"/>
                </a:moveTo>
                <a:lnTo>
                  <a:pt x="59136" y="0"/>
                </a:lnTo>
                <a:lnTo>
                  <a:pt x="57786" y="1350"/>
                </a:lnTo>
                <a:lnTo>
                  <a:pt x="1350" y="1350"/>
                </a:lnTo>
                <a:close/>
              </a:path>
              <a:path fill="darken" w="59136" h="21600">
                <a:moveTo>
                  <a:pt x="59136" y="0"/>
                </a:moveTo>
                <a:lnTo>
                  <a:pt x="59136" y="21600"/>
                </a:lnTo>
                <a:lnTo>
                  <a:pt x="57786" y="20250"/>
                </a:lnTo>
                <a:lnTo>
                  <a:pt x="57786" y="1350"/>
                </a:lnTo>
                <a:close/>
              </a:path>
              <a:path fill="darkenLess" w="59136" h="21600">
                <a:moveTo>
                  <a:pt x="591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7786" y="20250"/>
                </a:lnTo>
                <a:close/>
              </a:path>
              <a:path fill="lighten" w="591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136" h="21600">
                <a:moveTo>
                  <a:pt x="26050" y="10800"/>
                </a:moveTo>
                <a:lnTo>
                  <a:pt x="36612" y="3756"/>
                </a:lnTo>
                <a:lnTo>
                  <a:pt x="36612" y="17844"/>
                </a:lnTo>
                <a:close/>
              </a:path>
              <a:path fill="darken" w="59136" h="21600">
                <a:moveTo>
                  <a:pt x="22524" y="3756"/>
                </a:moveTo>
                <a:lnTo>
                  <a:pt x="24195" y="3756"/>
                </a:lnTo>
                <a:lnTo>
                  <a:pt x="24195" y="17844"/>
                </a:lnTo>
                <a:lnTo>
                  <a:pt x="22524" y="17844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返  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0532 C 0.02639 -0.00532 0.12205 0.12269 0.12205 0.28056 C 0.12205 0.43819 0.02639 0.5669 -0.0908 0.5669 C -0.20816 0.5669 -0.30313 0.43819 -0.30313 0.28056 C -0.30313 0.12269 -0.20816 -0.00532 -0.0908 -0.00532 Z">
                                      <p:cBhvr>
                                        <p:cTn id="86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7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9"/>
          <p:cNvSpPr/>
          <p:nvPr/>
        </p:nvSpPr>
        <p:spPr>
          <a:xfrm>
            <a:off x="539640" y="4359240"/>
            <a:ext cx="8101080" cy="1733760"/>
          </a:xfrm>
          <a:prstGeom prst="parallelogram">
            <a:avLst>
              <a:gd name="adj" fmla="val -106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46"/>
          <p:cNvGrpSpPr/>
          <p:nvPr/>
        </p:nvGrpSpPr>
        <p:grpSpPr>
          <a:xfrm>
            <a:off x="4635720" y="2634840"/>
            <a:ext cx="1961640" cy="2742480"/>
            <a:chOff x="4635720" y="2634840"/>
            <a:chExt cx="1961640" cy="2742480"/>
          </a:xfrm>
        </p:grpSpPr>
        <p:sp>
          <p:nvSpPr>
            <p:cNvPr id="73" name="Rectangle 247"/>
            <p:cNvSpPr/>
            <p:nvPr/>
          </p:nvSpPr>
          <p:spPr>
            <a:xfrm rot="19546800">
              <a:off x="5427360" y="2445840"/>
              <a:ext cx="215640" cy="2881440"/>
            </a:xfrm>
            <a:prstGeom prst="rect">
              <a:avLst/>
            </a:prstGeom>
            <a:gradFill rotWithShape="0">
              <a:gsLst>
                <a:gs pos="0">
                  <a:srgbClr val="d60093"/>
                </a:gs>
                <a:gs pos="50000">
                  <a:srgbClr val="630044"/>
                </a:gs>
                <a:gs pos="100000">
                  <a:srgbClr val="d6009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48"/>
            <p:cNvSpPr/>
            <p:nvPr/>
          </p:nvSpPr>
          <p:spPr>
            <a:xfrm flipV="1" rot="19546200">
              <a:off x="6319080" y="505296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237" descr="TO087s"/>
          <p:cNvPicPr/>
          <p:nvPr/>
        </p:nvPicPr>
        <p:blipFill>
          <a:blip r:embed="rId2"/>
          <a:stretch/>
        </p:blipFill>
        <p:spPr>
          <a:xfrm rot="19504200">
            <a:off x="468000" y="1267920"/>
            <a:ext cx="150480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8"/>
          <p:cNvSpPr/>
          <p:nvPr/>
        </p:nvSpPr>
        <p:spPr>
          <a:xfrm>
            <a:off x="2567520" y="9810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画一画，剪一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50"/>
          <p:cNvSpPr/>
          <p:nvPr/>
        </p:nvSpPr>
        <p:spPr>
          <a:xfrm flipV="1" rot="15130200">
            <a:off x="4362840" y="5005080"/>
            <a:ext cx="432000" cy="589320"/>
          </a:xfrm>
          <a:custGeom>
            <a:avLst/>
            <a:gdLst/>
            <a:ahLst/>
            <a:rect l="l" t="t" r="r" b="b"/>
            <a:pathLst>
              <a:path w="1406" h="326">
                <a:moveTo>
                  <a:pt x="0" y="91"/>
                </a:moveTo>
                <a:cubicBezTo>
                  <a:pt x="37" y="140"/>
                  <a:pt x="75" y="189"/>
                  <a:pt x="181" y="227"/>
                </a:cubicBezTo>
                <a:cubicBezTo>
                  <a:pt x="287" y="265"/>
                  <a:pt x="491" y="310"/>
                  <a:pt x="635" y="318"/>
                </a:cubicBezTo>
                <a:cubicBezTo>
                  <a:pt x="779" y="326"/>
                  <a:pt x="930" y="303"/>
                  <a:pt x="1043" y="273"/>
                </a:cubicBezTo>
                <a:cubicBezTo>
                  <a:pt x="1156" y="243"/>
                  <a:pt x="1254" y="181"/>
                  <a:pt x="1315" y="136"/>
                </a:cubicBezTo>
                <a:cubicBezTo>
                  <a:pt x="1376" y="91"/>
                  <a:pt x="1391" y="45"/>
                  <a:pt x="1406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40" descr="未标题-3 拷贝"/>
          <p:cNvPicPr/>
          <p:nvPr/>
        </p:nvPicPr>
        <p:blipFill>
          <a:blip r:embed="rId3"/>
          <a:stretch/>
        </p:blipFill>
        <p:spPr>
          <a:xfrm>
            <a:off x="4067280" y="1844640"/>
            <a:ext cx="2663640" cy="403236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45"/>
          <p:cNvSpPr/>
          <p:nvPr/>
        </p:nvSpPr>
        <p:spPr>
          <a:xfrm>
            <a:off x="4284720" y="5229360"/>
            <a:ext cx="2303280" cy="588960"/>
          </a:xfrm>
          <a:custGeom>
            <a:avLst/>
            <a:gdLst/>
            <a:ahLst/>
            <a:rect l="l" t="t" r="r" b="b"/>
            <a:pathLst>
              <a:path w="1406" h="326">
                <a:moveTo>
                  <a:pt x="0" y="91"/>
                </a:moveTo>
                <a:cubicBezTo>
                  <a:pt x="37" y="140"/>
                  <a:pt x="75" y="189"/>
                  <a:pt x="181" y="227"/>
                </a:cubicBezTo>
                <a:cubicBezTo>
                  <a:pt x="287" y="265"/>
                  <a:pt x="491" y="310"/>
                  <a:pt x="635" y="318"/>
                </a:cubicBezTo>
                <a:cubicBezTo>
                  <a:pt x="779" y="326"/>
                  <a:pt x="930" y="303"/>
                  <a:pt x="1043" y="273"/>
                </a:cubicBezTo>
                <a:cubicBezTo>
                  <a:pt x="1156" y="243"/>
                  <a:pt x="1254" y="181"/>
                  <a:pt x="1315" y="136"/>
                </a:cubicBezTo>
                <a:cubicBezTo>
                  <a:pt x="1376" y="91"/>
                  <a:pt x="1391" y="45"/>
                  <a:pt x="1406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43"/>
          <p:cNvGrpSpPr/>
          <p:nvPr/>
        </p:nvGrpSpPr>
        <p:grpSpPr>
          <a:xfrm>
            <a:off x="2475000" y="2778840"/>
            <a:ext cx="1962000" cy="2743200"/>
            <a:chOff x="2475000" y="2778840"/>
            <a:chExt cx="1962000" cy="2743200"/>
          </a:xfrm>
        </p:grpSpPr>
        <p:sp>
          <p:nvSpPr>
            <p:cNvPr id="81" name="Rectangle 241"/>
            <p:cNvSpPr/>
            <p:nvPr/>
          </p:nvSpPr>
          <p:spPr>
            <a:xfrm rot="19546800">
              <a:off x="3266640" y="2590200"/>
              <a:ext cx="216000" cy="288144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50000">
                  <a:srgbClr val="761847"/>
                </a:gs>
                <a:gs pos="100000">
                  <a:srgbClr val="ff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242"/>
            <p:cNvSpPr/>
            <p:nvPr/>
          </p:nvSpPr>
          <p:spPr>
            <a:xfrm flipV="1" rot="19546200">
              <a:off x="4158360" y="5196960"/>
              <a:ext cx="216000" cy="2887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041 C 0.0033 0.00625 0.0184 0.02292 0.04323 0.03172 C 0.06806 0.04051 0.11146 0.04398 0.13768 0.04213 C 0.16389 0.04028 0.18229 0.03334 0.2007 0.02107 C 0.2191 0.0088 0.24011 -0.02268 0.24792 -0.03148 E">
                                      <p:cBhvr>
                                        <p:cTn id="13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0.01041 C 0.00573 -0.00278 -0.00018 -0.01574 -0.0198 -0.02107 C -0.03941 -0.02639 -0.07882 -0.02107 -0.10643 -0.02107 C -0.13403 -0.02107 -0.16302 -0.02801 -0.18525 -0.02107 C -0.20747 -0.01412 -0.23108 0.01412 -0.24028 0.02106 E">
                                      <p:cBhvr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4"/>
          <p:cNvSpPr/>
          <p:nvPr/>
        </p:nvSpPr>
        <p:spPr>
          <a:xfrm rot="7990200">
            <a:off x="2049480" y="2205360"/>
            <a:ext cx="3529080" cy="352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折一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4"/>
          <p:cNvSpPr/>
          <p:nvPr/>
        </p:nvSpPr>
        <p:spPr>
          <a:xfrm>
            <a:off x="2050920" y="2206800"/>
            <a:ext cx="3529080" cy="35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5" descr="112"/>
          <p:cNvPicPr/>
          <p:nvPr/>
        </p:nvPicPr>
        <p:blipFill>
          <a:blip r:embed="rId2"/>
          <a:stretch/>
        </p:blipFill>
        <p:spPr>
          <a:xfrm>
            <a:off x="1763640" y="2060640"/>
            <a:ext cx="4048200" cy="3895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PubChord"/>
          <p:cNvSpPr/>
          <p:nvPr/>
        </p:nvSpPr>
        <p:spPr>
          <a:xfrm rot="18885000">
            <a:off x="1992240" y="2190960"/>
            <a:ext cx="3673440" cy="3699000"/>
          </a:xfrm>
          <a:custGeom>
            <a:avLst/>
            <a:gdLst>
              <a:gd name="textAreaLeft" fmla="*/ 537840 w 3673440"/>
              <a:gd name="textAreaRight" fmla="*/ 3135600 w 3673440"/>
              <a:gd name="textAreaTop" fmla="*/ 541440 h 3699000"/>
              <a:gd name="textAreaBottom" fmla="*/ 3157560 h 36990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9"/>
          <p:cNvSpPr/>
          <p:nvPr/>
        </p:nvSpPr>
        <p:spPr>
          <a:xfrm rot="5400000">
            <a:off x="2051640" y="2205720"/>
            <a:ext cx="3529080" cy="35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2050920" y="393372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0" descr="112"/>
          <p:cNvPicPr/>
          <p:nvPr/>
        </p:nvPicPr>
        <p:blipFill>
          <a:blip r:embed="rId3"/>
          <a:stretch/>
        </p:blipFill>
        <p:spPr>
          <a:xfrm>
            <a:off x="1828800" y="1916280"/>
            <a:ext cx="3895560" cy="4047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PubChord"/>
          <p:cNvSpPr/>
          <p:nvPr/>
        </p:nvSpPr>
        <p:spPr>
          <a:xfrm rot="2685000">
            <a:off x="1906200" y="2106720"/>
            <a:ext cx="3673440" cy="3698640"/>
          </a:xfrm>
          <a:custGeom>
            <a:avLst/>
            <a:gdLst>
              <a:gd name="textAreaLeft" fmla="*/ 537840 w 3673440"/>
              <a:gd name="textAreaRight" fmla="*/ 3135600 w 3673440"/>
              <a:gd name="textAreaTop" fmla="*/ 541440 h 3698640"/>
              <a:gd name="textAreaBottom" fmla="*/ 3157200 h 36986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3780000" y="2205000"/>
            <a:ext cx="0" cy="352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5278800">
            <a:off x="1828800" y="1840320"/>
            <a:ext cx="4033800" cy="4032360"/>
          </a:xfrm>
          <a:custGeom>
            <a:avLst/>
            <a:gdLst>
              <a:gd name="textAreaLeft" fmla="*/ 590400 w 4033800"/>
              <a:gd name="textAreaRight" fmla="*/ 3443400 w 4033800"/>
              <a:gd name="textAreaTop" fmla="*/ 590400 h 4032360"/>
              <a:gd name="textAreaBottom" fmla="*/ 3441960 h 403236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7"/>
          <p:cNvSpPr/>
          <p:nvPr/>
        </p:nvSpPr>
        <p:spPr>
          <a:xfrm flipV="1">
            <a:off x="2572560" y="2682000"/>
            <a:ext cx="2410200" cy="25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8" descr="112"/>
          <p:cNvPicPr/>
          <p:nvPr/>
        </p:nvPicPr>
        <p:blipFill>
          <a:blip r:embed="rId4"/>
          <a:stretch/>
        </p:blipFill>
        <p:spPr>
          <a:xfrm rot="2554800">
            <a:off x="1834920" y="1916280"/>
            <a:ext cx="3895560" cy="405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AutoShape 39"/>
          <p:cNvSpPr/>
          <p:nvPr/>
        </p:nvSpPr>
        <p:spPr>
          <a:xfrm>
            <a:off x="6227640" y="2349360"/>
            <a:ext cx="2664000" cy="1871640"/>
          </a:xfrm>
          <a:prstGeom prst="cloudCallout">
            <a:avLst>
              <a:gd name="adj1" fmla="val 23657"/>
              <a:gd name="adj2" fmla="val 9911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折过若干次后，可以发现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0" descr=""/>
          <p:cNvPicPr/>
          <p:nvPr/>
        </p:nvPicPr>
        <p:blipFill>
          <a:blip r:embed="rId5"/>
          <a:stretch/>
        </p:blipFill>
        <p:spPr>
          <a:xfrm>
            <a:off x="7658280" y="4869000"/>
            <a:ext cx="1306440" cy="1800000"/>
          </a:xfrm>
          <a:prstGeom prst="rect">
            <a:avLst/>
          </a:prstGeom>
          <a:ln w="0">
            <a:noFill/>
          </a:ln>
        </p:spPr>
      </p:pic>
      <p:sp>
        <p:nvSpPr>
          <p:cNvPr id="99" name="Line 45"/>
          <p:cNvSpPr/>
          <p:nvPr/>
        </p:nvSpPr>
        <p:spPr>
          <a:xfrm flipH="1" flipV="1">
            <a:off x="3254040" y="2284920"/>
            <a:ext cx="1051920" cy="33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6"/>
          <p:cNvSpPr/>
          <p:nvPr/>
        </p:nvSpPr>
        <p:spPr>
          <a:xfrm flipH="1">
            <a:off x="3144240" y="2293920"/>
            <a:ext cx="1272600" cy="328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7"/>
          <p:cNvSpPr/>
          <p:nvPr/>
        </p:nvSpPr>
        <p:spPr>
          <a:xfrm flipH="1" flipV="1">
            <a:off x="2467440" y="2867400"/>
            <a:ext cx="2688480" cy="227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 rot="5400000">
            <a:off x="2841840" y="1269000"/>
            <a:ext cx="3600720" cy="35989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4643280" y="1268280"/>
            <a:ext cx="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H="1">
            <a:off x="3563640" y="1628640"/>
            <a:ext cx="2160360" cy="288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3635280" y="1555920"/>
            <a:ext cx="201636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2"/>
          <p:cNvSpPr/>
          <p:nvPr/>
        </p:nvSpPr>
        <p:spPr>
          <a:xfrm flipH="1">
            <a:off x="2987280" y="2421000"/>
            <a:ext cx="3313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457200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3"/>
          <p:cNvSpPr/>
          <p:nvPr/>
        </p:nvSpPr>
        <p:spPr>
          <a:xfrm flipH="1">
            <a:off x="1403280" y="5661000"/>
            <a:ext cx="6840720" cy="576360"/>
          </a:xfrm>
          <a:prstGeom prst="wedgeRoundRectCallout">
            <a:avLst>
              <a:gd name="adj1" fmla="val 54712"/>
              <a:gd name="adj2" fmla="val -45314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们把圆中心的这一点叫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圆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4"/>
          <p:cNvSpPr txBox="1"/>
          <p:nvPr/>
        </p:nvSpPr>
        <p:spPr>
          <a:xfrm>
            <a:off x="4067280" y="2635200"/>
            <a:ext cx="406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2" name="Picture 17" descr=""/>
          <p:cNvPicPr/>
          <p:nvPr/>
        </p:nvPicPr>
        <p:blipFill>
          <a:blip r:embed="rId2"/>
          <a:stretch/>
        </p:blipFill>
        <p:spPr>
          <a:xfrm>
            <a:off x="96840" y="4869000"/>
            <a:ext cx="1306440" cy="180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5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认一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 rot="5400000">
            <a:off x="2554920" y="1269000"/>
            <a:ext cx="3600720" cy="3598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2"/>
          <a:stretch/>
        </p:blipFill>
        <p:spPr>
          <a:xfrm>
            <a:off x="96840" y="4869000"/>
            <a:ext cx="130644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3"/>
          <p:cNvGrpSpPr/>
          <p:nvPr/>
        </p:nvGrpSpPr>
        <p:grpSpPr>
          <a:xfrm>
            <a:off x="4211640" y="3068640"/>
            <a:ext cx="8064000" cy="1471320"/>
            <a:chOff x="4211640" y="3068640"/>
            <a:chExt cx="8064000" cy="1471320"/>
          </a:xfrm>
        </p:grpSpPr>
        <p:grpSp>
          <p:nvGrpSpPr>
            <p:cNvPr id="118" name="Group 14"/>
            <p:cNvGrpSpPr/>
            <p:nvPr/>
          </p:nvGrpSpPr>
          <p:grpSpPr>
            <a:xfrm>
              <a:off x="4211640" y="3068640"/>
              <a:ext cx="8064000" cy="1471320"/>
              <a:chOff x="4211640" y="3068640"/>
              <a:chExt cx="8064000" cy="1471320"/>
            </a:xfrm>
          </p:grpSpPr>
          <p:pic>
            <p:nvPicPr>
              <p:cNvPr id="119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11640" y="3068640"/>
                <a:ext cx="8012880" cy="1334160"/>
              </a:xfrm>
              <a:prstGeom prst="rect">
                <a:avLst/>
              </a:prstGeom>
              <a:ln w="0">
                <a:noFill/>
              </a:ln>
              <a:effectLst>
                <a:outerShdw dist="107932" dir="81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0" name="Rectangle 16"/>
              <p:cNvSpPr/>
              <p:nvPr/>
            </p:nvSpPr>
            <p:spPr>
              <a:xfrm>
                <a:off x="11995920" y="4399560"/>
                <a:ext cx="279720" cy="14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7"/>
            <p:cNvSpPr/>
            <p:nvPr/>
          </p:nvSpPr>
          <p:spPr>
            <a:xfrm>
              <a:off x="4212000" y="339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512460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603576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693684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785196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967464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1051236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"/>
            <p:cNvSpPr/>
            <p:nvPr/>
          </p:nvSpPr>
          <p:spPr>
            <a:xfrm>
              <a:off x="1142748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8760960" y="342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26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4356000" y="2420640"/>
            <a:ext cx="165600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4356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4356000" y="1628640"/>
            <a:ext cx="107964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35600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 flipH="1">
            <a:off x="255600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 flipH="1">
            <a:off x="270000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 flipH="1">
            <a:off x="334800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 flipH="1" flipV="1">
            <a:off x="3276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435600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4284720" y="299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3780000" y="2635200"/>
            <a:ext cx="40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Line 37"/>
          <p:cNvSpPr/>
          <p:nvPr/>
        </p:nvSpPr>
        <p:spPr>
          <a:xfrm>
            <a:off x="4356000" y="3068640"/>
            <a:ext cx="1800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6084720" y="2997360"/>
            <a:ext cx="14472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 flipV="1">
            <a:off x="4306320" y="1674720"/>
            <a:ext cx="1107720" cy="14191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2"/>
          <p:cNvSpPr/>
          <p:nvPr/>
        </p:nvSpPr>
        <p:spPr>
          <a:xfrm rot="20245800">
            <a:off x="5364000" y="1557000"/>
            <a:ext cx="144720" cy="144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4" descr="图片2"/>
          <p:cNvPicPr/>
          <p:nvPr/>
        </p:nvPicPr>
        <p:blipFill>
          <a:blip r:embed="rId4"/>
          <a:stretch/>
        </p:blipFill>
        <p:spPr>
          <a:xfrm rot="18445800">
            <a:off x="3208320" y="-291960"/>
            <a:ext cx="8155080" cy="14842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7"/>
          <p:cNvSpPr/>
          <p:nvPr/>
        </p:nvSpPr>
        <p:spPr>
          <a:xfrm>
            <a:off x="1330200" y="5516640"/>
            <a:ext cx="669780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心到圆上任意一点的距离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8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量一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 rot="5400000">
            <a:off x="2482920" y="1269000"/>
            <a:ext cx="3600720" cy="35989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96840" y="4869000"/>
            <a:ext cx="1306440" cy="1800000"/>
          </a:xfrm>
          <a:prstGeom prst="rect">
            <a:avLst/>
          </a:prstGeom>
          <a:ln w="0">
            <a:noFill/>
          </a:ln>
        </p:spPr>
      </p:pic>
      <p:sp>
        <p:nvSpPr>
          <p:cNvPr id="152" name="Line 18"/>
          <p:cNvSpPr/>
          <p:nvPr/>
        </p:nvSpPr>
        <p:spPr>
          <a:xfrm>
            <a:off x="4284720" y="306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4284720" y="2420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28472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 flipV="1">
            <a:off x="4284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28472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2484000" y="3068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H="1">
            <a:off x="262872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H="1">
            <a:off x="327672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 flipH="1" flipV="1">
            <a:off x="3204720" y="1628640"/>
            <a:ext cx="107964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428472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5"/>
          <p:cNvSpPr/>
          <p:nvPr/>
        </p:nvSpPr>
        <p:spPr>
          <a:xfrm>
            <a:off x="1042920" y="5589720"/>
            <a:ext cx="777708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圆心和圆上任意一点的线段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半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1022400" y="981000"/>
            <a:ext cx="587520" cy="5814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彩云"/>
              </a:rPr>
              <a:t>认一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7"/>
          <p:cNvSpPr/>
          <p:nvPr/>
        </p:nvSpPr>
        <p:spPr>
          <a:xfrm flipV="1">
            <a:off x="4284720" y="2420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 flipV="1">
            <a:off x="4284720" y="1628640"/>
            <a:ext cx="107928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4284720" y="3068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0"/>
          <p:cNvSpPr/>
          <p:nvPr/>
        </p:nvSpPr>
        <p:spPr>
          <a:xfrm flipH="1">
            <a:off x="2484000" y="30686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 flipH="1">
            <a:off x="2628720" y="3068640"/>
            <a:ext cx="1655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2"/>
          <p:cNvSpPr/>
          <p:nvPr/>
        </p:nvSpPr>
        <p:spPr>
          <a:xfrm flipH="1">
            <a:off x="3276720" y="3068640"/>
            <a:ext cx="100800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3"/>
          <p:cNvSpPr/>
          <p:nvPr/>
        </p:nvSpPr>
        <p:spPr>
          <a:xfrm flipH="1" flipV="1">
            <a:off x="3204720" y="1628640"/>
            <a:ext cx="107964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4284720" y="126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8"/>
          <p:cNvSpPr/>
          <p:nvPr/>
        </p:nvSpPr>
        <p:spPr>
          <a:xfrm>
            <a:off x="4213080" y="29973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29"/>
          <p:cNvSpPr txBox="1"/>
          <p:nvPr/>
        </p:nvSpPr>
        <p:spPr>
          <a:xfrm>
            <a:off x="3662280" y="2611440"/>
            <a:ext cx="406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o</a:t>
            </a:r>
            <a:endParaRPr b="1" i="1" lang="en-US" sz="2800" spc="-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4" name="Text Box 46"/>
          <p:cNvSpPr/>
          <p:nvPr/>
        </p:nvSpPr>
        <p:spPr>
          <a:xfrm rot="18316800">
            <a:off x="4658400" y="22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半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7"/>
          <p:cNvSpPr/>
          <p:nvPr/>
        </p:nvSpPr>
        <p:spPr>
          <a:xfrm rot="18291600">
            <a:off x="5161320" y="1743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8"/>
          <p:cNvSpPr/>
          <p:nvPr/>
        </p:nvSpPr>
        <p:spPr>
          <a:xfrm flipV="1">
            <a:off x="4284720" y="1628640"/>
            <a:ext cx="1079280" cy="1440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14T03:09:49Z</dcterms:modified>
  <cp:revision>6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