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D35-644C-4238-ABAE-2927CB6B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D32-21D9-4910-9B2D-5D5F0021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D9E-3591-4344-902A-0163D1DC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C7D-FB8F-49FA-9EC6-8F6FE5C4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E4E-C38B-47F7-9EA5-79BE4D0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0A4-FFF4-4C70-8104-02F41E5C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633-56C2-429E-956E-6E47DCC2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93F-EEE2-4C20-9CF6-3747F4A5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2C7-665D-451F-8367-667364AC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7D8-3345-4550-B68D-6A46D9A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DA6-FA88-4463-BAA2-A51D91F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A04-E432-4728-8FF8-0F1D75F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4189-3D59-41C3-B93A-3FDD3F5F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117880" y="26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33720" y="582480"/>
            <a:ext cx="3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096880" y="2759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杜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4480" y="10526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石壕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33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98440" y="333864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0" y="4871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98440" y="2666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 flipH="1">
            <a:off x="611280" y="189000"/>
            <a:ext cx="80769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运用想象，还原情形，进行情景对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三男邺城戍，一男附书至，二男新战死，存    者且偷生，死者长已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室中更无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惟有乳下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有孙母未去，出入无完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老妇力虽衰，请从吏夜归，急应河阳役，犹 得备晨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DB3-D84E-4978-8635-EB1463FC8AFE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026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27"/>
          <p:cNvSpPr/>
          <p:nvPr/>
        </p:nvSpPr>
        <p:spPr>
          <a:xfrm>
            <a:off x="1523880" y="30700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这个故事的结局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28" descr="q6"/>
          <p:cNvPicPr/>
          <p:nvPr/>
        </p:nvPicPr>
        <p:blipFill>
          <a:blip r:embed="rId1"/>
          <a:stretch/>
        </p:blipFill>
        <p:spPr>
          <a:xfrm>
            <a:off x="7924680" y="6858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030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508644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79080" y="90360"/>
            <a:ext cx="1297800" cy="1434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比一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891080" y="2209680"/>
            <a:ext cx="53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有感情地大声朗读全诗，根据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内容的理解，力争以最短的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背出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clock"/>
          <p:cNvPicPr/>
          <p:nvPr/>
        </p:nvPicPr>
        <p:blipFill>
          <a:blip r:embed="rId1"/>
          <a:stretch/>
        </p:blipFill>
        <p:spPr>
          <a:xfrm>
            <a:off x="7616880" y="457200"/>
            <a:ext cx="765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25600" y="166680"/>
            <a:ext cx="37558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</a:t>
            </a: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793960" y="2116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默写全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707200" y="3071880"/>
            <a:ext cx="46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练笔：把本诗改写成一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26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27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1631160" y="1143000"/>
            <a:ext cx="59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唐肃宗乾元元年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5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春天，郭子仪等九节度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2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0"/>
          <p:cNvSpPr/>
          <p:nvPr/>
        </p:nvSpPr>
        <p:spPr>
          <a:xfrm>
            <a:off x="443988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六十万大军包围安庆绪于邺城，由于指挥不统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1"/>
          <p:cNvSpPr/>
          <p:nvPr/>
        </p:nvSpPr>
        <p:spPr>
          <a:xfrm>
            <a:off x="1364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2"/>
          <p:cNvSpPr/>
          <p:nvPr/>
        </p:nvSpPr>
        <p:spPr>
          <a:xfrm>
            <a:off x="1860840" y="23623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被史思明援军打败唐王朝为补充兵力，便在洛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3"/>
          <p:cNvSpPr/>
          <p:nvPr/>
        </p:nvSpPr>
        <p:spPr>
          <a:xfrm>
            <a:off x="-9216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4"/>
          <p:cNvSpPr/>
          <p:nvPr/>
        </p:nvSpPr>
        <p:spPr>
          <a:xfrm>
            <a:off x="2053080" y="3048120"/>
            <a:ext cx="48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潼关一带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强行抓人当兵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民苦不堪言。这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5"/>
          <p:cNvSpPr/>
          <p:nvPr/>
        </p:nvSpPr>
        <p:spPr>
          <a:xfrm>
            <a:off x="212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6"/>
          <p:cNvSpPr/>
          <p:nvPr/>
        </p:nvSpPr>
        <p:spPr>
          <a:xfrm>
            <a:off x="1829160" y="3733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古代伟大的现实主义诗人杜甫经过此处，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7"/>
          <p:cNvSpPr/>
          <p:nvPr/>
        </p:nvSpPr>
        <p:spPr>
          <a:xfrm>
            <a:off x="-9216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38"/>
          <p:cNvSpPr/>
          <p:nvPr/>
        </p:nvSpPr>
        <p:spPr>
          <a:xfrm>
            <a:off x="1829160" y="4419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所见所闻进行了高度的艺术概括，写成了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9"/>
          <p:cNvSpPr/>
          <p:nvPr/>
        </p:nvSpPr>
        <p:spPr>
          <a:xfrm>
            <a:off x="5936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0"/>
          <p:cNvSpPr/>
          <p:nvPr/>
        </p:nvSpPr>
        <p:spPr>
          <a:xfrm>
            <a:off x="2003040" y="5029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组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石壕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三吏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41"/>
          <p:cNvSpPr/>
          <p:nvPr/>
        </p:nvSpPr>
        <p:spPr>
          <a:xfrm>
            <a:off x="1364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42"/>
          <p:cNvSpPr/>
          <p:nvPr/>
        </p:nvSpPr>
        <p:spPr>
          <a:xfrm>
            <a:off x="63288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43"/>
          <p:cNvSpPr/>
          <p:nvPr/>
        </p:nvSpPr>
        <p:spPr>
          <a:xfrm>
            <a:off x="754560" y="61920"/>
            <a:ext cx="38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背景简介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77800" y="-158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hihaoli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508040" y="38088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方正舒体"/>
                <a:ea typeface="方正舒体"/>
              </a:rPr>
              <a:t>听 录 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09480" y="533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生字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3520" y="182880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吏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逾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邺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戍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咽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泣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4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162920" y="1600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438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593080" y="283356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41040" y="283356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h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955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593080" y="4114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391520" y="4114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668320" y="5334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189080" y="-15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 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24400" y="17701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371600" y="685800"/>
            <a:ext cx="71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注释，疏通文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219320" y="1981080"/>
            <a:ext cx="589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162960" y="12794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复述故事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9920" y="27748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不要求逐字逐句翻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说出大意就可以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itle1"/>
          <p:cNvPicPr/>
          <p:nvPr/>
        </p:nvPicPr>
        <p:blipFill>
          <a:blip r:embed="rId1"/>
          <a:stretch/>
        </p:blipFill>
        <p:spPr>
          <a:xfrm>
            <a:off x="1752480" y="4952880"/>
            <a:ext cx="586764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90400" y="746280"/>
            <a:ext cx="27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走进石壕村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50532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62120" y="1055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209680" y="60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q2"/>
          <p:cNvPicPr/>
          <p:nvPr/>
        </p:nvPicPr>
        <p:blipFill>
          <a:blip r:embed="rId1"/>
          <a:stretch/>
        </p:blipFill>
        <p:spPr>
          <a:xfrm>
            <a:off x="7745400" y="76212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4024080" y="1828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（齐读第一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4451400" y="31669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这里老翁、老妇分别有怎样的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447920" y="383544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2193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为何有此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243828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哪几个字把人物形象淋漓尽致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展示出来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33720" y="41148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呼　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怒　 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024080" y="5715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4:36:32Z</dcterms:created>
  <dc:creator/>
  <dc:description/>
  <cp:keywords>幻灯片之家 http:/www.eeppt.com</cp:keywords>
  <dc:language>en-US</dc:language>
  <cp:lastModifiedBy/>
  <dcterms:modified xsi:type="dcterms:W3CDTF">2015-07-04T11:29:57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