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B98-5AFA-40C8-A7D5-4DC98E3A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092-206A-4C39-AE0D-6445268C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CFE-9453-405E-AD59-215A5D8B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09D-5567-4C31-9B02-FF6BAE88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C1B9-A4BB-48F9-B981-D7806148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5370-90EE-41BE-B613-88B0B980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A2E7-9EC8-4224-AE3C-650F6760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7ED1-099C-4C00-9A0F-4D8B42E3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8D35-390F-4A8C-A3EE-6AEE531B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1A7E-B661-450C-9992-FB9843C3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B123-54A5-4990-BE1C-BF6AD1DA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19E-278C-4765-B2A5-8EAE1FBD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EB2B-EEBD-4C73-93DE-504F7075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CFE7-25F4-40BD-A476-0AAE7FAA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C9AD-FAC8-4435-BAE4-2948DB55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F03B-0B69-44F2-ACB1-2471A515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CCF0-2AE7-4D9F-8E43-6A11F301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173-2467-47EA-A29A-72A1A50B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6ED-F921-4E62-A764-6D8BA89E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079-01F7-43E9-BD92-5B67E26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5B7-9FF1-4D57-8FAE-45FD4778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B59-EEB0-4023-9C27-2C46D553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295-4EDD-4D32-B198-F538434A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133-6D77-4D05-9D52-1FE6642D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8EAE-4E7E-45A3-85F7-F4330D782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3248-9DB6-4467-831E-D321CC3850B3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baike.baidu.com/view/13598.htm" TargetMode="External"/><Relationship Id="rId5" Type="http://schemas.openxmlformats.org/officeDocument/2006/relationships/hyperlink" Target="http://baike.baidu.com/view/45083.htm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1449360" y="1347840"/>
            <a:ext cx="1646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2"/>
          <a:stretch/>
        </p:blipFill>
        <p:spPr>
          <a:xfrm>
            <a:off x="3733920" y="642960"/>
            <a:ext cx="3673440" cy="498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3240" y="641664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41911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560" y="2057400"/>
            <a:ext cx="26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司马光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728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533520" y="2286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有一回，司马光和几个小朋友在＿＿玩。花园里有座＿＿，假山下面有＿＿＿＿＿，缸里＿＿＿＿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90720" y="838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花园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715000" y="82224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假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590920" y="137160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一口大水缸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629400" y="14479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装满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33520" y="1981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了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6742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762120" y="121932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口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大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缸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14400" y="29718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装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满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了水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0" y="907920"/>
            <a:ext cx="55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有个小朋友爬上了假山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,               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掉进了大水缸里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285920" y="1557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一不小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55640" y="62064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下课的铃声响了，我赶紧往教室门外走去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不小心，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_____________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944360" y="3068640"/>
            <a:ext cx="46821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在操场上活动的时候，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不小心</a:t>
            </a:r>
            <a:r>
              <a:rPr b="1" i="1" lang="zh-CN" sz="4000" spc="-1" strike="noStrike">
                <a:solidFill>
                  <a:srgbClr val="2605ed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__________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130480" y="18050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把别人的文具盒碰掉地上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830760" y="371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扭伤了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250920" y="333360"/>
            <a:ext cx="504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别的小朋友都慌了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有的吓哭了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有的叫着喊着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跑去找大人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89080" y="10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09760" y="533520"/>
            <a:ext cx="62766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有个小朋友（   ）假山上去玩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  ），（    ）了大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缸里。别的小朋友都（     ）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有的（       ），有的（        ）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            ）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108240" y="6118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2820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爬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223640" y="1295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不小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737520" y="137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掉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19472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慌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464840" y="2362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吓哭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05116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叫着喊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75880" y="2895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跑去找大 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260280"/>
            <a:ext cx="77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605ed"/>
                </a:solidFill>
                <a:latin typeface="Arial"/>
              </a:rPr>
              <a:t>       </a:t>
            </a:r>
            <a:r>
              <a:rPr b="1" lang="zh-CN" sz="8000" spc="-1" strike="noStrike">
                <a:solidFill>
                  <a:srgbClr val="2605ed"/>
                </a:solidFill>
                <a:latin typeface="Arial"/>
              </a:rPr>
              <a:t>别的小朋友都慌了，</a:t>
            </a:r>
            <a:r>
              <a:rPr b="1" lang="zh-CN" sz="8000" spc="-1" strike="noStrike">
                <a:solidFill>
                  <a:srgbClr val="cc00cc"/>
                </a:solidFill>
                <a:latin typeface="Arial"/>
              </a:rPr>
              <a:t>有的</a:t>
            </a:r>
            <a:r>
              <a:rPr b="1" lang="zh-CN" sz="8000" spc="-1" strike="noStrike">
                <a:solidFill>
                  <a:srgbClr val="2605ed"/>
                </a:solidFill>
                <a:latin typeface="Arial"/>
              </a:rPr>
              <a:t>吓哭了，</a:t>
            </a:r>
            <a:r>
              <a:rPr b="1" lang="zh-CN" sz="8000" spc="-1" strike="noStrike">
                <a:solidFill>
                  <a:srgbClr val="cc00cc"/>
                </a:solidFill>
                <a:latin typeface="Arial"/>
              </a:rPr>
              <a:t>有的</a:t>
            </a:r>
            <a:r>
              <a:rPr b="1" lang="zh-CN" sz="8000" spc="-1" strike="noStrike">
                <a:solidFill>
                  <a:srgbClr val="2605ed"/>
                </a:solidFill>
                <a:latin typeface="Arial"/>
              </a:rPr>
              <a:t>叫着喊着，跑去找大人。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19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609480" y="76212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我会说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33520" y="434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04920" y="187956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下课的时候，同学们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，还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50920" y="3500280"/>
            <a:ext cx="908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大扫除的时候，同学们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Times New Roman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Times New Roman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，还有的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Times New Roman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………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937560" y="177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跳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856520" y="2421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踢毽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886360" y="2349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打篮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7010640" y="3357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扫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825560" y="4038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洒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88888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擦桌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未命名1"/>
          <p:cNvPicPr/>
          <p:nvPr/>
        </p:nvPicPr>
        <p:blipFill>
          <a:blip r:embed="rId2"/>
          <a:stretch/>
        </p:blipFill>
        <p:spPr>
          <a:xfrm>
            <a:off x="0" y="0"/>
            <a:ext cx="9144000" cy="62596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457200" y="49370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司马光没有慌，他举起一块大石头，使劲砸那口缸，几下子就把缸砸破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77208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733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914400" y="41911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             </a:t>
            </a:r>
            <a:r>
              <a:rPr b="1" lang="zh-CN" sz="4800" spc="-1" strike="noStrike">
                <a:solidFill>
                  <a:srgbClr val="3366ff"/>
                </a:solidFill>
                <a:latin typeface="Tahoma"/>
                <a:ea typeface="楷体_GB2312"/>
              </a:rPr>
              <a:t>缸里的水流出来了，掉进缸里的小朋友得救了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03480" y="129492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2514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你们还知道哪些复姓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905120" y="3808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ef0903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司马是复姓</a:t>
            </a:r>
            <a:endParaRPr b="1" lang="en-US" sz="1800" spc="-1" strike="noStrike">
              <a:ln w="9360">
                <a:solidFill>
                  <a:srgbClr val="ef0903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0" name="WordArt 5" descr=""/>
          <p:cNvPicPr/>
          <p:nvPr/>
        </p:nvPicPr>
        <p:blipFill>
          <a:blip r:embed="rId2"/>
          <a:stretch/>
        </p:blipFill>
        <p:spPr>
          <a:xfrm>
            <a:off x="1219320" y="3730680"/>
            <a:ext cx="6443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背景4"/>
          <p:cNvPicPr/>
          <p:nvPr/>
        </p:nvPicPr>
        <p:blipFill>
          <a:blip r:embed="rId2"/>
          <a:stretch/>
        </p:blipFill>
        <p:spPr>
          <a:xfrm>
            <a:off x="-612720" y="0"/>
            <a:ext cx="9756720" cy="7677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1476360" y="2421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花园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476360" y="364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慌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508720" y="364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826920" y="1844640"/>
            <a:ext cx="64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司马光和几个小朋友在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玩，一个小朋友掉进了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其他小朋友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司马光没有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他举起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使劲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那口缸，掉在缸里的小朋友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835280" y="3141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大水缸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41128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一块大石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84720" y="4365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547640" y="551664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得救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WordArt 11"/>
          <p:cNvSpPr txBox="1"/>
          <p:nvPr/>
        </p:nvSpPr>
        <p:spPr>
          <a:xfrm>
            <a:off x="5715000" y="609480"/>
            <a:ext cx="2286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我会填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4761720" y="1052640"/>
            <a:ext cx="37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按故事发展的顺序，在扩号里编上序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445840" y="1916280"/>
            <a:ext cx="4930920" cy="47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有一回，他和几个小朋友在花园里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古时候，有个孩子叫司马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别的孩子都慌了，跑去喊大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掉进水缸的小朋友得救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司马光举起大石头，把水缸砸破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　）一个小朋友不小心掉进大水缸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256040" y="288288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260720" y="20844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241640" y="5985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27600" y="367524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4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260720" y="525924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5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60720" y="446724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6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8070840" y="44280"/>
            <a:ext cx="82080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司马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692360" y="126828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4" name="Picture 3" descr="a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4211640" y="98100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211640" y="692280"/>
            <a:ext cx="49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你认为司马光是个怎样的孩子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003640" y="2708280"/>
            <a:ext cx="280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遇事不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善于动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聪明勇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3"/>
          <p:cNvSpPr txBox="1"/>
          <p:nvPr/>
        </p:nvSpPr>
        <p:spPr>
          <a:xfrm>
            <a:off x="1295280" y="114300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想一想：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968760" y="2514600"/>
            <a:ext cx="727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如果这个时候大人们来了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会对司马光说些什么呢？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司马光的同伴们又会对他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说些什么呢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背景4"/>
          <p:cNvPicPr/>
          <p:nvPr/>
        </p:nvPicPr>
        <p:blipFill>
          <a:blip r:embed="rId2"/>
          <a:stretch/>
        </p:blipFill>
        <p:spPr>
          <a:xfrm>
            <a:off x="-612720" y="0"/>
            <a:ext cx="9756720" cy="7677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1423080" y="2133720"/>
            <a:ext cx="55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大人们会这样夸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司马光，你真是个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的孩子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24000" y="3789360"/>
            <a:ext cx="734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同伴们会这样夸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司马光，你真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870080" y="2708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聪明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366800" y="4365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勇敢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6920" y="2349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司马光砸缸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067280" y="2349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孔融让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971640" y="328464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曹冲称象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348000" y="3213000"/>
            <a:ext cx="47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曹植作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七步诗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971640" y="436572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王冕四岁学画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971640" y="537372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王羲之七岁通书法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2" name="WordArt 8" descr=""/>
          <p:cNvPicPr/>
          <p:nvPr/>
        </p:nvPicPr>
        <p:blipFill>
          <a:blip r:embed="rId2"/>
          <a:stretch/>
        </p:blipFill>
        <p:spPr>
          <a:xfrm>
            <a:off x="0" y="195120"/>
            <a:ext cx="6381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500"/>
                            </p:stCondLst>
                            <p:childTnLst>
                              <p:par>
                                <p:cTn id="6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15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500"/>
                            </p:stCondLst>
                            <p:childTnLst>
                              <p:par>
                                <p:cTn id="6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501"/>
                            </p:stCondLst>
                            <p:childTnLst>
                              <p:par>
                                <p:cTn id="6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无标题"/>
          <p:cNvPicPr/>
          <p:nvPr/>
        </p:nvPicPr>
        <p:blipFill>
          <a:blip r:embed="rId2"/>
          <a:stretch/>
        </p:blipFill>
        <p:spPr>
          <a:xfrm>
            <a:off x="4648320" y="3063960"/>
            <a:ext cx="4495680" cy="3794040"/>
          </a:xfrm>
          <a:prstGeom prst="rect">
            <a:avLst/>
          </a:prstGeom>
          <a:ln w="0">
            <a:noFill/>
          </a:ln>
        </p:spPr>
      </p:pic>
      <p:sp>
        <p:nvSpPr>
          <p:cNvPr id="214" name="WordArt 3"/>
          <p:cNvSpPr txBox="1"/>
          <p:nvPr/>
        </p:nvSpPr>
        <p:spPr>
          <a:xfrm>
            <a:off x="5257800" y="380880"/>
            <a:ext cx="3886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这样做对吗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5" name="Picture 4" descr="11104742KsH73"/>
          <p:cNvPicPr/>
          <p:nvPr/>
        </p:nvPicPr>
        <p:blipFill>
          <a:blip r:embed="rId3"/>
          <a:stretch/>
        </p:blipFill>
        <p:spPr>
          <a:xfrm>
            <a:off x="0" y="0"/>
            <a:ext cx="5029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背景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994680" y="2286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我会写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8" name="Group 4"/>
          <p:cNvGrpSpPr/>
          <p:nvPr/>
        </p:nvGrpSpPr>
        <p:grpSpPr>
          <a:xfrm>
            <a:off x="685800" y="1371600"/>
            <a:ext cx="3885840" cy="3885840"/>
            <a:chOff x="685800" y="1371600"/>
            <a:chExt cx="3885840" cy="3885840"/>
          </a:xfrm>
        </p:grpSpPr>
        <p:sp>
          <p:nvSpPr>
            <p:cNvPr id="219" name="Rectangle 5"/>
            <p:cNvSpPr/>
            <p:nvPr/>
          </p:nvSpPr>
          <p:spPr>
            <a:xfrm>
              <a:off x="68580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257616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68580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2" name="Group 8"/>
          <p:cNvGrpSpPr/>
          <p:nvPr/>
        </p:nvGrpSpPr>
        <p:grpSpPr>
          <a:xfrm>
            <a:off x="4876920" y="1371600"/>
            <a:ext cx="3885840" cy="3885840"/>
            <a:chOff x="4876920" y="1371600"/>
            <a:chExt cx="3885840" cy="3885840"/>
          </a:xfrm>
        </p:grpSpPr>
        <p:sp>
          <p:nvSpPr>
            <p:cNvPr id="223" name="Rectangle 9"/>
            <p:cNvSpPr/>
            <p:nvPr/>
          </p:nvSpPr>
          <p:spPr>
            <a:xfrm>
              <a:off x="487692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676728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Line 11"/>
            <p:cNvSpPr/>
            <p:nvPr/>
          </p:nvSpPr>
          <p:spPr>
            <a:xfrm>
              <a:off x="487692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6" name="Text Box 12"/>
          <p:cNvSpPr/>
          <p:nvPr/>
        </p:nvSpPr>
        <p:spPr>
          <a:xfrm>
            <a:off x="1542960" y="1197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别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5791320" y="1197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背景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994680" y="2286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我会写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685800" y="1371600"/>
            <a:ext cx="3885840" cy="3885840"/>
            <a:chOff x="685800" y="1371600"/>
            <a:chExt cx="3885840" cy="3885840"/>
          </a:xfrm>
        </p:grpSpPr>
        <p:sp>
          <p:nvSpPr>
            <p:cNvPr id="231" name="Rectangle 5"/>
            <p:cNvSpPr/>
            <p:nvPr/>
          </p:nvSpPr>
          <p:spPr>
            <a:xfrm>
              <a:off x="68580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2" name="Line 6"/>
            <p:cNvSpPr/>
            <p:nvPr/>
          </p:nvSpPr>
          <p:spPr>
            <a:xfrm>
              <a:off x="257616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>
              <a:off x="68580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4" name="Group 8"/>
          <p:cNvGrpSpPr/>
          <p:nvPr/>
        </p:nvGrpSpPr>
        <p:grpSpPr>
          <a:xfrm>
            <a:off x="4876920" y="1371600"/>
            <a:ext cx="3885840" cy="3885840"/>
            <a:chOff x="4876920" y="1371600"/>
            <a:chExt cx="3885840" cy="3885840"/>
          </a:xfrm>
        </p:grpSpPr>
        <p:sp>
          <p:nvSpPr>
            <p:cNvPr id="235" name="Rectangle 9"/>
            <p:cNvSpPr/>
            <p:nvPr/>
          </p:nvSpPr>
          <p:spPr>
            <a:xfrm>
              <a:off x="487692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Line 10"/>
            <p:cNvSpPr/>
            <p:nvPr/>
          </p:nvSpPr>
          <p:spPr>
            <a:xfrm>
              <a:off x="676728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Line 11"/>
            <p:cNvSpPr/>
            <p:nvPr/>
          </p:nvSpPr>
          <p:spPr>
            <a:xfrm>
              <a:off x="487692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8" name="Text Box 12"/>
          <p:cNvSpPr/>
          <p:nvPr/>
        </p:nvSpPr>
        <p:spPr>
          <a:xfrm>
            <a:off x="1614600" y="134136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646600" y="1197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都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106160" y="72540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Arial"/>
              </a:rPr>
              <a:t>认识右耳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3852720" y="5013360"/>
            <a:ext cx="2541600" cy="1312920"/>
            <a:chOff x="3852720" y="5013360"/>
            <a:chExt cx="2541600" cy="1312920"/>
          </a:xfrm>
        </p:grpSpPr>
        <p:grpSp>
          <p:nvGrpSpPr>
            <p:cNvPr id="242" name="Group 4"/>
            <p:cNvGrpSpPr/>
            <p:nvPr/>
          </p:nvGrpSpPr>
          <p:grpSpPr>
            <a:xfrm>
              <a:off x="5122800" y="5135760"/>
              <a:ext cx="1271520" cy="1187280"/>
              <a:chOff x="5122800" y="5135760"/>
              <a:chExt cx="1271520" cy="1187280"/>
            </a:xfrm>
          </p:grpSpPr>
          <p:sp>
            <p:nvSpPr>
              <p:cNvPr id="243" name="Rectangle 5"/>
              <p:cNvSpPr/>
              <p:nvPr/>
            </p:nvSpPr>
            <p:spPr>
              <a:xfrm>
                <a:off x="5122800" y="5135760"/>
                <a:ext cx="127152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4" name="Line 6"/>
              <p:cNvSpPr/>
              <p:nvPr/>
            </p:nvSpPr>
            <p:spPr>
              <a:xfrm flipH="1">
                <a:off x="5122800" y="57294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5" name="Line 7"/>
              <p:cNvSpPr/>
              <p:nvPr/>
            </p:nvSpPr>
            <p:spPr>
              <a:xfrm>
                <a:off x="5758920" y="516492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8"/>
            <p:cNvGrpSpPr/>
            <p:nvPr/>
          </p:nvGrpSpPr>
          <p:grpSpPr>
            <a:xfrm>
              <a:off x="3852720" y="5135760"/>
              <a:ext cx="1270080" cy="1187280"/>
              <a:chOff x="3852720" y="5135760"/>
              <a:chExt cx="1270080" cy="1187280"/>
            </a:xfrm>
          </p:grpSpPr>
          <p:sp>
            <p:nvSpPr>
              <p:cNvPr id="247" name="Rectangle 9"/>
              <p:cNvSpPr/>
              <p:nvPr/>
            </p:nvSpPr>
            <p:spPr>
              <a:xfrm>
                <a:off x="3852720" y="5135760"/>
                <a:ext cx="127008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8" name="Line 10"/>
              <p:cNvSpPr/>
              <p:nvPr/>
            </p:nvSpPr>
            <p:spPr>
              <a:xfrm flipH="1">
                <a:off x="3852720" y="5729400"/>
                <a:ext cx="1270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9" name="Line 11"/>
              <p:cNvSpPr/>
              <p:nvPr/>
            </p:nvSpPr>
            <p:spPr>
              <a:xfrm>
                <a:off x="4488120" y="516492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50" name="Text Box 12"/>
            <p:cNvSpPr/>
            <p:nvPr/>
          </p:nvSpPr>
          <p:spPr>
            <a:xfrm>
              <a:off x="3995640" y="5013360"/>
              <a:ext cx="2374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那都</a:t>
              </a:r>
              <a:endParaRPr b="0" lang="en-US" sz="8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1" name="Group 13"/>
          <p:cNvGrpSpPr/>
          <p:nvPr/>
        </p:nvGrpSpPr>
        <p:grpSpPr>
          <a:xfrm>
            <a:off x="4067280" y="2133720"/>
            <a:ext cx="2016000" cy="2016000"/>
            <a:chOff x="4067280" y="2133720"/>
            <a:chExt cx="2016000" cy="2016000"/>
          </a:xfrm>
        </p:grpSpPr>
        <p:grpSp>
          <p:nvGrpSpPr>
            <p:cNvPr id="252" name="Group 14"/>
            <p:cNvGrpSpPr/>
            <p:nvPr/>
          </p:nvGrpSpPr>
          <p:grpSpPr>
            <a:xfrm>
              <a:off x="4067280" y="2133720"/>
              <a:ext cx="2016000" cy="2016000"/>
              <a:chOff x="4067280" y="2133720"/>
              <a:chExt cx="2016000" cy="2016000"/>
            </a:xfrm>
          </p:grpSpPr>
          <p:sp>
            <p:nvSpPr>
              <p:cNvPr id="253" name="Rectangle 15"/>
              <p:cNvSpPr/>
              <p:nvPr/>
            </p:nvSpPr>
            <p:spPr>
              <a:xfrm>
                <a:off x="4067280" y="2133720"/>
                <a:ext cx="2016000" cy="201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4" name="Line 16"/>
              <p:cNvSpPr/>
              <p:nvPr/>
            </p:nvSpPr>
            <p:spPr>
              <a:xfrm flipH="1">
                <a:off x="4067280" y="3141720"/>
                <a:ext cx="2016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5" name="Line 17"/>
              <p:cNvSpPr/>
              <p:nvPr/>
            </p:nvSpPr>
            <p:spPr>
              <a:xfrm>
                <a:off x="5075640" y="2183400"/>
                <a:ext cx="0" cy="19659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pic>
          <p:nvPicPr>
            <p:cNvPr id="256" name="Picture 18" descr="1"/>
            <p:cNvPicPr/>
            <p:nvPr/>
          </p:nvPicPr>
          <p:blipFill>
            <a:blip r:embed="rId2"/>
            <a:stretch/>
          </p:blipFill>
          <p:spPr>
            <a:xfrm>
              <a:off x="4788000" y="2421000"/>
              <a:ext cx="647640" cy="15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Rectangle 19"/>
          <p:cNvSpPr/>
          <p:nvPr/>
        </p:nvSpPr>
        <p:spPr>
          <a:xfrm>
            <a:off x="8070840" y="44280"/>
            <a:ext cx="82080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司马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3a95b5f3-62a7-4b6e-a62f-3c0a6f12"/>
          <p:cNvPicPr/>
          <p:nvPr/>
        </p:nvPicPr>
        <p:blipFill>
          <a:blip r:embed="rId2"/>
          <a:stretch/>
        </p:blipFill>
        <p:spPr>
          <a:xfrm>
            <a:off x="0" y="304920"/>
            <a:ext cx="26892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3962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官婉儿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，唐代女官、女诗人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Picture 4" descr="d0526df07de8819fa50f5238"/>
          <p:cNvPicPr/>
          <p:nvPr/>
        </p:nvPicPr>
        <p:blipFill>
          <a:blip r:embed="rId3"/>
          <a:stretch/>
        </p:blipFill>
        <p:spPr>
          <a:xfrm>
            <a:off x="2590920" y="380880"/>
            <a:ext cx="2228760" cy="3581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14600" y="3962520"/>
            <a:ext cx="23623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诸葛亮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字孔明 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蜀汉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丞相 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三国时期杰出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政治家、战略家、发明家、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军事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5" name="Picture 6" descr="d4c37a17c61cf27df2de3288"/>
          <p:cNvPicPr/>
          <p:nvPr/>
        </p:nvPicPr>
        <p:blipFill>
          <a:blip r:embed="rId6"/>
          <a:stretch/>
        </p:blipFill>
        <p:spPr>
          <a:xfrm>
            <a:off x="4876920" y="380880"/>
            <a:ext cx="4267080" cy="358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105520" y="41148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欧阳夏丹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主持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背景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994680" y="2286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我会写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685800" y="1371600"/>
            <a:ext cx="3885840" cy="3885840"/>
            <a:chOff x="685800" y="1371600"/>
            <a:chExt cx="3885840" cy="3885840"/>
          </a:xfrm>
        </p:grpSpPr>
        <p:sp>
          <p:nvSpPr>
            <p:cNvPr id="261" name="Rectangle 5"/>
            <p:cNvSpPr/>
            <p:nvPr/>
          </p:nvSpPr>
          <p:spPr>
            <a:xfrm>
              <a:off x="68580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2" name="Line 6"/>
            <p:cNvSpPr/>
            <p:nvPr/>
          </p:nvSpPr>
          <p:spPr>
            <a:xfrm>
              <a:off x="257616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Line 7"/>
            <p:cNvSpPr/>
            <p:nvPr/>
          </p:nvSpPr>
          <p:spPr>
            <a:xfrm>
              <a:off x="68580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4" name="Group 8"/>
          <p:cNvGrpSpPr/>
          <p:nvPr/>
        </p:nvGrpSpPr>
        <p:grpSpPr>
          <a:xfrm>
            <a:off x="4876920" y="1371600"/>
            <a:ext cx="3885840" cy="3885840"/>
            <a:chOff x="4876920" y="1371600"/>
            <a:chExt cx="3885840" cy="3885840"/>
          </a:xfrm>
        </p:grpSpPr>
        <p:sp>
          <p:nvSpPr>
            <p:cNvPr id="265" name="Rectangle 9"/>
            <p:cNvSpPr/>
            <p:nvPr/>
          </p:nvSpPr>
          <p:spPr>
            <a:xfrm>
              <a:off x="487692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6767280" y="1371600"/>
              <a:ext cx="0" cy="388584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>
              <a:off x="4876920" y="3367080"/>
              <a:ext cx="3885840" cy="0"/>
            </a:xfrm>
            <a:prstGeom prst="line">
              <a:avLst/>
            </a:prstGeom>
            <a:ln w="3816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8" name="Text Box 12"/>
          <p:cNvSpPr/>
          <p:nvPr/>
        </p:nvSpPr>
        <p:spPr>
          <a:xfrm>
            <a:off x="1542960" y="126828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吓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646600" y="1197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叫</a:t>
            </a:r>
            <a:endParaRPr b="0" lang="en-US" sz="25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04920" y="333360"/>
            <a:ext cx="810072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一、选字填空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2605e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友   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我</a:t>
            </a: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(       )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许多好朋 </a:t>
            </a: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(       )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(2)   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块   快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我们一</a:t>
            </a: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(       )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儿玩得很</a:t>
            </a: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(      )</a:t>
            </a:r>
            <a:r>
              <a:rPr b="1" lang="zh-CN" sz="4800" spc="-1" strike="noStrike">
                <a:solidFill>
                  <a:srgbClr val="2605ed"/>
                </a:solidFill>
                <a:latin typeface="Times New Roman"/>
              </a:rPr>
              <a:t>乐</a:t>
            </a:r>
            <a:r>
              <a:rPr b="1" lang="en-US" sz="4800" spc="-1" strike="noStrike">
                <a:solidFill>
                  <a:srgbClr val="2605ed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2605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276200" y="256536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f0903"/>
                </a:solidFill>
                <a:latin typeface="Times New Roman"/>
              </a:rPr>
              <a:t>有</a:t>
            </a:r>
            <a:r>
              <a:rPr b="0" lang="zh-CN" sz="5400" spc="-1" strike="noStrike">
                <a:solidFill>
                  <a:srgbClr val="007a77"/>
                </a:solidFill>
                <a:latin typeface="Times New Roman"/>
              </a:rPr>
              <a:t>                    </a:t>
            </a:r>
            <a:r>
              <a:rPr b="1" lang="zh-CN" sz="5400" spc="-1" strike="noStrike">
                <a:solidFill>
                  <a:srgbClr val="ef0903"/>
                </a:solidFill>
                <a:latin typeface="Times New Roman"/>
              </a:rPr>
              <a:t>友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573280" y="4653000"/>
            <a:ext cx="57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f0903"/>
                </a:solidFill>
                <a:latin typeface="Times New Roman"/>
              </a:rPr>
              <a:t>块 </a:t>
            </a:r>
            <a:r>
              <a:rPr b="0" lang="zh-CN" sz="6600" spc="-1" strike="noStrike">
                <a:solidFill>
                  <a:srgbClr val="007a77"/>
                </a:solidFill>
                <a:latin typeface="Times New Roman"/>
              </a:rPr>
              <a:t>             </a:t>
            </a:r>
            <a:r>
              <a:rPr b="1" lang="zh-CN" sz="6600" spc="-1" strike="noStrike">
                <a:solidFill>
                  <a:srgbClr val="ef0903"/>
                </a:solidFill>
                <a:latin typeface="宋体"/>
              </a:rPr>
              <a:t>快  </a:t>
            </a:r>
            <a:r>
              <a:rPr b="0" lang="zh-CN" sz="6600" spc="-1" strike="noStrike">
                <a:solidFill>
                  <a:srgbClr val="007a77"/>
                </a:solidFill>
                <a:latin typeface="Times New Roman"/>
              </a:rPr>
              <a:t>           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404640"/>
            <a:ext cx="7693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）园     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花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(       )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里有一口（       ）缸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）渴      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一只乌鸦口（        ）了，到处找水（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）蓝       篮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我把（       ）球放进（        ）子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258920" y="90792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f0903"/>
                </a:solidFill>
                <a:latin typeface="Arial"/>
              </a:rPr>
              <a:t>园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076720" y="907920"/>
            <a:ext cx="7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Arial"/>
              </a:rPr>
              <a:t>圆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3995640" y="220500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Arial"/>
              </a:rPr>
              <a:t>渴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692360" y="270828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f0903"/>
                </a:solidFill>
                <a:latin typeface="Arial"/>
              </a:rPr>
              <a:t>喝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268360" y="4005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Arial"/>
              </a:rPr>
              <a:t>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5867280" y="4005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Arial"/>
              </a:rPr>
              <a:t>篮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20" y="644508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563868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766-0E64-421B-B968-69DA192DA4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250920" y="476280"/>
            <a:ext cx="741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f0903"/>
                </a:solidFill>
                <a:latin typeface="Comic Sans MS"/>
              </a:rPr>
              <a:t>搭配词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Comic Sans MS"/>
              </a:rPr>
              <a:t>　　　一座　  　水缸           找　     石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Comic Sans MS"/>
              </a:rPr>
              <a:t>　　　一口　　  石头　　　 砸　     大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Comic Sans MS"/>
              </a:rPr>
              <a:t>　　　一块　　  假山　　　 搬　     水缸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Line 3"/>
          <p:cNvSpPr/>
          <p:nvPr/>
        </p:nvSpPr>
        <p:spPr>
          <a:xfrm>
            <a:off x="4356000" y="1052640"/>
            <a:ext cx="0" cy="2447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2124000" y="1700280"/>
            <a:ext cx="935280" cy="151272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 flipV="1">
            <a:off x="2124000" y="1700280"/>
            <a:ext cx="935280" cy="72072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Line 6"/>
          <p:cNvSpPr/>
          <p:nvPr/>
        </p:nvSpPr>
        <p:spPr>
          <a:xfrm flipV="1">
            <a:off x="2195640" y="2421000"/>
            <a:ext cx="863640" cy="93672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5292720" y="1700280"/>
            <a:ext cx="934920" cy="72072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5292720" y="2492280"/>
            <a:ext cx="1008000" cy="72072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5292720" y="1773000"/>
            <a:ext cx="934920" cy="1584360"/>
          </a:xfrm>
          <a:prstGeom prst="line">
            <a:avLst/>
          </a:prstGeom>
          <a:ln w="9360">
            <a:solidFill>
              <a:srgbClr val="e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533520" y="247680"/>
            <a:ext cx="76676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四、我会造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园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法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许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美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唱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05ed"/>
                </a:solidFill>
                <a:latin typeface="Arial"/>
              </a:rPr>
              <a:t>阳（     ）（                          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792440" y="132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60440" y="11127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公园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376440" y="111276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小红去公园里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433520" y="19764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办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305160" y="20480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我有一个好办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360440" y="291132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许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3376440" y="29113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小明有许多水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1433520" y="38480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美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089160" y="377676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公园里的花真美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360440" y="47847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唱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3665520" y="47847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妈妈在唱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1433520" y="57214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903"/>
                </a:solidFill>
                <a:latin typeface="Arial"/>
              </a:rPr>
              <a:t>太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376440" y="579276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f0903"/>
                </a:solidFill>
                <a:latin typeface="Arial"/>
              </a:rPr>
              <a:t>太阳从东方升起来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30320" y="642312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你知道司马光吗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8" name="Picture 3" descr="司马光1"/>
          <p:cNvPicPr/>
          <p:nvPr/>
        </p:nvPicPr>
        <p:blipFill>
          <a:blip r:embed="rId2"/>
          <a:srcRect l="946" t="1503" r="62740" b="1473"/>
          <a:stretch/>
        </p:blipFill>
        <p:spPr>
          <a:xfrm>
            <a:off x="900000" y="1628640"/>
            <a:ext cx="2808360" cy="4608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4788000" y="1773360"/>
            <a:ext cx="3981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司马光是北宋著名政治家、伟大史学家，他是我国第一部编年体通史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资治通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编辑者。司马光为人温良谦恭、刚正不阿，对父母特别孝顺。他还是一个有情有义的人，当时人们都认为司马光是一个贤德之人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底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54080" y="1295280"/>
            <a:ext cx="8785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古时候有个孩子，叫司马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有一回，他跟几个小朋友在花园里玩。花园里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山，假山下面有一口大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缸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缸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里装满了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有个小朋友爬到假山上去玩，一不小心，掉进了大水缸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4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别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的小朋友都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了，有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吓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哭了，有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叫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着喊着，跑去找大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5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司马光没有慌，他举起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块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石头，使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劲砸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那口缸，几下子就把缸砸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缸里的水流出来了，掉进缸里的小朋友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799480" y="44280"/>
            <a:ext cx="3096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3564000" y="774720"/>
            <a:ext cx="230328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087229"/>
                  </a:outerShdw>
                </a:effectLst>
                <a:latin typeface="楷体_GB2312"/>
              </a:rPr>
              <a:t>司马光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08722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24000" y="1890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5ed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0084210584544794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189000"/>
            <a:ext cx="8820000" cy="78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s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  <a:ea typeface="Arial"/>
              </a:rPr>
              <a:t>ī    jiǎ    gāng   bié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司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机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  假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山  水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缸    别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的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huāng   xià   jiào    kuài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0903"/>
                </a:solidFill>
                <a:latin typeface="宋体"/>
                <a:ea typeface="Arial"/>
              </a:rPr>
              <a:t>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慌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Arial"/>
              </a:rPr>
              <a:t>张</a:t>
            </a: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吓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Arial"/>
              </a:rPr>
              <a:t>人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 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叫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声  一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块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sh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  <a:ea typeface="Arial"/>
              </a:rPr>
              <a:t>ǐjìn     zá </a:t>
            </a: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pò     jiù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05ed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使  劲     砸 破    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得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救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                         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3184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0084210584544794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24000" y="189000"/>
            <a:ext cx="8820000" cy="78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0903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司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机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  假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山  水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缸    别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的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慌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Arial"/>
              </a:rPr>
              <a:t>张</a:t>
            </a: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吓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Arial"/>
              </a:rPr>
              <a:t>人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  <a:ea typeface="Arial"/>
              </a:rPr>
              <a:t>  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叫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声  一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块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0903"/>
                </a:solidFill>
                <a:latin typeface="宋体"/>
                <a:ea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使  劲     砸 破    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得</a:t>
            </a:r>
            <a:r>
              <a:rPr b="1" lang="zh-CN" sz="4800" spc="-1" strike="noStrike">
                <a:solidFill>
                  <a:srgbClr val="2605ed"/>
                </a:solidFill>
                <a:latin typeface="宋体"/>
              </a:rPr>
              <a:t>救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                         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3184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990720" y="2666880"/>
            <a:ext cx="6933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犬”字上面两个口        （    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元”字掉在框框里。     （    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另有立刀旁。                （    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这个同学真马虎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同字丢掉一小竖。          （    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762120" y="762120"/>
            <a:ext cx="3695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我来猜字谜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232680" y="2590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266160" y="3200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309000" y="3733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461280" y="4800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1981080" y="2514600"/>
            <a:ext cx="1752840" cy="160020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哭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457200" y="228600"/>
            <a:ext cx="1752480" cy="160020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光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0" y="1981080"/>
            <a:ext cx="1752480" cy="1600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吓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4572000" y="2666880"/>
            <a:ext cx="1752480" cy="16002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没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7010280" y="2209680"/>
            <a:ext cx="1752840" cy="160020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块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3048120" y="304920"/>
            <a:ext cx="175248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候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5181480" y="990720"/>
            <a:ext cx="1752840" cy="1600200"/>
          </a:xfrm>
          <a:prstGeom prst="ellipse">
            <a:avLst/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孩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7086600" y="228600"/>
            <a:ext cx="17524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跟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5" name="Picture 10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50:58Z</dcterms:created>
  <dc:creator/>
  <dc:description/>
  <cp:keywords>幻灯片之家 http:/www.eeppt.com</cp:keywords>
  <dc:language>en-US</dc:language>
  <cp:lastModifiedBy/>
  <dcterms:modified xsi:type="dcterms:W3CDTF">2015-07-04T12:32:09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